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3F5F-4C66-4548-8020-398E23900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6663-E173-4891-87F1-DF1DCF8CA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004EF-800B-442A-AE6E-8727ADAF6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9EC6-AEBC-4319-97F0-6D2B23FD6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9F49-63BD-4B44-BA66-115E41749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2C62-6B88-40E4-9BF1-7B8437875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DDB5-86B9-408F-806A-F3825727B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6938-C31F-4FB9-901B-3021C617A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AA4F-008F-48CF-A1B3-60F4DCF65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79CD-6A39-40FC-B273-357E88A82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ED01-6717-4572-97F4-FA23D0F7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877D-E758-485B-953A-D4E05CBF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8105D-A544-4E73-837F-FB5F0BC1297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5228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Третий общероссийский форум лидеров стратегического планирования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СТРАТЕГИЧЕСКОЕ ПЛАНИРОВАНИЕ В ГОРОДАХ И РЕГИОНАХ РОССИИ НА НОВОМ ВИТКЕ РЕФОР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Пушкин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20-21 октября </a:t>
            </a:r>
            <a:r>
              <a:rPr b="1" lang="en-GB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2004</a:t>
            </a:r>
            <a:r>
              <a:rPr b="1" lang="ru-RU" sz="2000" spc="-1" strike="noStrike">
                <a:solidFill>
                  <a:srgbClr val="0000cc"/>
                </a:solidFill>
                <a:latin typeface="Arial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2209680"/>
            <a:ext cx="830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457200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ПОВЫШЕНИЕ КВАЛИФИКАЦИИ КАК ФАКТОР ЭФФЕКТИВНОСТИ СТРАТЕГИЧЕСКОГО ПЛАНИРОВ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А.Е. Балобан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Академия социального управ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2362320"/>
            <a:ext cx="9144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ПРОГРАММА "МАЛЫЕ ГОРОДА РОССИИ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000-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7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РГАНИЗАЦИОННАЯ СХЕМА ПРОГРАММ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 rot="38400">
            <a:off x="1692000" y="1483200"/>
            <a:ext cx="4641840" cy="792360"/>
          </a:xfrm>
          <a:prstGeom prst="rightArrow">
            <a:avLst>
              <a:gd name="adj1" fmla="val 50000"/>
              <a:gd name="adj2" fmla="val 146456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вышение квалифик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79280" y="1413000"/>
            <a:ext cx="1447920" cy="799920"/>
            <a:chOff x="179280" y="1413000"/>
            <a:chExt cx="1447920" cy="799920"/>
          </a:xfrm>
        </p:grpSpPr>
        <p:sp>
          <p:nvSpPr>
            <p:cNvPr id="110" name=""/>
            <p:cNvSpPr/>
            <p:nvPr/>
          </p:nvSpPr>
          <p:spPr>
            <a:xfrm>
              <a:off x="789120" y="1641600"/>
              <a:ext cx="838080" cy="457200"/>
            </a:xfrm>
            <a:prstGeom prst="parallelogram">
              <a:avLst>
                <a:gd name="adj" fmla="val 29159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98320" y="1527120"/>
              <a:ext cx="838440" cy="457200"/>
            </a:xfrm>
            <a:prstGeom prst="parallelogram">
              <a:avLst>
                <a:gd name="adj" fmla="val 29172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26960" y="1413000"/>
              <a:ext cx="838440" cy="457200"/>
            </a:xfrm>
            <a:prstGeom prst="parallelogram">
              <a:avLst>
                <a:gd name="adj" fmla="val 29172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17400" y="1717560"/>
              <a:ext cx="838440" cy="457200"/>
            </a:xfrm>
            <a:prstGeom prst="parallelogram">
              <a:avLst>
                <a:gd name="adj" fmla="val 29172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79280" y="1755720"/>
              <a:ext cx="838440" cy="457200"/>
            </a:xfrm>
            <a:prstGeom prst="parallelogram">
              <a:avLst>
                <a:gd name="adj" fmla="val 29172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Заявк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МО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6648480" y="1264680"/>
            <a:ext cx="1581120" cy="1210320"/>
            <a:chOff x="6648480" y="1264680"/>
            <a:chExt cx="1581120" cy="1210320"/>
          </a:xfrm>
        </p:grpSpPr>
        <p:sp>
          <p:nvSpPr>
            <p:cNvPr id="116" name=""/>
            <p:cNvSpPr/>
            <p:nvPr/>
          </p:nvSpPr>
          <p:spPr>
            <a:xfrm>
              <a:off x="6648480" y="1484280"/>
              <a:ext cx="1581120" cy="990720"/>
            </a:xfrm>
            <a:prstGeom prst="cloudCallout">
              <a:avLst>
                <a:gd name="adj1" fmla="val 19578"/>
                <a:gd name="adj2" fmla="val 34296"/>
              </a:avLst>
            </a:prstGeom>
            <a:solidFill>
              <a:srgbClr val="cc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Заключение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договоров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6039800">
              <a:off x="7293600" y="1354680"/>
              <a:ext cx="319320" cy="145800"/>
            </a:xfrm>
            <a:prstGeom prst="leftArrow">
              <a:avLst>
                <a:gd name="adj1" fmla="val 50000"/>
                <a:gd name="adj2" fmla="val 54753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2124000" y="2205000"/>
            <a:ext cx="3672000" cy="792000"/>
            <a:chOff x="2124000" y="2205000"/>
            <a:chExt cx="3672000" cy="792000"/>
          </a:xfrm>
        </p:grpSpPr>
        <p:grpSp>
          <p:nvGrpSpPr>
            <p:cNvPr id="119" name=""/>
            <p:cNvGrpSpPr/>
            <p:nvPr/>
          </p:nvGrpSpPr>
          <p:grpSpPr>
            <a:xfrm>
              <a:off x="2555640" y="2205000"/>
              <a:ext cx="2519640" cy="792000"/>
              <a:chOff x="2555640" y="2205000"/>
              <a:chExt cx="2519640" cy="792000"/>
            </a:xfrm>
          </p:grpSpPr>
          <p:sp>
            <p:nvSpPr>
              <p:cNvPr id="120" name=""/>
              <p:cNvSpPr/>
              <p:nvPr/>
            </p:nvSpPr>
            <p:spPr>
              <a:xfrm>
                <a:off x="2555640" y="2205000"/>
                <a:ext cx="503280" cy="792000"/>
              </a:xfrm>
              <a:prstGeom prst="upArrow">
                <a:avLst>
                  <a:gd name="adj1" fmla="val 50000"/>
                  <a:gd name="adj2" fmla="val 39342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564000" y="2205000"/>
                <a:ext cx="502920" cy="792000"/>
              </a:xfrm>
              <a:prstGeom prst="upArrow">
                <a:avLst>
                  <a:gd name="adj1" fmla="val 50000"/>
                  <a:gd name="adj2" fmla="val 39370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72000" y="2205000"/>
                <a:ext cx="503280" cy="792000"/>
              </a:xfrm>
              <a:prstGeom prst="upArrow">
                <a:avLst>
                  <a:gd name="adj1" fmla="val 50000"/>
                  <a:gd name="adj2" fmla="val 39342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2124000" y="2565360"/>
              <a:ext cx="367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3366"/>
                  </a:solidFill>
                  <a:latin typeface="Arial"/>
                </a:rPr>
                <a:t>Семинары для мэров и ГСП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4716360" y="549360"/>
            <a:ext cx="3970080" cy="785520"/>
            <a:chOff x="4716360" y="549360"/>
            <a:chExt cx="3970080" cy="785520"/>
          </a:xfrm>
        </p:grpSpPr>
        <p:grpSp>
          <p:nvGrpSpPr>
            <p:cNvPr id="125" name=""/>
            <p:cNvGrpSpPr/>
            <p:nvPr/>
          </p:nvGrpSpPr>
          <p:grpSpPr>
            <a:xfrm>
              <a:off x="6516720" y="620640"/>
              <a:ext cx="2169720" cy="714240"/>
              <a:chOff x="6516720" y="620640"/>
              <a:chExt cx="2169720" cy="7142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6998760" y="620640"/>
                <a:ext cx="978480" cy="647280"/>
                <a:chOff x="6998760" y="620640"/>
                <a:chExt cx="978480" cy="6472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6998760" y="811080"/>
                  <a:ext cx="531720" cy="43776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168680" y="811080"/>
                  <a:ext cx="531720" cy="43776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7339320" y="677520"/>
                  <a:ext cx="531720" cy="43776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7041240" y="620640"/>
                  <a:ext cx="531720" cy="43812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7445520" y="830160"/>
                  <a:ext cx="531720" cy="437760"/>
                </a:xfrm>
                <a:prstGeom prst="ellipse">
                  <a:avLst/>
                </a:prstGeom>
                <a:solidFill>
                  <a:srgbClr val="ffff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2" name=""/>
              <p:cNvSpPr/>
              <p:nvPr/>
            </p:nvSpPr>
            <p:spPr>
              <a:xfrm>
                <a:off x="6516720" y="692280"/>
                <a:ext cx="2169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Консалтинговые организации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 rot="5400000">
              <a:off x="5111640" y="153720"/>
              <a:ext cx="720720" cy="1511280"/>
            </a:xfrm>
            <a:prstGeom prst="upArrow">
              <a:avLst>
                <a:gd name="adj1" fmla="val 50000"/>
                <a:gd name="adj2" fmla="val 52423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3366"/>
                  </a:solidFill>
                  <a:latin typeface="Arial"/>
                </a:rPr>
                <a:t>Тенде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6804000" y="2565360"/>
            <a:ext cx="1079640" cy="1943280"/>
          </a:xfrm>
          <a:prstGeom prst="downArrow">
            <a:avLst>
              <a:gd name="adj1" fmla="val 50000"/>
              <a:gd name="adj2" fmla="val 44998"/>
            </a:avLst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зработк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ратег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5400000">
            <a:off x="5039280" y="2529360"/>
            <a:ext cx="1297080" cy="1943280"/>
          </a:xfrm>
          <a:prstGeom prst="upArrow">
            <a:avLst>
              <a:gd name="adj1" fmla="val 50000"/>
              <a:gd name="adj2" fmla="val 37455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Arial"/>
              </a:rPr>
              <a:t>Мониторин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846920" y="5013360"/>
            <a:ext cx="1297080" cy="647640"/>
          </a:xfrm>
          <a:prstGeom prst="leftArrow">
            <a:avLst>
              <a:gd name="adj1" fmla="val 50000"/>
              <a:gd name="adj2" fmla="val 5006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Arial"/>
              </a:rPr>
              <a:t>Рейтин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4508640"/>
            <a:ext cx="3814920" cy="792000"/>
          </a:xfrm>
          <a:prstGeom prst="leftArrow">
            <a:avLst>
              <a:gd name="adj1" fmla="val 50000"/>
              <a:gd name="adj2" fmla="val 12042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еализация стратег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132000" y="5157360"/>
            <a:ext cx="3745080" cy="1711080"/>
            <a:chOff x="3132000" y="5157360"/>
            <a:chExt cx="3745080" cy="1711080"/>
          </a:xfrm>
        </p:grpSpPr>
        <p:grpSp>
          <p:nvGrpSpPr>
            <p:cNvPr id="139" name=""/>
            <p:cNvGrpSpPr/>
            <p:nvPr/>
          </p:nvGrpSpPr>
          <p:grpSpPr>
            <a:xfrm>
              <a:off x="3348000" y="5157360"/>
              <a:ext cx="2520720" cy="576360"/>
              <a:chOff x="3348000" y="5157360"/>
              <a:chExt cx="2520720" cy="576360"/>
            </a:xfrm>
          </p:grpSpPr>
          <p:sp>
            <p:nvSpPr>
              <p:cNvPr id="140" name=""/>
              <p:cNvSpPr/>
              <p:nvPr/>
            </p:nvSpPr>
            <p:spPr>
              <a:xfrm flipV="1">
                <a:off x="3348000" y="5157000"/>
                <a:ext cx="504720" cy="576360"/>
              </a:xfrm>
              <a:prstGeom prst="downArrow">
                <a:avLst>
                  <a:gd name="adj1" fmla="val 50000"/>
                  <a:gd name="adj2" fmla="val 28549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V="1">
                <a:off x="3995640" y="5157000"/>
                <a:ext cx="504720" cy="576360"/>
              </a:xfrm>
              <a:prstGeom prst="downArrow">
                <a:avLst>
                  <a:gd name="adj1" fmla="val 50000"/>
                  <a:gd name="adj2" fmla="val 28549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V="1">
                <a:off x="4716360" y="5157000"/>
                <a:ext cx="504720" cy="576360"/>
              </a:xfrm>
              <a:prstGeom prst="downArrow">
                <a:avLst>
                  <a:gd name="adj1" fmla="val 50000"/>
                  <a:gd name="adj2" fmla="val 28549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V="1">
                <a:off x="5364000" y="5157000"/>
                <a:ext cx="504720" cy="576360"/>
              </a:xfrm>
              <a:prstGeom prst="downArrow">
                <a:avLst>
                  <a:gd name="adj1" fmla="val 50000"/>
                  <a:gd name="adj2" fmla="val 28549"/>
                </a:avLst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3132000" y="5665680"/>
              <a:ext cx="374508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3366"/>
                  </a:solidFill>
                  <a:latin typeface="Arial"/>
                </a:rPr>
                <a:t>Повышение квалификаци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3366"/>
                  </a:solidFill>
                  <a:latin typeface="Arial"/>
                </a:rPr>
                <a:t>Информационная поддержка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3366"/>
                  </a:solidFill>
                  <a:latin typeface="Arial"/>
                </a:rPr>
                <a:t>Международные программы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0" y="4221000"/>
            <a:ext cx="2160720" cy="1484640"/>
          </a:xfrm>
          <a:custGeom>
            <a:avLst/>
            <a:gdLst>
              <a:gd name="textAreaLeft" fmla="*/ 493200 w 2160720"/>
              <a:gd name="textAreaRight" fmla="*/ 1667520 w 2160720"/>
              <a:gd name="textAreaTop" fmla="*/ 338760 h 1484640"/>
              <a:gd name="textAreaBottom" fmla="*/ 1145880 h 1484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ценк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еализаци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ратег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9640" y="5805360"/>
            <a:ext cx="2016360" cy="86364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Arial"/>
              </a:rPr>
              <a:t>Передача методи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Arial"/>
              </a:rPr>
              <a:t>Консультирова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835280" y="3357720"/>
            <a:ext cx="2449440" cy="574560"/>
          </a:xfrm>
          <a:prstGeom prst="leftArrow">
            <a:avLst>
              <a:gd name="adj1" fmla="val 50000"/>
              <a:gd name="adj2" fmla="val 1065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Arial"/>
              </a:rPr>
              <a:t>Консультирова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4000" y="692280"/>
            <a:ext cx="1511280" cy="649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Arial"/>
              </a:rPr>
              <a:t>Конкурсны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66"/>
                </a:solidFill>
                <a:latin typeface="Arial"/>
              </a:rPr>
              <a:t>отбо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443640" y="4653000"/>
            <a:ext cx="1511280" cy="1081080"/>
            <a:chOff x="6443640" y="4653000"/>
            <a:chExt cx="1511280" cy="1081080"/>
          </a:xfrm>
        </p:grpSpPr>
        <p:grpSp>
          <p:nvGrpSpPr>
            <p:cNvPr id="150" name=""/>
            <p:cNvGrpSpPr/>
            <p:nvPr/>
          </p:nvGrpSpPr>
          <p:grpSpPr>
            <a:xfrm>
              <a:off x="6516720" y="4653000"/>
              <a:ext cx="1293840" cy="1081080"/>
              <a:chOff x="6516720" y="4653000"/>
              <a:chExt cx="1293840" cy="1081080"/>
            </a:xfrm>
          </p:grpSpPr>
          <p:sp>
            <p:nvSpPr>
              <p:cNvPr id="151" name=""/>
              <p:cNvSpPr/>
              <p:nvPr/>
            </p:nvSpPr>
            <p:spPr>
              <a:xfrm>
                <a:off x="6516720" y="4724280"/>
                <a:ext cx="718920" cy="649440"/>
              </a:xfrm>
              <a:prstGeom prst="verticalScroll">
                <a:avLst>
                  <a:gd name="adj" fmla="val 12500"/>
                </a:avLst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659280" y="4869000"/>
                <a:ext cx="719280" cy="649080"/>
              </a:xfrm>
              <a:prstGeom prst="verticalScroll">
                <a:avLst>
                  <a:gd name="adj" fmla="val 12500"/>
                </a:avLst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091280" y="4653000"/>
                <a:ext cx="719280" cy="649080"/>
              </a:xfrm>
              <a:prstGeom prst="verticalScroll">
                <a:avLst>
                  <a:gd name="adj" fmla="val 12500"/>
                </a:avLst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804000" y="5084640"/>
                <a:ext cx="718920" cy="649440"/>
              </a:xfrm>
              <a:prstGeom prst="verticalScroll">
                <a:avLst>
                  <a:gd name="adj" fmla="val 12500"/>
                </a:avLst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6443640" y="4890960"/>
              <a:ext cx="15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Стратеги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50920" y="2708280"/>
            <a:ext cx="1512720" cy="1295280"/>
          </a:xfrm>
          <a:prstGeom prst="verticalScroll">
            <a:avLst>
              <a:gd name="adj" fmla="val 12500"/>
            </a:avLst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орректировк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тратеги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500"/>
                            </p:stCondLst>
                            <p:childTnLst>
                              <p:par>
                                <p:cTn id="29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2000"/>
                            </p:stCondLst>
                            <p:childTnLst>
                              <p:par>
                                <p:cTn id="29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500"/>
                            </p:stCondLst>
                            <p:childTnLst>
                              <p:par>
                                <p:cTn id="30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3000"/>
                            </p:stCondLst>
                            <p:childTnLst>
                              <p:par>
                                <p:cTn id="30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3500"/>
                            </p:stCondLst>
                            <p:childTnLst>
                              <p:par>
                                <p:cTn id="31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4000"/>
                            </p:stCondLst>
                            <p:childTnLst>
                              <p:par>
                                <p:cTn id="3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4500"/>
                            </p:stCondLst>
                            <p:childTnLst>
                              <p:par>
                                <p:cTn id="31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0"/>
                            </p:stCondLst>
                            <p:childTnLst>
                              <p:par>
                                <p:cTn id="32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533520" y="1219320"/>
            <a:ext cx="8076960" cy="1523880"/>
          </a:xfrm>
          <a:prstGeom prst="rightArrow">
            <a:avLst>
              <a:gd name="adj1" fmla="val 50000"/>
              <a:gd name="adj2" fmla="val 13250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1828800"/>
            <a:ext cx="8077320" cy="1523880"/>
          </a:xfrm>
          <a:prstGeom prst="rightArrow">
            <a:avLst>
              <a:gd name="adj1" fmla="val 50000"/>
              <a:gd name="adj2" fmla="val 1325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990720" y="2362320"/>
            <a:ext cx="8076960" cy="1523880"/>
          </a:xfrm>
          <a:prstGeom prst="rightArrow">
            <a:avLst>
              <a:gd name="adj1" fmla="val 50000"/>
              <a:gd name="adj2" fmla="val 13250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0" y="228600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ЗРАБОТКА СТРАТЕГ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 rot="19293600">
            <a:off x="-76320" y="4114440"/>
            <a:ext cx="3733920" cy="685800"/>
          </a:xfrm>
          <a:prstGeom prst="rightArrow">
            <a:avLst>
              <a:gd name="adj1" fmla="val 50000"/>
              <a:gd name="adj2" fmla="val 13611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 rot="19293600">
            <a:off x="1218960" y="3962520"/>
            <a:ext cx="3733560" cy="685800"/>
          </a:xfrm>
          <a:prstGeom prst="rightArrow">
            <a:avLst>
              <a:gd name="adj1" fmla="val 50000"/>
              <a:gd name="adj2" fmla="val 13610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 rot="19293600">
            <a:off x="2590560" y="3962520"/>
            <a:ext cx="3733560" cy="685800"/>
          </a:xfrm>
          <a:prstGeom prst="rightArrow">
            <a:avLst>
              <a:gd name="adj1" fmla="val 50000"/>
              <a:gd name="adj2" fmla="val 13610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 rot="19293600">
            <a:off x="3809520" y="3962160"/>
            <a:ext cx="3733920" cy="685800"/>
          </a:xfrm>
          <a:prstGeom prst="rightArrow">
            <a:avLst>
              <a:gd name="adj1" fmla="val 50000"/>
              <a:gd name="adj2" fmla="val 13611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2120" y="44197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РАЗОВАТЕЛЬНЫЕ МЕРОПРИЯТ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ЫВО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1523880"/>
            <a:ext cx="9144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0000"/>
          </a:bodyPr>
          <a:p>
            <a:pPr marL="272160" indent="-2721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ориентация на практические задач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160" indent="-2721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использование разных образовательных технологи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160" indent="-2721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построение учебных программ на основе анализа опы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160" indent="-2721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привязка к мест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160" indent="-2721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2160" indent="-272160"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СИСТЕМНОСТЬ ДЕЙСТВ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1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66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1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6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1" dur="5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-157320"/>
            <a:ext cx="9144000" cy="7320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3520" y="1523880"/>
            <a:ext cx="8076960" cy="1524240"/>
          </a:xfrm>
          <a:prstGeom prst="rightArrow">
            <a:avLst>
              <a:gd name="adj1" fmla="val 50000"/>
              <a:gd name="adj2" fmla="val 13247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133720"/>
            <a:ext cx="8077320" cy="1523880"/>
          </a:xfrm>
          <a:prstGeom prst="rightArrow">
            <a:avLst>
              <a:gd name="adj1" fmla="val 50000"/>
              <a:gd name="adj2" fmla="val 1325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666880"/>
            <a:ext cx="8076960" cy="1524240"/>
          </a:xfrm>
          <a:prstGeom prst="rightArrow">
            <a:avLst>
              <a:gd name="adj1" fmla="val 50000"/>
              <a:gd name="adj2" fmla="val 13247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0" y="259092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ЗРАБОТКА СТРАТЕГ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 rot="19293600">
            <a:off x="-76320" y="4419360"/>
            <a:ext cx="3733920" cy="685800"/>
          </a:xfrm>
          <a:prstGeom prst="rightArrow">
            <a:avLst>
              <a:gd name="adj1" fmla="val 50000"/>
              <a:gd name="adj2" fmla="val 13611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 rot="19293600">
            <a:off x="1218960" y="4267080"/>
            <a:ext cx="3733560" cy="685800"/>
          </a:xfrm>
          <a:prstGeom prst="rightArrow">
            <a:avLst>
              <a:gd name="adj1" fmla="val 50000"/>
              <a:gd name="adj2" fmla="val 13610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 rot="19293600">
            <a:off x="2590560" y="4267080"/>
            <a:ext cx="3733560" cy="685800"/>
          </a:xfrm>
          <a:prstGeom prst="rightArrow">
            <a:avLst>
              <a:gd name="adj1" fmla="val 50000"/>
              <a:gd name="adj2" fmla="val 13610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 rot="19293600">
            <a:off x="3809520" y="4266720"/>
            <a:ext cx="3733920" cy="685800"/>
          </a:xfrm>
          <a:prstGeom prst="rightArrow">
            <a:avLst>
              <a:gd name="adj1" fmla="val 50000"/>
              <a:gd name="adj2" fmla="val 13611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120" y="47242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РАЗОВАТЕЛЬНЫЕ МЕРОПРИЯТ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БРАЗОВАТЕЛЬНЫЕ ПРОГРАММЫ ДЛЯ ПОДДЕРЖКИ ПРАКТИЧЕСКИХ РАЗРАБОТ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ПЫ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52480"/>
            <a:ext cx="91440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307080" indent="-307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Консультационная фирма "ИМС" (1997-199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7080" indent="-307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7080" indent="-307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Московский общественный научный фонд (1998-200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7080" indent="-307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7080" indent="-307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Программа "Малые города России" (200-200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horz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7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2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7" dur="5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533520"/>
            <a:ext cx="914400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8800" indent="-388800"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ДАЧ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представление и анализ целей, задач и структуры деятель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введение в проблематику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запуск и поддержка самостоятельной работы участник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РИНЦИП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формирование и поддержка и самостоятельной позиции участни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проблемная постановка вопрос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организация самостоятельной практической работы участник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4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9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" dur="5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9" dur="500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198108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КОНСУЛЬТАЦИОННАЯ ФИРМА "ИМС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997-199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457200"/>
            <a:ext cx="9144000" cy="56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8800" indent="-388800"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ТЕМАТ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Муниципальное управление в условиях кризис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Реорганизация структур муниципального управления как средство повышения устойчивости систем городского управ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ЕТО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8800" indent="-38880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проблемные и проектные семина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3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8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3" dur="5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8" dur="5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3" dur="500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828800"/>
            <a:ext cx="91440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МОСКОВСКИЙ ОБЩЕСТВЕННЫЙ НАУЧНЫЙ ФОН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Программа "Местное самоуправление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Образовательный компонент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998-200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380880"/>
            <a:ext cx="914400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76920" indent="-376920"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ТЕМАТ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-37692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Стратегическое планирование в муниципальном управлен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-37692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Местные сообщества в местном самоуправлен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-37692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Задачи и организация деятельности представительных органов местного самоуправ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-37692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Местное самоуправление и муниципальное развит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-37692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-376920"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МЕТОД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-376920" algn="ctr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активные образовательные технологии обучения взрослы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-37692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проблемные и проектные семина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-37692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тренинг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6920" indent="-37692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тренинги для тренер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2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7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2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7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2" dur="5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7" dur="500"/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2" dur="50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7" dur="500"/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02" dur="500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-76320"/>
            <a:ext cx="9144000" cy="60984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УЧЕБНЫЙ МОДУ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4645080"/>
            <a:ext cx="2743200" cy="1298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838080" y="1395360"/>
            <a:ext cx="2895840" cy="1447920"/>
            <a:chOff x="838080" y="1395360"/>
            <a:chExt cx="2895840" cy="1447920"/>
          </a:xfrm>
        </p:grpSpPr>
        <p:grpSp>
          <p:nvGrpSpPr>
            <p:cNvPr id="64" name=""/>
            <p:cNvGrpSpPr/>
            <p:nvPr/>
          </p:nvGrpSpPr>
          <p:grpSpPr>
            <a:xfrm>
              <a:off x="1905120" y="1395360"/>
              <a:ext cx="838080" cy="762120"/>
              <a:chOff x="1905120" y="1395360"/>
              <a:chExt cx="838080" cy="762120"/>
            </a:xfrm>
          </p:grpSpPr>
          <p:sp>
            <p:nvSpPr>
              <p:cNvPr id="65" name=""/>
              <p:cNvSpPr/>
              <p:nvPr/>
            </p:nvSpPr>
            <p:spPr>
              <a:xfrm>
                <a:off x="1905120" y="1395360"/>
                <a:ext cx="533520" cy="457200"/>
              </a:xfrm>
              <a:prstGeom prst="parallelogram">
                <a:avLst>
                  <a:gd name="adj" fmla="val 29173"/>
                </a:avLst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2057400" y="1547640"/>
                <a:ext cx="533520" cy="457200"/>
              </a:xfrm>
              <a:prstGeom prst="parallelogram">
                <a:avLst>
                  <a:gd name="adj" fmla="val 29173"/>
                </a:avLst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2210040" y="1700280"/>
                <a:ext cx="533160" cy="457200"/>
              </a:xfrm>
              <a:prstGeom prst="parallelogram">
                <a:avLst>
                  <a:gd name="adj" fmla="val 29154"/>
                </a:avLst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1066680" y="2386080"/>
              <a:ext cx="26672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3300"/>
                  </a:solidFill>
                  <a:latin typeface="Arial"/>
                </a:rPr>
                <a:t>определение целей модул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838080" y="2080800"/>
              <a:ext cx="824040" cy="76212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2743200" y="914400"/>
            <a:ext cx="4800600" cy="1752120"/>
            <a:chOff x="2743200" y="914400"/>
            <a:chExt cx="4800600" cy="1752120"/>
          </a:xfrm>
        </p:grpSpPr>
        <p:sp>
          <p:nvSpPr>
            <p:cNvPr id="71" name=""/>
            <p:cNvSpPr/>
            <p:nvPr/>
          </p:nvSpPr>
          <p:spPr>
            <a:xfrm>
              <a:off x="2743200" y="914400"/>
              <a:ext cx="3505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разработка программы модул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124080" y="1904760"/>
              <a:ext cx="3048120" cy="0"/>
            </a:xfrm>
            <a:prstGeom prst="line">
              <a:avLst/>
            </a:prstGeom>
            <a:ln w="572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" name=""/>
            <p:cNvGrpSpPr/>
            <p:nvPr/>
          </p:nvGrpSpPr>
          <p:grpSpPr>
            <a:xfrm>
              <a:off x="6553080" y="1295280"/>
              <a:ext cx="990720" cy="1371240"/>
              <a:chOff x="6553080" y="1295280"/>
              <a:chExt cx="990720" cy="1371240"/>
            </a:xfrm>
          </p:grpSpPr>
          <p:sp>
            <p:nvSpPr>
              <p:cNvPr id="74" name=""/>
              <p:cNvSpPr/>
              <p:nvPr/>
            </p:nvSpPr>
            <p:spPr>
              <a:xfrm>
                <a:off x="6858000" y="1569600"/>
                <a:ext cx="685800" cy="1096920"/>
              </a:xfrm>
              <a:prstGeom prst="foldedCorner">
                <a:avLst>
                  <a:gd name="adj" fmla="val 50000"/>
                </a:avLst>
              </a:prstGeom>
              <a:solidFill>
                <a:srgbClr val="66ff66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705360" y="1432080"/>
                <a:ext cx="685800" cy="1097280"/>
              </a:xfrm>
              <a:prstGeom prst="foldedCorner">
                <a:avLst>
                  <a:gd name="adj" fmla="val 50000"/>
                </a:avLst>
              </a:prstGeom>
              <a:solidFill>
                <a:srgbClr val="66ff66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553080" y="1295280"/>
                <a:ext cx="685800" cy="1097280"/>
              </a:xfrm>
              <a:prstGeom prst="foldedCorner">
                <a:avLst>
                  <a:gd name="adj" fmla="val 50000"/>
                </a:avLst>
              </a:prstGeom>
              <a:solidFill>
                <a:srgbClr val="66ff66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7" name=""/>
          <p:cNvGrpSpPr/>
          <p:nvPr/>
        </p:nvGrpSpPr>
        <p:grpSpPr>
          <a:xfrm>
            <a:off x="6400800" y="2971800"/>
            <a:ext cx="2666880" cy="1371600"/>
            <a:chOff x="6400800" y="2971800"/>
            <a:chExt cx="2666880" cy="1371600"/>
          </a:xfrm>
        </p:grpSpPr>
        <p:sp>
          <p:nvSpPr>
            <p:cNvPr id="78" name=""/>
            <p:cNvSpPr/>
            <p:nvPr/>
          </p:nvSpPr>
          <p:spPr>
            <a:xfrm>
              <a:off x="7086600" y="2971800"/>
              <a:ext cx="0" cy="137160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400800" y="3124080"/>
              <a:ext cx="26668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3300"/>
                  </a:solidFill>
                  <a:latin typeface="Arial"/>
                </a:rPr>
                <a:t>проведение модул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5791320" y="4648320"/>
            <a:ext cx="2743200" cy="1298520"/>
            <a:chOff x="5791320" y="4648320"/>
            <a:chExt cx="2743200" cy="1298520"/>
          </a:xfrm>
        </p:grpSpPr>
        <p:sp>
          <p:nvSpPr>
            <p:cNvPr id="81" name=""/>
            <p:cNvSpPr/>
            <p:nvPr/>
          </p:nvSpPr>
          <p:spPr>
            <a:xfrm>
              <a:off x="5791320" y="4648320"/>
              <a:ext cx="2743200" cy="1298520"/>
            </a:xfrm>
            <a:prstGeom prst="ellipse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465960" y="4956480"/>
              <a:ext cx="1458720" cy="5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ситуация модуля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2286000" y="4038480"/>
            <a:ext cx="4952880" cy="901440"/>
            <a:chOff x="2286000" y="4038480"/>
            <a:chExt cx="4952880" cy="901440"/>
          </a:xfrm>
        </p:grpSpPr>
        <p:sp>
          <p:nvSpPr>
            <p:cNvPr id="84" name=""/>
            <p:cNvSpPr/>
            <p:nvPr/>
          </p:nvSpPr>
          <p:spPr>
            <a:xfrm>
              <a:off x="2286000" y="4190760"/>
              <a:ext cx="4952880" cy="685800"/>
            </a:xfrm>
            <a:custGeom>
              <a:avLst/>
              <a:gdLst>
                <a:gd name="textAreaLeft" fmla="*/ 991800 w 4952880"/>
                <a:gd name="textAreaRight" fmla="*/ 3083040 w 4952880"/>
                <a:gd name="textAreaTop" fmla="*/ 91800 h 685800"/>
                <a:gd name="textAreaBottom" fmla="*/ 59400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8652" hR="21600" stAng="10800000" swAng="5400000"/>
                  <a:lnTo>
                    <a:pt x="9119" y="0"/>
                  </a:lnTo>
                  <a:arcTo wR="8652" hR="21600" stAng="-5400000" swAng="3837137"/>
                  <a:lnTo>
                    <a:pt x="21439" y="17450"/>
                  </a:lnTo>
                  <a:lnTo>
                    <a:pt x="17538" y="21600"/>
                  </a:lnTo>
                  <a:lnTo>
                    <a:pt x="13314" y="17450"/>
                  </a:lnTo>
                  <a:lnTo>
                    <a:pt x="17143" y="17450"/>
                  </a:lnTo>
                  <a:arcTo wR="8652" hR="21600" stAng="-1562863" swAng="-3799963"/>
                  <a:lnTo>
                    <a:pt x="8886" y="8"/>
                  </a:lnTo>
                  <a:arcTo wR="8652" hR="21600" stAng="-5437175" swAng="-5362825"/>
                  <a:close/>
                </a:path>
                <a:path fill="darkenLess" w="21600" h="21600">
                  <a:moveTo>
                    <a:pt x="0" y="21600"/>
                  </a:moveTo>
                  <a:arcTo wR="8652" hR="21600" stAng="10800000" swAng="5400000"/>
                  <a:lnTo>
                    <a:pt x="8652" y="0"/>
                  </a:lnTo>
                  <a:arcTo wR="8652" hR="21600" stAng="-5400000" swAng="37175"/>
                  <a:lnTo>
                    <a:pt x="8886" y="8"/>
                  </a:lnTo>
                  <a:arcTo wR="8652" hR="21600" stAng="-5437175" swAng="-5362825"/>
                  <a:close/>
                </a:path>
              </a:pathLst>
            </a:cu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276720" y="4114800"/>
              <a:ext cx="838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3366ff"/>
                  </a:solidFill>
                  <a:latin typeface="Webdings"/>
                  <a:ea typeface="Webdings"/>
                </a:rPr>
                <a:t>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886200" y="4038480"/>
              <a:ext cx="838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3366ff"/>
                  </a:solidFill>
                  <a:latin typeface="Webdings"/>
                  <a:ea typeface="Webdings"/>
                </a:rPr>
                <a:t>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495680" y="4114800"/>
              <a:ext cx="838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3366ff"/>
                  </a:solidFill>
                  <a:latin typeface="Webdings"/>
                  <a:ea typeface="Webdings"/>
                </a:rPr>
                <a:t>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1523520" y="5257800"/>
            <a:ext cx="4953240" cy="991800"/>
            <a:chOff x="1523520" y="5257800"/>
            <a:chExt cx="4953240" cy="991800"/>
          </a:xfrm>
        </p:grpSpPr>
        <p:sp>
          <p:nvSpPr>
            <p:cNvPr id="89" name=""/>
            <p:cNvSpPr/>
            <p:nvPr/>
          </p:nvSpPr>
          <p:spPr>
            <a:xfrm flipH="1" flipV="1">
              <a:off x="1523160" y="5561640"/>
              <a:ext cx="4953240" cy="685800"/>
            </a:xfrm>
            <a:custGeom>
              <a:avLst/>
              <a:gdLst>
                <a:gd name="textAreaLeft" fmla="*/ 991800 w 4953240"/>
                <a:gd name="textAreaRight" fmla="*/ 3083040 w 4953240"/>
                <a:gd name="textAreaTop" fmla="*/ 91800 h 685800"/>
                <a:gd name="textAreaBottom" fmla="*/ 59400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8652" hR="21600" stAng="10800000" swAng="5400000"/>
                  <a:lnTo>
                    <a:pt x="9119" y="0"/>
                  </a:lnTo>
                  <a:arcTo wR="8652" hR="21600" stAng="-5400000" swAng="3837137"/>
                  <a:lnTo>
                    <a:pt x="21439" y="17450"/>
                  </a:lnTo>
                  <a:lnTo>
                    <a:pt x="17538" y="21600"/>
                  </a:lnTo>
                  <a:lnTo>
                    <a:pt x="13314" y="17450"/>
                  </a:lnTo>
                  <a:lnTo>
                    <a:pt x="17143" y="17450"/>
                  </a:lnTo>
                  <a:arcTo wR="8652" hR="21600" stAng="-1562863" swAng="-3799963"/>
                  <a:lnTo>
                    <a:pt x="8886" y="8"/>
                  </a:lnTo>
                  <a:arcTo wR="8652" hR="21600" stAng="-5437175" swAng="-5362825"/>
                  <a:close/>
                </a:path>
                <a:path fill="darkenLess" w="21600" h="21600">
                  <a:moveTo>
                    <a:pt x="0" y="21600"/>
                  </a:moveTo>
                  <a:arcTo wR="8652" hR="21600" stAng="10800000" swAng="5400000"/>
                  <a:lnTo>
                    <a:pt x="8652" y="0"/>
                  </a:lnTo>
                  <a:arcTo wR="8652" hR="21600" stAng="-5400000" swAng="37175"/>
                  <a:lnTo>
                    <a:pt x="8886" y="8"/>
                  </a:lnTo>
                  <a:arcTo wR="8652" hR="21600" stAng="-5437175" swAng="-5362825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429000" y="5257800"/>
              <a:ext cx="838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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038480" y="5424480"/>
              <a:ext cx="8384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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648320" y="5257800"/>
              <a:ext cx="838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Webdings"/>
                  <a:ea typeface="Webdings"/>
                </a:rPr>
                <a:t>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4572000" y="3505320"/>
            <a:ext cx="1600200" cy="1828800"/>
          </a:xfrm>
          <a:prstGeom prst="line">
            <a:avLst/>
          </a:prstGeom>
          <a:ln w="5724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2666520" y="3505320"/>
            <a:ext cx="1600200" cy="1676160"/>
          </a:xfrm>
          <a:prstGeom prst="line">
            <a:avLst/>
          </a:prstGeom>
          <a:ln w="5724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19720" y="3581280"/>
            <a:ext cx="0" cy="1752840"/>
          </a:xfrm>
          <a:prstGeom prst="line">
            <a:avLst/>
          </a:prstGeom>
          <a:ln w="5724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3962520" y="2514600"/>
            <a:ext cx="3047760" cy="1099440"/>
            <a:chOff x="3962520" y="2514600"/>
            <a:chExt cx="3047760" cy="1099440"/>
          </a:xfrm>
        </p:grpSpPr>
        <p:sp>
          <p:nvSpPr>
            <p:cNvPr id="97" name=""/>
            <p:cNvSpPr/>
            <p:nvPr/>
          </p:nvSpPr>
          <p:spPr>
            <a:xfrm>
              <a:off x="4800600" y="2590560"/>
              <a:ext cx="2209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66ff"/>
                  </a:solidFill>
                  <a:latin typeface="Arial"/>
                </a:rPr>
                <a:t>анализ результатов модул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962520" y="2514600"/>
              <a:ext cx="8380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66ff"/>
                  </a:solidFill>
                  <a:latin typeface="Webdings"/>
                  <a:ea typeface="Webdings"/>
                </a:rPr>
                <a:t>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76320" y="3068640"/>
            <a:ext cx="2895480" cy="1980720"/>
            <a:chOff x="76320" y="3068640"/>
            <a:chExt cx="2895480" cy="1980720"/>
          </a:xfrm>
        </p:grpSpPr>
        <p:sp>
          <p:nvSpPr>
            <p:cNvPr id="100" name=""/>
            <p:cNvSpPr/>
            <p:nvPr/>
          </p:nvSpPr>
          <p:spPr>
            <a:xfrm>
              <a:off x="609480" y="4059000"/>
              <a:ext cx="609840" cy="990360"/>
            </a:xfrm>
            <a:prstGeom prst="line">
              <a:avLst/>
            </a:prstGeom>
            <a:ln w="57240">
              <a:solidFill>
                <a:srgbClr val="00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914400" y="3906720"/>
              <a:ext cx="205740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анализ ситуаци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6320" y="3068640"/>
              <a:ext cx="83808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333399"/>
                  </a:solidFill>
                  <a:latin typeface="Webdings"/>
                  <a:ea typeface="Webdings"/>
                </a:rPr>
                <a:t></a:t>
              </a:r>
              <a:endParaRPr b="0" lang="en-US" sz="6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2133720" y="2889360"/>
            <a:ext cx="838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Webdings"/>
                <a:ea typeface="Webdings"/>
              </a:rPr>
              <a:t>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90720" y="3249720"/>
            <a:ext cx="1218960" cy="152280"/>
          </a:xfrm>
          <a:custGeom>
            <a:avLst/>
            <a:gdLst>
              <a:gd name="textAreaLeft" fmla="*/ 190440 w 1218960"/>
              <a:gd name="textAreaRight" fmla="*/ 1066680 w 121896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990720" y="3478320"/>
            <a:ext cx="1218960" cy="152280"/>
          </a:xfrm>
          <a:custGeom>
            <a:avLst/>
            <a:gdLst>
              <a:gd name="textAreaLeft" fmla="*/ 190440 w 1218960"/>
              <a:gd name="textAreaRight" fmla="*/ 1066680 w 121896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0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1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3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3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4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4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4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5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5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6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6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7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16:07:02Z</dcterms:created>
  <dc:creator>Бал</dc:creator>
  <dc:description/>
  <dc:language>en-US</dc:language>
  <cp:lastModifiedBy>Gazina Victoria </cp:lastModifiedBy>
  <dcterms:modified xsi:type="dcterms:W3CDTF">2004-10-14T09:28:02Z</dcterms:modified>
  <cp:revision>6</cp:revision>
  <dc:subject/>
  <dc:title>Презентация PowerPoint</dc:title>
</cp:coreProperties>
</file>