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34.png" ContentType="image/png"/>
  <Override PartName="/ppt/media/image16.png" ContentType="image/png"/>
  <Override PartName="/ppt/media/image4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50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468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1A3-B9EE-44A4-8D5E-0FF3DE11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9A4-F911-4B2A-B055-BE148C44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BE1-AEF0-40DC-B022-508BEDED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60E-86CD-4D87-AD04-9C0D1B3D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256-1FEA-4112-8BE5-7210446C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5C0-FEFB-4176-B94B-9A2BF721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B4A-D6E9-486D-A89B-8A299006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77E-8D75-4DDC-808D-F8BFAD2B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AF0-2C38-48E7-9382-43BCDFC3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8AE-52BA-4FC9-B8E8-CFEACC1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3F0-394E-4832-8E1D-4CA71A8F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4CE-1657-4B90-B741-B7658054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FBE2-54D3-4307-92CA-21914CF503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5.png"/><Relationship Id="rId22" Type="http://schemas.openxmlformats.org/officeDocument/2006/relationships/image" Target="../media/image27.pn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4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1.png"/><Relationship Id="rId5" Type="http://schemas.openxmlformats.org/officeDocument/2006/relationships/image" Target="../media/image69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1.png"/><Relationship Id="rId5" Type="http://schemas.openxmlformats.org/officeDocument/2006/relationships/image" Target="../media/image69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1.png"/><Relationship Id="rId5" Type="http://schemas.openxmlformats.org/officeDocument/2006/relationships/image" Target="../media/image69.png"/><Relationship Id="rId6" Type="http://schemas.openxmlformats.org/officeDocument/2006/relationships/image" Target="../media/image71.png"/><Relationship Id="rId7" Type="http://schemas.openxmlformats.org/officeDocument/2006/relationships/image" Target="../media/image7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5360" y="2533680"/>
            <a:ext cx="7924680" cy="15048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РАЗРАБОТКА СТРАТЕГИЙ РАЗВИТИЯ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240" y="95400"/>
            <a:ext cx="6572160" cy="1238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ХАНИЗМ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Круг_бизнес" descr=""/>
          <p:cNvPicPr/>
          <p:nvPr/>
        </p:nvPicPr>
        <p:blipFill>
          <a:blip r:embed="rId1"/>
          <a:stretch/>
        </p:blipFill>
        <p:spPr>
          <a:xfrm>
            <a:off x="2060640" y="3878280"/>
            <a:ext cx="1789200" cy="1776240"/>
          </a:xfrm>
          <a:prstGeom prst="rect">
            <a:avLst/>
          </a:prstGeom>
          <a:ln w="0">
            <a:noFill/>
          </a:ln>
        </p:spPr>
      </p:pic>
      <p:pic>
        <p:nvPicPr>
          <p:cNvPr id="97" name="Круг_сообщество" descr=""/>
          <p:cNvPicPr/>
          <p:nvPr/>
        </p:nvPicPr>
        <p:blipFill>
          <a:blip r:embed="rId2"/>
          <a:stretch/>
        </p:blipFill>
        <p:spPr>
          <a:xfrm>
            <a:off x="5164200" y="3878280"/>
            <a:ext cx="1789200" cy="1776240"/>
          </a:xfrm>
          <a:prstGeom prst="rect">
            <a:avLst/>
          </a:prstGeom>
          <a:ln w="0">
            <a:noFill/>
          </a:ln>
        </p:spPr>
      </p:pic>
      <p:pic>
        <p:nvPicPr>
          <p:cNvPr id="98" name="Круг_власть" descr=""/>
          <p:cNvPicPr/>
          <p:nvPr/>
        </p:nvPicPr>
        <p:blipFill>
          <a:blip r:embed="rId3"/>
          <a:stretch/>
        </p:blipFill>
        <p:spPr>
          <a:xfrm>
            <a:off x="3665520" y="1227240"/>
            <a:ext cx="1789200" cy="177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71960" y="1542960"/>
            <a:ext cx="3848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оздает и поддерживает условия, необходимые для гражданского общества и деловой акт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53120" y="4629240"/>
            <a:ext cx="2990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1000"/>
          </a:bodyPr>
          <a:p>
            <a:pPr marL="174960" indent="-174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ормирует запрос на условия, необходимые гражданскому обществ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ыступает как субъект обустройства повседнев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480" y="4792680"/>
            <a:ext cx="2835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ормирует запрос на условия, необходимые для деловой актив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ыступает как субъект развития деловой инфраструкт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76320"/>
            <a:ext cx="9067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СТРАТЕГИЧЕСКОЕ ПАРТНЕРСТВО КАК ОСНОВА МЕСТНОГО СОЦИАЛЬНОГО-ЭКОНОМИЧЕСКОГО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8510600">
            <a:off x="2985480" y="3231000"/>
            <a:ext cx="1160280" cy="212760"/>
          </a:xfrm>
          <a:prstGeom prst="leftRightArrow">
            <a:avLst>
              <a:gd name="adj1" fmla="val 50000"/>
              <a:gd name="adj2" fmla="val 10856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rot="3089400">
            <a:off x="4832280" y="3264120"/>
            <a:ext cx="1160280" cy="247320"/>
          </a:xfrm>
          <a:prstGeom prst="leftRightArrow">
            <a:avLst>
              <a:gd name="adj1" fmla="val 50000"/>
              <a:gd name="adj2" fmla="val 9339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rot="81600">
            <a:off x="3936240" y="4736880"/>
            <a:ext cx="1160640" cy="209520"/>
          </a:xfrm>
          <a:prstGeom prst="leftRightArrow">
            <a:avLst>
              <a:gd name="adj1" fmla="val 50000"/>
              <a:gd name="adj2" fmla="val 1102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54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ФАКТОРЫ ФОРМИРОВАНИЯ СТРАТЕГИИ РАЗВИТИЯ МУНИЦИПА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1440" y="3716280"/>
            <a:ext cx="2171520" cy="8715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СТРАТЕГИЯ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31920" y="2944800"/>
            <a:ext cx="3481200" cy="1500120"/>
            <a:chOff x="331920" y="2944800"/>
            <a:chExt cx="3481200" cy="1500120"/>
          </a:xfrm>
        </p:grpSpPr>
        <p:sp>
          <p:nvSpPr>
            <p:cNvPr id="109" name=""/>
            <p:cNvSpPr/>
            <p:nvPr/>
          </p:nvSpPr>
          <p:spPr>
            <a:xfrm>
              <a:off x="331920" y="2944800"/>
              <a:ext cx="2408040" cy="15001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Национальная и региональная стратегии развит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60840" y="3738600"/>
              <a:ext cx="10522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4480" y="1173240"/>
            <a:ext cx="4640040" cy="2562120"/>
            <a:chOff x="114480" y="1173240"/>
            <a:chExt cx="4640040" cy="2562120"/>
          </a:xfrm>
        </p:grpSpPr>
        <p:sp>
          <p:nvSpPr>
            <p:cNvPr id="112" name=""/>
            <p:cNvSpPr/>
            <p:nvPr/>
          </p:nvSpPr>
          <p:spPr>
            <a:xfrm>
              <a:off x="114480" y="1173240"/>
              <a:ext cx="4640040" cy="13096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Географическая, историческая, экономическая специфика муниципального образовани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59200" y="2462040"/>
              <a:ext cx="55872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238720" y="1154160"/>
            <a:ext cx="3359160" cy="2581200"/>
            <a:chOff x="5238720" y="1154160"/>
            <a:chExt cx="3359160" cy="2581200"/>
          </a:xfrm>
        </p:grpSpPr>
        <p:sp>
          <p:nvSpPr>
            <p:cNvPr id="115" name=""/>
            <p:cNvSpPr/>
            <p:nvPr/>
          </p:nvSpPr>
          <p:spPr>
            <a:xfrm>
              <a:off x="5238720" y="1154160"/>
              <a:ext cx="3359160" cy="13287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Потребности и чаяния членов местного  сообще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90640" y="2462040"/>
              <a:ext cx="40644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959080" y="3002040"/>
            <a:ext cx="2883240" cy="960480"/>
            <a:chOff x="5959080" y="3002040"/>
            <a:chExt cx="2883240" cy="960480"/>
          </a:xfrm>
        </p:grpSpPr>
        <p:sp>
          <p:nvSpPr>
            <p:cNvPr id="118" name=""/>
            <p:cNvSpPr/>
            <p:nvPr/>
          </p:nvSpPr>
          <p:spPr>
            <a:xfrm>
              <a:off x="6643800" y="3002040"/>
              <a:ext cx="2198520" cy="9097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Рыноч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конъюнктур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959080" y="3529080"/>
              <a:ext cx="69228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7240" y="4616280"/>
            <a:ext cx="3787560" cy="1575000"/>
            <a:chOff x="57240" y="4616280"/>
            <a:chExt cx="3787560" cy="1575000"/>
          </a:xfrm>
        </p:grpSpPr>
        <p:sp>
          <p:nvSpPr>
            <p:cNvPr id="121" name=""/>
            <p:cNvSpPr/>
            <p:nvPr/>
          </p:nvSpPr>
          <p:spPr>
            <a:xfrm>
              <a:off x="57240" y="5337000"/>
              <a:ext cx="3163680" cy="854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Градостроительная концеп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144880" y="4616280"/>
              <a:ext cx="1699920" cy="64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925960" y="4521240"/>
            <a:ext cx="2901960" cy="1631880"/>
            <a:chOff x="5925960" y="4521240"/>
            <a:chExt cx="2901960" cy="1631880"/>
          </a:xfrm>
        </p:grpSpPr>
        <p:sp>
          <p:nvSpPr>
            <p:cNvPr id="124" name=""/>
            <p:cNvSpPr/>
            <p:nvPr/>
          </p:nvSpPr>
          <p:spPr>
            <a:xfrm>
              <a:off x="6761160" y="5337000"/>
              <a:ext cx="2066760" cy="816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Социальные програм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25960" y="4521240"/>
              <a:ext cx="156528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502080" y="4610160"/>
            <a:ext cx="2943000" cy="1600200"/>
            <a:chOff x="3502080" y="4610160"/>
            <a:chExt cx="2943000" cy="1600200"/>
          </a:xfrm>
        </p:grpSpPr>
        <p:sp>
          <p:nvSpPr>
            <p:cNvPr id="127" name=""/>
            <p:cNvSpPr/>
            <p:nvPr/>
          </p:nvSpPr>
          <p:spPr>
            <a:xfrm>
              <a:off x="3502080" y="5337000"/>
              <a:ext cx="2943000" cy="873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Программы поддержки бизнес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6000" y="46101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СТРАТЕГИЯ РАЗВИТИЯ МУНИЦИПА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991040" y="1295280"/>
            <a:ext cx="2895840" cy="520560"/>
            <a:chOff x="4991040" y="1295280"/>
            <a:chExt cx="2895840" cy="520560"/>
          </a:xfrm>
        </p:grpSpPr>
        <p:sp>
          <p:nvSpPr>
            <p:cNvPr id="131" name=""/>
            <p:cNvSpPr/>
            <p:nvPr/>
          </p:nvSpPr>
          <p:spPr>
            <a:xfrm>
              <a:off x="4991040" y="1447920"/>
              <a:ext cx="1600200" cy="228600"/>
            </a:xfrm>
            <a:custGeom>
              <a:avLst/>
              <a:gdLst>
                <a:gd name="textAreaLeft" fmla="*/ 249840 w 1600200"/>
                <a:gd name="textAreaRight" fmla="*/ 1400400 w 16002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1984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ла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0880" y="2209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и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1680" y="3238560"/>
            <a:ext cx="1905120" cy="2501640"/>
            <a:chOff x="301680" y="3238560"/>
            <a:chExt cx="1905120" cy="2501640"/>
          </a:xfrm>
        </p:grpSpPr>
        <p:sp>
          <p:nvSpPr>
            <p:cNvPr id="135" name=""/>
            <p:cNvSpPr/>
            <p:nvPr/>
          </p:nvSpPr>
          <p:spPr>
            <a:xfrm flipV="1" rot="5400000">
              <a:off x="342720" y="4000320"/>
              <a:ext cx="1828800" cy="304920"/>
            </a:xfrm>
            <a:custGeom>
              <a:avLst/>
              <a:gdLst>
                <a:gd name="textAreaLeft" fmla="*/ 285480 w 1828800"/>
                <a:gd name="textAreaRight" fmla="*/ 1600200 w 1828800"/>
                <a:gd name="textAreaTop" fmla="*/ 75960 h 304920"/>
                <a:gd name="textAreaBottom" fmla="*/ 2286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1680" y="52196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ринци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413520" y="2430720"/>
            <a:ext cx="3254040" cy="2068200"/>
            <a:chOff x="3413520" y="2430720"/>
            <a:chExt cx="3254040" cy="2068200"/>
          </a:xfrm>
        </p:grpSpPr>
        <p:sp>
          <p:nvSpPr>
            <p:cNvPr id="138" name=""/>
            <p:cNvSpPr/>
            <p:nvPr/>
          </p:nvSpPr>
          <p:spPr>
            <a:xfrm rot="2466600">
              <a:off x="3238200" y="3238200"/>
              <a:ext cx="2627280" cy="452520"/>
            </a:xfrm>
            <a:custGeom>
              <a:avLst/>
              <a:gdLst>
                <a:gd name="textAreaLeft" fmla="*/ 410400 w 2627280"/>
                <a:gd name="textAreaRight" fmla="*/ 2298960 w 2627280"/>
                <a:gd name="textAreaTop" fmla="*/ 113040 h 452520"/>
                <a:gd name="textAreaBottom" fmla="*/ 3394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81560" y="255276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рганизация деят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384720" y="3160080"/>
            <a:ext cx="4196880" cy="2105280"/>
            <a:chOff x="3384720" y="3160080"/>
            <a:chExt cx="4196880" cy="2105280"/>
          </a:xfrm>
        </p:grpSpPr>
        <p:grpSp>
          <p:nvGrpSpPr>
            <p:cNvPr id="141" name=""/>
            <p:cNvGrpSpPr/>
            <p:nvPr/>
          </p:nvGrpSpPr>
          <p:grpSpPr>
            <a:xfrm>
              <a:off x="3384720" y="3197520"/>
              <a:ext cx="4196880" cy="2067840"/>
              <a:chOff x="3384720" y="3197520"/>
              <a:chExt cx="4196880" cy="2067840"/>
            </a:xfrm>
          </p:grpSpPr>
          <p:sp>
            <p:nvSpPr>
              <p:cNvPr id="142" name=""/>
              <p:cNvSpPr/>
              <p:nvPr/>
            </p:nvSpPr>
            <p:spPr>
              <a:xfrm rot="2466600">
                <a:off x="3209400" y="4005360"/>
                <a:ext cx="2627280" cy="452160"/>
              </a:xfrm>
              <a:custGeom>
                <a:avLst/>
                <a:gdLst>
                  <a:gd name="textAreaLeft" fmla="*/ 410400 w 2627280"/>
                  <a:gd name="textAreaRight" fmla="*/ 2298960 w 2627280"/>
                  <a:gd name="textAreaTop" fmla="*/ 113040 h 452160"/>
                  <a:gd name="textAreaBottom" fmla="*/ 339120 h 45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067000" y="4152960"/>
                <a:ext cx="2514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существление деятельност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 rot="354600">
              <a:off x="4051800" y="3405240"/>
              <a:ext cx="609120" cy="91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rot="10744800">
              <a:off x="4073040" y="3164760"/>
              <a:ext cx="6091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400480" y="1276200"/>
            <a:ext cx="6021360" cy="4743720"/>
            <a:chOff x="2400480" y="1276200"/>
            <a:chExt cx="6021360" cy="4743720"/>
          </a:xfrm>
        </p:grpSpPr>
        <p:sp>
          <p:nvSpPr>
            <p:cNvPr id="147" name=""/>
            <p:cNvSpPr/>
            <p:nvPr/>
          </p:nvSpPr>
          <p:spPr>
            <a:xfrm>
              <a:off x="2400480" y="12762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ерспектив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7162920" y="4830840"/>
            <a:ext cx="1258920" cy="118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2920" y="4830840"/>
                      <a:ext cx="125892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0" name=""/>
          <p:cNvGrpSpPr/>
          <p:nvPr/>
        </p:nvGrpSpPr>
        <p:grpSpPr>
          <a:xfrm>
            <a:off x="800280" y="876240"/>
            <a:ext cx="6933960" cy="5562720"/>
            <a:chOff x="800280" y="876240"/>
            <a:chExt cx="6933960" cy="5562720"/>
          </a:xfrm>
        </p:grpSpPr>
        <p:graphicFrame>
          <p:nvGraphicFramePr>
            <p:cNvPr id="151" name=""/>
            <p:cNvGraphicFramePr/>
            <p:nvPr/>
          </p:nvGraphicFramePr>
          <p:xfrm>
            <a:off x="800280" y="876240"/>
            <a:ext cx="1169640" cy="118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0280" y="876240"/>
                      <a:ext cx="116964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3" name=""/>
            <p:cNvGrpSpPr/>
            <p:nvPr/>
          </p:nvGrpSpPr>
          <p:grpSpPr>
            <a:xfrm>
              <a:off x="1181160" y="1257480"/>
              <a:ext cx="6553080" cy="5181480"/>
              <a:chOff x="1181160" y="1257480"/>
              <a:chExt cx="6553080" cy="5181480"/>
            </a:xfrm>
          </p:grpSpPr>
          <p:sp>
            <p:nvSpPr>
              <p:cNvPr id="154" name=""/>
              <p:cNvSpPr/>
              <p:nvPr/>
            </p:nvSpPr>
            <p:spPr>
              <a:xfrm>
                <a:off x="1181160" y="224784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24160" y="1257480"/>
                <a:ext cx="0" cy="518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2171880" y="3922200"/>
            <a:ext cx="3337920" cy="2105280"/>
            <a:chOff x="2171880" y="3922200"/>
            <a:chExt cx="3337920" cy="2105280"/>
          </a:xfrm>
        </p:grpSpPr>
        <p:sp>
          <p:nvSpPr>
            <p:cNvPr id="157" name=""/>
            <p:cNvSpPr/>
            <p:nvPr/>
          </p:nvSpPr>
          <p:spPr>
            <a:xfrm rot="2466600">
              <a:off x="3057120" y="4766760"/>
              <a:ext cx="2627280" cy="452520"/>
            </a:xfrm>
            <a:custGeom>
              <a:avLst/>
              <a:gdLst>
                <a:gd name="textAreaLeft" fmla="*/ 410400 w 2627280"/>
                <a:gd name="textAreaRight" fmla="*/ 2298960 w 2627280"/>
                <a:gd name="textAreaTop" fmla="*/ 113040 h 452520"/>
                <a:gd name="textAreaBottom" fmla="*/ 3394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71880" y="491472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учение и развит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354600">
              <a:off x="3899880" y="4167360"/>
              <a:ext cx="609120" cy="91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rot="10744800">
              <a:off x="3921120" y="3926880"/>
              <a:ext cx="6084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19040" y="2438280"/>
            <a:ext cx="5048280" cy="2286000"/>
            <a:chOff x="419040" y="2438280"/>
            <a:chExt cx="5048280" cy="2286000"/>
          </a:xfrm>
        </p:grpSpPr>
        <p:sp>
          <p:nvSpPr>
            <p:cNvPr id="162" name=""/>
            <p:cNvSpPr/>
            <p:nvPr/>
          </p:nvSpPr>
          <p:spPr>
            <a:xfrm>
              <a:off x="419040" y="2438280"/>
              <a:ext cx="5048280" cy="2286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76200" y="2571840"/>
              <a:ext cx="306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УНИЦИПАЛЬНОЕ ОБРАЗ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38640" y="1047600"/>
            <a:ext cx="6400080" cy="5712480"/>
            <a:chOff x="2438640" y="1047600"/>
            <a:chExt cx="6400080" cy="5712480"/>
          </a:xfrm>
        </p:grpSpPr>
        <p:grpSp>
          <p:nvGrpSpPr>
            <p:cNvPr id="165" name=""/>
            <p:cNvGrpSpPr/>
            <p:nvPr/>
          </p:nvGrpSpPr>
          <p:grpSpPr>
            <a:xfrm>
              <a:off x="2438640" y="1047600"/>
              <a:ext cx="6400080" cy="5712480"/>
              <a:chOff x="2438640" y="1047600"/>
              <a:chExt cx="6400080" cy="5712480"/>
            </a:xfrm>
          </p:grpSpPr>
          <p:sp>
            <p:nvSpPr>
              <p:cNvPr id="166" name=""/>
              <p:cNvSpPr/>
              <p:nvPr/>
            </p:nvSpPr>
            <p:spPr>
              <a:xfrm>
                <a:off x="2438640" y="1047600"/>
                <a:ext cx="6400080" cy="451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880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88059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587320" y="2331000"/>
                <a:ext cx="6251040" cy="442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8427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84274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657760" y="603900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Times New Roman"/>
                </a:rPr>
                <a:t>рыно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276200" y="348624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рганизация и упр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962160" y="4285800"/>
            <a:ext cx="2667240" cy="1554120"/>
            <a:chOff x="3962160" y="4285800"/>
            <a:chExt cx="2667240" cy="1554120"/>
          </a:xfrm>
        </p:grpSpPr>
        <p:sp>
          <p:nvSpPr>
            <p:cNvPr id="171" name=""/>
            <p:cNvSpPr/>
            <p:nvPr/>
          </p:nvSpPr>
          <p:spPr>
            <a:xfrm flipH="1" flipV="1">
              <a:off x="3961800" y="4285440"/>
              <a:ext cx="2438280" cy="685800"/>
            </a:xfrm>
            <a:custGeom>
              <a:avLst/>
              <a:gdLst>
                <a:gd name="textAreaLeft" fmla="*/ 426240 w 2438280"/>
                <a:gd name="textAreaRight" fmla="*/ 1767600 w 243828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10200" y="4892760"/>
              <a:ext cx="241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кредиты и инвестиц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114800" y="1600200"/>
            <a:ext cx="2666880" cy="1238400"/>
            <a:chOff x="4114800" y="1600200"/>
            <a:chExt cx="2666880" cy="1238400"/>
          </a:xfrm>
        </p:grpSpPr>
        <p:sp>
          <p:nvSpPr>
            <p:cNvPr id="174" name=""/>
            <p:cNvSpPr/>
            <p:nvPr/>
          </p:nvSpPr>
          <p:spPr>
            <a:xfrm>
              <a:off x="4191120" y="2152800"/>
              <a:ext cx="2438280" cy="685800"/>
            </a:xfrm>
            <a:custGeom>
              <a:avLst/>
              <a:gdLst>
                <a:gd name="textAreaLeft" fmla="*/ 426600 w 2438280"/>
                <a:gd name="textAreaRight" fmla="*/ 1767960 w 243828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14800" y="16002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Times New Roman"/>
                </a:rPr>
                <a:t>маркетин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МАРКЕТИНГОВЫЙ ПОДХОД К МУНИЦИПАЛЬНОМУ РАЗВИТ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3371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ЛИ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5810400" y="1992600"/>
            <a:ext cx="2133360" cy="1455480"/>
            <a:chOff x="5810400" y="1992600"/>
            <a:chExt cx="2133360" cy="1455480"/>
          </a:xfrm>
        </p:grpSpPr>
        <p:sp>
          <p:nvSpPr>
            <p:cNvPr id="179" name=""/>
            <p:cNvSpPr/>
            <p:nvPr/>
          </p:nvSpPr>
          <p:spPr>
            <a:xfrm>
              <a:off x="5810400" y="2457360"/>
              <a:ext cx="2133360" cy="990720"/>
            </a:xfrm>
            <a:prstGeom prst="cloudCallout">
              <a:avLst>
                <a:gd name="adj1" fmla="val 1564"/>
                <a:gd name="adj2" fmla="val 34296"/>
              </a:avLst>
            </a:prstGeom>
            <a:solidFill>
              <a:srgbClr val="99ff99"/>
            </a:solidFill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договор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176000">
              <a:off x="6794640" y="2219040"/>
              <a:ext cx="769680" cy="190440"/>
            </a:xfrm>
            <a:prstGeom prst="leftArrow">
              <a:avLst>
                <a:gd name="adj1" fmla="val 50000"/>
                <a:gd name="adj2" fmla="val 10104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7240" y="95400"/>
            <a:ext cx="90867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ХНОЛОГИЯ РАЗВОРАЧИВАНИЯ ПРОГРАММ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4480" y="1238400"/>
            <a:ext cx="3047760" cy="856800"/>
            <a:chOff x="114480" y="1238400"/>
            <a:chExt cx="3047760" cy="856800"/>
          </a:xfrm>
        </p:grpSpPr>
        <p:grpSp>
          <p:nvGrpSpPr>
            <p:cNvPr id="183" name=""/>
            <p:cNvGrpSpPr/>
            <p:nvPr/>
          </p:nvGrpSpPr>
          <p:grpSpPr>
            <a:xfrm>
              <a:off x="266760" y="1295280"/>
              <a:ext cx="1447920" cy="799920"/>
              <a:chOff x="266760" y="1295280"/>
              <a:chExt cx="1447920" cy="799920"/>
            </a:xfrm>
          </p:grpSpPr>
          <p:sp>
            <p:nvSpPr>
              <p:cNvPr id="184" name=""/>
              <p:cNvSpPr/>
              <p:nvPr/>
            </p:nvSpPr>
            <p:spPr>
              <a:xfrm>
                <a:off x="876240" y="1523880"/>
                <a:ext cx="838440" cy="457200"/>
              </a:xfrm>
              <a:prstGeom prst="parallelogram">
                <a:avLst>
                  <a:gd name="adj" fmla="val 29172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5800" y="1409400"/>
                <a:ext cx="838080" cy="457200"/>
              </a:xfrm>
              <a:prstGeom prst="parallelogram">
                <a:avLst>
                  <a:gd name="adj" fmla="val 29159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4440" y="1295280"/>
                <a:ext cx="838080" cy="457200"/>
              </a:xfrm>
              <a:prstGeom prst="parallelogram">
                <a:avLst>
                  <a:gd name="adj" fmla="val 29159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4880" y="1599840"/>
                <a:ext cx="838080" cy="457200"/>
              </a:xfrm>
              <a:prstGeom prst="parallelogram">
                <a:avLst>
                  <a:gd name="adj" fmla="val 29159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6760" y="1638000"/>
                <a:ext cx="838080" cy="457200"/>
              </a:xfrm>
              <a:prstGeom prst="parallelogram">
                <a:avLst>
                  <a:gd name="adj" fmla="val 29159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14480" y="1238400"/>
              <a:ext cx="30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города, прошедшие  конкур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114960" y="1200240"/>
            <a:ext cx="2895840" cy="914040"/>
            <a:chOff x="6114960" y="1200240"/>
            <a:chExt cx="2895840" cy="914040"/>
          </a:xfrm>
        </p:grpSpPr>
        <p:grpSp>
          <p:nvGrpSpPr>
            <p:cNvPr id="191" name=""/>
            <p:cNvGrpSpPr/>
            <p:nvPr/>
          </p:nvGrpSpPr>
          <p:grpSpPr>
            <a:xfrm>
              <a:off x="7448400" y="1467000"/>
              <a:ext cx="876240" cy="647280"/>
              <a:chOff x="7448400" y="1467000"/>
              <a:chExt cx="876240" cy="647280"/>
            </a:xfrm>
          </p:grpSpPr>
          <p:sp>
            <p:nvSpPr>
              <p:cNvPr id="192" name=""/>
              <p:cNvSpPr/>
              <p:nvPr/>
            </p:nvSpPr>
            <p:spPr>
              <a:xfrm>
                <a:off x="7448400" y="1657440"/>
                <a:ext cx="476280" cy="4377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00680" y="1657440"/>
                <a:ext cx="476280" cy="4377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53320" y="1523880"/>
                <a:ext cx="476280" cy="4377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86560" y="1467000"/>
                <a:ext cx="476280" cy="438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848360" y="1676520"/>
                <a:ext cx="476280" cy="4377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6114960" y="1200240"/>
              <a:ext cx="289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онсультанты, прошедшие отб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218680" y="1676520"/>
            <a:ext cx="4106520" cy="1406160"/>
            <a:chOff x="2218680" y="1676520"/>
            <a:chExt cx="4106520" cy="1406160"/>
          </a:xfrm>
        </p:grpSpPr>
        <p:sp>
          <p:nvSpPr>
            <p:cNvPr id="199" name=""/>
            <p:cNvSpPr/>
            <p:nvPr/>
          </p:nvSpPr>
          <p:spPr>
            <a:xfrm flipV="1" rot="763200">
              <a:off x="2209680" y="2254680"/>
              <a:ext cx="4124520" cy="378360"/>
            </a:xfrm>
            <a:prstGeom prst="rightArrow">
              <a:avLst>
                <a:gd name="adj1" fmla="val 50000"/>
                <a:gd name="adj2" fmla="val 272526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33680" y="1676520"/>
              <a:ext cx="2571840" cy="1284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1754280"/>
              <a:ext cx="2519640" cy="1313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еминары для глав городов и групп стратегического планир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181480" y="3581280"/>
            <a:ext cx="3371760" cy="914400"/>
            <a:chOff x="5181480" y="3581280"/>
            <a:chExt cx="3371760" cy="914400"/>
          </a:xfrm>
        </p:grpSpPr>
        <p:sp>
          <p:nvSpPr>
            <p:cNvPr id="203" name=""/>
            <p:cNvSpPr/>
            <p:nvPr/>
          </p:nvSpPr>
          <p:spPr>
            <a:xfrm>
              <a:off x="5181480" y="3676680"/>
              <a:ext cx="3371760" cy="819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0080" y="358128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работка страте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81160" y="3809880"/>
            <a:ext cx="4209840" cy="552600"/>
            <a:chOff x="1181160" y="3809880"/>
            <a:chExt cx="4209840" cy="552600"/>
          </a:xfrm>
        </p:grpSpPr>
        <p:sp>
          <p:nvSpPr>
            <p:cNvPr id="206" name=""/>
            <p:cNvSpPr/>
            <p:nvPr/>
          </p:nvSpPr>
          <p:spPr>
            <a:xfrm>
              <a:off x="1181160" y="3809880"/>
              <a:ext cx="4209840" cy="552600"/>
            </a:xfrm>
            <a:prstGeom prst="rightArrow">
              <a:avLst>
                <a:gd name="adj1" fmla="val 50000"/>
                <a:gd name="adj2" fmla="val 190456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1160" y="3848040"/>
              <a:ext cx="367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бучающий мониторин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962680" y="4896000"/>
            <a:ext cx="1790640" cy="857160"/>
            <a:chOff x="5962680" y="4896000"/>
            <a:chExt cx="1790640" cy="857160"/>
          </a:xfrm>
        </p:grpSpPr>
        <p:sp>
          <p:nvSpPr>
            <p:cNvPr id="209" name=""/>
            <p:cNvSpPr/>
            <p:nvPr/>
          </p:nvSpPr>
          <p:spPr>
            <a:xfrm>
              <a:off x="6019920" y="4896000"/>
              <a:ext cx="1733400" cy="857160"/>
            </a:xfrm>
            <a:prstGeom prst="flowChartMultidocumen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2680" y="5086440"/>
              <a:ext cx="15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трате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19680" y="5465520"/>
            <a:ext cx="4727160" cy="1268640"/>
            <a:chOff x="3019680" y="5465520"/>
            <a:chExt cx="4727160" cy="1268640"/>
          </a:xfrm>
        </p:grpSpPr>
        <p:sp>
          <p:nvSpPr>
            <p:cNvPr id="212" name=""/>
            <p:cNvSpPr/>
            <p:nvPr/>
          </p:nvSpPr>
          <p:spPr>
            <a:xfrm rot="20844600">
              <a:off x="3009960" y="5905080"/>
              <a:ext cx="4076640" cy="362160"/>
            </a:xfrm>
            <a:prstGeom prst="leftArrow">
              <a:avLst>
                <a:gd name="adj1" fmla="val 50000"/>
                <a:gd name="adj2" fmla="val 28141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899200">
              <a:off x="4419720" y="5943240"/>
              <a:ext cx="331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ализация стратег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305080" y="4533840"/>
            <a:ext cx="3486240" cy="1191240"/>
            <a:chOff x="2305080" y="4533840"/>
            <a:chExt cx="3486240" cy="1191240"/>
          </a:xfrm>
        </p:grpSpPr>
        <p:sp>
          <p:nvSpPr>
            <p:cNvPr id="215" name=""/>
            <p:cNvSpPr/>
            <p:nvPr/>
          </p:nvSpPr>
          <p:spPr>
            <a:xfrm rot="2005200">
              <a:off x="4721400" y="5252760"/>
              <a:ext cx="933120" cy="234720"/>
            </a:xfrm>
            <a:prstGeom prst="rightArrow">
              <a:avLst>
                <a:gd name="adj1" fmla="val 50000"/>
                <a:gd name="adj2" fmla="val 9938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05080" y="4533840"/>
              <a:ext cx="34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чебные програм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1800" y="5581800"/>
            <a:ext cx="3486240" cy="701640"/>
            <a:chOff x="361800" y="5581800"/>
            <a:chExt cx="3486240" cy="701640"/>
          </a:xfrm>
        </p:grpSpPr>
        <p:sp>
          <p:nvSpPr>
            <p:cNvPr id="218" name=""/>
            <p:cNvSpPr/>
            <p:nvPr/>
          </p:nvSpPr>
          <p:spPr>
            <a:xfrm rot="2005200">
              <a:off x="3159000" y="5969160"/>
              <a:ext cx="438120" cy="210960"/>
            </a:xfrm>
            <a:prstGeom prst="rightArrow">
              <a:avLst>
                <a:gd name="adj1" fmla="val 50000"/>
                <a:gd name="adj2" fmla="val 5192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1800" y="5581800"/>
              <a:ext cx="34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нсульт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971640" y="5029200"/>
            <a:ext cx="3581280" cy="963360"/>
            <a:chOff x="971640" y="5029200"/>
            <a:chExt cx="3581280" cy="963360"/>
          </a:xfrm>
        </p:grpSpPr>
        <p:sp>
          <p:nvSpPr>
            <p:cNvPr id="221" name=""/>
            <p:cNvSpPr/>
            <p:nvPr/>
          </p:nvSpPr>
          <p:spPr>
            <a:xfrm rot="2005200">
              <a:off x="3973680" y="5628960"/>
              <a:ext cx="563400" cy="226800"/>
            </a:xfrm>
            <a:prstGeom prst="rightArrow">
              <a:avLst>
                <a:gd name="adj1" fmla="val 50000"/>
                <a:gd name="adj2" fmla="val 6210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71640" y="5029200"/>
              <a:ext cx="34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ы обме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амост_стратегия" descr=""/>
          <p:cNvPicPr/>
          <p:nvPr/>
        </p:nvPicPr>
        <p:blipFill>
          <a:blip r:embed="rId2"/>
          <a:stretch/>
        </p:blipFill>
        <p:spPr>
          <a:xfrm>
            <a:off x="7286760" y="1806480"/>
            <a:ext cx="185724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Разр_стратегии_ИОО" descr=""/>
          <p:cNvPicPr/>
          <p:nvPr/>
        </p:nvPicPr>
        <p:blipFill>
          <a:blip r:embed="rId3"/>
          <a:stretch/>
        </p:blipFill>
        <p:spPr>
          <a:xfrm>
            <a:off x="50760" y="2814480"/>
            <a:ext cx="2138400" cy="2662560"/>
          </a:xfrm>
          <a:prstGeom prst="rect">
            <a:avLst/>
          </a:prstGeom>
          <a:ln w="0">
            <a:noFill/>
          </a:ln>
        </p:spPr>
      </p:pic>
      <p:pic>
        <p:nvPicPr>
          <p:cNvPr id="225" name="Коррект_стратегии_ИОО" descr=""/>
          <p:cNvPicPr/>
          <p:nvPr/>
        </p:nvPicPr>
        <p:blipFill>
          <a:blip r:embed="rId4"/>
          <a:stretch/>
        </p:blipFill>
        <p:spPr>
          <a:xfrm>
            <a:off x="4554360" y="2814480"/>
            <a:ext cx="1824120" cy="1070280"/>
          </a:xfrm>
          <a:prstGeom prst="rect">
            <a:avLst/>
          </a:prstGeom>
          <a:ln w="0">
            <a:noFill/>
          </a:ln>
        </p:spPr>
      </p:pic>
      <p:pic>
        <p:nvPicPr>
          <p:cNvPr id="226" name="Распр_опыта_ИОО" descr=""/>
          <p:cNvPicPr/>
          <p:nvPr/>
        </p:nvPicPr>
        <p:blipFill>
          <a:blip r:embed="rId5"/>
          <a:stretch/>
        </p:blipFill>
        <p:spPr>
          <a:xfrm>
            <a:off x="6553080" y="3430440"/>
            <a:ext cx="2241720" cy="1194120"/>
          </a:xfrm>
          <a:prstGeom prst="rect">
            <a:avLst/>
          </a:prstGeom>
          <a:ln w="0">
            <a:noFill/>
          </a:ln>
        </p:spPr>
      </p:pic>
      <p:pic>
        <p:nvPicPr>
          <p:cNvPr id="227" name="Реализ_стратегии_ИОО" descr=""/>
          <p:cNvPicPr/>
          <p:nvPr/>
        </p:nvPicPr>
        <p:blipFill>
          <a:blip r:embed="rId6"/>
          <a:stretch/>
        </p:blipFill>
        <p:spPr>
          <a:xfrm>
            <a:off x="2211480" y="2814480"/>
            <a:ext cx="2332080" cy="2662560"/>
          </a:xfrm>
          <a:prstGeom prst="rect">
            <a:avLst/>
          </a:prstGeom>
          <a:ln w="0">
            <a:noFill/>
          </a:ln>
        </p:spPr>
      </p:pic>
      <p:pic>
        <p:nvPicPr>
          <p:cNvPr id="228" name="точка_кр" descr=""/>
          <p:cNvPicPr/>
          <p:nvPr/>
        </p:nvPicPr>
        <p:blipFill>
          <a:blip r:embed="rId7"/>
          <a:stretch/>
        </p:blipFill>
        <p:spPr>
          <a:xfrm>
            <a:off x="52560" y="3232080"/>
            <a:ext cx="255240" cy="255600"/>
          </a:xfrm>
          <a:prstGeom prst="rect">
            <a:avLst/>
          </a:prstGeom>
          <a:ln w="0">
            <a:noFill/>
          </a:ln>
        </p:spPr>
      </p:pic>
      <p:pic>
        <p:nvPicPr>
          <p:cNvPr id="229" name="точка_син" descr=""/>
          <p:cNvPicPr/>
          <p:nvPr/>
        </p:nvPicPr>
        <p:blipFill>
          <a:blip r:embed="rId8"/>
          <a:stretch/>
        </p:blipFill>
        <p:spPr>
          <a:xfrm>
            <a:off x="52560" y="4043520"/>
            <a:ext cx="255240" cy="255600"/>
          </a:xfrm>
          <a:prstGeom prst="rect">
            <a:avLst/>
          </a:prstGeom>
          <a:ln w="0">
            <a:noFill/>
          </a:ln>
        </p:spPr>
      </p:pic>
      <p:pic>
        <p:nvPicPr>
          <p:cNvPr id="230" name="точка_син" descr=""/>
          <p:cNvPicPr/>
          <p:nvPr/>
        </p:nvPicPr>
        <p:blipFill>
          <a:blip r:embed="rId9"/>
          <a:stretch/>
        </p:blipFill>
        <p:spPr>
          <a:xfrm>
            <a:off x="52560" y="4842000"/>
            <a:ext cx="255240" cy="255600"/>
          </a:xfrm>
          <a:prstGeom prst="rect">
            <a:avLst/>
          </a:prstGeom>
          <a:ln w="0">
            <a:noFill/>
          </a:ln>
        </p:spPr>
      </p:pic>
      <p:pic>
        <p:nvPicPr>
          <p:cNvPr id="231" name="точка_кр" descr=""/>
          <p:cNvPicPr/>
          <p:nvPr/>
        </p:nvPicPr>
        <p:blipFill>
          <a:blip r:embed="rId10"/>
          <a:stretch/>
        </p:blipFill>
        <p:spPr>
          <a:xfrm>
            <a:off x="2162160" y="32320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232" name="точка_син" descr=""/>
          <p:cNvPicPr/>
          <p:nvPr/>
        </p:nvPicPr>
        <p:blipFill>
          <a:blip r:embed="rId11"/>
          <a:stretch/>
        </p:blipFill>
        <p:spPr>
          <a:xfrm>
            <a:off x="2162160" y="404352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233" name="точка_син" descr=""/>
          <p:cNvPicPr/>
          <p:nvPr/>
        </p:nvPicPr>
        <p:blipFill>
          <a:blip r:embed="rId12"/>
          <a:stretch/>
        </p:blipFill>
        <p:spPr>
          <a:xfrm>
            <a:off x="2162160" y="484200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234" name="точка_кр" descr=""/>
          <p:cNvPicPr/>
          <p:nvPr/>
        </p:nvPicPr>
        <p:blipFill>
          <a:blip r:embed="rId13"/>
          <a:stretch/>
        </p:blipFill>
        <p:spPr>
          <a:xfrm>
            <a:off x="4448160" y="32320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235" name="точка_зел" descr=""/>
          <p:cNvPicPr/>
          <p:nvPr/>
        </p:nvPicPr>
        <p:blipFill>
          <a:blip r:embed="rId14"/>
          <a:stretch/>
        </p:blipFill>
        <p:spPr>
          <a:xfrm>
            <a:off x="6459480" y="403236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236" name="Разр_стратегии" descr=""/>
          <p:cNvPicPr/>
          <p:nvPr/>
        </p:nvPicPr>
        <p:blipFill>
          <a:blip r:embed="rId15"/>
          <a:stretch/>
        </p:blipFill>
        <p:spPr>
          <a:xfrm>
            <a:off x="20520" y="1655640"/>
            <a:ext cx="2178000" cy="1123920"/>
          </a:xfrm>
          <a:prstGeom prst="rect">
            <a:avLst/>
          </a:prstGeom>
          <a:ln w="0">
            <a:noFill/>
          </a:ln>
        </p:spPr>
      </p:pic>
      <p:pic>
        <p:nvPicPr>
          <p:cNvPr id="237" name="Реализ_стратегии" descr=""/>
          <p:cNvPicPr/>
          <p:nvPr/>
        </p:nvPicPr>
        <p:blipFill>
          <a:blip r:embed="rId16"/>
          <a:stretch/>
        </p:blipFill>
        <p:spPr>
          <a:xfrm>
            <a:off x="2201760" y="1657440"/>
            <a:ext cx="2349720" cy="1122120"/>
          </a:xfrm>
          <a:prstGeom prst="rect">
            <a:avLst/>
          </a:prstGeom>
          <a:ln w="0">
            <a:noFill/>
          </a:ln>
        </p:spPr>
      </p:pic>
      <p:pic>
        <p:nvPicPr>
          <p:cNvPr id="238" name="Корр_стратегии" descr=""/>
          <p:cNvPicPr/>
          <p:nvPr/>
        </p:nvPicPr>
        <p:blipFill>
          <a:blip r:embed="rId17"/>
          <a:stretch/>
        </p:blipFill>
        <p:spPr>
          <a:xfrm>
            <a:off x="4549680" y="1655640"/>
            <a:ext cx="1846440" cy="1123920"/>
          </a:xfrm>
          <a:prstGeom prst="rect">
            <a:avLst/>
          </a:prstGeom>
          <a:ln w="0">
            <a:noFill/>
          </a:ln>
        </p:spPr>
      </p:pic>
      <p:pic>
        <p:nvPicPr>
          <p:cNvPr id="239" name="Стрелка_пункт" descr=""/>
          <p:cNvPicPr/>
          <p:nvPr/>
        </p:nvPicPr>
        <p:blipFill>
          <a:blip r:embed="rId18"/>
          <a:stretch/>
        </p:blipFill>
        <p:spPr>
          <a:xfrm>
            <a:off x="6421320" y="2236680"/>
            <a:ext cx="107640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1_год" descr=""/>
          <p:cNvPicPr/>
          <p:nvPr/>
        </p:nvPicPr>
        <p:blipFill>
          <a:blip r:embed="rId19"/>
          <a:stretch/>
        </p:blipFill>
        <p:spPr>
          <a:xfrm>
            <a:off x="493560" y="2411280"/>
            <a:ext cx="543240" cy="203400"/>
          </a:xfrm>
          <a:prstGeom prst="rect">
            <a:avLst/>
          </a:prstGeom>
          <a:ln w="0">
            <a:noFill/>
          </a:ln>
        </p:spPr>
      </p:pic>
      <p:pic>
        <p:nvPicPr>
          <p:cNvPr id="241" name="3_месяца" descr=""/>
          <p:cNvPicPr/>
          <p:nvPr/>
        </p:nvPicPr>
        <p:blipFill>
          <a:blip r:embed="rId20"/>
          <a:stretch/>
        </p:blipFill>
        <p:spPr>
          <a:xfrm>
            <a:off x="4799160" y="2409840"/>
            <a:ext cx="968400" cy="204840"/>
          </a:xfrm>
          <a:prstGeom prst="rect">
            <a:avLst/>
          </a:prstGeom>
          <a:ln w="0">
            <a:noFill/>
          </a:ln>
        </p:spPr>
      </p:pic>
      <p:pic>
        <p:nvPicPr>
          <p:cNvPr id="242" name="1_год" descr=""/>
          <p:cNvPicPr/>
          <p:nvPr/>
        </p:nvPicPr>
        <p:blipFill>
          <a:blip r:embed="rId21"/>
          <a:stretch/>
        </p:blipFill>
        <p:spPr>
          <a:xfrm>
            <a:off x="2824200" y="2411280"/>
            <a:ext cx="542880" cy="203400"/>
          </a:xfrm>
          <a:prstGeom prst="rect">
            <a:avLst/>
          </a:prstGeom>
          <a:ln w="0">
            <a:noFill/>
          </a:ln>
        </p:spPr>
      </p:pic>
      <p:pic>
        <p:nvPicPr>
          <p:cNvPr id="243" name="Этапы_работы" descr=""/>
          <p:cNvPicPr/>
          <p:nvPr/>
        </p:nvPicPr>
        <p:blipFill>
          <a:blip r:embed="rId22"/>
          <a:stretch/>
        </p:blipFill>
        <p:spPr>
          <a:xfrm>
            <a:off x="287280" y="304920"/>
            <a:ext cx="6384960" cy="8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tr_1" descr=""/>
          <p:cNvPicPr/>
          <p:nvPr/>
        </p:nvPicPr>
        <p:blipFill>
          <a:blip r:embed="rId2"/>
          <a:stretch/>
        </p:blipFill>
        <p:spPr>
          <a:xfrm>
            <a:off x="3306600" y="2530440"/>
            <a:ext cx="5686560" cy="3495600"/>
          </a:xfrm>
          <a:prstGeom prst="rect">
            <a:avLst/>
          </a:prstGeom>
          <a:ln w="0">
            <a:noFill/>
          </a:ln>
        </p:spPr>
      </p:pic>
      <p:pic>
        <p:nvPicPr>
          <p:cNvPr id="245" name="STR_SIN_1" descr=""/>
          <p:cNvPicPr/>
          <p:nvPr/>
        </p:nvPicPr>
        <p:blipFill>
          <a:blip r:embed="rId3"/>
          <a:stretch/>
        </p:blipFill>
        <p:spPr>
          <a:xfrm>
            <a:off x="3306600" y="2530440"/>
            <a:ext cx="5686560" cy="3495600"/>
          </a:xfrm>
          <a:prstGeom prst="rect">
            <a:avLst/>
          </a:prstGeom>
          <a:ln w="0">
            <a:noFill/>
          </a:ln>
        </p:spPr>
      </p:pic>
      <p:pic>
        <p:nvPicPr>
          <p:cNvPr id="246" name="STR_SIN_2" descr=""/>
          <p:cNvPicPr/>
          <p:nvPr/>
        </p:nvPicPr>
        <p:blipFill>
          <a:blip r:embed="rId4"/>
          <a:stretch/>
        </p:blipFill>
        <p:spPr>
          <a:xfrm>
            <a:off x="3306600" y="2530440"/>
            <a:ext cx="5686560" cy="34956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833400" y="2530440"/>
            <a:ext cx="8159760" cy="3495600"/>
            <a:chOff x="833400" y="2530440"/>
            <a:chExt cx="8159760" cy="3495600"/>
          </a:xfrm>
        </p:grpSpPr>
        <p:pic>
          <p:nvPicPr>
            <p:cNvPr id="248" name="STR_SIN_4" descr=""/>
            <p:cNvPicPr/>
            <p:nvPr/>
          </p:nvPicPr>
          <p:blipFill>
            <a:blip r:embed="rId5"/>
            <a:stretch/>
          </p:blipFill>
          <p:spPr>
            <a:xfrm>
              <a:off x="3306600" y="2530440"/>
              <a:ext cx="5686560" cy="349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833400" y="4135320"/>
              <a:ext cx="2405160" cy="401760"/>
              <a:chOff x="833400" y="4135320"/>
              <a:chExt cx="2405160" cy="401760"/>
            </a:xfrm>
          </p:grpSpPr>
          <p:pic>
            <p:nvPicPr>
              <p:cNvPr id="250" name="ассоциация" descr=""/>
              <p:cNvPicPr/>
              <p:nvPr/>
            </p:nvPicPr>
            <p:blipFill>
              <a:blip r:embed="rId6"/>
              <a:stretch/>
            </p:blipFill>
            <p:spPr>
              <a:xfrm>
                <a:off x="1147680" y="4135320"/>
                <a:ext cx="2090880" cy="4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t_син" descr=""/>
              <p:cNvPicPr/>
              <p:nvPr/>
            </p:nvPicPr>
            <p:blipFill>
              <a:blip r:embed="rId7"/>
              <a:stretch/>
            </p:blipFill>
            <p:spPr>
              <a:xfrm>
                <a:off x="833400" y="4179960"/>
                <a:ext cx="277920" cy="27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52" name="рес_центры" descr=""/>
          <p:cNvPicPr/>
          <p:nvPr/>
        </p:nvPicPr>
        <p:blipFill>
          <a:blip r:embed="rId8"/>
          <a:stretch/>
        </p:blipFill>
        <p:spPr>
          <a:xfrm>
            <a:off x="1144440" y="4726080"/>
            <a:ext cx="1889280" cy="760320"/>
          </a:xfrm>
          <a:prstGeom prst="rect">
            <a:avLst/>
          </a:prstGeom>
          <a:ln w="0">
            <a:noFill/>
          </a:ln>
        </p:spPr>
      </p:pic>
      <p:pic>
        <p:nvPicPr>
          <p:cNvPr id="253" name="t_син" descr=""/>
          <p:cNvPicPr/>
          <p:nvPr/>
        </p:nvPicPr>
        <p:blipFill>
          <a:blip r:embed="rId9"/>
          <a:stretch/>
        </p:blipFill>
        <p:spPr>
          <a:xfrm>
            <a:off x="833400" y="4729320"/>
            <a:ext cx="277920" cy="277560"/>
          </a:xfrm>
          <a:prstGeom prst="rect">
            <a:avLst/>
          </a:prstGeom>
          <a:ln w="0">
            <a:noFill/>
          </a:ln>
        </p:spPr>
      </p:pic>
      <p:pic>
        <p:nvPicPr>
          <p:cNvPr id="254" name="40_городов" descr=""/>
          <p:cNvPicPr/>
          <p:nvPr/>
        </p:nvPicPr>
        <p:blipFill>
          <a:blip r:embed="rId10"/>
          <a:stretch/>
        </p:blipFill>
        <p:spPr>
          <a:xfrm>
            <a:off x="1146240" y="3624120"/>
            <a:ext cx="1940040" cy="400320"/>
          </a:xfrm>
          <a:prstGeom prst="rect">
            <a:avLst/>
          </a:prstGeom>
          <a:ln w="0">
            <a:noFill/>
          </a:ln>
        </p:spPr>
      </p:pic>
      <p:pic>
        <p:nvPicPr>
          <p:cNvPr id="255" name="t_син" descr=""/>
          <p:cNvPicPr/>
          <p:nvPr/>
        </p:nvPicPr>
        <p:blipFill>
          <a:blip r:embed="rId11"/>
          <a:stretch/>
        </p:blipFill>
        <p:spPr>
          <a:xfrm>
            <a:off x="833400" y="3668760"/>
            <a:ext cx="277920" cy="277920"/>
          </a:xfrm>
          <a:prstGeom prst="rect">
            <a:avLst/>
          </a:prstGeom>
          <a:ln w="0">
            <a:noFill/>
          </a:ln>
        </p:spPr>
      </p:pic>
      <p:pic>
        <p:nvPicPr>
          <p:cNvPr id="256" name="стрелка_1" descr=""/>
          <p:cNvPicPr/>
          <p:nvPr/>
        </p:nvPicPr>
        <p:blipFill>
          <a:blip r:embed="rId12"/>
          <a:stretch/>
        </p:blipFill>
        <p:spPr>
          <a:xfrm>
            <a:off x="3586320" y="3095640"/>
            <a:ext cx="1122120" cy="399960"/>
          </a:xfrm>
          <a:prstGeom prst="rect">
            <a:avLst/>
          </a:prstGeom>
          <a:ln w="0">
            <a:noFill/>
          </a:ln>
        </p:spPr>
      </p:pic>
      <p:pic>
        <p:nvPicPr>
          <p:cNvPr id="257" name="стрелка_2" descr=""/>
          <p:cNvPicPr/>
          <p:nvPr/>
        </p:nvPicPr>
        <p:blipFill>
          <a:blip r:embed="rId13"/>
          <a:stretch/>
        </p:blipFill>
        <p:spPr>
          <a:xfrm>
            <a:off x="4708440" y="3095640"/>
            <a:ext cx="866880" cy="401760"/>
          </a:xfrm>
          <a:prstGeom prst="rect">
            <a:avLst/>
          </a:prstGeom>
          <a:ln w="0">
            <a:noFill/>
          </a:ln>
        </p:spPr>
      </p:pic>
      <p:pic>
        <p:nvPicPr>
          <p:cNvPr id="258" name="стрелка_3" descr=""/>
          <p:cNvPicPr/>
          <p:nvPr/>
        </p:nvPicPr>
        <p:blipFill>
          <a:blip r:embed="rId14"/>
          <a:stretch/>
        </p:blipFill>
        <p:spPr>
          <a:xfrm>
            <a:off x="5589720" y="3095640"/>
            <a:ext cx="457200" cy="398520"/>
          </a:xfrm>
          <a:prstGeom prst="rect">
            <a:avLst/>
          </a:prstGeom>
          <a:ln w="0">
            <a:noFill/>
          </a:ln>
        </p:spPr>
      </p:pic>
      <p:pic>
        <p:nvPicPr>
          <p:cNvPr id="259" name="стрелка_5" descr=""/>
          <p:cNvPicPr/>
          <p:nvPr/>
        </p:nvPicPr>
        <p:blipFill>
          <a:blip r:embed="rId15"/>
          <a:stretch/>
        </p:blipFill>
        <p:spPr>
          <a:xfrm>
            <a:off x="5243400" y="3641760"/>
            <a:ext cx="1131840" cy="446040"/>
          </a:xfrm>
          <a:prstGeom prst="rect">
            <a:avLst/>
          </a:prstGeom>
          <a:ln w="0">
            <a:noFill/>
          </a:ln>
        </p:spPr>
      </p:pic>
      <p:pic>
        <p:nvPicPr>
          <p:cNvPr id="260" name="стрелка_6" descr=""/>
          <p:cNvPicPr/>
          <p:nvPr/>
        </p:nvPicPr>
        <p:blipFill>
          <a:blip r:embed="rId16"/>
          <a:stretch/>
        </p:blipFill>
        <p:spPr>
          <a:xfrm>
            <a:off x="6365880" y="3641760"/>
            <a:ext cx="1133640" cy="450720"/>
          </a:xfrm>
          <a:prstGeom prst="rect">
            <a:avLst/>
          </a:prstGeom>
          <a:ln w="0">
            <a:noFill/>
          </a:ln>
        </p:spPr>
      </p:pic>
      <p:pic>
        <p:nvPicPr>
          <p:cNvPr id="261" name="стрелка_7" descr=""/>
          <p:cNvPicPr/>
          <p:nvPr/>
        </p:nvPicPr>
        <p:blipFill>
          <a:blip r:embed="rId17"/>
          <a:stretch/>
        </p:blipFill>
        <p:spPr>
          <a:xfrm>
            <a:off x="7493040" y="364176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58880" y="2627280"/>
            <a:ext cx="571320" cy="571680"/>
          </a:xfrm>
          <a:prstGeom prst="ellipse">
            <a:avLst/>
          </a:prstGeom>
          <a:noFill/>
          <a:ln w="19080">
            <a:solidFill>
              <a:srgbClr val="e7e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12960" y="2565360"/>
            <a:ext cx="571320" cy="571680"/>
          </a:xfrm>
          <a:prstGeom prst="ellipse">
            <a:avLst/>
          </a:prstGeom>
          <a:noFill/>
          <a:ln w="19080">
            <a:solidFill>
              <a:srgbClr val="e7e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5524560"/>
            <a:ext cx="4286160" cy="419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g_1" descr=""/>
          <p:cNvPicPr/>
          <p:nvPr/>
        </p:nvPicPr>
        <p:blipFill>
          <a:blip r:embed="rId2"/>
          <a:stretch/>
        </p:blipFill>
        <p:spPr>
          <a:xfrm>
            <a:off x="355680" y="1655640"/>
            <a:ext cx="2011320" cy="1211400"/>
          </a:xfrm>
          <a:prstGeom prst="rect">
            <a:avLst/>
          </a:prstGeom>
          <a:ln w="0">
            <a:noFill/>
          </a:ln>
        </p:spPr>
      </p:pic>
      <p:pic>
        <p:nvPicPr>
          <p:cNvPr id="266" name="g_2" descr=""/>
          <p:cNvPicPr/>
          <p:nvPr/>
        </p:nvPicPr>
        <p:blipFill>
          <a:blip r:embed="rId3"/>
          <a:stretch/>
        </p:blipFill>
        <p:spPr>
          <a:xfrm>
            <a:off x="2033640" y="5415120"/>
            <a:ext cx="1442880" cy="1157040"/>
          </a:xfrm>
          <a:prstGeom prst="rect">
            <a:avLst/>
          </a:prstGeom>
          <a:ln w="0">
            <a:noFill/>
          </a:ln>
        </p:spPr>
      </p:pic>
      <p:pic>
        <p:nvPicPr>
          <p:cNvPr id="267" name="g_3" descr=""/>
          <p:cNvPicPr/>
          <p:nvPr/>
        </p:nvPicPr>
        <p:blipFill>
          <a:blip r:embed="rId4"/>
          <a:stretch/>
        </p:blipFill>
        <p:spPr>
          <a:xfrm>
            <a:off x="2755800" y="1206360"/>
            <a:ext cx="2054160" cy="1194120"/>
          </a:xfrm>
          <a:prstGeom prst="rect">
            <a:avLst/>
          </a:prstGeom>
          <a:ln w="0">
            <a:noFill/>
          </a:ln>
        </p:spPr>
      </p:pic>
      <p:pic>
        <p:nvPicPr>
          <p:cNvPr id="268" name="g_4" descr=""/>
          <p:cNvPicPr/>
          <p:nvPr/>
        </p:nvPicPr>
        <p:blipFill>
          <a:blip r:embed="rId5"/>
          <a:stretch/>
        </p:blipFill>
        <p:spPr>
          <a:xfrm>
            <a:off x="4457880" y="4981680"/>
            <a:ext cx="1946160" cy="1179360"/>
          </a:xfrm>
          <a:prstGeom prst="rect">
            <a:avLst/>
          </a:prstGeom>
          <a:ln w="0">
            <a:noFill/>
          </a:ln>
        </p:spPr>
      </p:pic>
      <p:pic>
        <p:nvPicPr>
          <p:cNvPr id="269" name="g_5" descr=""/>
          <p:cNvPicPr/>
          <p:nvPr/>
        </p:nvPicPr>
        <p:blipFill>
          <a:blip r:embed="rId6"/>
          <a:stretch/>
        </p:blipFill>
        <p:spPr>
          <a:xfrm>
            <a:off x="4981680" y="603360"/>
            <a:ext cx="1774800" cy="1157040"/>
          </a:xfrm>
          <a:prstGeom prst="rect">
            <a:avLst/>
          </a:prstGeom>
          <a:ln w="0">
            <a:noFill/>
          </a:ln>
        </p:spPr>
      </p:pic>
      <p:pic>
        <p:nvPicPr>
          <p:cNvPr id="270" name="g_6" descr=""/>
          <p:cNvPicPr/>
          <p:nvPr/>
        </p:nvPicPr>
        <p:blipFill>
          <a:blip r:embed="rId7"/>
          <a:stretch/>
        </p:blipFill>
        <p:spPr>
          <a:xfrm>
            <a:off x="6921360" y="4295880"/>
            <a:ext cx="1695600" cy="1442880"/>
          </a:xfrm>
          <a:prstGeom prst="rect">
            <a:avLst/>
          </a:prstGeom>
          <a:ln w="0">
            <a:noFill/>
          </a:ln>
        </p:spPr>
      </p:pic>
      <p:pic>
        <p:nvPicPr>
          <p:cNvPr id="271" name="g_7" descr=""/>
          <p:cNvPicPr/>
          <p:nvPr/>
        </p:nvPicPr>
        <p:blipFill>
          <a:blip r:embed="rId8"/>
          <a:stretch/>
        </p:blipFill>
        <p:spPr>
          <a:xfrm>
            <a:off x="6513480" y="1976400"/>
            <a:ext cx="2212920" cy="124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2490840" y="1100160"/>
            <a:ext cx="1295280" cy="1525680"/>
            <a:chOff x="2490840" y="1100160"/>
            <a:chExt cx="1295280" cy="1525680"/>
          </a:xfrm>
        </p:grpSpPr>
        <p:pic>
          <p:nvPicPr>
            <p:cNvPr id="273" name="договор" descr=""/>
            <p:cNvPicPr/>
            <p:nvPr/>
          </p:nvPicPr>
          <p:blipFill>
            <a:blip r:embed="rId2"/>
            <a:stretch/>
          </p:blipFill>
          <p:spPr>
            <a:xfrm>
              <a:off x="2490840" y="1100160"/>
              <a:ext cx="129528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т_договор" descr=""/>
            <p:cNvPicPr/>
            <p:nvPr/>
          </p:nvPicPr>
          <p:blipFill>
            <a:blip r:embed="rId3"/>
            <a:stretch/>
          </p:blipFill>
          <p:spPr>
            <a:xfrm>
              <a:off x="2670120" y="2390760"/>
              <a:ext cx="1079640" cy="23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0" y="76320"/>
            <a:ext cx="7105680" cy="723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ЕОГРАФИЯ КОНСАЛТИН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5372280"/>
            <a:ext cx="7105680" cy="628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_1" descr=""/>
          <p:cNvPicPr/>
          <p:nvPr/>
        </p:nvPicPr>
        <p:blipFill>
          <a:blip r:embed="rId2"/>
          <a:stretch/>
        </p:blipFill>
        <p:spPr>
          <a:xfrm>
            <a:off x="1525680" y="2031840"/>
            <a:ext cx="6213240" cy="594000"/>
          </a:xfrm>
          <a:prstGeom prst="rect">
            <a:avLst/>
          </a:prstGeom>
          <a:ln w="0">
            <a:noFill/>
          </a:ln>
        </p:spPr>
      </p:pic>
      <p:pic>
        <p:nvPicPr>
          <p:cNvPr id="42" name="t_2" descr=""/>
          <p:cNvPicPr/>
          <p:nvPr/>
        </p:nvPicPr>
        <p:blipFill>
          <a:blip r:embed="rId3"/>
          <a:stretch/>
        </p:blipFill>
        <p:spPr>
          <a:xfrm>
            <a:off x="812880" y="2670120"/>
            <a:ext cx="755784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T_3" descr=""/>
          <p:cNvPicPr/>
          <p:nvPr/>
        </p:nvPicPr>
        <p:blipFill>
          <a:blip r:embed="rId4"/>
          <a:stretch/>
        </p:blipFill>
        <p:spPr>
          <a:xfrm>
            <a:off x="1500120" y="3363840"/>
            <a:ext cx="636588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T_4" descr=""/>
          <p:cNvPicPr/>
          <p:nvPr/>
        </p:nvPicPr>
        <p:blipFill>
          <a:blip r:embed="rId5"/>
          <a:stretch/>
        </p:blipFill>
        <p:spPr>
          <a:xfrm>
            <a:off x="1312920" y="4021200"/>
            <a:ext cx="6791400" cy="60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24000" y="1336680"/>
            <a:ext cx="8442000" cy="1401840"/>
            <a:chOff x="324000" y="1336680"/>
            <a:chExt cx="8442000" cy="1401840"/>
          </a:xfrm>
        </p:grpSpPr>
        <p:pic>
          <p:nvPicPr>
            <p:cNvPr id="278" name="t1" descr=""/>
            <p:cNvPicPr/>
            <p:nvPr/>
          </p:nvPicPr>
          <p:blipFill>
            <a:blip r:embed="rId2"/>
            <a:stretch/>
          </p:blipFill>
          <p:spPr>
            <a:xfrm>
              <a:off x="1874880" y="1336680"/>
              <a:ext cx="531180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t2" descr=""/>
            <p:cNvPicPr/>
            <p:nvPr/>
          </p:nvPicPr>
          <p:blipFill>
            <a:blip r:embed="rId3"/>
            <a:stretch/>
          </p:blipFill>
          <p:spPr>
            <a:xfrm>
              <a:off x="324000" y="1703520"/>
              <a:ext cx="844200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t3" descr=""/>
            <p:cNvPicPr/>
            <p:nvPr/>
          </p:nvPicPr>
          <p:blipFill>
            <a:blip r:embed="rId4"/>
            <a:stretch/>
          </p:blipFill>
          <p:spPr>
            <a:xfrm>
              <a:off x="1655640" y="2065320"/>
              <a:ext cx="5772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t4" descr=""/>
            <p:cNvPicPr/>
            <p:nvPr/>
          </p:nvPicPr>
          <p:blipFill>
            <a:blip r:embed="rId5"/>
            <a:stretch/>
          </p:blipFill>
          <p:spPr>
            <a:xfrm>
              <a:off x="792000" y="2395440"/>
              <a:ext cx="747720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"/>
          <p:cNvSpPr/>
          <p:nvPr/>
        </p:nvSpPr>
        <p:spPr>
          <a:xfrm>
            <a:off x="57240" y="133200"/>
            <a:ext cx="2724120" cy="704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76320"/>
            <a:ext cx="9144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ЧАСТНИКИ РАБО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273480" y="2446200"/>
            <a:ext cx="2514240" cy="2209680"/>
            <a:chOff x="3273480" y="2446200"/>
            <a:chExt cx="2514240" cy="2209680"/>
          </a:xfrm>
        </p:grpSpPr>
        <p:grpSp>
          <p:nvGrpSpPr>
            <p:cNvPr id="285" name=""/>
            <p:cNvGrpSpPr/>
            <p:nvPr/>
          </p:nvGrpSpPr>
          <p:grpSpPr>
            <a:xfrm>
              <a:off x="3273480" y="2446200"/>
              <a:ext cx="2514240" cy="2209680"/>
              <a:chOff x="3273480" y="2446200"/>
              <a:chExt cx="2514240" cy="220968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273480" y="2446200"/>
                <a:ext cx="2514240" cy="2209680"/>
                <a:chOff x="3273480" y="2446200"/>
                <a:chExt cx="2514240" cy="22096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273480" y="2446200"/>
                  <a:ext cx="2514240" cy="2209680"/>
                </a:xfrm>
                <a:prstGeom prst="ellipse">
                  <a:avLst/>
                </a:prstGeom>
                <a:solidFill>
                  <a:srgbClr val="cce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>
                  <a:off x="3806640" y="4173840"/>
                  <a:ext cx="1491840" cy="386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Down">
                    <a:avLst>
                      <a:gd name="adj" fmla="val 333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ccecff"/>
                      </a:solidFill>
                      <a:latin typeface="Times New Roman"/>
                    </a:rPr>
                    <a:t>Город N</a:t>
                  </a:r>
                  <a:endParaRPr b="0" lang="en-US" sz="2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ecff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797280" y="2861280"/>
                <a:ext cx="1447200" cy="1199880"/>
                <a:chOff x="3797280" y="2861280"/>
                <a:chExt cx="1447200" cy="1199880"/>
              </a:xfrm>
            </p:grpSpPr>
            <p:pic>
              <p:nvPicPr>
                <p:cNvPr id="290" name="Круг_бизнес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97280" y="3710160"/>
                  <a:ext cx="379800" cy="35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Круг_сообщество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64680" y="3710160"/>
                  <a:ext cx="379800" cy="35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Круг_власть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49520" y="2861280"/>
                  <a:ext cx="379800" cy="351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3" name=""/>
            <p:cNvSpPr/>
            <p:nvPr/>
          </p:nvSpPr>
          <p:spPr>
            <a:xfrm>
              <a:off x="4674600" y="3297600"/>
              <a:ext cx="22356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4172040" y="3270600"/>
              <a:ext cx="223200" cy="43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284000" y="3863520"/>
              <a:ext cx="47448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68600" y="841320"/>
            <a:ext cx="3771720" cy="1197000"/>
            <a:chOff x="2568600" y="841320"/>
            <a:chExt cx="3771720" cy="1197000"/>
          </a:xfrm>
        </p:grpSpPr>
        <p:sp>
          <p:nvSpPr>
            <p:cNvPr id="297" name=""/>
            <p:cNvSpPr/>
            <p:nvPr/>
          </p:nvSpPr>
          <p:spPr>
            <a:xfrm>
              <a:off x="2568600" y="841320"/>
              <a:ext cx="3771720" cy="766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Программ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“</a:t>
              </a: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Малые города России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38800" y="1676520"/>
              <a:ext cx="226800" cy="361800"/>
            </a:xfrm>
            <a:prstGeom prst="downArrow">
              <a:avLst>
                <a:gd name="adj1" fmla="val 50000"/>
                <a:gd name="adj2" fmla="val 3988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463920" y="5295600"/>
            <a:ext cx="2227320" cy="1200600"/>
            <a:chOff x="3463920" y="5295600"/>
            <a:chExt cx="2227320" cy="1200600"/>
          </a:xfrm>
        </p:grpSpPr>
        <p:sp>
          <p:nvSpPr>
            <p:cNvPr id="300" name=""/>
            <p:cNvSpPr/>
            <p:nvPr/>
          </p:nvSpPr>
          <p:spPr>
            <a:xfrm>
              <a:off x="3463920" y="5749920"/>
              <a:ext cx="2227320" cy="7462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Зарубежные парт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476600" y="5295240"/>
              <a:ext cx="227160" cy="361800"/>
            </a:xfrm>
            <a:prstGeom prst="downArrow">
              <a:avLst>
                <a:gd name="adj1" fmla="val 50000"/>
                <a:gd name="adj2" fmla="val 398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20760" y="3360600"/>
            <a:ext cx="2622600" cy="781200"/>
            <a:chOff x="320760" y="3360600"/>
            <a:chExt cx="2622600" cy="781200"/>
          </a:xfrm>
        </p:grpSpPr>
        <p:sp>
          <p:nvSpPr>
            <p:cNvPr id="303" name=""/>
            <p:cNvSpPr/>
            <p:nvPr/>
          </p:nvSpPr>
          <p:spPr>
            <a:xfrm>
              <a:off x="320760" y="3360600"/>
              <a:ext cx="2165400" cy="7812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Партнерские организ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 rot="5400000">
              <a:off x="2648520" y="3484440"/>
              <a:ext cx="227160" cy="362160"/>
            </a:xfrm>
            <a:prstGeom prst="downArrow">
              <a:avLst>
                <a:gd name="adj1" fmla="val 50000"/>
                <a:gd name="adj2" fmla="val 3985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124320" y="3019320"/>
            <a:ext cx="2981520" cy="1203480"/>
            <a:chOff x="6124320" y="3019320"/>
            <a:chExt cx="2981520" cy="1203480"/>
          </a:xfrm>
        </p:grpSpPr>
        <p:sp>
          <p:nvSpPr>
            <p:cNvPr id="306" name=""/>
            <p:cNvSpPr/>
            <p:nvPr/>
          </p:nvSpPr>
          <p:spPr>
            <a:xfrm>
              <a:off x="6572160" y="3019320"/>
              <a:ext cx="2533680" cy="12034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Органы государственной вла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 rot="16200000">
              <a:off x="6191640" y="3389400"/>
              <a:ext cx="227160" cy="361800"/>
            </a:xfrm>
            <a:prstGeom prst="downArrow">
              <a:avLst>
                <a:gd name="adj1" fmla="val 50000"/>
                <a:gd name="adj2" fmla="val 398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634720" y="4295160"/>
            <a:ext cx="2229840" cy="775440"/>
            <a:chOff x="5634720" y="4295160"/>
            <a:chExt cx="2229840" cy="775440"/>
          </a:xfrm>
        </p:grpSpPr>
        <p:sp>
          <p:nvSpPr>
            <p:cNvPr id="309" name=""/>
            <p:cNvSpPr/>
            <p:nvPr/>
          </p:nvSpPr>
          <p:spPr>
            <a:xfrm>
              <a:off x="6093000" y="4613400"/>
              <a:ext cx="1771560" cy="4572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Инвесто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 rot="18067200">
              <a:off x="5734440" y="4304520"/>
              <a:ext cx="227160" cy="361800"/>
            </a:xfrm>
            <a:prstGeom prst="downArrow">
              <a:avLst>
                <a:gd name="adj1" fmla="val 50000"/>
                <a:gd name="adj2" fmla="val 398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597280" y="1920960"/>
            <a:ext cx="3084840" cy="936360"/>
            <a:chOff x="5597280" y="1920960"/>
            <a:chExt cx="3084840" cy="936360"/>
          </a:xfrm>
        </p:grpSpPr>
        <p:sp>
          <p:nvSpPr>
            <p:cNvPr id="312" name=""/>
            <p:cNvSpPr/>
            <p:nvPr/>
          </p:nvSpPr>
          <p:spPr>
            <a:xfrm>
              <a:off x="6035760" y="1920960"/>
              <a:ext cx="2646360" cy="7808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Консалтинговые организ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13917600">
              <a:off x="5695920" y="2475720"/>
              <a:ext cx="227160" cy="361440"/>
            </a:xfrm>
            <a:prstGeom prst="downArrow">
              <a:avLst>
                <a:gd name="adj1" fmla="val 50000"/>
                <a:gd name="adj2" fmla="val 3977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5400" y="1984320"/>
            <a:ext cx="3318120" cy="895320"/>
            <a:chOff x="95400" y="1984320"/>
            <a:chExt cx="3318120" cy="895320"/>
          </a:xfrm>
        </p:grpSpPr>
        <p:sp>
          <p:nvSpPr>
            <p:cNvPr id="315" name=""/>
            <p:cNvSpPr/>
            <p:nvPr/>
          </p:nvSpPr>
          <p:spPr>
            <a:xfrm>
              <a:off x="95400" y="1984320"/>
              <a:ext cx="2892240" cy="895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Проекты и программы ИО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7554000">
              <a:off x="3086280" y="2474280"/>
              <a:ext cx="227160" cy="362160"/>
            </a:xfrm>
            <a:prstGeom prst="downArrow">
              <a:avLst>
                <a:gd name="adj1" fmla="val 50000"/>
                <a:gd name="adj2" fmla="val 3985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49360" y="4322160"/>
            <a:ext cx="2958840" cy="1167480"/>
            <a:chOff x="549360" y="4322160"/>
            <a:chExt cx="2958840" cy="1167480"/>
          </a:xfrm>
        </p:grpSpPr>
        <p:sp>
          <p:nvSpPr>
            <p:cNvPr id="318" name=""/>
            <p:cNvSpPr/>
            <p:nvPr/>
          </p:nvSpPr>
          <p:spPr>
            <a:xfrm>
              <a:off x="549360" y="4594320"/>
              <a:ext cx="2552760" cy="895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99"/>
                  </a:solidFill>
                  <a:latin typeface="Times New Roman"/>
                </a:rPr>
                <a:t>Ассоциации и союзы город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3808200">
              <a:off x="3182040" y="4323240"/>
              <a:ext cx="227160" cy="361800"/>
            </a:xfrm>
            <a:prstGeom prst="downArrow">
              <a:avLst>
                <a:gd name="adj1" fmla="val 50000"/>
                <a:gd name="adj2" fmla="val 398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Экономический" descr=""/>
          <p:cNvPicPr/>
          <p:nvPr/>
        </p:nvPicPr>
        <p:blipFill>
          <a:blip r:embed="rId2"/>
          <a:stretch/>
        </p:blipFill>
        <p:spPr>
          <a:xfrm>
            <a:off x="5832360" y="1270080"/>
            <a:ext cx="2757600" cy="303120"/>
          </a:xfrm>
          <a:prstGeom prst="rect">
            <a:avLst/>
          </a:prstGeom>
          <a:ln w="0">
            <a:noFill/>
          </a:ln>
        </p:spPr>
      </p:pic>
      <p:pic>
        <p:nvPicPr>
          <p:cNvPr id="321" name="социальный" descr=""/>
          <p:cNvPicPr/>
          <p:nvPr/>
        </p:nvPicPr>
        <p:blipFill>
          <a:blip r:embed="rId3"/>
          <a:stretch/>
        </p:blipFill>
        <p:spPr>
          <a:xfrm>
            <a:off x="358920" y="1461960"/>
            <a:ext cx="2173320" cy="319320"/>
          </a:xfrm>
          <a:prstGeom prst="rect">
            <a:avLst/>
          </a:prstGeom>
          <a:ln w="0">
            <a:noFill/>
          </a:ln>
        </p:spPr>
      </p:pic>
      <p:pic>
        <p:nvPicPr>
          <p:cNvPr id="322" name="Организационно" descr=""/>
          <p:cNvPicPr/>
          <p:nvPr/>
        </p:nvPicPr>
        <p:blipFill>
          <a:blip r:embed="rId4"/>
          <a:stretch/>
        </p:blipFill>
        <p:spPr>
          <a:xfrm>
            <a:off x="349200" y="3971880"/>
            <a:ext cx="2886120" cy="600120"/>
          </a:xfrm>
          <a:prstGeom prst="rect">
            <a:avLst/>
          </a:prstGeom>
          <a:ln w="0">
            <a:noFill/>
          </a:ln>
        </p:spPr>
      </p:pic>
      <p:pic>
        <p:nvPicPr>
          <p:cNvPr id="323" name="Политический" descr=""/>
          <p:cNvPicPr/>
          <p:nvPr/>
        </p:nvPicPr>
        <p:blipFill>
          <a:blip r:embed="rId5"/>
          <a:stretch/>
        </p:blipFill>
        <p:spPr>
          <a:xfrm>
            <a:off x="6269040" y="4780080"/>
            <a:ext cx="2496960" cy="293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1866960"/>
            <a:ext cx="3790800" cy="16002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Консолидация местных сообще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ормирование отношений стратегического партнерства в муниципальных образовани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4514760"/>
            <a:ext cx="4305240" cy="2286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ормирование нового образа местной вла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ормирование новых инструментов и технологий муниципального 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Новое позиционирование власти в муниципальных образованиях и в системе внешних отно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1542960"/>
            <a:ext cx="3790800" cy="31053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9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лучшение предпринимательского и инвестиционного климата муниципа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овышение деловой активности на территории муниципа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величение доходов, получаемых на территории муниципальных образ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птимизация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4120" y="5143680"/>
            <a:ext cx="3790800" cy="10857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крепление института местного самоуправления как основы открытого гражданского общ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2911320" y="3600360"/>
            <a:ext cx="3467160" cy="422280"/>
            <a:chOff x="2911320" y="3600360"/>
            <a:chExt cx="3467160" cy="422280"/>
          </a:xfrm>
        </p:grpSpPr>
        <p:sp>
          <p:nvSpPr>
            <p:cNvPr id="329" name=""/>
            <p:cNvSpPr/>
            <p:nvPr/>
          </p:nvSpPr>
          <p:spPr>
            <a:xfrm>
              <a:off x="2911320" y="3600360"/>
              <a:ext cx="621000" cy="422280"/>
            </a:xfrm>
            <a:prstGeom prst="leftArrow">
              <a:avLst>
                <a:gd name="adj1" fmla="val 75481"/>
                <a:gd name="adj2" fmla="val 111328"/>
              </a:avLst>
            </a:prstGeom>
            <a:gradFill rotWithShape="0">
              <a:gsLst>
                <a:gs pos="0">
                  <a:srgbClr val="eedbcd"/>
                </a:gs>
                <a:gs pos="100000">
                  <a:srgbClr val="f3bc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757840" y="3600360"/>
              <a:ext cx="620640" cy="422280"/>
            </a:xfrm>
            <a:prstGeom prst="leftArrow">
              <a:avLst>
                <a:gd name="adj1" fmla="val 75481"/>
                <a:gd name="adj2" fmla="val 111264"/>
              </a:avLst>
            </a:prstGeom>
            <a:gradFill rotWithShape="0">
              <a:gsLst>
                <a:gs pos="0">
                  <a:srgbClr val="edba78"/>
                </a:gs>
                <a:gs pos="100000">
                  <a:srgbClr val="eedb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203720" y="2120760"/>
            <a:ext cx="822240" cy="628920"/>
          </a:xfrm>
          <a:prstGeom prst="upArrow">
            <a:avLst>
              <a:gd name="adj1" fmla="val 78380"/>
              <a:gd name="adj2" fmla="val 73486"/>
            </a:avLst>
          </a:prstGeom>
          <a:gradFill rotWithShape="0">
            <a:gsLst>
              <a:gs pos="0">
                <a:srgbClr val="edba78"/>
              </a:gs>
              <a:gs pos="100000">
                <a:srgbClr val="eedb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рег_администр" descr=""/>
          <p:cNvPicPr/>
          <p:nvPr/>
        </p:nvPicPr>
        <p:blipFill>
          <a:blip r:embed="rId2"/>
          <a:stretch/>
        </p:blipFill>
        <p:spPr>
          <a:xfrm>
            <a:off x="3095640" y="1339920"/>
            <a:ext cx="2997360" cy="69984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2635920" y="2027880"/>
            <a:ext cx="3953880" cy="802800"/>
            <a:chOff x="2635920" y="2027880"/>
            <a:chExt cx="3953880" cy="802800"/>
          </a:xfrm>
        </p:grpSpPr>
        <p:sp>
          <p:nvSpPr>
            <p:cNvPr id="334" name=""/>
            <p:cNvSpPr/>
            <p:nvPr/>
          </p:nvSpPr>
          <p:spPr>
            <a:xfrm rot="2700000">
              <a:off x="5777280" y="2272680"/>
              <a:ext cx="822240" cy="312840"/>
            </a:xfrm>
            <a:prstGeom prst="rightArrow">
              <a:avLst>
                <a:gd name="adj1" fmla="val 42130"/>
                <a:gd name="adj2" fmla="val 94375"/>
              </a:avLst>
            </a:prstGeom>
            <a:gradFill rotWithShape="0">
              <a:gsLst>
                <a:gs pos="0">
                  <a:srgbClr val="edba78"/>
                </a:gs>
                <a:gs pos="100000">
                  <a:srgbClr val="eedb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rot="18900000">
              <a:off x="2626200" y="2272680"/>
              <a:ext cx="822240" cy="312840"/>
            </a:xfrm>
            <a:prstGeom prst="rightArrow">
              <a:avLst>
                <a:gd name="adj1" fmla="val 42130"/>
                <a:gd name="adj2" fmla="val 94375"/>
              </a:avLst>
            </a:prstGeom>
            <a:gradFill rotWithShape="0">
              <a:gsLst>
                <a:gs pos="0">
                  <a:srgbClr val="eedbcd"/>
                </a:gs>
                <a:gs pos="100000">
                  <a:srgbClr val="edba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7240" y="76320"/>
            <a:ext cx="6362640" cy="11620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ЛИЯНИЕ ПРОГРАММЫ НА РЕГИОНАЛЬНОЕ РАЗВИ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1" descr=""/>
          <p:cNvPicPr/>
          <p:nvPr/>
        </p:nvPicPr>
        <p:blipFill>
          <a:blip r:embed="rId2"/>
          <a:stretch/>
        </p:blipFill>
        <p:spPr>
          <a:xfrm>
            <a:off x="274680" y="4662360"/>
            <a:ext cx="208080" cy="184320"/>
          </a:xfrm>
          <a:prstGeom prst="rect">
            <a:avLst/>
          </a:prstGeom>
          <a:ln w="0">
            <a:noFill/>
          </a:ln>
        </p:spPr>
      </p:pic>
      <p:pic>
        <p:nvPicPr>
          <p:cNvPr id="338" name="стр_1" descr=""/>
          <p:cNvPicPr/>
          <p:nvPr/>
        </p:nvPicPr>
        <p:blipFill>
          <a:blip r:embed="rId3"/>
          <a:stretch/>
        </p:blipFill>
        <p:spPr>
          <a:xfrm>
            <a:off x="1657440" y="3835440"/>
            <a:ext cx="287280" cy="7239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665520" y="3925800"/>
            <a:ext cx="201600" cy="2016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стр_1" descr=""/>
          <p:cNvPicPr/>
          <p:nvPr/>
        </p:nvPicPr>
        <p:blipFill>
          <a:blip r:embed="rId4"/>
          <a:stretch/>
        </p:blipFill>
        <p:spPr>
          <a:xfrm>
            <a:off x="3562200" y="3035160"/>
            <a:ext cx="287640" cy="723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стр_1" descr=""/>
          <p:cNvPicPr/>
          <p:nvPr/>
        </p:nvPicPr>
        <p:blipFill>
          <a:blip r:embed="rId2"/>
          <a:stretch/>
        </p:blipFill>
        <p:spPr>
          <a:xfrm>
            <a:off x="1657440" y="3835440"/>
            <a:ext cx="287280" cy="723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665520" y="3925800"/>
            <a:ext cx="201600" cy="2016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стр_1" descr=""/>
          <p:cNvPicPr/>
          <p:nvPr/>
        </p:nvPicPr>
        <p:blipFill>
          <a:blip r:embed="rId3"/>
          <a:stretch/>
        </p:blipFill>
        <p:spPr>
          <a:xfrm>
            <a:off x="3562200" y="3035160"/>
            <a:ext cx="287640" cy="723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1" descr=""/>
          <p:cNvPicPr/>
          <p:nvPr/>
        </p:nvPicPr>
        <p:blipFill>
          <a:blip r:embed="rId2"/>
          <a:stretch/>
        </p:blipFill>
        <p:spPr>
          <a:xfrm>
            <a:off x="274680" y="4662360"/>
            <a:ext cx="208080" cy="184320"/>
          </a:xfrm>
          <a:prstGeom prst="rect">
            <a:avLst/>
          </a:prstGeom>
          <a:ln w="0">
            <a:noFill/>
          </a:ln>
        </p:spPr>
      </p:pic>
      <p:pic>
        <p:nvPicPr>
          <p:cNvPr id="345" name="стр_1" descr=""/>
          <p:cNvPicPr/>
          <p:nvPr/>
        </p:nvPicPr>
        <p:blipFill>
          <a:blip r:embed="rId3"/>
          <a:stretch/>
        </p:blipFill>
        <p:spPr>
          <a:xfrm>
            <a:off x="1657440" y="3835440"/>
            <a:ext cx="287280" cy="723960"/>
          </a:xfrm>
          <a:prstGeom prst="rect">
            <a:avLst/>
          </a:prstGeom>
          <a:ln w="0">
            <a:noFill/>
          </a:ln>
        </p:spPr>
      </p:pic>
      <p:pic>
        <p:nvPicPr>
          <p:cNvPr id="346" name="стр_2" descr=""/>
          <p:cNvPicPr/>
          <p:nvPr/>
        </p:nvPicPr>
        <p:blipFill>
          <a:blip r:embed="rId4"/>
          <a:stretch/>
        </p:blipFill>
        <p:spPr>
          <a:xfrm>
            <a:off x="4711680" y="2270160"/>
            <a:ext cx="306360" cy="544320"/>
          </a:xfrm>
          <a:prstGeom prst="rect">
            <a:avLst/>
          </a:prstGeom>
          <a:ln w="0">
            <a:noFill/>
          </a:ln>
        </p:spPr>
      </p:pic>
      <p:pic>
        <p:nvPicPr>
          <p:cNvPr id="347" name="стр_1" descr=""/>
          <p:cNvPicPr/>
          <p:nvPr/>
        </p:nvPicPr>
        <p:blipFill>
          <a:blip r:embed="rId5"/>
          <a:stretch/>
        </p:blipFill>
        <p:spPr>
          <a:xfrm>
            <a:off x="3562200" y="3035160"/>
            <a:ext cx="287640" cy="723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7072200" y="2114640"/>
            <a:ext cx="201600" cy="2016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стр_2" descr=""/>
          <p:cNvPicPr/>
          <p:nvPr/>
        </p:nvPicPr>
        <p:blipFill>
          <a:blip r:embed="rId6"/>
          <a:stretch/>
        </p:blipFill>
        <p:spPr>
          <a:xfrm>
            <a:off x="6273720" y="1670040"/>
            <a:ext cx="306360" cy="544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1" descr=""/>
          <p:cNvPicPr/>
          <p:nvPr/>
        </p:nvPicPr>
        <p:blipFill>
          <a:blip r:embed="rId2"/>
          <a:stretch/>
        </p:blipFill>
        <p:spPr>
          <a:xfrm>
            <a:off x="274680" y="4662360"/>
            <a:ext cx="208080" cy="184320"/>
          </a:xfrm>
          <a:prstGeom prst="rect">
            <a:avLst/>
          </a:prstGeom>
          <a:ln w="0">
            <a:noFill/>
          </a:ln>
        </p:spPr>
      </p:pic>
      <p:pic>
        <p:nvPicPr>
          <p:cNvPr id="351" name="стр_1" descr=""/>
          <p:cNvPicPr/>
          <p:nvPr/>
        </p:nvPicPr>
        <p:blipFill>
          <a:blip r:embed="rId3"/>
          <a:stretch/>
        </p:blipFill>
        <p:spPr>
          <a:xfrm>
            <a:off x="1657440" y="3835440"/>
            <a:ext cx="287280" cy="723960"/>
          </a:xfrm>
          <a:prstGeom prst="rect">
            <a:avLst/>
          </a:prstGeom>
          <a:ln w="0">
            <a:noFill/>
          </a:ln>
        </p:spPr>
      </p:pic>
      <p:pic>
        <p:nvPicPr>
          <p:cNvPr id="352" name="стр_2" descr=""/>
          <p:cNvPicPr/>
          <p:nvPr/>
        </p:nvPicPr>
        <p:blipFill>
          <a:blip r:embed="rId4"/>
          <a:stretch/>
        </p:blipFill>
        <p:spPr>
          <a:xfrm>
            <a:off x="4711680" y="2270160"/>
            <a:ext cx="306360" cy="544320"/>
          </a:xfrm>
          <a:prstGeom prst="rect">
            <a:avLst/>
          </a:prstGeom>
          <a:ln w="0">
            <a:noFill/>
          </a:ln>
        </p:spPr>
      </p:pic>
      <p:pic>
        <p:nvPicPr>
          <p:cNvPr id="353" name="стр_1" descr=""/>
          <p:cNvPicPr/>
          <p:nvPr/>
        </p:nvPicPr>
        <p:blipFill>
          <a:blip r:embed="rId5"/>
          <a:stretch/>
        </p:blipFill>
        <p:spPr>
          <a:xfrm>
            <a:off x="3562200" y="3035160"/>
            <a:ext cx="287640" cy="723960"/>
          </a:xfrm>
          <a:prstGeom prst="rect">
            <a:avLst/>
          </a:prstGeom>
          <a:ln w="0">
            <a:noFill/>
          </a:ln>
        </p:spPr>
      </p:pic>
      <p:pic>
        <p:nvPicPr>
          <p:cNvPr id="354" name="стр_2" descr=""/>
          <p:cNvPicPr/>
          <p:nvPr/>
        </p:nvPicPr>
        <p:blipFill>
          <a:blip r:embed="rId6"/>
          <a:stretch/>
        </p:blipFill>
        <p:spPr>
          <a:xfrm>
            <a:off x="6273720" y="1670040"/>
            <a:ext cx="306360" cy="544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7072200" y="2114640"/>
            <a:ext cx="201600" cy="2016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274680" y="2270160"/>
            <a:ext cx="4743360" cy="2576520"/>
            <a:chOff x="274680" y="2270160"/>
            <a:chExt cx="4743360" cy="2576520"/>
          </a:xfrm>
        </p:grpSpPr>
        <p:pic>
          <p:nvPicPr>
            <p:cNvPr id="357" name="t1" descr=""/>
            <p:cNvPicPr/>
            <p:nvPr/>
          </p:nvPicPr>
          <p:blipFill>
            <a:blip r:embed="rId2"/>
            <a:stretch/>
          </p:blipFill>
          <p:spPr>
            <a:xfrm>
              <a:off x="274680" y="4662360"/>
              <a:ext cx="208080" cy="1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стр_1" descr=""/>
            <p:cNvPicPr/>
            <p:nvPr/>
          </p:nvPicPr>
          <p:blipFill>
            <a:blip r:embed="rId3"/>
            <a:stretch/>
          </p:blipFill>
          <p:spPr>
            <a:xfrm>
              <a:off x="1657440" y="3835440"/>
              <a:ext cx="28728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стр_2" descr=""/>
            <p:cNvPicPr/>
            <p:nvPr/>
          </p:nvPicPr>
          <p:blipFill>
            <a:blip r:embed="rId4"/>
            <a:stretch/>
          </p:blipFill>
          <p:spPr>
            <a:xfrm>
              <a:off x="4711680" y="2270160"/>
              <a:ext cx="30636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стр_1" descr=""/>
            <p:cNvPicPr/>
            <p:nvPr/>
          </p:nvPicPr>
          <p:blipFill>
            <a:blip r:embed="rId5"/>
            <a:stretch/>
          </p:blipFill>
          <p:spPr>
            <a:xfrm>
              <a:off x="3562200" y="3035160"/>
              <a:ext cx="287640" cy="72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стр_2" descr=""/>
          <p:cNvPicPr/>
          <p:nvPr/>
        </p:nvPicPr>
        <p:blipFill>
          <a:blip r:embed="rId6"/>
          <a:stretch/>
        </p:blipFill>
        <p:spPr>
          <a:xfrm>
            <a:off x="6273720" y="1670040"/>
            <a:ext cx="306360" cy="544680"/>
          </a:xfrm>
          <a:prstGeom prst="rect">
            <a:avLst/>
          </a:prstGeom>
          <a:ln w="0">
            <a:noFill/>
          </a:ln>
        </p:spPr>
      </p:pic>
      <p:pic>
        <p:nvPicPr>
          <p:cNvPr id="362" name="стр_2_B" descr=""/>
          <p:cNvPicPr/>
          <p:nvPr/>
        </p:nvPicPr>
        <p:blipFill>
          <a:blip r:embed="rId7"/>
          <a:stretch/>
        </p:blipFill>
        <p:spPr>
          <a:xfrm>
            <a:off x="7799400" y="2158920"/>
            <a:ext cx="341280" cy="579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28880" y="2000160"/>
            <a:ext cx="7029360" cy="3314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НОВЫЕ РАБОЧИЕ МЕ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ДОСТОЙНАЯ ОПЛАТА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РАЗВИТИЕ ИНФРАСТРУКТУРЫ МЕСТНОГО БИЗНЕ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ОЦИАЛЬНЫЕ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240" y="95400"/>
            <a:ext cx="4724280" cy="7617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ДЕЯ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2990880"/>
            <a:ext cx="7467840" cy="15620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ОЦИАЛЬНОЕ ПАРТНЕРСТВО КАК ОСНОВА ГРАЖДАНСКОГО ОБ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211480" y="880920"/>
            <a:ext cx="4209840" cy="3748320"/>
            <a:chOff x="2211480" y="880920"/>
            <a:chExt cx="4209840" cy="3748320"/>
          </a:xfrm>
        </p:grpSpPr>
        <p:pic>
          <p:nvPicPr>
            <p:cNvPr id="49" name="Круг_бизнес" descr=""/>
            <p:cNvPicPr/>
            <p:nvPr/>
          </p:nvPicPr>
          <p:blipFill>
            <a:blip r:embed="rId2"/>
            <a:stretch/>
          </p:blipFill>
          <p:spPr>
            <a:xfrm>
              <a:off x="2211480" y="3532320"/>
              <a:ext cx="1104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Круг_сообщество" descr=""/>
            <p:cNvPicPr/>
            <p:nvPr/>
          </p:nvPicPr>
          <p:blipFill>
            <a:blip r:embed="rId3"/>
            <a:stretch/>
          </p:blipFill>
          <p:spPr>
            <a:xfrm>
              <a:off x="5316480" y="3532320"/>
              <a:ext cx="1104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Круг_власть" descr=""/>
            <p:cNvPicPr/>
            <p:nvPr/>
          </p:nvPicPr>
          <p:blipFill>
            <a:blip r:embed="rId4"/>
            <a:stretch/>
          </p:blipFill>
          <p:spPr>
            <a:xfrm>
              <a:off x="3818160" y="880920"/>
              <a:ext cx="1104840" cy="109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Круг_сообщество" descr=""/>
          <p:cNvPicPr/>
          <p:nvPr/>
        </p:nvPicPr>
        <p:blipFill>
          <a:blip r:embed="rId5"/>
          <a:stretch/>
        </p:blipFill>
        <p:spPr>
          <a:xfrm>
            <a:off x="3392640" y="411120"/>
            <a:ext cx="1788840" cy="17766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812960" y="3325680"/>
            <a:ext cx="5146560" cy="1925640"/>
            <a:chOff x="1812960" y="3325680"/>
            <a:chExt cx="5146560" cy="1925640"/>
          </a:xfrm>
        </p:grpSpPr>
        <p:pic>
          <p:nvPicPr>
            <p:cNvPr id="54" name="Круг_бизнес" descr=""/>
            <p:cNvPicPr/>
            <p:nvPr/>
          </p:nvPicPr>
          <p:blipFill>
            <a:blip r:embed="rId6"/>
            <a:stretch/>
          </p:blipFill>
          <p:spPr>
            <a:xfrm>
              <a:off x="1812960" y="3325680"/>
              <a:ext cx="1789200" cy="17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Круг_власть" descr=""/>
            <p:cNvPicPr/>
            <p:nvPr/>
          </p:nvPicPr>
          <p:blipFill>
            <a:blip r:embed="rId7"/>
            <a:stretch/>
          </p:blipFill>
          <p:spPr>
            <a:xfrm>
              <a:off x="5170320" y="3475080"/>
              <a:ext cx="1789200" cy="17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2927880" y="2157480"/>
            <a:ext cx="2902680" cy="2376360"/>
            <a:chOff x="2927880" y="2157480"/>
            <a:chExt cx="2902680" cy="2376360"/>
          </a:xfrm>
        </p:grpSpPr>
        <p:sp>
          <p:nvSpPr>
            <p:cNvPr id="57" name=""/>
            <p:cNvSpPr/>
            <p:nvPr/>
          </p:nvSpPr>
          <p:spPr>
            <a:xfrm>
              <a:off x="3753000" y="4362480"/>
              <a:ext cx="1218960" cy="171360"/>
            </a:xfrm>
            <a:prstGeom prst="leftRightArrow">
              <a:avLst>
                <a:gd name="adj1" fmla="val 50000"/>
                <a:gd name="adj2" fmla="val 1416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3438600">
              <a:off x="4819680" y="2666880"/>
              <a:ext cx="1218960" cy="171360"/>
            </a:xfrm>
            <a:prstGeom prst="leftRightArrow">
              <a:avLst>
                <a:gd name="adj1" fmla="val 50000"/>
                <a:gd name="adj2" fmla="val 1416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8193200">
              <a:off x="2723760" y="2628360"/>
              <a:ext cx="1219320" cy="171360"/>
            </a:xfrm>
            <a:prstGeom prst="leftRightArrow">
              <a:avLst>
                <a:gd name="adj1" fmla="val 50000"/>
                <a:gd name="adj2" fmla="val 141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Круг_бизнес" descr=""/>
          <p:cNvPicPr/>
          <p:nvPr/>
        </p:nvPicPr>
        <p:blipFill>
          <a:blip r:embed="rId2"/>
          <a:stretch/>
        </p:blipFill>
        <p:spPr>
          <a:xfrm>
            <a:off x="2173320" y="3608280"/>
            <a:ext cx="11048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Круг_сообщество" descr=""/>
          <p:cNvPicPr/>
          <p:nvPr/>
        </p:nvPicPr>
        <p:blipFill>
          <a:blip r:embed="rId3"/>
          <a:stretch/>
        </p:blipFill>
        <p:spPr>
          <a:xfrm>
            <a:off x="5392800" y="3551400"/>
            <a:ext cx="110484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Круг_власть" descr=""/>
          <p:cNvPicPr/>
          <p:nvPr/>
        </p:nvPicPr>
        <p:blipFill>
          <a:blip r:embed="rId4"/>
          <a:stretch/>
        </p:blipFill>
        <p:spPr>
          <a:xfrm>
            <a:off x="3780000" y="957240"/>
            <a:ext cx="1104840" cy="1096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33640" y="2247840"/>
            <a:ext cx="2914560" cy="5144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КТ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144960" y="617400"/>
            <a:ext cx="2457360" cy="2958840"/>
            <a:chOff x="3144960" y="617400"/>
            <a:chExt cx="2457360" cy="2958840"/>
          </a:xfrm>
        </p:grpSpPr>
        <p:pic>
          <p:nvPicPr>
            <p:cNvPr id="65" name="Круг_власть" descr=""/>
            <p:cNvPicPr/>
            <p:nvPr/>
          </p:nvPicPr>
          <p:blipFill>
            <a:blip r:embed="rId5"/>
            <a:stretch/>
          </p:blipFill>
          <p:spPr>
            <a:xfrm>
              <a:off x="3436920" y="617400"/>
              <a:ext cx="1789200" cy="177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3144960" y="2694600"/>
              <a:ext cx="2457360" cy="881640"/>
              <a:chOff x="3144960" y="2694600"/>
              <a:chExt cx="2457360" cy="881640"/>
            </a:xfrm>
          </p:grpSpPr>
          <p:sp>
            <p:nvSpPr>
              <p:cNvPr id="67" name=""/>
              <p:cNvSpPr/>
              <p:nvPr/>
            </p:nvSpPr>
            <p:spPr>
              <a:xfrm rot="2112600">
                <a:off x="3303360" y="2754360"/>
                <a:ext cx="425160" cy="685800"/>
              </a:xfrm>
              <a:prstGeom prst="downArrow">
                <a:avLst>
                  <a:gd name="adj1" fmla="val 50000"/>
                  <a:gd name="adj2" fmla="val 4032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19487400">
                <a:off x="5017680" y="2830320"/>
                <a:ext cx="425520" cy="685800"/>
              </a:xfrm>
              <a:prstGeom prst="downArrow">
                <a:avLst>
                  <a:gd name="adj1" fmla="val 50000"/>
                  <a:gd name="adj2" fmla="val 4029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Круг_сообщество" descr=""/>
          <p:cNvPicPr/>
          <p:nvPr/>
        </p:nvPicPr>
        <p:blipFill>
          <a:blip r:embed="rId2"/>
          <a:stretch/>
        </p:blipFill>
        <p:spPr>
          <a:xfrm>
            <a:off x="3735360" y="903240"/>
            <a:ext cx="110484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Круг_бизнес" descr=""/>
          <p:cNvPicPr/>
          <p:nvPr/>
        </p:nvPicPr>
        <p:blipFill>
          <a:blip r:embed="rId3"/>
          <a:stretch/>
        </p:blipFill>
        <p:spPr>
          <a:xfrm>
            <a:off x="2211480" y="3627360"/>
            <a:ext cx="1104840" cy="1096920"/>
          </a:xfrm>
          <a:prstGeom prst="rect">
            <a:avLst/>
          </a:prstGeom>
          <a:ln w="0">
            <a:noFill/>
          </a:ln>
        </p:spPr>
      </p:pic>
      <p:pic>
        <p:nvPicPr>
          <p:cNvPr id="71" name="Круг_власть" descr=""/>
          <p:cNvPicPr/>
          <p:nvPr/>
        </p:nvPicPr>
        <p:blipFill>
          <a:blip r:embed="rId4"/>
          <a:stretch/>
        </p:blipFill>
        <p:spPr>
          <a:xfrm>
            <a:off x="5361120" y="3605040"/>
            <a:ext cx="1104840" cy="1097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81320" y="2514600"/>
            <a:ext cx="2381400" cy="5144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РХ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87720" y="609480"/>
            <a:ext cx="2457360" cy="3270600"/>
            <a:chOff x="3087720" y="609480"/>
            <a:chExt cx="2457360" cy="3270600"/>
          </a:xfrm>
        </p:grpSpPr>
        <p:pic>
          <p:nvPicPr>
            <p:cNvPr id="74" name="Круг_сообщество" descr=""/>
            <p:cNvPicPr/>
            <p:nvPr/>
          </p:nvPicPr>
          <p:blipFill>
            <a:blip r:embed="rId5"/>
            <a:stretch/>
          </p:blipFill>
          <p:spPr>
            <a:xfrm>
              <a:off x="3449520" y="609480"/>
              <a:ext cx="1789200" cy="17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087720" y="2999160"/>
              <a:ext cx="2457360" cy="880920"/>
              <a:chOff x="3087720" y="2999160"/>
              <a:chExt cx="2457360" cy="880920"/>
            </a:xfrm>
          </p:grpSpPr>
          <p:sp>
            <p:nvSpPr>
              <p:cNvPr id="76" name=""/>
              <p:cNvSpPr/>
              <p:nvPr/>
            </p:nvSpPr>
            <p:spPr>
              <a:xfrm rot="2112600">
                <a:off x="3246480" y="3058920"/>
                <a:ext cx="425160" cy="685440"/>
              </a:xfrm>
              <a:prstGeom prst="downArrow">
                <a:avLst>
                  <a:gd name="adj1" fmla="val 50000"/>
                  <a:gd name="adj2" fmla="val 40305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19487400">
                <a:off x="4960440" y="3134520"/>
                <a:ext cx="425520" cy="685440"/>
              </a:xfrm>
              <a:prstGeom prst="downArrow">
                <a:avLst>
                  <a:gd name="adj1" fmla="val 50000"/>
                  <a:gd name="adj2" fmla="val 40271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Круг_бизнес" descr=""/>
          <p:cNvPicPr/>
          <p:nvPr/>
        </p:nvPicPr>
        <p:blipFill>
          <a:blip r:embed="rId2"/>
          <a:stretch/>
        </p:blipFill>
        <p:spPr>
          <a:xfrm>
            <a:off x="3792600" y="903240"/>
            <a:ext cx="1104840" cy="1096920"/>
          </a:xfrm>
          <a:prstGeom prst="rect">
            <a:avLst/>
          </a:prstGeom>
          <a:ln w="0">
            <a:noFill/>
          </a:ln>
        </p:spPr>
      </p:pic>
      <p:pic>
        <p:nvPicPr>
          <p:cNvPr id="79" name="Круг_сообщество" descr=""/>
          <p:cNvPicPr/>
          <p:nvPr/>
        </p:nvPicPr>
        <p:blipFill>
          <a:blip r:embed="rId3"/>
          <a:stretch/>
        </p:blipFill>
        <p:spPr>
          <a:xfrm>
            <a:off x="5373720" y="3627360"/>
            <a:ext cx="1104840" cy="1096920"/>
          </a:xfrm>
          <a:prstGeom prst="rect">
            <a:avLst/>
          </a:prstGeom>
          <a:ln w="0">
            <a:noFill/>
          </a:ln>
        </p:spPr>
      </p:pic>
      <p:pic>
        <p:nvPicPr>
          <p:cNvPr id="80" name="Круг_власть" descr=""/>
          <p:cNvPicPr/>
          <p:nvPr/>
        </p:nvPicPr>
        <p:blipFill>
          <a:blip r:embed="rId4"/>
          <a:stretch/>
        </p:blipFill>
        <p:spPr>
          <a:xfrm>
            <a:off x="2255760" y="3681360"/>
            <a:ext cx="1104840" cy="10969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3144960" y="563400"/>
            <a:ext cx="2457360" cy="3203280"/>
            <a:chOff x="3144960" y="563400"/>
            <a:chExt cx="2457360" cy="3203280"/>
          </a:xfrm>
        </p:grpSpPr>
        <p:pic>
          <p:nvPicPr>
            <p:cNvPr id="82" name="Круг_бизнес" descr=""/>
            <p:cNvPicPr/>
            <p:nvPr/>
          </p:nvPicPr>
          <p:blipFill>
            <a:blip r:embed="rId5"/>
            <a:stretch/>
          </p:blipFill>
          <p:spPr>
            <a:xfrm>
              <a:off x="3470400" y="563400"/>
              <a:ext cx="1788840" cy="177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3144960" y="2885040"/>
              <a:ext cx="2457360" cy="881640"/>
              <a:chOff x="3144960" y="2885040"/>
              <a:chExt cx="2457360" cy="881640"/>
            </a:xfrm>
          </p:grpSpPr>
          <p:sp>
            <p:nvSpPr>
              <p:cNvPr id="84" name=""/>
              <p:cNvSpPr/>
              <p:nvPr/>
            </p:nvSpPr>
            <p:spPr>
              <a:xfrm rot="2112600">
                <a:off x="3303360" y="2944800"/>
                <a:ext cx="425160" cy="685800"/>
              </a:xfrm>
              <a:prstGeom prst="downArrow">
                <a:avLst>
                  <a:gd name="adj1" fmla="val 50000"/>
                  <a:gd name="adj2" fmla="val 4032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19487400">
                <a:off x="5017680" y="3020760"/>
                <a:ext cx="425520" cy="685800"/>
              </a:xfrm>
              <a:prstGeom prst="downArrow">
                <a:avLst>
                  <a:gd name="adj1" fmla="val 50000"/>
                  <a:gd name="adj2" fmla="val 4029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2343240" y="2228760"/>
            <a:ext cx="4000320" cy="9716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БИТЕЛЬСКИЙ КАПИ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Круг_бизнес" descr=""/>
          <p:cNvPicPr/>
          <p:nvPr/>
        </p:nvPicPr>
        <p:blipFill>
          <a:blip r:embed="rId2"/>
          <a:stretch/>
        </p:blipFill>
        <p:spPr>
          <a:xfrm>
            <a:off x="1812960" y="3325680"/>
            <a:ext cx="1789200" cy="1776600"/>
          </a:xfrm>
          <a:prstGeom prst="rect">
            <a:avLst/>
          </a:prstGeom>
          <a:ln w="0">
            <a:noFill/>
          </a:ln>
        </p:spPr>
      </p:pic>
      <p:pic>
        <p:nvPicPr>
          <p:cNvPr id="88" name="Круг_сообщество" descr=""/>
          <p:cNvPicPr/>
          <p:nvPr/>
        </p:nvPicPr>
        <p:blipFill>
          <a:blip r:embed="rId3"/>
          <a:stretch/>
        </p:blipFill>
        <p:spPr>
          <a:xfrm>
            <a:off x="5068800" y="3325680"/>
            <a:ext cx="1789200" cy="1776600"/>
          </a:xfrm>
          <a:prstGeom prst="rect">
            <a:avLst/>
          </a:prstGeom>
          <a:ln w="0">
            <a:noFill/>
          </a:ln>
        </p:spPr>
      </p:pic>
      <p:pic>
        <p:nvPicPr>
          <p:cNvPr id="89" name="Круг_власть" descr=""/>
          <p:cNvPicPr/>
          <p:nvPr/>
        </p:nvPicPr>
        <p:blipFill>
          <a:blip r:embed="rId4"/>
          <a:stretch/>
        </p:blipFill>
        <p:spPr>
          <a:xfrm>
            <a:off x="3417840" y="617400"/>
            <a:ext cx="1789200" cy="17766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2927880" y="2157480"/>
            <a:ext cx="2902680" cy="2376360"/>
            <a:chOff x="2927880" y="2157480"/>
            <a:chExt cx="2902680" cy="2376360"/>
          </a:xfrm>
        </p:grpSpPr>
        <p:sp>
          <p:nvSpPr>
            <p:cNvPr id="91" name=""/>
            <p:cNvSpPr/>
            <p:nvPr/>
          </p:nvSpPr>
          <p:spPr>
            <a:xfrm>
              <a:off x="3753000" y="4362480"/>
              <a:ext cx="1218960" cy="171360"/>
            </a:xfrm>
            <a:prstGeom prst="leftRightArrow">
              <a:avLst>
                <a:gd name="adj1" fmla="val 50000"/>
                <a:gd name="adj2" fmla="val 1416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438600">
              <a:off x="4819680" y="2666880"/>
              <a:ext cx="1218960" cy="171360"/>
            </a:xfrm>
            <a:prstGeom prst="leftRightArrow">
              <a:avLst>
                <a:gd name="adj1" fmla="val 50000"/>
                <a:gd name="adj2" fmla="val 1416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8193200">
              <a:off x="2723760" y="2628360"/>
              <a:ext cx="1219320" cy="171360"/>
            </a:xfrm>
            <a:prstGeom prst="leftRightArrow">
              <a:avLst>
                <a:gd name="adj1" fmla="val 50000"/>
                <a:gd name="adj2" fmla="val 141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7:00:01Z</dcterms:created>
  <dc:creator>A. Solomkin</dc:creator>
  <dc:description/>
  <dc:language>en-US</dc:language>
  <cp:lastModifiedBy>Bal</cp:lastModifiedBy>
  <cp:lastPrinted>2001-05-31T11:48:54Z</cp:lastPrinted>
  <dcterms:modified xsi:type="dcterms:W3CDTF">2002-04-18T20:09:15Z</dcterms:modified>
  <cp:revision>204</cp:revision>
  <dc:subject/>
  <dc:title>Заголовок слайда отсутствует</dc:title>
</cp:coreProperties>
</file>