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579B-4306-480A-A96C-F9E178BB0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51F-7951-436C-917F-2924265A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14EB-4EEF-4D0D-A693-528D65AD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DD02-190F-474C-8820-67BADA7D2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BCA-CE8C-4DC7-BAA5-B55BA101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B6DE3-2773-42F2-B83C-82558188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3CD6-104B-46D1-BC85-C7A6D50E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1AD23-F8CC-41E8-9804-389F6F0C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6A2-04C5-48A9-8D14-9BD04C5FD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8895-25A2-4791-B25A-E28A524BE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DAAB-F178-44A9-A52E-8C8EC8BC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1BA2-3C69-4019-84AD-F5122C74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47000" y="630828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0000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25D06-628F-440C-9A21-0BB3375DC50E}" type="slidenum">
              <a:rPr b="1" lang="en-US" sz="2400" spc="-1" strike="noStrike">
                <a:solidFill>
                  <a:srgbClr val="ff0000"/>
                </a:solidFill>
                <a:latin typeface="Georgi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16200" y="468360"/>
            <a:ext cx="18396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1341360"/>
            <a:ext cx="82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V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Общероссийский форум лиде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ратегического планирования «Стратегическое планирование в городах и регионах: измеряя результа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15600" y="433440"/>
            <a:ext cx="525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Санкт-Петербург – 20 – 21 октября 2005 го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97320" y="4842000"/>
            <a:ext cx="685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ыступлени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анина Сергея Александрович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заместителя главы департамент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кономического развития при Правительстве Кировской обла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306864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Тема: Стратегические приоритеты социально-экономического развития Ки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20520" y="1440"/>
          <a:ext cx="9109080" cy="684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440"/>
                    <a:ext cx="910908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20520" y="9360"/>
          <a:ext cx="9109080" cy="6834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9360"/>
                    <a:ext cx="9109080" cy="683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4800" y="-27360"/>
            <a:ext cx="79120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Структура Координационного совета</a:t>
            </a:r>
            <a:br>
              <a:rPr sz="2500"/>
            </a:b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по стратегическому планировани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23960" y="942480"/>
            <a:ext cx="7694640" cy="6858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4572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ординационный совет по стратегическому планированию при Правительстве Киров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2800" y="1916280"/>
            <a:ext cx="769284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52520" indent="-4525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ЕЗИДИУ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2520" indent="-4525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роектно-целевая рабочая группа и руководители рабочих групп по целевым направлени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360" y="3213000"/>
            <a:ext cx="2887920" cy="100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Формирование эффективной системы управления регио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360" y="4422600"/>
            <a:ext cx="2887920" cy="10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Разработка эффективной системы межрегиональных коммуник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3360" y="5664240"/>
            <a:ext cx="2887920" cy="100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Повышение экономической активности в регионе и капитализация человеческого потенци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116160" y="5664240"/>
            <a:ext cx="2887920" cy="100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Развитие территор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8680" y="5664240"/>
            <a:ext cx="2887560" cy="100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Проектно-целевая груп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116160" y="4422600"/>
            <a:ext cx="2887920" cy="10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a50021"/>
                </a:solidFill>
                <a:latin typeface="Arial"/>
              </a:rPr>
              <a:t>Анализ ресурсно-сырьевого потенциала Кировской области и повышение эффективности его использования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116160" y="3213000"/>
            <a:ext cx="2887920" cy="100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Развитие человеческого потенциала и реформирование социальной сфе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78680" y="4422600"/>
            <a:ext cx="2887560" cy="100836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50021"/>
                </a:solidFill>
                <a:latin typeface="Arial"/>
              </a:rPr>
              <a:t>Развитие инфраструктуры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78680" y="3213000"/>
            <a:ext cx="2887560" cy="100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a50021"/>
                </a:solidFill>
                <a:latin typeface="Arial"/>
              </a:rPr>
              <a:t>Создание системы инновационно-инвестиционного развития об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6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7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2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39840" y="1125360"/>
            <a:ext cx="842472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бщие положения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сновные принципы разработки Страт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Место стратегии развития в системе нормативных программных документ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V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Этапы разработки Стратегии социально-экономического развития Кировской обл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Комплексный анализ социально-экономической ситуации в Кировской област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I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тратегическая цель, видение будущего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II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ценарии, вектора движения - приоритетные направления и опорные «точки роста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VIII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Системные проблемы и ожидаемые результаты реализации Страт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IX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Обоснование направления решения проблемы и оценка риск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Последовательность решаемых задач, этапы и сроки реализации Страт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I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Целевые программы и комплекс обеспечивающих мероприят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II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Финансирование Стратегии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XIII. </a:t>
            </a: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Мониторинг и контроль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84200" y="-27000"/>
            <a:ext cx="81392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МЕТОДИЧЕСКИЕ РЕКОМЕНДАЦИИ</a:t>
            </a:r>
            <a:br>
              <a:rPr sz="2200"/>
            </a:b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по разработке Стратегии социально-экономического развития Кировской области до 2015 г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00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4500"/>
                            </p:stCondLst>
                            <p:childTnLst>
                              <p:par>
                                <p:cTn id="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0"/>
                            </p:stCondLst>
                            <p:childTnLst>
                              <p:par>
                                <p:cTn id="1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500"/>
                            </p:stCondLst>
                            <p:childTnLst>
                              <p:par>
                                <p:cTn id="1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«ДЕРЕВО ЦЕЛЕЙ»</a:t>
            </a:r>
            <a:br>
              <a:rPr sz="3000"/>
            </a:br>
            <a:r>
              <a:rPr b="1" lang="en-US" sz="3000" spc="-1" strike="noStrike">
                <a:solidFill>
                  <a:srgbClr val="a50021"/>
                </a:solidFill>
                <a:latin typeface="Arial"/>
              </a:rPr>
              <a:t>для разработки проекта «Стратегия социально-экономического развития Кировской области до 2015 года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5120" y="1990440"/>
            <a:ext cx="8713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Arial"/>
              </a:rPr>
              <a:t>ДЕВИЗ: «Вятский край – душа России. Земля на которой хочется жить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71640" y="3213000"/>
            <a:ext cx="604836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9900cc"/>
                </a:solidFill>
                <a:latin typeface="Times New Roman"/>
                <a:ea typeface="Times New Roman"/>
              </a:rPr>
              <a:t>«Повышение качества жизни населения на основе консолидации гражданского общества, эффективного использования человеческого и инновационно-инвестиционного потенциала, обеспечивающих устойчивое развитие и конкурентоспособность област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3286080"/>
            <a:ext cx="2693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льная цел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720" indent="-2707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ССИЯ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00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9800" y="1517760"/>
            <a:ext cx="647856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1. Формирование эффективной системы управления регионом</a:t>
            </a: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09800" y="3463920"/>
            <a:ext cx="64785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aramond"/>
              </a:rPr>
              <a:t>3. Создание системы инновационно-ивестиционного развития реги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09800" y="4400640"/>
            <a:ext cx="6478560" cy="9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4. Разработка эффективной  системы межрегиональных коммуникац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9800" y="2527200"/>
            <a:ext cx="6478560" cy="9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2. Развитие человеческого потенциала</a:t>
            </a:r>
            <a:br>
              <a:rPr sz="2500"/>
            </a:br>
            <a:r>
              <a:rPr b="1" lang="en-US" sz="2500" spc="-1" strike="noStrike">
                <a:solidFill>
                  <a:srgbClr val="000000"/>
                </a:solidFill>
                <a:latin typeface="Garamond"/>
              </a:rPr>
              <a:t>и реформирование социальной сфе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rot="16200000">
            <a:off x="-1585440" y="3105000"/>
            <a:ext cx="489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ЦЕЛИ ПЕРВОГО УРОВН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70360" y="3086640"/>
            <a:ext cx="3564000" cy="648000"/>
          </a:xfrm>
          <a:prstGeom prst="triangle">
            <a:avLst>
              <a:gd name="adj" fmla="val 5049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3440" y="11160"/>
            <a:ext cx="5905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«ДЕРЕВО ЦЕЛЕЙ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65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250" autoRev="1" fill="hold"/>
                                        <p:tgtEl>
                                          <p:spTgt spid="9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49360" y="550440"/>
            <a:ext cx="7518240" cy="7174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Tahoma"/>
              </a:rPr>
              <a:t>1. Формирование эффективной системы управления регионом</a:t>
            </a:r>
            <a:r>
              <a:rPr b="1" lang="en-US" sz="2600" spc="-1" strike="noStrike">
                <a:solidFill>
                  <a:srgbClr val="0099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11120" y="5040360"/>
            <a:ext cx="7567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ff99ff"/>
                </a:solidFill>
                <a:latin typeface="Arial"/>
              </a:rPr>
              <a:t>3. Создание системы инновационно-ивестиционного развития региона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11120" y="5840280"/>
            <a:ext cx="764064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ff"/>
                </a:solidFill>
                <a:latin typeface="Arial"/>
              </a:rPr>
              <a:t>4. Разработка эффективной  системы межрегиональных коммуникаци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11120" y="4184640"/>
            <a:ext cx="77868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99ff"/>
                </a:solidFill>
                <a:latin typeface="Arial"/>
              </a:rPr>
              <a:t>2. Развитие человеческого потенциала</a:t>
            </a:r>
            <a:br>
              <a:rPr sz="2700"/>
            </a:br>
            <a:r>
              <a:rPr b="1" lang="en-US" sz="2700" spc="-1" strike="noStrike">
                <a:solidFill>
                  <a:srgbClr val="ff99ff"/>
                </a:solidFill>
                <a:latin typeface="Arial"/>
              </a:rPr>
              <a:t>и реформирование социальной сфер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6191280" y="2386080"/>
            <a:ext cx="489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ЦЕЛИ ВТОР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71640" y="1484280"/>
            <a:ext cx="720072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инхронизация действий на региональном и федеральном уровнях по вопросам экономического и соци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Формирование системы согласования интересов региональной эл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ние програмно-проектно-целевого комплекса управления регион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Изменение системы государственного и муниципального управления через конкретизацию полномочий и персонификацию ответствен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здание системы «кадровых лифт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9960" indent="-399960">
              <a:lnSpc>
                <a:spcPct val="85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пределение приоритетов налоговой и бюджетной полити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03440" y="11160"/>
            <a:ext cx="5905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«ДЕРЕВО ЦЕЛЕЙ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500"/>
                            </p:stCondLst>
                            <p:childTnLst>
                              <p:par>
                                <p:cTn id="1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630000"/>
            <a:ext cx="758808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ff"/>
                </a:solidFill>
                <a:latin typeface="Arial"/>
              </a:rPr>
              <a:t>1. Формирование эффективной системы управления регионом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1120" y="5040360"/>
            <a:ext cx="784692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99ff"/>
                </a:solidFill>
                <a:latin typeface="Arial"/>
              </a:rPr>
              <a:t>3. Создание системы инновационно-ивестиционного развития реги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120" y="5840280"/>
            <a:ext cx="7846920" cy="6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ff"/>
                </a:solidFill>
                <a:latin typeface="Arial"/>
              </a:rPr>
              <a:t>4. Разработка эффективной  системы межрегиональных коммуникац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1120" y="1484280"/>
            <a:ext cx="7616880" cy="720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Tahoma"/>
              </a:rPr>
              <a:t>2. Развитие человеческого потенциала</a:t>
            </a:r>
            <a:br>
              <a:rPr sz="2600"/>
            </a:br>
            <a:r>
              <a:rPr b="1" lang="en-US" sz="2600" spc="-1" strike="noStrike">
                <a:solidFill>
                  <a:srgbClr val="009999"/>
                </a:solidFill>
                <a:latin typeface="Tahoma"/>
              </a:rPr>
              <a:t>и реформирование социальной сферы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6191280" y="2889360"/>
            <a:ext cx="489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ЦЕЛИ ВТОР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47200" y="2349360"/>
            <a:ext cx="7007400" cy="28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Развитие человеческого потенциала, способного эффективно осуществлять деятельность в условиях новой экономик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Развитие рынка труда и обеспечение роста занятости насел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Реформирование системы  социальной защиты, снижение уровня бедности и создание системы адресной социальной поддержки населения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Ресурс мотиваций, способствующих экономическому рост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Развитие социокультурного потенциала регио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03440" y="11160"/>
            <a:ext cx="5905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«ДЕРЕВО ЦЕЛЕЙ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7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6000"/>
                            </p:stCondLst>
                            <p:childTnLst>
                              <p:par>
                                <p:cTn id="2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4920" y="712800"/>
            <a:ext cx="7088040" cy="63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ff"/>
                </a:solidFill>
                <a:latin typeface="Arial"/>
              </a:rPr>
              <a:t>1. Формирование эффективной системы управления регион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1120" y="2239920"/>
            <a:ext cx="7329600" cy="7574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9999"/>
                </a:solidFill>
                <a:latin typeface="Tahoma"/>
              </a:rPr>
              <a:t>3. Создание системы инновационно-ивестиционного развития регио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1120" y="5408640"/>
            <a:ext cx="73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ff"/>
                </a:solidFill>
                <a:latin typeface="Tahoma"/>
              </a:rPr>
              <a:t>4. Разработка эффективной  системы межрегиональных коммуникаций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11120" y="1521000"/>
            <a:ext cx="73296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ff"/>
                </a:solidFill>
                <a:latin typeface="Arial"/>
              </a:rPr>
              <a:t>2. Развитие человеческого потенциала</a:t>
            </a:r>
            <a:br>
              <a:rPr sz="2500"/>
            </a:br>
            <a:r>
              <a:rPr b="1" lang="en-US" sz="2500" spc="-1" strike="noStrike">
                <a:solidFill>
                  <a:srgbClr val="ff99ff"/>
                </a:solidFill>
                <a:latin typeface="Arial"/>
              </a:rPr>
              <a:t>и реформирование социальной сфе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6191280" y="2889360"/>
            <a:ext cx="489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ЦЕЛИ ВТОР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3211200"/>
            <a:ext cx="7056360" cy="25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Создание условий для инновационно-инвестиционного развития регион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Развитие инновационно-инвестиционной инфраструктур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Комплексное использование ресурсов, внедрение информационных, ресурсосберегающих, экологически чистых  технолог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Кластерный подход к экономическому развитию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95360" indent="-49536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Комплексное развитие сельской территори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03440" y="11160"/>
            <a:ext cx="5905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«ДЕРЕВО ЦЕЛЕЙ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2000"/>
                            </p:stCondLst>
                            <p:childTnLst>
                              <p:par>
                                <p:cTn id="23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603440" y="11160"/>
            <a:ext cx="59054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«ДЕРЕВО ЦЕЛЕЙ»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49000" y="663120"/>
            <a:ext cx="7435800" cy="5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ff"/>
                </a:solidFill>
                <a:latin typeface="Arial"/>
              </a:rPr>
              <a:t>1. Формирование эффективной системы управления регионом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95280" y="2600280"/>
            <a:ext cx="76899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99ff"/>
                </a:solidFill>
                <a:latin typeface="Arial"/>
              </a:rPr>
              <a:t>3. Создание системы инновационно-ивестиционного развития регио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11120" y="3429000"/>
            <a:ext cx="7689960" cy="612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9999"/>
                </a:solidFill>
                <a:latin typeface="Tahoma"/>
              </a:rPr>
              <a:t>4. Разработка эффективной  системы межрегиональных коммуникаци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11120" y="1773360"/>
            <a:ext cx="76899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99ff"/>
                </a:solidFill>
                <a:latin typeface="Arial"/>
              </a:rPr>
              <a:t>2. Развитие человеческого потенциала</a:t>
            </a:r>
            <a:br>
              <a:rPr sz="2500"/>
            </a:br>
            <a:r>
              <a:rPr b="1" lang="en-US" sz="2500" spc="-1" strike="noStrike">
                <a:solidFill>
                  <a:srgbClr val="ff99ff"/>
                </a:solidFill>
                <a:latin typeface="Arial"/>
              </a:rPr>
              <a:t>и реформирование социальной сфер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6551640" y="4184640"/>
            <a:ext cx="4176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ЦЕЛИ ВТОРОГО УРОВН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000" y="4157640"/>
            <a:ext cx="7057800" cy="22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Формирование позитивного имиджа области, как инвестиционно-привлекательной территор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азработка приоритетных направлений развития межрегиональной специализации и коопераци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571680" indent="-571680">
              <a:lnSpc>
                <a:spcPct val="11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Создание условий для развития межрегиональных связей и реализации межрегиональных программ и проектов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8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1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ритерии отбора проектов развит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268280"/>
            <a:ext cx="3889440" cy="648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щенациональное (межрегиональное знач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1268280"/>
            <a:ext cx="3960720" cy="648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Достижение синергетического эфф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2205000"/>
            <a:ext cx="3889440" cy="7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огласование интересов бизнеса и в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003640" y="2205000"/>
            <a:ext cx="3889440" cy="7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личие конкурентных предпосылок для реализации проекта (территориальных, исторических, природных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3284640"/>
            <a:ext cx="388944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личие компетенции по данному направлению в регио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003640" y="3284640"/>
            <a:ext cx="3889440" cy="649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еографическая привязка (точечное или пространственное распредел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4221000"/>
            <a:ext cx="388944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Готовность региональных и местных властей к оказанию поддержк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03640" y="4221000"/>
            <a:ext cx="3961080" cy="720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личие инициаторов реализации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5157720"/>
            <a:ext cx="388944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личие заинтересованных участников в реализации проект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03640" y="5157720"/>
            <a:ext cx="396108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личие проработанных бизнес-предложен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6021360"/>
            <a:ext cx="388944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бщественное обсуждение, экспертная оцен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000"/>
                            </p:stCondLst>
                            <p:childTnLst>
                              <p:par>
                                <p:cTn id="2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500"/>
                            </p:stCondLst>
                            <p:childTnLst>
                              <p:par>
                                <p:cTn id="2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4500"/>
                            </p:stCondLst>
                            <p:childTnLst>
                              <p:par>
                                <p:cTn id="29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000"/>
                            </p:stCondLst>
                            <p:childTnLst>
                              <p:par>
                                <p:cTn id="29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5500"/>
                            </p:stCondLst>
                            <p:childTnLst>
                              <p:par>
                                <p:cTn id="300" nodeType="after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2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5" dur="250" autoRev="1" fill="hold"/>
                                        <p:tgtEl>
                                          <p:spTgt spid="1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6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8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9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4" dur="250" autoRev="1" fill="hold"/>
                                        <p:tgtEl>
                                          <p:spTgt spid="1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5" nodeType="withEffect" fill="hold" presetClass="emph" presetID="26" repeatCount="2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7" dur="250" autoRev="1" fill="hold"/>
                                        <p:tgtEl>
                                          <p:spTgt spid="12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115920"/>
            <a:ext cx="9144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a50021"/>
                </a:solidFill>
                <a:latin typeface="Arial"/>
              </a:rPr>
              <a:t>РЕЕСТР ПРОЕКТОВ РАЗВИТИЯ КИРОВСКОЙ ОБЛАСТ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5280" y="981000"/>
            <a:ext cx="8353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5000"/>
              </a:lnSpc>
              <a:buClr>
                <a:srgbClr val="cc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Наименование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cc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Цели, задачи, решаемые Проек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cc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Суть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cc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Временные рамк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cc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Бюджет проекта, (тыс. 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cc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Проектные ри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5000"/>
              </a:lnSpc>
              <a:buClr>
                <a:srgbClr val="cc9900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Tahoma"/>
              </a:rPr>
              <a:t>Результаты от реализации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0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2500"/>
                            </p:stCondLst>
                            <p:childTnLst>
                              <p:par>
                                <p:cTn id="3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3500"/>
                            </p:stCondLst>
                            <p:childTnLst>
                              <p:par>
                                <p:cTn id="3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4000"/>
                            </p:stCondLst>
                            <p:childTnLst>
                              <p:par>
                                <p:cTn id="3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45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0"/>
                            </p:stCondLst>
                            <p:childTnLst>
                              <p:par>
                                <p:cTn id="3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11280" y="6093000"/>
            <a:ext cx="1323720" cy="6998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еленность Правительства РФ на повышение качества жизн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5370480"/>
            <a:ext cx="1323720" cy="7225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внимания воспитанию молодеж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5370480"/>
            <a:ext cx="432000" cy="1422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1280" y="4670280"/>
            <a:ext cx="1323720" cy="7002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кий уровень бедности и имущественной дифференциац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1280" y="3665520"/>
            <a:ext cx="1323720" cy="10047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миграционные процессы, снижение численности квалифицированных работник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1280" y="2813040"/>
            <a:ext cx="1323720" cy="8524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ллектуальная деградация и духовное обнищание обще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1280" y="2233440"/>
            <a:ext cx="1323720" cy="5796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кращение численности и старение населе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9280" y="2233440"/>
            <a:ext cx="432000" cy="31370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153280" y="1171440"/>
            <a:ext cx="81144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отношение доходов и прожиточного минимум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42200" y="1171440"/>
            <a:ext cx="81108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грация молодежи из малых городов и сельских поселен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23120" y="1171440"/>
            <a:ext cx="91908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ографическая ситу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1480" y="1171440"/>
            <a:ext cx="70164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расположение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775040" y="1171440"/>
            <a:ext cx="94644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приграничных территорий (9 субъектов РФ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6800" y="1171440"/>
            <a:ext cx="103824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ость системы НИИ, университетов и научных центр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92520" y="1171440"/>
            <a:ext cx="94428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чие интеллектуального потенци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935000" y="1171440"/>
            <a:ext cx="85752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развития ВУЗовской нау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423120" y="836640"/>
            <a:ext cx="2541600" cy="3348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е 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935000" y="836640"/>
            <a:ext cx="4488120" cy="3348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836640"/>
            <a:ext cx="1755720" cy="13968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оциальные процесс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83664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836640"/>
            <a:ext cx="0" cy="5956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964720" y="836640"/>
            <a:ext cx="0" cy="1368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223344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35000" y="836640"/>
            <a:ext cx="0" cy="5956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73680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35000" y="1171440"/>
            <a:ext cx="7029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23120" y="836640"/>
            <a:ext cx="0" cy="1396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9252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7504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148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34220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15328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5370480"/>
            <a:ext cx="1755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11280" y="2233440"/>
            <a:ext cx="0" cy="4559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1280" y="2813040"/>
            <a:ext cx="1323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3665520"/>
            <a:ext cx="1323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1280" y="4670280"/>
            <a:ext cx="1323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1280" y="6093000"/>
            <a:ext cx="1323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Формирование мегапроектного поля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WOT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-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43160" y="1455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143160" y="170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43440" y="170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220500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700360" y="2571840"/>
            <a:ext cx="583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. Формирование кадрового потенциала в условиях новой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тратегии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социально-экономического развития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360" y="39337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. Развитие социокультурного компл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360" y="501336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. Формирование агломерации «Большая Вят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700360" y="609300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 Развитие зоны Северо-Востока Ки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681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20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2000"/>
                            </p:stCondLst>
                            <p:childTnLst>
                              <p:par>
                                <p:cTn id="36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35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0"/>
                            </p:stCondLst>
                            <p:childTnLst>
                              <p:par>
                                <p:cTn id="374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6500"/>
                            </p:stCondLst>
                            <p:childTnLst>
                              <p:par>
                                <p:cTn id="379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611280" y="6186600"/>
            <a:ext cx="1323720" cy="6271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Выход на новые рынки, развитие межрегиональных связе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4869000"/>
            <a:ext cx="1323720" cy="6476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Рост объемов производств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4869000"/>
            <a:ext cx="432000" cy="192384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1280" y="3141720"/>
            <a:ext cx="1323720" cy="720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Повышение тарифов естественных монополий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2205000"/>
            <a:ext cx="1323720" cy="936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Топливно-сырьевая направленность структуры российской экономик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9280" y="2233440"/>
            <a:ext cx="432000" cy="26355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956720" y="1171440"/>
            <a:ext cx="100800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Уровень внешней конкурентоспособно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36000" y="1171440"/>
            <a:ext cx="72072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Внешняя энергозависимость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56360" y="1171440"/>
            <a:ext cx="107964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Степень износа основных фондов и транспортных сете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75040" y="1171440"/>
            <a:ext cx="138132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Заинтересованность властей в росте  инвестиционной привлекательности регион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36800" y="1171440"/>
            <a:ext cx="103824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Развитость системы НИИ, универ.  и научных центр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792520" y="1171440"/>
            <a:ext cx="94428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Наличие интеллектуального потенциал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35000" y="1171440"/>
            <a:ext cx="857520" cy="10620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«Локомотивы» развития- химия, лесопереработ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56360" y="836640"/>
            <a:ext cx="2808360" cy="3348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ые 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935000" y="836640"/>
            <a:ext cx="4221360" cy="3348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ьные сторон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836640"/>
            <a:ext cx="1755720" cy="139680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ЭКОНОМ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83664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836640"/>
            <a:ext cx="0" cy="5956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964720" y="836640"/>
            <a:ext cx="0" cy="13683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2233440"/>
            <a:ext cx="878544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935000" y="836640"/>
            <a:ext cx="0" cy="59562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73680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935000" y="1171440"/>
            <a:ext cx="7029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56360" y="836640"/>
            <a:ext cx="0" cy="1396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79252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77504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5636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23600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956720" y="1171440"/>
            <a:ext cx="0" cy="10620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4869000"/>
            <a:ext cx="1755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11280" y="3141720"/>
            <a:ext cx="1323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7138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Формирование мегапроектного поля </a:t>
            </a: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SWOT</a:t>
            </a:r>
            <a:r>
              <a:rPr b="1" lang="ru-RU" sz="2400" spc="-1" strike="noStrike">
                <a:solidFill>
                  <a:srgbClr val="ff9900"/>
                </a:solidFill>
                <a:latin typeface="Arial"/>
              </a:rPr>
              <a:t>-матриц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143160" y="1455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43160" y="170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43440" y="170028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08000" y="2205000"/>
            <a:ext cx="705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00360" y="249228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. Развитие биотехнологического компл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700360" y="3854520"/>
            <a:ext cx="58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. Развитие транспортных инфраструкту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700360" y="486252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5. Формирование агломерации «Большая Вят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00360" y="536724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6. Развитие зоны Северо-Востока Киров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6813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3860640"/>
            <a:ext cx="1296720" cy="100836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еобеспечен-ность финансирования целевых программ развит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11280" y="3860640"/>
            <a:ext cx="1323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1280" y="5516640"/>
            <a:ext cx="1296720" cy="64908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50000">
                <a:srgbClr val="ffffff"/>
              </a:gs>
              <a:gs pos="100000">
                <a:srgbClr val="ccff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Внедрение инновационных технологи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2233440"/>
            <a:ext cx="0" cy="45594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5516640"/>
            <a:ext cx="1323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6165720"/>
            <a:ext cx="13237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00360" y="3068640"/>
            <a:ext cx="58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. Развитие альтернативной (в том числе био-) энерге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00360" y="4357800"/>
            <a:ext cx="59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. Развитие лесного клас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700360" y="5753160"/>
            <a:ext cx="590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7. Создание эффективной системы управления разработкой и реализацией проектов социально-экономического развития реги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2000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3000"/>
                            </p:stCondLst>
                            <p:childTnLst>
                              <p:par>
                                <p:cTn id="39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4500"/>
                            </p:stCondLst>
                            <p:childTnLst>
                              <p:par>
                                <p:cTn id="39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7500"/>
                            </p:stCondLst>
                            <p:childTnLst>
                              <p:par>
                                <p:cTn id="40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9000"/>
                            </p:stCondLst>
                            <p:childTnLst>
                              <p:par>
                                <p:cTn id="4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4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250920" y="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оритетные направления (коридоры) развития Киров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863640"/>
            <a:ext cx="19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Приоритетные направления (коридоры) развития Киров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56000" y="871560"/>
            <a:ext cx="216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Стратегические проекты развития Кировской обла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948360" y="863640"/>
            <a:ext cx="194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Кураторы разработки и реализации проектов развит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24000" y="1798560"/>
            <a:ext cx="208728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ространственное развитие регион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3510000"/>
            <a:ext cx="2160360" cy="70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Формирование технико-экономической специализации региона и инфраструктуры развит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5830920"/>
            <a:ext cx="2160360" cy="398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II.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Развитие человеческого капитал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360" y="1413000"/>
            <a:ext cx="19429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Формирование агломерации «Большая Вятка»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360" y="1787400"/>
            <a:ext cx="19429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витие зоны Северо-Востока Кировской област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2411280" y="1557000"/>
            <a:ext cx="289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00360" y="2938320"/>
            <a:ext cx="19429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витие биотехнологического комплекс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00360" y="3659040"/>
            <a:ext cx="19429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витие альтернативной (в том числе био-) энергетики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360" y="4235400"/>
            <a:ext cx="19429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витие транспортных инфраструкту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360" y="5076720"/>
            <a:ext cx="1942920" cy="21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витие лесного кластер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700360" y="5672160"/>
            <a:ext cx="1942920" cy="413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Формирование кадрового потенциала в условиях новой стратегии социально-экономического развития области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V="1">
            <a:off x="2411280" y="580536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48360" y="1413000"/>
            <a:ext cx="2016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Носков Э.А., Галицких А.А., Агаев А.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1787400"/>
            <a:ext cx="2016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Arial"/>
              </a:rPr>
              <a:t>Марков Е.С., Котлячков А. А., Коршунов А.Д., Коев Н. П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643280" y="1557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643280" y="1989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411280" y="3141720"/>
            <a:ext cx="289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411280" y="3933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411280" y="3932280"/>
            <a:ext cx="2890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1280" y="3933720"/>
            <a:ext cx="2890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948360" y="2938320"/>
            <a:ext cx="2016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арков Е.С., Котлячков А.А., Курбатов В.А., Донских З. Ш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948360" y="3659040"/>
            <a:ext cx="2016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Попов В.Л., Лебедев В.А.,               Сысолятин В.П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3280" y="386064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948360" y="4284720"/>
            <a:ext cx="2016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Верба А.Р., Агафонов Ю. 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643280" y="4437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948360" y="5076720"/>
            <a:ext cx="2016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Марков Е.С., Донских З.Ш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643280" y="5157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948360" y="6308640"/>
            <a:ext cx="2016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Галицких А.А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5805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948360" y="5661000"/>
            <a:ext cx="20163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сков Э.А., Галицких А.А., Перескоков А.В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6381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700360" y="6237360"/>
            <a:ext cx="1942920" cy="337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Развитие социокультурного комплекс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411280" y="6021360"/>
            <a:ext cx="289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700360" y="2190600"/>
            <a:ext cx="1942920" cy="5806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Создание эффективной системы управления разработкой и реализацией проектов социально-экономического развития регион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48360" y="2239920"/>
            <a:ext cx="20163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Носков Э. А., Марков Е. С.,              Галицких А.А., Лебедев В. А.,               Банин С. А.  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643280" y="2492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1280" y="1987560"/>
            <a:ext cx="28908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43280" y="314172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0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2000"/>
                            </p:stCondLst>
                            <p:childTnLst>
                              <p:par>
                                <p:cTn id="44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fill="hold">
                            <p:stCondLst>
                              <p:cond delay="3500"/>
                            </p:stCondLst>
                            <p:childTnLst>
                              <p:par>
                                <p:cTn id="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4000"/>
                            </p:stCondLst>
                            <p:childTnLst>
                              <p:par>
                                <p:cTn id="4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5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500"/>
                            </p:stCondLst>
                            <p:childTnLst>
                              <p:par>
                                <p:cTn id="46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6000"/>
                            </p:stCondLst>
                            <p:childTnLst>
                              <p:par>
                                <p:cTn id="472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7500"/>
                            </p:stCondLst>
                            <p:childTnLst>
                              <p:par>
                                <p:cTn id="477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9000"/>
                            </p:stCondLst>
                            <p:childTnLst>
                              <p:par>
                                <p:cTn id="4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9500"/>
                            </p:stCondLst>
                            <p:childTnLst>
                              <p:par>
                                <p:cTn id="4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0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5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fill="hold">
                            <p:stCondLst>
                              <p:cond delay="115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fill="hold">
                            <p:stCondLst>
                              <p:cond delay="12000"/>
                            </p:stCondLst>
                            <p:childTnLst>
                              <p:par>
                                <p:cTn id="5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12500"/>
                            </p:stCondLst>
                            <p:childTnLst>
                              <p:par>
                                <p:cTn id="5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3500"/>
                            </p:stCondLst>
                            <p:childTnLst>
                              <p:par>
                                <p:cTn id="5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7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3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4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3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4500"/>
                            </p:stCondLst>
                            <p:childTnLst>
                              <p:par>
                                <p:cTn id="5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5000"/>
                            </p:stCondLst>
                            <p:childTnLst>
                              <p:par>
                                <p:cTn id="5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15500"/>
                            </p:stCondLst>
                            <p:childTnLst>
                              <p:par>
                                <p:cTn id="57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3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6000"/>
                            </p:stCondLst>
                            <p:childTnLst>
                              <p:par>
                                <p:cTn id="5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16500"/>
                            </p:stCondLst>
                            <p:childTnLst>
                              <p:par>
                                <p:cTn id="5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7000"/>
                            </p:stCondLst>
                            <p:childTnLst>
                              <p:par>
                                <p:cTn id="5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50920" y="2276640"/>
            <a:ext cx="5616360" cy="43210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Этажи» социально-экономического развития Кир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68360" y="6021360"/>
            <a:ext cx="51832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СЫРЬЕВЫЕ РЕСУР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68360" y="5373720"/>
            <a:ext cx="51832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И Н Ф Р А С Т Р У К Т У Р 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4724280"/>
            <a:ext cx="51832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С И С Т Е М А   Р А С С Е Л Е Н И 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4076640"/>
            <a:ext cx="51832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СИСТЕМА УПРАВЛЕНИЯ РАЗВИТ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68360" y="3141720"/>
            <a:ext cx="5183280" cy="703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СИСТЕМА ОБРАЗОВАНИЯ И КУЛЬТУРНОГО ВОСПИТА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68360" y="2492280"/>
            <a:ext cx="5183280" cy="398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ИННОВАЦИОННОЕ РАЗВИ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443640" y="2492280"/>
            <a:ext cx="289080" cy="1368360"/>
          </a:xfrm>
          <a:custGeom>
            <a:avLst/>
            <a:gdLst>
              <a:gd name="textAreaLeft" fmla="*/ 0 w 289080"/>
              <a:gd name="textAreaRight" fmla="*/ 104400 w 2890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443640" y="4076640"/>
            <a:ext cx="289080" cy="1081080"/>
          </a:xfrm>
          <a:custGeom>
            <a:avLst/>
            <a:gdLst>
              <a:gd name="textAreaLeft" fmla="*/ 0 w 289080"/>
              <a:gd name="textAreaRight" fmla="*/ 104400 w 28908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443640" y="5373720"/>
            <a:ext cx="289080" cy="1224000"/>
          </a:xfrm>
          <a:custGeom>
            <a:avLst/>
            <a:gdLst>
              <a:gd name="textAreaLeft" fmla="*/ 0 w 289080"/>
              <a:gd name="textAreaRight" fmla="*/ 104400 w 2890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59640" y="907920"/>
            <a:ext cx="223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УЛЫ  ИНВЕСТО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093080" y="29005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164360" y="43657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164360" y="570852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360" y="1125360"/>
            <a:ext cx="6048720" cy="115128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8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8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3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8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9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8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4" fill="hold">
                            <p:stCondLst>
                              <p:cond delay="3000"/>
                            </p:stCondLst>
                            <p:childTnLst>
                              <p:par>
                                <p:cTn id="61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6500"/>
                            </p:stCondLst>
                            <p:childTnLst>
                              <p:par>
                                <p:cTn id="619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1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23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5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3500"/>
                            </p:stCondLst>
                            <p:childTnLst>
                              <p:par>
                                <p:cTn id="627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631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fill="hold">
                            <p:stCondLst>
                              <p:cond delay="20500"/>
                            </p:stCondLst>
                            <p:childTnLst>
                              <p:par>
                                <p:cTn id="635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fill="hold">
                            <p:stCondLst>
                              <p:cond delay="24000"/>
                            </p:stCondLst>
                            <p:childTnLst>
                              <p:par>
                                <p:cTn id="6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1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Этажи» социально-экономического развития Кир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981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СЫРЬЕВЫЕ РЕСУРС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50920" y="1989000"/>
            <a:ext cx="432108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Создание предприятия по производству ориентированно-стружечной плиты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оздание производство ориентированно-стружечной плиты, проектной мощностью  500 тыс. куб. метров ОСБ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4724280"/>
            <a:ext cx="4321080" cy="17701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Строительство целлюлозно-бумажного комбината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900"/>
                </a:solidFill>
                <a:latin typeface="Arial"/>
              </a:rPr>
              <a:t>Организация производства по выпуску сульфатной целлюлозы, бумаги писчей и печатной, санитарно-гигиенических изделий. Проектная мощность - 500 тыс. тонн в год, в том числе 310 тыс. тонн – сульфатная белая целлюлоза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900"/>
                </a:solidFill>
                <a:latin typeface="Arial"/>
              </a:rPr>
              <a:t>Выпуск бумаги писчей и печатной – 279 тыс. тонн, в том числе мелованной – 179 тыс. тонн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3284640"/>
            <a:ext cx="4321080" cy="1295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Организация фанерного производства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Организация производства и продажи изделий для строительной индустрии  - большеформатной березовой фанеры ФСФ класса эмиссии 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оектная мощность – 25 тыс. куб. метров фанеры в г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79280" y="1413000"/>
            <a:ext cx="41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«Развитие лесного кластер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788000" y="1413000"/>
            <a:ext cx="410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«Управление ресурсными запасам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788000" y="1989000"/>
            <a:ext cx="4103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Оперативный анализ состояния минерально-сырьевой базы (МСБ) конъюнктуры рынка минерального сырья, новых данных по геологическому изучению, разведке и использованию минерального сырья,  в том числе и в нетрадиционных направлени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788000" y="3429000"/>
            <a:ext cx="4103640" cy="1008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Геолого-экономическое обоснование направлений и площадей работ для геологического изучения и воспроизводства запасов минерального сырья за счет бюджетных сре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788000" y="5877000"/>
            <a:ext cx="410364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Обоснование выделения объектов МСБ для инвестиционных действ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88000" y="4653000"/>
            <a:ext cx="4103640" cy="1008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одготовка программ лицензирования по объектам федерального и регионального значения; организация и проведение аукционов (конкурсов) с учетом интересов населения обл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0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00"/>
                            </p:stCondLst>
                            <p:childTnLst>
                              <p:par>
                                <p:cTn id="669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1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4000"/>
                            </p:stCondLst>
                            <p:childTnLst>
                              <p:par>
                                <p:cTn id="67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6500"/>
                            </p:stCondLst>
                            <p:childTnLst>
                              <p:par>
                                <p:cTn id="686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0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Этажи» социально-экономического развития Кир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9558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ИНФРАСТРУКТУР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79280" y="1989000"/>
            <a:ext cx="871380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Реконструкция  и восстановление аэродромных покрытий аэропорта «Киров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9280" y="4221000"/>
            <a:ext cx="871380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Строительство железнодорожной линии «Киров-Казань» на участке ст. Яранск – ст. Котельнич протяженностью 130 к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79280" y="3500280"/>
            <a:ext cx="8739360" cy="576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Строительство автодороги Белая Холуница – Кирс, участок Иванцово – Троица в Кир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2637000"/>
            <a:ext cx="8713800" cy="647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Реконструкция существующего железнодорожного направления ст. Яр – ст. Черная на участке ст. Верхнекамская – ст. Черна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79280" y="4941720"/>
            <a:ext cx="8713800" cy="648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Строительство мостового перехода через реку Вятку в направлении от автомобильной дороги Киров - Вятские Поляны на Пермь в Кировской области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79280" y="5732640"/>
            <a:ext cx="8739360" cy="865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Строительство автомобильной дороги Киров – Котлас – Архангельск на участке Староверческая – Вазюг в Кировской области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79280" y="143676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«Развитие транспортных инфраструкту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0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afterEffect" fill="hold" presetClass="entr" presetID="2" presetSubtype="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3500"/>
                            </p:stCondLst>
                            <p:childTnLst>
                              <p:par>
                                <p:cTn id="715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7000"/>
                            </p:stCondLst>
                            <p:childTnLst>
                              <p:par>
                                <p:cTn id="71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1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2" fill="hold">
                            <p:stCondLst>
                              <p:cond delay="9500"/>
                            </p:stCondLst>
                            <p:childTnLst>
                              <p:par>
                                <p:cTn id="723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2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9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4500"/>
                            </p:stCondLst>
                            <p:childTnLst>
                              <p:par>
                                <p:cTn id="731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7000"/>
                            </p:stCondLst>
                            <p:childTnLst>
                              <p:par>
                                <p:cTn id="735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9500"/>
                            </p:stCondLst>
                            <p:childTnLst>
                              <p:par>
                                <p:cTn id="739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Этажи» социально-экономического развития Кир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280" y="1197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СИСТЕМА РАССЕЛЕН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1989000"/>
            <a:ext cx="864216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Формирование агломерации «Большая Вят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едполагает объединение городов: Кирова, Кирово-Чепецка и Слободского с концентрацией на данной территории экономической, инновационной и социально-культурной активности.</a:t>
            </a: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50920" y="3429000"/>
            <a:ext cx="8642160" cy="3240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Развитие зоны Северо-Востока Кир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Проект предполагает комплексное развитие территории, объединяющей муниципальные образования: Афанасьевский, Белохолуницкий, Верхнекамский, Нагорский, Омутнинский, Слободской, Юрьянский районы,  посредством реализации проектов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1. Газификация территориально-производственного комплек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2. Строительство микроГЭС в муниципальных образованиях территориально-производственного комплекса (г. Белая Холуница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3. Развитие металлургического комплекса Кировской обла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4. Производство погонажных изделий, клееного мебельного щита и мебе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5. Строительство горнообогатительного комбината стекольных песк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6. Производство клееного мебельного щита из массива и клееного бруса. Производство мебели из мебельного щита и евроокон из клееного бру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7. Повышение конкурентоспособности ОАО «Белохолуницкий машиностроительный заво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8. Создание биосферного заповедника международного значения в Нагорском и Юрьянском районах Кировской области совместно с Республикой Ко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2" dur="indefinite" restart="never" nodeType="tmRoot">
          <p:childTnLst>
            <p:seq>
              <p:cTn id="743" dur="indefinite" nodeType="mainSeq">
                <p:childTnLst>
                  <p:par>
                    <p:cTn id="744" fill="hold">
                      <p:stCondLst>
                        <p:cond delay="0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500"/>
                            </p:stCondLst>
                            <p:childTnLst>
                              <p:par>
                                <p:cTn id="751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3000"/>
                            </p:stCondLst>
                            <p:childTnLst>
                              <p:par>
                                <p:cTn id="756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1160" y="39600"/>
          <a:ext cx="9113760" cy="666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" y="39600"/>
                    <a:ext cx="9113760" cy="666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Этажи» социально-экономического развития Кир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79280" y="117144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СИСТЕМА УПРАВЛЕНИЯ РАЗВИТИЕМ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79280" y="4464000"/>
            <a:ext cx="8713800" cy="20606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Создание координационного совета по развитию Северо-Востока Кир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Создание открытой площадки для обсуждения Стратегии развития территории и механизмов ее реализации. В работе Координационного совета должны участвовать представители органов власти, бизнеса, общественности, инвесторы. Цель создания данной структуры - формирование муниципальных, межмуниципальных и региональных проектов развития, выстраивание системы синхронизации интересов на местном и региональном уровня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9280" y="2606760"/>
            <a:ext cx="8712360" cy="161424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Агентство по стратегическому планированию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Основная цель проекта – разработка организационно-правовых и финансовых механизмов для согласования страновой, межрегиональных и региональных стратегий развития, способных обеспечить интеграцию региона в геоэкономическое пространство России. Предполагает создание и внедрение на региональном уровне программно-проектно-целевого управления социально-экономическим комплекс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79280" y="1768320"/>
            <a:ext cx="871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«Создание эффективной системы управления разработкой и реализацией проектов социально-экономического развития регион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0" dur="indefinite" restart="never" nodeType="tmRoot">
          <p:childTnLst>
            <p:seq>
              <p:cTn id="761" dur="indefinite" nodeType="mainSeq">
                <p:childTnLst>
                  <p:par>
                    <p:cTn id="762" fill="hold">
                      <p:stCondLst>
                        <p:cond delay="0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3" fill="hold">
                            <p:stCondLst>
                              <p:cond delay="1500"/>
                            </p:stCondLst>
                            <p:childTnLst>
                              <p:par>
                                <p:cTn id="77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6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78" nodeType="afterEffect" fill="hold" presetClass="entr" presetID="4" presetSubtype="3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Этажи» социально-экономического развития Кир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981000"/>
            <a:ext cx="871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«СИСТЕМА ОБРАЗОВАНИЯ И КУЛЬТУРНОГО ВОСПИТАНИ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79280" y="1916280"/>
            <a:ext cx="4321440" cy="433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</a:rPr>
              <a:t>Единый государственный экзаме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643280" y="1916280"/>
            <a:ext cx="4249800" cy="433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</a:rPr>
              <a:t>Формирование образовательных округ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43280" y="2421000"/>
            <a:ext cx="4248360" cy="35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</a:rPr>
              <a:t>Создание единого университетского комплекс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643280" y="2852640"/>
            <a:ext cx="4249800" cy="432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</a:rPr>
              <a:t>Ресурс НПО и региональный рынок труд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</a:rPr>
              <a:t>на 2005 – 2009 годы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79280" y="2565360"/>
            <a:ext cx="432144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</a:rPr>
              <a:t>Порядок формирования нормативов бюджетного финансирования расходов для реализации основных общеобразовательных програм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280" y="4941720"/>
            <a:ext cx="8785440" cy="7192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</a:rPr>
              <a:t>Земля Великорецк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9900"/>
                </a:solidFill>
                <a:latin typeface="Arial"/>
              </a:rPr>
              <a:t>Придание местности статуса охраняемой культурно-исторической и природной зоны, восстановление ансамбля Никольской церкви, проведение работ на центральном месте паломничества, укрепление материальной базы Великорецкого детского дома- школы, формирование инфраструктуры, создание историко-культурного центра «Великорецкое», поддержка и развитие туризм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4006800"/>
            <a:ext cx="8785440" cy="790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</a:rPr>
              <a:t>Васнецовское Рябово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9900"/>
                </a:solidFill>
                <a:latin typeface="Arial"/>
              </a:rPr>
              <a:t>Разработка общероссийского культурно-туристского маршрута, включающего в себя: областной художественный музей им. В.М. и А.М. Васнецовых, дом-музей художников в с. Рябово Зуевского района. Строительство автодороги Киров - Рябово. Строительство гостиничного комплекса в с. Рябово. Выпуск рекламно-сувенирной продукции. Реконструкция дома-музея в с. Рябово. «Распаковка» (оживление жизни, социальная поддержка) территории с памятниками архитектуры – места проживания Васнецовых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79280" y="5805360"/>
            <a:ext cx="8785440" cy="792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9900"/>
                </a:solidFill>
                <a:latin typeface="Arial"/>
              </a:rPr>
              <a:t>Архитектурные памятники Вятского кра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9900"/>
                </a:solidFill>
                <a:latin typeface="Arial"/>
              </a:rPr>
              <a:t>Проведение полевых исследовательских работ, описание сохранившихся памятников, составление реестра памятников по муниципальным образованиям, составление и издание областного реестра памятников. Мониторинг технического состояния памятников истории и культуры области, проведение реставрационно-восстановительных работ на объектах в Лузском, Опаринском, Афанасьевском, Подосиновском, Куменском районах и г. Кирове. Организационное, финансовое и правовое обеспечение сохранения и пополнения музейного фонда Кировской области, внедрение инновационных форм в сфере сохранения и освоения историко-культурного наследия в музейном деле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1341360"/>
            <a:ext cx="871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 «Формирование кадрового потенциала в условиях новой стратегии социально-экономического развития области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50920" y="3629160"/>
            <a:ext cx="864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 «Развитие социокультурного комплекс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1000"/>
                            </p:stCondLst>
                            <p:childTnLst>
                              <p:par>
                                <p:cTn id="795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9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3000"/>
                            </p:stCondLst>
                            <p:childTnLst>
                              <p:par>
                                <p:cTn id="803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5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4000"/>
                            </p:stCondLst>
                            <p:childTnLst>
                              <p:par>
                                <p:cTn id="807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fill="hold">
                            <p:stCondLst>
                              <p:cond delay="5000"/>
                            </p:stCondLst>
                            <p:childTnLst>
                              <p:par>
                                <p:cTn id="811" nodeType="afterEffect" fill="hold" presetClass="entr" presetID="4" presetSubtype="3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4" fill="hold">
                            <p:stCondLst>
                              <p:cond delay="6000"/>
                            </p:stCondLst>
                            <p:childTnLst>
                              <p:par>
                                <p:cTn id="81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7000"/>
                            </p:stCondLst>
                            <p:childTnLst>
                              <p:par>
                                <p:cTn id="82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8000"/>
                            </p:stCondLst>
                            <p:childTnLst>
                              <p:par>
                                <p:cTn id="824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2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7" fill="hold">
                            <p:stCondLst>
                              <p:cond delay="9000"/>
                            </p:stCondLst>
                            <p:childTnLst>
                              <p:par>
                                <p:cTn id="828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0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Этажи» социально-экономического развития Кир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79280" y="981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ИННОВАЦИОННОЕ РАЗВ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2205000"/>
            <a:ext cx="4321440" cy="2448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Модернизация и развертывание современных биотехнологических производст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900"/>
                </a:solidFill>
                <a:latin typeface="Arial"/>
              </a:rPr>
              <a:t>В рамках проекта планируется выполнение 3 блоков работ: организация производства высокоэффективных многокомпонентных ферментных систем для сельского хозяйства и пищевой промышленности; создание производства экологически безопасных биопестицидов для лесного хозяйства; разработка и внедрение типовых моделей экологически чистого жилья на базе использования натурального сырья и безотходных биотехнологий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788000" y="2205000"/>
            <a:ext cx="4103640" cy="11527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Организация выпуска биоэтан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900"/>
                </a:solidFill>
                <a:latin typeface="Arial"/>
              </a:rPr>
              <a:t>Выпуск абсолютированного этилового спирта (АЭС, топливный этанол) в целях использования его в качестве 5-10% добавки в моторные топлив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788000" y="3500280"/>
            <a:ext cx="4105080" cy="1440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Высокотехнологичный АП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900"/>
                </a:solidFill>
                <a:latin typeface="Arial"/>
              </a:rPr>
              <a:t>На основе биотехнологий  - глубокая переработка ржи; получение новых вакцинных препаратов для животноводства и птицеводства; использование лазерного мутагенеза для получения морозостойких, устойчивых на кислых почвах сортов семян и т.п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69000"/>
            <a:ext cx="4248000" cy="15843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Продукты пит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900"/>
                </a:solidFill>
                <a:latin typeface="Arial"/>
              </a:rPr>
              <a:t>Освоение новых технологий в растениеводстве, животноводстве, за счет более глубокой переработки сельхозпродукции и поставки её на рынки, в том числе на внешние в виде готовых продуктов питания</a:t>
            </a:r>
            <a:r>
              <a:rPr b="0" lang="en-US" sz="1200" spc="-1" strike="noStrike">
                <a:solidFill>
                  <a:srgbClr val="ff99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788000" y="5229360"/>
            <a:ext cx="4103640" cy="122400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Организация лесобиохимического цеха по переработке древесной зелени хвойных пор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9900"/>
                </a:solidFill>
                <a:latin typeface="Arial"/>
              </a:rPr>
              <a:t>Производственная мощность – до 50 тыс. тонн. Сырьё: древесная зелень объёмом 10 тыс. куб. м. Возможность тиражирования в 10 районах област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280" y="157968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«Развитие биотехнологического комплекс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fill="hold">
                      <p:stCondLst>
                        <p:cond delay="0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1500"/>
                            </p:stCondLst>
                            <p:childTnLst>
                              <p:par>
                                <p:cTn id="840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3000"/>
                            </p:stCondLst>
                            <p:childTnLst>
                              <p:par>
                                <p:cTn id="84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4000"/>
                            </p:stCondLst>
                            <p:childTnLst>
                              <p:par>
                                <p:cTn id="849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0"/>
                            </p:stCondLst>
                            <p:childTnLst>
                              <p:par>
                                <p:cTn id="853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5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6000"/>
                            </p:stCondLst>
                            <p:childTnLst>
                              <p:par>
                                <p:cTn id="857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7000"/>
                            </p:stCondLst>
                            <p:childTnLst>
                              <p:par>
                                <p:cTn id="861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6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6868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«Этажи» социально-экономического развития Кировской обла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79280" y="981000"/>
            <a:ext cx="87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«ИННОВАЦИОННОЕ РАЗВИТ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79280" y="1579680"/>
            <a:ext cx="871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. «Развитие альтернативной (в том числе био-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 энергетик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2133720"/>
            <a:ext cx="7993080" cy="93492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Реконструкция электросетевого хозяйства в муниципальных образованиях области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39640" y="3354480"/>
            <a:ext cx="7993080" cy="9381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Сооружение малых ГЭС по Кировской област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4581360"/>
            <a:ext cx="7993080" cy="172908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9933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Сооружение комбинированных энергетических систем с использованием нетрадиционных источников энергии. Ввод энергокомплексов типа «Кубань»-0,5 мощностью 0,5 МВт в производственных котельных для выработки электроэнергии за счет энергии редукционного пара</a:t>
            </a:r>
            <a:r>
              <a:rPr b="0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0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873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7" fill="hold">
                            <p:stCondLst>
                              <p:cond delay="3000"/>
                            </p:stCondLst>
                            <p:childTnLst>
                              <p:par>
                                <p:cTn id="878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0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1" fill="hold">
                            <p:stCondLst>
                              <p:cond delay="4000"/>
                            </p:stCondLst>
                            <p:childTnLst>
                              <p:par>
                                <p:cTn id="882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4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86" nodeType="afterEffect" fill="hold" presetClass="entr" presetID="5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3240" y="-7920"/>
          <a:ext cx="9109080" cy="664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" y="-7920"/>
                    <a:ext cx="9109080" cy="664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11160" y="20520"/>
          <a:ext cx="9117000" cy="6583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160" y="20520"/>
                    <a:ext cx="9117000" cy="658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19080" y="28440"/>
          <a:ext cx="9109080" cy="6829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080" y="28440"/>
                    <a:ext cx="9109080" cy="682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893080" cy="660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6480" y="-4680"/>
          <a:ext cx="9123120" cy="684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480" y="-4680"/>
                    <a:ext cx="9123120" cy="684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20520" y="15840"/>
          <a:ext cx="9109080" cy="684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520" y="15840"/>
                    <a:ext cx="9109080" cy="684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1T16:06:33Z</dcterms:created>
  <dc:creator>AWARD</dc:creator>
  <dc:description/>
  <dc:language>en-US</dc:language>
  <cp:lastModifiedBy>n205bsa</cp:lastModifiedBy>
  <dcterms:modified xsi:type="dcterms:W3CDTF">2005-10-17T14:32:45Z</dcterms:modified>
  <cp:revision>837</cp:revision>
  <dc:subject/>
  <dc:title>Нижний Новгород 2004</dc:title>
</cp:coreProperties>
</file>