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7891560" y="0"/>
            <a:ext cx="1252440" cy="124128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jpe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1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00280" y="1569960"/>
            <a:ext cx="2850840" cy="24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5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0" y="982800"/>
            <a:ext cx="895320" cy="5419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895320" y="2944800"/>
            <a:ext cx="1181160" cy="345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3654360" y="3629160"/>
            <a:ext cx="1524240" cy="27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3"/>
          <a:stretch/>
        </p:blipFill>
        <p:spPr>
          <a:xfrm>
            <a:off x="2073240" y="3971880"/>
            <a:ext cx="159084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42080" y="4184640"/>
            <a:ext cx="2751120" cy="98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Контакт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7560" y="3327480"/>
            <a:ext cx="2228760" cy="82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ро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63880" y="2647800"/>
            <a:ext cx="5610240" cy="54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окументы  и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44880" y="1628640"/>
            <a:ext cx="3448080" cy="835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Описание Еврорег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4240" y="1974960"/>
            <a:ext cx="362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4240" y="6361200"/>
            <a:ext cx="362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4240" y="1974960"/>
            <a:ext cx="0" cy="4386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16920" y="1974960"/>
            <a:ext cx="0" cy="4386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сполнительный комитет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1960" y="1019160"/>
            <a:ext cx="8669520" cy="545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снавные задачи исполнительного комитета: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Исполнительный комитет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уководит подготовкой программы приграничного сотрудничеств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тверждает проекты, которые увязаны с приграничной программой, принимает решения об их финансировании из фонда Еврорегиона «Карелия», а также координирует ход реализации проектов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оординирует проекты Интеррег, Тасис и проекты сопредельного сотрудничества на территории еврорегиона на региональном уровне и в пределах своей компетенц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редлагает проекты для финансирования через программы Интеррег, Тасис а также из средств сопредельного сотрудничества и других возможных источников финансиров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71600" y="1567800"/>
            <a:ext cx="8200800" cy="4919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Секретариат исполнительного комитета.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Рабочим органом исполнительного комитета является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секретариат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который готовит заседания исполнительного комитета и выполняет поставленные комитетом задач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Секретариат состоит из представителей РК и представителей Региональных союзов коммун Финляндии.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Главой Секретариата является представитель РК и представитель того же регионального союза, что и сопредседатель финляндской части Исполком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сполнительный комитет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90520" y="1399320"/>
            <a:ext cx="8561520" cy="5121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Принятие решений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Заседания исполнительного комитета проходят два раза в год. По предложению одной из сторон заседания могут проводиться чаще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риглашение на встречу направляется членам исполнительного комитета и заместителям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за 14 сут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се решения на заседаниях исполнительного комитета принимаются на основе полного консенсус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о результатам собрания составляется протокол. Его подписывают председатели и руководители секретариата и заверяют двое проверяющих протоко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сполнительный комитет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6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77920" y="1400400"/>
            <a:ext cx="8609040" cy="4919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Перспективная модель финансирования: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а территории Еврорегионa Карелия создается общий фонд с названием «Еврорегион Карелия», из которого финансируются проект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Использование фонда регулируется Правилами фонд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онд может принимать пожертвования банков, общественных организаций, юридических и частных лиц, поддерживающих сотрудничество между РК и Финлянди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онд может также наполняться средствами из программ ЕС, других международных организаций и национальных источник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Фонд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2674800" y="1330200"/>
          <a:ext cx="250920" cy="36540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66760" y="1287360"/>
            <a:ext cx="8609040" cy="525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звитие особо охраняемых природных территорий в приграничной полосе Республики Карелия \ Тасис ПГС\ 3,5 млн. евр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звитие трансграничного туризма в российской части БЕАР \ Тасис ПГС \ 1,1 млн. евр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троительство очистных сооружений Сортавала \ Тасис ПГС\ 4 млн. евр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бустройство МАПП Суоперя \ Тасис ПГС \ 6 млн. евро \ строительство начнется летом 2005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лектронная Карелия \ Тасис ПГС \ 2 млн. евро \ стартовал в декабре 2004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екты Тасис в рамках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7"/>
          <a:stretch/>
        </p:blipFill>
        <p:spPr>
          <a:xfrm>
            <a:off x="5094360" y="199404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5094360" y="286380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094360" y="409716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2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3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4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5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екты Тасис в рамках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81960" y="4381560"/>
            <a:ext cx="1562040" cy="95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0,259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61200" y="4395960"/>
            <a:ext cx="1211040" cy="94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1-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70000" y="4394160"/>
            <a:ext cx="5186520" cy="94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рыболовного и природного туризма в районе реки Хиит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371840"/>
            <a:ext cx="1157400" cy="966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ПГС-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85200" y="3376440"/>
            <a:ext cx="1558800" cy="10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0,247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61200" y="3376440"/>
            <a:ext cx="1211040" cy="10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1-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70000" y="3376440"/>
            <a:ext cx="5186520" cy="10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семейного предпринимательства с акцентом на женщин «DAME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76440"/>
            <a:ext cx="1157400" cy="10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ПГС-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85200" y="2658960"/>
            <a:ext cx="1558800" cy="71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1997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61200" y="2658960"/>
            <a:ext cx="1211040" cy="71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1-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70000" y="2658960"/>
            <a:ext cx="5199120" cy="71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врорегион Карелия как инструмент гражданского об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658960"/>
            <a:ext cx="1157400" cy="71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ПГС-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85200" y="1940040"/>
            <a:ext cx="155880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0,2627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61200" y="1940040"/>
            <a:ext cx="12110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1-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70000" y="1940040"/>
            <a:ext cx="519912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кономика и управление муниципальным водоснабжением в Пряжинском райо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940040"/>
            <a:ext cx="115740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ПГС-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0" y="1330200"/>
            <a:ext cx="9143640" cy="547560"/>
            <a:chOff x="0" y="1330200"/>
            <a:chExt cx="9143640" cy="547560"/>
          </a:xfrm>
        </p:grpSpPr>
        <p:sp>
          <p:nvSpPr>
            <p:cNvPr id="440" name=""/>
            <p:cNvSpPr/>
            <p:nvPr/>
          </p:nvSpPr>
          <p:spPr>
            <a:xfrm>
              <a:off x="7866360" y="1330200"/>
              <a:ext cx="1277280" cy="54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Verdana"/>
                  <a:ea typeface="Arial"/>
                </a:rPr>
                <a:t>Бюдж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Verdana"/>
                  <a:ea typeface="Arial"/>
                </a:rPr>
                <a:t>Млн.евр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21000" y="1330200"/>
              <a:ext cx="1845000" cy="54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Verdana"/>
                  <a:ea typeface="Arial"/>
                </a:rPr>
                <a:t>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13720" y="1330200"/>
              <a:ext cx="4722480" cy="54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Verdana"/>
                  <a:ea typeface="Arial"/>
                </a:rPr>
                <a:t>Наз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1330200"/>
              <a:ext cx="1413720" cy="54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Verdana"/>
                  <a:ea typeface="Arial"/>
                </a:rPr>
                <a:t>Программ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5189400" y="2013120"/>
            <a:ext cx="9720" cy="342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5189400" y="3244680"/>
            <a:ext cx="9720" cy="3430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5189400" y="4478400"/>
            <a:ext cx="9720" cy="3427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10"/>
          <a:stretch/>
        </p:blipFill>
        <p:spPr>
          <a:xfrm>
            <a:off x="5448240" y="6681960"/>
            <a:ext cx="9720" cy="56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5" name=""/>
          <p:cNvGraphicFramePr/>
          <p:nvPr/>
        </p:nvGraphicFramePr>
        <p:xfrm>
          <a:off x="2674800" y="1330200"/>
          <a:ext cx="250920" cy="36540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7"/>
          <a:stretch/>
        </p:blipFill>
        <p:spPr>
          <a:xfrm>
            <a:off x="2900520" y="6429240"/>
            <a:ext cx="95040" cy="1429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8"/>
          <a:stretch/>
        </p:blipFill>
        <p:spPr>
          <a:xfrm>
            <a:off x="2900520" y="6765840"/>
            <a:ext cx="95040" cy="2383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680160" y="5726160"/>
            <a:ext cx="1013040" cy="5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екты Тасис в рамках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5400" y="1349280"/>
            <a:ext cx="0" cy="547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95440" y="1349280"/>
            <a:ext cx="0" cy="547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80160" y="1349280"/>
            <a:ext cx="0" cy="547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682040" y="1349280"/>
            <a:ext cx="137952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26360" y="1349280"/>
            <a:ext cx="128088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57280" y="1349280"/>
            <a:ext cx="510876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Наз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5400" y="1349280"/>
            <a:ext cx="140004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Програ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80160" y="2990880"/>
            <a:ext cx="990720" cy="82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94640" y="6272280"/>
            <a:ext cx="135396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80160" y="6272280"/>
            <a:ext cx="100188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95440" y="6272280"/>
            <a:ext cx="518472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ая сеть карельской молоде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5400" y="6272280"/>
            <a:ext cx="140004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94640" y="5726160"/>
            <a:ext cx="1353960" cy="5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49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95440" y="5726160"/>
            <a:ext cx="5184720" cy="5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села в приграничных районах Карелии, «PROFUTURE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5400" y="5726160"/>
            <a:ext cx="1400040" cy="5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94640" y="5178600"/>
            <a:ext cx="135396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58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80160" y="5178600"/>
            <a:ext cx="100188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95440" y="5178600"/>
            <a:ext cx="518472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 Ладоги до Северного моря через зеленый пояс Фенноскан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5400" y="5178600"/>
            <a:ext cx="140004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94640" y="4618080"/>
            <a:ext cx="1353960" cy="560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179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80160" y="4624560"/>
            <a:ext cx="1001880" cy="55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95440" y="4632480"/>
            <a:ext cx="5184720" cy="5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ект развития Панозе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5400" y="4632480"/>
            <a:ext cx="1400040" cy="5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82040" y="3808440"/>
            <a:ext cx="1353960" cy="81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48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80160" y="3811680"/>
            <a:ext cx="990720" cy="81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95440" y="3811680"/>
            <a:ext cx="5184720" cy="82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тыре сезона – проект развития новых продуктов и имаркетинга в сфере культуры и тур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5400" y="3811680"/>
            <a:ext cx="1400040" cy="82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72320" y="2986200"/>
            <a:ext cx="1363680" cy="81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51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95440" y="3003480"/>
            <a:ext cx="5184720" cy="80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родный туризм, как инструмент развития Муезерского района и усиления защиты окр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5400" y="2990880"/>
            <a:ext cx="1400040" cy="82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75560" y="1922400"/>
            <a:ext cx="1373040" cy="106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49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80160" y="1922400"/>
            <a:ext cx="990720" cy="106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95440" y="1922400"/>
            <a:ext cx="5184720" cy="107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юди и окружающая среда – рука об руку к будущему, обучение для устойчивого развития в Карелии 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COPROMP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5400" y="1922400"/>
            <a:ext cx="1400040" cy="106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ГС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8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7" name=""/>
          <p:cNvGraphicFramePr/>
          <p:nvPr/>
        </p:nvGraphicFramePr>
        <p:xfrm>
          <a:off x="2674800" y="1330200"/>
          <a:ext cx="250920" cy="36540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екты Тасис в рамках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72480" y="3070080"/>
            <a:ext cx="1090440" cy="122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35720" y="3070080"/>
            <a:ext cx="1436760" cy="122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3-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00040" y="3070080"/>
            <a:ext cx="5035680" cy="122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национального парка Койтаёки–Толвоярви и развитие местного предпринимательства в области природопольз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070080"/>
            <a:ext cx="1400040" cy="122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ГС - 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872480" y="2125800"/>
            <a:ext cx="1090440" cy="94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,2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35720" y="2125800"/>
            <a:ext cx="1436760" cy="94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3-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00040" y="2125800"/>
            <a:ext cx="5035680" cy="94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KOSSTONE-Модель сотрудничества в камне- добыче  в рамках Еврорегиона Каре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125800"/>
            <a:ext cx="1400040" cy="94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ГС - 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764480" y="1349280"/>
            <a:ext cx="124632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1349280"/>
            <a:ext cx="138600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52520" y="1349280"/>
            <a:ext cx="514980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Наз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5400" y="1349280"/>
            <a:ext cx="1400040" cy="5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  <a:ea typeface="Arial"/>
              </a:rPr>
              <a:t>Програ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24520" y="4565520"/>
            <a:ext cx="65235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Всего осуществле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5 больших проектов (около 17 млн. евр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13 малых проектов (около 3,6 млн. евр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0" name=""/>
          <p:cNvGraphicFramePr/>
          <p:nvPr/>
        </p:nvGraphicFramePr>
        <p:xfrm>
          <a:off x="2674800" y="1330200"/>
          <a:ext cx="250920" cy="36540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Verdana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2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92040" y="1451520"/>
            <a:ext cx="8609040" cy="4850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егиональный союз Кайнуу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АЙЯН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л.: + 358 8 71 1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кс: + 358 8 71 71 260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E-mail: kainuunliitto@kainuu.fi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егиональный союз Северной Карелии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ЙОЭНСУУ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л.: + 358 13 259 110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кс: + 358 13 259 1130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E-mail: info@pohjois-karjala.fi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егиональный союз Северной Остроботнии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УЛУ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л.: + 358 8 321 4000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кс: + 358 8 321 4013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E-mail: info@pohjois-pohjanmaa.f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такты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2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4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31880" y="1632240"/>
            <a:ext cx="7680240" cy="488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инистерство экономического развития Р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митрий Кислов, Юрий Филимон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Тел: +7 8142 76 70 23, 78 52 4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л почта: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conomy@karelia.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егиональное Бюро поддержки Программы сотрудничества ЕС и России (Тасис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етрозаводск, пр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Ленина 37 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Тел: +7 8142 78 16 7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акс: +7 8142 78 11 9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л почта: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tz.tacis@karelia.ru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уководитель РБП – Александр Берди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екретарь – Дмитрий Титк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такты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8000" y="404640"/>
            <a:ext cx="123840" cy="5477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2965320" y="1528920"/>
            <a:ext cx="6121440" cy="5248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2"/>
          <a:stretch/>
        </p:blipFill>
        <p:spPr>
          <a:xfrm>
            <a:off x="241200" y="1152360"/>
            <a:ext cx="3718080" cy="368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7800" y="179280"/>
            <a:ext cx="512748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Еврорегион «Карелия» на карте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4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6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91960" y="1704600"/>
            <a:ext cx="8531280" cy="4667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нварь 1998 года - на международном семинаре "Внешние границы ЕС - мягкие границы" в г.Йоэнсуу (Финляндия) Правительством Республики Карелия высказана идея еврорегиона "Карелия", которая затем была поддержана лидерами приграничных Региональных союзов Финляндии - Северной Карелии, Кайнуу и Северной Остроботнии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юнь 1998 года - идея создания новой модели трансграничного сотрудничества на севере Европы была одобрена на заседании Консультативного Совета субъектов Федерации при Министерстве иностранных дел Российской Федерации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ентябрь 1998 года - комитет Интеррег-IIA-Карелия принял решение поддержать работу по подготовке концепции Еврорегион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917800" y="179280"/>
            <a:ext cx="512748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сновные вехи созд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7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9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917800" y="179280"/>
            <a:ext cx="512748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сновные вехи созд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1960" y="1399680"/>
            <a:ext cx="8531280" cy="497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ктябрь 1998 года - на международном семинаре «Будущий Интеррег-III» в г.Вааcа (Финляндия), проект «Еврорегион Карелия» наряду с финляндско-эстонским еврорегионом «3+3» получил поддержку Министерства внутренних дел Финляндии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ктябрь 1999 года - инициатива поддержана в I и XVI Директоратах Европейской Комиссии, Брюссель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ктябрь 1999 года - в Еврокомиссии на международной конференции Интеррег «Infoday» в Брюсселе была представлена концепция еврорегиона «Карелия»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ябрь 1999 года - идея еврорегиона поддержана на международной конференции по приграничному сотрудничеству под эгидой Совета Европы в Кухмо и Костомукша (Финляндия, Росс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0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2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04920" y="1400040"/>
            <a:ext cx="8531280" cy="497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евраль 2000 года - состоялось подписание Соглашения и Устава еврорегиона «Карелия» на I заседании Исполнительного комитета в Йоэнсуу (Финлянд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ктябрь 2000 года - Правительством РК утверждена «Программа приграничного сотрудничества Республики Карелия на 2001-2006 годы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о Финляндии одобрило и направило в ЕС Программу «Интеррег-IIIA-Карелия». Программы имеют общие разделы и направления сотруднич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нварь 2001 года - деятельность еврорегиона получила поддержку по линии программы ЕС Тасис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делено 160 000 евро на проект «Еврорегион Карелия - как инструмент гражданского обществ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917800" y="179280"/>
            <a:ext cx="512748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сновные вехи созд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7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2080" y="3605760"/>
            <a:ext cx="8375400" cy="2606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ОКУМЕНТ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ГЛАШЕНИЕ о создании Еврорегиона «Карелия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СТАВ Еврорегиона «Карелия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оложение о ФОНДЕ «Еврорегион Карелия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Ежегодный ПЛАН ДЕЙСТВ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ограммы и основные документы Евро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8200" y="1498680"/>
            <a:ext cx="8374320" cy="1930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рограмма "Наша общая граница 2001-2006г.г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рограмма приграничного сотрудничества РК на 2001-2006 г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366920"/>
            <a:ext cx="734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366920"/>
            <a:ext cx="0" cy="160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1366920"/>
            <a:ext cx="0" cy="160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91960" y="1690560"/>
            <a:ext cx="8609040" cy="448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грамма «Наша общая граница 2001-2006» была подготовлена на основе двух программ – «Программы приграничного сотрудничества Республики Карелия 2001-2006» и «Интеррег-IIIА-Карелия 2000-2006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нная программа является основой для сотрудничества в рамках Еврорегиона «Карелия». Она в своем роде уникальна, так как ни в ЕС, ни в России аналогичных примеров ранее не было. Одной из целей программы «Наша общая граница 2001-2006» - представить ЕК подходы РК и Восточной Финляндии к решению вопросов трансграничного сотрудничества, показать их совпадение по ряду моментов и добиться переноса права принятия решения о финансировании проектов Тасис ПГС на региональный уров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ограммы и основные документы Евро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89080" y="1829160"/>
            <a:ext cx="8594640" cy="451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рорегион «Карелия» – это территория, которую образуют три финляндских региональных союза – Кайнуу, Северная Карелия и Северная Остроботния – и Республика Карелия (Россия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 юридической точки зрения, в рамках еврорегиона внутри Карелии действуют законы Российской Федерации и РК, а на территории Региональных союзов коммун действуют законы Финляндии. Основой деятельности является общее стремление сторон при помощи сотрудничества улучшить условия жизни населения указанных регион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39960" y="179280"/>
            <a:ext cx="4708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щее описание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26920" y="1931040"/>
            <a:ext cx="7718760" cy="316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врорегион Карелия – это не ОРГАНИЗАЦИЯ, а совместное УПРАВЛЕНИЕ процессами сотрудничества на разных уровнях (региональном, муниципальном и НПО) по обе стороны границы на благо общей цел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739960" y="179280"/>
            <a:ext cx="4708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щее описание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739960" y="179280"/>
            <a:ext cx="4708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щее описание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4040" y="1746360"/>
            <a:ext cx="8656920" cy="487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трудничество в рамках Еврорегиона имеет следующие цели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блегчить процесс пересечения границы для людей и грузов путем упрощения пограничных формальностей и содействия открытию новых пограничных переходов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действовать улучшению благосостояния жителей путем увеличения занятости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действовать развитию экономики путем улучшения инфраструктуры приграничных районов, как, например, работы КПП, коммуникаций и решения проблем охраны окружающей сред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39960" y="179280"/>
            <a:ext cx="4708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щее описание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960" y="1200240"/>
            <a:ext cx="8898120" cy="545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решение проблем безопасности местного населения и туристов путем борьбы с преступностью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расширять сотрудничество в сфере культуры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координировать проекты Интеррег и Тасис на региональном уровне в пределах своей компетенции, а также проекты в рамках сотрудничества сопредельных регионов России и Финляндии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способствовать получению финансирования ЕС, а также иного финансирования для общих проектов региона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конкретизировать некоторые положения политики ЕС «Северное измерение» путем развития региональных моделей сотрудничества на внешней границе ЕС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-2576520"/>
            <a:ext cx="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094360" y="-238608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094360" y="-1609560"/>
            <a:ext cx="9360" cy="580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5094360" y="-581040"/>
            <a:ext cx="9360" cy="809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094360" y="210960"/>
            <a:ext cx="9360" cy="181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5094360" y="932040"/>
            <a:ext cx="9360" cy="390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5094360" y="205092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5094360" y="3282840"/>
            <a:ext cx="9360" cy="343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5094360" y="4516560"/>
            <a:ext cx="9360" cy="342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0"/>
          <a:stretch/>
        </p:blipFill>
        <p:spPr>
          <a:xfrm>
            <a:off x="5353200" y="8967960"/>
            <a:ext cx="9360" cy="56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1"/>
          <a:stretch/>
        </p:blipFill>
        <p:spPr>
          <a:xfrm>
            <a:off x="0" y="-225360"/>
            <a:ext cx="11811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2674800" y="1330200"/>
          <a:ext cx="250920" cy="517680"/>
        </p:xfrm>
        <a:graphic>
          <a:graphicData uri="http://schemas.openxmlformats.org/drawingml/2006/table">
            <a:tbl>
              <a:tblPr/>
              <a:tblGrid>
                <a:gridCol w="2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684520" y="1468440"/>
          <a:ext cx="241200" cy="258840"/>
        </p:xfrm>
        <a:graphic>
          <a:graphicData uri="http://schemas.openxmlformats.org/drawingml/2006/table">
            <a:tbl>
              <a:tblPr/>
              <a:tblGrid>
                <a:gridCol w="241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7316a"/>
                          </a:solidFill>
                          <a:latin typeface="Times New Roman Cyr"/>
                        </a:rPr>
                        <a:t> 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" descr=""/>
          <p:cNvPicPr/>
          <p:nvPr/>
        </p:nvPicPr>
        <p:blipFill>
          <a:blip r:embed="rId12"/>
          <a:stretch/>
        </p:blipFill>
        <p:spPr>
          <a:xfrm>
            <a:off x="1609560" y="-17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1793880" y="-179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4"/>
          <a:stretch/>
        </p:blipFill>
        <p:spPr>
          <a:xfrm>
            <a:off x="2421000" y="-179280"/>
            <a:ext cx="95040" cy="9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5"/>
          <a:stretch/>
        </p:blipFill>
        <p:spPr>
          <a:xfrm>
            <a:off x="390600" y="4698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6"/>
          <a:stretch/>
        </p:blipFill>
        <p:spPr>
          <a:xfrm>
            <a:off x="130320" y="987480"/>
            <a:ext cx="2305080" cy="9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7"/>
          <a:stretch/>
        </p:blipFill>
        <p:spPr>
          <a:xfrm>
            <a:off x="2805120" y="646740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8"/>
          <a:stretch/>
        </p:blipFill>
        <p:spPr>
          <a:xfrm>
            <a:off x="2805120" y="6804000"/>
            <a:ext cx="95400" cy="238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91960" y="1073160"/>
            <a:ext cx="8669520" cy="545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Состав исполнительного комитета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 исполнительный комитет входят представители, пользующиеся правом решающего голоса и эксперты, пользующиеся правом совещательного голос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Состав является следующим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6 представителей региональных союзов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6 представителей от РК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ксперт Министерства внутренних дел Финлянд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ксперт Министерства иностранных дел Российской Федерации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озможно участие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представителя ЕС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в заседаниях исполкома Еврорегиона «Карелия». Сопредседателями исполнительного комитета действуют представитель регионального союза Финляндии и представитель РК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39960" y="179280"/>
            <a:ext cx="49244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сполнительный комитет Еврорегиона «Карел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7:38:37Z</dcterms:created>
  <dc:creator>Sasha</dc:creator>
  <dc:description/>
  <dc:language>en-US</dc:language>
  <cp:lastModifiedBy>Berdino</cp:lastModifiedBy>
  <dcterms:modified xsi:type="dcterms:W3CDTF">2005-10-18T13:14:40Z</dcterms:modified>
  <cp:revision>38</cp:revision>
  <dc:subject/>
  <dc:title>Слайд 1</dc:title>
</cp:coreProperties>
</file>