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D327-4319-4FCA-B973-9817914C6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24CB-B5B2-49D6-B6AE-CEAFEDC1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FB46-08BB-4673-AC02-7C1592C36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FD30-AC31-4DC6-95C8-82647F373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88FB-CCF2-4443-AC40-0C05406D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0F03-79D4-426C-A0AD-1955B429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F0D2-2F51-4EAE-808D-FF70BE12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1A60-572D-418E-8756-BEDF30B9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793E-FE9C-4417-B11A-AE7260A8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4FB1-AC7B-4369-AB34-5EB3DC49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4E9B-6826-4DEF-8C74-02E1A39D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AAC6-0AA4-42B8-936B-2C1A26C6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E928-2FD0-4C92-B50D-4FF3D24D0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UROPEAN UN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LEGATION OF THE EUROPEAN COMMISSION IN RUSS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-Petersburg Liaison 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ДСТАВИТЕЛЬСТВО ЕВРОПЕЙСКОЙ КОМИССИИ В 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анкт-Петербургский офи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21320" y="18288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8132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0880" y="609480"/>
          <a:ext cx="114300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09480"/>
                    <a:ext cx="11430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Малые проекты ПГС (до 200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1-ый конкурс 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сентябрь 1997 (91/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2-ой конкурс 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март 1998 (133/3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3-ий конкурс 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март 2000 (121/2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4-ый конкурс 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март 2001 (101/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5-ый конкурс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март 2002 (135/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Микро проекты ПГС (до 50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остоянный прием заявок  (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UROPEAN UN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LEGATION OF THE EUROPEAN COMMISSION IN RUSS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-Petersburg Liaison 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8132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85800" y="609480"/>
          <a:ext cx="98100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98100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1522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UROPEAN UN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ELEGATION OF THE EUROPEAN COMMISSION IN RUSS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t-Petersburg Liaison Off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Распределение проектов ПГС по регион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8132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85800" y="457200"/>
          <a:ext cx="98100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"/>
                    <a:ext cx="98100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297000" y="1828800"/>
          <a:ext cx="8847000" cy="5378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000" y="1828800"/>
                    <a:ext cx="884700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121932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Административные рефор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местный менеджмент; демократичные институты; бюджет; принятие решений; информационное обеспеч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естное/региональное экономическое развит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МСП; планирование; конверсия; развитие секторов; стратегии развития; туризм; сдерживание безработицы; диверсификация с/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оциальные програм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социальные проблемы города; интеграция нацменьшинств; молодежная политика; образование; здравоохран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Экология и энергосбереж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защита окружающей среды; экология; переработка отходов; транспорт;энергообеспечение;альтернативные источники энер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UROPEAN UN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LEGATION OF THE EUROPEAN COMMISSION IN RUSS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-Petersburg Liaison 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8132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5800" y="609480"/>
          <a:ext cx="98100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98100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итерии оценки и приоритеты МП ПГ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тнерство: ННГ/ЦЕВ, ННГ/ЕС, ННГ/ЕС/ЦВ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ографический критерий: партнеры из приграничных регионов РФ, Беларуси, Молдовы, Украи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ационный критерий: местные/региональные власти, их ассоциации, организации тесно с ними связанные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ды деятельности: обучение, передача знаний, информация, меры по содействие развитию регионов, семинар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феры сотрудничества: админ. реформы, экон. развитие, соц. сфера, экология и энергосбере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мер гранта/финансовый критерий: грант от 100 000 до 200 000 евр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UROPEAN UN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LEGATION OF THE EUROPEAN COMMISSION IN RUSS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-Petersburg Liaison 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8132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85800" y="609480"/>
          <a:ext cx="98100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98100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асис, Интеррег, Фар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обходимость координ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ТЕРРЕГ 2000 – 2006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ТЕРРЕГ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Юго-Восточная Финляндия (22 млн евро), Карелия (28 млн евро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РФ – Финляндия)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верный Калотт – Коларкти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22 млн евро) (Швеция, Сев. Финляндия и Норвеги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террег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II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действие Балтийскому региону (97 млн евро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все Северные страны, Северо-Восточная Германия, Северо-Запад РФ, Калинингра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UROPEAN UN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LEGATION OF THE EUROPEAN COMMISSION IN RUSS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-Petersburg Liaison 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8132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609480"/>
          <a:ext cx="98100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98100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асис, Интерре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гласованность приорите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гласованность сроков подачи заяв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почтение заявкам, связанным с Интеррег при оценке проектов, отвечающих критериям Таси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едения об утвержденных проектах Интеррег и Таси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egio: //www.inforegio.cec.eu.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aid: // europa.eu.int/comm/europaid/index_en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UROPEAN UN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LEGATION OF THE EUROPEAN COMMISSION IN RUSS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-Petersburg Liaison 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8132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85800" y="609480"/>
          <a:ext cx="98100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98100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BBP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институциональное партнерство и сотрудниче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ли подпрограммы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действовать сотрудничеству НКО, иных некоммерческих объединений, местных/региональных властей ННГ, ЕС и ЦВ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действовать институциональному строительству через партнерство и сотрудничество местных организаций стран ЕС и НН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UROPEAN UN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LEGATION OF THE EUROPEAN COMMISSION IN RUSS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-Petersburg Liaison 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8132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85800" y="609480"/>
          <a:ext cx="98100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98100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итерии и приоритеты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B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тнерство: приемлемость партнеров стран ННГ/Е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ационный критерий: НКО, иный некоммерческий организации, местные.региональные вла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ды деятельности: обучение, передача знаний, информация, меры по содействию развитию регионов, семинары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феры сотрудничества: социальный сектор, гражданское общество, местное экон. развитие, местное/региональное управление (менеджмен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мер гранта: 100 000 – 200 000 евро; до 18 ме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UROPEAN UN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LEGATION OF THE EUROPEAN COMMISSION IN RUSS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-Petersburg Liaison 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8132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85800" y="609480"/>
          <a:ext cx="98100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98100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BBP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институциональное партнерство и сотрудниче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ъединение подпрограмм Лиен и Породненные город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00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вро гра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8 – 24 меся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унд апреля 2002 – 249 заяво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UROPEAN UN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LEGATION OF THE EUROPEAN COMMISSION IN RUSS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-Petersburg Liaison 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08132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5800" y="609480"/>
          <a:ext cx="98100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98100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фис открыт в 2002 год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концентрация управления программами ЕС в Европейской Комисс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дача полномочий по управлению программами Тасис Представитедьству в Москве (национальные программы Тасис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цепйция Северного измер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действие развитию Балтийского реги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ординация Тасис – Интеррег и Тасис – Фа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UROPEAN UN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LEGATION OF THE EUROPEAN COMMISSION IN RUSS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-Petersburg Liaison 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8132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609480"/>
          <a:ext cx="98100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98100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та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ставительство Европейской Комиссии в Росс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нкт-Петербургский офи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лая Конюшенная ул., 1/3 – А, офис Б – 13-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18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нкт-Петербур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акс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812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3 54 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л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812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3 54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-mail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entina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plinskaya @ cec.eu.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ttp: //www. eur.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UROPEAN UN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LEGATION OF THE EUROPEAN COMMISSION IN RUSS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-Petersburg Liaison 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8132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85800" y="609480"/>
          <a:ext cx="98100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98100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144792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си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ый регламент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2000 – 200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С, Стратегия развития отношений ЕС - Росс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ход на основе диалога (учет национальных приоритето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циональные программы (Индикативные, Программы Действи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лые проекты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т.ч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BP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институциональное партнерство и сотрудничество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граничные прое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ЕИДПЧ – программа содействия развитию демократ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UROPEAN UN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LEGATION OF THE EUROPEAN COMMISSION IN RUSS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-Petersburg Liaison 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8132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609480"/>
          <a:ext cx="98100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98100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си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1991 по 2001 – 1.483 млн евро на проекты по  национальной программе действий Р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том числ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действие  институциональной, правовой и административной реформе – 280 млн евр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держка частного сектора и содействие экономическому развитию 334 млн евр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UROPEAN UN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LEGATION OF THE EUROPEAN COMMISSION IN RUSS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-Petersburg Liaison 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8132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85800" y="609480"/>
          <a:ext cx="98100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98100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609480" y="5562720"/>
            <a:ext cx="7680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74 млн евро – региональные программы (вкл. ПГ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ГС  Индикативная программа 2000  -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0 млн евро в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0 – 50% - инфраструктура (пограничные пункт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5 - 25% - развитие охраны окружающей среды и использование природных ресур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5 – 25% - поддержка частного сектора и содействие экономическому развит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 – 15% - малые прое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UROPEAN UN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LEGATION OF THE EUROPEAN COMMISSION IN RUSS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-Petersburg Liaison 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8132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85800" y="609480"/>
          <a:ext cx="98100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98100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лые подпрограм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сис и другие малые гран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ГС  - малые и микро гранты (8,4 млн евро на 2002 - ННГ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BPP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ституциональное партнерство и сотрудничество (9 млн евро на 2002 - РФ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MEISP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держка инвестиций в малый и средний бизнес ( 4 млн евро, гранты до 300 000 евро – ННГ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программа поддержки муниципальных инвестиций (4,1 млн евро, гранты 250 – 400 000Б ННГ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ИСТР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TP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готовка о повышение квалификации менеджеров (8,4 млн евро – ННГ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UROPEAN UN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LEGATION OF THE EUROPEAN COMMISSION IN RUSS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-Petersburg Liaison 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8132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609480"/>
          <a:ext cx="98100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98100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Г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ключена в программу Тасис в 1996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ый раунд подачи заявок – сентябрь 1997, всего 5 раундов 1997 – 200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9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лых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4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кро проектов получили финансирование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чены заявки на 583 Малых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122 Микро проек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го выделено финансирования 15 млн Евр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минирование Росс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ледний раунд – 22 марта 2002 (135 заявок от С.-З. РФ, Украины, Молдовы, Беларус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UROPEAN UN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LEGATION OF THE EUROPEAN COMMISSION IN RUSS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-Petersburg Liaison 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8132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85800" y="609480"/>
          <a:ext cx="98100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98100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и программы ПГ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укрепление сотрудничества между  региональными, городскими и местными властями из ННГ, ЕС и ЦВ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оддержка проектов, направленных на решение общих проблем ПГС и развитие партнерских связ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UROPEAN UN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LEGATION OF THE EUROPEAN COMMISSION IN RUSS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-Petersburg Liaison 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8132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609480"/>
          <a:ext cx="98100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98100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1:57:10Z</dcterms:created>
  <dc:creator>Katarina Borgh-Rahm</dc:creator>
  <dc:description/>
  <dc:language>en-US</dc:language>
  <cp:lastModifiedBy>Vanya</cp:lastModifiedBy>
  <dcterms:modified xsi:type="dcterms:W3CDTF">2002-04-19T03:52:49Z</dcterms:modified>
  <cp:revision>16</cp:revision>
  <dc:subject/>
  <dc:title>PowerPoint Presentation</dc:title>
</cp:coreProperties>
</file>