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wmf" ContentType="image/x-wmf"/>
  <Override PartName="/ppt/media/image13.jpeg" ContentType="image/jpeg"/>
  <Override PartName="/ppt/media/image18.png" ContentType="image/png"/>
  <Override PartName="/ppt/media/image17.wmf" ContentType="image/x-wmf"/>
  <Override PartName="/ppt/media/image3.wmf" ContentType="image/x-wmf"/>
  <Override PartName="/ppt/media/image15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0B1-8208-4983-9232-A4321C4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5E8-9E4D-4C20-BB3B-437F88B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C85-B4F3-494D-B147-5B0695A3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9BE-D075-4365-B10D-9C7EE25D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3B01-4B1A-4097-B113-84B938B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512-71F9-4388-AA04-842F5B7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30A-7DF8-4EB2-947F-B1E0F58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76F3-2834-4278-8729-54C60565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4CE9-B71E-4BBD-978A-8B6A83DC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E683-EB18-4AA0-AC78-8107EBFB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BBCD-0926-408D-BB79-002CB8E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1F6-7A33-4452-B4B0-7643DC7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882-D4FE-4A14-8C65-D0FE46A4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E8CB-9624-4B65-98E7-16CC055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8D59-7492-42E8-8677-B85D8343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B87F-38B3-419F-B382-20D6695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116-739D-4461-88D1-879219AA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DBA-AAA6-4AE4-95AD-722F1720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A4BC-D477-4A06-A3E2-AF75632C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063-50F9-4008-A125-5707849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D7A-6A20-4988-B311-944AAB4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D72-F3EF-4619-A8AB-EB73864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515-8FD8-45AC-9C5D-86CCFDB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254-7F61-4A45-AD9D-C9F5203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7E2-464D-42FD-88E4-414008674E6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0DA-83E7-47AF-9B7C-DFAF2B6825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novo-sibirsk.ru/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04800" y="692280"/>
            <a:ext cx="4614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В.Ф. Городецкий, В.А. Воронов,</a:t>
            </a:r>
            <a:br>
              <a:rPr sz="2400"/>
            </a:b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О.В. Молчанова, В.М. Чистяков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07760" y="19162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ОРГАНИЗАЦИЯ ИСПОЛ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СТРАТЕГИЧЕСКОГО ПЛ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УСТОЙЧИВОГО РАЗВИ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d5fe9e"/>
                </a:solidFill>
                <a:latin typeface="Times New Roman"/>
              </a:rPr>
              <a:t>ГОРОДА НОВОСИБИРС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5059440"/>
            <a:ext cx="8244000" cy="180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7280" y="620280"/>
            <a:ext cx="811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ОБРАЗЕЦ СТРАТЕГИЧЕСКОЙ КАРТЫ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ДЦЕЛИ «СОХРАНЕНИЕ И УКРЕПЛЕНИЕ ЗДОРОВЬЯ ЖИТЕЛЕЙ ГОРОДА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332000" y="1844640"/>
            <a:ext cx="6667560" cy="4934160"/>
            <a:chOff x="1332000" y="1844640"/>
            <a:chExt cx="6667560" cy="4934160"/>
          </a:xfrm>
        </p:grpSpPr>
        <p:sp>
          <p:nvSpPr>
            <p:cNvPr id="305" name=""/>
            <p:cNvSpPr/>
            <p:nvPr/>
          </p:nvSpPr>
          <p:spPr>
            <a:xfrm flipH="1" flipV="1">
              <a:off x="1422360" y="6436800"/>
              <a:ext cx="64627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1332000" y="1844640"/>
              <a:ext cx="6667560" cy="49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H="1">
              <a:off x="1392120" y="6222960"/>
              <a:ext cx="649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19120" y="2041560"/>
              <a:ext cx="15620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73120" y="2058840"/>
              <a:ext cx="14400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0000"/>
                </a:lnSpc>
                <a:spcBef>
                  <a:spcPts val="9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Times New Roman"/>
                </a:rPr>
                <a:t>Первая стратегическая цел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09840" y="5754600"/>
              <a:ext cx="1440" cy="482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63840" y="5754600"/>
              <a:ext cx="1440" cy="482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8760" y="5776920"/>
              <a:ext cx="1440" cy="42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84720" y="5756400"/>
              <a:ext cx="1800" cy="482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623680" y="6237360"/>
              <a:ext cx="3240" cy="323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967680" y="144360"/>
            <a:ext cx="79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СИСТЕМА ЦЕЛЕВЫХ ПОКАЗАТЕЛЕЙ В ПРОЕКЦИИ «НАСЕЛЕНИЕ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08000" y="1870200"/>
            <a:ext cx="5832720" cy="4987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979640" y="3068640"/>
            <a:ext cx="568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6381720"/>
            <a:ext cx="568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37320" y="295416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37320" y="31496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38760" y="354816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16800" y="417024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38760" y="437688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16240" y="4145040"/>
            <a:ext cx="531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2060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72200" y="6021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0228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46680" y="60339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6021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3560" y="60213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360" y="950400"/>
            <a:ext cx="7035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ОБРАЗЕЦ СТРАТЕГИЧЕСКОЙ КАРТЫ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«УКРЕПЛЕНИЕ РЕПРОДУКТИВНОГО ЗДОРОВЬЯ ЖИТЕЛЕЙ ГОРОДА И РОСТ РОЖДАЕМОСТИ»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967680" y="144360"/>
            <a:ext cx="79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СИСТЕМА ЦЕЛЕВЫХ ПОКАЗАТЕЛЕЙ В ПРОЕКЦИИ «НАСЕЛЕНИЕ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193080" cy="5373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082000" y="1449360"/>
            <a:ext cx="71280" cy="532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93160" y="1376280"/>
            <a:ext cx="7920" cy="522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67440" y="1881360"/>
            <a:ext cx="5040" cy="1688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56880" y="231840"/>
            <a:ext cx="61707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ОБРАЗЕЦ АНАЛИТИЧЕСКОЙ КАРТЫ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«УКРЕПЛЕНИЕ РЕПРОДУКТИВНОГО ЗДОРОВЬЯ ЖИТЕЛЕЙ ГОРОДА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И РОСТ РОЖДАЕМОСТИ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221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53280" y="3610080"/>
            <a:ext cx="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345360" y="354636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16680" y="6281640"/>
            <a:ext cx="0" cy="3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47000" y="1935000"/>
            <a:ext cx="0" cy="2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3573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641560" y="5994360"/>
            <a:ext cx="972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71640" y="1579680"/>
            <a:ext cx="6840360" cy="5278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3159000" y="24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419640" y="4491000"/>
            <a:ext cx="2880" cy="15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924000" y="4491000"/>
            <a:ext cx="3240" cy="15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724000" y="4508640"/>
            <a:ext cx="3240" cy="15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43640" y="2781360"/>
            <a:ext cx="3240" cy="69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00720" y="6335640"/>
            <a:ext cx="37944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72360" y="6381720"/>
            <a:ext cx="21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800"/>
                </a:solidFill>
                <a:latin typeface="Times New Roman"/>
              </a:rPr>
              <a:t>Да-т</a:t>
            </a:r>
            <a:r>
              <a:rPr b="0" lang="ru-RU" sz="1000" spc="-1" strike="noStrike">
                <a:solidFill>
                  <a:srgbClr val="000800"/>
                </a:solidFill>
                <a:latin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724360" y="4581360"/>
            <a:ext cx="1800360" cy="1440000"/>
            <a:chOff x="5724360" y="4581360"/>
            <a:chExt cx="1800360" cy="1440000"/>
          </a:xfrm>
        </p:grpSpPr>
        <p:graphicFrame>
          <p:nvGraphicFramePr>
            <p:cNvPr id="354" name=""/>
            <p:cNvGraphicFramePr/>
            <p:nvPr/>
          </p:nvGraphicFramePr>
          <p:xfrm>
            <a:off x="5724360" y="4581360"/>
            <a:ext cx="1800360" cy="14400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360" y="4581360"/>
                      <a:ext cx="1800360" cy="144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6" name=""/>
            <p:cNvSpPr/>
            <p:nvPr/>
          </p:nvSpPr>
          <p:spPr>
            <a:xfrm>
              <a:off x="6756120" y="5429880"/>
              <a:ext cx="357480" cy="96480"/>
            </a:xfrm>
            <a:prstGeom prst="wedgeRectCallout">
              <a:avLst>
                <a:gd name="adj1" fmla="val -59759"/>
                <a:gd name="adj2" fmla="val -32365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ff"/>
                  </a:solidFill>
                  <a:latin typeface="Times New Roman"/>
                </a:rPr>
                <a:t>2000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31840"/>
            <a:ext cx="80643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ОБРАЗЕЦ АНАЛИТИЧЕСКОЙ КАРТЫ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«СОЗДАНИЕ СИСТЕМЫ КОМПЛЕКСНОЙ ОЦЕНКИ ПОТЕРЬ ЗДОРОВЬЯ НАСЕЛЕНИЯ 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79280" y="1197000"/>
            <a:ext cx="5905440" cy="3887280"/>
            <a:chOff x="179280" y="1197000"/>
            <a:chExt cx="5905440" cy="388728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179280" y="1322640"/>
              <a:ext cx="5896440" cy="37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79280" y="1197000"/>
              <a:ext cx="590544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ИСТЕМА ИНДЕКСНЫХ ИНДИКАТОРОВ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268360" y="5734080"/>
                <a:ext cx="381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,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,1,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,1,2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1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,1,3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6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,1,4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219640" y="4437000"/>
                <a:ext cx="381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7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bSup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971640" y="537372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рмула расчета индексов сохранения и укрепления здоровья жител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6156360" y="907920"/>
                <a:ext cx="27367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451640" y="2205000"/>
                <a:ext cx="12240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227640" y="2924280"/>
                <a:ext cx="2772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00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1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 РАСЧЕТА ДИНАМИКИ РОСТА, ОПРЕДЕЛЯЮЩЕГО ИЗМЕНЕНИЯ В СИСТЕМЕ СОХРАНЕНИЯ И УКРЕПЛЕНИЯ ЗДОРОВЬЯ НАСЕЛЕНИЯ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81080" y="1989000"/>
            <a:ext cx="5111640" cy="4640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61880" y="1374840"/>
                <a:ext cx="80740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7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244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0,58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64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0,06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5724360" y="2781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ультаты расч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508720" y="3357720"/>
          <a:ext cx="3456000" cy="230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357720"/>
                    <a:ext cx="3456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6093000" y="4313160"/>
            <a:ext cx="534960" cy="209520"/>
          </a:xfrm>
          <a:prstGeom prst="wedgeRectCallout">
            <a:avLst>
              <a:gd name="adj1" fmla="val 159185"/>
              <a:gd name="adj2" fmla="val 82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318360" y="3701880"/>
            <a:ext cx="1619280" cy="201960"/>
            <a:chOff x="6318360" y="3701880"/>
            <a:chExt cx="1619280" cy="201960"/>
          </a:xfrm>
        </p:grpSpPr>
        <p:sp>
          <p:nvSpPr>
            <p:cNvPr id="387" name=""/>
            <p:cNvSpPr/>
            <p:nvPr/>
          </p:nvSpPr>
          <p:spPr>
            <a:xfrm>
              <a:off x="6348600" y="3712320"/>
              <a:ext cx="1553040" cy="183600"/>
            </a:xfrm>
            <a:prstGeom prst="wedgeRectCallout">
              <a:avLst>
                <a:gd name="adj1" fmla="val 92726"/>
                <a:gd name="adj2" fmla="val 3006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лановые границы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18360" y="3701880"/>
              <a:ext cx="1619280" cy="198720"/>
            </a:xfrm>
            <a:prstGeom prst="wedgeRectCallout">
              <a:avLst>
                <a:gd name="adj1" fmla="val 81407"/>
                <a:gd name="adj2" fmla="val -24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лановые границ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81000" y="3903840"/>
              <a:ext cx="3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flipV="1">
            <a:off x="6156360" y="3201480"/>
            <a:ext cx="1685880" cy="227160"/>
          </a:xfrm>
          <a:prstGeom prst="line">
            <a:avLst/>
          </a:prstGeom>
          <a:ln w="889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3080" y="549360"/>
            <a:ext cx="8136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ОНИТОРИНГ СТРАТЕГИЧЕСКОГО  ПЛ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 КОМПЛЕКСНЫХ ЦЕЛЕВЫХ ПР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27280" y="2421000"/>
            <a:ext cx="2521080" cy="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2060640"/>
            <a:ext cx="20876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Реализ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8360" y="2058840"/>
            <a:ext cx="374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62480" y="2162160"/>
            <a:ext cx="35290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лючевые показатели результативности (КП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11280" y="4724280"/>
            <a:ext cx="4259520" cy="7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4076640"/>
            <a:ext cx="115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оз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4520" y="4795920"/>
            <a:ext cx="395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аблюдательный комитет Общественного со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754160" y="4084200"/>
            <a:ext cx="17640" cy="63972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19280" y="3068640"/>
            <a:ext cx="151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дикат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2852640"/>
            <a:ext cx="3024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28840" y="3224160"/>
            <a:ext cx="2880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истема отражения изменений КП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1088200">
            <a:off x="6443640" y="2923920"/>
            <a:ext cx="128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592280" y="2842920"/>
            <a:ext cx="1440" cy="68580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70000" y="3803760"/>
            <a:ext cx="1416240" cy="39672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2061720" y="4148280"/>
            <a:ext cx="9720" cy="8985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25720" y="5083200"/>
            <a:ext cx="501480" cy="144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1387800" y="4527000"/>
            <a:ext cx="97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ал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411600">
            <a:off x="1775880" y="4064040"/>
            <a:ext cx="33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0663400">
            <a:off x="1936800" y="3828600"/>
            <a:ext cx="93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62440" y="5445000"/>
            <a:ext cx="0" cy="43200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79280" y="4123080"/>
            <a:ext cx="194472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ж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ррект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43280" y="5664240"/>
            <a:ext cx="151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ч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58800" y="5877000"/>
            <a:ext cx="604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2880" y="5948280"/>
            <a:ext cx="592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бщественный совет по стратегическим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облемам устойчивого развития го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162080" y="2933640"/>
            <a:ext cx="20520" cy="294336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64360" y="5661000"/>
            <a:ext cx="174780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19800" y="5834160"/>
            <a:ext cx="15843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ской со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191080" y="5252400"/>
            <a:ext cx="1800" cy="40140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588000" y="5295960"/>
            <a:ext cx="1640160" cy="468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64360" y="501336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ч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8434080" y="4203360"/>
            <a:ext cx="4680" cy="69516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99520" y="3571920"/>
            <a:ext cx="136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67640" y="3787920"/>
            <a:ext cx="960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й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587640" y="4857840"/>
            <a:ext cx="1846440" cy="11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59640" y="4579920"/>
            <a:ext cx="165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1916280"/>
            <a:ext cx="1655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187280" y="1974960"/>
            <a:ext cx="654120" cy="877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855800" y="2200320"/>
            <a:ext cx="101520" cy="104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55800" y="2374920"/>
            <a:ext cx="101520" cy="104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855800" y="2548080"/>
            <a:ext cx="101520" cy="104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67040" y="1974960"/>
            <a:ext cx="536400" cy="756360"/>
            <a:chOff x="1967040" y="1974960"/>
            <a:chExt cx="536400" cy="756360"/>
          </a:xfrm>
        </p:grpSpPr>
        <p:sp>
          <p:nvSpPr>
            <p:cNvPr id="433" name=""/>
            <p:cNvSpPr/>
            <p:nvPr/>
          </p:nvSpPr>
          <p:spPr>
            <a:xfrm>
              <a:off x="2012040" y="1974960"/>
              <a:ext cx="491400" cy="709920"/>
            </a:xfrm>
            <a:prstGeom prst="rect">
              <a:avLst/>
            </a:prstGeom>
            <a:solidFill>
              <a:srgbClr val="fff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НОВОСИБИРСКИЙ </a:t>
              </a:r>
              <a:r>
                <a:rPr b="1" lang="ru-RU" sz="400" spc="-1" strike="noStrike">
                  <a:solidFill>
                    <a:srgbClr val="005400"/>
                  </a:solidFill>
                  <a:latin typeface="Times New Roman"/>
                </a:rPr>
                <a:t>П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967040" y="1998360"/>
              <a:ext cx="513720" cy="732960"/>
              <a:chOff x="1967040" y="1998360"/>
              <a:chExt cx="513720" cy="732960"/>
            </a:xfrm>
          </p:grpSpPr>
          <p:sp>
            <p:nvSpPr>
              <p:cNvPr id="435" name=""/>
              <p:cNvSpPr/>
              <p:nvPr/>
            </p:nvSpPr>
            <p:spPr>
              <a:xfrm>
                <a:off x="1989360" y="1998360"/>
                <a:ext cx="491400" cy="709560"/>
              </a:xfrm>
              <a:prstGeom prst="rect">
                <a:avLst/>
              </a:prstGeom>
              <a:solidFill>
                <a:srgbClr val="fff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" spc="-1" strike="noStrike">
                    <a:solidFill>
                      <a:srgbClr val="005400"/>
                    </a:solidFill>
                    <a:latin typeface="Times New Roman"/>
                  </a:rPr>
                  <a:t>Комплексные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" spc="-1" strike="noStrike">
                    <a:solidFill>
                      <a:srgbClr val="005400"/>
                    </a:solidFill>
                    <a:latin typeface="Times New Roman"/>
                  </a:rPr>
                  <a:t>Целевые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" spc="-1" strike="noStrike">
                    <a:solidFill>
                      <a:srgbClr val="005400"/>
                    </a:solidFill>
                    <a:latin typeface="Times New Roman"/>
                  </a:rPr>
                  <a:t>программы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67040" y="2021760"/>
                <a:ext cx="491760" cy="709560"/>
              </a:xfrm>
              <a:prstGeom prst="rect">
                <a:avLst/>
              </a:prstGeom>
              <a:solidFill>
                <a:srgbClr val="fff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5400"/>
                    </a:solidFill>
                    <a:latin typeface="Times New Roman"/>
                  </a:rPr>
                  <a:t>Комплексные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5400"/>
                    </a:solidFill>
                    <a:latin typeface="Times New Roman"/>
                  </a:rPr>
                  <a:t>Целевые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5400"/>
                    </a:solidFill>
                    <a:latin typeface="Times New Roman"/>
                  </a:rPr>
                  <a:t>программы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0160" y="2218320"/>
                <a:ext cx="67680" cy="6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8" name=""/>
          <p:cNvSpPr/>
          <p:nvPr/>
        </p:nvSpPr>
        <p:spPr>
          <a:xfrm rot="20668800">
            <a:off x="2340000" y="3916440"/>
            <a:ext cx="136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 индек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1816920" y="4527720"/>
            <a:ext cx="82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р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47640" y="3500280"/>
            <a:ext cx="1584360" cy="0"/>
          </a:xfrm>
          <a:prstGeom prst="line">
            <a:avLst/>
          </a:prstGeom>
          <a:ln w="88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812000" y="2563560"/>
            <a:ext cx="1800" cy="68580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ЦЕЛЕВЫЕ ПОКАЗАТЕЛИ </a:t>
            </a:r>
            <a:br>
              <a:rPr sz="3000"/>
            </a:b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В ПРОЕКЦИИ «УСТОЙЧИВОЕ РАЗВИТИЕ ГОРОДА»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448080" y="2133720"/>
            <a:ext cx="2663640" cy="574560"/>
          </a:xfrm>
          <a:prstGeom prst="rect">
            <a:avLst/>
          </a:prstGeom>
          <a:solidFill>
            <a:srgbClr val="f2ac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997360"/>
            <a:ext cx="230328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2997360"/>
            <a:ext cx="2160720" cy="501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3645000"/>
            <a:ext cx="3168720" cy="863640"/>
          </a:xfrm>
          <a:prstGeom prst="ellipse">
            <a:avLst/>
          </a:prstGeom>
          <a:solidFill>
            <a:srgbClr val="d1f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590920" y="4481280"/>
            <a:ext cx="1582560" cy="1152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124000" y="242064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788000" y="2708280"/>
            <a:ext cx="0" cy="936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476360" y="3500280"/>
            <a:ext cx="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1763640" y="3500280"/>
            <a:ext cx="216072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79280" y="3500280"/>
            <a:ext cx="338436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121080" y="2420640"/>
            <a:ext cx="14749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16000" y="5589720"/>
            <a:ext cx="172728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83040" y="5589720"/>
            <a:ext cx="172692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51520" y="5589720"/>
            <a:ext cx="172728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20000" y="5589720"/>
            <a:ext cx="1727280" cy="936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244000" y="3500280"/>
            <a:ext cx="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940360" y="3500280"/>
            <a:ext cx="180036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572000" y="3500280"/>
            <a:ext cx="2808360" cy="208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203280" y="3284640"/>
            <a:ext cx="3313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651640" y="4437000"/>
            <a:ext cx="1582560" cy="11527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140360" y="4508280"/>
            <a:ext cx="431640" cy="1081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5219640" y="4508280"/>
            <a:ext cx="432000" cy="1081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64000" y="2205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Качество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87560" y="3103560"/>
            <a:ext cx="20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Уровень занят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00880" y="31226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Производ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08360" y="3789360"/>
            <a:ext cx="208764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Уровень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функцио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г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573408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Тенденции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 секторах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эконом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122640" y="573408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Характери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тики пред-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573408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Способ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 инновациям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 обучени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8360" y="573408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едприни-м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86756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Развитие машин и механизмов для нужд городского хозяй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Развитие машиностроения для агропромышленного комплекса на предприятиях города до 2020 го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Развитие машиностроения и приборостроения города Новосибирска для топливо – энергетического комплекса до 2020 го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Территория научно-технического развития «Технополис – Новосибирск»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Развитие трудовых ресурсов г. Новосибирска до 2020 год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чата разработка комплексной  целевой программы «Приоритетные направления развития конкурентоспособного промышленного производства в городе Новосибирск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1752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ДОСТИЖЕНИЕ СТРАТЕГИЧЕСКОЙ ЦЕЛИ «РОСТ ЭКОНОМИЧЕСКОГО ПОТЕНЦИАЛА» ОБЕСПЕЧИВАЕТСЯ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ЗА СЧЕТ ИСПОЛНЕНИЯ ДОЛГОСРОЧНЫХ КОМПЛЕКСНЫХ ЦЕЛЕВЫХ ПРОГРАМ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4365720"/>
            <a:ext cx="8785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ствуется система муниципального заказа на научные разрабо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новые технологии для городского хозяйсства. С 1998 года его объем вы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чти в три раза и составляет сейчас 3 967, 077 млн. рублей. В 2004 г. в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изации участвовало более 1400 предприятий и организаций. К 2008 г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жидаемый объём муниципального заказа составит 6 300,0 млн.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этому периоду планируется переход к инновационному характеру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номики и увеличения темпов роста промышленного производст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мирования инфраструктуры новосибирского сегмента национальной инновац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ной системы для обеспечения успешной коммерциализации научных разрабо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РЕЗУЛЬТАТЫ УСИЛИЙ МЭРИИ НОВОСИБИРСКА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ПО ОБЕСПЕЧЕНИЮ  ДОСТИЖЕНИЯ В 2000 – 2005  ГОДАХ СТРАТЕГИЧЕСКОЙ ЦЕЛИ «РОСТ ЭКОНОМИЧЕСКОГО ПОТЕНЦИАЛА  ГОРОДА»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75000"/>
              </a:lnSpc>
              <a:spcAft>
                <a:spcPts val="451"/>
              </a:spcAft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становлен спад промышленного производст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5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жде всего, за счет активной структурной политики по загрузке свободных производственных мощностей новой номенклатурой изделий для ресурсодобывающих отраслей и регио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Aft>
                <a:spcPts val="675"/>
              </a:spcAft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беспечен устойчивый экономический рост на протяжении всего период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5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999 года объём промышленного производства вырос с 11,5 до 76,7 млрд. рублей, т.е. в 6,7 раза. В 2004 году рост в промышленности составил 110.6 %, (в т. ч. в машинострое-нии 116%),  объёмов отгруженной продукции за 7 месяцев текущего года – 126,6 %. П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5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ценке СОПС (академик А. Г. Гранберг) Новосибирск находится в числе 4-х регионов России, поддерживающих на протяжении пятилетки непрерывный р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Aft>
                <a:spcPts val="675"/>
              </a:spcAft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беспечен качественный рост основных макроэкономических показа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5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2003 года темпы роста промышленности превышают показатели по России и СФО, а темпы роста производительности труда опережают темпы роста заработной плат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2004 года вывоз продукции и услуг превысил розничный товарооборот, 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я прибыльно работающих предприятий возросла с 59,8 до 69,4, благодаря чему  по показателям финансовой устойчивости предприятий Новосибирская область вошла в первую пятерку регионов России. Номинальная заработная плата на крупных и средних предприятиях за этот период выросла в 2,6 раза – с 3295 рублей до 8630 рублей в первом полугодии 2005 го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Aft>
                <a:spcPts val="451"/>
              </a:spcAft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осли инвестиции в основной капитал (только за 2004 год по крупным и средним предприятиям на 142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40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ЭТАПЫ СОЗДАНИЯ СТРАТЕГИЧЕСКОГО ПЛАНА УСТОЙЧИВОГО РАЗВИТИЯ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916280"/>
            <a:ext cx="900108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4fefe"/>
                </a:solidFill>
                <a:uFillTx/>
                <a:latin typeface="Times New Roman"/>
              </a:rPr>
              <a:t>2000 г.</a:t>
            </a:r>
            <a:r>
              <a:rPr b="1" i="1" lang="ru-RU" sz="2400" spc="-1" strike="noStrike">
                <a:solidFill>
                  <a:srgbClr val="c4fefe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Анализ возможных стратегий устойчивого развития, определение 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генеральной стратегической цели, работа тематических комиссий</a:t>
            </a:r>
            <a:r>
              <a:rPr b="0" lang="ru-RU" sz="2000" spc="-1" strike="noStrike">
                <a:solidFill>
                  <a:srgbClr val="c4fefe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Общественного совета</a:t>
            </a:r>
            <a:r>
              <a:rPr b="0" lang="ru-RU" sz="2000" spc="-1" strike="noStrike">
                <a:solidFill>
                  <a:srgbClr val="c4fefe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4fefe"/>
                </a:solidFill>
                <a:uFillTx/>
                <a:latin typeface="Times New Roman"/>
              </a:rPr>
              <a:t>2001 г.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   Обсуждение на расширенных заседаниях  Программного комите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результатов работы тематических комиссий, </a:t>
            </a:r>
            <a:r>
              <a:rPr b="1" i="1" lang="en-US" sz="2000" spc="-1" strike="noStrike">
                <a:solidFill>
                  <a:srgbClr val="c4fefe"/>
                </a:solidFill>
                <a:latin typeface="Times New Roman"/>
              </a:rPr>
              <a:t>SWOT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 анализ горо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выбор основных стратегий развития на период до 2020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2002 г.   Разработка рабочей группой текста Программного ком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основного документа - Стратегического п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2003 г.   Обсуждение текста документа, разработка приложений к нему – 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комплексных целевых программ, организация публичных слушаний</a:t>
            </a:r>
            <a:br>
              <a:rPr sz="2000"/>
            </a:b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в городе,  апробация в других город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2004 г.   Обсуждение документов на международной конференции «Местное 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самоуправление и стратегия развития крупного города», издание</a:t>
            </a:r>
            <a:br>
              <a:rPr sz="2000"/>
            </a:b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материалов конференц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2005 г.  Утверждение Стратегического плана и приложений на специальной</a:t>
            </a:r>
            <a:br>
              <a:rPr sz="2000"/>
            </a:b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сессии городским советом Новосибирска</a:t>
            </a:r>
            <a:r>
              <a:rPr b="1" i="1" lang="ru-RU" sz="2400" spc="-1" strike="noStrike">
                <a:solidFill>
                  <a:srgbClr val="c4fefe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3640" y="1370160"/>
            <a:ext cx="3816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Спад в промышленном производстве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90-е годы хх века (в % к 1990 году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50920" y="1901880"/>
          <a:ext cx="439236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01880"/>
                    <a:ext cx="4392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716360" y="1730520"/>
          <a:ext cx="4267440" cy="345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730520"/>
                    <a:ext cx="42674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4859280" y="1197000"/>
            <a:ext cx="4105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Индексы  физического объема промыш-ленного производства в России, Сибирском федеральном округе и Новосибирске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 2000-2004 год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189000"/>
            <a:ext cx="8353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ПОКАЗАТЕЛИ ПРОМЫШЛЕНН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345280"/>
            <a:ext cx="896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Рост промышленного производства позволил существенно увеличить налоговую базу в городе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ходная часть бюджета города за последние 5 лет выросла в 3,4 раза, расходная часть – в 3,7 раза, бюджетная обеспеченность  жителей Новосибирска увеличилась в 3,.3 раз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993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В БЛИЖАЙШИЕ ГОДЫ В НОВОСИБИРСКЕ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НАМЕЧЕНО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824760" y="191628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тимизировать структуру экономики, развить новые отрасли и предприни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ской деятельности, существенно увеличить долю инновационной высокотех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логичной продукции в валовом региональном продукте и в еще большей мер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тивизировать баланс ввоза-вывоза товаров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77840" y="3403440"/>
            <a:ext cx="705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формировать новосибирский сегмент национальной инновацио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стемы: особую экономическую зону (ОЭЗ) технико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дрен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па 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парк информационных технологий. Запустить пилотны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екты 1-й очереди по кластерам силовой электроники, биотехноло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й и приборостроен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1649160" cy="19432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965880" y="5373720"/>
            <a:ext cx="801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высить культуру производства и производительности труда, обеспечит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енежных доходов в промышленности, в том числе заработной платы до 17 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 000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92360" y="3141720"/>
            <a:ext cx="5256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лагодарим за внимани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4fefe"/>
                </a:solidFill>
                <a:latin typeface="Times New Roman"/>
              </a:rPr>
              <a:t>ОСНОВНЫЕ ПРИНЦИПЫ СИСТЕМЫ  РАЗРАБОТКИ И ИСПОЛНЕНИЯ СТРАТЕГИЧЕСКОГО  ПЛАНА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3800" y="2131560"/>
            <a:ext cx="383220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ТАП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РАБОТ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ратегический план – это до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вор общественного согласия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нятии стратегий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рода и их приорите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ратегический план разраба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тывался в процессе взаимодей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вия и партнерства вла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изнеса, городского сообщ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каждого раздела плана ус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тановлены индикаторы, опр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еляющие уровень достиж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ратегических целей и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окумент разработан на пери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д  20 лет, равный жизни поко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ния жителей города, с выд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лением 5-летних подпериодов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060640"/>
            <a:ext cx="41371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4fefe"/>
                </a:solidFill>
                <a:uFillTx/>
                <a:latin typeface="Times New Roman"/>
              </a:rPr>
              <a:t>ЭТАП</a:t>
            </a:r>
            <a:r>
              <a:rPr b="0" lang="ru-RU" sz="2400" spc="-1" strike="noStrike" u="sng">
                <a:solidFill>
                  <a:srgbClr val="c4fefe"/>
                </a:solidFill>
                <a:uFillTx/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c4fefe"/>
                </a:solidFill>
                <a:uFillTx/>
                <a:latin typeface="Times New Roman"/>
              </a:rPr>
              <a:t>РЕ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Реализация стратегического пл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может быть обеспечено лишь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участии в его исполнении боль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части городского сооб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В процесс исполнения стратегич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ского плана должны быть вовлеч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ны все уровни властных структу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города во взаимодействии с бизн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сом и обществен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За достижение основных индик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торов стратегического плана дол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жны отвечать определенные люд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Реализация стратегий должна от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ражаться в среднесрочных и теку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щих планах социально-экономич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4fefe"/>
                </a:solidFill>
                <a:latin typeface="Times New Roman"/>
              </a:rPr>
              <a:t>ского развития г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40428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ОЛЬ ПОКАЗАТЕЛЕЙ РЕЗУЛЬТАТИВНОСТИ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РАБОТКИ И ИСПОЛНЕНИЯ СТРАТЕГИЧЕСКОГО ПЛАНА ГОРОД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4148280"/>
            <a:ext cx="194472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ТРАТЕГИ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СТОЙЧИВОГО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ЗВИТИ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О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56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256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5013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013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5280" y="2565360"/>
            <a:ext cx="381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55280" y="6453360"/>
            <a:ext cx="381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787640" y="2565360"/>
            <a:ext cx="352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87640" y="6453360"/>
            <a:ext cx="352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2781360"/>
            <a:ext cx="1368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7080" y="198900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АБО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280" y="1989000"/>
            <a:ext cx="34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С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933720"/>
            <a:ext cx="19447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стано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нцептуальной платформы стратег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л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6920" y="5589720"/>
            <a:ext cx="151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дикаторы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жида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3357720"/>
            <a:ext cx="0" cy="208728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863640" cy="95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5400000">
            <a:off x="3608280" y="3024000"/>
            <a:ext cx="86364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rot="10800000">
            <a:off x="3779640" y="494136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rot="16200000">
            <a:off x="1512000" y="4977720"/>
            <a:ext cx="720720" cy="79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2626920" y="4437000"/>
            <a:ext cx="108108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64360" y="4005360"/>
            <a:ext cx="17287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 осн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струментов реал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852640"/>
            <a:ext cx="1368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дельны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5599080"/>
            <a:ext cx="151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лученны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казатели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357720"/>
            <a:ext cx="0" cy="208728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927680" y="2997360"/>
            <a:ext cx="795240" cy="100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 rot="5400000">
            <a:off x="7228440" y="2988360"/>
            <a:ext cx="863640" cy="102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 rot="10800000">
            <a:off x="7164360" y="486900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 rot="16200000">
            <a:off x="4887720" y="4969800"/>
            <a:ext cx="792360" cy="735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5651640" y="4437000"/>
            <a:ext cx="149688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79640" y="6093000"/>
            <a:ext cx="187164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" y="189000"/>
            <a:ext cx="900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Times New Roman"/>
              </a:rPr>
              <a:t>ОБЩАЯ СТРУКТУРА СИСТЕМЫ ОРГАНИЗАЦИИ ИСПОЛНЕНИЯ СТРАТЕГИЧЕСКОГО ПЛАН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4684680"/>
            <a:ext cx="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716360" y="1343160"/>
          <a:ext cx="151128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343160"/>
                    <a:ext cx="151128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570560" y="868320"/>
            <a:ext cx="187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 marL="274320" indent="-2743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Общественный 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по стратегическ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проблема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133720"/>
            <a:ext cx="317520" cy="1616040"/>
          </a:xfrm>
          <a:prstGeom prst="downArrow">
            <a:avLst>
              <a:gd name="adj1" fmla="val 40972"/>
              <a:gd name="adj2" fmla="val 3591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89480" y="155736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365720"/>
            <a:ext cx="2016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Генеральный план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0200" y="3747960"/>
            <a:ext cx="289080" cy="617760"/>
          </a:xfrm>
          <a:prstGeom prst="downArrow">
            <a:avLst>
              <a:gd name="adj1" fmla="val 49454"/>
              <a:gd name="adj2" fmla="val 35161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1680" y="3459240"/>
            <a:ext cx="3350880" cy="2809800"/>
            <a:chOff x="2281680" y="3459240"/>
            <a:chExt cx="3350880" cy="2809800"/>
          </a:xfrm>
        </p:grpSpPr>
        <p:grpSp>
          <p:nvGrpSpPr>
            <p:cNvPr id="159" name=""/>
            <p:cNvGrpSpPr/>
            <p:nvPr/>
          </p:nvGrpSpPr>
          <p:grpSpPr>
            <a:xfrm>
              <a:off x="2340000" y="3459240"/>
              <a:ext cx="3292560" cy="2809800"/>
              <a:chOff x="2340000" y="3459240"/>
              <a:chExt cx="3292560" cy="2809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340000" y="5159160"/>
                <a:ext cx="216000" cy="289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0033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16360" y="3459240"/>
                <a:ext cx="361800" cy="288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33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0360" y="3800520"/>
                <a:ext cx="2838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 fontScale="69000"/>
              </a:bodyPr>
              <a:p>
                <a:pPr marL="236520" indent="-236520"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5400"/>
                    </a:solidFill>
                    <a:latin typeface="Times New Roman"/>
                  </a:rPr>
                  <a:t>Система сбалансированных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236520" indent="-236520"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5400"/>
                    </a:solidFill>
                    <a:latin typeface="Times New Roman"/>
                  </a:rPr>
                  <a:t>целевых показателей (ССЦП)</a:t>
                </a:r>
                <a:br>
                  <a:rPr sz="1500"/>
                </a:b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2548080" y="4108320"/>
                <a:ext cx="3084480" cy="2160720"/>
                <a:chOff x="2548080" y="4108320"/>
                <a:chExt cx="3084480" cy="2160720"/>
              </a:xfrm>
            </p:grpSpPr>
            <p:grpSp>
              <p:nvGrpSpPr>
                <p:cNvPr id="164" name=""/>
                <p:cNvGrpSpPr/>
                <p:nvPr/>
              </p:nvGrpSpPr>
              <p:grpSpPr>
                <a:xfrm>
                  <a:off x="2548080" y="4108320"/>
                  <a:ext cx="3084480" cy="2160720"/>
                  <a:chOff x="2548080" y="4108320"/>
                  <a:chExt cx="3084480" cy="2160720"/>
                </a:xfrm>
              </p:grpSpPr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548080" y="4108320"/>
                    <a:ext cx="3084480" cy="2160720"/>
                    <a:chOff x="2548080" y="4108320"/>
                    <a:chExt cx="3084480" cy="216072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548080" y="4108320"/>
                      <a:ext cx="3084480" cy="2160720"/>
                    </a:xfrm>
                    <a:prstGeom prst="rect">
                      <a:avLst/>
                    </a:prstGeom>
                    <a:solidFill>
                      <a:srgbClr val="2e8a4a">
                        <a:alpha val="9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625840" y="4181400"/>
                      <a:ext cx="2935080" cy="431640"/>
                    </a:xfrm>
                    <a:prstGeom prst="rect">
                      <a:avLst/>
                    </a:prstGeom>
                    <a:solidFill>
                      <a:srgbClr val="003300">
                        <a:alpha val="9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644920" y="4900680"/>
                      <a:ext cx="2916000" cy="576000"/>
                    </a:xfrm>
                    <a:prstGeom prst="rect">
                      <a:avLst/>
                    </a:prstGeom>
                    <a:solidFill>
                      <a:srgbClr val="003300">
                        <a:alpha val="9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616120" y="5765760"/>
                      <a:ext cx="2919600" cy="431640"/>
                    </a:xfrm>
                    <a:prstGeom prst="rect">
                      <a:avLst/>
                    </a:prstGeom>
                    <a:solidFill>
                      <a:srgbClr val="003300">
                        <a:alpha val="96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" name=""/>
                  <p:cNvSpPr/>
                  <p:nvPr/>
                </p:nvSpPr>
                <p:spPr>
                  <a:xfrm>
                    <a:off x="541656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75112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28284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1636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34988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883040" y="463536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427720" y="547524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762280" y="547524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294000" y="5476680"/>
                    <a:ext cx="0" cy="23508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827520" y="547524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360680" y="547524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894200" y="5475240"/>
                    <a:ext cx="0" cy="216000"/>
                  </a:xfrm>
                  <a:prstGeom prst="line">
                    <a:avLst/>
                  </a:prstGeom>
                  <a:ln w="38160">
                    <a:solidFill>
                      <a:srgbClr val="ffff99"/>
                    </a:solidFill>
                    <a:miter/>
                    <a:tailEnd len="sm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2608200" y="4179960"/>
                  <a:ext cx="2952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6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1b7"/>
                      </a:solidFill>
                      <a:latin typeface="Times New Roman"/>
                    </a:rPr>
                    <a:t>Система ключевых показателей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1b7"/>
                      </a:solidFill>
                      <a:latin typeface="Times New Roman"/>
                    </a:rPr>
                    <a:t>результативности (КПР) стратегий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679840" y="4971960"/>
                  <a:ext cx="295272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pPr algn="ctr">
                    <a:lnSpc>
                      <a:spcPct val="6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1b7"/>
                      </a:solidFill>
                      <a:latin typeface="Times New Roman"/>
                    </a:rPr>
                    <a:t>Организации и подразделения мэрии, ответственные за достижение КПР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f1b7"/>
                      </a:solidFill>
                      <a:latin typeface="Times New Roman"/>
                    </a:rPr>
                    <a:t>в определенные сроки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608200" y="5764320"/>
                  <a:ext cx="295272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spAutoFit/>
                </a:bodyPr>
                <a:p>
                  <a:pPr algn="ctr">
                    <a:lnSpc>
                      <a:spcPct val="7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fff1b7"/>
                      </a:solidFill>
                      <a:latin typeface="Times New Roman"/>
                    </a:rPr>
                    <a:t>Предложения организаций и подраз-делений мэрии по достижению КПР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6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>
                <a:off x="3454560" y="3459240"/>
                <a:ext cx="361800" cy="288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33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94200" y="3459240"/>
                <a:ext cx="361800" cy="288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330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3153600">
              <a:off x="2339640" y="3747960"/>
              <a:ext cx="289080" cy="289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33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H="1">
            <a:off x="6227640" y="1557360"/>
            <a:ext cx="432000" cy="257040"/>
          </a:xfrm>
          <a:prstGeom prst="rightArrow">
            <a:avLst>
              <a:gd name="adj1" fmla="val 50000"/>
              <a:gd name="adj2" fmla="val 42017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39000" y="2598840"/>
            <a:ext cx="1154160" cy="385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 rot="16946400">
            <a:off x="7000560" y="2008800"/>
            <a:ext cx="326880" cy="289080"/>
          </a:xfrm>
          <a:prstGeom prst="rightArrow">
            <a:avLst>
              <a:gd name="adj1" fmla="val 50000"/>
              <a:gd name="adj2" fmla="val 28269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7956720" y="4510080"/>
            <a:ext cx="1079280" cy="1079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75360" y="2668680"/>
            <a:ext cx="1468440" cy="68724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2955960"/>
            <a:ext cx="28872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62520" y="3033720"/>
            <a:ext cx="138240" cy="321480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2739960"/>
            <a:ext cx="14288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Среднеср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планы соци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экономиче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развития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5837400"/>
            <a:ext cx="215640" cy="431640"/>
          </a:xfrm>
          <a:prstGeom prst="rightArrow">
            <a:avLst>
              <a:gd name="adj1" fmla="val 36259"/>
              <a:gd name="adj2" fmla="val 4944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3772080"/>
            <a:ext cx="1468440" cy="68724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4037040"/>
            <a:ext cx="28872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3520" y="3844800"/>
            <a:ext cx="14288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Ежегод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планы социаль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экономиче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развития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6624720" y="3424320"/>
            <a:ext cx="358560" cy="288720"/>
          </a:xfrm>
          <a:prstGeom prst="rightArrow">
            <a:avLst>
              <a:gd name="adj1" fmla="val 50000"/>
              <a:gd name="adj2" fmla="val 31047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4876920"/>
            <a:ext cx="1468440" cy="68724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506880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4991040"/>
            <a:ext cx="142884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города Новосибир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624720" y="4516560"/>
            <a:ext cx="358560" cy="288720"/>
          </a:xfrm>
          <a:prstGeom prst="rightArrow">
            <a:avLst>
              <a:gd name="adj1" fmla="val 50000"/>
              <a:gd name="adj2" fmla="val 31047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9000" y="2381400"/>
            <a:ext cx="5859000" cy="4228560"/>
            <a:chOff x="189000" y="2381400"/>
            <a:chExt cx="5859000" cy="4228560"/>
          </a:xfrm>
        </p:grpSpPr>
        <p:sp>
          <p:nvSpPr>
            <p:cNvPr id="206" name=""/>
            <p:cNvSpPr/>
            <p:nvPr/>
          </p:nvSpPr>
          <p:spPr>
            <a:xfrm>
              <a:off x="324360" y="2381400"/>
              <a:ext cx="289440" cy="288720"/>
            </a:xfrm>
            <a:prstGeom prst="rightArrow">
              <a:avLst>
                <a:gd name="adj1" fmla="val 50000"/>
                <a:gd name="adj2" fmla="val 25062"/>
              </a:avLst>
            </a:prstGeom>
            <a:solidFill>
              <a:srgbClr val="0033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3680" y="2452680"/>
              <a:ext cx="130680" cy="4103280"/>
            </a:xfrm>
            <a:prstGeom prst="rect">
              <a:avLst/>
            </a:prstGeom>
            <a:solidFill>
              <a:srgbClr val="0033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051000" y="3612960"/>
              <a:ext cx="134640" cy="5859000"/>
            </a:xfrm>
            <a:prstGeom prst="rect">
              <a:avLst/>
            </a:prstGeom>
            <a:solidFill>
              <a:srgbClr val="0033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796000" y="6051600"/>
            <a:ext cx="28872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5981760"/>
            <a:ext cx="1468440" cy="68724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6053040"/>
            <a:ext cx="142884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Инвестицио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источ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устойчив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1b7"/>
                </a:solidFill>
                <a:latin typeface="Times New Roman"/>
              </a:rPr>
              <a:t>развития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624360" y="5627520"/>
            <a:ext cx="358920" cy="288720"/>
          </a:xfrm>
          <a:prstGeom prst="rightArrow">
            <a:avLst>
              <a:gd name="adj1" fmla="val 50000"/>
              <a:gd name="adj2" fmla="val 31079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596360" y="6195960"/>
            <a:ext cx="1093680" cy="289080"/>
          </a:xfrm>
          <a:prstGeom prst="rightArrow">
            <a:avLst>
              <a:gd name="adj1" fmla="val 43963"/>
              <a:gd name="adj2" fmla="val 44699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0720" y="6093000"/>
            <a:ext cx="96048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Инвес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41520" y="1300320"/>
            <a:ext cx="1842840" cy="2419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25760" y="1920960"/>
            <a:ext cx="28872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25760" y="2400480"/>
            <a:ext cx="28872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25760" y="2879640"/>
            <a:ext cx="28872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939960"/>
            <a:ext cx="1801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Комплексные целе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програм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41480" y="1300320"/>
            <a:ext cx="1514520" cy="2085120"/>
            <a:chOff x="2841480" y="1300320"/>
            <a:chExt cx="1514520" cy="2085120"/>
          </a:xfrm>
        </p:grpSpPr>
        <p:sp>
          <p:nvSpPr>
            <p:cNvPr id="221" name=""/>
            <p:cNvSpPr/>
            <p:nvPr/>
          </p:nvSpPr>
          <p:spPr>
            <a:xfrm>
              <a:off x="2968560" y="1300320"/>
              <a:ext cx="1387440" cy="1955520"/>
            </a:xfrm>
            <a:prstGeom prst="rect">
              <a:avLst/>
            </a:prstGeom>
            <a:solidFill>
              <a:srgbClr val="fff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НОВОСИБИРСКИЙ ГОРОДСКОЙ СОВЕТ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ОБЩЕСТВЕННЫЙ СОВЕТ</a:t>
              </a:r>
              <a:br>
                <a:rPr sz="400"/>
              </a:b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ПО СТРАТЕГИЧЕСКИМ ПРОБЛЕМАМ</a:t>
              </a:r>
              <a:br>
                <a:rPr sz="400"/>
              </a:b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ОРОДА НОВОСИБИРСКА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400" spc="-1" strike="noStrike">
                  <a:solidFill>
                    <a:srgbClr val="005400"/>
                  </a:solidFill>
                  <a:latin typeface="Times New Roman"/>
                </a:rPr>
                <a:t>МЭРИЯ НОВОСИБИРСКА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4000"/>
                </a:lnSpc>
                <a:spcBef>
                  <a:spcPts val="2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500" spc="-1" strike="noStrike">
                  <a:solidFill>
                    <a:srgbClr val="005400"/>
                  </a:solidFill>
                  <a:latin typeface="Times New Roman"/>
                </a:rPr>
                <a:t>Комплексная целевая программ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500" spc="-1" strike="noStrike">
                  <a:solidFill>
                    <a:srgbClr val="005400"/>
                  </a:solidFill>
                  <a:latin typeface="Times New Roman"/>
                </a:rPr>
                <a:t>реализации Стратегического плана</a:t>
              </a:r>
              <a:br>
                <a:rPr sz="500"/>
              </a:br>
              <a:r>
                <a:rPr b="1" sz="500" spc="-1" strike="noStrike">
                  <a:solidFill>
                    <a:srgbClr val="005400"/>
                  </a:solidFill>
                  <a:latin typeface="Times New Roman"/>
                </a:rPr>
                <a:t>устойчивого развития города</a:t>
              </a:r>
              <a:br>
                <a:rPr sz="500"/>
              </a:br>
              <a:r>
                <a:rPr b="1" sz="500" spc="-1" strike="noStrike">
                  <a:solidFill>
                    <a:srgbClr val="005400"/>
                  </a:solidFill>
                  <a:latin typeface="Times New Roman"/>
                </a:rPr>
                <a:t>Новосибирск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600" spc="-1" strike="noStrike">
                  <a:solidFill>
                    <a:srgbClr val="005400"/>
                  </a:solidFill>
                  <a:latin typeface="Times New Roman"/>
                </a:rPr>
                <a:t>РАЗВИТИЕ НОВОСИБИРСКА</a:t>
              </a:r>
              <a:br>
                <a:rPr sz="600"/>
              </a:br>
              <a:r>
                <a:rPr b="1" sz="600" spc="-1" strike="noStrike">
                  <a:solidFill>
                    <a:srgbClr val="005400"/>
                  </a:solidFill>
                  <a:latin typeface="Times New Roman"/>
                </a:rPr>
                <a:t>КАК КРУПНОГО ЦЕНТРА</a:t>
              </a:r>
              <a:br>
                <a:rPr sz="600"/>
              </a:br>
              <a:r>
                <a:rPr b="1" sz="600" spc="-1" strike="noStrike">
                  <a:solidFill>
                    <a:srgbClr val="005400"/>
                  </a:solidFill>
                  <a:latin typeface="Times New Roman"/>
                </a:rPr>
                <a:t>КУЛЬТУРЫ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600" spc="-1" strike="noStrike">
                  <a:solidFill>
                    <a:srgbClr val="005400"/>
                  </a:solidFill>
                  <a:latin typeface="Times New Roman"/>
                </a:rPr>
                <a:t>Приложение 2 ПР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" spc="-1" strike="noStrike">
                  <a:solidFill>
                    <a:srgbClr val="005400"/>
                  </a:solidFill>
                  <a:latin typeface="Times New Roman"/>
                </a:rPr>
                <a:t>Новосибирск, 2003</a:t>
              </a: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2841480" y="1365120"/>
              <a:ext cx="1451160" cy="2020320"/>
              <a:chOff x="2841480" y="1365120"/>
              <a:chExt cx="1451160" cy="202032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5200" y="1365120"/>
                <a:ext cx="1387440" cy="1955520"/>
              </a:xfrm>
              <a:prstGeom prst="rect">
                <a:avLst/>
              </a:prstGeom>
              <a:solidFill>
                <a:srgbClr val="fff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НОВОСИБИРСКИЙ ГОРОДСКОЙ СОВЕТ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ОБЩЕСТВЕННЫЙ СОВЕТ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ПО СТРАТЕГИЧЕСКИМ ПРОБЛЕМАМ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ОРОДА НОВОСИБИРСК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МЭРИЯ НОВОСИБИРСК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64000"/>
                  </a:lnSpc>
                  <a:spcBef>
                    <a:spcPts val="2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500" spc="-1" strike="noStrike">
                    <a:solidFill>
                      <a:srgbClr val="005400"/>
                    </a:solidFill>
                    <a:latin typeface="Times New Roman"/>
                  </a:rPr>
                  <a:t>Комплексная целевая программа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500" spc="-1" strike="noStrike">
                    <a:solidFill>
                      <a:srgbClr val="005400"/>
                    </a:solidFill>
                    <a:latin typeface="Times New Roman"/>
                  </a:rPr>
                  <a:t>реализации Стратегического плана</a:t>
                </a:r>
                <a:br>
                  <a:rPr sz="500"/>
                </a:br>
                <a:r>
                  <a:rPr b="1" sz="500" spc="-1" strike="noStrike">
                    <a:solidFill>
                      <a:srgbClr val="005400"/>
                    </a:solidFill>
                    <a:latin typeface="Times New Roman"/>
                  </a:rPr>
                  <a:t>устойчивого развития города</a:t>
                </a:r>
                <a:br>
                  <a:rPr sz="500"/>
                </a:br>
                <a:r>
                  <a:rPr b="1" sz="500" spc="-1" strike="noStrike">
                    <a:solidFill>
                      <a:srgbClr val="005400"/>
                    </a:solidFill>
                    <a:latin typeface="Times New Roman"/>
                  </a:rPr>
                  <a:t>Новосибирска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spcAft>
                    <a:spcPts val="9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600" spc="-1" strike="noStrike">
                    <a:solidFill>
                      <a:srgbClr val="005400"/>
                    </a:solidFill>
                    <a:latin typeface="Times New Roman"/>
                  </a:rPr>
                  <a:t>РАЗВИТИЕ НОВОСИБИРСКА</a:t>
                </a:r>
                <a:br>
                  <a:rPr sz="600"/>
                </a:br>
                <a:r>
                  <a:rPr b="1" sz="600" spc="-1" strike="noStrike">
                    <a:solidFill>
                      <a:srgbClr val="005400"/>
                    </a:solidFill>
                    <a:latin typeface="Times New Roman"/>
                  </a:rPr>
                  <a:t>КАК КРУПНОГО ЦЕНТРА</a:t>
                </a:r>
                <a:br>
                  <a:rPr sz="600"/>
                </a:br>
                <a:r>
                  <a:rPr b="1" sz="600" spc="-1" strike="noStrike">
                    <a:solidFill>
                      <a:srgbClr val="005400"/>
                    </a:solidFill>
                    <a:latin typeface="Times New Roman"/>
                  </a:rPr>
                  <a:t>КУЛЬТУРЫ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600" spc="-1" strike="noStrike">
                    <a:solidFill>
                      <a:srgbClr val="005400"/>
                    </a:solidFill>
                    <a:latin typeface="Times New Roman"/>
                  </a:rPr>
                  <a:t>Приложение 2 ПР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400" spc="-1" strike="noStrike">
                    <a:solidFill>
                      <a:srgbClr val="005400"/>
                    </a:solidFill>
                    <a:latin typeface="Times New Roman"/>
                  </a:rPr>
                  <a:t>Новосибирск, 2003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41480" y="1429920"/>
                <a:ext cx="1387800" cy="1955520"/>
              </a:xfrm>
              <a:prstGeom prst="rect">
                <a:avLst/>
              </a:prstGeom>
              <a:solidFill>
                <a:srgbClr val="fff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НОВОСИБИРСКИЙ ГОРОДСКОЙ СОВЕТ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ОБЩЕСТВЕННЫЙ СОВЕТ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ПО СТРАТЕГИЧЕСКИМ ПРОБЛЕМАМ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ОРОДА НОВОСИБИРСК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МЭРИЯ НОВОСИБИРСК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6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Комплексная целевая </a:t>
                </a:r>
                <a:r>
                  <a:rPr b="1" sz="400" spc="-1" strike="noStrike">
                    <a:solidFill>
                      <a:srgbClr val="000800"/>
                    </a:solidFill>
                    <a:latin typeface="Times New Roman"/>
                  </a:rPr>
                  <a:t>программ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реализации Стратегического плана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устойчивого развития города</a:t>
                </a:r>
                <a:br>
                  <a:rPr sz="400"/>
                </a:b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Новосибирска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005400"/>
                    </a:solidFill>
                    <a:latin typeface="Times New Roman"/>
                  </a:rPr>
                  <a:t>ЗДОРОВЫЙ ГОРОД</a:t>
                </a:r>
                <a:endParaRPr b="0" lang="en-US" sz="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spcAft>
                    <a:spcPts val="9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Приложение </a:t>
                </a:r>
                <a:r>
                  <a:rPr b="1" lang="ru-RU" sz="400" spc="-1" strike="noStrike">
                    <a:solidFill>
                      <a:srgbClr val="005400"/>
                    </a:solidFill>
                    <a:latin typeface="Times New Roman"/>
                  </a:rPr>
                  <a:t>1</a:t>
                </a:r>
                <a:r>
                  <a:rPr b="1" sz="400" spc="-1" strike="noStrike">
                    <a:solidFill>
                      <a:srgbClr val="005400"/>
                    </a:solidFill>
                    <a:latin typeface="Times New Roman"/>
                  </a:rPr>
                  <a:t> ПР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400" spc="-1" strike="noStrike">
                    <a:solidFill>
                      <a:srgbClr val="005400"/>
                    </a:solidFill>
                    <a:latin typeface="Times New Roman"/>
                  </a:rPr>
                  <a:t>Новосибирск, 2003</a:t>
                </a: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43400" y="1971360"/>
                <a:ext cx="191880" cy="191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6" name=""/>
          <p:cNvSpPr/>
          <p:nvPr/>
        </p:nvSpPr>
        <p:spPr>
          <a:xfrm>
            <a:off x="755640" y="1084320"/>
            <a:ext cx="16304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Основной доку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39640" y="4581360"/>
            <a:ext cx="1800360" cy="1463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956720" y="3154320"/>
            <a:ext cx="236520" cy="965160"/>
          </a:xfrm>
          <a:prstGeom prst="downArrow">
            <a:avLst>
              <a:gd name="adj1" fmla="val 49380"/>
              <a:gd name="adj2" fmla="val 44547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1413000"/>
            <a:ext cx="2233440" cy="576000"/>
          </a:xfrm>
          <a:prstGeom prst="ellipse">
            <a:avLst/>
          </a:prstGeom>
          <a:solidFill>
            <a:srgbClr val="005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6960600" y="2336040"/>
            <a:ext cx="342720" cy="223920"/>
          </a:xfrm>
          <a:prstGeom prst="rightArrow">
            <a:avLst>
              <a:gd name="adj1" fmla="val 63759"/>
              <a:gd name="adj2" fmla="val 0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1628640"/>
            <a:ext cx="19432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Система мониторин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4506800">
            <a:off x="5997600" y="1499400"/>
            <a:ext cx="266760" cy="1676520"/>
          </a:xfrm>
          <a:prstGeom prst="downArrow">
            <a:avLst>
              <a:gd name="adj1" fmla="val 48815"/>
              <a:gd name="adj2" fmla="val 59531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72280" y="2668680"/>
            <a:ext cx="123480" cy="138564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0560" y="4149720"/>
            <a:ext cx="13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Новосибир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городской 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4809000">
            <a:off x="8090640" y="1998360"/>
            <a:ext cx="287640" cy="268200"/>
          </a:xfrm>
          <a:prstGeom prst="rightArrow">
            <a:avLst>
              <a:gd name="adj1" fmla="val 50000"/>
              <a:gd name="adj2" fmla="val 26812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0720" y="2276640"/>
            <a:ext cx="1224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Офици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400"/>
                </a:solidFill>
                <a:latin typeface="Times New Roman"/>
              </a:rPr>
              <a:t>сайт гор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04360" y="2997360"/>
            <a:ext cx="257040" cy="1152360"/>
          </a:xfrm>
          <a:prstGeom prst="downArrow">
            <a:avLst>
              <a:gd name="adj1" fmla="val 49380"/>
              <a:gd name="adj2" fmla="val 55106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7790040" y="2921040"/>
            <a:ext cx="126720" cy="558720"/>
          </a:xfrm>
          <a:prstGeom prst="rect">
            <a:avLst/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490200">
            <a:off x="7580880" y="4380120"/>
            <a:ext cx="289080" cy="401760"/>
          </a:xfrm>
          <a:prstGeom prst="downArrow">
            <a:avLst>
              <a:gd name="adj1" fmla="val 49454"/>
              <a:gd name="adj2" fmla="val 41751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567560" y="5084640"/>
            <a:ext cx="354240" cy="289080"/>
          </a:xfrm>
          <a:prstGeom prst="rightArrow">
            <a:avLst>
              <a:gd name="adj1" fmla="val 50000"/>
              <a:gd name="adj2" fmla="val 30635"/>
            </a:avLst>
          </a:prstGeom>
          <a:solidFill>
            <a:srgbClr val="0033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714920" y="1773360"/>
            <a:ext cx="1512720" cy="1150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8314560" y="2205000"/>
            <a:ext cx="647640" cy="1152720"/>
          </a:xfrm>
          <a:custGeom>
            <a:avLst/>
            <a:gdLst>
              <a:gd name="textAreaLeft" fmla="*/ 86760 w 647640"/>
              <a:gd name="textAreaRight" fmla="*/ 560880 w 647640"/>
              <a:gd name="textAreaTop" fmla="*/ 221040 h 1152720"/>
              <a:gd name="textAreaBottom" fmla="*/ 77616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86" stAng="-5400000" swAng="-5400000"/>
                <a:lnTo>
                  <a:pt x="0" y="10398"/>
                </a:lnTo>
                <a:arcTo wR="21600" hR="8286" stAng="10800000" swAng="-3481633"/>
                <a:lnTo>
                  <a:pt x="16570" y="21372"/>
                </a:lnTo>
                <a:lnTo>
                  <a:pt x="21600" y="17628"/>
                </a:lnTo>
                <a:lnTo>
                  <a:pt x="16570" y="13428"/>
                </a:lnTo>
                <a:lnTo>
                  <a:pt x="16570" y="16344"/>
                </a:lnTo>
                <a:arcTo wR="21600" hR="8286" stAng="7318367" swAng="3312321"/>
                <a:lnTo>
                  <a:pt x="176" y="9342"/>
                </a:lnTo>
                <a:arcTo wR="21600" hR="8286" stAng="-10630688" swAng="5230688"/>
                <a:close/>
              </a:path>
              <a:path fill="darkenLess" w="21600" h="21600">
                <a:moveTo>
                  <a:pt x="21600" y="0"/>
                </a:moveTo>
                <a:arcTo wR="21600" hR="8286" stAng="-5400000" swAng="-5400000"/>
                <a:lnTo>
                  <a:pt x="0" y="8286"/>
                </a:lnTo>
                <a:arcTo wR="21600" hR="8286" stAng="10800000" swAng="-169312"/>
                <a:lnTo>
                  <a:pt x="176" y="9342"/>
                </a:lnTo>
                <a:arcTo wR="21600" hR="8286" stAng="-10630688" swAng="5230688"/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85840"/>
            <a:ext cx="8856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1f0ff"/>
                </a:solidFill>
                <a:latin typeface="Times New Roman"/>
              </a:rPr>
              <a:t>ТЕХНОЛОГИЯ СОЗДАНИЯ МУНИЦИПАЛЬНОЙ СИСТЕМЫ СБАЛАНСИРОВАННЫХ ЦЕЛЕВЫХ ПОКАЗАТЕЛЕЙ (ССЦП) РЕАЛИЗАЦИИ СТРАТЕГИЧЕСКОГО ПЛАНА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1844640"/>
            <a:ext cx="1998720" cy="100800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7" y="0"/>
                </a:lnTo>
                <a:lnTo>
                  <a:pt x="21600" y="10800"/>
                </a:lnTo>
                <a:lnTo>
                  <a:pt x="199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1886040"/>
            <a:ext cx="18018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0. Стратегический план устойчивого развития город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омплексные целе-вые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349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068640"/>
            <a:ext cx="2016000" cy="865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9" y="0"/>
                </a:lnTo>
                <a:lnTo>
                  <a:pt x="21600" y="10800"/>
                </a:lnTo>
                <a:lnTo>
                  <a:pt x="200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141720"/>
            <a:ext cx="1871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1. Проектирование структуры системы исполнения страте-гического пл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3068640"/>
            <a:ext cx="2087640" cy="86508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9" y="0"/>
                </a:lnTo>
                <a:lnTo>
                  <a:pt x="21600" y="10800"/>
                </a:lnTo>
                <a:lnTo>
                  <a:pt x="200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8920" y="3068640"/>
            <a:ext cx="2305080" cy="86508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9" y="0"/>
                </a:lnTo>
                <a:lnTo>
                  <a:pt x="21600" y="10800"/>
                </a:lnTo>
                <a:lnTo>
                  <a:pt x="200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5640" y="3068640"/>
            <a:ext cx="2089080" cy="865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9" y="0"/>
                </a:lnTo>
                <a:lnTo>
                  <a:pt x="21600" y="10800"/>
                </a:lnTo>
                <a:lnTo>
                  <a:pt x="200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3141720"/>
            <a:ext cx="1944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2. Определение клю-чевых показателей результативности (КПР) страте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99000" y="3141720"/>
            <a:ext cx="216072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. Разработка планов мероприятий и увяз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целей с процессами управления город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48360" y="3141720"/>
            <a:ext cx="1871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4. Формирование системы КПР на среднесрочный пе-риод упреж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604920" y="1913040"/>
            <a:ext cx="1709640" cy="868320"/>
          </a:xfrm>
          <a:custGeom>
            <a:avLst/>
            <a:gdLst>
              <a:gd name="textAreaLeft" fmla="*/ -360 w 1709640"/>
              <a:gd name="textAreaRight" fmla="*/ 1709640 w 1709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9" y="0"/>
                </a:lnTo>
                <a:lnTo>
                  <a:pt x="21600" y="10800"/>
                </a:lnTo>
                <a:lnTo>
                  <a:pt x="200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92720" y="2349360"/>
            <a:ext cx="285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720" y="1989000"/>
            <a:ext cx="1511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5. Создание си-стемы монито-ринга и контро-ля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989000"/>
            <a:ext cx="143964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2200" y="2039760"/>
            <a:ext cx="1297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Решения Общественного 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и гор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1888560" y="2618640"/>
            <a:ext cx="396720" cy="503280"/>
          </a:xfrm>
          <a:custGeom>
            <a:avLst/>
            <a:gdLst>
              <a:gd name="textAreaLeft" fmla="*/ 360 w 396720"/>
              <a:gd name="textAreaRight" fmla="*/ 397440 w 396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69" stAng="10800000" swAng="5400000"/>
                <a:lnTo>
                  <a:pt x="15130" y="3891"/>
                </a:lnTo>
                <a:lnTo>
                  <a:pt x="15130" y="0"/>
                </a:lnTo>
                <a:lnTo>
                  <a:pt x="21600" y="6079"/>
                </a:lnTo>
                <a:lnTo>
                  <a:pt x="15130" y="12158"/>
                </a:lnTo>
                <a:lnTo>
                  <a:pt x="15130" y="8267"/>
                </a:lnTo>
                <a:lnTo>
                  <a:pt x="12427" y="8267"/>
                </a:lnTo>
                <a:arcTo wR="8051" hR="3893" stAng="16200000" swAng="-5400000"/>
                <a:lnTo>
                  <a:pt x="4376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300920" y="2581920"/>
            <a:ext cx="396720" cy="576360"/>
          </a:xfrm>
          <a:custGeom>
            <a:avLst/>
            <a:gdLst>
              <a:gd name="textAreaLeft" fmla="*/ 0 w 396720"/>
              <a:gd name="textAreaRight" fmla="*/ 397080 w 396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69" stAng="10800000" swAng="5400000"/>
                <a:lnTo>
                  <a:pt x="15130" y="3891"/>
                </a:lnTo>
                <a:lnTo>
                  <a:pt x="15130" y="0"/>
                </a:lnTo>
                <a:lnTo>
                  <a:pt x="21600" y="6079"/>
                </a:lnTo>
                <a:lnTo>
                  <a:pt x="15130" y="12158"/>
                </a:lnTo>
                <a:lnTo>
                  <a:pt x="15130" y="8267"/>
                </a:lnTo>
                <a:lnTo>
                  <a:pt x="12427" y="8267"/>
                </a:lnTo>
                <a:arcTo wR="8051" hR="3893" stAng="16200000" swAng="-5400000"/>
                <a:lnTo>
                  <a:pt x="4376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273720" y="2349360"/>
            <a:ext cx="285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2022480"/>
            <a:ext cx="12240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Мониторин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Стратегиче-ского пл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4076640"/>
            <a:ext cx="2087640" cy="2689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98680" y="4076640"/>
            <a:ext cx="2049480" cy="2668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81360" y="4076640"/>
            <a:ext cx="2160720" cy="2667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75640" y="4076640"/>
            <a:ext cx="2089080" cy="2668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4149720"/>
            <a:ext cx="196668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Инвентаризация страте-гических целей и задач, а также индикаторов резу-льтативности страте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Определение подразде-лений мэрии, ответствен-ных за достижение ц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Составление иерархиче-ски организованных пе-речней стратегических целей и задач с разбив-кой по подразделениям мэрии и период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Анализ причинно-след-ственных связей ц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96960" y="4151160"/>
            <a:ext cx="19339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Определение КПР для верхнего уровня иерар-хии целей и подцелей каждого подразделения мэ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Согласование и оценка сбалансированности верхнего уровня КПР стратегических ц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Определение периодич-ности и форм отчетов подразделений мэрии о достижении уровня КП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Выпуск постановления мэрии о системе КП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29240" y="4149720"/>
            <a:ext cx="205272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Определение подразделе-ниями мэрии мер для дос-тижения плановых уров-ней К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Привязка технологий ра-боты подразделений мэ-рии к целям и подцелям стратегического пла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Подготовка подразделе-ниями мэрии предложе-ний в среднесрочный план социально-экономическо-го развития города с ука-занием исполнителей и ис-точников финансир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4135320"/>
            <a:ext cx="201636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Формирование проекта среднесрочного плана социально-экономиче-ского развития города с указанием достижения определенных уровней КПР и исполни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Обсуждение проекта и принятие среднесрочного плана социально-эконо-мического разви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349"/>
              </a:spcAft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Агрегирование системы КПР на период исполне-ния среднесрочного пла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515280" y="3508200"/>
            <a:ext cx="2447640" cy="1162080"/>
          </a:xfrm>
          <a:prstGeom prst="rect">
            <a:avLst/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985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ОСНОВНЫЕ ПРОЕКЦИИ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СБАЛАНСИРОВАННОЙ СИСТЕМЫ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ЦЕЛЕВЫХ ПОКАЗАТЕЛЕЙ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СТРАТЕГИЧЕСКОГО ПЛАНА</a:t>
            </a:r>
            <a:br>
              <a:rPr sz="2500"/>
            </a:b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УСТОЙЧИВОГО РАЗВИТИЯ ГОРОДА</a:t>
            </a:r>
            <a:endParaRPr b="1" lang="en-US" sz="2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66000" y="385452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56920" y="385452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4653720" y="4698000"/>
            <a:ext cx="487440" cy="432000"/>
          </a:xfrm>
          <a:prstGeom prst="rightArrow">
            <a:avLst>
              <a:gd name="adj1" fmla="val 50000"/>
              <a:gd name="adj2" fmla="val 28208"/>
            </a:avLst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636440" y="3043800"/>
            <a:ext cx="525240" cy="431640"/>
          </a:xfrm>
          <a:prstGeom prst="rightArrow">
            <a:avLst>
              <a:gd name="adj1" fmla="val 50000"/>
              <a:gd name="adj2" fmla="val 30421"/>
            </a:avLst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51400" y="3355920"/>
            <a:ext cx="2663640" cy="1440000"/>
          </a:xfrm>
          <a:prstGeom prst="ellipse">
            <a:avLst/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64080" y="5156280"/>
            <a:ext cx="2447640" cy="936720"/>
          </a:xfrm>
          <a:prstGeom prst="rect">
            <a:avLst/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79920" y="2060640"/>
            <a:ext cx="2448000" cy="934920"/>
          </a:xfrm>
          <a:prstGeom prst="rect">
            <a:avLst/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3160" y="3506760"/>
            <a:ext cx="2448000" cy="1162080"/>
          </a:xfrm>
          <a:prstGeom prst="rect">
            <a:avLst/>
          </a:prstGeom>
          <a:solidFill>
            <a:srgbClr val="9fd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68840" y="2206800"/>
            <a:ext cx="230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НАСЕЛЕНИ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Улучшение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жизни в го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99000" y="3646440"/>
            <a:ext cx="229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Times New Roman"/>
              </a:rPr>
              <a:t>Исполнени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Times New Roman"/>
              </a:rPr>
              <a:t>стратегического план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Times New Roman"/>
              </a:rPr>
              <a:t>устойчивого развит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Times New Roman"/>
              </a:rPr>
              <a:t>крупного город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0080" y="3575160"/>
            <a:ext cx="231300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ПРОЦЕССЫ САМО-УПРАВЛЕН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Times New Roman"/>
              </a:rPr>
              <a:t>Совершенствование</a:t>
            </a:r>
            <a:br>
              <a:rPr sz="1700"/>
            </a:br>
            <a:r>
              <a:rPr b="0" lang="en-US" sz="1700" spc="-1" strike="noStrike">
                <a:solidFill>
                  <a:srgbClr val="003366"/>
                </a:solidFill>
                <a:latin typeface="Times New Roman"/>
              </a:rPr>
              <a:t>работы местных органов самоуправлени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9000" y="3573360"/>
            <a:ext cx="23767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65000"/>
              </a:lnSpc>
              <a:spcBef>
                <a:spcPts val="213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УСТОЙЧИВОЕ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Times New Roman"/>
              </a:rPr>
              <a:t>РАЗВИТИЯ ГОРОД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Times New Roman"/>
              </a:rPr>
              <a:t>Обеспечение рост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Times New Roman"/>
              </a:rPr>
              <a:t>конкурентоспособности  город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62360" y="5316480"/>
            <a:ext cx="223200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Times New Roman"/>
              </a:rPr>
              <a:t>ИНВЕСТОР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66"/>
                </a:solidFill>
                <a:latin typeface="Times New Roman"/>
              </a:rPr>
              <a:t>Инвестиционная прив-лекательность город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751040" y="2276640"/>
            <a:ext cx="1925640" cy="123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 flipH="1">
            <a:off x="6129000" y="2276640"/>
            <a:ext cx="1925640" cy="1234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 flipH="1" rot="10800000">
            <a:off x="1733400" y="4641480"/>
            <a:ext cx="1925640" cy="1235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 rot="10800000">
            <a:off x="6111360" y="4641480"/>
            <a:ext cx="19256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ДВА ПОДХОДА К ФОРМИРОВАНИЮ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СИСТЕМ КЛЮЧЕВЫХ ПОКАЗАТЕЛЕЙ РЕЗУЛЬАТИВНОСТИ СТРАТЕГИЧЕСКОГО ПЛА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1957320"/>
            <a:ext cx="2448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истема стратег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нформационно-аналит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а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8720" y="5210280"/>
            <a:ext cx="201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истема индексных индик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724360" y="3213000"/>
            <a:ext cx="1692000" cy="358560"/>
            <a:chOff x="5724360" y="3213000"/>
            <a:chExt cx="1692000" cy="358560"/>
          </a:xfrm>
        </p:grpSpPr>
        <p:sp>
          <p:nvSpPr>
            <p:cNvPr id="295" name=""/>
            <p:cNvSpPr/>
            <p:nvPr/>
          </p:nvSpPr>
          <p:spPr>
            <a:xfrm flipV="1">
              <a:off x="7374960" y="3213000"/>
              <a:ext cx="0" cy="358560"/>
            </a:xfrm>
            <a:prstGeom prst="line">
              <a:avLst/>
            </a:prstGeom>
            <a:ln w="95400">
              <a:solidFill>
                <a:srgbClr val="ffffff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724360" y="3539880"/>
              <a:ext cx="1692000" cy="0"/>
            </a:xfrm>
            <a:prstGeom prst="line">
              <a:avLst/>
            </a:prstGeom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724000" y="4724280"/>
            <a:ext cx="1618920" cy="358560"/>
            <a:chOff x="5724000" y="4724280"/>
            <a:chExt cx="1618920" cy="358560"/>
          </a:xfrm>
        </p:grpSpPr>
        <p:sp>
          <p:nvSpPr>
            <p:cNvPr id="298" name=""/>
            <p:cNvSpPr/>
            <p:nvPr/>
          </p:nvSpPr>
          <p:spPr>
            <a:xfrm>
              <a:off x="7303320" y="4724280"/>
              <a:ext cx="0" cy="358560"/>
            </a:xfrm>
            <a:prstGeom prst="line">
              <a:avLst/>
            </a:prstGeom>
            <a:ln w="95400">
              <a:solidFill>
                <a:srgbClr val="ffffff"/>
              </a:solidFill>
              <a:miter/>
              <a:tailEnd len="sm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24000" y="4755960"/>
              <a:ext cx="1618920" cy="0"/>
            </a:xfrm>
            <a:prstGeom prst="line">
              <a:avLst/>
            </a:prstGeom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8452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СИСТЕМА ИНФОРМАЦИОННО-АНАЛИТИЧЕСКИХ КА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550880" y="2090880"/>
            <a:ext cx="66214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5:44:09Z</dcterms:created>
  <dc:creator>VChistiakov</dc:creator>
  <dc:description/>
  <dc:language>en-US</dc:language>
  <cp:lastModifiedBy>Жихаревич</cp:lastModifiedBy>
  <dcterms:modified xsi:type="dcterms:W3CDTF">2005-11-14T13:46:57Z</dcterms:modified>
  <cp:revision>25</cp:revision>
  <dc:subject/>
  <dc:title>Слайд 1</dc:title>
</cp:coreProperties>
</file>