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38F5-600E-454F-B7AD-78DADE142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этом слайде показаны объективные причины важности реформ государственного управления на региональном уровне. Мы отвечаем на вопрос, почему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ажны рефор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анном слайде представлен контекст реформ государственного управления в России. Мы отвечаем на вопрос почему нужна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ABB-0AC6-44F2-BA3C-1D9DC84B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646-A3A7-4288-B383-BFEBA957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0C4-AC4D-448D-B5D9-BEBE588E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3C6-95CA-4E61-B8A8-06D7C924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A86C-FAE1-476A-83E1-1E5BB5D7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FF92-A19D-4809-9307-91579C07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9255-D8C1-461D-A241-EF6FE38B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0BC-1AEF-4BC4-9331-E9E07798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CC5B-370C-4B75-8555-E6974CCE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77F2-3BF7-46D7-B987-F6826C75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C8AE-408A-45BE-A830-3DAB17B9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F03-FCA6-4416-9FDE-93BF6C37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E986-B700-4A71-A7D5-1E83D54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99E4-996A-4BA4-9AB8-1D056DD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5CD8-55D1-4833-B28B-FB579FFC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EDA-52AE-4410-B2E9-67253E80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39F6-F2D7-4507-8FD7-5F086BC7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474-C171-4AB9-93ED-70C00657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955-15FE-4B5E-B469-B43083C9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0F0-CE3D-49F0-B5AA-B5B68869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D74-BB5F-4E29-8C00-D9F0E698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1E6-A6ED-46E7-8680-23643AA7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917-6D81-4119-9BE2-BF834A9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819-22E4-473C-A41F-398D5A4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39F5-788B-4E57-BD37-C40FA2B7A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64CC-2E97-4385-9658-5B9D7D82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Всемирный банк: поддержка реформ государственного управления на региональном уровне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.И. Добролюб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ординатор программы, ВБ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ктябрь 2005 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6600"/>
                </a:solidFill>
                <a:latin typeface="Arial"/>
              </a:rPr>
              <a:t>Основные направления поддержки: межрегиональный проект по оценке госслужащих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а: Республика Чуваш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разработка и внедрение методик конкурсного отбора и оценки государственных служащи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ирование: ММР Великобрит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ники: Астраханская, Вологодская, Иркутская, Саратовская обл., Красноярский край, Республика Чуваш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Arial"/>
              </a:rPr>
              <a:t>Дальнейшие перспективы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тика: «Реализация реформ госуправления в условиях федеративного устройств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ология: обобщение опыта реализованных проек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ка: интеграция различных направлений реформ государственного управления на региональном уров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6600"/>
                </a:solidFill>
                <a:latin typeface="Arial"/>
              </a:rPr>
              <a:t>Поддержка реформ государственного управления на региональном уровне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так важна реализация реформ госуправления в региона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ы основные направления поддержк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ы видим дальнейшие перспектив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Arial"/>
              </a:rPr>
              <a:t>Важность реализации реформ госуправления в регионах (1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масса государственных услуг оказывается на региональном и местном уровня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азании большинства государственных услуг участвуют несколько уровней управления: важна эффективность каждого звен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государственных услуг оказывает влияние на отношение граждан к вла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Arial"/>
              </a:rPr>
              <a:t>Важность реализации реформ госуправления в регионах (2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ормы государственного управления – сколько их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а государственной служб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раничение полномоч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ая рефор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а бюджетного процесса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жатые сроки проведения рефор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е вопросы методологии и реализации решены (даже на федеральном уровн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Arial"/>
              </a:rPr>
              <a:t>Поддержка ВБ: основные принцип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нициатива не наказуема»: поддержка предложений субъектов Р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нание – сила»: ресурсный центр и обмен информац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учше меньше, да лучше»: управляемость проек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овместными усилиями»: межрегиональные проек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Arial"/>
              </a:rPr>
              <a:t>Основные направления поддержки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ный центр по реформам госупр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реформ государственного управления в СЗФ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ение систем госуправления в регионах Юга Росс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региональный проект по отбору и оценке государственных служащ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Arial"/>
              </a:rPr>
              <a:t>Основные направления поддержки: Ресурсный центр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 в 2004 г. на средства ММР Великобритан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вая база данны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ческие материалы, разработки, российский и международный опы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orldbank.org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Arial"/>
              </a:rPr>
              <a:t>Основные направления поддержки: СЗФО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ст-фонд Финляндии на поддержку реформ госуправления в СЗФ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заявок субъектов СЗФ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поддерж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ональные обзоры (Коми, Мурманск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ие элементов стратегического планирования (Архангельск, Псков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информированности населения о государственных услугах (Псков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ние кадровых процедур в системе госслужбы (Коми, Псков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открытости органов власти (Архангельск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программ подготовки государственных и муниципальных служащих (Ком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региональная конференция (Псков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Arial"/>
              </a:rPr>
              <a:t>Основные направления поддержки: Юг России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ый подх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управления бюджет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ческое планирование и управление по результат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административного потенци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ение усилий доноров и правительственных струк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оприятия на уровне округа и Планы действий для отдельных субъектов Р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7:10:37Z</dcterms:created>
  <dc:creator>WB205384</dc:creator>
  <dc:description/>
  <cp:keywords/>
  <dc:language>en-US</dc:language>
  <cp:lastModifiedBy>WB205384</cp:lastModifiedBy>
  <dcterms:modified xsi:type="dcterms:W3CDTF">2005-10-14T18:12:13Z</dcterms:modified>
  <cp:revision>2</cp:revision>
  <dc:subject/>
  <dc:title>Всемирный банк: поддержка реформ государственного управления на региональном уровн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