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2"/>
          </p:nvPr>
        </p:nvSpPr>
        <p:spPr>
          <a:xfrm>
            <a:off x="38383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3"/>
          </p:nvPr>
        </p:nvSpPr>
        <p:spPr>
          <a:xfrm>
            <a:off x="-36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4"/>
          </p:nvPr>
        </p:nvSpPr>
        <p:spPr>
          <a:xfrm>
            <a:off x="38383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F92E-DF49-472D-A2D5-A7631AB4B2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 txBox="1"/>
          <p:nvPr/>
        </p:nvSpPr>
        <p:spPr>
          <a:xfrm>
            <a:off x="38383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0C8A-9D49-4B28-B3CC-9A57570E67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 txBox="1"/>
          <p:nvPr/>
        </p:nvSpPr>
        <p:spPr>
          <a:xfrm>
            <a:off x="-36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38383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"/>
          <p:cNvSpPr txBox="1"/>
          <p:nvPr/>
        </p:nvSpPr>
        <p:spPr>
          <a:xfrm>
            <a:off x="38383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4429-F9AE-4900-8133-889E25541D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 txBox="1"/>
          <p:nvPr/>
        </p:nvSpPr>
        <p:spPr>
          <a:xfrm>
            <a:off x="-36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38383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94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BE5AD-579F-41AA-A8DA-E25705A19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7476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CFD77-2A9D-4D2A-BC52-90B268C4A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200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747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747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87724-8DD2-4910-88B1-67303BBB0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200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200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747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747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747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103B-5C80-4EB8-A1D9-5CD7495A1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20024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0024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09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20024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47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20024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AA7C5-7E8A-4303-A64D-F5207A53F8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200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747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00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7476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7476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200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747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747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200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2002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747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747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7476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E680-6218-42EF-9EF8-9CDED3040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0024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72C1D-CE61-4E32-9689-E03AFE21E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B3A2D-0F5D-4F48-BBCA-F48A6782F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209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6AC53-D396-4853-8028-CF7A8B3EB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20024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47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E33EF-C3D6-4BFE-AC7F-4E664C15C8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00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7476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D29D6-B4EB-42C8-B12A-1F7EBE8B0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2002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476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C97FA-5854-4CD2-BCA4-7C504A57E8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0024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33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3300"/>
              </a:buClr>
              <a:buSzPct val="9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3300"/>
              </a:buClr>
              <a:buSzPct val="75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3300"/>
              </a:buClr>
              <a:buSzPct val="60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81520" y="228240"/>
            <a:ext cx="4971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54FE-2311-43C7-9F5B-07875A83B032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94000" rIns="216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476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94000" rIns="216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50920" y="6453360"/>
            <a:ext cx="1296720" cy="203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17080" y="6308640"/>
            <a:ext cx="466560" cy="4478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059280" y="6313320"/>
            <a:ext cx="1152360" cy="3556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1763640" y="6367320"/>
            <a:ext cx="1150920" cy="312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124000" y="6308640"/>
            <a:ext cx="792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ПРО-ИНВЕС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Консалтин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356000" y="6316560"/>
            <a:ext cx="3592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Настоящий отчет разработан на основании информации, предоставленной Администрацией Томской области, и никакая его часть не может быть воспроизведена или передана в какой бы то ни было форме и какими бы то ни было средствами, будь то электронные или механические, включая фотокопирование и запись на магнитный носитель, если на то нет письменного разрешения ООО «Стратегика» или Администрации Томской области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94000" rIns="216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728720" cy="2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95280" y="793800"/>
            <a:ext cx="1438200" cy="390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26920" y="765000"/>
            <a:ext cx="10810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-ИНВЕ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нсал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524720" y="476280"/>
            <a:ext cx="969840" cy="930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95280" y="1255680"/>
            <a:ext cx="1440000" cy="444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26920" y="6172200"/>
            <a:ext cx="746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стоящий отчет разработан на основании информации, предоставленной Администрацией Томской области, и никакая его часть не может быть воспроизведена или передана в какой бы то ни было форме и какими бы то ни было средствами, будь то электронные или механические, включая фотокопирование и запись на магнитный носитель, если на то нет письменного разрешения ООО «Стратегика» или Администрации Томской област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00"/>
              </a:spcBef>
              <a:buClr>
                <a:srgbClr val="003300"/>
              </a:buClr>
              <a:buSzPct val="9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249"/>
              </a:spcBef>
              <a:buClr>
                <a:srgbClr val="003300"/>
              </a:buClr>
              <a:buSzPct val="75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3300"/>
              </a:buClr>
              <a:buSzPct val="60000"/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работка стратегии развития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м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95640" y="5445000"/>
            <a:ext cx="496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ум лидеров стратегического план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тябрь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77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атегическая доктрина развития Томской области до 2020 года</a:t>
            </a:r>
            <a:br>
              <a:rPr sz="2800"/>
            </a:b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Краткое изложение)</a:t>
            </a: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6002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юль 200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зовы, стоящие перед Томской обла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395520" y="4412880"/>
            <a:ext cx="2544120" cy="888840"/>
            <a:chOff x="3395520" y="4412880"/>
            <a:chExt cx="2544120" cy="888840"/>
          </a:xfrm>
        </p:grpSpPr>
        <p:sp>
          <p:nvSpPr>
            <p:cNvPr id="263" name=""/>
            <p:cNvSpPr/>
            <p:nvPr/>
          </p:nvSpPr>
          <p:spPr>
            <a:xfrm flipH="1" flipV="1">
              <a:off x="5074920" y="4412520"/>
              <a:ext cx="864360" cy="888840"/>
            </a:xfrm>
            <a:custGeom>
              <a:avLst/>
              <a:gdLst/>
              <a:ahLst/>
              <a:rect l="l" t="t" r="r" b="b"/>
              <a:pathLst>
                <a:path w="590" h="586">
                  <a:moveTo>
                    <a:pt x="32" y="0"/>
                  </a:moveTo>
                  <a:cubicBezTo>
                    <a:pt x="32" y="0"/>
                    <a:pt x="260" y="58"/>
                    <a:pt x="530" y="428"/>
                  </a:cubicBezTo>
                  <a:cubicBezTo>
                    <a:pt x="560" y="411"/>
                    <a:pt x="590" y="394"/>
                    <a:pt x="590" y="394"/>
                  </a:cubicBezTo>
                  <a:lnTo>
                    <a:pt x="532" y="586"/>
                  </a:lnTo>
                  <a:lnTo>
                    <a:pt x="308" y="562"/>
                  </a:lnTo>
                  <a:cubicBezTo>
                    <a:pt x="308" y="562"/>
                    <a:pt x="340" y="543"/>
                    <a:pt x="372" y="524"/>
                  </a:cubicBezTo>
                  <a:cubicBezTo>
                    <a:pt x="190" y="306"/>
                    <a:pt x="0" y="278"/>
                    <a:pt x="0" y="278"/>
                  </a:cubicBezTo>
                </a:path>
              </a:pathLst>
            </a:custGeom>
            <a:solidFill>
              <a:srgbClr val="99ccff"/>
            </a:solidFill>
            <a:ln w="0">
              <a:noFill/>
            </a:ln>
            <a:effectLst>
              <a:outerShdw dist="17819" dir="2700000" blurRad="0" rotWithShape="0">
                <a:srgbClr val="5b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395520" y="4412520"/>
              <a:ext cx="864720" cy="888840"/>
            </a:xfrm>
            <a:custGeom>
              <a:avLst/>
              <a:gdLst/>
              <a:ahLst/>
              <a:rect l="l" t="t" r="r" b="b"/>
              <a:pathLst>
                <a:path w="590" h="586">
                  <a:moveTo>
                    <a:pt x="32" y="0"/>
                  </a:moveTo>
                  <a:cubicBezTo>
                    <a:pt x="32" y="0"/>
                    <a:pt x="260" y="58"/>
                    <a:pt x="530" y="428"/>
                  </a:cubicBezTo>
                  <a:cubicBezTo>
                    <a:pt x="560" y="411"/>
                    <a:pt x="590" y="394"/>
                    <a:pt x="590" y="394"/>
                  </a:cubicBezTo>
                  <a:lnTo>
                    <a:pt x="532" y="586"/>
                  </a:lnTo>
                  <a:lnTo>
                    <a:pt x="308" y="562"/>
                  </a:lnTo>
                  <a:cubicBezTo>
                    <a:pt x="308" y="562"/>
                    <a:pt x="340" y="543"/>
                    <a:pt x="372" y="524"/>
                  </a:cubicBezTo>
                  <a:cubicBezTo>
                    <a:pt x="190" y="306"/>
                    <a:pt x="0" y="278"/>
                    <a:pt x="0" y="278"/>
                  </a:cubicBezTo>
                </a:path>
              </a:pathLst>
            </a:custGeom>
            <a:solidFill>
              <a:srgbClr val="99ccff"/>
            </a:solidFill>
            <a:ln w="0">
              <a:noFill/>
            </a:ln>
            <a:effectLst>
              <a:outerShdw dist="17819" dir="2700000" blurRad="0" rotWithShape="0">
                <a:srgbClr val="5b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3395520" y="2057400"/>
            <a:ext cx="2544120" cy="887400"/>
            <a:chOff x="3395520" y="2057400"/>
            <a:chExt cx="2544120" cy="887400"/>
          </a:xfrm>
        </p:grpSpPr>
        <p:sp>
          <p:nvSpPr>
            <p:cNvPr id="266" name=""/>
            <p:cNvSpPr/>
            <p:nvPr/>
          </p:nvSpPr>
          <p:spPr>
            <a:xfrm flipH="1">
              <a:off x="5074920" y="2057400"/>
              <a:ext cx="864360" cy="887400"/>
            </a:xfrm>
            <a:custGeom>
              <a:avLst/>
              <a:gdLst/>
              <a:ahLst/>
              <a:rect l="l" t="t" r="r" b="b"/>
              <a:pathLst>
                <a:path w="590" h="586">
                  <a:moveTo>
                    <a:pt x="32" y="0"/>
                  </a:moveTo>
                  <a:cubicBezTo>
                    <a:pt x="32" y="0"/>
                    <a:pt x="260" y="58"/>
                    <a:pt x="530" y="428"/>
                  </a:cubicBezTo>
                  <a:cubicBezTo>
                    <a:pt x="560" y="411"/>
                    <a:pt x="590" y="394"/>
                    <a:pt x="590" y="394"/>
                  </a:cubicBezTo>
                  <a:lnTo>
                    <a:pt x="532" y="586"/>
                  </a:lnTo>
                  <a:lnTo>
                    <a:pt x="308" y="562"/>
                  </a:lnTo>
                  <a:cubicBezTo>
                    <a:pt x="308" y="562"/>
                    <a:pt x="340" y="543"/>
                    <a:pt x="372" y="524"/>
                  </a:cubicBezTo>
                  <a:cubicBezTo>
                    <a:pt x="190" y="306"/>
                    <a:pt x="0" y="278"/>
                    <a:pt x="0" y="278"/>
                  </a:cubicBezTo>
                </a:path>
              </a:pathLst>
            </a:custGeom>
            <a:solidFill>
              <a:srgbClr val="99ccff"/>
            </a:solidFill>
            <a:ln w="0">
              <a:noFill/>
            </a:ln>
            <a:effectLst>
              <a:outerShdw dist="17819" dir="2700000" blurRad="0" rotWithShape="0">
                <a:srgbClr val="5b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95520" y="2057400"/>
              <a:ext cx="864720" cy="887400"/>
            </a:xfrm>
            <a:custGeom>
              <a:avLst/>
              <a:gdLst/>
              <a:ahLst/>
              <a:rect l="l" t="t" r="r" b="b"/>
              <a:pathLst>
                <a:path w="590" h="586">
                  <a:moveTo>
                    <a:pt x="32" y="0"/>
                  </a:moveTo>
                  <a:cubicBezTo>
                    <a:pt x="32" y="0"/>
                    <a:pt x="260" y="58"/>
                    <a:pt x="530" y="428"/>
                  </a:cubicBezTo>
                  <a:cubicBezTo>
                    <a:pt x="560" y="411"/>
                    <a:pt x="590" y="394"/>
                    <a:pt x="590" y="394"/>
                  </a:cubicBezTo>
                  <a:lnTo>
                    <a:pt x="532" y="586"/>
                  </a:lnTo>
                  <a:lnTo>
                    <a:pt x="308" y="562"/>
                  </a:lnTo>
                  <a:cubicBezTo>
                    <a:pt x="308" y="562"/>
                    <a:pt x="340" y="543"/>
                    <a:pt x="372" y="524"/>
                  </a:cubicBezTo>
                  <a:cubicBezTo>
                    <a:pt x="190" y="306"/>
                    <a:pt x="0" y="278"/>
                    <a:pt x="0" y="278"/>
                  </a:cubicBezTo>
                </a:path>
              </a:pathLst>
            </a:custGeom>
            <a:solidFill>
              <a:srgbClr val="99ccff"/>
            </a:solidFill>
            <a:ln w="0">
              <a:noFill/>
            </a:ln>
            <a:effectLst>
              <a:outerShdw dist="17819" dir="2700000" blurRad="0" rotWithShape="0">
                <a:srgbClr val="5b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932040" y="1430280"/>
            <a:ext cx="2796840" cy="1819440"/>
          </a:xfrm>
          <a:prstGeom prst="rect">
            <a:avLst/>
          </a:prstGeom>
          <a:solidFill>
            <a:srgbClr val="f3fa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marL="190440" indent="-1904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растание роли нематериальных активов в эпоху экономики зн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83240" y="1430280"/>
            <a:ext cx="2798640" cy="1819440"/>
          </a:xfrm>
          <a:prstGeom prst="rect">
            <a:avLst/>
          </a:prstGeom>
          <a:solidFill>
            <a:srgbClr val="f3fa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marL="190440" indent="-1904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обализация эконом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32040" y="4049640"/>
            <a:ext cx="2796840" cy="1817640"/>
          </a:xfrm>
          <a:prstGeom prst="rect">
            <a:avLst/>
          </a:prstGeom>
          <a:solidFill>
            <a:srgbClr val="f3fa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marL="190440" indent="-1904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висимость благополучия Томской области от высоких цен на энергоноси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83240" y="4049640"/>
            <a:ext cx="2798640" cy="1817640"/>
          </a:xfrm>
          <a:prstGeom prst="rect">
            <a:avLst/>
          </a:prstGeom>
          <a:solidFill>
            <a:srgbClr val="f3fa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marL="190440" indent="-1904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пределенность экономической и региональной политики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35360" y="2795760"/>
            <a:ext cx="1817640" cy="1715760"/>
          </a:xfrm>
          <a:custGeom>
            <a:avLst/>
            <a:gdLst>
              <a:gd name="textAreaLeft" fmla="*/ 408960 w 1817640"/>
              <a:gd name="textAreaRight" fmla="*/ 1408680 w 1817640"/>
              <a:gd name="textAreaTop" fmla="*/ 386280 h 1715760"/>
              <a:gd name="textAreaBottom" fmla="*/ 1329480 h 1715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67" y="11823"/>
                </a:lnTo>
                <a:lnTo>
                  <a:pt x="368" y="13595"/>
                </a:lnTo>
                <a:lnTo>
                  <a:pt x="3015" y="13945"/>
                </a:lnTo>
                <a:lnTo>
                  <a:pt x="1447" y="16200"/>
                </a:lnTo>
                <a:lnTo>
                  <a:pt x="4095" y="15853"/>
                </a:lnTo>
                <a:lnTo>
                  <a:pt x="3163" y="18437"/>
                </a:lnTo>
                <a:lnTo>
                  <a:pt x="5631" y="17416"/>
                </a:lnTo>
                <a:lnTo>
                  <a:pt x="5400" y="20153"/>
                </a:lnTo>
                <a:lnTo>
                  <a:pt x="7519" y="18529"/>
                </a:lnTo>
                <a:lnTo>
                  <a:pt x="8005" y="21232"/>
                </a:lnTo>
                <a:lnTo>
                  <a:pt x="9632" y="19114"/>
                </a:lnTo>
                <a:lnTo>
                  <a:pt x="10800" y="21600"/>
                </a:lnTo>
                <a:lnTo>
                  <a:pt x="11823" y="19133"/>
                </a:lnTo>
                <a:lnTo>
                  <a:pt x="13595" y="21232"/>
                </a:lnTo>
                <a:lnTo>
                  <a:pt x="13945" y="18585"/>
                </a:lnTo>
                <a:lnTo>
                  <a:pt x="16200" y="20153"/>
                </a:lnTo>
                <a:lnTo>
                  <a:pt x="15853" y="17505"/>
                </a:lnTo>
                <a:lnTo>
                  <a:pt x="18437" y="18437"/>
                </a:lnTo>
                <a:lnTo>
                  <a:pt x="17416" y="15969"/>
                </a:lnTo>
                <a:lnTo>
                  <a:pt x="20153" y="16200"/>
                </a:lnTo>
                <a:lnTo>
                  <a:pt x="18529" y="14081"/>
                </a:lnTo>
                <a:lnTo>
                  <a:pt x="21232" y="13595"/>
                </a:lnTo>
                <a:lnTo>
                  <a:pt x="19114" y="11968"/>
                </a:lnTo>
                <a:lnTo>
                  <a:pt x="21600" y="10800"/>
                </a:lnTo>
                <a:lnTo>
                  <a:pt x="19133" y="9777"/>
                </a:lnTo>
                <a:lnTo>
                  <a:pt x="21232" y="8005"/>
                </a:lnTo>
                <a:lnTo>
                  <a:pt x="18585" y="7655"/>
                </a:lnTo>
                <a:lnTo>
                  <a:pt x="20153" y="5400"/>
                </a:lnTo>
                <a:lnTo>
                  <a:pt x="17505" y="5747"/>
                </a:lnTo>
                <a:lnTo>
                  <a:pt x="18437" y="3163"/>
                </a:lnTo>
                <a:lnTo>
                  <a:pt x="15969" y="4184"/>
                </a:lnTo>
                <a:lnTo>
                  <a:pt x="16200" y="1447"/>
                </a:lnTo>
                <a:lnTo>
                  <a:pt x="14081" y="3071"/>
                </a:lnTo>
                <a:lnTo>
                  <a:pt x="13595" y="368"/>
                </a:lnTo>
                <a:lnTo>
                  <a:pt x="11968" y="2486"/>
                </a:lnTo>
                <a:lnTo>
                  <a:pt x="10800" y="0"/>
                </a:lnTo>
                <a:lnTo>
                  <a:pt x="9777" y="2467"/>
                </a:lnTo>
                <a:lnTo>
                  <a:pt x="8005" y="368"/>
                </a:lnTo>
                <a:lnTo>
                  <a:pt x="7655" y="3015"/>
                </a:lnTo>
                <a:lnTo>
                  <a:pt x="5400" y="1447"/>
                </a:lnTo>
                <a:lnTo>
                  <a:pt x="5747" y="4095"/>
                </a:lnTo>
                <a:lnTo>
                  <a:pt x="3163" y="3163"/>
                </a:lnTo>
                <a:lnTo>
                  <a:pt x="4184" y="5631"/>
                </a:lnTo>
                <a:lnTo>
                  <a:pt x="1447" y="5400"/>
                </a:lnTo>
                <a:lnTo>
                  <a:pt x="3071" y="7519"/>
                </a:lnTo>
                <a:lnTo>
                  <a:pt x="368" y="8005"/>
                </a:lnTo>
                <a:lnTo>
                  <a:pt x="2486" y="96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зовы Том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A2BC-2920-465E-84A7-D5A2BA54C7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ючевые проблемы Том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290760" y="4324320"/>
            <a:ext cx="2544120" cy="889200"/>
            <a:chOff x="3290760" y="4324320"/>
            <a:chExt cx="2544120" cy="889200"/>
          </a:xfrm>
        </p:grpSpPr>
        <p:sp>
          <p:nvSpPr>
            <p:cNvPr id="275" name=""/>
            <p:cNvSpPr/>
            <p:nvPr/>
          </p:nvSpPr>
          <p:spPr>
            <a:xfrm flipH="1" flipV="1">
              <a:off x="4970160" y="4324320"/>
              <a:ext cx="864360" cy="889200"/>
            </a:xfrm>
            <a:custGeom>
              <a:avLst/>
              <a:gdLst/>
              <a:ahLst/>
              <a:rect l="l" t="t" r="r" b="b"/>
              <a:pathLst>
                <a:path w="590" h="586">
                  <a:moveTo>
                    <a:pt x="32" y="0"/>
                  </a:moveTo>
                  <a:cubicBezTo>
                    <a:pt x="32" y="0"/>
                    <a:pt x="260" y="58"/>
                    <a:pt x="530" y="428"/>
                  </a:cubicBezTo>
                  <a:cubicBezTo>
                    <a:pt x="560" y="411"/>
                    <a:pt x="590" y="394"/>
                    <a:pt x="590" y="394"/>
                  </a:cubicBezTo>
                  <a:lnTo>
                    <a:pt x="532" y="586"/>
                  </a:lnTo>
                  <a:lnTo>
                    <a:pt x="308" y="562"/>
                  </a:lnTo>
                  <a:cubicBezTo>
                    <a:pt x="308" y="562"/>
                    <a:pt x="340" y="543"/>
                    <a:pt x="372" y="524"/>
                  </a:cubicBezTo>
                  <a:cubicBezTo>
                    <a:pt x="190" y="306"/>
                    <a:pt x="0" y="278"/>
                    <a:pt x="0" y="278"/>
                  </a:cubicBezTo>
                </a:path>
              </a:pathLst>
            </a:custGeom>
            <a:solidFill>
              <a:srgbClr val="99ccff"/>
            </a:solidFill>
            <a:ln w="0">
              <a:noFill/>
            </a:ln>
            <a:effectLst>
              <a:outerShdw dist="17819" dir="2700000" blurRad="0" rotWithShape="0">
                <a:srgbClr val="5b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290760" y="4324320"/>
              <a:ext cx="864720" cy="889200"/>
            </a:xfrm>
            <a:custGeom>
              <a:avLst/>
              <a:gdLst/>
              <a:ahLst/>
              <a:rect l="l" t="t" r="r" b="b"/>
              <a:pathLst>
                <a:path w="590" h="586">
                  <a:moveTo>
                    <a:pt x="32" y="0"/>
                  </a:moveTo>
                  <a:cubicBezTo>
                    <a:pt x="32" y="0"/>
                    <a:pt x="260" y="58"/>
                    <a:pt x="530" y="428"/>
                  </a:cubicBezTo>
                  <a:cubicBezTo>
                    <a:pt x="560" y="411"/>
                    <a:pt x="590" y="394"/>
                    <a:pt x="590" y="394"/>
                  </a:cubicBezTo>
                  <a:lnTo>
                    <a:pt x="532" y="586"/>
                  </a:lnTo>
                  <a:lnTo>
                    <a:pt x="308" y="562"/>
                  </a:lnTo>
                  <a:cubicBezTo>
                    <a:pt x="308" y="562"/>
                    <a:pt x="340" y="543"/>
                    <a:pt x="372" y="524"/>
                  </a:cubicBezTo>
                  <a:cubicBezTo>
                    <a:pt x="190" y="306"/>
                    <a:pt x="0" y="278"/>
                    <a:pt x="0" y="278"/>
                  </a:cubicBezTo>
                </a:path>
              </a:pathLst>
            </a:custGeom>
            <a:solidFill>
              <a:srgbClr val="99ccff"/>
            </a:solidFill>
            <a:ln w="0">
              <a:noFill/>
            </a:ln>
            <a:effectLst>
              <a:outerShdw dist="17819" dir="2700000" blurRad="0" rotWithShape="0">
                <a:srgbClr val="5b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290760" y="1968480"/>
            <a:ext cx="2544120" cy="887400"/>
            <a:chOff x="3290760" y="1968480"/>
            <a:chExt cx="2544120" cy="887400"/>
          </a:xfrm>
        </p:grpSpPr>
        <p:sp>
          <p:nvSpPr>
            <p:cNvPr id="278" name=""/>
            <p:cNvSpPr/>
            <p:nvPr/>
          </p:nvSpPr>
          <p:spPr>
            <a:xfrm flipH="1">
              <a:off x="4970160" y="1968480"/>
              <a:ext cx="864360" cy="887400"/>
            </a:xfrm>
            <a:custGeom>
              <a:avLst/>
              <a:gdLst/>
              <a:ahLst/>
              <a:rect l="l" t="t" r="r" b="b"/>
              <a:pathLst>
                <a:path w="590" h="586">
                  <a:moveTo>
                    <a:pt x="32" y="0"/>
                  </a:moveTo>
                  <a:cubicBezTo>
                    <a:pt x="32" y="0"/>
                    <a:pt x="260" y="58"/>
                    <a:pt x="530" y="428"/>
                  </a:cubicBezTo>
                  <a:cubicBezTo>
                    <a:pt x="560" y="411"/>
                    <a:pt x="590" y="394"/>
                    <a:pt x="590" y="394"/>
                  </a:cubicBezTo>
                  <a:lnTo>
                    <a:pt x="532" y="586"/>
                  </a:lnTo>
                  <a:lnTo>
                    <a:pt x="308" y="562"/>
                  </a:lnTo>
                  <a:cubicBezTo>
                    <a:pt x="308" y="562"/>
                    <a:pt x="340" y="543"/>
                    <a:pt x="372" y="524"/>
                  </a:cubicBezTo>
                  <a:cubicBezTo>
                    <a:pt x="190" y="306"/>
                    <a:pt x="0" y="278"/>
                    <a:pt x="0" y="278"/>
                  </a:cubicBezTo>
                </a:path>
              </a:pathLst>
            </a:custGeom>
            <a:solidFill>
              <a:srgbClr val="99ccff"/>
            </a:solidFill>
            <a:ln w="0">
              <a:noFill/>
            </a:ln>
            <a:effectLst>
              <a:outerShdw dist="17819" dir="2700000" blurRad="0" rotWithShape="0">
                <a:srgbClr val="5b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90760" y="1968480"/>
              <a:ext cx="864720" cy="887400"/>
            </a:xfrm>
            <a:custGeom>
              <a:avLst/>
              <a:gdLst/>
              <a:ahLst/>
              <a:rect l="l" t="t" r="r" b="b"/>
              <a:pathLst>
                <a:path w="590" h="586">
                  <a:moveTo>
                    <a:pt x="32" y="0"/>
                  </a:moveTo>
                  <a:cubicBezTo>
                    <a:pt x="32" y="0"/>
                    <a:pt x="260" y="58"/>
                    <a:pt x="530" y="428"/>
                  </a:cubicBezTo>
                  <a:cubicBezTo>
                    <a:pt x="560" y="411"/>
                    <a:pt x="590" y="394"/>
                    <a:pt x="590" y="394"/>
                  </a:cubicBezTo>
                  <a:lnTo>
                    <a:pt x="532" y="586"/>
                  </a:lnTo>
                  <a:lnTo>
                    <a:pt x="308" y="562"/>
                  </a:lnTo>
                  <a:cubicBezTo>
                    <a:pt x="308" y="562"/>
                    <a:pt x="340" y="543"/>
                    <a:pt x="372" y="524"/>
                  </a:cubicBezTo>
                  <a:cubicBezTo>
                    <a:pt x="190" y="306"/>
                    <a:pt x="0" y="278"/>
                    <a:pt x="0" y="278"/>
                  </a:cubicBezTo>
                </a:path>
              </a:pathLst>
            </a:custGeom>
            <a:solidFill>
              <a:srgbClr val="99ccff"/>
            </a:solidFill>
            <a:ln w="0">
              <a:noFill/>
            </a:ln>
            <a:effectLst>
              <a:outerShdw dist="17819" dir="2700000" blurRad="0" rotWithShape="0">
                <a:srgbClr val="5b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826920" y="1341360"/>
            <a:ext cx="2797200" cy="1819440"/>
          </a:xfrm>
          <a:prstGeom prst="rect">
            <a:avLst/>
          </a:prstGeom>
          <a:solidFill>
            <a:srgbClr val="f3fa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marL="190440" indent="-1904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зкий уровень доходов нас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78480" y="1341360"/>
            <a:ext cx="2798640" cy="1819440"/>
          </a:xfrm>
          <a:prstGeom prst="rect">
            <a:avLst/>
          </a:prstGeom>
          <a:solidFill>
            <a:srgbClr val="f3fa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marL="190440" indent="-1904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граниченный доступ к капитал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26920" y="3960720"/>
            <a:ext cx="2797200" cy="1817640"/>
          </a:xfrm>
          <a:prstGeom prst="rect">
            <a:avLst/>
          </a:prstGeom>
          <a:solidFill>
            <a:srgbClr val="f3fa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marL="190440" indent="-1904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ографическая удаленность и неразвитая транспортная инфра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78480" y="3960720"/>
            <a:ext cx="2798640" cy="1817640"/>
          </a:xfrm>
          <a:prstGeom prst="rect">
            <a:avLst/>
          </a:prstGeom>
          <a:solidFill>
            <a:srgbClr val="f3fa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marL="190440" indent="-1904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инирование топливного сектора в структуре экономики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59240" y="2706840"/>
            <a:ext cx="2160360" cy="1715760"/>
          </a:xfrm>
          <a:custGeom>
            <a:avLst/>
            <a:gdLst>
              <a:gd name="textAreaLeft" fmla="*/ 486360 w 2160360"/>
              <a:gd name="textAreaRight" fmla="*/ 1674000 w 2160360"/>
              <a:gd name="textAreaTop" fmla="*/ 386280 h 1715760"/>
              <a:gd name="textAreaBottom" fmla="*/ 1329480 h 1715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67" y="11823"/>
                </a:lnTo>
                <a:lnTo>
                  <a:pt x="368" y="13595"/>
                </a:lnTo>
                <a:lnTo>
                  <a:pt x="3015" y="13945"/>
                </a:lnTo>
                <a:lnTo>
                  <a:pt x="1447" y="16200"/>
                </a:lnTo>
                <a:lnTo>
                  <a:pt x="4095" y="15853"/>
                </a:lnTo>
                <a:lnTo>
                  <a:pt x="3163" y="18437"/>
                </a:lnTo>
                <a:lnTo>
                  <a:pt x="5631" y="17416"/>
                </a:lnTo>
                <a:lnTo>
                  <a:pt x="5400" y="20153"/>
                </a:lnTo>
                <a:lnTo>
                  <a:pt x="7519" y="18529"/>
                </a:lnTo>
                <a:lnTo>
                  <a:pt x="8005" y="21232"/>
                </a:lnTo>
                <a:lnTo>
                  <a:pt x="9632" y="19114"/>
                </a:lnTo>
                <a:lnTo>
                  <a:pt x="10800" y="21600"/>
                </a:lnTo>
                <a:lnTo>
                  <a:pt x="11823" y="19133"/>
                </a:lnTo>
                <a:lnTo>
                  <a:pt x="13595" y="21232"/>
                </a:lnTo>
                <a:lnTo>
                  <a:pt x="13945" y="18585"/>
                </a:lnTo>
                <a:lnTo>
                  <a:pt x="16200" y="20153"/>
                </a:lnTo>
                <a:lnTo>
                  <a:pt x="15853" y="17505"/>
                </a:lnTo>
                <a:lnTo>
                  <a:pt x="18437" y="18437"/>
                </a:lnTo>
                <a:lnTo>
                  <a:pt x="17416" y="15969"/>
                </a:lnTo>
                <a:lnTo>
                  <a:pt x="20153" y="16200"/>
                </a:lnTo>
                <a:lnTo>
                  <a:pt x="18529" y="14081"/>
                </a:lnTo>
                <a:lnTo>
                  <a:pt x="21232" y="13595"/>
                </a:lnTo>
                <a:lnTo>
                  <a:pt x="19114" y="11968"/>
                </a:lnTo>
                <a:lnTo>
                  <a:pt x="21600" y="10800"/>
                </a:lnTo>
                <a:lnTo>
                  <a:pt x="19133" y="9777"/>
                </a:lnTo>
                <a:lnTo>
                  <a:pt x="21232" y="8005"/>
                </a:lnTo>
                <a:lnTo>
                  <a:pt x="18585" y="7655"/>
                </a:lnTo>
                <a:lnTo>
                  <a:pt x="20153" y="5400"/>
                </a:lnTo>
                <a:lnTo>
                  <a:pt x="17505" y="5747"/>
                </a:lnTo>
                <a:lnTo>
                  <a:pt x="18437" y="3163"/>
                </a:lnTo>
                <a:lnTo>
                  <a:pt x="15969" y="4184"/>
                </a:lnTo>
                <a:lnTo>
                  <a:pt x="16200" y="1447"/>
                </a:lnTo>
                <a:lnTo>
                  <a:pt x="14081" y="3071"/>
                </a:lnTo>
                <a:lnTo>
                  <a:pt x="13595" y="368"/>
                </a:lnTo>
                <a:lnTo>
                  <a:pt x="11968" y="2486"/>
                </a:lnTo>
                <a:lnTo>
                  <a:pt x="10800" y="0"/>
                </a:lnTo>
                <a:lnTo>
                  <a:pt x="9777" y="2467"/>
                </a:lnTo>
                <a:lnTo>
                  <a:pt x="8005" y="368"/>
                </a:lnTo>
                <a:lnTo>
                  <a:pt x="7655" y="3015"/>
                </a:lnTo>
                <a:lnTo>
                  <a:pt x="5400" y="1447"/>
                </a:lnTo>
                <a:lnTo>
                  <a:pt x="5747" y="4095"/>
                </a:lnTo>
                <a:lnTo>
                  <a:pt x="3163" y="3163"/>
                </a:lnTo>
                <a:lnTo>
                  <a:pt x="4184" y="5631"/>
                </a:lnTo>
                <a:lnTo>
                  <a:pt x="1447" y="5400"/>
                </a:lnTo>
                <a:lnTo>
                  <a:pt x="3071" y="7519"/>
                </a:lnTo>
                <a:lnTo>
                  <a:pt x="368" y="8005"/>
                </a:lnTo>
                <a:lnTo>
                  <a:pt x="2486" y="96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блемы Том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3CD01-00DA-4F27-86D2-81B7878668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курентные преимущества Томской области  - основа для процветания в будущ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395520" y="1824120"/>
            <a:ext cx="2544120" cy="887400"/>
            <a:chOff x="3395520" y="1824120"/>
            <a:chExt cx="2544120" cy="887400"/>
          </a:xfrm>
        </p:grpSpPr>
        <p:sp>
          <p:nvSpPr>
            <p:cNvPr id="287" name=""/>
            <p:cNvSpPr/>
            <p:nvPr/>
          </p:nvSpPr>
          <p:spPr>
            <a:xfrm flipH="1">
              <a:off x="5074920" y="1824120"/>
              <a:ext cx="864360" cy="887400"/>
            </a:xfrm>
            <a:custGeom>
              <a:avLst/>
              <a:gdLst/>
              <a:ahLst/>
              <a:rect l="l" t="t" r="r" b="b"/>
              <a:pathLst>
                <a:path w="590" h="586">
                  <a:moveTo>
                    <a:pt x="32" y="0"/>
                  </a:moveTo>
                  <a:cubicBezTo>
                    <a:pt x="32" y="0"/>
                    <a:pt x="260" y="58"/>
                    <a:pt x="530" y="428"/>
                  </a:cubicBezTo>
                  <a:cubicBezTo>
                    <a:pt x="560" y="411"/>
                    <a:pt x="590" y="394"/>
                    <a:pt x="590" y="394"/>
                  </a:cubicBezTo>
                  <a:lnTo>
                    <a:pt x="532" y="586"/>
                  </a:lnTo>
                  <a:lnTo>
                    <a:pt x="308" y="562"/>
                  </a:lnTo>
                  <a:cubicBezTo>
                    <a:pt x="308" y="562"/>
                    <a:pt x="340" y="543"/>
                    <a:pt x="372" y="524"/>
                  </a:cubicBezTo>
                  <a:cubicBezTo>
                    <a:pt x="190" y="306"/>
                    <a:pt x="0" y="278"/>
                    <a:pt x="0" y="278"/>
                  </a:cubicBezTo>
                </a:path>
              </a:pathLst>
            </a:custGeom>
            <a:solidFill>
              <a:srgbClr val="99ccff"/>
            </a:solidFill>
            <a:ln w="0">
              <a:noFill/>
            </a:ln>
            <a:effectLst>
              <a:outerShdw dist="17819" dir="2700000" blurRad="0" rotWithShape="0">
                <a:srgbClr val="5b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395520" y="1824120"/>
              <a:ext cx="864720" cy="887400"/>
            </a:xfrm>
            <a:custGeom>
              <a:avLst/>
              <a:gdLst/>
              <a:ahLst/>
              <a:rect l="l" t="t" r="r" b="b"/>
              <a:pathLst>
                <a:path w="590" h="586">
                  <a:moveTo>
                    <a:pt x="32" y="0"/>
                  </a:moveTo>
                  <a:cubicBezTo>
                    <a:pt x="32" y="0"/>
                    <a:pt x="260" y="58"/>
                    <a:pt x="530" y="428"/>
                  </a:cubicBezTo>
                  <a:cubicBezTo>
                    <a:pt x="560" y="411"/>
                    <a:pt x="590" y="394"/>
                    <a:pt x="590" y="394"/>
                  </a:cubicBezTo>
                  <a:lnTo>
                    <a:pt x="532" y="586"/>
                  </a:lnTo>
                  <a:lnTo>
                    <a:pt x="308" y="562"/>
                  </a:lnTo>
                  <a:cubicBezTo>
                    <a:pt x="308" y="562"/>
                    <a:pt x="340" y="543"/>
                    <a:pt x="372" y="524"/>
                  </a:cubicBezTo>
                  <a:cubicBezTo>
                    <a:pt x="190" y="306"/>
                    <a:pt x="0" y="278"/>
                    <a:pt x="0" y="278"/>
                  </a:cubicBezTo>
                </a:path>
              </a:pathLst>
            </a:custGeom>
            <a:solidFill>
              <a:srgbClr val="99ccff"/>
            </a:solidFill>
            <a:ln w="0">
              <a:noFill/>
            </a:ln>
            <a:effectLst>
              <a:outerShdw dist="17819" dir="2700000" blurRad="0" rotWithShape="0">
                <a:srgbClr val="5b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932040" y="1413000"/>
            <a:ext cx="2796840" cy="1439640"/>
          </a:xfrm>
          <a:prstGeom prst="rect">
            <a:avLst/>
          </a:prstGeom>
          <a:solidFill>
            <a:srgbClr val="f3fa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marL="190440" indent="-1904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ый научно-образовательный комплек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583240" y="1413000"/>
            <a:ext cx="2798640" cy="1511280"/>
          </a:xfrm>
          <a:prstGeom prst="rect">
            <a:avLst/>
          </a:prstGeom>
          <a:solidFill>
            <a:srgbClr val="f3fa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marL="190440" indent="-1904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чественный человеческий капит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635280" y="2563920"/>
            <a:ext cx="1989360" cy="1716120"/>
          </a:xfrm>
          <a:custGeom>
            <a:avLst/>
            <a:gdLst>
              <a:gd name="textAreaLeft" fmla="*/ 447840 w 1989360"/>
              <a:gd name="textAreaRight" fmla="*/ 1541520 w 1989360"/>
              <a:gd name="textAreaTop" fmla="*/ 386280 h 1716120"/>
              <a:gd name="textAreaBottom" fmla="*/ 1329840 h 1716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67" y="11823"/>
                </a:lnTo>
                <a:lnTo>
                  <a:pt x="368" y="13595"/>
                </a:lnTo>
                <a:lnTo>
                  <a:pt x="3015" y="13945"/>
                </a:lnTo>
                <a:lnTo>
                  <a:pt x="1447" y="16200"/>
                </a:lnTo>
                <a:lnTo>
                  <a:pt x="4095" y="15853"/>
                </a:lnTo>
                <a:lnTo>
                  <a:pt x="3163" y="18437"/>
                </a:lnTo>
                <a:lnTo>
                  <a:pt x="5631" y="17416"/>
                </a:lnTo>
                <a:lnTo>
                  <a:pt x="5400" y="20153"/>
                </a:lnTo>
                <a:lnTo>
                  <a:pt x="7519" y="18529"/>
                </a:lnTo>
                <a:lnTo>
                  <a:pt x="8005" y="21232"/>
                </a:lnTo>
                <a:lnTo>
                  <a:pt x="9632" y="19114"/>
                </a:lnTo>
                <a:lnTo>
                  <a:pt x="10800" y="21600"/>
                </a:lnTo>
                <a:lnTo>
                  <a:pt x="11823" y="19133"/>
                </a:lnTo>
                <a:lnTo>
                  <a:pt x="13595" y="21232"/>
                </a:lnTo>
                <a:lnTo>
                  <a:pt x="13945" y="18585"/>
                </a:lnTo>
                <a:lnTo>
                  <a:pt x="16200" y="20153"/>
                </a:lnTo>
                <a:lnTo>
                  <a:pt x="15853" y="17505"/>
                </a:lnTo>
                <a:lnTo>
                  <a:pt x="18437" y="18437"/>
                </a:lnTo>
                <a:lnTo>
                  <a:pt x="17416" y="15969"/>
                </a:lnTo>
                <a:lnTo>
                  <a:pt x="20153" y="16200"/>
                </a:lnTo>
                <a:lnTo>
                  <a:pt x="18529" y="14081"/>
                </a:lnTo>
                <a:lnTo>
                  <a:pt x="21232" y="13595"/>
                </a:lnTo>
                <a:lnTo>
                  <a:pt x="19114" y="11968"/>
                </a:lnTo>
                <a:lnTo>
                  <a:pt x="21600" y="10800"/>
                </a:lnTo>
                <a:lnTo>
                  <a:pt x="19133" y="9777"/>
                </a:lnTo>
                <a:lnTo>
                  <a:pt x="21232" y="8005"/>
                </a:lnTo>
                <a:lnTo>
                  <a:pt x="18585" y="7655"/>
                </a:lnTo>
                <a:lnTo>
                  <a:pt x="20153" y="5400"/>
                </a:lnTo>
                <a:lnTo>
                  <a:pt x="17505" y="5747"/>
                </a:lnTo>
                <a:lnTo>
                  <a:pt x="18437" y="3163"/>
                </a:lnTo>
                <a:lnTo>
                  <a:pt x="15969" y="4184"/>
                </a:lnTo>
                <a:lnTo>
                  <a:pt x="16200" y="1447"/>
                </a:lnTo>
                <a:lnTo>
                  <a:pt x="14081" y="3071"/>
                </a:lnTo>
                <a:lnTo>
                  <a:pt x="13595" y="368"/>
                </a:lnTo>
                <a:lnTo>
                  <a:pt x="11968" y="2486"/>
                </a:lnTo>
                <a:lnTo>
                  <a:pt x="10800" y="0"/>
                </a:lnTo>
                <a:lnTo>
                  <a:pt x="9777" y="2467"/>
                </a:lnTo>
                <a:lnTo>
                  <a:pt x="8005" y="368"/>
                </a:lnTo>
                <a:lnTo>
                  <a:pt x="7655" y="3015"/>
                </a:lnTo>
                <a:lnTo>
                  <a:pt x="5400" y="1447"/>
                </a:lnTo>
                <a:lnTo>
                  <a:pt x="5747" y="4095"/>
                </a:lnTo>
                <a:lnTo>
                  <a:pt x="3163" y="3163"/>
                </a:lnTo>
                <a:lnTo>
                  <a:pt x="4184" y="5631"/>
                </a:lnTo>
                <a:lnTo>
                  <a:pt x="1447" y="5400"/>
                </a:lnTo>
                <a:lnTo>
                  <a:pt x="3071" y="7519"/>
                </a:lnTo>
                <a:lnTo>
                  <a:pt x="368" y="8005"/>
                </a:lnTo>
                <a:lnTo>
                  <a:pt x="2486" y="96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лючевые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курентны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еиму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4292640"/>
            <a:ext cx="647640" cy="576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87880" y="4724280"/>
            <a:ext cx="2796840" cy="1152720"/>
          </a:xfrm>
          <a:prstGeom prst="rect">
            <a:avLst/>
          </a:prstGeom>
          <a:solidFill>
            <a:srgbClr val="f3fa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marL="190440" indent="-1904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гатые природные ресур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E5B73-7908-48AC-897A-8DB0A69470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дение (2020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2440" indent="-172440">
              <a:lnSpc>
                <a:spcPct val="90000"/>
              </a:lnSpc>
              <a:spcBef>
                <a:spcPts val="349"/>
              </a:spcBef>
              <a:buClr>
                <a:srgbClr val="0000cc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мская область - один из наиболее динамично развивающихся регионов России со средним уровнем доходов населения 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40 тыс. руб. в месяц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2440" indent="-172440">
              <a:lnSpc>
                <a:spcPct val="90000"/>
              </a:lnSpc>
              <a:spcBef>
                <a:spcPts val="349"/>
              </a:spcBef>
              <a:buClr>
                <a:srgbClr val="0000cc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Юге области, включая Томск, Северск и Томский район, сформировался мегаполис – «Центр знаний и инноваций», основу экономики которого составляет развитый научно-образовательный комплекс, высокотехнологичные и быстрорастущие компании, обеспечивающие производство продукции и услуг с высокой добавленной стоимостью, финансовый сектор и фирмы, оказывающие услуги для бизне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2440" indent="-172440">
              <a:lnSpc>
                <a:spcPct val="90000"/>
              </a:lnSpc>
              <a:spcBef>
                <a:spcPts val="349"/>
              </a:spcBef>
              <a:buClr>
                <a:srgbClr val="0000cc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вер области является ресурсной базой - «Источником сырья», где развита добыча нефти, газа, лесных ресурсов, руд и других полезных ископаемых.  При этом близлежащие к мегаполису районы, имеющие необходимый доступ к транспортной и энергетической инфраструктуре являются «Производственными площадками», на которых созданы высокопроизводительные производственные мощности, обеспечивающие переработку добываемых в области сырьевых и сельскохозяйственных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2440" indent="-172440">
              <a:lnSpc>
                <a:spcPct val="90000"/>
              </a:lnSpc>
              <a:spcBef>
                <a:spcPts val="349"/>
              </a:spcBef>
              <a:buClr>
                <a:srgbClr val="0000cc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ласть является активным участником международных экономических отношений. Высокая степень интернационализации, интенсивный обмен знаниями, людьми, продуктами и капиталами обеспечивает высокий уровень конкурентоспособности томских предприятий на международных рынках и привлекательность области для внешних и внутренних инвест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2440" indent="-172440">
              <a:lnSpc>
                <a:spcPct val="85000"/>
              </a:lnSpc>
              <a:spcBef>
                <a:spcPts val="349"/>
              </a:spcBef>
              <a:buClr>
                <a:srgbClr val="0000cc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мская область - одно из наиболее привлекательных в России мест для работы, отдыха и воспитания детей, предоставляющее своим жителям обширные возможности для самореализации и раскрытия творческого потенциала, включая лучшие карьерные возможности для наиболее одаренных, образованных и амбициозных людей. В области сформированы высокие стандарты и благоприятные условия для жизни, включая качество окружающей среды, уровень социального обеспечения, качественное образование и медицинское обслуживание, безопасность, а также развитую жилищно-коммунальную инфраструкту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5979960"/>
            <a:ext cx="46432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000 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д, в текущих цен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3AEAE-1615-4891-9C10-30D802BF58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284720" y="3467160"/>
            <a:ext cx="485640" cy="2160360"/>
          </a:xfrm>
          <a:prstGeom prst="upArrow">
            <a:avLst>
              <a:gd name="adj1" fmla="val 54898"/>
              <a:gd name="adj2" fmla="val 64070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 rot="21195000">
            <a:off x="5715720" y="3067200"/>
            <a:ext cx="1063800" cy="1153800"/>
          </a:xfrm>
          <a:custGeom>
            <a:avLst/>
            <a:gdLst/>
            <a:ahLst/>
            <a:rect l="l" t="t" r="r" b="b"/>
            <a:pathLst>
              <a:path w="133" h="135">
                <a:moveTo>
                  <a:pt x="0" y="135"/>
                </a:moveTo>
                <a:cubicBezTo>
                  <a:pt x="47" y="93"/>
                  <a:pt x="85" y="52"/>
                  <a:pt x="82" y="15"/>
                </a:cubicBezTo>
                <a:lnTo>
                  <a:pt x="66" y="15"/>
                </a:lnTo>
                <a:lnTo>
                  <a:pt x="99" y="0"/>
                </a:lnTo>
                <a:lnTo>
                  <a:pt x="133" y="15"/>
                </a:lnTo>
                <a:lnTo>
                  <a:pt x="116" y="15"/>
                </a:lnTo>
                <a:cubicBezTo>
                  <a:pt x="116" y="67"/>
                  <a:pt x="83" y="108"/>
                  <a:pt x="54" y="135"/>
                </a:cubicBezTo>
                <a:lnTo>
                  <a:pt x="0" y="13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rot="21385800">
            <a:off x="4671720" y="3042720"/>
            <a:ext cx="979560" cy="2473560"/>
          </a:xfrm>
          <a:custGeom>
            <a:avLst/>
            <a:gdLst/>
            <a:ahLst/>
            <a:rect l="l" t="t" r="r" b="b"/>
            <a:pathLst>
              <a:path w="133" h="135">
                <a:moveTo>
                  <a:pt x="0" y="135"/>
                </a:moveTo>
                <a:cubicBezTo>
                  <a:pt x="47" y="93"/>
                  <a:pt x="85" y="52"/>
                  <a:pt x="82" y="15"/>
                </a:cubicBezTo>
                <a:lnTo>
                  <a:pt x="66" y="15"/>
                </a:lnTo>
                <a:lnTo>
                  <a:pt x="99" y="0"/>
                </a:lnTo>
                <a:lnTo>
                  <a:pt x="133" y="15"/>
                </a:lnTo>
                <a:lnTo>
                  <a:pt x="116" y="15"/>
                </a:lnTo>
                <a:cubicBezTo>
                  <a:pt x="116" y="67"/>
                  <a:pt x="83" y="108"/>
                  <a:pt x="54" y="135"/>
                </a:cubicBezTo>
                <a:lnTo>
                  <a:pt x="0" y="13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19640" y="3068640"/>
            <a:ext cx="973080" cy="2376360"/>
          </a:xfrm>
          <a:custGeom>
            <a:avLst/>
            <a:gdLst/>
            <a:ahLst/>
            <a:rect l="l" t="t" r="r" b="b"/>
            <a:pathLst>
              <a:path w="133" h="135">
                <a:moveTo>
                  <a:pt x="0" y="135"/>
                </a:moveTo>
                <a:cubicBezTo>
                  <a:pt x="47" y="93"/>
                  <a:pt x="85" y="52"/>
                  <a:pt x="82" y="15"/>
                </a:cubicBezTo>
                <a:lnTo>
                  <a:pt x="66" y="15"/>
                </a:lnTo>
                <a:lnTo>
                  <a:pt x="99" y="0"/>
                </a:lnTo>
                <a:lnTo>
                  <a:pt x="133" y="15"/>
                </a:lnTo>
                <a:lnTo>
                  <a:pt x="116" y="15"/>
                </a:lnTo>
                <a:cubicBezTo>
                  <a:pt x="116" y="67"/>
                  <a:pt x="83" y="108"/>
                  <a:pt x="54" y="135"/>
                </a:cubicBezTo>
                <a:lnTo>
                  <a:pt x="0" y="13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rot="20758200">
            <a:off x="5250960" y="3003480"/>
            <a:ext cx="979560" cy="1944720"/>
          </a:xfrm>
          <a:custGeom>
            <a:avLst/>
            <a:gdLst/>
            <a:ahLst/>
            <a:rect l="l" t="t" r="r" b="b"/>
            <a:pathLst>
              <a:path w="133" h="135">
                <a:moveTo>
                  <a:pt x="0" y="135"/>
                </a:moveTo>
                <a:cubicBezTo>
                  <a:pt x="47" y="93"/>
                  <a:pt x="85" y="52"/>
                  <a:pt x="82" y="15"/>
                </a:cubicBezTo>
                <a:lnTo>
                  <a:pt x="66" y="15"/>
                </a:lnTo>
                <a:lnTo>
                  <a:pt x="99" y="0"/>
                </a:lnTo>
                <a:lnTo>
                  <a:pt x="133" y="15"/>
                </a:lnTo>
                <a:lnTo>
                  <a:pt x="116" y="15"/>
                </a:lnTo>
                <a:cubicBezTo>
                  <a:pt x="116" y="67"/>
                  <a:pt x="83" y="108"/>
                  <a:pt x="54" y="135"/>
                </a:cubicBezTo>
                <a:lnTo>
                  <a:pt x="0" y="13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731400">
            <a:off x="2860560" y="3002040"/>
            <a:ext cx="973080" cy="1944720"/>
          </a:xfrm>
          <a:custGeom>
            <a:avLst/>
            <a:gdLst/>
            <a:ahLst/>
            <a:rect l="l" t="t" r="r" b="b"/>
            <a:pathLst>
              <a:path w="133" h="135">
                <a:moveTo>
                  <a:pt x="0" y="135"/>
                </a:moveTo>
                <a:cubicBezTo>
                  <a:pt x="47" y="93"/>
                  <a:pt x="85" y="52"/>
                  <a:pt x="82" y="15"/>
                </a:cubicBezTo>
                <a:lnTo>
                  <a:pt x="66" y="15"/>
                </a:lnTo>
                <a:lnTo>
                  <a:pt x="99" y="0"/>
                </a:lnTo>
                <a:lnTo>
                  <a:pt x="133" y="15"/>
                </a:lnTo>
                <a:lnTo>
                  <a:pt x="116" y="15"/>
                </a:lnTo>
                <a:cubicBezTo>
                  <a:pt x="116" y="67"/>
                  <a:pt x="83" y="108"/>
                  <a:pt x="54" y="135"/>
                </a:cubicBezTo>
                <a:lnTo>
                  <a:pt x="0" y="13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8000" y="1052640"/>
            <a:ext cx="8928000" cy="1871640"/>
          </a:xfrm>
          <a:prstGeom prst="rect">
            <a:avLst/>
          </a:prstGeom>
          <a:solidFill>
            <a:srgbClr val="e7f6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учетом вызовов, ключевых проблем и конкурентных преимуществ определены Стратегические цели региона (безусловные выгоды для населения) и Стратегические цели Администрации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843280" y="1125360"/>
            <a:ext cx="352908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сокий уровень благосостояния населения и стандарты качества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 rot="15681600">
            <a:off x="6503040" y="1256040"/>
            <a:ext cx="865440" cy="889200"/>
          </a:xfrm>
          <a:custGeom>
            <a:avLst/>
            <a:gdLst/>
            <a:ahLst/>
            <a:rect l="l" t="t" r="r" b="b"/>
            <a:pathLst>
              <a:path w="590" h="586">
                <a:moveTo>
                  <a:pt x="32" y="0"/>
                </a:moveTo>
                <a:cubicBezTo>
                  <a:pt x="32" y="0"/>
                  <a:pt x="260" y="58"/>
                  <a:pt x="530" y="428"/>
                </a:cubicBezTo>
                <a:cubicBezTo>
                  <a:pt x="560" y="411"/>
                  <a:pt x="590" y="394"/>
                  <a:pt x="590" y="394"/>
                </a:cubicBezTo>
                <a:lnTo>
                  <a:pt x="532" y="586"/>
                </a:lnTo>
                <a:lnTo>
                  <a:pt x="308" y="562"/>
                </a:lnTo>
                <a:cubicBezTo>
                  <a:pt x="308" y="562"/>
                  <a:pt x="340" y="543"/>
                  <a:pt x="372" y="524"/>
                </a:cubicBezTo>
                <a:cubicBezTo>
                  <a:pt x="190" y="306"/>
                  <a:pt x="0" y="278"/>
                  <a:pt x="0" y="278"/>
                </a:cubicBezTo>
              </a:path>
            </a:pathLst>
          </a:cu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 flipV="1" rot="5918400">
            <a:off x="1846440" y="1256400"/>
            <a:ext cx="865440" cy="888840"/>
          </a:xfrm>
          <a:custGeom>
            <a:avLst/>
            <a:gdLst/>
            <a:ahLst/>
            <a:rect l="l" t="t" r="r" b="b"/>
            <a:pathLst>
              <a:path w="590" h="586">
                <a:moveTo>
                  <a:pt x="32" y="0"/>
                </a:moveTo>
                <a:cubicBezTo>
                  <a:pt x="32" y="0"/>
                  <a:pt x="260" y="58"/>
                  <a:pt x="530" y="428"/>
                </a:cubicBezTo>
                <a:cubicBezTo>
                  <a:pt x="560" y="411"/>
                  <a:pt x="590" y="394"/>
                  <a:pt x="590" y="394"/>
                </a:cubicBezTo>
                <a:lnTo>
                  <a:pt x="532" y="586"/>
                </a:lnTo>
                <a:lnTo>
                  <a:pt x="308" y="562"/>
                </a:lnTo>
                <a:cubicBezTo>
                  <a:pt x="308" y="562"/>
                  <a:pt x="340" y="543"/>
                  <a:pt x="372" y="524"/>
                </a:cubicBezTo>
                <a:cubicBezTo>
                  <a:pt x="190" y="306"/>
                  <a:pt x="0" y="278"/>
                  <a:pt x="0" y="278"/>
                </a:cubicBezTo>
              </a:path>
            </a:pathLst>
          </a:cu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4000" y="1914480"/>
            <a:ext cx="3956040" cy="93816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здать динамично развивающуюся, сбалансированную и конкурентоспособную экономику, обеспечивающую высокий уровень доходов на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59280" y="1916280"/>
            <a:ext cx="3960720" cy="93636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79280" algn="ctr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вратить Томскую область в лучшее место для жизни, работы и отдых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14720" y="3044880"/>
            <a:ext cx="809640" cy="528480"/>
          </a:xfrm>
          <a:custGeom>
            <a:avLst/>
            <a:gdLst/>
            <a:ahLst/>
            <a:rect l="l" t="t" r="r" b="b"/>
            <a:pathLst>
              <a:path w="85" h="96">
                <a:moveTo>
                  <a:pt x="0" y="54"/>
                </a:moveTo>
                <a:cubicBezTo>
                  <a:pt x="19" y="51"/>
                  <a:pt x="32" y="38"/>
                  <a:pt x="34" y="15"/>
                </a:cubicBezTo>
                <a:lnTo>
                  <a:pt x="18" y="15"/>
                </a:lnTo>
                <a:lnTo>
                  <a:pt x="51" y="0"/>
                </a:lnTo>
                <a:lnTo>
                  <a:pt x="85" y="15"/>
                </a:lnTo>
                <a:lnTo>
                  <a:pt x="68" y="15"/>
                </a:lnTo>
                <a:cubicBezTo>
                  <a:pt x="68" y="68"/>
                  <a:pt x="40" y="89"/>
                  <a:pt x="0" y="96"/>
                </a:cubicBezTo>
                <a:cubicBezTo>
                  <a:pt x="0" y="81"/>
                  <a:pt x="0" y="69"/>
                  <a:pt x="0" y="54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622200">
            <a:off x="2288880" y="3022200"/>
            <a:ext cx="1144440" cy="1200240"/>
          </a:xfrm>
          <a:custGeom>
            <a:avLst/>
            <a:gdLst/>
            <a:ahLst/>
            <a:rect l="l" t="t" r="r" b="b"/>
            <a:pathLst>
              <a:path w="133" h="135">
                <a:moveTo>
                  <a:pt x="0" y="135"/>
                </a:moveTo>
                <a:cubicBezTo>
                  <a:pt x="47" y="93"/>
                  <a:pt x="85" y="52"/>
                  <a:pt x="82" y="15"/>
                </a:cubicBezTo>
                <a:lnTo>
                  <a:pt x="66" y="15"/>
                </a:lnTo>
                <a:lnTo>
                  <a:pt x="99" y="0"/>
                </a:lnTo>
                <a:lnTo>
                  <a:pt x="133" y="15"/>
                </a:lnTo>
                <a:lnTo>
                  <a:pt x="116" y="15"/>
                </a:lnTo>
                <a:cubicBezTo>
                  <a:pt x="116" y="67"/>
                  <a:pt x="83" y="108"/>
                  <a:pt x="54" y="135"/>
                </a:cubicBezTo>
                <a:lnTo>
                  <a:pt x="0" y="13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8000" y="3073320"/>
            <a:ext cx="2160360" cy="574920"/>
          </a:xfrm>
          <a:prstGeom prst="rect">
            <a:avLst/>
          </a:prstGeom>
          <a:solidFill>
            <a:srgbClr val="e7f6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сокий уровень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ия предприниматель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58920" y="4348080"/>
            <a:ext cx="2160720" cy="574920"/>
          </a:xfrm>
          <a:prstGeom prst="rect">
            <a:avLst/>
          </a:prstGeom>
          <a:solidFill>
            <a:srgbClr val="e7f6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Высокая инвестиционная привлека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653080" y="4361040"/>
            <a:ext cx="2160720" cy="576000"/>
          </a:xfrm>
          <a:prstGeom prst="rect">
            <a:avLst/>
          </a:prstGeom>
          <a:solidFill>
            <a:srgbClr val="e7f6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 Рациональное использование природного капит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6110280" y="3044880"/>
            <a:ext cx="838080" cy="528480"/>
          </a:xfrm>
          <a:custGeom>
            <a:avLst/>
            <a:gdLst/>
            <a:ahLst/>
            <a:rect l="l" t="t" r="r" b="b"/>
            <a:pathLst>
              <a:path w="85" h="96">
                <a:moveTo>
                  <a:pt x="0" y="54"/>
                </a:moveTo>
                <a:cubicBezTo>
                  <a:pt x="19" y="51"/>
                  <a:pt x="32" y="38"/>
                  <a:pt x="34" y="15"/>
                </a:cubicBezTo>
                <a:lnTo>
                  <a:pt x="18" y="15"/>
                </a:lnTo>
                <a:lnTo>
                  <a:pt x="51" y="0"/>
                </a:lnTo>
                <a:lnTo>
                  <a:pt x="85" y="15"/>
                </a:lnTo>
                <a:lnTo>
                  <a:pt x="68" y="15"/>
                </a:lnTo>
                <a:cubicBezTo>
                  <a:pt x="68" y="68"/>
                  <a:pt x="40" y="89"/>
                  <a:pt x="0" y="96"/>
                </a:cubicBezTo>
                <a:cubicBezTo>
                  <a:pt x="0" y="81"/>
                  <a:pt x="0" y="69"/>
                  <a:pt x="0" y="54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419640" y="5554800"/>
            <a:ext cx="2374560" cy="529920"/>
          </a:xfrm>
          <a:prstGeom prst="rect">
            <a:avLst/>
          </a:prstGeom>
          <a:solidFill>
            <a:srgbClr val="e7f6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 Благоприятные условия для жизни, работы, отдыха и воспитания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2194920" y="5008680"/>
            <a:ext cx="2160360" cy="504720"/>
          </a:xfrm>
          <a:prstGeom prst="rect">
            <a:avLst/>
          </a:prstGeom>
          <a:solidFill>
            <a:srgbClr val="e7f6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Высокая степень интернационализации эконом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6227640" y="3716280"/>
            <a:ext cx="2160720" cy="576360"/>
          </a:xfrm>
          <a:prstGeom prst="rect">
            <a:avLst/>
          </a:prstGeom>
          <a:solidFill>
            <a:srgbClr val="e7f6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Развитая инфраструк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6804000" y="3068640"/>
            <a:ext cx="2160720" cy="576360"/>
          </a:xfrm>
          <a:prstGeom prst="rect">
            <a:avLst/>
          </a:prstGeom>
          <a:solidFill>
            <a:srgbClr val="e7f6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Качественные трудовые ресурсы и эффективный рынок тру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4360" y="3716280"/>
            <a:ext cx="2160360" cy="574560"/>
          </a:xfrm>
          <a:prstGeom prst="rect">
            <a:avLst/>
          </a:prstGeom>
          <a:solidFill>
            <a:srgbClr val="e7f6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Эффективная и сбалансированная эконом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1280" y="1039680"/>
            <a:ext cx="2268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Стратегические цели реги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9200" y="5776920"/>
            <a:ext cx="22687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Стратегические цели Админист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4716360" y="5005440"/>
            <a:ext cx="2160720" cy="504720"/>
          </a:xfrm>
          <a:prstGeom prst="rect">
            <a:avLst/>
          </a:prstGeom>
          <a:solidFill>
            <a:srgbClr val="e7f6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. Эффективная исполнительная власть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CFDA0-F25B-4714-8A11-BAE49802EB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ение отраслевых приоритетов Администрации области осуществлялось с учетом двух групп критериев: привлекательность сектора и наличие соответствующих факторных условий для успешного развития сектора на территории Том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42960" y="1308240"/>
            <a:ext cx="703080" cy="40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5960" y="1268280"/>
            <a:ext cx="3811680" cy="58752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влекательность сект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1280" y="1855800"/>
            <a:ext cx="3816360" cy="1068480"/>
          </a:xfrm>
          <a:prstGeom prst="rect">
            <a:avLst/>
          </a:prstGeom>
          <a:solidFill>
            <a:srgbClr val="e7f6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0440" indent="-1904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 роста отрасли до 2020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ируемый уровень производительности в секторе (выручка на одного занятого в отрасли в 2020 год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евые ри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16360" y="1268280"/>
            <a:ext cx="3816360" cy="58752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**Наличие условий для развит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ктора на территории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716360" y="1855800"/>
            <a:ext cx="3816360" cy="1068480"/>
          </a:xfrm>
          <a:prstGeom prst="rect">
            <a:avLst/>
          </a:prstGeom>
          <a:solidFill>
            <a:srgbClr val="e7f6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0440" indent="-1904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дровый потенц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 к потреб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 к поставщи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 к инфраструкту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700360" y="3500280"/>
            <a:ext cx="5832360" cy="503280"/>
          </a:xfrm>
          <a:prstGeom prst="rect">
            <a:avLst/>
          </a:prstGeom>
          <a:solidFill>
            <a:srgbClr val="e7f6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ционные технологии, биотехнологии, научно-образователь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мплекс, «новая экономика», электротехника и приборостро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1116000" y="3139560"/>
            <a:ext cx="6840720" cy="21600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1280" y="5445000"/>
            <a:ext cx="8208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Новая экономика - вновь созданные предприятия, реализующие продукцию и услуги с высокой добавленной стоимостью, независимо от отраслевой принадлежности, сформированные вокруг научно-образовательного комплекса, не включая ИКТ и био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700360" y="4145040"/>
            <a:ext cx="5832360" cy="504720"/>
          </a:xfrm>
          <a:prstGeom prst="rect">
            <a:avLst/>
          </a:prstGeom>
          <a:solidFill>
            <a:srgbClr val="e7f6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тегазовый сектор, атомный сектор, пищевая промышленност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шиностроение (искл. электротехнику и приборостроение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700360" y="4797360"/>
            <a:ext cx="5832360" cy="503280"/>
          </a:xfrm>
          <a:prstGeom prst="rect">
            <a:avLst/>
          </a:prstGeom>
          <a:solidFill>
            <a:srgbClr val="e7f6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есопромышленный комплекс, газо-нефтехимический секто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ельское хозяйст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4360" y="3498840"/>
            <a:ext cx="1871640" cy="5032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59" y="0"/>
                </a:lnTo>
                <a:lnTo>
                  <a:pt x="21600" y="10800"/>
                </a:lnTo>
                <a:lnTo>
                  <a:pt x="191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ый приор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4360" y="4146480"/>
            <a:ext cx="1871640" cy="50472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59" y="0"/>
                </a:lnTo>
                <a:lnTo>
                  <a:pt x="21600" y="10800"/>
                </a:lnTo>
                <a:lnTo>
                  <a:pt x="191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ой приор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4360" y="4797360"/>
            <a:ext cx="1871640" cy="5032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59" y="0"/>
                </a:lnTo>
                <a:lnTo>
                  <a:pt x="21600" y="10800"/>
                </a:lnTo>
                <a:lnTo>
                  <a:pt x="191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-ий приор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11280" y="5877000"/>
            <a:ext cx="81374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Оценивается не только текущее состояние факторных условий, но и учитываются возможности для их развития в обозримом будущем (5-7 лет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7CFFE-4546-495A-86C8-9F5816B67E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34520" y="2091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и базовых отраслей, наиболее приоритетными для развития в области являются: информационные технологии, биотехнологии, научно-образовательный комплекс, «новая экономика», а также электротехника и приборостро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710440" y="1125360"/>
            <a:ext cx="362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ртфель базовых отраслей регион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156360" y="2349360"/>
            <a:ext cx="2276640" cy="2899080"/>
            <a:chOff x="6156360" y="2349360"/>
            <a:chExt cx="2276640" cy="2899080"/>
          </a:xfrm>
        </p:grpSpPr>
        <p:sp>
          <p:nvSpPr>
            <p:cNvPr id="344" name=""/>
            <p:cNvSpPr/>
            <p:nvPr/>
          </p:nvSpPr>
          <p:spPr>
            <a:xfrm>
              <a:off x="6156360" y="2388960"/>
              <a:ext cx="68040" cy="71640"/>
            </a:xfrm>
            <a:prstGeom prst="ellipse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65440" y="2349360"/>
              <a:ext cx="1695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Нефтегазовый сектор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НГС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156360" y="2577960"/>
              <a:ext cx="68040" cy="71640"/>
            </a:xfrm>
            <a:prstGeom prst="ellipse">
              <a:avLst/>
            </a:prstGeom>
            <a:gradFill rotWithShape="0">
              <a:gsLst>
                <a:gs pos="0">
                  <a:srgbClr val="46172f"/>
                </a:gs>
                <a:gs pos="100000">
                  <a:srgbClr val="99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66520" y="2538000"/>
              <a:ext cx="211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Газонефтехимический сектор (ГНХ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56360" y="2768040"/>
              <a:ext cx="68040" cy="70560"/>
            </a:xfrm>
            <a:prstGeom prst="ellipse">
              <a:avLst/>
            </a:prstGeom>
            <a:gradFill rotWithShape="0">
              <a:gsLst>
                <a:gs pos="0">
                  <a:srgbClr val="75755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63640" y="2727000"/>
              <a:ext cx="1946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Атомная промышленность (АТП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56360" y="2957040"/>
              <a:ext cx="68040" cy="70200"/>
            </a:xfrm>
            <a:prstGeom prst="ellipse">
              <a:avLst/>
            </a:prstGeom>
            <a:gradFill rotWithShape="0">
              <a:gsLst>
                <a:gs pos="0">
                  <a:srgbClr val="5e7575"/>
                </a:gs>
                <a:gs pos="100000">
                  <a:srgbClr val="cc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262560" y="2916000"/>
              <a:ext cx="18684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Научно-образовательный комплекс (НОК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56360" y="3264120"/>
              <a:ext cx="68040" cy="70560"/>
            </a:xfrm>
            <a:prstGeom prst="ellipse">
              <a:avLst/>
            </a:prstGeom>
            <a:gradFill rotWithShape="0">
              <a:gsLst>
                <a:gs pos="0">
                  <a:srgbClr val="750000"/>
                </a:gs>
                <a:gs pos="100000">
                  <a:srgbClr val="ff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72640" y="3226320"/>
              <a:ext cx="1317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Новая экономика (НЭ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56360" y="3453120"/>
              <a:ext cx="68040" cy="70560"/>
            </a:xfrm>
            <a:prstGeom prst="ellipse">
              <a:avLst/>
            </a:prstGeom>
            <a:gradFill rotWithShape="0">
              <a:gsLst>
                <a:gs pos="0">
                  <a:srgbClr val="753b3b"/>
                </a:gs>
                <a:gs pos="100000">
                  <a:srgbClr val="ff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266520" y="3415320"/>
              <a:ext cx="1164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Биотехнологии (БТ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56360" y="3642120"/>
              <a:ext cx="68040" cy="70560"/>
            </a:xfrm>
            <a:prstGeom prst="ellipse">
              <a:avLst/>
            </a:prstGeom>
            <a:gradFill rotWithShape="0">
              <a:gsLst>
                <a:gs pos="0">
                  <a:srgbClr val="002f5e"/>
                </a:gs>
                <a:gs pos="100000">
                  <a:srgbClr val="0066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265440" y="3604320"/>
              <a:ext cx="206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Информационные технологии (ИТ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156360" y="3831120"/>
              <a:ext cx="68040" cy="70200"/>
            </a:xfrm>
            <a:prstGeom prst="ellipse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62560" y="3791520"/>
              <a:ext cx="21258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Электротехническая промышленность и приборостроение (ЭТиП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156360" y="4279320"/>
              <a:ext cx="68040" cy="7056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62560" y="4241520"/>
              <a:ext cx="198288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ашиностроение (без электротехники и приборостроения) (М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56360" y="4756320"/>
              <a:ext cx="68040" cy="71640"/>
            </a:xfrm>
            <a:prstGeom prst="ellipse">
              <a:avLst/>
            </a:prstGeom>
            <a:gradFill rotWithShape="0">
              <a:gsLst>
                <a:gs pos="0">
                  <a:srgbClr val="750075"/>
                </a:gs>
                <a:gs pos="100000">
                  <a:srgbClr val="ff00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266520" y="4716720"/>
              <a:ext cx="216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Лесопромышленный комплекс (ЛПК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56360" y="4946400"/>
              <a:ext cx="68040" cy="7056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65080" y="4905360"/>
              <a:ext cx="1480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ельское хозяйство (СХ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56360" y="5135400"/>
              <a:ext cx="68040" cy="70200"/>
            </a:xfrm>
            <a:prstGeom prst="ellipse">
              <a:avLst/>
            </a:prstGeom>
            <a:gradFill rotWithShape="0">
              <a:gsLst>
                <a:gs pos="0">
                  <a:srgbClr val="007575"/>
                </a:gs>
                <a:gs pos="100000">
                  <a:srgbClr val="00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65440" y="5095800"/>
              <a:ext cx="191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ищевая промышленность (ПП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1109520" y="1822320"/>
            <a:ext cx="1800" cy="360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074600" y="543096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74600" y="506556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74600" y="471024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74600" y="434664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074600" y="399096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74600" y="362592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074600" y="326232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74600" y="290664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074600" y="254160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74600" y="218772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074600" y="182232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109520" y="5430960"/>
            <a:ext cx="590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109520" y="54306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1701720" y="54306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292480" y="54306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884320" y="54306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475080" y="54306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068720" y="54306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651200" y="54306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241960" y="54306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5834160" y="54306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424560" y="54306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7016760" y="54306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09880" y="2808360"/>
            <a:ext cx="879480" cy="898560"/>
          </a:xfrm>
          <a:prstGeom prst="ellipse">
            <a:avLst/>
          </a:prstGeom>
          <a:gradFill rotWithShape="0">
            <a:gsLst>
              <a:gs pos="0">
                <a:srgbClr val="464675"/>
              </a:gs>
              <a:gs pos="100000">
                <a:srgbClr val="99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28880" y="4159080"/>
            <a:ext cx="355680" cy="365400"/>
          </a:xfrm>
          <a:prstGeom prst="ellipse">
            <a:avLst/>
          </a:prstGeom>
          <a:gradFill rotWithShape="0">
            <a:gsLst>
              <a:gs pos="0">
                <a:srgbClr val="46172f"/>
              </a:gs>
              <a:gs pos="100000">
                <a:srgbClr val="9933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494160" y="3581280"/>
            <a:ext cx="425520" cy="435240"/>
          </a:xfrm>
          <a:prstGeom prst="ellipse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89600" y="3421080"/>
            <a:ext cx="739800" cy="755640"/>
          </a:xfrm>
          <a:prstGeom prst="ellipse">
            <a:avLst/>
          </a:prstGeom>
          <a:gradFill rotWithShape="0">
            <a:gsLst>
              <a:gs pos="0">
                <a:srgbClr val="5e7575"/>
              </a:gs>
              <a:gs pos="100000">
                <a:srgbClr val="cc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49720" y="3484440"/>
            <a:ext cx="619200" cy="630360"/>
          </a:xfrm>
          <a:prstGeom prst="ellipse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641840" y="3430440"/>
            <a:ext cx="722160" cy="736920"/>
          </a:xfrm>
          <a:prstGeom prst="ellipse">
            <a:avLst/>
          </a:prstGeom>
          <a:gradFill rotWithShape="0">
            <a:gsLst>
              <a:gs pos="0">
                <a:srgbClr val="753b3b"/>
              </a:gs>
              <a:gs pos="100000">
                <a:srgbClr val="ff80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737240" y="2986200"/>
            <a:ext cx="531720" cy="541080"/>
          </a:xfrm>
          <a:prstGeom prst="ellipse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479760" y="2808360"/>
            <a:ext cx="879480" cy="898560"/>
          </a:xfrm>
          <a:prstGeom prst="ellipse">
            <a:avLst/>
          </a:pr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84640" y="3741840"/>
            <a:ext cx="477720" cy="488880"/>
          </a:xfrm>
          <a:prstGeom prst="ellipse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727360" y="4549680"/>
            <a:ext cx="306360" cy="312840"/>
          </a:xfrm>
          <a:prstGeom prst="ellipse">
            <a:avLst/>
          </a:prstGeom>
          <a:gradFill rotWithShape="0">
            <a:gsLst>
              <a:gs pos="0">
                <a:srgbClr val="750075"/>
              </a:gs>
              <a:gs pos="100000">
                <a:srgbClr val="ff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49360" y="4630680"/>
            <a:ext cx="496800" cy="50652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06880" y="3475080"/>
            <a:ext cx="635040" cy="647640"/>
          </a:xfrm>
          <a:prstGeom prst="ellipse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048120" y="320508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НГ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996920" y="4276800"/>
            <a:ext cx="24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ГН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924360" y="38070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Т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475600" y="3338640"/>
            <a:ext cx="26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Н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407200" y="3740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Н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883040" y="3807000"/>
            <a:ext cx="16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Б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948200" y="3205080"/>
            <a:ext cx="16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И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34720" y="320508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ЭТи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474720" y="41022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768400" y="463536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ЛП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604880" y="48117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535560" y="3832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П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63360" y="53611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63360" y="4994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963360" y="4638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963360" y="4275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963360" y="3919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63360" y="3554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63360" y="3191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3360" y="2835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63360" y="2468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63360" y="2116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00360" y="1751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082880" y="5526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674360" y="5526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265840" y="5526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56240" y="5526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447720" y="5526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038840" y="5526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23120" y="5526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215320" y="5526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806800" y="5526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397920" y="5526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953760" y="5526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313800" y="5767560"/>
            <a:ext cx="165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ивлекательность секто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16200000">
            <a:off x="-399960" y="3414600"/>
            <a:ext cx="236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Наличие условий для развития сектор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20311200">
            <a:off x="2830320" y="2644920"/>
            <a:ext cx="1596960" cy="1655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1169400">
            <a:off x="3648240" y="2759040"/>
            <a:ext cx="2363760" cy="1408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20830800">
            <a:off x="1312560" y="4084560"/>
            <a:ext cx="1834920" cy="1198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714680" y="1544760"/>
            <a:ext cx="2703240" cy="73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09" y="3374"/>
                </a:moveTo>
                <a:lnTo>
                  <a:pt x="-1103" y="3374"/>
                </a:lnTo>
                <a:lnTo>
                  <a:pt x="-1103" y="32142"/>
                </a:lnTo>
                <a:lnTo>
                  <a:pt x="9563" y="47839"/>
                </a:lnTo>
              </a:path>
              <a:path w="21600" h="21600">
                <a:moveTo>
                  <a:pt x="-609" y="0"/>
                </a:moveTo>
                <a:lnTo>
                  <a:pt x="-609" y="21600"/>
                </a:lnTo>
              </a:path>
            </a:pathLst>
          </a:cu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бъем производства в секторе значительно зависит от конъюнктуры мировых цен на неф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421240" y="1557360"/>
            <a:ext cx="3327480" cy="5864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метр круга = Объем производства отрасли в денежном выражении в 2020 г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иболее вероятном сцена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09520" y="6006960"/>
            <a:ext cx="630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точник: данные расчетов, экспертные оценки на базе анализа факторных усло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D024-2C87-49CD-BE48-CB401985AC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68360" y="209160"/>
            <a:ext cx="7989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итичность факторного условия для развития секторов экономики определена с учетом значимости факторного условия, степени его развития и возможностей Админист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124000" y="1859760"/>
            <a:ext cx="4969080" cy="754200"/>
          </a:xfrm>
          <a:prstGeom prst="rect">
            <a:avLst/>
          </a:prstGeom>
          <a:solidFill>
            <a:srgbClr val="99cc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итичность факторного условия для развития сектора в Томской об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24000" y="3796560"/>
            <a:ext cx="2519280" cy="874440"/>
          </a:xfrm>
          <a:prstGeom prst="rect">
            <a:avLst/>
          </a:prstGeom>
          <a:solidFill>
            <a:srgbClr val="99cc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начимость факторного условия для развития сект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203640" y="3796560"/>
            <a:ext cx="2376360" cy="874440"/>
          </a:xfrm>
          <a:prstGeom prst="rect">
            <a:avLst/>
          </a:prstGeom>
          <a:solidFill>
            <a:srgbClr val="99cc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spcBef>
                <a:spcPts val="1500"/>
              </a:spcBef>
              <a:buClr>
                <a:srgbClr val="99cc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епень развития факторного условия в Том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796000" y="3796560"/>
            <a:ext cx="3166920" cy="874440"/>
          </a:xfrm>
          <a:prstGeom prst="rect">
            <a:avLst/>
          </a:prstGeom>
          <a:solidFill>
            <a:srgbClr val="99cc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spcBef>
                <a:spcPts val="1500"/>
              </a:spcBef>
              <a:buClr>
                <a:srgbClr val="99cc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зможность Администрации повлиять на развитие факторного условия в будущ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1908000" y="2707920"/>
            <a:ext cx="1440000" cy="865080"/>
          </a:xfrm>
          <a:prstGeom prst="line">
            <a:avLst/>
          </a:prstGeom>
          <a:ln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4572000" y="2708280"/>
            <a:ext cx="0" cy="936720"/>
          </a:xfrm>
          <a:prstGeom prst="line">
            <a:avLst/>
          </a:prstGeom>
          <a:ln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6084360" y="2707920"/>
            <a:ext cx="1366920" cy="865080"/>
          </a:xfrm>
          <a:prstGeom prst="line">
            <a:avLst/>
          </a:prstGeom>
          <a:ln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9AE00-8A6E-4560-8AB2-2DB79B548B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68360" y="209160"/>
            <a:ext cx="7991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развития приоритетных секторов экономики критичными являются: обеспечение доступа к капиталу, развитие экспорта (интернационализация), улучшение условий для жизни, развитие предприним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468360" y="1157400"/>
          <a:ext cx="8209080" cy="4576680"/>
        </p:xfrm>
        <a:graphic>
          <a:graphicData uri="http://schemas.openxmlformats.org/drawingml/2006/table">
            <a:tbl>
              <a:tblPr/>
              <a:tblGrid>
                <a:gridCol w="1655640"/>
                <a:gridCol w="1079640"/>
                <a:gridCol w="936720"/>
                <a:gridCol w="1008000"/>
                <a:gridCol w="1079280"/>
                <a:gridCol w="1441440"/>
                <a:gridCol w="1008360"/>
              </a:tblGrid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сли эконом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учно-образователь-ный комплек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ая эконом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ые техн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техн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техническая промышленность и приборостро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 оценка факто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п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уп к капитал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екоммуник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я для жи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ания и сооружения, земельные учас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нерге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д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ий спро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уп к сырь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уги для бизнес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иту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ОК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онодатель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6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ень развития предприниматель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456" name=""/>
          <p:cNvSpPr/>
          <p:nvPr/>
        </p:nvSpPr>
        <p:spPr>
          <a:xfrm>
            <a:off x="5661000" y="212400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85000" y="188928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85000" y="188928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661000" y="188928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661000" y="188928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661000" y="237024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661000" y="237024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661000" y="261612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661000" y="292572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661000" y="292572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661000" y="324972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661000" y="324972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603520" y="188928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603520" y="188928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603520" y="237024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603520" y="237024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603520" y="261612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603520" y="292572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603520" y="292572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603520" y="212400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603520" y="324972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693960" y="188928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694680" y="1889280"/>
            <a:ext cx="18000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683160" y="2124000"/>
            <a:ext cx="18072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683160" y="2370240"/>
            <a:ext cx="18072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83520" y="2370240"/>
            <a:ext cx="18000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683160" y="2616120"/>
            <a:ext cx="18072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693960" y="292572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93960" y="324972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85000" y="237024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85000" y="237024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885000" y="261612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85000" y="261612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885000" y="292572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85000" y="292572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885000" y="324972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85000" y="324972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630680" y="2370240"/>
            <a:ext cx="181080" cy="18072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630680" y="212400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630680" y="188928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631400" y="1889280"/>
            <a:ext cx="18000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630680" y="261612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630680" y="292572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630680" y="292572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630680" y="324972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85000" y="212400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603520" y="351000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603520" y="351000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603520" y="373068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603520" y="5151600"/>
            <a:ext cx="181080" cy="18072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603520" y="420840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03520" y="444168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603520" y="444168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03520" y="396396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603520" y="466884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603520" y="466884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603520" y="490212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700440" y="351000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700440" y="351000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700440" y="373068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700440" y="373068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700440" y="515160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700440" y="515160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700440" y="420840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700440" y="444168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700440" y="396396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695760" y="466884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695760" y="466884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700440" y="490212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700440" y="490212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619520" y="351000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620240" y="3510000"/>
            <a:ext cx="18000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619520" y="373068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619520" y="373068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619520" y="515160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619520" y="515160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619520" y="420840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619520" y="444168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19520" y="396396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619520" y="466884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620240" y="4668840"/>
            <a:ext cx="18000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619520" y="490212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656320" y="351000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656320" y="351000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656320" y="373068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656320" y="373068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656320" y="5151600"/>
            <a:ext cx="181080" cy="18072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656320" y="420840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656320" y="444168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56320" y="444168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656320" y="396396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656320" y="466884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656320" y="466884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656320" y="490212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885000" y="351000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885000" y="351000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885000" y="373068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85000" y="373068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85000" y="515160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885000" y="515160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885000" y="420840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885000" y="444168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85000" y="444168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85000" y="396396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85000" y="466884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885000" y="466884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885000" y="490212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885000" y="4902120"/>
            <a:ext cx="180720" cy="1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126280" y="212400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129520" y="262260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134200" y="293544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134200" y="293544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8126280" y="187812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127000" y="1878120"/>
            <a:ext cx="18000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8126280" y="3954600"/>
            <a:ext cx="181080" cy="18072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8126280" y="236844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8127000" y="2368440"/>
            <a:ext cx="18000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126280" y="325764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127000" y="3257640"/>
            <a:ext cx="18000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126280" y="348768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127000" y="3487680"/>
            <a:ext cx="18000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126280" y="370368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127000" y="3703680"/>
            <a:ext cx="18000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126280" y="420516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8134200" y="441972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134200" y="441972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126280" y="467352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127000" y="4673520"/>
            <a:ext cx="18000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8126280" y="513864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126280" y="513864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126280" y="490068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126280" y="490068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824120" y="5767560"/>
            <a:ext cx="180720" cy="18072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968480" y="5718240"/>
            <a:ext cx="28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но для развития сек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721400" y="5800680"/>
            <a:ext cx="18072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932360" y="5732640"/>
            <a:ext cx="2879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оказывает значимого влияния на развитие сек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24000" y="6021360"/>
            <a:ext cx="28872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11280" y="595008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сокий приорит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060720" y="6021360"/>
            <a:ext cx="289080" cy="144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348000" y="595008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редний приорит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603520" y="541800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603520" y="541800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700440" y="541800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619520" y="541800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656320" y="541800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885000" y="541800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885000" y="541800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8126280" y="540540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83FCF-19C6-4673-A925-C24F010796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ровень благосостояния и качества жизни населения в регионе зависит от конкурентоспособности региональной эконом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38560" y="1174680"/>
            <a:ext cx="2666880" cy="1179720"/>
          </a:xfrm>
          <a:custGeom>
            <a:avLst/>
            <a:gdLst/>
            <a:ahLst/>
            <a:rect l="l" t="t" r="r" b="b"/>
            <a:pathLst>
              <a:path w="288" h="169">
                <a:moveTo>
                  <a:pt x="144" y="0"/>
                </a:moveTo>
                <a:lnTo>
                  <a:pt x="288" y="169"/>
                </a:lnTo>
                <a:lnTo>
                  <a:pt x="0" y="169"/>
                </a:lnTo>
                <a:lnTo>
                  <a:pt x="144" y="0"/>
                </a:lnTo>
                <a:close/>
              </a:path>
            </a:pathLst>
          </a:custGeom>
          <a:solidFill>
            <a:srgbClr val="99ccff"/>
          </a:solidFill>
          <a:ln w="15840">
            <a:solidFill>
              <a:srgbClr val="ffffff"/>
            </a:solidFill>
            <a:round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25840" y="2354400"/>
            <a:ext cx="3889440" cy="528480"/>
          </a:xfrm>
          <a:custGeom>
            <a:avLst/>
            <a:gdLst/>
            <a:ahLst/>
            <a:rect l="l" t="t" r="r" b="b"/>
            <a:pathLst>
              <a:path w="420" h="76">
                <a:moveTo>
                  <a:pt x="354" y="0"/>
                </a:moveTo>
                <a:lnTo>
                  <a:pt x="420" y="76"/>
                </a:lnTo>
                <a:lnTo>
                  <a:pt x="0" y="76"/>
                </a:lnTo>
                <a:lnTo>
                  <a:pt x="66" y="0"/>
                </a:lnTo>
                <a:lnTo>
                  <a:pt x="354" y="0"/>
                </a:lnTo>
                <a:close/>
              </a:path>
            </a:pathLst>
          </a:custGeom>
          <a:solidFill>
            <a:srgbClr val="99ccff"/>
          </a:solidFill>
          <a:ln w="15840">
            <a:solidFill>
              <a:srgbClr val="ffffff"/>
            </a:solidFill>
            <a:round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3459240"/>
            <a:ext cx="5759280" cy="538200"/>
          </a:xfrm>
          <a:custGeom>
            <a:avLst/>
            <a:gdLst/>
            <a:ahLst/>
            <a:rect l="l" t="t" r="r" b="b"/>
            <a:pathLst>
              <a:path w="550" h="77">
                <a:moveTo>
                  <a:pt x="485" y="0"/>
                </a:moveTo>
                <a:lnTo>
                  <a:pt x="500" y="18"/>
                </a:lnTo>
                <a:lnTo>
                  <a:pt x="550" y="77"/>
                </a:lnTo>
                <a:lnTo>
                  <a:pt x="0" y="77"/>
                </a:lnTo>
                <a:lnTo>
                  <a:pt x="50" y="18"/>
                </a:lnTo>
                <a:lnTo>
                  <a:pt x="65" y="0"/>
                </a:lnTo>
                <a:lnTo>
                  <a:pt x="485" y="0"/>
                </a:lnTo>
                <a:close/>
              </a:path>
            </a:pathLst>
          </a:custGeom>
          <a:solidFill>
            <a:srgbClr val="99ccff"/>
          </a:solidFill>
          <a:ln w="15840">
            <a:solidFill>
              <a:srgbClr val="ffffff"/>
            </a:solidFill>
            <a:round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3983040"/>
            <a:ext cx="7058160" cy="536400"/>
          </a:xfrm>
          <a:custGeom>
            <a:avLst/>
            <a:gdLst/>
            <a:ahLst/>
            <a:rect l="l" t="t" r="r" b="b"/>
            <a:pathLst>
              <a:path w="680" h="77">
                <a:moveTo>
                  <a:pt x="615" y="0"/>
                </a:moveTo>
                <a:lnTo>
                  <a:pt x="680" y="77"/>
                </a:lnTo>
                <a:lnTo>
                  <a:pt x="0" y="77"/>
                </a:lnTo>
                <a:lnTo>
                  <a:pt x="65" y="0"/>
                </a:lnTo>
                <a:lnTo>
                  <a:pt x="615" y="0"/>
                </a:lnTo>
                <a:close/>
              </a:path>
            </a:pathLst>
          </a:custGeom>
          <a:solidFill>
            <a:srgbClr val="99ccff"/>
          </a:solidFill>
          <a:ln w="15840">
            <a:solidFill>
              <a:srgbClr val="ffffff"/>
            </a:solidFill>
            <a:round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135400"/>
            <a:ext cx="9144000" cy="885960"/>
          </a:xfrm>
          <a:custGeom>
            <a:avLst/>
            <a:gdLst/>
            <a:ahLst/>
            <a:rect l="l" t="t" r="r" b="b"/>
            <a:pathLst>
              <a:path w="898" h="127">
                <a:moveTo>
                  <a:pt x="789" y="0"/>
                </a:moveTo>
                <a:lnTo>
                  <a:pt x="844" y="64"/>
                </a:lnTo>
                <a:lnTo>
                  <a:pt x="898" y="127"/>
                </a:lnTo>
                <a:lnTo>
                  <a:pt x="449" y="127"/>
                </a:lnTo>
                <a:lnTo>
                  <a:pt x="0" y="127"/>
                </a:lnTo>
                <a:lnTo>
                  <a:pt x="54" y="64"/>
                </a:lnTo>
                <a:lnTo>
                  <a:pt x="109" y="0"/>
                </a:lnTo>
                <a:lnTo>
                  <a:pt x="789" y="0"/>
                </a:lnTo>
                <a:close/>
              </a:path>
            </a:pathLst>
          </a:custGeom>
          <a:solidFill>
            <a:srgbClr val="99ccff"/>
          </a:solidFill>
          <a:ln w="15840">
            <a:solidFill>
              <a:srgbClr val="ffffff"/>
            </a:solidFill>
            <a:round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37080" y="1698480"/>
            <a:ext cx="187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Благосостояние населения, стандарты и качество жизн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67280" y="2349360"/>
            <a:ext cx="93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ровень доходов насел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84360" y="3510000"/>
            <a:ext cx="16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изводительность тру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76720" y="233856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Бюджетная обеспеченность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76720" y="2359080"/>
            <a:ext cx="0" cy="514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41800" y="3586320"/>
            <a:ext cx="16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ровень занят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2924280"/>
            <a:ext cx="4321440" cy="504720"/>
          </a:xfrm>
          <a:prstGeom prst="upArrowCallout">
            <a:avLst>
              <a:gd name="adj1" fmla="val 214071"/>
              <a:gd name="adj2" fmla="val 214051"/>
              <a:gd name="adj3" fmla="val 16667"/>
              <a:gd name="adj4" fmla="val 6666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нкурентоспособность экономики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4076640"/>
            <a:ext cx="16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уктур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61080" y="4029120"/>
            <a:ext cx="169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словия для развити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5351400"/>
            <a:ext cx="1690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родный капитал, инфраструктура, и другие 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11280" y="5351400"/>
            <a:ext cx="16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ступ к внешним инвестиц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45080" y="5348160"/>
            <a:ext cx="169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еловеческий 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4581360"/>
            <a:ext cx="6912000" cy="505080"/>
          </a:xfrm>
          <a:prstGeom prst="upArrowCallout">
            <a:avLst>
              <a:gd name="adj1" fmla="val 342156"/>
              <a:gd name="adj2" fmla="val 342124"/>
              <a:gd name="adj3" fmla="val 16667"/>
              <a:gd name="adj4" fmla="val 6666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ратегический фокус региональной Админист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35640" y="5280120"/>
            <a:ext cx="1690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гиональная культура, традиции  и ц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13440" y="5351400"/>
            <a:ext cx="16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циальная 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1268280"/>
            <a:ext cx="1729080" cy="360360"/>
          </a:xfrm>
          <a:prstGeom prst="wedgeRectCallout">
            <a:avLst>
              <a:gd name="adj1" fmla="val 94902"/>
              <a:gd name="adj2" fmla="val 143833"/>
            </a:avLst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атегические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01080" y="3213000"/>
            <a:ext cx="1908000" cy="576360"/>
          </a:xfrm>
          <a:prstGeom prst="wedgeRectCallout">
            <a:avLst>
              <a:gd name="adj1" fmla="val -42597"/>
              <a:gd name="adj2" fmla="val 287467"/>
            </a:avLst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точники конкурентоспосо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244000" y="602136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Strateg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84360" y="5133960"/>
            <a:ext cx="0" cy="8780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95640" y="5143680"/>
            <a:ext cx="0" cy="877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0" y="5143680"/>
            <a:ext cx="0" cy="877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64360" y="5143680"/>
            <a:ext cx="0" cy="877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7280" y="2349360"/>
            <a:ext cx="0" cy="514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87640" y="2349360"/>
            <a:ext cx="93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Качество среды обитани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4005360"/>
            <a:ext cx="0" cy="5140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3990960"/>
            <a:ext cx="0" cy="514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471840"/>
            <a:ext cx="0" cy="514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63640" y="4033800"/>
            <a:ext cx="16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Эффективность природополь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A55DA-198C-427A-AE4B-111EDCACFB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других базовых секторов требует создания эффективной транспортной инфраструк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684360" y="1197000"/>
          <a:ext cx="8208720" cy="4417920"/>
        </p:xfrm>
        <a:graphic>
          <a:graphicData uri="http://schemas.openxmlformats.org/drawingml/2006/table">
            <a:tbl>
              <a:tblPr/>
              <a:tblGrid>
                <a:gridCol w="1511280"/>
                <a:gridCol w="647640"/>
                <a:gridCol w="720720"/>
                <a:gridCol w="792000"/>
                <a:gridCol w="720720"/>
                <a:gridCol w="790560"/>
                <a:gridCol w="505080"/>
                <a:gridCol w="504720"/>
                <a:gridCol w="647640"/>
                <a:gridCol w="576360"/>
                <a:gridCol w="792000"/>
              </a:tblGrid>
              <a:tr h="550800"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сли эконом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егазовый сект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зо-нефтехи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омная промышлен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ьское хозяй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щевая промышлен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П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иностро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нодобывающая про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корос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 оценка факто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п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уп к капитал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екоммуник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я для жи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ания и сооружения, земельные учас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нерге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д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ий спро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уп к сырь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уги для бизнес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иту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ОК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онодатель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ень развития предприниматель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07" name=""/>
          <p:cNvSpPr/>
          <p:nvPr/>
        </p:nvSpPr>
        <p:spPr>
          <a:xfrm>
            <a:off x="1824120" y="5689440"/>
            <a:ext cx="18072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981080" y="5630760"/>
            <a:ext cx="28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но для развития сек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788000" y="5651640"/>
            <a:ext cx="18072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932360" y="5589720"/>
            <a:ext cx="2879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оказывает значимого влияния на развитие сек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338800" y="227340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338800" y="227340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338800" y="251136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38800" y="251136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338800" y="179064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319720" y="315288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319720" y="315288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338800" y="2028960"/>
            <a:ext cx="181080" cy="18072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8800" y="282564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338800" y="282564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702560" y="227340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702560" y="179064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702560" y="202896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702560" y="202896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702560" y="251136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702560" y="282564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702560" y="2825640"/>
            <a:ext cx="180720" cy="1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702560" y="315288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411280" y="179064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412000" y="1790640"/>
            <a:ext cx="18000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411280" y="202896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412000" y="2028960"/>
            <a:ext cx="18000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411280" y="315288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412000" y="3152880"/>
            <a:ext cx="18000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411280" y="251136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411280" y="282564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411280" y="227340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412000" y="2273400"/>
            <a:ext cx="18000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052800" y="227340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052800" y="227340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894120" y="227340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894120" y="227340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884760" y="2511360"/>
            <a:ext cx="18072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885120" y="2511360"/>
            <a:ext cx="180000" cy="1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062160" y="251136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062880" y="2511360"/>
            <a:ext cx="180000" cy="1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062160" y="179064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062160" y="202896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060720" y="315288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060720" y="315288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894120" y="179064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894120" y="179064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894120" y="282564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894120" y="2825640"/>
            <a:ext cx="180720" cy="1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884760" y="3152880"/>
            <a:ext cx="180720" cy="18072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894120" y="202896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894120" y="202896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115040" y="179064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095960" y="3152880"/>
            <a:ext cx="181080" cy="18072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093080" y="2825640"/>
            <a:ext cx="18072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115040" y="2028960"/>
            <a:ext cx="181080" cy="18072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115040" y="227340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115760" y="2273400"/>
            <a:ext cx="18000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095960" y="251136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096680" y="2511360"/>
            <a:ext cx="180000" cy="1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053040" y="227340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053760" y="2273400"/>
            <a:ext cx="18000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053040" y="2028960"/>
            <a:ext cx="181080" cy="18072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053040" y="179064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046920" y="2511360"/>
            <a:ext cx="18072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047280" y="2511360"/>
            <a:ext cx="18000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053040" y="282564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053760" y="2825640"/>
            <a:ext cx="180000" cy="1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033960" y="315288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034680" y="3152880"/>
            <a:ext cx="18000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526080" y="179064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526080" y="179064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529320" y="2028960"/>
            <a:ext cx="181080" cy="18072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526080" y="227484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526800" y="2274840"/>
            <a:ext cx="18000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529320" y="251136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530040" y="2511360"/>
            <a:ext cx="18000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548400" y="315288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548400" y="315288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548400" y="282564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548400" y="282564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651200" y="179064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651200" y="2028960"/>
            <a:ext cx="181080" cy="18072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651200" y="227340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651920" y="2273400"/>
            <a:ext cx="18000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51200" y="251136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651920" y="2511360"/>
            <a:ext cx="18000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651200" y="282564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641840" y="315288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641840" y="315288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411280" y="338760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12000" y="3387600"/>
            <a:ext cx="180000" cy="1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411280" y="363528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411280" y="5051520"/>
            <a:ext cx="181080" cy="18072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411280" y="409248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411280" y="432900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12000" y="4329000"/>
            <a:ext cx="18000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411280" y="385920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411280" y="4562640"/>
            <a:ext cx="181080" cy="18072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411280" y="481824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412000" y="4818240"/>
            <a:ext cx="18000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054240" y="338760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054960" y="3387600"/>
            <a:ext cx="18000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054240" y="363528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54960" y="3635280"/>
            <a:ext cx="18000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054240" y="505152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054960" y="5051520"/>
            <a:ext cx="18000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054240" y="409248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054240" y="432900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054960" y="4329000"/>
            <a:ext cx="180000" cy="1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054240" y="385920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054240" y="456264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054240" y="481824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54960" y="4818240"/>
            <a:ext cx="18000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873600" y="3387600"/>
            <a:ext cx="18072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873600" y="3635280"/>
            <a:ext cx="18072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873960" y="3635280"/>
            <a:ext cx="180000" cy="1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873600" y="5051520"/>
            <a:ext cx="18072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873960" y="5051520"/>
            <a:ext cx="18000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873600" y="4092480"/>
            <a:ext cx="18072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873600" y="4329000"/>
            <a:ext cx="18072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873600" y="3859200"/>
            <a:ext cx="18072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840120" y="456264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840120" y="481824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840120" y="481824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643280" y="338760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643280" y="338760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643280" y="363528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43280" y="363528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643280" y="505152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644000" y="5051520"/>
            <a:ext cx="18000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643280" y="409248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643280" y="432900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644000" y="4329000"/>
            <a:ext cx="18000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643280" y="385920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644000" y="3859200"/>
            <a:ext cx="18000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643280" y="456264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644000" y="4562640"/>
            <a:ext cx="18000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643280" y="481824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644000" y="4818240"/>
            <a:ext cx="18000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330880" y="338760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330880" y="338760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330880" y="363528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330880" y="505152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330880" y="505152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330880" y="409248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330880" y="409248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330880" y="432900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330880" y="432900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30880" y="385920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330880" y="456264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330880" y="456264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330880" y="481824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330880" y="481824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016680" y="338760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016680" y="338760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016680" y="363528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016680" y="363528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018120" y="505152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018840" y="5051520"/>
            <a:ext cx="18000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016680" y="409248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016680" y="432900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016680" y="432900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16680" y="385920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016680" y="456264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016680" y="456264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018120" y="481824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523200" y="3387600"/>
            <a:ext cx="18072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523560" y="3387600"/>
            <a:ext cx="18000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523200" y="3635280"/>
            <a:ext cx="18072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523560" y="3635280"/>
            <a:ext cx="180000" cy="1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523200" y="5051520"/>
            <a:ext cx="18072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523560" y="5051520"/>
            <a:ext cx="18000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523200" y="4092480"/>
            <a:ext cx="18072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23200" y="4329000"/>
            <a:ext cx="18072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23200" y="4329000"/>
            <a:ext cx="18036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523200" y="3859200"/>
            <a:ext cx="18072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523200" y="4562640"/>
            <a:ext cx="18072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523560" y="4562640"/>
            <a:ext cx="18000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523200" y="4818240"/>
            <a:ext cx="18072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523560" y="4818240"/>
            <a:ext cx="18000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086600" y="338760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086600" y="338760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7086600" y="363528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086600" y="3635280"/>
            <a:ext cx="180720" cy="1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086600" y="505152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086600" y="505152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086600" y="409248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86600" y="432900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086600" y="4329000"/>
            <a:ext cx="180720" cy="1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7086600" y="385920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086600" y="456264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086600" y="481824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086600" y="481824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7702560" y="338760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7702560" y="338760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7702560" y="363528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702560" y="363528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702560" y="505152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702560" y="505152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702560" y="409248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702560" y="432900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702560" y="4329000"/>
            <a:ext cx="180720" cy="1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702560" y="385920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702560" y="456264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702560" y="456264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702560" y="481824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702560" y="481824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380440" y="1790640"/>
            <a:ext cx="181080" cy="18108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8380440" y="202896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8380440" y="202896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8380440" y="227340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8380440" y="227340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8380440" y="252720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8380440" y="2527200"/>
            <a:ext cx="180720" cy="1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8380440" y="281448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8380440" y="2814480"/>
            <a:ext cx="180720" cy="1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8380440" y="314172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8380440" y="314172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8380440" y="337968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380440" y="337968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380440" y="361944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8380440" y="361944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8380440" y="387360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8380440" y="387360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8380440" y="408924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8380440" y="408924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8380440" y="432756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8380440" y="4327560"/>
            <a:ext cx="1807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8380440" y="458316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8380440" y="458316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8380440" y="481968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8380440" y="481968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8380440" y="505152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8380440" y="505152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056040" y="2825640"/>
            <a:ext cx="18072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056400" y="2825640"/>
            <a:ext cx="180000" cy="1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042920" y="5979960"/>
            <a:ext cx="289080" cy="14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330200" y="5908680"/>
            <a:ext cx="17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сокий приорит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780000" y="5979960"/>
            <a:ext cx="288720" cy="14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067280" y="590868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редний приорит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411280" y="533412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412000" y="5334120"/>
            <a:ext cx="18000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054240" y="533412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054960" y="5334120"/>
            <a:ext cx="18000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873600" y="5334120"/>
            <a:ext cx="18072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643280" y="533412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644000" y="5334120"/>
            <a:ext cx="18000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330880" y="5334120"/>
            <a:ext cx="181080" cy="180720"/>
          </a:xfrm>
          <a:prstGeom prst="ellipse">
            <a:avLst/>
          </a:pr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018120" y="533412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018120" y="533412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523200" y="5334120"/>
            <a:ext cx="18072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523560" y="5334120"/>
            <a:ext cx="18000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086600" y="533412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702560" y="533412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7702560" y="533412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2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8380440" y="533412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8380440" y="5334120"/>
            <a:ext cx="1807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solidFill>
            <a:srgbClr val="6f8d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026B2-E705-43F9-B3E1-3B9B293652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68360" y="209160"/>
            <a:ext cx="7989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учетом приоритетного развития определенных секторов экономики, Администрация области должна, в первую очередь, обеспечить развитие следующих факторных услов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700360" y="1268280"/>
            <a:ext cx="5832360" cy="1222560"/>
          </a:xfrm>
          <a:prstGeom prst="rect">
            <a:avLst/>
          </a:prstGeom>
          <a:solidFill>
            <a:srgbClr val="e7f6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79280">
              <a:buClr>
                <a:srgbClr val="0000cc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еспечение доступа к капитал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cc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нтернационализация эконом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cc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витие предпринимательства и культуры отношения к рис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cc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здание условий для жизни высококвалифицированных специалис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700360" y="2637000"/>
            <a:ext cx="5832360" cy="1800000"/>
          </a:xfrm>
          <a:prstGeom prst="rect">
            <a:avLst/>
          </a:prstGeom>
          <a:solidFill>
            <a:srgbClr val="e7f6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79280">
              <a:buClr>
                <a:srgbClr val="0000cc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витие тран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cc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витие услуг для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cc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еспечение доступа к зданиям, сооружениям и земельным участк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cc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лучшение законодательной ба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cc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имулирование НИОК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cc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еспечение доступа к сырью для перерабатывающих и добывающих сект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700360" y="4581360"/>
            <a:ext cx="5832360" cy="1368720"/>
          </a:xfrm>
          <a:prstGeom prst="rect">
            <a:avLst/>
          </a:prstGeom>
          <a:solidFill>
            <a:srgbClr val="e7f6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79280">
              <a:buClr>
                <a:srgbClr val="0000cc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витие телекоммуник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cc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витие кадрового потенци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cc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имулирование внутреннего спро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cc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здание и развитие профессиональных объединений и ассоци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cc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еспечение устойчивого энергоснабжения в регио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11280" y="1341360"/>
            <a:ext cx="1871640" cy="100512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005120"/>
              <a:gd name="textAreaBottom" fmla="*/ 1005480 h 10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59" y="0"/>
                </a:lnTo>
                <a:lnTo>
                  <a:pt x="21600" y="10800"/>
                </a:lnTo>
                <a:lnTo>
                  <a:pt x="191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ый приор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11280" y="2997360"/>
            <a:ext cx="1871640" cy="10080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59" y="0"/>
                </a:lnTo>
                <a:lnTo>
                  <a:pt x="21600" y="10800"/>
                </a:lnTo>
                <a:lnTo>
                  <a:pt x="191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ой приор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11280" y="4726080"/>
            <a:ext cx="1871640" cy="10080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59" y="0"/>
                </a:lnTo>
                <a:lnTo>
                  <a:pt x="21600" y="10800"/>
                </a:lnTo>
                <a:lnTo>
                  <a:pt x="191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-ий приор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16C53-5FDD-40E5-A7AB-811A7A0D5C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гноз дохода на душу населения в Том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726480" y="1628640"/>
            <a:ext cx="5958360" cy="3418200"/>
            <a:chOff x="726480" y="1628640"/>
            <a:chExt cx="5958360" cy="3418200"/>
          </a:xfrm>
        </p:grpSpPr>
        <p:sp>
          <p:nvSpPr>
            <p:cNvPr id="875" name=""/>
            <p:cNvSpPr/>
            <p:nvPr/>
          </p:nvSpPr>
          <p:spPr>
            <a:xfrm>
              <a:off x="1087560" y="3714840"/>
              <a:ext cx="5595840" cy="14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087560" y="3218040"/>
              <a:ext cx="5595840" cy="14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087560" y="2705040"/>
              <a:ext cx="5595840" cy="18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087560" y="2206800"/>
              <a:ext cx="5595840" cy="14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087560" y="1709640"/>
              <a:ext cx="5595840" cy="2503440"/>
            </a:xfrm>
            <a:prstGeom prst="rect">
              <a:avLst/>
            </a:prstGeom>
            <a:noFill/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027080" y="4213080"/>
              <a:ext cx="6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7080" y="371484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27080" y="321804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7080" y="2705040"/>
              <a:ext cx="6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27080" y="220680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027080" y="1709640"/>
              <a:ext cx="6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1087560" y="421308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2490840" y="421308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3892680" y="421308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5280120" y="421308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6683400" y="421308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81280" y="2206800"/>
              <a:ext cx="4208400" cy="1704960"/>
            </a:xfrm>
            <a:custGeom>
              <a:avLst/>
              <a:gdLst/>
              <a:ahLst/>
              <a:rect l="l" t="t" r="r" b="b"/>
              <a:pathLst>
                <a:path w="279" h="113">
                  <a:moveTo>
                    <a:pt x="0" y="113"/>
                  </a:moveTo>
                  <a:lnTo>
                    <a:pt x="93" y="89"/>
                  </a:lnTo>
                  <a:lnTo>
                    <a:pt x="186" y="55"/>
                  </a:lnTo>
                  <a:lnTo>
                    <a:pt x="279" y="0"/>
                  </a:lnTo>
                </a:path>
              </a:pathLst>
            </a:custGeom>
            <a:noFill/>
            <a:ln w="442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781280" y="3382920"/>
              <a:ext cx="4208400" cy="528840"/>
            </a:xfrm>
            <a:custGeom>
              <a:avLst/>
              <a:gdLst/>
              <a:ahLst/>
              <a:rect l="l" t="t" r="r" b="b"/>
              <a:pathLst>
                <a:path w="279" h="35">
                  <a:moveTo>
                    <a:pt x="0" y="35"/>
                  </a:moveTo>
                  <a:lnTo>
                    <a:pt x="93" y="26"/>
                  </a:lnTo>
                  <a:lnTo>
                    <a:pt x="186" y="16"/>
                  </a:lnTo>
                  <a:lnTo>
                    <a:pt x="279" y="0"/>
                  </a:lnTo>
                </a:path>
              </a:pathLst>
            </a:custGeom>
            <a:noFill/>
            <a:ln w="442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781280" y="3911760"/>
              <a:ext cx="4208400" cy="14040"/>
            </a:xfrm>
            <a:custGeom>
              <a:avLst/>
              <a:gdLst/>
              <a:ahLst/>
              <a:rect l="l" t="t" r="r" b="b"/>
              <a:pathLst>
                <a:path w="279" h="1">
                  <a:moveTo>
                    <a:pt x="0" y="0"/>
                  </a:moveTo>
                  <a:lnTo>
                    <a:pt x="93" y="1"/>
                  </a:lnTo>
                  <a:lnTo>
                    <a:pt x="186" y="1"/>
                  </a:lnTo>
                  <a:lnTo>
                    <a:pt x="279" y="0"/>
                  </a:lnTo>
                </a:path>
              </a:pathLst>
            </a:custGeom>
            <a:noFill/>
            <a:ln w="442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706400" y="3835440"/>
              <a:ext cx="135000" cy="136440"/>
            </a:xfrm>
            <a:prstGeom prst="ellipse">
              <a:avLst/>
            </a:prstGeom>
            <a:solidFill>
              <a:srgbClr val="000080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108240" y="3473280"/>
              <a:ext cx="136440" cy="136800"/>
            </a:xfrm>
            <a:prstGeom prst="ellipse">
              <a:avLst/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lin ang="13500000"/>
            </a:gra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511520" y="2960640"/>
              <a:ext cx="135000" cy="136440"/>
            </a:xfrm>
            <a:prstGeom prst="ellipse">
              <a:avLst/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lin ang="13500000"/>
            </a:gra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913360" y="2131920"/>
              <a:ext cx="136440" cy="135000"/>
            </a:xfrm>
            <a:prstGeom prst="ellipse">
              <a:avLst/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lin ang="13500000"/>
            </a:gra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706400" y="3835440"/>
              <a:ext cx="135000" cy="1364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108240" y="3700440"/>
              <a:ext cx="136440" cy="135000"/>
            </a:xfrm>
            <a:prstGeom prst="ellipse">
              <a:avLst/>
            </a:prstGeom>
            <a:gradFill rotWithShape="0">
              <a:gsLst>
                <a:gs pos="0">
                  <a:srgbClr val="005e75"/>
                </a:gs>
                <a:gs pos="100000">
                  <a:srgbClr val="00ccff"/>
                </a:gs>
              </a:gsLst>
              <a:lin ang="13500000"/>
            </a:gra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511520" y="3549600"/>
              <a:ext cx="135000" cy="135000"/>
            </a:xfrm>
            <a:prstGeom prst="ellipse">
              <a:avLst/>
            </a:prstGeom>
            <a:gradFill rotWithShape="0">
              <a:gsLst>
                <a:gs pos="0">
                  <a:srgbClr val="005e75"/>
                </a:gs>
                <a:gs pos="100000">
                  <a:srgbClr val="00ccff"/>
                </a:gs>
              </a:gsLst>
              <a:lin ang="13500000"/>
            </a:gra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913360" y="3308400"/>
              <a:ext cx="136440" cy="135000"/>
            </a:xfrm>
            <a:prstGeom prst="ellipse">
              <a:avLst/>
            </a:prstGeom>
            <a:gradFill rotWithShape="0">
              <a:gsLst>
                <a:gs pos="0">
                  <a:srgbClr val="005e75"/>
                </a:gs>
                <a:gs pos="100000">
                  <a:srgbClr val="00ccff"/>
                </a:gs>
              </a:gsLst>
              <a:lin ang="13500000"/>
            </a:gra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706400" y="3835440"/>
              <a:ext cx="135000" cy="136440"/>
            </a:xfrm>
            <a:prstGeom prst="ellipse">
              <a:avLst/>
            </a:prstGeom>
            <a:gradFill rotWithShape="0">
              <a:gsLst>
                <a:gs pos="0">
                  <a:srgbClr val="000075"/>
                </a:gs>
                <a:gs pos="100000">
                  <a:srgbClr val="0000ff"/>
                </a:gs>
              </a:gsLst>
              <a:lin ang="13500000"/>
            </a:gra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108240" y="3851280"/>
              <a:ext cx="136440" cy="135000"/>
            </a:xfrm>
            <a:prstGeom prst="ellipse">
              <a:avLst/>
            </a:prstGeom>
            <a:gradFill rotWithShape="0">
              <a:gsLst>
                <a:gs pos="0">
                  <a:srgbClr val="000075"/>
                </a:gs>
                <a:gs pos="100000">
                  <a:srgbClr val="0000ff"/>
                </a:gs>
              </a:gsLst>
              <a:lin ang="13500000"/>
            </a:gra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511520" y="3851280"/>
              <a:ext cx="135000" cy="135000"/>
            </a:xfrm>
            <a:prstGeom prst="ellipse">
              <a:avLst/>
            </a:prstGeom>
            <a:gradFill rotWithShape="0">
              <a:gsLst>
                <a:gs pos="0">
                  <a:srgbClr val="000075"/>
                </a:gs>
                <a:gs pos="100000">
                  <a:srgbClr val="0000ff"/>
                </a:gs>
              </a:gsLst>
              <a:lin ang="13500000"/>
            </a:gra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913360" y="383544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75"/>
                </a:gs>
                <a:gs pos="100000">
                  <a:srgbClr val="0000ff"/>
                </a:gs>
              </a:gsLst>
              <a:lin ang="13500000"/>
            </a:gra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804320" y="39337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131280" y="328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,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355280" y="27716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,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276000" y="3573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,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642920" y="33577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084360" y="33480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,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244320" y="39337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642920" y="39337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084360" y="3924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055560" y="2206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,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928440" y="41324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96320" y="3633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,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26480" y="3137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26480" y="2624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,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26480" y="2125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,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26480" y="16286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,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620000" y="43020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023640" y="43020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425120" y="43020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828760" y="43020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103400" y="4976640"/>
              <a:ext cx="406440" cy="1800"/>
            </a:xfrm>
            <a:prstGeom prst="line">
              <a:avLst/>
            </a:prstGeom>
            <a:ln w="442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244520" y="4913280"/>
              <a:ext cx="133560" cy="133560"/>
            </a:xfrm>
            <a:prstGeom prst="ellipse">
              <a:avLst/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lin ang="13500000"/>
            </a:gra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559160" y="4886280"/>
              <a:ext cx="97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птимистичн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943360" y="4976640"/>
              <a:ext cx="406440" cy="1800"/>
            </a:xfrm>
            <a:prstGeom prst="line">
              <a:avLst/>
            </a:prstGeom>
            <a:ln w="442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084480" y="4913280"/>
              <a:ext cx="133560" cy="133560"/>
            </a:xfrm>
            <a:prstGeom prst="ellipse">
              <a:avLst/>
            </a:prstGeom>
            <a:gradFill rotWithShape="0">
              <a:gsLst>
                <a:gs pos="0">
                  <a:srgbClr val="005e75"/>
                </a:gs>
                <a:gs pos="100000">
                  <a:srgbClr val="00ccff"/>
                </a:gs>
              </a:gsLst>
              <a:lin ang="13500000"/>
            </a:gra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397680" y="4886280"/>
              <a:ext cx="1294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Наиболее вероятн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159520" y="4976640"/>
              <a:ext cx="407880" cy="180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300640" y="4913280"/>
              <a:ext cx="133200" cy="133560"/>
            </a:xfrm>
            <a:prstGeom prst="ellipse">
              <a:avLst/>
            </a:prstGeom>
            <a:gradFill rotWithShape="0">
              <a:gsLst>
                <a:gs pos="0">
                  <a:srgbClr val="000075"/>
                </a:gs>
                <a:gs pos="100000">
                  <a:srgbClr val="0000ff"/>
                </a:gs>
              </a:gsLst>
              <a:lin ang="13500000"/>
            </a:gra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614920" y="4886280"/>
              <a:ext cx="1041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ссимистичн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7097760" y="1658880"/>
            <a:ext cx="931680" cy="330120"/>
          </a:xfrm>
          <a:prstGeom prst="borderCallout1">
            <a:avLst>
              <a:gd name="adj1" fmla="val 18750"/>
              <a:gd name="adj2" fmla="val -8333"/>
              <a:gd name="adj3" fmla="val 139902"/>
              <a:gd name="adj4" fmla="val -102046"/>
            </a:avLst>
          </a:prstGeom>
          <a:solidFill>
            <a:srgbClr val="ebf7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Около 46 тыс. руб./ме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7097760" y="2563920"/>
            <a:ext cx="914400" cy="360360"/>
          </a:xfrm>
          <a:prstGeom prst="borderCallout1">
            <a:avLst>
              <a:gd name="adj1" fmla="val 18750"/>
              <a:gd name="adj2" fmla="val -8333"/>
              <a:gd name="adj3" fmla="val 192069"/>
              <a:gd name="adj4" fmla="val -105037"/>
            </a:avLst>
          </a:prstGeom>
          <a:solidFill>
            <a:srgbClr val="ebf7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Около 19 тыс. руб./ме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7093080" y="3327480"/>
            <a:ext cx="914400" cy="360360"/>
          </a:xfrm>
          <a:prstGeom prst="borderCallout1">
            <a:avLst>
              <a:gd name="adj1" fmla="val 18750"/>
              <a:gd name="adj2" fmla="val -8333"/>
              <a:gd name="adj3" fmla="val 122027"/>
              <a:gd name="adj4" fmla="val -103819"/>
            </a:avLst>
          </a:prstGeom>
          <a:solidFill>
            <a:srgbClr val="ebf7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Около 7 тыс. руб./мес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383720" y="239220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G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4716360" y="2133720"/>
            <a:ext cx="1008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889520" y="2320920"/>
            <a:ext cx="62712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,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4617000" y="2997360"/>
            <a:ext cx="1323360" cy="272880"/>
            <a:chOff x="4617000" y="2997360"/>
            <a:chExt cx="1323360" cy="272880"/>
          </a:xfrm>
        </p:grpSpPr>
        <p:sp>
          <p:nvSpPr>
            <p:cNvPr id="942" name=""/>
            <p:cNvSpPr/>
            <p:nvPr/>
          </p:nvSpPr>
          <p:spPr>
            <a:xfrm>
              <a:off x="4617000" y="299736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G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4787640" y="2997360"/>
              <a:ext cx="115272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148000" y="2997360"/>
              <a:ext cx="627120" cy="21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4833000" y="356076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G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4932360" y="3715920"/>
            <a:ext cx="12254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321160" y="3632040"/>
            <a:ext cx="62712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12720" y="1341360"/>
            <a:ext cx="136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*Тыс.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ША в го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24000" y="5950080"/>
            <a:ext cx="3743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Прогноз осуществлялся в текущих ценах, без учета инфля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73E32-33E3-4F1F-B3AD-CCAEA52FDB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гноз структуры занятости и доходов в базовых отрасля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наиболее вероятном сцена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556000" y="1012680"/>
            <a:ext cx="208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уктура занятост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ыс. чел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724360" y="1012680"/>
            <a:ext cx="324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уктура годовых доходов занятых в базовых отраслях (млн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435400" y="5432400"/>
            <a:ext cx="849240" cy="387360"/>
          </a:xfrm>
          <a:prstGeom prst="rect">
            <a:avLst/>
          </a:prstGeom>
          <a:gradFill rotWithShape="0">
            <a:gsLst>
              <a:gs pos="0">
                <a:srgbClr val="212165"/>
              </a:gs>
              <a:gs pos="50000">
                <a:srgbClr val="333399"/>
              </a:gs>
              <a:gs pos="100000">
                <a:srgbClr val="212165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963960" y="5446800"/>
            <a:ext cx="849240" cy="372960"/>
          </a:xfrm>
          <a:prstGeom prst="rect">
            <a:avLst/>
          </a:prstGeom>
          <a:gradFill rotWithShape="0">
            <a:gsLst>
              <a:gs pos="0">
                <a:srgbClr val="212165"/>
              </a:gs>
              <a:gs pos="50000">
                <a:srgbClr val="333399"/>
              </a:gs>
              <a:gs pos="100000">
                <a:srgbClr val="212165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284640" y="5432400"/>
            <a:ext cx="679320" cy="1440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435400" y="5070600"/>
            <a:ext cx="849240" cy="361800"/>
          </a:xfrm>
          <a:prstGeom prst="rect">
            <a:avLst/>
          </a:prstGeom>
          <a:gradFill rotWithShape="0">
            <a:gsLst>
              <a:gs pos="0">
                <a:srgbClr val="a84300"/>
              </a:gs>
              <a:gs pos="50000">
                <a:srgbClr val="ff6600"/>
              </a:gs>
              <a:gs pos="100000">
                <a:srgbClr val="a843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963960" y="5178600"/>
            <a:ext cx="849240" cy="268200"/>
          </a:xfrm>
          <a:prstGeom prst="rect">
            <a:avLst/>
          </a:prstGeom>
          <a:gradFill rotWithShape="0">
            <a:gsLst>
              <a:gs pos="0">
                <a:srgbClr val="a84300"/>
              </a:gs>
              <a:gs pos="50000">
                <a:srgbClr val="ff6600"/>
              </a:gs>
              <a:gs pos="100000">
                <a:srgbClr val="a843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284640" y="5070600"/>
            <a:ext cx="679320" cy="10800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435400" y="4724280"/>
            <a:ext cx="849240" cy="346320"/>
          </a:xfrm>
          <a:prstGeom prst="rect">
            <a:avLst/>
          </a:prstGeom>
          <a:gradFill rotWithShape="0">
            <a:gsLst>
              <a:gs pos="0">
                <a:srgbClr val="0000a8"/>
              </a:gs>
              <a:gs pos="50000">
                <a:srgbClr val="0000ff"/>
              </a:gs>
              <a:gs pos="100000">
                <a:srgbClr val="0000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3963960" y="4857840"/>
            <a:ext cx="849240" cy="320760"/>
          </a:xfrm>
          <a:prstGeom prst="rect">
            <a:avLst/>
          </a:prstGeom>
          <a:gradFill rotWithShape="0">
            <a:gsLst>
              <a:gs pos="0">
                <a:srgbClr val="0000a8"/>
              </a:gs>
              <a:gs pos="50000">
                <a:srgbClr val="0000ff"/>
              </a:gs>
              <a:gs pos="100000">
                <a:srgbClr val="0000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284640" y="4724280"/>
            <a:ext cx="679320" cy="13356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2435400" y="4497480"/>
            <a:ext cx="849240" cy="226800"/>
          </a:xfrm>
          <a:prstGeom prst="rect">
            <a:avLst/>
          </a:prstGeom>
          <a:gradFill rotWithShape="0">
            <a:gsLst>
              <a:gs pos="0">
                <a:srgbClr val="a86500"/>
              </a:gs>
              <a:gs pos="50000">
                <a:srgbClr val="ff9900"/>
              </a:gs>
              <a:gs pos="100000">
                <a:srgbClr val="a865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963960" y="4738680"/>
            <a:ext cx="849240" cy="119160"/>
          </a:xfrm>
          <a:prstGeom prst="rect">
            <a:avLst/>
          </a:prstGeom>
          <a:gradFill rotWithShape="0">
            <a:gsLst>
              <a:gs pos="0">
                <a:srgbClr val="a86500"/>
              </a:gs>
              <a:gs pos="50000">
                <a:srgbClr val="ff9900"/>
              </a:gs>
              <a:gs pos="100000">
                <a:srgbClr val="a865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284640" y="4497480"/>
            <a:ext cx="679320" cy="24120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435400" y="3279600"/>
            <a:ext cx="849240" cy="1217880"/>
          </a:xfrm>
          <a:prstGeom prst="rect">
            <a:avLst/>
          </a:prstGeom>
          <a:gradFill rotWithShape="0">
            <a:gsLst>
              <a:gs pos="0">
                <a:srgbClr val="0086a8"/>
              </a:gs>
              <a:gs pos="50000">
                <a:srgbClr val="00ccff"/>
              </a:gs>
              <a:gs pos="100000">
                <a:srgbClr val="0086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963960" y="3897360"/>
            <a:ext cx="849240" cy="841320"/>
          </a:xfrm>
          <a:prstGeom prst="rect">
            <a:avLst/>
          </a:prstGeom>
          <a:gradFill rotWithShape="0">
            <a:gsLst>
              <a:gs pos="0">
                <a:srgbClr val="0086a8"/>
              </a:gs>
              <a:gs pos="50000">
                <a:srgbClr val="00ccff"/>
              </a:gs>
              <a:gs pos="100000">
                <a:srgbClr val="0086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284640" y="3279600"/>
            <a:ext cx="679320" cy="61776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435400" y="3106800"/>
            <a:ext cx="849240" cy="172800"/>
          </a:xfrm>
          <a:prstGeom prst="rect">
            <a:avLst/>
          </a:prstGeom>
          <a:gradFill rotWithShape="0">
            <a:gsLst>
              <a:gs pos="0">
                <a:srgbClr val="a88600"/>
              </a:gs>
              <a:gs pos="50000">
                <a:srgbClr val="ffcc00"/>
              </a:gs>
              <a:gs pos="100000">
                <a:srgbClr val="a886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963960" y="3629160"/>
            <a:ext cx="849240" cy="268200"/>
          </a:xfrm>
          <a:prstGeom prst="rect">
            <a:avLst/>
          </a:prstGeom>
          <a:gradFill rotWithShape="0">
            <a:gsLst>
              <a:gs pos="0">
                <a:srgbClr val="a88600"/>
              </a:gs>
              <a:gs pos="50000">
                <a:srgbClr val="ffcc00"/>
              </a:gs>
              <a:gs pos="100000">
                <a:srgbClr val="a886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284640" y="3106800"/>
            <a:ext cx="679320" cy="52236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435400" y="3065400"/>
            <a:ext cx="849240" cy="41400"/>
          </a:xfrm>
          <a:prstGeom prst="rect">
            <a:avLst/>
          </a:prstGeom>
          <a:gradFill rotWithShape="0">
            <a:gsLst>
              <a:gs pos="0">
                <a:srgbClr val="6586a8"/>
              </a:gs>
              <a:gs pos="50000">
                <a:srgbClr val="99ccff"/>
              </a:gs>
              <a:gs pos="100000">
                <a:srgbClr val="6586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963960" y="3468600"/>
            <a:ext cx="849240" cy="160560"/>
          </a:xfrm>
          <a:prstGeom prst="rect">
            <a:avLst/>
          </a:prstGeom>
          <a:gradFill rotWithShape="0">
            <a:gsLst>
              <a:gs pos="0">
                <a:srgbClr val="6586a8"/>
              </a:gs>
              <a:gs pos="50000">
                <a:srgbClr val="99ccff"/>
              </a:gs>
              <a:gs pos="100000">
                <a:srgbClr val="6586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284640" y="3065400"/>
            <a:ext cx="679320" cy="40320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435400" y="2892600"/>
            <a:ext cx="849240" cy="172800"/>
          </a:xfrm>
          <a:prstGeom prst="rect">
            <a:avLst/>
          </a:prstGeom>
          <a:gradFill rotWithShape="0">
            <a:gsLst>
              <a:gs pos="0">
                <a:srgbClr val="a8a800"/>
              </a:gs>
              <a:gs pos="50000">
                <a:srgbClr val="ffff00"/>
              </a:gs>
              <a:gs pos="100000">
                <a:srgbClr val="a8a8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963960" y="3227400"/>
            <a:ext cx="849240" cy="241200"/>
          </a:xfrm>
          <a:prstGeom prst="rect">
            <a:avLst/>
          </a:prstGeom>
          <a:gradFill rotWithShape="0">
            <a:gsLst>
              <a:gs pos="0">
                <a:srgbClr val="a8a800"/>
              </a:gs>
              <a:gs pos="50000">
                <a:srgbClr val="ffff00"/>
              </a:gs>
              <a:gs pos="100000">
                <a:srgbClr val="a8a8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284640" y="2892600"/>
            <a:ext cx="679320" cy="33480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435400" y="2852640"/>
            <a:ext cx="849240" cy="39960"/>
          </a:xfrm>
          <a:prstGeom prst="rect">
            <a:avLst/>
          </a:prstGeom>
          <a:gradFill rotWithShape="0">
            <a:gsLst>
              <a:gs pos="0">
                <a:srgbClr val="869ba8"/>
              </a:gs>
              <a:gs pos="50000">
                <a:srgbClr val="ccecff"/>
              </a:gs>
              <a:gs pos="100000">
                <a:srgbClr val="869b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963960" y="2906640"/>
            <a:ext cx="849240" cy="320760"/>
          </a:xfrm>
          <a:prstGeom prst="rect">
            <a:avLst/>
          </a:prstGeom>
          <a:gradFill rotWithShape="0">
            <a:gsLst>
              <a:gs pos="0">
                <a:srgbClr val="869ba8"/>
              </a:gs>
              <a:gs pos="50000">
                <a:srgbClr val="ccecff"/>
              </a:gs>
              <a:gs pos="100000">
                <a:srgbClr val="869b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284640" y="2852640"/>
            <a:ext cx="679320" cy="5400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435400" y="2720880"/>
            <a:ext cx="849240" cy="131760"/>
          </a:xfrm>
          <a:prstGeom prst="rect">
            <a:avLst/>
          </a:prstGeom>
          <a:gradFill rotWithShape="0">
            <a:gsLst>
              <a:gs pos="0">
                <a:srgbClr val="a8a865"/>
              </a:gs>
              <a:gs pos="50000">
                <a:srgbClr val="ffff99"/>
              </a:gs>
              <a:gs pos="100000">
                <a:srgbClr val="a8a865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963960" y="2638440"/>
            <a:ext cx="849240" cy="268200"/>
          </a:xfrm>
          <a:prstGeom prst="rect">
            <a:avLst/>
          </a:prstGeom>
          <a:gradFill rotWithShape="0">
            <a:gsLst>
              <a:gs pos="0">
                <a:srgbClr val="a8a865"/>
              </a:gs>
              <a:gs pos="50000">
                <a:srgbClr val="ffff99"/>
              </a:gs>
              <a:gs pos="100000">
                <a:srgbClr val="a8a865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3284640" y="2638080"/>
            <a:ext cx="679320" cy="824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435400" y="2451240"/>
            <a:ext cx="849240" cy="269640"/>
          </a:xfrm>
          <a:prstGeom prst="rect">
            <a:avLst/>
          </a:prstGeom>
          <a:gradFill rotWithShape="0">
            <a:gsLst>
              <a:gs pos="0">
                <a:srgbClr val="86a8a8"/>
              </a:gs>
              <a:gs pos="50000">
                <a:srgbClr val="ccffff"/>
              </a:gs>
              <a:gs pos="100000">
                <a:srgbClr val="86a8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963960" y="2451240"/>
            <a:ext cx="849240" cy="187200"/>
          </a:xfrm>
          <a:prstGeom prst="rect">
            <a:avLst/>
          </a:prstGeom>
          <a:gradFill rotWithShape="0">
            <a:gsLst>
              <a:gs pos="0">
                <a:srgbClr val="86a8a8"/>
              </a:gs>
              <a:gs pos="50000">
                <a:srgbClr val="ccffff"/>
              </a:gs>
              <a:gs pos="100000">
                <a:srgbClr val="86a8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284640" y="2451240"/>
            <a:ext cx="679320" cy="288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435400" y="1930320"/>
            <a:ext cx="849240" cy="5209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963960" y="2157480"/>
            <a:ext cx="849240" cy="2937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284640" y="1930320"/>
            <a:ext cx="679320" cy="22716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435400" y="1650960"/>
            <a:ext cx="849240" cy="279360"/>
          </a:xfrm>
          <a:prstGeom prst="rect">
            <a:avLst/>
          </a:prstGeom>
          <a:gradFill rotWithShape="0">
            <a:gsLst>
              <a:gs pos="0">
                <a:srgbClr val="43a8a8"/>
              </a:gs>
              <a:gs pos="50000">
                <a:srgbClr val="66ffff"/>
              </a:gs>
              <a:gs pos="100000">
                <a:srgbClr val="43a8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963960" y="1650960"/>
            <a:ext cx="849240" cy="506520"/>
          </a:xfrm>
          <a:prstGeom prst="rect">
            <a:avLst/>
          </a:prstGeom>
          <a:gradFill rotWithShape="0">
            <a:gsLst>
              <a:gs pos="0">
                <a:srgbClr val="43a8a8"/>
              </a:gs>
              <a:gs pos="50000">
                <a:srgbClr val="66ffff"/>
              </a:gs>
              <a:gs pos="100000">
                <a:srgbClr val="43a8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284640" y="1650960"/>
            <a:ext cx="679320" cy="180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2100240" y="1650960"/>
            <a:ext cx="144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071800" y="58197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071800" y="5405400"/>
            <a:ext cx="284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071800" y="4991040"/>
            <a:ext cx="284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2071800" y="45640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071800" y="41497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071800" y="37353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071800" y="332100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071800" y="2906640"/>
            <a:ext cx="284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071800" y="24796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071800" y="206532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71800" y="165096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100240" y="5819760"/>
            <a:ext cx="3057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2100240" y="5819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3629160" y="581940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5157720" y="581940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798280" y="5562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327200" y="5540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798280" y="5189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355640" y="5219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2798280" y="484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327200" y="4925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827080" y="45482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355640" y="469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798280" y="3825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327200" y="42181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2827080" y="3130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355640" y="3668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827080" y="3022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355640" y="3456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2827080" y="2916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355640" y="3254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827080" y="2808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4327200" y="2973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827080" y="2728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355640" y="267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827080" y="2529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355640" y="24512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798280" y="2128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355640" y="2212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827080" y="1725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327200" y="1809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875960" y="57261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820160" y="53118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820160" y="48974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820160" y="44704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820160" y="405612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820160" y="3641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820160" y="32274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820160" y="28130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820160" y="23860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820160" y="197172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762920" y="15573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751840" y="5877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280760" y="5877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24000" y="5199120"/>
            <a:ext cx="1008000" cy="253800"/>
          </a:xfrm>
          <a:prstGeom prst="rect">
            <a:avLst/>
          </a:prstGeom>
          <a:gradFill rotWithShape="0">
            <a:gsLst>
              <a:gs pos="0">
                <a:srgbClr val="212165"/>
              </a:gs>
              <a:gs pos="50000">
                <a:srgbClr val="333399"/>
              </a:gs>
              <a:gs pos="100000">
                <a:srgbClr val="212165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Машинострое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24000" y="4935600"/>
            <a:ext cx="1008000" cy="253800"/>
          </a:xfrm>
          <a:prstGeom prst="rect">
            <a:avLst/>
          </a:prstGeom>
          <a:gradFill rotWithShape="0">
            <a:gsLst>
              <a:gs pos="0">
                <a:srgbClr val="a84300"/>
              </a:gs>
              <a:gs pos="50000">
                <a:srgbClr val="ff6600"/>
              </a:gs>
              <a:gs pos="100000">
                <a:srgbClr val="a843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ефтехи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324000" y="4672080"/>
            <a:ext cx="1008000" cy="253800"/>
          </a:xfrm>
          <a:prstGeom prst="rect">
            <a:avLst/>
          </a:prstGeom>
          <a:gradFill rotWithShape="0">
            <a:gsLst>
              <a:gs pos="0">
                <a:srgbClr val="0000a8"/>
              </a:gs>
              <a:gs pos="50000">
                <a:srgbClr val="0000ff"/>
              </a:gs>
              <a:gs pos="100000">
                <a:srgbClr val="0000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Пищевая пр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24000" y="4408560"/>
            <a:ext cx="1008000" cy="253800"/>
          </a:xfrm>
          <a:prstGeom prst="rect">
            <a:avLst/>
          </a:prstGeom>
          <a:gradFill rotWithShape="0">
            <a:gsLst>
              <a:gs pos="0">
                <a:srgbClr val="a86500"/>
              </a:gs>
              <a:gs pos="50000">
                <a:srgbClr val="ff9900"/>
              </a:gs>
              <a:gs pos="100000">
                <a:srgbClr val="a865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ефтега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24000" y="4146480"/>
            <a:ext cx="1008000" cy="254160"/>
          </a:xfrm>
          <a:prstGeom prst="rect">
            <a:avLst/>
          </a:prstGeom>
          <a:gradFill rotWithShape="0">
            <a:gsLst>
              <a:gs pos="0">
                <a:srgbClr val="0086a8"/>
              </a:gs>
              <a:gs pos="50000">
                <a:srgbClr val="00ccff"/>
              </a:gs>
              <a:gs pos="100000">
                <a:srgbClr val="0086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ельское хоз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24000" y="3882960"/>
            <a:ext cx="1008000" cy="254160"/>
          </a:xfrm>
          <a:prstGeom prst="rect">
            <a:avLst/>
          </a:prstGeom>
          <a:gradFill rotWithShape="0">
            <a:gsLst>
              <a:gs pos="0">
                <a:srgbClr val="a88600"/>
              </a:gs>
              <a:gs pos="50000">
                <a:srgbClr val="ffcc00"/>
              </a:gs>
              <a:gs pos="100000">
                <a:srgbClr val="a886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Высшее обр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24000" y="3619440"/>
            <a:ext cx="1008000" cy="254160"/>
          </a:xfrm>
          <a:prstGeom prst="rect">
            <a:avLst/>
          </a:prstGeom>
          <a:gradFill rotWithShape="0">
            <a:gsLst>
              <a:gs pos="0">
                <a:srgbClr val="6586a8"/>
              </a:gs>
              <a:gs pos="50000">
                <a:srgbClr val="99ccff"/>
              </a:gs>
              <a:gs pos="100000">
                <a:srgbClr val="6586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Биотехнолог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24000" y="3357720"/>
            <a:ext cx="1008000" cy="253800"/>
          </a:xfrm>
          <a:prstGeom prst="rect">
            <a:avLst/>
          </a:prstGeom>
          <a:gradFill rotWithShape="0">
            <a:gsLst>
              <a:gs pos="0">
                <a:srgbClr val="a8a800"/>
              </a:gs>
              <a:gs pos="50000">
                <a:srgbClr val="ffff00"/>
              </a:gs>
              <a:gs pos="100000">
                <a:srgbClr val="a8a8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Нау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24000" y="3094200"/>
            <a:ext cx="1008000" cy="253800"/>
          </a:xfrm>
          <a:prstGeom prst="rect">
            <a:avLst/>
          </a:prstGeom>
          <a:gradFill rotWithShape="0">
            <a:gsLst>
              <a:gs pos="0">
                <a:srgbClr val="869ba8"/>
              </a:gs>
              <a:gs pos="50000">
                <a:srgbClr val="ccecff"/>
              </a:gs>
              <a:gs pos="100000">
                <a:srgbClr val="869b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Новая экономи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24000" y="2830680"/>
            <a:ext cx="1008000" cy="253800"/>
          </a:xfrm>
          <a:prstGeom prst="rect">
            <a:avLst/>
          </a:prstGeom>
          <a:gradFill rotWithShape="0">
            <a:gsLst>
              <a:gs pos="0">
                <a:srgbClr val="a8a865"/>
              </a:gs>
              <a:gs pos="50000">
                <a:srgbClr val="ffff99"/>
              </a:gs>
              <a:gs pos="100000">
                <a:srgbClr val="a8a865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И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24000" y="2568600"/>
            <a:ext cx="1008000" cy="253800"/>
          </a:xfrm>
          <a:prstGeom prst="rect">
            <a:avLst/>
          </a:prstGeom>
          <a:gradFill rotWithShape="0">
            <a:gsLst>
              <a:gs pos="0">
                <a:srgbClr val="86a8a8"/>
              </a:gs>
              <a:gs pos="50000">
                <a:srgbClr val="ccffff"/>
              </a:gs>
              <a:gs pos="100000">
                <a:srgbClr val="86a8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Лесная пром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24000" y="2314440"/>
            <a:ext cx="1008000" cy="2541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томная пром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24000" y="2063880"/>
            <a:ext cx="1008000" cy="253800"/>
          </a:xfrm>
          <a:prstGeom prst="rect">
            <a:avLst/>
          </a:prstGeom>
          <a:gradFill rotWithShape="0">
            <a:gsLst>
              <a:gs pos="0">
                <a:srgbClr val="43a8a8"/>
              </a:gs>
              <a:gs pos="50000">
                <a:srgbClr val="66ffff"/>
              </a:gs>
              <a:gs pos="100000">
                <a:srgbClr val="43a8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Электротехни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234120" y="5370480"/>
            <a:ext cx="852480" cy="436680"/>
          </a:xfrm>
          <a:prstGeom prst="rect">
            <a:avLst/>
          </a:prstGeom>
          <a:gradFill rotWithShape="0">
            <a:gsLst>
              <a:gs pos="0">
                <a:srgbClr val="212165"/>
              </a:gs>
              <a:gs pos="50000">
                <a:srgbClr val="333399"/>
              </a:gs>
              <a:gs pos="100000">
                <a:srgbClr val="212165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769160" y="5551560"/>
            <a:ext cx="852480" cy="255600"/>
          </a:xfrm>
          <a:prstGeom prst="rect">
            <a:avLst/>
          </a:prstGeom>
          <a:gradFill rotWithShape="0">
            <a:gsLst>
              <a:gs pos="0">
                <a:srgbClr val="212165"/>
              </a:gs>
              <a:gs pos="50000">
                <a:srgbClr val="333399"/>
              </a:gs>
              <a:gs pos="100000">
                <a:srgbClr val="212165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086600" y="5370480"/>
            <a:ext cx="682560" cy="1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234120" y="4896000"/>
            <a:ext cx="852480" cy="474480"/>
          </a:xfrm>
          <a:prstGeom prst="rect">
            <a:avLst/>
          </a:prstGeom>
          <a:gradFill rotWithShape="0">
            <a:gsLst>
              <a:gs pos="0">
                <a:srgbClr val="a84300"/>
              </a:gs>
              <a:gs pos="50000">
                <a:srgbClr val="ff6600"/>
              </a:gs>
              <a:gs pos="100000">
                <a:srgbClr val="a843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769160" y="5388120"/>
            <a:ext cx="852480" cy="163440"/>
          </a:xfrm>
          <a:prstGeom prst="rect">
            <a:avLst/>
          </a:prstGeom>
          <a:gradFill rotWithShape="0">
            <a:gsLst>
              <a:gs pos="0">
                <a:srgbClr val="a84300"/>
              </a:gs>
              <a:gs pos="50000">
                <a:srgbClr val="ff6600"/>
              </a:gs>
              <a:gs pos="100000">
                <a:srgbClr val="a843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086600" y="4896000"/>
            <a:ext cx="682560" cy="49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234120" y="4549680"/>
            <a:ext cx="852480" cy="346320"/>
          </a:xfrm>
          <a:prstGeom prst="rect">
            <a:avLst/>
          </a:prstGeom>
          <a:gradFill rotWithShape="0">
            <a:gsLst>
              <a:gs pos="0">
                <a:srgbClr val="0000a8"/>
              </a:gs>
              <a:gs pos="50000">
                <a:srgbClr val="0000ff"/>
              </a:gs>
              <a:gs pos="100000">
                <a:srgbClr val="0000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769160" y="5168880"/>
            <a:ext cx="852480" cy="219240"/>
          </a:xfrm>
          <a:prstGeom prst="rect">
            <a:avLst/>
          </a:prstGeom>
          <a:gradFill rotWithShape="0">
            <a:gsLst>
              <a:gs pos="0">
                <a:srgbClr val="0000a8"/>
              </a:gs>
              <a:gs pos="50000">
                <a:srgbClr val="0000ff"/>
              </a:gs>
              <a:gs pos="100000">
                <a:srgbClr val="0000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086600" y="4549680"/>
            <a:ext cx="68256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234120" y="3894120"/>
            <a:ext cx="852480" cy="655560"/>
          </a:xfrm>
          <a:prstGeom prst="rect">
            <a:avLst/>
          </a:prstGeom>
          <a:gradFill rotWithShape="0">
            <a:gsLst>
              <a:gs pos="0">
                <a:srgbClr val="a86500"/>
              </a:gs>
              <a:gs pos="50000">
                <a:srgbClr val="ff9900"/>
              </a:gs>
              <a:gs pos="100000">
                <a:srgbClr val="a865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7769160" y="5024520"/>
            <a:ext cx="852480" cy="144360"/>
          </a:xfrm>
          <a:prstGeom prst="rect">
            <a:avLst/>
          </a:prstGeom>
          <a:gradFill rotWithShape="0">
            <a:gsLst>
              <a:gs pos="0">
                <a:srgbClr val="a86500"/>
              </a:gs>
              <a:gs pos="50000">
                <a:srgbClr val="ff9900"/>
              </a:gs>
              <a:gs pos="100000">
                <a:srgbClr val="a865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086600" y="3894120"/>
            <a:ext cx="682560" cy="113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234120" y="3494160"/>
            <a:ext cx="852480" cy="399960"/>
          </a:xfrm>
          <a:prstGeom prst="rect">
            <a:avLst/>
          </a:prstGeom>
          <a:gradFill rotWithShape="0">
            <a:gsLst>
              <a:gs pos="0">
                <a:srgbClr val="0086a8"/>
              </a:gs>
              <a:gs pos="50000">
                <a:srgbClr val="00ccff"/>
              </a:gs>
              <a:gs pos="100000">
                <a:srgbClr val="0086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7769160" y="4786200"/>
            <a:ext cx="852480" cy="238320"/>
          </a:xfrm>
          <a:prstGeom prst="rect">
            <a:avLst/>
          </a:prstGeom>
          <a:gradFill rotWithShape="0">
            <a:gsLst>
              <a:gs pos="0">
                <a:srgbClr val="0086a8"/>
              </a:gs>
              <a:gs pos="50000">
                <a:srgbClr val="00ccff"/>
              </a:gs>
              <a:gs pos="100000">
                <a:srgbClr val="0086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7086600" y="3494160"/>
            <a:ext cx="682560" cy="1292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234120" y="3201840"/>
            <a:ext cx="852480" cy="292320"/>
          </a:xfrm>
          <a:prstGeom prst="rect">
            <a:avLst/>
          </a:prstGeom>
          <a:gradFill rotWithShape="0">
            <a:gsLst>
              <a:gs pos="0">
                <a:srgbClr val="a88600"/>
              </a:gs>
              <a:gs pos="50000">
                <a:srgbClr val="ffcc00"/>
              </a:gs>
              <a:gs pos="100000">
                <a:srgbClr val="a886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7769160" y="4330800"/>
            <a:ext cx="852480" cy="455400"/>
          </a:xfrm>
          <a:prstGeom prst="rect">
            <a:avLst/>
          </a:prstGeom>
          <a:gradFill rotWithShape="0">
            <a:gsLst>
              <a:gs pos="0">
                <a:srgbClr val="a88600"/>
              </a:gs>
              <a:gs pos="50000">
                <a:srgbClr val="ffcc00"/>
              </a:gs>
              <a:gs pos="100000">
                <a:srgbClr val="a886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7086600" y="3201840"/>
            <a:ext cx="682560" cy="112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234120" y="3075120"/>
            <a:ext cx="852480" cy="126720"/>
          </a:xfrm>
          <a:prstGeom prst="rect">
            <a:avLst/>
          </a:prstGeom>
          <a:gradFill rotWithShape="0">
            <a:gsLst>
              <a:gs pos="0">
                <a:srgbClr val="6586a8"/>
              </a:gs>
              <a:gs pos="50000">
                <a:srgbClr val="99ccff"/>
              </a:gs>
              <a:gs pos="100000">
                <a:srgbClr val="6586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7769160" y="3857760"/>
            <a:ext cx="852480" cy="473040"/>
          </a:xfrm>
          <a:prstGeom prst="rect">
            <a:avLst/>
          </a:prstGeom>
          <a:gradFill rotWithShape="0">
            <a:gsLst>
              <a:gs pos="0">
                <a:srgbClr val="6586a8"/>
              </a:gs>
              <a:gs pos="50000">
                <a:srgbClr val="99ccff"/>
              </a:gs>
              <a:gs pos="100000">
                <a:srgbClr val="6586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7086600" y="3075120"/>
            <a:ext cx="682560" cy="78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6234120" y="2873520"/>
            <a:ext cx="852480" cy="201600"/>
          </a:xfrm>
          <a:prstGeom prst="rect">
            <a:avLst/>
          </a:prstGeom>
          <a:gradFill rotWithShape="0">
            <a:gsLst>
              <a:gs pos="0">
                <a:srgbClr val="a8a800"/>
              </a:gs>
              <a:gs pos="50000">
                <a:srgbClr val="ffff00"/>
              </a:gs>
              <a:gs pos="100000">
                <a:srgbClr val="a8a8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7769160" y="3602160"/>
            <a:ext cx="852480" cy="255600"/>
          </a:xfrm>
          <a:prstGeom prst="rect">
            <a:avLst/>
          </a:prstGeom>
          <a:gradFill rotWithShape="0">
            <a:gsLst>
              <a:gs pos="0">
                <a:srgbClr val="a8a800"/>
              </a:gs>
              <a:gs pos="50000">
                <a:srgbClr val="ffff00"/>
              </a:gs>
              <a:gs pos="100000">
                <a:srgbClr val="a8a8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7086600" y="2873520"/>
            <a:ext cx="682560" cy="72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234120" y="2819520"/>
            <a:ext cx="852480" cy="54000"/>
          </a:xfrm>
          <a:prstGeom prst="rect">
            <a:avLst/>
          </a:prstGeom>
          <a:gradFill rotWithShape="0">
            <a:gsLst>
              <a:gs pos="0">
                <a:srgbClr val="869ba8"/>
              </a:gs>
              <a:gs pos="50000">
                <a:srgbClr val="ccecff"/>
              </a:gs>
              <a:gs pos="100000">
                <a:srgbClr val="869b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7769160" y="3110040"/>
            <a:ext cx="852480" cy="492120"/>
          </a:xfrm>
          <a:prstGeom prst="rect">
            <a:avLst/>
          </a:prstGeom>
          <a:gradFill rotWithShape="0">
            <a:gsLst>
              <a:gs pos="0">
                <a:srgbClr val="869ba8"/>
              </a:gs>
              <a:gs pos="50000">
                <a:srgbClr val="ccecff"/>
              </a:gs>
              <a:gs pos="100000">
                <a:srgbClr val="869b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7086600" y="2819520"/>
            <a:ext cx="682560" cy="290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234120" y="2600280"/>
            <a:ext cx="852480" cy="219240"/>
          </a:xfrm>
          <a:prstGeom prst="rect">
            <a:avLst/>
          </a:prstGeom>
          <a:gradFill rotWithShape="0">
            <a:gsLst>
              <a:gs pos="0">
                <a:srgbClr val="a8a865"/>
              </a:gs>
              <a:gs pos="50000">
                <a:srgbClr val="ffff99"/>
              </a:gs>
              <a:gs pos="100000">
                <a:srgbClr val="a8a865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7769160" y="2344680"/>
            <a:ext cx="852480" cy="765360"/>
          </a:xfrm>
          <a:prstGeom prst="rect">
            <a:avLst/>
          </a:prstGeom>
          <a:gradFill rotWithShape="0">
            <a:gsLst>
              <a:gs pos="0">
                <a:srgbClr val="a8a865"/>
              </a:gs>
              <a:gs pos="50000">
                <a:srgbClr val="ffff99"/>
              </a:gs>
              <a:gs pos="100000">
                <a:srgbClr val="a8a865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7086600" y="2344680"/>
            <a:ext cx="682560" cy="255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234120" y="2417760"/>
            <a:ext cx="852480" cy="182520"/>
          </a:xfrm>
          <a:prstGeom prst="rect">
            <a:avLst/>
          </a:prstGeom>
          <a:gradFill rotWithShape="0">
            <a:gsLst>
              <a:gs pos="0">
                <a:srgbClr val="86a8a8"/>
              </a:gs>
              <a:gs pos="50000">
                <a:srgbClr val="ccffff"/>
              </a:gs>
              <a:gs pos="100000">
                <a:srgbClr val="86a8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7769160" y="2200320"/>
            <a:ext cx="852480" cy="144360"/>
          </a:xfrm>
          <a:prstGeom prst="rect">
            <a:avLst/>
          </a:prstGeom>
          <a:gradFill rotWithShape="0">
            <a:gsLst>
              <a:gs pos="0">
                <a:srgbClr val="86a8a8"/>
              </a:gs>
              <a:gs pos="50000">
                <a:srgbClr val="ccffff"/>
              </a:gs>
              <a:gs pos="100000">
                <a:srgbClr val="86a8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7086600" y="2200320"/>
            <a:ext cx="682560" cy="217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234120" y="1871640"/>
            <a:ext cx="852480" cy="5461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7769160" y="2035080"/>
            <a:ext cx="852480" cy="16524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086600" y="1871640"/>
            <a:ext cx="6825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234120" y="1652760"/>
            <a:ext cx="852480" cy="218880"/>
          </a:xfrm>
          <a:prstGeom prst="rect">
            <a:avLst/>
          </a:prstGeom>
          <a:gradFill rotWithShape="0">
            <a:gsLst>
              <a:gs pos="0">
                <a:srgbClr val="43a8a8"/>
              </a:gs>
              <a:gs pos="50000">
                <a:srgbClr val="66ffff"/>
              </a:gs>
              <a:gs pos="100000">
                <a:srgbClr val="43a8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7769160" y="1652760"/>
            <a:ext cx="852480" cy="382320"/>
          </a:xfrm>
          <a:prstGeom prst="rect">
            <a:avLst/>
          </a:prstGeom>
          <a:gradFill rotWithShape="0">
            <a:gsLst>
              <a:gs pos="0">
                <a:srgbClr val="43a8a8"/>
              </a:gs>
              <a:gs pos="50000">
                <a:srgbClr val="66ffff"/>
              </a:gs>
              <a:gs pos="100000">
                <a:srgbClr val="43a8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7086600" y="1652760"/>
            <a:ext cx="682560" cy="2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5892840" y="1652760"/>
            <a:ext cx="1440" cy="415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5861160" y="5807160"/>
            <a:ext cx="31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861160" y="5388120"/>
            <a:ext cx="316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861160" y="4968720"/>
            <a:ext cx="31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5861160" y="4568760"/>
            <a:ext cx="31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861160" y="4149720"/>
            <a:ext cx="31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861160" y="3730680"/>
            <a:ext cx="31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5861160" y="3311640"/>
            <a:ext cx="31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5861160" y="2892600"/>
            <a:ext cx="316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5861160" y="2490840"/>
            <a:ext cx="31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5861160" y="2071800"/>
            <a:ext cx="31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5861160" y="1652760"/>
            <a:ext cx="316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5892840" y="5807160"/>
            <a:ext cx="30700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5892840" y="580716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7427880" y="580716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8962920" y="580716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595560" y="5508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8089200" y="5599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6595560" y="5052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8124480" y="5381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595560" y="4633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8124480" y="51991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595560" y="41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8124480" y="5016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595560" y="3613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8089200" y="48164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595560" y="3267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8089200" y="44704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595560" y="3049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8089200" y="40147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6595560" y="2884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8089200" y="3649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6627600" y="2757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8089200" y="3267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595560" y="2630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8089200" y="26478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6595560" y="2428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8124480" y="2192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95560" y="2065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8124480" y="2028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595560" y="1682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8089200" y="17557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636880" y="56800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5571360" y="52610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571360" y="48420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571360" y="44402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571360" y="4021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571360" y="36021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571360" y="3182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571360" y="276372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571360" y="2363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571360" y="194472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5508000" y="15256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6532560" y="5877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8066160" y="5877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7FCB9-B642-4681-B21E-239EB31300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гноз структуры производства в базовых отрасля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наиболее вероятном сцена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050840" y="1052640"/>
            <a:ext cx="70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уктура производства товаров и услуг в базовых отраслях (млн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324000" y="5199120"/>
            <a:ext cx="1008000" cy="253800"/>
          </a:xfrm>
          <a:prstGeom prst="rect">
            <a:avLst/>
          </a:prstGeom>
          <a:gradFill rotWithShape="0">
            <a:gsLst>
              <a:gs pos="0">
                <a:srgbClr val="212165"/>
              </a:gs>
              <a:gs pos="50000">
                <a:srgbClr val="333399"/>
              </a:gs>
              <a:gs pos="100000">
                <a:srgbClr val="212165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Машинострое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324000" y="4935600"/>
            <a:ext cx="1008000" cy="253800"/>
          </a:xfrm>
          <a:prstGeom prst="rect">
            <a:avLst/>
          </a:prstGeom>
          <a:gradFill rotWithShape="0">
            <a:gsLst>
              <a:gs pos="0">
                <a:srgbClr val="a84300"/>
              </a:gs>
              <a:gs pos="50000">
                <a:srgbClr val="ff6600"/>
              </a:gs>
              <a:gs pos="100000">
                <a:srgbClr val="a843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ефтехи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24000" y="4672080"/>
            <a:ext cx="1008000" cy="253800"/>
          </a:xfrm>
          <a:prstGeom prst="rect">
            <a:avLst/>
          </a:prstGeom>
          <a:gradFill rotWithShape="0">
            <a:gsLst>
              <a:gs pos="0">
                <a:srgbClr val="0000a8"/>
              </a:gs>
              <a:gs pos="50000">
                <a:srgbClr val="0000ff"/>
              </a:gs>
              <a:gs pos="100000">
                <a:srgbClr val="0000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Пищевая пр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324000" y="4408560"/>
            <a:ext cx="1008000" cy="253800"/>
          </a:xfrm>
          <a:prstGeom prst="rect">
            <a:avLst/>
          </a:prstGeom>
          <a:gradFill rotWithShape="0">
            <a:gsLst>
              <a:gs pos="0">
                <a:srgbClr val="a86500"/>
              </a:gs>
              <a:gs pos="50000">
                <a:srgbClr val="ff9900"/>
              </a:gs>
              <a:gs pos="100000">
                <a:srgbClr val="a865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ефтега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324000" y="4146480"/>
            <a:ext cx="1008000" cy="254160"/>
          </a:xfrm>
          <a:prstGeom prst="rect">
            <a:avLst/>
          </a:prstGeom>
          <a:gradFill rotWithShape="0">
            <a:gsLst>
              <a:gs pos="0">
                <a:srgbClr val="0086a8"/>
              </a:gs>
              <a:gs pos="50000">
                <a:srgbClr val="00ccff"/>
              </a:gs>
              <a:gs pos="100000">
                <a:srgbClr val="0086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ельское хоз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24000" y="3882960"/>
            <a:ext cx="1008000" cy="254160"/>
          </a:xfrm>
          <a:prstGeom prst="rect">
            <a:avLst/>
          </a:prstGeom>
          <a:gradFill rotWithShape="0">
            <a:gsLst>
              <a:gs pos="0">
                <a:srgbClr val="a88600"/>
              </a:gs>
              <a:gs pos="50000">
                <a:srgbClr val="ffcc00"/>
              </a:gs>
              <a:gs pos="100000">
                <a:srgbClr val="a886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Высшее обр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324000" y="3619440"/>
            <a:ext cx="1008000" cy="254160"/>
          </a:xfrm>
          <a:prstGeom prst="rect">
            <a:avLst/>
          </a:prstGeom>
          <a:gradFill rotWithShape="0">
            <a:gsLst>
              <a:gs pos="0">
                <a:srgbClr val="6586a8"/>
              </a:gs>
              <a:gs pos="50000">
                <a:srgbClr val="99ccff"/>
              </a:gs>
              <a:gs pos="100000">
                <a:srgbClr val="6586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Биотехнолог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324000" y="3357720"/>
            <a:ext cx="1008000" cy="253800"/>
          </a:xfrm>
          <a:prstGeom prst="rect">
            <a:avLst/>
          </a:prstGeom>
          <a:gradFill rotWithShape="0">
            <a:gsLst>
              <a:gs pos="0">
                <a:srgbClr val="a8a800"/>
              </a:gs>
              <a:gs pos="50000">
                <a:srgbClr val="ffff00"/>
              </a:gs>
              <a:gs pos="100000">
                <a:srgbClr val="a8a8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Нау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324000" y="3094200"/>
            <a:ext cx="1008000" cy="253800"/>
          </a:xfrm>
          <a:prstGeom prst="rect">
            <a:avLst/>
          </a:prstGeom>
          <a:gradFill rotWithShape="0">
            <a:gsLst>
              <a:gs pos="0">
                <a:srgbClr val="869ba8"/>
              </a:gs>
              <a:gs pos="50000">
                <a:srgbClr val="ccecff"/>
              </a:gs>
              <a:gs pos="100000">
                <a:srgbClr val="869b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Новая экономи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324000" y="2830680"/>
            <a:ext cx="1008000" cy="253800"/>
          </a:xfrm>
          <a:prstGeom prst="rect">
            <a:avLst/>
          </a:prstGeom>
          <a:gradFill rotWithShape="0">
            <a:gsLst>
              <a:gs pos="0">
                <a:srgbClr val="a8a865"/>
              </a:gs>
              <a:gs pos="50000">
                <a:srgbClr val="ffff99"/>
              </a:gs>
              <a:gs pos="100000">
                <a:srgbClr val="a8a865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И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324000" y="2568600"/>
            <a:ext cx="1008000" cy="253800"/>
          </a:xfrm>
          <a:prstGeom prst="rect">
            <a:avLst/>
          </a:prstGeom>
          <a:gradFill rotWithShape="0">
            <a:gsLst>
              <a:gs pos="0">
                <a:srgbClr val="86a8a8"/>
              </a:gs>
              <a:gs pos="50000">
                <a:srgbClr val="ccffff"/>
              </a:gs>
              <a:gs pos="100000">
                <a:srgbClr val="86a8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Лесная пром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324000" y="2314440"/>
            <a:ext cx="1008000" cy="2541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томная пром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24000" y="2063880"/>
            <a:ext cx="1008000" cy="253800"/>
          </a:xfrm>
          <a:prstGeom prst="rect">
            <a:avLst/>
          </a:prstGeom>
          <a:gradFill rotWithShape="0">
            <a:gsLst>
              <a:gs pos="0">
                <a:srgbClr val="43a8a8"/>
              </a:gs>
              <a:gs pos="50000">
                <a:srgbClr val="66ffff"/>
              </a:gs>
              <a:gs pos="100000">
                <a:srgbClr val="43a8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Электротехни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392720" y="5865840"/>
            <a:ext cx="9493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3197160" y="5626080"/>
            <a:ext cx="1195560" cy="239760"/>
          </a:xfrm>
          <a:prstGeom prst="rect">
            <a:avLst/>
          </a:prstGeom>
          <a:gradFill rotWithShape="0">
            <a:gsLst>
              <a:gs pos="0">
                <a:srgbClr val="212165"/>
              </a:gs>
              <a:gs pos="50000">
                <a:srgbClr val="333399"/>
              </a:gs>
              <a:gs pos="100000">
                <a:srgbClr val="212165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5342040" y="5649840"/>
            <a:ext cx="1195200" cy="216000"/>
          </a:xfrm>
          <a:prstGeom prst="rect">
            <a:avLst/>
          </a:prstGeom>
          <a:gradFill rotWithShape="0">
            <a:gsLst>
              <a:gs pos="0">
                <a:srgbClr val="212165"/>
              </a:gs>
              <a:gs pos="50000">
                <a:srgbClr val="333399"/>
              </a:gs>
              <a:gs pos="100000">
                <a:srgbClr val="212165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392720" y="5626080"/>
            <a:ext cx="949320" cy="23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197160" y="5410080"/>
            <a:ext cx="1195560" cy="216000"/>
          </a:xfrm>
          <a:prstGeom prst="rect">
            <a:avLst/>
          </a:prstGeom>
          <a:gradFill rotWithShape="0">
            <a:gsLst>
              <a:gs pos="0">
                <a:srgbClr val="a84300"/>
              </a:gs>
              <a:gs pos="50000">
                <a:srgbClr val="ff6600"/>
              </a:gs>
              <a:gs pos="100000">
                <a:srgbClr val="a843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342040" y="5524560"/>
            <a:ext cx="1195200" cy="125280"/>
          </a:xfrm>
          <a:prstGeom prst="rect">
            <a:avLst/>
          </a:prstGeom>
          <a:gradFill rotWithShape="0">
            <a:gsLst>
              <a:gs pos="0">
                <a:srgbClr val="a84300"/>
              </a:gs>
              <a:gs pos="50000">
                <a:srgbClr val="ff6600"/>
              </a:gs>
              <a:gs pos="100000">
                <a:srgbClr val="a843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392720" y="5410080"/>
            <a:ext cx="94932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197160" y="5157720"/>
            <a:ext cx="1195560" cy="252360"/>
          </a:xfrm>
          <a:prstGeom prst="rect">
            <a:avLst/>
          </a:prstGeom>
          <a:gradFill rotWithShape="0">
            <a:gsLst>
              <a:gs pos="0">
                <a:srgbClr val="0000a8"/>
              </a:gs>
              <a:gs pos="50000">
                <a:srgbClr val="0000ff"/>
              </a:gs>
              <a:gs pos="100000">
                <a:srgbClr val="0000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342040" y="5135400"/>
            <a:ext cx="1195200" cy="389160"/>
          </a:xfrm>
          <a:prstGeom prst="rect">
            <a:avLst/>
          </a:prstGeom>
          <a:gradFill rotWithShape="0">
            <a:gsLst>
              <a:gs pos="0">
                <a:srgbClr val="0000a8"/>
              </a:gs>
              <a:gs pos="50000">
                <a:srgbClr val="0000ff"/>
              </a:gs>
              <a:gs pos="100000">
                <a:srgbClr val="0000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4392720" y="5135400"/>
            <a:ext cx="949320" cy="2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3197160" y="3182760"/>
            <a:ext cx="1195560" cy="1974960"/>
          </a:xfrm>
          <a:prstGeom prst="rect">
            <a:avLst/>
          </a:prstGeom>
          <a:gradFill rotWithShape="0">
            <a:gsLst>
              <a:gs pos="0">
                <a:srgbClr val="a86500"/>
              </a:gs>
              <a:gs pos="50000">
                <a:srgbClr val="ff9900"/>
              </a:gs>
              <a:gs pos="100000">
                <a:srgbClr val="a865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342040" y="4403880"/>
            <a:ext cx="1195200" cy="731520"/>
          </a:xfrm>
          <a:prstGeom prst="rect">
            <a:avLst/>
          </a:prstGeom>
          <a:gradFill rotWithShape="0">
            <a:gsLst>
              <a:gs pos="0">
                <a:srgbClr val="a86500"/>
              </a:gs>
              <a:gs pos="50000">
                <a:srgbClr val="ff9900"/>
              </a:gs>
              <a:gs pos="100000">
                <a:srgbClr val="a865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392720" y="3182760"/>
            <a:ext cx="949320" cy="122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197160" y="2782800"/>
            <a:ext cx="1195560" cy="399960"/>
          </a:xfrm>
          <a:prstGeom prst="rect">
            <a:avLst/>
          </a:prstGeom>
          <a:gradFill rotWithShape="0">
            <a:gsLst>
              <a:gs pos="0">
                <a:srgbClr val="0086a8"/>
              </a:gs>
              <a:gs pos="50000">
                <a:srgbClr val="00ccff"/>
              </a:gs>
              <a:gs pos="100000">
                <a:srgbClr val="0086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342040" y="4164120"/>
            <a:ext cx="1195200" cy="239760"/>
          </a:xfrm>
          <a:prstGeom prst="rect">
            <a:avLst/>
          </a:prstGeom>
          <a:gradFill rotWithShape="0">
            <a:gsLst>
              <a:gs pos="0">
                <a:srgbClr val="0086a8"/>
              </a:gs>
              <a:gs pos="50000">
                <a:srgbClr val="00ccff"/>
              </a:gs>
              <a:gs pos="100000">
                <a:srgbClr val="0086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392720" y="2782800"/>
            <a:ext cx="949320" cy="138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197160" y="2565360"/>
            <a:ext cx="1195560" cy="217440"/>
          </a:xfrm>
          <a:prstGeom prst="rect">
            <a:avLst/>
          </a:prstGeom>
          <a:gradFill rotWithShape="0">
            <a:gsLst>
              <a:gs pos="0">
                <a:srgbClr val="a88600"/>
              </a:gs>
              <a:gs pos="50000">
                <a:srgbClr val="ffcc00"/>
              </a:gs>
              <a:gs pos="100000">
                <a:srgbClr val="a886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342040" y="3902040"/>
            <a:ext cx="1195200" cy="262080"/>
          </a:xfrm>
          <a:prstGeom prst="rect">
            <a:avLst/>
          </a:prstGeom>
          <a:gradFill rotWithShape="0">
            <a:gsLst>
              <a:gs pos="0">
                <a:srgbClr val="a88600"/>
              </a:gs>
              <a:gs pos="50000">
                <a:srgbClr val="ffcc00"/>
              </a:gs>
              <a:gs pos="100000">
                <a:srgbClr val="a886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4392720" y="2565360"/>
            <a:ext cx="949320" cy="133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3197160" y="2462040"/>
            <a:ext cx="1195560" cy="103320"/>
          </a:xfrm>
          <a:prstGeom prst="rect">
            <a:avLst/>
          </a:prstGeom>
          <a:gradFill rotWithShape="0">
            <a:gsLst>
              <a:gs pos="0">
                <a:srgbClr val="6586a8"/>
              </a:gs>
              <a:gs pos="50000">
                <a:srgbClr val="99ccff"/>
              </a:gs>
              <a:gs pos="100000">
                <a:srgbClr val="6586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342040" y="3422520"/>
            <a:ext cx="1195200" cy="479520"/>
          </a:xfrm>
          <a:prstGeom prst="rect">
            <a:avLst/>
          </a:prstGeom>
          <a:gradFill rotWithShape="0">
            <a:gsLst>
              <a:gs pos="0">
                <a:srgbClr val="6586a8"/>
              </a:gs>
              <a:gs pos="50000">
                <a:srgbClr val="99ccff"/>
              </a:gs>
              <a:gs pos="100000">
                <a:srgbClr val="6586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4392720" y="2462040"/>
            <a:ext cx="949320" cy="960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197160" y="2336760"/>
            <a:ext cx="1195560" cy="125280"/>
          </a:xfrm>
          <a:prstGeom prst="rect">
            <a:avLst/>
          </a:prstGeom>
          <a:gradFill rotWithShape="0">
            <a:gsLst>
              <a:gs pos="0">
                <a:srgbClr val="a8a800"/>
              </a:gs>
              <a:gs pos="50000">
                <a:srgbClr val="ffff00"/>
              </a:gs>
              <a:gs pos="100000">
                <a:srgbClr val="a8a8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5342040" y="3159000"/>
            <a:ext cx="1195200" cy="263520"/>
          </a:xfrm>
          <a:prstGeom prst="rect">
            <a:avLst/>
          </a:prstGeom>
          <a:gradFill rotWithShape="0">
            <a:gsLst>
              <a:gs pos="0">
                <a:srgbClr val="a8a800"/>
              </a:gs>
              <a:gs pos="50000">
                <a:srgbClr val="ffff00"/>
              </a:gs>
              <a:gs pos="100000">
                <a:srgbClr val="a8a8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4392720" y="2336760"/>
            <a:ext cx="949320" cy="822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197160" y="2303640"/>
            <a:ext cx="1195560" cy="33120"/>
          </a:xfrm>
          <a:prstGeom prst="rect">
            <a:avLst/>
          </a:prstGeom>
          <a:gradFill rotWithShape="0">
            <a:gsLst>
              <a:gs pos="0">
                <a:srgbClr val="869ba8"/>
              </a:gs>
              <a:gs pos="50000">
                <a:srgbClr val="ccecff"/>
              </a:gs>
              <a:gs pos="100000">
                <a:srgbClr val="869b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342040" y="2805120"/>
            <a:ext cx="1195200" cy="353880"/>
          </a:xfrm>
          <a:prstGeom prst="rect">
            <a:avLst/>
          </a:prstGeom>
          <a:gradFill rotWithShape="0">
            <a:gsLst>
              <a:gs pos="0">
                <a:srgbClr val="869ba8"/>
              </a:gs>
              <a:gs pos="50000">
                <a:srgbClr val="ccecff"/>
              </a:gs>
              <a:gs pos="100000">
                <a:srgbClr val="869b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392720" y="2303640"/>
            <a:ext cx="949320" cy="501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197160" y="2257560"/>
            <a:ext cx="1195560" cy="46080"/>
          </a:xfrm>
          <a:prstGeom prst="rect">
            <a:avLst/>
          </a:prstGeom>
          <a:gradFill rotWithShape="0">
            <a:gsLst>
              <a:gs pos="0">
                <a:srgbClr val="a8a865"/>
              </a:gs>
              <a:gs pos="50000">
                <a:srgbClr val="ffff99"/>
              </a:gs>
              <a:gs pos="100000">
                <a:srgbClr val="a8a865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342040" y="2543040"/>
            <a:ext cx="1195200" cy="262080"/>
          </a:xfrm>
          <a:prstGeom prst="rect">
            <a:avLst/>
          </a:prstGeom>
          <a:gradFill rotWithShape="0">
            <a:gsLst>
              <a:gs pos="0">
                <a:srgbClr val="a8a865"/>
              </a:gs>
              <a:gs pos="50000">
                <a:srgbClr val="ffff99"/>
              </a:gs>
              <a:gs pos="100000">
                <a:srgbClr val="a8a865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392720" y="2257560"/>
            <a:ext cx="949320" cy="28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197160" y="2176560"/>
            <a:ext cx="1195560" cy="81000"/>
          </a:xfrm>
          <a:prstGeom prst="rect">
            <a:avLst/>
          </a:prstGeom>
          <a:gradFill rotWithShape="0">
            <a:gsLst>
              <a:gs pos="0">
                <a:srgbClr val="86a8a8"/>
              </a:gs>
              <a:gs pos="50000">
                <a:srgbClr val="ccffff"/>
              </a:gs>
              <a:gs pos="100000">
                <a:srgbClr val="86a8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342040" y="2440080"/>
            <a:ext cx="1195200" cy="102960"/>
          </a:xfrm>
          <a:prstGeom prst="rect">
            <a:avLst/>
          </a:prstGeom>
          <a:gradFill rotWithShape="0">
            <a:gsLst>
              <a:gs pos="0">
                <a:srgbClr val="86a8a8"/>
              </a:gs>
              <a:gs pos="50000">
                <a:srgbClr val="ccffff"/>
              </a:gs>
              <a:gs pos="100000">
                <a:srgbClr val="86a8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4392720" y="2176560"/>
            <a:ext cx="94932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3197160" y="1789200"/>
            <a:ext cx="1195560" cy="3873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342040" y="2268360"/>
            <a:ext cx="1195200" cy="171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4392720" y="1789200"/>
            <a:ext cx="949320" cy="479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3197160" y="1538280"/>
            <a:ext cx="1195560" cy="250920"/>
          </a:xfrm>
          <a:prstGeom prst="rect">
            <a:avLst/>
          </a:prstGeom>
          <a:gradFill rotWithShape="0">
            <a:gsLst>
              <a:gs pos="0">
                <a:srgbClr val="43a8a8"/>
              </a:gs>
              <a:gs pos="50000">
                <a:srgbClr val="66ffff"/>
              </a:gs>
              <a:gs pos="100000">
                <a:srgbClr val="43a8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342040" y="1538280"/>
            <a:ext cx="1195200" cy="730080"/>
          </a:xfrm>
          <a:prstGeom prst="rect">
            <a:avLst/>
          </a:prstGeom>
          <a:gradFill rotWithShape="0">
            <a:gsLst>
              <a:gs pos="0">
                <a:srgbClr val="43a8a8"/>
              </a:gs>
              <a:gs pos="50000">
                <a:srgbClr val="66ffff"/>
              </a:gs>
              <a:gs pos="100000">
                <a:srgbClr val="43a8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392720" y="1538280"/>
            <a:ext cx="949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2727360" y="1538280"/>
            <a:ext cx="1440" cy="4327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2684520" y="5865840"/>
            <a:ext cx="428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2684520" y="543240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2684520" y="499896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684520" y="456408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684520" y="413064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684520" y="3708360"/>
            <a:ext cx="42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684520" y="327348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684520" y="284004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684520" y="2405160"/>
            <a:ext cx="428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684520" y="197172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684520" y="1538280"/>
            <a:ext cx="42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2727360" y="5865840"/>
            <a:ext cx="42908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2727360" y="586584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4871880" y="5865840"/>
            <a:ext cx="32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018200" y="586584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623400" y="56498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60,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767560" y="56610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96,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623400" y="54212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51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767560" y="5489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26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623400" y="5192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68,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767560" y="5238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705,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3569400" y="407340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332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715720" y="467820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318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3623400" y="28861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73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767560" y="4187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16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3623400" y="25765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767560" y="39355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75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3666240" y="2417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767560" y="35701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8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3666240" y="230364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4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767560" y="31939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6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3390120" y="222264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767560" y="28861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5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3966480" y="21891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9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5767560" y="25765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81,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666240" y="21193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5767560" y="23940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5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623400" y="18921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65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5767560" y="22575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18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3623400" y="1571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9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715720" y="181116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311,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418120" y="5775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2342520" y="53402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2342520" y="49068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2342520" y="447372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342520" y="40384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2342520" y="3616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2342520" y="3182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342520" y="27478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2342520" y="23144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2342520" y="18795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2268000" y="14461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3655440" y="5942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5799960" y="59421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C614-8FD3-4D90-A1E3-766584BA44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гноз структуры занятости и доходов в поддерживающих отраслях при наиболее вероятном сцена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2556000" y="1012680"/>
            <a:ext cx="208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уктура занятост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ыс. чел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508720" y="1012680"/>
            <a:ext cx="34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уктура годовых доходов занятых в поддерживающих отраслях (млн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237360" y="4481640"/>
            <a:ext cx="826920" cy="1365120"/>
          </a:xfrm>
          <a:prstGeom prst="rect">
            <a:avLst/>
          </a:prstGeom>
          <a:gradFill rotWithShape="0">
            <a:gsLst>
              <a:gs pos="0">
                <a:srgbClr val="004300"/>
              </a:gs>
              <a:gs pos="50000">
                <a:srgbClr val="006600"/>
              </a:gs>
              <a:gs pos="100000">
                <a:srgbClr val="0043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7729560" y="4427640"/>
            <a:ext cx="828720" cy="1419120"/>
          </a:xfrm>
          <a:prstGeom prst="rect">
            <a:avLst/>
          </a:prstGeom>
          <a:gradFill rotWithShape="0">
            <a:gsLst>
              <a:gs pos="0">
                <a:srgbClr val="004300"/>
              </a:gs>
              <a:gs pos="50000">
                <a:srgbClr val="006600"/>
              </a:gs>
              <a:gs pos="100000">
                <a:srgbClr val="0043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7064280" y="4427640"/>
            <a:ext cx="665280" cy="5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6237360" y="3164040"/>
            <a:ext cx="826920" cy="1317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990000"/>
              </a:gs>
              <a:gs pos="100000">
                <a:srgbClr val="65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7729560" y="3084480"/>
            <a:ext cx="828720" cy="134316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990000"/>
              </a:gs>
              <a:gs pos="100000">
                <a:srgbClr val="65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7064280" y="3084120"/>
            <a:ext cx="665280" cy="79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237360" y="2854440"/>
            <a:ext cx="826920" cy="309600"/>
          </a:xfrm>
          <a:prstGeom prst="rect">
            <a:avLst/>
          </a:prstGeom>
          <a:gradFill rotWithShape="0">
            <a:gsLst>
              <a:gs pos="0">
                <a:srgbClr val="008600"/>
              </a:gs>
              <a:gs pos="50000">
                <a:srgbClr val="00cc00"/>
              </a:gs>
              <a:gs pos="100000">
                <a:srgbClr val="0086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7729560" y="2747880"/>
            <a:ext cx="828720" cy="336600"/>
          </a:xfrm>
          <a:prstGeom prst="rect">
            <a:avLst/>
          </a:prstGeom>
          <a:gradFill rotWithShape="0">
            <a:gsLst>
              <a:gs pos="0">
                <a:srgbClr val="008600"/>
              </a:gs>
              <a:gs pos="50000">
                <a:srgbClr val="00cc00"/>
              </a:gs>
              <a:gs pos="100000">
                <a:srgbClr val="0086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7064280" y="2747880"/>
            <a:ext cx="665280" cy="10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6237360" y="2362320"/>
            <a:ext cx="826920" cy="492120"/>
          </a:xfrm>
          <a:prstGeom prst="rect">
            <a:avLst/>
          </a:prstGeom>
          <a:gradFill rotWithShape="0">
            <a:gsLst>
              <a:gs pos="0">
                <a:srgbClr val="a82100"/>
              </a:gs>
              <a:gs pos="50000">
                <a:srgbClr val="ff3300"/>
              </a:gs>
              <a:gs pos="100000">
                <a:srgbClr val="a821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7729560" y="2389320"/>
            <a:ext cx="828720" cy="358560"/>
          </a:xfrm>
          <a:prstGeom prst="rect">
            <a:avLst/>
          </a:prstGeom>
          <a:gradFill rotWithShape="0">
            <a:gsLst>
              <a:gs pos="0">
                <a:srgbClr val="a82100"/>
              </a:gs>
              <a:gs pos="50000">
                <a:srgbClr val="ff3300"/>
              </a:gs>
              <a:gs pos="100000">
                <a:srgbClr val="a821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7064280" y="2362320"/>
            <a:ext cx="665280" cy="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237360" y="1897200"/>
            <a:ext cx="826920" cy="465120"/>
          </a:xfrm>
          <a:prstGeom prst="rect">
            <a:avLst/>
          </a:prstGeom>
          <a:gradFill rotWithShape="0">
            <a:gsLst>
              <a:gs pos="0">
                <a:srgbClr val="65a886"/>
              </a:gs>
              <a:gs pos="50000">
                <a:srgbClr val="99ffcc"/>
              </a:gs>
              <a:gs pos="100000">
                <a:srgbClr val="65a88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7729560" y="2077920"/>
            <a:ext cx="828720" cy="311400"/>
          </a:xfrm>
          <a:prstGeom prst="rect">
            <a:avLst/>
          </a:prstGeom>
          <a:gradFill rotWithShape="0">
            <a:gsLst>
              <a:gs pos="0">
                <a:srgbClr val="65a886"/>
              </a:gs>
              <a:gs pos="50000">
                <a:srgbClr val="99ffcc"/>
              </a:gs>
              <a:gs pos="100000">
                <a:srgbClr val="65a88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7064280" y="1897200"/>
            <a:ext cx="665280" cy="18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6237360" y="1666800"/>
            <a:ext cx="826920" cy="230400"/>
          </a:xfrm>
          <a:prstGeom prst="rect">
            <a:avLst/>
          </a:prstGeom>
          <a:gradFill rotWithShape="0">
            <a:gsLst>
              <a:gs pos="0">
                <a:srgbClr val="a88686"/>
              </a:gs>
              <a:gs pos="50000">
                <a:srgbClr val="ffcccc"/>
              </a:gs>
              <a:gs pos="100000">
                <a:srgbClr val="a8868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7729560" y="1666800"/>
            <a:ext cx="828720" cy="411120"/>
          </a:xfrm>
          <a:prstGeom prst="rect">
            <a:avLst/>
          </a:prstGeom>
          <a:gradFill rotWithShape="0">
            <a:gsLst>
              <a:gs pos="0">
                <a:srgbClr val="a88686"/>
              </a:gs>
              <a:gs pos="50000">
                <a:srgbClr val="ffcccc"/>
              </a:gs>
              <a:gs pos="100000">
                <a:srgbClr val="a8868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7064280" y="1666800"/>
            <a:ext cx="66528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5904000" y="1666800"/>
            <a:ext cx="1440" cy="417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5877000" y="5846760"/>
            <a:ext cx="270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5877000" y="5022720"/>
            <a:ext cx="270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877000" y="4170240"/>
            <a:ext cx="27000" cy="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877000" y="3341520"/>
            <a:ext cx="27000" cy="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5877000" y="2490840"/>
            <a:ext cx="270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5877000" y="1666800"/>
            <a:ext cx="270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5904000" y="5846760"/>
            <a:ext cx="29876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5904000" y="5846760"/>
            <a:ext cx="1440" cy="79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 flipV="1">
            <a:off x="7397640" y="5846760"/>
            <a:ext cx="1800" cy="79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8891640" y="5846760"/>
            <a:ext cx="1440" cy="79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570000" y="49687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8063640" y="50497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8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70000" y="36306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8063640" y="36799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595560" y="2917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8089560" y="2828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595560" y="2505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8063640" y="24922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595560" y="2039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8089560" y="2154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595560" y="1676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8063640" y="17953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5687640" y="5668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5633280" y="4840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5633280" y="398952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5633280" y="31640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5633280" y="230832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579280" y="14842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541200" y="5877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8035200" y="5877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495520" y="4732200"/>
            <a:ext cx="828720" cy="1081080"/>
          </a:xfrm>
          <a:prstGeom prst="rect">
            <a:avLst/>
          </a:prstGeom>
          <a:gradFill rotWithShape="0">
            <a:gsLst>
              <a:gs pos="0">
                <a:srgbClr val="004300"/>
              </a:gs>
              <a:gs pos="50000">
                <a:srgbClr val="006600"/>
              </a:gs>
              <a:gs pos="100000">
                <a:srgbClr val="0043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986280" y="4344840"/>
            <a:ext cx="828720" cy="1468440"/>
          </a:xfrm>
          <a:prstGeom prst="rect">
            <a:avLst/>
          </a:prstGeom>
          <a:gradFill rotWithShape="0">
            <a:gsLst>
              <a:gs pos="0">
                <a:srgbClr val="004300"/>
              </a:gs>
              <a:gs pos="50000">
                <a:srgbClr val="006600"/>
              </a:gs>
              <a:gs pos="100000">
                <a:srgbClr val="0043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3324240" y="4344840"/>
            <a:ext cx="662040" cy="38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495520" y="3211560"/>
            <a:ext cx="828720" cy="152064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990000"/>
              </a:gs>
              <a:gs pos="100000">
                <a:srgbClr val="65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986280" y="2927520"/>
            <a:ext cx="828720" cy="141732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990000"/>
              </a:gs>
              <a:gs pos="100000">
                <a:srgbClr val="65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3324240" y="2927160"/>
            <a:ext cx="662040" cy="284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495520" y="2979720"/>
            <a:ext cx="828720" cy="231840"/>
          </a:xfrm>
          <a:prstGeom prst="rect">
            <a:avLst/>
          </a:prstGeom>
          <a:gradFill rotWithShape="0">
            <a:gsLst>
              <a:gs pos="0">
                <a:srgbClr val="008600"/>
              </a:gs>
              <a:gs pos="50000">
                <a:srgbClr val="00cc00"/>
              </a:gs>
              <a:gs pos="100000">
                <a:srgbClr val="0086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3986280" y="2747880"/>
            <a:ext cx="828720" cy="179640"/>
          </a:xfrm>
          <a:prstGeom prst="rect">
            <a:avLst/>
          </a:prstGeom>
          <a:gradFill rotWithShape="0">
            <a:gsLst>
              <a:gs pos="0">
                <a:srgbClr val="008600"/>
              </a:gs>
              <a:gs pos="50000">
                <a:srgbClr val="00cc00"/>
              </a:gs>
              <a:gs pos="100000">
                <a:srgbClr val="0086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3324240" y="2747880"/>
            <a:ext cx="662040" cy="231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495520" y="2128680"/>
            <a:ext cx="828720" cy="851040"/>
          </a:xfrm>
          <a:prstGeom prst="rect">
            <a:avLst/>
          </a:prstGeom>
          <a:gradFill rotWithShape="0">
            <a:gsLst>
              <a:gs pos="0">
                <a:srgbClr val="a82100"/>
              </a:gs>
              <a:gs pos="50000">
                <a:srgbClr val="ff3300"/>
              </a:gs>
              <a:gs pos="100000">
                <a:srgbClr val="a821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3986280" y="2206800"/>
            <a:ext cx="828720" cy="541080"/>
          </a:xfrm>
          <a:prstGeom prst="rect">
            <a:avLst/>
          </a:prstGeom>
          <a:gradFill rotWithShape="0">
            <a:gsLst>
              <a:gs pos="0">
                <a:srgbClr val="a82100"/>
              </a:gs>
              <a:gs pos="50000">
                <a:srgbClr val="ff3300"/>
              </a:gs>
              <a:gs pos="100000">
                <a:srgbClr val="a821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3324240" y="2128680"/>
            <a:ext cx="662040" cy="7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495520" y="1844640"/>
            <a:ext cx="828720" cy="284040"/>
          </a:xfrm>
          <a:prstGeom prst="rect">
            <a:avLst/>
          </a:prstGeom>
          <a:gradFill rotWithShape="0">
            <a:gsLst>
              <a:gs pos="0">
                <a:srgbClr val="65a886"/>
              </a:gs>
              <a:gs pos="50000">
                <a:srgbClr val="99ffcc"/>
              </a:gs>
              <a:gs pos="100000">
                <a:srgbClr val="65a88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986280" y="1973160"/>
            <a:ext cx="828720" cy="233640"/>
          </a:xfrm>
          <a:prstGeom prst="rect">
            <a:avLst/>
          </a:prstGeom>
          <a:gradFill rotWithShape="0">
            <a:gsLst>
              <a:gs pos="0">
                <a:srgbClr val="65a886"/>
              </a:gs>
              <a:gs pos="50000">
                <a:srgbClr val="99ffcc"/>
              </a:gs>
              <a:gs pos="100000">
                <a:srgbClr val="65a88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324240" y="1844640"/>
            <a:ext cx="662040" cy="128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495520" y="1665360"/>
            <a:ext cx="828720" cy="179280"/>
          </a:xfrm>
          <a:prstGeom prst="rect">
            <a:avLst/>
          </a:prstGeom>
          <a:gradFill rotWithShape="0">
            <a:gsLst>
              <a:gs pos="0">
                <a:srgbClr val="a88686"/>
              </a:gs>
              <a:gs pos="50000">
                <a:srgbClr val="ffcccc"/>
              </a:gs>
              <a:gs pos="100000">
                <a:srgbClr val="a8868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3986280" y="1665360"/>
            <a:ext cx="828720" cy="307800"/>
          </a:xfrm>
          <a:prstGeom prst="rect">
            <a:avLst/>
          </a:prstGeom>
          <a:gradFill rotWithShape="0">
            <a:gsLst>
              <a:gs pos="0">
                <a:srgbClr val="a88686"/>
              </a:gs>
              <a:gs pos="50000">
                <a:srgbClr val="ffcccc"/>
              </a:gs>
              <a:gs pos="100000">
                <a:srgbClr val="a8868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3324240" y="1665360"/>
            <a:ext cx="66204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163600" y="1665360"/>
            <a:ext cx="1800" cy="414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131920" y="5813280"/>
            <a:ext cx="31680" cy="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131920" y="5402160"/>
            <a:ext cx="31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2131920" y="4989600"/>
            <a:ext cx="31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2131920" y="4576680"/>
            <a:ext cx="31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2131920" y="4164120"/>
            <a:ext cx="31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131920" y="3753000"/>
            <a:ext cx="316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131920" y="3314880"/>
            <a:ext cx="316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131920" y="2901960"/>
            <a:ext cx="31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2131920" y="2489040"/>
            <a:ext cx="31680" cy="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2131920" y="2076480"/>
            <a:ext cx="31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2131920" y="1665360"/>
            <a:ext cx="31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163600" y="5813280"/>
            <a:ext cx="2982960" cy="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2163600" y="5813280"/>
            <a:ext cx="1800" cy="7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3654360" y="5813280"/>
            <a:ext cx="1800" cy="7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5146560" y="5813280"/>
            <a:ext cx="1800" cy="7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2845080" y="5092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4338360" y="4886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2845080" y="3892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4338360" y="3562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2877840" y="3016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4370040" y="2763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845080" y="2475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4338360" y="2401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877840" y="1908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4370040" y="2016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2877840" y="1676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370040" y="1757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913400" y="5634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851840" y="52214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851840" y="480852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851840" y="43974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851840" y="39844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1851840" y="357192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851840" y="31338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1851840" y="27208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851840" y="2309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851840" y="1897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789920" y="14842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2784600" y="5877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4276080" y="5877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468360" y="4384800"/>
            <a:ext cx="1008000" cy="253800"/>
          </a:xfrm>
          <a:prstGeom prst="rect">
            <a:avLst/>
          </a:prstGeom>
          <a:gradFill rotWithShape="0">
            <a:gsLst>
              <a:gs pos="0">
                <a:srgbClr val="004300"/>
              </a:gs>
              <a:gs pos="50000">
                <a:srgbClr val="006600"/>
              </a:gs>
              <a:gs pos="100000">
                <a:srgbClr val="0043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Транспор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468360" y="4121280"/>
            <a:ext cx="1008000" cy="2538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990000"/>
              </a:gs>
              <a:gs pos="100000">
                <a:srgbClr val="65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Строительств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468360" y="3857760"/>
            <a:ext cx="1008000" cy="253800"/>
          </a:xfrm>
          <a:prstGeom prst="rect">
            <a:avLst/>
          </a:prstGeom>
          <a:gradFill rotWithShape="0">
            <a:gsLst>
              <a:gs pos="0">
                <a:srgbClr val="008600"/>
              </a:gs>
              <a:gs pos="50000">
                <a:srgbClr val="00cc00"/>
              </a:gs>
              <a:gs pos="100000">
                <a:srgbClr val="0086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Энергети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468360" y="3594240"/>
            <a:ext cx="1008000" cy="253800"/>
          </a:xfrm>
          <a:prstGeom prst="rect">
            <a:avLst/>
          </a:prstGeom>
          <a:gradFill rotWithShape="0">
            <a:gsLst>
              <a:gs pos="0">
                <a:srgbClr val="a82100"/>
              </a:gs>
              <a:gs pos="50000">
                <a:srgbClr val="ff3300"/>
              </a:gs>
              <a:gs pos="100000">
                <a:srgbClr val="a821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Торговл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468360" y="3332160"/>
            <a:ext cx="1008000" cy="254160"/>
          </a:xfrm>
          <a:prstGeom prst="rect">
            <a:avLst/>
          </a:prstGeom>
          <a:gradFill rotWithShape="0">
            <a:gsLst>
              <a:gs pos="0">
                <a:srgbClr val="65a886"/>
              </a:gs>
              <a:gs pos="50000">
                <a:srgbClr val="99ffcc"/>
              </a:gs>
              <a:gs pos="100000">
                <a:srgbClr val="65a88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Финанс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468360" y="3068640"/>
            <a:ext cx="1008000" cy="254160"/>
          </a:xfrm>
          <a:prstGeom prst="rect">
            <a:avLst/>
          </a:prstGeom>
          <a:gradFill rotWithShape="0">
            <a:gsLst>
              <a:gs pos="0">
                <a:srgbClr val="a88686"/>
              </a:gs>
              <a:gs pos="50000">
                <a:srgbClr val="ffcccc"/>
              </a:gs>
              <a:gs pos="100000">
                <a:srgbClr val="a8868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Связ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51AB-1456-4DFC-A6DE-29BE9805DD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гноз структуры производства в поддерживающих отрасля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наиболее вероятном сцена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694080" y="1052640"/>
            <a:ext cx="797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уктура производства товаров и услуг в поддерживающих отраслях (млн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186000" y="4838760"/>
            <a:ext cx="1158840" cy="1060560"/>
          </a:xfrm>
          <a:prstGeom prst="rect">
            <a:avLst/>
          </a:prstGeom>
          <a:gradFill rotWithShape="0">
            <a:gsLst>
              <a:gs pos="0">
                <a:srgbClr val="004300"/>
              </a:gs>
              <a:gs pos="50000">
                <a:srgbClr val="006600"/>
              </a:gs>
              <a:gs pos="100000">
                <a:srgbClr val="0043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186000" y="4278240"/>
            <a:ext cx="1158840" cy="56052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990000"/>
              </a:gs>
              <a:gs pos="100000">
                <a:srgbClr val="65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186000" y="3860640"/>
            <a:ext cx="1158840" cy="417600"/>
          </a:xfrm>
          <a:prstGeom prst="rect">
            <a:avLst/>
          </a:prstGeom>
          <a:gradFill rotWithShape="0">
            <a:gsLst>
              <a:gs pos="0">
                <a:srgbClr val="008600"/>
              </a:gs>
              <a:gs pos="50000">
                <a:srgbClr val="00cc00"/>
              </a:gs>
              <a:gs pos="100000">
                <a:srgbClr val="0086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3186000" y="1886040"/>
            <a:ext cx="1158840" cy="1974600"/>
          </a:xfrm>
          <a:prstGeom prst="rect">
            <a:avLst/>
          </a:prstGeom>
          <a:gradFill rotWithShape="0">
            <a:gsLst>
              <a:gs pos="0">
                <a:srgbClr val="a82100"/>
              </a:gs>
              <a:gs pos="50000">
                <a:srgbClr val="ff3300"/>
              </a:gs>
              <a:gs pos="100000">
                <a:srgbClr val="a821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3186000" y="1757520"/>
            <a:ext cx="1158840" cy="128520"/>
          </a:xfrm>
          <a:prstGeom prst="rect">
            <a:avLst/>
          </a:prstGeom>
          <a:gradFill rotWithShape="0">
            <a:gsLst>
              <a:gs pos="0">
                <a:srgbClr val="65a886"/>
              </a:gs>
              <a:gs pos="50000">
                <a:srgbClr val="99ffcc"/>
              </a:gs>
              <a:gs pos="100000">
                <a:srgbClr val="65a88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3186000" y="1565280"/>
            <a:ext cx="1158840" cy="192240"/>
          </a:xfrm>
          <a:prstGeom prst="rect">
            <a:avLst/>
          </a:prstGeom>
          <a:gradFill rotWithShape="0">
            <a:gsLst>
              <a:gs pos="0">
                <a:srgbClr val="a88686"/>
              </a:gs>
              <a:gs pos="50000">
                <a:srgbClr val="ffcccc"/>
              </a:gs>
              <a:gs pos="100000">
                <a:srgbClr val="a8868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724120" y="1565280"/>
            <a:ext cx="3240" cy="4334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646360" y="5899320"/>
            <a:ext cx="77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646360" y="5465880"/>
            <a:ext cx="77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2646360" y="5032440"/>
            <a:ext cx="77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646360" y="4599000"/>
            <a:ext cx="77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2646360" y="4165560"/>
            <a:ext cx="77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2646360" y="3732120"/>
            <a:ext cx="77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646360" y="3298680"/>
            <a:ext cx="777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2646360" y="2865600"/>
            <a:ext cx="7776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2646360" y="2432160"/>
            <a:ext cx="777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646360" y="1998720"/>
            <a:ext cx="777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2646360" y="1565280"/>
            <a:ext cx="777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2627280" y="5899320"/>
            <a:ext cx="4537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 flipV="1">
            <a:off x="2724120" y="5899320"/>
            <a:ext cx="32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3598200" y="52722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92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3598200" y="4454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65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3598200" y="3971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3598200" y="2768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2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3633120" y="17413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3633840" y="15652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1,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2372040" y="58183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2303640" y="53848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303640" y="49514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2303640" y="45180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2303640" y="40845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2303640" y="365112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2303640" y="32180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303640" y="27846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303640" y="23511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2303640" y="191772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2232000" y="14842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570120" y="595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4344840" y="4838760"/>
            <a:ext cx="947880" cy="16200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344840" y="4278240"/>
            <a:ext cx="947880" cy="22392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344840" y="3860640"/>
            <a:ext cx="947880" cy="2732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4344840" y="1886040"/>
            <a:ext cx="947880" cy="33660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4344840" y="1757520"/>
            <a:ext cx="947880" cy="3380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344840" y="1565280"/>
            <a:ext cx="947880" cy="32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4788000" y="5899320"/>
            <a:ext cx="32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7161120" y="5899320"/>
            <a:ext cx="32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292720" y="5000760"/>
            <a:ext cx="1219320" cy="898560"/>
          </a:xfrm>
          <a:prstGeom prst="rect">
            <a:avLst/>
          </a:prstGeom>
          <a:gradFill rotWithShape="0">
            <a:gsLst>
              <a:gs pos="0">
                <a:srgbClr val="004300"/>
              </a:gs>
              <a:gs pos="50000">
                <a:srgbClr val="006600"/>
              </a:gs>
              <a:gs pos="100000">
                <a:srgbClr val="0043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292720" y="4502160"/>
            <a:ext cx="1219320" cy="498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990000"/>
              </a:gs>
              <a:gs pos="100000">
                <a:srgbClr val="65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292720" y="4133880"/>
            <a:ext cx="1219320" cy="368280"/>
          </a:xfrm>
          <a:prstGeom prst="rect">
            <a:avLst/>
          </a:prstGeom>
          <a:gradFill rotWithShape="0">
            <a:gsLst>
              <a:gs pos="0">
                <a:srgbClr val="008600"/>
              </a:gs>
              <a:gs pos="50000">
                <a:srgbClr val="00cc00"/>
              </a:gs>
              <a:gs pos="100000">
                <a:srgbClr val="0086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5292720" y="2222640"/>
            <a:ext cx="1219320" cy="1911240"/>
          </a:xfrm>
          <a:prstGeom prst="rect">
            <a:avLst/>
          </a:prstGeom>
          <a:gradFill rotWithShape="0">
            <a:gsLst>
              <a:gs pos="0">
                <a:srgbClr val="a82100"/>
              </a:gs>
              <a:gs pos="50000">
                <a:srgbClr val="ff3300"/>
              </a:gs>
              <a:gs pos="100000">
                <a:srgbClr val="a821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5292720" y="2095560"/>
            <a:ext cx="1219320" cy="127080"/>
          </a:xfrm>
          <a:prstGeom prst="rect">
            <a:avLst/>
          </a:prstGeom>
          <a:gradFill rotWithShape="0">
            <a:gsLst>
              <a:gs pos="0">
                <a:srgbClr val="65a886"/>
              </a:gs>
              <a:gs pos="50000">
                <a:srgbClr val="99ffcc"/>
              </a:gs>
              <a:gs pos="100000">
                <a:srgbClr val="65a88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5292720" y="1565280"/>
            <a:ext cx="1219320" cy="530280"/>
          </a:xfrm>
          <a:prstGeom prst="rect">
            <a:avLst/>
          </a:prstGeom>
          <a:gradFill rotWithShape="0">
            <a:gsLst>
              <a:gs pos="0">
                <a:srgbClr val="a88686"/>
              </a:gs>
              <a:gs pos="50000">
                <a:srgbClr val="ffcccc"/>
              </a:gs>
              <a:gs pos="100000">
                <a:srgbClr val="a8868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5664600" y="532116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 504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5718240" y="46148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811,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5718240" y="42642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10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5664600" y="304164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198,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5718240" y="20750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8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718240" y="16938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79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5804640" y="59500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468360" y="4384800"/>
            <a:ext cx="1008000" cy="253800"/>
          </a:xfrm>
          <a:prstGeom prst="rect">
            <a:avLst/>
          </a:prstGeom>
          <a:gradFill rotWithShape="0">
            <a:gsLst>
              <a:gs pos="0">
                <a:srgbClr val="004300"/>
              </a:gs>
              <a:gs pos="50000">
                <a:srgbClr val="006600"/>
              </a:gs>
              <a:gs pos="100000">
                <a:srgbClr val="0043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Транспор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468360" y="4121280"/>
            <a:ext cx="1008000" cy="2538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990000"/>
              </a:gs>
              <a:gs pos="100000">
                <a:srgbClr val="65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Строительств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468360" y="3857760"/>
            <a:ext cx="1008000" cy="253800"/>
          </a:xfrm>
          <a:prstGeom prst="rect">
            <a:avLst/>
          </a:prstGeom>
          <a:gradFill rotWithShape="0">
            <a:gsLst>
              <a:gs pos="0">
                <a:srgbClr val="008600"/>
              </a:gs>
              <a:gs pos="50000">
                <a:srgbClr val="00cc00"/>
              </a:gs>
              <a:gs pos="100000">
                <a:srgbClr val="0086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Энергети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468360" y="3594240"/>
            <a:ext cx="1008000" cy="253800"/>
          </a:xfrm>
          <a:prstGeom prst="rect">
            <a:avLst/>
          </a:prstGeom>
          <a:gradFill rotWithShape="0">
            <a:gsLst>
              <a:gs pos="0">
                <a:srgbClr val="a82100"/>
              </a:gs>
              <a:gs pos="50000">
                <a:srgbClr val="ff3300"/>
              </a:gs>
              <a:gs pos="100000">
                <a:srgbClr val="a821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Торговл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468360" y="3332160"/>
            <a:ext cx="1008000" cy="254160"/>
          </a:xfrm>
          <a:prstGeom prst="rect">
            <a:avLst/>
          </a:prstGeom>
          <a:gradFill rotWithShape="0">
            <a:gsLst>
              <a:gs pos="0">
                <a:srgbClr val="65a886"/>
              </a:gs>
              <a:gs pos="50000">
                <a:srgbClr val="99ffcc"/>
              </a:gs>
              <a:gs pos="100000">
                <a:srgbClr val="65a88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Финанс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468360" y="3068640"/>
            <a:ext cx="1008000" cy="254160"/>
          </a:xfrm>
          <a:prstGeom prst="rect">
            <a:avLst/>
          </a:prstGeom>
          <a:gradFill rotWithShape="0">
            <a:gsLst>
              <a:gs pos="0">
                <a:srgbClr val="a88686"/>
              </a:gs>
              <a:gs pos="50000">
                <a:srgbClr val="ffcccc"/>
              </a:gs>
              <a:gs pos="100000">
                <a:srgbClr val="a8868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Связ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4812-66AA-4DFC-9585-1EF46FD4324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гноз структуры занятости и доходов в экономике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гиона при наиболее вероятном сцена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6245280" y="5599080"/>
            <a:ext cx="831960" cy="233280"/>
          </a:xfrm>
          <a:prstGeom prst="rect">
            <a:avLst/>
          </a:prstGeom>
          <a:gradFill rotWithShape="0">
            <a:gsLst>
              <a:gs pos="0">
                <a:srgbClr val="650086"/>
              </a:gs>
              <a:gs pos="50000">
                <a:srgbClr val="9900cc"/>
              </a:gs>
              <a:gs pos="100000">
                <a:srgbClr val="65008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731000" y="4844880"/>
            <a:ext cx="833400" cy="987480"/>
          </a:xfrm>
          <a:prstGeom prst="rect">
            <a:avLst/>
          </a:prstGeom>
          <a:gradFill rotWithShape="0">
            <a:gsLst>
              <a:gs pos="0">
                <a:srgbClr val="650086"/>
              </a:gs>
              <a:gs pos="50000">
                <a:srgbClr val="9900cc"/>
              </a:gs>
              <a:gs pos="100000">
                <a:srgbClr val="65008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7077240" y="4844520"/>
            <a:ext cx="653760" cy="754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245280" y="5048280"/>
            <a:ext cx="831960" cy="550800"/>
          </a:xfrm>
          <a:prstGeom prst="rect">
            <a:avLst/>
          </a:prstGeom>
          <a:gradFill rotWithShape="0">
            <a:gsLst>
              <a:gs pos="0">
                <a:srgbClr val="a843a8"/>
              </a:gs>
              <a:gs pos="50000">
                <a:srgbClr val="ff66ff"/>
              </a:gs>
              <a:gs pos="100000">
                <a:srgbClr val="a843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731000" y="2894040"/>
            <a:ext cx="833400" cy="1950840"/>
          </a:xfrm>
          <a:prstGeom prst="rect">
            <a:avLst/>
          </a:prstGeom>
          <a:gradFill rotWithShape="0">
            <a:gsLst>
              <a:gs pos="0">
                <a:srgbClr val="a843a8"/>
              </a:gs>
              <a:gs pos="50000">
                <a:srgbClr val="ff66ff"/>
              </a:gs>
              <a:gs pos="100000">
                <a:srgbClr val="a843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7077240" y="2894040"/>
            <a:ext cx="653760" cy="2154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6245280" y="4871880"/>
            <a:ext cx="831960" cy="17640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7731000" y="2398680"/>
            <a:ext cx="833400" cy="49536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7077240" y="2398680"/>
            <a:ext cx="653760" cy="2473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5916600" y="1670040"/>
            <a:ext cx="1440" cy="416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889600" y="5832360"/>
            <a:ext cx="270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5889600" y="5251320"/>
            <a:ext cx="270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889600" y="4638600"/>
            <a:ext cx="270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5889600" y="4057560"/>
            <a:ext cx="270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889600" y="3446640"/>
            <a:ext cx="27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5889600" y="2863800"/>
            <a:ext cx="270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5889600" y="2252520"/>
            <a:ext cx="270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5889600" y="1670040"/>
            <a:ext cx="270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16600" y="5832360"/>
            <a:ext cx="29750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 flipV="1">
            <a:off x="5916600" y="583236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 flipV="1">
            <a:off x="7404120" y="583236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8891640" y="583236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571440" y="56293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8017920" y="52513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 6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6571440" y="52243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8017920" y="37688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27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6571440" y="48718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8058960" y="25448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5779800" y="574344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5508000" y="5160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5508000" y="45496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5508000" y="3968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5508000" y="33559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5508000" y="2774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5508000" y="21621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 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5508000" y="15811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 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557400" y="5877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8044560" y="5877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2556000" y="1052640"/>
            <a:ext cx="208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уктура занятост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ыс. чел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651640" y="1052640"/>
            <a:ext cx="31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уктура годовых доходов занятых в экономике (млн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2441520" y="4989600"/>
            <a:ext cx="854280" cy="833400"/>
          </a:xfrm>
          <a:prstGeom prst="rect">
            <a:avLst/>
          </a:prstGeom>
          <a:gradFill rotWithShape="0">
            <a:gsLst>
              <a:gs pos="0">
                <a:srgbClr val="650086"/>
              </a:gs>
              <a:gs pos="50000">
                <a:srgbClr val="9900cc"/>
              </a:gs>
              <a:gs pos="100000">
                <a:srgbClr val="65008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967200" y="5019840"/>
            <a:ext cx="833400" cy="803160"/>
          </a:xfrm>
          <a:prstGeom prst="rect">
            <a:avLst/>
          </a:prstGeom>
          <a:gradFill rotWithShape="0">
            <a:gsLst>
              <a:gs pos="0">
                <a:srgbClr val="650086"/>
              </a:gs>
              <a:gs pos="50000">
                <a:srgbClr val="9900cc"/>
              </a:gs>
              <a:gs pos="100000">
                <a:srgbClr val="65008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295800" y="4989600"/>
            <a:ext cx="671400" cy="30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441520" y="3297240"/>
            <a:ext cx="854280" cy="1692360"/>
          </a:xfrm>
          <a:prstGeom prst="rect">
            <a:avLst/>
          </a:prstGeom>
          <a:gradFill rotWithShape="0">
            <a:gsLst>
              <a:gs pos="0">
                <a:srgbClr val="a843a8"/>
              </a:gs>
              <a:gs pos="50000">
                <a:srgbClr val="ff66ff"/>
              </a:gs>
              <a:gs pos="100000">
                <a:srgbClr val="a843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3967200" y="3187800"/>
            <a:ext cx="833400" cy="1832040"/>
          </a:xfrm>
          <a:prstGeom prst="rect">
            <a:avLst/>
          </a:prstGeom>
          <a:gradFill rotWithShape="0">
            <a:gsLst>
              <a:gs pos="0">
                <a:srgbClr val="a843a8"/>
              </a:gs>
              <a:gs pos="50000">
                <a:srgbClr val="ff66ff"/>
              </a:gs>
              <a:gs pos="100000">
                <a:srgbClr val="a843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3295800" y="3187800"/>
            <a:ext cx="671400" cy="109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2441520" y="2463840"/>
            <a:ext cx="854280" cy="83340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967200" y="2327400"/>
            <a:ext cx="833400" cy="86040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3295800" y="2327040"/>
            <a:ext cx="671400" cy="136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116080" y="1687680"/>
            <a:ext cx="1800" cy="4135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076480" y="5823000"/>
            <a:ext cx="396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2076480" y="5129280"/>
            <a:ext cx="396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076480" y="4435560"/>
            <a:ext cx="396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2076480" y="3768840"/>
            <a:ext cx="396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2076480" y="3075120"/>
            <a:ext cx="396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076480" y="2381400"/>
            <a:ext cx="396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2076480" y="1687680"/>
            <a:ext cx="396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2116080" y="5823000"/>
            <a:ext cx="3030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 flipV="1">
            <a:off x="2116080" y="5823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3641760" y="5823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5146560" y="5823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747160" y="53244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20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4252320" y="53244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16,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2747160" y="40464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7,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4252320" y="40194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66,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2747160" y="27986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8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4252320" y="2658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2,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1915920" y="573084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691640" y="50371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691640" y="43434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1691640" y="36766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1691640" y="2982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1691640" y="22892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691640" y="15955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2747160" y="5877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4271400" y="58770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250920" y="4316400"/>
            <a:ext cx="1225440" cy="254160"/>
          </a:xfrm>
          <a:prstGeom prst="rect">
            <a:avLst/>
          </a:prstGeom>
          <a:gradFill rotWithShape="0">
            <a:gsLst>
              <a:gs pos="0">
                <a:srgbClr val="650086"/>
              </a:gs>
              <a:gs pos="50000">
                <a:srgbClr val="9900cc"/>
              </a:gs>
              <a:gs pos="100000">
                <a:srgbClr val="650086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Базовые отрас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250920" y="4052880"/>
            <a:ext cx="1225440" cy="254160"/>
          </a:xfrm>
          <a:prstGeom prst="rect">
            <a:avLst/>
          </a:prstGeom>
          <a:gradFill rotWithShape="0">
            <a:gsLst>
              <a:gs pos="0">
                <a:srgbClr val="a843a8"/>
              </a:gs>
              <a:gs pos="50000">
                <a:srgbClr val="ff66ff"/>
              </a:gs>
              <a:gs pos="100000">
                <a:srgbClr val="a843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Поддерживающие отрас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50920" y="3789360"/>
            <a:ext cx="1225440" cy="254160"/>
          </a:xfrm>
          <a:prstGeom prst="rect">
            <a:avLst/>
          </a:prstGeom>
          <a:gradFill rotWithShape="0">
            <a:gsLst>
              <a:gs pos="0">
                <a:srgbClr val="a886a8"/>
              </a:gs>
              <a:gs pos="50000">
                <a:srgbClr val="ffccff"/>
              </a:gs>
              <a:gs pos="100000">
                <a:srgbClr val="a886a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Бюджетная сфер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C55E9-85CF-4092-AC83-F72C3E6FEC2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74920" y="1125360"/>
            <a:ext cx="2629080" cy="436680"/>
          </a:xfrm>
          <a:custGeom>
            <a:avLst/>
            <a:gdLst>
              <a:gd name="textAreaLeft" fmla="*/ 0 w 2629080"/>
              <a:gd name="textAreaRight" fmla="*/ 2629440 w 262908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лагосостоя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се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1854360"/>
            <a:ext cx="2089440" cy="341280"/>
          </a:xfrm>
          <a:custGeom>
            <a:avLst/>
            <a:gdLst>
              <a:gd name="textAreaLeft" fmla="*/ 0 w 2089440"/>
              <a:gd name="textAreaRight" fmla="*/ 2089800 w 208944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х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62200" y="1862280"/>
            <a:ext cx="2089440" cy="342720"/>
          </a:xfrm>
          <a:custGeom>
            <a:avLst/>
            <a:gdLst>
              <a:gd name="textAreaLeft" fmla="*/ 0 w 2089440"/>
              <a:gd name="textAreaRight" fmla="*/ 2089800 w 208944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сх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27640" y="1862280"/>
            <a:ext cx="2089440" cy="342720"/>
          </a:xfrm>
          <a:custGeom>
            <a:avLst/>
            <a:gdLst>
              <a:gd name="textAreaLeft" fmla="*/ 0 w 2089440"/>
              <a:gd name="textAreaRight" fmla="*/ 2089800 w 208944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словия для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7" idx="0"/>
            <a:endCxn id="136" idx="0"/>
          </p:cNvCxnSpPr>
          <p:nvPr/>
        </p:nvCxnSpPr>
        <p:spPr>
          <a:xfrm flipH="1" flipV="1" rot="5400000">
            <a:off x="3084120" y="348840"/>
            <a:ext cx="293040" cy="2718720"/>
          </a:xfrm>
          <a:prstGeom prst="bentConnector3">
            <a:avLst>
              <a:gd name="adj1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8" idx="0"/>
            <a:endCxn id="136" idx="1"/>
          </p:cNvCxnSpPr>
          <p:nvPr/>
        </p:nvCxnSpPr>
        <p:spPr>
          <a:xfrm flipV="1" rot="16200000">
            <a:off x="4447800" y="1703160"/>
            <a:ext cx="300600" cy="18000"/>
          </a:xfrm>
          <a:prstGeom prst="bentConnector3">
            <a:avLst>
              <a:gd name="adj1" fmla="val 502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9" idx="0"/>
            <a:endCxn id="136" idx="2"/>
          </p:cNvCxnSpPr>
          <p:nvPr/>
        </p:nvCxnSpPr>
        <p:spPr>
          <a:xfrm flipV="1" rot="16200000">
            <a:off x="5780520" y="370440"/>
            <a:ext cx="300600" cy="2683440"/>
          </a:xfrm>
          <a:prstGeom prst="bentConnector3">
            <a:avLst>
              <a:gd name="adj1" fmla="val 502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179280" y="2779560"/>
            <a:ext cx="1584360" cy="58104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81040"/>
              <a:gd name="textAreaBottom" fmla="*/ 581040 h 58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ходы от занят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1280" y="2789280"/>
            <a:ext cx="2016000" cy="5810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581040"/>
              <a:gd name="textAreaBottom" fmla="*/ 581040 h 58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ходы от имущества и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75640" y="2563920"/>
            <a:ext cx="1368360" cy="58104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581040"/>
              <a:gd name="textAreaBottom" fmla="*/ 581040 h 58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енсии и пособ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0"/>
            <a:endCxn id="137" idx="1"/>
          </p:cNvCxnSpPr>
          <p:nvPr/>
        </p:nvCxnSpPr>
        <p:spPr>
          <a:xfrm flipV="1">
            <a:off x="971640" y="2195280"/>
            <a:ext cx="900720" cy="58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4" idx="0"/>
            <a:endCxn id="137" idx="2"/>
          </p:cNvCxnSpPr>
          <p:nvPr/>
        </p:nvCxnSpPr>
        <p:spPr>
          <a:xfrm flipH="1" flipV="1">
            <a:off x="1870920" y="2194920"/>
            <a:ext cx="298836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5" idx="0"/>
            <a:endCxn id="137" idx="3"/>
          </p:cNvCxnSpPr>
          <p:nvPr/>
        </p:nvCxnSpPr>
        <p:spPr>
          <a:xfrm flipH="1" flipV="1">
            <a:off x="1871280" y="2194920"/>
            <a:ext cx="5688720" cy="36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3348000" y="3862440"/>
            <a:ext cx="1193760" cy="615960"/>
          </a:xfrm>
          <a:custGeom>
            <a:avLst/>
            <a:gdLst>
              <a:gd name="textAreaLeft" fmla="*/ 0 w 1193760"/>
              <a:gd name="textAreaRight" fmla="*/ 1194120 w 119376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мер сбере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95880" y="3860640"/>
            <a:ext cx="1608120" cy="617760"/>
          </a:xfrm>
          <a:custGeom>
            <a:avLst/>
            <a:gdLst>
              <a:gd name="textAreaLeft" fmla="*/ 0 w 1608120"/>
              <a:gd name="textAreaRight" fmla="*/ 1608480 w 1608120"/>
              <a:gd name="textAreaTop" fmla="*/ 0 h 617760"/>
              <a:gd name="textAreaBottom" fmla="*/ 618120 h 61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личие возможностей для получения дох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91240" y="4775040"/>
            <a:ext cx="1193760" cy="554040"/>
          </a:xfrm>
          <a:custGeom>
            <a:avLst/>
            <a:gdLst>
              <a:gd name="textAreaLeft" fmla="*/ 0 w 1193760"/>
              <a:gd name="textAreaRight" fmla="*/ 1194120 w 11937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вестиционные возмож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98880" y="4780080"/>
            <a:ext cx="1193760" cy="554040"/>
          </a:xfrm>
          <a:custGeom>
            <a:avLst/>
            <a:gdLst>
              <a:gd name="textAreaLeft" fmla="*/ 0 w 1193760"/>
              <a:gd name="textAreaRight" fmla="*/ 1194120 w 11937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ходы от занят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95960" y="4792680"/>
            <a:ext cx="1193760" cy="554040"/>
          </a:xfrm>
          <a:custGeom>
            <a:avLst/>
            <a:gdLst>
              <a:gd name="textAreaLeft" fmla="*/ 0 w 1193760"/>
              <a:gd name="textAreaRight" fmla="*/ 1194120 w 11937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витие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0"/>
            <a:endCxn id="150" idx="0"/>
          </p:cNvCxnSpPr>
          <p:nvPr/>
        </p:nvCxnSpPr>
        <p:spPr>
          <a:xfrm flipV="1">
            <a:off x="4992840" y="4477680"/>
            <a:ext cx="10087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53" idx="1"/>
            <a:endCxn id="149" idx="0"/>
          </p:cNvCxnSpPr>
          <p:nvPr/>
        </p:nvCxnSpPr>
        <p:spPr>
          <a:xfrm flipH="1" flipV="1">
            <a:off x="3944520" y="4477680"/>
            <a:ext cx="10483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6084720" y="3286080"/>
            <a:ext cx="1224000" cy="432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едеральный бюдж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69080" y="3284640"/>
            <a:ext cx="1224000" cy="43164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гиональный бюдж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6" idx="0"/>
            <a:endCxn id="157" idx="0"/>
          </p:cNvCxnSpPr>
          <p:nvPr/>
        </p:nvCxnSpPr>
        <p:spPr>
          <a:xfrm flipV="1">
            <a:off x="7308360" y="3499560"/>
            <a:ext cx="3610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"/>
          <p:cNvCxnSpPr>
            <a:stCxn id="149" idx="1"/>
            <a:endCxn id="144" idx="1"/>
          </p:cNvCxnSpPr>
          <p:nvPr/>
        </p:nvCxnSpPr>
        <p:spPr>
          <a:xfrm flipV="1">
            <a:off x="3944880" y="3369600"/>
            <a:ext cx="91512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0" idx="1"/>
            <a:endCxn id="144" idx="2"/>
          </p:cNvCxnSpPr>
          <p:nvPr/>
        </p:nvCxnSpPr>
        <p:spPr>
          <a:xfrm flipH="1" flipV="1">
            <a:off x="4858560" y="3369960"/>
            <a:ext cx="1142280" cy="49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179280" y="3719520"/>
            <a:ext cx="1656000" cy="4078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азовые сектор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3719520"/>
            <a:ext cx="1081080" cy="64944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4368960"/>
            <a:ext cx="1081080" cy="57600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уктура занят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4125960"/>
            <a:ext cx="1656000" cy="4078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ддерживающие сектор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4532400"/>
            <a:ext cx="1656000" cy="4078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осударственная служб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56" idx="1"/>
            <a:endCxn id="145" idx="1"/>
          </p:cNvCxnSpPr>
          <p:nvPr/>
        </p:nvCxnSpPr>
        <p:spPr>
          <a:xfrm flipV="1">
            <a:off x="6697800" y="3144600"/>
            <a:ext cx="86256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7" idx="1"/>
            <a:endCxn id="145" idx="2"/>
          </p:cNvCxnSpPr>
          <p:nvPr/>
        </p:nvCxnSpPr>
        <p:spPr>
          <a:xfrm flipH="1" flipV="1">
            <a:off x="7558920" y="3144600"/>
            <a:ext cx="723240" cy="14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1" idx="0"/>
            <a:endCxn id="143" idx="1"/>
          </p:cNvCxnSpPr>
          <p:nvPr/>
        </p:nvCxnSpPr>
        <p:spPr>
          <a:xfrm flipH="1" flipV="1">
            <a:off x="970920" y="3359880"/>
            <a:ext cx="3708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2411280" y="5661000"/>
            <a:ext cx="4105440" cy="43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труктура эконом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69" idx="0"/>
            <a:endCxn id="165" idx="0"/>
          </p:cNvCxnSpPr>
          <p:nvPr/>
        </p:nvCxnSpPr>
        <p:spPr>
          <a:xfrm flipH="1" flipV="1">
            <a:off x="1007640" y="4939920"/>
            <a:ext cx="3456720" cy="72144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9" idx="0"/>
            <a:endCxn id="152" idx="0"/>
          </p:cNvCxnSpPr>
          <p:nvPr/>
        </p:nvCxnSpPr>
        <p:spPr>
          <a:xfrm flipH="1" flipV="1">
            <a:off x="3695400" y="5333760"/>
            <a:ext cx="768960" cy="32760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9" idx="0"/>
            <a:endCxn id="153" idx="2"/>
          </p:cNvCxnSpPr>
          <p:nvPr/>
        </p:nvCxnSpPr>
        <p:spPr>
          <a:xfrm flipV="1">
            <a:off x="4463640" y="5346000"/>
            <a:ext cx="529200" cy="31500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9" idx="0"/>
            <a:endCxn id="151" idx="0"/>
          </p:cNvCxnSpPr>
          <p:nvPr/>
        </p:nvCxnSpPr>
        <p:spPr>
          <a:xfrm flipV="1">
            <a:off x="4463640" y="5328720"/>
            <a:ext cx="1824840" cy="33264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9" idx="3"/>
            <a:endCxn id="157" idx="2"/>
          </p:cNvCxnSpPr>
          <p:nvPr/>
        </p:nvCxnSpPr>
        <p:spPr>
          <a:xfrm flipV="1">
            <a:off x="6516720" y="3716280"/>
            <a:ext cx="1766160" cy="2161080"/>
          </a:xfrm>
          <a:prstGeom prst="bentConnector2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52" idx="1"/>
            <a:endCxn id="149" idx="2"/>
          </p:cNvCxnSpPr>
          <p:nvPr/>
        </p:nvCxnSpPr>
        <p:spPr>
          <a:xfrm flipV="1">
            <a:off x="3695760" y="4478040"/>
            <a:ext cx="24984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51" idx="1"/>
            <a:endCxn id="150" idx="2"/>
          </p:cNvCxnSpPr>
          <p:nvPr/>
        </p:nvCxnSpPr>
        <p:spPr>
          <a:xfrm flipH="1" flipV="1">
            <a:off x="6000480" y="4478040"/>
            <a:ext cx="2880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16AD7-B16B-48F2-90FC-3413116C72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11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в уровень конкурентоспособности Томской области сегодн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11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наиболее важные проблемы существуют в обла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11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вы глобальные тенденции и их влияние на будущее обла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11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вы национальные тенденции и их влияние на будущее обла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11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том глобальных и национальных тенденций развития, какие возможности для роста ключевых секторов экономики томской области имеютс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11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ограничения и риски являютс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пятствием для развития ключевых секторов экономики на территории области и какова вероятность их успешного развития, с учетом имеющихся в области предпосылок и тенденци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11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ая структура экономики может быть сформирована к 2020 году с учетом альтернативного стратегического фокуса Администрации области и возможных сценариев развит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11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м образом прогнозируемая структура экономики отразится на уровне благосостояния населения области (уровне доходов, занятости, бюджетной обеспеченности региона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ючевые вопросы стратегического анали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5373720"/>
            <a:ext cx="8207280" cy="733320"/>
          </a:xfrm>
          <a:prstGeom prst="rect">
            <a:avLst/>
          </a:prstGeom>
          <a:solidFill>
            <a:srgbClr val="ebf7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ратегический анализ позволяет сформировать представление о будущем области, определить возможности для развития и проблемы, а также создать основу для формулирования видения и долгосрочной стратегической доктри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EC3D-7129-4223-81A6-C889296DEE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результате многочисленных международных исследований были выявлены определенные факторы, которые влияют на конкурентоспособность реги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160" y="1096920"/>
            <a:ext cx="2808000" cy="50328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нфраструктура и доступ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1160" y="1600200"/>
            <a:ext cx="2808000" cy="4421160"/>
          </a:xfrm>
          <a:prstGeom prst="rect">
            <a:avLst/>
          </a:prstGeom>
          <a:solidFill>
            <a:srgbClr val="eff9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176040" indent="-176040"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Базовая 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100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втодор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100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Железные дор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100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виатранспор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100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ава 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ехнологическая 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100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ционно –коммуникационн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100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100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нфраструктура обмена зна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100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бразовательные возмож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ачественные парамет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100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Жилищные усло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100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родная 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100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100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езопасность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74840" y="1096920"/>
            <a:ext cx="2692440" cy="50328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еловеческие ресур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74840" y="1600200"/>
            <a:ext cx="2692440" cy="4421160"/>
          </a:xfrm>
          <a:prstGeom prst="rect">
            <a:avLst/>
          </a:prstGeom>
          <a:solidFill>
            <a:srgbClr val="eff9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176040" indent="-176040">
              <a:lnSpc>
                <a:spcPct val="90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емографические тре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90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играция квалифицированных трудовы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90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нообраз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Характеристики трудовы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90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изводительность и гибк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90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ровень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выки управ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90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тернацион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90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ровень профессиона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90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ровень эффектив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ысокая доля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90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сшее 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90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фессионально-техническое 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разовательная инфраструк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ысококвалифицированная рабочая с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90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теллектуально–интенсивные навы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1096920"/>
            <a:ext cx="2924280" cy="50328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словия для конкуренции и развития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1600200"/>
            <a:ext cx="2924280" cy="4421160"/>
          </a:xfrm>
          <a:prstGeom prst="rect">
            <a:avLst/>
          </a:prstGeom>
          <a:solidFill>
            <a:srgbClr val="eff9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176040" indent="-176040">
              <a:lnSpc>
                <a:spcPct val="85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принимательск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85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ие барьеры на вход и 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85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товность риско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раслевая структур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85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/ взаимозависим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85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нтрация занят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85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с высокой добавленной стоимост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ационализаци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85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/мировой объем прода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85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85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а ведени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85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остранные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нов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85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85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85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И и университ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9280">
              <a:lnSpc>
                <a:spcPct val="85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и между компаниями и институтами (кластер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министративная поддержка (снижение барьеров) и институциональные возмож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ступность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ециализация (фоку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buClr>
                <a:srgbClr val="0000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ловия для конкур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6021360"/>
            <a:ext cx="511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точник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study o the Factors of regional Competitiveness, 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E4448-1256-45B2-AC32-3EF8DACBEC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846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ует многообразие региональных типологий, которые отражают стратегическое видение и предопределяют приоритеты региональной Администрации реги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589720"/>
            <a:ext cx="8569440" cy="425160"/>
          </a:xfrm>
          <a:prstGeom prst="rect">
            <a:avLst/>
          </a:prstGeom>
          <a:solidFill>
            <a:srgbClr val="99ccff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зависимости от типологии региона значимость факторов региональной конкурентоспособности может существенно различа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9280" y="6021360"/>
            <a:ext cx="511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точник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study o the Factors of regional Competitiveness, 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0400" y="1468440"/>
            <a:ext cx="0" cy="352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266840" y="3836880"/>
            <a:ext cx="6681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13200" y="4992840"/>
            <a:ext cx="147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Низкий и неустойчивый рост ВРП/душ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13200" y="1012680"/>
            <a:ext cx="14749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Высокий и устойчивый рост ВРП/душ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3592440"/>
            <a:ext cx="7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Низкая плотность насел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48440" y="3592440"/>
            <a:ext cx="7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Высокая плотность насел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19280" y="4489560"/>
            <a:ext cx="1454040" cy="739800"/>
          </a:xfrm>
          <a:prstGeom prst="ellipse">
            <a:avLst/>
          </a:prstGeom>
          <a:solidFill>
            <a:srgbClr val="ccecff"/>
          </a:solidFill>
          <a:ln w="15840">
            <a:solidFill>
              <a:srgbClr val="99ccff"/>
            </a:solidFill>
            <a:miter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Регионы «пространства- источники сырья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95880" y="4919760"/>
            <a:ext cx="1455840" cy="669960"/>
          </a:xfrm>
          <a:prstGeom prst="ellipse">
            <a:avLst/>
          </a:prstGeom>
          <a:solidFill>
            <a:srgbClr val="ccecff"/>
          </a:solidFill>
          <a:ln w="15840">
            <a:solidFill>
              <a:srgbClr val="99ccff"/>
            </a:solidFill>
            <a:miter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Деградирующие регион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59000" y="1709640"/>
            <a:ext cx="1455840" cy="668520"/>
          </a:xfrm>
          <a:prstGeom prst="ellipse">
            <a:avLst/>
          </a:prstGeom>
          <a:solidFill>
            <a:srgbClr val="ccecff"/>
          </a:solidFill>
          <a:ln w="15840">
            <a:solidFill>
              <a:srgbClr val="99ccff"/>
            </a:solidFill>
            <a:miter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Динамичные регион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56480" y="1589040"/>
            <a:ext cx="1455480" cy="668520"/>
          </a:xfrm>
          <a:prstGeom prst="ellipse">
            <a:avLst/>
          </a:prstGeom>
          <a:solidFill>
            <a:srgbClr val="ccecff"/>
          </a:solidFill>
          <a:ln w="15840">
            <a:solidFill>
              <a:srgbClr val="99ccff"/>
            </a:solidFill>
            <a:miter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Регионы «космополиты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05360" y="2805120"/>
            <a:ext cx="1454040" cy="668160"/>
          </a:xfrm>
          <a:prstGeom prst="ellipse">
            <a:avLst/>
          </a:prstGeom>
          <a:solidFill>
            <a:srgbClr val="ccecff"/>
          </a:solidFill>
          <a:ln w="15840">
            <a:solidFill>
              <a:srgbClr val="99ccff"/>
            </a:solidFill>
            <a:miter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рбанизированные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пециализированные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регион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25600" y="3656160"/>
            <a:ext cx="4630680" cy="1031760"/>
          </a:xfrm>
          <a:prstGeom prst="ellipse">
            <a:avLst/>
          </a:prstGeom>
          <a:solidFill>
            <a:srgbClr val="99ccff"/>
          </a:solidFill>
          <a:ln w="15840">
            <a:solidFill>
              <a:srgbClr val="3366ff"/>
            </a:solidFill>
            <a:miter/>
          </a:ln>
          <a:effectLst>
            <a:outerShdw dist="17819" dir="2700000" blurRad="0" rotWithShape="0">
              <a:srgbClr val="1e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гионы – производственные площад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19400" y="2014560"/>
            <a:ext cx="2579760" cy="1033560"/>
          </a:xfrm>
          <a:prstGeom prst="ellipse">
            <a:avLst/>
          </a:prstGeom>
          <a:solidFill>
            <a:srgbClr val="99ccff"/>
          </a:solidFill>
          <a:ln w="15840">
            <a:solidFill>
              <a:srgbClr val="3366ff"/>
            </a:solidFill>
            <a:miter/>
          </a:ln>
          <a:effectLst>
            <a:outerShdw dist="17819" dir="2700000" blurRad="0" rotWithShape="0">
              <a:srgbClr val="1e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гионы – инноваций и быстрорастуще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964120" y="2075040"/>
            <a:ext cx="1587600" cy="1033200"/>
          </a:xfrm>
          <a:prstGeom prst="ellipse">
            <a:avLst/>
          </a:prstGeom>
          <a:solidFill>
            <a:srgbClr val="99ccff"/>
          </a:solidFill>
          <a:ln w="15840">
            <a:solidFill>
              <a:srgbClr val="3366ff"/>
            </a:solidFill>
            <a:miter/>
          </a:ln>
          <a:effectLst>
            <a:outerShdw dist="17819" dir="2700000" blurRad="0" rotWithShape="0">
              <a:srgbClr val="1e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гионы – центры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13200" y="3351240"/>
            <a:ext cx="1455840" cy="668160"/>
          </a:xfrm>
          <a:prstGeom prst="ellipse">
            <a:avLst/>
          </a:prstGeom>
          <a:solidFill>
            <a:srgbClr val="ccecff"/>
          </a:solidFill>
          <a:ln w="15840">
            <a:solidFill>
              <a:srgbClr val="99ccff"/>
            </a:solidFill>
            <a:miter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балансированные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регион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4800" y="1406520"/>
            <a:ext cx="397080" cy="182520"/>
          </a:xfrm>
          <a:prstGeom prst="ellipse">
            <a:avLst/>
          </a:prstGeom>
          <a:solidFill>
            <a:srgbClr val="ccecff"/>
          </a:solidFill>
          <a:ln w="15840">
            <a:solidFill>
              <a:srgbClr val="99ccff"/>
            </a:solidFill>
            <a:miter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4800" y="1162080"/>
            <a:ext cx="397080" cy="182520"/>
          </a:xfrm>
          <a:prstGeom prst="ellipse">
            <a:avLst/>
          </a:prstGeom>
          <a:solidFill>
            <a:srgbClr val="99ccff"/>
          </a:solidFill>
          <a:ln w="15840">
            <a:solidFill>
              <a:srgbClr val="3366ff"/>
            </a:solidFill>
            <a:miter/>
          </a:ln>
          <a:effectLst>
            <a:outerShdw dist="17819" dir="2700000" blurRad="0" rotWithShape="0">
              <a:srgbClr val="1e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68480" y="1139760"/>
            <a:ext cx="12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Теоретические тип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8480" y="1382760"/>
            <a:ext cx="7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Архетип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23B34-0498-42C9-9442-4A83F43490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 rot="14400000">
            <a:off x="5658480" y="2199240"/>
            <a:ext cx="432000" cy="731880"/>
          </a:xfrm>
          <a:prstGeom prst="upArrow">
            <a:avLst>
              <a:gd name="adj1" fmla="val 50000"/>
              <a:gd name="adj2" fmla="val 42354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8014800">
            <a:off x="3137400" y="2199240"/>
            <a:ext cx="432000" cy="731880"/>
          </a:xfrm>
          <a:prstGeom prst="upArrow">
            <a:avLst>
              <a:gd name="adj1" fmla="val 50000"/>
              <a:gd name="adj2" fmla="val 42354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08200" y="2565360"/>
            <a:ext cx="2306880" cy="13683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тенциал развития отрасли в регио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446000" y="1832760"/>
            <a:ext cx="431640" cy="731880"/>
          </a:xfrm>
          <a:prstGeom prst="upArrow">
            <a:avLst>
              <a:gd name="adj1" fmla="val 50000"/>
              <a:gd name="adj2" fmla="val 42389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 rot="14400000">
            <a:off x="2981880" y="3206880"/>
            <a:ext cx="431280" cy="732240"/>
          </a:xfrm>
          <a:prstGeom prst="upArrow">
            <a:avLst>
              <a:gd name="adj1" fmla="val 50000"/>
              <a:gd name="adj2" fmla="val 42446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30520" y="1330200"/>
            <a:ext cx="226368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584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оссийские тенд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31760" y="1701720"/>
            <a:ext cx="2264040" cy="863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584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ировые тенд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1701720"/>
            <a:ext cx="2264040" cy="863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584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екущее состоя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расли в реги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28800" y="3206880"/>
            <a:ext cx="226368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584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ценарии развития макроэкономическо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 rot="7200000">
            <a:off x="5874120" y="3278520"/>
            <a:ext cx="431280" cy="731880"/>
          </a:xfrm>
          <a:prstGeom prst="upArrow">
            <a:avLst>
              <a:gd name="adj1" fmla="val 50000"/>
              <a:gd name="adj2" fmla="val 42425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3206880"/>
            <a:ext cx="226404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584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тратегический фокус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3280" y="1197000"/>
            <a:ext cx="7777080" cy="3095640"/>
          </a:xfrm>
          <a:prstGeom prst="roundRect">
            <a:avLst>
              <a:gd name="adj" fmla="val 7866"/>
            </a:avLst>
          </a:prstGeom>
          <a:noFill/>
          <a:ln w="158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5400000">
            <a:off x="4446000" y="1484280"/>
            <a:ext cx="433440" cy="6335640"/>
          </a:xfrm>
          <a:custGeom>
            <a:avLst/>
            <a:gdLst>
              <a:gd name="textAreaLeft" fmla="*/ 67680 w 433440"/>
              <a:gd name="textAreaRight" fmla="*/ 254880 w 433440"/>
              <a:gd name="textAreaTop" fmla="*/ 577440 h 6335640"/>
              <a:gd name="textAreaBottom" fmla="*/ 5758200 h 6335640"/>
            </a:gdLst>
            <a:ahLst/>
            <a:rect l="textAreaLeft" t="textAreaTop" r="textAreaRight" b="textAreaBottom"/>
            <a:pathLst>
              <a:path w="21600" h="21600">
                <a:moveTo>
                  <a:pt x="3375" y="1969"/>
                </a:moveTo>
                <a:lnTo>
                  <a:pt x="10724" y="1969"/>
                </a:lnTo>
                <a:lnTo>
                  <a:pt x="10724" y="0"/>
                </a:lnTo>
                <a:lnTo>
                  <a:pt x="21600" y="10800"/>
                </a:lnTo>
                <a:lnTo>
                  <a:pt x="10724" y="21600"/>
                </a:lnTo>
                <a:lnTo>
                  <a:pt x="10724" y="19631"/>
                </a:lnTo>
                <a:lnTo>
                  <a:pt x="3375" y="19631"/>
                </a:lnTo>
                <a:close/>
              </a:path>
              <a:path w="21600" h="21600">
                <a:moveTo>
                  <a:pt x="0" y="1969"/>
                </a:moveTo>
                <a:lnTo>
                  <a:pt x="675" y="1969"/>
                </a:lnTo>
                <a:lnTo>
                  <a:pt x="675" y="19631"/>
                </a:lnTo>
                <a:lnTo>
                  <a:pt x="0" y="19631"/>
                </a:lnTo>
                <a:close/>
              </a:path>
              <a:path w="21600" h="21600">
                <a:moveTo>
                  <a:pt x="1350" y="1969"/>
                </a:moveTo>
                <a:lnTo>
                  <a:pt x="2700" y="1969"/>
                </a:lnTo>
                <a:lnTo>
                  <a:pt x="2700" y="19631"/>
                </a:lnTo>
                <a:lnTo>
                  <a:pt x="1350" y="1963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езультаты 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46000" y="4989600"/>
            <a:ext cx="76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ценка отрасли в регионе при различных комбинациях 4 и 5 и с учетом влияния 1, 2, 3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70240" y="5235480"/>
            <a:ext cx="4584600" cy="70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Объем производства в отрасл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Занятость насел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редний уровень заработной пла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Влияние на развития других отраслей и потенциал создания кластер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74720" y="4941720"/>
            <a:ext cx="7775640" cy="1081080"/>
          </a:xfrm>
          <a:prstGeom prst="roundRect">
            <a:avLst>
              <a:gd name="adj" fmla="val 8282"/>
            </a:avLst>
          </a:prstGeom>
          <a:noFill/>
          <a:ln w="158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4160" y="209160"/>
            <a:ext cx="8134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ценка потенциала роста ключевых секторов экономики Томской области осуществляется с учетом влияния глобальных и национальных тенденций, а также стратегического фокуса областной Администрации (выбора целевой типологии регио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84320" y="1557360"/>
            <a:ext cx="358920" cy="36036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83080" y="1197000"/>
            <a:ext cx="358920" cy="36036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19840" y="1557360"/>
            <a:ext cx="358920" cy="36036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81360" y="3068640"/>
            <a:ext cx="358560" cy="36036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48440" y="3068640"/>
            <a:ext cx="358920" cy="36036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19640" y="4437000"/>
            <a:ext cx="358560" cy="36036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C00D-E2F7-48FA-AD22-C933539956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зультатом процесса регионального планирования являются: стратегическое видение, долгосрочные и среднесрочные стратегические планы, а также оперативные пла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12960" y="1268280"/>
            <a:ext cx="7345080" cy="3024360"/>
          </a:xfrm>
          <a:prstGeom prst="rect">
            <a:avLst/>
          </a:prstGeom>
          <a:solidFill>
            <a:srgbClr val="ddf2ff"/>
          </a:solidFill>
          <a:ln w="9360">
            <a:solidFill>
              <a:srgbClr val="99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2553600">
            <a:off x="468000" y="3807000"/>
            <a:ext cx="4743360" cy="792000"/>
          </a:xfrm>
          <a:prstGeom prst="rightArrow">
            <a:avLst>
              <a:gd name="adj1" fmla="val 57917"/>
              <a:gd name="adj2" fmla="val 95077"/>
            </a:avLst>
          </a:prstGeom>
          <a:gradFill rotWithShape="0">
            <a:gsLst>
              <a:gs pos="0">
                <a:srgbClr val="6699ff"/>
              </a:gs>
              <a:gs pos="100000">
                <a:srgbClr val="ddf2ff"/>
              </a:gs>
            </a:gsLst>
            <a:lin ang="82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30400" y="1339920"/>
            <a:ext cx="3165480" cy="136044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И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001960" y="2065320"/>
            <a:ext cx="3165480" cy="1360440"/>
          </a:xfrm>
          <a:prstGeom prst="rect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ратегия развития области до 2020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74960" y="2882880"/>
            <a:ext cx="3166920" cy="135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еднесрочный стратегический план развития на 5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46520" y="3608280"/>
            <a:ext cx="3166920" cy="1360440"/>
          </a:xfrm>
          <a:prstGeom prst="rect">
            <a:avLst/>
          </a:prstGeom>
          <a:blipFill rotWithShape="0">
            <a:blip r:embed="rId4"/>
            <a:srcRect/>
            <a:stretch/>
          </a:blipFill>
          <a:ln w="2844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еративный план Правительства области на 1 го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32200" y="4516560"/>
            <a:ext cx="3165480" cy="1360440"/>
          </a:xfrm>
          <a:prstGeom prst="rect">
            <a:avLst/>
          </a:prstGeom>
          <a:blipFill rotWithShape="0">
            <a:blip r:embed="rId5"/>
            <a:srcRect/>
            <a:stretch/>
          </a:blipFill>
          <a:ln w="2844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еративные планы структурных подразделений Правительства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78400" y="148428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дачи, покрываемые проек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458DB-D2F7-414A-B982-898DF7DE23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цесс выбора приоритетных мероприятий для включения в систему пл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32000" y="278136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gradFill rotWithShape="0">
            <a:gsLst>
              <a:gs pos="0">
                <a:srgbClr val="339966">
                  <a:alpha val="6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32000" y="306864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gradFill rotWithShape="0">
            <a:gsLst>
              <a:gs pos="0">
                <a:srgbClr val="339966">
                  <a:alpha val="6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32000" y="335772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gradFill rotWithShape="0">
            <a:gsLst>
              <a:gs pos="0">
                <a:srgbClr val="339966">
                  <a:alpha val="6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32000" y="364500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gradFill rotWithShape="0">
            <a:gsLst>
              <a:gs pos="0">
                <a:srgbClr val="339966">
                  <a:alpha val="6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42520" y="321300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нициа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3270960" y="327600"/>
            <a:ext cx="2097000" cy="3959280"/>
          </a:xfrm>
          <a:custGeom>
            <a:avLst/>
            <a:gdLst>
              <a:gd name="textAreaLeft" fmla="*/ 0 w 2097000"/>
              <a:gd name="textAreaRight" fmla="*/ 2097000 w 2097000"/>
              <a:gd name="textAreaTop" fmla="*/ 0 h 3959280"/>
              <a:gd name="textAreaBottom" fmla="*/ 3959640 h 395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>
              <a:alpha val="92000"/>
            </a:srgbClr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3270960" y="2487960"/>
            <a:ext cx="2097000" cy="3959280"/>
          </a:xfrm>
          <a:custGeom>
            <a:avLst/>
            <a:gdLst>
              <a:gd name="textAreaLeft" fmla="*/ 0 w 2097000"/>
              <a:gd name="textAreaRight" fmla="*/ 2097000 w 2097000"/>
              <a:gd name="textAreaTop" fmla="*/ 0 h 3959280"/>
              <a:gd name="textAreaBottom" fmla="*/ 3959640 h 395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>
              <a:alpha val="92000"/>
            </a:srgbClr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57440" y="1341360"/>
            <a:ext cx="3598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Ожидаемый эффект от реализации инициатив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атегический эффект – соответствие инициативы стратегическим приоритетам Правительства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Экономический эфф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циальный эфф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Эмоциональный эфф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56000" y="4113360"/>
            <a:ext cx="3598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Рис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юдже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ав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рганизацио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ругие (экологические, политические, природны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16720" y="2565360"/>
            <a:ext cx="2158920" cy="1511280"/>
          </a:xfrm>
          <a:prstGeom prst="rect">
            <a:avLst/>
          </a:prstGeom>
          <a:solidFill>
            <a:srgbClr val="99ccff">
              <a:alpha val="92000"/>
            </a:srgbClr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32000" y="249228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gradFill rotWithShape="0">
            <a:gsLst>
              <a:gs pos="0">
                <a:srgbClr val="339966">
                  <a:alpha val="6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32000" y="386064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gradFill rotWithShape="0">
            <a:gsLst>
              <a:gs pos="0">
                <a:srgbClr val="339966">
                  <a:alpha val="6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292720" y="306864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gradFill rotWithShape="0">
            <a:gsLst>
              <a:gs pos="0">
                <a:srgbClr val="339966">
                  <a:alpha val="6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92720" y="328464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gradFill rotWithShape="0">
            <a:gsLst>
              <a:gs pos="0">
                <a:srgbClr val="339966">
                  <a:alpha val="6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32720" y="2708280"/>
            <a:ext cx="1800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ероприятия, включенные в планы Администрации и Муниципальных образ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97F95-A85D-480D-BEFA-A04837DBAE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5:46:37Z</dcterms:created>
  <dc:creator>Мирианашвили</dc:creator>
  <dc:description/>
  <dc:language>en-US</dc:language>
  <cp:lastModifiedBy>inet</cp:lastModifiedBy>
  <dcterms:modified xsi:type="dcterms:W3CDTF">2005-10-20T06:32:11Z</dcterms:modified>
  <cp:revision>301</cp:revision>
  <dc:subject/>
  <dc:title>Шаблон Strategica</dc:title>
</cp:coreProperties>
</file>