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E67-D3F5-463C-9D7D-8EE71E27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491-BAA4-4AF7-8DB2-35DB8ED9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49E-D191-4D65-95BB-056AEDE9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794-EB3F-431F-96EE-1AFDEA96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A7D-49F2-43AE-990B-A083615D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131-D9C1-45EA-B78A-489B3891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5DD-188B-4884-BC6D-0DF4F1D0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E09-6A40-40E3-8D5C-8D4DF28A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C1E-DD58-453F-BA5B-D24CC186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3E5-84AA-4094-A96C-B8544F7C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787-1013-438F-BCAE-8F95B287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009-EC5D-432A-80A3-8EF775EA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6D5D-7BFA-49F5-ADB4-8716C3653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468360" y="1773360"/>
            <a:ext cx="8351640" cy="388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Система 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осударственного 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ланирования 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анкт-Петербурга"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723920" y="-3733560"/>
            <a:ext cx="304560" cy="8381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04920"/>
            <a:ext cx="8229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badi MT Condensed Light"/>
                <a:ea typeface="Arial"/>
              </a:rPr>
              <a:t>КОМИТЕТ ЭКОНОМИЧЕСКОГО РАЗВИТИЯ, ПРОМЫШЛЕННОЙ ПОЛИТИКИ И ТОРГОВ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63840"/>
            <a:ext cx="9144000" cy="52941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нцепция социально-экономического развития Санкт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етербург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 2005 – 2025 г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75640" y="652464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13000"/>
            <a:ext cx="8964720" cy="54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9640" indent="-360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Главная цел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– обеспечение европейских стандартов качества жизни для всех петербуржце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360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Желаемое будущее: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36036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В городе будут проживать 4,7 млн. че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36036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Ожидаемая продолжительность жизни при рождении достигнет 73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36036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Среднемесячная начисленная заработная плата составит около 2 тыс. долл. США (по паритету покупательной способности российского рубля в 2003 го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36036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Доля населения с низкими доходами не будет превышать 10% от общей численности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36036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Общий уровень жизни в городе будет таким, что Санкт-Петербург будет привлекать ежегодно до 35 тысяч мигрантов - квалифицированных специалистов трудоспособного возрас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36036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Среднегодовые темпы роста валового регионального продукта (ВРП) будут составлять не менее 6-8% в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36036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В структуре ВРП будут преобладать услуги (80%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36036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Прямые иностранные инвестиции достигнут 2 млрд. долларов в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36036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Число туристов из-за рубежа достигнет 8 млн. в год, количество мест в гостиницах вырастет с 30 до 150 ты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260280"/>
            <a:ext cx="896472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Если мы хотим обеспечить к 2025 году всем петербуржцам европейские стандарты качества проживания, нам необходим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Увеличить ВРП с 439 млрд. руб. в 2003 году до 6,8 трлн. руб. в 2025 го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AutoNum type="arabicPeriod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Обеспечить ежегодный прирост промышленного производства на уровне 7-12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AutoNum type="arabicPeriod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Обеспечить ежегодные темпы прироста подрядных работ в строительстве на уровне 7-15%, инвестиций в основной капитал – не менее 8 – 1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cc"/>
              </a:buClr>
              <a:buFont typeface="Times New Roman"/>
              <a:buAutoNum type="arabicPeriod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Увеличить численность экономически активного населения с 2 435 тыс. человек до 2 508 тыс. чел. (дополнительно  - 73 тыс. чело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675640" y="652464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63840"/>
            <a:ext cx="9144000" cy="5294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нцепция социально-экономического развития Санкт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етербур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75640" y="652464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413000"/>
            <a:ext cx="8964720" cy="47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648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Для выполнения поставленных стратегических задач необходимы действия по шести направлениям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Развитие человеческого потенци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Развитие городской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Улучшение экологической обстано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Развитие эконом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Совершенствование системы власти и управления, развитие гражданского об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5720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Обеспечение информационной открытости гражданского общ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"/>
          <p:cNvSpPr txBox="1"/>
          <p:nvPr/>
        </p:nvSpPr>
        <p:spPr>
          <a:xfrm>
            <a:off x="468360" y="1628640"/>
            <a:ext cx="8351640" cy="338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Стратегический план 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анкт-Петербурга"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4723920" y="-3733560"/>
            <a:ext cx="304560" cy="8381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04920"/>
            <a:ext cx="8229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badi MT Condensed Light"/>
                <a:ea typeface="Arial"/>
              </a:rPr>
              <a:t>КОМИТЕТ ЭКОНОМИЧЕСКОГО РАЗВИТИЯ, ПРОМЫШЛЕННОЙ ПОЛИТИКИ И ТОРГОВ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60720" y="6453360"/>
            <a:ext cx="5077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5556240"/>
            <a:ext cx="468000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Концепция социально-экономического развития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24360" y="4657680"/>
            <a:ext cx="4248000" cy="85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badi MT Condensed Light"/>
                <a:ea typeface="Arial"/>
              </a:rPr>
              <a:t>Стратегический план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3794040"/>
            <a:ext cx="378144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Программа социаль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2924280"/>
            <a:ext cx="2736720" cy="79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Перспектив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финансовый пл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1280" y="6467400"/>
            <a:ext cx="50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5344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труктура документов стратегического план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1268280"/>
            <a:ext cx="64908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21080" y="64184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1870200"/>
            <a:ext cx="64908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1268280"/>
            <a:ext cx="540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Бюджет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95640" y="2087640"/>
            <a:ext cx="446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Ежегодное послание Губернатора Зак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119844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37893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Комплексная система целевых ориентиров Санкт-Петербурга, планируемые пути и средства достижения указанных ориентиров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Нормативы стандартов прожи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29289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реднесрочный прогноз доходов и расходов денежных средст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653000"/>
            <a:ext cx="3600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  <a:ea typeface="Arial"/>
              </a:rPr>
              <a:t>Основные направления деятельности ИОГВ: стандарты проживания, ресурсное обеспечени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  <a:ea typeface="Arial"/>
              </a:rPr>
              <a:t>Реестр государственных функций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  <a:ea typeface="Arial"/>
              </a:rPr>
              <a:t>Генеральный план развития СП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5816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9800" y="641988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5564160"/>
            <a:ext cx="360072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тратегические цели и приоритеты социально-экономического развития СПб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7280" y="6453360"/>
            <a:ext cx="3529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64911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Основное содерж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1824480"/>
            <a:ext cx="3600720" cy="10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Цели и задачи Правительства Санкт-Петербурга.             Приоритеты социально-экономического развития СП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1268280"/>
            <a:ext cx="3600720" cy="5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План доходов и расход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8360" y="1197000"/>
            <a:ext cx="755640" cy="5113440"/>
          </a:xfrm>
          <a:prstGeom prst="upArrow">
            <a:avLst>
              <a:gd name="adj1" fmla="val 23074"/>
              <a:gd name="adj2" fmla="val 11375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40720" y="465300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836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тратегический план Санкт-Петербур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907920"/>
            <a:ext cx="87854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Стратегический план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– система правовых актов, включающая в себя Основные направления деятельности исполнительных органов государственной власти Санкт-Петербурга, Генеральный план Санкт-Петербурга, Реестр государственных функций Санкт-Петербур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156360" y="4365720"/>
          <a:ext cx="2386080" cy="1294920"/>
        </p:xfrm>
        <a:graphic>
          <a:graphicData uri="http://schemas.openxmlformats.org/drawingml/2006/table">
            <a:tbl>
              <a:tblPr/>
              <a:tblGrid>
                <a:gridCol w="238608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енеральный план Санкт-Петербур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411280" y="2421000"/>
            <a:ext cx="460872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Стратегический пл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Санкт-Петербур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9640" y="4365720"/>
          <a:ext cx="2592360" cy="130968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Основные направления деятельности ИОГВ СПб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(гос. полити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564000" y="4365720"/>
          <a:ext cx="2374920" cy="1294920"/>
        </p:xfrm>
        <a:graphic>
          <a:graphicData uri="http://schemas.openxmlformats.org/drawingml/2006/table">
            <a:tbl>
              <a:tblPr/>
              <a:tblGrid>
                <a:gridCol w="237492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еестр государственных фун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 rot="19200000">
            <a:off x="6084360" y="3715920"/>
            <a:ext cx="863640" cy="461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716280"/>
            <a:ext cx="86364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5805360"/>
            <a:ext cx="237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Пространственная модель исполнения государственных фун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872320"/>
            <a:ext cx="2808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тандарты прожи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Ресурсное обеспечение Комплекс административных и финансовых м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64000" y="5877000"/>
            <a:ext cx="237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Действия государства по обеспечению стандартов прожи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397600">
            <a:off x="2268000" y="3716280"/>
            <a:ext cx="863640" cy="541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1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1989000"/>
            <a:ext cx="331164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жизни на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2060640"/>
            <a:ext cx="3240000" cy="792000"/>
          </a:xfrm>
          <a:prstGeom prst="rect">
            <a:avLst/>
          </a:prstGeom>
          <a:solidFill>
            <a:srgbClr val="f9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342900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Доступ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Ресур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7640" y="3357720"/>
            <a:ext cx="2232000" cy="79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Стандарт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обеспеч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жизнедеятельности 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2997360"/>
            <a:ext cx="2663640" cy="577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Стандарты структ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ресур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3716280"/>
            <a:ext cx="266364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Стандарты эффективно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использования ресур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3716280"/>
            <a:ext cx="792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4437000"/>
            <a:ext cx="2232000" cy="1584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Эффективнос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доступность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качест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00360" y="4869000"/>
            <a:ext cx="172872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Отраслев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Стандарты (1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378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2421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4869000"/>
            <a:ext cx="172728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Стандар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обществе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эффе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отрас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77080" y="4581360"/>
            <a:ext cx="201600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Инфраструктур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стандар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77080" y="5373720"/>
            <a:ext cx="201600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Стандарты каче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5300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2764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213372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Стандарт качества жизни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588000" y="479736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522936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19640" y="328428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9280" y="765000"/>
            <a:ext cx="8785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Стандарты проживания в Санкт-Петербурге - комплекс требований к качеству проживания населения в Санкт-Петербурге, на выполнение которых направлена деятельность исполнительных органов государственной власти Санкт-Петербурга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89000"/>
            <a:ext cx="932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тратегический план – гос. поли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1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тандарты проживания в Санкт-Петербург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92280"/>
            <a:ext cx="914400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Стандарт качества жизни населения в Санкт-Петербурге</a:t>
            </a:r>
            <a:r>
              <a:rPr b="0" lang="ru-RU" sz="1700" spc="-1" strike="noStrike">
                <a:solidFill>
                  <a:srgbClr val="3333ff"/>
                </a:solidFill>
                <a:latin typeface="Arial"/>
                <a:ea typeface="Arial"/>
              </a:rPr>
              <a:t> - </a:t>
            </a:r>
            <a:r>
              <a:rPr b="1" lang="ru-RU" sz="1700" spc="-1" strike="noStrike">
                <a:solidFill>
                  <a:srgbClr val="3333ff"/>
                </a:solidFill>
                <a:latin typeface="Arial"/>
                <a:ea typeface="Arial"/>
              </a:rPr>
              <a:t>требование к уровню потребления материальных благ, услуг и удовлетворения духовных потребностей населения Санкт-Петербург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Стандарт обеспечения жизнедеятельности в Санкт-Петербурге</a:t>
            </a:r>
            <a:r>
              <a:rPr b="0" lang="ru-RU" sz="1700" spc="-1" strike="noStrike">
                <a:solidFill>
                  <a:srgbClr val="3333ff"/>
                </a:solidFill>
                <a:latin typeface="Arial"/>
                <a:ea typeface="Arial"/>
              </a:rPr>
              <a:t> - </a:t>
            </a:r>
            <a:r>
              <a:rPr b="1" lang="ru-RU" sz="1700" spc="-1" strike="noStrike">
                <a:solidFill>
                  <a:srgbClr val="3333ff"/>
                </a:solidFill>
                <a:latin typeface="Arial"/>
                <a:ea typeface="Arial"/>
              </a:rPr>
              <a:t>требования к структуре, объему (количеству) и эффективности использования демографических, территориальных, экономических, топливно-энергетических, экологических и иных ресурсов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Отраслевые стандарты проживания в Санкт-Петербурге</a:t>
            </a:r>
            <a:r>
              <a:rPr b="0" lang="ru-RU" sz="1700" spc="-1" strike="noStrike">
                <a:solidFill>
                  <a:srgbClr val="3333ff"/>
                </a:solidFill>
                <a:latin typeface="Arial"/>
                <a:ea typeface="Arial"/>
              </a:rPr>
              <a:t> - </a:t>
            </a:r>
            <a:r>
              <a:rPr b="1" lang="ru-RU" sz="1700" spc="-1" strike="noStrike">
                <a:solidFill>
                  <a:srgbClr val="3333ff"/>
                </a:solidFill>
                <a:latin typeface="Arial"/>
                <a:ea typeface="Arial"/>
              </a:rPr>
              <a:t>требования к качеству проживания населения в Санкт-Петербурге, направленные на обеспечение общественной эффективности и доступности инфраструктуры отрасли, а также качества предоставляемых ею услуг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Нормативы стандартов</a:t>
            </a:r>
            <a:r>
              <a:rPr b="0" lang="ru-RU" sz="1700" spc="-1" strike="noStrike">
                <a:solidFill>
                  <a:srgbClr val="3333ff"/>
                </a:solidFill>
                <a:latin typeface="Arial"/>
                <a:ea typeface="Arial"/>
              </a:rPr>
              <a:t> - </a:t>
            </a:r>
            <a:r>
              <a:rPr b="1" lang="ru-RU" sz="1700" spc="-1" strike="noStrike">
                <a:solidFill>
                  <a:srgbClr val="3333ff"/>
                </a:solidFill>
                <a:latin typeface="Arial"/>
                <a:ea typeface="Arial"/>
              </a:rPr>
              <a:t>количественные показатели стандартов, имеющие базовое, гарантируемое и целевое значение. Нормативы стандартов разрабатываются сроком до 5 лет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базовое значение норматива стандарт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 -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значение норматива стандарта, достигнутое на начало периода действия стандарт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гарантируемое значение стандарт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 -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минимально или максимально допустимое значение норматива стандарта, обеспечить которое обязаны исполнительные органы государственной власти Санкт-Петербур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целевое значение норматива стандарт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 -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значение норматива стандарта, на достижение которого направлена деятельность исполнительных органов государственной власти Санкт-Петербур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1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есурсное обеспечение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андартов проживания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19700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Ресурсы, подлежащие плановому распределению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селение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территор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финан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топливно-энергетические ресурс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техногенная нагрузка на окружающую среду(эколог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государственное имуще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Инструменты планирования и распределения ресурсов: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Демографический бала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Территориальный бала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Перспективный финансовый пл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Топливно-энергетический бала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Экологический балан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Баланс государственного иму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1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234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675640" y="652464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79280" y="1268280"/>
          <a:ext cx="8785440" cy="5470560"/>
        </p:xfrm>
        <a:graphic>
          <a:graphicData uri="http://schemas.openxmlformats.org/drawingml/2006/table">
            <a:tbl>
              <a:tblPr/>
              <a:tblGrid>
                <a:gridCol w="6381720"/>
                <a:gridCol w="824400"/>
                <a:gridCol w="827640"/>
                <a:gridCol w="751680"/>
              </a:tblGrid>
              <a:tr h="548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451"/>
                        </a:spcBef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тандарты проживания в Санкт-Петербург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тандарт качества жизни населения в Санкт-Петербур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тандарты обеспечения жизнедеятельности в Санкт-Петербур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Демограф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ерритория Санкт-Петербург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Экономика и финанс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опливно-энергетический комплек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Окружающая сред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Государственное имущество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Отраслевые стандарты проживания в Санкт-Петербур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ранспорт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Здравоохранение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оциальная защита населения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Образование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ультура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Физкультура и спорт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уризм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отребительский рынок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Информация, связь и телекоммуникации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Обеспечение личной и общественной безопасности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Государственное и муниципальное управление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Градостроительство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фера социального питания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6760" indent="-266760">
                        <a:buClr>
                          <a:srgbClr val="3333cc"/>
                        </a:buClr>
                        <a:buFont typeface="Wingdings" charset="2"/>
                        <a:buChar char="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Молодежная политика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Финансиру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Регулиру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Исполня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тратегический план – РЕЕСТР ГОСФУНК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620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Реестр государственных функций – правовой акт, устанавливающий перечень функций ИОГВ СПб, необходимых для обеспечения стандартов проживания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272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Цели и задачи системы государственного планирования Санкт-Петербур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75640" y="652464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68280"/>
            <a:ext cx="9144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Цели: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Обеспечение устойчивого сбалансированного социально-экономического развития Санкт-Петербур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Переход от хаотичного развития города к упорядоченному, целенаправ-ленному развитию, позволяющему эффективно решать актуальные проблемы социально-экономического развития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54280"/>
            <a:ext cx="907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Задачи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Упорядочивание процесса финансового, пространственного, организационного планиров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Формирование единого подхода к планированию и прогнозированию  развития Санкт-Петербурга на основе построения четкой взаимоувязанной системы документов стратегического планир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Создание непрерывной системы принятия эффективных управленческих решений на уровне органов власти Санкт-Петербур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тратегический план Санкт-Петербурга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Генеральный план развития Санкт-Петербур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75640" y="652464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981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Генеральный план развития Санкт-Петербурга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- градостроительная документация о градостроительном планировании развития территорий городских и сельских поселен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Генеральный план в системе государственного план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Санкт-Петербурга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– это пространственные решения исполнения государственных функций и резервные территории для развития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41440" y="2924280"/>
          <a:ext cx="352908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440" y="2924280"/>
                    <a:ext cx="35290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645080" y="2924280"/>
          <a:ext cx="3608280" cy="304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5080" y="2924280"/>
                    <a:ext cx="360828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41440" y="5948280"/>
            <a:ext cx="345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Плотность населения чел./г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5080" y="5948280"/>
            <a:ext cx="3816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Плотность мест приложения труда чел./г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32160" y="6237360"/>
            <a:ext cx="3386520" cy="497520"/>
            <a:chOff x="632160" y="6237360"/>
            <a:chExt cx="3386520" cy="497520"/>
          </a:xfrm>
        </p:grpSpPr>
        <p:sp>
          <p:nvSpPr>
            <p:cNvPr id="257" name=""/>
            <p:cNvSpPr/>
            <p:nvPr/>
          </p:nvSpPr>
          <p:spPr>
            <a:xfrm>
              <a:off x="632160" y="6272280"/>
              <a:ext cx="116640" cy="170280"/>
            </a:xfrm>
            <a:prstGeom prst="rect">
              <a:avLst/>
            </a:prstGeom>
            <a:solidFill>
              <a:srgbClr val="b95927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1720" y="623736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badi MT Condensed Light"/>
                  <a:ea typeface="Arial"/>
                </a:rPr>
                <a:t>265 – 50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2160" y="6509880"/>
              <a:ext cx="116640" cy="169200"/>
            </a:xfrm>
            <a:prstGeom prst="rect">
              <a:avLst/>
            </a:prstGeom>
            <a:solidFill>
              <a:srgbClr val="f4a642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1720" y="646020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badi MT Condensed Light"/>
                  <a:ea typeface="Arial"/>
                </a:rPr>
                <a:t>169 – 2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76040" y="6272280"/>
              <a:ext cx="97200" cy="170280"/>
            </a:xfrm>
            <a:prstGeom prst="rect">
              <a:avLst/>
            </a:prstGeom>
            <a:solidFill>
              <a:srgbClr val="e1c19a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24360" y="623736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badi MT Condensed Light"/>
                  <a:ea typeface="Arial"/>
                </a:rPr>
                <a:t>98 –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6040" y="6509880"/>
              <a:ext cx="97200" cy="169200"/>
            </a:xfrm>
            <a:prstGeom prst="rect">
              <a:avLst/>
            </a:prstGeom>
            <a:solidFill>
              <a:srgbClr val="eee199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24000" y="6460200"/>
              <a:ext cx="817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badi MT Condensed Light"/>
                  <a:ea typeface="Arial"/>
                </a:rPr>
                <a:t>52 –  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64760" y="6272280"/>
              <a:ext cx="116640" cy="170280"/>
            </a:xfrm>
            <a:prstGeom prst="rect">
              <a:avLst/>
            </a:prstGeom>
            <a:solidFill>
              <a:srgbClr val="f0dbbc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08480" y="62373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badi MT Condensed Light"/>
                  <a:ea typeface="Arial"/>
                </a:rPr>
                <a:t>9 –  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64760" y="6509880"/>
              <a:ext cx="116640" cy="169200"/>
            </a:xfrm>
            <a:prstGeom prst="rect">
              <a:avLst/>
            </a:prstGeom>
            <a:solidFill>
              <a:srgbClr val="f1ebd3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5680" y="6460200"/>
              <a:ext cx="54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badi MT Condensed Light"/>
                  <a:ea typeface="Arial"/>
                </a:rPr>
                <a:t>0 –   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810680" y="6237360"/>
            <a:ext cx="3843000" cy="495720"/>
            <a:chOff x="4810680" y="6237360"/>
            <a:chExt cx="3843000" cy="495720"/>
          </a:xfrm>
        </p:grpSpPr>
        <p:sp>
          <p:nvSpPr>
            <p:cNvPr id="270" name=""/>
            <p:cNvSpPr/>
            <p:nvPr/>
          </p:nvSpPr>
          <p:spPr>
            <a:xfrm>
              <a:off x="4810680" y="6302160"/>
              <a:ext cx="124920" cy="180000"/>
            </a:xfrm>
            <a:prstGeom prst="rect">
              <a:avLst/>
            </a:prstGeom>
            <a:solidFill>
              <a:srgbClr val="311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10680" y="6302160"/>
              <a:ext cx="12492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11840" y="626040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516"/>
                  </a:solidFill>
                  <a:latin typeface="Abadi MT Condensed Light"/>
                  <a:ea typeface="Arial"/>
                </a:rPr>
                <a:t>220 – 3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10680" y="6529680"/>
              <a:ext cx="124920" cy="180000"/>
            </a:xfrm>
            <a:prstGeom prst="rect">
              <a:avLst/>
            </a:prstGeom>
            <a:solidFill>
              <a:srgbClr val="30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10680" y="6529680"/>
              <a:ext cx="12492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11840" y="648936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516"/>
                  </a:solidFill>
                  <a:latin typeface="Abadi MT Condensed Light"/>
                  <a:ea typeface="Arial"/>
                </a:rPr>
                <a:t>112 – 2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3440" y="6278760"/>
              <a:ext cx="124920" cy="180000"/>
            </a:xfrm>
            <a:prstGeom prst="rect">
              <a:avLst/>
            </a:prstGeom>
            <a:solidFill>
              <a:srgbClr val="6c4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73440" y="6278760"/>
              <a:ext cx="12492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6040" y="623736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516"/>
                  </a:solidFill>
                  <a:latin typeface="Abadi MT Condensed Light"/>
                  <a:ea typeface="Arial"/>
                </a:rPr>
                <a:t>52 – 1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73440" y="6506280"/>
              <a:ext cx="124920" cy="180000"/>
            </a:xfrm>
            <a:prstGeom prst="rect">
              <a:avLst/>
            </a:prstGeom>
            <a:solidFill>
              <a:srgbClr val="977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73440" y="6506280"/>
              <a:ext cx="12492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73600" y="6464520"/>
              <a:ext cx="72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516"/>
                  </a:solidFill>
                  <a:latin typeface="Abadi MT Condensed Light"/>
                  <a:ea typeface="Arial"/>
                </a:rPr>
                <a:t>28 –  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56560" y="6289560"/>
              <a:ext cx="125640" cy="180000"/>
            </a:xfrm>
            <a:prstGeom prst="rect">
              <a:avLst/>
            </a:prstGeom>
            <a:solidFill>
              <a:srgbClr val="b6a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56560" y="6289560"/>
              <a:ext cx="12564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43480" y="62481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1516"/>
                  </a:solidFill>
                  <a:latin typeface="Abadi MT Condensed Light"/>
                  <a:ea typeface="Arial"/>
                </a:rPr>
                <a:t>8 –  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56560" y="6518880"/>
              <a:ext cx="125640" cy="180000"/>
            </a:xfrm>
            <a:prstGeom prst="rect">
              <a:avLst/>
            </a:prstGeom>
            <a:solidFill>
              <a:srgbClr val="e7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56560" y="6518880"/>
              <a:ext cx="125640" cy="180000"/>
            </a:xfrm>
            <a:prstGeom prst="rect">
              <a:avLst/>
            </a:pr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57520" y="647856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31516"/>
                  </a:solidFill>
                  <a:latin typeface="Abadi MT Condensed Light"/>
                  <a:ea typeface="Arial"/>
                </a:rPr>
                <a:t>0 –  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2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92" name=""/>
          <p:cNvSpPr txBox="1"/>
          <p:nvPr/>
        </p:nvSpPr>
        <p:spPr>
          <a:xfrm>
            <a:off x="468360" y="1557360"/>
            <a:ext cx="828036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Программа социально-экономического</a:t>
            </a:r>
            <a:endParaRPr b="1" lang="en-US" sz="16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азвития Санкт-Петербурга </a:t>
            </a:r>
            <a:endParaRPr b="1" lang="en-US" sz="16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а 2005-2008 годы"</a:t>
            </a:r>
            <a:endParaRPr b="1" lang="en-US" sz="16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4723920" y="-3733560"/>
            <a:ext cx="304560" cy="8381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304920"/>
            <a:ext cx="8229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badi MT Condensed Light"/>
                <a:ea typeface="Arial"/>
              </a:rPr>
              <a:t>КОМИТЕТ ЭКОНОМИЧЕСКОГО РАЗВИТИЯ, ПРОМЫШЛЕННОЙ ПОЛИТИКИ И ТОРГОВ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960720" y="6453360"/>
            <a:ext cx="5077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5556240"/>
            <a:ext cx="468000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Концепция социально-экономического развития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24360" y="4657680"/>
            <a:ext cx="4248000" cy="85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тратегический план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24360" y="3794040"/>
            <a:ext cx="378144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badi MT Condensed Light"/>
                <a:ea typeface="Arial"/>
              </a:rPr>
              <a:t>Программа социаль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badi MT Condensed Light"/>
                <a:ea typeface="Arial"/>
              </a:rPr>
              <a:t>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24360" y="2924280"/>
            <a:ext cx="2736720" cy="79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Перспектив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финансовый пл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531280" y="6467400"/>
            <a:ext cx="50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5344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труктура документов государственного план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4360" y="1268280"/>
            <a:ext cx="64908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21080" y="64184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1870200"/>
            <a:ext cx="64908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1268280"/>
            <a:ext cx="540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Бюджет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95640" y="2087640"/>
            <a:ext cx="446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Ежегодное послание Губернатора Зак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51280" y="119844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37893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  <a:ea typeface="Arial"/>
              </a:rPr>
              <a:t>Комплексная система целевых ориентиров Санкт-Петербурга, планируемые пути и средства достижения указанных ориентиров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  <a:ea typeface="Arial"/>
              </a:rPr>
              <a:t>Нормативы стандартов прожи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9280" y="29289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реднесрочный прогноз доходов и расходов денежных средст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9280" y="4653000"/>
            <a:ext cx="3600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Основные направления деятельности ИОГВ: стандарты проживания, ресурсное обеспечени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Реестр государственных функций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Генеральный план развития СП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5816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89800" y="641988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9280" y="5564160"/>
            <a:ext cx="360072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тратегические цели и приоритеты социально-экономического развития СПб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7280" y="6453360"/>
            <a:ext cx="3529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0920" y="64911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Основное содерж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9280" y="1824480"/>
            <a:ext cx="3600720" cy="10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Цели и задачи Правительства Санкт-Петербурга.             Приоритеты социально-экономического развития СП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1268280"/>
            <a:ext cx="3600720" cy="5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План доходов и расход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88360" y="1197000"/>
            <a:ext cx="755640" cy="5113440"/>
          </a:xfrm>
          <a:prstGeom prst="upArrow">
            <a:avLst>
              <a:gd name="adj1" fmla="val 23074"/>
              <a:gd name="adj2" fmla="val 11375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36000" y="3860640"/>
            <a:ext cx="1223640" cy="648000"/>
          </a:xfrm>
          <a:prstGeom prst="leftArrow">
            <a:avLst>
              <a:gd name="adj1" fmla="val 50000"/>
              <a:gd name="adj2" fmla="val 472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17080" y="649116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2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грамма социально-экономического развития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анкт-Петербур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675640" y="652464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81000"/>
            <a:ext cx="9144000" cy="56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рограмма социально-экономического развития Санкт - Петербур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3333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комплексная система целевых ориентиров социально-экономического развития Санкт-Петербурга и планируемые пути и средства достижения указанных ориенти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Главная цель программы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рост благосостояния жителей Санкт-Петербурга при условии обеспечения в соответствии со стандартами проживания в Санкт-Петербурге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качества жизни населения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доступности  ресур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  <a:ea typeface="Arial"/>
              </a:rPr>
              <a:t>для  населения,  государства  и  экономики Санкт-Петербурга и эффективного их использования;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эффективности, доступности и качества услу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  <a:ea typeface="Arial"/>
              </a:rPr>
              <a:t>для населения, государства и экономики Санкт-Петербург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  <a:ea typeface="Arial"/>
              </a:rPr>
              <a:t>Показатель - отношение месячных среднедушевых денежных доходов к величине прожиточного минимума в среднем на душу населения, ра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  <a:ea typeface="Arial"/>
              </a:rPr>
              <a:t>2003 год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2,6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  <a:ea typeface="Arial"/>
              </a:rPr>
              <a:t>(6,9 тыс. руб.), 2008 год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4,3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  <a:ea typeface="Arial"/>
              </a:rPr>
              <a:t>(17,0 тыс. руб.)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Arial"/>
                <a:ea typeface="Arial"/>
              </a:rPr>
              <a:t>* </a:t>
            </a:r>
            <a:r>
              <a:rPr b="0" lang="ru-RU" sz="1400" spc="-1" strike="noStrike">
                <a:solidFill>
                  <a:srgbClr val="3333cc"/>
                </a:solidFill>
                <a:latin typeface="Arial"/>
                <a:ea typeface="Arial"/>
              </a:rPr>
              <a:t>Здесь и далее приведены цифровые значения, соответствующие поправкам, вносимым в третье чтение проекта Закона Санкт-Петербурга «О Программе социально-экономического развития Санкт-Петербурга на 2005 - 2008 годы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2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79280" y="692280"/>
            <a:ext cx="878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6200" y="928800"/>
            <a:ext cx="858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79280" y="2038320"/>
          <a:ext cx="8640720" cy="4611600"/>
        </p:xfrm>
        <a:graphic>
          <a:graphicData uri="http://schemas.openxmlformats.org/drawingml/2006/table">
            <a:tbl>
              <a:tblPr/>
              <a:tblGrid>
                <a:gridCol w="505080"/>
                <a:gridCol w="2374920"/>
                <a:gridCol w="3384360"/>
                <a:gridCol w="1224000"/>
                <a:gridCol w="115236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№ 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целевого ориент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Базовое значение, 200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Целевое значение, 200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Сокращение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масштабов бед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Доля населения со среднедушевыми  доходами в семье ниже прожиточного минимума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1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Индекс концентрации доходов (коэффициент Джини), един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0,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0,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Обеспечение высоких доходов петербурж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Среднедушевые денежные доходы, тыс. руб. в 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Повышение качества городской среды Санкт-Петербу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Выполнение нормативов стандартов проживания в Санкт-Петербурге – доля нормативных показателей стандартов, для которых выполняются гарантируемые значения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179280" y="0"/>
            <a:ext cx="8569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грамма социально-экономического развития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анкт-Петербур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836640"/>
            <a:ext cx="8785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Для достижения главной цели социально-экономического развития Санкт-Петербурга органы государственной власти Санкт-Петербурга  обеспечивают выполнение указанных ниже задач и достижение следующих целевых ориентиров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: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47840" y="1216080"/>
            <a:ext cx="837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6200" y="928800"/>
            <a:ext cx="858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9840" y="476280"/>
          <a:ext cx="8966160" cy="6235560"/>
        </p:xfrm>
        <a:graphic>
          <a:graphicData uri="http://schemas.openxmlformats.org/drawingml/2006/table">
            <a:tbl>
              <a:tblPr/>
              <a:tblGrid>
                <a:gridCol w="433440"/>
                <a:gridCol w="2413080"/>
                <a:gridCol w="4032000"/>
                <a:gridCol w="1079640"/>
                <a:gridCol w="100800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целевого ориент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Базовое значение, 200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Целевое значение 200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Обеспечение роста и повышение конкурентоспособности экономики Санкт-Петербу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Валовой региональный продукт Санкт-Петербурга на душу населения, тыс.</a:t>
                      </a: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руб. на человека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9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2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Увеличение доходов консолидированного бюджета     Санкт-Петербу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Доходы консолидированного бюджета Санкт-Петербурга, 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7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17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Доходы консолидированного бюджета Санкт-Петербурга в расчете на 1 жителя, тыс. руб.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Забота о человеке и укрепление института семьи, поддержка материнства и дет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Ожидаемая продолжительность жизни,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6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67,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Соотношение числа зарегистрированных за год браков и разводов, р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1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1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Число родившихся на 1000 жителей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Times New Roman"/>
                          <a:ea typeface="Arial Unicode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Формирование благоприятного предпринимательского клим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Инвестиции в основной капитал на 1 жителя в год, тыс. руб. на человека в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24,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48,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Отношение объема инвестиций за год к стоимости основных фондов отраслей экономики по полной учетной балансовой стоимости на конец года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Arial Unicode MS"/>
                        </a:rPr>
                        <a:t>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179280" y="-171360"/>
            <a:ext cx="871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грамма социально-экономического развития СП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47840" y="1216080"/>
            <a:ext cx="837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6200" y="928800"/>
            <a:ext cx="858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020960"/>
            <a:ext cx="91440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Действия Правительства Санкт-Петербург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Нормативно определяется главная цель развит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– благосостояние горожан, задачи и целевые ориентиры социально-экономического развит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Вводятся стандар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качества жизни, обеспечения жизнедеятельности, отраслевые стандар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Назначают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исполнительные органы государственной власти Санкт-Петербурга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ответственные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за достижение цели, решение задач, обеспечение выполнения нормативов стандартов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Устанавливается, ч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обязанность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исполнительных органов государственной власти Санкт-Петербург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является обеспечение качест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жизни, качества городской среды и доступности ресурсов на уровне не хуже гарантированных значений нормативов стандартов прожи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Нормативно-правовая ба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приводится в соответствие с целью и задачами, стандарт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Определяется план мероприят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по достижению главной цели, решению задач, обеспечению стандартов  и даются отдельные  поручения исполнительным органам государственной власти Санкт-Петербург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9280" y="189000"/>
            <a:ext cx="8713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грамма социально-экономического развития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анкт-Петербур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53272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2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52" name=""/>
          <p:cNvSpPr txBox="1"/>
          <p:nvPr/>
        </p:nvSpPr>
        <p:spPr>
          <a:xfrm>
            <a:off x="468360" y="1557360"/>
            <a:ext cx="828036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Среднесрочные и краткосрочные </a:t>
            </a:r>
            <a:endParaRPr b="1" lang="en-US" sz="16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кументы  системы  </a:t>
            </a:r>
            <a:endParaRPr b="1" lang="en-US" sz="16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осударственного планирования  </a:t>
            </a:r>
            <a:endParaRPr b="1" lang="en-US" sz="16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анкт-Петербурга "</a:t>
            </a:r>
            <a:endParaRPr b="1" lang="en-US" sz="16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4723920" y="-3733560"/>
            <a:ext cx="304560" cy="8381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304920"/>
            <a:ext cx="8229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badi MT Condensed Light"/>
                <a:ea typeface="Arial"/>
              </a:rPr>
              <a:t>КОМИТЕТ ЭКОНОМИЧЕСКОГО РАЗВИТИЯ, ПРОМЫШЛЕННОЙ ПОЛИТИКИ И ТОРГОВ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960720" y="6453360"/>
            <a:ext cx="5077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4360" y="5556240"/>
            <a:ext cx="468000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Концепция социально-экономического развития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24360" y="4657680"/>
            <a:ext cx="4248000" cy="85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тратегический план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24360" y="3794040"/>
            <a:ext cx="378144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Программа социаль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24360" y="2924280"/>
            <a:ext cx="2736720" cy="79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badi MT Condensed Light"/>
                <a:ea typeface="Arial"/>
              </a:rPr>
              <a:t>Перспектив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badi MT Condensed Light"/>
                <a:ea typeface="Arial"/>
              </a:rPr>
              <a:t>финансовый пл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31280" y="6467400"/>
            <a:ext cx="50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5344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труктура документов государственного план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24360" y="1268280"/>
            <a:ext cx="64908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21080" y="64184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24360" y="1870200"/>
            <a:ext cx="64908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1268280"/>
            <a:ext cx="540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badi MT Condensed Light"/>
                <a:ea typeface="Arial"/>
              </a:rPr>
              <a:t>Бюджет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95640" y="2087640"/>
            <a:ext cx="446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badi MT Condensed Light"/>
                <a:ea typeface="Arial"/>
              </a:rPr>
              <a:t>Ежегодное послание Губернатора Зак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51280" y="119844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37893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Комплексная система целевых ориентиров Санкт-Петербурга, планируемые пути и средства достижения указанных ориентиров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Нормативы стандартов прожи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9280" y="29289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badi MT Condensed Light"/>
                <a:ea typeface="Arial"/>
              </a:rPr>
              <a:t>Среднесрочный прогноз доходов и расходов денежных средств</a:t>
            </a: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4653000"/>
            <a:ext cx="3600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Основные направления деятельности ИОГВ: стандарты проживания, ресурсное обеспечени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Реестр государственных функций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Генеральный план развития СП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5816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641988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9280" y="5564160"/>
            <a:ext cx="360072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тратегические цели и приоритеты социально-экономического</a:t>
            </a:r>
            <a:r>
              <a:rPr b="1" lang="en-US" sz="1100" spc="-1" strike="noStrike">
                <a:solidFill>
                  <a:srgbClr val="ff0066"/>
                </a:solidFill>
                <a:latin typeface="Abadi MT Condensed Light"/>
                <a:ea typeface="Arial"/>
              </a:rPr>
              <a:t> развития СПб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7280" y="6453360"/>
            <a:ext cx="3529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0920" y="64911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Основное содерж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9280" y="1634040"/>
            <a:ext cx="3600720" cy="141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badi MT Condensed Light"/>
                <a:ea typeface="Arial"/>
              </a:rPr>
              <a:t>Цели и задачи Правительства Санкт-Петербурга.             Приоритеты социально-экономического развития СПб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1268280"/>
            <a:ext cx="3600720" cy="5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badi MT Condensed Light"/>
                <a:ea typeface="Arial"/>
              </a:rPr>
              <a:t>План доходов и расходов</a:t>
            </a: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8360" y="1197000"/>
            <a:ext cx="755640" cy="5113440"/>
          </a:xfrm>
          <a:prstGeom prst="upArrow">
            <a:avLst>
              <a:gd name="adj1" fmla="val 23074"/>
              <a:gd name="adj2" fmla="val 11375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712360" y="6591240"/>
            <a:ext cx="46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40720" y="3141720"/>
            <a:ext cx="1224000" cy="288720"/>
          </a:xfrm>
          <a:prstGeom prst="leftArrow">
            <a:avLst>
              <a:gd name="adj1" fmla="val 50000"/>
              <a:gd name="adj2" fmla="val 105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17080" y="649116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2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40720" y="2421000"/>
            <a:ext cx="1224000" cy="288720"/>
          </a:xfrm>
          <a:prstGeom prst="leftArrow">
            <a:avLst>
              <a:gd name="adj1" fmla="val 50000"/>
              <a:gd name="adj2" fmla="val 105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40720" y="1484280"/>
            <a:ext cx="1224000" cy="289080"/>
          </a:xfrm>
          <a:prstGeom prst="leftArrow">
            <a:avLst>
              <a:gd name="adj1" fmla="val 50000"/>
              <a:gd name="adj2" fmla="val 1058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197000"/>
            <a:ext cx="91440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3300"/>
                </a:solidFill>
                <a:uFillTx/>
                <a:latin typeface="Times New Roman"/>
              </a:rPr>
              <a:t>Перспективный финансовый план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- перспективный финансовый план - документ, формируемый одновременно с проектом бюджета на очередной финансовый год на основе среднесрочного прогноза социально-экономического развития Российской Федерации, субъекта Российской Федерации, муниципального образования и содержащий данные о прогнозных возможностях бюджета по мобилизации доходов, привлечению государственных или муниципальных заимствований и финансированию основных расходов бюдже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риорите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Arial"/>
              </a:rPr>
              <a:t>Заработная плат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Arial"/>
              </a:rPr>
              <a:t>  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Arial"/>
              </a:rPr>
              <a:t>Социальные трансферт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Arial"/>
              </a:rPr>
              <a:t>  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Arial"/>
              </a:rPr>
              <a:t>Капитальные влож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Дефицитный цикл к 2008 году должен быть закры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189000"/>
            <a:ext cx="871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ерспективный финансовый план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анкт - Петербур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178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ринципы построени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с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истемы государственного планирования Санкт-Петербур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75640" y="652464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197000"/>
            <a:ext cx="87854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1.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Эффективнос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 Предполагает, что система государственного планирования обеспечивает эффективное достижение поставленных целей в различных сферах жизни Санкт-Петербурга (рост ВРП и удвоение бюджета Санкт-Петербурга). Включает в себя экономическую эффективность и социальную эффект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2.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Управляемос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 Предполагает, что в системе государственного планирования существует постоянное управленческое воздействие со стороны органов государственной власти. То есть система фиксирует государственные функции по управлению экономи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Многовариантность и оптимальнос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 Предполагает   наличие различных вариантов развития города, при этом система государственного планирования позволяет выбрать наилучший, оптимальный вариант разви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4.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Системность и комплекснос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 Предполагает, что система государственного планирования охватывает все сферы жизни города, а при разработке документов стратегического планирования учитывается все многообразие факторов, определяющих развитие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197000"/>
            <a:ext cx="914400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Ежегодное послание Губернатора Санкт-Петербурга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содержит цели и задачи Правительства Санкт-Петербурга, приоритеты социально-экономического развития Санкт-Петербур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риоритеты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бюджетной полит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</a:rPr>
              <a:t>- увеличение бюджета развития с направлением средств на развитие общественной инфраструктуры;</a:t>
            </a:r>
            <a:r>
              <a:rPr b="1" lang="ru-RU" sz="26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</a:rPr>
              <a:t>- эффективная социальная политика, адресное предоставление социальной помощ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</a:rPr>
              <a:t>- рост расходов на улучшение социально-бытовых условий участников Великой Отечественной войны, жителей блокадного Ленинграда, работников бюджетной сфер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</a:rPr>
              <a:t>- поддержка детства в целом и детей инвалид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189000"/>
            <a:ext cx="871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Ежегодное послание Губернатора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анкт - Петербур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3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8675640" y="649116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1052640"/>
            <a:ext cx="91440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 Unicode MS"/>
                <a:ea typeface="Arial Unicode MS"/>
              </a:rPr>
              <a:t>Бюджет Санкт-Петербурга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- форма образования и расходования фонда денежных средств, предназначенных для финансового обеспечения задач и функций государства и местного самоуправ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риорите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Заработная пла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Социальные трансфер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Капитальные влож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риоритетные направления развития инфраструктуры –  строительство дорог  и  развитие энерге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Цель –  удвоение бюджета за два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189000"/>
            <a:ext cx="871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Бюджет    Санкт - Петербур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3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960720" y="6453360"/>
            <a:ext cx="5077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5556240"/>
            <a:ext cx="468000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Концепция социально-экономического развития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24360" y="4657680"/>
            <a:ext cx="4248000" cy="85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тратегический план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24360" y="3794040"/>
            <a:ext cx="378144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Программа социаль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24360" y="2924280"/>
            <a:ext cx="2736720" cy="79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Перспектив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финансовый пл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531280" y="6467400"/>
            <a:ext cx="50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5344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труктура документов государственного план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1268280"/>
            <a:ext cx="64908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21080" y="64184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24360" y="1870200"/>
            <a:ext cx="64908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24360" y="1268280"/>
            <a:ext cx="540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Бюджет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95640" y="2087640"/>
            <a:ext cx="446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Ежегодное послание Губернатора Зак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51280" y="119844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9280" y="37893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Комплексная система целевых ориентиров Санкт-Петербурга, планируемые пути и средства достижения указанных ориентиров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Нормативы стандартов прожи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9280" y="29289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реднесрочный прогноз доходов и расходов денежных средст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9280" y="4653000"/>
            <a:ext cx="3600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Основные направления деятельности ИОГВ: стандарты проживания, ресурсное обеспечени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Реестр государственных функций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Генеральный план развития СП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5816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89800" y="641988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9280" y="5564160"/>
            <a:ext cx="360072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тратегические цели и приоритеты социально-экономического развития СПб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7280" y="6453360"/>
            <a:ext cx="3529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0920" y="64911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Основное содерж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9280" y="1824480"/>
            <a:ext cx="3600720" cy="10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Цели и задачи Правительства Санкт-Петербурга.             Приоритеты социально-экономического развития СП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1268280"/>
            <a:ext cx="3600720" cy="5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План доходов и расход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8360" y="1197000"/>
            <a:ext cx="755640" cy="5113440"/>
          </a:xfrm>
          <a:prstGeom prst="upArrow">
            <a:avLst>
              <a:gd name="adj1" fmla="val 23074"/>
              <a:gd name="adj2" fmla="val 11375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12360" y="6591240"/>
            <a:ext cx="46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8836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3</a:t>
            </a: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720" y="6453360"/>
            <a:ext cx="5077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5556240"/>
            <a:ext cx="468000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Концепция социально-экономического развития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4657680"/>
            <a:ext cx="4248000" cy="85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тратегический план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3794040"/>
            <a:ext cx="378144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Программа социаль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24360" y="2924280"/>
            <a:ext cx="2736720" cy="79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Перспектив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финансовый пл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31280" y="6467400"/>
            <a:ext cx="50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5344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труктура документов государственного план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1268280"/>
            <a:ext cx="64908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21080" y="64184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1870200"/>
            <a:ext cx="64908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1268280"/>
            <a:ext cx="540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Бюджет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95640" y="2087640"/>
            <a:ext cx="446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Ежегодное послание Губернатора Зак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119844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7893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Комплексная система целевых ориентиров Санкт-Петербурга, планируемые пути и средства достижения указанных ориентиров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Нормативы стандартов прожи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29289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реднесрочный прогноз доходов и расходов денежных средст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653000"/>
            <a:ext cx="3600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Основные направления деятельности ИОГВ: стандарты проживания, ресурсное обеспечени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Реестр государственных функций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Генеральный план развития СП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5816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89800" y="641988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5564160"/>
            <a:ext cx="360072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тратегические цели и приоритеты социально-экономического развития СПб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453360"/>
            <a:ext cx="3529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64911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Основное содерж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824480"/>
            <a:ext cx="3600720" cy="10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Цели и задачи Правительства Санкт-Петербурга.             Приоритеты социально-экономического развития СПб</a:t>
            </a:r>
            <a:r>
              <a:rPr b="1" lang="en-US" sz="11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268280"/>
            <a:ext cx="3600720" cy="5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План доходов и расход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8360" y="1197000"/>
            <a:ext cx="755640" cy="5113440"/>
          </a:xfrm>
          <a:prstGeom prst="upArrow">
            <a:avLst>
              <a:gd name="adj1" fmla="val 23074"/>
              <a:gd name="adj2" fmla="val 11375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712360" y="6591240"/>
            <a:ext cx="46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17080" y="649116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468360" y="1557360"/>
            <a:ext cx="777564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онцепция социально-экономического</a:t>
            </a:r>
            <a:endParaRPr b="1" lang="en-US" sz="16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азвития Санкт-Петербурга </a:t>
            </a:r>
            <a:endParaRPr b="1" lang="en-US" sz="16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а период до 2025 года</a:t>
            </a:r>
            <a:endParaRPr b="1" lang="en-US" sz="16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4723920" y="-3733560"/>
            <a:ext cx="304560" cy="8381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920"/>
            <a:ext cx="8229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badi MT Condensed Light"/>
                <a:ea typeface="Arial"/>
              </a:rPr>
              <a:t>КОМИТЕТ ЭКОНОМИЧЕСКОГО РАЗВИТИЯ, ПРОМЫШЛЕННОЙ ПОЛИТИКИ И ТОРГОВ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60720" y="6453360"/>
            <a:ext cx="5077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556240"/>
            <a:ext cx="468000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badi MT Condensed Light"/>
                <a:ea typeface="Arial"/>
              </a:rPr>
              <a:t>Концепция социально-экономического развития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657680"/>
            <a:ext cx="4248000" cy="858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тратегический план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3794040"/>
            <a:ext cx="378144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Программа социаль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2924280"/>
            <a:ext cx="2736720" cy="79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Перспектив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финансовый пл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31280" y="6467400"/>
            <a:ext cx="50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344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труктура документов государственного план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1268280"/>
            <a:ext cx="649080" cy="5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21080" y="64184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70200"/>
            <a:ext cx="64908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1268280"/>
            <a:ext cx="5400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  <a:ea typeface="Arial"/>
              </a:rPr>
              <a:t>Бюджет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2087640"/>
            <a:ext cx="446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Ежегодное послание Губернатора Зак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  <a:ea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51280" y="119844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37893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Комплексная система целевых ориентиров Санкт-Петербурга, планируемые пути и средства достижения указанных ориентиров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Нормативы стандартов прожи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928960"/>
            <a:ext cx="360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Среднесрочный прогноз доходов и расходов денежных средст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4653000"/>
            <a:ext cx="3600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Основные направления деятельности ИОГВ: стандарты проживания, ресурсное обеспечени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Реестр государственных функций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rial"/>
                <a:ea typeface="Arial"/>
              </a:rPr>
              <a:t>Генеральный план развития СП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58160" y="64198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9800" y="641988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badi MT Condensed Ligh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5564160"/>
            <a:ext cx="3600720" cy="77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badi MT Condensed Light"/>
                <a:ea typeface="Arial"/>
              </a:rPr>
              <a:t>Стратегические цели и приоритеты социально-экономического развития СПб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7280" y="6453360"/>
            <a:ext cx="3529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4911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Основное содерж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1824480"/>
            <a:ext cx="3600720" cy="10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Цели и задачи Правительства Санкт-Петербурга.             Приоритеты социально-экономического развития СП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1268280"/>
            <a:ext cx="3600720" cy="5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Abadi MT Condensed Light"/>
                <a:ea typeface="Arial"/>
              </a:rPr>
              <a:t>План доходов и расход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8360" y="1197000"/>
            <a:ext cx="755640" cy="5113440"/>
          </a:xfrm>
          <a:prstGeom prst="upArrow">
            <a:avLst>
              <a:gd name="adj1" fmla="val 23074"/>
              <a:gd name="adj2" fmla="val 11375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12360" y="6591240"/>
            <a:ext cx="46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7640" y="5805360"/>
            <a:ext cx="1224000" cy="648000"/>
          </a:xfrm>
          <a:prstGeom prst="leftArrow">
            <a:avLst>
              <a:gd name="adj1" fmla="val 50000"/>
              <a:gd name="adj2" fmla="val 47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17080" y="649116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79280" y="981000"/>
          <a:ext cx="8785080" cy="5687640"/>
        </p:xfrm>
        <a:graphic>
          <a:graphicData uri="http://schemas.openxmlformats.org/drawingml/2006/table">
            <a:tbl>
              <a:tblPr/>
              <a:tblGrid>
                <a:gridCol w="6746040"/>
                <a:gridCol w="20390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рогноз на 2025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птимистичный вариант прогно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Численность постоянного населения на начало года</a:t>
                      </a: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ыс. че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3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родолжительность жизни</a:t>
                      </a: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л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оэффициент рождаемости</a:t>
                      </a: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оэффициент естественного прироста (убыли) населения</a:t>
                      </a: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ВРП на душу населения</a:t>
                      </a: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ыс. руб.</a:t>
                      </a: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че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Индекс загрязненности атмосферы</a:t>
                      </a: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едини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реднемесячная заработная плата в расчете на 1 работающего</a:t>
                      </a: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долл. СШ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Миграционный прирост населения, тыс. чел. в го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реднегодовые темпы прироста ВРП, % в го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Доля услуг в ВРП, 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бъем инвестиций в основной капитал в 2025 году, млрд. руб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оличество туристов, посетивших Санкт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етербург в 2025 году, млн. че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68360" y="-860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сновные показатели прогноза социально-экономического развития Санкт-Петербурга до 2025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50920" y="620640"/>
          <a:ext cx="8713800" cy="5699160"/>
        </p:xfrm>
        <a:graphic>
          <a:graphicData uri="http://schemas.openxmlformats.org/drawingml/2006/table">
            <a:tbl>
              <a:tblPr/>
              <a:tblGrid>
                <a:gridCol w="4761000"/>
                <a:gridCol w="1621080"/>
                <a:gridCol w="1146600"/>
                <a:gridCol w="969840"/>
                <a:gridCol w="216000"/>
              </a:tblGrid>
              <a:tr h="5205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именование показателя (норматива стандарта) качества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средн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 4 странам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Евро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анкт-Петербур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2003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щий коэффициент рождаемости, 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жидаемая продолжительность жизни при рождении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эффициент естественного прироста, 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ВП (для Санкт-Петербурга- ВРП) на душу населения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тыс. долл. США/чел. (с учетом ППС рубл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,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эффициент концентрации доходов (коэффициент Джинни), 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3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ильем, кв.м /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ичным легковым автотранспортом, ед./1000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отношение браков и разводов,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ровень преступности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кол-во преступлений/1000 че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2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ндекс развития человеческого потенциала (ИРЧП), е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9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39280" y="6308640"/>
            <a:ext cx="351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  <a:ea typeface="Arial"/>
              </a:rPr>
              <a:t>% </a:t>
            </a:r>
            <a:r>
              <a:rPr b="1" lang="ru-RU" sz="1000" spc="-1" strike="noStrike">
                <a:solidFill>
                  <a:srgbClr val="3333cc"/>
                </a:solidFill>
                <a:latin typeface="Arial"/>
                <a:ea typeface="Arial"/>
              </a:rPr>
              <a:t>Санкт-Петербург к среднему по 4 странам Европ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89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Стандарты качества жизни в СПб и Европ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675640" y="652464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784080"/>
            <a:ext cx="9144000" cy="180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921280"/>
            <a:ext cx="8991720" cy="860040"/>
          </a:xfrm>
          <a:prstGeom prst="rect">
            <a:avLst/>
          </a:prstGeom>
          <a:solidFill>
            <a:srgbClr val="3c7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зкое ухудшение внешних международных и российских условий, приведет к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зникновению кризисных явлений. Участятся случаи аварий инженерных систем и транспорта. Объем занятости катастрофически сократится, резко возрастет доля населения, живущего за чертой бедности, увеличится смертность, сократится численность населения город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90720"/>
            <a:ext cx="8991720" cy="1051560"/>
          </a:xfrm>
          <a:prstGeom prst="rect">
            <a:avLst/>
          </a:prstGeom>
          <a:solidFill>
            <a:srgbClr val="3c7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тербург будет развиваться, в первую очередь, как крупнейший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оргово-транспортный канал между Россией и ЕС. Через Петербург будет осуществляться более 50% объемов всего экспорта России в страны ЕС и более 50% всего импорта России из стран ЕС. В Петербурге возможен рост числа предприятий, занимающихся обслуживанием грузов: сортировкой, упаковкой, сборкой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914400"/>
            <a:ext cx="2895480" cy="307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 ТОРГОВО-ТРАНСПОРТ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09680"/>
            <a:ext cx="8991720" cy="860040"/>
          </a:xfrm>
          <a:prstGeom prst="rect">
            <a:avLst/>
          </a:prstGeom>
          <a:solidFill>
            <a:srgbClr val="3c7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тербург станет, прежде всего, крупным промышленным центром. Важнейшими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траслями города будут судостроительные заводы, энергетика и энергетическое машиностроение (узкой специализации); пищевая промышленность. Параллельно будет развиваться сфера услуг, таких, как связь , торговля потребительскими товарам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76720"/>
            <a:ext cx="8991720" cy="2009160"/>
          </a:xfrm>
          <a:prstGeom prst="rect">
            <a:avLst/>
          </a:prstGeom>
          <a:solidFill>
            <a:srgbClr val="3c7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удет развернута масштабная программа содейств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нновациям, нацеленная на превращение Петербурга в российский и, потенциально, мировой центр разработки и внедрения инноваций. Расположенные в городе управляющие центры фирм и корпораций будут руководить созданием под российскими, торговыми марками производственных технологий и  продукции таких отраслей как высокоточная механика, оптика, электроника, биотехнологии, медицинские препараты и вакцины, программное обеспечение, разработка и дизайн бытовой техники, транспортных средств, мебели, одежды, кино, музыкальной продукции, книг. Из Петербурга, наряду с Москвой, будет осуществляться управление деятельностью российских и зарубежных компаний, что позволит сосредоточить в городе значительные финансовые потоки и вывести как связь и банковское дело на качественно новый уровен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486400"/>
            <a:ext cx="8991720" cy="285480"/>
          </a:xfrm>
          <a:prstGeom prst="rect">
            <a:avLst/>
          </a:prstGeom>
          <a:solidFill>
            <a:srgbClr val="3c7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хранение текущей ситуации с тенденций к ухудшению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334120"/>
            <a:ext cx="1981080" cy="3070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 ИНЕРЦИО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2057400"/>
            <a:ext cx="2209680" cy="30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 ИНДУСТРИАЛЬ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124080"/>
            <a:ext cx="3886200" cy="307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ННОВАЦИОННО-УПРАВЛЕНЧЕ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5791320"/>
            <a:ext cx="1600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71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 КРИЗИС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89000"/>
            <a:ext cx="8207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 Unicode MS"/>
              </a:rPr>
              <a:t>Сценарии развит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5640" y="64911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badi MT Condensed Light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2:14:56Z</dcterms:created>
  <dc:creator>Sharov</dc:creator>
  <dc:description/>
  <dc:language>en-US</dc:language>
  <cp:lastModifiedBy>Blank_v</cp:lastModifiedBy>
  <dcterms:modified xsi:type="dcterms:W3CDTF">2005-10-19T07:04:01Z</dcterms:modified>
  <cp:revision>574</cp:revision>
  <dc:subject/>
  <dc:title>Презентация PowerPoint</dc:title>
</cp:coreProperties>
</file>