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7BD-70EB-40CC-8E6A-EFDDABAB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CD8-5D96-4608-859E-51CF6986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0AA-B00A-4286-B807-DE225D2D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14D-F361-4131-AA0A-F777B2BE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CCC-EF26-41B9-860D-D82B24B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375-452D-411C-BF5A-D5498CDB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FB2-4E6A-4CC9-A45D-7175222A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270-011C-41E0-BD67-314211D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AF7-8E8B-4425-894B-20C8ACC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39D-C81D-4103-A9B1-AABCC6B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454-94F7-4F2C-AA2F-BEDEFA0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3F7-CD69-4BCF-9A66-20E8CE2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B002-B2A3-449F-BFC8-FEC8570AF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банов Вадим Николаеви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Волго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990720" y="141120"/>
          <a:ext cx="6981840" cy="650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1120"/>
                    <a:ext cx="6981840" cy="65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828800" y="0"/>
          <a:ext cx="5983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0"/>
                    <a:ext cx="5983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680" y="6248520"/>
            <a:ext cx="505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унок 3. Механизмы научно-практической реализации про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90680" y="1066680"/>
          <a:ext cx="4653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1066680"/>
                    <a:ext cx="4653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657600" y="838080"/>
            <a:ext cx="2190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ость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250344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звитие инфраструктуры территории общественно-территориального объединения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4191120"/>
            <a:ext cx="2190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оэкология, ландшафтная архитектура, размещение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488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866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488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2452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488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4880" y="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488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935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01:48Z</dcterms:created>
  <dc:creator>Boris Zhikharevich</dc:creator>
  <dc:description/>
  <dc:language>en-US</dc:language>
  <cp:lastModifiedBy>Boris Zhikharevich</cp:lastModifiedBy>
  <dcterms:modified xsi:type="dcterms:W3CDTF">2005-10-20T13:26:25Z</dcterms:modified>
  <cp:revision>7</cp:revision>
  <dc:subject/>
  <dc:title>Презентация PowerPoint</dc:title>
</cp:coreProperties>
</file>