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wmf" ContentType="image/x-wmf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86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626-DF70-487A-A85C-0977FB05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F43-52EE-4DAE-8F89-3D115079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70F-8C41-45AA-AB58-F55F9AF0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CAB-383C-4F78-BA6A-C6CCAC73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E02A-C09E-43D8-AC53-98F900E8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00C-D0AF-4C01-9BA4-B2A75922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FDDE-826C-469A-B916-6E837D07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7512-66A0-49D7-87E3-34FD9126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BA84-DA72-4E0E-8E31-1E01C141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8AA1-34B9-417B-92C9-209BE2DC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D6F7-07D6-4B5A-B229-B0F239CD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DCF-EEF2-446D-98DC-5B4008BC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75FF-638F-4DDA-BA13-35591D15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5B57-1EF9-4E94-BDB0-1F258E10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B463-BD55-4471-A810-35E2A203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9F9B-56EE-46C0-8970-8CDC9DFF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1C1D-6D08-41DE-9551-3EA7E4AA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7E1-2071-4A8F-8838-59AE09BC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378-746D-4888-AEA7-9F0F6706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A9D-ED9A-4181-BC22-48992A5C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23F-AF3D-4F03-9D81-A5D0C16E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108-5248-4FC2-8F65-88FA73FB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044-55E8-40C6-BFF7-E4367526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12D-F8B9-42E9-83C1-48BE2C14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B618-D543-444C-8B8C-3EE9B70291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5D4C-1668-4C46-B0FF-BD518C35B5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Экспертная система управления муниципальным образованием «Руководитель»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440" y="212760"/>
            <a:ext cx="87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АНКТ-ПЕТЕРБУРГСКИЙ ГОСУДАРСТВЕННЫЙ УНИВЕРСИТЕТ ЭКОНОМИКИ И ФИНАНС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4648320"/>
            <a:ext cx="44002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учный руководитель проекта: профессор кафедры управления им. проф. Ю.А.Лаврик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.э.н. Кукор Борис Леонидови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.312-27-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Список элементов модели субъекта управления (фрагмент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57360" y="1200240"/>
            <a:ext cx="60292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Список вершин графа «Дерево целей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57360" y="1190520"/>
            <a:ext cx="60292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7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Дерево целе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1657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 «Дерево целей объекта». Узлы графа - цели объекта. Дуги - отнощения «быть подцелью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66920" y="1143000"/>
            <a:ext cx="6410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спертная система «Руководитель» помогает Главе администрации осуществлять функции общего руководства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вырабатывать представление о желаемой ситуации в будущем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онтролировать ход развития муниципального образования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онтролировать работоспособность аппарата управления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птимизировать структуру аппарата управления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правляющая структура МО, включающая Главу администрации и аппарат управления, осуществляет распознавание и разрешение проблемных ситуаций (ПС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блемная область в виде причинно-следственных взаимосвязей ПС может быть представлена в виде дискретно-ситуационной сети (ДСС)</a:t>
            </a: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6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ДСС МО «Бокситогорский район»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1532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Список вершин ДСС МО «Бокситогорский район» (фрагмент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ставление о желаемой ситуации в будущем вырабатывается с помощью методологии стратегического планиро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ецифика сложных ситуаций не только в необходимости выбора в процессе стратегического планирования одной из многих альтернатив  действия  для решения определенной проблемы, но и в том, что каждая дилемма порождает множество последствий, которые следует учитывать. Стратегическое планирование требует ориентации не столько на уже стоящие перед руководителем сложности, сколько на проблемы, порождаемые его действиями в будущ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я разработки стратегического плана включала в себя следующие этап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Определение качества жизни населения в 2010 г. как стратегической цели пла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Диагностика и анализ стартового социально-экономического полож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371600" y="380880"/>
          <a:ext cx="662940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662940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533520"/>
            <a:ext cx="77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6019920" cy="4368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4920" y="15228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пример, в ходе диагностики в процессе разработки стратегического плана выделены следующие проблем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2932200"/>
            <a:ext cx="41911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нижение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41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нижение качества жизни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44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нижение социально-культурного развития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58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худшение общей экологической ситу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85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едостаточное финансирование отраслей ЖК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114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еудовлетворительное состояние мат.-техн. базы образовательных учрежден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117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зношенность зданий и сооружений больничного фон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143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дорожание продукции за счет привозного сырь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152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лабое и экономически неэффективное использование природного потенциа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Каждая ПС характеризуется наличием ресурсов (финансовых, материальных и трудовых), определяемых с помощью ресурсных комплексов, например ресурсный комплекс «Финансы»: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1000" y="598176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едставляет собой модель жизненного цикла финансов, циркулирующих в регионе: бюджет, внебюджетные фонды, доходы, расходы предприятий, населения, банков и др. финансовых институтов. Узлы - фаза жизненного цикла, дуги - финансовые пото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6294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19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Функции системы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89773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истема искусственного интеллекта (экспертная система) "Руководитель" может быть ориентирована на управление регионом различного масштаба, корпорацией и предприятиями. При ориентации её на регион происходит распознавание и разрешение проблемных ситуаций, возникающих в н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истема "Руководитель" формирует основные компоненты технологии обеспечения информацией лиц, осуществляющих управление развитием экономики регио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Её предметной областью являются проблемы обеспечения социально-экономического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равновесия и стабильности региона, согласованного взаимодействия законодательных и исполнительных органов государственной власти в процессе своевременного распознавания и разрешения проблемных ситуац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уть применяемого в процессе управления функционированием регионов ситуационного подхода заключается в стремлении к устойчивому равновесию звеньев региональ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1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Список вершин ресурсного комплекса «Финансы»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33600" y="1152360"/>
            <a:ext cx="607680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70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Анализ стратегического развития региона на основе разрешений проблемных ситуаций с помощью системы оценки последствий альтернативных управляющих воздейств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63961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нформация о ПС «Снижение качества жизни населения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1062000"/>
            <a:ext cx="746748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Выдача управляющих воздействий при анализе стратегического развития региона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сле определения параметров управляющих воздействий используется набор соответствующих аналитических правил, с помощью которых определяется конечная ситуация. Если она устраивает администрацию МО, то принимается решение по утверждению действий, связанных с разрешением проблем М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4562640" cy="1798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4572000" cy="1803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124080" y="2590920"/>
            <a:ext cx="44103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зменение ситуации на 1 шаге (спустя 1 год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57909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равнение ситуаций: фактическое состояние в результате принятия соответствующих управляющих воздействий на основе правил на определенном временном интервал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16292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зменение ситуации на 2 шаге (спустя 2 года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13680" y="6127920"/>
            <a:ext cx="880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 помощью заданных управляющих воздействий было достигнуто изменение целевого показателя - повышение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ровня жизни населения (вследствие повышения уровня дохода, качества мед. обслуживания и др. параметров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торые определяют целевой показатель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-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зменение ситуации на 3 шаге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2280" y="325440"/>
            <a:ext cx="899172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зменение ситуации на 4 шаге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Изменение ситуации на 5 шаге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Изменение ситуации на 10 шаге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533520"/>
          <a:ext cx="8305560" cy="60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30556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15228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езультаты расчета последствий реализации проектов и запланированных мероприятий,  выполненного с помощью информационно-компьютерной системы “Руководитель”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280" y="838080"/>
          <a:ext cx="899172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991720" cy="556272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Модель объекта любого муниципального образования и региона в целом включает в себя следующие элементы: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990720"/>
            <a:ext cx="75438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Нас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Производ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Рынок факторов производства (труда, земли, капитал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Бюдж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Внешний рын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Финансовый рын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 Рынок ТН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. Прир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0"/>
            <a:ext cx="8305920" cy="66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Контроль за работоспособностью аппарата у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новное значение данного блока системы “Руководитель” обеспечение оценки деятельности сотрудников аппарата управления на основе их профессиональной подготовки, уровня осведомленности, компетенции, мотивации, скорости распознавания и разрешения проблемных ситуаций, т.е. на основе целостной оцен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циональный анализ деятельности сотрудников осуществляется в динамике, сопоставления с работой других управленцев и понять свою роль в деятельности всей управляющей структуры. Система основана на моделировании участия каждого сотрудника в процессе распознавания и разрешения проблемных ситуаций, закрепленных за определенной позицией в управляющей структур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экран выводится по вертикали список всех работников аппарата управления за исключением Главы администрации, осуществляющего контроль и координацию всей деятельности аппарата управления. Моделируется участие каждого сотрудника в распознавании и решении проблемных ситуаций, оцениваемое на основании от 3-х до 10 факторов (учитываемых при оценке меры ответственности). Качество управленческой деятельности выводится в динамическом режиме на монитор. Единица времени привязана к конкретным астрономическим интервалам: месяц, квартал и т.д. Каждый временной интервал характеризует результаты и последствия деятельности конкретного сотрудника. По горизонтали, в соответствии с графической интерпретацией результативности,  выводится и фиксируется итоговая оценка, которая обозначает позицию каждого конкретного работника на шкале ответ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304920"/>
            <a:ext cx="8763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67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Взаимодействие этих элементов может быть представлено в виде схе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10440" cy="488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586728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ый из них может быть конкретизирован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Конкретизация ЭО2 «Производство» модели объекта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7210440" cy="488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579132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пример «Производство» может быть представлено в виде четырех сфер (производство сырья №1, средств производства №2, товаров народного потребления и услуг №3, сельское хозяйство №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Конкретизация ЭО «Производство 1- Лесная и деревообрабатывающая промышленность»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10440" cy="488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71500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льнейшая конкретизация может осуществляться до уровня конкретных предприятий. Например, лесная и деревообрабатывающая промышленность представлена 53 предприятиями 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Список вершин графа, входящих в ЭО «Производство сырья - Лесная и деревообрабатывающая промышленность»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86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Конкретизация ЭО «Производство №3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Услуг - Предприятия ЖКХ»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62800" cy="4724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5546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илищно-коммунальное хозяйство представлено четырьмя предприятиями: «Бокситогорсктепловодоканал» №1, «Бокситогорскгоржилкомхоз» №2, «Бокситогорскрайжилкомхоз» №3, «Бокситогорский комбинат благоустройства» №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Модель субъекта МО «Бокситогорский район»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6095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дель субъекта - аппарат управления. Узлы графа - позиции в аппарате управления. Дуги - отношения подчинения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30T13:11:21Z</dcterms:created>
  <dc:creator>Мельников Алексей Николаевич</dc:creator>
  <dc:description/>
  <dc:language>en-US</dc:language>
  <cp:lastModifiedBy>Alx</cp:lastModifiedBy>
  <cp:lastPrinted>2001-08-05T13:10:26Z</cp:lastPrinted>
  <dcterms:modified xsi:type="dcterms:W3CDTF">2002-04-17T14:34:45Z</dcterms:modified>
  <cp:revision>36</cp:revision>
  <dc:subject/>
  <dc:title>Экспертная система принятия управленческих решений «Руководитель»</dc:title>
</cp:coreProperties>
</file>