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6.wmf" ContentType="image/x-wmf"/>
  <Override PartName="/ppt/media/image6.jpeg" ContentType="image/jpeg"/>
  <Override PartName="/ppt/media/image1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E7A0-7732-42F9-BB38-09312A36C5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B358-A6C5-4A98-AC16-7E680B58FD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нинградская область является неотъемлемой частью Российской Федерации и уникальна по своему географическому положению. Это масштабный российский анклав внутри Европейского Сою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омню основные данные о нашем регион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е 944 тысячи человек, площадь 15,1 тысяч квадратных километров. Область расположена на юго-восточном побережье Балтийского моря и граничит с Литвой и Польш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диусе 600 километров от Калининграда находится восемь столиц европейских государств, а сама область еще с ганзейских времен является ключевым европейским торговым перекрестк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6DD-CAC4-405E-89A8-F25213F9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120" y="411084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B4D-2B1A-4E13-8AD0-02F7CDD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437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956-1D3F-49F5-BEC0-F5174B7B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6088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3728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412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6088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3728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DDE-0994-47B0-8684-0B4F3155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1DF4-0F82-4406-9975-8D1B897C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26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6836-E1C3-4DA0-8F9E-BA1289F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4BF-5674-452A-896B-6F21E9B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49D-9174-4EC9-A0F5-F749213A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FED0-EFAF-46DF-BB55-20A21F0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83760" y="981000"/>
            <a:ext cx="85028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26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ED8-4204-4F4E-8D7D-69D5862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83F-ED29-4FDC-ADA4-B83A470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26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407-AE9F-43BF-B83C-21EC5CC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37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2A81-165B-4F14-B1EC-BE9707A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80F-8842-46D2-945F-20BD2E7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411084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7265-3582-4131-B68F-20F968B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37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D2CD-5B23-476E-9C62-02B2E356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088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37280" y="162828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088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37280" y="4110840"/>
            <a:ext cx="273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1EFE-3DDB-4C0A-8CB4-173EDFD8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6DD-38C9-4E26-9B94-647E2F2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2E3-AFB8-4027-8C61-BAB8C9C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BB0-EDA2-460B-9FA9-56008D1B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83760" y="981000"/>
            <a:ext cx="85028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26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D33-DC90-40A1-A0EA-135A5D1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C72-339F-41EC-956E-EB84F58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43720" y="411084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421-725F-4CF5-85CA-80B9604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3720" y="1628280"/>
            <a:ext cx="4151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4120" y="4110840"/>
            <a:ext cx="8507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ECE-E2A4-41DF-8A73-F9CB275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4120" cy="6858000"/>
          </a:xfrm>
          <a:prstGeom prst="rect">
            <a:avLst/>
          </a:prstGeom>
          <a:solidFill>
            <a:srgbClr val="d4dae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17320" y="6524280"/>
            <a:ext cx="81817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516B-BF0C-4E8B-B628-822998A59AC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35040" y="6470640"/>
            <a:ext cx="81612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5040" y="6419880"/>
            <a:ext cx="8161200" cy="0"/>
          </a:xfrm>
          <a:prstGeom prst="line">
            <a:avLst/>
          </a:prstGeom>
          <a:ln cap="sq" w="1440">
            <a:solidFill>
              <a:srgbClr val="d4d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84120" y="719280"/>
            <a:ext cx="8507520" cy="284400"/>
            <a:chOff x="384120" y="719280"/>
            <a:chExt cx="8507520" cy="284400"/>
          </a:xfrm>
        </p:grpSpPr>
        <p:sp>
          <p:nvSpPr>
            <p:cNvPr id="9" name=""/>
            <p:cNvSpPr/>
            <p:nvPr/>
          </p:nvSpPr>
          <p:spPr>
            <a:xfrm>
              <a:off x="384120" y="973080"/>
              <a:ext cx="85075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60" y="757440"/>
              <a:ext cx="73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Verdana"/>
                </a:rPr>
                <a:t>АДМИНИСТРАЦИЯ КАЛИНИНГРАДСКОЙ ОБЛАСТ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4120" y="1000080"/>
              <a:ext cx="8507520" cy="0"/>
            </a:xfrm>
            <a:prstGeom prst="line">
              <a:avLst/>
            </a:prstGeom>
            <a:ln cap="sq" w="1440">
              <a:solidFill>
                <a:srgbClr val="d4da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384120" y="719280"/>
              <a:ext cx="375120" cy="209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" name=""/>
          <p:cNvGrpSpPr/>
          <p:nvPr/>
        </p:nvGrpSpPr>
        <p:grpSpPr>
          <a:xfrm>
            <a:off x="0" y="0"/>
            <a:ext cx="252360" cy="6858000"/>
            <a:chOff x="0" y="0"/>
            <a:chExt cx="252360" cy="6858000"/>
          </a:xfrm>
        </p:grpSpPr>
        <p:sp>
          <p:nvSpPr>
            <p:cNvPr id="14" name="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cap="sq" w="127080">
              <a:solidFill>
                <a:srgbClr val="9d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1240" y="0"/>
              <a:ext cx="0" cy="6858000"/>
            </a:xfrm>
            <a:prstGeom prst="line">
              <a:avLst/>
            </a:prstGeom>
            <a:ln cap="sq" w="57240">
              <a:solidFill>
                <a:srgbClr val="b1b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5480" y="0"/>
              <a:ext cx="0" cy="6858000"/>
            </a:xfrm>
            <a:prstGeom prst="line">
              <a:avLst/>
            </a:prstGeom>
            <a:ln cap="sq" w="50760">
              <a:solidFill>
                <a:srgbClr val="d5d5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52360" y="0"/>
              <a:ext cx="0" cy="6858000"/>
            </a:xfrm>
            <a:prstGeom prst="line">
              <a:avLst/>
            </a:prstGeom>
            <a:ln cap="sq" w="34920">
              <a:solidFill>
                <a:srgbClr val="d5d5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5840" y="333360"/>
            <a:ext cx="492120" cy="27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5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sp>
            <p:nvSpPr>
              <p:cNvPr id="57" name=""/>
              <p:cNvSpPr/>
              <p:nvPr/>
            </p:nvSpPr>
            <p:spPr>
              <a:xfrm>
                <a:off x="363240" y="1939680"/>
                <a:ext cx="5208480" cy="4881600"/>
              </a:xfrm>
              <a:custGeom>
                <a:avLst/>
                <a:gdLst/>
                <a:ahLst/>
                <a:rect l="l" t="t" r="r" b="b"/>
                <a:pathLst>
                  <a:path w="3271" h="3075">
                    <a:moveTo>
                      <a:pt x="849" y="2380"/>
                    </a:moveTo>
                    <a:lnTo>
                      <a:pt x="664" y="2188"/>
                    </a:lnTo>
                    <a:lnTo>
                      <a:pt x="502" y="1990"/>
                    </a:lnTo>
                    <a:lnTo>
                      <a:pt x="359" y="1786"/>
                    </a:lnTo>
                    <a:lnTo>
                      <a:pt x="239" y="1576"/>
                    </a:lnTo>
                    <a:lnTo>
                      <a:pt x="186" y="1474"/>
                    </a:lnTo>
                    <a:lnTo>
                      <a:pt x="138" y="1373"/>
                    </a:lnTo>
                    <a:lnTo>
                      <a:pt x="102" y="1271"/>
                    </a:lnTo>
                    <a:lnTo>
                      <a:pt x="66" y="1169"/>
                    </a:lnTo>
                    <a:lnTo>
                      <a:pt x="42" y="1067"/>
                    </a:lnTo>
                    <a:lnTo>
                      <a:pt x="24" y="971"/>
                    </a:lnTo>
                    <a:lnTo>
                      <a:pt x="12" y="875"/>
                    </a:lnTo>
                    <a:lnTo>
                      <a:pt x="6" y="779"/>
                    </a:lnTo>
                    <a:lnTo>
                      <a:pt x="6" y="695"/>
                    </a:lnTo>
                    <a:lnTo>
                      <a:pt x="18" y="611"/>
                    </a:lnTo>
                    <a:lnTo>
                      <a:pt x="30" y="533"/>
                    </a:lnTo>
                    <a:lnTo>
                      <a:pt x="54" y="461"/>
                    </a:lnTo>
                    <a:lnTo>
                      <a:pt x="84" y="389"/>
                    </a:lnTo>
                    <a:lnTo>
                      <a:pt x="120" y="330"/>
                    </a:lnTo>
                    <a:lnTo>
                      <a:pt x="162" y="270"/>
                    </a:lnTo>
                    <a:lnTo>
                      <a:pt x="209" y="216"/>
                    </a:lnTo>
                    <a:lnTo>
                      <a:pt x="299" y="144"/>
                    </a:lnTo>
                    <a:lnTo>
                      <a:pt x="395" y="84"/>
                    </a:lnTo>
                    <a:lnTo>
                      <a:pt x="508" y="42"/>
                    </a:lnTo>
                    <a:lnTo>
                      <a:pt x="628" y="18"/>
                    </a:lnTo>
                    <a:lnTo>
                      <a:pt x="754" y="6"/>
                    </a:lnTo>
                    <a:lnTo>
                      <a:pt x="891" y="6"/>
                    </a:lnTo>
                    <a:lnTo>
                      <a:pt x="1035" y="24"/>
                    </a:lnTo>
                    <a:lnTo>
                      <a:pt x="1184" y="60"/>
                    </a:lnTo>
                    <a:lnTo>
                      <a:pt x="1334" y="102"/>
                    </a:lnTo>
                    <a:lnTo>
                      <a:pt x="1489" y="162"/>
                    </a:lnTo>
                    <a:lnTo>
                      <a:pt x="1644" y="240"/>
                    </a:lnTo>
                    <a:lnTo>
                      <a:pt x="1806" y="324"/>
                    </a:lnTo>
                    <a:lnTo>
                      <a:pt x="1961" y="425"/>
                    </a:lnTo>
                    <a:lnTo>
                      <a:pt x="2117" y="533"/>
                    </a:lnTo>
                    <a:lnTo>
                      <a:pt x="2272" y="659"/>
                    </a:lnTo>
                    <a:lnTo>
                      <a:pt x="2422" y="797"/>
                    </a:lnTo>
                    <a:lnTo>
                      <a:pt x="2607" y="989"/>
                    </a:lnTo>
                    <a:lnTo>
                      <a:pt x="2769" y="1187"/>
                    </a:lnTo>
                    <a:lnTo>
                      <a:pt x="2912" y="1391"/>
                    </a:lnTo>
                    <a:lnTo>
                      <a:pt x="3032" y="1600"/>
                    </a:lnTo>
                    <a:lnTo>
                      <a:pt x="3085" y="1702"/>
                    </a:lnTo>
                    <a:lnTo>
                      <a:pt x="3133" y="1804"/>
                    </a:lnTo>
                    <a:lnTo>
                      <a:pt x="3169" y="1906"/>
                    </a:lnTo>
                    <a:lnTo>
                      <a:pt x="3205" y="2008"/>
                    </a:lnTo>
                    <a:lnTo>
                      <a:pt x="3229" y="2110"/>
                    </a:lnTo>
                    <a:lnTo>
                      <a:pt x="3247" y="2206"/>
                    </a:lnTo>
                    <a:lnTo>
                      <a:pt x="3259" y="2302"/>
                    </a:lnTo>
                    <a:lnTo>
                      <a:pt x="3265" y="2398"/>
                    </a:lnTo>
                    <a:lnTo>
                      <a:pt x="3265" y="2482"/>
                    </a:lnTo>
                    <a:lnTo>
                      <a:pt x="3253" y="2565"/>
                    </a:lnTo>
                    <a:lnTo>
                      <a:pt x="3241" y="2643"/>
                    </a:lnTo>
                    <a:lnTo>
                      <a:pt x="3217" y="2715"/>
                    </a:lnTo>
                    <a:lnTo>
                      <a:pt x="3187" y="2781"/>
                    </a:lnTo>
                    <a:lnTo>
                      <a:pt x="3157" y="2847"/>
                    </a:lnTo>
                    <a:lnTo>
                      <a:pt x="3115" y="2907"/>
                    </a:lnTo>
                    <a:lnTo>
                      <a:pt x="3068" y="2961"/>
                    </a:lnTo>
                    <a:lnTo>
                      <a:pt x="3068" y="2961"/>
                    </a:lnTo>
                    <a:lnTo>
                      <a:pt x="2996" y="3021"/>
                    </a:lnTo>
                    <a:lnTo>
                      <a:pt x="2918" y="3075"/>
                    </a:lnTo>
                    <a:lnTo>
                      <a:pt x="2930" y="3075"/>
                    </a:lnTo>
                    <a:lnTo>
                      <a:pt x="3002" y="3027"/>
                    </a:lnTo>
                    <a:lnTo>
                      <a:pt x="3068" y="2967"/>
                    </a:lnTo>
                    <a:lnTo>
                      <a:pt x="3115" y="2913"/>
                    </a:lnTo>
                    <a:lnTo>
                      <a:pt x="3157" y="2853"/>
                    </a:lnTo>
                    <a:lnTo>
                      <a:pt x="3193" y="2787"/>
                    </a:lnTo>
                    <a:lnTo>
                      <a:pt x="3223" y="2721"/>
                    </a:lnTo>
                    <a:lnTo>
                      <a:pt x="3247" y="2643"/>
                    </a:lnTo>
                    <a:lnTo>
                      <a:pt x="3259" y="2565"/>
                    </a:lnTo>
                    <a:lnTo>
                      <a:pt x="3271" y="2482"/>
                    </a:lnTo>
                    <a:lnTo>
                      <a:pt x="3271" y="2398"/>
                    </a:lnTo>
                    <a:lnTo>
                      <a:pt x="3265" y="2302"/>
                    </a:lnTo>
                    <a:lnTo>
                      <a:pt x="3253" y="2206"/>
                    </a:lnTo>
                    <a:lnTo>
                      <a:pt x="3235" y="2110"/>
                    </a:lnTo>
                    <a:lnTo>
                      <a:pt x="3211" y="2008"/>
                    </a:lnTo>
                    <a:lnTo>
                      <a:pt x="3175" y="1906"/>
                    </a:lnTo>
                    <a:lnTo>
                      <a:pt x="3139" y="1804"/>
                    </a:lnTo>
                    <a:lnTo>
                      <a:pt x="3091" y="1702"/>
                    </a:lnTo>
                    <a:lnTo>
                      <a:pt x="3038" y="1594"/>
                    </a:lnTo>
                    <a:lnTo>
                      <a:pt x="2918" y="1391"/>
                    </a:lnTo>
                    <a:lnTo>
                      <a:pt x="2775" y="1181"/>
                    </a:lnTo>
                    <a:lnTo>
                      <a:pt x="2613" y="983"/>
                    </a:lnTo>
                    <a:lnTo>
                      <a:pt x="2428" y="791"/>
                    </a:lnTo>
                    <a:lnTo>
                      <a:pt x="2278" y="653"/>
                    </a:lnTo>
                    <a:lnTo>
                      <a:pt x="2123" y="527"/>
                    </a:lnTo>
                    <a:lnTo>
                      <a:pt x="1967" y="419"/>
                    </a:lnTo>
                    <a:lnTo>
                      <a:pt x="1806" y="318"/>
                    </a:lnTo>
                    <a:lnTo>
                      <a:pt x="1650" y="234"/>
                    </a:lnTo>
                    <a:lnTo>
                      <a:pt x="1489" y="156"/>
                    </a:lnTo>
                    <a:lnTo>
                      <a:pt x="1334" y="96"/>
                    </a:lnTo>
                    <a:lnTo>
                      <a:pt x="1184" y="54"/>
                    </a:lnTo>
                    <a:lnTo>
                      <a:pt x="1035" y="18"/>
                    </a:lnTo>
                    <a:lnTo>
                      <a:pt x="891" y="0"/>
                    </a:lnTo>
                    <a:lnTo>
                      <a:pt x="754" y="0"/>
                    </a:lnTo>
                    <a:lnTo>
                      <a:pt x="622" y="12"/>
                    </a:lnTo>
                    <a:lnTo>
                      <a:pt x="502" y="36"/>
                    </a:lnTo>
                    <a:lnTo>
                      <a:pt x="395" y="78"/>
                    </a:lnTo>
                    <a:lnTo>
                      <a:pt x="293" y="138"/>
                    </a:lnTo>
                    <a:lnTo>
                      <a:pt x="204" y="210"/>
                    </a:lnTo>
                    <a:lnTo>
                      <a:pt x="156" y="264"/>
                    </a:lnTo>
                    <a:lnTo>
                      <a:pt x="114" y="324"/>
                    </a:lnTo>
                    <a:lnTo>
                      <a:pt x="78" y="389"/>
                    </a:lnTo>
                    <a:lnTo>
                      <a:pt x="48" y="461"/>
                    </a:lnTo>
                    <a:lnTo>
                      <a:pt x="30" y="533"/>
                    </a:lnTo>
                    <a:lnTo>
                      <a:pt x="12" y="611"/>
                    </a:lnTo>
                    <a:lnTo>
                      <a:pt x="6" y="695"/>
                    </a:lnTo>
                    <a:lnTo>
                      <a:pt x="0" y="779"/>
                    </a:lnTo>
                    <a:lnTo>
                      <a:pt x="6" y="875"/>
                    </a:lnTo>
                    <a:lnTo>
                      <a:pt x="18" y="971"/>
                    </a:lnTo>
                    <a:lnTo>
                      <a:pt x="36" y="1067"/>
                    </a:lnTo>
                    <a:lnTo>
                      <a:pt x="60" y="1169"/>
                    </a:lnTo>
                    <a:lnTo>
                      <a:pt x="96" y="1271"/>
                    </a:lnTo>
                    <a:lnTo>
                      <a:pt x="132" y="1373"/>
                    </a:lnTo>
                    <a:lnTo>
                      <a:pt x="180" y="1474"/>
                    </a:lnTo>
                    <a:lnTo>
                      <a:pt x="233" y="1582"/>
                    </a:lnTo>
                    <a:lnTo>
                      <a:pt x="287" y="1684"/>
                    </a:lnTo>
                    <a:lnTo>
                      <a:pt x="353" y="1786"/>
                    </a:lnTo>
                    <a:lnTo>
                      <a:pt x="496" y="1990"/>
                    </a:lnTo>
                    <a:lnTo>
                      <a:pt x="664" y="2188"/>
                    </a:lnTo>
                    <a:lnTo>
                      <a:pt x="849" y="2380"/>
                    </a:lnTo>
                    <a:lnTo>
                      <a:pt x="981" y="2500"/>
                    </a:lnTo>
                    <a:lnTo>
                      <a:pt x="1112" y="2607"/>
                    </a:lnTo>
                    <a:lnTo>
                      <a:pt x="1244" y="2709"/>
                    </a:lnTo>
                    <a:lnTo>
                      <a:pt x="1381" y="2805"/>
                    </a:lnTo>
                    <a:lnTo>
                      <a:pt x="1519" y="2889"/>
                    </a:lnTo>
                    <a:lnTo>
                      <a:pt x="1656" y="2961"/>
                    </a:lnTo>
                    <a:lnTo>
                      <a:pt x="1788" y="3021"/>
                    </a:lnTo>
                    <a:lnTo>
                      <a:pt x="1926" y="3075"/>
                    </a:lnTo>
                    <a:lnTo>
                      <a:pt x="1937" y="3075"/>
                    </a:lnTo>
                    <a:lnTo>
                      <a:pt x="1800" y="3021"/>
                    </a:lnTo>
                    <a:lnTo>
                      <a:pt x="1662" y="2961"/>
                    </a:lnTo>
                    <a:lnTo>
                      <a:pt x="1525" y="2889"/>
                    </a:lnTo>
                    <a:lnTo>
                      <a:pt x="1387" y="2805"/>
                    </a:lnTo>
                    <a:lnTo>
                      <a:pt x="1250" y="2709"/>
                    </a:lnTo>
                    <a:lnTo>
                      <a:pt x="1118" y="2607"/>
                    </a:lnTo>
                    <a:lnTo>
                      <a:pt x="981" y="2500"/>
                    </a:lnTo>
                    <a:lnTo>
                      <a:pt x="849" y="2380"/>
                    </a:lnTo>
                    <a:lnTo>
                      <a:pt x="849" y="238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solidFill>
                  <a:srgbClr val="9d9d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440" y="1263600"/>
                  <a:ext cx="6292440" cy="5557680"/>
                </a:xfrm>
                <a:custGeom>
                  <a:avLst/>
                  <a:gdLst/>
                  <a:ahLst/>
                  <a:rect l="l" t="t" r="r" b="b"/>
                  <a:pathLst>
                    <a:path w="3952" h="3501">
                      <a:moveTo>
                        <a:pt x="3952" y="2973"/>
                      </a:moveTo>
                      <a:lnTo>
                        <a:pt x="3946" y="2860"/>
                      </a:lnTo>
                      <a:lnTo>
                        <a:pt x="3934" y="2740"/>
                      </a:lnTo>
                      <a:lnTo>
                        <a:pt x="3910" y="2614"/>
                      </a:lnTo>
                      <a:lnTo>
                        <a:pt x="3875" y="2494"/>
                      </a:lnTo>
                      <a:lnTo>
                        <a:pt x="3839" y="2368"/>
                      </a:lnTo>
                      <a:lnTo>
                        <a:pt x="3785" y="2236"/>
                      </a:lnTo>
                      <a:lnTo>
                        <a:pt x="3731" y="2110"/>
                      </a:lnTo>
                      <a:lnTo>
                        <a:pt x="3665" y="1978"/>
                      </a:lnTo>
                      <a:lnTo>
                        <a:pt x="3593" y="1853"/>
                      </a:lnTo>
                      <a:lnTo>
                        <a:pt x="3516" y="1721"/>
                      </a:lnTo>
                      <a:lnTo>
                        <a:pt x="3432" y="1595"/>
                      </a:lnTo>
                      <a:lnTo>
                        <a:pt x="3336" y="1469"/>
                      </a:lnTo>
                      <a:lnTo>
                        <a:pt x="3241" y="1343"/>
                      </a:lnTo>
                      <a:lnTo>
                        <a:pt x="3133" y="1223"/>
                      </a:lnTo>
                      <a:lnTo>
                        <a:pt x="3025" y="1103"/>
                      </a:lnTo>
                      <a:lnTo>
                        <a:pt x="2906" y="983"/>
                      </a:lnTo>
                      <a:lnTo>
                        <a:pt x="2721" y="815"/>
                      </a:lnTo>
                      <a:lnTo>
                        <a:pt x="2529" y="660"/>
                      </a:lnTo>
                      <a:lnTo>
                        <a:pt x="2332" y="522"/>
                      </a:lnTo>
                      <a:lnTo>
                        <a:pt x="2141" y="396"/>
                      </a:lnTo>
                      <a:lnTo>
                        <a:pt x="1943" y="288"/>
                      </a:lnTo>
                      <a:lnTo>
                        <a:pt x="1746" y="198"/>
                      </a:lnTo>
                      <a:lnTo>
                        <a:pt x="1555" y="126"/>
                      </a:lnTo>
                      <a:lnTo>
                        <a:pt x="1363" y="66"/>
                      </a:lnTo>
                      <a:lnTo>
                        <a:pt x="1184" y="24"/>
                      </a:lnTo>
                      <a:lnTo>
                        <a:pt x="1005" y="6"/>
                      </a:lnTo>
                      <a:lnTo>
                        <a:pt x="837" y="0"/>
                      </a:lnTo>
                      <a:lnTo>
                        <a:pt x="676" y="12"/>
                      </a:lnTo>
                      <a:lnTo>
                        <a:pt x="526" y="48"/>
                      </a:lnTo>
                      <a:lnTo>
                        <a:pt x="389" y="102"/>
                      </a:lnTo>
                      <a:lnTo>
                        <a:pt x="263" y="174"/>
                      </a:lnTo>
                      <a:lnTo>
                        <a:pt x="155" y="264"/>
                      </a:lnTo>
                      <a:lnTo>
                        <a:pt x="114" y="312"/>
                      </a:lnTo>
                      <a:lnTo>
                        <a:pt x="72" y="366"/>
                      </a:lnTo>
                      <a:lnTo>
                        <a:pt x="0" y="486"/>
                      </a:lnTo>
                      <a:lnTo>
                        <a:pt x="0" y="498"/>
                      </a:lnTo>
                      <a:lnTo>
                        <a:pt x="72" y="372"/>
                      </a:lnTo>
                      <a:lnTo>
                        <a:pt x="161" y="264"/>
                      </a:lnTo>
                      <a:lnTo>
                        <a:pt x="269" y="174"/>
                      </a:lnTo>
                      <a:lnTo>
                        <a:pt x="395" y="102"/>
                      </a:lnTo>
                      <a:lnTo>
                        <a:pt x="526" y="48"/>
                      </a:lnTo>
                      <a:lnTo>
                        <a:pt x="676" y="18"/>
                      </a:lnTo>
                      <a:lnTo>
                        <a:pt x="837" y="6"/>
                      </a:lnTo>
                      <a:lnTo>
                        <a:pt x="1005" y="6"/>
                      </a:lnTo>
                      <a:lnTo>
                        <a:pt x="1184" y="30"/>
                      </a:lnTo>
                      <a:lnTo>
                        <a:pt x="1363" y="72"/>
                      </a:lnTo>
                      <a:lnTo>
                        <a:pt x="1555" y="132"/>
                      </a:lnTo>
                      <a:lnTo>
                        <a:pt x="1746" y="204"/>
                      </a:lnTo>
                      <a:lnTo>
                        <a:pt x="1943" y="294"/>
                      </a:lnTo>
                      <a:lnTo>
                        <a:pt x="2135" y="402"/>
                      </a:lnTo>
                      <a:lnTo>
                        <a:pt x="2332" y="528"/>
                      </a:lnTo>
                      <a:lnTo>
                        <a:pt x="2523" y="666"/>
                      </a:lnTo>
                      <a:lnTo>
                        <a:pt x="2715" y="821"/>
                      </a:lnTo>
                      <a:lnTo>
                        <a:pt x="2900" y="989"/>
                      </a:lnTo>
                      <a:lnTo>
                        <a:pt x="3127" y="1223"/>
                      </a:lnTo>
                      <a:lnTo>
                        <a:pt x="3235" y="1349"/>
                      </a:lnTo>
                      <a:lnTo>
                        <a:pt x="3336" y="1469"/>
                      </a:lnTo>
                      <a:lnTo>
                        <a:pt x="3426" y="1595"/>
                      </a:lnTo>
                      <a:lnTo>
                        <a:pt x="3510" y="1727"/>
                      </a:lnTo>
                      <a:lnTo>
                        <a:pt x="3593" y="1853"/>
                      </a:lnTo>
                      <a:lnTo>
                        <a:pt x="3665" y="1984"/>
                      </a:lnTo>
                      <a:lnTo>
                        <a:pt x="3731" y="2110"/>
                      </a:lnTo>
                      <a:lnTo>
                        <a:pt x="3785" y="2236"/>
                      </a:lnTo>
                      <a:lnTo>
                        <a:pt x="3833" y="2368"/>
                      </a:lnTo>
                      <a:lnTo>
                        <a:pt x="3875" y="2494"/>
                      </a:lnTo>
                      <a:lnTo>
                        <a:pt x="3910" y="2614"/>
                      </a:lnTo>
                      <a:lnTo>
                        <a:pt x="3934" y="2740"/>
                      </a:lnTo>
                      <a:lnTo>
                        <a:pt x="3946" y="2860"/>
                      </a:lnTo>
                      <a:lnTo>
                        <a:pt x="3952" y="2973"/>
                      </a:lnTo>
                      <a:lnTo>
                        <a:pt x="3946" y="3123"/>
                      </a:lnTo>
                      <a:lnTo>
                        <a:pt x="3922" y="3255"/>
                      </a:lnTo>
                      <a:lnTo>
                        <a:pt x="3886" y="3387"/>
                      </a:lnTo>
                      <a:lnTo>
                        <a:pt x="3833" y="3501"/>
                      </a:lnTo>
                      <a:lnTo>
                        <a:pt x="3833" y="3501"/>
                      </a:lnTo>
                      <a:lnTo>
                        <a:pt x="3886" y="3387"/>
                      </a:lnTo>
                      <a:lnTo>
                        <a:pt x="3928" y="3255"/>
                      </a:lnTo>
                      <a:lnTo>
                        <a:pt x="3946" y="3123"/>
                      </a:lnTo>
                      <a:lnTo>
                        <a:pt x="3952" y="2973"/>
                      </a:lnTo>
                      <a:lnTo>
                        <a:pt x="3952" y="2973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0800" y="1482480"/>
                  <a:ext cx="6037200" cy="5338800"/>
                </a:xfrm>
                <a:custGeom>
                  <a:avLst/>
                  <a:gdLst/>
                  <a:ahLst/>
                  <a:rect l="l" t="t" r="r" b="b"/>
                  <a:pathLst>
                    <a:path w="3791" h="3363">
                      <a:moveTo>
                        <a:pt x="993" y="2758"/>
                      </a:moveTo>
                      <a:lnTo>
                        <a:pt x="777" y="2536"/>
                      </a:lnTo>
                      <a:lnTo>
                        <a:pt x="676" y="2416"/>
                      </a:lnTo>
                      <a:lnTo>
                        <a:pt x="586" y="2302"/>
                      </a:lnTo>
                      <a:lnTo>
                        <a:pt x="496" y="2182"/>
                      </a:lnTo>
                      <a:lnTo>
                        <a:pt x="419" y="2062"/>
                      </a:lnTo>
                      <a:lnTo>
                        <a:pt x="341" y="1942"/>
                      </a:lnTo>
                      <a:lnTo>
                        <a:pt x="275" y="1822"/>
                      </a:lnTo>
                      <a:lnTo>
                        <a:pt x="215" y="1703"/>
                      </a:lnTo>
                      <a:lnTo>
                        <a:pt x="161" y="1583"/>
                      </a:lnTo>
                      <a:lnTo>
                        <a:pt x="114" y="1463"/>
                      </a:lnTo>
                      <a:lnTo>
                        <a:pt x="78" y="1343"/>
                      </a:lnTo>
                      <a:lnTo>
                        <a:pt x="48" y="1229"/>
                      </a:lnTo>
                      <a:lnTo>
                        <a:pt x="24" y="1115"/>
                      </a:lnTo>
                      <a:lnTo>
                        <a:pt x="12" y="1001"/>
                      </a:lnTo>
                      <a:lnTo>
                        <a:pt x="6" y="893"/>
                      </a:lnTo>
                      <a:lnTo>
                        <a:pt x="12" y="797"/>
                      </a:lnTo>
                      <a:lnTo>
                        <a:pt x="18" y="701"/>
                      </a:lnTo>
                      <a:lnTo>
                        <a:pt x="42" y="612"/>
                      </a:lnTo>
                      <a:lnTo>
                        <a:pt x="66" y="528"/>
                      </a:lnTo>
                      <a:lnTo>
                        <a:pt x="96" y="450"/>
                      </a:lnTo>
                      <a:lnTo>
                        <a:pt x="138" y="378"/>
                      </a:lnTo>
                      <a:lnTo>
                        <a:pt x="185" y="306"/>
                      </a:lnTo>
                      <a:lnTo>
                        <a:pt x="239" y="246"/>
                      </a:lnTo>
                      <a:lnTo>
                        <a:pt x="341" y="162"/>
                      </a:lnTo>
                      <a:lnTo>
                        <a:pt x="454" y="96"/>
                      </a:lnTo>
                      <a:lnTo>
                        <a:pt x="580" y="48"/>
                      </a:lnTo>
                      <a:lnTo>
                        <a:pt x="723" y="18"/>
                      </a:lnTo>
                      <a:lnTo>
                        <a:pt x="867" y="6"/>
                      </a:lnTo>
                      <a:lnTo>
                        <a:pt x="1028" y="6"/>
                      </a:lnTo>
                      <a:lnTo>
                        <a:pt x="1196" y="30"/>
                      </a:lnTo>
                      <a:lnTo>
                        <a:pt x="1363" y="66"/>
                      </a:lnTo>
                      <a:lnTo>
                        <a:pt x="1543" y="120"/>
                      </a:lnTo>
                      <a:lnTo>
                        <a:pt x="1722" y="192"/>
                      </a:lnTo>
                      <a:lnTo>
                        <a:pt x="1901" y="282"/>
                      </a:lnTo>
                      <a:lnTo>
                        <a:pt x="2087" y="378"/>
                      </a:lnTo>
                      <a:lnTo>
                        <a:pt x="2272" y="498"/>
                      </a:lnTo>
                      <a:lnTo>
                        <a:pt x="2451" y="624"/>
                      </a:lnTo>
                      <a:lnTo>
                        <a:pt x="2631" y="773"/>
                      </a:lnTo>
                      <a:lnTo>
                        <a:pt x="2804" y="929"/>
                      </a:lnTo>
                      <a:lnTo>
                        <a:pt x="3019" y="1151"/>
                      </a:lnTo>
                      <a:lnTo>
                        <a:pt x="3115" y="1265"/>
                      </a:lnTo>
                      <a:lnTo>
                        <a:pt x="3211" y="1385"/>
                      </a:lnTo>
                      <a:lnTo>
                        <a:pt x="3295" y="1505"/>
                      </a:lnTo>
                      <a:lnTo>
                        <a:pt x="3378" y="1625"/>
                      </a:lnTo>
                      <a:lnTo>
                        <a:pt x="3450" y="1745"/>
                      </a:lnTo>
                      <a:lnTo>
                        <a:pt x="3522" y="1864"/>
                      </a:lnTo>
                      <a:lnTo>
                        <a:pt x="3582" y="1984"/>
                      </a:lnTo>
                      <a:lnTo>
                        <a:pt x="3635" y="2104"/>
                      </a:lnTo>
                      <a:lnTo>
                        <a:pt x="3677" y="2224"/>
                      </a:lnTo>
                      <a:lnTo>
                        <a:pt x="3719" y="2344"/>
                      </a:lnTo>
                      <a:lnTo>
                        <a:pt x="3749" y="2458"/>
                      </a:lnTo>
                      <a:lnTo>
                        <a:pt x="3773" y="2572"/>
                      </a:lnTo>
                      <a:lnTo>
                        <a:pt x="3785" y="2686"/>
                      </a:lnTo>
                      <a:lnTo>
                        <a:pt x="3791" y="2794"/>
                      </a:lnTo>
                      <a:lnTo>
                        <a:pt x="3779" y="2955"/>
                      </a:lnTo>
                      <a:lnTo>
                        <a:pt x="3749" y="3105"/>
                      </a:lnTo>
                      <a:lnTo>
                        <a:pt x="3695" y="3243"/>
                      </a:lnTo>
                      <a:lnTo>
                        <a:pt x="3623" y="3363"/>
                      </a:lnTo>
                      <a:lnTo>
                        <a:pt x="3629" y="3363"/>
                      </a:lnTo>
                      <a:lnTo>
                        <a:pt x="3701" y="3243"/>
                      </a:lnTo>
                      <a:lnTo>
                        <a:pt x="3749" y="3111"/>
                      </a:lnTo>
                      <a:lnTo>
                        <a:pt x="3779" y="2967"/>
                      </a:lnTo>
                      <a:lnTo>
                        <a:pt x="3791" y="2806"/>
                      </a:lnTo>
                      <a:lnTo>
                        <a:pt x="3791" y="2800"/>
                      </a:lnTo>
                      <a:lnTo>
                        <a:pt x="3791" y="2794"/>
                      </a:lnTo>
                      <a:lnTo>
                        <a:pt x="3785" y="2686"/>
                      </a:lnTo>
                      <a:lnTo>
                        <a:pt x="3773" y="2572"/>
                      </a:lnTo>
                      <a:lnTo>
                        <a:pt x="3749" y="2458"/>
                      </a:lnTo>
                      <a:lnTo>
                        <a:pt x="3719" y="2338"/>
                      </a:lnTo>
                      <a:lnTo>
                        <a:pt x="3683" y="2224"/>
                      </a:lnTo>
                      <a:lnTo>
                        <a:pt x="3635" y="2104"/>
                      </a:lnTo>
                      <a:lnTo>
                        <a:pt x="3582" y="1984"/>
                      </a:lnTo>
                      <a:lnTo>
                        <a:pt x="3522" y="1864"/>
                      </a:lnTo>
                      <a:lnTo>
                        <a:pt x="3456" y="1739"/>
                      </a:lnTo>
                      <a:lnTo>
                        <a:pt x="3378" y="1619"/>
                      </a:lnTo>
                      <a:lnTo>
                        <a:pt x="3300" y="1499"/>
                      </a:lnTo>
                      <a:lnTo>
                        <a:pt x="3211" y="1385"/>
                      </a:lnTo>
                      <a:lnTo>
                        <a:pt x="3121" y="1265"/>
                      </a:lnTo>
                      <a:lnTo>
                        <a:pt x="3019" y="1151"/>
                      </a:lnTo>
                      <a:lnTo>
                        <a:pt x="2804" y="929"/>
                      </a:lnTo>
                      <a:lnTo>
                        <a:pt x="2631" y="767"/>
                      </a:lnTo>
                      <a:lnTo>
                        <a:pt x="2451" y="624"/>
                      </a:lnTo>
                      <a:lnTo>
                        <a:pt x="2272" y="492"/>
                      </a:lnTo>
                      <a:lnTo>
                        <a:pt x="2087" y="378"/>
                      </a:lnTo>
                      <a:lnTo>
                        <a:pt x="1901" y="276"/>
                      </a:lnTo>
                      <a:lnTo>
                        <a:pt x="1722" y="192"/>
                      </a:lnTo>
                      <a:lnTo>
                        <a:pt x="1543" y="120"/>
                      </a:lnTo>
                      <a:lnTo>
                        <a:pt x="1363" y="66"/>
                      </a:lnTo>
                      <a:lnTo>
                        <a:pt x="1190" y="24"/>
                      </a:lnTo>
                      <a:lnTo>
                        <a:pt x="1028" y="6"/>
                      </a:lnTo>
                      <a:lnTo>
                        <a:pt x="867" y="0"/>
                      </a:lnTo>
                      <a:lnTo>
                        <a:pt x="717" y="12"/>
                      </a:lnTo>
                      <a:lnTo>
                        <a:pt x="580" y="42"/>
                      </a:lnTo>
                      <a:lnTo>
                        <a:pt x="448" y="90"/>
                      </a:lnTo>
                      <a:lnTo>
                        <a:pt x="335" y="162"/>
                      </a:lnTo>
                      <a:lnTo>
                        <a:pt x="233" y="246"/>
                      </a:lnTo>
                      <a:lnTo>
                        <a:pt x="179" y="306"/>
                      </a:lnTo>
                      <a:lnTo>
                        <a:pt x="132" y="378"/>
                      </a:lnTo>
                      <a:lnTo>
                        <a:pt x="90" y="450"/>
                      </a:lnTo>
                      <a:lnTo>
                        <a:pt x="60" y="528"/>
                      </a:lnTo>
                      <a:lnTo>
                        <a:pt x="36" y="612"/>
                      </a:lnTo>
                      <a:lnTo>
                        <a:pt x="12" y="701"/>
                      </a:lnTo>
                      <a:lnTo>
                        <a:pt x="6" y="797"/>
                      </a:lnTo>
                      <a:lnTo>
                        <a:pt x="0" y="893"/>
                      </a:lnTo>
                      <a:lnTo>
                        <a:pt x="6" y="1001"/>
                      </a:lnTo>
                      <a:lnTo>
                        <a:pt x="24" y="1115"/>
                      </a:lnTo>
                      <a:lnTo>
                        <a:pt x="42" y="1229"/>
                      </a:lnTo>
                      <a:lnTo>
                        <a:pt x="78" y="1343"/>
                      </a:lnTo>
                      <a:lnTo>
                        <a:pt x="114" y="1463"/>
                      </a:lnTo>
                      <a:lnTo>
                        <a:pt x="161" y="1583"/>
                      </a:lnTo>
                      <a:lnTo>
                        <a:pt x="215" y="1703"/>
                      </a:lnTo>
                      <a:lnTo>
                        <a:pt x="275" y="1822"/>
                      </a:lnTo>
                      <a:lnTo>
                        <a:pt x="341" y="1942"/>
                      </a:lnTo>
                      <a:lnTo>
                        <a:pt x="413" y="2062"/>
                      </a:lnTo>
                      <a:lnTo>
                        <a:pt x="496" y="2182"/>
                      </a:lnTo>
                      <a:lnTo>
                        <a:pt x="580" y="2302"/>
                      </a:lnTo>
                      <a:lnTo>
                        <a:pt x="676" y="2422"/>
                      </a:lnTo>
                      <a:lnTo>
                        <a:pt x="771" y="2536"/>
                      </a:lnTo>
                      <a:lnTo>
                        <a:pt x="987" y="2758"/>
                      </a:lnTo>
                      <a:lnTo>
                        <a:pt x="1184" y="2931"/>
                      </a:lnTo>
                      <a:lnTo>
                        <a:pt x="1387" y="3093"/>
                      </a:lnTo>
                      <a:lnTo>
                        <a:pt x="1596" y="3237"/>
                      </a:lnTo>
                      <a:lnTo>
                        <a:pt x="1800" y="3363"/>
                      </a:lnTo>
                      <a:lnTo>
                        <a:pt x="1806" y="3363"/>
                      </a:lnTo>
                      <a:lnTo>
                        <a:pt x="1596" y="3237"/>
                      </a:lnTo>
                      <a:lnTo>
                        <a:pt x="1393" y="3093"/>
                      </a:lnTo>
                      <a:lnTo>
                        <a:pt x="1190" y="2931"/>
                      </a:lnTo>
                      <a:lnTo>
                        <a:pt x="993" y="2758"/>
                      </a:lnTo>
                      <a:lnTo>
                        <a:pt x="993" y="2758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2520" y="1701720"/>
                  <a:ext cx="5616000" cy="5119560"/>
                </a:xfrm>
                <a:custGeom>
                  <a:avLst/>
                  <a:gdLst/>
                  <a:ahLst/>
                  <a:rect l="l" t="t" r="r" b="b"/>
                  <a:pathLst>
                    <a:path w="3527" h="3225">
                      <a:moveTo>
                        <a:pt x="914" y="2572"/>
                      </a:moveTo>
                      <a:lnTo>
                        <a:pt x="717" y="2362"/>
                      </a:lnTo>
                      <a:lnTo>
                        <a:pt x="538" y="2146"/>
                      </a:lnTo>
                      <a:lnTo>
                        <a:pt x="460" y="2038"/>
                      </a:lnTo>
                      <a:lnTo>
                        <a:pt x="382" y="1930"/>
                      </a:lnTo>
                      <a:lnTo>
                        <a:pt x="317" y="1816"/>
                      </a:lnTo>
                      <a:lnTo>
                        <a:pt x="251" y="1702"/>
                      </a:lnTo>
                      <a:lnTo>
                        <a:pt x="197" y="1589"/>
                      </a:lnTo>
                      <a:lnTo>
                        <a:pt x="149" y="1481"/>
                      </a:lnTo>
                      <a:lnTo>
                        <a:pt x="107" y="1367"/>
                      </a:lnTo>
                      <a:lnTo>
                        <a:pt x="71" y="1259"/>
                      </a:lnTo>
                      <a:lnTo>
                        <a:pt x="41" y="1151"/>
                      </a:lnTo>
                      <a:lnTo>
                        <a:pt x="18" y="1043"/>
                      </a:lnTo>
                      <a:lnTo>
                        <a:pt x="6" y="941"/>
                      </a:lnTo>
                      <a:lnTo>
                        <a:pt x="0" y="839"/>
                      </a:lnTo>
                      <a:lnTo>
                        <a:pt x="6" y="749"/>
                      </a:lnTo>
                      <a:lnTo>
                        <a:pt x="12" y="659"/>
                      </a:lnTo>
                      <a:lnTo>
                        <a:pt x="30" y="575"/>
                      </a:lnTo>
                      <a:lnTo>
                        <a:pt x="59" y="498"/>
                      </a:lnTo>
                      <a:lnTo>
                        <a:pt x="89" y="420"/>
                      </a:lnTo>
                      <a:lnTo>
                        <a:pt x="125" y="354"/>
                      </a:lnTo>
                      <a:lnTo>
                        <a:pt x="173" y="288"/>
                      </a:lnTo>
                      <a:lnTo>
                        <a:pt x="221" y="228"/>
                      </a:lnTo>
                      <a:lnTo>
                        <a:pt x="317" y="150"/>
                      </a:lnTo>
                      <a:lnTo>
                        <a:pt x="424" y="90"/>
                      </a:lnTo>
                      <a:lnTo>
                        <a:pt x="544" y="42"/>
                      </a:lnTo>
                      <a:lnTo>
                        <a:pt x="669" y="12"/>
                      </a:lnTo>
                      <a:lnTo>
                        <a:pt x="813" y="0"/>
                      </a:lnTo>
                      <a:lnTo>
                        <a:pt x="956" y="6"/>
                      </a:lnTo>
                      <a:lnTo>
                        <a:pt x="1112" y="24"/>
                      </a:lnTo>
                      <a:lnTo>
                        <a:pt x="1273" y="60"/>
                      </a:lnTo>
                      <a:lnTo>
                        <a:pt x="1441" y="114"/>
                      </a:lnTo>
                      <a:lnTo>
                        <a:pt x="1608" y="174"/>
                      </a:lnTo>
                      <a:lnTo>
                        <a:pt x="1775" y="258"/>
                      </a:lnTo>
                      <a:lnTo>
                        <a:pt x="1949" y="348"/>
                      </a:lnTo>
                      <a:lnTo>
                        <a:pt x="2116" y="456"/>
                      </a:lnTo>
                      <a:lnTo>
                        <a:pt x="2284" y="575"/>
                      </a:lnTo>
                      <a:lnTo>
                        <a:pt x="2451" y="713"/>
                      </a:lnTo>
                      <a:lnTo>
                        <a:pt x="2613" y="857"/>
                      </a:lnTo>
                      <a:lnTo>
                        <a:pt x="2810" y="1067"/>
                      </a:lnTo>
                      <a:lnTo>
                        <a:pt x="2989" y="1283"/>
                      </a:lnTo>
                      <a:lnTo>
                        <a:pt x="3073" y="1391"/>
                      </a:lnTo>
                      <a:lnTo>
                        <a:pt x="3145" y="1505"/>
                      </a:lnTo>
                      <a:lnTo>
                        <a:pt x="3216" y="1612"/>
                      </a:lnTo>
                      <a:lnTo>
                        <a:pt x="3276" y="1726"/>
                      </a:lnTo>
                      <a:lnTo>
                        <a:pt x="3330" y="1840"/>
                      </a:lnTo>
                      <a:lnTo>
                        <a:pt x="3384" y="1948"/>
                      </a:lnTo>
                      <a:lnTo>
                        <a:pt x="3426" y="2062"/>
                      </a:lnTo>
                      <a:lnTo>
                        <a:pt x="3462" y="2170"/>
                      </a:lnTo>
                      <a:lnTo>
                        <a:pt x="3491" y="2278"/>
                      </a:lnTo>
                      <a:lnTo>
                        <a:pt x="3509" y="2386"/>
                      </a:lnTo>
                      <a:lnTo>
                        <a:pt x="3521" y="2488"/>
                      </a:lnTo>
                      <a:lnTo>
                        <a:pt x="3527" y="2590"/>
                      </a:lnTo>
                      <a:lnTo>
                        <a:pt x="3521" y="2680"/>
                      </a:lnTo>
                      <a:lnTo>
                        <a:pt x="3515" y="2769"/>
                      </a:lnTo>
                      <a:lnTo>
                        <a:pt x="3497" y="2853"/>
                      </a:lnTo>
                      <a:lnTo>
                        <a:pt x="3474" y="2931"/>
                      </a:lnTo>
                      <a:lnTo>
                        <a:pt x="3438" y="3009"/>
                      </a:lnTo>
                      <a:lnTo>
                        <a:pt x="3402" y="3075"/>
                      </a:lnTo>
                      <a:lnTo>
                        <a:pt x="3360" y="3141"/>
                      </a:lnTo>
                      <a:lnTo>
                        <a:pt x="3306" y="3201"/>
                      </a:lnTo>
                      <a:lnTo>
                        <a:pt x="3294" y="3213"/>
                      </a:lnTo>
                      <a:lnTo>
                        <a:pt x="3282" y="3225"/>
                      </a:lnTo>
                      <a:lnTo>
                        <a:pt x="3288" y="3225"/>
                      </a:lnTo>
                      <a:lnTo>
                        <a:pt x="3300" y="3213"/>
                      </a:lnTo>
                      <a:lnTo>
                        <a:pt x="3312" y="3201"/>
                      </a:lnTo>
                      <a:lnTo>
                        <a:pt x="3366" y="3141"/>
                      </a:lnTo>
                      <a:lnTo>
                        <a:pt x="3408" y="3075"/>
                      </a:lnTo>
                      <a:lnTo>
                        <a:pt x="3444" y="3009"/>
                      </a:lnTo>
                      <a:lnTo>
                        <a:pt x="3474" y="2931"/>
                      </a:lnTo>
                      <a:lnTo>
                        <a:pt x="3497" y="2853"/>
                      </a:lnTo>
                      <a:lnTo>
                        <a:pt x="3515" y="2769"/>
                      </a:lnTo>
                      <a:lnTo>
                        <a:pt x="3527" y="2680"/>
                      </a:lnTo>
                      <a:lnTo>
                        <a:pt x="3527" y="2590"/>
                      </a:lnTo>
                      <a:lnTo>
                        <a:pt x="3521" y="2488"/>
                      </a:lnTo>
                      <a:lnTo>
                        <a:pt x="3509" y="2386"/>
                      </a:lnTo>
                      <a:lnTo>
                        <a:pt x="3491" y="2278"/>
                      </a:lnTo>
                      <a:lnTo>
                        <a:pt x="3462" y="2170"/>
                      </a:lnTo>
                      <a:lnTo>
                        <a:pt x="3426" y="2056"/>
                      </a:lnTo>
                      <a:lnTo>
                        <a:pt x="3384" y="1948"/>
                      </a:lnTo>
                      <a:lnTo>
                        <a:pt x="3336" y="1834"/>
                      </a:lnTo>
                      <a:lnTo>
                        <a:pt x="3276" y="1726"/>
                      </a:lnTo>
                      <a:lnTo>
                        <a:pt x="3216" y="1612"/>
                      </a:lnTo>
                      <a:lnTo>
                        <a:pt x="3145" y="1499"/>
                      </a:lnTo>
                      <a:lnTo>
                        <a:pt x="3073" y="1391"/>
                      </a:lnTo>
                      <a:lnTo>
                        <a:pt x="2989" y="1277"/>
                      </a:lnTo>
                      <a:lnTo>
                        <a:pt x="2816" y="1061"/>
                      </a:lnTo>
                      <a:lnTo>
                        <a:pt x="2613" y="857"/>
                      </a:lnTo>
                      <a:lnTo>
                        <a:pt x="2451" y="707"/>
                      </a:lnTo>
                      <a:lnTo>
                        <a:pt x="2284" y="575"/>
                      </a:lnTo>
                      <a:lnTo>
                        <a:pt x="2116" y="456"/>
                      </a:lnTo>
                      <a:lnTo>
                        <a:pt x="1949" y="348"/>
                      </a:lnTo>
                      <a:lnTo>
                        <a:pt x="1775" y="252"/>
                      </a:lnTo>
                      <a:lnTo>
                        <a:pt x="1608" y="174"/>
                      </a:lnTo>
                      <a:lnTo>
                        <a:pt x="1435" y="108"/>
                      </a:lnTo>
                      <a:lnTo>
                        <a:pt x="1273" y="60"/>
                      </a:lnTo>
                      <a:lnTo>
                        <a:pt x="1112" y="24"/>
                      </a:lnTo>
                      <a:lnTo>
                        <a:pt x="956" y="0"/>
                      </a:lnTo>
                      <a:lnTo>
                        <a:pt x="807" y="0"/>
                      </a:lnTo>
                      <a:lnTo>
                        <a:pt x="669" y="12"/>
                      </a:lnTo>
                      <a:lnTo>
                        <a:pt x="538" y="42"/>
                      </a:lnTo>
                      <a:lnTo>
                        <a:pt x="418" y="84"/>
                      </a:lnTo>
                      <a:lnTo>
                        <a:pt x="311" y="150"/>
                      </a:lnTo>
                      <a:lnTo>
                        <a:pt x="215" y="228"/>
                      </a:lnTo>
                      <a:lnTo>
                        <a:pt x="167" y="288"/>
                      </a:lnTo>
                      <a:lnTo>
                        <a:pt x="119" y="354"/>
                      </a:lnTo>
                      <a:lnTo>
                        <a:pt x="83" y="420"/>
                      </a:lnTo>
                      <a:lnTo>
                        <a:pt x="53" y="498"/>
                      </a:lnTo>
                      <a:lnTo>
                        <a:pt x="30" y="575"/>
                      </a:lnTo>
                      <a:lnTo>
                        <a:pt x="12" y="659"/>
                      </a:lnTo>
                      <a:lnTo>
                        <a:pt x="0" y="749"/>
                      </a:lnTo>
                      <a:lnTo>
                        <a:pt x="0" y="839"/>
                      </a:lnTo>
                      <a:lnTo>
                        <a:pt x="6" y="941"/>
                      </a:lnTo>
                      <a:lnTo>
                        <a:pt x="18" y="1043"/>
                      </a:lnTo>
                      <a:lnTo>
                        <a:pt x="35" y="1151"/>
                      </a:lnTo>
                      <a:lnTo>
                        <a:pt x="65" y="1259"/>
                      </a:lnTo>
                      <a:lnTo>
                        <a:pt x="101" y="1373"/>
                      </a:lnTo>
                      <a:lnTo>
                        <a:pt x="143" y="1481"/>
                      </a:lnTo>
                      <a:lnTo>
                        <a:pt x="191" y="1595"/>
                      </a:lnTo>
                      <a:lnTo>
                        <a:pt x="251" y="1708"/>
                      </a:lnTo>
                      <a:lnTo>
                        <a:pt x="311" y="1816"/>
                      </a:lnTo>
                      <a:lnTo>
                        <a:pt x="382" y="1930"/>
                      </a:lnTo>
                      <a:lnTo>
                        <a:pt x="454" y="2038"/>
                      </a:lnTo>
                      <a:lnTo>
                        <a:pt x="538" y="2152"/>
                      </a:lnTo>
                      <a:lnTo>
                        <a:pt x="717" y="2368"/>
                      </a:lnTo>
                      <a:lnTo>
                        <a:pt x="914" y="2572"/>
                      </a:lnTo>
                      <a:lnTo>
                        <a:pt x="1028" y="2674"/>
                      </a:lnTo>
                      <a:lnTo>
                        <a:pt x="1142" y="2775"/>
                      </a:lnTo>
                      <a:lnTo>
                        <a:pt x="1255" y="2865"/>
                      </a:lnTo>
                      <a:lnTo>
                        <a:pt x="1369" y="2949"/>
                      </a:lnTo>
                      <a:lnTo>
                        <a:pt x="1488" y="3027"/>
                      </a:lnTo>
                      <a:lnTo>
                        <a:pt x="1608" y="3099"/>
                      </a:lnTo>
                      <a:lnTo>
                        <a:pt x="1722" y="3165"/>
                      </a:lnTo>
                      <a:lnTo>
                        <a:pt x="1841" y="3225"/>
                      </a:lnTo>
                      <a:lnTo>
                        <a:pt x="1853" y="3225"/>
                      </a:lnTo>
                      <a:lnTo>
                        <a:pt x="1734" y="3165"/>
                      </a:lnTo>
                      <a:lnTo>
                        <a:pt x="1614" y="3099"/>
                      </a:lnTo>
                      <a:lnTo>
                        <a:pt x="1494" y="3027"/>
                      </a:lnTo>
                      <a:lnTo>
                        <a:pt x="1375" y="2949"/>
                      </a:lnTo>
                      <a:lnTo>
                        <a:pt x="1261" y="2865"/>
                      </a:lnTo>
                      <a:lnTo>
                        <a:pt x="1142" y="2769"/>
                      </a:lnTo>
                      <a:lnTo>
                        <a:pt x="914" y="2572"/>
                      </a:lnTo>
                      <a:lnTo>
                        <a:pt x="914" y="2572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1440" y="798480"/>
                    <a:ext cx="6768720" cy="602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1" h="3794">
                        <a:moveTo>
                          <a:pt x="4251" y="3368"/>
                        </a:moveTo>
                        <a:lnTo>
                          <a:pt x="4245" y="3237"/>
                        </a:lnTo>
                        <a:lnTo>
                          <a:pt x="4227" y="3099"/>
                        </a:lnTo>
                        <a:lnTo>
                          <a:pt x="4203" y="2961"/>
                        </a:lnTo>
                        <a:lnTo>
                          <a:pt x="4167" y="2823"/>
                        </a:lnTo>
                        <a:lnTo>
                          <a:pt x="4120" y="2679"/>
                        </a:lnTo>
                        <a:lnTo>
                          <a:pt x="4066" y="2535"/>
                        </a:lnTo>
                        <a:lnTo>
                          <a:pt x="4000" y="2391"/>
                        </a:lnTo>
                        <a:lnTo>
                          <a:pt x="3928" y="2247"/>
                        </a:lnTo>
                        <a:lnTo>
                          <a:pt x="3845" y="2098"/>
                        </a:lnTo>
                        <a:lnTo>
                          <a:pt x="3755" y="1954"/>
                        </a:lnTo>
                        <a:lnTo>
                          <a:pt x="3659" y="1810"/>
                        </a:lnTo>
                        <a:lnTo>
                          <a:pt x="3552" y="1666"/>
                        </a:lnTo>
                        <a:lnTo>
                          <a:pt x="3438" y="1528"/>
                        </a:lnTo>
                        <a:lnTo>
                          <a:pt x="3318" y="1390"/>
                        </a:lnTo>
                        <a:lnTo>
                          <a:pt x="3193" y="1252"/>
                        </a:lnTo>
                        <a:lnTo>
                          <a:pt x="3061" y="1120"/>
                        </a:lnTo>
                        <a:lnTo>
                          <a:pt x="2858" y="935"/>
                        </a:lnTo>
                        <a:lnTo>
                          <a:pt x="2649" y="761"/>
                        </a:lnTo>
                        <a:lnTo>
                          <a:pt x="2434" y="605"/>
                        </a:lnTo>
                        <a:lnTo>
                          <a:pt x="2212" y="467"/>
                        </a:lnTo>
                        <a:lnTo>
                          <a:pt x="1991" y="341"/>
                        </a:lnTo>
                        <a:lnTo>
                          <a:pt x="1770" y="233"/>
                        </a:lnTo>
                        <a:lnTo>
                          <a:pt x="1549" y="143"/>
                        </a:lnTo>
                        <a:lnTo>
                          <a:pt x="1327" y="77"/>
                        </a:lnTo>
                        <a:lnTo>
                          <a:pt x="1124" y="35"/>
                        </a:lnTo>
                        <a:lnTo>
                          <a:pt x="927" y="6"/>
                        </a:lnTo>
                        <a:lnTo>
                          <a:pt x="741" y="0"/>
                        </a:lnTo>
                        <a:lnTo>
                          <a:pt x="568" y="18"/>
                        </a:lnTo>
                        <a:lnTo>
                          <a:pt x="401" y="47"/>
                        </a:lnTo>
                        <a:lnTo>
                          <a:pt x="257" y="101"/>
                        </a:lnTo>
                        <a:lnTo>
                          <a:pt x="120" y="173"/>
                        </a:lnTo>
                        <a:lnTo>
                          <a:pt x="0" y="263"/>
                        </a:lnTo>
                        <a:lnTo>
                          <a:pt x="0" y="269"/>
                        </a:lnTo>
                        <a:lnTo>
                          <a:pt x="126" y="173"/>
                        </a:lnTo>
                        <a:lnTo>
                          <a:pt x="263" y="101"/>
                        </a:lnTo>
                        <a:lnTo>
                          <a:pt x="419" y="47"/>
                        </a:lnTo>
                        <a:lnTo>
                          <a:pt x="586" y="18"/>
                        </a:lnTo>
                        <a:lnTo>
                          <a:pt x="765" y="6"/>
                        </a:lnTo>
                        <a:lnTo>
                          <a:pt x="957" y="18"/>
                        </a:lnTo>
                        <a:lnTo>
                          <a:pt x="1154" y="47"/>
                        </a:lnTo>
                        <a:lnTo>
                          <a:pt x="1357" y="95"/>
                        </a:lnTo>
                        <a:lnTo>
                          <a:pt x="1567" y="161"/>
                        </a:lnTo>
                        <a:lnTo>
                          <a:pt x="1782" y="245"/>
                        </a:lnTo>
                        <a:lnTo>
                          <a:pt x="1997" y="347"/>
                        </a:lnTo>
                        <a:lnTo>
                          <a:pt x="2212" y="467"/>
                        </a:lnTo>
                        <a:lnTo>
                          <a:pt x="2428" y="605"/>
                        </a:lnTo>
                        <a:lnTo>
                          <a:pt x="2643" y="761"/>
                        </a:lnTo>
                        <a:lnTo>
                          <a:pt x="2858" y="935"/>
                        </a:lnTo>
                        <a:lnTo>
                          <a:pt x="3061" y="1120"/>
                        </a:lnTo>
                        <a:lnTo>
                          <a:pt x="3193" y="1252"/>
                        </a:lnTo>
                        <a:lnTo>
                          <a:pt x="3318" y="1390"/>
                        </a:lnTo>
                        <a:lnTo>
                          <a:pt x="3438" y="1528"/>
                        </a:lnTo>
                        <a:lnTo>
                          <a:pt x="3552" y="1666"/>
                        </a:lnTo>
                        <a:lnTo>
                          <a:pt x="3653" y="1810"/>
                        </a:lnTo>
                        <a:lnTo>
                          <a:pt x="3755" y="1954"/>
                        </a:lnTo>
                        <a:lnTo>
                          <a:pt x="3839" y="2104"/>
                        </a:lnTo>
                        <a:lnTo>
                          <a:pt x="3922" y="2247"/>
                        </a:lnTo>
                        <a:lnTo>
                          <a:pt x="3994" y="2391"/>
                        </a:lnTo>
                        <a:lnTo>
                          <a:pt x="4060" y="2535"/>
                        </a:lnTo>
                        <a:lnTo>
                          <a:pt x="4114" y="2679"/>
                        </a:lnTo>
                        <a:lnTo>
                          <a:pt x="4162" y="2823"/>
                        </a:lnTo>
                        <a:lnTo>
                          <a:pt x="4197" y="2967"/>
                        </a:lnTo>
                        <a:lnTo>
                          <a:pt x="4221" y="3105"/>
                        </a:lnTo>
                        <a:lnTo>
                          <a:pt x="4239" y="3237"/>
                        </a:lnTo>
                        <a:lnTo>
                          <a:pt x="4245" y="3368"/>
                        </a:lnTo>
                        <a:lnTo>
                          <a:pt x="4245" y="3482"/>
                        </a:lnTo>
                        <a:lnTo>
                          <a:pt x="4233" y="3590"/>
                        </a:lnTo>
                        <a:lnTo>
                          <a:pt x="4215" y="3692"/>
                        </a:lnTo>
                        <a:lnTo>
                          <a:pt x="4185" y="3794"/>
                        </a:lnTo>
                        <a:lnTo>
                          <a:pt x="4185" y="3794"/>
                        </a:lnTo>
                        <a:lnTo>
                          <a:pt x="4215" y="3692"/>
                        </a:lnTo>
                        <a:lnTo>
                          <a:pt x="4239" y="3590"/>
                        </a:lnTo>
                        <a:lnTo>
                          <a:pt x="4245" y="3482"/>
                        </a:lnTo>
                        <a:lnTo>
                          <a:pt x="4251" y="3368"/>
                        </a:lnTo>
                        <a:lnTo>
                          <a:pt x="4251" y="336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solidFill>
                      <a:srgbClr val="9d9dbd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-315360" y="805680"/>
                    <a:ext cx="7075800" cy="6855840"/>
                    <a:chOff x="-315360" y="805680"/>
                    <a:chExt cx="7075800" cy="685584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1440" y="1015920"/>
                      <a:ext cx="6541560" cy="580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08" h="3657">
                          <a:moveTo>
                            <a:pt x="48" y="282"/>
                          </a:moveTo>
                          <a:lnTo>
                            <a:pt x="161" y="186"/>
                          </a:lnTo>
                          <a:lnTo>
                            <a:pt x="293" y="108"/>
                          </a:lnTo>
                          <a:lnTo>
                            <a:pt x="442" y="54"/>
                          </a:lnTo>
                          <a:lnTo>
                            <a:pt x="598" y="18"/>
                          </a:lnTo>
                          <a:lnTo>
                            <a:pt x="771" y="6"/>
                          </a:lnTo>
                          <a:lnTo>
                            <a:pt x="951" y="12"/>
                          </a:lnTo>
                          <a:lnTo>
                            <a:pt x="1136" y="36"/>
                          </a:lnTo>
                          <a:lnTo>
                            <a:pt x="1333" y="84"/>
                          </a:lnTo>
                          <a:lnTo>
                            <a:pt x="1537" y="144"/>
                          </a:lnTo>
                          <a:lnTo>
                            <a:pt x="1740" y="222"/>
                          </a:lnTo>
                          <a:lnTo>
                            <a:pt x="1949" y="324"/>
                          </a:lnTo>
                          <a:lnTo>
                            <a:pt x="2158" y="438"/>
                          </a:lnTo>
                          <a:lnTo>
                            <a:pt x="2368" y="570"/>
                          </a:lnTo>
                          <a:lnTo>
                            <a:pt x="2577" y="720"/>
                          </a:lnTo>
                          <a:lnTo>
                            <a:pt x="2780" y="888"/>
                          </a:lnTo>
                          <a:lnTo>
                            <a:pt x="2978" y="1067"/>
                          </a:lnTo>
                          <a:lnTo>
                            <a:pt x="3103" y="1193"/>
                          </a:lnTo>
                          <a:lnTo>
                            <a:pt x="3223" y="1319"/>
                          </a:lnTo>
                          <a:lnTo>
                            <a:pt x="3336" y="1451"/>
                          </a:lnTo>
                          <a:lnTo>
                            <a:pt x="3444" y="1589"/>
                          </a:lnTo>
                          <a:lnTo>
                            <a:pt x="3540" y="1721"/>
                          </a:lnTo>
                          <a:lnTo>
                            <a:pt x="3635" y="1859"/>
                          </a:lnTo>
                          <a:lnTo>
                            <a:pt x="3719" y="1997"/>
                          </a:lnTo>
                          <a:lnTo>
                            <a:pt x="3797" y="2134"/>
                          </a:lnTo>
                          <a:lnTo>
                            <a:pt x="3863" y="2272"/>
                          </a:lnTo>
                          <a:lnTo>
                            <a:pt x="3928" y="2410"/>
                          </a:lnTo>
                          <a:lnTo>
                            <a:pt x="3976" y="2548"/>
                          </a:lnTo>
                          <a:lnTo>
                            <a:pt x="4024" y="2680"/>
                          </a:lnTo>
                          <a:lnTo>
                            <a:pt x="4060" y="2818"/>
                          </a:lnTo>
                          <a:lnTo>
                            <a:pt x="4084" y="2944"/>
                          </a:lnTo>
                          <a:lnTo>
                            <a:pt x="4102" y="3070"/>
                          </a:lnTo>
                          <a:lnTo>
                            <a:pt x="4108" y="3195"/>
                          </a:lnTo>
                          <a:lnTo>
                            <a:pt x="4102" y="3321"/>
                          </a:lnTo>
                          <a:lnTo>
                            <a:pt x="4090" y="3441"/>
                          </a:lnTo>
                          <a:lnTo>
                            <a:pt x="4060" y="3549"/>
                          </a:lnTo>
                          <a:lnTo>
                            <a:pt x="4024" y="3657"/>
                          </a:lnTo>
                          <a:lnTo>
                            <a:pt x="4030" y="3657"/>
                          </a:lnTo>
                          <a:lnTo>
                            <a:pt x="4066" y="3555"/>
                          </a:lnTo>
                          <a:lnTo>
                            <a:pt x="4090" y="3447"/>
                          </a:lnTo>
                          <a:lnTo>
                            <a:pt x="4102" y="3333"/>
                          </a:lnTo>
                          <a:lnTo>
                            <a:pt x="4108" y="3213"/>
                          </a:lnTo>
                          <a:lnTo>
                            <a:pt x="4108" y="3195"/>
                          </a:lnTo>
                          <a:lnTo>
                            <a:pt x="4102" y="3070"/>
                          </a:lnTo>
                          <a:lnTo>
                            <a:pt x="4084" y="2944"/>
                          </a:lnTo>
                          <a:lnTo>
                            <a:pt x="4060" y="2812"/>
                          </a:lnTo>
                          <a:lnTo>
                            <a:pt x="4024" y="2680"/>
                          </a:lnTo>
                          <a:lnTo>
                            <a:pt x="3982" y="2548"/>
                          </a:lnTo>
                          <a:lnTo>
                            <a:pt x="3928" y="2410"/>
                          </a:lnTo>
                          <a:lnTo>
                            <a:pt x="3869" y="2272"/>
                          </a:lnTo>
                          <a:lnTo>
                            <a:pt x="3803" y="2134"/>
                          </a:lnTo>
                          <a:lnTo>
                            <a:pt x="3725" y="1997"/>
                          </a:lnTo>
                          <a:lnTo>
                            <a:pt x="3641" y="1859"/>
                          </a:lnTo>
                          <a:lnTo>
                            <a:pt x="3546" y="1721"/>
                          </a:lnTo>
                          <a:lnTo>
                            <a:pt x="3450" y="1583"/>
                          </a:lnTo>
                          <a:lnTo>
                            <a:pt x="3342" y="1451"/>
                          </a:lnTo>
                          <a:lnTo>
                            <a:pt x="3229" y="1319"/>
                          </a:lnTo>
                          <a:lnTo>
                            <a:pt x="3109" y="1187"/>
                          </a:lnTo>
                          <a:lnTo>
                            <a:pt x="2984" y="1061"/>
                          </a:lnTo>
                          <a:lnTo>
                            <a:pt x="2792" y="888"/>
                          </a:lnTo>
                          <a:lnTo>
                            <a:pt x="2589" y="726"/>
                          </a:lnTo>
                          <a:lnTo>
                            <a:pt x="2386" y="576"/>
                          </a:lnTo>
                          <a:lnTo>
                            <a:pt x="2176" y="444"/>
                          </a:lnTo>
                          <a:lnTo>
                            <a:pt x="1967" y="330"/>
                          </a:lnTo>
                          <a:lnTo>
                            <a:pt x="1752" y="228"/>
                          </a:lnTo>
                          <a:lnTo>
                            <a:pt x="1543" y="144"/>
                          </a:lnTo>
                          <a:lnTo>
                            <a:pt x="1333" y="78"/>
                          </a:lnTo>
                          <a:lnTo>
                            <a:pt x="1130" y="30"/>
                          </a:lnTo>
                          <a:lnTo>
                            <a:pt x="939" y="6"/>
                          </a:lnTo>
                          <a:lnTo>
                            <a:pt x="753" y="0"/>
                          </a:lnTo>
                          <a:lnTo>
                            <a:pt x="586" y="18"/>
                          </a:lnTo>
                          <a:lnTo>
                            <a:pt x="431" y="54"/>
                          </a:lnTo>
                          <a:lnTo>
                            <a:pt x="287" y="108"/>
                          </a:lnTo>
                          <a:lnTo>
                            <a:pt x="161" y="186"/>
                          </a:lnTo>
                          <a:lnTo>
                            <a:pt x="48" y="282"/>
                          </a:lnTo>
                          <a:lnTo>
                            <a:pt x="24" y="306"/>
                          </a:lnTo>
                          <a:lnTo>
                            <a:pt x="0" y="330"/>
                          </a:lnTo>
                          <a:lnTo>
                            <a:pt x="0" y="336"/>
                          </a:lnTo>
                          <a:lnTo>
                            <a:pt x="24" y="312"/>
                          </a:lnTo>
                          <a:lnTo>
                            <a:pt x="48" y="282"/>
                          </a:lnTo>
                          <a:lnTo>
                            <a:pt x="48" y="282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solidFill>
                        <a:srgbClr val="9d9dbd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67" name=""/>
                      <p:cNvSpPr/>
                      <p:nvPr/>
                    </p:nvSpPr>
                    <p:spPr>
                      <a:xfrm flipH="1" flipV="1">
                        <a:off x="2218320" y="968400"/>
                        <a:ext cx="318960" cy="36025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" name=""/>
                      <p:cNvSpPr/>
                      <p:nvPr/>
                    </p:nvSpPr>
                    <p:spPr>
                      <a:xfrm flipH="1" flipV="1">
                        <a:off x="-12240" y="2650320"/>
                        <a:ext cx="2410560" cy="19620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" name=""/>
                      <p:cNvSpPr/>
                      <p:nvPr/>
                    </p:nvSpPr>
                    <p:spPr>
                      <a:xfrm flipH="1" flipV="1">
                        <a:off x="2160" y="2263320"/>
                        <a:ext cx="2404080" cy="23392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" name=""/>
                      <p:cNvSpPr/>
                      <p:nvPr/>
                    </p:nvSpPr>
                    <p:spPr>
                      <a:xfrm flipH="1" flipV="1">
                        <a:off x="1440" y="1777320"/>
                        <a:ext cx="2414880" cy="28137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" name=""/>
                      <p:cNvSpPr/>
                      <p:nvPr/>
                    </p:nvSpPr>
                    <p:spPr>
                      <a:xfrm flipH="1" flipV="1">
                        <a:off x="16560" y="1207440"/>
                        <a:ext cx="2404800" cy="33706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" name=""/>
                      <p:cNvSpPr/>
                      <p:nvPr/>
                    </p:nvSpPr>
                    <p:spPr>
                      <a:xfrm flipH="1" flipV="1">
                        <a:off x="1086120" y="805680"/>
                        <a:ext cx="1399320" cy="37645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" name=""/>
                      <p:cNvSpPr/>
                      <p:nvPr/>
                    </p:nvSpPr>
                    <p:spPr>
                      <a:xfrm flipH="1" flipV="1">
                        <a:off x="3240" y="3012480"/>
                        <a:ext cx="2387160" cy="16167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 flipH="1" flipV="1">
                        <a:off x="-720" y="3323160"/>
                        <a:ext cx="2388960" cy="13226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 flipH="1">
                        <a:off x="646200" y="4781160"/>
                        <a:ext cx="1787400" cy="4924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 flipH="1" flipV="1">
                        <a:off x="180000" y="4561560"/>
                        <a:ext cx="2232000" cy="1792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 flipH="1" flipV="1">
                        <a:off x="2880" y="3857400"/>
                        <a:ext cx="2391840" cy="8301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"/>
                      <p:cNvSpPr/>
                      <p:nvPr/>
                    </p:nvSpPr>
                    <p:spPr>
                      <a:xfrm flipH="1">
                        <a:off x="1533600" y="4857480"/>
                        <a:ext cx="972720" cy="13546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 flipH="1">
                        <a:off x="1662480" y="4868280"/>
                        <a:ext cx="853920" cy="14486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 flipH="1">
                        <a:off x="1782000" y="4869000"/>
                        <a:ext cx="739080" cy="15505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 flipH="1">
                        <a:off x="1911240" y="4874040"/>
                        <a:ext cx="617040" cy="16513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 flipH="1">
                        <a:off x="2059200" y="4884480"/>
                        <a:ext cx="479880" cy="1765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 flipH="1">
                        <a:off x="2207160" y="4888080"/>
                        <a:ext cx="339480" cy="18741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 flipH="1">
                        <a:off x="2571480" y="4908240"/>
                        <a:ext cx="4680" cy="19263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2591640" y="4911840"/>
                        <a:ext cx="170280" cy="19220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2609280" y="4921560"/>
                        <a:ext cx="331920" cy="18964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2629800" y="4923000"/>
                        <a:ext cx="513360" cy="19065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2649960" y="4923000"/>
                        <a:ext cx="694080" cy="19076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2661120" y="4921920"/>
                        <a:ext cx="893520" cy="18910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2685960" y="4928040"/>
                        <a:ext cx="1103040" cy="18928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2702880" y="4920480"/>
                        <a:ext cx="1348200" cy="19112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725560" y="4916160"/>
                        <a:ext cx="1623960" cy="19134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2737080" y="4901040"/>
                        <a:ext cx="1943280" cy="19216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2743200" y="4888080"/>
                        <a:ext cx="2359800" cy="19360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2755440" y="4877640"/>
                        <a:ext cx="2860560" cy="19508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2761560" y="4860720"/>
                        <a:ext cx="3499560" cy="19659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2762640" y="4843800"/>
                        <a:ext cx="3958200" cy="17859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2765520" y="4826160"/>
                        <a:ext cx="3994920" cy="13960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2756520" y="4782600"/>
                        <a:ext cx="3909960" cy="6591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 flipV="1">
                        <a:off x="2717640" y="3835080"/>
                        <a:ext cx="3219480" cy="883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 flipV="1">
                        <a:off x="2705040" y="3316320"/>
                        <a:ext cx="2922120" cy="13759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440" y="4014720"/>
                        <a:ext cx="2447640" cy="28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7" h="1768">
                            <a:moveTo>
                              <a:pt x="909" y="1264"/>
                            </a:moveTo>
                            <a:lnTo>
                              <a:pt x="1058" y="1402"/>
                            </a:lnTo>
                            <a:lnTo>
                              <a:pt x="1214" y="1528"/>
                            </a:lnTo>
                            <a:lnTo>
                              <a:pt x="1369" y="1654"/>
                            </a:lnTo>
                            <a:lnTo>
                              <a:pt x="1531" y="1768"/>
                            </a:lnTo>
                            <a:lnTo>
                              <a:pt x="1537" y="1768"/>
                            </a:lnTo>
                            <a:lnTo>
                              <a:pt x="1375" y="1654"/>
                            </a:lnTo>
                            <a:lnTo>
                              <a:pt x="1220" y="1534"/>
                            </a:lnTo>
                            <a:lnTo>
                              <a:pt x="1064" y="1402"/>
                            </a:lnTo>
                            <a:lnTo>
                              <a:pt x="915" y="1258"/>
                            </a:lnTo>
                            <a:lnTo>
                              <a:pt x="765" y="1115"/>
                            </a:lnTo>
                            <a:lnTo>
                              <a:pt x="628" y="959"/>
                            </a:lnTo>
                            <a:lnTo>
                              <a:pt x="496" y="803"/>
                            </a:lnTo>
                            <a:lnTo>
                              <a:pt x="377" y="647"/>
                            </a:lnTo>
                            <a:lnTo>
                              <a:pt x="269" y="485"/>
                            </a:lnTo>
                            <a:lnTo>
                              <a:pt x="167" y="323"/>
                            </a:lnTo>
                            <a:lnTo>
                              <a:pt x="78" y="161"/>
                            </a:ln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78" y="173"/>
                            </a:lnTo>
                            <a:lnTo>
                              <a:pt x="167" y="335"/>
                            </a:lnTo>
                            <a:lnTo>
                              <a:pt x="269" y="491"/>
                            </a:lnTo>
                            <a:lnTo>
                              <a:pt x="377" y="653"/>
                            </a:lnTo>
                            <a:lnTo>
                              <a:pt x="496" y="809"/>
                            </a:lnTo>
                            <a:lnTo>
                              <a:pt x="628" y="965"/>
                            </a:lnTo>
                            <a:lnTo>
                              <a:pt x="765" y="1121"/>
                            </a:lnTo>
                            <a:lnTo>
                              <a:pt x="909" y="1264"/>
                            </a:lnTo>
                            <a:lnTo>
                              <a:pt x="909" y="1264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3" name=""/>
                      <p:cNvGrpSpPr/>
                      <p:nvPr/>
                    </p:nvGrpSpPr>
                    <p:grpSpPr>
                      <a:xfrm>
                        <a:off x="-315360" y="1283760"/>
                        <a:ext cx="6462720" cy="6377760"/>
                        <a:chOff x="-315360" y="1283760"/>
                        <a:chExt cx="6462720" cy="6377760"/>
                      </a:xfrm>
                    </p:grpSpPr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 rot="18780000">
                          <a:off x="2444760" y="4521960"/>
                          <a:ext cx="255600" cy="44424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 rot="18780000">
                          <a:off x="2358360" y="4328640"/>
                          <a:ext cx="446040" cy="79812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 rot="18780000">
                          <a:off x="2239200" y="4031640"/>
                          <a:ext cx="747720" cy="129024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rot="18780000">
                          <a:off x="2147040" y="3772800"/>
                          <a:ext cx="988920" cy="179208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rot="18780000">
                          <a:off x="2048040" y="3456720"/>
                          <a:ext cx="1247760" cy="232848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 rot="18780000">
                          <a:off x="1957320" y="3202200"/>
                          <a:ext cx="1543320" cy="282384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rot="18780000">
                          <a:off x="1827000" y="2928240"/>
                          <a:ext cx="1852560" cy="332352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rot="18780000">
                          <a:off x="1715040" y="2658960"/>
                          <a:ext cx="2136960" cy="380664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rot="18780000">
                          <a:off x="1578240" y="2405160"/>
                          <a:ext cx="2481480" cy="427968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rot="18780000">
                          <a:off x="1474920" y="2121120"/>
                          <a:ext cx="2716200" cy="478764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rot="18734400">
                          <a:off x="1384560" y="1848600"/>
                          <a:ext cx="2984400" cy="531000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rot="18819600">
                          <a:off x="1289520" y="1557720"/>
                          <a:ext cx="3252960" cy="5829120"/>
                        </a:xfrm>
                        <a:prstGeom prst="ellipse">
                          <a:avLst/>
                        </a:prstGeom>
                        <a:noFill/>
                        <a:ln w="0">
                          <a:solidFill>
                            <a:srgbClr val="9d9dbd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6" name=""/>
                      <p:cNvSpPr/>
                      <p:nvPr/>
                    </p:nvSpPr>
                    <p:spPr>
                      <a:xfrm flipV="1">
                        <a:off x="2630520" y="1817280"/>
                        <a:ext cx="1318680" cy="2809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 flipV="1">
                        <a:off x="2642760" y="2169360"/>
                        <a:ext cx="1767600" cy="24642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 flipV="1">
                        <a:off x="2644560" y="1972440"/>
                        <a:ext cx="1554120" cy="26470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 flipV="1">
                        <a:off x="2653200" y="2329560"/>
                        <a:ext cx="1976760" cy="23122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 flipV="1">
                        <a:off x="2660040" y="2504880"/>
                        <a:ext cx="2215080" cy="21448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 flipV="1">
                        <a:off x="2680200" y="2921400"/>
                        <a:ext cx="2536920" cy="1747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 flipV="1">
                        <a:off x="2693160" y="3132360"/>
                        <a:ext cx="2707560" cy="15472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 flipV="1">
                        <a:off x="2714040" y="3593520"/>
                        <a:ext cx="3031200" cy="11149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 flipV="1">
                        <a:off x="2726280" y="4080600"/>
                        <a:ext cx="3373200" cy="6454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 flipV="1">
                        <a:off x="2730960" y="4413960"/>
                        <a:ext cx="3548160" cy="3175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 flipV="1">
                        <a:off x="2729160" y="4740120"/>
                        <a:ext cx="3704040" cy="25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2746080" y="4761000"/>
                        <a:ext cx="3829320" cy="3164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2764080" y="4804920"/>
                        <a:ext cx="3989880" cy="10155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 flipH="1">
                        <a:off x="2391480" y="4898880"/>
                        <a:ext cx="172080" cy="19216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 flipH="1">
                        <a:off x="1424160" y="4845960"/>
                        <a:ext cx="1061640" cy="12553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 flipH="1">
                        <a:off x="1313280" y="4834080"/>
                        <a:ext cx="1163160" cy="11613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 flipH="1">
                        <a:off x="1195200" y="4825800"/>
                        <a:ext cx="1275480" cy="10681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 flipH="1">
                        <a:off x="1091880" y="4815000"/>
                        <a:ext cx="1371600" cy="9662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 flipH="1">
                        <a:off x="985680" y="4807800"/>
                        <a:ext cx="1464120" cy="8582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 flipH="1">
                        <a:off x="873720" y="4797720"/>
                        <a:ext cx="1573200" cy="7423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 flipH="1">
                        <a:off x="759240" y="4788360"/>
                        <a:ext cx="1680840" cy="6206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 flipH="1">
                        <a:off x="542520" y="4770000"/>
                        <a:ext cx="1885320" cy="3484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 flipH="1">
                        <a:off x="419760" y="4760280"/>
                        <a:ext cx="2001240" cy="1879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 flipH="1">
                        <a:off x="294120" y="4747320"/>
                        <a:ext cx="2119320" cy="176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 flipH="1" flipV="1">
                        <a:off x="42120" y="4334040"/>
                        <a:ext cx="2364120" cy="3913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 flipH="1" flipV="1">
                        <a:off x="1800" y="4099320"/>
                        <a:ext cx="2397240" cy="6066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 flipH="1" flipV="1">
                        <a:off x="0" y="3595680"/>
                        <a:ext cx="2390040" cy="10774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 flipH="1" flipV="1">
                        <a:off x="339120" y="1008360"/>
                        <a:ext cx="2095200" cy="35643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 flipH="1" flipV="1">
                        <a:off x="699120" y="868680"/>
                        <a:ext cx="1756080" cy="370296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 flipH="1" flipV="1">
                        <a:off x="1482480" y="823680"/>
                        <a:ext cx="1018800" cy="37404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 flipH="1" flipV="1">
                        <a:off x="1833480" y="875520"/>
                        <a:ext cx="685800" cy="369324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 flipV="1">
                        <a:off x="2553120" y="1079280"/>
                        <a:ext cx="4320" cy="3493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 flipV="1">
                        <a:off x="2573640" y="1203840"/>
                        <a:ext cx="304560" cy="337932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 flipV="1">
                        <a:off x="2585160" y="1347480"/>
                        <a:ext cx="585720" cy="32446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 flipV="1">
                        <a:off x="2598480" y="1497960"/>
                        <a:ext cx="846000" cy="310608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 flipV="1">
                        <a:off x="2612160" y="1662840"/>
                        <a:ext cx="1095120" cy="2944800"/>
                      </a:xfrm>
                      <a:prstGeom prst="line">
                        <a:avLst/>
                      </a:prstGeom>
                      <a:ln w="0">
                        <a:solidFill>
                          <a:srgbClr val="9d9dbd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52" name=""/>
            <p:cNvGrpSpPr/>
            <p:nvPr/>
          </p:nvGrpSpPr>
          <p:grpSpPr>
            <a:xfrm>
              <a:off x="4320" y="2715480"/>
              <a:ext cx="5018040" cy="4112280"/>
              <a:chOff x="4320" y="2715480"/>
              <a:chExt cx="5018040" cy="411228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2672280" y="2715480"/>
                <a:ext cx="2350080" cy="1947600"/>
              </a:xfrm>
              <a:prstGeom prst="line">
                <a:avLst/>
              </a:prstGeom>
              <a:ln w="0">
                <a:solidFill>
                  <a:srgbClr val="9d9d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1381680" y="6087960"/>
                <a:ext cx="353880" cy="735120"/>
              </a:xfrm>
              <a:prstGeom prst="line">
                <a:avLst/>
              </a:prstGeom>
              <a:ln w="0">
                <a:solidFill>
                  <a:srgbClr val="9d9db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320" y="4316040"/>
                <a:ext cx="2090160" cy="2511720"/>
                <a:chOff x="4320" y="4316040"/>
                <a:chExt cx="2090160" cy="251172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107360" y="6089400"/>
                  <a:ext cx="273960" cy="29700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80" y="5078160"/>
                  <a:ext cx="1596600" cy="1749600"/>
                </a:xfrm>
                <a:custGeom>
                  <a:avLst/>
                  <a:gdLst/>
                  <a:ahLst/>
                  <a:rect l="l" t="t" r="r" b="b"/>
                  <a:pathLst>
                    <a:path w="1006" h="1102">
                      <a:moveTo>
                        <a:pt x="1006" y="1102"/>
                      </a:moveTo>
                      <a:lnTo>
                        <a:pt x="696" y="823"/>
                      </a:lnTo>
                      <a:lnTo>
                        <a:pt x="333" y="447"/>
                      </a:lnTo>
                      <a:lnTo>
                        <a:pt x="51" y="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1972800" y="6686640"/>
                  <a:ext cx="121680" cy="13968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40360" y="5792760"/>
                  <a:ext cx="844200" cy="29376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77280" y="4892760"/>
                  <a:ext cx="159840" cy="90000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4320" y="4746600"/>
                  <a:ext cx="372600" cy="14616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86760" y="4892400"/>
                  <a:ext cx="288720" cy="30780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534240" y="5487840"/>
                  <a:ext cx="279000" cy="30492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760" y="4316040"/>
                  <a:ext cx="21960" cy="36360"/>
                </a:xfrm>
                <a:prstGeom prst="line">
                  <a:avLst/>
                </a:prstGeom>
                <a:ln w="0">
                  <a:solidFill>
                    <a:srgbClr val="9d9db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9600" y="1533240"/>
            <a:ext cx="73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62"/>
                </a:solidFill>
                <a:latin typeface="Verdana"/>
              </a:rPr>
              <a:t>Click to edit the title text format</a:t>
            </a:r>
            <a:endParaRPr b="0" lang="en-US" sz="1600" spc="-1" strike="noStrike">
              <a:solidFill>
                <a:srgbClr val="42426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5"/>
          </p:nvPr>
        </p:nvSpPr>
        <p:spPr>
          <a:xfrm>
            <a:off x="539280" y="6519960"/>
            <a:ext cx="80614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DB6E-96EF-4DA7-975E-857C459F117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38280"/>
            <a:ext cx="8161200" cy="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33804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Verdana"/>
              </a:rPr>
              <a:t>АДМИНИСТРАЦИЯ КАЛИНИНГРАДСКОЙ ОБЛА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5040" y="6470640"/>
            <a:ext cx="81612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5040" y="687240"/>
            <a:ext cx="816120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5040" y="6419880"/>
            <a:ext cx="816120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262"/>
                </a:solidFill>
                <a:latin typeface="Arial Narrow"/>
              </a:rPr>
              <a:t>Click to edit the outline text format</a:t>
            </a:r>
            <a:endParaRPr b="0" lang="en-US" sz="4000" spc="-1" strike="noStrike">
              <a:solidFill>
                <a:srgbClr val="42426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5.gif"/><Relationship Id="rId40" Type="http://schemas.openxmlformats.org/officeDocument/2006/relationships/image" Target="../media/image5.gif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.wmf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0920" y="1341360"/>
            <a:ext cx="8569080" cy="6426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ладимир Кузин, начальник отдела макроэкономического анализа и прогнозирования, администрация Калининградской об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819520"/>
            <a:ext cx="5977080" cy="17398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лининградская область- двухлетний опыт реализации стратег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6021360"/>
            <a:ext cx="5184720" cy="459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Санкт-Петербург, октябрь 2005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BAA-37D9-40BA-BA94-78B7D1083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3760" y="112536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Динамика объема производства промышленной продукции </a:t>
            </a:r>
            <a:br>
              <a:rPr sz="2000"/>
            </a:b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Калининградской области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РФ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и Российской Федерации в целом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% к уровню 1994 года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88960" y="1992240"/>
          <a:ext cx="8159760" cy="42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960" y="1992240"/>
                    <a:ext cx="81597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C8E-0E0C-40C8-97AE-B6F05D3D1C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7598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Динамика внешнеторгового оборота товаров и услуг </a:t>
            </a:r>
            <a:br>
              <a:rPr sz="2000"/>
            </a:b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Калининградской области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Российской Федерации </a:t>
            </a: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млн. долл. США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574560" y="1714680"/>
          <a:ext cx="8159760" cy="46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560" y="1714680"/>
                    <a:ext cx="815976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516-7603-4B7B-8529-6CA4CA9EAE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Вывоз калининградской продукции на остальную территорию России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млн. долл. США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055520" y="1663560"/>
          <a:ext cx="6973920" cy="447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5520" y="1663560"/>
                    <a:ext cx="69739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8094600" y="1700280"/>
            <a:ext cx="79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67520" y="1844640"/>
            <a:ext cx="152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+61,2% к 2003 год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10320" y="34704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лн. дол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E10-FBE5-448B-A9EA-A47936986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м переработки грузов по видам транспорта в Калининградской области  Российской Федерац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млн.т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85920" y="1641600"/>
          <a:ext cx="8526240" cy="47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1641600"/>
                    <a:ext cx="85262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2D0-A217-460E-A23E-BEB540955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3760" y="549000"/>
            <a:ext cx="8502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Основные существующие проблемы стратегического планирования (</a:t>
            </a:r>
            <a:r>
              <a:rPr b="1" lang="en-US" sz="2400" spc="-1" strike="noStrike">
                <a:solidFill>
                  <a:srgbClr val="424262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4120" y="1844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организационного механизма реализац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атегии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лексных пл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еткие приоритеты распределения ограниченных бюджетных ресур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ыточное количество существующих программ и планов не позволяет эффективно распределить ресурсы между секторами деятель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B31-A57E-4ED1-85BF-4FC615799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3760" y="404280"/>
            <a:ext cx="85028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Основные существующие проблемы стратегического планирования (</a:t>
            </a:r>
            <a:r>
              <a:rPr b="1" lang="en-US" sz="2400" spc="-1" strike="noStrike">
                <a:solidFill>
                  <a:srgbClr val="424262"/>
                </a:solidFill>
                <a:latin typeface="Arial"/>
              </a:rPr>
              <a:t>I I</a:t>
            </a: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4120" y="1844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ы и планы зачастую представляют собой скорее список пожеланий, что не способствует эффективному распределению ресур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остаточная взаимосвязь между постановкой  целей, распределением ресурсов и мониторингом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четкой системы количественных индикаторов  для мониторинга реализации программ и план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5F7-348E-4E40-9D98-FB6629037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КПДА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4120" y="162828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мплексный план действий администрации калининградской области по реализации стратег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механизм реализации принятой региональной Стратегии на основе имеющихся в распоряжении администрации области бюджетных ресурсов и возможностей использования методов государственного регулир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истема формализованных среднесрочных целей, согласованных с задачами, показателями и индикаторами соответствующего уров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четко структурированный плановый док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623-CA87-47C6-B3B1-C1B7984BC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0920" y="260280"/>
            <a:ext cx="3816360" cy="180036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здание услов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развития человече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нциала и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ффективного примен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2565360"/>
            <a:ext cx="4895640" cy="1513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сновные цели КП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189000"/>
            <a:ext cx="4537080" cy="194472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рмирование конкурентоспособ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ономики региона, опирающей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интеллектуальные ресурс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ладающей устойчивы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долговременным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нциалом рос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581360"/>
            <a:ext cx="3960720" cy="187200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действию развит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лого и средн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изнеса, ориентирован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трансферт инновац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егионы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88000" y="4292640"/>
            <a:ext cx="4032000" cy="223200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жение социаль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соли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основы укреп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солидации россий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енности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рритории области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ализации жизненно важ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тересов на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9524600">
            <a:off x="1042920" y="3860640"/>
            <a:ext cx="1300320" cy="524160"/>
          </a:xfrm>
          <a:prstGeom prst="rightArrow">
            <a:avLst>
              <a:gd name="adj1" fmla="val 50000"/>
              <a:gd name="adj2" fmla="val 62019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3183000">
            <a:off x="1072800" y="2319120"/>
            <a:ext cx="1146240" cy="486000"/>
          </a:xfrm>
          <a:prstGeom prst="rightArrow">
            <a:avLst>
              <a:gd name="adj1" fmla="val 50000"/>
              <a:gd name="adj2" fmla="val 58963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2535200">
            <a:off x="6372360" y="3715920"/>
            <a:ext cx="1225440" cy="428760"/>
          </a:xfrm>
          <a:prstGeom prst="rightArrow">
            <a:avLst>
              <a:gd name="adj1" fmla="val 50000"/>
              <a:gd name="adj2" fmla="val 71453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8478600">
            <a:off x="6371640" y="2349360"/>
            <a:ext cx="1307880" cy="486000"/>
          </a:xfrm>
          <a:prstGeom prst="rightArrow">
            <a:avLst>
              <a:gd name="adj1" fmla="val 50000"/>
              <a:gd name="adj2" fmla="val 67278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42C-89BB-4D2A-B988-CB7D30590B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42920" y="1125360"/>
            <a:ext cx="6913800" cy="1151280"/>
          </a:xfrm>
          <a:prstGeom prst="flowChartDocument">
            <a:avLst/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бщие индикаторы (верхний уровень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ражают степень дости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лавной цели Стратеги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8360" y="3068640"/>
            <a:ext cx="1655640" cy="25210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озда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услови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ля разви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еловеческог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тенци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е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эффективног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менени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11280" y="3068640"/>
            <a:ext cx="1873440" cy="25210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орм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курентн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егион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пирающей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инновации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нтеллектуальны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есурсы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ладающ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устойчивым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олговрем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тенциал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ла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7640" y="3068640"/>
            <a:ext cx="1873080" cy="25210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йств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звит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алого 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редне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изнес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иентированн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ансфер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нноваци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регион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осс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43640" y="3068640"/>
            <a:ext cx="2016000" cy="25210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ости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оциа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сол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к осно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укреп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оссий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осудар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территор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ласти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еализ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жизнен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ажных интерес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5805360"/>
            <a:ext cx="8064360" cy="393840"/>
          </a:xfrm>
          <a:prstGeom prst="flowChartProcess">
            <a:avLst/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ециальные индикаторы (нижний уровен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8360" y="2708280"/>
            <a:ext cx="7991280" cy="39384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астные индикаторы (средний уровен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19280" y="189000"/>
            <a:ext cx="54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2602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истема индикаторов КП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AE2-9B5D-4252-9134-8ED28E7146DA}" type="slidenum">
              <a:t>18</a:t>
            </a:fld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3760" y="620280"/>
            <a:ext cx="8502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262"/>
                </a:solidFill>
                <a:latin typeface="Arial"/>
              </a:rPr>
              <a:t>Индикаторы КПДА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557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бщие индик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ражают макроэкономические характеристики региона, а также тенденции и прогнозные параметры будущего развития и тем самым степень достижения главной цели Страте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Частные индик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оличественной оценки и анализа достижения основных целей КПДА - это обобщающие характеристики условий для развития регио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пециальные индик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ьные показатели разрабатываются для оценки результатов выполнения отдельных мероприятий КПДА в рамках решения приоритетных задач, выполнение которых способствует достижению основных целей КПДА и главной цели Страте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3FF-DC48-4FCB-967E-03C0243882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53880" y="3000240"/>
            <a:ext cx="1014480" cy="1871640"/>
          </a:xfrm>
          <a:custGeom>
            <a:avLst/>
            <a:gdLst/>
            <a:ahLst/>
            <a:rect l="l" t="t" r="r" b="b"/>
            <a:pathLst>
              <a:path w="1918" h="3537">
                <a:moveTo>
                  <a:pt x="77" y="2348"/>
                </a:moveTo>
                <a:lnTo>
                  <a:pt x="49" y="2451"/>
                </a:lnTo>
                <a:lnTo>
                  <a:pt x="0" y="2587"/>
                </a:lnTo>
                <a:lnTo>
                  <a:pt x="7" y="2600"/>
                </a:lnTo>
                <a:lnTo>
                  <a:pt x="59" y="2626"/>
                </a:lnTo>
                <a:lnTo>
                  <a:pt x="159" y="2712"/>
                </a:lnTo>
                <a:lnTo>
                  <a:pt x="163" y="2705"/>
                </a:lnTo>
                <a:lnTo>
                  <a:pt x="151" y="2686"/>
                </a:lnTo>
                <a:lnTo>
                  <a:pt x="153" y="2670"/>
                </a:lnTo>
                <a:lnTo>
                  <a:pt x="140" y="2654"/>
                </a:lnTo>
                <a:lnTo>
                  <a:pt x="113" y="2637"/>
                </a:lnTo>
                <a:lnTo>
                  <a:pt x="130" y="2627"/>
                </a:lnTo>
                <a:lnTo>
                  <a:pt x="115" y="2620"/>
                </a:lnTo>
                <a:lnTo>
                  <a:pt x="108" y="2603"/>
                </a:lnTo>
                <a:lnTo>
                  <a:pt x="115" y="2575"/>
                </a:lnTo>
                <a:lnTo>
                  <a:pt x="130" y="2555"/>
                </a:lnTo>
                <a:lnTo>
                  <a:pt x="144" y="2555"/>
                </a:lnTo>
                <a:lnTo>
                  <a:pt x="160" y="2565"/>
                </a:lnTo>
                <a:lnTo>
                  <a:pt x="161" y="2577"/>
                </a:lnTo>
                <a:lnTo>
                  <a:pt x="150" y="2578"/>
                </a:lnTo>
                <a:lnTo>
                  <a:pt x="146" y="2590"/>
                </a:lnTo>
                <a:lnTo>
                  <a:pt x="241" y="2722"/>
                </a:lnTo>
                <a:lnTo>
                  <a:pt x="278" y="2736"/>
                </a:lnTo>
                <a:lnTo>
                  <a:pt x="310" y="2736"/>
                </a:lnTo>
                <a:lnTo>
                  <a:pt x="354" y="2775"/>
                </a:lnTo>
                <a:lnTo>
                  <a:pt x="382" y="2890"/>
                </a:lnTo>
                <a:lnTo>
                  <a:pt x="393" y="2906"/>
                </a:lnTo>
                <a:lnTo>
                  <a:pt x="373" y="2966"/>
                </a:lnTo>
                <a:lnTo>
                  <a:pt x="389" y="3135"/>
                </a:lnTo>
                <a:lnTo>
                  <a:pt x="373" y="3189"/>
                </a:lnTo>
                <a:lnTo>
                  <a:pt x="348" y="3408"/>
                </a:lnTo>
                <a:lnTo>
                  <a:pt x="370" y="3432"/>
                </a:lnTo>
                <a:lnTo>
                  <a:pt x="403" y="3435"/>
                </a:lnTo>
                <a:lnTo>
                  <a:pt x="442" y="3421"/>
                </a:lnTo>
                <a:lnTo>
                  <a:pt x="462" y="3440"/>
                </a:lnTo>
                <a:lnTo>
                  <a:pt x="487" y="3427"/>
                </a:lnTo>
                <a:lnTo>
                  <a:pt x="520" y="3427"/>
                </a:lnTo>
                <a:lnTo>
                  <a:pt x="561" y="3444"/>
                </a:lnTo>
                <a:lnTo>
                  <a:pt x="583" y="3468"/>
                </a:lnTo>
                <a:lnTo>
                  <a:pt x="659" y="3467"/>
                </a:lnTo>
                <a:lnTo>
                  <a:pt x="679" y="3466"/>
                </a:lnTo>
                <a:lnTo>
                  <a:pt x="723" y="3484"/>
                </a:lnTo>
                <a:lnTo>
                  <a:pt x="724" y="3526"/>
                </a:lnTo>
                <a:lnTo>
                  <a:pt x="782" y="3537"/>
                </a:lnTo>
                <a:lnTo>
                  <a:pt x="828" y="3500"/>
                </a:lnTo>
                <a:lnTo>
                  <a:pt x="862" y="3523"/>
                </a:lnTo>
                <a:lnTo>
                  <a:pt x="898" y="3520"/>
                </a:lnTo>
                <a:lnTo>
                  <a:pt x="971" y="3457"/>
                </a:lnTo>
                <a:lnTo>
                  <a:pt x="993" y="3458"/>
                </a:lnTo>
                <a:lnTo>
                  <a:pt x="990" y="3500"/>
                </a:lnTo>
                <a:lnTo>
                  <a:pt x="1026" y="3481"/>
                </a:lnTo>
                <a:lnTo>
                  <a:pt x="1062" y="3501"/>
                </a:lnTo>
                <a:lnTo>
                  <a:pt x="1081" y="3500"/>
                </a:lnTo>
                <a:lnTo>
                  <a:pt x="1091" y="3489"/>
                </a:lnTo>
                <a:lnTo>
                  <a:pt x="1091" y="3476"/>
                </a:lnTo>
                <a:lnTo>
                  <a:pt x="1074" y="3451"/>
                </a:lnTo>
                <a:lnTo>
                  <a:pt x="1033" y="3440"/>
                </a:lnTo>
                <a:lnTo>
                  <a:pt x="1048" y="3430"/>
                </a:lnTo>
                <a:lnTo>
                  <a:pt x="1100" y="3430"/>
                </a:lnTo>
                <a:lnTo>
                  <a:pt x="1110" y="3414"/>
                </a:lnTo>
                <a:lnTo>
                  <a:pt x="1092" y="3396"/>
                </a:lnTo>
                <a:lnTo>
                  <a:pt x="1094" y="3355"/>
                </a:lnTo>
                <a:lnTo>
                  <a:pt x="1081" y="3330"/>
                </a:lnTo>
                <a:lnTo>
                  <a:pt x="1030" y="3333"/>
                </a:lnTo>
                <a:lnTo>
                  <a:pt x="990" y="3304"/>
                </a:lnTo>
                <a:lnTo>
                  <a:pt x="987" y="3266"/>
                </a:lnTo>
                <a:lnTo>
                  <a:pt x="973" y="3258"/>
                </a:lnTo>
                <a:lnTo>
                  <a:pt x="967" y="3271"/>
                </a:lnTo>
                <a:lnTo>
                  <a:pt x="931" y="3279"/>
                </a:lnTo>
                <a:lnTo>
                  <a:pt x="907" y="3300"/>
                </a:lnTo>
                <a:lnTo>
                  <a:pt x="882" y="3299"/>
                </a:lnTo>
                <a:lnTo>
                  <a:pt x="865" y="3281"/>
                </a:lnTo>
                <a:lnTo>
                  <a:pt x="872" y="3263"/>
                </a:lnTo>
                <a:lnTo>
                  <a:pt x="882" y="3270"/>
                </a:lnTo>
                <a:lnTo>
                  <a:pt x="925" y="3253"/>
                </a:lnTo>
                <a:lnTo>
                  <a:pt x="959" y="3214"/>
                </a:lnTo>
                <a:lnTo>
                  <a:pt x="959" y="3198"/>
                </a:lnTo>
                <a:lnTo>
                  <a:pt x="921" y="3162"/>
                </a:lnTo>
                <a:lnTo>
                  <a:pt x="887" y="3168"/>
                </a:lnTo>
                <a:lnTo>
                  <a:pt x="902" y="3145"/>
                </a:lnTo>
                <a:lnTo>
                  <a:pt x="940" y="3149"/>
                </a:lnTo>
                <a:lnTo>
                  <a:pt x="925" y="3138"/>
                </a:lnTo>
                <a:lnTo>
                  <a:pt x="921" y="3116"/>
                </a:lnTo>
                <a:lnTo>
                  <a:pt x="971" y="3090"/>
                </a:lnTo>
                <a:lnTo>
                  <a:pt x="989" y="3073"/>
                </a:lnTo>
                <a:lnTo>
                  <a:pt x="1015" y="3076"/>
                </a:lnTo>
                <a:lnTo>
                  <a:pt x="1016" y="3092"/>
                </a:lnTo>
                <a:lnTo>
                  <a:pt x="1023" y="3096"/>
                </a:lnTo>
                <a:lnTo>
                  <a:pt x="1051" y="3077"/>
                </a:lnTo>
                <a:lnTo>
                  <a:pt x="1072" y="2999"/>
                </a:lnTo>
                <a:lnTo>
                  <a:pt x="1030" y="2932"/>
                </a:lnTo>
                <a:lnTo>
                  <a:pt x="1015" y="2932"/>
                </a:lnTo>
                <a:lnTo>
                  <a:pt x="1032" y="2915"/>
                </a:lnTo>
                <a:lnTo>
                  <a:pt x="1032" y="2897"/>
                </a:lnTo>
                <a:lnTo>
                  <a:pt x="1016" y="2877"/>
                </a:lnTo>
                <a:lnTo>
                  <a:pt x="1003" y="2876"/>
                </a:lnTo>
                <a:lnTo>
                  <a:pt x="1015" y="2857"/>
                </a:lnTo>
                <a:lnTo>
                  <a:pt x="1015" y="2838"/>
                </a:lnTo>
                <a:lnTo>
                  <a:pt x="999" y="2805"/>
                </a:lnTo>
                <a:lnTo>
                  <a:pt x="1006" y="2792"/>
                </a:lnTo>
                <a:lnTo>
                  <a:pt x="1038" y="2777"/>
                </a:lnTo>
                <a:lnTo>
                  <a:pt x="1062" y="2746"/>
                </a:lnTo>
                <a:lnTo>
                  <a:pt x="1018" y="2703"/>
                </a:lnTo>
                <a:lnTo>
                  <a:pt x="1002" y="2705"/>
                </a:lnTo>
                <a:lnTo>
                  <a:pt x="989" y="2719"/>
                </a:lnTo>
                <a:lnTo>
                  <a:pt x="973" y="2710"/>
                </a:lnTo>
                <a:lnTo>
                  <a:pt x="937" y="2722"/>
                </a:lnTo>
                <a:lnTo>
                  <a:pt x="921" y="2716"/>
                </a:lnTo>
                <a:lnTo>
                  <a:pt x="933" y="2706"/>
                </a:lnTo>
                <a:lnTo>
                  <a:pt x="989" y="2705"/>
                </a:lnTo>
                <a:lnTo>
                  <a:pt x="984" y="2689"/>
                </a:lnTo>
                <a:lnTo>
                  <a:pt x="993" y="2674"/>
                </a:lnTo>
                <a:lnTo>
                  <a:pt x="1007" y="2687"/>
                </a:lnTo>
                <a:lnTo>
                  <a:pt x="1030" y="2687"/>
                </a:lnTo>
                <a:lnTo>
                  <a:pt x="1055" y="2666"/>
                </a:lnTo>
                <a:lnTo>
                  <a:pt x="1101" y="2677"/>
                </a:lnTo>
                <a:lnTo>
                  <a:pt x="1097" y="2633"/>
                </a:lnTo>
                <a:lnTo>
                  <a:pt x="1121" y="2628"/>
                </a:lnTo>
                <a:lnTo>
                  <a:pt x="1138" y="2585"/>
                </a:lnTo>
                <a:lnTo>
                  <a:pt x="1170" y="2554"/>
                </a:lnTo>
                <a:lnTo>
                  <a:pt x="1102" y="2551"/>
                </a:lnTo>
                <a:lnTo>
                  <a:pt x="1087" y="2518"/>
                </a:lnTo>
                <a:lnTo>
                  <a:pt x="1059" y="2500"/>
                </a:lnTo>
                <a:lnTo>
                  <a:pt x="1043" y="2472"/>
                </a:lnTo>
                <a:lnTo>
                  <a:pt x="992" y="2472"/>
                </a:lnTo>
                <a:lnTo>
                  <a:pt x="964" y="2456"/>
                </a:lnTo>
                <a:lnTo>
                  <a:pt x="969" y="2450"/>
                </a:lnTo>
                <a:lnTo>
                  <a:pt x="993" y="2456"/>
                </a:lnTo>
                <a:lnTo>
                  <a:pt x="1043" y="2447"/>
                </a:lnTo>
                <a:lnTo>
                  <a:pt x="1075" y="2460"/>
                </a:lnTo>
                <a:lnTo>
                  <a:pt x="1097" y="2489"/>
                </a:lnTo>
                <a:lnTo>
                  <a:pt x="1136" y="2495"/>
                </a:lnTo>
                <a:lnTo>
                  <a:pt x="1143" y="2503"/>
                </a:lnTo>
                <a:lnTo>
                  <a:pt x="1205" y="2476"/>
                </a:lnTo>
                <a:lnTo>
                  <a:pt x="1253" y="2473"/>
                </a:lnTo>
                <a:lnTo>
                  <a:pt x="1266" y="2467"/>
                </a:lnTo>
                <a:lnTo>
                  <a:pt x="1284" y="2473"/>
                </a:lnTo>
                <a:lnTo>
                  <a:pt x="1277" y="2450"/>
                </a:lnTo>
                <a:lnTo>
                  <a:pt x="1266" y="2444"/>
                </a:lnTo>
                <a:lnTo>
                  <a:pt x="1266" y="2434"/>
                </a:lnTo>
                <a:lnTo>
                  <a:pt x="1289" y="2427"/>
                </a:lnTo>
                <a:lnTo>
                  <a:pt x="1302" y="2413"/>
                </a:lnTo>
                <a:lnTo>
                  <a:pt x="1323" y="2414"/>
                </a:lnTo>
                <a:lnTo>
                  <a:pt x="1315" y="2404"/>
                </a:lnTo>
                <a:lnTo>
                  <a:pt x="1284" y="2398"/>
                </a:lnTo>
                <a:lnTo>
                  <a:pt x="1281" y="2374"/>
                </a:lnTo>
                <a:lnTo>
                  <a:pt x="1315" y="2338"/>
                </a:lnTo>
                <a:lnTo>
                  <a:pt x="1310" y="2318"/>
                </a:lnTo>
                <a:lnTo>
                  <a:pt x="1287" y="2323"/>
                </a:lnTo>
                <a:lnTo>
                  <a:pt x="1292" y="2302"/>
                </a:lnTo>
                <a:lnTo>
                  <a:pt x="1275" y="2316"/>
                </a:lnTo>
                <a:lnTo>
                  <a:pt x="1182" y="2285"/>
                </a:lnTo>
                <a:lnTo>
                  <a:pt x="1182" y="2279"/>
                </a:lnTo>
                <a:lnTo>
                  <a:pt x="1210" y="2264"/>
                </a:lnTo>
                <a:lnTo>
                  <a:pt x="1222" y="2273"/>
                </a:lnTo>
                <a:lnTo>
                  <a:pt x="1255" y="2275"/>
                </a:lnTo>
                <a:lnTo>
                  <a:pt x="1261" y="2249"/>
                </a:lnTo>
                <a:lnTo>
                  <a:pt x="1295" y="2253"/>
                </a:lnTo>
                <a:lnTo>
                  <a:pt x="1333" y="2244"/>
                </a:lnTo>
                <a:lnTo>
                  <a:pt x="1353" y="2246"/>
                </a:lnTo>
                <a:lnTo>
                  <a:pt x="1359" y="2260"/>
                </a:lnTo>
                <a:lnTo>
                  <a:pt x="1369" y="2249"/>
                </a:lnTo>
                <a:lnTo>
                  <a:pt x="1374" y="2256"/>
                </a:lnTo>
                <a:lnTo>
                  <a:pt x="1371" y="2275"/>
                </a:lnTo>
                <a:lnTo>
                  <a:pt x="1393" y="2299"/>
                </a:lnTo>
                <a:lnTo>
                  <a:pt x="1405" y="2299"/>
                </a:lnTo>
                <a:lnTo>
                  <a:pt x="1403" y="2282"/>
                </a:lnTo>
                <a:lnTo>
                  <a:pt x="1412" y="2270"/>
                </a:lnTo>
                <a:lnTo>
                  <a:pt x="1403" y="2243"/>
                </a:lnTo>
                <a:lnTo>
                  <a:pt x="1416" y="2239"/>
                </a:lnTo>
                <a:lnTo>
                  <a:pt x="1451" y="2208"/>
                </a:lnTo>
                <a:lnTo>
                  <a:pt x="1456" y="2152"/>
                </a:lnTo>
                <a:lnTo>
                  <a:pt x="1449" y="2131"/>
                </a:lnTo>
                <a:lnTo>
                  <a:pt x="1451" y="2108"/>
                </a:lnTo>
                <a:lnTo>
                  <a:pt x="1464" y="2111"/>
                </a:lnTo>
                <a:lnTo>
                  <a:pt x="1472" y="2092"/>
                </a:lnTo>
                <a:lnTo>
                  <a:pt x="1465" y="2089"/>
                </a:lnTo>
                <a:lnTo>
                  <a:pt x="1466" y="2067"/>
                </a:lnTo>
                <a:lnTo>
                  <a:pt x="1452" y="1990"/>
                </a:lnTo>
                <a:lnTo>
                  <a:pt x="1432" y="1951"/>
                </a:lnTo>
                <a:lnTo>
                  <a:pt x="1442" y="1929"/>
                </a:lnTo>
                <a:lnTo>
                  <a:pt x="1436" y="1921"/>
                </a:lnTo>
                <a:lnTo>
                  <a:pt x="1455" y="1886"/>
                </a:lnTo>
                <a:lnTo>
                  <a:pt x="1475" y="1873"/>
                </a:lnTo>
                <a:lnTo>
                  <a:pt x="1489" y="1844"/>
                </a:lnTo>
                <a:lnTo>
                  <a:pt x="1515" y="1830"/>
                </a:lnTo>
                <a:lnTo>
                  <a:pt x="1518" y="1800"/>
                </a:lnTo>
                <a:lnTo>
                  <a:pt x="1530" y="1790"/>
                </a:lnTo>
                <a:lnTo>
                  <a:pt x="1543" y="1788"/>
                </a:lnTo>
                <a:lnTo>
                  <a:pt x="1543" y="1771"/>
                </a:lnTo>
                <a:lnTo>
                  <a:pt x="1554" y="1762"/>
                </a:lnTo>
                <a:lnTo>
                  <a:pt x="1590" y="1762"/>
                </a:lnTo>
                <a:lnTo>
                  <a:pt x="1589" y="1775"/>
                </a:lnTo>
                <a:lnTo>
                  <a:pt x="1602" y="1778"/>
                </a:lnTo>
                <a:lnTo>
                  <a:pt x="1596" y="1787"/>
                </a:lnTo>
                <a:lnTo>
                  <a:pt x="1613" y="1781"/>
                </a:lnTo>
                <a:lnTo>
                  <a:pt x="1626" y="1787"/>
                </a:lnTo>
                <a:lnTo>
                  <a:pt x="1622" y="1801"/>
                </a:lnTo>
                <a:lnTo>
                  <a:pt x="1610" y="1803"/>
                </a:lnTo>
                <a:lnTo>
                  <a:pt x="1607" y="1817"/>
                </a:lnTo>
                <a:lnTo>
                  <a:pt x="1582" y="1844"/>
                </a:lnTo>
                <a:lnTo>
                  <a:pt x="1594" y="1844"/>
                </a:lnTo>
                <a:lnTo>
                  <a:pt x="1603" y="1867"/>
                </a:lnTo>
                <a:lnTo>
                  <a:pt x="1596" y="1878"/>
                </a:lnTo>
                <a:lnTo>
                  <a:pt x="1579" y="1873"/>
                </a:lnTo>
                <a:lnTo>
                  <a:pt x="1571" y="1862"/>
                </a:lnTo>
                <a:lnTo>
                  <a:pt x="1579" y="1852"/>
                </a:lnTo>
                <a:lnTo>
                  <a:pt x="1560" y="1852"/>
                </a:lnTo>
                <a:lnTo>
                  <a:pt x="1556" y="1862"/>
                </a:lnTo>
                <a:lnTo>
                  <a:pt x="1534" y="1876"/>
                </a:lnTo>
                <a:lnTo>
                  <a:pt x="1518" y="1876"/>
                </a:lnTo>
                <a:lnTo>
                  <a:pt x="1515" y="1880"/>
                </a:lnTo>
                <a:lnTo>
                  <a:pt x="1530" y="1889"/>
                </a:lnTo>
                <a:lnTo>
                  <a:pt x="1537" y="1914"/>
                </a:lnTo>
                <a:lnTo>
                  <a:pt x="1566" y="1921"/>
                </a:lnTo>
                <a:lnTo>
                  <a:pt x="1586" y="1899"/>
                </a:lnTo>
                <a:lnTo>
                  <a:pt x="1613" y="1912"/>
                </a:lnTo>
                <a:lnTo>
                  <a:pt x="1632" y="1911"/>
                </a:lnTo>
                <a:lnTo>
                  <a:pt x="1628" y="1942"/>
                </a:lnTo>
                <a:lnTo>
                  <a:pt x="1607" y="1948"/>
                </a:lnTo>
                <a:lnTo>
                  <a:pt x="1619" y="1990"/>
                </a:lnTo>
                <a:lnTo>
                  <a:pt x="1628" y="2004"/>
                </a:lnTo>
                <a:lnTo>
                  <a:pt x="1651" y="1988"/>
                </a:lnTo>
                <a:lnTo>
                  <a:pt x="1652" y="1962"/>
                </a:lnTo>
                <a:lnTo>
                  <a:pt x="1651" y="1945"/>
                </a:lnTo>
                <a:lnTo>
                  <a:pt x="1641" y="1932"/>
                </a:lnTo>
                <a:lnTo>
                  <a:pt x="1641" y="1915"/>
                </a:lnTo>
                <a:lnTo>
                  <a:pt x="1668" y="1876"/>
                </a:lnTo>
                <a:lnTo>
                  <a:pt x="1676" y="1855"/>
                </a:lnTo>
                <a:lnTo>
                  <a:pt x="1691" y="1843"/>
                </a:lnTo>
                <a:lnTo>
                  <a:pt x="1723" y="1852"/>
                </a:lnTo>
                <a:lnTo>
                  <a:pt x="1733" y="1873"/>
                </a:lnTo>
                <a:lnTo>
                  <a:pt x="1724" y="1895"/>
                </a:lnTo>
                <a:lnTo>
                  <a:pt x="1708" y="1893"/>
                </a:lnTo>
                <a:lnTo>
                  <a:pt x="1707" y="1901"/>
                </a:lnTo>
                <a:lnTo>
                  <a:pt x="1737" y="1947"/>
                </a:lnTo>
                <a:lnTo>
                  <a:pt x="1747" y="1949"/>
                </a:lnTo>
                <a:lnTo>
                  <a:pt x="1771" y="1914"/>
                </a:lnTo>
                <a:lnTo>
                  <a:pt x="1770" y="1872"/>
                </a:lnTo>
                <a:lnTo>
                  <a:pt x="1776" y="1849"/>
                </a:lnTo>
                <a:lnTo>
                  <a:pt x="1813" y="1821"/>
                </a:lnTo>
                <a:lnTo>
                  <a:pt x="1841" y="1771"/>
                </a:lnTo>
                <a:lnTo>
                  <a:pt x="1855" y="1761"/>
                </a:lnTo>
                <a:lnTo>
                  <a:pt x="1889" y="1711"/>
                </a:lnTo>
                <a:lnTo>
                  <a:pt x="1892" y="1630"/>
                </a:lnTo>
                <a:lnTo>
                  <a:pt x="1901" y="1600"/>
                </a:lnTo>
                <a:lnTo>
                  <a:pt x="1918" y="1596"/>
                </a:lnTo>
                <a:lnTo>
                  <a:pt x="1914" y="1577"/>
                </a:lnTo>
                <a:lnTo>
                  <a:pt x="1902" y="1560"/>
                </a:lnTo>
                <a:lnTo>
                  <a:pt x="1868" y="1529"/>
                </a:lnTo>
                <a:lnTo>
                  <a:pt x="1859" y="1499"/>
                </a:lnTo>
                <a:lnTo>
                  <a:pt x="1846" y="1485"/>
                </a:lnTo>
                <a:lnTo>
                  <a:pt x="1805" y="1469"/>
                </a:lnTo>
                <a:lnTo>
                  <a:pt x="1771" y="1479"/>
                </a:lnTo>
                <a:lnTo>
                  <a:pt x="1714" y="1482"/>
                </a:lnTo>
                <a:lnTo>
                  <a:pt x="1692" y="1495"/>
                </a:lnTo>
                <a:lnTo>
                  <a:pt x="1656" y="1498"/>
                </a:lnTo>
                <a:lnTo>
                  <a:pt x="1593" y="1488"/>
                </a:lnTo>
                <a:lnTo>
                  <a:pt x="1557" y="1463"/>
                </a:lnTo>
                <a:lnTo>
                  <a:pt x="1530" y="1427"/>
                </a:lnTo>
                <a:lnTo>
                  <a:pt x="1523" y="1396"/>
                </a:lnTo>
                <a:lnTo>
                  <a:pt x="1508" y="1386"/>
                </a:lnTo>
                <a:lnTo>
                  <a:pt x="1511" y="1367"/>
                </a:lnTo>
                <a:lnTo>
                  <a:pt x="1527" y="1360"/>
                </a:lnTo>
                <a:lnTo>
                  <a:pt x="1533" y="1338"/>
                </a:lnTo>
                <a:lnTo>
                  <a:pt x="1531" y="1328"/>
                </a:lnTo>
                <a:lnTo>
                  <a:pt x="1523" y="1321"/>
                </a:lnTo>
                <a:lnTo>
                  <a:pt x="1533" y="1312"/>
                </a:lnTo>
                <a:lnTo>
                  <a:pt x="1524" y="1266"/>
                </a:lnTo>
                <a:lnTo>
                  <a:pt x="1502" y="1263"/>
                </a:lnTo>
                <a:lnTo>
                  <a:pt x="1482" y="1275"/>
                </a:lnTo>
                <a:lnTo>
                  <a:pt x="1466" y="1268"/>
                </a:lnTo>
                <a:lnTo>
                  <a:pt x="1436" y="1288"/>
                </a:lnTo>
                <a:lnTo>
                  <a:pt x="1425" y="1275"/>
                </a:lnTo>
                <a:lnTo>
                  <a:pt x="1432" y="1260"/>
                </a:lnTo>
                <a:lnTo>
                  <a:pt x="1448" y="1249"/>
                </a:lnTo>
                <a:lnTo>
                  <a:pt x="1501" y="1256"/>
                </a:lnTo>
                <a:lnTo>
                  <a:pt x="1515" y="1252"/>
                </a:lnTo>
                <a:lnTo>
                  <a:pt x="1515" y="1239"/>
                </a:lnTo>
                <a:lnTo>
                  <a:pt x="1495" y="1203"/>
                </a:lnTo>
                <a:lnTo>
                  <a:pt x="1481" y="1065"/>
                </a:lnTo>
                <a:lnTo>
                  <a:pt x="1488" y="984"/>
                </a:lnTo>
                <a:lnTo>
                  <a:pt x="1501" y="958"/>
                </a:lnTo>
                <a:lnTo>
                  <a:pt x="1494" y="958"/>
                </a:lnTo>
                <a:lnTo>
                  <a:pt x="1507" y="938"/>
                </a:lnTo>
                <a:lnTo>
                  <a:pt x="1507" y="924"/>
                </a:lnTo>
                <a:lnTo>
                  <a:pt x="1452" y="928"/>
                </a:lnTo>
                <a:lnTo>
                  <a:pt x="1394" y="889"/>
                </a:lnTo>
                <a:lnTo>
                  <a:pt x="1321" y="813"/>
                </a:lnTo>
                <a:lnTo>
                  <a:pt x="1274" y="843"/>
                </a:lnTo>
                <a:lnTo>
                  <a:pt x="1239" y="838"/>
                </a:lnTo>
                <a:lnTo>
                  <a:pt x="1200" y="849"/>
                </a:lnTo>
                <a:lnTo>
                  <a:pt x="1144" y="840"/>
                </a:lnTo>
                <a:lnTo>
                  <a:pt x="1104" y="861"/>
                </a:lnTo>
                <a:lnTo>
                  <a:pt x="1085" y="902"/>
                </a:lnTo>
                <a:lnTo>
                  <a:pt x="1058" y="934"/>
                </a:lnTo>
                <a:lnTo>
                  <a:pt x="1030" y="940"/>
                </a:lnTo>
                <a:lnTo>
                  <a:pt x="1035" y="901"/>
                </a:lnTo>
                <a:lnTo>
                  <a:pt x="987" y="878"/>
                </a:lnTo>
                <a:lnTo>
                  <a:pt x="908" y="881"/>
                </a:lnTo>
                <a:lnTo>
                  <a:pt x="851" y="898"/>
                </a:lnTo>
                <a:lnTo>
                  <a:pt x="842" y="920"/>
                </a:lnTo>
                <a:lnTo>
                  <a:pt x="825" y="930"/>
                </a:lnTo>
                <a:lnTo>
                  <a:pt x="782" y="984"/>
                </a:lnTo>
                <a:lnTo>
                  <a:pt x="771" y="1026"/>
                </a:lnTo>
                <a:lnTo>
                  <a:pt x="795" y="1055"/>
                </a:lnTo>
                <a:lnTo>
                  <a:pt x="797" y="1088"/>
                </a:lnTo>
                <a:lnTo>
                  <a:pt x="769" y="1118"/>
                </a:lnTo>
                <a:lnTo>
                  <a:pt x="779" y="1141"/>
                </a:lnTo>
                <a:lnTo>
                  <a:pt x="776" y="1167"/>
                </a:lnTo>
                <a:lnTo>
                  <a:pt x="810" y="1186"/>
                </a:lnTo>
                <a:lnTo>
                  <a:pt x="795" y="1236"/>
                </a:lnTo>
                <a:lnTo>
                  <a:pt x="761" y="1275"/>
                </a:lnTo>
                <a:lnTo>
                  <a:pt x="773" y="1289"/>
                </a:lnTo>
                <a:lnTo>
                  <a:pt x="843" y="1255"/>
                </a:lnTo>
                <a:lnTo>
                  <a:pt x="851" y="1273"/>
                </a:lnTo>
                <a:lnTo>
                  <a:pt x="862" y="1308"/>
                </a:lnTo>
                <a:lnTo>
                  <a:pt x="836" y="1401"/>
                </a:lnTo>
                <a:lnTo>
                  <a:pt x="849" y="1433"/>
                </a:lnTo>
                <a:lnTo>
                  <a:pt x="889" y="1416"/>
                </a:lnTo>
                <a:lnTo>
                  <a:pt x="888" y="1450"/>
                </a:lnTo>
                <a:lnTo>
                  <a:pt x="872" y="1446"/>
                </a:lnTo>
                <a:lnTo>
                  <a:pt x="843" y="1455"/>
                </a:lnTo>
                <a:lnTo>
                  <a:pt x="812" y="1412"/>
                </a:lnTo>
                <a:lnTo>
                  <a:pt x="818" y="1383"/>
                </a:lnTo>
                <a:lnTo>
                  <a:pt x="829" y="1374"/>
                </a:lnTo>
                <a:lnTo>
                  <a:pt x="832" y="1344"/>
                </a:lnTo>
                <a:lnTo>
                  <a:pt x="766" y="1342"/>
                </a:lnTo>
                <a:lnTo>
                  <a:pt x="756" y="1312"/>
                </a:lnTo>
                <a:lnTo>
                  <a:pt x="737" y="1334"/>
                </a:lnTo>
                <a:lnTo>
                  <a:pt x="733" y="1354"/>
                </a:lnTo>
                <a:lnTo>
                  <a:pt x="718" y="1365"/>
                </a:lnTo>
                <a:lnTo>
                  <a:pt x="694" y="1420"/>
                </a:lnTo>
                <a:lnTo>
                  <a:pt x="681" y="1376"/>
                </a:lnTo>
                <a:lnTo>
                  <a:pt x="694" y="1334"/>
                </a:lnTo>
                <a:lnTo>
                  <a:pt x="769" y="1243"/>
                </a:lnTo>
                <a:lnTo>
                  <a:pt x="734" y="1184"/>
                </a:lnTo>
                <a:lnTo>
                  <a:pt x="731" y="1153"/>
                </a:lnTo>
                <a:lnTo>
                  <a:pt x="687" y="1125"/>
                </a:lnTo>
                <a:lnTo>
                  <a:pt x="677" y="1145"/>
                </a:lnTo>
                <a:lnTo>
                  <a:pt x="638" y="1127"/>
                </a:lnTo>
                <a:lnTo>
                  <a:pt x="573" y="1170"/>
                </a:lnTo>
                <a:lnTo>
                  <a:pt x="543" y="1236"/>
                </a:lnTo>
                <a:lnTo>
                  <a:pt x="576" y="1233"/>
                </a:lnTo>
                <a:lnTo>
                  <a:pt x="571" y="1256"/>
                </a:lnTo>
                <a:lnTo>
                  <a:pt x="534" y="1250"/>
                </a:lnTo>
                <a:lnTo>
                  <a:pt x="475" y="1332"/>
                </a:lnTo>
                <a:lnTo>
                  <a:pt x="448" y="1337"/>
                </a:lnTo>
                <a:lnTo>
                  <a:pt x="462" y="1380"/>
                </a:lnTo>
                <a:lnTo>
                  <a:pt x="494" y="1417"/>
                </a:lnTo>
                <a:lnTo>
                  <a:pt x="472" y="1443"/>
                </a:lnTo>
                <a:lnTo>
                  <a:pt x="465" y="1505"/>
                </a:lnTo>
                <a:lnTo>
                  <a:pt x="412" y="1511"/>
                </a:lnTo>
                <a:lnTo>
                  <a:pt x="396" y="1478"/>
                </a:lnTo>
                <a:lnTo>
                  <a:pt x="373" y="1472"/>
                </a:lnTo>
                <a:lnTo>
                  <a:pt x="392" y="1450"/>
                </a:lnTo>
                <a:lnTo>
                  <a:pt x="370" y="1387"/>
                </a:lnTo>
                <a:lnTo>
                  <a:pt x="356" y="1358"/>
                </a:lnTo>
                <a:lnTo>
                  <a:pt x="386" y="1351"/>
                </a:lnTo>
                <a:lnTo>
                  <a:pt x="396" y="1314"/>
                </a:lnTo>
                <a:lnTo>
                  <a:pt x="416" y="1319"/>
                </a:lnTo>
                <a:lnTo>
                  <a:pt x="422" y="1289"/>
                </a:lnTo>
                <a:lnTo>
                  <a:pt x="409" y="1281"/>
                </a:lnTo>
                <a:lnTo>
                  <a:pt x="389" y="1286"/>
                </a:lnTo>
                <a:lnTo>
                  <a:pt x="389" y="1252"/>
                </a:lnTo>
                <a:lnTo>
                  <a:pt x="377" y="1249"/>
                </a:lnTo>
                <a:lnTo>
                  <a:pt x="333" y="1271"/>
                </a:lnTo>
                <a:lnTo>
                  <a:pt x="307" y="1250"/>
                </a:lnTo>
                <a:lnTo>
                  <a:pt x="284" y="1265"/>
                </a:lnTo>
                <a:lnTo>
                  <a:pt x="274" y="1252"/>
                </a:lnTo>
                <a:lnTo>
                  <a:pt x="307" y="1235"/>
                </a:lnTo>
                <a:lnTo>
                  <a:pt x="337" y="1250"/>
                </a:lnTo>
                <a:lnTo>
                  <a:pt x="348" y="1233"/>
                </a:lnTo>
                <a:lnTo>
                  <a:pt x="340" y="1216"/>
                </a:lnTo>
                <a:lnTo>
                  <a:pt x="314" y="1216"/>
                </a:lnTo>
                <a:lnTo>
                  <a:pt x="331" y="1171"/>
                </a:lnTo>
                <a:lnTo>
                  <a:pt x="317" y="1135"/>
                </a:lnTo>
                <a:lnTo>
                  <a:pt x="366" y="1091"/>
                </a:lnTo>
                <a:lnTo>
                  <a:pt x="392" y="1089"/>
                </a:lnTo>
                <a:lnTo>
                  <a:pt x="425" y="1040"/>
                </a:lnTo>
                <a:lnTo>
                  <a:pt x="441" y="973"/>
                </a:lnTo>
                <a:lnTo>
                  <a:pt x="451" y="961"/>
                </a:lnTo>
                <a:lnTo>
                  <a:pt x="452" y="944"/>
                </a:lnTo>
                <a:lnTo>
                  <a:pt x="524" y="940"/>
                </a:lnTo>
                <a:lnTo>
                  <a:pt x="541" y="918"/>
                </a:lnTo>
                <a:lnTo>
                  <a:pt x="569" y="905"/>
                </a:lnTo>
                <a:lnTo>
                  <a:pt x="551" y="879"/>
                </a:lnTo>
                <a:lnTo>
                  <a:pt x="574" y="884"/>
                </a:lnTo>
                <a:lnTo>
                  <a:pt x="593" y="876"/>
                </a:lnTo>
                <a:lnTo>
                  <a:pt x="607" y="899"/>
                </a:lnTo>
                <a:lnTo>
                  <a:pt x="619" y="899"/>
                </a:lnTo>
                <a:lnTo>
                  <a:pt x="630" y="872"/>
                </a:lnTo>
                <a:lnTo>
                  <a:pt x="648" y="874"/>
                </a:lnTo>
                <a:lnTo>
                  <a:pt x="678" y="856"/>
                </a:lnTo>
                <a:lnTo>
                  <a:pt x="694" y="874"/>
                </a:lnTo>
                <a:lnTo>
                  <a:pt x="705" y="871"/>
                </a:lnTo>
                <a:lnTo>
                  <a:pt x="710" y="851"/>
                </a:lnTo>
                <a:lnTo>
                  <a:pt x="725" y="846"/>
                </a:lnTo>
                <a:lnTo>
                  <a:pt x="754" y="840"/>
                </a:lnTo>
                <a:lnTo>
                  <a:pt x="796" y="882"/>
                </a:lnTo>
                <a:lnTo>
                  <a:pt x="829" y="894"/>
                </a:lnTo>
                <a:lnTo>
                  <a:pt x="961" y="845"/>
                </a:lnTo>
                <a:lnTo>
                  <a:pt x="1042" y="845"/>
                </a:lnTo>
                <a:lnTo>
                  <a:pt x="1074" y="822"/>
                </a:lnTo>
                <a:lnTo>
                  <a:pt x="1068" y="794"/>
                </a:lnTo>
                <a:lnTo>
                  <a:pt x="1102" y="789"/>
                </a:lnTo>
                <a:lnTo>
                  <a:pt x="1094" y="807"/>
                </a:lnTo>
                <a:lnTo>
                  <a:pt x="1117" y="820"/>
                </a:lnTo>
                <a:lnTo>
                  <a:pt x="1153" y="820"/>
                </a:lnTo>
                <a:lnTo>
                  <a:pt x="1177" y="776"/>
                </a:lnTo>
                <a:lnTo>
                  <a:pt x="1265" y="832"/>
                </a:lnTo>
                <a:lnTo>
                  <a:pt x="1314" y="803"/>
                </a:lnTo>
                <a:lnTo>
                  <a:pt x="1330" y="802"/>
                </a:lnTo>
                <a:lnTo>
                  <a:pt x="1461" y="915"/>
                </a:lnTo>
                <a:lnTo>
                  <a:pt x="1525" y="914"/>
                </a:lnTo>
                <a:lnTo>
                  <a:pt x="1556" y="855"/>
                </a:lnTo>
                <a:lnTo>
                  <a:pt x="1551" y="852"/>
                </a:lnTo>
                <a:lnTo>
                  <a:pt x="1559" y="835"/>
                </a:lnTo>
                <a:lnTo>
                  <a:pt x="1563" y="797"/>
                </a:lnTo>
                <a:lnTo>
                  <a:pt x="1576" y="771"/>
                </a:lnTo>
                <a:lnTo>
                  <a:pt x="1571" y="766"/>
                </a:lnTo>
                <a:lnTo>
                  <a:pt x="1606" y="698"/>
                </a:lnTo>
                <a:lnTo>
                  <a:pt x="1672" y="630"/>
                </a:lnTo>
                <a:lnTo>
                  <a:pt x="1672" y="579"/>
                </a:lnTo>
                <a:lnTo>
                  <a:pt x="1662" y="523"/>
                </a:lnTo>
                <a:lnTo>
                  <a:pt x="1664" y="501"/>
                </a:lnTo>
                <a:lnTo>
                  <a:pt x="1658" y="449"/>
                </a:lnTo>
                <a:lnTo>
                  <a:pt x="1664" y="395"/>
                </a:lnTo>
                <a:lnTo>
                  <a:pt x="1676" y="382"/>
                </a:lnTo>
                <a:lnTo>
                  <a:pt x="1674" y="353"/>
                </a:lnTo>
                <a:lnTo>
                  <a:pt x="1649" y="317"/>
                </a:lnTo>
                <a:lnTo>
                  <a:pt x="1649" y="305"/>
                </a:lnTo>
                <a:lnTo>
                  <a:pt x="1610" y="259"/>
                </a:lnTo>
                <a:lnTo>
                  <a:pt x="1597" y="212"/>
                </a:lnTo>
                <a:lnTo>
                  <a:pt x="1599" y="190"/>
                </a:lnTo>
                <a:lnTo>
                  <a:pt x="1619" y="144"/>
                </a:lnTo>
                <a:lnTo>
                  <a:pt x="1676" y="61"/>
                </a:lnTo>
                <a:lnTo>
                  <a:pt x="1704" y="38"/>
                </a:lnTo>
                <a:lnTo>
                  <a:pt x="1746" y="16"/>
                </a:lnTo>
                <a:lnTo>
                  <a:pt x="1712" y="0"/>
                </a:lnTo>
                <a:lnTo>
                  <a:pt x="1675" y="15"/>
                </a:lnTo>
                <a:lnTo>
                  <a:pt x="1527" y="140"/>
                </a:lnTo>
                <a:lnTo>
                  <a:pt x="1459" y="177"/>
                </a:lnTo>
                <a:lnTo>
                  <a:pt x="1383" y="192"/>
                </a:lnTo>
                <a:lnTo>
                  <a:pt x="1297" y="183"/>
                </a:lnTo>
                <a:lnTo>
                  <a:pt x="1255" y="258"/>
                </a:lnTo>
                <a:lnTo>
                  <a:pt x="1189" y="331"/>
                </a:lnTo>
                <a:lnTo>
                  <a:pt x="1176" y="353"/>
                </a:lnTo>
                <a:lnTo>
                  <a:pt x="1163" y="400"/>
                </a:lnTo>
                <a:lnTo>
                  <a:pt x="1061" y="574"/>
                </a:lnTo>
                <a:lnTo>
                  <a:pt x="1006" y="639"/>
                </a:lnTo>
                <a:lnTo>
                  <a:pt x="923" y="697"/>
                </a:lnTo>
                <a:lnTo>
                  <a:pt x="818" y="718"/>
                </a:lnTo>
                <a:lnTo>
                  <a:pt x="728" y="707"/>
                </a:lnTo>
                <a:lnTo>
                  <a:pt x="694" y="687"/>
                </a:lnTo>
                <a:lnTo>
                  <a:pt x="664" y="689"/>
                </a:lnTo>
                <a:lnTo>
                  <a:pt x="592" y="734"/>
                </a:lnTo>
                <a:lnTo>
                  <a:pt x="533" y="750"/>
                </a:lnTo>
                <a:lnTo>
                  <a:pt x="498" y="746"/>
                </a:lnTo>
                <a:lnTo>
                  <a:pt x="439" y="718"/>
                </a:lnTo>
                <a:lnTo>
                  <a:pt x="422" y="724"/>
                </a:lnTo>
                <a:lnTo>
                  <a:pt x="406" y="738"/>
                </a:lnTo>
                <a:lnTo>
                  <a:pt x="399" y="761"/>
                </a:lnTo>
                <a:lnTo>
                  <a:pt x="360" y="806"/>
                </a:lnTo>
                <a:lnTo>
                  <a:pt x="340" y="810"/>
                </a:lnTo>
                <a:lnTo>
                  <a:pt x="308" y="866"/>
                </a:lnTo>
                <a:lnTo>
                  <a:pt x="248" y="941"/>
                </a:lnTo>
                <a:lnTo>
                  <a:pt x="174" y="1086"/>
                </a:lnTo>
                <a:lnTo>
                  <a:pt x="163" y="1143"/>
                </a:lnTo>
                <a:lnTo>
                  <a:pt x="166" y="1206"/>
                </a:lnTo>
                <a:lnTo>
                  <a:pt x="172" y="1212"/>
                </a:lnTo>
                <a:lnTo>
                  <a:pt x="173" y="1202"/>
                </a:lnTo>
                <a:lnTo>
                  <a:pt x="180" y="1197"/>
                </a:lnTo>
                <a:lnTo>
                  <a:pt x="179" y="1180"/>
                </a:lnTo>
                <a:lnTo>
                  <a:pt x="174" y="1174"/>
                </a:lnTo>
                <a:lnTo>
                  <a:pt x="180" y="1148"/>
                </a:lnTo>
                <a:lnTo>
                  <a:pt x="176" y="1137"/>
                </a:lnTo>
                <a:lnTo>
                  <a:pt x="190" y="1135"/>
                </a:lnTo>
                <a:lnTo>
                  <a:pt x="209" y="1150"/>
                </a:lnTo>
                <a:lnTo>
                  <a:pt x="219" y="1166"/>
                </a:lnTo>
                <a:lnTo>
                  <a:pt x="225" y="1209"/>
                </a:lnTo>
                <a:lnTo>
                  <a:pt x="236" y="1223"/>
                </a:lnTo>
                <a:lnTo>
                  <a:pt x="238" y="1236"/>
                </a:lnTo>
                <a:lnTo>
                  <a:pt x="243" y="1239"/>
                </a:lnTo>
                <a:lnTo>
                  <a:pt x="248" y="1256"/>
                </a:lnTo>
                <a:lnTo>
                  <a:pt x="264" y="1263"/>
                </a:lnTo>
                <a:lnTo>
                  <a:pt x="289" y="1275"/>
                </a:lnTo>
                <a:lnTo>
                  <a:pt x="318" y="1307"/>
                </a:lnTo>
                <a:lnTo>
                  <a:pt x="328" y="1304"/>
                </a:lnTo>
                <a:lnTo>
                  <a:pt x="340" y="1355"/>
                </a:lnTo>
                <a:lnTo>
                  <a:pt x="367" y="1399"/>
                </a:lnTo>
                <a:lnTo>
                  <a:pt x="346" y="1419"/>
                </a:lnTo>
                <a:lnTo>
                  <a:pt x="311" y="1397"/>
                </a:lnTo>
                <a:lnTo>
                  <a:pt x="248" y="1376"/>
                </a:lnTo>
                <a:lnTo>
                  <a:pt x="213" y="1381"/>
                </a:lnTo>
                <a:lnTo>
                  <a:pt x="206" y="1403"/>
                </a:lnTo>
                <a:lnTo>
                  <a:pt x="200" y="1404"/>
                </a:lnTo>
                <a:lnTo>
                  <a:pt x="196" y="1370"/>
                </a:lnTo>
                <a:lnTo>
                  <a:pt x="210" y="1361"/>
                </a:lnTo>
                <a:lnTo>
                  <a:pt x="213" y="1353"/>
                </a:lnTo>
                <a:lnTo>
                  <a:pt x="167" y="1337"/>
                </a:lnTo>
                <a:lnTo>
                  <a:pt x="170" y="1319"/>
                </a:lnTo>
                <a:lnTo>
                  <a:pt x="124" y="1299"/>
                </a:lnTo>
                <a:lnTo>
                  <a:pt x="125" y="1294"/>
                </a:lnTo>
                <a:lnTo>
                  <a:pt x="157" y="1279"/>
                </a:lnTo>
                <a:lnTo>
                  <a:pt x="157" y="1269"/>
                </a:lnTo>
                <a:lnTo>
                  <a:pt x="141" y="1271"/>
                </a:lnTo>
                <a:lnTo>
                  <a:pt x="138" y="1266"/>
                </a:lnTo>
                <a:lnTo>
                  <a:pt x="154" y="1233"/>
                </a:lnTo>
                <a:lnTo>
                  <a:pt x="169" y="1232"/>
                </a:lnTo>
                <a:lnTo>
                  <a:pt x="167" y="1225"/>
                </a:lnTo>
                <a:lnTo>
                  <a:pt x="160" y="1217"/>
                </a:lnTo>
                <a:lnTo>
                  <a:pt x="147" y="1223"/>
                </a:lnTo>
                <a:lnTo>
                  <a:pt x="120" y="1278"/>
                </a:lnTo>
                <a:lnTo>
                  <a:pt x="88" y="1406"/>
                </a:lnTo>
                <a:lnTo>
                  <a:pt x="78" y="1473"/>
                </a:lnTo>
                <a:lnTo>
                  <a:pt x="74" y="1811"/>
                </a:lnTo>
                <a:lnTo>
                  <a:pt x="49" y="1952"/>
                </a:lnTo>
                <a:lnTo>
                  <a:pt x="48" y="2060"/>
                </a:lnTo>
                <a:lnTo>
                  <a:pt x="58" y="2059"/>
                </a:lnTo>
                <a:lnTo>
                  <a:pt x="75" y="1948"/>
                </a:lnTo>
                <a:lnTo>
                  <a:pt x="71" y="1921"/>
                </a:lnTo>
                <a:lnTo>
                  <a:pt x="89" y="1937"/>
                </a:lnTo>
                <a:lnTo>
                  <a:pt x="131" y="1947"/>
                </a:lnTo>
                <a:lnTo>
                  <a:pt x="159" y="1997"/>
                </a:lnTo>
                <a:lnTo>
                  <a:pt x="172" y="2008"/>
                </a:lnTo>
                <a:lnTo>
                  <a:pt x="169" y="2029"/>
                </a:lnTo>
                <a:lnTo>
                  <a:pt x="173" y="2059"/>
                </a:lnTo>
                <a:lnTo>
                  <a:pt x="182" y="2080"/>
                </a:lnTo>
                <a:lnTo>
                  <a:pt x="213" y="2124"/>
                </a:lnTo>
                <a:lnTo>
                  <a:pt x="222" y="2142"/>
                </a:lnTo>
                <a:lnTo>
                  <a:pt x="216" y="2165"/>
                </a:lnTo>
                <a:lnTo>
                  <a:pt x="228" y="2175"/>
                </a:lnTo>
                <a:lnTo>
                  <a:pt x="143" y="2252"/>
                </a:lnTo>
                <a:lnTo>
                  <a:pt x="128" y="2250"/>
                </a:lnTo>
                <a:lnTo>
                  <a:pt x="125" y="2264"/>
                </a:lnTo>
                <a:lnTo>
                  <a:pt x="107" y="2262"/>
                </a:lnTo>
                <a:lnTo>
                  <a:pt x="115" y="2239"/>
                </a:lnTo>
                <a:lnTo>
                  <a:pt x="87" y="2237"/>
                </a:lnTo>
                <a:lnTo>
                  <a:pt x="89" y="2223"/>
                </a:lnTo>
                <a:lnTo>
                  <a:pt x="82" y="2213"/>
                </a:lnTo>
                <a:lnTo>
                  <a:pt x="85" y="2201"/>
                </a:lnTo>
                <a:lnTo>
                  <a:pt x="75" y="2172"/>
                </a:lnTo>
                <a:lnTo>
                  <a:pt x="81" y="2168"/>
                </a:lnTo>
                <a:lnTo>
                  <a:pt x="77" y="2128"/>
                </a:lnTo>
                <a:lnTo>
                  <a:pt x="59" y="2067"/>
                </a:lnTo>
                <a:lnTo>
                  <a:pt x="49" y="2069"/>
                </a:lnTo>
                <a:lnTo>
                  <a:pt x="61" y="2132"/>
                </a:lnTo>
                <a:lnTo>
                  <a:pt x="77" y="2348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28760" y="4044960"/>
            <a:ext cx="617400" cy="746280"/>
          </a:xfrm>
          <a:custGeom>
            <a:avLst/>
            <a:gdLst/>
            <a:ahLst/>
            <a:rect l="l" t="t" r="r" b="b"/>
            <a:pathLst>
              <a:path w="1167" h="1410">
                <a:moveTo>
                  <a:pt x="626" y="513"/>
                </a:moveTo>
                <a:lnTo>
                  <a:pt x="646" y="496"/>
                </a:lnTo>
                <a:lnTo>
                  <a:pt x="656" y="467"/>
                </a:lnTo>
                <a:lnTo>
                  <a:pt x="669" y="457"/>
                </a:lnTo>
                <a:lnTo>
                  <a:pt x="658" y="457"/>
                </a:lnTo>
                <a:lnTo>
                  <a:pt x="652" y="437"/>
                </a:lnTo>
                <a:lnTo>
                  <a:pt x="664" y="385"/>
                </a:lnTo>
                <a:lnTo>
                  <a:pt x="671" y="380"/>
                </a:lnTo>
                <a:lnTo>
                  <a:pt x="671" y="370"/>
                </a:lnTo>
                <a:lnTo>
                  <a:pt x="691" y="358"/>
                </a:lnTo>
                <a:lnTo>
                  <a:pt x="708" y="360"/>
                </a:lnTo>
                <a:lnTo>
                  <a:pt x="724" y="326"/>
                </a:lnTo>
                <a:lnTo>
                  <a:pt x="723" y="311"/>
                </a:lnTo>
                <a:lnTo>
                  <a:pt x="707" y="298"/>
                </a:lnTo>
                <a:lnTo>
                  <a:pt x="704" y="270"/>
                </a:lnTo>
                <a:lnTo>
                  <a:pt x="688" y="240"/>
                </a:lnTo>
                <a:lnTo>
                  <a:pt x="690" y="220"/>
                </a:lnTo>
                <a:lnTo>
                  <a:pt x="726" y="224"/>
                </a:lnTo>
                <a:lnTo>
                  <a:pt x="737" y="243"/>
                </a:lnTo>
                <a:lnTo>
                  <a:pt x="754" y="243"/>
                </a:lnTo>
                <a:lnTo>
                  <a:pt x="751" y="256"/>
                </a:lnTo>
                <a:lnTo>
                  <a:pt x="769" y="270"/>
                </a:lnTo>
                <a:lnTo>
                  <a:pt x="756" y="301"/>
                </a:lnTo>
                <a:lnTo>
                  <a:pt x="757" y="324"/>
                </a:lnTo>
                <a:lnTo>
                  <a:pt x="774" y="335"/>
                </a:lnTo>
                <a:lnTo>
                  <a:pt x="782" y="372"/>
                </a:lnTo>
                <a:lnTo>
                  <a:pt x="789" y="383"/>
                </a:lnTo>
                <a:lnTo>
                  <a:pt x="786" y="394"/>
                </a:lnTo>
                <a:lnTo>
                  <a:pt x="795" y="400"/>
                </a:lnTo>
                <a:lnTo>
                  <a:pt x="793" y="414"/>
                </a:lnTo>
                <a:lnTo>
                  <a:pt x="800" y="439"/>
                </a:lnTo>
                <a:lnTo>
                  <a:pt x="796" y="449"/>
                </a:lnTo>
                <a:lnTo>
                  <a:pt x="802" y="456"/>
                </a:lnTo>
                <a:lnTo>
                  <a:pt x="800" y="476"/>
                </a:lnTo>
                <a:lnTo>
                  <a:pt x="780" y="482"/>
                </a:lnTo>
                <a:lnTo>
                  <a:pt x="772" y="493"/>
                </a:lnTo>
                <a:lnTo>
                  <a:pt x="764" y="477"/>
                </a:lnTo>
                <a:lnTo>
                  <a:pt x="757" y="480"/>
                </a:lnTo>
                <a:lnTo>
                  <a:pt x="753" y="541"/>
                </a:lnTo>
                <a:lnTo>
                  <a:pt x="763" y="545"/>
                </a:lnTo>
                <a:lnTo>
                  <a:pt x="763" y="561"/>
                </a:lnTo>
                <a:lnTo>
                  <a:pt x="795" y="555"/>
                </a:lnTo>
                <a:lnTo>
                  <a:pt x="792" y="575"/>
                </a:lnTo>
                <a:lnTo>
                  <a:pt x="808" y="578"/>
                </a:lnTo>
                <a:lnTo>
                  <a:pt x="813" y="561"/>
                </a:lnTo>
                <a:lnTo>
                  <a:pt x="802" y="551"/>
                </a:lnTo>
                <a:lnTo>
                  <a:pt x="805" y="532"/>
                </a:lnTo>
                <a:lnTo>
                  <a:pt x="812" y="538"/>
                </a:lnTo>
                <a:lnTo>
                  <a:pt x="826" y="508"/>
                </a:lnTo>
                <a:lnTo>
                  <a:pt x="819" y="503"/>
                </a:lnTo>
                <a:lnTo>
                  <a:pt x="832" y="486"/>
                </a:lnTo>
                <a:lnTo>
                  <a:pt x="816" y="469"/>
                </a:lnTo>
                <a:lnTo>
                  <a:pt x="819" y="453"/>
                </a:lnTo>
                <a:lnTo>
                  <a:pt x="810" y="439"/>
                </a:lnTo>
                <a:lnTo>
                  <a:pt x="812" y="426"/>
                </a:lnTo>
                <a:lnTo>
                  <a:pt x="819" y="424"/>
                </a:lnTo>
                <a:lnTo>
                  <a:pt x="808" y="413"/>
                </a:lnTo>
                <a:lnTo>
                  <a:pt x="810" y="397"/>
                </a:lnTo>
                <a:lnTo>
                  <a:pt x="800" y="364"/>
                </a:lnTo>
                <a:lnTo>
                  <a:pt x="787" y="347"/>
                </a:lnTo>
                <a:lnTo>
                  <a:pt x="787" y="328"/>
                </a:lnTo>
                <a:lnTo>
                  <a:pt x="796" y="325"/>
                </a:lnTo>
                <a:lnTo>
                  <a:pt x="799" y="302"/>
                </a:lnTo>
                <a:lnTo>
                  <a:pt x="789" y="295"/>
                </a:lnTo>
                <a:lnTo>
                  <a:pt x="782" y="242"/>
                </a:lnTo>
                <a:lnTo>
                  <a:pt x="767" y="213"/>
                </a:lnTo>
                <a:lnTo>
                  <a:pt x="764" y="194"/>
                </a:lnTo>
                <a:lnTo>
                  <a:pt x="750" y="193"/>
                </a:lnTo>
                <a:lnTo>
                  <a:pt x="753" y="177"/>
                </a:lnTo>
                <a:lnTo>
                  <a:pt x="734" y="180"/>
                </a:lnTo>
                <a:lnTo>
                  <a:pt x="711" y="197"/>
                </a:lnTo>
                <a:lnTo>
                  <a:pt x="681" y="208"/>
                </a:lnTo>
                <a:lnTo>
                  <a:pt x="658" y="206"/>
                </a:lnTo>
                <a:lnTo>
                  <a:pt x="649" y="181"/>
                </a:lnTo>
                <a:lnTo>
                  <a:pt x="655" y="167"/>
                </a:lnTo>
                <a:lnTo>
                  <a:pt x="691" y="145"/>
                </a:lnTo>
                <a:lnTo>
                  <a:pt x="710" y="150"/>
                </a:lnTo>
                <a:lnTo>
                  <a:pt x="744" y="119"/>
                </a:lnTo>
                <a:lnTo>
                  <a:pt x="757" y="118"/>
                </a:lnTo>
                <a:lnTo>
                  <a:pt x="796" y="79"/>
                </a:lnTo>
                <a:lnTo>
                  <a:pt x="865" y="26"/>
                </a:lnTo>
                <a:lnTo>
                  <a:pt x="951" y="0"/>
                </a:lnTo>
                <a:lnTo>
                  <a:pt x="987" y="14"/>
                </a:lnTo>
                <a:lnTo>
                  <a:pt x="997" y="26"/>
                </a:lnTo>
                <a:lnTo>
                  <a:pt x="1031" y="40"/>
                </a:lnTo>
                <a:lnTo>
                  <a:pt x="1085" y="43"/>
                </a:lnTo>
                <a:lnTo>
                  <a:pt x="1118" y="63"/>
                </a:lnTo>
                <a:lnTo>
                  <a:pt x="1167" y="109"/>
                </a:lnTo>
                <a:lnTo>
                  <a:pt x="1159" y="116"/>
                </a:lnTo>
                <a:lnTo>
                  <a:pt x="1151" y="138"/>
                </a:lnTo>
                <a:lnTo>
                  <a:pt x="1123" y="160"/>
                </a:lnTo>
                <a:lnTo>
                  <a:pt x="1101" y="221"/>
                </a:lnTo>
                <a:lnTo>
                  <a:pt x="1095" y="255"/>
                </a:lnTo>
                <a:lnTo>
                  <a:pt x="1131" y="332"/>
                </a:lnTo>
                <a:lnTo>
                  <a:pt x="1137" y="372"/>
                </a:lnTo>
                <a:lnTo>
                  <a:pt x="1153" y="410"/>
                </a:lnTo>
                <a:lnTo>
                  <a:pt x="1154" y="449"/>
                </a:lnTo>
                <a:lnTo>
                  <a:pt x="1143" y="479"/>
                </a:lnTo>
                <a:lnTo>
                  <a:pt x="1150" y="486"/>
                </a:lnTo>
                <a:lnTo>
                  <a:pt x="1149" y="498"/>
                </a:lnTo>
                <a:lnTo>
                  <a:pt x="1159" y="495"/>
                </a:lnTo>
                <a:lnTo>
                  <a:pt x="1159" y="505"/>
                </a:lnTo>
                <a:lnTo>
                  <a:pt x="1154" y="508"/>
                </a:lnTo>
                <a:lnTo>
                  <a:pt x="1159" y="518"/>
                </a:lnTo>
                <a:lnTo>
                  <a:pt x="1105" y="588"/>
                </a:lnTo>
                <a:lnTo>
                  <a:pt x="1098" y="588"/>
                </a:lnTo>
                <a:lnTo>
                  <a:pt x="1097" y="598"/>
                </a:lnTo>
                <a:lnTo>
                  <a:pt x="1085" y="597"/>
                </a:lnTo>
                <a:lnTo>
                  <a:pt x="1078" y="634"/>
                </a:lnTo>
                <a:lnTo>
                  <a:pt x="1049" y="633"/>
                </a:lnTo>
                <a:lnTo>
                  <a:pt x="1042" y="621"/>
                </a:lnTo>
                <a:lnTo>
                  <a:pt x="1023" y="621"/>
                </a:lnTo>
                <a:lnTo>
                  <a:pt x="1006" y="624"/>
                </a:lnTo>
                <a:lnTo>
                  <a:pt x="923" y="702"/>
                </a:lnTo>
                <a:lnTo>
                  <a:pt x="892" y="759"/>
                </a:lnTo>
                <a:lnTo>
                  <a:pt x="881" y="826"/>
                </a:lnTo>
                <a:lnTo>
                  <a:pt x="897" y="850"/>
                </a:lnTo>
                <a:lnTo>
                  <a:pt x="949" y="877"/>
                </a:lnTo>
                <a:lnTo>
                  <a:pt x="972" y="880"/>
                </a:lnTo>
                <a:lnTo>
                  <a:pt x="995" y="883"/>
                </a:lnTo>
                <a:lnTo>
                  <a:pt x="1048" y="932"/>
                </a:lnTo>
                <a:lnTo>
                  <a:pt x="1059" y="965"/>
                </a:lnTo>
                <a:lnTo>
                  <a:pt x="1059" y="1018"/>
                </a:lnTo>
                <a:lnTo>
                  <a:pt x="1025" y="1056"/>
                </a:lnTo>
                <a:lnTo>
                  <a:pt x="1003" y="1060"/>
                </a:lnTo>
                <a:lnTo>
                  <a:pt x="993" y="1083"/>
                </a:lnTo>
                <a:lnTo>
                  <a:pt x="938" y="1073"/>
                </a:lnTo>
                <a:lnTo>
                  <a:pt x="865" y="1109"/>
                </a:lnTo>
                <a:lnTo>
                  <a:pt x="833" y="1151"/>
                </a:lnTo>
                <a:lnTo>
                  <a:pt x="828" y="1201"/>
                </a:lnTo>
                <a:lnTo>
                  <a:pt x="813" y="1200"/>
                </a:lnTo>
                <a:lnTo>
                  <a:pt x="822" y="1158"/>
                </a:lnTo>
                <a:lnTo>
                  <a:pt x="797" y="1162"/>
                </a:lnTo>
                <a:lnTo>
                  <a:pt x="777" y="1177"/>
                </a:lnTo>
                <a:lnTo>
                  <a:pt x="770" y="1192"/>
                </a:lnTo>
                <a:lnTo>
                  <a:pt x="787" y="1204"/>
                </a:lnTo>
                <a:lnTo>
                  <a:pt x="785" y="1223"/>
                </a:lnTo>
                <a:lnTo>
                  <a:pt x="800" y="1225"/>
                </a:lnTo>
                <a:lnTo>
                  <a:pt x="805" y="1214"/>
                </a:lnTo>
                <a:lnTo>
                  <a:pt x="816" y="1211"/>
                </a:lnTo>
                <a:lnTo>
                  <a:pt x="819" y="1225"/>
                </a:lnTo>
                <a:lnTo>
                  <a:pt x="841" y="1220"/>
                </a:lnTo>
                <a:lnTo>
                  <a:pt x="846" y="1208"/>
                </a:lnTo>
                <a:lnTo>
                  <a:pt x="869" y="1220"/>
                </a:lnTo>
                <a:lnTo>
                  <a:pt x="868" y="1276"/>
                </a:lnTo>
                <a:lnTo>
                  <a:pt x="842" y="1282"/>
                </a:lnTo>
                <a:lnTo>
                  <a:pt x="842" y="1313"/>
                </a:lnTo>
                <a:lnTo>
                  <a:pt x="851" y="1313"/>
                </a:lnTo>
                <a:lnTo>
                  <a:pt x="846" y="1328"/>
                </a:lnTo>
                <a:lnTo>
                  <a:pt x="867" y="1366"/>
                </a:lnTo>
                <a:lnTo>
                  <a:pt x="884" y="1362"/>
                </a:lnTo>
                <a:lnTo>
                  <a:pt x="872" y="1375"/>
                </a:lnTo>
                <a:lnTo>
                  <a:pt x="839" y="1374"/>
                </a:lnTo>
                <a:lnTo>
                  <a:pt x="809" y="1404"/>
                </a:lnTo>
                <a:lnTo>
                  <a:pt x="789" y="1410"/>
                </a:lnTo>
                <a:lnTo>
                  <a:pt x="750" y="1398"/>
                </a:lnTo>
                <a:lnTo>
                  <a:pt x="723" y="1362"/>
                </a:lnTo>
                <a:lnTo>
                  <a:pt x="708" y="1356"/>
                </a:lnTo>
                <a:lnTo>
                  <a:pt x="700" y="1365"/>
                </a:lnTo>
                <a:lnTo>
                  <a:pt x="682" y="1361"/>
                </a:lnTo>
                <a:lnTo>
                  <a:pt x="644" y="1316"/>
                </a:lnTo>
                <a:lnTo>
                  <a:pt x="623" y="1264"/>
                </a:lnTo>
                <a:lnTo>
                  <a:pt x="600" y="1248"/>
                </a:lnTo>
                <a:lnTo>
                  <a:pt x="600" y="1267"/>
                </a:lnTo>
                <a:lnTo>
                  <a:pt x="589" y="1263"/>
                </a:lnTo>
                <a:lnTo>
                  <a:pt x="589" y="1241"/>
                </a:lnTo>
                <a:lnTo>
                  <a:pt x="577" y="1241"/>
                </a:lnTo>
                <a:lnTo>
                  <a:pt x="563" y="1215"/>
                </a:lnTo>
                <a:lnTo>
                  <a:pt x="566" y="1205"/>
                </a:lnTo>
                <a:lnTo>
                  <a:pt x="593" y="1207"/>
                </a:lnTo>
                <a:lnTo>
                  <a:pt x="606" y="1189"/>
                </a:lnTo>
                <a:lnTo>
                  <a:pt x="626" y="1191"/>
                </a:lnTo>
                <a:lnTo>
                  <a:pt x="629" y="1169"/>
                </a:lnTo>
                <a:lnTo>
                  <a:pt x="619" y="1162"/>
                </a:lnTo>
                <a:lnTo>
                  <a:pt x="610" y="1171"/>
                </a:lnTo>
                <a:lnTo>
                  <a:pt x="608" y="1158"/>
                </a:lnTo>
                <a:lnTo>
                  <a:pt x="562" y="1162"/>
                </a:lnTo>
                <a:lnTo>
                  <a:pt x="564" y="1146"/>
                </a:lnTo>
                <a:lnTo>
                  <a:pt x="583" y="1132"/>
                </a:lnTo>
                <a:lnTo>
                  <a:pt x="572" y="1128"/>
                </a:lnTo>
                <a:lnTo>
                  <a:pt x="582" y="1110"/>
                </a:lnTo>
                <a:lnTo>
                  <a:pt x="550" y="1105"/>
                </a:lnTo>
                <a:lnTo>
                  <a:pt x="508" y="1143"/>
                </a:lnTo>
                <a:lnTo>
                  <a:pt x="449" y="1130"/>
                </a:lnTo>
                <a:lnTo>
                  <a:pt x="428" y="1119"/>
                </a:lnTo>
                <a:lnTo>
                  <a:pt x="416" y="1120"/>
                </a:lnTo>
                <a:lnTo>
                  <a:pt x="413" y="1113"/>
                </a:lnTo>
                <a:lnTo>
                  <a:pt x="400" y="1112"/>
                </a:lnTo>
                <a:lnTo>
                  <a:pt x="402" y="1105"/>
                </a:lnTo>
                <a:lnTo>
                  <a:pt x="382" y="1092"/>
                </a:lnTo>
                <a:lnTo>
                  <a:pt x="370" y="1107"/>
                </a:lnTo>
                <a:lnTo>
                  <a:pt x="356" y="1107"/>
                </a:lnTo>
                <a:lnTo>
                  <a:pt x="337" y="1122"/>
                </a:lnTo>
                <a:lnTo>
                  <a:pt x="326" y="1109"/>
                </a:lnTo>
                <a:lnTo>
                  <a:pt x="315" y="1120"/>
                </a:lnTo>
                <a:lnTo>
                  <a:pt x="308" y="1110"/>
                </a:lnTo>
                <a:lnTo>
                  <a:pt x="301" y="1110"/>
                </a:lnTo>
                <a:lnTo>
                  <a:pt x="281" y="1135"/>
                </a:lnTo>
                <a:lnTo>
                  <a:pt x="275" y="1125"/>
                </a:lnTo>
                <a:lnTo>
                  <a:pt x="257" y="1122"/>
                </a:lnTo>
                <a:lnTo>
                  <a:pt x="246" y="1107"/>
                </a:lnTo>
                <a:lnTo>
                  <a:pt x="248" y="1021"/>
                </a:lnTo>
                <a:lnTo>
                  <a:pt x="176" y="974"/>
                </a:lnTo>
                <a:lnTo>
                  <a:pt x="179" y="956"/>
                </a:lnTo>
                <a:lnTo>
                  <a:pt x="149" y="944"/>
                </a:lnTo>
                <a:lnTo>
                  <a:pt x="166" y="916"/>
                </a:lnTo>
                <a:lnTo>
                  <a:pt x="172" y="923"/>
                </a:lnTo>
                <a:lnTo>
                  <a:pt x="190" y="925"/>
                </a:lnTo>
                <a:lnTo>
                  <a:pt x="229" y="908"/>
                </a:lnTo>
                <a:lnTo>
                  <a:pt x="244" y="893"/>
                </a:lnTo>
                <a:lnTo>
                  <a:pt x="223" y="863"/>
                </a:lnTo>
                <a:lnTo>
                  <a:pt x="232" y="828"/>
                </a:lnTo>
                <a:lnTo>
                  <a:pt x="216" y="798"/>
                </a:lnTo>
                <a:lnTo>
                  <a:pt x="210" y="767"/>
                </a:lnTo>
                <a:lnTo>
                  <a:pt x="176" y="726"/>
                </a:lnTo>
                <a:lnTo>
                  <a:pt x="170" y="731"/>
                </a:lnTo>
                <a:lnTo>
                  <a:pt x="173" y="741"/>
                </a:lnTo>
                <a:lnTo>
                  <a:pt x="156" y="752"/>
                </a:lnTo>
                <a:lnTo>
                  <a:pt x="144" y="745"/>
                </a:lnTo>
                <a:lnTo>
                  <a:pt x="151" y="723"/>
                </a:lnTo>
                <a:lnTo>
                  <a:pt x="190" y="719"/>
                </a:lnTo>
                <a:lnTo>
                  <a:pt x="199" y="698"/>
                </a:lnTo>
                <a:lnTo>
                  <a:pt x="196" y="667"/>
                </a:lnTo>
                <a:lnTo>
                  <a:pt x="174" y="620"/>
                </a:lnTo>
                <a:lnTo>
                  <a:pt x="107" y="571"/>
                </a:lnTo>
                <a:lnTo>
                  <a:pt x="46" y="555"/>
                </a:lnTo>
                <a:lnTo>
                  <a:pt x="38" y="547"/>
                </a:lnTo>
                <a:lnTo>
                  <a:pt x="42" y="535"/>
                </a:lnTo>
                <a:lnTo>
                  <a:pt x="64" y="545"/>
                </a:lnTo>
                <a:lnTo>
                  <a:pt x="91" y="547"/>
                </a:lnTo>
                <a:lnTo>
                  <a:pt x="151" y="564"/>
                </a:lnTo>
                <a:lnTo>
                  <a:pt x="159" y="555"/>
                </a:lnTo>
                <a:lnTo>
                  <a:pt x="157" y="544"/>
                </a:lnTo>
                <a:lnTo>
                  <a:pt x="140" y="535"/>
                </a:lnTo>
                <a:lnTo>
                  <a:pt x="144" y="549"/>
                </a:lnTo>
                <a:lnTo>
                  <a:pt x="139" y="549"/>
                </a:lnTo>
                <a:lnTo>
                  <a:pt x="130" y="532"/>
                </a:lnTo>
                <a:lnTo>
                  <a:pt x="107" y="515"/>
                </a:lnTo>
                <a:lnTo>
                  <a:pt x="84" y="479"/>
                </a:lnTo>
                <a:lnTo>
                  <a:pt x="74" y="472"/>
                </a:lnTo>
                <a:lnTo>
                  <a:pt x="31" y="470"/>
                </a:lnTo>
                <a:lnTo>
                  <a:pt x="9" y="462"/>
                </a:lnTo>
                <a:lnTo>
                  <a:pt x="0" y="450"/>
                </a:lnTo>
                <a:lnTo>
                  <a:pt x="55" y="443"/>
                </a:lnTo>
                <a:lnTo>
                  <a:pt x="116" y="466"/>
                </a:lnTo>
                <a:lnTo>
                  <a:pt x="146" y="462"/>
                </a:lnTo>
                <a:lnTo>
                  <a:pt x="173" y="442"/>
                </a:lnTo>
                <a:lnTo>
                  <a:pt x="203" y="437"/>
                </a:lnTo>
                <a:lnTo>
                  <a:pt x="216" y="463"/>
                </a:lnTo>
                <a:lnTo>
                  <a:pt x="233" y="459"/>
                </a:lnTo>
                <a:lnTo>
                  <a:pt x="231" y="449"/>
                </a:lnTo>
                <a:lnTo>
                  <a:pt x="236" y="447"/>
                </a:lnTo>
                <a:lnTo>
                  <a:pt x="261" y="467"/>
                </a:lnTo>
                <a:lnTo>
                  <a:pt x="280" y="454"/>
                </a:lnTo>
                <a:lnTo>
                  <a:pt x="281" y="436"/>
                </a:lnTo>
                <a:lnTo>
                  <a:pt x="290" y="436"/>
                </a:lnTo>
                <a:lnTo>
                  <a:pt x="291" y="450"/>
                </a:lnTo>
                <a:lnTo>
                  <a:pt x="295" y="439"/>
                </a:lnTo>
                <a:lnTo>
                  <a:pt x="320" y="434"/>
                </a:lnTo>
                <a:lnTo>
                  <a:pt x="337" y="418"/>
                </a:lnTo>
                <a:lnTo>
                  <a:pt x="344" y="398"/>
                </a:lnTo>
                <a:lnTo>
                  <a:pt x="346" y="354"/>
                </a:lnTo>
                <a:lnTo>
                  <a:pt x="340" y="334"/>
                </a:lnTo>
                <a:lnTo>
                  <a:pt x="331" y="326"/>
                </a:lnTo>
                <a:lnTo>
                  <a:pt x="339" y="325"/>
                </a:lnTo>
                <a:lnTo>
                  <a:pt x="357" y="342"/>
                </a:lnTo>
                <a:lnTo>
                  <a:pt x="389" y="322"/>
                </a:lnTo>
                <a:lnTo>
                  <a:pt x="418" y="325"/>
                </a:lnTo>
                <a:lnTo>
                  <a:pt x="428" y="319"/>
                </a:lnTo>
                <a:lnTo>
                  <a:pt x="446" y="292"/>
                </a:lnTo>
                <a:lnTo>
                  <a:pt x="442" y="233"/>
                </a:lnTo>
                <a:lnTo>
                  <a:pt x="425" y="214"/>
                </a:lnTo>
                <a:lnTo>
                  <a:pt x="408" y="204"/>
                </a:lnTo>
                <a:lnTo>
                  <a:pt x="344" y="194"/>
                </a:lnTo>
                <a:lnTo>
                  <a:pt x="288" y="158"/>
                </a:lnTo>
                <a:lnTo>
                  <a:pt x="287" y="144"/>
                </a:lnTo>
                <a:lnTo>
                  <a:pt x="295" y="144"/>
                </a:lnTo>
                <a:lnTo>
                  <a:pt x="349" y="178"/>
                </a:lnTo>
                <a:lnTo>
                  <a:pt x="416" y="188"/>
                </a:lnTo>
                <a:lnTo>
                  <a:pt x="441" y="197"/>
                </a:lnTo>
                <a:lnTo>
                  <a:pt x="484" y="184"/>
                </a:lnTo>
                <a:lnTo>
                  <a:pt x="497" y="204"/>
                </a:lnTo>
                <a:lnTo>
                  <a:pt x="514" y="214"/>
                </a:lnTo>
                <a:lnTo>
                  <a:pt x="562" y="200"/>
                </a:lnTo>
                <a:lnTo>
                  <a:pt x="587" y="175"/>
                </a:lnTo>
                <a:lnTo>
                  <a:pt x="608" y="167"/>
                </a:lnTo>
                <a:lnTo>
                  <a:pt x="615" y="200"/>
                </a:lnTo>
                <a:lnTo>
                  <a:pt x="606" y="196"/>
                </a:lnTo>
                <a:lnTo>
                  <a:pt x="590" y="210"/>
                </a:lnTo>
                <a:lnTo>
                  <a:pt x="587" y="256"/>
                </a:lnTo>
                <a:lnTo>
                  <a:pt x="567" y="259"/>
                </a:lnTo>
                <a:lnTo>
                  <a:pt x="560" y="246"/>
                </a:lnTo>
                <a:lnTo>
                  <a:pt x="537" y="236"/>
                </a:lnTo>
                <a:lnTo>
                  <a:pt x="536" y="282"/>
                </a:lnTo>
                <a:lnTo>
                  <a:pt x="576" y="332"/>
                </a:lnTo>
                <a:lnTo>
                  <a:pt x="577" y="358"/>
                </a:lnTo>
                <a:lnTo>
                  <a:pt x="567" y="372"/>
                </a:lnTo>
                <a:lnTo>
                  <a:pt x="547" y="360"/>
                </a:lnTo>
                <a:lnTo>
                  <a:pt x="531" y="358"/>
                </a:lnTo>
                <a:lnTo>
                  <a:pt x="521" y="387"/>
                </a:lnTo>
                <a:lnTo>
                  <a:pt x="497" y="401"/>
                </a:lnTo>
                <a:lnTo>
                  <a:pt x="510" y="411"/>
                </a:lnTo>
                <a:lnTo>
                  <a:pt x="526" y="413"/>
                </a:lnTo>
                <a:lnTo>
                  <a:pt x="576" y="388"/>
                </a:lnTo>
                <a:lnTo>
                  <a:pt x="593" y="418"/>
                </a:lnTo>
                <a:lnTo>
                  <a:pt x="586" y="426"/>
                </a:lnTo>
                <a:lnTo>
                  <a:pt x="602" y="447"/>
                </a:lnTo>
                <a:lnTo>
                  <a:pt x="569" y="459"/>
                </a:lnTo>
                <a:lnTo>
                  <a:pt x="531" y="460"/>
                </a:lnTo>
                <a:lnTo>
                  <a:pt x="523" y="472"/>
                </a:lnTo>
                <a:lnTo>
                  <a:pt x="533" y="480"/>
                </a:lnTo>
                <a:lnTo>
                  <a:pt x="599" y="477"/>
                </a:lnTo>
                <a:lnTo>
                  <a:pt x="606" y="470"/>
                </a:lnTo>
                <a:lnTo>
                  <a:pt x="615" y="483"/>
                </a:lnTo>
                <a:lnTo>
                  <a:pt x="616" y="500"/>
                </a:lnTo>
                <a:lnTo>
                  <a:pt x="626" y="513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4356000"/>
            <a:ext cx="414360" cy="385920"/>
          </a:xfrm>
          <a:custGeom>
            <a:avLst/>
            <a:gdLst/>
            <a:ahLst/>
            <a:rect l="l" t="t" r="r" b="b"/>
            <a:pathLst>
              <a:path w="782" h="729">
                <a:moveTo>
                  <a:pt x="0" y="132"/>
                </a:moveTo>
                <a:lnTo>
                  <a:pt x="0" y="118"/>
                </a:lnTo>
                <a:lnTo>
                  <a:pt x="45" y="132"/>
                </a:lnTo>
                <a:lnTo>
                  <a:pt x="61" y="102"/>
                </a:lnTo>
                <a:lnTo>
                  <a:pt x="58" y="83"/>
                </a:lnTo>
                <a:lnTo>
                  <a:pt x="75" y="83"/>
                </a:lnTo>
                <a:lnTo>
                  <a:pt x="89" y="76"/>
                </a:lnTo>
                <a:lnTo>
                  <a:pt x="117" y="80"/>
                </a:lnTo>
                <a:lnTo>
                  <a:pt x="120" y="111"/>
                </a:lnTo>
                <a:lnTo>
                  <a:pt x="127" y="122"/>
                </a:lnTo>
                <a:lnTo>
                  <a:pt x="148" y="129"/>
                </a:lnTo>
                <a:lnTo>
                  <a:pt x="180" y="128"/>
                </a:lnTo>
                <a:lnTo>
                  <a:pt x="249" y="75"/>
                </a:lnTo>
                <a:lnTo>
                  <a:pt x="272" y="70"/>
                </a:lnTo>
                <a:lnTo>
                  <a:pt x="282" y="59"/>
                </a:lnTo>
                <a:lnTo>
                  <a:pt x="350" y="40"/>
                </a:lnTo>
                <a:lnTo>
                  <a:pt x="346" y="31"/>
                </a:lnTo>
                <a:lnTo>
                  <a:pt x="356" y="34"/>
                </a:lnTo>
                <a:lnTo>
                  <a:pt x="363" y="26"/>
                </a:lnTo>
                <a:lnTo>
                  <a:pt x="409" y="20"/>
                </a:lnTo>
                <a:lnTo>
                  <a:pt x="409" y="49"/>
                </a:lnTo>
                <a:lnTo>
                  <a:pt x="435" y="40"/>
                </a:lnTo>
                <a:lnTo>
                  <a:pt x="428" y="31"/>
                </a:lnTo>
                <a:lnTo>
                  <a:pt x="425" y="11"/>
                </a:lnTo>
                <a:lnTo>
                  <a:pt x="418" y="1"/>
                </a:lnTo>
                <a:lnTo>
                  <a:pt x="436" y="0"/>
                </a:lnTo>
                <a:lnTo>
                  <a:pt x="500" y="42"/>
                </a:lnTo>
                <a:lnTo>
                  <a:pt x="527" y="73"/>
                </a:lnTo>
                <a:lnTo>
                  <a:pt x="551" y="92"/>
                </a:lnTo>
                <a:lnTo>
                  <a:pt x="547" y="105"/>
                </a:lnTo>
                <a:lnTo>
                  <a:pt x="553" y="113"/>
                </a:lnTo>
                <a:lnTo>
                  <a:pt x="543" y="111"/>
                </a:lnTo>
                <a:lnTo>
                  <a:pt x="538" y="116"/>
                </a:lnTo>
                <a:lnTo>
                  <a:pt x="556" y="152"/>
                </a:lnTo>
                <a:lnTo>
                  <a:pt x="544" y="157"/>
                </a:lnTo>
                <a:lnTo>
                  <a:pt x="541" y="168"/>
                </a:lnTo>
                <a:lnTo>
                  <a:pt x="527" y="165"/>
                </a:lnTo>
                <a:lnTo>
                  <a:pt x="525" y="175"/>
                </a:lnTo>
                <a:lnTo>
                  <a:pt x="517" y="175"/>
                </a:lnTo>
                <a:lnTo>
                  <a:pt x="508" y="223"/>
                </a:lnTo>
                <a:lnTo>
                  <a:pt x="537" y="226"/>
                </a:lnTo>
                <a:lnTo>
                  <a:pt x="556" y="211"/>
                </a:lnTo>
                <a:lnTo>
                  <a:pt x="544" y="184"/>
                </a:lnTo>
                <a:lnTo>
                  <a:pt x="573" y="194"/>
                </a:lnTo>
                <a:lnTo>
                  <a:pt x="605" y="177"/>
                </a:lnTo>
                <a:lnTo>
                  <a:pt x="623" y="180"/>
                </a:lnTo>
                <a:lnTo>
                  <a:pt x="629" y="175"/>
                </a:lnTo>
                <a:lnTo>
                  <a:pt x="629" y="157"/>
                </a:lnTo>
                <a:lnTo>
                  <a:pt x="600" y="135"/>
                </a:lnTo>
                <a:lnTo>
                  <a:pt x="602" y="121"/>
                </a:lnTo>
                <a:lnTo>
                  <a:pt x="612" y="118"/>
                </a:lnTo>
                <a:lnTo>
                  <a:pt x="620" y="132"/>
                </a:lnTo>
                <a:lnTo>
                  <a:pt x="636" y="134"/>
                </a:lnTo>
                <a:lnTo>
                  <a:pt x="612" y="63"/>
                </a:lnTo>
                <a:lnTo>
                  <a:pt x="632" y="85"/>
                </a:lnTo>
                <a:lnTo>
                  <a:pt x="635" y="75"/>
                </a:lnTo>
                <a:lnTo>
                  <a:pt x="620" y="26"/>
                </a:lnTo>
                <a:lnTo>
                  <a:pt x="612" y="18"/>
                </a:lnTo>
                <a:lnTo>
                  <a:pt x="620" y="10"/>
                </a:lnTo>
                <a:lnTo>
                  <a:pt x="676" y="106"/>
                </a:lnTo>
                <a:lnTo>
                  <a:pt x="688" y="149"/>
                </a:lnTo>
                <a:lnTo>
                  <a:pt x="705" y="168"/>
                </a:lnTo>
                <a:lnTo>
                  <a:pt x="708" y="191"/>
                </a:lnTo>
                <a:lnTo>
                  <a:pt x="685" y="191"/>
                </a:lnTo>
                <a:lnTo>
                  <a:pt x="665" y="205"/>
                </a:lnTo>
                <a:lnTo>
                  <a:pt x="658" y="228"/>
                </a:lnTo>
                <a:lnTo>
                  <a:pt x="694" y="267"/>
                </a:lnTo>
                <a:lnTo>
                  <a:pt x="753" y="354"/>
                </a:lnTo>
                <a:lnTo>
                  <a:pt x="764" y="387"/>
                </a:lnTo>
                <a:lnTo>
                  <a:pt x="782" y="410"/>
                </a:lnTo>
                <a:lnTo>
                  <a:pt x="777" y="417"/>
                </a:lnTo>
                <a:lnTo>
                  <a:pt x="766" y="414"/>
                </a:lnTo>
                <a:lnTo>
                  <a:pt x="758" y="403"/>
                </a:lnTo>
                <a:lnTo>
                  <a:pt x="743" y="397"/>
                </a:lnTo>
                <a:lnTo>
                  <a:pt x="728" y="408"/>
                </a:lnTo>
                <a:lnTo>
                  <a:pt x="702" y="415"/>
                </a:lnTo>
                <a:lnTo>
                  <a:pt x="735" y="417"/>
                </a:lnTo>
                <a:lnTo>
                  <a:pt x="733" y="443"/>
                </a:lnTo>
                <a:lnTo>
                  <a:pt x="748" y="489"/>
                </a:lnTo>
                <a:lnTo>
                  <a:pt x="737" y="556"/>
                </a:lnTo>
                <a:lnTo>
                  <a:pt x="717" y="595"/>
                </a:lnTo>
                <a:lnTo>
                  <a:pt x="707" y="656"/>
                </a:lnTo>
                <a:lnTo>
                  <a:pt x="697" y="661"/>
                </a:lnTo>
                <a:lnTo>
                  <a:pt x="688" y="690"/>
                </a:lnTo>
                <a:lnTo>
                  <a:pt x="665" y="700"/>
                </a:lnTo>
                <a:lnTo>
                  <a:pt x="655" y="695"/>
                </a:lnTo>
                <a:lnTo>
                  <a:pt x="648" y="699"/>
                </a:lnTo>
                <a:lnTo>
                  <a:pt x="606" y="693"/>
                </a:lnTo>
                <a:lnTo>
                  <a:pt x="592" y="705"/>
                </a:lnTo>
                <a:lnTo>
                  <a:pt x="540" y="729"/>
                </a:lnTo>
                <a:lnTo>
                  <a:pt x="510" y="707"/>
                </a:lnTo>
                <a:lnTo>
                  <a:pt x="472" y="709"/>
                </a:lnTo>
                <a:lnTo>
                  <a:pt x="458" y="702"/>
                </a:lnTo>
                <a:lnTo>
                  <a:pt x="448" y="684"/>
                </a:lnTo>
                <a:lnTo>
                  <a:pt x="436" y="697"/>
                </a:lnTo>
                <a:lnTo>
                  <a:pt x="415" y="695"/>
                </a:lnTo>
                <a:lnTo>
                  <a:pt x="409" y="683"/>
                </a:lnTo>
                <a:lnTo>
                  <a:pt x="400" y="680"/>
                </a:lnTo>
                <a:lnTo>
                  <a:pt x="387" y="663"/>
                </a:lnTo>
                <a:lnTo>
                  <a:pt x="353" y="638"/>
                </a:lnTo>
                <a:lnTo>
                  <a:pt x="354" y="664"/>
                </a:lnTo>
                <a:lnTo>
                  <a:pt x="333" y="689"/>
                </a:lnTo>
                <a:lnTo>
                  <a:pt x="330" y="673"/>
                </a:lnTo>
                <a:lnTo>
                  <a:pt x="288" y="656"/>
                </a:lnTo>
                <a:lnTo>
                  <a:pt x="249" y="674"/>
                </a:lnTo>
                <a:lnTo>
                  <a:pt x="261" y="637"/>
                </a:lnTo>
                <a:lnTo>
                  <a:pt x="274" y="636"/>
                </a:lnTo>
                <a:lnTo>
                  <a:pt x="287" y="621"/>
                </a:lnTo>
                <a:lnTo>
                  <a:pt x="321" y="608"/>
                </a:lnTo>
                <a:lnTo>
                  <a:pt x="297" y="577"/>
                </a:lnTo>
                <a:lnTo>
                  <a:pt x="282" y="532"/>
                </a:lnTo>
                <a:lnTo>
                  <a:pt x="266" y="549"/>
                </a:lnTo>
                <a:lnTo>
                  <a:pt x="220" y="543"/>
                </a:lnTo>
                <a:lnTo>
                  <a:pt x="219" y="526"/>
                </a:lnTo>
                <a:lnTo>
                  <a:pt x="212" y="523"/>
                </a:lnTo>
                <a:lnTo>
                  <a:pt x="203" y="561"/>
                </a:lnTo>
                <a:lnTo>
                  <a:pt x="228" y="592"/>
                </a:lnTo>
                <a:lnTo>
                  <a:pt x="233" y="610"/>
                </a:lnTo>
                <a:lnTo>
                  <a:pt x="220" y="621"/>
                </a:lnTo>
                <a:lnTo>
                  <a:pt x="189" y="608"/>
                </a:lnTo>
                <a:lnTo>
                  <a:pt x="199" y="512"/>
                </a:lnTo>
                <a:lnTo>
                  <a:pt x="187" y="499"/>
                </a:lnTo>
                <a:lnTo>
                  <a:pt x="160" y="496"/>
                </a:lnTo>
                <a:lnTo>
                  <a:pt x="143" y="473"/>
                </a:lnTo>
                <a:lnTo>
                  <a:pt x="137" y="375"/>
                </a:lnTo>
                <a:lnTo>
                  <a:pt x="146" y="368"/>
                </a:lnTo>
                <a:lnTo>
                  <a:pt x="135" y="369"/>
                </a:lnTo>
                <a:lnTo>
                  <a:pt x="131" y="342"/>
                </a:lnTo>
                <a:lnTo>
                  <a:pt x="143" y="344"/>
                </a:lnTo>
                <a:lnTo>
                  <a:pt x="127" y="328"/>
                </a:lnTo>
                <a:lnTo>
                  <a:pt x="131" y="315"/>
                </a:lnTo>
                <a:lnTo>
                  <a:pt x="110" y="328"/>
                </a:lnTo>
                <a:lnTo>
                  <a:pt x="64" y="309"/>
                </a:lnTo>
                <a:lnTo>
                  <a:pt x="66" y="296"/>
                </a:lnTo>
                <a:lnTo>
                  <a:pt x="95" y="295"/>
                </a:lnTo>
                <a:lnTo>
                  <a:pt x="107" y="282"/>
                </a:lnTo>
                <a:lnTo>
                  <a:pt x="84" y="254"/>
                </a:lnTo>
                <a:lnTo>
                  <a:pt x="69" y="250"/>
                </a:lnTo>
                <a:lnTo>
                  <a:pt x="94" y="249"/>
                </a:lnTo>
                <a:lnTo>
                  <a:pt x="97" y="236"/>
                </a:lnTo>
                <a:lnTo>
                  <a:pt x="72" y="224"/>
                </a:lnTo>
                <a:lnTo>
                  <a:pt x="39" y="220"/>
                </a:lnTo>
                <a:lnTo>
                  <a:pt x="42" y="207"/>
                </a:lnTo>
                <a:lnTo>
                  <a:pt x="28" y="175"/>
                </a:lnTo>
                <a:lnTo>
                  <a:pt x="68" y="214"/>
                </a:lnTo>
                <a:lnTo>
                  <a:pt x="95" y="220"/>
                </a:lnTo>
                <a:lnTo>
                  <a:pt x="85" y="204"/>
                </a:lnTo>
                <a:lnTo>
                  <a:pt x="94" y="197"/>
                </a:lnTo>
                <a:lnTo>
                  <a:pt x="66" y="177"/>
                </a:lnTo>
                <a:lnTo>
                  <a:pt x="56" y="180"/>
                </a:lnTo>
                <a:lnTo>
                  <a:pt x="41" y="171"/>
                </a:lnTo>
                <a:lnTo>
                  <a:pt x="33" y="151"/>
                </a:lnTo>
                <a:lnTo>
                  <a:pt x="15" y="145"/>
                </a:lnTo>
                <a:lnTo>
                  <a:pt x="0" y="132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59000" y="4794120"/>
            <a:ext cx="322200" cy="222480"/>
          </a:xfrm>
          <a:custGeom>
            <a:avLst/>
            <a:gdLst/>
            <a:ahLst/>
            <a:rect l="l" t="t" r="r" b="b"/>
            <a:pathLst>
              <a:path w="607" h="422">
                <a:moveTo>
                  <a:pt x="0" y="173"/>
                </a:moveTo>
                <a:lnTo>
                  <a:pt x="24" y="190"/>
                </a:lnTo>
                <a:lnTo>
                  <a:pt x="21" y="164"/>
                </a:lnTo>
                <a:lnTo>
                  <a:pt x="64" y="200"/>
                </a:lnTo>
                <a:lnTo>
                  <a:pt x="87" y="190"/>
                </a:lnTo>
                <a:lnTo>
                  <a:pt x="74" y="182"/>
                </a:lnTo>
                <a:lnTo>
                  <a:pt x="79" y="173"/>
                </a:lnTo>
                <a:lnTo>
                  <a:pt x="96" y="183"/>
                </a:lnTo>
                <a:lnTo>
                  <a:pt x="123" y="167"/>
                </a:lnTo>
                <a:lnTo>
                  <a:pt x="102" y="156"/>
                </a:lnTo>
                <a:lnTo>
                  <a:pt x="97" y="164"/>
                </a:lnTo>
                <a:lnTo>
                  <a:pt x="87" y="159"/>
                </a:lnTo>
                <a:lnTo>
                  <a:pt x="84" y="102"/>
                </a:lnTo>
                <a:lnTo>
                  <a:pt x="70" y="100"/>
                </a:lnTo>
                <a:lnTo>
                  <a:pt x="67" y="89"/>
                </a:lnTo>
                <a:lnTo>
                  <a:pt x="56" y="92"/>
                </a:lnTo>
                <a:lnTo>
                  <a:pt x="59" y="81"/>
                </a:lnTo>
                <a:lnTo>
                  <a:pt x="46" y="84"/>
                </a:lnTo>
                <a:lnTo>
                  <a:pt x="46" y="41"/>
                </a:lnTo>
                <a:lnTo>
                  <a:pt x="60" y="33"/>
                </a:lnTo>
                <a:lnTo>
                  <a:pt x="60" y="22"/>
                </a:lnTo>
                <a:lnTo>
                  <a:pt x="80" y="28"/>
                </a:lnTo>
                <a:lnTo>
                  <a:pt x="93" y="41"/>
                </a:lnTo>
                <a:lnTo>
                  <a:pt x="83" y="16"/>
                </a:lnTo>
                <a:lnTo>
                  <a:pt x="93" y="22"/>
                </a:lnTo>
                <a:lnTo>
                  <a:pt x="96" y="15"/>
                </a:lnTo>
                <a:lnTo>
                  <a:pt x="135" y="2"/>
                </a:lnTo>
                <a:lnTo>
                  <a:pt x="207" y="0"/>
                </a:lnTo>
                <a:lnTo>
                  <a:pt x="228" y="15"/>
                </a:lnTo>
                <a:lnTo>
                  <a:pt x="238" y="42"/>
                </a:lnTo>
                <a:lnTo>
                  <a:pt x="263" y="55"/>
                </a:lnTo>
                <a:lnTo>
                  <a:pt x="264" y="82"/>
                </a:lnTo>
                <a:lnTo>
                  <a:pt x="277" y="98"/>
                </a:lnTo>
                <a:lnTo>
                  <a:pt x="312" y="114"/>
                </a:lnTo>
                <a:lnTo>
                  <a:pt x="312" y="124"/>
                </a:lnTo>
                <a:lnTo>
                  <a:pt x="341" y="125"/>
                </a:lnTo>
                <a:lnTo>
                  <a:pt x="346" y="153"/>
                </a:lnTo>
                <a:lnTo>
                  <a:pt x="358" y="154"/>
                </a:lnTo>
                <a:lnTo>
                  <a:pt x="364" y="164"/>
                </a:lnTo>
                <a:lnTo>
                  <a:pt x="417" y="176"/>
                </a:lnTo>
                <a:lnTo>
                  <a:pt x="415" y="138"/>
                </a:lnTo>
                <a:lnTo>
                  <a:pt x="431" y="118"/>
                </a:lnTo>
                <a:lnTo>
                  <a:pt x="443" y="140"/>
                </a:lnTo>
                <a:lnTo>
                  <a:pt x="460" y="125"/>
                </a:lnTo>
                <a:lnTo>
                  <a:pt x="464" y="131"/>
                </a:lnTo>
                <a:lnTo>
                  <a:pt x="461" y="65"/>
                </a:lnTo>
                <a:lnTo>
                  <a:pt x="496" y="104"/>
                </a:lnTo>
                <a:lnTo>
                  <a:pt x="509" y="104"/>
                </a:lnTo>
                <a:lnTo>
                  <a:pt x="512" y="137"/>
                </a:lnTo>
                <a:lnTo>
                  <a:pt x="530" y="151"/>
                </a:lnTo>
                <a:lnTo>
                  <a:pt x="542" y="151"/>
                </a:lnTo>
                <a:lnTo>
                  <a:pt x="538" y="183"/>
                </a:lnTo>
                <a:lnTo>
                  <a:pt x="588" y="225"/>
                </a:lnTo>
                <a:lnTo>
                  <a:pt x="607" y="258"/>
                </a:lnTo>
                <a:lnTo>
                  <a:pt x="599" y="278"/>
                </a:lnTo>
                <a:lnTo>
                  <a:pt x="579" y="271"/>
                </a:lnTo>
                <a:lnTo>
                  <a:pt x="568" y="274"/>
                </a:lnTo>
                <a:lnTo>
                  <a:pt x="575" y="289"/>
                </a:lnTo>
                <a:lnTo>
                  <a:pt x="562" y="294"/>
                </a:lnTo>
                <a:lnTo>
                  <a:pt x="565" y="304"/>
                </a:lnTo>
                <a:lnTo>
                  <a:pt x="595" y="318"/>
                </a:lnTo>
                <a:lnTo>
                  <a:pt x="594" y="354"/>
                </a:lnTo>
                <a:lnTo>
                  <a:pt x="581" y="363"/>
                </a:lnTo>
                <a:lnTo>
                  <a:pt x="585" y="374"/>
                </a:lnTo>
                <a:lnTo>
                  <a:pt x="564" y="383"/>
                </a:lnTo>
                <a:lnTo>
                  <a:pt x="502" y="369"/>
                </a:lnTo>
                <a:lnTo>
                  <a:pt x="496" y="353"/>
                </a:lnTo>
                <a:lnTo>
                  <a:pt x="494" y="364"/>
                </a:lnTo>
                <a:lnTo>
                  <a:pt x="489" y="364"/>
                </a:lnTo>
                <a:lnTo>
                  <a:pt x="483" y="350"/>
                </a:lnTo>
                <a:lnTo>
                  <a:pt x="471" y="340"/>
                </a:lnTo>
                <a:lnTo>
                  <a:pt x="467" y="348"/>
                </a:lnTo>
                <a:lnTo>
                  <a:pt x="458" y="340"/>
                </a:lnTo>
                <a:lnTo>
                  <a:pt x="427" y="338"/>
                </a:lnTo>
                <a:lnTo>
                  <a:pt x="427" y="346"/>
                </a:lnTo>
                <a:lnTo>
                  <a:pt x="412" y="347"/>
                </a:lnTo>
                <a:lnTo>
                  <a:pt x="399" y="373"/>
                </a:lnTo>
                <a:lnTo>
                  <a:pt x="366" y="392"/>
                </a:lnTo>
                <a:lnTo>
                  <a:pt x="336" y="422"/>
                </a:lnTo>
                <a:lnTo>
                  <a:pt x="228" y="381"/>
                </a:lnTo>
                <a:lnTo>
                  <a:pt x="161" y="320"/>
                </a:lnTo>
                <a:lnTo>
                  <a:pt x="61" y="264"/>
                </a:lnTo>
                <a:lnTo>
                  <a:pt x="30" y="235"/>
                </a:lnTo>
                <a:lnTo>
                  <a:pt x="0" y="173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74800" y="4562640"/>
            <a:ext cx="160560" cy="193680"/>
          </a:xfrm>
          <a:custGeom>
            <a:avLst/>
            <a:gdLst/>
            <a:ahLst/>
            <a:rect l="l" t="t" r="r" b="b"/>
            <a:pathLst>
              <a:path w="303" h="366">
                <a:moveTo>
                  <a:pt x="0" y="255"/>
                </a:moveTo>
                <a:lnTo>
                  <a:pt x="11" y="248"/>
                </a:lnTo>
                <a:lnTo>
                  <a:pt x="16" y="265"/>
                </a:lnTo>
                <a:lnTo>
                  <a:pt x="33" y="272"/>
                </a:lnTo>
                <a:lnTo>
                  <a:pt x="43" y="287"/>
                </a:lnTo>
                <a:lnTo>
                  <a:pt x="66" y="301"/>
                </a:lnTo>
                <a:lnTo>
                  <a:pt x="79" y="300"/>
                </a:lnTo>
                <a:lnTo>
                  <a:pt x="105" y="314"/>
                </a:lnTo>
                <a:lnTo>
                  <a:pt x="125" y="313"/>
                </a:lnTo>
                <a:lnTo>
                  <a:pt x="170" y="341"/>
                </a:lnTo>
                <a:lnTo>
                  <a:pt x="181" y="341"/>
                </a:lnTo>
                <a:lnTo>
                  <a:pt x="200" y="353"/>
                </a:lnTo>
                <a:lnTo>
                  <a:pt x="277" y="366"/>
                </a:lnTo>
                <a:lnTo>
                  <a:pt x="303" y="337"/>
                </a:lnTo>
                <a:lnTo>
                  <a:pt x="303" y="173"/>
                </a:lnTo>
                <a:lnTo>
                  <a:pt x="260" y="163"/>
                </a:lnTo>
                <a:lnTo>
                  <a:pt x="204" y="123"/>
                </a:lnTo>
                <a:lnTo>
                  <a:pt x="191" y="100"/>
                </a:lnTo>
                <a:lnTo>
                  <a:pt x="168" y="101"/>
                </a:lnTo>
                <a:lnTo>
                  <a:pt x="129" y="82"/>
                </a:lnTo>
                <a:lnTo>
                  <a:pt x="100" y="58"/>
                </a:lnTo>
                <a:lnTo>
                  <a:pt x="90" y="57"/>
                </a:lnTo>
                <a:lnTo>
                  <a:pt x="70" y="25"/>
                </a:lnTo>
                <a:lnTo>
                  <a:pt x="54" y="11"/>
                </a:lnTo>
                <a:lnTo>
                  <a:pt x="56" y="0"/>
                </a:lnTo>
                <a:lnTo>
                  <a:pt x="49" y="0"/>
                </a:lnTo>
                <a:lnTo>
                  <a:pt x="39" y="18"/>
                </a:lnTo>
                <a:lnTo>
                  <a:pt x="43" y="31"/>
                </a:lnTo>
                <a:lnTo>
                  <a:pt x="13" y="108"/>
                </a:lnTo>
                <a:lnTo>
                  <a:pt x="14" y="232"/>
                </a:lnTo>
                <a:lnTo>
                  <a:pt x="0" y="255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25760" y="4791240"/>
            <a:ext cx="163440" cy="261720"/>
          </a:xfrm>
          <a:custGeom>
            <a:avLst/>
            <a:gdLst/>
            <a:ahLst/>
            <a:rect l="l" t="t" r="r" b="b"/>
            <a:pathLst>
              <a:path w="309" h="495">
                <a:moveTo>
                  <a:pt x="0" y="32"/>
                </a:moveTo>
                <a:lnTo>
                  <a:pt x="12" y="17"/>
                </a:lnTo>
                <a:lnTo>
                  <a:pt x="19" y="33"/>
                </a:lnTo>
                <a:lnTo>
                  <a:pt x="14" y="14"/>
                </a:lnTo>
                <a:lnTo>
                  <a:pt x="26" y="6"/>
                </a:lnTo>
                <a:lnTo>
                  <a:pt x="43" y="13"/>
                </a:lnTo>
                <a:lnTo>
                  <a:pt x="69" y="46"/>
                </a:lnTo>
                <a:lnTo>
                  <a:pt x="82" y="30"/>
                </a:lnTo>
                <a:lnTo>
                  <a:pt x="84" y="0"/>
                </a:lnTo>
                <a:lnTo>
                  <a:pt x="91" y="10"/>
                </a:lnTo>
                <a:lnTo>
                  <a:pt x="107" y="13"/>
                </a:lnTo>
                <a:lnTo>
                  <a:pt x="115" y="42"/>
                </a:lnTo>
                <a:lnTo>
                  <a:pt x="131" y="50"/>
                </a:lnTo>
                <a:lnTo>
                  <a:pt x="141" y="22"/>
                </a:lnTo>
                <a:lnTo>
                  <a:pt x="151" y="26"/>
                </a:lnTo>
                <a:lnTo>
                  <a:pt x="164" y="20"/>
                </a:lnTo>
                <a:lnTo>
                  <a:pt x="177" y="23"/>
                </a:lnTo>
                <a:lnTo>
                  <a:pt x="189" y="72"/>
                </a:lnTo>
                <a:lnTo>
                  <a:pt x="217" y="83"/>
                </a:lnTo>
                <a:lnTo>
                  <a:pt x="275" y="89"/>
                </a:lnTo>
                <a:lnTo>
                  <a:pt x="285" y="118"/>
                </a:lnTo>
                <a:lnTo>
                  <a:pt x="309" y="154"/>
                </a:lnTo>
                <a:lnTo>
                  <a:pt x="309" y="163"/>
                </a:lnTo>
                <a:lnTo>
                  <a:pt x="295" y="171"/>
                </a:lnTo>
                <a:lnTo>
                  <a:pt x="282" y="200"/>
                </a:lnTo>
                <a:lnTo>
                  <a:pt x="239" y="233"/>
                </a:lnTo>
                <a:lnTo>
                  <a:pt x="212" y="293"/>
                </a:lnTo>
                <a:lnTo>
                  <a:pt x="187" y="325"/>
                </a:lnTo>
                <a:lnTo>
                  <a:pt x="177" y="384"/>
                </a:lnTo>
                <a:lnTo>
                  <a:pt x="184" y="495"/>
                </a:lnTo>
                <a:lnTo>
                  <a:pt x="141" y="470"/>
                </a:lnTo>
                <a:lnTo>
                  <a:pt x="144" y="439"/>
                </a:lnTo>
                <a:lnTo>
                  <a:pt x="96" y="364"/>
                </a:lnTo>
                <a:lnTo>
                  <a:pt x="111" y="332"/>
                </a:lnTo>
                <a:lnTo>
                  <a:pt x="137" y="305"/>
                </a:lnTo>
                <a:lnTo>
                  <a:pt x="99" y="279"/>
                </a:lnTo>
                <a:lnTo>
                  <a:pt x="108" y="256"/>
                </a:lnTo>
                <a:lnTo>
                  <a:pt x="89" y="221"/>
                </a:lnTo>
                <a:lnTo>
                  <a:pt x="68" y="197"/>
                </a:lnTo>
                <a:lnTo>
                  <a:pt x="40" y="183"/>
                </a:lnTo>
                <a:lnTo>
                  <a:pt x="69" y="161"/>
                </a:lnTo>
                <a:lnTo>
                  <a:pt x="68" y="144"/>
                </a:lnTo>
                <a:lnTo>
                  <a:pt x="14" y="128"/>
                </a:lnTo>
                <a:lnTo>
                  <a:pt x="32" y="101"/>
                </a:lnTo>
                <a:lnTo>
                  <a:pt x="32" y="66"/>
                </a:lnTo>
                <a:lnTo>
                  <a:pt x="0" y="32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960" y="3494160"/>
            <a:ext cx="141480" cy="174600"/>
          </a:xfrm>
          <a:custGeom>
            <a:avLst/>
            <a:gdLst/>
            <a:ahLst/>
            <a:rect l="l" t="t" r="r" b="b"/>
            <a:pathLst>
              <a:path w="269" h="330">
                <a:moveTo>
                  <a:pt x="0" y="250"/>
                </a:moveTo>
                <a:lnTo>
                  <a:pt x="0" y="271"/>
                </a:lnTo>
                <a:lnTo>
                  <a:pt x="20" y="254"/>
                </a:lnTo>
                <a:lnTo>
                  <a:pt x="39" y="269"/>
                </a:lnTo>
                <a:lnTo>
                  <a:pt x="51" y="260"/>
                </a:lnTo>
                <a:lnTo>
                  <a:pt x="62" y="279"/>
                </a:lnTo>
                <a:lnTo>
                  <a:pt x="88" y="280"/>
                </a:lnTo>
                <a:lnTo>
                  <a:pt x="92" y="296"/>
                </a:lnTo>
                <a:lnTo>
                  <a:pt x="69" y="292"/>
                </a:lnTo>
                <a:lnTo>
                  <a:pt x="82" y="330"/>
                </a:lnTo>
                <a:lnTo>
                  <a:pt x="136" y="325"/>
                </a:lnTo>
                <a:lnTo>
                  <a:pt x="164" y="315"/>
                </a:lnTo>
                <a:lnTo>
                  <a:pt x="166" y="302"/>
                </a:lnTo>
                <a:lnTo>
                  <a:pt x="199" y="266"/>
                </a:lnTo>
                <a:lnTo>
                  <a:pt x="232" y="212"/>
                </a:lnTo>
                <a:lnTo>
                  <a:pt x="239" y="189"/>
                </a:lnTo>
                <a:lnTo>
                  <a:pt x="212" y="126"/>
                </a:lnTo>
                <a:lnTo>
                  <a:pt x="225" y="90"/>
                </a:lnTo>
                <a:lnTo>
                  <a:pt x="245" y="116"/>
                </a:lnTo>
                <a:lnTo>
                  <a:pt x="268" y="41"/>
                </a:lnTo>
                <a:lnTo>
                  <a:pt x="269" y="0"/>
                </a:lnTo>
                <a:lnTo>
                  <a:pt x="255" y="7"/>
                </a:lnTo>
                <a:lnTo>
                  <a:pt x="229" y="17"/>
                </a:lnTo>
                <a:lnTo>
                  <a:pt x="205" y="66"/>
                </a:lnTo>
                <a:lnTo>
                  <a:pt x="157" y="80"/>
                </a:lnTo>
                <a:lnTo>
                  <a:pt x="100" y="82"/>
                </a:lnTo>
                <a:lnTo>
                  <a:pt x="94" y="96"/>
                </a:lnTo>
                <a:lnTo>
                  <a:pt x="88" y="138"/>
                </a:lnTo>
                <a:lnTo>
                  <a:pt x="78" y="153"/>
                </a:lnTo>
                <a:lnTo>
                  <a:pt x="95" y="162"/>
                </a:lnTo>
                <a:lnTo>
                  <a:pt x="101" y="175"/>
                </a:lnTo>
                <a:lnTo>
                  <a:pt x="26" y="195"/>
                </a:lnTo>
                <a:lnTo>
                  <a:pt x="29" y="238"/>
                </a:lnTo>
                <a:lnTo>
                  <a:pt x="16" y="238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0120" y="4734000"/>
            <a:ext cx="152280" cy="110880"/>
          </a:xfrm>
          <a:custGeom>
            <a:avLst/>
            <a:gdLst/>
            <a:ahLst/>
            <a:rect l="l" t="t" r="r" b="b"/>
            <a:pathLst>
              <a:path w="289" h="211">
                <a:moveTo>
                  <a:pt x="0" y="162"/>
                </a:moveTo>
                <a:lnTo>
                  <a:pt x="3" y="148"/>
                </a:lnTo>
                <a:lnTo>
                  <a:pt x="23" y="136"/>
                </a:lnTo>
                <a:lnTo>
                  <a:pt x="10" y="129"/>
                </a:lnTo>
                <a:lnTo>
                  <a:pt x="6" y="115"/>
                </a:lnTo>
                <a:lnTo>
                  <a:pt x="45" y="96"/>
                </a:lnTo>
                <a:lnTo>
                  <a:pt x="40" y="82"/>
                </a:lnTo>
                <a:lnTo>
                  <a:pt x="52" y="80"/>
                </a:lnTo>
                <a:lnTo>
                  <a:pt x="62" y="95"/>
                </a:lnTo>
                <a:lnTo>
                  <a:pt x="125" y="76"/>
                </a:lnTo>
                <a:lnTo>
                  <a:pt x="122" y="57"/>
                </a:lnTo>
                <a:lnTo>
                  <a:pt x="112" y="63"/>
                </a:lnTo>
                <a:lnTo>
                  <a:pt x="119" y="44"/>
                </a:lnTo>
                <a:lnTo>
                  <a:pt x="94" y="23"/>
                </a:lnTo>
                <a:lnTo>
                  <a:pt x="88" y="28"/>
                </a:lnTo>
                <a:lnTo>
                  <a:pt x="81" y="24"/>
                </a:lnTo>
                <a:lnTo>
                  <a:pt x="82" y="11"/>
                </a:lnTo>
                <a:lnTo>
                  <a:pt x="98" y="0"/>
                </a:lnTo>
                <a:lnTo>
                  <a:pt x="108" y="3"/>
                </a:lnTo>
                <a:lnTo>
                  <a:pt x="117" y="21"/>
                </a:lnTo>
                <a:lnTo>
                  <a:pt x="128" y="31"/>
                </a:lnTo>
                <a:lnTo>
                  <a:pt x="223" y="34"/>
                </a:lnTo>
                <a:lnTo>
                  <a:pt x="271" y="56"/>
                </a:lnTo>
                <a:lnTo>
                  <a:pt x="283" y="51"/>
                </a:lnTo>
                <a:lnTo>
                  <a:pt x="289" y="116"/>
                </a:lnTo>
                <a:lnTo>
                  <a:pt x="269" y="120"/>
                </a:lnTo>
                <a:lnTo>
                  <a:pt x="212" y="100"/>
                </a:lnTo>
                <a:lnTo>
                  <a:pt x="171" y="103"/>
                </a:lnTo>
                <a:lnTo>
                  <a:pt x="128" y="136"/>
                </a:lnTo>
                <a:lnTo>
                  <a:pt x="65" y="210"/>
                </a:lnTo>
                <a:lnTo>
                  <a:pt x="29" y="211"/>
                </a:lnTo>
                <a:lnTo>
                  <a:pt x="0" y="162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89000" y="4778280"/>
            <a:ext cx="115920" cy="103320"/>
          </a:xfrm>
          <a:custGeom>
            <a:avLst/>
            <a:gdLst/>
            <a:ahLst/>
            <a:rect l="l" t="t" r="r" b="b"/>
            <a:pathLst>
              <a:path w="217" h="195">
                <a:moveTo>
                  <a:pt x="0" y="0"/>
                </a:moveTo>
                <a:lnTo>
                  <a:pt x="3" y="15"/>
                </a:lnTo>
                <a:lnTo>
                  <a:pt x="20" y="37"/>
                </a:lnTo>
                <a:lnTo>
                  <a:pt x="23" y="66"/>
                </a:lnTo>
                <a:lnTo>
                  <a:pt x="62" y="120"/>
                </a:lnTo>
                <a:lnTo>
                  <a:pt x="82" y="164"/>
                </a:lnTo>
                <a:lnTo>
                  <a:pt x="115" y="195"/>
                </a:lnTo>
                <a:lnTo>
                  <a:pt x="127" y="194"/>
                </a:lnTo>
                <a:lnTo>
                  <a:pt x="140" y="176"/>
                </a:lnTo>
                <a:lnTo>
                  <a:pt x="160" y="165"/>
                </a:lnTo>
                <a:lnTo>
                  <a:pt x="212" y="159"/>
                </a:lnTo>
                <a:lnTo>
                  <a:pt x="217" y="152"/>
                </a:lnTo>
                <a:lnTo>
                  <a:pt x="207" y="152"/>
                </a:lnTo>
                <a:lnTo>
                  <a:pt x="204" y="135"/>
                </a:lnTo>
                <a:lnTo>
                  <a:pt x="186" y="120"/>
                </a:lnTo>
                <a:lnTo>
                  <a:pt x="181" y="133"/>
                </a:lnTo>
                <a:lnTo>
                  <a:pt x="169" y="122"/>
                </a:lnTo>
                <a:lnTo>
                  <a:pt x="154" y="132"/>
                </a:lnTo>
                <a:lnTo>
                  <a:pt x="131" y="90"/>
                </a:lnTo>
                <a:lnTo>
                  <a:pt x="115" y="107"/>
                </a:lnTo>
                <a:lnTo>
                  <a:pt x="105" y="109"/>
                </a:lnTo>
                <a:lnTo>
                  <a:pt x="102" y="97"/>
                </a:lnTo>
                <a:lnTo>
                  <a:pt x="81" y="87"/>
                </a:lnTo>
                <a:lnTo>
                  <a:pt x="61" y="48"/>
                </a:lnTo>
                <a:lnTo>
                  <a:pt x="33" y="34"/>
                </a:lnTo>
                <a:lnTo>
                  <a:pt x="12" y="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4325760"/>
            <a:ext cx="55800" cy="86040"/>
          </a:xfrm>
          <a:custGeom>
            <a:avLst/>
            <a:gdLst/>
            <a:ahLst/>
            <a:rect l="l" t="t" r="r" b="b"/>
            <a:pathLst>
              <a:path w="104" h="162">
                <a:moveTo>
                  <a:pt x="0" y="98"/>
                </a:moveTo>
                <a:lnTo>
                  <a:pt x="20" y="64"/>
                </a:lnTo>
                <a:lnTo>
                  <a:pt x="33" y="53"/>
                </a:lnTo>
                <a:lnTo>
                  <a:pt x="31" y="46"/>
                </a:lnTo>
                <a:lnTo>
                  <a:pt x="62" y="0"/>
                </a:lnTo>
                <a:lnTo>
                  <a:pt x="74" y="3"/>
                </a:lnTo>
                <a:lnTo>
                  <a:pt x="68" y="5"/>
                </a:lnTo>
                <a:lnTo>
                  <a:pt x="84" y="53"/>
                </a:lnTo>
                <a:lnTo>
                  <a:pt x="100" y="76"/>
                </a:lnTo>
                <a:lnTo>
                  <a:pt x="97" y="87"/>
                </a:lnTo>
                <a:lnTo>
                  <a:pt x="104" y="92"/>
                </a:lnTo>
                <a:lnTo>
                  <a:pt x="104" y="119"/>
                </a:lnTo>
                <a:lnTo>
                  <a:pt x="52" y="162"/>
                </a:lnTo>
                <a:lnTo>
                  <a:pt x="35" y="158"/>
                </a:lnTo>
                <a:lnTo>
                  <a:pt x="29" y="141"/>
                </a:lnTo>
                <a:lnTo>
                  <a:pt x="19" y="144"/>
                </a:lnTo>
                <a:lnTo>
                  <a:pt x="0" y="119"/>
                </a:lnTo>
                <a:lnTo>
                  <a:pt x="0" y="9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880" y="4605480"/>
            <a:ext cx="38160" cy="98280"/>
          </a:xfrm>
          <a:custGeom>
            <a:avLst/>
            <a:gdLst/>
            <a:ahLst/>
            <a:rect l="l" t="t" r="r" b="b"/>
            <a:pathLst>
              <a:path w="72" h="187">
                <a:moveTo>
                  <a:pt x="7" y="8"/>
                </a:moveTo>
                <a:lnTo>
                  <a:pt x="14" y="5"/>
                </a:lnTo>
                <a:lnTo>
                  <a:pt x="11" y="0"/>
                </a:lnTo>
                <a:lnTo>
                  <a:pt x="22" y="0"/>
                </a:lnTo>
                <a:lnTo>
                  <a:pt x="72" y="46"/>
                </a:lnTo>
                <a:lnTo>
                  <a:pt x="46" y="87"/>
                </a:lnTo>
                <a:lnTo>
                  <a:pt x="39" y="178"/>
                </a:lnTo>
                <a:lnTo>
                  <a:pt x="19" y="174"/>
                </a:lnTo>
                <a:lnTo>
                  <a:pt x="16" y="187"/>
                </a:lnTo>
                <a:lnTo>
                  <a:pt x="0" y="185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4729320"/>
            <a:ext cx="61920" cy="64800"/>
          </a:xfrm>
          <a:custGeom>
            <a:avLst/>
            <a:gdLst/>
            <a:ahLst/>
            <a:rect l="l" t="t" r="r" b="b"/>
            <a:pathLst>
              <a:path w="118" h="125">
                <a:moveTo>
                  <a:pt x="0" y="46"/>
                </a:moveTo>
                <a:lnTo>
                  <a:pt x="4" y="59"/>
                </a:lnTo>
                <a:lnTo>
                  <a:pt x="17" y="63"/>
                </a:lnTo>
                <a:lnTo>
                  <a:pt x="11" y="89"/>
                </a:lnTo>
                <a:lnTo>
                  <a:pt x="26" y="105"/>
                </a:lnTo>
                <a:lnTo>
                  <a:pt x="26" y="115"/>
                </a:lnTo>
                <a:lnTo>
                  <a:pt x="34" y="118"/>
                </a:lnTo>
                <a:lnTo>
                  <a:pt x="27" y="123"/>
                </a:lnTo>
                <a:lnTo>
                  <a:pt x="47" y="125"/>
                </a:lnTo>
                <a:lnTo>
                  <a:pt x="47" y="113"/>
                </a:lnTo>
                <a:lnTo>
                  <a:pt x="72" y="123"/>
                </a:lnTo>
                <a:lnTo>
                  <a:pt x="90" y="97"/>
                </a:lnTo>
                <a:lnTo>
                  <a:pt x="116" y="99"/>
                </a:lnTo>
                <a:lnTo>
                  <a:pt x="118" y="67"/>
                </a:lnTo>
                <a:lnTo>
                  <a:pt x="106" y="70"/>
                </a:lnTo>
                <a:lnTo>
                  <a:pt x="96" y="84"/>
                </a:lnTo>
                <a:lnTo>
                  <a:pt x="73" y="74"/>
                </a:lnTo>
                <a:lnTo>
                  <a:pt x="73" y="66"/>
                </a:lnTo>
                <a:lnTo>
                  <a:pt x="80" y="66"/>
                </a:lnTo>
                <a:lnTo>
                  <a:pt x="85" y="5"/>
                </a:lnTo>
                <a:lnTo>
                  <a:pt x="62" y="0"/>
                </a:lnTo>
                <a:lnTo>
                  <a:pt x="13" y="4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840" y="4430880"/>
            <a:ext cx="41040" cy="88560"/>
          </a:xfrm>
          <a:custGeom>
            <a:avLst/>
            <a:gdLst/>
            <a:ahLst/>
            <a:rect l="l" t="t" r="r" b="b"/>
            <a:pathLst>
              <a:path w="77" h="167">
                <a:moveTo>
                  <a:pt x="2" y="3"/>
                </a:moveTo>
                <a:lnTo>
                  <a:pt x="0" y="33"/>
                </a:lnTo>
                <a:lnTo>
                  <a:pt x="23" y="78"/>
                </a:lnTo>
                <a:lnTo>
                  <a:pt x="43" y="143"/>
                </a:lnTo>
                <a:lnTo>
                  <a:pt x="58" y="163"/>
                </a:lnTo>
                <a:lnTo>
                  <a:pt x="77" y="167"/>
                </a:lnTo>
                <a:lnTo>
                  <a:pt x="77" y="124"/>
                </a:lnTo>
                <a:lnTo>
                  <a:pt x="64" y="104"/>
                </a:lnTo>
                <a:lnTo>
                  <a:pt x="77" y="84"/>
                </a:lnTo>
                <a:lnTo>
                  <a:pt x="64" y="45"/>
                </a:lnTo>
                <a:lnTo>
                  <a:pt x="55" y="46"/>
                </a:lnTo>
                <a:lnTo>
                  <a:pt x="48" y="58"/>
                </a:lnTo>
                <a:lnTo>
                  <a:pt x="41" y="53"/>
                </a:lnTo>
                <a:lnTo>
                  <a:pt x="41" y="10"/>
                </a:lnTo>
                <a:lnTo>
                  <a:pt x="29" y="0"/>
                </a:lnTo>
                <a:lnTo>
                  <a:pt x="2" y="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60600" y="3649680"/>
            <a:ext cx="48960" cy="34920"/>
          </a:xfrm>
          <a:custGeom>
            <a:avLst/>
            <a:gdLst/>
            <a:ahLst/>
            <a:rect l="l" t="t" r="r" b="b"/>
            <a:pathLst>
              <a:path w="95" h="65">
                <a:moveTo>
                  <a:pt x="0" y="26"/>
                </a:moveTo>
                <a:lnTo>
                  <a:pt x="19" y="64"/>
                </a:lnTo>
                <a:lnTo>
                  <a:pt x="35" y="65"/>
                </a:lnTo>
                <a:lnTo>
                  <a:pt x="58" y="35"/>
                </a:lnTo>
                <a:lnTo>
                  <a:pt x="95" y="9"/>
                </a:lnTo>
                <a:lnTo>
                  <a:pt x="94" y="0"/>
                </a:lnTo>
                <a:lnTo>
                  <a:pt x="29" y="23"/>
                </a:lnTo>
                <a:lnTo>
                  <a:pt x="5" y="18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4320" y="4335480"/>
            <a:ext cx="17640" cy="41400"/>
          </a:xfrm>
          <a:custGeom>
            <a:avLst/>
            <a:gdLst/>
            <a:ahLst/>
            <a:rect l="l" t="t" r="r" b="b"/>
            <a:pathLst>
              <a:path w="33" h="78">
                <a:moveTo>
                  <a:pt x="0" y="46"/>
                </a:moveTo>
                <a:lnTo>
                  <a:pt x="23" y="78"/>
                </a:lnTo>
                <a:lnTo>
                  <a:pt x="33" y="67"/>
                </a:lnTo>
                <a:lnTo>
                  <a:pt x="31" y="15"/>
                </a:lnTo>
                <a:lnTo>
                  <a:pt x="21" y="0"/>
                </a:lnTo>
                <a:lnTo>
                  <a:pt x="4" y="9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9040" y="3568680"/>
            <a:ext cx="39600" cy="25560"/>
          </a:xfrm>
          <a:custGeom>
            <a:avLst/>
            <a:gdLst/>
            <a:ahLst/>
            <a:rect l="l" t="t" r="r" b="b"/>
            <a:pathLst>
              <a:path w="74" h="47">
                <a:moveTo>
                  <a:pt x="0" y="6"/>
                </a:moveTo>
                <a:lnTo>
                  <a:pt x="74" y="0"/>
                </a:lnTo>
                <a:lnTo>
                  <a:pt x="71" y="13"/>
                </a:lnTo>
                <a:lnTo>
                  <a:pt x="71" y="26"/>
                </a:lnTo>
                <a:lnTo>
                  <a:pt x="51" y="27"/>
                </a:lnTo>
                <a:lnTo>
                  <a:pt x="33" y="47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00120" y="4788000"/>
            <a:ext cx="39600" cy="30240"/>
          </a:xfrm>
          <a:custGeom>
            <a:avLst/>
            <a:gdLst/>
            <a:ahLst/>
            <a:rect l="l" t="t" r="r" b="b"/>
            <a:pathLst>
              <a:path w="75" h="57">
                <a:moveTo>
                  <a:pt x="0" y="16"/>
                </a:moveTo>
                <a:lnTo>
                  <a:pt x="22" y="57"/>
                </a:lnTo>
                <a:lnTo>
                  <a:pt x="49" y="27"/>
                </a:lnTo>
                <a:lnTo>
                  <a:pt x="75" y="29"/>
                </a:lnTo>
                <a:lnTo>
                  <a:pt x="74" y="18"/>
                </a:lnTo>
                <a:lnTo>
                  <a:pt x="62" y="6"/>
                </a:lnTo>
                <a:lnTo>
                  <a:pt x="30" y="0"/>
                </a:lnTo>
                <a:lnTo>
                  <a:pt x="30" y="24"/>
                </a:lnTo>
                <a:lnTo>
                  <a:pt x="13" y="14"/>
                </a:lnTo>
                <a:lnTo>
                  <a:pt x="9" y="2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06520" y="4170240"/>
            <a:ext cx="49320" cy="42840"/>
          </a:xfrm>
          <a:custGeom>
            <a:avLst/>
            <a:gdLst/>
            <a:ahLst/>
            <a:rect l="l" t="t" r="r" b="b"/>
            <a:pathLst>
              <a:path w="93" h="82">
                <a:moveTo>
                  <a:pt x="0" y="5"/>
                </a:moveTo>
                <a:lnTo>
                  <a:pt x="4" y="18"/>
                </a:lnTo>
                <a:lnTo>
                  <a:pt x="26" y="29"/>
                </a:lnTo>
                <a:lnTo>
                  <a:pt x="47" y="64"/>
                </a:lnTo>
                <a:lnTo>
                  <a:pt x="93" y="82"/>
                </a:lnTo>
                <a:lnTo>
                  <a:pt x="90" y="75"/>
                </a:lnTo>
                <a:lnTo>
                  <a:pt x="77" y="69"/>
                </a:lnTo>
                <a:lnTo>
                  <a:pt x="26" y="9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09520" y="4251240"/>
            <a:ext cx="33480" cy="28800"/>
          </a:xfrm>
          <a:custGeom>
            <a:avLst/>
            <a:gdLst/>
            <a:ahLst/>
            <a:rect l="l" t="t" r="r" b="b"/>
            <a:pathLst>
              <a:path w="63" h="54">
                <a:moveTo>
                  <a:pt x="0" y="39"/>
                </a:moveTo>
                <a:lnTo>
                  <a:pt x="10" y="30"/>
                </a:lnTo>
                <a:lnTo>
                  <a:pt x="27" y="33"/>
                </a:lnTo>
                <a:lnTo>
                  <a:pt x="46" y="27"/>
                </a:lnTo>
                <a:lnTo>
                  <a:pt x="41" y="18"/>
                </a:lnTo>
                <a:lnTo>
                  <a:pt x="50" y="0"/>
                </a:lnTo>
                <a:lnTo>
                  <a:pt x="63" y="20"/>
                </a:lnTo>
                <a:lnTo>
                  <a:pt x="59" y="50"/>
                </a:lnTo>
                <a:lnTo>
                  <a:pt x="50" y="54"/>
                </a:lnTo>
                <a:lnTo>
                  <a:pt x="30" y="47"/>
                </a:lnTo>
                <a:lnTo>
                  <a:pt x="5" y="47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27280" y="4800600"/>
            <a:ext cx="33120" cy="27000"/>
          </a:xfrm>
          <a:custGeom>
            <a:avLst/>
            <a:gdLst/>
            <a:ahLst/>
            <a:rect l="l" t="t" r="r" b="b"/>
            <a:pathLst>
              <a:path w="64" h="51">
                <a:moveTo>
                  <a:pt x="0" y="0"/>
                </a:moveTo>
                <a:lnTo>
                  <a:pt x="6" y="22"/>
                </a:lnTo>
                <a:lnTo>
                  <a:pt x="64" y="51"/>
                </a:lnTo>
                <a:lnTo>
                  <a:pt x="64" y="25"/>
                </a:lnTo>
                <a:lnTo>
                  <a:pt x="48" y="10"/>
                </a:lnTo>
                <a:lnTo>
                  <a:pt x="23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50880" y="4772160"/>
            <a:ext cx="23760" cy="25200"/>
          </a:xfrm>
          <a:custGeom>
            <a:avLst/>
            <a:gdLst/>
            <a:ahLst/>
            <a:rect l="l" t="t" r="r" b="b"/>
            <a:pathLst>
              <a:path w="45" h="47">
                <a:moveTo>
                  <a:pt x="0" y="16"/>
                </a:moveTo>
                <a:lnTo>
                  <a:pt x="10" y="4"/>
                </a:lnTo>
                <a:lnTo>
                  <a:pt x="30" y="0"/>
                </a:lnTo>
                <a:lnTo>
                  <a:pt x="45" y="14"/>
                </a:lnTo>
                <a:lnTo>
                  <a:pt x="43" y="24"/>
                </a:lnTo>
                <a:lnTo>
                  <a:pt x="33" y="47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200" y="4156200"/>
            <a:ext cx="23760" cy="27000"/>
          </a:xfrm>
          <a:custGeom>
            <a:avLst/>
            <a:gdLst/>
            <a:ahLst/>
            <a:rect l="l" t="t" r="r" b="b"/>
            <a:pathLst>
              <a:path w="43" h="50">
                <a:moveTo>
                  <a:pt x="0" y="24"/>
                </a:moveTo>
                <a:lnTo>
                  <a:pt x="11" y="22"/>
                </a:lnTo>
                <a:lnTo>
                  <a:pt x="8" y="4"/>
                </a:lnTo>
                <a:lnTo>
                  <a:pt x="33" y="0"/>
                </a:lnTo>
                <a:lnTo>
                  <a:pt x="21" y="10"/>
                </a:lnTo>
                <a:lnTo>
                  <a:pt x="31" y="27"/>
                </a:lnTo>
                <a:lnTo>
                  <a:pt x="43" y="23"/>
                </a:lnTo>
                <a:lnTo>
                  <a:pt x="40" y="50"/>
                </a:lnTo>
                <a:lnTo>
                  <a:pt x="8" y="46"/>
                </a:lnTo>
                <a:lnTo>
                  <a:pt x="7" y="32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5240" y="4718160"/>
            <a:ext cx="17280" cy="23760"/>
          </a:xfrm>
          <a:custGeom>
            <a:avLst/>
            <a:gdLst/>
            <a:ahLst/>
            <a:rect l="l" t="t" r="r" b="b"/>
            <a:pathLst>
              <a:path w="34" h="43">
                <a:moveTo>
                  <a:pt x="0" y="13"/>
                </a:moveTo>
                <a:lnTo>
                  <a:pt x="13" y="0"/>
                </a:lnTo>
                <a:lnTo>
                  <a:pt x="10" y="16"/>
                </a:lnTo>
                <a:lnTo>
                  <a:pt x="34" y="23"/>
                </a:lnTo>
                <a:lnTo>
                  <a:pt x="31" y="36"/>
                </a:lnTo>
                <a:lnTo>
                  <a:pt x="13" y="43"/>
                </a:lnTo>
                <a:lnTo>
                  <a:pt x="0" y="29"/>
                </a:lnTo>
                <a:lnTo>
                  <a:pt x="0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03400" y="4734000"/>
            <a:ext cx="7920" cy="14040"/>
          </a:xfrm>
          <a:custGeom>
            <a:avLst/>
            <a:gdLst/>
            <a:ahLst/>
            <a:rect l="l" t="t" r="r" b="b"/>
            <a:pathLst>
              <a:path w="17" h="27">
                <a:moveTo>
                  <a:pt x="0" y="7"/>
                </a:moveTo>
                <a:lnTo>
                  <a:pt x="11" y="0"/>
                </a:lnTo>
                <a:lnTo>
                  <a:pt x="17" y="27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6560" y="1403280"/>
            <a:ext cx="1550880" cy="1316160"/>
          </a:xfrm>
          <a:custGeom>
            <a:avLst/>
            <a:gdLst/>
            <a:ahLst/>
            <a:rect l="l" t="t" r="r" b="b"/>
            <a:pathLst>
              <a:path w="2931" h="2485">
                <a:moveTo>
                  <a:pt x="2682" y="0"/>
                </a:moveTo>
                <a:lnTo>
                  <a:pt x="2599" y="103"/>
                </a:lnTo>
                <a:lnTo>
                  <a:pt x="2338" y="102"/>
                </a:lnTo>
                <a:lnTo>
                  <a:pt x="2064" y="156"/>
                </a:lnTo>
                <a:lnTo>
                  <a:pt x="1854" y="62"/>
                </a:lnTo>
                <a:lnTo>
                  <a:pt x="1756" y="103"/>
                </a:lnTo>
                <a:lnTo>
                  <a:pt x="1615" y="64"/>
                </a:lnTo>
                <a:lnTo>
                  <a:pt x="1438" y="37"/>
                </a:lnTo>
                <a:lnTo>
                  <a:pt x="1382" y="54"/>
                </a:lnTo>
                <a:lnTo>
                  <a:pt x="1131" y="51"/>
                </a:lnTo>
                <a:lnTo>
                  <a:pt x="1197" y="197"/>
                </a:lnTo>
                <a:lnTo>
                  <a:pt x="1121" y="217"/>
                </a:lnTo>
                <a:lnTo>
                  <a:pt x="1123" y="260"/>
                </a:lnTo>
                <a:lnTo>
                  <a:pt x="944" y="238"/>
                </a:lnTo>
                <a:lnTo>
                  <a:pt x="943" y="285"/>
                </a:lnTo>
                <a:lnTo>
                  <a:pt x="822" y="289"/>
                </a:lnTo>
                <a:lnTo>
                  <a:pt x="738" y="230"/>
                </a:lnTo>
                <a:lnTo>
                  <a:pt x="684" y="329"/>
                </a:lnTo>
                <a:lnTo>
                  <a:pt x="492" y="382"/>
                </a:lnTo>
                <a:lnTo>
                  <a:pt x="469" y="459"/>
                </a:lnTo>
                <a:lnTo>
                  <a:pt x="389" y="476"/>
                </a:lnTo>
                <a:lnTo>
                  <a:pt x="314" y="513"/>
                </a:lnTo>
                <a:lnTo>
                  <a:pt x="212" y="644"/>
                </a:lnTo>
                <a:lnTo>
                  <a:pt x="153" y="667"/>
                </a:lnTo>
                <a:lnTo>
                  <a:pt x="100" y="700"/>
                </a:lnTo>
                <a:lnTo>
                  <a:pt x="6" y="766"/>
                </a:lnTo>
                <a:lnTo>
                  <a:pt x="35" y="912"/>
                </a:lnTo>
                <a:lnTo>
                  <a:pt x="0" y="1002"/>
                </a:lnTo>
                <a:lnTo>
                  <a:pt x="28" y="1094"/>
                </a:lnTo>
                <a:lnTo>
                  <a:pt x="108" y="1234"/>
                </a:lnTo>
                <a:lnTo>
                  <a:pt x="55" y="1306"/>
                </a:lnTo>
                <a:lnTo>
                  <a:pt x="120" y="1322"/>
                </a:lnTo>
                <a:lnTo>
                  <a:pt x="150" y="1533"/>
                </a:lnTo>
                <a:lnTo>
                  <a:pt x="246" y="1560"/>
                </a:lnTo>
                <a:lnTo>
                  <a:pt x="320" y="1789"/>
                </a:lnTo>
                <a:lnTo>
                  <a:pt x="367" y="1759"/>
                </a:lnTo>
                <a:lnTo>
                  <a:pt x="449" y="1786"/>
                </a:lnTo>
                <a:lnTo>
                  <a:pt x="563" y="1880"/>
                </a:lnTo>
                <a:lnTo>
                  <a:pt x="639" y="1814"/>
                </a:lnTo>
                <a:lnTo>
                  <a:pt x="675" y="1673"/>
                </a:lnTo>
                <a:lnTo>
                  <a:pt x="822" y="1726"/>
                </a:lnTo>
                <a:lnTo>
                  <a:pt x="754" y="2291"/>
                </a:lnTo>
                <a:lnTo>
                  <a:pt x="819" y="2280"/>
                </a:lnTo>
                <a:lnTo>
                  <a:pt x="887" y="2170"/>
                </a:lnTo>
                <a:lnTo>
                  <a:pt x="989" y="2150"/>
                </a:lnTo>
                <a:lnTo>
                  <a:pt x="1003" y="2097"/>
                </a:lnTo>
                <a:lnTo>
                  <a:pt x="1052" y="2114"/>
                </a:lnTo>
                <a:lnTo>
                  <a:pt x="1133" y="2059"/>
                </a:lnTo>
                <a:lnTo>
                  <a:pt x="1199" y="1979"/>
                </a:lnTo>
                <a:lnTo>
                  <a:pt x="1248" y="1969"/>
                </a:lnTo>
                <a:lnTo>
                  <a:pt x="1281" y="2016"/>
                </a:lnTo>
                <a:lnTo>
                  <a:pt x="1301" y="2059"/>
                </a:lnTo>
                <a:lnTo>
                  <a:pt x="1337" y="2036"/>
                </a:lnTo>
                <a:lnTo>
                  <a:pt x="1327" y="1946"/>
                </a:lnTo>
                <a:lnTo>
                  <a:pt x="1559" y="2111"/>
                </a:lnTo>
                <a:lnTo>
                  <a:pt x="1633" y="2081"/>
                </a:lnTo>
                <a:lnTo>
                  <a:pt x="1679" y="2154"/>
                </a:lnTo>
                <a:lnTo>
                  <a:pt x="1825" y="2149"/>
                </a:lnTo>
                <a:lnTo>
                  <a:pt x="1842" y="2226"/>
                </a:lnTo>
                <a:lnTo>
                  <a:pt x="2041" y="2405"/>
                </a:lnTo>
                <a:lnTo>
                  <a:pt x="2195" y="2485"/>
                </a:lnTo>
                <a:lnTo>
                  <a:pt x="2377" y="2382"/>
                </a:lnTo>
                <a:lnTo>
                  <a:pt x="2405" y="2313"/>
                </a:lnTo>
                <a:lnTo>
                  <a:pt x="2543" y="2377"/>
                </a:lnTo>
                <a:lnTo>
                  <a:pt x="2725" y="2376"/>
                </a:lnTo>
                <a:lnTo>
                  <a:pt x="2698" y="2307"/>
                </a:lnTo>
                <a:lnTo>
                  <a:pt x="2717" y="2186"/>
                </a:lnTo>
                <a:lnTo>
                  <a:pt x="2782" y="2136"/>
                </a:lnTo>
                <a:lnTo>
                  <a:pt x="2771" y="2019"/>
                </a:lnTo>
                <a:lnTo>
                  <a:pt x="2931" y="1930"/>
                </a:lnTo>
                <a:lnTo>
                  <a:pt x="2833" y="1874"/>
                </a:lnTo>
                <a:lnTo>
                  <a:pt x="2802" y="1778"/>
                </a:lnTo>
                <a:lnTo>
                  <a:pt x="2777" y="1839"/>
                </a:lnTo>
                <a:lnTo>
                  <a:pt x="2569" y="1378"/>
                </a:lnTo>
                <a:lnTo>
                  <a:pt x="2443" y="1336"/>
                </a:lnTo>
                <a:lnTo>
                  <a:pt x="2387" y="1119"/>
                </a:lnTo>
                <a:lnTo>
                  <a:pt x="2182" y="871"/>
                </a:lnTo>
                <a:lnTo>
                  <a:pt x="2213" y="751"/>
                </a:lnTo>
                <a:lnTo>
                  <a:pt x="2278" y="690"/>
                </a:lnTo>
                <a:lnTo>
                  <a:pt x="2451" y="614"/>
                </a:lnTo>
                <a:lnTo>
                  <a:pt x="2620" y="607"/>
                </a:lnTo>
                <a:lnTo>
                  <a:pt x="2648" y="254"/>
                </a:lnTo>
                <a:lnTo>
                  <a:pt x="2771" y="191"/>
                </a:lnTo>
                <a:lnTo>
                  <a:pt x="2682" y="0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48200" y="2212920"/>
            <a:ext cx="493920" cy="480960"/>
          </a:xfrm>
          <a:custGeom>
            <a:avLst/>
            <a:gdLst/>
            <a:ahLst/>
            <a:rect l="l" t="t" r="r" b="b"/>
            <a:pathLst>
              <a:path w="932" h="909">
                <a:moveTo>
                  <a:pt x="213" y="909"/>
                </a:moveTo>
                <a:lnTo>
                  <a:pt x="305" y="804"/>
                </a:lnTo>
                <a:lnTo>
                  <a:pt x="328" y="555"/>
                </a:lnTo>
                <a:lnTo>
                  <a:pt x="436" y="476"/>
                </a:lnTo>
                <a:lnTo>
                  <a:pt x="600" y="486"/>
                </a:lnTo>
                <a:lnTo>
                  <a:pt x="578" y="436"/>
                </a:lnTo>
                <a:lnTo>
                  <a:pt x="820" y="138"/>
                </a:lnTo>
                <a:lnTo>
                  <a:pt x="932" y="177"/>
                </a:lnTo>
                <a:lnTo>
                  <a:pt x="711" y="16"/>
                </a:lnTo>
                <a:lnTo>
                  <a:pt x="594" y="0"/>
                </a:lnTo>
                <a:lnTo>
                  <a:pt x="496" y="54"/>
                </a:lnTo>
                <a:lnTo>
                  <a:pt x="424" y="3"/>
                </a:lnTo>
                <a:lnTo>
                  <a:pt x="271" y="106"/>
                </a:lnTo>
                <a:lnTo>
                  <a:pt x="269" y="190"/>
                </a:lnTo>
                <a:lnTo>
                  <a:pt x="171" y="296"/>
                </a:lnTo>
                <a:lnTo>
                  <a:pt x="104" y="185"/>
                </a:lnTo>
                <a:lnTo>
                  <a:pt x="0" y="210"/>
                </a:lnTo>
                <a:lnTo>
                  <a:pt x="131" y="378"/>
                </a:lnTo>
                <a:lnTo>
                  <a:pt x="105" y="428"/>
                </a:lnTo>
                <a:lnTo>
                  <a:pt x="281" y="614"/>
                </a:lnTo>
                <a:lnTo>
                  <a:pt x="155" y="834"/>
                </a:lnTo>
                <a:lnTo>
                  <a:pt x="213" y="909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84920" y="1927080"/>
            <a:ext cx="331560" cy="252720"/>
          </a:xfrm>
          <a:custGeom>
            <a:avLst/>
            <a:gdLst/>
            <a:ahLst/>
            <a:rect l="l" t="t" r="r" b="b"/>
            <a:pathLst>
              <a:path w="627" h="479">
                <a:moveTo>
                  <a:pt x="342" y="0"/>
                </a:moveTo>
                <a:lnTo>
                  <a:pt x="257" y="91"/>
                </a:lnTo>
                <a:lnTo>
                  <a:pt x="0" y="214"/>
                </a:lnTo>
                <a:lnTo>
                  <a:pt x="122" y="275"/>
                </a:lnTo>
                <a:lnTo>
                  <a:pt x="214" y="253"/>
                </a:lnTo>
                <a:lnTo>
                  <a:pt x="296" y="464"/>
                </a:lnTo>
                <a:lnTo>
                  <a:pt x="345" y="479"/>
                </a:lnTo>
                <a:lnTo>
                  <a:pt x="415" y="447"/>
                </a:lnTo>
                <a:lnTo>
                  <a:pt x="627" y="252"/>
                </a:lnTo>
                <a:lnTo>
                  <a:pt x="533" y="96"/>
                </a:lnTo>
                <a:lnTo>
                  <a:pt x="403" y="88"/>
                </a:lnTo>
                <a:lnTo>
                  <a:pt x="390" y="10"/>
                </a:lnTo>
                <a:lnTo>
                  <a:pt x="342" y="0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1760" y="2433600"/>
            <a:ext cx="2490840" cy="1467000"/>
          </a:xfrm>
          <a:custGeom>
            <a:avLst/>
            <a:gdLst/>
            <a:ahLst/>
            <a:rect l="l" t="t" r="r" b="b"/>
            <a:pathLst>
              <a:path w="4706" h="2773">
                <a:moveTo>
                  <a:pt x="1897" y="345"/>
                </a:moveTo>
                <a:lnTo>
                  <a:pt x="2050" y="966"/>
                </a:lnTo>
                <a:lnTo>
                  <a:pt x="2050" y="1123"/>
                </a:lnTo>
                <a:lnTo>
                  <a:pt x="1838" y="1395"/>
                </a:lnTo>
                <a:lnTo>
                  <a:pt x="1720" y="1476"/>
                </a:lnTo>
                <a:lnTo>
                  <a:pt x="1592" y="1486"/>
                </a:lnTo>
                <a:lnTo>
                  <a:pt x="1529" y="1428"/>
                </a:lnTo>
                <a:lnTo>
                  <a:pt x="1424" y="1411"/>
                </a:lnTo>
                <a:lnTo>
                  <a:pt x="1359" y="1362"/>
                </a:lnTo>
                <a:lnTo>
                  <a:pt x="1241" y="1057"/>
                </a:lnTo>
                <a:lnTo>
                  <a:pt x="1056" y="938"/>
                </a:lnTo>
                <a:lnTo>
                  <a:pt x="893" y="830"/>
                </a:lnTo>
                <a:lnTo>
                  <a:pt x="847" y="630"/>
                </a:lnTo>
                <a:lnTo>
                  <a:pt x="492" y="869"/>
                </a:lnTo>
                <a:lnTo>
                  <a:pt x="326" y="913"/>
                </a:lnTo>
                <a:lnTo>
                  <a:pt x="169" y="1281"/>
                </a:lnTo>
                <a:lnTo>
                  <a:pt x="189" y="1599"/>
                </a:lnTo>
                <a:lnTo>
                  <a:pt x="0" y="1888"/>
                </a:lnTo>
                <a:lnTo>
                  <a:pt x="4" y="2252"/>
                </a:lnTo>
                <a:lnTo>
                  <a:pt x="1" y="2426"/>
                </a:lnTo>
                <a:lnTo>
                  <a:pt x="93" y="2773"/>
                </a:lnTo>
                <a:lnTo>
                  <a:pt x="201" y="2746"/>
                </a:lnTo>
                <a:lnTo>
                  <a:pt x="269" y="2554"/>
                </a:lnTo>
                <a:lnTo>
                  <a:pt x="705" y="2284"/>
                </a:lnTo>
                <a:lnTo>
                  <a:pt x="999" y="2265"/>
                </a:lnTo>
                <a:lnTo>
                  <a:pt x="1117" y="2310"/>
                </a:lnTo>
                <a:lnTo>
                  <a:pt x="1269" y="2208"/>
                </a:lnTo>
                <a:lnTo>
                  <a:pt x="1388" y="2336"/>
                </a:lnTo>
                <a:lnTo>
                  <a:pt x="1427" y="2262"/>
                </a:lnTo>
                <a:lnTo>
                  <a:pt x="1504" y="2229"/>
                </a:lnTo>
                <a:lnTo>
                  <a:pt x="1660" y="2265"/>
                </a:lnTo>
                <a:lnTo>
                  <a:pt x="1738" y="2221"/>
                </a:lnTo>
                <a:lnTo>
                  <a:pt x="1933" y="2228"/>
                </a:lnTo>
                <a:lnTo>
                  <a:pt x="2074" y="2296"/>
                </a:lnTo>
                <a:lnTo>
                  <a:pt x="2189" y="2218"/>
                </a:lnTo>
                <a:lnTo>
                  <a:pt x="2283" y="2255"/>
                </a:lnTo>
                <a:lnTo>
                  <a:pt x="2525" y="1995"/>
                </a:lnTo>
                <a:lnTo>
                  <a:pt x="2699" y="2275"/>
                </a:lnTo>
                <a:lnTo>
                  <a:pt x="3089" y="2273"/>
                </a:lnTo>
                <a:lnTo>
                  <a:pt x="3120" y="2344"/>
                </a:lnTo>
                <a:lnTo>
                  <a:pt x="3340" y="2474"/>
                </a:lnTo>
                <a:lnTo>
                  <a:pt x="3481" y="2567"/>
                </a:lnTo>
                <a:lnTo>
                  <a:pt x="3591" y="2708"/>
                </a:lnTo>
                <a:lnTo>
                  <a:pt x="3788" y="2744"/>
                </a:lnTo>
                <a:lnTo>
                  <a:pt x="3812" y="2701"/>
                </a:lnTo>
                <a:lnTo>
                  <a:pt x="3935" y="2674"/>
                </a:lnTo>
                <a:lnTo>
                  <a:pt x="3998" y="2508"/>
                </a:lnTo>
                <a:lnTo>
                  <a:pt x="4103" y="2474"/>
                </a:lnTo>
                <a:lnTo>
                  <a:pt x="4198" y="2530"/>
                </a:lnTo>
                <a:lnTo>
                  <a:pt x="4234" y="2475"/>
                </a:lnTo>
                <a:lnTo>
                  <a:pt x="4402" y="2487"/>
                </a:lnTo>
                <a:lnTo>
                  <a:pt x="4404" y="2323"/>
                </a:lnTo>
                <a:lnTo>
                  <a:pt x="4543" y="2061"/>
                </a:lnTo>
                <a:lnTo>
                  <a:pt x="4651" y="1973"/>
                </a:lnTo>
                <a:lnTo>
                  <a:pt x="4687" y="1988"/>
                </a:lnTo>
                <a:lnTo>
                  <a:pt x="4706" y="1844"/>
                </a:lnTo>
                <a:lnTo>
                  <a:pt x="4571" y="1569"/>
                </a:lnTo>
                <a:lnTo>
                  <a:pt x="4584" y="1506"/>
                </a:lnTo>
                <a:lnTo>
                  <a:pt x="4484" y="1454"/>
                </a:lnTo>
                <a:lnTo>
                  <a:pt x="4458" y="1361"/>
                </a:lnTo>
                <a:lnTo>
                  <a:pt x="4366" y="1302"/>
                </a:lnTo>
                <a:lnTo>
                  <a:pt x="4382" y="1208"/>
                </a:lnTo>
                <a:lnTo>
                  <a:pt x="4296" y="1161"/>
                </a:lnTo>
                <a:lnTo>
                  <a:pt x="4191" y="1218"/>
                </a:lnTo>
                <a:lnTo>
                  <a:pt x="4228" y="942"/>
                </a:lnTo>
                <a:lnTo>
                  <a:pt x="4169" y="887"/>
                </a:lnTo>
                <a:lnTo>
                  <a:pt x="4247" y="818"/>
                </a:lnTo>
                <a:lnTo>
                  <a:pt x="4227" y="650"/>
                </a:lnTo>
                <a:lnTo>
                  <a:pt x="3988" y="528"/>
                </a:lnTo>
                <a:lnTo>
                  <a:pt x="3978" y="408"/>
                </a:lnTo>
                <a:lnTo>
                  <a:pt x="3868" y="430"/>
                </a:lnTo>
                <a:lnTo>
                  <a:pt x="3686" y="431"/>
                </a:lnTo>
                <a:lnTo>
                  <a:pt x="3548" y="367"/>
                </a:lnTo>
                <a:lnTo>
                  <a:pt x="3520" y="436"/>
                </a:lnTo>
                <a:lnTo>
                  <a:pt x="3338" y="539"/>
                </a:lnTo>
                <a:lnTo>
                  <a:pt x="3184" y="459"/>
                </a:lnTo>
                <a:lnTo>
                  <a:pt x="2985" y="280"/>
                </a:lnTo>
                <a:lnTo>
                  <a:pt x="2968" y="203"/>
                </a:lnTo>
                <a:lnTo>
                  <a:pt x="2822" y="208"/>
                </a:lnTo>
                <a:lnTo>
                  <a:pt x="2776" y="135"/>
                </a:lnTo>
                <a:lnTo>
                  <a:pt x="2702" y="165"/>
                </a:lnTo>
                <a:lnTo>
                  <a:pt x="2470" y="0"/>
                </a:lnTo>
                <a:lnTo>
                  <a:pt x="2480" y="90"/>
                </a:lnTo>
                <a:lnTo>
                  <a:pt x="2444" y="113"/>
                </a:lnTo>
                <a:lnTo>
                  <a:pt x="2424" y="70"/>
                </a:lnTo>
                <a:lnTo>
                  <a:pt x="2391" y="23"/>
                </a:lnTo>
                <a:lnTo>
                  <a:pt x="2342" y="33"/>
                </a:lnTo>
                <a:lnTo>
                  <a:pt x="2276" y="113"/>
                </a:lnTo>
                <a:lnTo>
                  <a:pt x="2195" y="168"/>
                </a:lnTo>
                <a:lnTo>
                  <a:pt x="2146" y="151"/>
                </a:lnTo>
                <a:lnTo>
                  <a:pt x="2132" y="204"/>
                </a:lnTo>
                <a:lnTo>
                  <a:pt x="2030" y="224"/>
                </a:lnTo>
                <a:lnTo>
                  <a:pt x="1962" y="334"/>
                </a:lnTo>
                <a:lnTo>
                  <a:pt x="1897" y="345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1080" y="3489480"/>
            <a:ext cx="2071440" cy="1692000"/>
          </a:xfrm>
          <a:custGeom>
            <a:avLst/>
            <a:gdLst/>
            <a:ahLst/>
            <a:rect l="l" t="t" r="r" b="b"/>
            <a:pathLst>
              <a:path w="3914" h="3197">
                <a:moveTo>
                  <a:pt x="0" y="778"/>
                </a:moveTo>
                <a:lnTo>
                  <a:pt x="43" y="1136"/>
                </a:lnTo>
                <a:lnTo>
                  <a:pt x="210" y="1509"/>
                </a:lnTo>
                <a:lnTo>
                  <a:pt x="184" y="1657"/>
                </a:lnTo>
                <a:lnTo>
                  <a:pt x="229" y="1627"/>
                </a:lnTo>
                <a:lnTo>
                  <a:pt x="250" y="1768"/>
                </a:lnTo>
                <a:lnTo>
                  <a:pt x="324" y="1713"/>
                </a:lnTo>
                <a:lnTo>
                  <a:pt x="417" y="1817"/>
                </a:lnTo>
                <a:lnTo>
                  <a:pt x="509" y="1817"/>
                </a:lnTo>
                <a:lnTo>
                  <a:pt x="671" y="1913"/>
                </a:lnTo>
                <a:lnTo>
                  <a:pt x="768" y="1906"/>
                </a:lnTo>
                <a:lnTo>
                  <a:pt x="812" y="1975"/>
                </a:lnTo>
                <a:lnTo>
                  <a:pt x="896" y="1923"/>
                </a:lnTo>
                <a:lnTo>
                  <a:pt x="1163" y="1877"/>
                </a:lnTo>
                <a:lnTo>
                  <a:pt x="1210" y="2004"/>
                </a:lnTo>
                <a:lnTo>
                  <a:pt x="1269" y="1998"/>
                </a:lnTo>
                <a:lnTo>
                  <a:pt x="1347" y="2063"/>
                </a:lnTo>
                <a:lnTo>
                  <a:pt x="1380" y="2146"/>
                </a:lnTo>
                <a:lnTo>
                  <a:pt x="1311" y="2283"/>
                </a:lnTo>
                <a:lnTo>
                  <a:pt x="1304" y="2454"/>
                </a:lnTo>
                <a:lnTo>
                  <a:pt x="1325" y="2657"/>
                </a:lnTo>
                <a:lnTo>
                  <a:pt x="1404" y="2723"/>
                </a:lnTo>
                <a:lnTo>
                  <a:pt x="1439" y="2659"/>
                </a:lnTo>
                <a:lnTo>
                  <a:pt x="1534" y="2672"/>
                </a:lnTo>
                <a:lnTo>
                  <a:pt x="1596" y="2763"/>
                </a:lnTo>
                <a:lnTo>
                  <a:pt x="1800" y="2822"/>
                </a:lnTo>
                <a:lnTo>
                  <a:pt x="1906" y="2931"/>
                </a:lnTo>
                <a:lnTo>
                  <a:pt x="1952" y="3161"/>
                </a:lnTo>
                <a:lnTo>
                  <a:pt x="2068" y="3197"/>
                </a:lnTo>
                <a:lnTo>
                  <a:pt x="2406" y="3072"/>
                </a:lnTo>
                <a:lnTo>
                  <a:pt x="2486" y="3144"/>
                </a:lnTo>
                <a:lnTo>
                  <a:pt x="2563" y="3146"/>
                </a:lnTo>
                <a:lnTo>
                  <a:pt x="2698" y="2998"/>
                </a:lnTo>
                <a:lnTo>
                  <a:pt x="2842" y="2995"/>
                </a:lnTo>
                <a:lnTo>
                  <a:pt x="2801" y="2846"/>
                </a:lnTo>
                <a:lnTo>
                  <a:pt x="2824" y="2792"/>
                </a:lnTo>
                <a:lnTo>
                  <a:pt x="2981" y="2777"/>
                </a:lnTo>
                <a:lnTo>
                  <a:pt x="3056" y="2654"/>
                </a:lnTo>
                <a:lnTo>
                  <a:pt x="3056" y="2605"/>
                </a:lnTo>
                <a:lnTo>
                  <a:pt x="3174" y="2596"/>
                </a:lnTo>
                <a:lnTo>
                  <a:pt x="3227" y="2526"/>
                </a:lnTo>
                <a:lnTo>
                  <a:pt x="3302" y="2595"/>
                </a:lnTo>
                <a:lnTo>
                  <a:pt x="3265" y="2619"/>
                </a:lnTo>
                <a:lnTo>
                  <a:pt x="3292" y="2713"/>
                </a:lnTo>
                <a:lnTo>
                  <a:pt x="3457" y="2668"/>
                </a:lnTo>
                <a:lnTo>
                  <a:pt x="3456" y="2560"/>
                </a:lnTo>
                <a:lnTo>
                  <a:pt x="3375" y="2470"/>
                </a:lnTo>
                <a:lnTo>
                  <a:pt x="3265" y="2491"/>
                </a:lnTo>
                <a:lnTo>
                  <a:pt x="3295" y="2252"/>
                </a:lnTo>
                <a:lnTo>
                  <a:pt x="3360" y="2165"/>
                </a:lnTo>
                <a:lnTo>
                  <a:pt x="3299" y="1913"/>
                </a:lnTo>
                <a:lnTo>
                  <a:pt x="3339" y="1877"/>
                </a:lnTo>
                <a:lnTo>
                  <a:pt x="3318" y="1811"/>
                </a:lnTo>
                <a:lnTo>
                  <a:pt x="3363" y="1714"/>
                </a:lnTo>
                <a:lnTo>
                  <a:pt x="3542" y="1637"/>
                </a:lnTo>
                <a:lnTo>
                  <a:pt x="3590" y="1420"/>
                </a:lnTo>
                <a:lnTo>
                  <a:pt x="3813" y="1410"/>
                </a:lnTo>
                <a:lnTo>
                  <a:pt x="3827" y="1292"/>
                </a:lnTo>
                <a:lnTo>
                  <a:pt x="3914" y="1198"/>
                </a:lnTo>
                <a:lnTo>
                  <a:pt x="3872" y="1165"/>
                </a:lnTo>
                <a:lnTo>
                  <a:pt x="3662" y="1168"/>
                </a:lnTo>
                <a:lnTo>
                  <a:pt x="3709" y="1002"/>
                </a:lnTo>
                <a:lnTo>
                  <a:pt x="3695" y="749"/>
                </a:lnTo>
                <a:lnTo>
                  <a:pt x="3498" y="713"/>
                </a:lnTo>
                <a:lnTo>
                  <a:pt x="3388" y="572"/>
                </a:lnTo>
                <a:lnTo>
                  <a:pt x="3247" y="479"/>
                </a:lnTo>
                <a:lnTo>
                  <a:pt x="3027" y="349"/>
                </a:lnTo>
                <a:lnTo>
                  <a:pt x="2996" y="278"/>
                </a:lnTo>
                <a:lnTo>
                  <a:pt x="2606" y="280"/>
                </a:lnTo>
                <a:lnTo>
                  <a:pt x="2432" y="0"/>
                </a:lnTo>
                <a:lnTo>
                  <a:pt x="2190" y="260"/>
                </a:lnTo>
                <a:lnTo>
                  <a:pt x="2096" y="223"/>
                </a:lnTo>
                <a:lnTo>
                  <a:pt x="1981" y="301"/>
                </a:lnTo>
                <a:lnTo>
                  <a:pt x="1840" y="233"/>
                </a:lnTo>
                <a:lnTo>
                  <a:pt x="1645" y="226"/>
                </a:lnTo>
                <a:lnTo>
                  <a:pt x="1567" y="270"/>
                </a:lnTo>
                <a:lnTo>
                  <a:pt x="1411" y="234"/>
                </a:lnTo>
                <a:lnTo>
                  <a:pt x="1334" y="267"/>
                </a:lnTo>
                <a:lnTo>
                  <a:pt x="1295" y="341"/>
                </a:lnTo>
                <a:lnTo>
                  <a:pt x="1176" y="213"/>
                </a:lnTo>
                <a:lnTo>
                  <a:pt x="1024" y="315"/>
                </a:lnTo>
                <a:lnTo>
                  <a:pt x="906" y="270"/>
                </a:lnTo>
                <a:lnTo>
                  <a:pt x="612" y="289"/>
                </a:lnTo>
                <a:lnTo>
                  <a:pt x="176" y="559"/>
                </a:lnTo>
                <a:lnTo>
                  <a:pt x="108" y="751"/>
                </a:lnTo>
                <a:lnTo>
                  <a:pt x="0" y="778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94200" y="4156200"/>
            <a:ext cx="33480" cy="261720"/>
          </a:xfrm>
          <a:custGeom>
            <a:avLst/>
            <a:gdLst/>
            <a:ahLst/>
            <a:rect l="l" t="t" r="r" b="b"/>
            <a:pathLst>
              <a:path w="62" h="496">
                <a:moveTo>
                  <a:pt x="2" y="496"/>
                </a:moveTo>
                <a:lnTo>
                  <a:pt x="62" y="316"/>
                </a:lnTo>
                <a:lnTo>
                  <a:pt x="55" y="124"/>
                </a:lnTo>
                <a:lnTo>
                  <a:pt x="0" y="0"/>
                </a:lnTo>
                <a:lnTo>
                  <a:pt x="26" y="232"/>
                </a:lnTo>
                <a:lnTo>
                  <a:pt x="2" y="496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8000" y="49320"/>
            <a:ext cx="2549520" cy="1415880"/>
          </a:xfrm>
          <a:custGeom>
            <a:avLst/>
            <a:gdLst/>
            <a:ahLst/>
            <a:rect l="l" t="t" r="r" b="b"/>
            <a:pathLst>
              <a:path w="4817" h="2676">
                <a:moveTo>
                  <a:pt x="55" y="233"/>
                </a:moveTo>
                <a:lnTo>
                  <a:pt x="68" y="238"/>
                </a:lnTo>
                <a:lnTo>
                  <a:pt x="99" y="249"/>
                </a:lnTo>
                <a:lnTo>
                  <a:pt x="115" y="278"/>
                </a:lnTo>
                <a:lnTo>
                  <a:pt x="122" y="304"/>
                </a:lnTo>
                <a:lnTo>
                  <a:pt x="135" y="325"/>
                </a:lnTo>
                <a:lnTo>
                  <a:pt x="141" y="353"/>
                </a:lnTo>
                <a:lnTo>
                  <a:pt x="147" y="374"/>
                </a:lnTo>
                <a:lnTo>
                  <a:pt x="164" y="370"/>
                </a:lnTo>
                <a:lnTo>
                  <a:pt x="173" y="370"/>
                </a:lnTo>
                <a:lnTo>
                  <a:pt x="180" y="377"/>
                </a:lnTo>
                <a:lnTo>
                  <a:pt x="167" y="389"/>
                </a:lnTo>
                <a:lnTo>
                  <a:pt x="168" y="412"/>
                </a:lnTo>
                <a:lnTo>
                  <a:pt x="158" y="407"/>
                </a:lnTo>
                <a:lnTo>
                  <a:pt x="151" y="403"/>
                </a:lnTo>
                <a:lnTo>
                  <a:pt x="131" y="399"/>
                </a:lnTo>
                <a:lnTo>
                  <a:pt x="118" y="403"/>
                </a:lnTo>
                <a:lnTo>
                  <a:pt x="138" y="430"/>
                </a:lnTo>
                <a:lnTo>
                  <a:pt x="151" y="441"/>
                </a:lnTo>
                <a:lnTo>
                  <a:pt x="170" y="429"/>
                </a:lnTo>
                <a:lnTo>
                  <a:pt x="197" y="455"/>
                </a:lnTo>
                <a:lnTo>
                  <a:pt x="215" y="471"/>
                </a:lnTo>
                <a:lnTo>
                  <a:pt x="230" y="491"/>
                </a:lnTo>
                <a:lnTo>
                  <a:pt x="235" y="505"/>
                </a:lnTo>
                <a:lnTo>
                  <a:pt x="216" y="488"/>
                </a:lnTo>
                <a:lnTo>
                  <a:pt x="203" y="489"/>
                </a:lnTo>
                <a:lnTo>
                  <a:pt x="196" y="510"/>
                </a:lnTo>
                <a:lnTo>
                  <a:pt x="199" y="524"/>
                </a:lnTo>
                <a:lnTo>
                  <a:pt x="209" y="554"/>
                </a:lnTo>
                <a:lnTo>
                  <a:pt x="222" y="576"/>
                </a:lnTo>
                <a:lnTo>
                  <a:pt x="243" y="602"/>
                </a:lnTo>
                <a:lnTo>
                  <a:pt x="266" y="638"/>
                </a:lnTo>
                <a:lnTo>
                  <a:pt x="279" y="655"/>
                </a:lnTo>
                <a:lnTo>
                  <a:pt x="301" y="671"/>
                </a:lnTo>
                <a:lnTo>
                  <a:pt x="327" y="688"/>
                </a:lnTo>
                <a:lnTo>
                  <a:pt x="285" y="686"/>
                </a:lnTo>
                <a:lnTo>
                  <a:pt x="256" y="666"/>
                </a:lnTo>
                <a:lnTo>
                  <a:pt x="223" y="668"/>
                </a:lnTo>
                <a:lnTo>
                  <a:pt x="210" y="649"/>
                </a:lnTo>
                <a:lnTo>
                  <a:pt x="191" y="635"/>
                </a:lnTo>
                <a:lnTo>
                  <a:pt x="176" y="656"/>
                </a:lnTo>
                <a:lnTo>
                  <a:pt x="179" y="685"/>
                </a:lnTo>
                <a:lnTo>
                  <a:pt x="200" y="708"/>
                </a:lnTo>
                <a:lnTo>
                  <a:pt x="220" y="717"/>
                </a:lnTo>
                <a:lnTo>
                  <a:pt x="238" y="725"/>
                </a:lnTo>
                <a:lnTo>
                  <a:pt x="252" y="733"/>
                </a:lnTo>
                <a:lnTo>
                  <a:pt x="232" y="744"/>
                </a:lnTo>
                <a:lnTo>
                  <a:pt x="212" y="757"/>
                </a:lnTo>
                <a:lnTo>
                  <a:pt x="199" y="763"/>
                </a:lnTo>
                <a:lnTo>
                  <a:pt x="222" y="791"/>
                </a:lnTo>
                <a:lnTo>
                  <a:pt x="243" y="802"/>
                </a:lnTo>
                <a:lnTo>
                  <a:pt x="253" y="817"/>
                </a:lnTo>
                <a:lnTo>
                  <a:pt x="259" y="827"/>
                </a:lnTo>
                <a:lnTo>
                  <a:pt x="236" y="835"/>
                </a:lnTo>
                <a:lnTo>
                  <a:pt x="216" y="848"/>
                </a:lnTo>
                <a:lnTo>
                  <a:pt x="194" y="836"/>
                </a:lnTo>
                <a:lnTo>
                  <a:pt x="197" y="859"/>
                </a:lnTo>
                <a:lnTo>
                  <a:pt x="219" y="872"/>
                </a:lnTo>
                <a:lnTo>
                  <a:pt x="236" y="885"/>
                </a:lnTo>
                <a:lnTo>
                  <a:pt x="249" y="915"/>
                </a:lnTo>
                <a:lnTo>
                  <a:pt x="253" y="931"/>
                </a:lnTo>
                <a:lnTo>
                  <a:pt x="263" y="950"/>
                </a:lnTo>
                <a:lnTo>
                  <a:pt x="255" y="984"/>
                </a:lnTo>
                <a:lnTo>
                  <a:pt x="243" y="1016"/>
                </a:lnTo>
                <a:lnTo>
                  <a:pt x="232" y="1023"/>
                </a:lnTo>
                <a:lnTo>
                  <a:pt x="298" y="1062"/>
                </a:lnTo>
                <a:lnTo>
                  <a:pt x="242" y="1096"/>
                </a:lnTo>
                <a:lnTo>
                  <a:pt x="262" y="1124"/>
                </a:lnTo>
                <a:lnTo>
                  <a:pt x="212" y="1130"/>
                </a:lnTo>
                <a:lnTo>
                  <a:pt x="217" y="1155"/>
                </a:lnTo>
                <a:lnTo>
                  <a:pt x="233" y="1181"/>
                </a:lnTo>
                <a:lnTo>
                  <a:pt x="230" y="1206"/>
                </a:lnTo>
                <a:lnTo>
                  <a:pt x="235" y="1233"/>
                </a:lnTo>
                <a:lnTo>
                  <a:pt x="256" y="1258"/>
                </a:lnTo>
                <a:lnTo>
                  <a:pt x="209" y="1258"/>
                </a:lnTo>
                <a:lnTo>
                  <a:pt x="187" y="1256"/>
                </a:lnTo>
                <a:lnTo>
                  <a:pt x="222" y="1275"/>
                </a:lnTo>
                <a:lnTo>
                  <a:pt x="219" y="1293"/>
                </a:lnTo>
                <a:lnTo>
                  <a:pt x="180" y="1278"/>
                </a:lnTo>
                <a:lnTo>
                  <a:pt x="161" y="1266"/>
                </a:lnTo>
                <a:lnTo>
                  <a:pt x="147" y="1269"/>
                </a:lnTo>
                <a:lnTo>
                  <a:pt x="154" y="1299"/>
                </a:lnTo>
                <a:lnTo>
                  <a:pt x="173" y="1302"/>
                </a:lnTo>
                <a:lnTo>
                  <a:pt x="164" y="1329"/>
                </a:lnTo>
                <a:lnTo>
                  <a:pt x="184" y="1327"/>
                </a:lnTo>
                <a:lnTo>
                  <a:pt x="193" y="1361"/>
                </a:lnTo>
                <a:lnTo>
                  <a:pt x="236" y="1406"/>
                </a:lnTo>
                <a:lnTo>
                  <a:pt x="253" y="1447"/>
                </a:lnTo>
                <a:lnTo>
                  <a:pt x="265" y="1470"/>
                </a:lnTo>
                <a:lnTo>
                  <a:pt x="230" y="1446"/>
                </a:lnTo>
                <a:lnTo>
                  <a:pt x="213" y="1440"/>
                </a:lnTo>
                <a:lnTo>
                  <a:pt x="223" y="1423"/>
                </a:lnTo>
                <a:lnTo>
                  <a:pt x="147" y="1355"/>
                </a:lnTo>
                <a:lnTo>
                  <a:pt x="124" y="1380"/>
                </a:lnTo>
                <a:lnTo>
                  <a:pt x="157" y="1414"/>
                </a:lnTo>
                <a:lnTo>
                  <a:pt x="174" y="1445"/>
                </a:lnTo>
                <a:lnTo>
                  <a:pt x="144" y="1460"/>
                </a:lnTo>
                <a:lnTo>
                  <a:pt x="127" y="1480"/>
                </a:lnTo>
                <a:lnTo>
                  <a:pt x="154" y="1502"/>
                </a:lnTo>
                <a:lnTo>
                  <a:pt x="187" y="1489"/>
                </a:lnTo>
                <a:lnTo>
                  <a:pt x="207" y="1482"/>
                </a:lnTo>
                <a:lnTo>
                  <a:pt x="196" y="1457"/>
                </a:lnTo>
                <a:lnTo>
                  <a:pt x="206" y="1455"/>
                </a:lnTo>
                <a:lnTo>
                  <a:pt x="223" y="1475"/>
                </a:lnTo>
                <a:lnTo>
                  <a:pt x="240" y="1485"/>
                </a:lnTo>
                <a:lnTo>
                  <a:pt x="248" y="1493"/>
                </a:lnTo>
                <a:lnTo>
                  <a:pt x="207" y="1496"/>
                </a:lnTo>
                <a:lnTo>
                  <a:pt x="180" y="1527"/>
                </a:lnTo>
                <a:lnTo>
                  <a:pt x="206" y="1542"/>
                </a:lnTo>
                <a:lnTo>
                  <a:pt x="232" y="1567"/>
                </a:lnTo>
                <a:lnTo>
                  <a:pt x="235" y="1594"/>
                </a:lnTo>
                <a:lnTo>
                  <a:pt x="249" y="1620"/>
                </a:lnTo>
                <a:lnTo>
                  <a:pt x="261" y="1644"/>
                </a:lnTo>
                <a:lnTo>
                  <a:pt x="275" y="1652"/>
                </a:lnTo>
                <a:lnTo>
                  <a:pt x="286" y="1659"/>
                </a:lnTo>
                <a:lnTo>
                  <a:pt x="271" y="1675"/>
                </a:lnTo>
                <a:lnTo>
                  <a:pt x="284" y="1690"/>
                </a:lnTo>
                <a:lnTo>
                  <a:pt x="297" y="1706"/>
                </a:lnTo>
                <a:lnTo>
                  <a:pt x="272" y="1708"/>
                </a:lnTo>
                <a:lnTo>
                  <a:pt x="240" y="1703"/>
                </a:lnTo>
                <a:lnTo>
                  <a:pt x="225" y="1702"/>
                </a:lnTo>
                <a:lnTo>
                  <a:pt x="232" y="1726"/>
                </a:lnTo>
                <a:lnTo>
                  <a:pt x="243" y="1757"/>
                </a:lnTo>
                <a:lnTo>
                  <a:pt x="265" y="1768"/>
                </a:lnTo>
                <a:lnTo>
                  <a:pt x="288" y="1778"/>
                </a:lnTo>
                <a:lnTo>
                  <a:pt x="298" y="1795"/>
                </a:lnTo>
                <a:lnTo>
                  <a:pt x="301" y="1806"/>
                </a:lnTo>
                <a:lnTo>
                  <a:pt x="282" y="1801"/>
                </a:lnTo>
                <a:lnTo>
                  <a:pt x="278" y="1823"/>
                </a:lnTo>
                <a:lnTo>
                  <a:pt x="294" y="1833"/>
                </a:lnTo>
                <a:lnTo>
                  <a:pt x="317" y="1865"/>
                </a:lnTo>
                <a:lnTo>
                  <a:pt x="325" y="1882"/>
                </a:lnTo>
                <a:lnTo>
                  <a:pt x="297" y="1880"/>
                </a:lnTo>
                <a:lnTo>
                  <a:pt x="278" y="1876"/>
                </a:lnTo>
                <a:lnTo>
                  <a:pt x="252" y="1856"/>
                </a:lnTo>
                <a:lnTo>
                  <a:pt x="236" y="1830"/>
                </a:lnTo>
                <a:lnTo>
                  <a:pt x="217" y="1807"/>
                </a:lnTo>
                <a:lnTo>
                  <a:pt x="202" y="1780"/>
                </a:lnTo>
                <a:lnTo>
                  <a:pt x="181" y="1760"/>
                </a:lnTo>
                <a:lnTo>
                  <a:pt x="170" y="1785"/>
                </a:lnTo>
                <a:lnTo>
                  <a:pt x="158" y="1803"/>
                </a:lnTo>
                <a:lnTo>
                  <a:pt x="176" y="1837"/>
                </a:lnTo>
                <a:lnTo>
                  <a:pt x="186" y="1844"/>
                </a:lnTo>
                <a:lnTo>
                  <a:pt x="196" y="1834"/>
                </a:lnTo>
                <a:lnTo>
                  <a:pt x="202" y="1870"/>
                </a:lnTo>
                <a:lnTo>
                  <a:pt x="213" y="1903"/>
                </a:lnTo>
                <a:lnTo>
                  <a:pt x="256" y="1972"/>
                </a:lnTo>
                <a:lnTo>
                  <a:pt x="259" y="1965"/>
                </a:lnTo>
                <a:lnTo>
                  <a:pt x="250" y="1952"/>
                </a:lnTo>
                <a:lnTo>
                  <a:pt x="266" y="1945"/>
                </a:lnTo>
                <a:lnTo>
                  <a:pt x="285" y="1945"/>
                </a:lnTo>
                <a:lnTo>
                  <a:pt x="308" y="1972"/>
                </a:lnTo>
                <a:lnTo>
                  <a:pt x="327" y="1977"/>
                </a:lnTo>
                <a:lnTo>
                  <a:pt x="331" y="1961"/>
                </a:lnTo>
                <a:lnTo>
                  <a:pt x="341" y="1945"/>
                </a:lnTo>
                <a:lnTo>
                  <a:pt x="356" y="1936"/>
                </a:lnTo>
                <a:lnTo>
                  <a:pt x="374" y="1944"/>
                </a:lnTo>
                <a:lnTo>
                  <a:pt x="393" y="1954"/>
                </a:lnTo>
                <a:lnTo>
                  <a:pt x="400" y="1932"/>
                </a:lnTo>
                <a:lnTo>
                  <a:pt x="416" y="1919"/>
                </a:lnTo>
                <a:lnTo>
                  <a:pt x="429" y="1889"/>
                </a:lnTo>
                <a:lnTo>
                  <a:pt x="435" y="1875"/>
                </a:lnTo>
                <a:lnTo>
                  <a:pt x="432" y="1862"/>
                </a:lnTo>
                <a:lnTo>
                  <a:pt x="435" y="1831"/>
                </a:lnTo>
                <a:lnTo>
                  <a:pt x="450" y="1816"/>
                </a:lnTo>
                <a:lnTo>
                  <a:pt x="475" y="1813"/>
                </a:lnTo>
                <a:lnTo>
                  <a:pt x="489" y="1806"/>
                </a:lnTo>
                <a:lnTo>
                  <a:pt x="486" y="1856"/>
                </a:lnTo>
                <a:lnTo>
                  <a:pt x="476" y="1880"/>
                </a:lnTo>
                <a:lnTo>
                  <a:pt x="458" y="1934"/>
                </a:lnTo>
                <a:lnTo>
                  <a:pt x="453" y="1971"/>
                </a:lnTo>
                <a:lnTo>
                  <a:pt x="475" y="1993"/>
                </a:lnTo>
                <a:lnTo>
                  <a:pt x="497" y="1970"/>
                </a:lnTo>
                <a:lnTo>
                  <a:pt x="515" y="1949"/>
                </a:lnTo>
                <a:lnTo>
                  <a:pt x="525" y="1944"/>
                </a:lnTo>
                <a:lnTo>
                  <a:pt x="525" y="1967"/>
                </a:lnTo>
                <a:lnTo>
                  <a:pt x="524" y="1982"/>
                </a:lnTo>
                <a:lnTo>
                  <a:pt x="521" y="2030"/>
                </a:lnTo>
                <a:lnTo>
                  <a:pt x="515" y="2066"/>
                </a:lnTo>
                <a:lnTo>
                  <a:pt x="499" y="2083"/>
                </a:lnTo>
                <a:lnTo>
                  <a:pt x="527" y="2105"/>
                </a:lnTo>
                <a:lnTo>
                  <a:pt x="547" y="2086"/>
                </a:lnTo>
                <a:lnTo>
                  <a:pt x="567" y="2083"/>
                </a:lnTo>
                <a:lnTo>
                  <a:pt x="589" y="2092"/>
                </a:lnTo>
                <a:lnTo>
                  <a:pt x="614" y="2093"/>
                </a:lnTo>
                <a:lnTo>
                  <a:pt x="643" y="2082"/>
                </a:lnTo>
                <a:lnTo>
                  <a:pt x="658" y="2075"/>
                </a:lnTo>
                <a:lnTo>
                  <a:pt x="648" y="2040"/>
                </a:lnTo>
                <a:lnTo>
                  <a:pt x="639" y="2000"/>
                </a:lnTo>
                <a:lnTo>
                  <a:pt x="663" y="1990"/>
                </a:lnTo>
                <a:lnTo>
                  <a:pt x="684" y="1993"/>
                </a:lnTo>
                <a:lnTo>
                  <a:pt x="715" y="1995"/>
                </a:lnTo>
                <a:lnTo>
                  <a:pt x="738" y="1993"/>
                </a:lnTo>
                <a:lnTo>
                  <a:pt x="764" y="2001"/>
                </a:lnTo>
                <a:lnTo>
                  <a:pt x="793" y="2013"/>
                </a:lnTo>
                <a:lnTo>
                  <a:pt x="820" y="2026"/>
                </a:lnTo>
                <a:lnTo>
                  <a:pt x="855" y="2037"/>
                </a:lnTo>
                <a:lnTo>
                  <a:pt x="840" y="2106"/>
                </a:lnTo>
                <a:lnTo>
                  <a:pt x="793" y="2100"/>
                </a:lnTo>
                <a:lnTo>
                  <a:pt x="761" y="2123"/>
                </a:lnTo>
                <a:lnTo>
                  <a:pt x="725" y="2132"/>
                </a:lnTo>
                <a:lnTo>
                  <a:pt x="714" y="2182"/>
                </a:lnTo>
                <a:lnTo>
                  <a:pt x="761" y="2198"/>
                </a:lnTo>
                <a:lnTo>
                  <a:pt x="779" y="2190"/>
                </a:lnTo>
                <a:lnTo>
                  <a:pt x="761" y="2169"/>
                </a:lnTo>
                <a:lnTo>
                  <a:pt x="790" y="2168"/>
                </a:lnTo>
                <a:lnTo>
                  <a:pt x="794" y="2192"/>
                </a:lnTo>
                <a:lnTo>
                  <a:pt x="789" y="2218"/>
                </a:lnTo>
                <a:lnTo>
                  <a:pt x="784" y="2256"/>
                </a:lnTo>
                <a:lnTo>
                  <a:pt x="832" y="2280"/>
                </a:lnTo>
                <a:lnTo>
                  <a:pt x="855" y="2251"/>
                </a:lnTo>
                <a:lnTo>
                  <a:pt x="861" y="2208"/>
                </a:lnTo>
                <a:lnTo>
                  <a:pt x="871" y="2168"/>
                </a:lnTo>
                <a:lnTo>
                  <a:pt x="885" y="2159"/>
                </a:lnTo>
                <a:lnTo>
                  <a:pt x="905" y="2177"/>
                </a:lnTo>
                <a:lnTo>
                  <a:pt x="922" y="2178"/>
                </a:lnTo>
                <a:lnTo>
                  <a:pt x="935" y="2126"/>
                </a:lnTo>
                <a:lnTo>
                  <a:pt x="947" y="2095"/>
                </a:lnTo>
                <a:lnTo>
                  <a:pt x="957" y="2067"/>
                </a:lnTo>
                <a:lnTo>
                  <a:pt x="915" y="2076"/>
                </a:lnTo>
                <a:lnTo>
                  <a:pt x="951" y="2054"/>
                </a:lnTo>
                <a:lnTo>
                  <a:pt x="970" y="2046"/>
                </a:lnTo>
                <a:lnTo>
                  <a:pt x="1007" y="2008"/>
                </a:lnTo>
                <a:lnTo>
                  <a:pt x="994" y="2059"/>
                </a:lnTo>
                <a:lnTo>
                  <a:pt x="977" y="2105"/>
                </a:lnTo>
                <a:lnTo>
                  <a:pt x="950" y="2148"/>
                </a:lnTo>
                <a:lnTo>
                  <a:pt x="934" y="2200"/>
                </a:lnTo>
                <a:lnTo>
                  <a:pt x="981" y="2185"/>
                </a:lnTo>
                <a:lnTo>
                  <a:pt x="1010" y="2145"/>
                </a:lnTo>
                <a:lnTo>
                  <a:pt x="1020" y="2175"/>
                </a:lnTo>
                <a:lnTo>
                  <a:pt x="981" y="2218"/>
                </a:lnTo>
                <a:lnTo>
                  <a:pt x="947" y="2251"/>
                </a:lnTo>
                <a:lnTo>
                  <a:pt x="927" y="2296"/>
                </a:lnTo>
                <a:lnTo>
                  <a:pt x="981" y="2293"/>
                </a:lnTo>
                <a:lnTo>
                  <a:pt x="1042" y="2283"/>
                </a:lnTo>
                <a:lnTo>
                  <a:pt x="971" y="2306"/>
                </a:lnTo>
                <a:lnTo>
                  <a:pt x="943" y="2322"/>
                </a:lnTo>
                <a:lnTo>
                  <a:pt x="961" y="2364"/>
                </a:lnTo>
                <a:lnTo>
                  <a:pt x="950" y="2381"/>
                </a:lnTo>
                <a:lnTo>
                  <a:pt x="924" y="2385"/>
                </a:lnTo>
                <a:lnTo>
                  <a:pt x="907" y="2418"/>
                </a:lnTo>
                <a:lnTo>
                  <a:pt x="921" y="2487"/>
                </a:lnTo>
                <a:lnTo>
                  <a:pt x="925" y="2528"/>
                </a:lnTo>
                <a:lnTo>
                  <a:pt x="958" y="2562"/>
                </a:lnTo>
                <a:lnTo>
                  <a:pt x="996" y="2548"/>
                </a:lnTo>
                <a:lnTo>
                  <a:pt x="1040" y="2533"/>
                </a:lnTo>
                <a:lnTo>
                  <a:pt x="1078" y="2528"/>
                </a:lnTo>
                <a:lnTo>
                  <a:pt x="1128" y="2510"/>
                </a:lnTo>
                <a:lnTo>
                  <a:pt x="1157" y="2477"/>
                </a:lnTo>
                <a:lnTo>
                  <a:pt x="1181" y="2441"/>
                </a:lnTo>
                <a:lnTo>
                  <a:pt x="1171" y="2402"/>
                </a:lnTo>
                <a:lnTo>
                  <a:pt x="1166" y="2368"/>
                </a:lnTo>
                <a:lnTo>
                  <a:pt x="1171" y="2335"/>
                </a:lnTo>
                <a:lnTo>
                  <a:pt x="1190" y="2300"/>
                </a:lnTo>
                <a:lnTo>
                  <a:pt x="1168" y="2241"/>
                </a:lnTo>
                <a:lnTo>
                  <a:pt x="1229" y="2274"/>
                </a:lnTo>
                <a:lnTo>
                  <a:pt x="1263" y="2292"/>
                </a:lnTo>
                <a:lnTo>
                  <a:pt x="1207" y="2344"/>
                </a:lnTo>
                <a:lnTo>
                  <a:pt x="1252" y="2341"/>
                </a:lnTo>
                <a:lnTo>
                  <a:pt x="1259" y="2349"/>
                </a:lnTo>
                <a:lnTo>
                  <a:pt x="1291" y="2382"/>
                </a:lnTo>
                <a:lnTo>
                  <a:pt x="1262" y="2423"/>
                </a:lnTo>
                <a:lnTo>
                  <a:pt x="1250" y="2459"/>
                </a:lnTo>
                <a:lnTo>
                  <a:pt x="1220" y="2502"/>
                </a:lnTo>
                <a:lnTo>
                  <a:pt x="1249" y="2548"/>
                </a:lnTo>
                <a:lnTo>
                  <a:pt x="1296" y="2552"/>
                </a:lnTo>
                <a:lnTo>
                  <a:pt x="1331" y="2533"/>
                </a:lnTo>
                <a:lnTo>
                  <a:pt x="1380" y="2523"/>
                </a:lnTo>
                <a:lnTo>
                  <a:pt x="1409" y="2492"/>
                </a:lnTo>
                <a:lnTo>
                  <a:pt x="1426" y="2479"/>
                </a:lnTo>
                <a:lnTo>
                  <a:pt x="1440" y="2515"/>
                </a:lnTo>
                <a:lnTo>
                  <a:pt x="1399" y="2572"/>
                </a:lnTo>
                <a:lnTo>
                  <a:pt x="1345" y="2610"/>
                </a:lnTo>
                <a:lnTo>
                  <a:pt x="1304" y="2641"/>
                </a:lnTo>
                <a:lnTo>
                  <a:pt x="1292" y="2676"/>
                </a:lnTo>
                <a:lnTo>
                  <a:pt x="1354" y="2643"/>
                </a:lnTo>
                <a:lnTo>
                  <a:pt x="1410" y="2625"/>
                </a:lnTo>
                <a:lnTo>
                  <a:pt x="1462" y="2617"/>
                </a:lnTo>
                <a:lnTo>
                  <a:pt x="1466" y="2582"/>
                </a:lnTo>
                <a:lnTo>
                  <a:pt x="1509" y="2542"/>
                </a:lnTo>
                <a:lnTo>
                  <a:pt x="1525" y="2522"/>
                </a:lnTo>
                <a:lnTo>
                  <a:pt x="1567" y="2493"/>
                </a:lnTo>
                <a:lnTo>
                  <a:pt x="1666" y="2472"/>
                </a:lnTo>
                <a:lnTo>
                  <a:pt x="1714" y="2469"/>
                </a:lnTo>
                <a:lnTo>
                  <a:pt x="1754" y="2427"/>
                </a:lnTo>
                <a:lnTo>
                  <a:pt x="1789" y="2384"/>
                </a:lnTo>
                <a:lnTo>
                  <a:pt x="1856" y="2338"/>
                </a:lnTo>
                <a:lnTo>
                  <a:pt x="1898" y="2312"/>
                </a:lnTo>
                <a:lnTo>
                  <a:pt x="1932" y="2338"/>
                </a:lnTo>
                <a:lnTo>
                  <a:pt x="1983" y="2315"/>
                </a:lnTo>
                <a:lnTo>
                  <a:pt x="2012" y="2300"/>
                </a:lnTo>
                <a:lnTo>
                  <a:pt x="2048" y="2280"/>
                </a:lnTo>
                <a:lnTo>
                  <a:pt x="2059" y="2267"/>
                </a:lnTo>
                <a:lnTo>
                  <a:pt x="2046" y="2247"/>
                </a:lnTo>
                <a:lnTo>
                  <a:pt x="2096" y="2233"/>
                </a:lnTo>
                <a:lnTo>
                  <a:pt x="2086" y="2260"/>
                </a:lnTo>
                <a:lnTo>
                  <a:pt x="2092" y="2287"/>
                </a:lnTo>
                <a:lnTo>
                  <a:pt x="2089" y="2322"/>
                </a:lnTo>
                <a:lnTo>
                  <a:pt x="2130" y="2333"/>
                </a:lnTo>
                <a:lnTo>
                  <a:pt x="2137" y="2287"/>
                </a:lnTo>
                <a:lnTo>
                  <a:pt x="2151" y="2254"/>
                </a:lnTo>
                <a:lnTo>
                  <a:pt x="2145" y="2299"/>
                </a:lnTo>
                <a:lnTo>
                  <a:pt x="2128" y="2362"/>
                </a:lnTo>
                <a:lnTo>
                  <a:pt x="2160" y="2342"/>
                </a:lnTo>
                <a:lnTo>
                  <a:pt x="2193" y="2310"/>
                </a:lnTo>
                <a:lnTo>
                  <a:pt x="2216" y="2267"/>
                </a:lnTo>
                <a:lnTo>
                  <a:pt x="2239" y="2217"/>
                </a:lnTo>
                <a:lnTo>
                  <a:pt x="2255" y="2180"/>
                </a:lnTo>
                <a:lnTo>
                  <a:pt x="2301" y="2138"/>
                </a:lnTo>
                <a:lnTo>
                  <a:pt x="2380" y="2096"/>
                </a:lnTo>
                <a:lnTo>
                  <a:pt x="2432" y="2102"/>
                </a:lnTo>
                <a:lnTo>
                  <a:pt x="2456" y="2060"/>
                </a:lnTo>
                <a:lnTo>
                  <a:pt x="2504" y="2021"/>
                </a:lnTo>
                <a:lnTo>
                  <a:pt x="2538" y="2005"/>
                </a:lnTo>
                <a:lnTo>
                  <a:pt x="2517" y="1958"/>
                </a:lnTo>
                <a:lnTo>
                  <a:pt x="2564" y="1952"/>
                </a:lnTo>
                <a:lnTo>
                  <a:pt x="2609" y="1942"/>
                </a:lnTo>
                <a:lnTo>
                  <a:pt x="2652" y="1936"/>
                </a:lnTo>
                <a:lnTo>
                  <a:pt x="2689" y="1939"/>
                </a:lnTo>
                <a:lnTo>
                  <a:pt x="2718" y="1941"/>
                </a:lnTo>
                <a:lnTo>
                  <a:pt x="2731" y="1890"/>
                </a:lnTo>
                <a:lnTo>
                  <a:pt x="2747" y="1857"/>
                </a:lnTo>
                <a:lnTo>
                  <a:pt x="2740" y="1819"/>
                </a:lnTo>
                <a:lnTo>
                  <a:pt x="2780" y="1804"/>
                </a:lnTo>
                <a:lnTo>
                  <a:pt x="2819" y="1788"/>
                </a:lnTo>
                <a:lnTo>
                  <a:pt x="2813" y="1806"/>
                </a:lnTo>
                <a:lnTo>
                  <a:pt x="2804" y="1856"/>
                </a:lnTo>
                <a:lnTo>
                  <a:pt x="2837" y="1883"/>
                </a:lnTo>
                <a:lnTo>
                  <a:pt x="2879" y="1902"/>
                </a:lnTo>
                <a:lnTo>
                  <a:pt x="2919" y="1913"/>
                </a:lnTo>
                <a:lnTo>
                  <a:pt x="2968" y="1880"/>
                </a:lnTo>
                <a:lnTo>
                  <a:pt x="3006" y="1873"/>
                </a:lnTo>
                <a:lnTo>
                  <a:pt x="3048" y="1854"/>
                </a:lnTo>
                <a:lnTo>
                  <a:pt x="3075" y="1840"/>
                </a:lnTo>
                <a:lnTo>
                  <a:pt x="3095" y="1785"/>
                </a:lnTo>
                <a:lnTo>
                  <a:pt x="3111" y="1758"/>
                </a:lnTo>
                <a:lnTo>
                  <a:pt x="3155" y="1702"/>
                </a:lnTo>
                <a:lnTo>
                  <a:pt x="3266" y="1639"/>
                </a:lnTo>
                <a:lnTo>
                  <a:pt x="3350" y="1637"/>
                </a:lnTo>
                <a:lnTo>
                  <a:pt x="3368" y="1619"/>
                </a:lnTo>
                <a:lnTo>
                  <a:pt x="3387" y="1601"/>
                </a:lnTo>
                <a:lnTo>
                  <a:pt x="3394" y="1585"/>
                </a:lnTo>
                <a:lnTo>
                  <a:pt x="3416" y="1561"/>
                </a:lnTo>
                <a:lnTo>
                  <a:pt x="3481" y="1527"/>
                </a:lnTo>
                <a:lnTo>
                  <a:pt x="3530" y="1515"/>
                </a:lnTo>
                <a:lnTo>
                  <a:pt x="3563" y="1575"/>
                </a:lnTo>
                <a:lnTo>
                  <a:pt x="3606" y="1623"/>
                </a:lnTo>
                <a:lnTo>
                  <a:pt x="3601" y="1588"/>
                </a:lnTo>
                <a:lnTo>
                  <a:pt x="3584" y="1545"/>
                </a:lnTo>
                <a:lnTo>
                  <a:pt x="3560" y="1505"/>
                </a:lnTo>
                <a:lnTo>
                  <a:pt x="3560" y="1472"/>
                </a:lnTo>
                <a:lnTo>
                  <a:pt x="3594" y="1436"/>
                </a:lnTo>
                <a:lnTo>
                  <a:pt x="3629" y="1419"/>
                </a:lnTo>
                <a:lnTo>
                  <a:pt x="3659" y="1414"/>
                </a:lnTo>
                <a:lnTo>
                  <a:pt x="3694" y="1430"/>
                </a:lnTo>
                <a:lnTo>
                  <a:pt x="3741" y="1424"/>
                </a:lnTo>
                <a:lnTo>
                  <a:pt x="3776" y="1429"/>
                </a:lnTo>
                <a:lnTo>
                  <a:pt x="3810" y="1465"/>
                </a:lnTo>
                <a:lnTo>
                  <a:pt x="3836" y="1468"/>
                </a:lnTo>
                <a:lnTo>
                  <a:pt x="3820" y="1427"/>
                </a:lnTo>
                <a:lnTo>
                  <a:pt x="3837" y="1410"/>
                </a:lnTo>
                <a:lnTo>
                  <a:pt x="3869" y="1430"/>
                </a:lnTo>
                <a:lnTo>
                  <a:pt x="3912" y="1443"/>
                </a:lnTo>
                <a:lnTo>
                  <a:pt x="3919" y="1419"/>
                </a:lnTo>
                <a:lnTo>
                  <a:pt x="3886" y="1420"/>
                </a:lnTo>
                <a:lnTo>
                  <a:pt x="3891" y="1403"/>
                </a:lnTo>
                <a:lnTo>
                  <a:pt x="3921" y="1387"/>
                </a:lnTo>
                <a:lnTo>
                  <a:pt x="3924" y="1429"/>
                </a:lnTo>
                <a:lnTo>
                  <a:pt x="3941" y="1420"/>
                </a:lnTo>
                <a:lnTo>
                  <a:pt x="3963" y="1411"/>
                </a:lnTo>
                <a:lnTo>
                  <a:pt x="3970" y="1361"/>
                </a:lnTo>
                <a:lnTo>
                  <a:pt x="3955" y="1341"/>
                </a:lnTo>
                <a:lnTo>
                  <a:pt x="3967" y="1317"/>
                </a:lnTo>
                <a:lnTo>
                  <a:pt x="3987" y="1314"/>
                </a:lnTo>
                <a:lnTo>
                  <a:pt x="4009" y="1299"/>
                </a:lnTo>
                <a:lnTo>
                  <a:pt x="4078" y="1167"/>
                </a:lnTo>
                <a:lnTo>
                  <a:pt x="4119" y="1085"/>
                </a:lnTo>
                <a:lnTo>
                  <a:pt x="4158" y="1000"/>
                </a:lnTo>
                <a:lnTo>
                  <a:pt x="4201" y="948"/>
                </a:lnTo>
                <a:lnTo>
                  <a:pt x="4243" y="885"/>
                </a:lnTo>
                <a:lnTo>
                  <a:pt x="4279" y="829"/>
                </a:lnTo>
                <a:lnTo>
                  <a:pt x="4318" y="771"/>
                </a:lnTo>
                <a:lnTo>
                  <a:pt x="4381" y="734"/>
                </a:lnTo>
                <a:lnTo>
                  <a:pt x="4397" y="710"/>
                </a:lnTo>
                <a:lnTo>
                  <a:pt x="4414" y="646"/>
                </a:lnTo>
                <a:lnTo>
                  <a:pt x="4426" y="605"/>
                </a:lnTo>
                <a:lnTo>
                  <a:pt x="4469" y="548"/>
                </a:lnTo>
                <a:lnTo>
                  <a:pt x="4506" y="504"/>
                </a:lnTo>
                <a:lnTo>
                  <a:pt x="4548" y="432"/>
                </a:lnTo>
                <a:lnTo>
                  <a:pt x="4580" y="386"/>
                </a:lnTo>
                <a:lnTo>
                  <a:pt x="4607" y="356"/>
                </a:lnTo>
                <a:lnTo>
                  <a:pt x="4639" y="313"/>
                </a:lnTo>
                <a:lnTo>
                  <a:pt x="4672" y="255"/>
                </a:lnTo>
                <a:lnTo>
                  <a:pt x="4698" y="190"/>
                </a:lnTo>
                <a:lnTo>
                  <a:pt x="4729" y="134"/>
                </a:lnTo>
                <a:lnTo>
                  <a:pt x="4758" y="72"/>
                </a:lnTo>
                <a:lnTo>
                  <a:pt x="4760" y="29"/>
                </a:lnTo>
                <a:lnTo>
                  <a:pt x="4817" y="0"/>
                </a:lnTo>
                <a:lnTo>
                  <a:pt x="4" y="0"/>
                </a:lnTo>
                <a:lnTo>
                  <a:pt x="0" y="9"/>
                </a:lnTo>
                <a:lnTo>
                  <a:pt x="12" y="41"/>
                </a:lnTo>
                <a:lnTo>
                  <a:pt x="26" y="72"/>
                </a:lnTo>
                <a:lnTo>
                  <a:pt x="26" y="108"/>
                </a:lnTo>
                <a:lnTo>
                  <a:pt x="17" y="189"/>
                </a:lnTo>
                <a:lnTo>
                  <a:pt x="39" y="174"/>
                </a:lnTo>
                <a:lnTo>
                  <a:pt x="45" y="202"/>
                </a:lnTo>
                <a:lnTo>
                  <a:pt x="55" y="233"/>
                </a:lnTo>
                <a:lnTo>
                  <a:pt x="55" y="233"/>
                </a:lnTo>
                <a:lnTo>
                  <a:pt x="55" y="233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18000" y="49320"/>
            <a:ext cx="2549520" cy="1415880"/>
          </a:xfrm>
          <a:custGeom>
            <a:avLst/>
            <a:gdLst/>
            <a:ahLst/>
            <a:rect l="l" t="t" r="r" b="b"/>
            <a:pathLst>
              <a:path w="4817" h="2676">
                <a:moveTo>
                  <a:pt x="55" y="233"/>
                </a:moveTo>
                <a:lnTo>
                  <a:pt x="68" y="238"/>
                </a:lnTo>
                <a:lnTo>
                  <a:pt x="99" y="249"/>
                </a:lnTo>
                <a:lnTo>
                  <a:pt x="115" y="278"/>
                </a:lnTo>
                <a:lnTo>
                  <a:pt x="122" y="304"/>
                </a:lnTo>
                <a:lnTo>
                  <a:pt x="135" y="325"/>
                </a:lnTo>
                <a:lnTo>
                  <a:pt x="141" y="353"/>
                </a:lnTo>
                <a:lnTo>
                  <a:pt x="147" y="374"/>
                </a:lnTo>
                <a:lnTo>
                  <a:pt x="164" y="370"/>
                </a:lnTo>
                <a:lnTo>
                  <a:pt x="173" y="370"/>
                </a:lnTo>
                <a:lnTo>
                  <a:pt x="180" y="377"/>
                </a:lnTo>
                <a:lnTo>
                  <a:pt x="167" y="389"/>
                </a:lnTo>
                <a:lnTo>
                  <a:pt x="168" y="412"/>
                </a:lnTo>
                <a:lnTo>
                  <a:pt x="158" y="407"/>
                </a:lnTo>
                <a:lnTo>
                  <a:pt x="151" y="403"/>
                </a:lnTo>
                <a:lnTo>
                  <a:pt x="131" y="399"/>
                </a:lnTo>
                <a:lnTo>
                  <a:pt x="118" y="403"/>
                </a:lnTo>
                <a:lnTo>
                  <a:pt x="138" y="430"/>
                </a:lnTo>
                <a:lnTo>
                  <a:pt x="151" y="441"/>
                </a:lnTo>
                <a:lnTo>
                  <a:pt x="170" y="429"/>
                </a:lnTo>
                <a:lnTo>
                  <a:pt x="197" y="455"/>
                </a:lnTo>
                <a:lnTo>
                  <a:pt x="215" y="471"/>
                </a:lnTo>
                <a:lnTo>
                  <a:pt x="230" y="491"/>
                </a:lnTo>
                <a:lnTo>
                  <a:pt x="235" y="505"/>
                </a:lnTo>
                <a:lnTo>
                  <a:pt x="216" y="488"/>
                </a:lnTo>
                <a:lnTo>
                  <a:pt x="203" y="489"/>
                </a:lnTo>
                <a:lnTo>
                  <a:pt x="196" y="510"/>
                </a:lnTo>
                <a:lnTo>
                  <a:pt x="199" y="524"/>
                </a:lnTo>
                <a:lnTo>
                  <a:pt x="209" y="554"/>
                </a:lnTo>
                <a:lnTo>
                  <a:pt x="222" y="576"/>
                </a:lnTo>
                <a:lnTo>
                  <a:pt x="243" y="602"/>
                </a:lnTo>
                <a:lnTo>
                  <a:pt x="266" y="638"/>
                </a:lnTo>
                <a:lnTo>
                  <a:pt x="279" y="655"/>
                </a:lnTo>
                <a:lnTo>
                  <a:pt x="301" y="671"/>
                </a:lnTo>
                <a:lnTo>
                  <a:pt x="327" y="688"/>
                </a:lnTo>
                <a:lnTo>
                  <a:pt x="285" y="686"/>
                </a:lnTo>
                <a:lnTo>
                  <a:pt x="256" y="666"/>
                </a:lnTo>
                <a:lnTo>
                  <a:pt x="223" y="668"/>
                </a:lnTo>
                <a:lnTo>
                  <a:pt x="210" y="649"/>
                </a:lnTo>
                <a:lnTo>
                  <a:pt x="191" y="635"/>
                </a:lnTo>
                <a:lnTo>
                  <a:pt x="176" y="656"/>
                </a:lnTo>
                <a:lnTo>
                  <a:pt x="179" y="685"/>
                </a:lnTo>
                <a:lnTo>
                  <a:pt x="200" y="708"/>
                </a:lnTo>
                <a:lnTo>
                  <a:pt x="220" y="717"/>
                </a:lnTo>
                <a:lnTo>
                  <a:pt x="238" y="725"/>
                </a:lnTo>
                <a:lnTo>
                  <a:pt x="252" y="733"/>
                </a:lnTo>
                <a:lnTo>
                  <a:pt x="232" y="744"/>
                </a:lnTo>
                <a:lnTo>
                  <a:pt x="212" y="757"/>
                </a:lnTo>
                <a:lnTo>
                  <a:pt x="199" y="763"/>
                </a:lnTo>
                <a:lnTo>
                  <a:pt x="222" y="791"/>
                </a:lnTo>
                <a:lnTo>
                  <a:pt x="243" y="802"/>
                </a:lnTo>
                <a:lnTo>
                  <a:pt x="253" y="817"/>
                </a:lnTo>
                <a:lnTo>
                  <a:pt x="259" y="827"/>
                </a:lnTo>
                <a:lnTo>
                  <a:pt x="236" y="835"/>
                </a:lnTo>
                <a:lnTo>
                  <a:pt x="216" y="848"/>
                </a:lnTo>
                <a:lnTo>
                  <a:pt x="194" y="836"/>
                </a:lnTo>
                <a:lnTo>
                  <a:pt x="197" y="859"/>
                </a:lnTo>
                <a:lnTo>
                  <a:pt x="219" y="872"/>
                </a:lnTo>
                <a:lnTo>
                  <a:pt x="236" y="885"/>
                </a:lnTo>
                <a:lnTo>
                  <a:pt x="249" y="915"/>
                </a:lnTo>
                <a:lnTo>
                  <a:pt x="253" y="931"/>
                </a:lnTo>
                <a:lnTo>
                  <a:pt x="263" y="950"/>
                </a:lnTo>
                <a:lnTo>
                  <a:pt x="255" y="984"/>
                </a:lnTo>
                <a:lnTo>
                  <a:pt x="243" y="1016"/>
                </a:lnTo>
                <a:lnTo>
                  <a:pt x="232" y="1023"/>
                </a:lnTo>
                <a:lnTo>
                  <a:pt x="298" y="1062"/>
                </a:lnTo>
                <a:lnTo>
                  <a:pt x="242" y="1096"/>
                </a:lnTo>
                <a:lnTo>
                  <a:pt x="262" y="1124"/>
                </a:lnTo>
                <a:lnTo>
                  <a:pt x="212" y="1130"/>
                </a:lnTo>
                <a:lnTo>
                  <a:pt x="217" y="1155"/>
                </a:lnTo>
                <a:lnTo>
                  <a:pt x="233" y="1181"/>
                </a:lnTo>
                <a:lnTo>
                  <a:pt x="230" y="1206"/>
                </a:lnTo>
                <a:lnTo>
                  <a:pt x="235" y="1233"/>
                </a:lnTo>
                <a:lnTo>
                  <a:pt x="256" y="1258"/>
                </a:lnTo>
                <a:lnTo>
                  <a:pt x="209" y="1258"/>
                </a:lnTo>
                <a:lnTo>
                  <a:pt x="187" y="1256"/>
                </a:lnTo>
                <a:lnTo>
                  <a:pt x="222" y="1275"/>
                </a:lnTo>
                <a:lnTo>
                  <a:pt x="219" y="1293"/>
                </a:lnTo>
                <a:lnTo>
                  <a:pt x="180" y="1278"/>
                </a:lnTo>
                <a:lnTo>
                  <a:pt x="161" y="1266"/>
                </a:lnTo>
                <a:lnTo>
                  <a:pt x="147" y="1269"/>
                </a:lnTo>
                <a:lnTo>
                  <a:pt x="154" y="1299"/>
                </a:lnTo>
                <a:lnTo>
                  <a:pt x="173" y="1302"/>
                </a:lnTo>
                <a:lnTo>
                  <a:pt x="164" y="1329"/>
                </a:lnTo>
                <a:lnTo>
                  <a:pt x="184" y="1327"/>
                </a:lnTo>
                <a:lnTo>
                  <a:pt x="193" y="1361"/>
                </a:lnTo>
                <a:lnTo>
                  <a:pt x="236" y="1406"/>
                </a:lnTo>
                <a:lnTo>
                  <a:pt x="253" y="1447"/>
                </a:lnTo>
                <a:lnTo>
                  <a:pt x="265" y="1470"/>
                </a:lnTo>
                <a:lnTo>
                  <a:pt x="230" y="1446"/>
                </a:lnTo>
                <a:lnTo>
                  <a:pt x="213" y="1440"/>
                </a:lnTo>
                <a:lnTo>
                  <a:pt x="223" y="1423"/>
                </a:lnTo>
                <a:lnTo>
                  <a:pt x="147" y="1355"/>
                </a:lnTo>
                <a:lnTo>
                  <a:pt x="124" y="1380"/>
                </a:lnTo>
                <a:lnTo>
                  <a:pt x="157" y="1414"/>
                </a:lnTo>
                <a:lnTo>
                  <a:pt x="174" y="1445"/>
                </a:lnTo>
                <a:lnTo>
                  <a:pt x="144" y="1460"/>
                </a:lnTo>
                <a:lnTo>
                  <a:pt x="127" y="1480"/>
                </a:lnTo>
                <a:lnTo>
                  <a:pt x="154" y="1502"/>
                </a:lnTo>
                <a:lnTo>
                  <a:pt x="187" y="1489"/>
                </a:lnTo>
                <a:lnTo>
                  <a:pt x="207" y="1482"/>
                </a:lnTo>
                <a:lnTo>
                  <a:pt x="196" y="1457"/>
                </a:lnTo>
                <a:lnTo>
                  <a:pt x="206" y="1455"/>
                </a:lnTo>
                <a:lnTo>
                  <a:pt x="223" y="1475"/>
                </a:lnTo>
                <a:lnTo>
                  <a:pt x="240" y="1485"/>
                </a:lnTo>
                <a:lnTo>
                  <a:pt x="248" y="1493"/>
                </a:lnTo>
                <a:lnTo>
                  <a:pt x="207" y="1496"/>
                </a:lnTo>
                <a:lnTo>
                  <a:pt x="180" y="1527"/>
                </a:lnTo>
                <a:lnTo>
                  <a:pt x="206" y="1542"/>
                </a:lnTo>
                <a:lnTo>
                  <a:pt x="232" y="1567"/>
                </a:lnTo>
                <a:lnTo>
                  <a:pt x="235" y="1594"/>
                </a:lnTo>
                <a:lnTo>
                  <a:pt x="249" y="1620"/>
                </a:lnTo>
                <a:lnTo>
                  <a:pt x="261" y="1644"/>
                </a:lnTo>
                <a:lnTo>
                  <a:pt x="275" y="1652"/>
                </a:lnTo>
                <a:lnTo>
                  <a:pt x="286" y="1659"/>
                </a:lnTo>
                <a:lnTo>
                  <a:pt x="271" y="1675"/>
                </a:lnTo>
                <a:lnTo>
                  <a:pt x="284" y="1690"/>
                </a:lnTo>
                <a:lnTo>
                  <a:pt x="297" y="1706"/>
                </a:lnTo>
                <a:lnTo>
                  <a:pt x="272" y="1708"/>
                </a:lnTo>
                <a:lnTo>
                  <a:pt x="240" y="1703"/>
                </a:lnTo>
                <a:lnTo>
                  <a:pt x="225" y="1702"/>
                </a:lnTo>
                <a:lnTo>
                  <a:pt x="232" y="1726"/>
                </a:lnTo>
                <a:lnTo>
                  <a:pt x="243" y="1757"/>
                </a:lnTo>
                <a:lnTo>
                  <a:pt x="265" y="1768"/>
                </a:lnTo>
                <a:lnTo>
                  <a:pt x="288" y="1778"/>
                </a:lnTo>
                <a:lnTo>
                  <a:pt x="298" y="1795"/>
                </a:lnTo>
                <a:lnTo>
                  <a:pt x="301" y="1806"/>
                </a:lnTo>
                <a:lnTo>
                  <a:pt x="282" y="1801"/>
                </a:lnTo>
                <a:lnTo>
                  <a:pt x="278" y="1823"/>
                </a:lnTo>
                <a:lnTo>
                  <a:pt x="294" y="1833"/>
                </a:lnTo>
                <a:lnTo>
                  <a:pt x="317" y="1865"/>
                </a:lnTo>
                <a:lnTo>
                  <a:pt x="325" y="1882"/>
                </a:lnTo>
                <a:lnTo>
                  <a:pt x="297" y="1880"/>
                </a:lnTo>
                <a:lnTo>
                  <a:pt x="278" y="1876"/>
                </a:lnTo>
                <a:lnTo>
                  <a:pt x="252" y="1856"/>
                </a:lnTo>
                <a:lnTo>
                  <a:pt x="236" y="1830"/>
                </a:lnTo>
                <a:lnTo>
                  <a:pt x="217" y="1807"/>
                </a:lnTo>
                <a:lnTo>
                  <a:pt x="202" y="1780"/>
                </a:lnTo>
                <a:lnTo>
                  <a:pt x="181" y="1760"/>
                </a:lnTo>
                <a:lnTo>
                  <a:pt x="170" y="1785"/>
                </a:lnTo>
                <a:lnTo>
                  <a:pt x="158" y="1803"/>
                </a:lnTo>
                <a:lnTo>
                  <a:pt x="176" y="1837"/>
                </a:lnTo>
                <a:lnTo>
                  <a:pt x="186" y="1844"/>
                </a:lnTo>
                <a:lnTo>
                  <a:pt x="196" y="1834"/>
                </a:lnTo>
                <a:lnTo>
                  <a:pt x="202" y="1870"/>
                </a:lnTo>
                <a:lnTo>
                  <a:pt x="213" y="1903"/>
                </a:lnTo>
                <a:lnTo>
                  <a:pt x="256" y="1972"/>
                </a:lnTo>
                <a:lnTo>
                  <a:pt x="259" y="1965"/>
                </a:lnTo>
                <a:lnTo>
                  <a:pt x="250" y="1952"/>
                </a:lnTo>
                <a:lnTo>
                  <a:pt x="266" y="1945"/>
                </a:lnTo>
                <a:lnTo>
                  <a:pt x="285" y="1945"/>
                </a:lnTo>
                <a:lnTo>
                  <a:pt x="308" y="1972"/>
                </a:lnTo>
                <a:lnTo>
                  <a:pt x="327" y="1977"/>
                </a:lnTo>
                <a:lnTo>
                  <a:pt x="331" y="1961"/>
                </a:lnTo>
                <a:lnTo>
                  <a:pt x="341" y="1945"/>
                </a:lnTo>
                <a:lnTo>
                  <a:pt x="356" y="1936"/>
                </a:lnTo>
                <a:lnTo>
                  <a:pt x="374" y="1944"/>
                </a:lnTo>
                <a:lnTo>
                  <a:pt x="393" y="1954"/>
                </a:lnTo>
                <a:lnTo>
                  <a:pt x="400" y="1932"/>
                </a:lnTo>
                <a:lnTo>
                  <a:pt x="416" y="1919"/>
                </a:lnTo>
                <a:lnTo>
                  <a:pt x="429" y="1889"/>
                </a:lnTo>
                <a:lnTo>
                  <a:pt x="435" y="1875"/>
                </a:lnTo>
                <a:lnTo>
                  <a:pt x="432" y="1862"/>
                </a:lnTo>
                <a:lnTo>
                  <a:pt x="435" y="1831"/>
                </a:lnTo>
                <a:lnTo>
                  <a:pt x="450" y="1816"/>
                </a:lnTo>
                <a:lnTo>
                  <a:pt x="475" y="1813"/>
                </a:lnTo>
                <a:lnTo>
                  <a:pt x="489" y="1806"/>
                </a:lnTo>
                <a:lnTo>
                  <a:pt x="486" y="1856"/>
                </a:lnTo>
                <a:lnTo>
                  <a:pt x="476" y="1880"/>
                </a:lnTo>
                <a:lnTo>
                  <a:pt x="458" y="1934"/>
                </a:lnTo>
                <a:lnTo>
                  <a:pt x="453" y="1971"/>
                </a:lnTo>
                <a:lnTo>
                  <a:pt x="475" y="1993"/>
                </a:lnTo>
                <a:lnTo>
                  <a:pt x="497" y="1970"/>
                </a:lnTo>
                <a:lnTo>
                  <a:pt x="515" y="1949"/>
                </a:lnTo>
                <a:lnTo>
                  <a:pt x="525" y="1944"/>
                </a:lnTo>
                <a:lnTo>
                  <a:pt x="525" y="1967"/>
                </a:lnTo>
                <a:lnTo>
                  <a:pt x="524" y="1982"/>
                </a:lnTo>
                <a:lnTo>
                  <a:pt x="521" y="2030"/>
                </a:lnTo>
                <a:lnTo>
                  <a:pt x="515" y="2066"/>
                </a:lnTo>
                <a:lnTo>
                  <a:pt x="499" y="2083"/>
                </a:lnTo>
                <a:lnTo>
                  <a:pt x="527" y="2105"/>
                </a:lnTo>
                <a:lnTo>
                  <a:pt x="547" y="2086"/>
                </a:lnTo>
                <a:lnTo>
                  <a:pt x="567" y="2083"/>
                </a:lnTo>
                <a:lnTo>
                  <a:pt x="589" y="2092"/>
                </a:lnTo>
                <a:lnTo>
                  <a:pt x="614" y="2093"/>
                </a:lnTo>
                <a:lnTo>
                  <a:pt x="643" y="2082"/>
                </a:lnTo>
                <a:lnTo>
                  <a:pt x="658" y="2075"/>
                </a:lnTo>
                <a:lnTo>
                  <a:pt x="648" y="2040"/>
                </a:lnTo>
                <a:lnTo>
                  <a:pt x="639" y="2000"/>
                </a:lnTo>
                <a:lnTo>
                  <a:pt x="663" y="1990"/>
                </a:lnTo>
                <a:lnTo>
                  <a:pt x="684" y="1993"/>
                </a:lnTo>
                <a:lnTo>
                  <a:pt x="715" y="1995"/>
                </a:lnTo>
                <a:lnTo>
                  <a:pt x="738" y="1993"/>
                </a:lnTo>
                <a:lnTo>
                  <a:pt x="764" y="2001"/>
                </a:lnTo>
                <a:lnTo>
                  <a:pt x="793" y="2013"/>
                </a:lnTo>
                <a:lnTo>
                  <a:pt x="820" y="2026"/>
                </a:lnTo>
                <a:lnTo>
                  <a:pt x="855" y="2037"/>
                </a:lnTo>
                <a:lnTo>
                  <a:pt x="840" y="2106"/>
                </a:lnTo>
                <a:lnTo>
                  <a:pt x="793" y="2100"/>
                </a:lnTo>
                <a:lnTo>
                  <a:pt x="761" y="2123"/>
                </a:lnTo>
                <a:lnTo>
                  <a:pt x="725" y="2132"/>
                </a:lnTo>
                <a:lnTo>
                  <a:pt x="714" y="2182"/>
                </a:lnTo>
                <a:lnTo>
                  <a:pt x="761" y="2198"/>
                </a:lnTo>
                <a:lnTo>
                  <a:pt x="779" y="2190"/>
                </a:lnTo>
                <a:lnTo>
                  <a:pt x="761" y="2169"/>
                </a:lnTo>
                <a:lnTo>
                  <a:pt x="790" y="2168"/>
                </a:lnTo>
                <a:lnTo>
                  <a:pt x="794" y="2192"/>
                </a:lnTo>
                <a:lnTo>
                  <a:pt x="789" y="2218"/>
                </a:lnTo>
                <a:lnTo>
                  <a:pt x="784" y="2256"/>
                </a:lnTo>
                <a:lnTo>
                  <a:pt x="832" y="2280"/>
                </a:lnTo>
                <a:lnTo>
                  <a:pt x="855" y="2251"/>
                </a:lnTo>
                <a:lnTo>
                  <a:pt x="861" y="2208"/>
                </a:lnTo>
                <a:lnTo>
                  <a:pt x="871" y="2168"/>
                </a:lnTo>
                <a:lnTo>
                  <a:pt x="885" y="2159"/>
                </a:lnTo>
                <a:lnTo>
                  <a:pt x="905" y="2177"/>
                </a:lnTo>
                <a:lnTo>
                  <a:pt x="922" y="2178"/>
                </a:lnTo>
                <a:lnTo>
                  <a:pt x="935" y="2126"/>
                </a:lnTo>
                <a:lnTo>
                  <a:pt x="947" y="2095"/>
                </a:lnTo>
                <a:lnTo>
                  <a:pt x="957" y="2067"/>
                </a:lnTo>
                <a:lnTo>
                  <a:pt x="915" y="2076"/>
                </a:lnTo>
                <a:lnTo>
                  <a:pt x="951" y="2054"/>
                </a:lnTo>
                <a:lnTo>
                  <a:pt x="970" y="2046"/>
                </a:lnTo>
                <a:lnTo>
                  <a:pt x="1007" y="2008"/>
                </a:lnTo>
                <a:lnTo>
                  <a:pt x="994" y="2059"/>
                </a:lnTo>
                <a:lnTo>
                  <a:pt x="977" y="2105"/>
                </a:lnTo>
                <a:lnTo>
                  <a:pt x="950" y="2148"/>
                </a:lnTo>
                <a:lnTo>
                  <a:pt x="934" y="2200"/>
                </a:lnTo>
                <a:lnTo>
                  <a:pt x="981" y="2185"/>
                </a:lnTo>
                <a:lnTo>
                  <a:pt x="1010" y="2145"/>
                </a:lnTo>
                <a:lnTo>
                  <a:pt x="1020" y="2175"/>
                </a:lnTo>
                <a:lnTo>
                  <a:pt x="981" y="2218"/>
                </a:lnTo>
                <a:lnTo>
                  <a:pt x="947" y="2251"/>
                </a:lnTo>
                <a:lnTo>
                  <a:pt x="927" y="2296"/>
                </a:lnTo>
                <a:lnTo>
                  <a:pt x="981" y="2293"/>
                </a:lnTo>
                <a:lnTo>
                  <a:pt x="1042" y="2283"/>
                </a:lnTo>
                <a:lnTo>
                  <a:pt x="971" y="2306"/>
                </a:lnTo>
                <a:lnTo>
                  <a:pt x="943" y="2322"/>
                </a:lnTo>
                <a:lnTo>
                  <a:pt x="961" y="2364"/>
                </a:lnTo>
                <a:lnTo>
                  <a:pt x="950" y="2381"/>
                </a:lnTo>
                <a:lnTo>
                  <a:pt x="924" y="2385"/>
                </a:lnTo>
                <a:lnTo>
                  <a:pt x="907" y="2418"/>
                </a:lnTo>
                <a:lnTo>
                  <a:pt x="921" y="2487"/>
                </a:lnTo>
                <a:lnTo>
                  <a:pt x="925" y="2528"/>
                </a:lnTo>
                <a:lnTo>
                  <a:pt x="958" y="2562"/>
                </a:lnTo>
                <a:lnTo>
                  <a:pt x="996" y="2548"/>
                </a:lnTo>
                <a:lnTo>
                  <a:pt x="1040" y="2533"/>
                </a:lnTo>
                <a:lnTo>
                  <a:pt x="1078" y="2528"/>
                </a:lnTo>
                <a:lnTo>
                  <a:pt x="1128" y="2510"/>
                </a:lnTo>
                <a:lnTo>
                  <a:pt x="1157" y="2477"/>
                </a:lnTo>
                <a:lnTo>
                  <a:pt x="1181" y="2441"/>
                </a:lnTo>
                <a:lnTo>
                  <a:pt x="1171" y="2402"/>
                </a:lnTo>
                <a:lnTo>
                  <a:pt x="1166" y="2368"/>
                </a:lnTo>
                <a:lnTo>
                  <a:pt x="1171" y="2335"/>
                </a:lnTo>
                <a:lnTo>
                  <a:pt x="1190" y="2300"/>
                </a:lnTo>
                <a:lnTo>
                  <a:pt x="1168" y="2241"/>
                </a:lnTo>
                <a:lnTo>
                  <a:pt x="1229" y="2274"/>
                </a:lnTo>
                <a:lnTo>
                  <a:pt x="1263" y="2292"/>
                </a:lnTo>
                <a:lnTo>
                  <a:pt x="1207" y="2344"/>
                </a:lnTo>
                <a:lnTo>
                  <a:pt x="1252" y="2341"/>
                </a:lnTo>
                <a:lnTo>
                  <a:pt x="1259" y="2349"/>
                </a:lnTo>
                <a:lnTo>
                  <a:pt x="1291" y="2382"/>
                </a:lnTo>
                <a:lnTo>
                  <a:pt x="1262" y="2423"/>
                </a:lnTo>
                <a:lnTo>
                  <a:pt x="1250" y="2459"/>
                </a:lnTo>
                <a:lnTo>
                  <a:pt x="1220" y="2502"/>
                </a:lnTo>
                <a:lnTo>
                  <a:pt x="1249" y="2548"/>
                </a:lnTo>
                <a:lnTo>
                  <a:pt x="1296" y="2552"/>
                </a:lnTo>
                <a:lnTo>
                  <a:pt x="1331" y="2533"/>
                </a:lnTo>
                <a:lnTo>
                  <a:pt x="1380" y="2523"/>
                </a:lnTo>
                <a:lnTo>
                  <a:pt x="1409" y="2492"/>
                </a:lnTo>
                <a:lnTo>
                  <a:pt x="1426" y="2479"/>
                </a:lnTo>
                <a:lnTo>
                  <a:pt x="1440" y="2515"/>
                </a:lnTo>
                <a:lnTo>
                  <a:pt x="1399" y="2572"/>
                </a:lnTo>
                <a:lnTo>
                  <a:pt x="1345" y="2610"/>
                </a:lnTo>
                <a:lnTo>
                  <a:pt x="1304" y="2641"/>
                </a:lnTo>
                <a:lnTo>
                  <a:pt x="1292" y="2676"/>
                </a:lnTo>
                <a:lnTo>
                  <a:pt x="1354" y="2643"/>
                </a:lnTo>
                <a:lnTo>
                  <a:pt x="1410" y="2625"/>
                </a:lnTo>
                <a:lnTo>
                  <a:pt x="1462" y="2617"/>
                </a:lnTo>
                <a:lnTo>
                  <a:pt x="1466" y="2582"/>
                </a:lnTo>
                <a:lnTo>
                  <a:pt x="1509" y="2542"/>
                </a:lnTo>
                <a:lnTo>
                  <a:pt x="1525" y="2522"/>
                </a:lnTo>
                <a:lnTo>
                  <a:pt x="1567" y="2493"/>
                </a:lnTo>
                <a:lnTo>
                  <a:pt x="1666" y="2472"/>
                </a:lnTo>
                <a:lnTo>
                  <a:pt x="1714" y="2469"/>
                </a:lnTo>
                <a:lnTo>
                  <a:pt x="1754" y="2427"/>
                </a:lnTo>
                <a:lnTo>
                  <a:pt x="1789" y="2384"/>
                </a:lnTo>
                <a:lnTo>
                  <a:pt x="1856" y="2338"/>
                </a:lnTo>
                <a:lnTo>
                  <a:pt x="1898" y="2312"/>
                </a:lnTo>
                <a:lnTo>
                  <a:pt x="1932" y="2338"/>
                </a:lnTo>
                <a:lnTo>
                  <a:pt x="1983" y="2315"/>
                </a:lnTo>
                <a:lnTo>
                  <a:pt x="2012" y="2300"/>
                </a:lnTo>
                <a:lnTo>
                  <a:pt x="2048" y="2280"/>
                </a:lnTo>
                <a:lnTo>
                  <a:pt x="2059" y="2267"/>
                </a:lnTo>
                <a:lnTo>
                  <a:pt x="2046" y="2247"/>
                </a:lnTo>
                <a:lnTo>
                  <a:pt x="2096" y="2233"/>
                </a:lnTo>
                <a:lnTo>
                  <a:pt x="2086" y="2260"/>
                </a:lnTo>
                <a:lnTo>
                  <a:pt x="2092" y="2287"/>
                </a:lnTo>
                <a:lnTo>
                  <a:pt x="2089" y="2322"/>
                </a:lnTo>
                <a:lnTo>
                  <a:pt x="2130" y="2333"/>
                </a:lnTo>
                <a:lnTo>
                  <a:pt x="2137" y="2287"/>
                </a:lnTo>
                <a:lnTo>
                  <a:pt x="2151" y="2254"/>
                </a:lnTo>
                <a:lnTo>
                  <a:pt x="2145" y="2299"/>
                </a:lnTo>
                <a:lnTo>
                  <a:pt x="2128" y="2362"/>
                </a:lnTo>
                <a:lnTo>
                  <a:pt x="2160" y="2342"/>
                </a:lnTo>
                <a:lnTo>
                  <a:pt x="2193" y="2310"/>
                </a:lnTo>
                <a:lnTo>
                  <a:pt x="2216" y="2267"/>
                </a:lnTo>
                <a:lnTo>
                  <a:pt x="2239" y="2217"/>
                </a:lnTo>
                <a:lnTo>
                  <a:pt x="2255" y="2180"/>
                </a:lnTo>
                <a:lnTo>
                  <a:pt x="2301" y="2138"/>
                </a:lnTo>
                <a:lnTo>
                  <a:pt x="2380" y="2096"/>
                </a:lnTo>
                <a:lnTo>
                  <a:pt x="2432" y="2102"/>
                </a:lnTo>
                <a:lnTo>
                  <a:pt x="2456" y="2060"/>
                </a:lnTo>
                <a:lnTo>
                  <a:pt x="2504" y="2021"/>
                </a:lnTo>
                <a:lnTo>
                  <a:pt x="2538" y="2005"/>
                </a:lnTo>
                <a:lnTo>
                  <a:pt x="2517" y="1958"/>
                </a:lnTo>
                <a:lnTo>
                  <a:pt x="2564" y="1952"/>
                </a:lnTo>
                <a:lnTo>
                  <a:pt x="2609" y="1942"/>
                </a:lnTo>
                <a:lnTo>
                  <a:pt x="2652" y="1936"/>
                </a:lnTo>
                <a:lnTo>
                  <a:pt x="2689" y="1939"/>
                </a:lnTo>
                <a:lnTo>
                  <a:pt x="2718" y="1941"/>
                </a:lnTo>
                <a:lnTo>
                  <a:pt x="2731" y="1890"/>
                </a:lnTo>
                <a:lnTo>
                  <a:pt x="2747" y="1857"/>
                </a:lnTo>
                <a:lnTo>
                  <a:pt x="2740" y="1819"/>
                </a:lnTo>
                <a:lnTo>
                  <a:pt x="2780" y="1804"/>
                </a:lnTo>
                <a:lnTo>
                  <a:pt x="2819" y="1788"/>
                </a:lnTo>
                <a:lnTo>
                  <a:pt x="2813" y="1806"/>
                </a:lnTo>
                <a:lnTo>
                  <a:pt x="2804" y="1856"/>
                </a:lnTo>
                <a:lnTo>
                  <a:pt x="2837" y="1883"/>
                </a:lnTo>
                <a:lnTo>
                  <a:pt x="2879" y="1902"/>
                </a:lnTo>
                <a:lnTo>
                  <a:pt x="2919" y="1913"/>
                </a:lnTo>
                <a:lnTo>
                  <a:pt x="2968" y="1880"/>
                </a:lnTo>
                <a:lnTo>
                  <a:pt x="3006" y="1873"/>
                </a:lnTo>
                <a:lnTo>
                  <a:pt x="3048" y="1854"/>
                </a:lnTo>
                <a:lnTo>
                  <a:pt x="3075" y="1840"/>
                </a:lnTo>
                <a:lnTo>
                  <a:pt x="3095" y="1785"/>
                </a:lnTo>
                <a:lnTo>
                  <a:pt x="3111" y="1758"/>
                </a:lnTo>
                <a:lnTo>
                  <a:pt x="3155" y="1702"/>
                </a:lnTo>
                <a:lnTo>
                  <a:pt x="3266" y="1639"/>
                </a:lnTo>
                <a:lnTo>
                  <a:pt x="3350" y="1637"/>
                </a:lnTo>
                <a:lnTo>
                  <a:pt x="3368" y="1619"/>
                </a:lnTo>
                <a:lnTo>
                  <a:pt x="3387" y="1601"/>
                </a:lnTo>
                <a:lnTo>
                  <a:pt x="3394" y="1585"/>
                </a:lnTo>
                <a:lnTo>
                  <a:pt x="3416" y="1561"/>
                </a:lnTo>
                <a:lnTo>
                  <a:pt x="3481" y="1527"/>
                </a:lnTo>
                <a:lnTo>
                  <a:pt x="3530" y="1515"/>
                </a:lnTo>
                <a:lnTo>
                  <a:pt x="3563" y="1575"/>
                </a:lnTo>
                <a:lnTo>
                  <a:pt x="3606" y="1623"/>
                </a:lnTo>
                <a:lnTo>
                  <a:pt x="3601" y="1588"/>
                </a:lnTo>
                <a:lnTo>
                  <a:pt x="3584" y="1545"/>
                </a:lnTo>
                <a:lnTo>
                  <a:pt x="3560" y="1505"/>
                </a:lnTo>
                <a:lnTo>
                  <a:pt x="3560" y="1472"/>
                </a:lnTo>
                <a:lnTo>
                  <a:pt x="3594" y="1436"/>
                </a:lnTo>
                <a:lnTo>
                  <a:pt x="3629" y="1419"/>
                </a:lnTo>
                <a:lnTo>
                  <a:pt x="3659" y="1414"/>
                </a:lnTo>
                <a:lnTo>
                  <a:pt x="3694" y="1430"/>
                </a:lnTo>
                <a:lnTo>
                  <a:pt x="3741" y="1424"/>
                </a:lnTo>
                <a:lnTo>
                  <a:pt x="3776" y="1429"/>
                </a:lnTo>
                <a:lnTo>
                  <a:pt x="3810" y="1465"/>
                </a:lnTo>
                <a:lnTo>
                  <a:pt x="3836" y="1468"/>
                </a:lnTo>
                <a:lnTo>
                  <a:pt x="3820" y="1427"/>
                </a:lnTo>
                <a:lnTo>
                  <a:pt x="3837" y="1410"/>
                </a:lnTo>
                <a:lnTo>
                  <a:pt x="3869" y="1430"/>
                </a:lnTo>
                <a:lnTo>
                  <a:pt x="3912" y="1443"/>
                </a:lnTo>
                <a:lnTo>
                  <a:pt x="3919" y="1419"/>
                </a:lnTo>
                <a:lnTo>
                  <a:pt x="3886" y="1420"/>
                </a:lnTo>
                <a:lnTo>
                  <a:pt x="3891" y="1403"/>
                </a:lnTo>
                <a:lnTo>
                  <a:pt x="3921" y="1387"/>
                </a:lnTo>
                <a:lnTo>
                  <a:pt x="3924" y="1429"/>
                </a:lnTo>
                <a:lnTo>
                  <a:pt x="3941" y="1420"/>
                </a:lnTo>
                <a:lnTo>
                  <a:pt x="3963" y="1411"/>
                </a:lnTo>
                <a:lnTo>
                  <a:pt x="3970" y="1361"/>
                </a:lnTo>
                <a:lnTo>
                  <a:pt x="3955" y="1341"/>
                </a:lnTo>
                <a:lnTo>
                  <a:pt x="3967" y="1317"/>
                </a:lnTo>
                <a:lnTo>
                  <a:pt x="3987" y="1314"/>
                </a:lnTo>
                <a:lnTo>
                  <a:pt x="4009" y="1299"/>
                </a:lnTo>
                <a:lnTo>
                  <a:pt x="4078" y="1167"/>
                </a:lnTo>
                <a:lnTo>
                  <a:pt x="4119" y="1085"/>
                </a:lnTo>
                <a:lnTo>
                  <a:pt x="4158" y="1000"/>
                </a:lnTo>
                <a:lnTo>
                  <a:pt x="4201" y="948"/>
                </a:lnTo>
                <a:lnTo>
                  <a:pt x="4243" y="885"/>
                </a:lnTo>
                <a:lnTo>
                  <a:pt x="4279" y="829"/>
                </a:lnTo>
                <a:lnTo>
                  <a:pt x="4318" y="771"/>
                </a:lnTo>
                <a:lnTo>
                  <a:pt x="4381" y="734"/>
                </a:lnTo>
                <a:lnTo>
                  <a:pt x="4397" y="710"/>
                </a:lnTo>
                <a:lnTo>
                  <a:pt x="4414" y="646"/>
                </a:lnTo>
                <a:lnTo>
                  <a:pt x="4426" y="605"/>
                </a:lnTo>
                <a:lnTo>
                  <a:pt x="4469" y="548"/>
                </a:lnTo>
                <a:lnTo>
                  <a:pt x="4506" y="504"/>
                </a:lnTo>
                <a:lnTo>
                  <a:pt x="4548" y="432"/>
                </a:lnTo>
                <a:lnTo>
                  <a:pt x="4580" y="386"/>
                </a:lnTo>
                <a:lnTo>
                  <a:pt x="4607" y="356"/>
                </a:lnTo>
                <a:lnTo>
                  <a:pt x="4639" y="313"/>
                </a:lnTo>
                <a:lnTo>
                  <a:pt x="4672" y="255"/>
                </a:lnTo>
                <a:lnTo>
                  <a:pt x="4698" y="190"/>
                </a:lnTo>
                <a:lnTo>
                  <a:pt x="4729" y="134"/>
                </a:lnTo>
                <a:lnTo>
                  <a:pt x="4758" y="72"/>
                </a:lnTo>
                <a:lnTo>
                  <a:pt x="4760" y="29"/>
                </a:lnTo>
                <a:lnTo>
                  <a:pt x="4817" y="0"/>
                </a:lnTo>
                <a:lnTo>
                  <a:pt x="4" y="0"/>
                </a:lnTo>
                <a:lnTo>
                  <a:pt x="0" y="9"/>
                </a:lnTo>
                <a:lnTo>
                  <a:pt x="12" y="41"/>
                </a:lnTo>
                <a:lnTo>
                  <a:pt x="26" y="72"/>
                </a:lnTo>
                <a:lnTo>
                  <a:pt x="26" y="108"/>
                </a:lnTo>
                <a:lnTo>
                  <a:pt x="17" y="189"/>
                </a:lnTo>
                <a:lnTo>
                  <a:pt x="39" y="174"/>
                </a:lnTo>
                <a:lnTo>
                  <a:pt x="45" y="202"/>
                </a:lnTo>
                <a:lnTo>
                  <a:pt x="55" y="23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75200" y="1176480"/>
            <a:ext cx="277560" cy="277560"/>
          </a:xfrm>
          <a:custGeom>
            <a:avLst/>
            <a:gdLst/>
            <a:ahLst/>
            <a:rect l="l" t="t" r="r" b="b"/>
            <a:pathLst>
              <a:path w="524" h="524">
                <a:moveTo>
                  <a:pt x="0" y="237"/>
                </a:moveTo>
                <a:lnTo>
                  <a:pt x="40" y="210"/>
                </a:lnTo>
                <a:lnTo>
                  <a:pt x="71" y="206"/>
                </a:lnTo>
                <a:lnTo>
                  <a:pt x="105" y="176"/>
                </a:lnTo>
                <a:lnTo>
                  <a:pt x="133" y="161"/>
                </a:lnTo>
                <a:lnTo>
                  <a:pt x="176" y="127"/>
                </a:lnTo>
                <a:lnTo>
                  <a:pt x="199" y="134"/>
                </a:lnTo>
                <a:lnTo>
                  <a:pt x="196" y="155"/>
                </a:lnTo>
                <a:lnTo>
                  <a:pt x="187" y="176"/>
                </a:lnTo>
                <a:lnTo>
                  <a:pt x="189" y="214"/>
                </a:lnTo>
                <a:lnTo>
                  <a:pt x="206" y="226"/>
                </a:lnTo>
                <a:lnTo>
                  <a:pt x="229" y="213"/>
                </a:lnTo>
                <a:lnTo>
                  <a:pt x="252" y="196"/>
                </a:lnTo>
                <a:lnTo>
                  <a:pt x="286" y="170"/>
                </a:lnTo>
                <a:lnTo>
                  <a:pt x="274" y="153"/>
                </a:lnTo>
                <a:lnTo>
                  <a:pt x="248" y="141"/>
                </a:lnTo>
                <a:lnTo>
                  <a:pt x="228" y="141"/>
                </a:lnTo>
                <a:lnTo>
                  <a:pt x="212" y="125"/>
                </a:lnTo>
                <a:lnTo>
                  <a:pt x="193" y="122"/>
                </a:lnTo>
                <a:lnTo>
                  <a:pt x="169" y="112"/>
                </a:lnTo>
                <a:lnTo>
                  <a:pt x="151" y="99"/>
                </a:lnTo>
                <a:lnTo>
                  <a:pt x="160" y="66"/>
                </a:lnTo>
                <a:lnTo>
                  <a:pt x="169" y="48"/>
                </a:lnTo>
                <a:lnTo>
                  <a:pt x="197" y="20"/>
                </a:lnTo>
                <a:lnTo>
                  <a:pt x="252" y="0"/>
                </a:lnTo>
                <a:lnTo>
                  <a:pt x="286" y="32"/>
                </a:lnTo>
                <a:lnTo>
                  <a:pt x="286" y="59"/>
                </a:lnTo>
                <a:lnTo>
                  <a:pt x="337" y="55"/>
                </a:lnTo>
                <a:lnTo>
                  <a:pt x="380" y="58"/>
                </a:lnTo>
                <a:lnTo>
                  <a:pt x="380" y="82"/>
                </a:lnTo>
                <a:lnTo>
                  <a:pt x="420" y="86"/>
                </a:lnTo>
                <a:lnTo>
                  <a:pt x="430" y="105"/>
                </a:lnTo>
                <a:lnTo>
                  <a:pt x="443" y="119"/>
                </a:lnTo>
                <a:lnTo>
                  <a:pt x="482" y="140"/>
                </a:lnTo>
                <a:lnTo>
                  <a:pt x="476" y="168"/>
                </a:lnTo>
                <a:lnTo>
                  <a:pt x="465" y="200"/>
                </a:lnTo>
                <a:lnTo>
                  <a:pt x="458" y="214"/>
                </a:lnTo>
                <a:lnTo>
                  <a:pt x="465" y="239"/>
                </a:lnTo>
                <a:lnTo>
                  <a:pt x="449" y="249"/>
                </a:lnTo>
                <a:lnTo>
                  <a:pt x="432" y="259"/>
                </a:lnTo>
                <a:lnTo>
                  <a:pt x="406" y="269"/>
                </a:lnTo>
                <a:lnTo>
                  <a:pt x="380" y="272"/>
                </a:lnTo>
                <a:lnTo>
                  <a:pt x="374" y="242"/>
                </a:lnTo>
                <a:lnTo>
                  <a:pt x="366" y="222"/>
                </a:lnTo>
                <a:lnTo>
                  <a:pt x="351" y="194"/>
                </a:lnTo>
                <a:lnTo>
                  <a:pt x="345" y="161"/>
                </a:lnTo>
                <a:lnTo>
                  <a:pt x="344" y="148"/>
                </a:lnTo>
                <a:lnTo>
                  <a:pt x="318" y="145"/>
                </a:lnTo>
                <a:lnTo>
                  <a:pt x="301" y="167"/>
                </a:lnTo>
                <a:lnTo>
                  <a:pt x="317" y="194"/>
                </a:lnTo>
                <a:lnTo>
                  <a:pt x="333" y="212"/>
                </a:lnTo>
                <a:lnTo>
                  <a:pt x="347" y="232"/>
                </a:lnTo>
                <a:lnTo>
                  <a:pt x="361" y="245"/>
                </a:lnTo>
                <a:lnTo>
                  <a:pt x="366" y="258"/>
                </a:lnTo>
                <a:lnTo>
                  <a:pt x="367" y="279"/>
                </a:lnTo>
                <a:lnTo>
                  <a:pt x="364" y="309"/>
                </a:lnTo>
                <a:lnTo>
                  <a:pt x="361" y="335"/>
                </a:lnTo>
                <a:lnTo>
                  <a:pt x="373" y="357"/>
                </a:lnTo>
                <a:lnTo>
                  <a:pt x="366" y="378"/>
                </a:lnTo>
                <a:lnTo>
                  <a:pt x="358" y="406"/>
                </a:lnTo>
                <a:lnTo>
                  <a:pt x="386" y="396"/>
                </a:lnTo>
                <a:lnTo>
                  <a:pt x="399" y="374"/>
                </a:lnTo>
                <a:lnTo>
                  <a:pt x="420" y="393"/>
                </a:lnTo>
                <a:lnTo>
                  <a:pt x="452" y="377"/>
                </a:lnTo>
                <a:lnTo>
                  <a:pt x="452" y="355"/>
                </a:lnTo>
                <a:lnTo>
                  <a:pt x="459" y="319"/>
                </a:lnTo>
                <a:lnTo>
                  <a:pt x="479" y="291"/>
                </a:lnTo>
                <a:lnTo>
                  <a:pt x="504" y="288"/>
                </a:lnTo>
                <a:lnTo>
                  <a:pt x="522" y="309"/>
                </a:lnTo>
                <a:lnTo>
                  <a:pt x="524" y="334"/>
                </a:lnTo>
                <a:lnTo>
                  <a:pt x="510" y="361"/>
                </a:lnTo>
                <a:lnTo>
                  <a:pt x="502" y="377"/>
                </a:lnTo>
                <a:lnTo>
                  <a:pt x="492" y="394"/>
                </a:lnTo>
                <a:lnTo>
                  <a:pt x="484" y="411"/>
                </a:lnTo>
                <a:lnTo>
                  <a:pt x="481" y="440"/>
                </a:lnTo>
                <a:lnTo>
                  <a:pt x="492" y="478"/>
                </a:lnTo>
                <a:lnTo>
                  <a:pt x="484" y="499"/>
                </a:lnTo>
                <a:lnTo>
                  <a:pt x="458" y="524"/>
                </a:lnTo>
                <a:lnTo>
                  <a:pt x="455" y="502"/>
                </a:lnTo>
                <a:lnTo>
                  <a:pt x="455" y="475"/>
                </a:lnTo>
                <a:lnTo>
                  <a:pt x="446" y="493"/>
                </a:lnTo>
                <a:lnTo>
                  <a:pt x="419" y="496"/>
                </a:lnTo>
                <a:lnTo>
                  <a:pt x="413" y="478"/>
                </a:lnTo>
                <a:lnTo>
                  <a:pt x="409" y="456"/>
                </a:lnTo>
                <a:lnTo>
                  <a:pt x="390" y="447"/>
                </a:lnTo>
                <a:lnTo>
                  <a:pt x="366" y="453"/>
                </a:lnTo>
                <a:lnTo>
                  <a:pt x="337" y="427"/>
                </a:lnTo>
                <a:lnTo>
                  <a:pt x="320" y="430"/>
                </a:lnTo>
                <a:lnTo>
                  <a:pt x="299" y="414"/>
                </a:lnTo>
                <a:lnTo>
                  <a:pt x="285" y="393"/>
                </a:lnTo>
                <a:lnTo>
                  <a:pt x="268" y="380"/>
                </a:lnTo>
                <a:lnTo>
                  <a:pt x="262" y="404"/>
                </a:lnTo>
                <a:lnTo>
                  <a:pt x="242" y="409"/>
                </a:lnTo>
                <a:lnTo>
                  <a:pt x="230" y="399"/>
                </a:lnTo>
                <a:lnTo>
                  <a:pt x="217" y="386"/>
                </a:lnTo>
                <a:lnTo>
                  <a:pt x="194" y="410"/>
                </a:lnTo>
                <a:lnTo>
                  <a:pt x="174" y="378"/>
                </a:lnTo>
                <a:lnTo>
                  <a:pt x="177" y="341"/>
                </a:lnTo>
                <a:lnTo>
                  <a:pt x="163" y="308"/>
                </a:lnTo>
                <a:lnTo>
                  <a:pt x="143" y="269"/>
                </a:lnTo>
                <a:lnTo>
                  <a:pt x="141" y="289"/>
                </a:lnTo>
                <a:lnTo>
                  <a:pt x="131" y="315"/>
                </a:lnTo>
                <a:lnTo>
                  <a:pt x="104" y="321"/>
                </a:lnTo>
                <a:lnTo>
                  <a:pt x="99" y="340"/>
                </a:lnTo>
                <a:lnTo>
                  <a:pt x="76" y="355"/>
                </a:lnTo>
                <a:lnTo>
                  <a:pt x="61" y="357"/>
                </a:lnTo>
                <a:lnTo>
                  <a:pt x="26" y="292"/>
                </a:lnTo>
                <a:lnTo>
                  <a:pt x="0" y="237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30800" y="1254240"/>
            <a:ext cx="52200" cy="64800"/>
          </a:xfrm>
          <a:custGeom>
            <a:avLst/>
            <a:gdLst/>
            <a:ahLst/>
            <a:rect l="l" t="t" r="r" b="b"/>
            <a:pathLst>
              <a:path w="99" h="123">
                <a:moveTo>
                  <a:pt x="0" y="118"/>
                </a:moveTo>
                <a:lnTo>
                  <a:pt x="10" y="90"/>
                </a:lnTo>
                <a:lnTo>
                  <a:pt x="26" y="69"/>
                </a:lnTo>
                <a:lnTo>
                  <a:pt x="29" y="49"/>
                </a:lnTo>
                <a:lnTo>
                  <a:pt x="36" y="31"/>
                </a:lnTo>
                <a:lnTo>
                  <a:pt x="40" y="16"/>
                </a:lnTo>
                <a:lnTo>
                  <a:pt x="38" y="0"/>
                </a:lnTo>
                <a:lnTo>
                  <a:pt x="65" y="10"/>
                </a:lnTo>
                <a:lnTo>
                  <a:pt x="78" y="27"/>
                </a:lnTo>
                <a:lnTo>
                  <a:pt x="99" y="43"/>
                </a:lnTo>
                <a:lnTo>
                  <a:pt x="89" y="70"/>
                </a:lnTo>
                <a:lnTo>
                  <a:pt x="69" y="99"/>
                </a:lnTo>
                <a:lnTo>
                  <a:pt x="69" y="76"/>
                </a:lnTo>
                <a:lnTo>
                  <a:pt x="61" y="59"/>
                </a:lnTo>
                <a:lnTo>
                  <a:pt x="48" y="83"/>
                </a:lnTo>
                <a:lnTo>
                  <a:pt x="28" y="103"/>
                </a:lnTo>
                <a:lnTo>
                  <a:pt x="9" y="123"/>
                </a:lnTo>
                <a:lnTo>
                  <a:pt x="0" y="118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1419120"/>
            <a:ext cx="49320" cy="36720"/>
          </a:xfrm>
          <a:custGeom>
            <a:avLst/>
            <a:gdLst/>
            <a:ahLst/>
            <a:rect l="l" t="t" r="r" b="b"/>
            <a:pathLst>
              <a:path w="92" h="68">
                <a:moveTo>
                  <a:pt x="0" y="50"/>
                </a:moveTo>
                <a:lnTo>
                  <a:pt x="13" y="27"/>
                </a:lnTo>
                <a:lnTo>
                  <a:pt x="14" y="14"/>
                </a:lnTo>
                <a:lnTo>
                  <a:pt x="23" y="4"/>
                </a:lnTo>
                <a:lnTo>
                  <a:pt x="42" y="10"/>
                </a:lnTo>
                <a:lnTo>
                  <a:pt x="61" y="3"/>
                </a:lnTo>
                <a:lnTo>
                  <a:pt x="76" y="0"/>
                </a:lnTo>
                <a:lnTo>
                  <a:pt x="92" y="13"/>
                </a:lnTo>
                <a:lnTo>
                  <a:pt x="86" y="32"/>
                </a:lnTo>
                <a:lnTo>
                  <a:pt x="58" y="42"/>
                </a:lnTo>
                <a:lnTo>
                  <a:pt x="26" y="40"/>
                </a:lnTo>
                <a:lnTo>
                  <a:pt x="25" y="68"/>
                </a:lnTo>
                <a:lnTo>
                  <a:pt x="0" y="5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1387440"/>
            <a:ext cx="31680" cy="34920"/>
          </a:xfrm>
          <a:custGeom>
            <a:avLst/>
            <a:gdLst/>
            <a:ahLst/>
            <a:rect l="l" t="t" r="r" b="b"/>
            <a:pathLst>
              <a:path w="61" h="64">
                <a:moveTo>
                  <a:pt x="0" y="48"/>
                </a:moveTo>
                <a:lnTo>
                  <a:pt x="14" y="64"/>
                </a:lnTo>
                <a:lnTo>
                  <a:pt x="37" y="54"/>
                </a:lnTo>
                <a:lnTo>
                  <a:pt x="59" y="46"/>
                </a:lnTo>
                <a:lnTo>
                  <a:pt x="61" y="24"/>
                </a:lnTo>
                <a:lnTo>
                  <a:pt x="37" y="21"/>
                </a:lnTo>
                <a:lnTo>
                  <a:pt x="48" y="0"/>
                </a:lnTo>
                <a:lnTo>
                  <a:pt x="27" y="0"/>
                </a:lnTo>
                <a:lnTo>
                  <a:pt x="16" y="11"/>
                </a:lnTo>
                <a:lnTo>
                  <a:pt x="16" y="31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1235160"/>
            <a:ext cx="23760" cy="41040"/>
          </a:xfrm>
          <a:custGeom>
            <a:avLst/>
            <a:gdLst/>
            <a:ahLst/>
            <a:rect l="l" t="t" r="r" b="b"/>
            <a:pathLst>
              <a:path w="47" h="78">
                <a:moveTo>
                  <a:pt x="0" y="10"/>
                </a:moveTo>
                <a:lnTo>
                  <a:pt x="16" y="1"/>
                </a:lnTo>
                <a:lnTo>
                  <a:pt x="33" y="0"/>
                </a:lnTo>
                <a:lnTo>
                  <a:pt x="41" y="11"/>
                </a:lnTo>
                <a:lnTo>
                  <a:pt x="46" y="31"/>
                </a:lnTo>
                <a:lnTo>
                  <a:pt x="47" y="49"/>
                </a:lnTo>
                <a:lnTo>
                  <a:pt x="34" y="56"/>
                </a:lnTo>
                <a:lnTo>
                  <a:pt x="41" y="70"/>
                </a:lnTo>
                <a:lnTo>
                  <a:pt x="33" y="78"/>
                </a:lnTo>
                <a:lnTo>
                  <a:pt x="20" y="70"/>
                </a:lnTo>
                <a:lnTo>
                  <a:pt x="18" y="56"/>
                </a:lnTo>
                <a:lnTo>
                  <a:pt x="17" y="36"/>
                </a:lnTo>
                <a:lnTo>
                  <a:pt x="3" y="19"/>
                </a:lnTo>
                <a:lnTo>
                  <a:pt x="0" y="1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06760" y="1384200"/>
            <a:ext cx="17640" cy="31680"/>
          </a:xfrm>
          <a:custGeom>
            <a:avLst/>
            <a:gdLst/>
            <a:ahLst/>
            <a:rect l="l" t="t" r="r" b="b"/>
            <a:pathLst>
              <a:path w="33" h="61">
                <a:moveTo>
                  <a:pt x="0" y="46"/>
                </a:moveTo>
                <a:lnTo>
                  <a:pt x="2" y="33"/>
                </a:lnTo>
                <a:lnTo>
                  <a:pt x="8" y="13"/>
                </a:lnTo>
                <a:lnTo>
                  <a:pt x="33" y="0"/>
                </a:lnTo>
                <a:lnTo>
                  <a:pt x="26" y="26"/>
                </a:lnTo>
                <a:lnTo>
                  <a:pt x="21" y="41"/>
                </a:lnTo>
                <a:lnTo>
                  <a:pt x="2" y="61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59320" y="1273320"/>
            <a:ext cx="14400" cy="21960"/>
          </a:xfrm>
          <a:custGeom>
            <a:avLst/>
            <a:gdLst/>
            <a:ahLst/>
            <a:rect l="l" t="t" r="r" b="b"/>
            <a:pathLst>
              <a:path w="29" h="41">
                <a:moveTo>
                  <a:pt x="0" y="41"/>
                </a:moveTo>
                <a:lnTo>
                  <a:pt x="1" y="27"/>
                </a:lnTo>
                <a:lnTo>
                  <a:pt x="3" y="0"/>
                </a:lnTo>
                <a:lnTo>
                  <a:pt x="10" y="14"/>
                </a:lnTo>
                <a:lnTo>
                  <a:pt x="19" y="13"/>
                </a:lnTo>
                <a:lnTo>
                  <a:pt x="23" y="21"/>
                </a:lnTo>
                <a:lnTo>
                  <a:pt x="29" y="37"/>
                </a:lnTo>
                <a:lnTo>
                  <a:pt x="14" y="41"/>
                </a:lnTo>
                <a:lnTo>
                  <a:pt x="0" y="4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320" y="49320"/>
            <a:ext cx="1936800" cy="2732040"/>
          </a:xfrm>
          <a:custGeom>
            <a:avLst/>
            <a:gdLst/>
            <a:ahLst/>
            <a:rect l="l" t="t" r="r" b="b"/>
            <a:pathLst>
              <a:path w="3662" h="5189">
                <a:moveTo>
                  <a:pt x="0" y="2401"/>
                </a:moveTo>
                <a:lnTo>
                  <a:pt x="20" y="2345"/>
                </a:lnTo>
                <a:lnTo>
                  <a:pt x="65" y="2290"/>
                </a:lnTo>
                <a:lnTo>
                  <a:pt x="110" y="2236"/>
                </a:lnTo>
                <a:lnTo>
                  <a:pt x="187" y="2227"/>
                </a:lnTo>
                <a:lnTo>
                  <a:pt x="236" y="2236"/>
                </a:lnTo>
                <a:lnTo>
                  <a:pt x="264" y="2267"/>
                </a:lnTo>
                <a:lnTo>
                  <a:pt x="264" y="2215"/>
                </a:lnTo>
                <a:lnTo>
                  <a:pt x="235" y="2188"/>
                </a:lnTo>
                <a:lnTo>
                  <a:pt x="189" y="2201"/>
                </a:lnTo>
                <a:lnTo>
                  <a:pt x="120" y="2214"/>
                </a:lnTo>
                <a:lnTo>
                  <a:pt x="68" y="2237"/>
                </a:lnTo>
                <a:lnTo>
                  <a:pt x="20" y="2276"/>
                </a:lnTo>
                <a:lnTo>
                  <a:pt x="0" y="2246"/>
                </a:lnTo>
                <a:lnTo>
                  <a:pt x="0" y="2211"/>
                </a:lnTo>
                <a:lnTo>
                  <a:pt x="54" y="2149"/>
                </a:lnTo>
                <a:lnTo>
                  <a:pt x="0" y="2198"/>
                </a:lnTo>
                <a:lnTo>
                  <a:pt x="0" y="1479"/>
                </a:lnTo>
                <a:lnTo>
                  <a:pt x="51" y="1414"/>
                </a:lnTo>
                <a:lnTo>
                  <a:pt x="176" y="1429"/>
                </a:lnTo>
                <a:lnTo>
                  <a:pt x="183" y="1498"/>
                </a:lnTo>
                <a:lnTo>
                  <a:pt x="246" y="1514"/>
                </a:lnTo>
                <a:lnTo>
                  <a:pt x="282" y="1462"/>
                </a:lnTo>
                <a:lnTo>
                  <a:pt x="320" y="1465"/>
                </a:lnTo>
                <a:lnTo>
                  <a:pt x="403" y="1455"/>
                </a:lnTo>
                <a:lnTo>
                  <a:pt x="369" y="1424"/>
                </a:lnTo>
                <a:lnTo>
                  <a:pt x="282" y="1446"/>
                </a:lnTo>
                <a:lnTo>
                  <a:pt x="236" y="1463"/>
                </a:lnTo>
                <a:lnTo>
                  <a:pt x="225" y="1427"/>
                </a:lnTo>
                <a:lnTo>
                  <a:pt x="274" y="1417"/>
                </a:lnTo>
                <a:lnTo>
                  <a:pt x="272" y="1378"/>
                </a:lnTo>
                <a:lnTo>
                  <a:pt x="192" y="1388"/>
                </a:lnTo>
                <a:lnTo>
                  <a:pt x="85" y="1358"/>
                </a:lnTo>
                <a:lnTo>
                  <a:pt x="0" y="1341"/>
                </a:lnTo>
                <a:lnTo>
                  <a:pt x="0" y="13"/>
                </a:lnTo>
                <a:lnTo>
                  <a:pt x="5" y="25"/>
                </a:lnTo>
                <a:lnTo>
                  <a:pt x="35" y="85"/>
                </a:lnTo>
                <a:lnTo>
                  <a:pt x="52" y="144"/>
                </a:lnTo>
                <a:lnTo>
                  <a:pt x="87" y="205"/>
                </a:lnTo>
                <a:lnTo>
                  <a:pt x="114" y="200"/>
                </a:lnTo>
                <a:lnTo>
                  <a:pt x="67" y="87"/>
                </a:lnTo>
                <a:lnTo>
                  <a:pt x="28" y="5"/>
                </a:lnTo>
                <a:lnTo>
                  <a:pt x="26" y="0"/>
                </a:lnTo>
                <a:lnTo>
                  <a:pt x="3275" y="0"/>
                </a:lnTo>
                <a:lnTo>
                  <a:pt x="3297" y="49"/>
                </a:lnTo>
                <a:lnTo>
                  <a:pt x="3300" y="88"/>
                </a:lnTo>
                <a:lnTo>
                  <a:pt x="3318" y="159"/>
                </a:lnTo>
                <a:lnTo>
                  <a:pt x="3295" y="351"/>
                </a:lnTo>
                <a:lnTo>
                  <a:pt x="3301" y="374"/>
                </a:lnTo>
                <a:lnTo>
                  <a:pt x="3246" y="838"/>
                </a:lnTo>
                <a:lnTo>
                  <a:pt x="3416" y="1009"/>
                </a:lnTo>
                <a:lnTo>
                  <a:pt x="3497" y="1003"/>
                </a:lnTo>
                <a:lnTo>
                  <a:pt x="3662" y="1243"/>
                </a:lnTo>
                <a:lnTo>
                  <a:pt x="3639" y="1318"/>
                </a:lnTo>
                <a:lnTo>
                  <a:pt x="3655" y="1365"/>
                </a:lnTo>
                <a:lnTo>
                  <a:pt x="3636" y="1400"/>
                </a:lnTo>
                <a:lnTo>
                  <a:pt x="3569" y="1514"/>
                </a:lnTo>
                <a:lnTo>
                  <a:pt x="3553" y="1613"/>
                </a:lnTo>
                <a:lnTo>
                  <a:pt x="3505" y="1621"/>
                </a:lnTo>
                <a:lnTo>
                  <a:pt x="3446" y="1620"/>
                </a:lnTo>
                <a:lnTo>
                  <a:pt x="3394" y="1636"/>
                </a:lnTo>
                <a:lnTo>
                  <a:pt x="3312" y="1655"/>
                </a:lnTo>
                <a:lnTo>
                  <a:pt x="3340" y="1721"/>
                </a:lnTo>
                <a:lnTo>
                  <a:pt x="3360" y="1784"/>
                </a:lnTo>
                <a:lnTo>
                  <a:pt x="3384" y="1857"/>
                </a:lnTo>
                <a:lnTo>
                  <a:pt x="3406" y="1941"/>
                </a:lnTo>
                <a:lnTo>
                  <a:pt x="3432" y="2017"/>
                </a:lnTo>
                <a:lnTo>
                  <a:pt x="3487" y="2099"/>
                </a:lnTo>
                <a:lnTo>
                  <a:pt x="3487" y="2152"/>
                </a:lnTo>
                <a:lnTo>
                  <a:pt x="3515" y="2190"/>
                </a:lnTo>
                <a:lnTo>
                  <a:pt x="3543" y="2241"/>
                </a:lnTo>
                <a:lnTo>
                  <a:pt x="3548" y="2313"/>
                </a:lnTo>
                <a:lnTo>
                  <a:pt x="3548" y="2392"/>
                </a:lnTo>
                <a:lnTo>
                  <a:pt x="3511" y="2451"/>
                </a:lnTo>
                <a:lnTo>
                  <a:pt x="3484" y="2507"/>
                </a:lnTo>
                <a:lnTo>
                  <a:pt x="3505" y="2640"/>
                </a:lnTo>
                <a:lnTo>
                  <a:pt x="3487" y="2738"/>
                </a:lnTo>
                <a:lnTo>
                  <a:pt x="3439" y="2860"/>
                </a:lnTo>
                <a:lnTo>
                  <a:pt x="3386" y="2933"/>
                </a:lnTo>
                <a:lnTo>
                  <a:pt x="3325" y="2994"/>
                </a:lnTo>
                <a:lnTo>
                  <a:pt x="3282" y="3008"/>
                </a:lnTo>
                <a:lnTo>
                  <a:pt x="3259" y="3005"/>
                </a:lnTo>
                <a:lnTo>
                  <a:pt x="3174" y="3008"/>
                </a:lnTo>
                <a:lnTo>
                  <a:pt x="3095" y="3063"/>
                </a:lnTo>
                <a:lnTo>
                  <a:pt x="3097" y="3080"/>
                </a:lnTo>
                <a:lnTo>
                  <a:pt x="3125" y="3104"/>
                </a:lnTo>
                <a:lnTo>
                  <a:pt x="3131" y="3138"/>
                </a:lnTo>
                <a:lnTo>
                  <a:pt x="3143" y="3179"/>
                </a:lnTo>
                <a:lnTo>
                  <a:pt x="3135" y="3232"/>
                </a:lnTo>
                <a:lnTo>
                  <a:pt x="3081" y="3278"/>
                </a:lnTo>
                <a:lnTo>
                  <a:pt x="2987" y="3340"/>
                </a:lnTo>
                <a:lnTo>
                  <a:pt x="3025" y="3523"/>
                </a:lnTo>
                <a:lnTo>
                  <a:pt x="3066" y="3690"/>
                </a:lnTo>
                <a:lnTo>
                  <a:pt x="3045" y="3878"/>
                </a:lnTo>
                <a:lnTo>
                  <a:pt x="3042" y="3906"/>
                </a:lnTo>
                <a:lnTo>
                  <a:pt x="2996" y="4028"/>
                </a:lnTo>
                <a:lnTo>
                  <a:pt x="2947" y="4159"/>
                </a:lnTo>
                <a:lnTo>
                  <a:pt x="2891" y="4206"/>
                </a:lnTo>
                <a:lnTo>
                  <a:pt x="2849" y="4199"/>
                </a:lnTo>
                <a:lnTo>
                  <a:pt x="2839" y="4153"/>
                </a:lnTo>
                <a:lnTo>
                  <a:pt x="2803" y="4002"/>
                </a:lnTo>
                <a:lnTo>
                  <a:pt x="2757" y="3930"/>
                </a:lnTo>
                <a:lnTo>
                  <a:pt x="2648" y="3998"/>
                </a:lnTo>
                <a:lnTo>
                  <a:pt x="2622" y="4062"/>
                </a:lnTo>
                <a:lnTo>
                  <a:pt x="2642" y="3990"/>
                </a:lnTo>
                <a:lnTo>
                  <a:pt x="2655" y="3927"/>
                </a:lnTo>
                <a:lnTo>
                  <a:pt x="2675" y="3888"/>
                </a:lnTo>
                <a:lnTo>
                  <a:pt x="2616" y="3873"/>
                </a:lnTo>
                <a:lnTo>
                  <a:pt x="2610" y="3914"/>
                </a:lnTo>
                <a:lnTo>
                  <a:pt x="2564" y="3917"/>
                </a:lnTo>
                <a:lnTo>
                  <a:pt x="2566" y="3884"/>
                </a:lnTo>
                <a:lnTo>
                  <a:pt x="2543" y="3864"/>
                </a:lnTo>
                <a:lnTo>
                  <a:pt x="2517" y="3844"/>
                </a:lnTo>
                <a:lnTo>
                  <a:pt x="2448" y="3901"/>
                </a:lnTo>
                <a:lnTo>
                  <a:pt x="2425" y="3844"/>
                </a:lnTo>
                <a:lnTo>
                  <a:pt x="2389" y="3786"/>
                </a:lnTo>
                <a:lnTo>
                  <a:pt x="2399" y="3736"/>
                </a:lnTo>
                <a:lnTo>
                  <a:pt x="2415" y="3688"/>
                </a:lnTo>
                <a:lnTo>
                  <a:pt x="2374" y="3650"/>
                </a:lnTo>
                <a:lnTo>
                  <a:pt x="2346" y="3605"/>
                </a:lnTo>
                <a:lnTo>
                  <a:pt x="2312" y="3552"/>
                </a:lnTo>
                <a:lnTo>
                  <a:pt x="2346" y="3468"/>
                </a:lnTo>
                <a:lnTo>
                  <a:pt x="2344" y="3378"/>
                </a:lnTo>
                <a:lnTo>
                  <a:pt x="2340" y="3261"/>
                </a:lnTo>
                <a:lnTo>
                  <a:pt x="2311" y="3150"/>
                </a:lnTo>
                <a:lnTo>
                  <a:pt x="2360" y="3040"/>
                </a:lnTo>
                <a:lnTo>
                  <a:pt x="2396" y="3178"/>
                </a:lnTo>
                <a:lnTo>
                  <a:pt x="2420" y="3066"/>
                </a:lnTo>
                <a:lnTo>
                  <a:pt x="2412" y="2991"/>
                </a:lnTo>
                <a:lnTo>
                  <a:pt x="2384" y="2994"/>
                </a:lnTo>
                <a:lnTo>
                  <a:pt x="2302" y="3002"/>
                </a:lnTo>
                <a:lnTo>
                  <a:pt x="2242" y="3066"/>
                </a:lnTo>
                <a:lnTo>
                  <a:pt x="2258" y="3119"/>
                </a:lnTo>
                <a:lnTo>
                  <a:pt x="2271" y="3202"/>
                </a:lnTo>
                <a:lnTo>
                  <a:pt x="2291" y="3240"/>
                </a:lnTo>
                <a:lnTo>
                  <a:pt x="2305" y="3253"/>
                </a:lnTo>
                <a:lnTo>
                  <a:pt x="2310" y="3388"/>
                </a:lnTo>
                <a:lnTo>
                  <a:pt x="2271" y="3440"/>
                </a:lnTo>
                <a:lnTo>
                  <a:pt x="2202" y="3445"/>
                </a:lnTo>
                <a:lnTo>
                  <a:pt x="2190" y="3428"/>
                </a:lnTo>
                <a:lnTo>
                  <a:pt x="2089" y="3379"/>
                </a:lnTo>
                <a:lnTo>
                  <a:pt x="2156" y="3473"/>
                </a:lnTo>
                <a:lnTo>
                  <a:pt x="2238" y="3559"/>
                </a:lnTo>
                <a:lnTo>
                  <a:pt x="2269" y="3691"/>
                </a:lnTo>
                <a:lnTo>
                  <a:pt x="2232" y="3770"/>
                </a:lnTo>
                <a:lnTo>
                  <a:pt x="2219" y="3854"/>
                </a:lnTo>
                <a:lnTo>
                  <a:pt x="2173" y="3786"/>
                </a:lnTo>
                <a:lnTo>
                  <a:pt x="2110" y="3913"/>
                </a:lnTo>
                <a:lnTo>
                  <a:pt x="2136" y="3970"/>
                </a:lnTo>
                <a:lnTo>
                  <a:pt x="2054" y="4019"/>
                </a:lnTo>
                <a:lnTo>
                  <a:pt x="1982" y="4021"/>
                </a:lnTo>
                <a:lnTo>
                  <a:pt x="1902" y="3896"/>
                </a:lnTo>
                <a:lnTo>
                  <a:pt x="1881" y="3916"/>
                </a:lnTo>
                <a:lnTo>
                  <a:pt x="1974" y="4070"/>
                </a:lnTo>
                <a:lnTo>
                  <a:pt x="1832" y="4088"/>
                </a:lnTo>
                <a:lnTo>
                  <a:pt x="1825" y="3965"/>
                </a:lnTo>
                <a:lnTo>
                  <a:pt x="1754" y="3926"/>
                </a:lnTo>
                <a:lnTo>
                  <a:pt x="1786" y="4044"/>
                </a:lnTo>
                <a:lnTo>
                  <a:pt x="1715" y="4103"/>
                </a:lnTo>
                <a:lnTo>
                  <a:pt x="1666" y="4142"/>
                </a:lnTo>
                <a:lnTo>
                  <a:pt x="1546" y="4173"/>
                </a:lnTo>
                <a:lnTo>
                  <a:pt x="1510" y="4221"/>
                </a:lnTo>
                <a:lnTo>
                  <a:pt x="1603" y="4241"/>
                </a:lnTo>
                <a:lnTo>
                  <a:pt x="1564" y="4287"/>
                </a:lnTo>
                <a:lnTo>
                  <a:pt x="1534" y="4321"/>
                </a:lnTo>
                <a:lnTo>
                  <a:pt x="1479" y="4337"/>
                </a:lnTo>
                <a:lnTo>
                  <a:pt x="1386" y="4341"/>
                </a:lnTo>
                <a:lnTo>
                  <a:pt x="1454" y="4369"/>
                </a:lnTo>
                <a:lnTo>
                  <a:pt x="1445" y="4423"/>
                </a:lnTo>
                <a:lnTo>
                  <a:pt x="1359" y="4475"/>
                </a:lnTo>
                <a:lnTo>
                  <a:pt x="1284" y="4503"/>
                </a:lnTo>
                <a:lnTo>
                  <a:pt x="1226" y="4622"/>
                </a:lnTo>
                <a:lnTo>
                  <a:pt x="1195" y="4661"/>
                </a:lnTo>
                <a:lnTo>
                  <a:pt x="1141" y="4702"/>
                </a:lnTo>
                <a:lnTo>
                  <a:pt x="1087" y="4800"/>
                </a:lnTo>
                <a:lnTo>
                  <a:pt x="1013" y="4858"/>
                </a:lnTo>
                <a:lnTo>
                  <a:pt x="960" y="4901"/>
                </a:lnTo>
                <a:lnTo>
                  <a:pt x="887" y="4946"/>
                </a:lnTo>
                <a:lnTo>
                  <a:pt x="826" y="5017"/>
                </a:lnTo>
                <a:lnTo>
                  <a:pt x="835" y="5039"/>
                </a:lnTo>
                <a:lnTo>
                  <a:pt x="759" y="5061"/>
                </a:lnTo>
                <a:lnTo>
                  <a:pt x="727" y="5032"/>
                </a:lnTo>
                <a:lnTo>
                  <a:pt x="715" y="5020"/>
                </a:lnTo>
                <a:lnTo>
                  <a:pt x="731" y="4947"/>
                </a:lnTo>
                <a:lnTo>
                  <a:pt x="711" y="4948"/>
                </a:lnTo>
                <a:lnTo>
                  <a:pt x="694" y="5015"/>
                </a:lnTo>
                <a:lnTo>
                  <a:pt x="666" y="5023"/>
                </a:lnTo>
                <a:lnTo>
                  <a:pt x="661" y="5072"/>
                </a:lnTo>
                <a:lnTo>
                  <a:pt x="566" y="5105"/>
                </a:lnTo>
                <a:lnTo>
                  <a:pt x="491" y="5111"/>
                </a:lnTo>
                <a:lnTo>
                  <a:pt x="471" y="5068"/>
                </a:lnTo>
                <a:lnTo>
                  <a:pt x="481" y="5128"/>
                </a:lnTo>
                <a:lnTo>
                  <a:pt x="456" y="5160"/>
                </a:lnTo>
                <a:lnTo>
                  <a:pt x="415" y="5173"/>
                </a:lnTo>
                <a:lnTo>
                  <a:pt x="360" y="5166"/>
                </a:lnTo>
                <a:lnTo>
                  <a:pt x="324" y="5141"/>
                </a:lnTo>
                <a:lnTo>
                  <a:pt x="298" y="5161"/>
                </a:lnTo>
                <a:lnTo>
                  <a:pt x="222" y="5114"/>
                </a:lnTo>
                <a:lnTo>
                  <a:pt x="179" y="5125"/>
                </a:lnTo>
                <a:lnTo>
                  <a:pt x="167" y="5105"/>
                </a:lnTo>
                <a:lnTo>
                  <a:pt x="130" y="5125"/>
                </a:lnTo>
                <a:lnTo>
                  <a:pt x="75" y="5189"/>
                </a:lnTo>
                <a:lnTo>
                  <a:pt x="67" y="5153"/>
                </a:lnTo>
                <a:lnTo>
                  <a:pt x="102" y="5102"/>
                </a:lnTo>
                <a:lnTo>
                  <a:pt x="143" y="5076"/>
                </a:lnTo>
                <a:lnTo>
                  <a:pt x="166" y="5035"/>
                </a:lnTo>
                <a:lnTo>
                  <a:pt x="102" y="5078"/>
                </a:lnTo>
                <a:lnTo>
                  <a:pt x="33" y="5128"/>
                </a:lnTo>
                <a:lnTo>
                  <a:pt x="87" y="5012"/>
                </a:lnTo>
                <a:lnTo>
                  <a:pt x="20" y="5091"/>
                </a:lnTo>
                <a:lnTo>
                  <a:pt x="15" y="5036"/>
                </a:lnTo>
                <a:lnTo>
                  <a:pt x="0" y="5049"/>
                </a:lnTo>
                <a:lnTo>
                  <a:pt x="0" y="5009"/>
                </a:lnTo>
                <a:lnTo>
                  <a:pt x="5" y="5006"/>
                </a:lnTo>
                <a:lnTo>
                  <a:pt x="81" y="4993"/>
                </a:lnTo>
                <a:lnTo>
                  <a:pt x="0" y="4982"/>
                </a:lnTo>
                <a:lnTo>
                  <a:pt x="0" y="240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4960" y="49320"/>
            <a:ext cx="2557440" cy="4495680"/>
          </a:xfrm>
          <a:custGeom>
            <a:avLst/>
            <a:gdLst/>
            <a:ahLst/>
            <a:rect l="l" t="t" r="r" b="b"/>
            <a:pathLst>
              <a:path w="4834" h="8497">
                <a:moveTo>
                  <a:pt x="3683" y="222"/>
                </a:moveTo>
                <a:lnTo>
                  <a:pt x="3660" y="369"/>
                </a:lnTo>
                <a:lnTo>
                  <a:pt x="3642" y="377"/>
                </a:lnTo>
                <a:lnTo>
                  <a:pt x="3662" y="392"/>
                </a:lnTo>
                <a:lnTo>
                  <a:pt x="3662" y="407"/>
                </a:lnTo>
                <a:lnTo>
                  <a:pt x="3639" y="416"/>
                </a:lnTo>
                <a:lnTo>
                  <a:pt x="3636" y="451"/>
                </a:lnTo>
                <a:lnTo>
                  <a:pt x="3608" y="458"/>
                </a:lnTo>
                <a:lnTo>
                  <a:pt x="3620" y="510"/>
                </a:lnTo>
                <a:lnTo>
                  <a:pt x="3627" y="546"/>
                </a:lnTo>
                <a:lnTo>
                  <a:pt x="3630" y="558"/>
                </a:lnTo>
                <a:lnTo>
                  <a:pt x="3611" y="579"/>
                </a:lnTo>
                <a:lnTo>
                  <a:pt x="3617" y="594"/>
                </a:lnTo>
                <a:lnTo>
                  <a:pt x="3621" y="620"/>
                </a:lnTo>
                <a:lnTo>
                  <a:pt x="3656" y="630"/>
                </a:lnTo>
                <a:lnTo>
                  <a:pt x="3652" y="649"/>
                </a:lnTo>
                <a:lnTo>
                  <a:pt x="3636" y="669"/>
                </a:lnTo>
                <a:lnTo>
                  <a:pt x="3644" y="684"/>
                </a:lnTo>
                <a:lnTo>
                  <a:pt x="3653" y="740"/>
                </a:lnTo>
                <a:lnTo>
                  <a:pt x="3676" y="728"/>
                </a:lnTo>
                <a:lnTo>
                  <a:pt x="3719" y="738"/>
                </a:lnTo>
                <a:lnTo>
                  <a:pt x="3731" y="750"/>
                </a:lnTo>
                <a:lnTo>
                  <a:pt x="3729" y="779"/>
                </a:lnTo>
                <a:lnTo>
                  <a:pt x="3712" y="820"/>
                </a:lnTo>
                <a:lnTo>
                  <a:pt x="3705" y="846"/>
                </a:lnTo>
                <a:lnTo>
                  <a:pt x="3680" y="853"/>
                </a:lnTo>
                <a:lnTo>
                  <a:pt x="3666" y="820"/>
                </a:lnTo>
                <a:lnTo>
                  <a:pt x="3649" y="787"/>
                </a:lnTo>
                <a:lnTo>
                  <a:pt x="3627" y="797"/>
                </a:lnTo>
                <a:lnTo>
                  <a:pt x="3597" y="802"/>
                </a:lnTo>
                <a:lnTo>
                  <a:pt x="3574" y="820"/>
                </a:lnTo>
                <a:lnTo>
                  <a:pt x="3570" y="846"/>
                </a:lnTo>
                <a:lnTo>
                  <a:pt x="3578" y="871"/>
                </a:lnTo>
                <a:lnTo>
                  <a:pt x="3567" y="892"/>
                </a:lnTo>
                <a:lnTo>
                  <a:pt x="3549" y="902"/>
                </a:lnTo>
                <a:lnTo>
                  <a:pt x="3541" y="922"/>
                </a:lnTo>
                <a:lnTo>
                  <a:pt x="3548" y="944"/>
                </a:lnTo>
                <a:lnTo>
                  <a:pt x="3568" y="954"/>
                </a:lnTo>
                <a:lnTo>
                  <a:pt x="3557" y="970"/>
                </a:lnTo>
                <a:lnTo>
                  <a:pt x="3542" y="986"/>
                </a:lnTo>
                <a:lnTo>
                  <a:pt x="3531" y="1004"/>
                </a:lnTo>
                <a:lnTo>
                  <a:pt x="3538" y="1020"/>
                </a:lnTo>
                <a:lnTo>
                  <a:pt x="3537" y="1049"/>
                </a:lnTo>
                <a:lnTo>
                  <a:pt x="3535" y="1072"/>
                </a:lnTo>
                <a:lnTo>
                  <a:pt x="3552" y="1085"/>
                </a:lnTo>
                <a:lnTo>
                  <a:pt x="3575" y="1068"/>
                </a:lnTo>
                <a:lnTo>
                  <a:pt x="3581" y="1091"/>
                </a:lnTo>
                <a:lnTo>
                  <a:pt x="3565" y="1112"/>
                </a:lnTo>
                <a:lnTo>
                  <a:pt x="3545" y="1121"/>
                </a:lnTo>
                <a:lnTo>
                  <a:pt x="3522" y="1121"/>
                </a:lnTo>
                <a:lnTo>
                  <a:pt x="3512" y="1147"/>
                </a:lnTo>
                <a:lnTo>
                  <a:pt x="3531" y="1161"/>
                </a:lnTo>
                <a:lnTo>
                  <a:pt x="3535" y="1186"/>
                </a:lnTo>
                <a:lnTo>
                  <a:pt x="3557" y="1216"/>
                </a:lnTo>
                <a:lnTo>
                  <a:pt x="3583" y="1226"/>
                </a:lnTo>
                <a:lnTo>
                  <a:pt x="3598" y="1232"/>
                </a:lnTo>
                <a:lnTo>
                  <a:pt x="3608" y="1256"/>
                </a:lnTo>
                <a:lnTo>
                  <a:pt x="3619" y="1272"/>
                </a:lnTo>
                <a:lnTo>
                  <a:pt x="3578" y="1273"/>
                </a:lnTo>
                <a:lnTo>
                  <a:pt x="3571" y="1292"/>
                </a:lnTo>
                <a:lnTo>
                  <a:pt x="3580" y="1321"/>
                </a:lnTo>
                <a:lnTo>
                  <a:pt x="3588" y="1344"/>
                </a:lnTo>
                <a:lnTo>
                  <a:pt x="3573" y="1351"/>
                </a:lnTo>
                <a:lnTo>
                  <a:pt x="3577" y="1377"/>
                </a:lnTo>
                <a:lnTo>
                  <a:pt x="3584" y="1388"/>
                </a:lnTo>
                <a:lnTo>
                  <a:pt x="3575" y="1407"/>
                </a:lnTo>
                <a:lnTo>
                  <a:pt x="3571" y="1416"/>
                </a:lnTo>
                <a:lnTo>
                  <a:pt x="3577" y="1432"/>
                </a:lnTo>
                <a:lnTo>
                  <a:pt x="3580" y="1455"/>
                </a:lnTo>
                <a:lnTo>
                  <a:pt x="3585" y="1482"/>
                </a:lnTo>
                <a:lnTo>
                  <a:pt x="3581" y="1532"/>
                </a:lnTo>
                <a:lnTo>
                  <a:pt x="3574" y="1565"/>
                </a:lnTo>
                <a:lnTo>
                  <a:pt x="3567" y="1594"/>
                </a:lnTo>
                <a:lnTo>
                  <a:pt x="3610" y="1597"/>
                </a:lnTo>
                <a:lnTo>
                  <a:pt x="3610" y="1613"/>
                </a:lnTo>
                <a:lnTo>
                  <a:pt x="3591" y="1616"/>
                </a:lnTo>
                <a:lnTo>
                  <a:pt x="3577" y="1640"/>
                </a:lnTo>
                <a:lnTo>
                  <a:pt x="3573" y="1660"/>
                </a:lnTo>
                <a:lnTo>
                  <a:pt x="3594" y="1666"/>
                </a:lnTo>
                <a:lnTo>
                  <a:pt x="3607" y="1698"/>
                </a:lnTo>
                <a:lnTo>
                  <a:pt x="3616" y="1726"/>
                </a:lnTo>
                <a:lnTo>
                  <a:pt x="3637" y="1721"/>
                </a:lnTo>
                <a:lnTo>
                  <a:pt x="3656" y="1757"/>
                </a:lnTo>
                <a:lnTo>
                  <a:pt x="3676" y="1777"/>
                </a:lnTo>
                <a:lnTo>
                  <a:pt x="3656" y="1806"/>
                </a:lnTo>
                <a:lnTo>
                  <a:pt x="3640" y="1829"/>
                </a:lnTo>
                <a:lnTo>
                  <a:pt x="3673" y="1819"/>
                </a:lnTo>
                <a:lnTo>
                  <a:pt x="3673" y="1849"/>
                </a:lnTo>
                <a:lnTo>
                  <a:pt x="3673" y="1870"/>
                </a:lnTo>
                <a:lnTo>
                  <a:pt x="3698" y="1863"/>
                </a:lnTo>
                <a:lnTo>
                  <a:pt x="3708" y="1885"/>
                </a:lnTo>
                <a:lnTo>
                  <a:pt x="3680" y="1916"/>
                </a:lnTo>
                <a:lnTo>
                  <a:pt x="3659" y="1945"/>
                </a:lnTo>
                <a:lnTo>
                  <a:pt x="3630" y="1975"/>
                </a:lnTo>
                <a:lnTo>
                  <a:pt x="3672" y="1977"/>
                </a:lnTo>
                <a:lnTo>
                  <a:pt x="3698" y="1995"/>
                </a:lnTo>
                <a:lnTo>
                  <a:pt x="3721" y="2000"/>
                </a:lnTo>
                <a:lnTo>
                  <a:pt x="3742" y="2004"/>
                </a:lnTo>
                <a:lnTo>
                  <a:pt x="3781" y="1997"/>
                </a:lnTo>
                <a:lnTo>
                  <a:pt x="3831" y="1980"/>
                </a:lnTo>
                <a:lnTo>
                  <a:pt x="3866" y="1988"/>
                </a:lnTo>
                <a:lnTo>
                  <a:pt x="3873" y="2036"/>
                </a:lnTo>
                <a:lnTo>
                  <a:pt x="3880" y="2057"/>
                </a:lnTo>
                <a:lnTo>
                  <a:pt x="3865" y="2080"/>
                </a:lnTo>
                <a:lnTo>
                  <a:pt x="3885" y="2119"/>
                </a:lnTo>
                <a:lnTo>
                  <a:pt x="3918" y="2158"/>
                </a:lnTo>
                <a:lnTo>
                  <a:pt x="3947" y="2158"/>
                </a:lnTo>
                <a:lnTo>
                  <a:pt x="3937" y="2121"/>
                </a:lnTo>
                <a:lnTo>
                  <a:pt x="3934" y="2093"/>
                </a:lnTo>
                <a:lnTo>
                  <a:pt x="3970" y="2087"/>
                </a:lnTo>
                <a:lnTo>
                  <a:pt x="3984" y="2089"/>
                </a:lnTo>
                <a:lnTo>
                  <a:pt x="3988" y="2067"/>
                </a:lnTo>
                <a:lnTo>
                  <a:pt x="4014" y="2056"/>
                </a:lnTo>
                <a:lnTo>
                  <a:pt x="4043" y="2043"/>
                </a:lnTo>
                <a:lnTo>
                  <a:pt x="4069" y="2036"/>
                </a:lnTo>
                <a:lnTo>
                  <a:pt x="4101" y="2030"/>
                </a:lnTo>
                <a:lnTo>
                  <a:pt x="4115" y="2057"/>
                </a:lnTo>
                <a:lnTo>
                  <a:pt x="4114" y="2086"/>
                </a:lnTo>
                <a:lnTo>
                  <a:pt x="4111" y="2123"/>
                </a:lnTo>
                <a:lnTo>
                  <a:pt x="4098" y="2138"/>
                </a:lnTo>
                <a:lnTo>
                  <a:pt x="4125" y="2146"/>
                </a:lnTo>
                <a:lnTo>
                  <a:pt x="4142" y="2145"/>
                </a:lnTo>
                <a:lnTo>
                  <a:pt x="4157" y="2167"/>
                </a:lnTo>
                <a:lnTo>
                  <a:pt x="4180" y="2200"/>
                </a:lnTo>
                <a:lnTo>
                  <a:pt x="4207" y="2240"/>
                </a:lnTo>
                <a:lnTo>
                  <a:pt x="4230" y="2256"/>
                </a:lnTo>
                <a:lnTo>
                  <a:pt x="4257" y="2280"/>
                </a:lnTo>
                <a:lnTo>
                  <a:pt x="4288" y="2292"/>
                </a:lnTo>
                <a:lnTo>
                  <a:pt x="4263" y="2316"/>
                </a:lnTo>
                <a:lnTo>
                  <a:pt x="4270" y="2332"/>
                </a:lnTo>
                <a:lnTo>
                  <a:pt x="4296" y="2318"/>
                </a:lnTo>
                <a:lnTo>
                  <a:pt x="4315" y="2300"/>
                </a:lnTo>
                <a:lnTo>
                  <a:pt x="4345" y="2297"/>
                </a:lnTo>
                <a:lnTo>
                  <a:pt x="4365" y="2319"/>
                </a:lnTo>
                <a:lnTo>
                  <a:pt x="4385" y="2319"/>
                </a:lnTo>
                <a:lnTo>
                  <a:pt x="4410" y="2349"/>
                </a:lnTo>
                <a:lnTo>
                  <a:pt x="4426" y="2367"/>
                </a:lnTo>
                <a:lnTo>
                  <a:pt x="4408" y="2378"/>
                </a:lnTo>
                <a:lnTo>
                  <a:pt x="4436" y="2387"/>
                </a:lnTo>
                <a:lnTo>
                  <a:pt x="4454" y="2391"/>
                </a:lnTo>
                <a:lnTo>
                  <a:pt x="4472" y="2400"/>
                </a:lnTo>
                <a:lnTo>
                  <a:pt x="4490" y="2400"/>
                </a:lnTo>
                <a:lnTo>
                  <a:pt x="4498" y="2426"/>
                </a:lnTo>
                <a:lnTo>
                  <a:pt x="4492" y="2443"/>
                </a:lnTo>
                <a:lnTo>
                  <a:pt x="4478" y="2451"/>
                </a:lnTo>
                <a:lnTo>
                  <a:pt x="4454" y="2441"/>
                </a:lnTo>
                <a:lnTo>
                  <a:pt x="4424" y="2440"/>
                </a:lnTo>
                <a:lnTo>
                  <a:pt x="4396" y="2430"/>
                </a:lnTo>
                <a:lnTo>
                  <a:pt x="4374" y="2424"/>
                </a:lnTo>
                <a:lnTo>
                  <a:pt x="4391" y="2457"/>
                </a:lnTo>
                <a:lnTo>
                  <a:pt x="4404" y="2492"/>
                </a:lnTo>
                <a:lnTo>
                  <a:pt x="4421" y="2507"/>
                </a:lnTo>
                <a:lnTo>
                  <a:pt x="4443" y="2516"/>
                </a:lnTo>
                <a:lnTo>
                  <a:pt x="4466" y="2531"/>
                </a:lnTo>
                <a:lnTo>
                  <a:pt x="4493" y="2539"/>
                </a:lnTo>
                <a:lnTo>
                  <a:pt x="4521" y="2546"/>
                </a:lnTo>
                <a:lnTo>
                  <a:pt x="4545" y="2552"/>
                </a:lnTo>
                <a:lnTo>
                  <a:pt x="4568" y="2568"/>
                </a:lnTo>
                <a:lnTo>
                  <a:pt x="4603" y="2574"/>
                </a:lnTo>
                <a:lnTo>
                  <a:pt x="4630" y="2569"/>
                </a:lnTo>
                <a:lnTo>
                  <a:pt x="4643" y="2595"/>
                </a:lnTo>
                <a:lnTo>
                  <a:pt x="4647" y="2647"/>
                </a:lnTo>
                <a:lnTo>
                  <a:pt x="4667" y="2689"/>
                </a:lnTo>
                <a:lnTo>
                  <a:pt x="4688" y="2733"/>
                </a:lnTo>
                <a:lnTo>
                  <a:pt x="4702" y="2762"/>
                </a:lnTo>
                <a:lnTo>
                  <a:pt x="4705" y="2787"/>
                </a:lnTo>
                <a:lnTo>
                  <a:pt x="4741" y="2789"/>
                </a:lnTo>
                <a:lnTo>
                  <a:pt x="4765" y="2818"/>
                </a:lnTo>
                <a:lnTo>
                  <a:pt x="4780" y="2822"/>
                </a:lnTo>
                <a:lnTo>
                  <a:pt x="4804" y="2821"/>
                </a:lnTo>
                <a:lnTo>
                  <a:pt x="4826" y="2831"/>
                </a:lnTo>
                <a:lnTo>
                  <a:pt x="4834" y="2843"/>
                </a:lnTo>
                <a:lnTo>
                  <a:pt x="4831" y="2874"/>
                </a:lnTo>
                <a:lnTo>
                  <a:pt x="4813" y="2893"/>
                </a:lnTo>
                <a:lnTo>
                  <a:pt x="4794" y="2913"/>
                </a:lnTo>
                <a:lnTo>
                  <a:pt x="4772" y="2928"/>
                </a:lnTo>
                <a:lnTo>
                  <a:pt x="4787" y="2951"/>
                </a:lnTo>
                <a:lnTo>
                  <a:pt x="4819" y="2963"/>
                </a:lnTo>
                <a:lnTo>
                  <a:pt x="4826" y="2991"/>
                </a:lnTo>
                <a:lnTo>
                  <a:pt x="4795" y="3008"/>
                </a:lnTo>
                <a:lnTo>
                  <a:pt x="4764" y="3035"/>
                </a:lnTo>
                <a:lnTo>
                  <a:pt x="4729" y="3034"/>
                </a:lnTo>
                <a:lnTo>
                  <a:pt x="4686" y="3060"/>
                </a:lnTo>
                <a:lnTo>
                  <a:pt x="4644" y="3079"/>
                </a:lnTo>
                <a:lnTo>
                  <a:pt x="4604" y="3129"/>
                </a:lnTo>
                <a:lnTo>
                  <a:pt x="4646" y="3162"/>
                </a:lnTo>
                <a:lnTo>
                  <a:pt x="4616" y="3181"/>
                </a:lnTo>
                <a:lnTo>
                  <a:pt x="4568" y="3219"/>
                </a:lnTo>
                <a:lnTo>
                  <a:pt x="4521" y="3264"/>
                </a:lnTo>
                <a:lnTo>
                  <a:pt x="4489" y="3284"/>
                </a:lnTo>
                <a:lnTo>
                  <a:pt x="4452" y="3322"/>
                </a:lnTo>
                <a:lnTo>
                  <a:pt x="4421" y="3350"/>
                </a:lnTo>
                <a:lnTo>
                  <a:pt x="4393" y="3359"/>
                </a:lnTo>
                <a:lnTo>
                  <a:pt x="4371" y="3342"/>
                </a:lnTo>
                <a:lnTo>
                  <a:pt x="4367" y="3363"/>
                </a:lnTo>
                <a:lnTo>
                  <a:pt x="4380" y="3389"/>
                </a:lnTo>
                <a:lnTo>
                  <a:pt x="4378" y="3404"/>
                </a:lnTo>
                <a:lnTo>
                  <a:pt x="4397" y="3427"/>
                </a:lnTo>
                <a:lnTo>
                  <a:pt x="4426" y="3430"/>
                </a:lnTo>
                <a:lnTo>
                  <a:pt x="4459" y="3438"/>
                </a:lnTo>
                <a:lnTo>
                  <a:pt x="4449" y="3411"/>
                </a:lnTo>
                <a:lnTo>
                  <a:pt x="4463" y="3394"/>
                </a:lnTo>
                <a:lnTo>
                  <a:pt x="4490" y="3396"/>
                </a:lnTo>
                <a:lnTo>
                  <a:pt x="4526" y="3417"/>
                </a:lnTo>
                <a:lnTo>
                  <a:pt x="4544" y="3435"/>
                </a:lnTo>
                <a:lnTo>
                  <a:pt x="4567" y="3445"/>
                </a:lnTo>
                <a:lnTo>
                  <a:pt x="4608" y="3441"/>
                </a:lnTo>
                <a:lnTo>
                  <a:pt x="4640" y="3438"/>
                </a:lnTo>
                <a:lnTo>
                  <a:pt x="4653" y="3480"/>
                </a:lnTo>
                <a:lnTo>
                  <a:pt x="4647" y="3513"/>
                </a:lnTo>
                <a:lnTo>
                  <a:pt x="4624" y="3523"/>
                </a:lnTo>
                <a:lnTo>
                  <a:pt x="4598" y="3535"/>
                </a:lnTo>
                <a:lnTo>
                  <a:pt x="4620" y="3543"/>
                </a:lnTo>
                <a:lnTo>
                  <a:pt x="4634" y="3555"/>
                </a:lnTo>
                <a:lnTo>
                  <a:pt x="4662" y="3527"/>
                </a:lnTo>
                <a:lnTo>
                  <a:pt x="4689" y="3523"/>
                </a:lnTo>
                <a:lnTo>
                  <a:pt x="4702" y="3549"/>
                </a:lnTo>
                <a:lnTo>
                  <a:pt x="4680" y="3565"/>
                </a:lnTo>
                <a:lnTo>
                  <a:pt x="4650" y="3583"/>
                </a:lnTo>
                <a:lnTo>
                  <a:pt x="4611" y="3593"/>
                </a:lnTo>
                <a:lnTo>
                  <a:pt x="4596" y="3593"/>
                </a:lnTo>
                <a:lnTo>
                  <a:pt x="4567" y="3615"/>
                </a:lnTo>
                <a:lnTo>
                  <a:pt x="4531" y="3634"/>
                </a:lnTo>
                <a:lnTo>
                  <a:pt x="4498" y="3618"/>
                </a:lnTo>
                <a:lnTo>
                  <a:pt x="4463" y="3581"/>
                </a:lnTo>
                <a:lnTo>
                  <a:pt x="4431" y="3578"/>
                </a:lnTo>
                <a:lnTo>
                  <a:pt x="4403" y="3621"/>
                </a:lnTo>
                <a:lnTo>
                  <a:pt x="4452" y="3634"/>
                </a:lnTo>
                <a:lnTo>
                  <a:pt x="4478" y="3675"/>
                </a:lnTo>
                <a:lnTo>
                  <a:pt x="4493" y="3706"/>
                </a:lnTo>
                <a:lnTo>
                  <a:pt x="4446" y="3746"/>
                </a:lnTo>
                <a:lnTo>
                  <a:pt x="4419" y="3765"/>
                </a:lnTo>
                <a:lnTo>
                  <a:pt x="4393" y="3778"/>
                </a:lnTo>
                <a:lnTo>
                  <a:pt x="4426" y="3769"/>
                </a:lnTo>
                <a:lnTo>
                  <a:pt x="4462" y="3765"/>
                </a:lnTo>
                <a:lnTo>
                  <a:pt x="4437" y="3779"/>
                </a:lnTo>
                <a:lnTo>
                  <a:pt x="4430" y="3796"/>
                </a:lnTo>
                <a:lnTo>
                  <a:pt x="4390" y="3818"/>
                </a:lnTo>
                <a:lnTo>
                  <a:pt x="4341" y="3842"/>
                </a:lnTo>
                <a:lnTo>
                  <a:pt x="4355" y="3816"/>
                </a:lnTo>
                <a:lnTo>
                  <a:pt x="4355" y="3778"/>
                </a:lnTo>
                <a:lnTo>
                  <a:pt x="4345" y="3776"/>
                </a:lnTo>
                <a:lnTo>
                  <a:pt x="4326" y="3805"/>
                </a:lnTo>
                <a:lnTo>
                  <a:pt x="4290" y="3841"/>
                </a:lnTo>
                <a:lnTo>
                  <a:pt x="4270" y="3864"/>
                </a:lnTo>
                <a:lnTo>
                  <a:pt x="4247" y="3888"/>
                </a:lnTo>
                <a:lnTo>
                  <a:pt x="4233" y="3916"/>
                </a:lnTo>
                <a:lnTo>
                  <a:pt x="4214" y="3947"/>
                </a:lnTo>
                <a:lnTo>
                  <a:pt x="4229" y="3975"/>
                </a:lnTo>
                <a:lnTo>
                  <a:pt x="4236" y="4005"/>
                </a:lnTo>
                <a:lnTo>
                  <a:pt x="4204" y="4052"/>
                </a:lnTo>
                <a:lnTo>
                  <a:pt x="4198" y="4097"/>
                </a:lnTo>
                <a:lnTo>
                  <a:pt x="4210" y="4146"/>
                </a:lnTo>
                <a:lnTo>
                  <a:pt x="4185" y="4179"/>
                </a:lnTo>
                <a:lnTo>
                  <a:pt x="4147" y="4162"/>
                </a:lnTo>
                <a:lnTo>
                  <a:pt x="4121" y="4131"/>
                </a:lnTo>
                <a:lnTo>
                  <a:pt x="4115" y="4101"/>
                </a:lnTo>
                <a:lnTo>
                  <a:pt x="4115" y="4077"/>
                </a:lnTo>
                <a:lnTo>
                  <a:pt x="4092" y="4039"/>
                </a:lnTo>
                <a:lnTo>
                  <a:pt x="4073" y="4015"/>
                </a:lnTo>
                <a:lnTo>
                  <a:pt x="4066" y="3995"/>
                </a:lnTo>
                <a:lnTo>
                  <a:pt x="4065" y="3975"/>
                </a:lnTo>
                <a:lnTo>
                  <a:pt x="4065" y="3934"/>
                </a:lnTo>
                <a:lnTo>
                  <a:pt x="4060" y="3896"/>
                </a:lnTo>
                <a:lnTo>
                  <a:pt x="4059" y="3860"/>
                </a:lnTo>
                <a:lnTo>
                  <a:pt x="4072" y="3816"/>
                </a:lnTo>
                <a:lnTo>
                  <a:pt x="4075" y="3803"/>
                </a:lnTo>
                <a:lnTo>
                  <a:pt x="4079" y="3795"/>
                </a:lnTo>
                <a:lnTo>
                  <a:pt x="4066" y="3795"/>
                </a:lnTo>
                <a:lnTo>
                  <a:pt x="4055" y="3837"/>
                </a:lnTo>
                <a:lnTo>
                  <a:pt x="4056" y="3857"/>
                </a:lnTo>
                <a:lnTo>
                  <a:pt x="4056" y="3860"/>
                </a:lnTo>
                <a:lnTo>
                  <a:pt x="4034" y="3873"/>
                </a:lnTo>
                <a:lnTo>
                  <a:pt x="4021" y="3838"/>
                </a:lnTo>
                <a:lnTo>
                  <a:pt x="4023" y="3801"/>
                </a:lnTo>
                <a:lnTo>
                  <a:pt x="4004" y="3756"/>
                </a:lnTo>
                <a:lnTo>
                  <a:pt x="4000" y="3788"/>
                </a:lnTo>
                <a:lnTo>
                  <a:pt x="3997" y="3835"/>
                </a:lnTo>
                <a:lnTo>
                  <a:pt x="3990" y="3878"/>
                </a:lnTo>
                <a:lnTo>
                  <a:pt x="3994" y="3921"/>
                </a:lnTo>
                <a:lnTo>
                  <a:pt x="3984" y="3973"/>
                </a:lnTo>
                <a:lnTo>
                  <a:pt x="3980" y="3990"/>
                </a:lnTo>
                <a:lnTo>
                  <a:pt x="3972" y="4022"/>
                </a:lnTo>
                <a:lnTo>
                  <a:pt x="3981" y="4054"/>
                </a:lnTo>
                <a:lnTo>
                  <a:pt x="3984" y="4104"/>
                </a:lnTo>
                <a:lnTo>
                  <a:pt x="3964" y="4142"/>
                </a:lnTo>
                <a:lnTo>
                  <a:pt x="3926" y="4176"/>
                </a:lnTo>
                <a:lnTo>
                  <a:pt x="3911" y="4223"/>
                </a:lnTo>
                <a:lnTo>
                  <a:pt x="3860" y="4213"/>
                </a:lnTo>
                <a:lnTo>
                  <a:pt x="3869" y="4236"/>
                </a:lnTo>
                <a:lnTo>
                  <a:pt x="3867" y="4265"/>
                </a:lnTo>
                <a:lnTo>
                  <a:pt x="3842" y="4259"/>
                </a:lnTo>
                <a:lnTo>
                  <a:pt x="3823" y="4285"/>
                </a:lnTo>
                <a:lnTo>
                  <a:pt x="3791" y="4310"/>
                </a:lnTo>
                <a:lnTo>
                  <a:pt x="3729" y="4337"/>
                </a:lnTo>
                <a:lnTo>
                  <a:pt x="3703" y="4321"/>
                </a:lnTo>
                <a:lnTo>
                  <a:pt x="3672" y="4346"/>
                </a:lnTo>
                <a:lnTo>
                  <a:pt x="3688" y="4364"/>
                </a:lnTo>
                <a:lnTo>
                  <a:pt x="3657" y="4406"/>
                </a:lnTo>
                <a:lnTo>
                  <a:pt x="3637" y="4429"/>
                </a:lnTo>
                <a:lnTo>
                  <a:pt x="3604" y="4431"/>
                </a:lnTo>
                <a:lnTo>
                  <a:pt x="3578" y="4455"/>
                </a:lnTo>
                <a:lnTo>
                  <a:pt x="3555" y="4449"/>
                </a:lnTo>
                <a:lnTo>
                  <a:pt x="3501" y="4445"/>
                </a:lnTo>
                <a:lnTo>
                  <a:pt x="3469" y="4444"/>
                </a:lnTo>
                <a:lnTo>
                  <a:pt x="3505" y="4451"/>
                </a:lnTo>
                <a:lnTo>
                  <a:pt x="3502" y="4485"/>
                </a:lnTo>
                <a:lnTo>
                  <a:pt x="3545" y="4526"/>
                </a:lnTo>
                <a:lnTo>
                  <a:pt x="3590" y="4576"/>
                </a:lnTo>
                <a:lnTo>
                  <a:pt x="3570" y="4605"/>
                </a:lnTo>
                <a:lnTo>
                  <a:pt x="3493" y="4661"/>
                </a:lnTo>
                <a:lnTo>
                  <a:pt x="3282" y="4610"/>
                </a:lnTo>
                <a:lnTo>
                  <a:pt x="3407" y="4667"/>
                </a:lnTo>
                <a:lnTo>
                  <a:pt x="3528" y="4763"/>
                </a:lnTo>
                <a:lnTo>
                  <a:pt x="3429" y="4772"/>
                </a:lnTo>
                <a:lnTo>
                  <a:pt x="3594" y="4803"/>
                </a:lnTo>
                <a:lnTo>
                  <a:pt x="3584" y="4846"/>
                </a:lnTo>
                <a:lnTo>
                  <a:pt x="3549" y="4810"/>
                </a:lnTo>
                <a:lnTo>
                  <a:pt x="3478" y="4855"/>
                </a:lnTo>
                <a:lnTo>
                  <a:pt x="3562" y="4898"/>
                </a:lnTo>
                <a:lnTo>
                  <a:pt x="3555" y="4928"/>
                </a:lnTo>
                <a:lnTo>
                  <a:pt x="3584" y="4950"/>
                </a:lnTo>
                <a:lnTo>
                  <a:pt x="3541" y="4976"/>
                </a:lnTo>
                <a:lnTo>
                  <a:pt x="3577" y="5005"/>
                </a:lnTo>
                <a:lnTo>
                  <a:pt x="3529" y="5025"/>
                </a:lnTo>
                <a:lnTo>
                  <a:pt x="3432" y="4956"/>
                </a:lnTo>
                <a:lnTo>
                  <a:pt x="3515" y="5066"/>
                </a:lnTo>
                <a:lnTo>
                  <a:pt x="3562" y="5111"/>
                </a:lnTo>
                <a:lnTo>
                  <a:pt x="3519" y="5120"/>
                </a:lnTo>
                <a:lnTo>
                  <a:pt x="3542" y="5160"/>
                </a:lnTo>
                <a:lnTo>
                  <a:pt x="3501" y="5169"/>
                </a:lnTo>
                <a:lnTo>
                  <a:pt x="3437" y="5133"/>
                </a:lnTo>
                <a:lnTo>
                  <a:pt x="3450" y="5196"/>
                </a:lnTo>
                <a:lnTo>
                  <a:pt x="3542" y="5236"/>
                </a:lnTo>
                <a:lnTo>
                  <a:pt x="3548" y="5337"/>
                </a:lnTo>
                <a:lnTo>
                  <a:pt x="3370" y="5207"/>
                </a:lnTo>
                <a:lnTo>
                  <a:pt x="3436" y="5322"/>
                </a:lnTo>
                <a:lnTo>
                  <a:pt x="3380" y="5315"/>
                </a:lnTo>
                <a:lnTo>
                  <a:pt x="3509" y="5445"/>
                </a:lnTo>
                <a:lnTo>
                  <a:pt x="3503" y="5462"/>
                </a:lnTo>
                <a:lnTo>
                  <a:pt x="3362" y="5330"/>
                </a:lnTo>
                <a:lnTo>
                  <a:pt x="3360" y="5357"/>
                </a:lnTo>
                <a:lnTo>
                  <a:pt x="3496" y="5486"/>
                </a:lnTo>
                <a:lnTo>
                  <a:pt x="3529" y="5535"/>
                </a:lnTo>
                <a:lnTo>
                  <a:pt x="3489" y="5574"/>
                </a:lnTo>
                <a:lnTo>
                  <a:pt x="3467" y="5613"/>
                </a:lnTo>
                <a:lnTo>
                  <a:pt x="3498" y="5653"/>
                </a:lnTo>
                <a:lnTo>
                  <a:pt x="3482" y="5699"/>
                </a:lnTo>
                <a:lnTo>
                  <a:pt x="3420" y="5658"/>
                </a:lnTo>
                <a:lnTo>
                  <a:pt x="3429" y="5708"/>
                </a:lnTo>
                <a:lnTo>
                  <a:pt x="3450" y="5737"/>
                </a:lnTo>
                <a:lnTo>
                  <a:pt x="3501" y="5740"/>
                </a:lnTo>
                <a:lnTo>
                  <a:pt x="3534" y="5807"/>
                </a:lnTo>
                <a:lnTo>
                  <a:pt x="3525" y="5883"/>
                </a:lnTo>
                <a:lnTo>
                  <a:pt x="3479" y="5951"/>
                </a:lnTo>
                <a:lnTo>
                  <a:pt x="3467" y="5941"/>
                </a:lnTo>
                <a:lnTo>
                  <a:pt x="3453" y="5942"/>
                </a:lnTo>
                <a:lnTo>
                  <a:pt x="3463" y="6021"/>
                </a:lnTo>
                <a:lnTo>
                  <a:pt x="3407" y="6059"/>
                </a:lnTo>
                <a:lnTo>
                  <a:pt x="3410" y="6091"/>
                </a:lnTo>
                <a:lnTo>
                  <a:pt x="3426" y="6129"/>
                </a:lnTo>
                <a:lnTo>
                  <a:pt x="3394" y="6162"/>
                </a:lnTo>
                <a:lnTo>
                  <a:pt x="3413" y="6206"/>
                </a:lnTo>
                <a:lnTo>
                  <a:pt x="3455" y="6266"/>
                </a:lnTo>
                <a:lnTo>
                  <a:pt x="3476" y="6308"/>
                </a:lnTo>
                <a:lnTo>
                  <a:pt x="3463" y="6360"/>
                </a:lnTo>
                <a:lnTo>
                  <a:pt x="3432" y="6410"/>
                </a:lnTo>
                <a:lnTo>
                  <a:pt x="3394" y="6421"/>
                </a:lnTo>
                <a:lnTo>
                  <a:pt x="3426" y="6465"/>
                </a:lnTo>
                <a:lnTo>
                  <a:pt x="3403" y="6498"/>
                </a:lnTo>
                <a:lnTo>
                  <a:pt x="3414" y="6513"/>
                </a:lnTo>
                <a:lnTo>
                  <a:pt x="3384" y="6646"/>
                </a:lnTo>
                <a:lnTo>
                  <a:pt x="3413" y="6656"/>
                </a:lnTo>
                <a:lnTo>
                  <a:pt x="3437" y="6637"/>
                </a:lnTo>
                <a:lnTo>
                  <a:pt x="3426" y="6685"/>
                </a:lnTo>
                <a:lnTo>
                  <a:pt x="3380" y="6680"/>
                </a:lnTo>
                <a:lnTo>
                  <a:pt x="3374" y="6745"/>
                </a:lnTo>
                <a:lnTo>
                  <a:pt x="3381" y="6815"/>
                </a:lnTo>
                <a:lnTo>
                  <a:pt x="3316" y="6833"/>
                </a:lnTo>
                <a:lnTo>
                  <a:pt x="3289" y="6883"/>
                </a:lnTo>
                <a:lnTo>
                  <a:pt x="3272" y="6967"/>
                </a:lnTo>
                <a:lnTo>
                  <a:pt x="3242" y="7041"/>
                </a:lnTo>
                <a:lnTo>
                  <a:pt x="3217" y="7113"/>
                </a:lnTo>
                <a:lnTo>
                  <a:pt x="3197" y="7197"/>
                </a:lnTo>
                <a:lnTo>
                  <a:pt x="3188" y="7294"/>
                </a:lnTo>
                <a:lnTo>
                  <a:pt x="3180" y="7326"/>
                </a:lnTo>
                <a:lnTo>
                  <a:pt x="3162" y="7391"/>
                </a:lnTo>
                <a:lnTo>
                  <a:pt x="3066" y="7539"/>
                </a:lnTo>
                <a:lnTo>
                  <a:pt x="3050" y="7513"/>
                </a:lnTo>
                <a:lnTo>
                  <a:pt x="3026" y="7515"/>
                </a:lnTo>
                <a:lnTo>
                  <a:pt x="3050" y="7431"/>
                </a:lnTo>
                <a:lnTo>
                  <a:pt x="3006" y="7467"/>
                </a:lnTo>
                <a:lnTo>
                  <a:pt x="2973" y="7422"/>
                </a:lnTo>
                <a:lnTo>
                  <a:pt x="2905" y="7425"/>
                </a:lnTo>
                <a:lnTo>
                  <a:pt x="2898" y="7389"/>
                </a:lnTo>
                <a:lnTo>
                  <a:pt x="2856" y="7430"/>
                </a:lnTo>
                <a:lnTo>
                  <a:pt x="2829" y="7428"/>
                </a:lnTo>
                <a:lnTo>
                  <a:pt x="2827" y="7458"/>
                </a:lnTo>
                <a:lnTo>
                  <a:pt x="2798" y="7425"/>
                </a:lnTo>
                <a:lnTo>
                  <a:pt x="2767" y="7433"/>
                </a:lnTo>
                <a:lnTo>
                  <a:pt x="2755" y="7484"/>
                </a:lnTo>
                <a:lnTo>
                  <a:pt x="2738" y="7499"/>
                </a:lnTo>
                <a:lnTo>
                  <a:pt x="2705" y="7489"/>
                </a:lnTo>
                <a:lnTo>
                  <a:pt x="2709" y="7440"/>
                </a:lnTo>
                <a:lnTo>
                  <a:pt x="2688" y="7437"/>
                </a:lnTo>
                <a:lnTo>
                  <a:pt x="2616" y="7464"/>
                </a:lnTo>
                <a:lnTo>
                  <a:pt x="2557" y="7468"/>
                </a:lnTo>
                <a:lnTo>
                  <a:pt x="2547" y="7418"/>
                </a:lnTo>
                <a:lnTo>
                  <a:pt x="2518" y="7430"/>
                </a:lnTo>
                <a:lnTo>
                  <a:pt x="2522" y="7470"/>
                </a:lnTo>
                <a:lnTo>
                  <a:pt x="2442" y="7466"/>
                </a:lnTo>
                <a:lnTo>
                  <a:pt x="2416" y="7481"/>
                </a:lnTo>
                <a:lnTo>
                  <a:pt x="2397" y="7458"/>
                </a:lnTo>
                <a:lnTo>
                  <a:pt x="2357" y="7479"/>
                </a:lnTo>
                <a:lnTo>
                  <a:pt x="2316" y="7460"/>
                </a:lnTo>
                <a:lnTo>
                  <a:pt x="2299" y="7504"/>
                </a:lnTo>
                <a:lnTo>
                  <a:pt x="2325" y="7539"/>
                </a:lnTo>
                <a:lnTo>
                  <a:pt x="2335" y="7582"/>
                </a:lnTo>
                <a:lnTo>
                  <a:pt x="2371" y="7612"/>
                </a:lnTo>
                <a:lnTo>
                  <a:pt x="2334" y="7663"/>
                </a:lnTo>
                <a:lnTo>
                  <a:pt x="2302" y="7668"/>
                </a:lnTo>
                <a:lnTo>
                  <a:pt x="2269" y="7663"/>
                </a:lnTo>
                <a:lnTo>
                  <a:pt x="2250" y="7635"/>
                </a:lnTo>
                <a:lnTo>
                  <a:pt x="2247" y="7608"/>
                </a:lnTo>
                <a:lnTo>
                  <a:pt x="2229" y="7627"/>
                </a:lnTo>
                <a:lnTo>
                  <a:pt x="2214" y="7612"/>
                </a:lnTo>
                <a:lnTo>
                  <a:pt x="2170" y="7620"/>
                </a:lnTo>
                <a:lnTo>
                  <a:pt x="2164" y="7660"/>
                </a:lnTo>
                <a:lnTo>
                  <a:pt x="2124" y="7716"/>
                </a:lnTo>
                <a:lnTo>
                  <a:pt x="2091" y="7716"/>
                </a:lnTo>
                <a:lnTo>
                  <a:pt x="2082" y="7760"/>
                </a:lnTo>
                <a:lnTo>
                  <a:pt x="2020" y="7850"/>
                </a:lnTo>
                <a:lnTo>
                  <a:pt x="1996" y="7935"/>
                </a:lnTo>
                <a:lnTo>
                  <a:pt x="1997" y="8018"/>
                </a:lnTo>
                <a:lnTo>
                  <a:pt x="2052" y="8073"/>
                </a:lnTo>
                <a:lnTo>
                  <a:pt x="2052" y="8137"/>
                </a:lnTo>
                <a:lnTo>
                  <a:pt x="2106" y="8198"/>
                </a:lnTo>
                <a:lnTo>
                  <a:pt x="2106" y="8267"/>
                </a:lnTo>
                <a:lnTo>
                  <a:pt x="2075" y="8309"/>
                </a:lnTo>
                <a:lnTo>
                  <a:pt x="2039" y="8363"/>
                </a:lnTo>
                <a:lnTo>
                  <a:pt x="2030" y="8383"/>
                </a:lnTo>
                <a:lnTo>
                  <a:pt x="2014" y="8419"/>
                </a:lnTo>
                <a:lnTo>
                  <a:pt x="1928" y="8421"/>
                </a:lnTo>
                <a:lnTo>
                  <a:pt x="1915" y="8432"/>
                </a:lnTo>
                <a:lnTo>
                  <a:pt x="1829" y="8359"/>
                </a:lnTo>
                <a:lnTo>
                  <a:pt x="1773" y="8380"/>
                </a:lnTo>
                <a:lnTo>
                  <a:pt x="1679" y="8385"/>
                </a:lnTo>
                <a:lnTo>
                  <a:pt x="1656" y="8395"/>
                </a:lnTo>
                <a:lnTo>
                  <a:pt x="1640" y="8391"/>
                </a:lnTo>
                <a:lnTo>
                  <a:pt x="1617" y="8424"/>
                </a:lnTo>
                <a:lnTo>
                  <a:pt x="1584" y="8438"/>
                </a:lnTo>
                <a:lnTo>
                  <a:pt x="1537" y="8428"/>
                </a:lnTo>
                <a:lnTo>
                  <a:pt x="1443" y="8497"/>
                </a:lnTo>
                <a:lnTo>
                  <a:pt x="1331" y="8464"/>
                </a:lnTo>
                <a:lnTo>
                  <a:pt x="1279" y="8451"/>
                </a:lnTo>
                <a:lnTo>
                  <a:pt x="1255" y="8458"/>
                </a:lnTo>
                <a:lnTo>
                  <a:pt x="1184" y="8419"/>
                </a:lnTo>
                <a:lnTo>
                  <a:pt x="1152" y="8447"/>
                </a:lnTo>
                <a:lnTo>
                  <a:pt x="1127" y="8424"/>
                </a:lnTo>
                <a:lnTo>
                  <a:pt x="1083" y="8452"/>
                </a:lnTo>
                <a:lnTo>
                  <a:pt x="1079" y="8444"/>
                </a:lnTo>
                <a:lnTo>
                  <a:pt x="1102" y="8386"/>
                </a:lnTo>
                <a:lnTo>
                  <a:pt x="1124" y="8382"/>
                </a:lnTo>
                <a:lnTo>
                  <a:pt x="1137" y="8406"/>
                </a:lnTo>
                <a:lnTo>
                  <a:pt x="1174" y="8406"/>
                </a:lnTo>
                <a:lnTo>
                  <a:pt x="1170" y="8360"/>
                </a:lnTo>
                <a:lnTo>
                  <a:pt x="1188" y="8357"/>
                </a:lnTo>
                <a:lnTo>
                  <a:pt x="1157" y="8278"/>
                </a:lnTo>
                <a:lnTo>
                  <a:pt x="1132" y="8280"/>
                </a:lnTo>
                <a:lnTo>
                  <a:pt x="1150" y="8254"/>
                </a:lnTo>
                <a:lnTo>
                  <a:pt x="1138" y="8206"/>
                </a:lnTo>
                <a:lnTo>
                  <a:pt x="1186" y="8172"/>
                </a:lnTo>
                <a:lnTo>
                  <a:pt x="1237" y="8119"/>
                </a:lnTo>
                <a:lnTo>
                  <a:pt x="1243" y="8103"/>
                </a:lnTo>
                <a:lnTo>
                  <a:pt x="1234" y="8055"/>
                </a:lnTo>
                <a:lnTo>
                  <a:pt x="1219" y="8028"/>
                </a:lnTo>
                <a:lnTo>
                  <a:pt x="1197" y="8017"/>
                </a:lnTo>
                <a:lnTo>
                  <a:pt x="1183" y="8027"/>
                </a:lnTo>
                <a:lnTo>
                  <a:pt x="1174" y="8018"/>
                </a:lnTo>
                <a:lnTo>
                  <a:pt x="1174" y="7992"/>
                </a:lnTo>
                <a:lnTo>
                  <a:pt x="1155" y="8004"/>
                </a:lnTo>
                <a:lnTo>
                  <a:pt x="1138" y="7986"/>
                </a:lnTo>
                <a:lnTo>
                  <a:pt x="1158" y="7929"/>
                </a:lnTo>
                <a:lnTo>
                  <a:pt x="1137" y="7876"/>
                </a:lnTo>
                <a:lnTo>
                  <a:pt x="1118" y="7855"/>
                </a:lnTo>
                <a:lnTo>
                  <a:pt x="1089" y="7871"/>
                </a:lnTo>
                <a:lnTo>
                  <a:pt x="1072" y="7819"/>
                </a:lnTo>
                <a:lnTo>
                  <a:pt x="1068" y="7782"/>
                </a:lnTo>
                <a:lnTo>
                  <a:pt x="1032" y="7716"/>
                </a:lnTo>
                <a:lnTo>
                  <a:pt x="983" y="7599"/>
                </a:lnTo>
                <a:lnTo>
                  <a:pt x="939" y="7543"/>
                </a:lnTo>
                <a:lnTo>
                  <a:pt x="909" y="7468"/>
                </a:lnTo>
                <a:lnTo>
                  <a:pt x="889" y="7389"/>
                </a:lnTo>
                <a:lnTo>
                  <a:pt x="870" y="7353"/>
                </a:lnTo>
                <a:lnTo>
                  <a:pt x="839" y="7325"/>
                </a:lnTo>
                <a:lnTo>
                  <a:pt x="906" y="7335"/>
                </a:lnTo>
                <a:lnTo>
                  <a:pt x="975" y="7372"/>
                </a:lnTo>
                <a:lnTo>
                  <a:pt x="988" y="7401"/>
                </a:lnTo>
                <a:lnTo>
                  <a:pt x="1001" y="7417"/>
                </a:lnTo>
                <a:lnTo>
                  <a:pt x="1023" y="7404"/>
                </a:lnTo>
                <a:lnTo>
                  <a:pt x="1052" y="7417"/>
                </a:lnTo>
                <a:lnTo>
                  <a:pt x="1060" y="7408"/>
                </a:lnTo>
                <a:lnTo>
                  <a:pt x="1079" y="7391"/>
                </a:lnTo>
                <a:lnTo>
                  <a:pt x="1089" y="7348"/>
                </a:lnTo>
                <a:lnTo>
                  <a:pt x="1047" y="7310"/>
                </a:lnTo>
                <a:lnTo>
                  <a:pt x="1024" y="7243"/>
                </a:lnTo>
                <a:lnTo>
                  <a:pt x="1003" y="7235"/>
                </a:lnTo>
                <a:lnTo>
                  <a:pt x="987" y="7214"/>
                </a:lnTo>
                <a:lnTo>
                  <a:pt x="951" y="7210"/>
                </a:lnTo>
                <a:lnTo>
                  <a:pt x="950" y="7165"/>
                </a:lnTo>
                <a:lnTo>
                  <a:pt x="968" y="7132"/>
                </a:lnTo>
                <a:lnTo>
                  <a:pt x="1016" y="7109"/>
                </a:lnTo>
                <a:lnTo>
                  <a:pt x="1086" y="7151"/>
                </a:lnTo>
                <a:lnTo>
                  <a:pt x="1115" y="7146"/>
                </a:lnTo>
                <a:lnTo>
                  <a:pt x="1128" y="7126"/>
                </a:lnTo>
                <a:lnTo>
                  <a:pt x="1148" y="7096"/>
                </a:lnTo>
                <a:lnTo>
                  <a:pt x="1154" y="6985"/>
                </a:lnTo>
                <a:lnTo>
                  <a:pt x="1144" y="6965"/>
                </a:lnTo>
                <a:lnTo>
                  <a:pt x="1116" y="6890"/>
                </a:lnTo>
                <a:lnTo>
                  <a:pt x="1092" y="6876"/>
                </a:lnTo>
                <a:lnTo>
                  <a:pt x="1049" y="6897"/>
                </a:lnTo>
                <a:lnTo>
                  <a:pt x="1023" y="6903"/>
                </a:lnTo>
                <a:lnTo>
                  <a:pt x="1010" y="6851"/>
                </a:lnTo>
                <a:lnTo>
                  <a:pt x="981" y="6849"/>
                </a:lnTo>
                <a:lnTo>
                  <a:pt x="984" y="6817"/>
                </a:lnTo>
                <a:lnTo>
                  <a:pt x="967" y="6803"/>
                </a:lnTo>
                <a:lnTo>
                  <a:pt x="950" y="6764"/>
                </a:lnTo>
                <a:lnTo>
                  <a:pt x="935" y="6713"/>
                </a:lnTo>
                <a:lnTo>
                  <a:pt x="939" y="6696"/>
                </a:lnTo>
                <a:lnTo>
                  <a:pt x="919" y="6656"/>
                </a:lnTo>
                <a:lnTo>
                  <a:pt x="899" y="6659"/>
                </a:lnTo>
                <a:lnTo>
                  <a:pt x="862" y="6598"/>
                </a:lnTo>
                <a:lnTo>
                  <a:pt x="826" y="6593"/>
                </a:lnTo>
                <a:lnTo>
                  <a:pt x="778" y="6567"/>
                </a:lnTo>
                <a:lnTo>
                  <a:pt x="773" y="6492"/>
                </a:lnTo>
                <a:lnTo>
                  <a:pt x="770" y="6456"/>
                </a:lnTo>
                <a:lnTo>
                  <a:pt x="719" y="6388"/>
                </a:lnTo>
                <a:lnTo>
                  <a:pt x="699" y="6341"/>
                </a:lnTo>
                <a:lnTo>
                  <a:pt x="675" y="6331"/>
                </a:lnTo>
                <a:lnTo>
                  <a:pt x="686" y="6308"/>
                </a:lnTo>
                <a:lnTo>
                  <a:pt x="659" y="6206"/>
                </a:lnTo>
                <a:lnTo>
                  <a:pt x="606" y="6177"/>
                </a:lnTo>
                <a:lnTo>
                  <a:pt x="607" y="6155"/>
                </a:lnTo>
                <a:lnTo>
                  <a:pt x="629" y="6122"/>
                </a:lnTo>
                <a:lnTo>
                  <a:pt x="645" y="6122"/>
                </a:lnTo>
                <a:lnTo>
                  <a:pt x="645" y="6059"/>
                </a:lnTo>
                <a:lnTo>
                  <a:pt x="591" y="6057"/>
                </a:lnTo>
                <a:lnTo>
                  <a:pt x="610" y="6019"/>
                </a:lnTo>
                <a:lnTo>
                  <a:pt x="620" y="5986"/>
                </a:lnTo>
                <a:lnTo>
                  <a:pt x="598" y="5987"/>
                </a:lnTo>
                <a:lnTo>
                  <a:pt x="604" y="5971"/>
                </a:lnTo>
                <a:lnTo>
                  <a:pt x="590" y="5914"/>
                </a:lnTo>
                <a:lnTo>
                  <a:pt x="565" y="5967"/>
                </a:lnTo>
                <a:lnTo>
                  <a:pt x="560" y="5987"/>
                </a:lnTo>
                <a:lnTo>
                  <a:pt x="558" y="6039"/>
                </a:lnTo>
                <a:lnTo>
                  <a:pt x="532" y="6016"/>
                </a:lnTo>
                <a:lnTo>
                  <a:pt x="512" y="6036"/>
                </a:lnTo>
                <a:lnTo>
                  <a:pt x="511" y="5987"/>
                </a:lnTo>
                <a:lnTo>
                  <a:pt x="489" y="5994"/>
                </a:lnTo>
                <a:lnTo>
                  <a:pt x="479" y="5922"/>
                </a:lnTo>
                <a:lnTo>
                  <a:pt x="502" y="5827"/>
                </a:lnTo>
                <a:lnTo>
                  <a:pt x="504" y="5786"/>
                </a:lnTo>
                <a:lnTo>
                  <a:pt x="504" y="5709"/>
                </a:lnTo>
                <a:lnTo>
                  <a:pt x="493" y="5689"/>
                </a:lnTo>
                <a:lnTo>
                  <a:pt x="475" y="5725"/>
                </a:lnTo>
                <a:lnTo>
                  <a:pt x="465" y="5683"/>
                </a:lnTo>
                <a:lnTo>
                  <a:pt x="445" y="5672"/>
                </a:lnTo>
                <a:lnTo>
                  <a:pt x="447" y="5640"/>
                </a:lnTo>
                <a:lnTo>
                  <a:pt x="532" y="5589"/>
                </a:lnTo>
                <a:lnTo>
                  <a:pt x="462" y="5624"/>
                </a:lnTo>
                <a:lnTo>
                  <a:pt x="424" y="5607"/>
                </a:lnTo>
                <a:lnTo>
                  <a:pt x="358" y="5610"/>
                </a:lnTo>
                <a:lnTo>
                  <a:pt x="378" y="5548"/>
                </a:lnTo>
                <a:lnTo>
                  <a:pt x="429" y="5537"/>
                </a:lnTo>
                <a:lnTo>
                  <a:pt x="450" y="5496"/>
                </a:lnTo>
                <a:lnTo>
                  <a:pt x="377" y="5509"/>
                </a:lnTo>
                <a:lnTo>
                  <a:pt x="367" y="5462"/>
                </a:lnTo>
                <a:lnTo>
                  <a:pt x="355" y="5445"/>
                </a:lnTo>
                <a:lnTo>
                  <a:pt x="363" y="5399"/>
                </a:lnTo>
                <a:lnTo>
                  <a:pt x="365" y="5377"/>
                </a:lnTo>
                <a:lnTo>
                  <a:pt x="407" y="5368"/>
                </a:lnTo>
                <a:lnTo>
                  <a:pt x="409" y="5338"/>
                </a:lnTo>
                <a:lnTo>
                  <a:pt x="386" y="5332"/>
                </a:lnTo>
                <a:lnTo>
                  <a:pt x="430" y="5245"/>
                </a:lnTo>
                <a:lnTo>
                  <a:pt x="436" y="5169"/>
                </a:lnTo>
                <a:lnTo>
                  <a:pt x="447" y="5094"/>
                </a:lnTo>
                <a:lnTo>
                  <a:pt x="463" y="5035"/>
                </a:lnTo>
                <a:lnTo>
                  <a:pt x="466" y="4970"/>
                </a:lnTo>
                <a:lnTo>
                  <a:pt x="457" y="4928"/>
                </a:lnTo>
                <a:lnTo>
                  <a:pt x="436" y="4915"/>
                </a:lnTo>
                <a:lnTo>
                  <a:pt x="447" y="4879"/>
                </a:lnTo>
                <a:lnTo>
                  <a:pt x="505" y="4845"/>
                </a:lnTo>
                <a:lnTo>
                  <a:pt x="433" y="4871"/>
                </a:lnTo>
                <a:lnTo>
                  <a:pt x="365" y="4861"/>
                </a:lnTo>
                <a:lnTo>
                  <a:pt x="325" y="4931"/>
                </a:lnTo>
                <a:lnTo>
                  <a:pt x="272" y="4957"/>
                </a:lnTo>
                <a:lnTo>
                  <a:pt x="247" y="4956"/>
                </a:lnTo>
                <a:lnTo>
                  <a:pt x="283" y="4845"/>
                </a:lnTo>
                <a:lnTo>
                  <a:pt x="351" y="4740"/>
                </a:lnTo>
                <a:lnTo>
                  <a:pt x="308" y="4769"/>
                </a:lnTo>
                <a:lnTo>
                  <a:pt x="283" y="4691"/>
                </a:lnTo>
                <a:lnTo>
                  <a:pt x="265" y="4846"/>
                </a:lnTo>
                <a:lnTo>
                  <a:pt x="224" y="4895"/>
                </a:lnTo>
                <a:lnTo>
                  <a:pt x="174" y="4888"/>
                </a:lnTo>
                <a:lnTo>
                  <a:pt x="203" y="4792"/>
                </a:lnTo>
                <a:lnTo>
                  <a:pt x="145" y="4846"/>
                </a:lnTo>
                <a:lnTo>
                  <a:pt x="174" y="4784"/>
                </a:lnTo>
                <a:lnTo>
                  <a:pt x="135" y="4823"/>
                </a:lnTo>
                <a:lnTo>
                  <a:pt x="68" y="4841"/>
                </a:lnTo>
                <a:lnTo>
                  <a:pt x="72" y="4734"/>
                </a:lnTo>
                <a:lnTo>
                  <a:pt x="151" y="4687"/>
                </a:lnTo>
                <a:lnTo>
                  <a:pt x="121" y="4688"/>
                </a:lnTo>
                <a:lnTo>
                  <a:pt x="85" y="4638"/>
                </a:lnTo>
                <a:lnTo>
                  <a:pt x="89" y="4592"/>
                </a:lnTo>
                <a:lnTo>
                  <a:pt x="116" y="4572"/>
                </a:lnTo>
                <a:lnTo>
                  <a:pt x="92" y="4474"/>
                </a:lnTo>
                <a:lnTo>
                  <a:pt x="65" y="4421"/>
                </a:lnTo>
                <a:lnTo>
                  <a:pt x="27" y="4396"/>
                </a:lnTo>
                <a:lnTo>
                  <a:pt x="40" y="4307"/>
                </a:lnTo>
                <a:lnTo>
                  <a:pt x="56" y="4221"/>
                </a:lnTo>
                <a:lnTo>
                  <a:pt x="36" y="4149"/>
                </a:lnTo>
                <a:lnTo>
                  <a:pt x="0" y="4118"/>
                </a:lnTo>
                <a:lnTo>
                  <a:pt x="3" y="4062"/>
                </a:lnTo>
                <a:lnTo>
                  <a:pt x="29" y="3998"/>
                </a:lnTo>
                <a:lnTo>
                  <a:pt x="138" y="3930"/>
                </a:lnTo>
                <a:lnTo>
                  <a:pt x="184" y="4002"/>
                </a:lnTo>
                <a:lnTo>
                  <a:pt x="220" y="4153"/>
                </a:lnTo>
                <a:lnTo>
                  <a:pt x="230" y="4199"/>
                </a:lnTo>
                <a:lnTo>
                  <a:pt x="272" y="4206"/>
                </a:lnTo>
                <a:lnTo>
                  <a:pt x="328" y="4159"/>
                </a:lnTo>
                <a:lnTo>
                  <a:pt x="377" y="4028"/>
                </a:lnTo>
                <a:lnTo>
                  <a:pt x="423" y="3906"/>
                </a:lnTo>
                <a:lnTo>
                  <a:pt x="426" y="3878"/>
                </a:lnTo>
                <a:lnTo>
                  <a:pt x="447" y="3690"/>
                </a:lnTo>
                <a:lnTo>
                  <a:pt x="406" y="3523"/>
                </a:lnTo>
                <a:lnTo>
                  <a:pt x="368" y="3340"/>
                </a:lnTo>
                <a:lnTo>
                  <a:pt x="462" y="3278"/>
                </a:lnTo>
                <a:lnTo>
                  <a:pt x="516" y="3232"/>
                </a:lnTo>
                <a:lnTo>
                  <a:pt x="524" y="3179"/>
                </a:lnTo>
                <a:lnTo>
                  <a:pt x="512" y="3138"/>
                </a:lnTo>
                <a:lnTo>
                  <a:pt x="506" y="3104"/>
                </a:lnTo>
                <a:lnTo>
                  <a:pt x="478" y="3080"/>
                </a:lnTo>
                <a:lnTo>
                  <a:pt x="476" y="3063"/>
                </a:lnTo>
                <a:lnTo>
                  <a:pt x="555" y="3008"/>
                </a:lnTo>
                <a:lnTo>
                  <a:pt x="640" y="3005"/>
                </a:lnTo>
                <a:lnTo>
                  <a:pt x="663" y="3008"/>
                </a:lnTo>
                <a:lnTo>
                  <a:pt x="706" y="2994"/>
                </a:lnTo>
                <a:lnTo>
                  <a:pt x="767" y="2933"/>
                </a:lnTo>
                <a:lnTo>
                  <a:pt x="820" y="2860"/>
                </a:lnTo>
                <a:lnTo>
                  <a:pt x="868" y="2738"/>
                </a:lnTo>
                <a:lnTo>
                  <a:pt x="886" y="2640"/>
                </a:lnTo>
                <a:lnTo>
                  <a:pt x="865" y="2507"/>
                </a:lnTo>
                <a:lnTo>
                  <a:pt x="892" y="2451"/>
                </a:lnTo>
                <a:lnTo>
                  <a:pt x="929" y="2392"/>
                </a:lnTo>
                <a:lnTo>
                  <a:pt x="929" y="2313"/>
                </a:lnTo>
                <a:lnTo>
                  <a:pt x="924" y="2241"/>
                </a:lnTo>
                <a:lnTo>
                  <a:pt x="896" y="2190"/>
                </a:lnTo>
                <a:lnTo>
                  <a:pt x="868" y="2152"/>
                </a:lnTo>
                <a:lnTo>
                  <a:pt x="868" y="2099"/>
                </a:lnTo>
                <a:lnTo>
                  <a:pt x="813" y="2017"/>
                </a:lnTo>
                <a:lnTo>
                  <a:pt x="787" y="1941"/>
                </a:lnTo>
                <a:lnTo>
                  <a:pt x="765" y="1857"/>
                </a:lnTo>
                <a:lnTo>
                  <a:pt x="741" y="1784"/>
                </a:lnTo>
                <a:lnTo>
                  <a:pt x="721" y="1721"/>
                </a:lnTo>
                <a:lnTo>
                  <a:pt x="693" y="1655"/>
                </a:lnTo>
                <a:lnTo>
                  <a:pt x="775" y="1636"/>
                </a:lnTo>
                <a:lnTo>
                  <a:pt x="827" y="1620"/>
                </a:lnTo>
                <a:lnTo>
                  <a:pt x="886" y="1621"/>
                </a:lnTo>
                <a:lnTo>
                  <a:pt x="934" y="1613"/>
                </a:lnTo>
                <a:lnTo>
                  <a:pt x="950" y="1514"/>
                </a:lnTo>
                <a:lnTo>
                  <a:pt x="1017" y="1400"/>
                </a:lnTo>
                <a:lnTo>
                  <a:pt x="1036" y="1365"/>
                </a:lnTo>
                <a:lnTo>
                  <a:pt x="1020" y="1318"/>
                </a:lnTo>
                <a:lnTo>
                  <a:pt x="1043" y="1243"/>
                </a:lnTo>
                <a:lnTo>
                  <a:pt x="878" y="1003"/>
                </a:lnTo>
                <a:lnTo>
                  <a:pt x="797" y="1009"/>
                </a:lnTo>
                <a:lnTo>
                  <a:pt x="627" y="838"/>
                </a:lnTo>
                <a:lnTo>
                  <a:pt x="682" y="374"/>
                </a:lnTo>
                <a:lnTo>
                  <a:pt x="676" y="351"/>
                </a:lnTo>
                <a:lnTo>
                  <a:pt x="699" y="159"/>
                </a:lnTo>
                <a:lnTo>
                  <a:pt x="681" y="88"/>
                </a:lnTo>
                <a:lnTo>
                  <a:pt x="678" y="49"/>
                </a:lnTo>
                <a:lnTo>
                  <a:pt x="656" y="0"/>
                </a:lnTo>
                <a:lnTo>
                  <a:pt x="3597" y="0"/>
                </a:lnTo>
                <a:lnTo>
                  <a:pt x="3598" y="39"/>
                </a:lnTo>
                <a:lnTo>
                  <a:pt x="3616" y="13"/>
                </a:lnTo>
                <a:lnTo>
                  <a:pt x="3630" y="22"/>
                </a:lnTo>
                <a:lnTo>
                  <a:pt x="3649" y="38"/>
                </a:lnTo>
                <a:lnTo>
                  <a:pt x="3642" y="58"/>
                </a:lnTo>
                <a:lnTo>
                  <a:pt x="3666" y="74"/>
                </a:lnTo>
                <a:lnTo>
                  <a:pt x="3649" y="95"/>
                </a:lnTo>
                <a:lnTo>
                  <a:pt x="3703" y="95"/>
                </a:lnTo>
                <a:lnTo>
                  <a:pt x="3724" y="100"/>
                </a:lnTo>
                <a:lnTo>
                  <a:pt x="3765" y="110"/>
                </a:lnTo>
                <a:lnTo>
                  <a:pt x="3732" y="151"/>
                </a:lnTo>
                <a:lnTo>
                  <a:pt x="3701" y="163"/>
                </a:lnTo>
                <a:lnTo>
                  <a:pt x="3693" y="146"/>
                </a:lnTo>
                <a:lnTo>
                  <a:pt x="3711" y="136"/>
                </a:lnTo>
                <a:lnTo>
                  <a:pt x="3708" y="126"/>
                </a:lnTo>
                <a:lnTo>
                  <a:pt x="3673" y="127"/>
                </a:lnTo>
                <a:lnTo>
                  <a:pt x="3685" y="167"/>
                </a:lnTo>
                <a:lnTo>
                  <a:pt x="3701" y="183"/>
                </a:lnTo>
                <a:lnTo>
                  <a:pt x="3705" y="197"/>
                </a:lnTo>
                <a:lnTo>
                  <a:pt x="3688" y="199"/>
                </a:lnTo>
                <a:lnTo>
                  <a:pt x="3683" y="222"/>
                </a:lnTo>
                <a:lnTo>
                  <a:pt x="1027" y="4025"/>
                </a:lnTo>
                <a:lnTo>
                  <a:pt x="975" y="4077"/>
                </a:lnTo>
                <a:lnTo>
                  <a:pt x="955" y="4137"/>
                </a:lnTo>
                <a:lnTo>
                  <a:pt x="937" y="4203"/>
                </a:lnTo>
                <a:lnTo>
                  <a:pt x="951" y="4234"/>
                </a:lnTo>
                <a:lnTo>
                  <a:pt x="918" y="4281"/>
                </a:lnTo>
                <a:lnTo>
                  <a:pt x="878" y="4285"/>
                </a:lnTo>
                <a:lnTo>
                  <a:pt x="850" y="4405"/>
                </a:lnTo>
                <a:lnTo>
                  <a:pt x="908" y="4492"/>
                </a:lnTo>
                <a:lnTo>
                  <a:pt x="951" y="4481"/>
                </a:lnTo>
                <a:lnTo>
                  <a:pt x="965" y="4498"/>
                </a:lnTo>
                <a:lnTo>
                  <a:pt x="928" y="4549"/>
                </a:lnTo>
                <a:lnTo>
                  <a:pt x="888" y="4608"/>
                </a:lnTo>
                <a:lnTo>
                  <a:pt x="837" y="4681"/>
                </a:lnTo>
                <a:lnTo>
                  <a:pt x="773" y="4727"/>
                </a:lnTo>
                <a:lnTo>
                  <a:pt x="757" y="4764"/>
                </a:lnTo>
                <a:lnTo>
                  <a:pt x="747" y="4796"/>
                </a:lnTo>
                <a:lnTo>
                  <a:pt x="775" y="4810"/>
                </a:lnTo>
                <a:lnTo>
                  <a:pt x="843" y="4783"/>
                </a:lnTo>
                <a:lnTo>
                  <a:pt x="882" y="4750"/>
                </a:lnTo>
                <a:lnTo>
                  <a:pt x="937" y="4690"/>
                </a:lnTo>
                <a:lnTo>
                  <a:pt x="928" y="4764"/>
                </a:lnTo>
                <a:lnTo>
                  <a:pt x="873" y="4807"/>
                </a:lnTo>
                <a:lnTo>
                  <a:pt x="891" y="4828"/>
                </a:lnTo>
                <a:lnTo>
                  <a:pt x="955" y="4809"/>
                </a:lnTo>
                <a:lnTo>
                  <a:pt x="983" y="4746"/>
                </a:lnTo>
                <a:lnTo>
                  <a:pt x="964" y="4723"/>
                </a:lnTo>
                <a:lnTo>
                  <a:pt x="1029" y="4690"/>
                </a:lnTo>
                <a:lnTo>
                  <a:pt x="1116" y="4659"/>
                </a:lnTo>
                <a:lnTo>
                  <a:pt x="1141" y="4602"/>
                </a:lnTo>
                <a:lnTo>
                  <a:pt x="1119" y="4577"/>
                </a:lnTo>
                <a:lnTo>
                  <a:pt x="1154" y="4577"/>
                </a:lnTo>
                <a:lnTo>
                  <a:pt x="1180" y="4530"/>
                </a:lnTo>
                <a:lnTo>
                  <a:pt x="1247" y="4518"/>
                </a:lnTo>
                <a:lnTo>
                  <a:pt x="1283" y="4527"/>
                </a:lnTo>
                <a:lnTo>
                  <a:pt x="1245" y="4619"/>
                </a:lnTo>
                <a:lnTo>
                  <a:pt x="1308" y="4665"/>
                </a:lnTo>
                <a:lnTo>
                  <a:pt x="1377" y="4567"/>
                </a:lnTo>
                <a:lnTo>
                  <a:pt x="1393" y="4514"/>
                </a:lnTo>
                <a:lnTo>
                  <a:pt x="1453" y="4492"/>
                </a:lnTo>
                <a:lnTo>
                  <a:pt x="1449" y="4475"/>
                </a:lnTo>
                <a:lnTo>
                  <a:pt x="1482" y="4457"/>
                </a:lnTo>
                <a:lnTo>
                  <a:pt x="1504" y="4475"/>
                </a:lnTo>
                <a:lnTo>
                  <a:pt x="1577" y="4412"/>
                </a:lnTo>
                <a:lnTo>
                  <a:pt x="1581" y="4344"/>
                </a:lnTo>
                <a:lnTo>
                  <a:pt x="1598" y="4350"/>
                </a:lnTo>
                <a:lnTo>
                  <a:pt x="1586" y="4441"/>
                </a:lnTo>
                <a:lnTo>
                  <a:pt x="1614" y="4435"/>
                </a:lnTo>
                <a:lnTo>
                  <a:pt x="1688" y="4354"/>
                </a:lnTo>
                <a:lnTo>
                  <a:pt x="1718" y="4324"/>
                </a:lnTo>
                <a:lnTo>
                  <a:pt x="1714" y="4303"/>
                </a:lnTo>
                <a:lnTo>
                  <a:pt x="1699" y="4297"/>
                </a:lnTo>
                <a:lnTo>
                  <a:pt x="1718" y="4264"/>
                </a:lnTo>
                <a:lnTo>
                  <a:pt x="1744" y="4261"/>
                </a:lnTo>
                <a:lnTo>
                  <a:pt x="1750" y="4229"/>
                </a:lnTo>
                <a:lnTo>
                  <a:pt x="1778" y="4163"/>
                </a:lnTo>
                <a:lnTo>
                  <a:pt x="1794" y="4100"/>
                </a:lnTo>
                <a:lnTo>
                  <a:pt x="1768" y="4049"/>
                </a:lnTo>
                <a:lnTo>
                  <a:pt x="1778" y="4028"/>
                </a:lnTo>
                <a:lnTo>
                  <a:pt x="1797" y="4028"/>
                </a:lnTo>
                <a:lnTo>
                  <a:pt x="1827" y="3985"/>
                </a:lnTo>
                <a:lnTo>
                  <a:pt x="1839" y="3901"/>
                </a:lnTo>
                <a:lnTo>
                  <a:pt x="1817" y="3891"/>
                </a:lnTo>
                <a:lnTo>
                  <a:pt x="1797" y="3966"/>
                </a:lnTo>
                <a:lnTo>
                  <a:pt x="1758" y="3993"/>
                </a:lnTo>
                <a:lnTo>
                  <a:pt x="1739" y="3927"/>
                </a:lnTo>
                <a:lnTo>
                  <a:pt x="1760" y="3868"/>
                </a:lnTo>
                <a:lnTo>
                  <a:pt x="1794" y="3808"/>
                </a:lnTo>
                <a:lnTo>
                  <a:pt x="1823" y="3753"/>
                </a:lnTo>
                <a:lnTo>
                  <a:pt x="1804" y="3698"/>
                </a:lnTo>
                <a:lnTo>
                  <a:pt x="1819" y="3634"/>
                </a:lnTo>
                <a:lnTo>
                  <a:pt x="1777" y="3700"/>
                </a:lnTo>
                <a:lnTo>
                  <a:pt x="1767" y="3687"/>
                </a:lnTo>
                <a:lnTo>
                  <a:pt x="1764" y="3627"/>
                </a:lnTo>
                <a:lnTo>
                  <a:pt x="1750" y="3619"/>
                </a:lnTo>
                <a:lnTo>
                  <a:pt x="1738" y="3684"/>
                </a:lnTo>
                <a:lnTo>
                  <a:pt x="1695" y="3670"/>
                </a:lnTo>
                <a:lnTo>
                  <a:pt x="1669" y="3638"/>
                </a:lnTo>
                <a:lnTo>
                  <a:pt x="1669" y="3611"/>
                </a:lnTo>
                <a:lnTo>
                  <a:pt x="1645" y="3631"/>
                </a:lnTo>
                <a:lnTo>
                  <a:pt x="1656" y="3650"/>
                </a:lnTo>
                <a:lnTo>
                  <a:pt x="1616" y="3663"/>
                </a:lnTo>
                <a:lnTo>
                  <a:pt x="1601" y="3632"/>
                </a:lnTo>
                <a:lnTo>
                  <a:pt x="1627" y="3605"/>
                </a:lnTo>
                <a:lnTo>
                  <a:pt x="1636" y="3609"/>
                </a:lnTo>
                <a:lnTo>
                  <a:pt x="1646" y="3589"/>
                </a:lnTo>
                <a:lnTo>
                  <a:pt x="1607" y="3573"/>
                </a:lnTo>
                <a:lnTo>
                  <a:pt x="1570" y="3572"/>
                </a:lnTo>
                <a:lnTo>
                  <a:pt x="1516" y="3601"/>
                </a:lnTo>
                <a:lnTo>
                  <a:pt x="1504" y="3615"/>
                </a:lnTo>
                <a:lnTo>
                  <a:pt x="1521" y="3664"/>
                </a:lnTo>
                <a:lnTo>
                  <a:pt x="1519" y="3686"/>
                </a:lnTo>
                <a:lnTo>
                  <a:pt x="1502" y="3688"/>
                </a:lnTo>
                <a:lnTo>
                  <a:pt x="1519" y="3710"/>
                </a:lnTo>
                <a:lnTo>
                  <a:pt x="1476" y="3753"/>
                </a:lnTo>
                <a:lnTo>
                  <a:pt x="1449" y="3729"/>
                </a:lnTo>
                <a:lnTo>
                  <a:pt x="1462" y="3687"/>
                </a:lnTo>
                <a:lnTo>
                  <a:pt x="1424" y="3673"/>
                </a:lnTo>
                <a:lnTo>
                  <a:pt x="1417" y="3627"/>
                </a:lnTo>
                <a:lnTo>
                  <a:pt x="1403" y="3602"/>
                </a:lnTo>
                <a:lnTo>
                  <a:pt x="1375" y="3622"/>
                </a:lnTo>
                <a:lnTo>
                  <a:pt x="1315" y="3642"/>
                </a:lnTo>
                <a:lnTo>
                  <a:pt x="1325" y="3674"/>
                </a:lnTo>
                <a:lnTo>
                  <a:pt x="1351" y="3698"/>
                </a:lnTo>
                <a:lnTo>
                  <a:pt x="1331" y="3721"/>
                </a:lnTo>
                <a:lnTo>
                  <a:pt x="1302" y="3707"/>
                </a:lnTo>
                <a:lnTo>
                  <a:pt x="1289" y="3736"/>
                </a:lnTo>
                <a:lnTo>
                  <a:pt x="1273" y="3711"/>
                </a:lnTo>
                <a:lnTo>
                  <a:pt x="1275" y="3651"/>
                </a:lnTo>
                <a:lnTo>
                  <a:pt x="1226" y="3670"/>
                </a:lnTo>
                <a:lnTo>
                  <a:pt x="1245" y="3711"/>
                </a:lnTo>
                <a:lnTo>
                  <a:pt x="1255" y="3746"/>
                </a:lnTo>
                <a:lnTo>
                  <a:pt x="1230" y="3753"/>
                </a:lnTo>
                <a:lnTo>
                  <a:pt x="1211" y="3740"/>
                </a:lnTo>
                <a:lnTo>
                  <a:pt x="1210" y="3768"/>
                </a:lnTo>
                <a:lnTo>
                  <a:pt x="1247" y="3786"/>
                </a:lnTo>
                <a:lnTo>
                  <a:pt x="1252" y="3809"/>
                </a:lnTo>
                <a:lnTo>
                  <a:pt x="1230" y="3816"/>
                </a:lnTo>
                <a:lnTo>
                  <a:pt x="1247" y="3834"/>
                </a:lnTo>
                <a:lnTo>
                  <a:pt x="1255" y="3860"/>
                </a:lnTo>
                <a:lnTo>
                  <a:pt x="1247" y="3871"/>
                </a:lnTo>
                <a:lnTo>
                  <a:pt x="1285" y="3959"/>
                </a:lnTo>
                <a:lnTo>
                  <a:pt x="1305" y="4032"/>
                </a:lnTo>
                <a:lnTo>
                  <a:pt x="1315" y="4085"/>
                </a:lnTo>
                <a:lnTo>
                  <a:pt x="1314" y="4136"/>
                </a:lnTo>
                <a:lnTo>
                  <a:pt x="1325" y="4176"/>
                </a:lnTo>
                <a:lnTo>
                  <a:pt x="1316" y="4196"/>
                </a:lnTo>
                <a:lnTo>
                  <a:pt x="1304" y="4189"/>
                </a:lnTo>
                <a:lnTo>
                  <a:pt x="1295" y="4205"/>
                </a:lnTo>
                <a:lnTo>
                  <a:pt x="1278" y="4180"/>
                </a:lnTo>
                <a:lnTo>
                  <a:pt x="1253" y="4190"/>
                </a:lnTo>
                <a:lnTo>
                  <a:pt x="1220" y="4118"/>
                </a:lnTo>
                <a:lnTo>
                  <a:pt x="1196" y="4106"/>
                </a:lnTo>
                <a:lnTo>
                  <a:pt x="1220" y="4104"/>
                </a:lnTo>
                <a:lnTo>
                  <a:pt x="1230" y="4078"/>
                </a:lnTo>
                <a:lnTo>
                  <a:pt x="1214" y="4047"/>
                </a:lnTo>
                <a:lnTo>
                  <a:pt x="1193" y="4058"/>
                </a:lnTo>
                <a:lnTo>
                  <a:pt x="1168" y="4022"/>
                </a:lnTo>
                <a:lnTo>
                  <a:pt x="1165" y="4011"/>
                </a:lnTo>
                <a:lnTo>
                  <a:pt x="1115" y="4026"/>
                </a:lnTo>
                <a:lnTo>
                  <a:pt x="1089" y="4009"/>
                </a:lnTo>
                <a:lnTo>
                  <a:pt x="1106" y="3962"/>
                </a:lnTo>
                <a:lnTo>
                  <a:pt x="1076" y="3953"/>
                </a:lnTo>
                <a:lnTo>
                  <a:pt x="1037" y="3985"/>
                </a:lnTo>
                <a:lnTo>
                  <a:pt x="1055" y="4018"/>
                </a:lnTo>
                <a:lnTo>
                  <a:pt x="1027" y="4025"/>
                </a:lnTo>
                <a:lnTo>
                  <a:pt x="3683" y="222"/>
                </a:lnTo>
                <a:lnTo>
                  <a:pt x="1883" y="5391"/>
                </a:lnTo>
                <a:lnTo>
                  <a:pt x="1909" y="5452"/>
                </a:lnTo>
                <a:lnTo>
                  <a:pt x="1906" y="5499"/>
                </a:lnTo>
                <a:lnTo>
                  <a:pt x="1950" y="5484"/>
                </a:lnTo>
                <a:lnTo>
                  <a:pt x="1961" y="5381"/>
                </a:lnTo>
                <a:lnTo>
                  <a:pt x="2004" y="5276"/>
                </a:lnTo>
                <a:lnTo>
                  <a:pt x="2066" y="5199"/>
                </a:lnTo>
                <a:lnTo>
                  <a:pt x="2111" y="5124"/>
                </a:lnTo>
                <a:lnTo>
                  <a:pt x="2129" y="5091"/>
                </a:lnTo>
                <a:lnTo>
                  <a:pt x="2175" y="4974"/>
                </a:lnTo>
                <a:lnTo>
                  <a:pt x="2194" y="4891"/>
                </a:lnTo>
                <a:lnTo>
                  <a:pt x="2204" y="4779"/>
                </a:lnTo>
                <a:lnTo>
                  <a:pt x="2250" y="4723"/>
                </a:lnTo>
                <a:lnTo>
                  <a:pt x="2301" y="4656"/>
                </a:lnTo>
                <a:lnTo>
                  <a:pt x="2324" y="4694"/>
                </a:lnTo>
                <a:lnTo>
                  <a:pt x="2360" y="4639"/>
                </a:lnTo>
                <a:lnTo>
                  <a:pt x="2401" y="4595"/>
                </a:lnTo>
                <a:lnTo>
                  <a:pt x="2391" y="4537"/>
                </a:lnTo>
                <a:lnTo>
                  <a:pt x="2309" y="4524"/>
                </a:lnTo>
                <a:lnTo>
                  <a:pt x="2350" y="4474"/>
                </a:lnTo>
                <a:lnTo>
                  <a:pt x="2344" y="4387"/>
                </a:lnTo>
                <a:lnTo>
                  <a:pt x="2370" y="4333"/>
                </a:lnTo>
                <a:lnTo>
                  <a:pt x="2362" y="4290"/>
                </a:lnTo>
                <a:lnTo>
                  <a:pt x="2337" y="4251"/>
                </a:lnTo>
                <a:lnTo>
                  <a:pt x="2279" y="4318"/>
                </a:lnTo>
                <a:lnTo>
                  <a:pt x="2219" y="4393"/>
                </a:lnTo>
                <a:lnTo>
                  <a:pt x="2154" y="4464"/>
                </a:lnTo>
                <a:lnTo>
                  <a:pt x="2119" y="4488"/>
                </a:lnTo>
                <a:lnTo>
                  <a:pt x="2127" y="4524"/>
                </a:lnTo>
                <a:lnTo>
                  <a:pt x="2103" y="4566"/>
                </a:lnTo>
                <a:lnTo>
                  <a:pt x="2108" y="4622"/>
                </a:lnTo>
                <a:lnTo>
                  <a:pt x="2089" y="4658"/>
                </a:lnTo>
                <a:lnTo>
                  <a:pt x="2069" y="4664"/>
                </a:lnTo>
                <a:lnTo>
                  <a:pt x="2079" y="4697"/>
                </a:lnTo>
                <a:lnTo>
                  <a:pt x="2046" y="4714"/>
                </a:lnTo>
                <a:lnTo>
                  <a:pt x="2019" y="4820"/>
                </a:lnTo>
                <a:lnTo>
                  <a:pt x="1977" y="4910"/>
                </a:lnTo>
                <a:lnTo>
                  <a:pt x="1951" y="4994"/>
                </a:lnTo>
                <a:lnTo>
                  <a:pt x="1929" y="5084"/>
                </a:lnTo>
                <a:lnTo>
                  <a:pt x="1909" y="5202"/>
                </a:lnTo>
                <a:lnTo>
                  <a:pt x="1888" y="5272"/>
                </a:lnTo>
                <a:lnTo>
                  <a:pt x="1869" y="5341"/>
                </a:lnTo>
                <a:lnTo>
                  <a:pt x="1883" y="5391"/>
                </a:lnTo>
                <a:lnTo>
                  <a:pt x="3683" y="222"/>
                </a:lnTo>
                <a:lnTo>
                  <a:pt x="2747" y="3627"/>
                </a:lnTo>
                <a:lnTo>
                  <a:pt x="2673" y="3648"/>
                </a:lnTo>
                <a:lnTo>
                  <a:pt x="2603" y="3658"/>
                </a:lnTo>
                <a:lnTo>
                  <a:pt x="2519" y="3658"/>
                </a:lnTo>
                <a:lnTo>
                  <a:pt x="2535" y="3687"/>
                </a:lnTo>
                <a:lnTo>
                  <a:pt x="2609" y="3703"/>
                </a:lnTo>
                <a:lnTo>
                  <a:pt x="2693" y="3701"/>
                </a:lnTo>
                <a:lnTo>
                  <a:pt x="2712" y="3668"/>
                </a:lnTo>
                <a:lnTo>
                  <a:pt x="2735" y="3693"/>
                </a:lnTo>
                <a:lnTo>
                  <a:pt x="2712" y="3714"/>
                </a:lnTo>
                <a:lnTo>
                  <a:pt x="2748" y="3726"/>
                </a:lnTo>
                <a:lnTo>
                  <a:pt x="2774" y="3743"/>
                </a:lnTo>
                <a:lnTo>
                  <a:pt x="2735" y="3799"/>
                </a:lnTo>
                <a:lnTo>
                  <a:pt x="2870" y="3834"/>
                </a:lnTo>
                <a:lnTo>
                  <a:pt x="2905" y="3824"/>
                </a:lnTo>
                <a:lnTo>
                  <a:pt x="2944" y="3795"/>
                </a:lnTo>
                <a:lnTo>
                  <a:pt x="2909" y="3772"/>
                </a:lnTo>
                <a:lnTo>
                  <a:pt x="2994" y="3742"/>
                </a:lnTo>
                <a:lnTo>
                  <a:pt x="2993" y="3716"/>
                </a:lnTo>
                <a:lnTo>
                  <a:pt x="3055" y="3706"/>
                </a:lnTo>
                <a:lnTo>
                  <a:pt x="3145" y="3684"/>
                </a:lnTo>
                <a:lnTo>
                  <a:pt x="3220" y="3652"/>
                </a:lnTo>
                <a:lnTo>
                  <a:pt x="3246" y="3621"/>
                </a:lnTo>
                <a:lnTo>
                  <a:pt x="3233" y="3599"/>
                </a:lnTo>
                <a:lnTo>
                  <a:pt x="3047" y="3693"/>
                </a:lnTo>
                <a:lnTo>
                  <a:pt x="2965" y="3667"/>
                </a:lnTo>
                <a:lnTo>
                  <a:pt x="2947" y="3648"/>
                </a:lnTo>
                <a:lnTo>
                  <a:pt x="2911" y="3668"/>
                </a:lnTo>
                <a:lnTo>
                  <a:pt x="2902" y="3674"/>
                </a:lnTo>
                <a:lnTo>
                  <a:pt x="2916" y="3628"/>
                </a:lnTo>
                <a:lnTo>
                  <a:pt x="2882" y="3634"/>
                </a:lnTo>
                <a:lnTo>
                  <a:pt x="2870" y="3675"/>
                </a:lnTo>
                <a:lnTo>
                  <a:pt x="2847" y="3670"/>
                </a:lnTo>
                <a:lnTo>
                  <a:pt x="2833" y="3627"/>
                </a:lnTo>
                <a:lnTo>
                  <a:pt x="2784" y="3647"/>
                </a:lnTo>
                <a:lnTo>
                  <a:pt x="2747" y="3627"/>
                </a:lnTo>
                <a:lnTo>
                  <a:pt x="3683" y="22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4960" y="49320"/>
            <a:ext cx="2557440" cy="4495680"/>
          </a:xfrm>
          <a:custGeom>
            <a:avLst/>
            <a:gdLst/>
            <a:ahLst/>
            <a:rect l="l" t="t" r="r" b="b"/>
            <a:pathLst>
              <a:path w="4834" h="8497">
                <a:moveTo>
                  <a:pt x="3683" y="222"/>
                </a:moveTo>
                <a:lnTo>
                  <a:pt x="3660" y="369"/>
                </a:lnTo>
                <a:lnTo>
                  <a:pt x="3642" y="377"/>
                </a:lnTo>
                <a:lnTo>
                  <a:pt x="3662" y="392"/>
                </a:lnTo>
                <a:lnTo>
                  <a:pt x="3662" y="407"/>
                </a:lnTo>
                <a:lnTo>
                  <a:pt x="3639" y="416"/>
                </a:lnTo>
                <a:lnTo>
                  <a:pt x="3636" y="451"/>
                </a:lnTo>
                <a:lnTo>
                  <a:pt x="3608" y="458"/>
                </a:lnTo>
                <a:lnTo>
                  <a:pt x="3620" y="510"/>
                </a:lnTo>
                <a:lnTo>
                  <a:pt x="3627" y="546"/>
                </a:lnTo>
                <a:lnTo>
                  <a:pt x="3630" y="558"/>
                </a:lnTo>
                <a:lnTo>
                  <a:pt x="3611" y="579"/>
                </a:lnTo>
                <a:lnTo>
                  <a:pt x="3617" y="594"/>
                </a:lnTo>
                <a:lnTo>
                  <a:pt x="3621" y="620"/>
                </a:lnTo>
                <a:lnTo>
                  <a:pt x="3656" y="630"/>
                </a:lnTo>
                <a:lnTo>
                  <a:pt x="3652" y="649"/>
                </a:lnTo>
                <a:lnTo>
                  <a:pt x="3636" y="669"/>
                </a:lnTo>
                <a:lnTo>
                  <a:pt x="3644" y="684"/>
                </a:lnTo>
                <a:lnTo>
                  <a:pt x="3653" y="740"/>
                </a:lnTo>
                <a:lnTo>
                  <a:pt x="3676" y="728"/>
                </a:lnTo>
                <a:lnTo>
                  <a:pt x="3719" y="738"/>
                </a:lnTo>
                <a:lnTo>
                  <a:pt x="3731" y="750"/>
                </a:lnTo>
                <a:lnTo>
                  <a:pt x="3729" y="779"/>
                </a:lnTo>
                <a:lnTo>
                  <a:pt x="3712" y="820"/>
                </a:lnTo>
                <a:lnTo>
                  <a:pt x="3705" y="846"/>
                </a:lnTo>
                <a:lnTo>
                  <a:pt x="3680" y="853"/>
                </a:lnTo>
                <a:lnTo>
                  <a:pt x="3666" y="820"/>
                </a:lnTo>
                <a:lnTo>
                  <a:pt x="3649" y="787"/>
                </a:lnTo>
                <a:lnTo>
                  <a:pt x="3627" y="797"/>
                </a:lnTo>
                <a:lnTo>
                  <a:pt x="3597" y="802"/>
                </a:lnTo>
                <a:lnTo>
                  <a:pt x="3574" y="820"/>
                </a:lnTo>
                <a:lnTo>
                  <a:pt x="3570" y="846"/>
                </a:lnTo>
                <a:lnTo>
                  <a:pt x="3578" y="871"/>
                </a:lnTo>
                <a:lnTo>
                  <a:pt x="3567" y="892"/>
                </a:lnTo>
                <a:lnTo>
                  <a:pt x="3549" y="902"/>
                </a:lnTo>
                <a:lnTo>
                  <a:pt x="3541" y="922"/>
                </a:lnTo>
                <a:lnTo>
                  <a:pt x="3548" y="944"/>
                </a:lnTo>
                <a:lnTo>
                  <a:pt x="3568" y="954"/>
                </a:lnTo>
                <a:lnTo>
                  <a:pt x="3557" y="970"/>
                </a:lnTo>
                <a:lnTo>
                  <a:pt x="3542" y="986"/>
                </a:lnTo>
                <a:lnTo>
                  <a:pt x="3531" y="1004"/>
                </a:lnTo>
                <a:lnTo>
                  <a:pt x="3538" y="1020"/>
                </a:lnTo>
                <a:lnTo>
                  <a:pt x="3537" y="1049"/>
                </a:lnTo>
                <a:lnTo>
                  <a:pt x="3535" y="1072"/>
                </a:lnTo>
                <a:lnTo>
                  <a:pt x="3552" y="1085"/>
                </a:lnTo>
                <a:lnTo>
                  <a:pt x="3575" y="1068"/>
                </a:lnTo>
                <a:lnTo>
                  <a:pt x="3581" y="1091"/>
                </a:lnTo>
                <a:lnTo>
                  <a:pt x="3565" y="1112"/>
                </a:lnTo>
                <a:lnTo>
                  <a:pt x="3545" y="1121"/>
                </a:lnTo>
                <a:lnTo>
                  <a:pt x="3522" y="1121"/>
                </a:lnTo>
                <a:lnTo>
                  <a:pt x="3512" y="1147"/>
                </a:lnTo>
                <a:lnTo>
                  <a:pt x="3531" y="1161"/>
                </a:lnTo>
                <a:lnTo>
                  <a:pt x="3535" y="1186"/>
                </a:lnTo>
                <a:lnTo>
                  <a:pt x="3557" y="1216"/>
                </a:lnTo>
                <a:lnTo>
                  <a:pt x="3583" y="1226"/>
                </a:lnTo>
                <a:lnTo>
                  <a:pt x="3598" y="1232"/>
                </a:lnTo>
                <a:lnTo>
                  <a:pt x="3608" y="1256"/>
                </a:lnTo>
                <a:lnTo>
                  <a:pt x="3619" y="1272"/>
                </a:lnTo>
                <a:lnTo>
                  <a:pt x="3578" y="1273"/>
                </a:lnTo>
                <a:lnTo>
                  <a:pt x="3571" y="1292"/>
                </a:lnTo>
                <a:lnTo>
                  <a:pt x="3580" y="1321"/>
                </a:lnTo>
                <a:lnTo>
                  <a:pt x="3588" y="1344"/>
                </a:lnTo>
                <a:lnTo>
                  <a:pt x="3573" y="1351"/>
                </a:lnTo>
                <a:lnTo>
                  <a:pt x="3577" y="1377"/>
                </a:lnTo>
                <a:lnTo>
                  <a:pt x="3584" y="1388"/>
                </a:lnTo>
                <a:lnTo>
                  <a:pt x="3575" y="1407"/>
                </a:lnTo>
                <a:lnTo>
                  <a:pt x="3571" y="1416"/>
                </a:lnTo>
                <a:lnTo>
                  <a:pt x="3577" y="1432"/>
                </a:lnTo>
                <a:lnTo>
                  <a:pt x="3580" y="1455"/>
                </a:lnTo>
                <a:lnTo>
                  <a:pt x="3585" y="1482"/>
                </a:lnTo>
                <a:lnTo>
                  <a:pt x="3581" y="1532"/>
                </a:lnTo>
                <a:lnTo>
                  <a:pt x="3574" y="1565"/>
                </a:lnTo>
                <a:lnTo>
                  <a:pt x="3567" y="1594"/>
                </a:lnTo>
                <a:lnTo>
                  <a:pt x="3610" y="1597"/>
                </a:lnTo>
                <a:lnTo>
                  <a:pt x="3610" y="1613"/>
                </a:lnTo>
                <a:lnTo>
                  <a:pt x="3591" y="1616"/>
                </a:lnTo>
                <a:lnTo>
                  <a:pt x="3577" y="1640"/>
                </a:lnTo>
                <a:lnTo>
                  <a:pt x="3573" y="1660"/>
                </a:lnTo>
                <a:lnTo>
                  <a:pt x="3594" y="1666"/>
                </a:lnTo>
                <a:lnTo>
                  <a:pt x="3607" y="1698"/>
                </a:lnTo>
                <a:lnTo>
                  <a:pt x="3616" y="1726"/>
                </a:lnTo>
                <a:lnTo>
                  <a:pt x="3637" y="1721"/>
                </a:lnTo>
                <a:lnTo>
                  <a:pt x="3656" y="1757"/>
                </a:lnTo>
                <a:lnTo>
                  <a:pt x="3676" y="1777"/>
                </a:lnTo>
                <a:lnTo>
                  <a:pt x="3656" y="1806"/>
                </a:lnTo>
                <a:lnTo>
                  <a:pt x="3640" y="1829"/>
                </a:lnTo>
                <a:lnTo>
                  <a:pt x="3673" y="1819"/>
                </a:lnTo>
                <a:lnTo>
                  <a:pt x="3673" y="1849"/>
                </a:lnTo>
                <a:lnTo>
                  <a:pt x="3673" y="1870"/>
                </a:lnTo>
                <a:lnTo>
                  <a:pt x="3698" y="1863"/>
                </a:lnTo>
                <a:lnTo>
                  <a:pt x="3708" y="1885"/>
                </a:lnTo>
                <a:lnTo>
                  <a:pt x="3680" y="1916"/>
                </a:lnTo>
                <a:lnTo>
                  <a:pt x="3659" y="1945"/>
                </a:lnTo>
                <a:lnTo>
                  <a:pt x="3630" y="1975"/>
                </a:lnTo>
                <a:lnTo>
                  <a:pt x="3672" y="1977"/>
                </a:lnTo>
                <a:lnTo>
                  <a:pt x="3698" y="1995"/>
                </a:lnTo>
                <a:lnTo>
                  <a:pt x="3721" y="2000"/>
                </a:lnTo>
                <a:lnTo>
                  <a:pt x="3742" y="2004"/>
                </a:lnTo>
                <a:lnTo>
                  <a:pt x="3781" y="1997"/>
                </a:lnTo>
                <a:lnTo>
                  <a:pt x="3831" y="1980"/>
                </a:lnTo>
                <a:lnTo>
                  <a:pt x="3866" y="1988"/>
                </a:lnTo>
                <a:lnTo>
                  <a:pt x="3873" y="2036"/>
                </a:lnTo>
                <a:lnTo>
                  <a:pt x="3880" y="2057"/>
                </a:lnTo>
                <a:lnTo>
                  <a:pt x="3865" y="2080"/>
                </a:lnTo>
                <a:lnTo>
                  <a:pt x="3885" y="2119"/>
                </a:lnTo>
                <a:lnTo>
                  <a:pt x="3918" y="2158"/>
                </a:lnTo>
                <a:lnTo>
                  <a:pt x="3947" y="2158"/>
                </a:lnTo>
                <a:lnTo>
                  <a:pt x="3937" y="2121"/>
                </a:lnTo>
                <a:lnTo>
                  <a:pt x="3934" y="2093"/>
                </a:lnTo>
                <a:lnTo>
                  <a:pt x="3970" y="2087"/>
                </a:lnTo>
                <a:lnTo>
                  <a:pt x="3984" y="2089"/>
                </a:lnTo>
                <a:lnTo>
                  <a:pt x="3988" y="2067"/>
                </a:lnTo>
                <a:lnTo>
                  <a:pt x="4014" y="2056"/>
                </a:lnTo>
                <a:lnTo>
                  <a:pt x="4043" y="2043"/>
                </a:lnTo>
                <a:lnTo>
                  <a:pt x="4069" y="2036"/>
                </a:lnTo>
                <a:lnTo>
                  <a:pt x="4101" y="2030"/>
                </a:lnTo>
                <a:lnTo>
                  <a:pt x="4115" y="2057"/>
                </a:lnTo>
                <a:lnTo>
                  <a:pt x="4114" y="2086"/>
                </a:lnTo>
                <a:lnTo>
                  <a:pt x="4111" y="2123"/>
                </a:lnTo>
                <a:lnTo>
                  <a:pt x="4098" y="2138"/>
                </a:lnTo>
                <a:lnTo>
                  <a:pt x="4125" y="2146"/>
                </a:lnTo>
                <a:lnTo>
                  <a:pt x="4142" y="2145"/>
                </a:lnTo>
                <a:lnTo>
                  <a:pt x="4157" y="2167"/>
                </a:lnTo>
                <a:lnTo>
                  <a:pt x="4180" y="2200"/>
                </a:lnTo>
                <a:lnTo>
                  <a:pt x="4207" y="2240"/>
                </a:lnTo>
                <a:lnTo>
                  <a:pt x="4230" y="2256"/>
                </a:lnTo>
                <a:lnTo>
                  <a:pt x="4257" y="2280"/>
                </a:lnTo>
                <a:lnTo>
                  <a:pt x="4288" y="2292"/>
                </a:lnTo>
                <a:lnTo>
                  <a:pt x="4263" y="2316"/>
                </a:lnTo>
                <a:lnTo>
                  <a:pt x="4270" y="2332"/>
                </a:lnTo>
                <a:lnTo>
                  <a:pt x="4296" y="2318"/>
                </a:lnTo>
                <a:lnTo>
                  <a:pt x="4315" y="2300"/>
                </a:lnTo>
                <a:lnTo>
                  <a:pt x="4345" y="2297"/>
                </a:lnTo>
                <a:lnTo>
                  <a:pt x="4365" y="2319"/>
                </a:lnTo>
                <a:lnTo>
                  <a:pt x="4385" y="2319"/>
                </a:lnTo>
                <a:lnTo>
                  <a:pt x="4410" y="2349"/>
                </a:lnTo>
                <a:lnTo>
                  <a:pt x="4426" y="2367"/>
                </a:lnTo>
                <a:lnTo>
                  <a:pt x="4408" y="2378"/>
                </a:lnTo>
                <a:lnTo>
                  <a:pt x="4436" y="2387"/>
                </a:lnTo>
                <a:lnTo>
                  <a:pt x="4454" y="2391"/>
                </a:lnTo>
                <a:lnTo>
                  <a:pt x="4472" y="2400"/>
                </a:lnTo>
                <a:lnTo>
                  <a:pt x="4490" y="2400"/>
                </a:lnTo>
                <a:lnTo>
                  <a:pt x="4498" y="2426"/>
                </a:lnTo>
                <a:lnTo>
                  <a:pt x="4492" y="2443"/>
                </a:lnTo>
                <a:lnTo>
                  <a:pt x="4478" y="2451"/>
                </a:lnTo>
                <a:lnTo>
                  <a:pt x="4454" y="2441"/>
                </a:lnTo>
                <a:lnTo>
                  <a:pt x="4424" y="2440"/>
                </a:lnTo>
                <a:lnTo>
                  <a:pt x="4396" y="2430"/>
                </a:lnTo>
                <a:lnTo>
                  <a:pt x="4374" y="2424"/>
                </a:lnTo>
                <a:lnTo>
                  <a:pt x="4391" y="2457"/>
                </a:lnTo>
                <a:lnTo>
                  <a:pt x="4404" y="2492"/>
                </a:lnTo>
                <a:lnTo>
                  <a:pt x="4421" y="2507"/>
                </a:lnTo>
                <a:lnTo>
                  <a:pt x="4443" y="2516"/>
                </a:lnTo>
                <a:lnTo>
                  <a:pt x="4466" y="2531"/>
                </a:lnTo>
                <a:lnTo>
                  <a:pt x="4493" y="2539"/>
                </a:lnTo>
                <a:lnTo>
                  <a:pt x="4521" y="2546"/>
                </a:lnTo>
                <a:lnTo>
                  <a:pt x="4545" y="2552"/>
                </a:lnTo>
                <a:lnTo>
                  <a:pt x="4568" y="2568"/>
                </a:lnTo>
                <a:lnTo>
                  <a:pt x="4603" y="2574"/>
                </a:lnTo>
                <a:lnTo>
                  <a:pt x="4630" y="2569"/>
                </a:lnTo>
                <a:lnTo>
                  <a:pt x="4643" y="2595"/>
                </a:lnTo>
                <a:lnTo>
                  <a:pt x="4647" y="2647"/>
                </a:lnTo>
                <a:lnTo>
                  <a:pt x="4667" y="2689"/>
                </a:lnTo>
                <a:lnTo>
                  <a:pt x="4688" y="2733"/>
                </a:lnTo>
                <a:lnTo>
                  <a:pt x="4702" y="2762"/>
                </a:lnTo>
                <a:lnTo>
                  <a:pt x="4705" y="2787"/>
                </a:lnTo>
                <a:lnTo>
                  <a:pt x="4741" y="2789"/>
                </a:lnTo>
                <a:lnTo>
                  <a:pt x="4765" y="2818"/>
                </a:lnTo>
                <a:lnTo>
                  <a:pt x="4780" y="2822"/>
                </a:lnTo>
                <a:lnTo>
                  <a:pt x="4804" y="2821"/>
                </a:lnTo>
                <a:lnTo>
                  <a:pt x="4826" y="2831"/>
                </a:lnTo>
                <a:lnTo>
                  <a:pt x="4834" y="2843"/>
                </a:lnTo>
                <a:lnTo>
                  <a:pt x="4831" y="2874"/>
                </a:lnTo>
                <a:lnTo>
                  <a:pt x="4813" y="2893"/>
                </a:lnTo>
                <a:lnTo>
                  <a:pt x="4794" y="2913"/>
                </a:lnTo>
                <a:lnTo>
                  <a:pt x="4772" y="2928"/>
                </a:lnTo>
                <a:lnTo>
                  <a:pt x="4787" y="2951"/>
                </a:lnTo>
                <a:lnTo>
                  <a:pt x="4819" y="2963"/>
                </a:lnTo>
                <a:lnTo>
                  <a:pt x="4826" y="2991"/>
                </a:lnTo>
                <a:lnTo>
                  <a:pt x="4795" y="3008"/>
                </a:lnTo>
                <a:lnTo>
                  <a:pt x="4764" y="3035"/>
                </a:lnTo>
                <a:lnTo>
                  <a:pt x="4729" y="3034"/>
                </a:lnTo>
                <a:lnTo>
                  <a:pt x="4686" y="3060"/>
                </a:lnTo>
                <a:lnTo>
                  <a:pt x="4644" y="3079"/>
                </a:lnTo>
                <a:lnTo>
                  <a:pt x="4604" y="3129"/>
                </a:lnTo>
                <a:lnTo>
                  <a:pt x="4646" y="3162"/>
                </a:lnTo>
                <a:lnTo>
                  <a:pt x="4616" y="3181"/>
                </a:lnTo>
                <a:lnTo>
                  <a:pt x="4568" y="3219"/>
                </a:lnTo>
                <a:lnTo>
                  <a:pt x="4521" y="3264"/>
                </a:lnTo>
                <a:lnTo>
                  <a:pt x="4489" y="3284"/>
                </a:lnTo>
                <a:lnTo>
                  <a:pt x="4452" y="3322"/>
                </a:lnTo>
                <a:lnTo>
                  <a:pt x="4421" y="3350"/>
                </a:lnTo>
                <a:lnTo>
                  <a:pt x="4393" y="3359"/>
                </a:lnTo>
                <a:lnTo>
                  <a:pt x="4371" y="3342"/>
                </a:lnTo>
                <a:lnTo>
                  <a:pt x="4367" y="3363"/>
                </a:lnTo>
                <a:lnTo>
                  <a:pt x="4380" y="3389"/>
                </a:lnTo>
                <a:lnTo>
                  <a:pt x="4378" y="3404"/>
                </a:lnTo>
                <a:lnTo>
                  <a:pt x="4397" y="3427"/>
                </a:lnTo>
                <a:lnTo>
                  <a:pt x="4426" y="3430"/>
                </a:lnTo>
                <a:lnTo>
                  <a:pt x="4459" y="3438"/>
                </a:lnTo>
                <a:lnTo>
                  <a:pt x="4449" y="3411"/>
                </a:lnTo>
                <a:lnTo>
                  <a:pt x="4463" y="3394"/>
                </a:lnTo>
                <a:lnTo>
                  <a:pt x="4490" y="3396"/>
                </a:lnTo>
                <a:lnTo>
                  <a:pt x="4526" y="3417"/>
                </a:lnTo>
                <a:lnTo>
                  <a:pt x="4544" y="3435"/>
                </a:lnTo>
                <a:lnTo>
                  <a:pt x="4567" y="3445"/>
                </a:lnTo>
                <a:lnTo>
                  <a:pt x="4608" y="3441"/>
                </a:lnTo>
                <a:lnTo>
                  <a:pt x="4640" y="3438"/>
                </a:lnTo>
                <a:lnTo>
                  <a:pt x="4653" y="3480"/>
                </a:lnTo>
                <a:lnTo>
                  <a:pt x="4647" y="3513"/>
                </a:lnTo>
                <a:lnTo>
                  <a:pt x="4624" y="3523"/>
                </a:lnTo>
                <a:lnTo>
                  <a:pt x="4598" y="3535"/>
                </a:lnTo>
                <a:lnTo>
                  <a:pt x="4620" y="3543"/>
                </a:lnTo>
                <a:lnTo>
                  <a:pt x="4634" y="3555"/>
                </a:lnTo>
                <a:lnTo>
                  <a:pt x="4662" y="3527"/>
                </a:lnTo>
                <a:lnTo>
                  <a:pt x="4689" y="3523"/>
                </a:lnTo>
                <a:lnTo>
                  <a:pt x="4702" y="3549"/>
                </a:lnTo>
                <a:lnTo>
                  <a:pt x="4680" y="3565"/>
                </a:lnTo>
                <a:lnTo>
                  <a:pt x="4650" y="3583"/>
                </a:lnTo>
                <a:lnTo>
                  <a:pt x="4611" y="3593"/>
                </a:lnTo>
                <a:lnTo>
                  <a:pt x="4596" y="3593"/>
                </a:lnTo>
                <a:lnTo>
                  <a:pt x="4567" y="3615"/>
                </a:lnTo>
                <a:lnTo>
                  <a:pt x="4531" y="3634"/>
                </a:lnTo>
                <a:lnTo>
                  <a:pt x="4498" y="3618"/>
                </a:lnTo>
                <a:lnTo>
                  <a:pt x="4463" y="3581"/>
                </a:lnTo>
                <a:lnTo>
                  <a:pt x="4431" y="3578"/>
                </a:lnTo>
                <a:lnTo>
                  <a:pt x="4403" y="3621"/>
                </a:lnTo>
                <a:lnTo>
                  <a:pt x="4452" y="3634"/>
                </a:lnTo>
                <a:lnTo>
                  <a:pt x="4478" y="3675"/>
                </a:lnTo>
                <a:lnTo>
                  <a:pt x="4493" y="3706"/>
                </a:lnTo>
                <a:lnTo>
                  <a:pt x="4446" y="3746"/>
                </a:lnTo>
                <a:lnTo>
                  <a:pt x="4419" y="3765"/>
                </a:lnTo>
                <a:lnTo>
                  <a:pt x="4393" y="3778"/>
                </a:lnTo>
                <a:lnTo>
                  <a:pt x="4426" y="3769"/>
                </a:lnTo>
                <a:lnTo>
                  <a:pt x="4462" y="3765"/>
                </a:lnTo>
                <a:lnTo>
                  <a:pt x="4437" y="3779"/>
                </a:lnTo>
                <a:lnTo>
                  <a:pt x="4430" y="3796"/>
                </a:lnTo>
                <a:lnTo>
                  <a:pt x="4390" y="3818"/>
                </a:lnTo>
                <a:lnTo>
                  <a:pt x="4341" y="3842"/>
                </a:lnTo>
                <a:lnTo>
                  <a:pt x="4355" y="3816"/>
                </a:lnTo>
                <a:lnTo>
                  <a:pt x="4355" y="3778"/>
                </a:lnTo>
                <a:lnTo>
                  <a:pt x="4345" y="3776"/>
                </a:lnTo>
                <a:lnTo>
                  <a:pt x="4326" y="3805"/>
                </a:lnTo>
                <a:lnTo>
                  <a:pt x="4290" y="3841"/>
                </a:lnTo>
                <a:lnTo>
                  <a:pt x="4270" y="3864"/>
                </a:lnTo>
                <a:lnTo>
                  <a:pt x="4247" y="3888"/>
                </a:lnTo>
                <a:lnTo>
                  <a:pt x="4233" y="3916"/>
                </a:lnTo>
                <a:lnTo>
                  <a:pt x="4214" y="3947"/>
                </a:lnTo>
                <a:lnTo>
                  <a:pt x="4229" y="3975"/>
                </a:lnTo>
                <a:lnTo>
                  <a:pt x="4236" y="4005"/>
                </a:lnTo>
                <a:lnTo>
                  <a:pt x="4204" y="4052"/>
                </a:lnTo>
                <a:lnTo>
                  <a:pt x="4198" y="4097"/>
                </a:lnTo>
                <a:lnTo>
                  <a:pt x="4210" y="4146"/>
                </a:lnTo>
                <a:lnTo>
                  <a:pt x="4185" y="4179"/>
                </a:lnTo>
                <a:lnTo>
                  <a:pt x="4147" y="4162"/>
                </a:lnTo>
                <a:lnTo>
                  <a:pt x="4121" y="4131"/>
                </a:lnTo>
                <a:lnTo>
                  <a:pt x="4115" y="4101"/>
                </a:lnTo>
                <a:lnTo>
                  <a:pt x="4115" y="4077"/>
                </a:lnTo>
                <a:lnTo>
                  <a:pt x="4092" y="4039"/>
                </a:lnTo>
                <a:lnTo>
                  <a:pt x="4073" y="4015"/>
                </a:lnTo>
                <a:lnTo>
                  <a:pt x="4066" y="3995"/>
                </a:lnTo>
                <a:lnTo>
                  <a:pt x="4065" y="3975"/>
                </a:lnTo>
                <a:lnTo>
                  <a:pt x="4065" y="3934"/>
                </a:lnTo>
                <a:lnTo>
                  <a:pt x="4060" y="3896"/>
                </a:lnTo>
                <a:lnTo>
                  <a:pt x="4059" y="3860"/>
                </a:lnTo>
                <a:lnTo>
                  <a:pt x="4072" y="3816"/>
                </a:lnTo>
                <a:lnTo>
                  <a:pt x="4075" y="3803"/>
                </a:lnTo>
                <a:lnTo>
                  <a:pt x="4079" y="3795"/>
                </a:lnTo>
                <a:lnTo>
                  <a:pt x="4066" y="3795"/>
                </a:lnTo>
                <a:lnTo>
                  <a:pt x="4055" y="3837"/>
                </a:lnTo>
                <a:lnTo>
                  <a:pt x="4056" y="3857"/>
                </a:lnTo>
                <a:lnTo>
                  <a:pt x="4056" y="3860"/>
                </a:lnTo>
                <a:lnTo>
                  <a:pt x="4034" y="3873"/>
                </a:lnTo>
                <a:lnTo>
                  <a:pt x="4021" y="3838"/>
                </a:lnTo>
                <a:lnTo>
                  <a:pt x="4023" y="3801"/>
                </a:lnTo>
                <a:lnTo>
                  <a:pt x="4004" y="3756"/>
                </a:lnTo>
                <a:lnTo>
                  <a:pt x="4000" y="3788"/>
                </a:lnTo>
                <a:lnTo>
                  <a:pt x="3997" y="3835"/>
                </a:lnTo>
                <a:lnTo>
                  <a:pt x="3990" y="3878"/>
                </a:lnTo>
                <a:lnTo>
                  <a:pt x="3994" y="3921"/>
                </a:lnTo>
                <a:lnTo>
                  <a:pt x="3984" y="3973"/>
                </a:lnTo>
                <a:lnTo>
                  <a:pt x="3980" y="3990"/>
                </a:lnTo>
                <a:lnTo>
                  <a:pt x="3972" y="4022"/>
                </a:lnTo>
                <a:lnTo>
                  <a:pt x="3981" y="4054"/>
                </a:lnTo>
                <a:lnTo>
                  <a:pt x="3984" y="4104"/>
                </a:lnTo>
                <a:lnTo>
                  <a:pt x="3964" y="4142"/>
                </a:lnTo>
                <a:lnTo>
                  <a:pt x="3926" y="4176"/>
                </a:lnTo>
                <a:lnTo>
                  <a:pt x="3911" y="4223"/>
                </a:lnTo>
                <a:lnTo>
                  <a:pt x="3860" y="4213"/>
                </a:lnTo>
                <a:lnTo>
                  <a:pt x="3869" y="4236"/>
                </a:lnTo>
                <a:lnTo>
                  <a:pt x="3867" y="4265"/>
                </a:lnTo>
                <a:lnTo>
                  <a:pt x="3842" y="4259"/>
                </a:lnTo>
                <a:lnTo>
                  <a:pt x="3823" y="4285"/>
                </a:lnTo>
                <a:lnTo>
                  <a:pt x="3791" y="4310"/>
                </a:lnTo>
                <a:lnTo>
                  <a:pt x="3729" y="4337"/>
                </a:lnTo>
                <a:lnTo>
                  <a:pt x="3703" y="4321"/>
                </a:lnTo>
                <a:lnTo>
                  <a:pt x="3672" y="4346"/>
                </a:lnTo>
                <a:lnTo>
                  <a:pt x="3688" y="4364"/>
                </a:lnTo>
                <a:lnTo>
                  <a:pt x="3657" y="4406"/>
                </a:lnTo>
                <a:lnTo>
                  <a:pt x="3637" y="4429"/>
                </a:lnTo>
                <a:lnTo>
                  <a:pt x="3604" y="4431"/>
                </a:lnTo>
                <a:lnTo>
                  <a:pt x="3578" y="4455"/>
                </a:lnTo>
                <a:lnTo>
                  <a:pt x="3555" y="4449"/>
                </a:lnTo>
                <a:lnTo>
                  <a:pt x="3501" y="4445"/>
                </a:lnTo>
                <a:lnTo>
                  <a:pt x="3469" y="4444"/>
                </a:lnTo>
                <a:lnTo>
                  <a:pt x="3505" y="4451"/>
                </a:lnTo>
                <a:lnTo>
                  <a:pt x="3502" y="4485"/>
                </a:lnTo>
                <a:lnTo>
                  <a:pt x="3545" y="4526"/>
                </a:lnTo>
                <a:lnTo>
                  <a:pt x="3590" y="4576"/>
                </a:lnTo>
                <a:lnTo>
                  <a:pt x="3570" y="4605"/>
                </a:lnTo>
                <a:lnTo>
                  <a:pt x="3493" y="4661"/>
                </a:lnTo>
                <a:lnTo>
                  <a:pt x="3282" y="4610"/>
                </a:lnTo>
                <a:lnTo>
                  <a:pt x="3407" y="4667"/>
                </a:lnTo>
                <a:lnTo>
                  <a:pt x="3528" y="4763"/>
                </a:lnTo>
                <a:lnTo>
                  <a:pt x="3429" y="4772"/>
                </a:lnTo>
                <a:lnTo>
                  <a:pt x="3594" y="4803"/>
                </a:lnTo>
                <a:lnTo>
                  <a:pt x="3584" y="4846"/>
                </a:lnTo>
                <a:lnTo>
                  <a:pt x="3549" y="4810"/>
                </a:lnTo>
                <a:lnTo>
                  <a:pt x="3478" y="4855"/>
                </a:lnTo>
                <a:lnTo>
                  <a:pt x="3562" y="4898"/>
                </a:lnTo>
                <a:lnTo>
                  <a:pt x="3555" y="4928"/>
                </a:lnTo>
                <a:lnTo>
                  <a:pt x="3584" y="4950"/>
                </a:lnTo>
                <a:lnTo>
                  <a:pt x="3541" y="4976"/>
                </a:lnTo>
                <a:lnTo>
                  <a:pt x="3577" y="5005"/>
                </a:lnTo>
                <a:lnTo>
                  <a:pt x="3529" y="5025"/>
                </a:lnTo>
                <a:lnTo>
                  <a:pt x="3432" y="4956"/>
                </a:lnTo>
                <a:lnTo>
                  <a:pt x="3515" y="5066"/>
                </a:lnTo>
                <a:lnTo>
                  <a:pt x="3562" y="5111"/>
                </a:lnTo>
                <a:lnTo>
                  <a:pt x="3519" y="5120"/>
                </a:lnTo>
                <a:lnTo>
                  <a:pt x="3542" y="5160"/>
                </a:lnTo>
                <a:lnTo>
                  <a:pt x="3501" y="5169"/>
                </a:lnTo>
                <a:lnTo>
                  <a:pt x="3437" y="5133"/>
                </a:lnTo>
                <a:lnTo>
                  <a:pt x="3450" y="5196"/>
                </a:lnTo>
                <a:lnTo>
                  <a:pt x="3542" y="5236"/>
                </a:lnTo>
                <a:lnTo>
                  <a:pt x="3548" y="5337"/>
                </a:lnTo>
                <a:lnTo>
                  <a:pt x="3370" y="5207"/>
                </a:lnTo>
                <a:lnTo>
                  <a:pt x="3436" y="5322"/>
                </a:lnTo>
                <a:lnTo>
                  <a:pt x="3380" y="5315"/>
                </a:lnTo>
                <a:lnTo>
                  <a:pt x="3509" y="5445"/>
                </a:lnTo>
                <a:lnTo>
                  <a:pt x="3503" y="5462"/>
                </a:lnTo>
                <a:lnTo>
                  <a:pt x="3362" y="5330"/>
                </a:lnTo>
                <a:lnTo>
                  <a:pt x="3360" y="5357"/>
                </a:lnTo>
                <a:lnTo>
                  <a:pt x="3496" y="5486"/>
                </a:lnTo>
                <a:lnTo>
                  <a:pt x="3529" y="5535"/>
                </a:lnTo>
                <a:lnTo>
                  <a:pt x="3489" y="5574"/>
                </a:lnTo>
                <a:lnTo>
                  <a:pt x="3467" y="5613"/>
                </a:lnTo>
                <a:lnTo>
                  <a:pt x="3498" y="5653"/>
                </a:lnTo>
                <a:lnTo>
                  <a:pt x="3482" y="5699"/>
                </a:lnTo>
                <a:lnTo>
                  <a:pt x="3420" y="5658"/>
                </a:lnTo>
                <a:lnTo>
                  <a:pt x="3429" y="5708"/>
                </a:lnTo>
                <a:lnTo>
                  <a:pt x="3450" y="5737"/>
                </a:lnTo>
                <a:lnTo>
                  <a:pt x="3501" y="5740"/>
                </a:lnTo>
                <a:lnTo>
                  <a:pt x="3534" y="5807"/>
                </a:lnTo>
                <a:lnTo>
                  <a:pt x="3525" y="5883"/>
                </a:lnTo>
                <a:lnTo>
                  <a:pt x="3479" y="5951"/>
                </a:lnTo>
                <a:lnTo>
                  <a:pt x="3467" y="5941"/>
                </a:lnTo>
                <a:lnTo>
                  <a:pt x="3453" y="5942"/>
                </a:lnTo>
                <a:lnTo>
                  <a:pt x="3463" y="6021"/>
                </a:lnTo>
                <a:lnTo>
                  <a:pt x="3407" y="6059"/>
                </a:lnTo>
                <a:lnTo>
                  <a:pt x="3410" y="6091"/>
                </a:lnTo>
                <a:lnTo>
                  <a:pt x="3426" y="6129"/>
                </a:lnTo>
                <a:lnTo>
                  <a:pt x="3394" y="6162"/>
                </a:lnTo>
                <a:lnTo>
                  <a:pt x="3413" y="6206"/>
                </a:lnTo>
                <a:lnTo>
                  <a:pt x="3455" y="6266"/>
                </a:lnTo>
                <a:lnTo>
                  <a:pt x="3476" y="6308"/>
                </a:lnTo>
                <a:lnTo>
                  <a:pt x="3463" y="6360"/>
                </a:lnTo>
                <a:lnTo>
                  <a:pt x="3432" y="6410"/>
                </a:lnTo>
                <a:lnTo>
                  <a:pt x="3394" y="6421"/>
                </a:lnTo>
                <a:lnTo>
                  <a:pt x="3426" y="6465"/>
                </a:lnTo>
                <a:lnTo>
                  <a:pt x="3403" y="6498"/>
                </a:lnTo>
                <a:lnTo>
                  <a:pt x="3414" y="6513"/>
                </a:lnTo>
                <a:lnTo>
                  <a:pt x="3384" y="6646"/>
                </a:lnTo>
                <a:lnTo>
                  <a:pt x="3413" y="6656"/>
                </a:lnTo>
                <a:lnTo>
                  <a:pt x="3437" y="6637"/>
                </a:lnTo>
                <a:lnTo>
                  <a:pt x="3426" y="6685"/>
                </a:lnTo>
                <a:lnTo>
                  <a:pt x="3380" y="6680"/>
                </a:lnTo>
                <a:lnTo>
                  <a:pt x="3374" y="6745"/>
                </a:lnTo>
                <a:lnTo>
                  <a:pt x="3381" y="6815"/>
                </a:lnTo>
                <a:lnTo>
                  <a:pt x="3316" y="6833"/>
                </a:lnTo>
                <a:lnTo>
                  <a:pt x="3289" y="6883"/>
                </a:lnTo>
                <a:lnTo>
                  <a:pt x="3272" y="6967"/>
                </a:lnTo>
                <a:lnTo>
                  <a:pt x="3242" y="7041"/>
                </a:lnTo>
                <a:lnTo>
                  <a:pt x="3217" y="7113"/>
                </a:lnTo>
                <a:lnTo>
                  <a:pt x="3197" y="7197"/>
                </a:lnTo>
                <a:lnTo>
                  <a:pt x="3188" y="7294"/>
                </a:lnTo>
                <a:lnTo>
                  <a:pt x="3180" y="7326"/>
                </a:lnTo>
                <a:lnTo>
                  <a:pt x="3162" y="7391"/>
                </a:lnTo>
                <a:lnTo>
                  <a:pt x="3066" y="7539"/>
                </a:lnTo>
                <a:lnTo>
                  <a:pt x="3050" y="7513"/>
                </a:lnTo>
                <a:lnTo>
                  <a:pt x="3026" y="7515"/>
                </a:lnTo>
                <a:lnTo>
                  <a:pt x="3050" y="7431"/>
                </a:lnTo>
                <a:lnTo>
                  <a:pt x="3006" y="7467"/>
                </a:lnTo>
                <a:lnTo>
                  <a:pt x="2973" y="7422"/>
                </a:lnTo>
                <a:lnTo>
                  <a:pt x="2905" y="7425"/>
                </a:lnTo>
                <a:lnTo>
                  <a:pt x="2898" y="7389"/>
                </a:lnTo>
                <a:lnTo>
                  <a:pt x="2856" y="7430"/>
                </a:lnTo>
                <a:lnTo>
                  <a:pt x="2829" y="7428"/>
                </a:lnTo>
                <a:lnTo>
                  <a:pt x="2827" y="7458"/>
                </a:lnTo>
                <a:lnTo>
                  <a:pt x="2798" y="7425"/>
                </a:lnTo>
                <a:lnTo>
                  <a:pt x="2767" y="7433"/>
                </a:lnTo>
                <a:lnTo>
                  <a:pt x="2755" y="7484"/>
                </a:lnTo>
                <a:lnTo>
                  <a:pt x="2738" y="7499"/>
                </a:lnTo>
                <a:lnTo>
                  <a:pt x="2705" y="7489"/>
                </a:lnTo>
                <a:lnTo>
                  <a:pt x="2709" y="7440"/>
                </a:lnTo>
                <a:lnTo>
                  <a:pt x="2688" y="7437"/>
                </a:lnTo>
                <a:lnTo>
                  <a:pt x="2616" y="7464"/>
                </a:lnTo>
                <a:lnTo>
                  <a:pt x="2557" y="7468"/>
                </a:lnTo>
                <a:lnTo>
                  <a:pt x="2547" y="7418"/>
                </a:lnTo>
                <a:lnTo>
                  <a:pt x="2518" y="7430"/>
                </a:lnTo>
                <a:lnTo>
                  <a:pt x="2522" y="7470"/>
                </a:lnTo>
                <a:lnTo>
                  <a:pt x="2442" y="7466"/>
                </a:lnTo>
                <a:lnTo>
                  <a:pt x="2416" y="7481"/>
                </a:lnTo>
                <a:lnTo>
                  <a:pt x="2397" y="7458"/>
                </a:lnTo>
                <a:lnTo>
                  <a:pt x="2357" y="7479"/>
                </a:lnTo>
                <a:lnTo>
                  <a:pt x="2316" y="7460"/>
                </a:lnTo>
                <a:lnTo>
                  <a:pt x="2299" y="7504"/>
                </a:lnTo>
                <a:lnTo>
                  <a:pt x="2325" y="7539"/>
                </a:lnTo>
                <a:lnTo>
                  <a:pt x="2335" y="7582"/>
                </a:lnTo>
                <a:lnTo>
                  <a:pt x="2371" y="7612"/>
                </a:lnTo>
                <a:lnTo>
                  <a:pt x="2334" y="7663"/>
                </a:lnTo>
                <a:lnTo>
                  <a:pt x="2302" y="7668"/>
                </a:lnTo>
                <a:lnTo>
                  <a:pt x="2269" y="7663"/>
                </a:lnTo>
                <a:lnTo>
                  <a:pt x="2250" y="7635"/>
                </a:lnTo>
                <a:lnTo>
                  <a:pt x="2247" y="7608"/>
                </a:lnTo>
                <a:lnTo>
                  <a:pt x="2229" y="7627"/>
                </a:lnTo>
                <a:lnTo>
                  <a:pt x="2214" y="7612"/>
                </a:lnTo>
                <a:lnTo>
                  <a:pt x="2170" y="7620"/>
                </a:lnTo>
                <a:lnTo>
                  <a:pt x="2164" y="7660"/>
                </a:lnTo>
                <a:lnTo>
                  <a:pt x="2124" y="7716"/>
                </a:lnTo>
                <a:lnTo>
                  <a:pt x="2091" y="7716"/>
                </a:lnTo>
                <a:lnTo>
                  <a:pt x="2082" y="7760"/>
                </a:lnTo>
                <a:lnTo>
                  <a:pt x="2020" y="7850"/>
                </a:lnTo>
                <a:lnTo>
                  <a:pt x="1996" y="7935"/>
                </a:lnTo>
                <a:lnTo>
                  <a:pt x="1997" y="8018"/>
                </a:lnTo>
                <a:lnTo>
                  <a:pt x="2052" y="8073"/>
                </a:lnTo>
                <a:lnTo>
                  <a:pt x="2052" y="8137"/>
                </a:lnTo>
                <a:lnTo>
                  <a:pt x="2106" y="8198"/>
                </a:lnTo>
                <a:lnTo>
                  <a:pt x="2106" y="8267"/>
                </a:lnTo>
                <a:lnTo>
                  <a:pt x="2075" y="8309"/>
                </a:lnTo>
                <a:lnTo>
                  <a:pt x="2039" y="8363"/>
                </a:lnTo>
                <a:lnTo>
                  <a:pt x="2030" y="8383"/>
                </a:lnTo>
                <a:lnTo>
                  <a:pt x="2014" y="8419"/>
                </a:lnTo>
                <a:lnTo>
                  <a:pt x="1928" y="8421"/>
                </a:lnTo>
                <a:lnTo>
                  <a:pt x="1915" y="8432"/>
                </a:lnTo>
                <a:lnTo>
                  <a:pt x="1829" y="8359"/>
                </a:lnTo>
                <a:lnTo>
                  <a:pt x="1773" y="8380"/>
                </a:lnTo>
                <a:lnTo>
                  <a:pt x="1679" y="8385"/>
                </a:lnTo>
                <a:lnTo>
                  <a:pt x="1656" y="8395"/>
                </a:lnTo>
                <a:lnTo>
                  <a:pt x="1640" y="8391"/>
                </a:lnTo>
                <a:lnTo>
                  <a:pt x="1617" y="8424"/>
                </a:lnTo>
                <a:lnTo>
                  <a:pt x="1584" y="8438"/>
                </a:lnTo>
                <a:lnTo>
                  <a:pt x="1537" y="8428"/>
                </a:lnTo>
                <a:lnTo>
                  <a:pt x="1443" y="8497"/>
                </a:lnTo>
                <a:lnTo>
                  <a:pt x="1331" y="8464"/>
                </a:lnTo>
                <a:lnTo>
                  <a:pt x="1279" y="8451"/>
                </a:lnTo>
                <a:lnTo>
                  <a:pt x="1255" y="8458"/>
                </a:lnTo>
                <a:lnTo>
                  <a:pt x="1184" y="8419"/>
                </a:lnTo>
                <a:lnTo>
                  <a:pt x="1152" y="8447"/>
                </a:lnTo>
                <a:lnTo>
                  <a:pt x="1127" y="8424"/>
                </a:lnTo>
                <a:lnTo>
                  <a:pt x="1083" y="8452"/>
                </a:lnTo>
                <a:lnTo>
                  <a:pt x="1079" y="8444"/>
                </a:lnTo>
                <a:lnTo>
                  <a:pt x="1102" y="8386"/>
                </a:lnTo>
                <a:lnTo>
                  <a:pt x="1124" y="8382"/>
                </a:lnTo>
                <a:lnTo>
                  <a:pt x="1137" y="8406"/>
                </a:lnTo>
                <a:lnTo>
                  <a:pt x="1174" y="8406"/>
                </a:lnTo>
                <a:lnTo>
                  <a:pt x="1170" y="8360"/>
                </a:lnTo>
                <a:lnTo>
                  <a:pt x="1188" y="8357"/>
                </a:lnTo>
                <a:lnTo>
                  <a:pt x="1157" y="8278"/>
                </a:lnTo>
                <a:lnTo>
                  <a:pt x="1132" y="8280"/>
                </a:lnTo>
                <a:lnTo>
                  <a:pt x="1150" y="8254"/>
                </a:lnTo>
                <a:lnTo>
                  <a:pt x="1138" y="8206"/>
                </a:lnTo>
                <a:lnTo>
                  <a:pt x="1186" y="8172"/>
                </a:lnTo>
                <a:lnTo>
                  <a:pt x="1237" y="8119"/>
                </a:lnTo>
                <a:lnTo>
                  <a:pt x="1243" y="8103"/>
                </a:lnTo>
                <a:lnTo>
                  <a:pt x="1234" y="8055"/>
                </a:lnTo>
                <a:lnTo>
                  <a:pt x="1219" y="8028"/>
                </a:lnTo>
                <a:lnTo>
                  <a:pt x="1197" y="8017"/>
                </a:lnTo>
                <a:lnTo>
                  <a:pt x="1183" y="8027"/>
                </a:lnTo>
                <a:lnTo>
                  <a:pt x="1174" y="8018"/>
                </a:lnTo>
                <a:lnTo>
                  <a:pt x="1174" y="7992"/>
                </a:lnTo>
                <a:lnTo>
                  <a:pt x="1155" y="8004"/>
                </a:lnTo>
                <a:lnTo>
                  <a:pt x="1138" y="7986"/>
                </a:lnTo>
                <a:lnTo>
                  <a:pt x="1158" y="7929"/>
                </a:lnTo>
                <a:lnTo>
                  <a:pt x="1137" y="7876"/>
                </a:lnTo>
                <a:lnTo>
                  <a:pt x="1118" y="7855"/>
                </a:lnTo>
                <a:lnTo>
                  <a:pt x="1089" y="7871"/>
                </a:lnTo>
                <a:lnTo>
                  <a:pt x="1072" y="7819"/>
                </a:lnTo>
                <a:lnTo>
                  <a:pt x="1068" y="7782"/>
                </a:lnTo>
                <a:lnTo>
                  <a:pt x="1032" y="7716"/>
                </a:lnTo>
                <a:lnTo>
                  <a:pt x="983" y="7599"/>
                </a:lnTo>
                <a:lnTo>
                  <a:pt x="939" y="7543"/>
                </a:lnTo>
                <a:lnTo>
                  <a:pt x="909" y="7468"/>
                </a:lnTo>
                <a:lnTo>
                  <a:pt x="889" y="7389"/>
                </a:lnTo>
                <a:lnTo>
                  <a:pt x="870" y="7353"/>
                </a:lnTo>
                <a:lnTo>
                  <a:pt x="839" y="7325"/>
                </a:lnTo>
                <a:lnTo>
                  <a:pt x="906" y="7335"/>
                </a:lnTo>
                <a:lnTo>
                  <a:pt x="975" y="7372"/>
                </a:lnTo>
                <a:lnTo>
                  <a:pt x="988" y="7401"/>
                </a:lnTo>
                <a:lnTo>
                  <a:pt x="1001" y="7417"/>
                </a:lnTo>
                <a:lnTo>
                  <a:pt x="1023" y="7404"/>
                </a:lnTo>
                <a:lnTo>
                  <a:pt x="1052" y="7417"/>
                </a:lnTo>
                <a:lnTo>
                  <a:pt x="1060" y="7408"/>
                </a:lnTo>
                <a:lnTo>
                  <a:pt x="1079" y="7391"/>
                </a:lnTo>
                <a:lnTo>
                  <a:pt x="1089" y="7348"/>
                </a:lnTo>
                <a:lnTo>
                  <a:pt x="1047" y="7310"/>
                </a:lnTo>
                <a:lnTo>
                  <a:pt x="1024" y="7243"/>
                </a:lnTo>
                <a:lnTo>
                  <a:pt x="1003" y="7235"/>
                </a:lnTo>
                <a:lnTo>
                  <a:pt x="987" y="7214"/>
                </a:lnTo>
                <a:lnTo>
                  <a:pt x="951" y="7210"/>
                </a:lnTo>
                <a:lnTo>
                  <a:pt x="950" y="7165"/>
                </a:lnTo>
                <a:lnTo>
                  <a:pt x="968" y="7132"/>
                </a:lnTo>
                <a:lnTo>
                  <a:pt x="1016" y="7109"/>
                </a:lnTo>
                <a:lnTo>
                  <a:pt x="1086" y="7151"/>
                </a:lnTo>
                <a:lnTo>
                  <a:pt x="1115" y="7146"/>
                </a:lnTo>
                <a:lnTo>
                  <a:pt x="1128" y="7126"/>
                </a:lnTo>
                <a:lnTo>
                  <a:pt x="1148" y="7096"/>
                </a:lnTo>
                <a:lnTo>
                  <a:pt x="1154" y="6985"/>
                </a:lnTo>
                <a:lnTo>
                  <a:pt x="1144" y="6965"/>
                </a:lnTo>
                <a:lnTo>
                  <a:pt x="1116" y="6890"/>
                </a:lnTo>
                <a:lnTo>
                  <a:pt x="1092" y="6876"/>
                </a:lnTo>
                <a:lnTo>
                  <a:pt x="1049" y="6897"/>
                </a:lnTo>
                <a:lnTo>
                  <a:pt x="1023" y="6903"/>
                </a:lnTo>
                <a:lnTo>
                  <a:pt x="1010" y="6851"/>
                </a:lnTo>
                <a:lnTo>
                  <a:pt x="981" y="6849"/>
                </a:lnTo>
                <a:lnTo>
                  <a:pt x="984" y="6817"/>
                </a:lnTo>
                <a:lnTo>
                  <a:pt x="967" y="6803"/>
                </a:lnTo>
                <a:lnTo>
                  <a:pt x="950" y="6764"/>
                </a:lnTo>
                <a:lnTo>
                  <a:pt x="935" y="6713"/>
                </a:lnTo>
                <a:lnTo>
                  <a:pt x="939" y="6696"/>
                </a:lnTo>
                <a:lnTo>
                  <a:pt x="919" y="6656"/>
                </a:lnTo>
                <a:lnTo>
                  <a:pt x="899" y="6659"/>
                </a:lnTo>
                <a:lnTo>
                  <a:pt x="862" y="6598"/>
                </a:lnTo>
                <a:lnTo>
                  <a:pt x="826" y="6593"/>
                </a:lnTo>
                <a:lnTo>
                  <a:pt x="778" y="6567"/>
                </a:lnTo>
                <a:lnTo>
                  <a:pt x="773" y="6492"/>
                </a:lnTo>
                <a:lnTo>
                  <a:pt x="770" y="6456"/>
                </a:lnTo>
                <a:lnTo>
                  <a:pt x="719" y="6388"/>
                </a:lnTo>
                <a:lnTo>
                  <a:pt x="699" y="6341"/>
                </a:lnTo>
                <a:lnTo>
                  <a:pt x="675" y="6331"/>
                </a:lnTo>
                <a:lnTo>
                  <a:pt x="686" y="6308"/>
                </a:lnTo>
                <a:lnTo>
                  <a:pt x="659" y="6206"/>
                </a:lnTo>
                <a:lnTo>
                  <a:pt x="606" y="6177"/>
                </a:lnTo>
                <a:lnTo>
                  <a:pt x="607" y="6155"/>
                </a:lnTo>
                <a:lnTo>
                  <a:pt x="629" y="6122"/>
                </a:lnTo>
                <a:lnTo>
                  <a:pt x="645" y="6122"/>
                </a:lnTo>
                <a:lnTo>
                  <a:pt x="645" y="6059"/>
                </a:lnTo>
                <a:lnTo>
                  <a:pt x="591" y="6057"/>
                </a:lnTo>
                <a:lnTo>
                  <a:pt x="610" y="6019"/>
                </a:lnTo>
                <a:lnTo>
                  <a:pt x="620" y="5986"/>
                </a:lnTo>
                <a:lnTo>
                  <a:pt x="598" y="5987"/>
                </a:lnTo>
                <a:lnTo>
                  <a:pt x="604" y="5971"/>
                </a:lnTo>
                <a:lnTo>
                  <a:pt x="590" y="5914"/>
                </a:lnTo>
                <a:lnTo>
                  <a:pt x="565" y="5967"/>
                </a:lnTo>
                <a:lnTo>
                  <a:pt x="560" y="5987"/>
                </a:lnTo>
                <a:lnTo>
                  <a:pt x="558" y="6039"/>
                </a:lnTo>
                <a:lnTo>
                  <a:pt x="532" y="6016"/>
                </a:lnTo>
                <a:lnTo>
                  <a:pt x="512" y="6036"/>
                </a:lnTo>
                <a:lnTo>
                  <a:pt x="511" y="5987"/>
                </a:lnTo>
                <a:lnTo>
                  <a:pt x="489" y="5994"/>
                </a:lnTo>
                <a:lnTo>
                  <a:pt x="479" y="5922"/>
                </a:lnTo>
                <a:lnTo>
                  <a:pt x="502" y="5827"/>
                </a:lnTo>
                <a:lnTo>
                  <a:pt x="504" y="5786"/>
                </a:lnTo>
                <a:lnTo>
                  <a:pt x="504" y="5709"/>
                </a:lnTo>
                <a:lnTo>
                  <a:pt x="493" y="5689"/>
                </a:lnTo>
                <a:lnTo>
                  <a:pt x="475" y="5725"/>
                </a:lnTo>
                <a:lnTo>
                  <a:pt x="465" y="5683"/>
                </a:lnTo>
                <a:lnTo>
                  <a:pt x="445" y="5672"/>
                </a:lnTo>
                <a:lnTo>
                  <a:pt x="447" y="5640"/>
                </a:lnTo>
                <a:lnTo>
                  <a:pt x="532" y="5589"/>
                </a:lnTo>
                <a:lnTo>
                  <a:pt x="462" y="5624"/>
                </a:lnTo>
                <a:lnTo>
                  <a:pt x="424" y="5607"/>
                </a:lnTo>
                <a:lnTo>
                  <a:pt x="358" y="5610"/>
                </a:lnTo>
                <a:lnTo>
                  <a:pt x="378" y="5548"/>
                </a:lnTo>
                <a:lnTo>
                  <a:pt x="429" y="5537"/>
                </a:lnTo>
                <a:lnTo>
                  <a:pt x="450" y="5496"/>
                </a:lnTo>
                <a:lnTo>
                  <a:pt x="377" y="5509"/>
                </a:lnTo>
                <a:lnTo>
                  <a:pt x="367" y="5462"/>
                </a:lnTo>
                <a:lnTo>
                  <a:pt x="355" y="5445"/>
                </a:lnTo>
                <a:lnTo>
                  <a:pt x="363" y="5399"/>
                </a:lnTo>
                <a:lnTo>
                  <a:pt x="365" y="5377"/>
                </a:lnTo>
                <a:lnTo>
                  <a:pt x="407" y="5368"/>
                </a:lnTo>
                <a:lnTo>
                  <a:pt x="409" y="5338"/>
                </a:lnTo>
                <a:lnTo>
                  <a:pt x="386" y="5332"/>
                </a:lnTo>
                <a:lnTo>
                  <a:pt x="430" y="5245"/>
                </a:lnTo>
                <a:lnTo>
                  <a:pt x="436" y="5169"/>
                </a:lnTo>
                <a:lnTo>
                  <a:pt x="447" y="5094"/>
                </a:lnTo>
                <a:lnTo>
                  <a:pt x="463" y="5035"/>
                </a:lnTo>
                <a:lnTo>
                  <a:pt x="466" y="4970"/>
                </a:lnTo>
                <a:lnTo>
                  <a:pt x="457" y="4928"/>
                </a:lnTo>
                <a:lnTo>
                  <a:pt x="436" y="4915"/>
                </a:lnTo>
                <a:lnTo>
                  <a:pt x="447" y="4879"/>
                </a:lnTo>
                <a:lnTo>
                  <a:pt x="505" y="4845"/>
                </a:lnTo>
                <a:lnTo>
                  <a:pt x="433" y="4871"/>
                </a:lnTo>
                <a:lnTo>
                  <a:pt x="365" y="4861"/>
                </a:lnTo>
                <a:lnTo>
                  <a:pt x="325" y="4931"/>
                </a:lnTo>
                <a:lnTo>
                  <a:pt x="272" y="4957"/>
                </a:lnTo>
                <a:lnTo>
                  <a:pt x="247" y="4956"/>
                </a:lnTo>
                <a:lnTo>
                  <a:pt x="283" y="4845"/>
                </a:lnTo>
                <a:lnTo>
                  <a:pt x="351" y="4740"/>
                </a:lnTo>
                <a:lnTo>
                  <a:pt x="308" y="4769"/>
                </a:lnTo>
                <a:lnTo>
                  <a:pt x="283" y="4691"/>
                </a:lnTo>
                <a:lnTo>
                  <a:pt x="265" y="4846"/>
                </a:lnTo>
                <a:lnTo>
                  <a:pt x="224" y="4895"/>
                </a:lnTo>
                <a:lnTo>
                  <a:pt x="174" y="4888"/>
                </a:lnTo>
                <a:lnTo>
                  <a:pt x="203" y="4792"/>
                </a:lnTo>
                <a:lnTo>
                  <a:pt x="145" y="4846"/>
                </a:lnTo>
                <a:lnTo>
                  <a:pt x="174" y="4784"/>
                </a:lnTo>
                <a:lnTo>
                  <a:pt x="135" y="4823"/>
                </a:lnTo>
                <a:lnTo>
                  <a:pt x="68" y="4841"/>
                </a:lnTo>
                <a:lnTo>
                  <a:pt x="72" y="4734"/>
                </a:lnTo>
                <a:lnTo>
                  <a:pt x="151" y="4687"/>
                </a:lnTo>
                <a:lnTo>
                  <a:pt x="121" y="4688"/>
                </a:lnTo>
                <a:lnTo>
                  <a:pt x="85" y="4638"/>
                </a:lnTo>
                <a:lnTo>
                  <a:pt x="89" y="4592"/>
                </a:lnTo>
                <a:lnTo>
                  <a:pt x="116" y="4572"/>
                </a:lnTo>
                <a:lnTo>
                  <a:pt x="92" y="4474"/>
                </a:lnTo>
                <a:lnTo>
                  <a:pt x="65" y="4421"/>
                </a:lnTo>
                <a:lnTo>
                  <a:pt x="27" y="4396"/>
                </a:lnTo>
                <a:lnTo>
                  <a:pt x="40" y="4307"/>
                </a:lnTo>
                <a:lnTo>
                  <a:pt x="56" y="4221"/>
                </a:lnTo>
                <a:lnTo>
                  <a:pt x="36" y="4149"/>
                </a:lnTo>
                <a:lnTo>
                  <a:pt x="0" y="4118"/>
                </a:lnTo>
                <a:lnTo>
                  <a:pt x="3" y="4062"/>
                </a:lnTo>
                <a:lnTo>
                  <a:pt x="29" y="3998"/>
                </a:lnTo>
                <a:lnTo>
                  <a:pt x="138" y="3930"/>
                </a:lnTo>
                <a:lnTo>
                  <a:pt x="184" y="4002"/>
                </a:lnTo>
                <a:lnTo>
                  <a:pt x="220" y="4153"/>
                </a:lnTo>
                <a:lnTo>
                  <a:pt x="230" y="4199"/>
                </a:lnTo>
                <a:lnTo>
                  <a:pt x="272" y="4206"/>
                </a:lnTo>
                <a:lnTo>
                  <a:pt x="328" y="4159"/>
                </a:lnTo>
                <a:lnTo>
                  <a:pt x="377" y="4028"/>
                </a:lnTo>
                <a:lnTo>
                  <a:pt x="423" y="3906"/>
                </a:lnTo>
                <a:lnTo>
                  <a:pt x="426" y="3878"/>
                </a:lnTo>
                <a:lnTo>
                  <a:pt x="447" y="3690"/>
                </a:lnTo>
                <a:lnTo>
                  <a:pt x="406" y="3523"/>
                </a:lnTo>
                <a:lnTo>
                  <a:pt x="368" y="3340"/>
                </a:lnTo>
                <a:lnTo>
                  <a:pt x="462" y="3278"/>
                </a:lnTo>
                <a:lnTo>
                  <a:pt x="516" y="3232"/>
                </a:lnTo>
                <a:lnTo>
                  <a:pt x="524" y="3179"/>
                </a:lnTo>
                <a:lnTo>
                  <a:pt x="512" y="3138"/>
                </a:lnTo>
                <a:lnTo>
                  <a:pt x="506" y="3104"/>
                </a:lnTo>
                <a:lnTo>
                  <a:pt x="478" y="3080"/>
                </a:lnTo>
                <a:lnTo>
                  <a:pt x="476" y="3063"/>
                </a:lnTo>
                <a:lnTo>
                  <a:pt x="555" y="3008"/>
                </a:lnTo>
                <a:lnTo>
                  <a:pt x="640" y="3005"/>
                </a:lnTo>
                <a:lnTo>
                  <a:pt x="663" y="3008"/>
                </a:lnTo>
                <a:lnTo>
                  <a:pt x="706" y="2994"/>
                </a:lnTo>
                <a:lnTo>
                  <a:pt x="767" y="2933"/>
                </a:lnTo>
                <a:lnTo>
                  <a:pt x="820" y="2860"/>
                </a:lnTo>
                <a:lnTo>
                  <a:pt x="868" y="2738"/>
                </a:lnTo>
                <a:lnTo>
                  <a:pt x="886" y="2640"/>
                </a:lnTo>
                <a:lnTo>
                  <a:pt x="865" y="2507"/>
                </a:lnTo>
                <a:lnTo>
                  <a:pt x="892" y="2451"/>
                </a:lnTo>
                <a:lnTo>
                  <a:pt x="929" y="2392"/>
                </a:lnTo>
                <a:lnTo>
                  <a:pt x="929" y="2313"/>
                </a:lnTo>
                <a:lnTo>
                  <a:pt x="924" y="2241"/>
                </a:lnTo>
                <a:lnTo>
                  <a:pt x="896" y="2190"/>
                </a:lnTo>
                <a:lnTo>
                  <a:pt x="868" y="2152"/>
                </a:lnTo>
                <a:lnTo>
                  <a:pt x="868" y="2099"/>
                </a:lnTo>
                <a:lnTo>
                  <a:pt x="813" y="2017"/>
                </a:lnTo>
                <a:lnTo>
                  <a:pt x="787" y="1941"/>
                </a:lnTo>
                <a:lnTo>
                  <a:pt x="765" y="1857"/>
                </a:lnTo>
                <a:lnTo>
                  <a:pt x="741" y="1784"/>
                </a:lnTo>
                <a:lnTo>
                  <a:pt x="721" y="1721"/>
                </a:lnTo>
                <a:lnTo>
                  <a:pt x="693" y="1655"/>
                </a:lnTo>
                <a:lnTo>
                  <a:pt x="775" y="1636"/>
                </a:lnTo>
                <a:lnTo>
                  <a:pt x="827" y="1620"/>
                </a:lnTo>
                <a:lnTo>
                  <a:pt x="886" y="1621"/>
                </a:lnTo>
                <a:lnTo>
                  <a:pt x="934" y="1613"/>
                </a:lnTo>
                <a:lnTo>
                  <a:pt x="950" y="1514"/>
                </a:lnTo>
                <a:lnTo>
                  <a:pt x="1017" y="1400"/>
                </a:lnTo>
                <a:lnTo>
                  <a:pt x="1036" y="1365"/>
                </a:lnTo>
                <a:lnTo>
                  <a:pt x="1020" y="1318"/>
                </a:lnTo>
                <a:lnTo>
                  <a:pt x="1043" y="1243"/>
                </a:lnTo>
                <a:lnTo>
                  <a:pt x="878" y="1003"/>
                </a:lnTo>
                <a:lnTo>
                  <a:pt x="797" y="1009"/>
                </a:lnTo>
                <a:lnTo>
                  <a:pt x="627" y="838"/>
                </a:lnTo>
                <a:lnTo>
                  <a:pt x="682" y="374"/>
                </a:lnTo>
                <a:lnTo>
                  <a:pt x="676" y="351"/>
                </a:lnTo>
                <a:lnTo>
                  <a:pt x="699" y="159"/>
                </a:lnTo>
                <a:lnTo>
                  <a:pt x="681" y="88"/>
                </a:lnTo>
                <a:lnTo>
                  <a:pt x="678" y="49"/>
                </a:lnTo>
                <a:lnTo>
                  <a:pt x="656" y="0"/>
                </a:lnTo>
                <a:lnTo>
                  <a:pt x="3597" y="0"/>
                </a:lnTo>
                <a:lnTo>
                  <a:pt x="3598" y="39"/>
                </a:lnTo>
                <a:lnTo>
                  <a:pt x="3616" y="13"/>
                </a:lnTo>
                <a:lnTo>
                  <a:pt x="3630" y="22"/>
                </a:lnTo>
                <a:lnTo>
                  <a:pt x="3649" y="38"/>
                </a:lnTo>
                <a:lnTo>
                  <a:pt x="3642" y="58"/>
                </a:lnTo>
                <a:lnTo>
                  <a:pt x="3666" y="74"/>
                </a:lnTo>
                <a:lnTo>
                  <a:pt x="3649" y="95"/>
                </a:lnTo>
                <a:lnTo>
                  <a:pt x="3703" y="95"/>
                </a:lnTo>
                <a:lnTo>
                  <a:pt x="3724" y="100"/>
                </a:lnTo>
                <a:lnTo>
                  <a:pt x="3765" y="110"/>
                </a:lnTo>
                <a:lnTo>
                  <a:pt x="3732" y="151"/>
                </a:lnTo>
                <a:lnTo>
                  <a:pt x="3701" y="163"/>
                </a:lnTo>
                <a:lnTo>
                  <a:pt x="3693" y="146"/>
                </a:lnTo>
                <a:lnTo>
                  <a:pt x="3711" y="136"/>
                </a:lnTo>
                <a:lnTo>
                  <a:pt x="3708" y="126"/>
                </a:lnTo>
                <a:lnTo>
                  <a:pt x="3673" y="127"/>
                </a:lnTo>
                <a:lnTo>
                  <a:pt x="3685" y="167"/>
                </a:lnTo>
                <a:lnTo>
                  <a:pt x="3701" y="183"/>
                </a:lnTo>
                <a:lnTo>
                  <a:pt x="3705" y="197"/>
                </a:lnTo>
                <a:lnTo>
                  <a:pt x="3688" y="199"/>
                </a:lnTo>
                <a:lnTo>
                  <a:pt x="3683" y="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4960" y="49320"/>
            <a:ext cx="2557440" cy="4495680"/>
          </a:xfrm>
          <a:custGeom>
            <a:avLst/>
            <a:gdLst/>
            <a:ahLst/>
            <a:rect l="l" t="t" r="r" b="b"/>
            <a:pathLst>
              <a:path w="4834" h="8497">
                <a:moveTo>
                  <a:pt x="3947" y="2158"/>
                </a:moveTo>
                <a:lnTo>
                  <a:pt x="3937" y="2121"/>
                </a:lnTo>
                <a:lnTo>
                  <a:pt x="3934" y="2093"/>
                </a:lnTo>
                <a:lnTo>
                  <a:pt x="3970" y="2087"/>
                </a:lnTo>
                <a:lnTo>
                  <a:pt x="3984" y="2089"/>
                </a:lnTo>
                <a:lnTo>
                  <a:pt x="3988" y="2067"/>
                </a:lnTo>
                <a:lnTo>
                  <a:pt x="4014" y="2056"/>
                </a:lnTo>
                <a:lnTo>
                  <a:pt x="4043" y="2043"/>
                </a:lnTo>
                <a:lnTo>
                  <a:pt x="4069" y="2036"/>
                </a:lnTo>
                <a:lnTo>
                  <a:pt x="4101" y="2030"/>
                </a:lnTo>
                <a:lnTo>
                  <a:pt x="4115" y="2057"/>
                </a:lnTo>
                <a:lnTo>
                  <a:pt x="4114" y="2086"/>
                </a:lnTo>
                <a:lnTo>
                  <a:pt x="4111" y="2123"/>
                </a:lnTo>
                <a:lnTo>
                  <a:pt x="4098" y="2138"/>
                </a:lnTo>
                <a:lnTo>
                  <a:pt x="4125" y="2146"/>
                </a:lnTo>
                <a:lnTo>
                  <a:pt x="4142" y="2145"/>
                </a:lnTo>
                <a:lnTo>
                  <a:pt x="4157" y="2167"/>
                </a:lnTo>
                <a:lnTo>
                  <a:pt x="4180" y="2200"/>
                </a:lnTo>
                <a:lnTo>
                  <a:pt x="4207" y="2240"/>
                </a:lnTo>
                <a:lnTo>
                  <a:pt x="4230" y="2256"/>
                </a:lnTo>
                <a:lnTo>
                  <a:pt x="4257" y="2280"/>
                </a:lnTo>
                <a:lnTo>
                  <a:pt x="4288" y="2292"/>
                </a:lnTo>
                <a:lnTo>
                  <a:pt x="4263" y="2316"/>
                </a:lnTo>
                <a:lnTo>
                  <a:pt x="4270" y="2332"/>
                </a:lnTo>
                <a:lnTo>
                  <a:pt x="4296" y="2318"/>
                </a:lnTo>
                <a:lnTo>
                  <a:pt x="4315" y="2300"/>
                </a:lnTo>
                <a:lnTo>
                  <a:pt x="4345" y="2297"/>
                </a:lnTo>
                <a:lnTo>
                  <a:pt x="4365" y="2319"/>
                </a:lnTo>
                <a:lnTo>
                  <a:pt x="4385" y="2319"/>
                </a:lnTo>
                <a:lnTo>
                  <a:pt x="4410" y="2349"/>
                </a:lnTo>
                <a:lnTo>
                  <a:pt x="4426" y="2367"/>
                </a:lnTo>
                <a:lnTo>
                  <a:pt x="4408" y="2378"/>
                </a:lnTo>
                <a:lnTo>
                  <a:pt x="4436" y="2387"/>
                </a:lnTo>
                <a:lnTo>
                  <a:pt x="4454" y="2391"/>
                </a:lnTo>
                <a:lnTo>
                  <a:pt x="4472" y="2400"/>
                </a:lnTo>
                <a:lnTo>
                  <a:pt x="4490" y="2400"/>
                </a:lnTo>
                <a:lnTo>
                  <a:pt x="4498" y="2426"/>
                </a:lnTo>
                <a:lnTo>
                  <a:pt x="4492" y="2443"/>
                </a:lnTo>
                <a:lnTo>
                  <a:pt x="4478" y="2451"/>
                </a:lnTo>
                <a:lnTo>
                  <a:pt x="4454" y="2441"/>
                </a:lnTo>
                <a:lnTo>
                  <a:pt x="4424" y="2440"/>
                </a:lnTo>
                <a:lnTo>
                  <a:pt x="4396" y="2430"/>
                </a:lnTo>
                <a:lnTo>
                  <a:pt x="4374" y="2424"/>
                </a:lnTo>
                <a:lnTo>
                  <a:pt x="4391" y="2457"/>
                </a:lnTo>
                <a:lnTo>
                  <a:pt x="4404" y="2492"/>
                </a:lnTo>
                <a:lnTo>
                  <a:pt x="4421" y="2507"/>
                </a:lnTo>
                <a:lnTo>
                  <a:pt x="4443" y="2516"/>
                </a:lnTo>
                <a:lnTo>
                  <a:pt x="4466" y="2531"/>
                </a:lnTo>
                <a:lnTo>
                  <a:pt x="4493" y="2539"/>
                </a:lnTo>
                <a:lnTo>
                  <a:pt x="4521" y="2546"/>
                </a:lnTo>
                <a:lnTo>
                  <a:pt x="4545" y="2552"/>
                </a:lnTo>
                <a:lnTo>
                  <a:pt x="4568" y="2568"/>
                </a:lnTo>
                <a:lnTo>
                  <a:pt x="4603" y="2574"/>
                </a:lnTo>
                <a:lnTo>
                  <a:pt x="4630" y="2569"/>
                </a:lnTo>
                <a:lnTo>
                  <a:pt x="4643" y="2595"/>
                </a:lnTo>
                <a:lnTo>
                  <a:pt x="4647" y="2647"/>
                </a:lnTo>
                <a:lnTo>
                  <a:pt x="4667" y="2689"/>
                </a:lnTo>
                <a:lnTo>
                  <a:pt x="4688" y="2733"/>
                </a:lnTo>
                <a:lnTo>
                  <a:pt x="4702" y="2762"/>
                </a:lnTo>
                <a:lnTo>
                  <a:pt x="4705" y="2787"/>
                </a:lnTo>
                <a:lnTo>
                  <a:pt x="4741" y="2789"/>
                </a:lnTo>
                <a:lnTo>
                  <a:pt x="4765" y="2818"/>
                </a:lnTo>
                <a:lnTo>
                  <a:pt x="4780" y="2822"/>
                </a:lnTo>
                <a:lnTo>
                  <a:pt x="4804" y="2821"/>
                </a:lnTo>
                <a:lnTo>
                  <a:pt x="4826" y="2831"/>
                </a:lnTo>
                <a:lnTo>
                  <a:pt x="4834" y="2843"/>
                </a:lnTo>
                <a:lnTo>
                  <a:pt x="4831" y="2874"/>
                </a:lnTo>
                <a:lnTo>
                  <a:pt x="4813" y="2893"/>
                </a:lnTo>
                <a:lnTo>
                  <a:pt x="4794" y="2913"/>
                </a:lnTo>
                <a:lnTo>
                  <a:pt x="4772" y="2928"/>
                </a:lnTo>
                <a:lnTo>
                  <a:pt x="4787" y="2951"/>
                </a:lnTo>
                <a:lnTo>
                  <a:pt x="4819" y="2963"/>
                </a:lnTo>
                <a:lnTo>
                  <a:pt x="4826" y="2991"/>
                </a:lnTo>
                <a:lnTo>
                  <a:pt x="4795" y="3008"/>
                </a:lnTo>
                <a:lnTo>
                  <a:pt x="4764" y="3035"/>
                </a:lnTo>
                <a:lnTo>
                  <a:pt x="4729" y="3034"/>
                </a:lnTo>
                <a:lnTo>
                  <a:pt x="4686" y="3060"/>
                </a:lnTo>
                <a:lnTo>
                  <a:pt x="4644" y="3079"/>
                </a:lnTo>
                <a:lnTo>
                  <a:pt x="4604" y="3129"/>
                </a:lnTo>
                <a:lnTo>
                  <a:pt x="4646" y="3162"/>
                </a:lnTo>
                <a:lnTo>
                  <a:pt x="4616" y="3181"/>
                </a:lnTo>
                <a:lnTo>
                  <a:pt x="4568" y="3219"/>
                </a:lnTo>
                <a:lnTo>
                  <a:pt x="4521" y="3264"/>
                </a:lnTo>
                <a:lnTo>
                  <a:pt x="4489" y="3284"/>
                </a:lnTo>
                <a:lnTo>
                  <a:pt x="4452" y="3322"/>
                </a:lnTo>
                <a:lnTo>
                  <a:pt x="4421" y="3350"/>
                </a:lnTo>
                <a:lnTo>
                  <a:pt x="4393" y="3359"/>
                </a:lnTo>
                <a:lnTo>
                  <a:pt x="4371" y="3342"/>
                </a:lnTo>
                <a:lnTo>
                  <a:pt x="4367" y="3363"/>
                </a:lnTo>
                <a:lnTo>
                  <a:pt x="4380" y="3389"/>
                </a:lnTo>
                <a:lnTo>
                  <a:pt x="4378" y="3404"/>
                </a:lnTo>
                <a:lnTo>
                  <a:pt x="4397" y="3427"/>
                </a:lnTo>
                <a:lnTo>
                  <a:pt x="4426" y="3430"/>
                </a:lnTo>
                <a:lnTo>
                  <a:pt x="4459" y="3438"/>
                </a:lnTo>
                <a:lnTo>
                  <a:pt x="4449" y="3411"/>
                </a:lnTo>
                <a:lnTo>
                  <a:pt x="4463" y="3394"/>
                </a:lnTo>
                <a:lnTo>
                  <a:pt x="4490" y="3396"/>
                </a:lnTo>
                <a:lnTo>
                  <a:pt x="4526" y="3417"/>
                </a:lnTo>
                <a:lnTo>
                  <a:pt x="4544" y="3435"/>
                </a:lnTo>
                <a:lnTo>
                  <a:pt x="4567" y="3445"/>
                </a:lnTo>
                <a:lnTo>
                  <a:pt x="4608" y="3441"/>
                </a:lnTo>
                <a:lnTo>
                  <a:pt x="4640" y="3438"/>
                </a:lnTo>
                <a:lnTo>
                  <a:pt x="4653" y="3480"/>
                </a:lnTo>
                <a:lnTo>
                  <a:pt x="4647" y="3513"/>
                </a:lnTo>
                <a:lnTo>
                  <a:pt x="4624" y="3523"/>
                </a:lnTo>
                <a:lnTo>
                  <a:pt x="4598" y="3535"/>
                </a:lnTo>
                <a:lnTo>
                  <a:pt x="4620" y="3543"/>
                </a:lnTo>
                <a:lnTo>
                  <a:pt x="4634" y="3555"/>
                </a:lnTo>
                <a:lnTo>
                  <a:pt x="4662" y="3527"/>
                </a:lnTo>
                <a:lnTo>
                  <a:pt x="4689" y="3523"/>
                </a:lnTo>
                <a:lnTo>
                  <a:pt x="4702" y="3549"/>
                </a:lnTo>
                <a:lnTo>
                  <a:pt x="4680" y="3565"/>
                </a:lnTo>
                <a:lnTo>
                  <a:pt x="4650" y="3583"/>
                </a:lnTo>
                <a:lnTo>
                  <a:pt x="4611" y="3593"/>
                </a:lnTo>
                <a:lnTo>
                  <a:pt x="4596" y="3593"/>
                </a:lnTo>
                <a:lnTo>
                  <a:pt x="4567" y="3615"/>
                </a:lnTo>
                <a:lnTo>
                  <a:pt x="4531" y="3634"/>
                </a:lnTo>
                <a:lnTo>
                  <a:pt x="4498" y="3618"/>
                </a:lnTo>
                <a:lnTo>
                  <a:pt x="4463" y="3581"/>
                </a:lnTo>
                <a:lnTo>
                  <a:pt x="4431" y="3578"/>
                </a:lnTo>
                <a:lnTo>
                  <a:pt x="4403" y="3621"/>
                </a:lnTo>
                <a:lnTo>
                  <a:pt x="4452" y="3634"/>
                </a:lnTo>
                <a:lnTo>
                  <a:pt x="4478" y="3675"/>
                </a:lnTo>
                <a:lnTo>
                  <a:pt x="4493" y="3706"/>
                </a:lnTo>
                <a:lnTo>
                  <a:pt x="4446" y="3746"/>
                </a:lnTo>
                <a:lnTo>
                  <a:pt x="4419" y="3765"/>
                </a:lnTo>
                <a:lnTo>
                  <a:pt x="4393" y="3778"/>
                </a:lnTo>
                <a:lnTo>
                  <a:pt x="4426" y="3769"/>
                </a:lnTo>
                <a:lnTo>
                  <a:pt x="4462" y="3765"/>
                </a:lnTo>
                <a:lnTo>
                  <a:pt x="4437" y="3779"/>
                </a:lnTo>
                <a:lnTo>
                  <a:pt x="4430" y="3796"/>
                </a:lnTo>
                <a:lnTo>
                  <a:pt x="4390" y="3818"/>
                </a:lnTo>
                <a:lnTo>
                  <a:pt x="4341" y="3842"/>
                </a:lnTo>
                <a:lnTo>
                  <a:pt x="4355" y="3816"/>
                </a:lnTo>
                <a:lnTo>
                  <a:pt x="4355" y="3778"/>
                </a:lnTo>
                <a:lnTo>
                  <a:pt x="4345" y="3776"/>
                </a:lnTo>
                <a:lnTo>
                  <a:pt x="4326" y="3805"/>
                </a:lnTo>
                <a:lnTo>
                  <a:pt x="4290" y="3841"/>
                </a:lnTo>
                <a:lnTo>
                  <a:pt x="4270" y="3864"/>
                </a:lnTo>
                <a:lnTo>
                  <a:pt x="4247" y="3888"/>
                </a:lnTo>
                <a:lnTo>
                  <a:pt x="4233" y="3916"/>
                </a:lnTo>
                <a:lnTo>
                  <a:pt x="4214" y="3947"/>
                </a:lnTo>
                <a:lnTo>
                  <a:pt x="4229" y="3975"/>
                </a:lnTo>
                <a:lnTo>
                  <a:pt x="4236" y="4005"/>
                </a:lnTo>
                <a:lnTo>
                  <a:pt x="4204" y="4052"/>
                </a:lnTo>
                <a:lnTo>
                  <a:pt x="4198" y="4097"/>
                </a:lnTo>
                <a:lnTo>
                  <a:pt x="4210" y="4146"/>
                </a:lnTo>
                <a:lnTo>
                  <a:pt x="4185" y="4179"/>
                </a:lnTo>
                <a:lnTo>
                  <a:pt x="4147" y="4162"/>
                </a:lnTo>
                <a:lnTo>
                  <a:pt x="4121" y="4131"/>
                </a:lnTo>
                <a:lnTo>
                  <a:pt x="4115" y="4101"/>
                </a:lnTo>
                <a:lnTo>
                  <a:pt x="4115" y="4077"/>
                </a:lnTo>
                <a:lnTo>
                  <a:pt x="4092" y="4039"/>
                </a:lnTo>
                <a:lnTo>
                  <a:pt x="4073" y="4015"/>
                </a:lnTo>
                <a:lnTo>
                  <a:pt x="4066" y="3995"/>
                </a:lnTo>
                <a:lnTo>
                  <a:pt x="4065" y="3975"/>
                </a:lnTo>
                <a:lnTo>
                  <a:pt x="4065" y="3934"/>
                </a:lnTo>
                <a:lnTo>
                  <a:pt x="4060" y="3896"/>
                </a:lnTo>
                <a:lnTo>
                  <a:pt x="4059" y="3860"/>
                </a:lnTo>
                <a:lnTo>
                  <a:pt x="4072" y="3816"/>
                </a:lnTo>
                <a:lnTo>
                  <a:pt x="4075" y="3803"/>
                </a:lnTo>
                <a:lnTo>
                  <a:pt x="4079" y="3795"/>
                </a:lnTo>
                <a:lnTo>
                  <a:pt x="4066" y="3795"/>
                </a:lnTo>
                <a:lnTo>
                  <a:pt x="4055" y="3837"/>
                </a:lnTo>
                <a:lnTo>
                  <a:pt x="4056" y="3857"/>
                </a:lnTo>
                <a:lnTo>
                  <a:pt x="4056" y="3860"/>
                </a:lnTo>
                <a:lnTo>
                  <a:pt x="4034" y="3873"/>
                </a:lnTo>
                <a:lnTo>
                  <a:pt x="4021" y="3838"/>
                </a:lnTo>
                <a:lnTo>
                  <a:pt x="4023" y="3801"/>
                </a:lnTo>
                <a:lnTo>
                  <a:pt x="4004" y="3756"/>
                </a:lnTo>
                <a:lnTo>
                  <a:pt x="4000" y="3788"/>
                </a:lnTo>
                <a:lnTo>
                  <a:pt x="3997" y="3835"/>
                </a:lnTo>
                <a:lnTo>
                  <a:pt x="3990" y="3878"/>
                </a:lnTo>
                <a:lnTo>
                  <a:pt x="3994" y="3921"/>
                </a:lnTo>
                <a:lnTo>
                  <a:pt x="3984" y="3973"/>
                </a:lnTo>
                <a:lnTo>
                  <a:pt x="3980" y="3990"/>
                </a:lnTo>
                <a:lnTo>
                  <a:pt x="3972" y="4022"/>
                </a:lnTo>
                <a:lnTo>
                  <a:pt x="3981" y="4054"/>
                </a:lnTo>
                <a:lnTo>
                  <a:pt x="3984" y="4104"/>
                </a:lnTo>
                <a:lnTo>
                  <a:pt x="3964" y="4142"/>
                </a:lnTo>
                <a:lnTo>
                  <a:pt x="3926" y="4176"/>
                </a:lnTo>
                <a:lnTo>
                  <a:pt x="3911" y="4223"/>
                </a:lnTo>
                <a:lnTo>
                  <a:pt x="3860" y="4213"/>
                </a:lnTo>
                <a:lnTo>
                  <a:pt x="3869" y="4236"/>
                </a:lnTo>
                <a:lnTo>
                  <a:pt x="3867" y="4265"/>
                </a:lnTo>
                <a:lnTo>
                  <a:pt x="3842" y="4259"/>
                </a:lnTo>
                <a:lnTo>
                  <a:pt x="3823" y="4285"/>
                </a:lnTo>
                <a:lnTo>
                  <a:pt x="3791" y="4310"/>
                </a:lnTo>
                <a:lnTo>
                  <a:pt x="3729" y="4337"/>
                </a:lnTo>
                <a:lnTo>
                  <a:pt x="3703" y="4321"/>
                </a:lnTo>
                <a:lnTo>
                  <a:pt x="3672" y="4346"/>
                </a:lnTo>
                <a:lnTo>
                  <a:pt x="3688" y="4364"/>
                </a:lnTo>
                <a:lnTo>
                  <a:pt x="3657" y="4406"/>
                </a:lnTo>
                <a:lnTo>
                  <a:pt x="3637" y="4429"/>
                </a:lnTo>
                <a:lnTo>
                  <a:pt x="3604" y="4431"/>
                </a:lnTo>
                <a:lnTo>
                  <a:pt x="3578" y="4455"/>
                </a:lnTo>
                <a:lnTo>
                  <a:pt x="3555" y="4449"/>
                </a:lnTo>
                <a:lnTo>
                  <a:pt x="3501" y="4445"/>
                </a:lnTo>
                <a:lnTo>
                  <a:pt x="3469" y="4444"/>
                </a:lnTo>
                <a:lnTo>
                  <a:pt x="3505" y="4451"/>
                </a:lnTo>
                <a:lnTo>
                  <a:pt x="3502" y="4485"/>
                </a:lnTo>
                <a:lnTo>
                  <a:pt x="3545" y="4526"/>
                </a:lnTo>
                <a:lnTo>
                  <a:pt x="3590" y="4576"/>
                </a:lnTo>
                <a:lnTo>
                  <a:pt x="3570" y="4605"/>
                </a:lnTo>
                <a:lnTo>
                  <a:pt x="3493" y="4661"/>
                </a:lnTo>
                <a:lnTo>
                  <a:pt x="3282" y="4610"/>
                </a:lnTo>
                <a:lnTo>
                  <a:pt x="3407" y="4667"/>
                </a:lnTo>
                <a:lnTo>
                  <a:pt x="3528" y="4763"/>
                </a:lnTo>
                <a:lnTo>
                  <a:pt x="3429" y="4772"/>
                </a:lnTo>
                <a:lnTo>
                  <a:pt x="3594" y="4803"/>
                </a:lnTo>
                <a:lnTo>
                  <a:pt x="3584" y="4846"/>
                </a:lnTo>
                <a:lnTo>
                  <a:pt x="3549" y="4810"/>
                </a:lnTo>
                <a:lnTo>
                  <a:pt x="3478" y="4855"/>
                </a:lnTo>
                <a:lnTo>
                  <a:pt x="3562" y="4898"/>
                </a:lnTo>
                <a:lnTo>
                  <a:pt x="3555" y="4928"/>
                </a:lnTo>
                <a:lnTo>
                  <a:pt x="3584" y="4950"/>
                </a:lnTo>
                <a:lnTo>
                  <a:pt x="3541" y="4976"/>
                </a:lnTo>
                <a:lnTo>
                  <a:pt x="3577" y="5005"/>
                </a:lnTo>
                <a:lnTo>
                  <a:pt x="3529" y="5025"/>
                </a:lnTo>
                <a:lnTo>
                  <a:pt x="3432" y="4956"/>
                </a:lnTo>
                <a:lnTo>
                  <a:pt x="3515" y="5066"/>
                </a:lnTo>
                <a:lnTo>
                  <a:pt x="3562" y="5111"/>
                </a:lnTo>
                <a:lnTo>
                  <a:pt x="3519" y="5120"/>
                </a:lnTo>
                <a:lnTo>
                  <a:pt x="3542" y="5160"/>
                </a:lnTo>
                <a:lnTo>
                  <a:pt x="3501" y="5169"/>
                </a:lnTo>
                <a:lnTo>
                  <a:pt x="3437" y="5133"/>
                </a:lnTo>
                <a:lnTo>
                  <a:pt x="3450" y="5196"/>
                </a:lnTo>
                <a:lnTo>
                  <a:pt x="3542" y="5236"/>
                </a:lnTo>
                <a:lnTo>
                  <a:pt x="3548" y="5337"/>
                </a:lnTo>
                <a:lnTo>
                  <a:pt x="3370" y="5207"/>
                </a:lnTo>
                <a:lnTo>
                  <a:pt x="3436" y="5322"/>
                </a:lnTo>
                <a:lnTo>
                  <a:pt x="3380" y="5315"/>
                </a:lnTo>
                <a:lnTo>
                  <a:pt x="3509" y="5445"/>
                </a:lnTo>
                <a:lnTo>
                  <a:pt x="3503" y="5462"/>
                </a:lnTo>
                <a:lnTo>
                  <a:pt x="3362" y="5330"/>
                </a:lnTo>
                <a:lnTo>
                  <a:pt x="3360" y="5357"/>
                </a:lnTo>
                <a:lnTo>
                  <a:pt x="3496" y="5486"/>
                </a:lnTo>
                <a:lnTo>
                  <a:pt x="3529" y="5535"/>
                </a:lnTo>
                <a:lnTo>
                  <a:pt x="3489" y="5574"/>
                </a:lnTo>
                <a:lnTo>
                  <a:pt x="3467" y="5613"/>
                </a:lnTo>
                <a:lnTo>
                  <a:pt x="3498" y="5653"/>
                </a:lnTo>
                <a:lnTo>
                  <a:pt x="3482" y="5699"/>
                </a:lnTo>
                <a:lnTo>
                  <a:pt x="3420" y="5658"/>
                </a:lnTo>
                <a:lnTo>
                  <a:pt x="3429" y="5708"/>
                </a:lnTo>
                <a:lnTo>
                  <a:pt x="3450" y="5737"/>
                </a:lnTo>
                <a:lnTo>
                  <a:pt x="3501" y="5740"/>
                </a:lnTo>
                <a:lnTo>
                  <a:pt x="3534" y="5807"/>
                </a:lnTo>
                <a:lnTo>
                  <a:pt x="3525" y="5883"/>
                </a:lnTo>
                <a:lnTo>
                  <a:pt x="3479" y="5951"/>
                </a:lnTo>
                <a:lnTo>
                  <a:pt x="3467" y="5941"/>
                </a:lnTo>
                <a:lnTo>
                  <a:pt x="3453" y="5942"/>
                </a:lnTo>
                <a:lnTo>
                  <a:pt x="3463" y="6021"/>
                </a:lnTo>
                <a:lnTo>
                  <a:pt x="3407" y="6059"/>
                </a:lnTo>
                <a:lnTo>
                  <a:pt x="3410" y="6091"/>
                </a:lnTo>
                <a:lnTo>
                  <a:pt x="3426" y="6129"/>
                </a:lnTo>
                <a:lnTo>
                  <a:pt x="3394" y="6162"/>
                </a:lnTo>
                <a:lnTo>
                  <a:pt x="3413" y="6206"/>
                </a:lnTo>
                <a:lnTo>
                  <a:pt x="3455" y="6266"/>
                </a:lnTo>
                <a:lnTo>
                  <a:pt x="3476" y="6308"/>
                </a:lnTo>
                <a:lnTo>
                  <a:pt x="3463" y="6360"/>
                </a:lnTo>
                <a:lnTo>
                  <a:pt x="3432" y="6410"/>
                </a:lnTo>
                <a:lnTo>
                  <a:pt x="3394" y="6421"/>
                </a:lnTo>
                <a:lnTo>
                  <a:pt x="3426" y="6465"/>
                </a:lnTo>
                <a:lnTo>
                  <a:pt x="3403" y="6498"/>
                </a:lnTo>
                <a:lnTo>
                  <a:pt x="3414" y="6513"/>
                </a:lnTo>
                <a:lnTo>
                  <a:pt x="3384" y="6646"/>
                </a:lnTo>
                <a:lnTo>
                  <a:pt x="3413" y="6656"/>
                </a:lnTo>
                <a:lnTo>
                  <a:pt x="3437" y="6637"/>
                </a:lnTo>
                <a:lnTo>
                  <a:pt x="3426" y="6685"/>
                </a:lnTo>
                <a:lnTo>
                  <a:pt x="3380" y="6680"/>
                </a:lnTo>
                <a:lnTo>
                  <a:pt x="3374" y="6745"/>
                </a:lnTo>
                <a:lnTo>
                  <a:pt x="3381" y="6815"/>
                </a:lnTo>
                <a:lnTo>
                  <a:pt x="3316" y="6833"/>
                </a:lnTo>
                <a:lnTo>
                  <a:pt x="3289" y="6883"/>
                </a:lnTo>
                <a:lnTo>
                  <a:pt x="3272" y="6967"/>
                </a:lnTo>
                <a:lnTo>
                  <a:pt x="3242" y="7041"/>
                </a:lnTo>
                <a:lnTo>
                  <a:pt x="3217" y="7113"/>
                </a:lnTo>
                <a:lnTo>
                  <a:pt x="3197" y="7197"/>
                </a:lnTo>
                <a:lnTo>
                  <a:pt x="3188" y="7294"/>
                </a:lnTo>
                <a:lnTo>
                  <a:pt x="3180" y="7326"/>
                </a:lnTo>
                <a:lnTo>
                  <a:pt x="3162" y="7391"/>
                </a:lnTo>
                <a:lnTo>
                  <a:pt x="3066" y="7539"/>
                </a:lnTo>
                <a:lnTo>
                  <a:pt x="3050" y="7513"/>
                </a:lnTo>
                <a:lnTo>
                  <a:pt x="3026" y="7515"/>
                </a:lnTo>
                <a:lnTo>
                  <a:pt x="3050" y="7431"/>
                </a:lnTo>
                <a:lnTo>
                  <a:pt x="3006" y="7467"/>
                </a:lnTo>
                <a:lnTo>
                  <a:pt x="2973" y="7422"/>
                </a:lnTo>
                <a:lnTo>
                  <a:pt x="2905" y="7425"/>
                </a:lnTo>
                <a:lnTo>
                  <a:pt x="2898" y="7389"/>
                </a:lnTo>
                <a:lnTo>
                  <a:pt x="2856" y="7430"/>
                </a:lnTo>
                <a:lnTo>
                  <a:pt x="2829" y="7428"/>
                </a:lnTo>
                <a:lnTo>
                  <a:pt x="2827" y="7458"/>
                </a:lnTo>
                <a:lnTo>
                  <a:pt x="2798" y="7425"/>
                </a:lnTo>
                <a:lnTo>
                  <a:pt x="2767" y="7433"/>
                </a:lnTo>
                <a:lnTo>
                  <a:pt x="2755" y="7484"/>
                </a:lnTo>
                <a:lnTo>
                  <a:pt x="2738" y="7499"/>
                </a:lnTo>
                <a:lnTo>
                  <a:pt x="2705" y="7489"/>
                </a:lnTo>
                <a:lnTo>
                  <a:pt x="2709" y="7440"/>
                </a:lnTo>
                <a:lnTo>
                  <a:pt x="2688" y="7437"/>
                </a:lnTo>
                <a:lnTo>
                  <a:pt x="2616" y="7464"/>
                </a:lnTo>
                <a:lnTo>
                  <a:pt x="2557" y="7468"/>
                </a:lnTo>
                <a:lnTo>
                  <a:pt x="2547" y="7418"/>
                </a:lnTo>
                <a:lnTo>
                  <a:pt x="2518" y="7430"/>
                </a:lnTo>
                <a:lnTo>
                  <a:pt x="2522" y="7470"/>
                </a:lnTo>
                <a:lnTo>
                  <a:pt x="2442" y="7466"/>
                </a:lnTo>
                <a:lnTo>
                  <a:pt x="2416" y="7481"/>
                </a:lnTo>
                <a:lnTo>
                  <a:pt x="2397" y="7458"/>
                </a:lnTo>
                <a:lnTo>
                  <a:pt x="2357" y="7479"/>
                </a:lnTo>
                <a:lnTo>
                  <a:pt x="2316" y="7460"/>
                </a:lnTo>
                <a:lnTo>
                  <a:pt x="2299" y="7504"/>
                </a:lnTo>
                <a:lnTo>
                  <a:pt x="2325" y="7539"/>
                </a:lnTo>
                <a:lnTo>
                  <a:pt x="2335" y="7582"/>
                </a:lnTo>
                <a:lnTo>
                  <a:pt x="2371" y="7612"/>
                </a:lnTo>
                <a:lnTo>
                  <a:pt x="2334" y="7663"/>
                </a:lnTo>
                <a:lnTo>
                  <a:pt x="2302" y="7668"/>
                </a:lnTo>
                <a:lnTo>
                  <a:pt x="2269" y="7663"/>
                </a:lnTo>
                <a:lnTo>
                  <a:pt x="2250" y="7635"/>
                </a:lnTo>
                <a:lnTo>
                  <a:pt x="2247" y="7608"/>
                </a:lnTo>
                <a:lnTo>
                  <a:pt x="2229" y="7627"/>
                </a:lnTo>
                <a:lnTo>
                  <a:pt x="2214" y="7612"/>
                </a:lnTo>
                <a:lnTo>
                  <a:pt x="2170" y="7620"/>
                </a:lnTo>
                <a:lnTo>
                  <a:pt x="2164" y="7660"/>
                </a:lnTo>
                <a:lnTo>
                  <a:pt x="2124" y="7716"/>
                </a:lnTo>
                <a:lnTo>
                  <a:pt x="2091" y="7716"/>
                </a:lnTo>
                <a:lnTo>
                  <a:pt x="2082" y="7760"/>
                </a:lnTo>
                <a:lnTo>
                  <a:pt x="2020" y="7850"/>
                </a:lnTo>
                <a:lnTo>
                  <a:pt x="1996" y="7935"/>
                </a:lnTo>
                <a:lnTo>
                  <a:pt x="1997" y="8018"/>
                </a:lnTo>
                <a:lnTo>
                  <a:pt x="2052" y="8073"/>
                </a:lnTo>
                <a:lnTo>
                  <a:pt x="2052" y="8137"/>
                </a:lnTo>
                <a:lnTo>
                  <a:pt x="2106" y="8198"/>
                </a:lnTo>
                <a:lnTo>
                  <a:pt x="2106" y="8267"/>
                </a:lnTo>
                <a:lnTo>
                  <a:pt x="2075" y="8309"/>
                </a:lnTo>
                <a:lnTo>
                  <a:pt x="2039" y="8363"/>
                </a:lnTo>
                <a:lnTo>
                  <a:pt x="2030" y="8383"/>
                </a:lnTo>
                <a:lnTo>
                  <a:pt x="2014" y="8419"/>
                </a:lnTo>
                <a:lnTo>
                  <a:pt x="1928" y="8421"/>
                </a:lnTo>
                <a:lnTo>
                  <a:pt x="1915" y="8432"/>
                </a:lnTo>
                <a:lnTo>
                  <a:pt x="1829" y="8359"/>
                </a:lnTo>
                <a:lnTo>
                  <a:pt x="1773" y="8380"/>
                </a:lnTo>
                <a:lnTo>
                  <a:pt x="1679" y="8385"/>
                </a:lnTo>
                <a:lnTo>
                  <a:pt x="1656" y="8395"/>
                </a:lnTo>
                <a:lnTo>
                  <a:pt x="1640" y="8391"/>
                </a:lnTo>
                <a:lnTo>
                  <a:pt x="1617" y="8424"/>
                </a:lnTo>
                <a:lnTo>
                  <a:pt x="1584" y="8438"/>
                </a:lnTo>
                <a:lnTo>
                  <a:pt x="1537" y="8428"/>
                </a:lnTo>
                <a:lnTo>
                  <a:pt x="1443" y="8497"/>
                </a:lnTo>
                <a:lnTo>
                  <a:pt x="1331" y="8464"/>
                </a:lnTo>
                <a:lnTo>
                  <a:pt x="1279" y="8451"/>
                </a:lnTo>
                <a:lnTo>
                  <a:pt x="1255" y="8458"/>
                </a:lnTo>
                <a:lnTo>
                  <a:pt x="1184" y="8419"/>
                </a:lnTo>
                <a:lnTo>
                  <a:pt x="1152" y="8447"/>
                </a:lnTo>
                <a:lnTo>
                  <a:pt x="1127" y="8424"/>
                </a:lnTo>
                <a:lnTo>
                  <a:pt x="1083" y="8452"/>
                </a:lnTo>
                <a:lnTo>
                  <a:pt x="1079" y="8444"/>
                </a:lnTo>
                <a:lnTo>
                  <a:pt x="1102" y="8386"/>
                </a:lnTo>
                <a:lnTo>
                  <a:pt x="1124" y="8382"/>
                </a:lnTo>
                <a:lnTo>
                  <a:pt x="1137" y="8406"/>
                </a:lnTo>
                <a:lnTo>
                  <a:pt x="1174" y="8406"/>
                </a:lnTo>
                <a:lnTo>
                  <a:pt x="1170" y="8360"/>
                </a:lnTo>
                <a:lnTo>
                  <a:pt x="1188" y="8357"/>
                </a:lnTo>
                <a:lnTo>
                  <a:pt x="1157" y="8278"/>
                </a:lnTo>
                <a:lnTo>
                  <a:pt x="1132" y="8280"/>
                </a:lnTo>
                <a:lnTo>
                  <a:pt x="1150" y="8254"/>
                </a:lnTo>
                <a:lnTo>
                  <a:pt x="1138" y="8206"/>
                </a:lnTo>
                <a:lnTo>
                  <a:pt x="1186" y="8172"/>
                </a:lnTo>
                <a:lnTo>
                  <a:pt x="1237" y="8119"/>
                </a:lnTo>
                <a:lnTo>
                  <a:pt x="1243" y="8103"/>
                </a:lnTo>
                <a:lnTo>
                  <a:pt x="1234" y="8055"/>
                </a:lnTo>
                <a:lnTo>
                  <a:pt x="1219" y="8028"/>
                </a:lnTo>
                <a:lnTo>
                  <a:pt x="1197" y="8017"/>
                </a:lnTo>
                <a:lnTo>
                  <a:pt x="1183" y="8027"/>
                </a:lnTo>
                <a:lnTo>
                  <a:pt x="1174" y="8018"/>
                </a:lnTo>
                <a:lnTo>
                  <a:pt x="1174" y="7992"/>
                </a:lnTo>
                <a:lnTo>
                  <a:pt x="1155" y="8004"/>
                </a:lnTo>
                <a:lnTo>
                  <a:pt x="1138" y="7986"/>
                </a:lnTo>
                <a:lnTo>
                  <a:pt x="1158" y="7929"/>
                </a:lnTo>
                <a:lnTo>
                  <a:pt x="1137" y="7876"/>
                </a:lnTo>
                <a:lnTo>
                  <a:pt x="1118" y="7855"/>
                </a:lnTo>
                <a:lnTo>
                  <a:pt x="1089" y="7871"/>
                </a:lnTo>
                <a:lnTo>
                  <a:pt x="1072" y="7819"/>
                </a:lnTo>
                <a:lnTo>
                  <a:pt x="1068" y="7782"/>
                </a:lnTo>
                <a:lnTo>
                  <a:pt x="1032" y="7716"/>
                </a:lnTo>
                <a:lnTo>
                  <a:pt x="983" y="7599"/>
                </a:lnTo>
                <a:lnTo>
                  <a:pt x="939" y="7543"/>
                </a:lnTo>
                <a:lnTo>
                  <a:pt x="909" y="7468"/>
                </a:lnTo>
                <a:lnTo>
                  <a:pt x="889" y="7389"/>
                </a:lnTo>
                <a:lnTo>
                  <a:pt x="870" y="7353"/>
                </a:lnTo>
                <a:lnTo>
                  <a:pt x="839" y="7325"/>
                </a:lnTo>
                <a:lnTo>
                  <a:pt x="906" y="7335"/>
                </a:lnTo>
                <a:lnTo>
                  <a:pt x="975" y="7372"/>
                </a:lnTo>
                <a:lnTo>
                  <a:pt x="988" y="7401"/>
                </a:lnTo>
                <a:lnTo>
                  <a:pt x="1001" y="7417"/>
                </a:lnTo>
                <a:lnTo>
                  <a:pt x="1023" y="7404"/>
                </a:lnTo>
                <a:lnTo>
                  <a:pt x="1052" y="7417"/>
                </a:lnTo>
                <a:lnTo>
                  <a:pt x="1060" y="7408"/>
                </a:lnTo>
                <a:lnTo>
                  <a:pt x="1079" y="7391"/>
                </a:lnTo>
                <a:lnTo>
                  <a:pt x="1089" y="7348"/>
                </a:lnTo>
                <a:lnTo>
                  <a:pt x="1047" y="7310"/>
                </a:lnTo>
                <a:lnTo>
                  <a:pt x="1024" y="7243"/>
                </a:lnTo>
                <a:lnTo>
                  <a:pt x="1003" y="7235"/>
                </a:lnTo>
                <a:lnTo>
                  <a:pt x="987" y="7214"/>
                </a:lnTo>
                <a:lnTo>
                  <a:pt x="951" y="7210"/>
                </a:lnTo>
                <a:lnTo>
                  <a:pt x="950" y="7165"/>
                </a:lnTo>
                <a:lnTo>
                  <a:pt x="968" y="7132"/>
                </a:lnTo>
                <a:lnTo>
                  <a:pt x="1016" y="7109"/>
                </a:lnTo>
                <a:lnTo>
                  <a:pt x="1086" y="7151"/>
                </a:lnTo>
                <a:lnTo>
                  <a:pt x="1115" y="7146"/>
                </a:lnTo>
                <a:lnTo>
                  <a:pt x="1128" y="7126"/>
                </a:lnTo>
                <a:lnTo>
                  <a:pt x="1148" y="7096"/>
                </a:lnTo>
                <a:lnTo>
                  <a:pt x="1154" y="6985"/>
                </a:lnTo>
                <a:lnTo>
                  <a:pt x="1144" y="6965"/>
                </a:lnTo>
                <a:lnTo>
                  <a:pt x="1116" y="6890"/>
                </a:lnTo>
                <a:lnTo>
                  <a:pt x="1092" y="6876"/>
                </a:lnTo>
                <a:lnTo>
                  <a:pt x="1049" y="6897"/>
                </a:lnTo>
                <a:lnTo>
                  <a:pt x="1023" y="6903"/>
                </a:lnTo>
                <a:lnTo>
                  <a:pt x="1010" y="6851"/>
                </a:lnTo>
                <a:lnTo>
                  <a:pt x="981" y="6849"/>
                </a:lnTo>
                <a:lnTo>
                  <a:pt x="984" y="6817"/>
                </a:lnTo>
                <a:lnTo>
                  <a:pt x="967" y="6803"/>
                </a:lnTo>
                <a:lnTo>
                  <a:pt x="950" y="6764"/>
                </a:lnTo>
                <a:lnTo>
                  <a:pt x="935" y="6713"/>
                </a:lnTo>
                <a:lnTo>
                  <a:pt x="939" y="6696"/>
                </a:lnTo>
                <a:lnTo>
                  <a:pt x="919" y="6656"/>
                </a:lnTo>
                <a:lnTo>
                  <a:pt x="899" y="6659"/>
                </a:lnTo>
                <a:lnTo>
                  <a:pt x="862" y="6598"/>
                </a:lnTo>
                <a:lnTo>
                  <a:pt x="826" y="6593"/>
                </a:lnTo>
                <a:lnTo>
                  <a:pt x="778" y="6567"/>
                </a:lnTo>
                <a:lnTo>
                  <a:pt x="773" y="6492"/>
                </a:lnTo>
                <a:lnTo>
                  <a:pt x="770" y="6456"/>
                </a:lnTo>
                <a:lnTo>
                  <a:pt x="719" y="6388"/>
                </a:lnTo>
                <a:lnTo>
                  <a:pt x="699" y="6341"/>
                </a:lnTo>
                <a:lnTo>
                  <a:pt x="675" y="6331"/>
                </a:lnTo>
                <a:lnTo>
                  <a:pt x="686" y="6308"/>
                </a:lnTo>
                <a:lnTo>
                  <a:pt x="659" y="6206"/>
                </a:lnTo>
                <a:lnTo>
                  <a:pt x="606" y="6177"/>
                </a:lnTo>
                <a:lnTo>
                  <a:pt x="607" y="6155"/>
                </a:lnTo>
                <a:lnTo>
                  <a:pt x="629" y="6122"/>
                </a:lnTo>
                <a:lnTo>
                  <a:pt x="645" y="6122"/>
                </a:lnTo>
                <a:lnTo>
                  <a:pt x="645" y="6059"/>
                </a:lnTo>
                <a:lnTo>
                  <a:pt x="591" y="6057"/>
                </a:lnTo>
                <a:lnTo>
                  <a:pt x="610" y="6019"/>
                </a:lnTo>
                <a:lnTo>
                  <a:pt x="620" y="5986"/>
                </a:lnTo>
                <a:lnTo>
                  <a:pt x="598" y="5987"/>
                </a:lnTo>
                <a:lnTo>
                  <a:pt x="604" y="5971"/>
                </a:lnTo>
                <a:lnTo>
                  <a:pt x="590" y="5914"/>
                </a:lnTo>
                <a:lnTo>
                  <a:pt x="565" y="5967"/>
                </a:lnTo>
                <a:lnTo>
                  <a:pt x="560" y="5987"/>
                </a:lnTo>
                <a:lnTo>
                  <a:pt x="558" y="6039"/>
                </a:lnTo>
                <a:lnTo>
                  <a:pt x="532" y="6016"/>
                </a:lnTo>
                <a:lnTo>
                  <a:pt x="512" y="6036"/>
                </a:lnTo>
                <a:lnTo>
                  <a:pt x="511" y="5987"/>
                </a:lnTo>
                <a:lnTo>
                  <a:pt x="489" y="5994"/>
                </a:lnTo>
                <a:lnTo>
                  <a:pt x="479" y="5922"/>
                </a:lnTo>
                <a:lnTo>
                  <a:pt x="502" y="5827"/>
                </a:lnTo>
                <a:lnTo>
                  <a:pt x="504" y="5786"/>
                </a:lnTo>
                <a:lnTo>
                  <a:pt x="504" y="5709"/>
                </a:lnTo>
                <a:lnTo>
                  <a:pt x="493" y="5689"/>
                </a:lnTo>
                <a:lnTo>
                  <a:pt x="475" y="5725"/>
                </a:lnTo>
                <a:lnTo>
                  <a:pt x="465" y="5683"/>
                </a:lnTo>
                <a:lnTo>
                  <a:pt x="445" y="5672"/>
                </a:lnTo>
                <a:lnTo>
                  <a:pt x="447" y="5640"/>
                </a:lnTo>
                <a:lnTo>
                  <a:pt x="532" y="5589"/>
                </a:lnTo>
                <a:lnTo>
                  <a:pt x="462" y="5624"/>
                </a:lnTo>
                <a:lnTo>
                  <a:pt x="424" y="5607"/>
                </a:lnTo>
                <a:lnTo>
                  <a:pt x="358" y="5610"/>
                </a:lnTo>
                <a:lnTo>
                  <a:pt x="378" y="5548"/>
                </a:lnTo>
                <a:lnTo>
                  <a:pt x="429" y="5537"/>
                </a:lnTo>
                <a:lnTo>
                  <a:pt x="450" y="5496"/>
                </a:lnTo>
                <a:lnTo>
                  <a:pt x="377" y="5509"/>
                </a:lnTo>
                <a:lnTo>
                  <a:pt x="367" y="5462"/>
                </a:lnTo>
                <a:lnTo>
                  <a:pt x="355" y="5445"/>
                </a:lnTo>
                <a:lnTo>
                  <a:pt x="363" y="5399"/>
                </a:lnTo>
                <a:lnTo>
                  <a:pt x="365" y="5377"/>
                </a:lnTo>
                <a:lnTo>
                  <a:pt x="407" y="5368"/>
                </a:lnTo>
                <a:lnTo>
                  <a:pt x="409" y="5338"/>
                </a:lnTo>
                <a:lnTo>
                  <a:pt x="386" y="5332"/>
                </a:lnTo>
                <a:lnTo>
                  <a:pt x="430" y="5245"/>
                </a:lnTo>
                <a:lnTo>
                  <a:pt x="436" y="5169"/>
                </a:lnTo>
                <a:lnTo>
                  <a:pt x="447" y="5094"/>
                </a:lnTo>
                <a:lnTo>
                  <a:pt x="463" y="5035"/>
                </a:lnTo>
                <a:lnTo>
                  <a:pt x="466" y="4970"/>
                </a:lnTo>
                <a:lnTo>
                  <a:pt x="457" y="4928"/>
                </a:lnTo>
                <a:lnTo>
                  <a:pt x="436" y="4915"/>
                </a:lnTo>
                <a:lnTo>
                  <a:pt x="447" y="4879"/>
                </a:lnTo>
                <a:lnTo>
                  <a:pt x="505" y="4845"/>
                </a:lnTo>
                <a:lnTo>
                  <a:pt x="433" y="4871"/>
                </a:lnTo>
                <a:lnTo>
                  <a:pt x="365" y="4861"/>
                </a:lnTo>
                <a:lnTo>
                  <a:pt x="325" y="4931"/>
                </a:lnTo>
                <a:lnTo>
                  <a:pt x="272" y="4957"/>
                </a:lnTo>
                <a:lnTo>
                  <a:pt x="247" y="4956"/>
                </a:lnTo>
                <a:lnTo>
                  <a:pt x="283" y="4845"/>
                </a:lnTo>
                <a:lnTo>
                  <a:pt x="351" y="4740"/>
                </a:lnTo>
                <a:lnTo>
                  <a:pt x="308" y="4769"/>
                </a:lnTo>
                <a:lnTo>
                  <a:pt x="283" y="4691"/>
                </a:lnTo>
                <a:lnTo>
                  <a:pt x="265" y="4846"/>
                </a:lnTo>
                <a:lnTo>
                  <a:pt x="224" y="4895"/>
                </a:lnTo>
                <a:lnTo>
                  <a:pt x="174" y="4888"/>
                </a:lnTo>
                <a:lnTo>
                  <a:pt x="203" y="4792"/>
                </a:lnTo>
                <a:lnTo>
                  <a:pt x="145" y="4846"/>
                </a:lnTo>
                <a:lnTo>
                  <a:pt x="174" y="4784"/>
                </a:lnTo>
                <a:lnTo>
                  <a:pt x="135" y="4823"/>
                </a:lnTo>
                <a:lnTo>
                  <a:pt x="68" y="4841"/>
                </a:lnTo>
                <a:lnTo>
                  <a:pt x="72" y="4734"/>
                </a:lnTo>
                <a:lnTo>
                  <a:pt x="151" y="4687"/>
                </a:lnTo>
                <a:lnTo>
                  <a:pt x="121" y="4688"/>
                </a:lnTo>
                <a:lnTo>
                  <a:pt x="85" y="4638"/>
                </a:lnTo>
                <a:lnTo>
                  <a:pt x="89" y="4592"/>
                </a:lnTo>
                <a:lnTo>
                  <a:pt x="116" y="4572"/>
                </a:lnTo>
                <a:lnTo>
                  <a:pt x="92" y="4474"/>
                </a:lnTo>
                <a:lnTo>
                  <a:pt x="65" y="4421"/>
                </a:lnTo>
                <a:lnTo>
                  <a:pt x="27" y="4396"/>
                </a:lnTo>
                <a:lnTo>
                  <a:pt x="40" y="4307"/>
                </a:lnTo>
                <a:lnTo>
                  <a:pt x="56" y="4221"/>
                </a:lnTo>
                <a:lnTo>
                  <a:pt x="36" y="4149"/>
                </a:lnTo>
                <a:lnTo>
                  <a:pt x="0" y="4118"/>
                </a:lnTo>
                <a:lnTo>
                  <a:pt x="3" y="4062"/>
                </a:lnTo>
                <a:lnTo>
                  <a:pt x="29" y="3998"/>
                </a:lnTo>
                <a:lnTo>
                  <a:pt x="138" y="3930"/>
                </a:lnTo>
                <a:lnTo>
                  <a:pt x="184" y="4002"/>
                </a:lnTo>
                <a:lnTo>
                  <a:pt x="220" y="4153"/>
                </a:lnTo>
                <a:lnTo>
                  <a:pt x="230" y="4199"/>
                </a:lnTo>
                <a:lnTo>
                  <a:pt x="272" y="4206"/>
                </a:lnTo>
                <a:lnTo>
                  <a:pt x="328" y="4159"/>
                </a:lnTo>
                <a:lnTo>
                  <a:pt x="377" y="4028"/>
                </a:lnTo>
                <a:lnTo>
                  <a:pt x="423" y="3906"/>
                </a:lnTo>
                <a:lnTo>
                  <a:pt x="426" y="3878"/>
                </a:lnTo>
                <a:lnTo>
                  <a:pt x="447" y="3690"/>
                </a:lnTo>
                <a:lnTo>
                  <a:pt x="406" y="3523"/>
                </a:lnTo>
                <a:lnTo>
                  <a:pt x="368" y="3340"/>
                </a:lnTo>
                <a:lnTo>
                  <a:pt x="462" y="3278"/>
                </a:lnTo>
                <a:lnTo>
                  <a:pt x="516" y="3232"/>
                </a:lnTo>
                <a:lnTo>
                  <a:pt x="524" y="3179"/>
                </a:lnTo>
                <a:lnTo>
                  <a:pt x="512" y="3138"/>
                </a:lnTo>
                <a:lnTo>
                  <a:pt x="506" y="3104"/>
                </a:lnTo>
                <a:lnTo>
                  <a:pt x="478" y="3080"/>
                </a:lnTo>
                <a:lnTo>
                  <a:pt x="476" y="3063"/>
                </a:lnTo>
                <a:lnTo>
                  <a:pt x="555" y="3008"/>
                </a:lnTo>
                <a:lnTo>
                  <a:pt x="640" y="3005"/>
                </a:lnTo>
                <a:lnTo>
                  <a:pt x="663" y="3008"/>
                </a:lnTo>
                <a:lnTo>
                  <a:pt x="706" y="2994"/>
                </a:lnTo>
                <a:lnTo>
                  <a:pt x="767" y="2933"/>
                </a:lnTo>
                <a:lnTo>
                  <a:pt x="820" y="2860"/>
                </a:lnTo>
                <a:lnTo>
                  <a:pt x="868" y="2738"/>
                </a:lnTo>
                <a:lnTo>
                  <a:pt x="886" y="2640"/>
                </a:lnTo>
                <a:lnTo>
                  <a:pt x="865" y="2507"/>
                </a:lnTo>
                <a:lnTo>
                  <a:pt x="892" y="2451"/>
                </a:lnTo>
                <a:lnTo>
                  <a:pt x="929" y="2392"/>
                </a:lnTo>
                <a:lnTo>
                  <a:pt x="929" y="2313"/>
                </a:lnTo>
                <a:lnTo>
                  <a:pt x="924" y="2241"/>
                </a:lnTo>
                <a:lnTo>
                  <a:pt x="896" y="2190"/>
                </a:lnTo>
                <a:lnTo>
                  <a:pt x="868" y="2152"/>
                </a:lnTo>
                <a:lnTo>
                  <a:pt x="868" y="2099"/>
                </a:lnTo>
                <a:lnTo>
                  <a:pt x="813" y="2017"/>
                </a:lnTo>
                <a:lnTo>
                  <a:pt x="787" y="1941"/>
                </a:lnTo>
                <a:lnTo>
                  <a:pt x="765" y="1857"/>
                </a:lnTo>
                <a:lnTo>
                  <a:pt x="741" y="1784"/>
                </a:lnTo>
                <a:lnTo>
                  <a:pt x="721" y="1721"/>
                </a:lnTo>
                <a:lnTo>
                  <a:pt x="693" y="1655"/>
                </a:lnTo>
                <a:lnTo>
                  <a:pt x="775" y="1636"/>
                </a:lnTo>
                <a:lnTo>
                  <a:pt x="827" y="1620"/>
                </a:lnTo>
                <a:lnTo>
                  <a:pt x="886" y="1621"/>
                </a:lnTo>
                <a:lnTo>
                  <a:pt x="934" y="1613"/>
                </a:lnTo>
                <a:lnTo>
                  <a:pt x="950" y="1514"/>
                </a:lnTo>
                <a:lnTo>
                  <a:pt x="1017" y="1400"/>
                </a:lnTo>
                <a:lnTo>
                  <a:pt x="1036" y="1365"/>
                </a:lnTo>
                <a:lnTo>
                  <a:pt x="1020" y="1318"/>
                </a:lnTo>
                <a:lnTo>
                  <a:pt x="1043" y="1243"/>
                </a:lnTo>
                <a:lnTo>
                  <a:pt x="878" y="1003"/>
                </a:lnTo>
                <a:lnTo>
                  <a:pt x="797" y="1009"/>
                </a:lnTo>
                <a:lnTo>
                  <a:pt x="627" y="838"/>
                </a:lnTo>
                <a:lnTo>
                  <a:pt x="682" y="374"/>
                </a:lnTo>
                <a:lnTo>
                  <a:pt x="676" y="351"/>
                </a:lnTo>
                <a:lnTo>
                  <a:pt x="699" y="159"/>
                </a:lnTo>
                <a:lnTo>
                  <a:pt x="681" y="88"/>
                </a:lnTo>
                <a:lnTo>
                  <a:pt x="678" y="49"/>
                </a:lnTo>
                <a:lnTo>
                  <a:pt x="656" y="0"/>
                </a:lnTo>
                <a:lnTo>
                  <a:pt x="3597" y="0"/>
                </a:lnTo>
                <a:lnTo>
                  <a:pt x="3598" y="39"/>
                </a:lnTo>
                <a:lnTo>
                  <a:pt x="3616" y="13"/>
                </a:lnTo>
                <a:lnTo>
                  <a:pt x="3630" y="22"/>
                </a:lnTo>
                <a:lnTo>
                  <a:pt x="3649" y="38"/>
                </a:lnTo>
                <a:lnTo>
                  <a:pt x="3642" y="58"/>
                </a:lnTo>
                <a:lnTo>
                  <a:pt x="3666" y="74"/>
                </a:lnTo>
                <a:lnTo>
                  <a:pt x="3649" y="95"/>
                </a:lnTo>
                <a:lnTo>
                  <a:pt x="3703" y="95"/>
                </a:lnTo>
                <a:lnTo>
                  <a:pt x="3724" y="100"/>
                </a:lnTo>
                <a:lnTo>
                  <a:pt x="3765" y="110"/>
                </a:lnTo>
                <a:lnTo>
                  <a:pt x="3732" y="151"/>
                </a:lnTo>
                <a:lnTo>
                  <a:pt x="3701" y="163"/>
                </a:lnTo>
                <a:lnTo>
                  <a:pt x="3693" y="146"/>
                </a:lnTo>
                <a:lnTo>
                  <a:pt x="3711" y="136"/>
                </a:lnTo>
                <a:lnTo>
                  <a:pt x="3708" y="126"/>
                </a:lnTo>
                <a:lnTo>
                  <a:pt x="3673" y="127"/>
                </a:lnTo>
                <a:lnTo>
                  <a:pt x="3685" y="167"/>
                </a:lnTo>
                <a:lnTo>
                  <a:pt x="3701" y="183"/>
                </a:lnTo>
                <a:lnTo>
                  <a:pt x="3705" y="197"/>
                </a:lnTo>
                <a:lnTo>
                  <a:pt x="3688" y="199"/>
                </a:lnTo>
                <a:lnTo>
                  <a:pt x="3683" y="2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2560" y="166680"/>
            <a:ext cx="230040" cy="1023840"/>
          </a:xfrm>
          <a:custGeom>
            <a:avLst/>
            <a:gdLst/>
            <a:ahLst/>
            <a:rect l="l" t="t" r="r" b="b"/>
            <a:pathLst>
              <a:path w="435" h="1936">
                <a:moveTo>
                  <a:pt x="171" y="0"/>
                </a:moveTo>
                <a:lnTo>
                  <a:pt x="148" y="147"/>
                </a:lnTo>
                <a:lnTo>
                  <a:pt x="130" y="155"/>
                </a:lnTo>
                <a:lnTo>
                  <a:pt x="150" y="170"/>
                </a:lnTo>
                <a:lnTo>
                  <a:pt x="150" y="185"/>
                </a:lnTo>
                <a:lnTo>
                  <a:pt x="127" y="194"/>
                </a:lnTo>
                <a:lnTo>
                  <a:pt x="124" y="229"/>
                </a:lnTo>
                <a:lnTo>
                  <a:pt x="96" y="236"/>
                </a:lnTo>
                <a:lnTo>
                  <a:pt x="108" y="288"/>
                </a:lnTo>
                <a:lnTo>
                  <a:pt x="115" y="324"/>
                </a:lnTo>
                <a:lnTo>
                  <a:pt x="118" y="336"/>
                </a:lnTo>
                <a:lnTo>
                  <a:pt x="99" y="357"/>
                </a:lnTo>
                <a:lnTo>
                  <a:pt x="105" y="372"/>
                </a:lnTo>
                <a:lnTo>
                  <a:pt x="109" y="398"/>
                </a:lnTo>
                <a:lnTo>
                  <a:pt x="144" y="408"/>
                </a:lnTo>
                <a:lnTo>
                  <a:pt x="140" y="427"/>
                </a:lnTo>
                <a:lnTo>
                  <a:pt x="124" y="447"/>
                </a:lnTo>
                <a:lnTo>
                  <a:pt x="132" y="462"/>
                </a:lnTo>
                <a:lnTo>
                  <a:pt x="141" y="518"/>
                </a:lnTo>
                <a:lnTo>
                  <a:pt x="164" y="506"/>
                </a:lnTo>
                <a:lnTo>
                  <a:pt x="207" y="516"/>
                </a:lnTo>
                <a:lnTo>
                  <a:pt x="219" y="528"/>
                </a:lnTo>
                <a:lnTo>
                  <a:pt x="217" y="557"/>
                </a:lnTo>
                <a:lnTo>
                  <a:pt x="200" y="598"/>
                </a:lnTo>
                <a:lnTo>
                  <a:pt x="193" y="624"/>
                </a:lnTo>
                <a:lnTo>
                  <a:pt x="168" y="631"/>
                </a:lnTo>
                <a:lnTo>
                  <a:pt x="154" y="598"/>
                </a:lnTo>
                <a:lnTo>
                  <a:pt x="137" y="565"/>
                </a:lnTo>
                <a:lnTo>
                  <a:pt x="115" y="575"/>
                </a:lnTo>
                <a:lnTo>
                  <a:pt x="85" y="580"/>
                </a:lnTo>
                <a:lnTo>
                  <a:pt x="62" y="598"/>
                </a:lnTo>
                <a:lnTo>
                  <a:pt x="58" y="624"/>
                </a:lnTo>
                <a:lnTo>
                  <a:pt x="66" y="649"/>
                </a:lnTo>
                <a:lnTo>
                  <a:pt x="55" y="670"/>
                </a:lnTo>
                <a:lnTo>
                  <a:pt x="37" y="680"/>
                </a:lnTo>
                <a:lnTo>
                  <a:pt x="29" y="700"/>
                </a:lnTo>
                <a:lnTo>
                  <a:pt x="36" y="722"/>
                </a:lnTo>
                <a:lnTo>
                  <a:pt x="56" y="732"/>
                </a:lnTo>
                <a:lnTo>
                  <a:pt x="45" y="748"/>
                </a:lnTo>
                <a:lnTo>
                  <a:pt x="30" y="764"/>
                </a:lnTo>
                <a:lnTo>
                  <a:pt x="19" y="782"/>
                </a:lnTo>
                <a:lnTo>
                  <a:pt x="26" y="798"/>
                </a:lnTo>
                <a:lnTo>
                  <a:pt x="25" y="827"/>
                </a:lnTo>
                <a:lnTo>
                  <a:pt x="23" y="850"/>
                </a:lnTo>
                <a:lnTo>
                  <a:pt x="40" y="863"/>
                </a:lnTo>
                <a:lnTo>
                  <a:pt x="63" y="846"/>
                </a:lnTo>
                <a:lnTo>
                  <a:pt x="69" y="869"/>
                </a:lnTo>
                <a:lnTo>
                  <a:pt x="53" y="890"/>
                </a:lnTo>
                <a:lnTo>
                  <a:pt x="33" y="899"/>
                </a:lnTo>
                <a:lnTo>
                  <a:pt x="10" y="899"/>
                </a:lnTo>
                <a:lnTo>
                  <a:pt x="0" y="925"/>
                </a:lnTo>
                <a:lnTo>
                  <a:pt x="19" y="939"/>
                </a:lnTo>
                <a:lnTo>
                  <a:pt x="23" y="964"/>
                </a:lnTo>
                <a:lnTo>
                  <a:pt x="45" y="994"/>
                </a:lnTo>
                <a:lnTo>
                  <a:pt x="71" y="1004"/>
                </a:lnTo>
                <a:lnTo>
                  <a:pt x="86" y="1010"/>
                </a:lnTo>
                <a:lnTo>
                  <a:pt x="96" y="1034"/>
                </a:lnTo>
                <a:lnTo>
                  <a:pt x="107" y="1050"/>
                </a:lnTo>
                <a:lnTo>
                  <a:pt x="66" y="1051"/>
                </a:lnTo>
                <a:lnTo>
                  <a:pt x="59" y="1070"/>
                </a:lnTo>
                <a:lnTo>
                  <a:pt x="68" y="1099"/>
                </a:lnTo>
                <a:lnTo>
                  <a:pt x="76" y="1122"/>
                </a:lnTo>
                <a:lnTo>
                  <a:pt x="61" y="1129"/>
                </a:lnTo>
                <a:lnTo>
                  <a:pt x="65" y="1155"/>
                </a:lnTo>
                <a:lnTo>
                  <a:pt x="72" y="1166"/>
                </a:lnTo>
                <a:lnTo>
                  <a:pt x="63" y="1185"/>
                </a:lnTo>
                <a:lnTo>
                  <a:pt x="59" y="1194"/>
                </a:lnTo>
                <a:lnTo>
                  <a:pt x="65" y="1210"/>
                </a:lnTo>
                <a:lnTo>
                  <a:pt x="68" y="1233"/>
                </a:lnTo>
                <a:lnTo>
                  <a:pt x="73" y="1260"/>
                </a:lnTo>
                <a:lnTo>
                  <a:pt x="69" y="1310"/>
                </a:lnTo>
                <a:lnTo>
                  <a:pt x="62" y="1343"/>
                </a:lnTo>
                <a:lnTo>
                  <a:pt x="55" y="1372"/>
                </a:lnTo>
                <a:lnTo>
                  <a:pt x="98" y="1375"/>
                </a:lnTo>
                <a:lnTo>
                  <a:pt x="98" y="1391"/>
                </a:lnTo>
                <a:lnTo>
                  <a:pt x="79" y="1394"/>
                </a:lnTo>
                <a:lnTo>
                  <a:pt x="65" y="1418"/>
                </a:lnTo>
                <a:lnTo>
                  <a:pt x="61" y="1438"/>
                </a:lnTo>
                <a:lnTo>
                  <a:pt x="82" y="1444"/>
                </a:lnTo>
                <a:lnTo>
                  <a:pt x="95" y="1476"/>
                </a:lnTo>
                <a:lnTo>
                  <a:pt x="104" y="1504"/>
                </a:lnTo>
                <a:lnTo>
                  <a:pt x="125" y="1499"/>
                </a:lnTo>
                <a:lnTo>
                  <a:pt x="144" y="1535"/>
                </a:lnTo>
                <a:lnTo>
                  <a:pt x="164" y="1555"/>
                </a:lnTo>
                <a:lnTo>
                  <a:pt x="144" y="1584"/>
                </a:lnTo>
                <a:lnTo>
                  <a:pt x="128" y="1607"/>
                </a:lnTo>
                <a:lnTo>
                  <a:pt x="161" y="1597"/>
                </a:lnTo>
                <a:lnTo>
                  <a:pt x="161" y="1627"/>
                </a:lnTo>
                <a:lnTo>
                  <a:pt x="161" y="1648"/>
                </a:lnTo>
                <a:lnTo>
                  <a:pt x="186" y="1641"/>
                </a:lnTo>
                <a:lnTo>
                  <a:pt x="196" y="1663"/>
                </a:lnTo>
                <a:lnTo>
                  <a:pt x="168" y="1694"/>
                </a:lnTo>
                <a:lnTo>
                  <a:pt x="147" y="1723"/>
                </a:lnTo>
                <a:lnTo>
                  <a:pt x="118" y="1753"/>
                </a:lnTo>
                <a:lnTo>
                  <a:pt x="160" y="1755"/>
                </a:lnTo>
                <a:lnTo>
                  <a:pt x="186" y="1773"/>
                </a:lnTo>
                <a:lnTo>
                  <a:pt x="209" y="1778"/>
                </a:lnTo>
                <a:lnTo>
                  <a:pt x="230" y="1782"/>
                </a:lnTo>
                <a:lnTo>
                  <a:pt x="269" y="1775"/>
                </a:lnTo>
                <a:lnTo>
                  <a:pt x="319" y="1758"/>
                </a:lnTo>
                <a:lnTo>
                  <a:pt x="354" y="1766"/>
                </a:lnTo>
                <a:lnTo>
                  <a:pt x="361" y="1814"/>
                </a:lnTo>
                <a:lnTo>
                  <a:pt x="368" y="1835"/>
                </a:lnTo>
                <a:lnTo>
                  <a:pt x="353" y="1858"/>
                </a:lnTo>
                <a:lnTo>
                  <a:pt x="373" y="1897"/>
                </a:lnTo>
                <a:lnTo>
                  <a:pt x="406" y="1936"/>
                </a:lnTo>
                <a:lnTo>
                  <a:pt x="435" y="19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0240" y="1938240"/>
            <a:ext cx="578160" cy="665280"/>
          </a:xfrm>
          <a:custGeom>
            <a:avLst/>
            <a:gdLst/>
            <a:ahLst/>
            <a:rect l="l" t="t" r="r" b="b"/>
            <a:pathLst>
              <a:path w="1092" h="1256">
                <a:moveTo>
                  <a:pt x="280" y="453"/>
                </a:moveTo>
                <a:lnTo>
                  <a:pt x="228" y="505"/>
                </a:lnTo>
                <a:lnTo>
                  <a:pt x="208" y="565"/>
                </a:lnTo>
                <a:lnTo>
                  <a:pt x="190" y="631"/>
                </a:lnTo>
                <a:lnTo>
                  <a:pt x="204" y="662"/>
                </a:lnTo>
                <a:lnTo>
                  <a:pt x="171" y="709"/>
                </a:lnTo>
                <a:lnTo>
                  <a:pt x="131" y="713"/>
                </a:lnTo>
                <a:lnTo>
                  <a:pt x="103" y="833"/>
                </a:lnTo>
                <a:lnTo>
                  <a:pt x="161" y="920"/>
                </a:lnTo>
                <a:lnTo>
                  <a:pt x="204" y="909"/>
                </a:lnTo>
                <a:lnTo>
                  <a:pt x="218" y="926"/>
                </a:lnTo>
                <a:lnTo>
                  <a:pt x="181" y="977"/>
                </a:lnTo>
                <a:lnTo>
                  <a:pt x="141" y="1036"/>
                </a:lnTo>
                <a:lnTo>
                  <a:pt x="90" y="1109"/>
                </a:lnTo>
                <a:lnTo>
                  <a:pt x="26" y="1155"/>
                </a:lnTo>
                <a:lnTo>
                  <a:pt x="10" y="1192"/>
                </a:lnTo>
                <a:lnTo>
                  <a:pt x="0" y="1224"/>
                </a:lnTo>
                <a:lnTo>
                  <a:pt x="28" y="1238"/>
                </a:lnTo>
                <a:lnTo>
                  <a:pt x="96" y="1211"/>
                </a:lnTo>
                <a:lnTo>
                  <a:pt x="135" y="1178"/>
                </a:lnTo>
                <a:lnTo>
                  <a:pt x="190" y="1118"/>
                </a:lnTo>
                <a:lnTo>
                  <a:pt x="181" y="1192"/>
                </a:lnTo>
                <a:lnTo>
                  <a:pt x="126" y="1235"/>
                </a:lnTo>
                <a:lnTo>
                  <a:pt x="144" y="1256"/>
                </a:lnTo>
                <a:lnTo>
                  <a:pt x="208" y="1237"/>
                </a:lnTo>
                <a:lnTo>
                  <a:pt x="236" y="1174"/>
                </a:lnTo>
                <a:lnTo>
                  <a:pt x="217" y="1151"/>
                </a:lnTo>
                <a:lnTo>
                  <a:pt x="282" y="1118"/>
                </a:lnTo>
                <a:lnTo>
                  <a:pt x="369" y="1087"/>
                </a:lnTo>
                <a:lnTo>
                  <a:pt x="394" y="1030"/>
                </a:lnTo>
                <a:lnTo>
                  <a:pt x="372" y="1005"/>
                </a:lnTo>
                <a:lnTo>
                  <a:pt x="407" y="1005"/>
                </a:lnTo>
                <a:lnTo>
                  <a:pt x="433" y="958"/>
                </a:lnTo>
                <a:lnTo>
                  <a:pt x="500" y="946"/>
                </a:lnTo>
                <a:lnTo>
                  <a:pt x="536" y="955"/>
                </a:lnTo>
                <a:lnTo>
                  <a:pt x="498" y="1047"/>
                </a:lnTo>
                <a:lnTo>
                  <a:pt x="561" y="1093"/>
                </a:lnTo>
                <a:lnTo>
                  <a:pt x="630" y="995"/>
                </a:lnTo>
                <a:lnTo>
                  <a:pt x="646" y="942"/>
                </a:lnTo>
                <a:lnTo>
                  <a:pt x="706" y="920"/>
                </a:lnTo>
                <a:lnTo>
                  <a:pt x="702" y="903"/>
                </a:lnTo>
                <a:lnTo>
                  <a:pt x="735" y="885"/>
                </a:lnTo>
                <a:lnTo>
                  <a:pt x="757" y="903"/>
                </a:lnTo>
                <a:lnTo>
                  <a:pt x="830" y="840"/>
                </a:lnTo>
                <a:lnTo>
                  <a:pt x="834" y="772"/>
                </a:lnTo>
                <a:lnTo>
                  <a:pt x="851" y="778"/>
                </a:lnTo>
                <a:lnTo>
                  <a:pt x="839" y="869"/>
                </a:lnTo>
                <a:lnTo>
                  <a:pt x="867" y="863"/>
                </a:lnTo>
                <a:lnTo>
                  <a:pt x="941" y="782"/>
                </a:lnTo>
                <a:lnTo>
                  <a:pt x="971" y="752"/>
                </a:lnTo>
                <a:lnTo>
                  <a:pt x="967" y="731"/>
                </a:lnTo>
                <a:lnTo>
                  <a:pt x="952" y="725"/>
                </a:lnTo>
                <a:lnTo>
                  <a:pt x="971" y="692"/>
                </a:lnTo>
                <a:lnTo>
                  <a:pt x="997" y="689"/>
                </a:lnTo>
                <a:lnTo>
                  <a:pt x="1003" y="657"/>
                </a:lnTo>
                <a:lnTo>
                  <a:pt x="1031" y="591"/>
                </a:lnTo>
                <a:lnTo>
                  <a:pt x="1047" y="528"/>
                </a:lnTo>
                <a:lnTo>
                  <a:pt x="1021" y="477"/>
                </a:lnTo>
                <a:lnTo>
                  <a:pt x="1031" y="456"/>
                </a:lnTo>
                <a:lnTo>
                  <a:pt x="1050" y="456"/>
                </a:lnTo>
                <a:lnTo>
                  <a:pt x="1080" y="413"/>
                </a:lnTo>
                <a:lnTo>
                  <a:pt x="1092" y="329"/>
                </a:lnTo>
                <a:lnTo>
                  <a:pt x="1070" y="319"/>
                </a:lnTo>
                <a:lnTo>
                  <a:pt x="1050" y="394"/>
                </a:lnTo>
                <a:lnTo>
                  <a:pt x="1011" y="421"/>
                </a:lnTo>
                <a:lnTo>
                  <a:pt x="992" y="355"/>
                </a:lnTo>
                <a:lnTo>
                  <a:pt x="1013" y="296"/>
                </a:lnTo>
                <a:lnTo>
                  <a:pt x="1047" y="236"/>
                </a:lnTo>
                <a:lnTo>
                  <a:pt x="1076" y="181"/>
                </a:lnTo>
                <a:lnTo>
                  <a:pt x="1057" y="126"/>
                </a:lnTo>
                <a:lnTo>
                  <a:pt x="1072" y="62"/>
                </a:lnTo>
                <a:lnTo>
                  <a:pt x="1030" y="128"/>
                </a:lnTo>
                <a:lnTo>
                  <a:pt x="1020" y="115"/>
                </a:lnTo>
                <a:lnTo>
                  <a:pt x="1017" y="55"/>
                </a:lnTo>
                <a:lnTo>
                  <a:pt x="1003" y="47"/>
                </a:lnTo>
                <a:lnTo>
                  <a:pt x="991" y="112"/>
                </a:lnTo>
                <a:lnTo>
                  <a:pt x="948" y="98"/>
                </a:lnTo>
                <a:lnTo>
                  <a:pt x="922" y="66"/>
                </a:lnTo>
                <a:lnTo>
                  <a:pt x="922" y="39"/>
                </a:lnTo>
                <a:lnTo>
                  <a:pt x="898" y="59"/>
                </a:lnTo>
                <a:lnTo>
                  <a:pt x="909" y="78"/>
                </a:lnTo>
                <a:lnTo>
                  <a:pt x="869" y="91"/>
                </a:lnTo>
                <a:lnTo>
                  <a:pt x="854" y="60"/>
                </a:lnTo>
                <a:lnTo>
                  <a:pt x="880" y="33"/>
                </a:lnTo>
                <a:lnTo>
                  <a:pt x="889" y="37"/>
                </a:lnTo>
                <a:lnTo>
                  <a:pt x="899" y="17"/>
                </a:lnTo>
                <a:lnTo>
                  <a:pt x="860" y="1"/>
                </a:lnTo>
                <a:lnTo>
                  <a:pt x="823" y="0"/>
                </a:lnTo>
                <a:lnTo>
                  <a:pt x="769" y="29"/>
                </a:lnTo>
                <a:lnTo>
                  <a:pt x="757" y="43"/>
                </a:lnTo>
                <a:lnTo>
                  <a:pt x="774" y="92"/>
                </a:lnTo>
                <a:lnTo>
                  <a:pt x="772" y="114"/>
                </a:lnTo>
                <a:lnTo>
                  <a:pt x="755" y="116"/>
                </a:lnTo>
                <a:lnTo>
                  <a:pt x="772" y="138"/>
                </a:lnTo>
                <a:lnTo>
                  <a:pt x="729" y="181"/>
                </a:lnTo>
                <a:lnTo>
                  <a:pt x="702" y="157"/>
                </a:lnTo>
                <a:lnTo>
                  <a:pt x="715" y="115"/>
                </a:lnTo>
                <a:lnTo>
                  <a:pt x="677" y="101"/>
                </a:lnTo>
                <a:lnTo>
                  <a:pt x="670" y="55"/>
                </a:lnTo>
                <a:lnTo>
                  <a:pt x="656" y="30"/>
                </a:lnTo>
                <a:lnTo>
                  <a:pt x="628" y="50"/>
                </a:lnTo>
                <a:lnTo>
                  <a:pt x="568" y="70"/>
                </a:lnTo>
                <a:lnTo>
                  <a:pt x="578" y="102"/>
                </a:lnTo>
                <a:lnTo>
                  <a:pt x="604" y="126"/>
                </a:lnTo>
                <a:lnTo>
                  <a:pt x="584" y="149"/>
                </a:lnTo>
                <a:lnTo>
                  <a:pt x="555" y="135"/>
                </a:lnTo>
                <a:lnTo>
                  <a:pt x="542" y="164"/>
                </a:lnTo>
                <a:lnTo>
                  <a:pt x="526" y="139"/>
                </a:lnTo>
                <a:lnTo>
                  <a:pt x="528" y="79"/>
                </a:lnTo>
                <a:lnTo>
                  <a:pt x="479" y="98"/>
                </a:lnTo>
                <a:lnTo>
                  <a:pt x="498" y="139"/>
                </a:lnTo>
                <a:lnTo>
                  <a:pt x="508" y="174"/>
                </a:lnTo>
                <a:lnTo>
                  <a:pt x="483" y="181"/>
                </a:lnTo>
                <a:lnTo>
                  <a:pt x="464" y="168"/>
                </a:lnTo>
                <a:lnTo>
                  <a:pt x="463" y="196"/>
                </a:lnTo>
                <a:lnTo>
                  <a:pt x="500" y="214"/>
                </a:lnTo>
                <a:lnTo>
                  <a:pt x="505" y="237"/>
                </a:lnTo>
                <a:lnTo>
                  <a:pt x="483" y="244"/>
                </a:lnTo>
                <a:lnTo>
                  <a:pt x="500" y="262"/>
                </a:lnTo>
                <a:lnTo>
                  <a:pt x="508" y="288"/>
                </a:lnTo>
                <a:lnTo>
                  <a:pt x="500" y="299"/>
                </a:lnTo>
                <a:lnTo>
                  <a:pt x="538" y="387"/>
                </a:lnTo>
                <a:lnTo>
                  <a:pt x="558" y="460"/>
                </a:lnTo>
                <a:lnTo>
                  <a:pt x="568" y="513"/>
                </a:lnTo>
                <a:lnTo>
                  <a:pt x="567" y="564"/>
                </a:lnTo>
                <a:lnTo>
                  <a:pt x="578" y="604"/>
                </a:lnTo>
                <a:lnTo>
                  <a:pt x="569" y="624"/>
                </a:lnTo>
                <a:lnTo>
                  <a:pt x="557" y="617"/>
                </a:lnTo>
                <a:lnTo>
                  <a:pt x="548" y="633"/>
                </a:lnTo>
                <a:lnTo>
                  <a:pt x="531" y="608"/>
                </a:lnTo>
                <a:lnTo>
                  <a:pt x="506" y="618"/>
                </a:lnTo>
                <a:lnTo>
                  <a:pt x="473" y="546"/>
                </a:lnTo>
                <a:lnTo>
                  <a:pt x="449" y="534"/>
                </a:lnTo>
                <a:lnTo>
                  <a:pt x="473" y="532"/>
                </a:lnTo>
                <a:lnTo>
                  <a:pt x="483" y="506"/>
                </a:lnTo>
                <a:lnTo>
                  <a:pt x="467" y="475"/>
                </a:lnTo>
                <a:lnTo>
                  <a:pt x="446" y="486"/>
                </a:lnTo>
                <a:lnTo>
                  <a:pt x="421" y="450"/>
                </a:lnTo>
                <a:lnTo>
                  <a:pt x="418" y="439"/>
                </a:lnTo>
                <a:lnTo>
                  <a:pt x="368" y="454"/>
                </a:lnTo>
                <a:lnTo>
                  <a:pt x="342" y="437"/>
                </a:lnTo>
                <a:lnTo>
                  <a:pt x="359" y="390"/>
                </a:lnTo>
                <a:lnTo>
                  <a:pt x="329" y="381"/>
                </a:lnTo>
                <a:lnTo>
                  <a:pt x="290" y="413"/>
                </a:lnTo>
                <a:lnTo>
                  <a:pt x="308" y="446"/>
                </a:lnTo>
                <a:lnTo>
                  <a:pt x="280" y="45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2298600"/>
            <a:ext cx="280800" cy="660600"/>
          </a:xfrm>
          <a:custGeom>
            <a:avLst/>
            <a:gdLst/>
            <a:ahLst/>
            <a:rect l="l" t="t" r="r" b="b"/>
            <a:pathLst>
              <a:path w="532" h="1248">
                <a:moveTo>
                  <a:pt x="14" y="1140"/>
                </a:moveTo>
                <a:lnTo>
                  <a:pt x="40" y="1201"/>
                </a:lnTo>
                <a:lnTo>
                  <a:pt x="37" y="1248"/>
                </a:lnTo>
                <a:lnTo>
                  <a:pt x="81" y="1233"/>
                </a:lnTo>
                <a:lnTo>
                  <a:pt x="92" y="1130"/>
                </a:lnTo>
                <a:lnTo>
                  <a:pt x="135" y="1025"/>
                </a:lnTo>
                <a:lnTo>
                  <a:pt x="197" y="948"/>
                </a:lnTo>
                <a:lnTo>
                  <a:pt x="242" y="873"/>
                </a:lnTo>
                <a:lnTo>
                  <a:pt x="260" y="840"/>
                </a:lnTo>
                <a:lnTo>
                  <a:pt x="306" y="723"/>
                </a:lnTo>
                <a:lnTo>
                  <a:pt x="325" y="640"/>
                </a:lnTo>
                <a:lnTo>
                  <a:pt x="335" y="528"/>
                </a:lnTo>
                <a:lnTo>
                  <a:pt x="381" y="472"/>
                </a:lnTo>
                <a:lnTo>
                  <a:pt x="432" y="405"/>
                </a:lnTo>
                <a:lnTo>
                  <a:pt x="455" y="443"/>
                </a:lnTo>
                <a:lnTo>
                  <a:pt x="491" y="388"/>
                </a:lnTo>
                <a:lnTo>
                  <a:pt x="532" y="344"/>
                </a:lnTo>
                <a:lnTo>
                  <a:pt x="522" y="286"/>
                </a:lnTo>
                <a:lnTo>
                  <a:pt x="440" y="273"/>
                </a:lnTo>
                <a:lnTo>
                  <a:pt x="481" y="223"/>
                </a:lnTo>
                <a:lnTo>
                  <a:pt x="475" y="136"/>
                </a:lnTo>
                <a:lnTo>
                  <a:pt x="501" y="82"/>
                </a:lnTo>
                <a:lnTo>
                  <a:pt x="493" y="39"/>
                </a:lnTo>
                <a:lnTo>
                  <a:pt x="468" y="0"/>
                </a:lnTo>
                <a:lnTo>
                  <a:pt x="410" y="67"/>
                </a:lnTo>
                <a:lnTo>
                  <a:pt x="350" y="142"/>
                </a:lnTo>
                <a:lnTo>
                  <a:pt x="285" y="213"/>
                </a:lnTo>
                <a:lnTo>
                  <a:pt x="250" y="237"/>
                </a:lnTo>
                <a:lnTo>
                  <a:pt x="258" y="273"/>
                </a:lnTo>
                <a:lnTo>
                  <a:pt x="234" y="315"/>
                </a:lnTo>
                <a:lnTo>
                  <a:pt x="239" y="371"/>
                </a:lnTo>
                <a:lnTo>
                  <a:pt x="220" y="407"/>
                </a:lnTo>
                <a:lnTo>
                  <a:pt x="200" y="413"/>
                </a:lnTo>
                <a:lnTo>
                  <a:pt x="210" y="446"/>
                </a:lnTo>
                <a:lnTo>
                  <a:pt x="177" y="463"/>
                </a:lnTo>
                <a:lnTo>
                  <a:pt x="150" y="569"/>
                </a:lnTo>
                <a:lnTo>
                  <a:pt x="108" y="659"/>
                </a:lnTo>
                <a:lnTo>
                  <a:pt x="82" y="743"/>
                </a:lnTo>
                <a:lnTo>
                  <a:pt x="60" y="833"/>
                </a:lnTo>
                <a:lnTo>
                  <a:pt x="40" y="951"/>
                </a:lnTo>
                <a:lnTo>
                  <a:pt x="19" y="1021"/>
                </a:lnTo>
                <a:lnTo>
                  <a:pt x="0" y="1090"/>
                </a:lnTo>
                <a:lnTo>
                  <a:pt x="14" y="114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66960" y="1952640"/>
            <a:ext cx="385920" cy="125280"/>
          </a:xfrm>
          <a:custGeom>
            <a:avLst/>
            <a:gdLst/>
            <a:ahLst/>
            <a:rect l="l" t="t" r="r" b="b"/>
            <a:pathLst>
              <a:path w="727" h="235">
                <a:moveTo>
                  <a:pt x="228" y="28"/>
                </a:moveTo>
                <a:lnTo>
                  <a:pt x="154" y="49"/>
                </a:lnTo>
                <a:lnTo>
                  <a:pt x="84" y="59"/>
                </a:lnTo>
                <a:lnTo>
                  <a:pt x="0" y="59"/>
                </a:lnTo>
                <a:lnTo>
                  <a:pt x="16" y="88"/>
                </a:lnTo>
                <a:lnTo>
                  <a:pt x="90" y="104"/>
                </a:lnTo>
                <a:lnTo>
                  <a:pt x="174" y="102"/>
                </a:lnTo>
                <a:lnTo>
                  <a:pt x="193" y="69"/>
                </a:lnTo>
                <a:lnTo>
                  <a:pt x="216" y="94"/>
                </a:lnTo>
                <a:lnTo>
                  <a:pt x="193" y="115"/>
                </a:lnTo>
                <a:lnTo>
                  <a:pt x="229" y="127"/>
                </a:lnTo>
                <a:lnTo>
                  <a:pt x="255" y="144"/>
                </a:lnTo>
                <a:lnTo>
                  <a:pt x="216" y="200"/>
                </a:lnTo>
                <a:lnTo>
                  <a:pt x="351" y="235"/>
                </a:lnTo>
                <a:lnTo>
                  <a:pt x="386" y="225"/>
                </a:lnTo>
                <a:lnTo>
                  <a:pt x="425" y="196"/>
                </a:lnTo>
                <a:lnTo>
                  <a:pt x="390" y="173"/>
                </a:lnTo>
                <a:lnTo>
                  <a:pt x="475" y="143"/>
                </a:lnTo>
                <a:lnTo>
                  <a:pt x="474" y="117"/>
                </a:lnTo>
                <a:lnTo>
                  <a:pt x="536" y="107"/>
                </a:lnTo>
                <a:lnTo>
                  <a:pt x="626" y="85"/>
                </a:lnTo>
                <a:lnTo>
                  <a:pt x="701" y="53"/>
                </a:lnTo>
                <a:lnTo>
                  <a:pt x="727" y="22"/>
                </a:lnTo>
                <a:lnTo>
                  <a:pt x="714" y="0"/>
                </a:lnTo>
                <a:lnTo>
                  <a:pt x="528" y="94"/>
                </a:lnTo>
                <a:lnTo>
                  <a:pt x="446" y="68"/>
                </a:lnTo>
                <a:lnTo>
                  <a:pt x="428" y="49"/>
                </a:lnTo>
                <a:lnTo>
                  <a:pt x="392" y="69"/>
                </a:lnTo>
                <a:lnTo>
                  <a:pt x="383" y="75"/>
                </a:lnTo>
                <a:lnTo>
                  <a:pt x="397" y="29"/>
                </a:lnTo>
                <a:lnTo>
                  <a:pt x="363" y="35"/>
                </a:lnTo>
                <a:lnTo>
                  <a:pt x="351" y="76"/>
                </a:lnTo>
                <a:lnTo>
                  <a:pt x="328" y="71"/>
                </a:lnTo>
                <a:lnTo>
                  <a:pt x="314" y="28"/>
                </a:lnTo>
                <a:lnTo>
                  <a:pt x="265" y="48"/>
                </a:lnTo>
                <a:lnTo>
                  <a:pt x="228" y="2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84680" y="2698920"/>
            <a:ext cx="384120" cy="714240"/>
          </a:xfrm>
          <a:custGeom>
            <a:avLst/>
            <a:gdLst/>
            <a:ahLst/>
            <a:rect l="l" t="t" r="r" b="b"/>
            <a:pathLst>
              <a:path w="725" h="1350">
                <a:moveTo>
                  <a:pt x="14" y="899"/>
                </a:moveTo>
                <a:lnTo>
                  <a:pt x="41" y="938"/>
                </a:lnTo>
                <a:lnTo>
                  <a:pt x="60" y="944"/>
                </a:lnTo>
                <a:lnTo>
                  <a:pt x="64" y="963"/>
                </a:lnTo>
                <a:lnTo>
                  <a:pt x="67" y="1004"/>
                </a:lnTo>
                <a:lnTo>
                  <a:pt x="80" y="1022"/>
                </a:lnTo>
                <a:lnTo>
                  <a:pt x="67" y="1033"/>
                </a:lnTo>
                <a:lnTo>
                  <a:pt x="80" y="1045"/>
                </a:lnTo>
                <a:lnTo>
                  <a:pt x="92" y="1050"/>
                </a:lnTo>
                <a:lnTo>
                  <a:pt x="113" y="1066"/>
                </a:lnTo>
                <a:lnTo>
                  <a:pt x="112" y="1082"/>
                </a:lnTo>
                <a:lnTo>
                  <a:pt x="109" y="1098"/>
                </a:lnTo>
                <a:lnTo>
                  <a:pt x="109" y="1119"/>
                </a:lnTo>
                <a:lnTo>
                  <a:pt x="102" y="1153"/>
                </a:lnTo>
                <a:lnTo>
                  <a:pt x="115" y="1155"/>
                </a:lnTo>
                <a:lnTo>
                  <a:pt x="133" y="1144"/>
                </a:lnTo>
                <a:lnTo>
                  <a:pt x="136" y="1127"/>
                </a:lnTo>
                <a:lnTo>
                  <a:pt x="142" y="1107"/>
                </a:lnTo>
                <a:lnTo>
                  <a:pt x="158" y="1107"/>
                </a:lnTo>
                <a:lnTo>
                  <a:pt x="165" y="1119"/>
                </a:lnTo>
                <a:lnTo>
                  <a:pt x="165" y="1140"/>
                </a:lnTo>
                <a:lnTo>
                  <a:pt x="162" y="1158"/>
                </a:lnTo>
                <a:lnTo>
                  <a:pt x="152" y="1184"/>
                </a:lnTo>
                <a:lnTo>
                  <a:pt x="122" y="1199"/>
                </a:lnTo>
                <a:lnTo>
                  <a:pt x="100" y="1209"/>
                </a:lnTo>
                <a:lnTo>
                  <a:pt x="112" y="1229"/>
                </a:lnTo>
                <a:lnTo>
                  <a:pt x="110" y="1242"/>
                </a:lnTo>
                <a:lnTo>
                  <a:pt x="96" y="1263"/>
                </a:lnTo>
                <a:lnTo>
                  <a:pt x="86" y="1289"/>
                </a:lnTo>
                <a:lnTo>
                  <a:pt x="82" y="1312"/>
                </a:lnTo>
                <a:lnTo>
                  <a:pt x="70" y="1347"/>
                </a:lnTo>
                <a:lnTo>
                  <a:pt x="100" y="1338"/>
                </a:lnTo>
                <a:lnTo>
                  <a:pt x="107" y="1350"/>
                </a:lnTo>
                <a:lnTo>
                  <a:pt x="149" y="1318"/>
                </a:lnTo>
                <a:lnTo>
                  <a:pt x="179" y="1315"/>
                </a:lnTo>
                <a:lnTo>
                  <a:pt x="192" y="1285"/>
                </a:lnTo>
                <a:lnTo>
                  <a:pt x="188" y="1271"/>
                </a:lnTo>
                <a:lnTo>
                  <a:pt x="208" y="1230"/>
                </a:lnTo>
                <a:lnTo>
                  <a:pt x="225" y="1229"/>
                </a:lnTo>
                <a:lnTo>
                  <a:pt x="233" y="1216"/>
                </a:lnTo>
                <a:lnTo>
                  <a:pt x="220" y="1204"/>
                </a:lnTo>
                <a:lnTo>
                  <a:pt x="205" y="1212"/>
                </a:lnTo>
                <a:lnTo>
                  <a:pt x="197" y="1193"/>
                </a:lnTo>
                <a:lnTo>
                  <a:pt x="200" y="1151"/>
                </a:lnTo>
                <a:lnTo>
                  <a:pt x="189" y="1142"/>
                </a:lnTo>
                <a:lnTo>
                  <a:pt x="201" y="1118"/>
                </a:lnTo>
                <a:lnTo>
                  <a:pt x="220" y="1098"/>
                </a:lnTo>
                <a:lnTo>
                  <a:pt x="233" y="1094"/>
                </a:lnTo>
                <a:lnTo>
                  <a:pt x="253" y="1084"/>
                </a:lnTo>
                <a:lnTo>
                  <a:pt x="253" y="1069"/>
                </a:lnTo>
                <a:lnTo>
                  <a:pt x="223" y="1069"/>
                </a:lnTo>
                <a:lnTo>
                  <a:pt x="221" y="1050"/>
                </a:lnTo>
                <a:lnTo>
                  <a:pt x="319" y="980"/>
                </a:lnTo>
                <a:lnTo>
                  <a:pt x="315" y="970"/>
                </a:lnTo>
                <a:lnTo>
                  <a:pt x="305" y="966"/>
                </a:lnTo>
                <a:lnTo>
                  <a:pt x="320" y="951"/>
                </a:lnTo>
                <a:lnTo>
                  <a:pt x="349" y="944"/>
                </a:lnTo>
                <a:lnTo>
                  <a:pt x="369" y="938"/>
                </a:lnTo>
                <a:lnTo>
                  <a:pt x="372" y="951"/>
                </a:lnTo>
                <a:lnTo>
                  <a:pt x="389" y="941"/>
                </a:lnTo>
                <a:lnTo>
                  <a:pt x="392" y="947"/>
                </a:lnTo>
                <a:lnTo>
                  <a:pt x="408" y="931"/>
                </a:lnTo>
                <a:lnTo>
                  <a:pt x="404" y="922"/>
                </a:lnTo>
                <a:lnTo>
                  <a:pt x="384" y="924"/>
                </a:lnTo>
                <a:lnTo>
                  <a:pt x="391" y="911"/>
                </a:lnTo>
                <a:lnTo>
                  <a:pt x="401" y="909"/>
                </a:lnTo>
                <a:lnTo>
                  <a:pt x="404" y="876"/>
                </a:lnTo>
                <a:lnTo>
                  <a:pt x="382" y="876"/>
                </a:lnTo>
                <a:lnTo>
                  <a:pt x="374" y="861"/>
                </a:lnTo>
                <a:lnTo>
                  <a:pt x="374" y="842"/>
                </a:lnTo>
                <a:lnTo>
                  <a:pt x="392" y="820"/>
                </a:lnTo>
                <a:lnTo>
                  <a:pt x="410" y="794"/>
                </a:lnTo>
                <a:lnTo>
                  <a:pt x="438" y="761"/>
                </a:lnTo>
                <a:lnTo>
                  <a:pt x="454" y="758"/>
                </a:lnTo>
                <a:lnTo>
                  <a:pt x="466" y="750"/>
                </a:lnTo>
                <a:lnTo>
                  <a:pt x="476" y="744"/>
                </a:lnTo>
                <a:lnTo>
                  <a:pt x="480" y="731"/>
                </a:lnTo>
                <a:lnTo>
                  <a:pt x="490" y="725"/>
                </a:lnTo>
                <a:lnTo>
                  <a:pt x="497" y="738"/>
                </a:lnTo>
                <a:lnTo>
                  <a:pt x="532" y="694"/>
                </a:lnTo>
                <a:lnTo>
                  <a:pt x="522" y="684"/>
                </a:lnTo>
                <a:lnTo>
                  <a:pt x="507" y="662"/>
                </a:lnTo>
                <a:lnTo>
                  <a:pt x="490" y="668"/>
                </a:lnTo>
                <a:lnTo>
                  <a:pt x="484" y="675"/>
                </a:lnTo>
                <a:lnTo>
                  <a:pt x="451" y="669"/>
                </a:lnTo>
                <a:lnTo>
                  <a:pt x="437" y="668"/>
                </a:lnTo>
                <a:lnTo>
                  <a:pt x="444" y="649"/>
                </a:lnTo>
                <a:lnTo>
                  <a:pt x="437" y="632"/>
                </a:lnTo>
                <a:lnTo>
                  <a:pt x="421" y="639"/>
                </a:lnTo>
                <a:lnTo>
                  <a:pt x="421" y="630"/>
                </a:lnTo>
                <a:lnTo>
                  <a:pt x="434" y="613"/>
                </a:lnTo>
                <a:lnTo>
                  <a:pt x="411" y="589"/>
                </a:lnTo>
                <a:lnTo>
                  <a:pt x="425" y="570"/>
                </a:lnTo>
                <a:lnTo>
                  <a:pt x="447" y="535"/>
                </a:lnTo>
                <a:lnTo>
                  <a:pt x="433" y="528"/>
                </a:lnTo>
                <a:lnTo>
                  <a:pt x="427" y="502"/>
                </a:lnTo>
                <a:lnTo>
                  <a:pt x="431" y="484"/>
                </a:lnTo>
                <a:lnTo>
                  <a:pt x="418" y="475"/>
                </a:lnTo>
                <a:lnTo>
                  <a:pt x="402" y="478"/>
                </a:lnTo>
                <a:lnTo>
                  <a:pt x="411" y="452"/>
                </a:lnTo>
                <a:lnTo>
                  <a:pt x="412" y="428"/>
                </a:lnTo>
                <a:lnTo>
                  <a:pt x="430" y="416"/>
                </a:lnTo>
                <a:lnTo>
                  <a:pt x="428" y="399"/>
                </a:lnTo>
                <a:lnTo>
                  <a:pt x="427" y="364"/>
                </a:lnTo>
                <a:lnTo>
                  <a:pt x="425" y="320"/>
                </a:lnTo>
                <a:lnTo>
                  <a:pt x="434" y="337"/>
                </a:lnTo>
                <a:lnTo>
                  <a:pt x="451" y="341"/>
                </a:lnTo>
                <a:lnTo>
                  <a:pt x="460" y="328"/>
                </a:lnTo>
                <a:lnTo>
                  <a:pt x="471" y="343"/>
                </a:lnTo>
                <a:lnTo>
                  <a:pt x="490" y="333"/>
                </a:lnTo>
                <a:lnTo>
                  <a:pt x="503" y="333"/>
                </a:lnTo>
                <a:lnTo>
                  <a:pt x="510" y="321"/>
                </a:lnTo>
                <a:lnTo>
                  <a:pt x="500" y="304"/>
                </a:lnTo>
                <a:lnTo>
                  <a:pt x="505" y="275"/>
                </a:lnTo>
                <a:lnTo>
                  <a:pt x="505" y="261"/>
                </a:lnTo>
                <a:lnTo>
                  <a:pt x="520" y="272"/>
                </a:lnTo>
                <a:lnTo>
                  <a:pt x="532" y="265"/>
                </a:lnTo>
                <a:lnTo>
                  <a:pt x="532" y="285"/>
                </a:lnTo>
                <a:lnTo>
                  <a:pt x="539" y="302"/>
                </a:lnTo>
                <a:lnTo>
                  <a:pt x="549" y="288"/>
                </a:lnTo>
                <a:lnTo>
                  <a:pt x="553" y="275"/>
                </a:lnTo>
                <a:lnTo>
                  <a:pt x="543" y="264"/>
                </a:lnTo>
                <a:lnTo>
                  <a:pt x="532" y="259"/>
                </a:lnTo>
                <a:lnTo>
                  <a:pt x="528" y="241"/>
                </a:lnTo>
                <a:lnTo>
                  <a:pt x="538" y="215"/>
                </a:lnTo>
                <a:lnTo>
                  <a:pt x="548" y="202"/>
                </a:lnTo>
                <a:lnTo>
                  <a:pt x="561" y="212"/>
                </a:lnTo>
                <a:lnTo>
                  <a:pt x="581" y="215"/>
                </a:lnTo>
                <a:lnTo>
                  <a:pt x="591" y="209"/>
                </a:lnTo>
                <a:lnTo>
                  <a:pt x="587" y="189"/>
                </a:lnTo>
                <a:lnTo>
                  <a:pt x="578" y="172"/>
                </a:lnTo>
                <a:lnTo>
                  <a:pt x="587" y="153"/>
                </a:lnTo>
                <a:lnTo>
                  <a:pt x="597" y="126"/>
                </a:lnTo>
                <a:lnTo>
                  <a:pt x="604" y="147"/>
                </a:lnTo>
                <a:lnTo>
                  <a:pt x="623" y="149"/>
                </a:lnTo>
                <a:lnTo>
                  <a:pt x="631" y="128"/>
                </a:lnTo>
                <a:lnTo>
                  <a:pt x="620" y="114"/>
                </a:lnTo>
                <a:lnTo>
                  <a:pt x="612" y="94"/>
                </a:lnTo>
                <a:lnTo>
                  <a:pt x="631" y="78"/>
                </a:lnTo>
                <a:lnTo>
                  <a:pt x="648" y="77"/>
                </a:lnTo>
                <a:lnTo>
                  <a:pt x="660" y="61"/>
                </a:lnTo>
                <a:lnTo>
                  <a:pt x="677" y="54"/>
                </a:lnTo>
                <a:lnTo>
                  <a:pt x="697" y="48"/>
                </a:lnTo>
                <a:lnTo>
                  <a:pt x="713" y="44"/>
                </a:lnTo>
                <a:lnTo>
                  <a:pt x="725" y="36"/>
                </a:lnTo>
                <a:lnTo>
                  <a:pt x="723" y="26"/>
                </a:lnTo>
                <a:lnTo>
                  <a:pt x="713" y="15"/>
                </a:lnTo>
                <a:lnTo>
                  <a:pt x="710" y="5"/>
                </a:lnTo>
                <a:lnTo>
                  <a:pt x="684" y="21"/>
                </a:lnTo>
                <a:lnTo>
                  <a:pt x="659" y="25"/>
                </a:lnTo>
                <a:lnTo>
                  <a:pt x="661" y="0"/>
                </a:lnTo>
                <a:lnTo>
                  <a:pt x="638" y="16"/>
                </a:lnTo>
                <a:lnTo>
                  <a:pt x="633" y="2"/>
                </a:lnTo>
                <a:lnTo>
                  <a:pt x="602" y="21"/>
                </a:lnTo>
                <a:lnTo>
                  <a:pt x="584" y="36"/>
                </a:lnTo>
                <a:lnTo>
                  <a:pt x="575" y="39"/>
                </a:lnTo>
                <a:lnTo>
                  <a:pt x="577" y="54"/>
                </a:lnTo>
                <a:lnTo>
                  <a:pt x="574" y="72"/>
                </a:lnTo>
                <a:lnTo>
                  <a:pt x="564" y="85"/>
                </a:lnTo>
                <a:lnTo>
                  <a:pt x="548" y="97"/>
                </a:lnTo>
                <a:lnTo>
                  <a:pt x="556" y="110"/>
                </a:lnTo>
                <a:lnTo>
                  <a:pt x="566" y="124"/>
                </a:lnTo>
                <a:lnTo>
                  <a:pt x="572" y="133"/>
                </a:lnTo>
                <a:lnTo>
                  <a:pt x="568" y="151"/>
                </a:lnTo>
                <a:lnTo>
                  <a:pt x="551" y="163"/>
                </a:lnTo>
                <a:lnTo>
                  <a:pt x="543" y="141"/>
                </a:lnTo>
                <a:lnTo>
                  <a:pt x="543" y="123"/>
                </a:lnTo>
                <a:lnTo>
                  <a:pt x="538" y="107"/>
                </a:lnTo>
                <a:lnTo>
                  <a:pt x="522" y="103"/>
                </a:lnTo>
                <a:lnTo>
                  <a:pt x="507" y="104"/>
                </a:lnTo>
                <a:lnTo>
                  <a:pt x="487" y="105"/>
                </a:lnTo>
                <a:lnTo>
                  <a:pt x="494" y="121"/>
                </a:lnTo>
                <a:lnTo>
                  <a:pt x="497" y="134"/>
                </a:lnTo>
                <a:lnTo>
                  <a:pt x="489" y="141"/>
                </a:lnTo>
                <a:lnTo>
                  <a:pt x="474" y="138"/>
                </a:lnTo>
                <a:lnTo>
                  <a:pt x="461" y="131"/>
                </a:lnTo>
                <a:lnTo>
                  <a:pt x="463" y="118"/>
                </a:lnTo>
                <a:lnTo>
                  <a:pt x="473" y="105"/>
                </a:lnTo>
                <a:lnTo>
                  <a:pt x="477" y="95"/>
                </a:lnTo>
                <a:lnTo>
                  <a:pt x="464" y="98"/>
                </a:lnTo>
                <a:lnTo>
                  <a:pt x="438" y="104"/>
                </a:lnTo>
                <a:lnTo>
                  <a:pt x="420" y="111"/>
                </a:lnTo>
                <a:lnTo>
                  <a:pt x="412" y="130"/>
                </a:lnTo>
                <a:lnTo>
                  <a:pt x="412" y="147"/>
                </a:lnTo>
                <a:lnTo>
                  <a:pt x="402" y="172"/>
                </a:lnTo>
                <a:lnTo>
                  <a:pt x="401" y="195"/>
                </a:lnTo>
                <a:lnTo>
                  <a:pt x="394" y="209"/>
                </a:lnTo>
                <a:lnTo>
                  <a:pt x="391" y="180"/>
                </a:lnTo>
                <a:lnTo>
                  <a:pt x="385" y="163"/>
                </a:lnTo>
                <a:lnTo>
                  <a:pt x="378" y="130"/>
                </a:lnTo>
                <a:lnTo>
                  <a:pt x="371" y="104"/>
                </a:lnTo>
                <a:lnTo>
                  <a:pt x="345" y="105"/>
                </a:lnTo>
                <a:lnTo>
                  <a:pt x="318" y="121"/>
                </a:lnTo>
                <a:lnTo>
                  <a:pt x="305" y="144"/>
                </a:lnTo>
                <a:lnTo>
                  <a:pt x="282" y="160"/>
                </a:lnTo>
                <a:lnTo>
                  <a:pt x="284" y="179"/>
                </a:lnTo>
                <a:lnTo>
                  <a:pt x="280" y="200"/>
                </a:lnTo>
                <a:lnTo>
                  <a:pt x="274" y="208"/>
                </a:lnTo>
                <a:lnTo>
                  <a:pt x="257" y="208"/>
                </a:lnTo>
                <a:lnTo>
                  <a:pt x="247" y="210"/>
                </a:lnTo>
                <a:lnTo>
                  <a:pt x="240" y="225"/>
                </a:lnTo>
                <a:lnTo>
                  <a:pt x="228" y="228"/>
                </a:lnTo>
                <a:lnTo>
                  <a:pt x="224" y="222"/>
                </a:lnTo>
                <a:lnTo>
                  <a:pt x="200" y="239"/>
                </a:lnTo>
                <a:lnTo>
                  <a:pt x="178" y="288"/>
                </a:lnTo>
                <a:lnTo>
                  <a:pt x="168" y="320"/>
                </a:lnTo>
                <a:lnTo>
                  <a:pt x="158" y="359"/>
                </a:lnTo>
                <a:lnTo>
                  <a:pt x="149" y="387"/>
                </a:lnTo>
                <a:lnTo>
                  <a:pt x="132" y="393"/>
                </a:lnTo>
                <a:lnTo>
                  <a:pt x="133" y="412"/>
                </a:lnTo>
                <a:lnTo>
                  <a:pt x="119" y="449"/>
                </a:lnTo>
                <a:lnTo>
                  <a:pt x="100" y="474"/>
                </a:lnTo>
                <a:lnTo>
                  <a:pt x="69" y="504"/>
                </a:lnTo>
                <a:lnTo>
                  <a:pt x="24" y="553"/>
                </a:lnTo>
                <a:lnTo>
                  <a:pt x="2" y="589"/>
                </a:lnTo>
                <a:lnTo>
                  <a:pt x="0" y="607"/>
                </a:lnTo>
                <a:lnTo>
                  <a:pt x="10" y="626"/>
                </a:lnTo>
                <a:lnTo>
                  <a:pt x="15" y="651"/>
                </a:lnTo>
                <a:lnTo>
                  <a:pt x="17" y="666"/>
                </a:lnTo>
                <a:lnTo>
                  <a:pt x="23" y="691"/>
                </a:lnTo>
                <a:lnTo>
                  <a:pt x="30" y="718"/>
                </a:lnTo>
                <a:lnTo>
                  <a:pt x="43" y="744"/>
                </a:lnTo>
                <a:lnTo>
                  <a:pt x="56" y="776"/>
                </a:lnTo>
                <a:lnTo>
                  <a:pt x="61" y="810"/>
                </a:lnTo>
                <a:lnTo>
                  <a:pt x="60" y="835"/>
                </a:lnTo>
                <a:lnTo>
                  <a:pt x="56" y="856"/>
                </a:lnTo>
                <a:lnTo>
                  <a:pt x="34" y="876"/>
                </a:lnTo>
                <a:lnTo>
                  <a:pt x="14" y="899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20920" y="3181320"/>
            <a:ext cx="239760" cy="768240"/>
          </a:xfrm>
          <a:custGeom>
            <a:avLst/>
            <a:gdLst/>
            <a:ahLst/>
            <a:rect l="l" t="t" r="r" b="b"/>
            <a:pathLst>
              <a:path w="454" h="1452">
                <a:moveTo>
                  <a:pt x="0" y="1111"/>
                </a:moveTo>
                <a:lnTo>
                  <a:pt x="18" y="1187"/>
                </a:lnTo>
                <a:lnTo>
                  <a:pt x="36" y="1193"/>
                </a:lnTo>
                <a:lnTo>
                  <a:pt x="36" y="1253"/>
                </a:lnTo>
                <a:lnTo>
                  <a:pt x="48" y="1272"/>
                </a:lnTo>
                <a:lnTo>
                  <a:pt x="36" y="1367"/>
                </a:lnTo>
                <a:lnTo>
                  <a:pt x="46" y="1397"/>
                </a:lnTo>
                <a:lnTo>
                  <a:pt x="46" y="1452"/>
                </a:lnTo>
                <a:lnTo>
                  <a:pt x="88" y="1420"/>
                </a:lnTo>
                <a:lnTo>
                  <a:pt x="141" y="1249"/>
                </a:lnTo>
                <a:lnTo>
                  <a:pt x="140" y="1232"/>
                </a:lnTo>
                <a:lnTo>
                  <a:pt x="173" y="1108"/>
                </a:lnTo>
                <a:lnTo>
                  <a:pt x="186" y="1053"/>
                </a:lnTo>
                <a:lnTo>
                  <a:pt x="176" y="1014"/>
                </a:lnTo>
                <a:lnTo>
                  <a:pt x="218" y="966"/>
                </a:lnTo>
                <a:lnTo>
                  <a:pt x="212" y="934"/>
                </a:lnTo>
                <a:lnTo>
                  <a:pt x="232" y="872"/>
                </a:lnTo>
                <a:lnTo>
                  <a:pt x="249" y="784"/>
                </a:lnTo>
                <a:lnTo>
                  <a:pt x="261" y="705"/>
                </a:lnTo>
                <a:lnTo>
                  <a:pt x="315" y="658"/>
                </a:lnTo>
                <a:lnTo>
                  <a:pt x="303" y="593"/>
                </a:lnTo>
                <a:lnTo>
                  <a:pt x="324" y="556"/>
                </a:lnTo>
                <a:lnTo>
                  <a:pt x="305" y="495"/>
                </a:lnTo>
                <a:lnTo>
                  <a:pt x="341" y="451"/>
                </a:lnTo>
                <a:lnTo>
                  <a:pt x="328" y="428"/>
                </a:lnTo>
                <a:lnTo>
                  <a:pt x="357" y="399"/>
                </a:lnTo>
                <a:lnTo>
                  <a:pt x="379" y="310"/>
                </a:lnTo>
                <a:lnTo>
                  <a:pt x="408" y="238"/>
                </a:lnTo>
                <a:lnTo>
                  <a:pt x="422" y="169"/>
                </a:lnTo>
                <a:lnTo>
                  <a:pt x="402" y="138"/>
                </a:lnTo>
                <a:lnTo>
                  <a:pt x="406" y="95"/>
                </a:lnTo>
                <a:lnTo>
                  <a:pt x="423" y="79"/>
                </a:lnTo>
                <a:lnTo>
                  <a:pt x="454" y="72"/>
                </a:lnTo>
                <a:lnTo>
                  <a:pt x="439" y="3"/>
                </a:lnTo>
                <a:lnTo>
                  <a:pt x="425" y="35"/>
                </a:lnTo>
                <a:lnTo>
                  <a:pt x="409" y="0"/>
                </a:lnTo>
                <a:lnTo>
                  <a:pt x="362" y="58"/>
                </a:lnTo>
                <a:lnTo>
                  <a:pt x="333" y="114"/>
                </a:lnTo>
                <a:lnTo>
                  <a:pt x="337" y="159"/>
                </a:lnTo>
                <a:lnTo>
                  <a:pt x="341" y="190"/>
                </a:lnTo>
                <a:lnTo>
                  <a:pt x="310" y="220"/>
                </a:lnTo>
                <a:lnTo>
                  <a:pt x="314" y="261"/>
                </a:lnTo>
                <a:lnTo>
                  <a:pt x="297" y="347"/>
                </a:lnTo>
                <a:lnTo>
                  <a:pt x="269" y="402"/>
                </a:lnTo>
                <a:lnTo>
                  <a:pt x="259" y="468"/>
                </a:lnTo>
                <a:lnTo>
                  <a:pt x="222" y="548"/>
                </a:lnTo>
                <a:lnTo>
                  <a:pt x="202" y="609"/>
                </a:lnTo>
                <a:lnTo>
                  <a:pt x="159" y="620"/>
                </a:lnTo>
                <a:lnTo>
                  <a:pt x="121" y="699"/>
                </a:lnTo>
                <a:lnTo>
                  <a:pt x="92" y="781"/>
                </a:lnTo>
                <a:lnTo>
                  <a:pt x="69" y="856"/>
                </a:lnTo>
                <a:lnTo>
                  <a:pt x="61" y="892"/>
                </a:lnTo>
                <a:lnTo>
                  <a:pt x="29" y="994"/>
                </a:lnTo>
                <a:lnTo>
                  <a:pt x="0" y="111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41960" y="5780160"/>
            <a:ext cx="2922840" cy="998640"/>
          </a:xfrm>
          <a:custGeom>
            <a:avLst/>
            <a:gdLst/>
            <a:ahLst/>
            <a:rect l="l" t="t" r="r" b="b"/>
            <a:pathLst>
              <a:path w="5524" h="1888">
                <a:moveTo>
                  <a:pt x="5524" y="0"/>
                </a:moveTo>
                <a:lnTo>
                  <a:pt x="5350" y="35"/>
                </a:lnTo>
                <a:lnTo>
                  <a:pt x="5293" y="139"/>
                </a:lnTo>
                <a:lnTo>
                  <a:pt x="5082" y="143"/>
                </a:lnTo>
                <a:lnTo>
                  <a:pt x="5109" y="231"/>
                </a:lnTo>
                <a:lnTo>
                  <a:pt x="5007" y="333"/>
                </a:lnTo>
                <a:lnTo>
                  <a:pt x="4902" y="793"/>
                </a:lnTo>
                <a:lnTo>
                  <a:pt x="5053" y="1046"/>
                </a:lnTo>
                <a:lnTo>
                  <a:pt x="5020" y="1204"/>
                </a:lnTo>
                <a:lnTo>
                  <a:pt x="4886" y="1164"/>
                </a:lnTo>
                <a:lnTo>
                  <a:pt x="4834" y="1052"/>
                </a:lnTo>
                <a:lnTo>
                  <a:pt x="4691" y="974"/>
                </a:lnTo>
                <a:lnTo>
                  <a:pt x="4476" y="1091"/>
                </a:lnTo>
                <a:lnTo>
                  <a:pt x="4331" y="1043"/>
                </a:lnTo>
                <a:lnTo>
                  <a:pt x="4239" y="1120"/>
                </a:lnTo>
                <a:lnTo>
                  <a:pt x="4227" y="1203"/>
                </a:lnTo>
                <a:lnTo>
                  <a:pt x="4140" y="1239"/>
                </a:lnTo>
                <a:lnTo>
                  <a:pt x="4033" y="1147"/>
                </a:lnTo>
                <a:lnTo>
                  <a:pt x="3963" y="983"/>
                </a:lnTo>
                <a:lnTo>
                  <a:pt x="3882" y="963"/>
                </a:lnTo>
                <a:lnTo>
                  <a:pt x="3835" y="1052"/>
                </a:lnTo>
                <a:lnTo>
                  <a:pt x="3734" y="1098"/>
                </a:lnTo>
                <a:lnTo>
                  <a:pt x="3704" y="1285"/>
                </a:lnTo>
                <a:lnTo>
                  <a:pt x="3629" y="1248"/>
                </a:lnTo>
                <a:lnTo>
                  <a:pt x="3577" y="1115"/>
                </a:lnTo>
                <a:lnTo>
                  <a:pt x="3466" y="1120"/>
                </a:lnTo>
                <a:lnTo>
                  <a:pt x="3396" y="1196"/>
                </a:lnTo>
                <a:lnTo>
                  <a:pt x="3294" y="1052"/>
                </a:lnTo>
                <a:lnTo>
                  <a:pt x="3196" y="1191"/>
                </a:lnTo>
                <a:lnTo>
                  <a:pt x="3014" y="1157"/>
                </a:lnTo>
                <a:lnTo>
                  <a:pt x="2977" y="1358"/>
                </a:lnTo>
                <a:lnTo>
                  <a:pt x="2922" y="1332"/>
                </a:lnTo>
                <a:lnTo>
                  <a:pt x="2931" y="1260"/>
                </a:lnTo>
                <a:lnTo>
                  <a:pt x="2922" y="1204"/>
                </a:lnTo>
                <a:lnTo>
                  <a:pt x="2773" y="1193"/>
                </a:lnTo>
                <a:lnTo>
                  <a:pt x="2614" y="1260"/>
                </a:lnTo>
                <a:lnTo>
                  <a:pt x="2616" y="1190"/>
                </a:lnTo>
                <a:lnTo>
                  <a:pt x="2542" y="1183"/>
                </a:lnTo>
                <a:lnTo>
                  <a:pt x="2508" y="1073"/>
                </a:lnTo>
                <a:lnTo>
                  <a:pt x="2337" y="1121"/>
                </a:lnTo>
                <a:lnTo>
                  <a:pt x="2121" y="1071"/>
                </a:lnTo>
                <a:lnTo>
                  <a:pt x="1986" y="1104"/>
                </a:lnTo>
                <a:lnTo>
                  <a:pt x="1963" y="1053"/>
                </a:lnTo>
                <a:lnTo>
                  <a:pt x="1780" y="1079"/>
                </a:lnTo>
                <a:lnTo>
                  <a:pt x="1707" y="1022"/>
                </a:lnTo>
                <a:lnTo>
                  <a:pt x="1319" y="1079"/>
                </a:lnTo>
                <a:lnTo>
                  <a:pt x="1053" y="1076"/>
                </a:lnTo>
                <a:lnTo>
                  <a:pt x="861" y="1180"/>
                </a:lnTo>
                <a:lnTo>
                  <a:pt x="512" y="1250"/>
                </a:lnTo>
                <a:lnTo>
                  <a:pt x="456" y="1443"/>
                </a:lnTo>
                <a:lnTo>
                  <a:pt x="309" y="1623"/>
                </a:lnTo>
                <a:lnTo>
                  <a:pt x="250" y="1663"/>
                </a:lnTo>
                <a:lnTo>
                  <a:pt x="202" y="1607"/>
                </a:lnTo>
                <a:lnTo>
                  <a:pt x="36" y="1624"/>
                </a:lnTo>
                <a:lnTo>
                  <a:pt x="0" y="1670"/>
                </a:lnTo>
                <a:lnTo>
                  <a:pt x="42" y="1773"/>
                </a:lnTo>
                <a:lnTo>
                  <a:pt x="12" y="1768"/>
                </a:lnTo>
                <a:lnTo>
                  <a:pt x="82" y="1888"/>
                </a:lnTo>
                <a:lnTo>
                  <a:pt x="5524" y="1888"/>
                </a:lnTo>
                <a:lnTo>
                  <a:pt x="5524" y="0"/>
                </a:lnTo>
                <a:lnTo>
                  <a:pt x="5524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1960" y="5780160"/>
            <a:ext cx="2922840" cy="998640"/>
          </a:xfrm>
          <a:custGeom>
            <a:avLst/>
            <a:gdLst/>
            <a:ahLst/>
            <a:rect l="l" t="t" r="r" b="b"/>
            <a:pathLst>
              <a:path w="5524" h="1888">
                <a:moveTo>
                  <a:pt x="5524" y="0"/>
                </a:moveTo>
                <a:lnTo>
                  <a:pt x="5350" y="35"/>
                </a:lnTo>
                <a:lnTo>
                  <a:pt x="5293" y="139"/>
                </a:lnTo>
                <a:lnTo>
                  <a:pt x="5082" y="143"/>
                </a:lnTo>
                <a:lnTo>
                  <a:pt x="5109" y="231"/>
                </a:lnTo>
                <a:lnTo>
                  <a:pt x="5007" y="333"/>
                </a:lnTo>
                <a:lnTo>
                  <a:pt x="4902" y="793"/>
                </a:lnTo>
                <a:lnTo>
                  <a:pt x="5053" y="1046"/>
                </a:lnTo>
                <a:lnTo>
                  <a:pt x="5020" y="1204"/>
                </a:lnTo>
                <a:lnTo>
                  <a:pt x="4886" y="1164"/>
                </a:lnTo>
                <a:lnTo>
                  <a:pt x="4834" y="1052"/>
                </a:lnTo>
                <a:lnTo>
                  <a:pt x="4691" y="974"/>
                </a:lnTo>
                <a:lnTo>
                  <a:pt x="4476" y="1091"/>
                </a:lnTo>
                <a:lnTo>
                  <a:pt x="4331" y="1043"/>
                </a:lnTo>
                <a:lnTo>
                  <a:pt x="4239" y="1120"/>
                </a:lnTo>
                <a:lnTo>
                  <a:pt x="4227" y="1203"/>
                </a:lnTo>
                <a:lnTo>
                  <a:pt x="4140" y="1239"/>
                </a:lnTo>
                <a:lnTo>
                  <a:pt x="4033" y="1147"/>
                </a:lnTo>
                <a:lnTo>
                  <a:pt x="3963" y="983"/>
                </a:lnTo>
                <a:lnTo>
                  <a:pt x="3882" y="963"/>
                </a:lnTo>
                <a:lnTo>
                  <a:pt x="3835" y="1052"/>
                </a:lnTo>
                <a:lnTo>
                  <a:pt x="3734" y="1098"/>
                </a:lnTo>
                <a:lnTo>
                  <a:pt x="3704" y="1285"/>
                </a:lnTo>
                <a:lnTo>
                  <a:pt x="3629" y="1248"/>
                </a:lnTo>
                <a:lnTo>
                  <a:pt x="3577" y="1115"/>
                </a:lnTo>
                <a:lnTo>
                  <a:pt x="3466" y="1120"/>
                </a:lnTo>
                <a:lnTo>
                  <a:pt x="3396" y="1196"/>
                </a:lnTo>
                <a:lnTo>
                  <a:pt x="3294" y="1052"/>
                </a:lnTo>
                <a:lnTo>
                  <a:pt x="3196" y="1191"/>
                </a:lnTo>
                <a:lnTo>
                  <a:pt x="3014" y="1157"/>
                </a:lnTo>
                <a:lnTo>
                  <a:pt x="2977" y="1358"/>
                </a:lnTo>
                <a:lnTo>
                  <a:pt x="2922" y="1332"/>
                </a:lnTo>
                <a:lnTo>
                  <a:pt x="2931" y="1260"/>
                </a:lnTo>
                <a:lnTo>
                  <a:pt x="2922" y="1204"/>
                </a:lnTo>
                <a:lnTo>
                  <a:pt x="2773" y="1193"/>
                </a:lnTo>
                <a:lnTo>
                  <a:pt x="2614" y="1260"/>
                </a:lnTo>
                <a:lnTo>
                  <a:pt x="2616" y="1190"/>
                </a:lnTo>
                <a:lnTo>
                  <a:pt x="2542" y="1183"/>
                </a:lnTo>
                <a:lnTo>
                  <a:pt x="2508" y="1073"/>
                </a:lnTo>
                <a:lnTo>
                  <a:pt x="2337" y="1121"/>
                </a:lnTo>
                <a:lnTo>
                  <a:pt x="2121" y="1071"/>
                </a:lnTo>
                <a:lnTo>
                  <a:pt x="1986" y="1104"/>
                </a:lnTo>
                <a:lnTo>
                  <a:pt x="1963" y="1053"/>
                </a:lnTo>
                <a:lnTo>
                  <a:pt x="1780" y="1079"/>
                </a:lnTo>
                <a:lnTo>
                  <a:pt x="1707" y="1022"/>
                </a:lnTo>
                <a:lnTo>
                  <a:pt x="1319" y="1079"/>
                </a:lnTo>
                <a:lnTo>
                  <a:pt x="1053" y="1076"/>
                </a:lnTo>
                <a:lnTo>
                  <a:pt x="861" y="1180"/>
                </a:lnTo>
                <a:lnTo>
                  <a:pt x="512" y="1250"/>
                </a:lnTo>
                <a:lnTo>
                  <a:pt x="456" y="1443"/>
                </a:lnTo>
                <a:lnTo>
                  <a:pt x="309" y="1623"/>
                </a:lnTo>
                <a:lnTo>
                  <a:pt x="250" y="1663"/>
                </a:lnTo>
                <a:lnTo>
                  <a:pt x="202" y="1607"/>
                </a:lnTo>
                <a:lnTo>
                  <a:pt x="36" y="1624"/>
                </a:lnTo>
                <a:lnTo>
                  <a:pt x="0" y="1670"/>
                </a:lnTo>
                <a:lnTo>
                  <a:pt x="42" y="1773"/>
                </a:lnTo>
                <a:lnTo>
                  <a:pt x="12" y="1768"/>
                </a:lnTo>
                <a:lnTo>
                  <a:pt x="82" y="1888"/>
                </a:lnTo>
                <a:lnTo>
                  <a:pt x="5524" y="1888"/>
                </a:lnTo>
                <a:lnTo>
                  <a:pt x="552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4280" y="3478320"/>
            <a:ext cx="3170520" cy="3240000"/>
          </a:xfrm>
          <a:custGeom>
            <a:avLst/>
            <a:gdLst/>
            <a:ahLst/>
            <a:rect l="l" t="t" r="r" b="b"/>
            <a:pathLst>
              <a:path w="5992" h="6124">
                <a:moveTo>
                  <a:pt x="5543" y="3181"/>
                </a:moveTo>
                <a:lnTo>
                  <a:pt x="5551" y="3068"/>
                </a:lnTo>
                <a:lnTo>
                  <a:pt x="5679" y="3027"/>
                </a:lnTo>
                <a:lnTo>
                  <a:pt x="5795" y="3030"/>
                </a:lnTo>
                <a:lnTo>
                  <a:pt x="5832" y="3107"/>
                </a:lnTo>
                <a:lnTo>
                  <a:pt x="5928" y="3122"/>
                </a:lnTo>
                <a:lnTo>
                  <a:pt x="5992" y="3101"/>
                </a:lnTo>
                <a:lnTo>
                  <a:pt x="5992" y="2260"/>
                </a:lnTo>
                <a:lnTo>
                  <a:pt x="5846" y="2227"/>
                </a:lnTo>
                <a:lnTo>
                  <a:pt x="5713" y="2313"/>
                </a:lnTo>
                <a:lnTo>
                  <a:pt x="5615" y="2305"/>
                </a:lnTo>
                <a:lnTo>
                  <a:pt x="5626" y="2049"/>
                </a:lnTo>
                <a:lnTo>
                  <a:pt x="5526" y="1946"/>
                </a:lnTo>
                <a:lnTo>
                  <a:pt x="5202" y="1854"/>
                </a:lnTo>
                <a:lnTo>
                  <a:pt x="5051" y="1608"/>
                </a:lnTo>
                <a:lnTo>
                  <a:pt x="4961" y="1574"/>
                </a:lnTo>
                <a:lnTo>
                  <a:pt x="4992" y="1396"/>
                </a:lnTo>
                <a:lnTo>
                  <a:pt x="4882" y="1407"/>
                </a:lnTo>
                <a:lnTo>
                  <a:pt x="4854" y="1339"/>
                </a:lnTo>
                <a:lnTo>
                  <a:pt x="4682" y="1272"/>
                </a:lnTo>
                <a:lnTo>
                  <a:pt x="4678" y="1088"/>
                </a:lnTo>
                <a:lnTo>
                  <a:pt x="4746" y="1042"/>
                </a:lnTo>
                <a:lnTo>
                  <a:pt x="4713" y="968"/>
                </a:lnTo>
                <a:lnTo>
                  <a:pt x="4779" y="941"/>
                </a:lnTo>
                <a:lnTo>
                  <a:pt x="4734" y="825"/>
                </a:lnTo>
                <a:lnTo>
                  <a:pt x="4570" y="675"/>
                </a:lnTo>
                <a:lnTo>
                  <a:pt x="4622" y="530"/>
                </a:lnTo>
                <a:lnTo>
                  <a:pt x="4556" y="288"/>
                </a:lnTo>
                <a:lnTo>
                  <a:pt x="4451" y="323"/>
                </a:lnTo>
                <a:lnTo>
                  <a:pt x="4223" y="120"/>
                </a:lnTo>
                <a:lnTo>
                  <a:pt x="4036" y="78"/>
                </a:lnTo>
                <a:lnTo>
                  <a:pt x="3950" y="131"/>
                </a:lnTo>
                <a:lnTo>
                  <a:pt x="3848" y="137"/>
                </a:lnTo>
                <a:lnTo>
                  <a:pt x="3800" y="243"/>
                </a:lnTo>
                <a:lnTo>
                  <a:pt x="3731" y="249"/>
                </a:lnTo>
                <a:lnTo>
                  <a:pt x="3609" y="392"/>
                </a:lnTo>
                <a:lnTo>
                  <a:pt x="3497" y="289"/>
                </a:lnTo>
                <a:lnTo>
                  <a:pt x="3534" y="130"/>
                </a:lnTo>
                <a:lnTo>
                  <a:pt x="3490" y="82"/>
                </a:lnTo>
                <a:lnTo>
                  <a:pt x="3244" y="39"/>
                </a:lnTo>
                <a:lnTo>
                  <a:pt x="3128" y="176"/>
                </a:lnTo>
                <a:lnTo>
                  <a:pt x="3067" y="174"/>
                </a:lnTo>
                <a:lnTo>
                  <a:pt x="2963" y="20"/>
                </a:lnTo>
                <a:lnTo>
                  <a:pt x="2796" y="51"/>
                </a:lnTo>
                <a:lnTo>
                  <a:pt x="2773" y="128"/>
                </a:lnTo>
                <a:lnTo>
                  <a:pt x="2642" y="15"/>
                </a:lnTo>
                <a:lnTo>
                  <a:pt x="2606" y="0"/>
                </a:lnTo>
                <a:lnTo>
                  <a:pt x="2498" y="88"/>
                </a:lnTo>
                <a:lnTo>
                  <a:pt x="2359" y="350"/>
                </a:lnTo>
                <a:lnTo>
                  <a:pt x="2357" y="514"/>
                </a:lnTo>
                <a:lnTo>
                  <a:pt x="2189" y="502"/>
                </a:lnTo>
                <a:lnTo>
                  <a:pt x="2153" y="557"/>
                </a:lnTo>
                <a:lnTo>
                  <a:pt x="2058" y="501"/>
                </a:lnTo>
                <a:lnTo>
                  <a:pt x="1953" y="535"/>
                </a:lnTo>
                <a:lnTo>
                  <a:pt x="1890" y="701"/>
                </a:lnTo>
                <a:lnTo>
                  <a:pt x="1767" y="728"/>
                </a:lnTo>
                <a:lnTo>
                  <a:pt x="1743" y="771"/>
                </a:lnTo>
                <a:lnTo>
                  <a:pt x="1757" y="1024"/>
                </a:lnTo>
                <a:lnTo>
                  <a:pt x="1710" y="1190"/>
                </a:lnTo>
                <a:lnTo>
                  <a:pt x="1920" y="1187"/>
                </a:lnTo>
                <a:lnTo>
                  <a:pt x="1962" y="1220"/>
                </a:lnTo>
                <a:lnTo>
                  <a:pt x="1875" y="1314"/>
                </a:lnTo>
                <a:lnTo>
                  <a:pt x="1861" y="1432"/>
                </a:lnTo>
                <a:lnTo>
                  <a:pt x="1638" y="1442"/>
                </a:lnTo>
                <a:lnTo>
                  <a:pt x="1590" y="1659"/>
                </a:lnTo>
                <a:lnTo>
                  <a:pt x="1411" y="1736"/>
                </a:lnTo>
                <a:lnTo>
                  <a:pt x="1366" y="1833"/>
                </a:lnTo>
                <a:lnTo>
                  <a:pt x="1387" y="1899"/>
                </a:lnTo>
                <a:lnTo>
                  <a:pt x="1347" y="1935"/>
                </a:lnTo>
                <a:lnTo>
                  <a:pt x="1408" y="2187"/>
                </a:lnTo>
                <a:lnTo>
                  <a:pt x="1343" y="2274"/>
                </a:lnTo>
                <a:lnTo>
                  <a:pt x="1313" y="2513"/>
                </a:lnTo>
                <a:lnTo>
                  <a:pt x="1423" y="2492"/>
                </a:lnTo>
                <a:lnTo>
                  <a:pt x="1504" y="2582"/>
                </a:lnTo>
                <a:lnTo>
                  <a:pt x="1505" y="2690"/>
                </a:lnTo>
                <a:lnTo>
                  <a:pt x="1340" y="2735"/>
                </a:lnTo>
                <a:lnTo>
                  <a:pt x="1313" y="2641"/>
                </a:lnTo>
                <a:lnTo>
                  <a:pt x="1350" y="2617"/>
                </a:lnTo>
                <a:lnTo>
                  <a:pt x="1275" y="2548"/>
                </a:lnTo>
                <a:lnTo>
                  <a:pt x="1222" y="2618"/>
                </a:lnTo>
                <a:lnTo>
                  <a:pt x="1104" y="2627"/>
                </a:lnTo>
                <a:lnTo>
                  <a:pt x="1104" y="2676"/>
                </a:lnTo>
                <a:lnTo>
                  <a:pt x="1029" y="2799"/>
                </a:lnTo>
                <a:lnTo>
                  <a:pt x="872" y="2814"/>
                </a:lnTo>
                <a:lnTo>
                  <a:pt x="849" y="2868"/>
                </a:lnTo>
                <a:lnTo>
                  <a:pt x="890" y="3017"/>
                </a:lnTo>
                <a:lnTo>
                  <a:pt x="746" y="3020"/>
                </a:lnTo>
                <a:lnTo>
                  <a:pt x="611" y="3168"/>
                </a:lnTo>
                <a:lnTo>
                  <a:pt x="534" y="3166"/>
                </a:lnTo>
                <a:lnTo>
                  <a:pt x="454" y="3094"/>
                </a:lnTo>
                <a:lnTo>
                  <a:pt x="116" y="3219"/>
                </a:lnTo>
                <a:lnTo>
                  <a:pt x="0" y="3183"/>
                </a:lnTo>
                <a:lnTo>
                  <a:pt x="101" y="3483"/>
                </a:lnTo>
                <a:lnTo>
                  <a:pt x="331" y="3996"/>
                </a:lnTo>
                <a:lnTo>
                  <a:pt x="412" y="4093"/>
                </a:lnTo>
                <a:lnTo>
                  <a:pt x="408" y="4222"/>
                </a:lnTo>
                <a:lnTo>
                  <a:pt x="455" y="4278"/>
                </a:lnTo>
                <a:lnTo>
                  <a:pt x="500" y="4567"/>
                </a:lnTo>
                <a:lnTo>
                  <a:pt x="508" y="4641"/>
                </a:lnTo>
                <a:lnTo>
                  <a:pt x="399" y="4777"/>
                </a:lnTo>
                <a:lnTo>
                  <a:pt x="285" y="4820"/>
                </a:lnTo>
                <a:lnTo>
                  <a:pt x="162" y="4943"/>
                </a:lnTo>
                <a:lnTo>
                  <a:pt x="42" y="5242"/>
                </a:lnTo>
                <a:lnTo>
                  <a:pt x="80" y="5308"/>
                </a:lnTo>
                <a:lnTo>
                  <a:pt x="290" y="5344"/>
                </a:lnTo>
                <a:lnTo>
                  <a:pt x="413" y="5455"/>
                </a:lnTo>
                <a:lnTo>
                  <a:pt x="448" y="5781"/>
                </a:lnTo>
                <a:lnTo>
                  <a:pt x="408" y="5850"/>
                </a:lnTo>
                <a:lnTo>
                  <a:pt x="408" y="5973"/>
                </a:lnTo>
                <a:lnTo>
                  <a:pt x="480" y="6119"/>
                </a:lnTo>
                <a:lnTo>
                  <a:pt x="510" y="6124"/>
                </a:lnTo>
                <a:lnTo>
                  <a:pt x="468" y="6021"/>
                </a:lnTo>
                <a:lnTo>
                  <a:pt x="504" y="5975"/>
                </a:lnTo>
                <a:lnTo>
                  <a:pt x="670" y="5958"/>
                </a:lnTo>
                <a:lnTo>
                  <a:pt x="718" y="6014"/>
                </a:lnTo>
                <a:lnTo>
                  <a:pt x="777" y="5974"/>
                </a:lnTo>
                <a:lnTo>
                  <a:pt x="924" y="5794"/>
                </a:lnTo>
                <a:lnTo>
                  <a:pt x="980" y="5601"/>
                </a:lnTo>
                <a:lnTo>
                  <a:pt x="1329" y="5531"/>
                </a:lnTo>
                <a:lnTo>
                  <a:pt x="1521" y="5427"/>
                </a:lnTo>
                <a:lnTo>
                  <a:pt x="1787" y="5430"/>
                </a:lnTo>
                <a:lnTo>
                  <a:pt x="2175" y="5373"/>
                </a:lnTo>
                <a:lnTo>
                  <a:pt x="2248" y="5430"/>
                </a:lnTo>
                <a:lnTo>
                  <a:pt x="2431" y="5404"/>
                </a:lnTo>
                <a:lnTo>
                  <a:pt x="2454" y="5455"/>
                </a:lnTo>
                <a:lnTo>
                  <a:pt x="2589" y="5422"/>
                </a:lnTo>
                <a:lnTo>
                  <a:pt x="2805" y="5472"/>
                </a:lnTo>
                <a:lnTo>
                  <a:pt x="2976" y="5424"/>
                </a:lnTo>
                <a:lnTo>
                  <a:pt x="3010" y="5534"/>
                </a:lnTo>
                <a:lnTo>
                  <a:pt x="3084" y="5541"/>
                </a:lnTo>
                <a:lnTo>
                  <a:pt x="3082" y="5611"/>
                </a:lnTo>
                <a:lnTo>
                  <a:pt x="3241" y="5544"/>
                </a:lnTo>
                <a:lnTo>
                  <a:pt x="3390" y="5555"/>
                </a:lnTo>
                <a:lnTo>
                  <a:pt x="3399" y="5611"/>
                </a:lnTo>
                <a:lnTo>
                  <a:pt x="3390" y="5683"/>
                </a:lnTo>
                <a:lnTo>
                  <a:pt x="3445" y="5709"/>
                </a:lnTo>
                <a:lnTo>
                  <a:pt x="3482" y="5508"/>
                </a:lnTo>
                <a:lnTo>
                  <a:pt x="3664" y="5542"/>
                </a:lnTo>
                <a:lnTo>
                  <a:pt x="3762" y="5403"/>
                </a:lnTo>
                <a:lnTo>
                  <a:pt x="3864" y="5547"/>
                </a:lnTo>
                <a:lnTo>
                  <a:pt x="3934" y="5471"/>
                </a:lnTo>
                <a:lnTo>
                  <a:pt x="4045" y="5466"/>
                </a:lnTo>
                <a:lnTo>
                  <a:pt x="4097" y="5599"/>
                </a:lnTo>
                <a:lnTo>
                  <a:pt x="4172" y="5636"/>
                </a:lnTo>
                <a:lnTo>
                  <a:pt x="4202" y="5449"/>
                </a:lnTo>
                <a:lnTo>
                  <a:pt x="4303" y="5403"/>
                </a:lnTo>
                <a:lnTo>
                  <a:pt x="4350" y="5314"/>
                </a:lnTo>
                <a:lnTo>
                  <a:pt x="4431" y="5334"/>
                </a:lnTo>
                <a:lnTo>
                  <a:pt x="4501" y="5498"/>
                </a:lnTo>
                <a:lnTo>
                  <a:pt x="4608" y="5590"/>
                </a:lnTo>
                <a:lnTo>
                  <a:pt x="4695" y="5554"/>
                </a:lnTo>
                <a:lnTo>
                  <a:pt x="4707" y="5471"/>
                </a:lnTo>
                <a:lnTo>
                  <a:pt x="4799" y="5394"/>
                </a:lnTo>
                <a:lnTo>
                  <a:pt x="4944" y="5442"/>
                </a:lnTo>
                <a:lnTo>
                  <a:pt x="5159" y="5325"/>
                </a:lnTo>
                <a:lnTo>
                  <a:pt x="5302" y="5403"/>
                </a:lnTo>
                <a:lnTo>
                  <a:pt x="5354" y="5515"/>
                </a:lnTo>
                <a:lnTo>
                  <a:pt x="5488" y="5555"/>
                </a:lnTo>
                <a:lnTo>
                  <a:pt x="5521" y="5397"/>
                </a:lnTo>
                <a:lnTo>
                  <a:pt x="5370" y="5144"/>
                </a:lnTo>
                <a:lnTo>
                  <a:pt x="5475" y="4684"/>
                </a:lnTo>
                <a:lnTo>
                  <a:pt x="5577" y="4582"/>
                </a:lnTo>
                <a:lnTo>
                  <a:pt x="5550" y="4494"/>
                </a:lnTo>
                <a:lnTo>
                  <a:pt x="5761" y="4490"/>
                </a:lnTo>
                <a:lnTo>
                  <a:pt x="5818" y="4386"/>
                </a:lnTo>
                <a:lnTo>
                  <a:pt x="5992" y="4351"/>
                </a:lnTo>
                <a:lnTo>
                  <a:pt x="5992" y="4141"/>
                </a:lnTo>
                <a:lnTo>
                  <a:pt x="5915" y="4107"/>
                </a:lnTo>
                <a:lnTo>
                  <a:pt x="5931" y="4038"/>
                </a:lnTo>
                <a:lnTo>
                  <a:pt x="5845" y="3875"/>
                </a:lnTo>
                <a:lnTo>
                  <a:pt x="5895" y="3816"/>
                </a:lnTo>
                <a:lnTo>
                  <a:pt x="5751" y="3677"/>
                </a:lnTo>
                <a:lnTo>
                  <a:pt x="5802" y="3609"/>
                </a:lnTo>
                <a:lnTo>
                  <a:pt x="5774" y="3529"/>
                </a:lnTo>
                <a:lnTo>
                  <a:pt x="5498" y="3317"/>
                </a:lnTo>
                <a:lnTo>
                  <a:pt x="5543" y="318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720" y="49320"/>
            <a:ext cx="2440080" cy="5619600"/>
          </a:xfrm>
          <a:custGeom>
            <a:avLst/>
            <a:gdLst/>
            <a:ahLst/>
            <a:rect l="l" t="t" r="r" b="b"/>
            <a:pathLst>
              <a:path w="4612" h="10621">
                <a:moveTo>
                  <a:pt x="836" y="0"/>
                </a:moveTo>
                <a:lnTo>
                  <a:pt x="779" y="29"/>
                </a:lnTo>
                <a:lnTo>
                  <a:pt x="777" y="72"/>
                </a:lnTo>
                <a:lnTo>
                  <a:pt x="748" y="134"/>
                </a:lnTo>
                <a:lnTo>
                  <a:pt x="717" y="190"/>
                </a:lnTo>
                <a:lnTo>
                  <a:pt x="691" y="255"/>
                </a:lnTo>
                <a:lnTo>
                  <a:pt x="688" y="261"/>
                </a:lnTo>
                <a:lnTo>
                  <a:pt x="684" y="269"/>
                </a:lnTo>
                <a:lnTo>
                  <a:pt x="658" y="313"/>
                </a:lnTo>
                <a:lnTo>
                  <a:pt x="626" y="356"/>
                </a:lnTo>
                <a:lnTo>
                  <a:pt x="599" y="386"/>
                </a:lnTo>
                <a:lnTo>
                  <a:pt x="567" y="432"/>
                </a:lnTo>
                <a:lnTo>
                  <a:pt x="525" y="504"/>
                </a:lnTo>
                <a:lnTo>
                  <a:pt x="488" y="548"/>
                </a:lnTo>
                <a:lnTo>
                  <a:pt x="445" y="605"/>
                </a:lnTo>
                <a:lnTo>
                  <a:pt x="433" y="646"/>
                </a:lnTo>
                <a:lnTo>
                  <a:pt x="416" y="710"/>
                </a:lnTo>
                <a:lnTo>
                  <a:pt x="400" y="734"/>
                </a:lnTo>
                <a:lnTo>
                  <a:pt x="337" y="771"/>
                </a:lnTo>
                <a:lnTo>
                  <a:pt x="298" y="829"/>
                </a:lnTo>
                <a:lnTo>
                  <a:pt x="262" y="885"/>
                </a:lnTo>
                <a:lnTo>
                  <a:pt x="220" y="948"/>
                </a:lnTo>
                <a:lnTo>
                  <a:pt x="177" y="1000"/>
                </a:lnTo>
                <a:lnTo>
                  <a:pt x="138" y="1085"/>
                </a:lnTo>
                <a:lnTo>
                  <a:pt x="97" y="1167"/>
                </a:lnTo>
                <a:lnTo>
                  <a:pt x="28" y="1299"/>
                </a:lnTo>
                <a:lnTo>
                  <a:pt x="6" y="1314"/>
                </a:lnTo>
                <a:lnTo>
                  <a:pt x="0" y="1315"/>
                </a:lnTo>
                <a:lnTo>
                  <a:pt x="92" y="1350"/>
                </a:lnTo>
                <a:lnTo>
                  <a:pt x="277" y="1296"/>
                </a:lnTo>
                <a:lnTo>
                  <a:pt x="356" y="1127"/>
                </a:lnTo>
                <a:lnTo>
                  <a:pt x="455" y="1083"/>
                </a:lnTo>
                <a:lnTo>
                  <a:pt x="502" y="1010"/>
                </a:lnTo>
                <a:lnTo>
                  <a:pt x="543" y="1068"/>
                </a:lnTo>
                <a:lnTo>
                  <a:pt x="530" y="1153"/>
                </a:lnTo>
                <a:lnTo>
                  <a:pt x="461" y="1134"/>
                </a:lnTo>
                <a:lnTo>
                  <a:pt x="488" y="1213"/>
                </a:lnTo>
                <a:lnTo>
                  <a:pt x="525" y="1191"/>
                </a:lnTo>
                <a:lnTo>
                  <a:pt x="577" y="1335"/>
                </a:lnTo>
                <a:lnTo>
                  <a:pt x="402" y="1245"/>
                </a:lnTo>
                <a:lnTo>
                  <a:pt x="536" y="1430"/>
                </a:lnTo>
                <a:lnTo>
                  <a:pt x="652" y="1468"/>
                </a:lnTo>
                <a:lnTo>
                  <a:pt x="662" y="1429"/>
                </a:lnTo>
                <a:lnTo>
                  <a:pt x="835" y="1613"/>
                </a:lnTo>
                <a:lnTo>
                  <a:pt x="1061" y="1597"/>
                </a:lnTo>
                <a:lnTo>
                  <a:pt x="1131" y="1535"/>
                </a:lnTo>
                <a:lnTo>
                  <a:pt x="1235" y="1519"/>
                </a:lnTo>
                <a:lnTo>
                  <a:pt x="1343" y="1557"/>
                </a:lnTo>
                <a:lnTo>
                  <a:pt x="1409" y="1685"/>
                </a:lnTo>
                <a:lnTo>
                  <a:pt x="1592" y="1701"/>
                </a:lnTo>
                <a:lnTo>
                  <a:pt x="1571" y="1847"/>
                </a:lnTo>
                <a:lnTo>
                  <a:pt x="969" y="1801"/>
                </a:lnTo>
                <a:lnTo>
                  <a:pt x="868" y="1921"/>
                </a:lnTo>
                <a:lnTo>
                  <a:pt x="910" y="1972"/>
                </a:lnTo>
                <a:lnTo>
                  <a:pt x="861" y="2062"/>
                </a:lnTo>
                <a:lnTo>
                  <a:pt x="747" y="2122"/>
                </a:lnTo>
                <a:lnTo>
                  <a:pt x="606" y="2053"/>
                </a:lnTo>
                <a:lnTo>
                  <a:pt x="569" y="2113"/>
                </a:lnTo>
                <a:lnTo>
                  <a:pt x="572" y="2305"/>
                </a:lnTo>
                <a:lnTo>
                  <a:pt x="477" y="2293"/>
                </a:lnTo>
                <a:lnTo>
                  <a:pt x="438" y="2213"/>
                </a:lnTo>
                <a:lnTo>
                  <a:pt x="360" y="2185"/>
                </a:lnTo>
                <a:lnTo>
                  <a:pt x="337" y="2310"/>
                </a:lnTo>
                <a:lnTo>
                  <a:pt x="409" y="2437"/>
                </a:lnTo>
                <a:lnTo>
                  <a:pt x="400" y="2561"/>
                </a:lnTo>
                <a:lnTo>
                  <a:pt x="489" y="2752"/>
                </a:lnTo>
                <a:lnTo>
                  <a:pt x="366" y="2815"/>
                </a:lnTo>
                <a:lnTo>
                  <a:pt x="338" y="3168"/>
                </a:lnTo>
                <a:lnTo>
                  <a:pt x="524" y="3763"/>
                </a:lnTo>
                <a:lnTo>
                  <a:pt x="423" y="3934"/>
                </a:lnTo>
                <a:lnTo>
                  <a:pt x="448" y="3989"/>
                </a:lnTo>
                <a:lnTo>
                  <a:pt x="374" y="3988"/>
                </a:lnTo>
                <a:lnTo>
                  <a:pt x="374" y="4094"/>
                </a:lnTo>
                <a:lnTo>
                  <a:pt x="425" y="4090"/>
                </a:lnTo>
                <a:lnTo>
                  <a:pt x="461" y="4200"/>
                </a:lnTo>
                <a:lnTo>
                  <a:pt x="567" y="4111"/>
                </a:lnTo>
                <a:lnTo>
                  <a:pt x="655" y="4113"/>
                </a:lnTo>
                <a:lnTo>
                  <a:pt x="820" y="4285"/>
                </a:lnTo>
                <a:lnTo>
                  <a:pt x="856" y="4386"/>
                </a:lnTo>
                <a:lnTo>
                  <a:pt x="846" y="4475"/>
                </a:lnTo>
                <a:lnTo>
                  <a:pt x="730" y="4494"/>
                </a:lnTo>
                <a:lnTo>
                  <a:pt x="652" y="4426"/>
                </a:lnTo>
                <a:lnTo>
                  <a:pt x="678" y="4387"/>
                </a:lnTo>
                <a:lnTo>
                  <a:pt x="572" y="4308"/>
                </a:lnTo>
                <a:lnTo>
                  <a:pt x="520" y="4339"/>
                </a:lnTo>
                <a:lnTo>
                  <a:pt x="551" y="4435"/>
                </a:lnTo>
                <a:lnTo>
                  <a:pt x="649" y="4491"/>
                </a:lnTo>
                <a:lnTo>
                  <a:pt x="489" y="4580"/>
                </a:lnTo>
                <a:lnTo>
                  <a:pt x="500" y="4697"/>
                </a:lnTo>
                <a:lnTo>
                  <a:pt x="435" y="4747"/>
                </a:lnTo>
                <a:lnTo>
                  <a:pt x="416" y="4868"/>
                </a:lnTo>
                <a:lnTo>
                  <a:pt x="443" y="4937"/>
                </a:lnTo>
                <a:lnTo>
                  <a:pt x="553" y="4915"/>
                </a:lnTo>
                <a:lnTo>
                  <a:pt x="563" y="5035"/>
                </a:lnTo>
                <a:lnTo>
                  <a:pt x="802" y="5157"/>
                </a:lnTo>
                <a:lnTo>
                  <a:pt x="822" y="5325"/>
                </a:lnTo>
                <a:lnTo>
                  <a:pt x="744" y="5394"/>
                </a:lnTo>
                <a:lnTo>
                  <a:pt x="803" y="5449"/>
                </a:lnTo>
                <a:lnTo>
                  <a:pt x="766" y="5725"/>
                </a:lnTo>
                <a:lnTo>
                  <a:pt x="871" y="5668"/>
                </a:lnTo>
                <a:lnTo>
                  <a:pt x="957" y="5715"/>
                </a:lnTo>
                <a:lnTo>
                  <a:pt x="941" y="5809"/>
                </a:lnTo>
                <a:lnTo>
                  <a:pt x="1033" y="5868"/>
                </a:lnTo>
                <a:lnTo>
                  <a:pt x="1059" y="5961"/>
                </a:lnTo>
                <a:lnTo>
                  <a:pt x="1159" y="6013"/>
                </a:lnTo>
                <a:lnTo>
                  <a:pt x="1146" y="6076"/>
                </a:lnTo>
                <a:lnTo>
                  <a:pt x="1281" y="6351"/>
                </a:lnTo>
                <a:lnTo>
                  <a:pt x="1262" y="6495"/>
                </a:lnTo>
                <a:lnTo>
                  <a:pt x="1393" y="6608"/>
                </a:lnTo>
                <a:lnTo>
                  <a:pt x="1416" y="6531"/>
                </a:lnTo>
                <a:lnTo>
                  <a:pt x="1583" y="6500"/>
                </a:lnTo>
                <a:lnTo>
                  <a:pt x="1687" y="6654"/>
                </a:lnTo>
                <a:lnTo>
                  <a:pt x="1748" y="6656"/>
                </a:lnTo>
                <a:lnTo>
                  <a:pt x="1864" y="6519"/>
                </a:lnTo>
                <a:lnTo>
                  <a:pt x="2110" y="6562"/>
                </a:lnTo>
                <a:lnTo>
                  <a:pt x="2154" y="6610"/>
                </a:lnTo>
                <a:lnTo>
                  <a:pt x="2117" y="6769"/>
                </a:lnTo>
                <a:lnTo>
                  <a:pt x="2229" y="6872"/>
                </a:lnTo>
                <a:lnTo>
                  <a:pt x="2351" y="6729"/>
                </a:lnTo>
                <a:lnTo>
                  <a:pt x="2420" y="6723"/>
                </a:lnTo>
                <a:lnTo>
                  <a:pt x="2468" y="6617"/>
                </a:lnTo>
                <a:lnTo>
                  <a:pt x="2570" y="6611"/>
                </a:lnTo>
                <a:lnTo>
                  <a:pt x="2656" y="6558"/>
                </a:lnTo>
                <a:lnTo>
                  <a:pt x="2843" y="6600"/>
                </a:lnTo>
                <a:lnTo>
                  <a:pt x="3071" y="6803"/>
                </a:lnTo>
                <a:lnTo>
                  <a:pt x="3176" y="6768"/>
                </a:lnTo>
                <a:lnTo>
                  <a:pt x="3242" y="7010"/>
                </a:lnTo>
                <a:lnTo>
                  <a:pt x="3190" y="7155"/>
                </a:lnTo>
                <a:lnTo>
                  <a:pt x="3354" y="7305"/>
                </a:lnTo>
                <a:lnTo>
                  <a:pt x="3399" y="7421"/>
                </a:lnTo>
                <a:lnTo>
                  <a:pt x="3333" y="7448"/>
                </a:lnTo>
                <a:lnTo>
                  <a:pt x="3366" y="7522"/>
                </a:lnTo>
                <a:lnTo>
                  <a:pt x="3298" y="7568"/>
                </a:lnTo>
                <a:lnTo>
                  <a:pt x="3302" y="7752"/>
                </a:lnTo>
                <a:lnTo>
                  <a:pt x="3474" y="7819"/>
                </a:lnTo>
                <a:lnTo>
                  <a:pt x="3502" y="7887"/>
                </a:lnTo>
                <a:lnTo>
                  <a:pt x="3612" y="7876"/>
                </a:lnTo>
                <a:lnTo>
                  <a:pt x="3581" y="8054"/>
                </a:lnTo>
                <a:lnTo>
                  <a:pt x="3671" y="8088"/>
                </a:lnTo>
                <a:lnTo>
                  <a:pt x="3822" y="8334"/>
                </a:lnTo>
                <a:lnTo>
                  <a:pt x="4146" y="8426"/>
                </a:lnTo>
                <a:lnTo>
                  <a:pt x="4246" y="8529"/>
                </a:lnTo>
                <a:lnTo>
                  <a:pt x="4235" y="8785"/>
                </a:lnTo>
                <a:lnTo>
                  <a:pt x="4333" y="8793"/>
                </a:lnTo>
                <a:lnTo>
                  <a:pt x="4466" y="8707"/>
                </a:lnTo>
                <a:lnTo>
                  <a:pt x="4612" y="8740"/>
                </a:lnTo>
                <a:lnTo>
                  <a:pt x="4612" y="9581"/>
                </a:lnTo>
                <a:lnTo>
                  <a:pt x="4548" y="9602"/>
                </a:lnTo>
                <a:lnTo>
                  <a:pt x="4452" y="9587"/>
                </a:lnTo>
                <a:lnTo>
                  <a:pt x="4415" y="9510"/>
                </a:lnTo>
                <a:lnTo>
                  <a:pt x="4299" y="9507"/>
                </a:lnTo>
                <a:lnTo>
                  <a:pt x="4171" y="9548"/>
                </a:lnTo>
                <a:lnTo>
                  <a:pt x="4163" y="9661"/>
                </a:lnTo>
                <a:lnTo>
                  <a:pt x="4118" y="9797"/>
                </a:lnTo>
                <a:lnTo>
                  <a:pt x="4394" y="10009"/>
                </a:lnTo>
                <a:lnTo>
                  <a:pt x="4422" y="10089"/>
                </a:lnTo>
                <a:lnTo>
                  <a:pt x="4371" y="10157"/>
                </a:lnTo>
                <a:lnTo>
                  <a:pt x="4515" y="10296"/>
                </a:lnTo>
                <a:lnTo>
                  <a:pt x="4465" y="10355"/>
                </a:lnTo>
                <a:lnTo>
                  <a:pt x="4551" y="10518"/>
                </a:lnTo>
                <a:lnTo>
                  <a:pt x="4535" y="10587"/>
                </a:lnTo>
                <a:lnTo>
                  <a:pt x="4612" y="10621"/>
                </a:lnTo>
                <a:lnTo>
                  <a:pt x="4612" y="0"/>
                </a:lnTo>
                <a:lnTo>
                  <a:pt x="836" y="0"/>
                </a:lnTo>
                <a:lnTo>
                  <a:pt x="2923" y="508"/>
                </a:lnTo>
                <a:lnTo>
                  <a:pt x="2979" y="560"/>
                </a:lnTo>
                <a:lnTo>
                  <a:pt x="2937" y="797"/>
                </a:lnTo>
                <a:lnTo>
                  <a:pt x="2838" y="715"/>
                </a:lnTo>
                <a:lnTo>
                  <a:pt x="2802" y="750"/>
                </a:lnTo>
                <a:lnTo>
                  <a:pt x="2895" y="872"/>
                </a:lnTo>
                <a:lnTo>
                  <a:pt x="2884" y="951"/>
                </a:lnTo>
                <a:lnTo>
                  <a:pt x="2845" y="944"/>
                </a:lnTo>
                <a:lnTo>
                  <a:pt x="2899" y="1037"/>
                </a:lnTo>
                <a:lnTo>
                  <a:pt x="2881" y="1150"/>
                </a:lnTo>
                <a:lnTo>
                  <a:pt x="2731" y="1252"/>
                </a:lnTo>
                <a:lnTo>
                  <a:pt x="2649" y="1170"/>
                </a:lnTo>
                <a:lnTo>
                  <a:pt x="2386" y="1178"/>
                </a:lnTo>
                <a:lnTo>
                  <a:pt x="2323" y="1327"/>
                </a:lnTo>
                <a:lnTo>
                  <a:pt x="2350" y="1338"/>
                </a:lnTo>
                <a:lnTo>
                  <a:pt x="2325" y="1446"/>
                </a:lnTo>
                <a:lnTo>
                  <a:pt x="2377" y="1544"/>
                </a:lnTo>
                <a:lnTo>
                  <a:pt x="2348" y="1608"/>
                </a:lnTo>
                <a:lnTo>
                  <a:pt x="2074" y="1642"/>
                </a:lnTo>
                <a:lnTo>
                  <a:pt x="2121" y="1537"/>
                </a:lnTo>
                <a:lnTo>
                  <a:pt x="2062" y="1488"/>
                </a:lnTo>
                <a:lnTo>
                  <a:pt x="2066" y="1414"/>
                </a:lnTo>
                <a:lnTo>
                  <a:pt x="1960" y="1340"/>
                </a:lnTo>
                <a:lnTo>
                  <a:pt x="1707" y="945"/>
                </a:lnTo>
                <a:lnTo>
                  <a:pt x="1586" y="902"/>
                </a:lnTo>
                <a:lnTo>
                  <a:pt x="1533" y="671"/>
                </a:lnTo>
                <a:lnTo>
                  <a:pt x="1331" y="479"/>
                </a:lnTo>
                <a:lnTo>
                  <a:pt x="1074" y="353"/>
                </a:lnTo>
                <a:lnTo>
                  <a:pt x="1035" y="265"/>
                </a:lnTo>
                <a:lnTo>
                  <a:pt x="1055" y="203"/>
                </a:lnTo>
                <a:lnTo>
                  <a:pt x="1174" y="274"/>
                </a:lnTo>
                <a:lnTo>
                  <a:pt x="1262" y="154"/>
                </a:lnTo>
                <a:lnTo>
                  <a:pt x="1183" y="110"/>
                </a:lnTo>
                <a:lnTo>
                  <a:pt x="1216" y="0"/>
                </a:lnTo>
                <a:lnTo>
                  <a:pt x="2392" y="0"/>
                </a:lnTo>
                <a:lnTo>
                  <a:pt x="2586" y="64"/>
                </a:lnTo>
                <a:lnTo>
                  <a:pt x="2664" y="213"/>
                </a:lnTo>
                <a:lnTo>
                  <a:pt x="2695" y="202"/>
                </a:lnTo>
                <a:lnTo>
                  <a:pt x="2833" y="338"/>
                </a:lnTo>
                <a:lnTo>
                  <a:pt x="2866" y="476"/>
                </a:lnTo>
                <a:lnTo>
                  <a:pt x="2923" y="508"/>
                </a:lnTo>
                <a:lnTo>
                  <a:pt x="836" y="0"/>
                </a:lnTo>
                <a:lnTo>
                  <a:pt x="836" y="0"/>
                </a:lnTo>
                <a:lnTo>
                  <a:pt x="836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4720" y="49320"/>
            <a:ext cx="2440080" cy="5619600"/>
          </a:xfrm>
          <a:custGeom>
            <a:avLst/>
            <a:gdLst/>
            <a:ahLst/>
            <a:rect l="l" t="t" r="r" b="b"/>
            <a:pathLst>
              <a:path w="4612" h="10621">
                <a:moveTo>
                  <a:pt x="836" y="0"/>
                </a:moveTo>
                <a:lnTo>
                  <a:pt x="779" y="29"/>
                </a:lnTo>
                <a:lnTo>
                  <a:pt x="777" y="72"/>
                </a:lnTo>
                <a:lnTo>
                  <a:pt x="748" y="134"/>
                </a:lnTo>
                <a:lnTo>
                  <a:pt x="717" y="190"/>
                </a:lnTo>
                <a:lnTo>
                  <a:pt x="691" y="255"/>
                </a:lnTo>
                <a:lnTo>
                  <a:pt x="688" y="261"/>
                </a:lnTo>
                <a:lnTo>
                  <a:pt x="684" y="269"/>
                </a:lnTo>
                <a:lnTo>
                  <a:pt x="658" y="313"/>
                </a:lnTo>
                <a:lnTo>
                  <a:pt x="626" y="356"/>
                </a:lnTo>
                <a:lnTo>
                  <a:pt x="599" y="386"/>
                </a:lnTo>
                <a:lnTo>
                  <a:pt x="567" y="432"/>
                </a:lnTo>
                <a:lnTo>
                  <a:pt x="525" y="504"/>
                </a:lnTo>
                <a:lnTo>
                  <a:pt x="488" y="548"/>
                </a:lnTo>
                <a:lnTo>
                  <a:pt x="445" y="605"/>
                </a:lnTo>
                <a:lnTo>
                  <a:pt x="433" y="646"/>
                </a:lnTo>
                <a:lnTo>
                  <a:pt x="416" y="710"/>
                </a:lnTo>
                <a:lnTo>
                  <a:pt x="400" y="734"/>
                </a:lnTo>
                <a:lnTo>
                  <a:pt x="337" y="771"/>
                </a:lnTo>
                <a:lnTo>
                  <a:pt x="298" y="829"/>
                </a:lnTo>
                <a:lnTo>
                  <a:pt x="262" y="885"/>
                </a:lnTo>
                <a:lnTo>
                  <a:pt x="220" y="948"/>
                </a:lnTo>
                <a:lnTo>
                  <a:pt x="177" y="1000"/>
                </a:lnTo>
                <a:lnTo>
                  <a:pt x="138" y="1085"/>
                </a:lnTo>
                <a:lnTo>
                  <a:pt x="97" y="1167"/>
                </a:lnTo>
                <a:lnTo>
                  <a:pt x="28" y="1299"/>
                </a:lnTo>
                <a:lnTo>
                  <a:pt x="6" y="1314"/>
                </a:lnTo>
                <a:lnTo>
                  <a:pt x="0" y="1315"/>
                </a:lnTo>
                <a:lnTo>
                  <a:pt x="92" y="1350"/>
                </a:lnTo>
                <a:lnTo>
                  <a:pt x="277" y="1296"/>
                </a:lnTo>
                <a:lnTo>
                  <a:pt x="356" y="1127"/>
                </a:lnTo>
                <a:lnTo>
                  <a:pt x="455" y="1083"/>
                </a:lnTo>
                <a:lnTo>
                  <a:pt x="502" y="1010"/>
                </a:lnTo>
                <a:lnTo>
                  <a:pt x="543" y="1068"/>
                </a:lnTo>
                <a:lnTo>
                  <a:pt x="530" y="1153"/>
                </a:lnTo>
                <a:lnTo>
                  <a:pt x="461" y="1134"/>
                </a:lnTo>
                <a:lnTo>
                  <a:pt x="488" y="1213"/>
                </a:lnTo>
                <a:lnTo>
                  <a:pt x="525" y="1191"/>
                </a:lnTo>
                <a:lnTo>
                  <a:pt x="577" y="1335"/>
                </a:lnTo>
                <a:lnTo>
                  <a:pt x="402" y="1245"/>
                </a:lnTo>
                <a:lnTo>
                  <a:pt x="536" y="1430"/>
                </a:lnTo>
                <a:lnTo>
                  <a:pt x="652" y="1468"/>
                </a:lnTo>
                <a:lnTo>
                  <a:pt x="662" y="1429"/>
                </a:lnTo>
                <a:lnTo>
                  <a:pt x="835" y="1613"/>
                </a:lnTo>
                <a:lnTo>
                  <a:pt x="1061" y="1597"/>
                </a:lnTo>
                <a:lnTo>
                  <a:pt x="1131" y="1535"/>
                </a:lnTo>
                <a:lnTo>
                  <a:pt x="1235" y="1519"/>
                </a:lnTo>
                <a:lnTo>
                  <a:pt x="1343" y="1557"/>
                </a:lnTo>
                <a:lnTo>
                  <a:pt x="1409" y="1685"/>
                </a:lnTo>
                <a:lnTo>
                  <a:pt x="1592" y="1701"/>
                </a:lnTo>
                <a:lnTo>
                  <a:pt x="1571" y="1847"/>
                </a:lnTo>
                <a:lnTo>
                  <a:pt x="969" y="1801"/>
                </a:lnTo>
                <a:lnTo>
                  <a:pt x="868" y="1921"/>
                </a:lnTo>
                <a:lnTo>
                  <a:pt x="910" y="1972"/>
                </a:lnTo>
                <a:lnTo>
                  <a:pt x="861" y="2062"/>
                </a:lnTo>
                <a:lnTo>
                  <a:pt x="747" y="2122"/>
                </a:lnTo>
                <a:lnTo>
                  <a:pt x="606" y="2053"/>
                </a:lnTo>
                <a:lnTo>
                  <a:pt x="569" y="2113"/>
                </a:lnTo>
                <a:lnTo>
                  <a:pt x="572" y="2305"/>
                </a:lnTo>
                <a:lnTo>
                  <a:pt x="477" y="2293"/>
                </a:lnTo>
                <a:lnTo>
                  <a:pt x="438" y="2213"/>
                </a:lnTo>
                <a:lnTo>
                  <a:pt x="360" y="2185"/>
                </a:lnTo>
                <a:lnTo>
                  <a:pt x="337" y="2310"/>
                </a:lnTo>
                <a:lnTo>
                  <a:pt x="409" y="2437"/>
                </a:lnTo>
                <a:lnTo>
                  <a:pt x="400" y="2561"/>
                </a:lnTo>
                <a:lnTo>
                  <a:pt x="489" y="2752"/>
                </a:lnTo>
                <a:lnTo>
                  <a:pt x="366" y="2815"/>
                </a:lnTo>
                <a:lnTo>
                  <a:pt x="338" y="3168"/>
                </a:lnTo>
                <a:lnTo>
                  <a:pt x="524" y="3763"/>
                </a:lnTo>
                <a:lnTo>
                  <a:pt x="423" y="3934"/>
                </a:lnTo>
                <a:lnTo>
                  <a:pt x="448" y="3989"/>
                </a:lnTo>
                <a:lnTo>
                  <a:pt x="374" y="3988"/>
                </a:lnTo>
                <a:lnTo>
                  <a:pt x="374" y="4094"/>
                </a:lnTo>
                <a:lnTo>
                  <a:pt x="425" y="4090"/>
                </a:lnTo>
                <a:lnTo>
                  <a:pt x="461" y="4200"/>
                </a:lnTo>
                <a:lnTo>
                  <a:pt x="567" y="4111"/>
                </a:lnTo>
                <a:lnTo>
                  <a:pt x="655" y="4113"/>
                </a:lnTo>
                <a:lnTo>
                  <a:pt x="820" y="4285"/>
                </a:lnTo>
                <a:lnTo>
                  <a:pt x="856" y="4386"/>
                </a:lnTo>
                <a:lnTo>
                  <a:pt x="846" y="4475"/>
                </a:lnTo>
                <a:lnTo>
                  <a:pt x="730" y="4494"/>
                </a:lnTo>
                <a:lnTo>
                  <a:pt x="652" y="4426"/>
                </a:lnTo>
                <a:lnTo>
                  <a:pt x="678" y="4387"/>
                </a:lnTo>
                <a:lnTo>
                  <a:pt x="572" y="4308"/>
                </a:lnTo>
                <a:lnTo>
                  <a:pt x="520" y="4339"/>
                </a:lnTo>
                <a:lnTo>
                  <a:pt x="551" y="4435"/>
                </a:lnTo>
                <a:lnTo>
                  <a:pt x="649" y="4491"/>
                </a:lnTo>
                <a:lnTo>
                  <a:pt x="489" y="4580"/>
                </a:lnTo>
                <a:lnTo>
                  <a:pt x="500" y="4697"/>
                </a:lnTo>
                <a:lnTo>
                  <a:pt x="435" y="4747"/>
                </a:lnTo>
                <a:lnTo>
                  <a:pt x="416" y="4868"/>
                </a:lnTo>
                <a:lnTo>
                  <a:pt x="443" y="4937"/>
                </a:lnTo>
                <a:lnTo>
                  <a:pt x="553" y="4915"/>
                </a:lnTo>
                <a:lnTo>
                  <a:pt x="563" y="5035"/>
                </a:lnTo>
                <a:lnTo>
                  <a:pt x="802" y="5157"/>
                </a:lnTo>
                <a:lnTo>
                  <a:pt x="822" y="5325"/>
                </a:lnTo>
                <a:lnTo>
                  <a:pt x="744" y="5394"/>
                </a:lnTo>
                <a:lnTo>
                  <a:pt x="803" y="5449"/>
                </a:lnTo>
                <a:lnTo>
                  <a:pt x="766" y="5725"/>
                </a:lnTo>
                <a:lnTo>
                  <a:pt x="871" y="5668"/>
                </a:lnTo>
                <a:lnTo>
                  <a:pt x="957" y="5715"/>
                </a:lnTo>
                <a:lnTo>
                  <a:pt x="941" y="5809"/>
                </a:lnTo>
                <a:lnTo>
                  <a:pt x="1033" y="5868"/>
                </a:lnTo>
                <a:lnTo>
                  <a:pt x="1059" y="5961"/>
                </a:lnTo>
                <a:lnTo>
                  <a:pt x="1159" y="6013"/>
                </a:lnTo>
                <a:lnTo>
                  <a:pt x="1146" y="6076"/>
                </a:lnTo>
                <a:lnTo>
                  <a:pt x="1281" y="6351"/>
                </a:lnTo>
                <a:lnTo>
                  <a:pt x="1262" y="6495"/>
                </a:lnTo>
                <a:lnTo>
                  <a:pt x="1393" y="6608"/>
                </a:lnTo>
                <a:lnTo>
                  <a:pt x="1416" y="6531"/>
                </a:lnTo>
                <a:lnTo>
                  <a:pt x="1583" y="6500"/>
                </a:lnTo>
                <a:lnTo>
                  <a:pt x="1687" y="6654"/>
                </a:lnTo>
                <a:lnTo>
                  <a:pt x="1748" y="6656"/>
                </a:lnTo>
                <a:lnTo>
                  <a:pt x="1864" y="6519"/>
                </a:lnTo>
                <a:lnTo>
                  <a:pt x="2110" y="6562"/>
                </a:lnTo>
                <a:lnTo>
                  <a:pt x="2154" y="6610"/>
                </a:lnTo>
                <a:lnTo>
                  <a:pt x="2117" y="6769"/>
                </a:lnTo>
                <a:lnTo>
                  <a:pt x="2229" y="6872"/>
                </a:lnTo>
                <a:lnTo>
                  <a:pt x="2351" y="6729"/>
                </a:lnTo>
                <a:lnTo>
                  <a:pt x="2420" y="6723"/>
                </a:lnTo>
                <a:lnTo>
                  <a:pt x="2468" y="6617"/>
                </a:lnTo>
                <a:lnTo>
                  <a:pt x="2570" y="6611"/>
                </a:lnTo>
                <a:lnTo>
                  <a:pt x="2656" y="6558"/>
                </a:lnTo>
                <a:lnTo>
                  <a:pt x="2843" y="6600"/>
                </a:lnTo>
                <a:lnTo>
                  <a:pt x="3071" y="6803"/>
                </a:lnTo>
                <a:lnTo>
                  <a:pt x="3176" y="6768"/>
                </a:lnTo>
                <a:lnTo>
                  <a:pt x="3242" y="7010"/>
                </a:lnTo>
                <a:lnTo>
                  <a:pt x="3190" y="7155"/>
                </a:lnTo>
                <a:lnTo>
                  <a:pt x="3354" y="7305"/>
                </a:lnTo>
                <a:lnTo>
                  <a:pt x="3399" y="7421"/>
                </a:lnTo>
                <a:lnTo>
                  <a:pt x="3333" y="7448"/>
                </a:lnTo>
                <a:lnTo>
                  <a:pt x="3366" y="7522"/>
                </a:lnTo>
                <a:lnTo>
                  <a:pt x="3298" y="7568"/>
                </a:lnTo>
                <a:lnTo>
                  <a:pt x="3302" y="7752"/>
                </a:lnTo>
                <a:lnTo>
                  <a:pt x="3474" y="7819"/>
                </a:lnTo>
                <a:lnTo>
                  <a:pt x="3502" y="7887"/>
                </a:lnTo>
                <a:lnTo>
                  <a:pt x="3612" y="7876"/>
                </a:lnTo>
                <a:lnTo>
                  <a:pt x="3581" y="8054"/>
                </a:lnTo>
                <a:lnTo>
                  <a:pt x="3671" y="8088"/>
                </a:lnTo>
                <a:lnTo>
                  <a:pt x="3822" y="8334"/>
                </a:lnTo>
                <a:lnTo>
                  <a:pt x="4146" y="8426"/>
                </a:lnTo>
                <a:lnTo>
                  <a:pt x="4246" y="8529"/>
                </a:lnTo>
                <a:lnTo>
                  <a:pt x="4235" y="8785"/>
                </a:lnTo>
                <a:lnTo>
                  <a:pt x="4333" y="8793"/>
                </a:lnTo>
                <a:lnTo>
                  <a:pt x="4466" y="8707"/>
                </a:lnTo>
                <a:lnTo>
                  <a:pt x="4612" y="8740"/>
                </a:lnTo>
                <a:lnTo>
                  <a:pt x="4612" y="9581"/>
                </a:lnTo>
                <a:lnTo>
                  <a:pt x="4548" y="9602"/>
                </a:lnTo>
                <a:lnTo>
                  <a:pt x="4452" y="9587"/>
                </a:lnTo>
                <a:lnTo>
                  <a:pt x="4415" y="9510"/>
                </a:lnTo>
                <a:lnTo>
                  <a:pt x="4299" y="9507"/>
                </a:lnTo>
                <a:lnTo>
                  <a:pt x="4171" y="9548"/>
                </a:lnTo>
                <a:lnTo>
                  <a:pt x="4163" y="9661"/>
                </a:lnTo>
                <a:lnTo>
                  <a:pt x="4118" y="9797"/>
                </a:lnTo>
                <a:lnTo>
                  <a:pt x="4394" y="10009"/>
                </a:lnTo>
                <a:lnTo>
                  <a:pt x="4422" y="10089"/>
                </a:lnTo>
                <a:lnTo>
                  <a:pt x="4371" y="10157"/>
                </a:lnTo>
                <a:lnTo>
                  <a:pt x="4515" y="10296"/>
                </a:lnTo>
                <a:lnTo>
                  <a:pt x="4465" y="10355"/>
                </a:lnTo>
                <a:lnTo>
                  <a:pt x="4551" y="10518"/>
                </a:lnTo>
                <a:lnTo>
                  <a:pt x="4535" y="10587"/>
                </a:lnTo>
                <a:lnTo>
                  <a:pt x="4612" y="10621"/>
                </a:lnTo>
                <a:lnTo>
                  <a:pt x="4612" y="0"/>
                </a:lnTo>
                <a:lnTo>
                  <a:pt x="8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72280" y="49320"/>
            <a:ext cx="1028880" cy="868320"/>
          </a:xfrm>
          <a:custGeom>
            <a:avLst/>
            <a:gdLst/>
            <a:ahLst/>
            <a:rect l="l" t="t" r="r" b="b"/>
            <a:pathLst>
              <a:path w="1944" h="1642">
                <a:moveTo>
                  <a:pt x="1888" y="508"/>
                </a:moveTo>
                <a:lnTo>
                  <a:pt x="1944" y="560"/>
                </a:lnTo>
                <a:lnTo>
                  <a:pt x="1902" y="797"/>
                </a:lnTo>
                <a:lnTo>
                  <a:pt x="1803" y="715"/>
                </a:lnTo>
                <a:lnTo>
                  <a:pt x="1767" y="750"/>
                </a:lnTo>
                <a:lnTo>
                  <a:pt x="1860" y="872"/>
                </a:lnTo>
                <a:lnTo>
                  <a:pt x="1849" y="951"/>
                </a:lnTo>
                <a:lnTo>
                  <a:pt x="1810" y="944"/>
                </a:lnTo>
                <a:lnTo>
                  <a:pt x="1864" y="1037"/>
                </a:lnTo>
                <a:lnTo>
                  <a:pt x="1846" y="1150"/>
                </a:lnTo>
                <a:lnTo>
                  <a:pt x="1696" y="1252"/>
                </a:lnTo>
                <a:lnTo>
                  <a:pt x="1614" y="1170"/>
                </a:lnTo>
                <a:lnTo>
                  <a:pt x="1351" y="1178"/>
                </a:lnTo>
                <a:lnTo>
                  <a:pt x="1288" y="1327"/>
                </a:lnTo>
                <a:lnTo>
                  <a:pt x="1315" y="1338"/>
                </a:lnTo>
                <a:lnTo>
                  <a:pt x="1290" y="1446"/>
                </a:lnTo>
                <a:lnTo>
                  <a:pt x="1342" y="1544"/>
                </a:lnTo>
                <a:lnTo>
                  <a:pt x="1313" y="1608"/>
                </a:lnTo>
                <a:lnTo>
                  <a:pt x="1039" y="1642"/>
                </a:lnTo>
                <a:lnTo>
                  <a:pt x="1086" y="1537"/>
                </a:lnTo>
                <a:lnTo>
                  <a:pt x="1027" y="1488"/>
                </a:lnTo>
                <a:lnTo>
                  <a:pt x="1031" y="1414"/>
                </a:lnTo>
                <a:lnTo>
                  <a:pt x="925" y="1340"/>
                </a:lnTo>
                <a:lnTo>
                  <a:pt x="672" y="945"/>
                </a:lnTo>
                <a:lnTo>
                  <a:pt x="551" y="902"/>
                </a:lnTo>
                <a:lnTo>
                  <a:pt x="498" y="671"/>
                </a:lnTo>
                <a:lnTo>
                  <a:pt x="296" y="479"/>
                </a:lnTo>
                <a:lnTo>
                  <a:pt x="39" y="353"/>
                </a:lnTo>
                <a:lnTo>
                  <a:pt x="0" y="265"/>
                </a:lnTo>
                <a:lnTo>
                  <a:pt x="20" y="203"/>
                </a:lnTo>
                <a:lnTo>
                  <a:pt x="139" y="274"/>
                </a:lnTo>
                <a:lnTo>
                  <a:pt x="227" y="154"/>
                </a:lnTo>
                <a:lnTo>
                  <a:pt x="148" y="110"/>
                </a:lnTo>
                <a:lnTo>
                  <a:pt x="181" y="0"/>
                </a:lnTo>
                <a:lnTo>
                  <a:pt x="1357" y="0"/>
                </a:lnTo>
                <a:lnTo>
                  <a:pt x="1551" y="64"/>
                </a:lnTo>
                <a:lnTo>
                  <a:pt x="1629" y="213"/>
                </a:lnTo>
                <a:lnTo>
                  <a:pt x="1660" y="202"/>
                </a:lnTo>
                <a:lnTo>
                  <a:pt x="1798" y="338"/>
                </a:lnTo>
                <a:lnTo>
                  <a:pt x="1831" y="476"/>
                </a:lnTo>
                <a:lnTo>
                  <a:pt x="1888" y="50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3720" y="4395960"/>
            <a:ext cx="1130040" cy="614160"/>
          </a:xfrm>
          <a:custGeom>
            <a:avLst/>
            <a:gdLst/>
            <a:ahLst/>
            <a:rect l="l" t="t" r="r" b="b"/>
            <a:pathLst>
              <a:path w="2136" h="1162">
                <a:moveTo>
                  <a:pt x="797" y="43"/>
                </a:moveTo>
                <a:lnTo>
                  <a:pt x="157" y="498"/>
                </a:lnTo>
                <a:lnTo>
                  <a:pt x="145" y="862"/>
                </a:lnTo>
                <a:lnTo>
                  <a:pt x="0" y="1129"/>
                </a:lnTo>
                <a:lnTo>
                  <a:pt x="188" y="892"/>
                </a:lnTo>
                <a:lnTo>
                  <a:pt x="197" y="790"/>
                </a:lnTo>
                <a:lnTo>
                  <a:pt x="266" y="863"/>
                </a:lnTo>
                <a:lnTo>
                  <a:pt x="332" y="801"/>
                </a:lnTo>
                <a:lnTo>
                  <a:pt x="482" y="804"/>
                </a:lnTo>
                <a:lnTo>
                  <a:pt x="267" y="987"/>
                </a:lnTo>
                <a:lnTo>
                  <a:pt x="215" y="965"/>
                </a:lnTo>
                <a:lnTo>
                  <a:pt x="190" y="1062"/>
                </a:lnTo>
                <a:lnTo>
                  <a:pt x="96" y="1145"/>
                </a:lnTo>
                <a:lnTo>
                  <a:pt x="467" y="1162"/>
                </a:lnTo>
                <a:lnTo>
                  <a:pt x="1315" y="1151"/>
                </a:lnTo>
                <a:lnTo>
                  <a:pt x="2136" y="1010"/>
                </a:lnTo>
                <a:lnTo>
                  <a:pt x="2057" y="944"/>
                </a:lnTo>
                <a:lnTo>
                  <a:pt x="2036" y="741"/>
                </a:lnTo>
                <a:lnTo>
                  <a:pt x="2043" y="570"/>
                </a:lnTo>
                <a:lnTo>
                  <a:pt x="2112" y="433"/>
                </a:lnTo>
                <a:lnTo>
                  <a:pt x="2079" y="350"/>
                </a:lnTo>
                <a:lnTo>
                  <a:pt x="2001" y="285"/>
                </a:lnTo>
                <a:lnTo>
                  <a:pt x="1942" y="291"/>
                </a:lnTo>
                <a:lnTo>
                  <a:pt x="1895" y="164"/>
                </a:lnTo>
                <a:lnTo>
                  <a:pt x="1628" y="210"/>
                </a:lnTo>
                <a:lnTo>
                  <a:pt x="1544" y="262"/>
                </a:lnTo>
                <a:lnTo>
                  <a:pt x="1500" y="193"/>
                </a:lnTo>
                <a:lnTo>
                  <a:pt x="1403" y="200"/>
                </a:lnTo>
                <a:lnTo>
                  <a:pt x="1241" y="104"/>
                </a:lnTo>
                <a:lnTo>
                  <a:pt x="1149" y="104"/>
                </a:lnTo>
                <a:lnTo>
                  <a:pt x="1056" y="0"/>
                </a:lnTo>
                <a:lnTo>
                  <a:pt x="982" y="55"/>
                </a:lnTo>
                <a:lnTo>
                  <a:pt x="988" y="111"/>
                </a:lnTo>
                <a:lnTo>
                  <a:pt x="933" y="127"/>
                </a:lnTo>
                <a:lnTo>
                  <a:pt x="1010" y="427"/>
                </a:lnTo>
                <a:lnTo>
                  <a:pt x="913" y="498"/>
                </a:lnTo>
                <a:lnTo>
                  <a:pt x="767" y="506"/>
                </a:lnTo>
                <a:lnTo>
                  <a:pt x="705" y="462"/>
                </a:lnTo>
                <a:lnTo>
                  <a:pt x="558" y="482"/>
                </a:lnTo>
                <a:lnTo>
                  <a:pt x="528" y="444"/>
                </a:lnTo>
                <a:lnTo>
                  <a:pt x="797" y="4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320" y="4803840"/>
            <a:ext cx="2720880" cy="1974960"/>
          </a:xfrm>
          <a:custGeom>
            <a:avLst/>
            <a:gdLst/>
            <a:ahLst/>
            <a:rect l="l" t="t" r="r" b="b"/>
            <a:pathLst>
              <a:path w="5143" h="3733">
                <a:moveTo>
                  <a:pt x="5062" y="3733"/>
                </a:moveTo>
                <a:lnTo>
                  <a:pt x="5102" y="3672"/>
                </a:lnTo>
                <a:lnTo>
                  <a:pt x="5118" y="3636"/>
                </a:lnTo>
                <a:lnTo>
                  <a:pt x="5105" y="3623"/>
                </a:lnTo>
                <a:lnTo>
                  <a:pt x="5108" y="3586"/>
                </a:lnTo>
                <a:lnTo>
                  <a:pt x="5143" y="3521"/>
                </a:lnTo>
                <a:lnTo>
                  <a:pt x="5140" y="3471"/>
                </a:lnTo>
                <a:lnTo>
                  <a:pt x="5122" y="3458"/>
                </a:lnTo>
                <a:lnTo>
                  <a:pt x="5094" y="3451"/>
                </a:lnTo>
                <a:lnTo>
                  <a:pt x="5087" y="3428"/>
                </a:lnTo>
                <a:lnTo>
                  <a:pt x="5099" y="3364"/>
                </a:lnTo>
                <a:lnTo>
                  <a:pt x="5089" y="3344"/>
                </a:lnTo>
                <a:lnTo>
                  <a:pt x="5098" y="3321"/>
                </a:lnTo>
                <a:lnTo>
                  <a:pt x="5107" y="3305"/>
                </a:lnTo>
                <a:lnTo>
                  <a:pt x="5094" y="3267"/>
                </a:lnTo>
                <a:lnTo>
                  <a:pt x="5045" y="3244"/>
                </a:lnTo>
                <a:lnTo>
                  <a:pt x="5004" y="3245"/>
                </a:lnTo>
                <a:lnTo>
                  <a:pt x="4992" y="3226"/>
                </a:lnTo>
                <a:lnTo>
                  <a:pt x="4999" y="3192"/>
                </a:lnTo>
                <a:lnTo>
                  <a:pt x="4983" y="3118"/>
                </a:lnTo>
                <a:lnTo>
                  <a:pt x="4964" y="3104"/>
                </a:lnTo>
                <a:lnTo>
                  <a:pt x="5013" y="2982"/>
                </a:lnTo>
                <a:lnTo>
                  <a:pt x="5036" y="2959"/>
                </a:lnTo>
                <a:lnTo>
                  <a:pt x="4993" y="2923"/>
                </a:lnTo>
                <a:lnTo>
                  <a:pt x="5009" y="2894"/>
                </a:lnTo>
                <a:lnTo>
                  <a:pt x="5033" y="2874"/>
                </a:lnTo>
                <a:lnTo>
                  <a:pt x="4999" y="2842"/>
                </a:lnTo>
                <a:lnTo>
                  <a:pt x="4973" y="2799"/>
                </a:lnTo>
                <a:lnTo>
                  <a:pt x="4908" y="2762"/>
                </a:lnTo>
                <a:lnTo>
                  <a:pt x="4869" y="2720"/>
                </a:lnTo>
                <a:lnTo>
                  <a:pt x="4822" y="2648"/>
                </a:lnTo>
                <a:lnTo>
                  <a:pt x="4786" y="2635"/>
                </a:lnTo>
                <a:lnTo>
                  <a:pt x="4728" y="2598"/>
                </a:lnTo>
                <a:lnTo>
                  <a:pt x="4714" y="2578"/>
                </a:lnTo>
                <a:lnTo>
                  <a:pt x="4663" y="2569"/>
                </a:lnTo>
                <a:lnTo>
                  <a:pt x="4679" y="2516"/>
                </a:lnTo>
                <a:lnTo>
                  <a:pt x="4678" y="2483"/>
                </a:lnTo>
                <a:lnTo>
                  <a:pt x="4679" y="2442"/>
                </a:lnTo>
                <a:lnTo>
                  <a:pt x="4685" y="2415"/>
                </a:lnTo>
                <a:lnTo>
                  <a:pt x="4698" y="2393"/>
                </a:lnTo>
                <a:lnTo>
                  <a:pt x="4733" y="2365"/>
                </a:lnTo>
                <a:lnTo>
                  <a:pt x="4774" y="2335"/>
                </a:lnTo>
                <a:lnTo>
                  <a:pt x="4789" y="2319"/>
                </a:lnTo>
                <a:lnTo>
                  <a:pt x="4807" y="2310"/>
                </a:lnTo>
                <a:lnTo>
                  <a:pt x="4822" y="2286"/>
                </a:lnTo>
                <a:lnTo>
                  <a:pt x="4835" y="2172"/>
                </a:lnTo>
                <a:lnTo>
                  <a:pt x="4817" y="2125"/>
                </a:lnTo>
                <a:lnTo>
                  <a:pt x="4839" y="2100"/>
                </a:lnTo>
                <a:lnTo>
                  <a:pt x="4839" y="2083"/>
                </a:lnTo>
                <a:lnTo>
                  <a:pt x="4851" y="2094"/>
                </a:lnTo>
                <a:lnTo>
                  <a:pt x="4855" y="2077"/>
                </a:lnTo>
                <a:lnTo>
                  <a:pt x="4881" y="2030"/>
                </a:lnTo>
                <a:lnTo>
                  <a:pt x="4855" y="2012"/>
                </a:lnTo>
                <a:lnTo>
                  <a:pt x="4855" y="1943"/>
                </a:lnTo>
                <a:lnTo>
                  <a:pt x="4835" y="1922"/>
                </a:lnTo>
                <a:lnTo>
                  <a:pt x="4819" y="1844"/>
                </a:lnTo>
                <a:lnTo>
                  <a:pt x="4817" y="1801"/>
                </a:lnTo>
                <a:lnTo>
                  <a:pt x="4809" y="1781"/>
                </a:lnTo>
                <a:lnTo>
                  <a:pt x="4803" y="1753"/>
                </a:lnTo>
                <a:lnTo>
                  <a:pt x="4779" y="1717"/>
                </a:lnTo>
                <a:lnTo>
                  <a:pt x="4779" y="1692"/>
                </a:lnTo>
                <a:lnTo>
                  <a:pt x="4773" y="1660"/>
                </a:lnTo>
                <a:lnTo>
                  <a:pt x="4774" y="1608"/>
                </a:lnTo>
                <a:lnTo>
                  <a:pt x="4767" y="1592"/>
                </a:lnTo>
                <a:lnTo>
                  <a:pt x="4751" y="1578"/>
                </a:lnTo>
                <a:lnTo>
                  <a:pt x="4747" y="1510"/>
                </a:lnTo>
                <a:lnTo>
                  <a:pt x="4725" y="1513"/>
                </a:lnTo>
                <a:lnTo>
                  <a:pt x="4702" y="1503"/>
                </a:lnTo>
                <a:lnTo>
                  <a:pt x="4705" y="1492"/>
                </a:lnTo>
                <a:lnTo>
                  <a:pt x="4769" y="1496"/>
                </a:lnTo>
                <a:lnTo>
                  <a:pt x="4787" y="1490"/>
                </a:lnTo>
                <a:lnTo>
                  <a:pt x="4714" y="1428"/>
                </a:lnTo>
                <a:lnTo>
                  <a:pt x="4682" y="1456"/>
                </a:lnTo>
                <a:lnTo>
                  <a:pt x="4645" y="1460"/>
                </a:lnTo>
                <a:lnTo>
                  <a:pt x="4663" y="1510"/>
                </a:lnTo>
                <a:lnTo>
                  <a:pt x="4600" y="1447"/>
                </a:lnTo>
                <a:lnTo>
                  <a:pt x="4584" y="1443"/>
                </a:lnTo>
                <a:lnTo>
                  <a:pt x="4609" y="1482"/>
                </a:lnTo>
                <a:lnTo>
                  <a:pt x="4579" y="1464"/>
                </a:lnTo>
                <a:lnTo>
                  <a:pt x="4531" y="1414"/>
                </a:lnTo>
                <a:lnTo>
                  <a:pt x="4492" y="1377"/>
                </a:lnTo>
                <a:lnTo>
                  <a:pt x="4485" y="1384"/>
                </a:lnTo>
                <a:lnTo>
                  <a:pt x="4469" y="1362"/>
                </a:lnTo>
                <a:lnTo>
                  <a:pt x="4452" y="1355"/>
                </a:lnTo>
                <a:lnTo>
                  <a:pt x="4423" y="1329"/>
                </a:lnTo>
                <a:lnTo>
                  <a:pt x="4417" y="1318"/>
                </a:lnTo>
                <a:lnTo>
                  <a:pt x="4429" y="1305"/>
                </a:lnTo>
                <a:lnTo>
                  <a:pt x="4430" y="1280"/>
                </a:lnTo>
                <a:lnTo>
                  <a:pt x="4466" y="1250"/>
                </a:lnTo>
                <a:lnTo>
                  <a:pt x="4485" y="1241"/>
                </a:lnTo>
                <a:lnTo>
                  <a:pt x="4469" y="1215"/>
                </a:lnTo>
                <a:lnTo>
                  <a:pt x="4453" y="1207"/>
                </a:lnTo>
                <a:lnTo>
                  <a:pt x="4433" y="1168"/>
                </a:lnTo>
                <a:lnTo>
                  <a:pt x="4377" y="1133"/>
                </a:lnTo>
                <a:lnTo>
                  <a:pt x="4383" y="1100"/>
                </a:lnTo>
                <a:lnTo>
                  <a:pt x="4410" y="1051"/>
                </a:lnTo>
                <a:lnTo>
                  <a:pt x="4413" y="1024"/>
                </a:lnTo>
                <a:lnTo>
                  <a:pt x="4366" y="977"/>
                </a:lnTo>
                <a:lnTo>
                  <a:pt x="4346" y="969"/>
                </a:lnTo>
                <a:lnTo>
                  <a:pt x="4343" y="949"/>
                </a:lnTo>
                <a:lnTo>
                  <a:pt x="4354" y="929"/>
                </a:lnTo>
                <a:lnTo>
                  <a:pt x="4344" y="938"/>
                </a:lnTo>
                <a:lnTo>
                  <a:pt x="4344" y="932"/>
                </a:lnTo>
                <a:lnTo>
                  <a:pt x="4299" y="967"/>
                </a:lnTo>
                <a:lnTo>
                  <a:pt x="4264" y="980"/>
                </a:lnTo>
                <a:lnTo>
                  <a:pt x="4212" y="985"/>
                </a:lnTo>
                <a:lnTo>
                  <a:pt x="4184" y="1000"/>
                </a:lnTo>
                <a:lnTo>
                  <a:pt x="4187" y="1023"/>
                </a:lnTo>
                <a:lnTo>
                  <a:pt x="4196" y="1033"/>
                </a:lnTo>
                <a:lnTo>
                  <a:pt x="4187" y="1037"/>
                </a:lnTo>
                <a:lnTo>
                  <a:pt x="4183" y="1063"/>
                </a:lnTo>
                <a:lnTo>
                  <a:pt x="4166" y="1036"/>
                </a:lnTo>
                <a:lnTo>
                  <a:pt x="4164" y="1026"/>
                </a:lnTo>
                <a:lnTo>
                  <a:pt x="4153" y="974"/>
                </a:lnTo>
                <a:lnTo>
                  <a:pt x="4150" y="984"/>
                </a:lnTo>
                <a:lnTo>
                  <a:pt x="4147" y="939"/>
                </a:lnTo>
                <a:lnTo>
                  <a:pt x="4135" y="926"/>
                </a:lnTo>
                <a:lnTo>
                  <a:pt x="4128" y="941"/>
                </a:lnTo>
                <a:lnTo>
                  <a:pt x="4111" y="942"/>
                </a:lnTo>
                <a:lnTo>
                  <a:pt x="4114" y="923"/>
                </a:lnTo>
                <a:lnTo>
                  <a:pt x="4099" y="915"/>
                </a:lnTo>
                <a:lnTo>
                  <a:pt x="4092" y="900"/>
                </a:lnTo>
                <a:lnTo>
                  <a:pt x="4079" y="889"/>
                </a:lnTo>
                <a:lnTo>
                  <a:pt x="4051" y="840"/>
                </a:lnTo>
                <a:lnTo>
                  <a:pt x="4039" y="833"/>
                </a:lnTo>
                <a:lnTo>
                  <a:pt x="4028" y="841"/>
                </a:lnTo>
                <a:lnTo>
                  <a:pt x="3993" y="846"/>
                </a:lnTo>
                <a:lnTo>
                  <a:pt x="4002" y="836"/>
                </a:lnTo>
                <a:lnTo>
                  <a:pt x="3983" y="831"/>
                </a:lnTo>
                <a:lnTo>
                  <a:pt x="3980" y="818"/>
                </a:lnTo>
                <a:lnTo>
                  <a:pt x="3950" y="852"/>
                </a:lnTo>
                <a:lnTo>
                  <a:pt x="3915" y="840"/>
                </a:lnTo>
                <a:lnTo>
                  <a:pt x="3915" y="833"/>
                </a:lnTo>
                <a:lnTo>
                  <a:pt x="3897" y="841"/>
                </a:lnTo>
                <a:lnTo>
                  <a:pt x="3894" y="831"/>
                </a:lnTo>
                <a:lnTo>
                  <a:pt x="3879" y="837"/>
                </a:lnTo>
                <a:lnTo>
                  <a:pt x="3876" y="807"/>
                </a:lnTo>
                <a:lnTo>
                  <a:pt x="3862" y="804"/>
                </a:lnTo>
                <a:lnTo>
                  <a:pt x="3872" y="784"/>
                </a:lnTo>
                <a:lnTo>
                  <a:pt x="3884" y="785"/>
                </a:lnTo>
                <a:lnTo>
                  <a:pt x="3889" y="777"/>
                </a:lnTo>
                <a:lnTo>
                  <a:pt x="3889" y="744"/>
                </a:lnTo>
                <a:lnTo>
                  <a:pt x="3905" y="735"/>
                </a:lnTo>
                <a:lnTo>
                  <a:pt x="3918" y="712"/>
                </a:lnTo>
                <a:lnTo>
                  <a:pt x="3902" y="689"/>
                </a:lnTo>
                <a:lnTo>
                  <a:pt x="3891" y="693"/>
                </a:lnTo>
                <a:lnTo>
                  <a:pt x="3871" y="660"/>
                </a:lnTo>
                <a:lnTo>
                  <a:pt x="3869" y="620"/>
                </a:lnTo>
                <a:lnTo>
                  <a:pt x="3859" y="613"/>
                </a:lnTo>
                <a:lnTo>
                  <a:pt x="3846" y="624"/>
                </a:lnTo>
                <a:lnTo>
                  <a:pt x="3817" y="623"/>
                </a:lnTo>
                <a:lnTo>
                  <a:pt x="3815" y="631"/>
                </a:lnTo>
                <a:lnTo>
                  <a:pt x="3787" y="637"/>
                </a:lnTo>
                <a:lnTo>
                  <a:pt x="3771" y="670"/>
                </a:lnTo>
                <a:lnTo>
                  <a:pt x="3773" y="702"/>
                </a:lnTo>
                <a:lnTo>
                  <a:pt x="3743" y="751"/>
                </a:lnTo>
                <a:lnTo>
                  <a:pt x="3730" y="742"/>
                </a:lnTo>
                <a:lnTo>
                  <a:pt x="3724" y="702"/>
                </a:lnTo>
                <a:lnTo>
                  <a:pt x="3708" y="673"/>
                </a:lnTo>
                <a:lnTo>
                  <a:pt x="3701" y="708"/>
                </a:lnTo>
                <a:lnTo>
                  <a:pt x="3687" y="693"/>
                </a:lnTo>
                <a:lnTo>
                  <a:pt x="3678" y="712"/>
                </a:lnTo>
                <a:lnTo>
                  <a:pt x="3668" y="679"/>
                </a:lnTo>
                <a:lnTo>
                  <a:pt x="3658" y="689"/>
                </a:lnTo>
                <a:lnTo>
                  <a:pt x="3655" y="718"/>
                </a:lnTo>
                <a:lnTo>
                  <a:pt x="3651" y="685"/>
                </a:lnTo>
                <a:lnTo>
                  <a:pt x="3625" y="685"/>
                </a:lnTo>
                <a:lnTo>
                  <a:pt x="3602" y="703"/>
                </a:lnTo>
                <a:lnTo>
                  <a:pt x="3582" y="711"/>
                </a:lnTo>
                <a:lnTo>
                  <a:pt x="3567" y="686"/>
                </a:lnTo>
                <a:lnTo>
                  <a:pt x="3548" y="693"/>
                </a:lnTo>
                <a:lnTo>
                  <a:pt x="3560" y="709"/>
                </a:lnTo>
                <a:lnTo>
                  <a:pt x="3548" y="732"/>
                </a:lnTo>
                <a:lnTo>
                  <a:pt x="3521" y="726"/>
                </a:lnTo>
                <a:lnTo>
                  <a:pt x="3514" y="745"/>
                </a:lnTo>
                <a:lnTo>
                  <a:pt x="3517" y="771"/>
                </a:lnTo>
                <a:lnTo>
                  <a:pt x="3488" y="781"/>
                </a:lnTo>
                <a:lnTo>
                  <a:pt x="3468" y="803"/>
                </a:lnTo>
                <a:lnTo>
                  <a:pt x="3491" y="823"/>
                </a:lnTo>
                <a:lnTo>
                  <a:pt x="3492" y="837"/>
                </a:lnTo>
                <a:lnTo>
                  <a:pt x="3469" y="834"/>
                </a:lnTo>
                <a:lnTo>
                  <a:pt x="3455" y="818"/>
                </a:lnTo>
                <a:lnTo>
                  <a:pt x="3445" y="816"/>
                </a:lnTo>
                <a:lnTo>
                  <a:pt x="3425" y="780"/>
                </a:lnTo>
                <a:lnTo>
                  <a:pt x="3441" y="761"/>
                </a:lnTo>
                <a:lnTo>
                  <a:pt x="3445" y="736"/>
                </a:lnTo>
                <a:lnTo>
                  <a:pt x="3456" y="729"/>
                </a:lnTo>
                <a:lnTo>
                  <a:pt x="3462" y="686"/>
                </a:lnTo>
                <a:lnTo>
                  <a:pt x="3487" y="675"/>
                </a:lnTo>
                <a:lnTo>
                  <a:pt x="3497" y="650"/>
                </a:lnTo>
                <a:lnTo>
                  <a:pt x="3540" y="690"/>
                </a:lnTo>
                <a:lnTo>
                  <a:pt x="3548" y="673"/>
                </a:lnTo>
                <a:lnTo>
                  <a:pt x="3593" y="667"/>
                </a:lnTo>
                <a:lnTo>
                  <a:pt x="3582" y="644"/>
                </a:lnTo>
                <a:lnTo>
                  <a:pt x="3605" y="634"/>
                </a:lnTo>
                <a:lnTo>
                  <a:pt x="3600" y="611"/>
                </a:lnTo>
                <a:lnTo>
                  <a:pt x="3590" y="598"/>
                </a:lnTo>
                <a:lnTo>
                  <a:pt x="3620" y="608"/>
                </a:lnTo>
                <a:lnTo>
                  <a:pt x="3638" y="631"/>
                </a:lnTo>
                <a:lnTo>
                  <a:pt x="3643" y="617"/>
                </a:lnTo>
                <a:lnTo>
                  <a:pt x="3656" y="624"/>
                </a:lnTo>
                <a:lnTo>
                  <a:pt x="3656" y="613"/>
                </a:lnTo>
                <a:lnTo>
                  <a:pt x="3671" y="642"/>
                </a:lnTo>
                <a:lnTo>
                  <a:pt x="3705" y="637"/>
                </a:lnTo>
                <a:lnTo>
                  <a:pt x="3712" y="649"/>
                </a:lnTo>
                <a:lnTo>
                  <a:pt x="3721" y="631"/>
                </a:lnTo>
                <a:lnTo>
                  <a:pt x="3751" y="626"/>
                </a:lnTo>
                <a:lnTo>
                  <a:pt x="3763" y="637"/>
                </a:lnTo>
                <a:lnTo>
                  <a:pt x="3793" y="621"/>
                </a:lnTo>
                <a:lnTo>
                  <a:pt x="3800" y="600"/>
                </a:lnTo>
                <a:lnTo>
                  <a:pt x="3786" y="607"/>
                </a:lnTo>
                <a:lnTo>
                  <a:pt x="3782" y="600"/>
                </a:lnTo>
                <a:lnTo>
                  <a:pt x="3684" y="607"/>
                </a:lnTo>
                <a:lnTo>
                  <a:pt x="3603" y="585"/>
                </a:lnTo>
                <a:lnTo>
                  <a:pt x="3543" y="578"/>
                </a:lnTo>
                <a:lnTo>
                  <a:pt x="3534" y="555"/>
                </a:lnTo>
                <a:lnTo>
                  <a:pt x="3523" y="555"/>
                </a:lnTo>
                <a:lnTo>
                  <a:pt x="3481" y="652"/>
                </a:lnTo>
                <a:lnTo>
                  <a:pt x="3461" y="675"/>
                </a:lnTo>
                <a:lnTo>
                  <a:pt x="3417" y="772"/>
                </a:lnTo>
                <a:lnTo>
                  <a:pt x="3389" y="805"/>
                </a:lnTo>
                <a:lnTo>
                  <a:pt x="3366" y="820"/>
                </a:lnTo>
                <a:lnTo>
                  <a:pt x="3323" y="840"/>
                </a:lnTo>
                <a:lnTo>
                  <a:pt x="3308" y="857"/>
                </a:lnTo>
                <a:lnTo>
                  <a:pt x="3291" y="885"/>
                </a:lnTo>
                <a:lnTo>
                  <a:pt x="3285" y="903"/>
                </a:lnTo>
                <a:lnTo>
                  <a:pt x="3259" y="926"/>
                </a:lnTo>
                <a:lnTo>
                  <a:pt x="3242" y="931"/>
                </a:lnTo>
                <a:lnTo>
                  <a:pt x="3253" y="944"/>
                </a:lnTo>
                <a:lnTo>
                  <a:pt x="3274" y="931"/>
                </a:lnTo>
                <a:lnTo>
                  <a:pt x="3271" y="959"/>
                </a:lnTo>
                <a:lnTo>
                  <a:pt x="3236" y="967"/>
                </a:lnTo>
                <a:lnTo>
                  <a:pt x="3246" y="1026"/>
                </a:lnTo>
                <a:lnTo>
                  <a:pt x="3266" y="1031"/>
                </a:lnTo>
                <a:lnTo>
                  <a:pt x="3271" y="1040"/>
                </a:lnTo>
                <a:lnTo>
                  <a:pt x="3251" y="1036"/>
                </a:lnTo>
                <a:lnTo>
                  <a:pt x="3236" y="1021"/>
                </a:lnTo>
                <a:lnTo>
                  <a:pt x="3232" y="1001"/>
                </a:lnTo>
                <a:lnTo>
                  <a:pt x="3235" y="985"/>
                </a:lnTo>
                <a:lnTo>
                  <a:pt x="3229" y="972"/>
                </a:lnTo>
                <a:lnTo>
                  <a:pt x="3235" y="945"/>
                </a:lnTo>
                <a:lnTo>
                  <a:pt x="3229" y="928"/>
                </a:lnTo>
                <a:lnTo>
                  <a:pt x="3193" y="929"/>
                </a:lnTo>
                <a:lnTo>
                  <a:pt x="3184" y="934"/>
                </a:lnTo>
                <a:lnTo>
                  <a:pt x="3098" y="972"/>
                </a:lnTo>
                <a:lnTo>
                  <a:pt x="3038" y="978"/>
                </a:lnTo>
                <a:lnTo>
                  <a:pt x="3012" y="968"/>
                </a:lnTo>
                <a:lnTo>
                  <a:pt x="2960" y="962"/>
                </a:lnTo>
                <a:lnTo>
                  <a:pt x="2915" y="1011"/>
                </a:lnTo>
                <a:lnTo>
                  <a:pt x="2872" y="1039"/>
                </a:lnTo>
                <a:lnTo>
                  <a:pt x="2853" y="1059"/>
                </a:lnTo>
                <a:lnTo>
                  <a:pt x="2861" y="1089"/>
                </a:lnTo>
                <a:lnTo>
                  <a:pt x="2914" y="1024"/>
                </a:lnTo>
                <a:lnTo>
                  <a:pt x="2923" y="1043"/>
                </a:lnTo>
                <a:lnTo>
                  <a:pt x="2918" y="1069"/>
                </a:lnTo>
                <a:lnTo>
                  <a:pt x="2892" y="1077"/>
                </a:lnTo>
                <a:lnTo>
                  <a:pt x="2897" y="1097"/>
                </a:lnTo>
                <a:lnTo>
                  <a:pt x="2878" y="1123"/>
                </a:lnTo>
                <a:lnTo>
                  <a:pt x="2865" y="1126"/>
                </a:lnTo>
                <a:lnTo>
                  <a:pt x="2848" y="1116"/>
                </a:lnTo>
                <a:lnTo>
                  <a:pt x="2848" y="1132"/>
                </a:lnTo>
                <a:lnTo>
                  <a:pt x="2862" y="1133"/>
                </a:lnTo>
                <a:lnTo>
                  <a:pt x="2848" y="1159"/>
                </a:lnTo>
                <a:lnTo>
                  <a:pt x="2848" y="1175"/>
                </a:lnTo>
                <a:lnTo>
                  <a:pt x="2839" y="1188"/>
                </a:lnTo>
                <a:lnTo>
                  <a:pt x="2849" y="1198"/>
                </a:lnTo>
                <a:lnTo>
                  <a:pt x="2839" y="1204"/>
                </a:lnTo>
                <a:lnTo>
                  <a:pt x="2832" y="1247"/>
                </a:lnTo>
                <a:lnTo>
                  <a:pt x="2830" y="1267"/>
                </a:lnTo>
                <a:lnTo>
                  <a:pt x="2807" y="1295"/>
                </a:lnTo>
                <a:lnTo>
                  <a:pt x="2797" y="1295"/>
                </a:lnTo>
                <a:lnTo>
                  <a:pt x="2797" y="1286"/>
                </a:lnTo>
                <a:lnTo>
                  <a:pt x="2780" y="1272"/>
                </a:lnTo>
                <a:lnTo>
                  <a:pt x="2773" y="1257"/>
                </a:lnTo>
                <a:lnTo>
                  <a:pt x="2774" y="1244"/>
                </a:lnTo>
                <a:lnTo>
                  <a:pt x="2735" y="1234"/>
                </a:lnTo>
                <a:lnTo>
                  <a:pt x="2721" y="1201"/>
                </a:lnTo>
                <a:lnTo>
                  <a:pt x="2702" y="1226"/>
                </a:lnTo>
                <a:lnTo>
                  <a:pt x="2682" y="1228"/>
                </a:lnTo>
                <a:lnTo>
                  <a:pt x="2665" y="1220"/>
                </a:lnTo>
                <a:lnTo>
                  <a:pt x="2661" y="1210"/>
                </a:lnTo>
                <a:lnTo>
                  <a:pt x="2665" y="1172"/>
                </a:lnTo>
                <a:lnTo>
                  <a:pt x="2626" y="1159"/>
                </a:lnTo>
                <a:lnTo>
                  <a:pt x="2619" y="1133"/>
                </a:lnTo>
                <a:lnTo>
                  <a:pt x="2593" y="1141"/>
                </a:lnTo>
                <a:lnTo>
                  <a:pt x="2544" y="1141"/>
                </a:lnTo>
                <a:lnTo>
                  <a:pt x="2485" y="1159"/>
                </a:lnTo>
                <a:lnTo>
                  <a:pt x="2468" y="1172"/>
                </a:lnTo>
                <a:lnTo>
                  <a:pt x="2452" y="1175"/>
                </a:lnTo>
                <a:lnTo>
                  <a:pt x="2425" y="1197"/>
                </a:lnTo>
                <a:lnTo>
                  <a:pt x="2419" y="1226"/>
                </a:lnTo>
                <a:lnTo>
                  <a:pt x="2472" y="1254"/>
                </a:lnTo>
                <a:lnTo>
                  <a:pt x="2468" y="1269"/>
                </a:lnTo>
                <a:lnTo>
                  <a:pt x="2446" y="1282"/>
                </a:lnTo>
                <a:lnTo>
                  <a:pt x="2428" y="1279"/>
                </a:lnTo>
                <a:lnTo>
                  <a:pt x="2416" y="1249"/>
                </a:lnTo>
                <a:lnTo>
                  <a:pt x="2407" y="1279"/>
                </a:lnTo>
                <a:lnTo>
                  <a:pt x="2374" y="1306"/>
                </a:lnTo>
                <a:lnTo>
                  <a:pt x="2338" y="1356"/>
                </a:lnTo>
                <a:lnTo>
                  <a:pt x="2341" y="1336"/>
                </a:lnTo>
                <a:lnTo>
                  <a:pt x="2373" y="1279"/>
                </a:lnTo>
                <a:lnTo>
                  <a:pt x="2340" y="1276"/>
                </a:lnTo>
                <a:lnTo>
                  <a:pt x="2343" y="1267"/>
                </a:lnTo>
                <a:lnTo>
                  <a:pt x="2370" y="1260"/>
                </a:lnTo>
                <a:lnTo>
                  <a:pt x="2383" y="1247"/>
                </a:lnTo>
                <a:lnTo>
                  <a:pt x="2410" y="1175"/>
                </a:lnTo>
                <a:lnTo>
                  <a:pt x="2413" y="1156"/>
                </a:lnTo>
                <a:lnTo>
                  <a:pt x="2410" y="1146"/>
                </a:lnTo>
                <a:lnTo>
                  <a:pt x="2390" y="1149"/>
                </a:lnTo>
                <a:lnTo>
                  <a:pt x="2364" y="1155"/>
                </a:lnTo>
                <a:lnTo>
                  <a:pt x="2344" y="1148"/>
                </a:lnTo>
                <a:lnTo>
                  <a:pt x="2324" y="1108"/>
                </a:lnTo>
                <a:lnTo>
                  <a:pt x="2325" y="1082"/>
                </a:lnTo>
                <a:lnTo>
                  <a:pt x="2357" y="1056"/>
                </a:lnTo>
                <a:lnTo>
                  <a:pt x="2361" y="1028"/>
                </a:lnTo>
                <a:lnTo>
                  <a:pt x="2370" y="1039"/>
                </a:lnTo>
                <a:lnTo>
                  <a:pt x="2402" y="1049"/>
                </a:lnTo>
                <a:lnTo>
                  <a:pt x="2462" y="974"/>
                </a:lnTo>
                <a:lnTo>
                  <a:pt x="2541" y="928"/>
                </a:lnTo>
                <a:lnTo>
                  <a:pt x="2541" y="911"/>
                </a:lnTo>
                <a:lnTo>
                  <a:pt x="2563" y="909"/>
                </a:lnTo>
                <a:lnTo>
                  <a:pt x="2553" y="787"/>
                </a:lnTo>
                <a:lnTo>
                  <a:pt x="2541" y="719"/>
                </a:lnTo>
                <a:lnTo>
                  <a:pt x="2583" y="685"/>
                </a:lnTo>
                <a:lnTo>
                  <a:pt x="2583" y="650"/>
                </a:lnTo>
                <a:lnTo>
                  <a:pt x="2622" y="646"/>
                </a:lnTo>
                <a:lnTo>
                  <a:pt x="2619" y="630"/>
                </a:lnTo>
                <a:lnTo>
                  <a:pt x="2638" y="630"/>
                </a:lnTo>
                <a:lnTo>
                  <a:pt x="2641" y="637"/>
                </a:lnTo>
                <a:lnTo>
                  <a:pt x="2708" y="653"/>
                </a:lnTo>
                <a:lnTo>
                  <a:pt x="2652" y="539"/>
                </a:lnTo>
                <a:lnTo>
                  <a:pt x="2587" y="511"/>
                </a:lnTo>
                <a:lnTo>
                  <a:pt x="2540" y="498"/>
                </a:lnTo>
                <a:lnTo>
                  <a:pt x="2510" y="519"/>
                </a:lnTo>
                <a:lnTo>
                  <a:pt x="2497" y="557"/>
                </a:lnTo>
                <a:lnTo>
                  <a:pt x="2500" y="587"/>
                </a:lnTo>
                <a:lnTo>
                  <a:pt x="2508" y="601"/>
                </a:lnTo>
                <a:lnTo>
                  <a:pt x="2518" y="588"/>
                </a:lnTo>
                <a:lnTo>
                  <a:pt x="2540" y="594"/>
                </a:lnTo>
                <a:lnTo>
                  <a:pt x="2557" y="613"/>
                </a:lnTo>
                <a:lnTo>
                  <a:pt x="2560" y="642"/>
                </a:lnTo>
                <a:lnTo>
                  <a:pt x="2567" y="653"/>
                </a:lnTo>
                <a:lnTo>
                  <a:pt x="2566" y="670"/>
                </a:lnTo>
                <a:lnTo>
                  <a:pt x="2543" y="686"/>
                </a:lnTo>
                <a:lnTo>
                  <a:pt x="2502" y="692"/>
                </a:lnTo>
                <a:lnTo>
                  <a:pt x="2462" y="667"/>
                </a:lnTo>
                <a:lnTo>
                  <a:pt x="2360" y="745"/>
                </a:lnTo>
                <a:lnTo>
                  <a:pt x="2295" y="761"/>
                </a:lnTo>
                <a:lnTo>
                  <a:pt x="2274" y="755"/>
                </a:lnTo>
                <a:lnTo>
                  <a:pt x="2230" y="698"/>
                </a:lnTo>
                <a:lnTo>
                  <a:pt x="2098" y="633"/>
                </a:lnTo>
                <a:lnTo>
                  <a:pt x="2065" y="607"/>
                </a:lnTo>
                <a:lnTo>
                  <a:pt x="2020" y="593"/>
                </a:lnTo>
                <a:lnTo>
                  <a:pt x="2002" y="600"/>
                </a:lnTo>
                <a:lnTo>
                  <a:pt x="1999" y="617"/>
                </a:lnTo>
                <a:lnTo>
                  <a:pt x="1969" y="629"/>
                </a:lnTo>
                <a:lnTo>
                  <a:pt x="1927" y="699"/>
                </a:lnTo>
                <a:lnTo>
                  <a:pt x="1927" y="719"/>
                </a:lnTo>
                <a:lnTo>
                  <a:pt x="1925" y="744"/>
                </a:lnTo>
                <a:lnTo>
                  <a:pt x="1910" y="745"/>
                </a:lnTo>
                <a:lnTo>
                  <a:pt x="1902" y="705"/>
                </a:lnTo>
                <a:lnTo>
                  <a:pt x="1921" y="672"/>
                </a:lnTo>
                <a:lnTo>
                  <a:pt x="1933" y="666"/>
                </a:lnTo>
                <a:lnTo>
                  <a:pt x="1936" y="643"/>
                </a:lnTo>
                <a:lnTo>
                  <a:pt x="1918" y="621"/>
                </a:lnTo>
                <a:lnTo>
                  <a:pt x="1923" y="604"/>
                </a:lnTo>
                <a:lnTo>
                  <a:pt x="1946" y="587"/>
                </a:lnTo>
                <a:lnTo>
                  <a:pt x="1930" y="580"/>
                </a:lnTo>
                <a:lnTo>
                  <a:pt x="1920" y="565"/>
                </a:lnTo>
                <a:lnTo>
                  <a:pt x="1885" y="547"/>
                </a:lnTo>
                <a:lnTo>
                  <a:pt x="1779" y="562"/>
                </a:lnTo>
                <a:lnTo>
                  <a:pt x="1756" y="578"/>
                </a:lnTo>
                <a:lnTo>
                  <a:pt x="1724" y="581"/>
                </a:lnTo>
                <a:lnTo>
                  <a:pt x="1708" y="571"/>
                </a:lnTo>
                <a:lnTo>
                  <a:pt x="1714" y="549"/>
                </a:lnTo>
                <a:lnTo>
                  <a:pt x="1730" y="552"/>
                </a:lnTo>
                <a:lnTo>
                  <a:pt x="1792" y="522"/>
                </a:lnTo>
                <a:lnTo>
                  <a:pt x="1815" y="499"/>
                </a:lnTo>
                <a:lnTo>
                  <a:pt x="1832" y="470"/>
                </a:lnTo>
                <a:lnTo>
                  <a:pt x="1839" y="364"/>
                </a:lnTo>
                <a:lnTo>
                  <a:pt x="1843" y="328"/>
                </a:lnTo>
                <a:lnTo>
                  <a:pt x="1792" y="306"/>
                </a:lnTo>
                <a:lnTo>
                  <a:pt x="1803" y="285"/>
                </a:lnTo>
                <a:lnTo>
                  <a:pt x="1842" y="293"/>
                </a:lnTo>
                <a:lnTo>
                  <a:pt x="1807" y="250"/>
                </a:lnTo>
                <a:lnTo>
                  <a:pt x="1810" y="200"/>
                </a:lnTo>
                <a:lnTo>
                  <a:pt x="1793" y="173"/>
                </a:lnTo>
                <a:lnTo>
                  <a:pt x="1763" y="152"/>
                </a:lnTo>
                <a:lnTo>
                  <a:pt x="1751" y="190"/>
                </a:lnTo>
                <a:lnTo>
                  <a:pt x="1730" y="206"/>
                </a:lnTo>
                <a:lnTo>
                  <a:pt x="1710" y="193"/>
                </a:lnTo>
                <a:lnTo>
                  <a:pt x="1702" y="137"/>
                </a:lnTo>
                <a:lnTo>
                  <a:pt x="1619" y="98"/>
                </a:lnTo>
                <a:lnTo>
                  <a:pt x="1567" y="92"/>
                </a:lnTo>
                <a:lnTo>
                  <a:pt x="1570" y="50"/>
                </a:lnTo>
                <a:lnTo>
                  <a:pt x="1548" y="49"/>
                </a:lnTo>
                <a:lnTo>
                  <a:pt x="1475" y="112"/>
                </a:lnTo>
                <a:lnTo>
                  <a:pt x="1439" y="115"/>
                </a:lnTo>
                <a:lnTo>
                  <a:pt x="1405" y="92"/>
                </a:lnTo>
                <a:lnTo>
                  <a:pt x="1359" y="129"/>
                </a:lnTo>
                <a:lnTo>
                  <a:pt x="1301" y="118"/>
                </a:lnTo>
                <a:lnTo>
                  <a:pt x="1300" y="76"/>
                </a:lnTo>
                <a:lnTo>
                  <a:pt x="1256" y="58"/>
                </a:lnTo>
                <a:lnTo>
                  <a:pt x="1236" y="59"/>
                </a:lnTo>
                <a:lnTo>
                  <a:pt x="1160" y="60"/>
                </a:lnTo>
                <a:lnTo>
                  <a:pt x="1138" y="36"/>
                </a:lnTo>
                <a:lnTo>
                  <a:pt x="1097" y="19"/>
                </a:lnTo>
                <a:lnTo>
                  <a:pt x="1064" y="19"/>
                </a:lnTo>
                <a:lnTo>
                  <a:pt x="1039" y="32"/>
                </a:lnTo>
                <a:lnTo>
                  <a:pt x="1019" y="13"/>
                </a:lnTo>
                <a:lnTo>
                  <a:pt x="980" y="27"/>
                </a:lnTo>
                <a:lnTo>
                  <a:pt x="947" y="24"/>
                </a:lnTo>
                <a:lnTo>
                  <a:pt x="925" y="0"/>
                </a:lnTo>
                <a:lnTo>
                  <a:pt x="897" y="36"/>
                </a:lnTo>
                <a:lnTo>
                  <a:pt x="900" y="132"/>
                </a:lnTo>
                <a:lnTo>
                  <a:pt x="933" y="144"/>
                </a:lnTo>
                <a:lnTo>
                  <a:pt x="947" y="160"/>
                </a:lnTo>
                <a:lnTo>
                  <a:pt x="957" y="211"/>
                </a:lnTo>
                <a:lnTo>
                  <a:pt x="938" y="232"/>
                </a:lnTo>
                <a:lnTo>
                  <a:pt x="944" y="245"/>
                </a:lnTo>
                <a:lnTo>
                  <a:pt x="972" y="243"/>
                </a:lnTo>
                <a:lnTo>
                  <a:pt x="997" y="311"/>
                </a:lnTo>
                <a:lnTo>
                  <a:pt x="1036" y="331"/>
                </a:lnTo>
                <a:lnTo>
                  <a:pt x="1031" y="370"/>
                </a:lnTo>
                <a:lnTo>
                  <a:pt x="1012" y="383"/>
                </a:lnTo>
                <a:lnTo>
                  <a:pt x="1018" y="391"/>
                </a:lnTo>
                <a:lnTo>
                  <a:pt x="1059" y="373"/>
                </a:lnTo>
                <a:lnTo>
                  <a:pt x="1092" y="447"/>
                </a:lnTo>
                <a:lnTo>
                  <a:pt x="1113" y="466"/>
                </a:lnTo>
                <a:lnTo>
                  <a:pt x="1134" y="538"/>
                </a:lnTo>
                <a:lnTo>
                  <a:pt x="1124" y="585"/>
                </a:lnTo>
                <a:lnTo>
                  <a:pt x="1114" y="587"/>
                </a:lnTo>
                <a:lnTo>
                  <a:pt x="1110" y="575"/>
                </a:lnTo>
                <a:lnTo>
                  <a:pt x="1100" y="575"/>
                </a:lnTo>
                <a:lnTo>
                  <a:pt x="1075" y="611"/>
                </a:lnTo>
                <a:lnTo>
                  <a:pt x="1049" y="614"/>
                </a:lnTo>
                <a:lnTo>
                  <a:pt x="1013" y="601"/>
                </a:lnTo>
                <a:lnTo>
                  <a:pt x="923" y="620"/>
                </a:lnTo>
                <a:lnTo>
                  <a:pt x="910" y="613"/>
                </a:lnTo>
                <a:lnTo>
                  <a:pt x="872" y="659"/>
                </a:lnTo>
                <a:lnTo>
                  <a:pt x="879" y="669"/>
                </a:lnTo>
                <a:lnTo>
                  <a:pt x="892" y="662"/>
                </a:lnTo>
                <a:lnTo>
                  <a:pt x="898" y="643"/>
                </a:lnTo>
                <a:lnTo>
                  <a:pt x="914" y="665"/>
                </a:lnTo>
                <a:lnTo>
                  <a:pt x="884" y="699"/>
                </a:lnTo>
                <a:lnTo>
                  <a:pt x="861" y="695"/>
                </a:lnTo>
                <a:lnTo>
                  <a:pt x="851" y="735"/>
                </a:lnTo>
                <a:lnTo>
                  <a:pt x="892" y="774"/>
                </a:lnTo>
                <a:lnTo>
                  <a:pt x="904" y="800"/>
                </a:lnTo>
                <a:lnTo>
                  <a:pt x="910" y="777"/>
                </a:lnTo>
                <a:lnTo>
                  <a:pt x="946" y="755"/>
                </a:lnTo>
                <a:lnTo>
                  <a:pt x="972" y="778"/>
                </a:lnTo>
                <a:lnTo>
                  <a:pt x="1013" y="774"/>
                </a:lnTo>
                <a:lnTo>
                  <a:pt x="1028" y="797"/>
                </a:lnTo>
                <a:lnTo>
                  <a:pt x="1018" y="850"/>
                </a:lnTo>
                <a:lnTo>
                  <a:pt x="987" y="902"/>
                </a:lnTo>
                <a:lnTo>
                  <a:pt x="995" y="946"/>
                </a:lnTo>
                <a:lnTo>
                  <a:pt x="1018" y="972"/>
                </a:lnTo>
                <a:lnTo>
                  <a:pt x="1041" y="964"/>
                </a:lnTo>
                <a:lnTo>
                  <a:pt x="1092" y="975"/>
                </a:lnTo>
                <a:lnTo>
                  <a:pt x="1114" y="1007"/>
                </a:lnTo>
                <a:lnTo>
                  <a:pt x="1123" y="1041"/>
                </a:lnTo>
                <a:lnTo>
                  <a:pt x="1115" y="1066"/>
                </a:lnTo>
                <a:lnTo>
                  <a:pt x="1092" y="1087"/>
                </a:lnTo>
                <a:lnTo>
                  <a:pt x="1048" y="1067"/>
                </a:lnTo>
                <a:lnTo>
                  <a:pt x="1012" y="1069"/>
                </a:lnTo>
                <a:lnTo>
                  <a:pt x="1006" y="1085"/>
                </a:lnTo>
                <a:lnTo>
                  <a:pt x="1036" y="1123"/>
                </a:lnTo>
                <a:lnTo>
                  <a:pt x="1059" y="1228"/>
                </a:lnTo>
                <a:lnTo>
                  <a:pt x="1097" y="1250"/>
                </a:lnTo>
                <a:lnTo>
                  <a:pt x="1121" y="1237"/>
                </a:lnTo>
                <a:lnTo>
                  <a:pt x="1170" y="1257"/>
                </a:lnTo>
                <a:lnTo>
                  <a:pt x="1248" y="1264"/>
                </a:lnTo>
                <a:lnTo>
                  <a:pt x="1288" y="1272"/>
                </a:lnTo>
                <a:lnTo>
                  <a:pt x="1333" y="1315"/>
                </a:lnTo>
                <a:lnTo>
                  <a:pt x="1344" y="1339"/>
                </a:lnTo>
                <a:lnTo>
                  <a:pt x="1372" y="1362"/>
                </a:lnTo>
                <a:lnTo>
                  <a:pt x="1384" y="1412"/>
                </a:lnTo>
                <a:lnTo>
                  <a:pt x="1396" y="1424"/>
                </a:lnTo>
                <a:lnTo>
                  <a:pt x="1390" y="1451"/>
                </a:lnTo>
                <a:lnTo>
                  <a:pt x="1409" y="1479"/>
                </a:lnTo>
                <a:lnTo>
                  <a:pt x="1458" y="1506"/>
                </a:lnTo>
                <a:lnTo>
                  <a:pt x="1475" y="1549"/>
                </a:lnTo>
                <a:lnTo>
                  <a:pt x="1481" y="1584"/>
                </a:lnTo>
                <a:lnTo>
                  <a:pt x="1500" y="1607"/>
                </a:lnTo>
                <a:lnTo>
                  <a:pt x="1497" y="1621"/>
                </a:lnTo>
                <a:lnTo>
                  <a:pt x="1582" y="1680"/>
                </a:lnTo>
                <a:lnTo>
                  <a:pt x="1615" y="1686"/>
                </a:lnTo>
                <a:lnTo>
                  <a:pt x="1661" y="1699"/>
                </a:lnTo>
                <a:lnTo>
                  <a:pt x="1685" y="1713"/>
                </a:lnTo>
                <a:lnTo>
                  <a:pt x="1654" y="1726"/>
                </a:lnTo>
                <a:lnTo>
                  <a:pt x="1619" y="1713"/>
                </a:lnTo>
                <a:lnTo>
                  <a:pt x="1596" y="1720"/>
                </a:lnTo>
                <a:lnTo>
                  <a:pt x="1513" y="1666"/>
                </a:lnTo>
                <a:lnTo>
                  <a:pt x="1462" y="1617"/>
                </a:lnTo>
                <a:lnTo>
                  <a:pt x="1448" y="1572"/>
                </a:lnTo>
                <a:lnTo>
                  <a:pt x="1422" y="1523"/>
                </a:lnTo>
                <a:lnTo>
                  <a:pt x="1382" y="1483"/>
                </a:lnTo>
                <a:lnTo>
                  <a:pt x="1343" y="1412"/>
                </a:lnTo>
                <a:lnTo>
                  <a:pt x="1337" y="1387"/>
                </a:lnTo>
                <a:lnTo>
                  <a:pt x="1314" y="1333"/>
                </a:lnTo>
                <a:lnTo>
                  <a:pt x="1287" y="1309"/>
                </a:lnTo>
                <a:lnTo>
                  <a:pt x="1231" y="1316"/>
                </a:lnTo>
                <a:lnTo>
                  <a:pt x="1173" y="1300"/>
                </a:lnTo>
                <a:lnTo>
                  <a:pt x="1143" y="1297"/>
                </a:lnTo>
                <a:lnTo>
                  <a:pt x="1114" y="1318"/>
                </a:lnTo>
                <a:lnTo>
                  <a:pt x="1084" y="1318"/>
                </a:lnTo>
                <a:lnTo>
                  <a:pt x="1020" y="1335"/>
                </a:lnTo>
                <a:lnTo>
                  <a:pt x="959" y="1335"/>
                </a:lnTo>
                <a:lnTo>
                  <a:pt x="891" y="1254"/>
                </a:lnTo>
                <a:lnTo>
                  <a:pt x="866" y="1251"/>
                </a:lnTo>
                <a:lnTo>
                  <a:pt x="835" y="1272"/>
                </a:lnTo>
                <a:lnTo>
                  <a:pt x="815" y="1293"/>
                </a:lnTo>
                <a:lnTo>
                  <a:pt x="767" y="1431"/>
                </a:lnTo>
                <a:lnTo>
                  <a:pt x="741" y="1484"/>
                </a:lnTo>
                <a:lnTo>
                  <a:pt x="738" y="1522"/>
                </a:lnTo>
                <a:lnTo>
                  <a:pt x="747" y="1564"/>
                </a:lnTo>
                <a:lnTo>
                  <a:pt x="764" y="1605"/>
                </a:lnTo>
                <a:lnTo>
                  <a:pt x="774" y="1635"/>
                </a:lnTo>
                <a:lnTo>
                  <a:pt x="774" y="1657"/>
                </a:lnTo>
                <a:lnTo>
                  <a:pt x="793" y="1707"/>
                </a:lnTo>
                <a:lnTo>
                  <a:pt x="774" y="1704"/>
                </a:lnTo>
                <a:lnTo>
                  <a:pt x="777" y="1687"/>
                </a:lnTo>
                <a:lnTo>
                  <a:pt x="656" y="1614"/>
                </a:lnTo>
                <a:lnTo>
                  <a:pt x="636" y="1581"/>
                </a:lnTo>
                <a:lnTo>
                  <a:pt x="616" y="1579"/>
                </a:lnTo>
                <a:lnTo>
                  <a:pt x="576" y="1614"/>
                </a:lnTo>
                <a:lnTo>
                  <a:pt x="554" y="1680"/>
                </a:lnTo>
                <a:lnTo>
                  <a:pt x="563" y="1692"/>
                </a:lnTo>
                <a:lnTo>
                  <a:pt x="610" y="1689"/>
                </a:lnTo>
                <a:lnTo>
                  <a:pt x="623" y="1704"/>
                </a:lnTo>
                <a:lnTo>
                  <a:pt x="623" y="1756"/>
                </a:lnTo>
                <a:lnTo>
                  <a:pt x="603" y="1804"/>
                </a:lnTo>
                <a:lnTo>
                  <a:pt x="567" y="1844"/>
                </a:lnTo>
                <a:lnTo>
                  <a:pt x="538" y="1830"/>
                </a:lnTo>
                <a:lnTo>
                  <a:pt x="500" y="1766"/>
                </a:lnTo>
                <a:lnTo>
                  <a:pt x="468" y="1789"/>
                </a:lnTo>
                <a:lnTo>
                  <a:pt x="443" y="1749"/>
                </a:lnTo>
                <a:lnTo>
                  <a:pt x="438" y="1700"/>
                </a:lnTo>
                <a:lnTo>
                  <a:pt x="481" y="1713"/>
                </a:lnTo>
                <a:lnTo>
                  <a:pt x="523" y="1680"/>
                </a:lnTo>
                <a:lnTo>
                  <a:pt x="528" y="1666"/>
                </a:lnTo>
                <a:lnTo>
                  <a:pt x="518" y="1656"/>
                </a:lnTo>
                <a:lnTo>
                  <a:pt x="513" y="1628"/>
                </a:lnTo>
                <a:lnTo>
                  <a:pt x="465" y="1526"/>
                </a:lnTo>
                <a:lnTo>
                  <a:pt x="442" y="1530"/>
                </a:lnTo>
                <a:lnTo>
                  <a:pt x="428" y="1474"/>
                </a:lnTo>
                <a:lnTo>
                  <a:pt x="438" y="1461"/>
                </a:lnTo>
                <a:lnTo>
                  <a:pt x="359" y="1437"/>
                </a:lnTo>
                <a:lnTo>
                  <a:pt x="287" y="1436"/>
                </a:lnTo>
                <a:lnTo>
                  <a:pt x="249" y="1446"/>
                </a:lnTo>
                <a:lnTo>
                  <a:pt x="208" y="1444"/>
                </a:lnTo>
                <a:lnTo>
                  <a:pt x="94" y="1489"/>
                </a:lnTo>
                <a:lnTo>
                  <a:pt x="59" y="1480"/>
                </a:lnTo>
                <a:lnTo>
                  <a:pt x="39" y="1466"/>
                </a:lnTo>
                <a:lnTo>
                  <a:pt x="0" y="1461"/>
                </a:lnTo>
                <a:lnTo>
                  <a:pt x="0" y="3733"/>
                </a:lnTo>
                <a:lnTo>
                  <a:pt x="5062" y="3733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6600" y="4967280"/>
            <a:ext cx="228600" cy="304920"/>
          </a:xfrm>
          <a:custGeom>
            <a:avLst/>
            <a:gdLst/>
            <a:ahLst/>
            <a:rect l="l" t="t" r="r" b="b"/>
            <a:pathLst>
              <a:path w="432" h="577">
                <a:moveTo>
                  <a:pt x="0" y="411"/>
                </a:moveTo>
                <a:lnTo>
                  <a:pt x="10" y="460"/>
                </a:lnTo>
                <a:lnTo>
                  <a:pt x="33" y="469"/>
                </a:lnTo>
                <a:lnTo>
                  <a:pt x="16" y="473"/>
                </a:lnTo>
                <a:lnTo>
                  <a:pt x="1" y="500"/>
                </a:lnTo>
                <a:lnTo>
                  <a:pt x="19" y="497"/>
                </a:lnTo>
                <a:lnTo>
                  <a:pt x="46" y="479"/>
                </a:lnTo>
                <a:lnTo>
                  <a:pt x="49" y="499"/>
                </a:lnTo>
                <a:lnTo>
                  <a:pt x="128" y="521"/>
                </a:lnTo>
                <a:lnTo>
                  <a:pt x="127" y="538"/>
                </a:lnTo>
                <a:lnTo>
                  <a:pt x="180" y="577"/>
                </a:lnTo>
                <a:lnTo>
                  <a:pt x="194" y="556"/>
                </a:lnTo>
                <a:lnTo>
                  <a:pt x="193" y="457"/>
                </a:lnTo>
                <a:lnTo>
                  <a:pt x="217" y="439"/>
                </a:lnTo>
                <a:lnTo>
                  <a:pt x="213" y="428"/>
                </a:lnTo>
                <a:lnTo>
                  <a:pt x="258" y="413"/>
                </a:lnTo>
                <a:lnTo>
                  <a:pt x="302" y="426"/>
                </a:lnTo>
                <a:lnTo>
                  <a:pt x="332" y="426"/>
                </a:lnTo>
                <a:lnTo>
                  <a:pt x="380" y="449"/>
                </a:lnTo>
                <a:lnTo>
                  <a:pt x="391" y="416"/>
                </a:lnTo>
                <a:lnTo>
                  <a:pt x="399" y="418"/>
                </a:lnTo>
                <a:lnTo>
                  <a:pt x="406" y="454"/>
                </a:lnTo>
                <a:lnTo>
                  <a:pt x="407" y="423"/>
                </a:lnTo>
                <a:lnTo>
                  <a:pt x="426" y="411"/>
                </a:lnTo>
                <a:lnTo>
                  <a:pt x="432" y="414"/>
                </a:lnTo>
                <a:lnTo>
                  <a:pt x="419" y="392"/>
                </a:lnTo>
                <a:lnTo>
                  <a:pt x="397" y="367"/>
                </a:lnTo>
                <a:lnTo>
                  <a:pt x="365" y="364"/>
                </a:lnTo>
                <a:lnTo>
                  <a:pt x="332" y="345"/>
                </a:lnTo>
                <a:lnTo>
                  <a:pt x="302" y="282"/>
                </a:lnTo>
                <a:lnTo>
                  <a:pt x="298" y="253"/>
                </a:lnTo>
                <a:lnTo>
                  <a:pt x="344" y="224"/>
                </a:lnTo>
                <a:lnTo>
                  <a:pt x="364" y="149"/>
                </a:lnTo>
                <a:lnTo>
                  <a:pt x="348" y="128"/>
                </a:lnTo>
                <a:lnTo>
                  <a:pt x="207" y="131"/>
                </a:lnTo>
                <a:lnTo>
                  <a:pt x="170" y="96"/>
                </a:lnTo>
                <a:lnTo>
                  <a:pt x="165" y="47"/>
                </a:lnTo>
                <a:lnTo>
                  <a:pt x="187" y="34"/>
                </a:lnTo>
                <a:lnTo>
                  <a:pt x="200" y="10"/>
                </a:lnTo>
                <a:lnTo>
                  <a:pt x="184" y="0"/>
                </a:lnTo>
                <a:lnTo>
                  <a:pt x="151" y="4"/>
                </a:lnTo>
                <a:lnTo>
                  <a:pt x="128" y="17"/>
                </a:lnTo>
                <a:lnTo>
                  <a:pt x="104" y="16"/>
                </a:lnTo>
                <a:lnTo>
                  <a:pt x="62" y="44"/>
                </a:lnTo>
                <a:lnTo>
                  <a:pt x="52" y="69"/>
                </a:lnTo>
                <a:lnTo>
                  <a:pt x="55" y="92"/>
                </a:lnTo>
                <a:lnTo>
                  <a:pt x="42" y="111"/>
                </a:lnTo>
                <a:lnTo>
                  <a:pt x="20" y="128"/>
                </a:lnTo>
                <a:lnTo>
                  <a:pt x="24" y="138"/>
                </a:lnTo>
                <a:lnTo>
                  <a:pt x="66" y="101"/>
                </a:lnTo>
                <a:lnTo>
                  <a:pt x="69" y="56"/>
                </a:lnTo>
                <a:lnTo>
                  <a:pt x="89" y="47"/>
                </a:lnTo>
                <a:lnTo>
                  <a:pt x="73" y="148"/>
                </a:lnTo>
                <a:lnTo>
                  <a:pt x="121" y="125"/>
                </a:lnTo>
                <a:lnTo>
                  <a:pt x="152" y="80"/>
                </a:lnTo>
                <a:lnTo>
                  <a:pt x="170" y="126"/>
                </a:lnTo>
                <a:lnTo>
                  <a:pt x="191" y="142"/>
                </a:lnTo>
                <a:lnTo>
                  <a:pt x="216" y="151"/>
                </a:lnTo>
                <a:lnTo>
                  <a:pt x="239" y="139"/>
                </a:lnTo>
                <a:lnTo>
                  <a:pt x="247" y="162"/>
                </a:lnTo>
                <a:lnTo>
                  <a:pt x="247" y="220"/>
                </a:lnTo>
                <a:lnTo>
                  <a:pt x="226" y="229"/>
                </a:lnTo>
                <a:lnTo>
                  <a:pt x="207" y="252"/>
                </a:lnTo>
                <a:lnTo>
                  <a:pt x="201" y="229"/>
                </a:lnTo>
                <a:lnTo>
                  <a:pt x="180" y="214"/>
                </a:lnTo>
                <a:lnTo>
                  <a:pt x="178" y="185"/>
                </a:lnTo>
                <a:lnTo>
                  <a:pt x="140" y="194"/>
                </a:lnTo>
                <a:lnTo>
                  <a:pt x="148" y="121"/>
                </a:lnTo>
                <a:lnTo>
                  <a:pt x="137" y="141"/>
                </a:lnTo>
                <a:lnTo>
                  <a:pt x="114" y="154"/>
                </a:lnTo>
                <a:lnTo>
                  <a:pt x="109" y="177"/>
                </a:lnTo>
                <a:lnTo>
                  <a:pt x="63" y="155"/>
                </a:lnTo>
                <a:lnTo>
                  <a:pt x="7" y="158"/>
                </a:lnTo>
                <a:lnTo>
                  <a:pt x="14" y="194"/>
                </a:lnTo>
                <a:lnTo>
                  <a:pt x="33" y="213"/>
                </a:lnTo>
                <a:lnTo>
                  <a:pt x="55" y="204"/>
                </a:lnTo>
                <a:lnTo>
                  <a:pt x="73" y="223"/>
                </a:lnTo>
                <a:lnTo>
                  <a:pt x="89" y="260"/>
                </a:lnTo>
                <a:lnTo>
                  <a:pt x="66" y="276"/>
                </a:lnTo>
                <a:lnTo>
                  <a:pt x="29" y="286"/>
                </a:lnTo>
                <a:lnTo>
                  <a:pt x="16" y="312"/>
                </a:lnTo>
                <a:lnTo>
                  <a:pt x="37" y="315"/>
                </a:lnTo>
                <a:lnTo>
                  <a:pt x="45" y="303"/>
                </a:lnTo>
                <a:lnTo>
                  <a:pt x="85" y="339"/>
                </a:lnTo>
                <a:lnTo>
                  <a:pt x="73" y="345"/>
                </a:lnTo>
                <a:lnTo>
                  <a:pt x="89" y="365"/>
                </a:lnTo>
                <a:lnTo>
                  <a:pt x="78" y="380"/>
                </a:lnTo>
                <a:lnTo>
                  <a:pt x="10" y="382"/>
                </a:lnTo>
                <a:lnTo>
                  <a:pt x="0" y="411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20" y="4708440"/>
            <a:ext cx="82440" cy="196920"/>
          </a:xfrm>
          <a:custGeom>
            <a:avLst/>
            <a:gdLst/>
            <a:ahLst/>
            <a:rect l="l" t="t" r="r" b="b"/>
            <a:pathLst>
              <a:path w="154" h="373">
                <a:moveTo>
                  <a:pt x="0" y="373"/>
                </a:moveTo>
                <a:lnTo>
                  <a:pt x="25" y="154"/>
                </a:lnTo>
                <a:lnTo>
                  <a:pt x="95" y="7"/>
                </a:lnTo>
                <a:lnTo>
                  <a:pt x="114" y="0"/>
                </a:lnTo>
                <a:lnTo>
                  <a:pt x="138" y="6"/>
                </a:lnTo>
                <a:lnTo>
                  <a:pt x="137" y="26"/>
                </a:lnTo>
                <a:lnTo>
                  <a:pt x="94" y="56"/>
                </a:lnTo>
                <a:lnTo>
                  <a:pt x="92" y="183"/>
                </a:lnTo>
                <a:lnTo>
                  <a:pt x="115" y="200"/>
                </a:lnTo>
                <a:lnTo>
                  <a:pt x="145" y="203"/>
                </a:lnTo>
                <a:lnTo>
                  <a:pt x="154" y="216"/>
                </a:lnTo>
                <a:lnTo>
                  <a:pt x="137" y="230"/>
                </a:lnTo>
                <a:lnTo>
                  <a:pt x="108" y="248"/>
                </a:lnTo>
                <a:lnTo>
                  <a:pt x="92" y="246"/>
                </a:lnTo>
                <a:lnTo>
                  <a:pt x="72" y="203"/>
                </a:lnTo>
                <a:lnTo>
                  <a:pt x="55" y="200"/>
                </a:lnTo>
                <a:lnTo>
                  <a:pt x="53" y="238"/>
                </a:lnTo>
                <a:lnTo>
                  <a:pt x="35" y="245"/>
                </a:lnTo>
                <a:lnTo>
                  <a:pt x="15" y="371"/>
                </a:lnTo>
                <a:lnTo>
                  <a:pt x="0" y="373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2800" y="4898880"/>
            <a:ext cx="73080" cy="52560"/>
          </a:xfrm>
          <a:custGeom>
            <a:avLst/>
            <a:gdLst/>
            <a:ahLst/>
            <a:rect l="l" t="t" r="r" b="b"/>
            <a:pathLst>
              <a:path w="140" h="97">
                <a:moveTo>
                  <a:pt x="0" y="64"/>
                </a:moveTo>
                <a:lnTo>
                  <a:pt x="52" y="89"/>
                </a:lnTo>
                <a:lnTo>
                  <a:pt x="75" y="87"/>
                </a:lnTo>
                <a:lnTo>
                  <a:pt x="114" y="97"/>
                </a:lnTo>
                <a:lnTo>
                  <a:pt x="124" y="69"/>
                </a:lnTo>
                <a:lnTo>
                  <a:pt x="140" y="53"/>
                </a:lnTo>
                <a:lnTo>
                  <a:pt x="131" y="43"/>
                </a:lnTo>
                <a:lnTo>
                  <a:pt x="135" y="25"/>
                </a:lnTo>
                <a:lnTo>
                  <a:pt x="120" y="9"/>
                </a:lnTo>
                <a:lnTo>
                  <a:pt x="94" y="0"/>
                </a:lnTo>
                <a:lnTo>
                  <a:pt x="92" y="10"/>
                </a:lnTo>
                <a:lnTo>
                  <a:pt x="81" y="12"/>
                </a:lnTo>
                <a:lnTo>
                  <a:pt x="72" y="2"/>
                </a:lnTo>
                <a:lnTo>
                  <a:pt x="29" y="12"/>
                </a:lnTo>
                <a:lnTo>
                  <a:pt x="3" y="41"/>
                </a:lnTo>
                <a:lnTo>
                  <a:pt x="0" y="64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800" y="5052960"/>
            <a:ext cx="52560" cy="46080"/>
          </a:xfrm>
          <a:custGeom>
            <a:avLst/>
            <a:gdLst/>
            <a:ahLst/>
            <a:rect l="l" t="t" r="r" b="b"/>
            <a:pathLst>
              <a:path w="98" h="86">
                <a:moveTo>
                  <a:pt x="2" y="23"/>
                </a:moveTo>
                <a:lnTo>
                  <a:pt x="46" y="0"/>
                </a:lnTo>
                <a:lnTo>
                  <a:pt x="89" y="11"/>
                </a:lnTo>
                <a:lnTo>
                  <a:pt x="97" y="20"/>
                </a:lnTo>
                <a:lnTo>
                  <a:pt x="98" y="46"/>
                </a:lnTo>
                <a:lnTo>
                  <a:pt x="89" y="57"/>
                </a:lnTo>
                <a:lnTo>
                  <a:pt x="82" y="76"/>
                </a:lnTo>
                <a:lnTo>
                  <a:pt x="61" y="86"/>
                </a:lnTo>
                <a:lnTo>
                  <a:pt x="29" y="76"/>
                </a:lnTo>
                <a:lnTo>
                  <a:pt x="0" y="56"/>
                </a:lnTo>
                <a:lnTo>
                  <a:pt x="10" y="34"/>
                </a:lnTo>
                <a:lnTo>
                  <a:pt x="2" y="23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01920" y="5396040"/>
            <a:ext cx="48960" cy="54000"/>
          </a:xfrm>
          <a:custGeom>
            <a:avLst/>
            <a:gdLst/>
            <a:ahLst/>
            <a:rect l="l" t="t" r="r" b="b"/>
            <a:pathLst>
              <a:path w="92" h="103">
                <a:moveTo>
                  <a:pt x="0" y="40"/>
                </a:moveTo>
                <a:lnTo>
                  <a:pt x="17" y="86"/>
                </a:lnTo>
                <a:lnTo>
                  <a:pt x="41" y="92"/>
                </a:lnTo>
                <a:lnTo>
                  <a:pt x="40" y="70"/>
                </a:lnTo>
                <a:lnTo>
                  <a:pt x="54" y="51"/>
                </a:lnTo>
                <a:lnTo>
                  <a:pt x="63" y="103"/>
                </a:lnTo>
                <a:lnTo>
                  <a:pt x="82" y="73"/>
                </a:lnTo>
                <a:lnTo>
                  <a:pt x="83" y="26"/>
                </a:lnTo>
                <a:lnTo>
                  <a:pt x="92" y="37"/>
                </a:lnTo>
                <a:lnTo>
                  <a:pt x="87" y="5"/>
                </a:lnTo>
                <a:lnTo>
                  <a:pt x="74" y="0"/>
                </a:lnTo>
                <a:lnTo>
                  <a:pt x="18" y="28"/>
                </a:lnTo>
                <a:lnTo>
                  <a:pt x="14" y="37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960" y="4924440"/>
            <a:ext cx="38160" cy="73080"/>
          </a:xfrm>
          <a:custGeom>
            <a:avLst/>
            <a:gdLst/>
            <a:ahLst/>
            <a:rect l="l" t="t" r="r" b="b"/>
            <a:pathLst>
              <a:path w="73" h="138">
                <a:moveTo>
                  <a:pt x="0" y="38"/>
                </a:moveTo>
                <a:lnTo>
                  <a:pt x="26" y="30"/>
                </a:lnTo>
                <a:lnTo>
                  <a:pt x="38" y="0"/>
                </a:lnTo>
                <a:lnTo>
                  <a:pt x="49" y="3"/>
                </a:lnTo>
                <a:lnTo>
                  <a:pt x="38" y="33"/>
                </a:lnTo>
                <a:lnTo>
                  <a:pt x="50" y="85"/>
                </a:lnTo>
                <a:lnTo>
                  <a:pt x="63" y="95"/>
                </a:lnTo>
                <a:lnTo>
                  <a:pt x="63" y="108"/>
                </a:lnTo>
                <a:lnTo>
                  <a:pt x="73" y="114"/>
                </a:lnTo>
                <a:lnTo>
                  <a:pt x="69" y="125"/>
                </a:lnTo>
                <a:lnTo>
                  <a:pt x="46" y="125"/>
                </a:lnTo>
                <a:lnTo>
                  <a:pt x="30" y="138"/>
                </a:lnTo>
                <a:lnTo>
                  <a:pt x="7" y="84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480" y="5033880"/>
            <a:ext cx="43200" cy="34920"/>
          </a:xfrm>
          <a:custGeom>
            <a:avLst/>
            <a:gdLst/>
            <a:ahLst/>
            <a:rect l="l" t="t" r="r" b="b"/>
            <a:pathLst>
              <a:path w="83" h="66">
                <a:moveTo>
                  <a:pt x="0" y="33"/>
                </a:moveTo>
                <a:lnTo>
                  <a:pt x="4" y="10"/>
                </a:lnTo>
                <a:lnTo>
                  <a:pt x="29" y="8"/>
                </a:lnTo>
                <a:lnTo>
                  <a:pt x="42" y="0"/>
                </a:lnTo>
                <a:lnTo>
                  <a:pt x="60" y="6"/>
                </a:lnTo>
                <a:lnTo>
                  <a:pt x="83" y="1"/>
                </a:lnTo>
                <a:lnTo>
                  <a:pt x="79" y="33"/>
                </a:lnTo>
                <a:lnTo>
                  <a:pt x="63" y="56"/>
                </a:lnTo>
                <a:lnTo>
                  <a:pt x="17" y="66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11400" y="5021280"/>
            <a:ext cx="27000" cy="93600"/>
          </a:xfrm>
          <a:custGeom>
            <a:avLst/>
            <a:gdLst/>
            <a:ahLst/>
            <a:rect l="l" t="t" r="r" b="b"/>
            <a:pathLst>
              <a:path w="51" h="178">
                <a:moveTo>
                  <a:pt x="0" y="167"/>
                </a:moveTo>
                <a:lnTo>
                  <a:pt x="11" y="178"/>
                </a:lnTo>
                <a:lnTo>
                  <a:pt x="11" y="125"/>
                </a:lnTo>
                <a:lnTo>
                  <a:pt x="29" y="82"/>
                </a:lnTo>
                <a:lnTo>
                  <a:pt x="29" y="34"/>
                </a:lnTo>
                <a:lnTo>
                  <a:pt x="51" y="19"/>
                </a:lnTo>
                <a:lnTo>
                  <a:pt x="49" y="0"/>
                </a:lnTo>
                <a:lnTo>
                  <a:pt x="21" y="22"/>
                </a:lnTo>
                <a:lnTo>
                  <a:pt x="0" y="167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080" y="5532480"/>
            <a:ext cx="58680" cy="25200"/>
          </a:xfrm>
          <a:custGeom>
            <a:avLst/>
            <a:gdLst/>
            <a:ahLst/>
            <a:rect l="l" t="t" r="r" b="b"/>
            <a:pathLst>
              <a:path w="112" h="46">
                <a:moveTo>
                  <a:pt x="1" y="22"/>
                </a:moveTo>
                <a:lnTo>
                  <a:pt x="0" y="43"/>
                </a:lnTo>
                <a:lnTo>
                  <a:pt x="10" y="46"/>
                </a:lnTo>
                <a:lnTo>
                  <a:pt x="13" y="37"/>
                </a:lnTo>
                <a:lnTo>
                  <a:pt x="20" y="36"/>
                </a:lnTo>
                <a:lnTo>
                  <a:pt x="32" y="19"/>
                </a:lnTo>
                <a:lnTo>
                  <a:pt x="86" y="9"/>
                </a:lnTo>
                <a:lnTo>
                  <a:pt x="109" y="22"/>
                </a:lnTo>
                <a:lnTo>
                  <a:pt x="112" y="7"/>
                </a:lnTo>
                <a:lnTo>
                  <a:pt x="104" y="3"/>
                </a:lnTo>
                <a:lnTo>
                  <a:pt x="16" y="0"/>
                </a:lnTo>
                <a:lnTo>
                  <a:pt x="1" y="22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5160" y="50896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60"/>
                </a:moveTo>
                <a:lnTo>
                  <a:pt x="59" y="21"/>
                </a:lnTo>
                <a:lnTo>
                  <a:pt x="56" y="8"/>
                </a:lnTo>
                <a:lnTo>
                  <a:pt x="40" y="0"/>
                </a:lnTo>
                <a:lnTo>
                  <a:pt x="14" y="10"/>
                </a:lnTo>
                <a:lnTo>
                  <a:pt x="1" y="33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7600" y="5519880"/>
            <a:ext cx="54000" cy="15840"/>
          </a:xfrm>
          <a:custGeom>
            <a:avLst/>
            <a:gdLst/>
            <a:ahLst/>
            <a:rect l="l" t="t" r="r" b="b"/>
            <a:pathLst>
              <a:path w="101" h="30">
                <a:moveTo>
                  <a:pt x="0" y="24"/>
                </a:moveTo>
                <a:lnTo>
                  <a:pt x="18" y="30"/>
                </a:lnTo>
                <a:lnTo>
                  <a:pt x="28" y="23"/>
                </a:lnTo>
                <a:lnTo>
                  <a:pt x="67" y="27"/>
                </a:lnTo>
                <a:lnTo>
                  <a:pt x="101" y="10"/>
                </a:lnTo>
                <a:lnTo>
                  <a:pt x="75" y="4"/>
                </a:lnTo>
                <a:lnTo>
                  <a:pt x="13" y="0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0960" y="5508720"/>
            <a:ext cx="46080" cy="19080"/>
          </a:xfrm>
          <a:custGeom>
            <a:avLst/>
            <a:gdLst/>
            <a:ahLst/>
            <a:rect l="l" t="t" r="r" b="b"/>
            <a:pathLst>
              <a:path w="86" h="35">
                <a:moveTo>
                  <a:pt x="0" y="10"/>
                </a:moveTo>
                <a:lnTo>
                  <a:pt x="16" y="0"/>
                </a:lnTo>
                <a:lnTo>
                  <a:pt x="72" y="9"/>
                </a:lnTo>
                <a:lnTo>
                  <a:pt x="86" y="23"/>
                </a:lnTo>
                <a:lnTo>
                  <a:pt x="80" y="28"/>
                </a:lnTo>
                <a:lnTo>
                  <a:pt x="40" y="25"/>
                </a:lnTo>
                <a:lnTo>
                  <a:pt x="23" y="13"/>
                </a:lnTo>
                <a:lnTo>
                  <a:pt x="16" y="19"/>
                </a:lnTo>
                <a:lnTo>
                  <a:pt x="23" y="31"/>
                </a:lnTo>
                <a:lnTo>
                  <a:pt x="18" y="35"/>
                </a:lnTo>
                <a:lnTo>
                  <a:pt x="8" y="31"/>
                </a:lnTo>
                <a:lnTo>
                  <a:pt x="0" y="10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8640" y="5081760"/>
            <a:ext cx="24120" cy="31680"/>
          </a:xfrm>
          <a:custGeom>
            <a:avLst/>
            <a:gdLst/>
            <a:ahLst/>
            <a:rect l="l" t="t" r="r" b="b"/>
            <a:pathLst>
              <a:path w="44" h="60">
                <a:moveTo>
                  <a:pt x="0" y="7"/>
                </a:moveTo>
                <a:lnTo>
                  <a:pt x="10" y="10"/>
                </a:lnTo>
                <a:lnTo>
                  <a:pt x="17" y="0"/>
                </a:lnTo>
                <a:lnTo>
                  <a:pt x="23" y="4"/>
                </a:lnTo>
                <a:lnTo>
                  <a:pt x="20" y="23"/>
                </a:lnTo>
                <a:lnTo>
                  <a:pt x="44" y="46"/>
                </a:lnTo>
                <a:lnTo>
                  <a:pt x="43" y="53"/>
                </a:lnTo>
                <a:lnTo>
                  <a:pt x="27" y="60"/>
                </a:lnTo>
                <a:lnTo>
                  <a:pt x="1" y="46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840" y="5432400"/>
            <a:ext cx="12600" cy="12600"/>
          </a:xfrm>
          <a:custGeom>
            <a:avLst/>
            <a:gdLst/>
            <a:ahLst/>
            <a:rect l="l" t="t" r="r" b="b"/>
            <a:pathLst>
              <a:path w="23" h="26">
                <a:moveTo>
                  <a:pt x="0" y="15"/>
                </a:moveTo>
                <a:lnTo>
                  <a:pt x="3" y="26"/>
                </a:lnTo>
                <a:lnTo>
                  <a:pt x="18" y="21"/>
                </a:lnTo>
                <a:lnTo>
                  <a:pt x="23" y="13"/>
                </a:lnTo>
                <a:lnTo>
                  <a:pt x="15" y="0"/>
                </a:lnTo>
                <a:lnTo>
                  <a:pt x="6" y="3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5520" y="5405400"/>
            <a:ext cx="15840" cy="11160"/>
          </a:xfrm>
          <a:custGeom>
            <a:avLst/>
            <a:gdLst/>
            <a:ahLst/>
            <a:rect l="l" t="t" r="r" b="b"/>
            <a:pathLst>
              <a:path w="30" h="21">
                <a:moveTo>
                  <a:pt x="0" y="21"/>
                </a:moveTo>
                <a:lnTo>
                  <a:pt x="7" y="4"/>
                </a:lnTo>
                <a:lnTo>
                  <a:pt x="23" y="0"/>
                </a:lnTo>
                <a:lnTo>
                  <a:pt x="30" y="6"/>
                </a:lnTo>
                <a:lnTo>
                  <a:pt x="17" y="10"/>
                </a:lnTo>
                <a:lnTo>
                  <a:pt x="12" y="20"/>
                </a:lnTo>
                <a:lnTo>
                  <a:pt x="0" y="21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7040" y="5249880"/>
            <a:ext cx="7920" cy="79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0"/>
                </a:moveTo>
                <a:lnTo>
                  <a:pt x="16" y="1"/>
                </a:lnTo>
                <a:lnTo>
                  <a:pt x="6" y="1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03440" y="4788000"/>
            <a:ext cx="3681360" cy="1990800"/>
          </a:xfrm>
          <a:custGeom>
            <a:avLst/>
            <a:gdLst/>
            <a:ahLst/>
            <a:rect l="l" t="t" r="r" b="b"/>
            <a:pathLst>
              <a:path w="6957" h="3763">
                <a:moveTo>
                  <a:pt x="261" y="2785"/>
                </a:moveTo>
                <a:lnTo>
                  <a:pt x="268" y="2792"/>
                </a:lnTo>
                <a:lnTo>
                  <a:pt x="333" y="2829"/>
                </a:lnTo>
                <a:lnTo>
                  <a:pt x="359" y="2872"/>
                </a:lnTo>
                <a:lnTo>
                  <a:pt x="393" y="2904"/>
                </a:lnTo>
                <a:lnTo>
                  <a:pt x="369" y="2924"/>
                </a:lnTo>
                <a:lnTo>
                  <a:pt x="353" y="2953"/>
                </a:lnTo>
                <a:lnTo>
                  <a:pt x="396" y="2989"/>
                </a:lnTo>
                <a:lnTo>
                  <a:pt x="373" y="3012"/>
                </a:lnTo>
                <a:lnTo>
                  <a:pt x="324" y="3134"/>
                </a:lnTo>
                <a:lnTo>
                  <a:pt x="343" y="3148"/>
                </a:lnTo>
                <a:lnTo>
                  <a:pt x="359" y="3222"/>
                </a:lnTo>
                <a:lnTo>
                  <a:pt x="352" y="3256"/>
                </a:lnTo>
                <a:lnTo>
                  <a:pt x="364" y="3275"/>
                </a:lnTo>
                <a:lnTo>
                  <a:pt x="405" y="3274"/>
                </a:lnTo>
                <a:lnTo>
                  <a:pt x="444" y="3291"/>
                </a:lnTo>
                <a:lnTo>
                  <a:pt x="449" y="3294"/>
                </a:lnTo>
                <a:lnTo>
                  <a:pt x="454" y="3297"/>
                </a:lnTo>
                <a:lnTo>
                  <a:pt x="467" y="3335"/>
                </a:lnTo>
                <a:lnTo>
                  <a:pt x="458" y="3351"/>
                </a:lnTo>
                <a:lnTo>
                  <a:pt x="449" y="3374"/>
                </a:lnTo>
                <a:lnTo>
                  <a:pt x="459" y="3394"/>
                </a:lnTo>
                <a:lnTo>
                  <a:pt x="447" y="3458"/>
                </a:lnTo>
                <a:lnTo>
                  <a:pt x="454" y="3481"/>
                </a:lnTo>
                <a:lnTo>
                  <a:pt x="482" y="3488"/>
                </a:lnTo>
                <a:lnTo>
                  <a:pt x="500" y="3501"/>
                </a:lnTo>
                <a:lnTo>
                  <a:pt x="503" y="3551"/>
                </a:lnTo>
                <a:lnTo>
                  <a:pt x="468" y="3616"/>
                </a:lnTo>
                <a:lnTo>
                  <a:pt x="465" y="3653"/>
                </a:lnTo>
                <a:lnTo>
                  <a:pt x="478" y="3666"/>
                </a:lnTo>
                <a:lnTo>
                  <a:pt x="462" y="3702"/>
                </a:lnTo>
                <a:lnTo>
                  <a:pt x="422" y="3763"/>
                </a:lnTo>
                <a:lnTo>
                  <a:pt x="6957" y="3763"/>
                </a:lnTo>
                <a:lnTo>
                  <a:pt x="6887" y="3643"/>
                </a:lnTo>
                <a:lnTo>
                  <a:pt x="6815" y="3497"/>
                </a:lnTo>
                <a:lnTo>
                  <a:pt x="6815" y="3374"/>
                </a:lnTo>
                <a:lnTo>
                  <a:pt x="6855" y="3305"/>
                </a:lnTo>
                <a:lnTo>
                  <a:pt x="6820" y="2979"/>
                </a:lnTo>
                <a:lnTo>
                  <a:pt x="6697" y="2868"/>
                </a:lnTo>
                <a:lnTo>
                  <a:pt x="6487" y="2832"/>
                </a:lnTo>
                <a:lnTo>
                  <a:pt x="6449" y="2766"/>
                </a:lnTo>
                <a:lnTo>
                  <a:pt x="6569" y="2467"/>
                </a:lnTo>
                <a:lnTo>
                  <a:pt x="6692" y="2344"/>
                </a:lnTo>
                <a:lnTo>
                  <a:pt x="6806" y="2301"/>
                </a:lnTo>
                <a:lnTo>
                  <a:pt x="6915" y="2165"/>
                </a:lnTo>
                <a:lnTo>
                  <a:pt x="6907" y="2091"/>
                </a:lnTo>
                <a:lnTo>
                  <a:pt x="6862" y="1802"/>
                </a:lnTo>
                <a:lnTo>
                  <a:pt x="6815" y="1746"/>
                </a:lnTo>
                <a:lnTo>
                  <a:pt x="6819" y="1617"/>
                </a:lnTo>
                <a:lnTo>
                  <a:pt x="6738" y="1520"/>
                </a:lnTo>
                <a:lnTo>
                  <a:pt x="6508" y="1007"/>
                </a:lnTo>
                <a:lnTo>
                  <a:pt x="6407" y="707"/>
                </a:lnTo>
                <a:lnTo>
                  <a:pt x="6361" y="477"/>
                </a:lnTo>
                <a:lnTo>
                  <a:pt x="6255" y="368"/>
                </a:lnTo>
                <a:lnTo>
                  <a:pt x="6051" y="309"/>
                </a:lnTo>
                <a:lnTo>
                  <a:pt x="5989" y="218"/>
                </a:lnTo>
                <a:lnTo>
                  <a:pt x="5894" y="205"/>
                </a:lnTo>
                <a:lnTo>
                  <a:pt x="5859" y="269"/>
                </a:lnTo>
                <a:lnTo>
                  <a:pt x="5038" y="410"/>
                </a:lnTo>
                <a:lnTo>
                  <a:pt x="4190" y="421"/>
                </a:lnTo>
                <a:lnTo>
                  <a:pt x="3819" y="404"/>
                </a:lnTo>
                <a:lnTo>
                  <a:pt x="3618" y="575"/>
                </a:lnTo>
                <a:lnTo>
                  <a:pt x="3559" y="684"/>
                </a:lnTo>
                <a:lnTo>
                  <a:pt x="3563" y="624"/>
                </a:lnTo>
                <a:lnTo>
                  <a:pt x="3471" y="628"/>
                </a:lnTo>
                <a:lnTo>
                  <a:pt x="3451" y="561"/>
                </a:lnTo>
                <a:lnTo>
                  <a:pt x="3569" y="520"/>
                </a:lnTo>
                <a:lnTo>
                  <a:pt x="3723" y="388"/>
                </a:lnTo>
                <a:lnTo>
                  <a:pt x="3560" y="499"/>
                </a:lnTo>
                <a:lnTo>
                  <a:pt x="3261" y="556"/>
                </a:lnTo>
                <a:lnTo>
                  <a:pt x="3101" y="539"/>
                </a:lnTo>
                <a:lnTo>
                  <a:pt x="3008" y="480"/>
                </a:lnTo>
                <a:lnTo>
                  <a:pt x="2939" y="237"/>
                </a:lnTo>
                <a:lnTo>
                  <a:pt x="2854" y="119"/>
                </a:lnTo>
                <a:lnTo>
                  <a:pt x="2869" y="53"/>
                </a:lnTo>
                <a:lnTo>
                  <a:pt x="2951" y="95"/>
                </a:lnTo>
                <a:lnTo>
                  <a:pt x="2803" y="0"/>
                </a:lnTo>
                <a:lnTo>
                  <a:pt x="2366" y="86"/>
                </a:lnTo>
                <a:lnTo>
                  <a:pt x="2080" y="177"/>
                </a:lnTo>
                <a:lnTo>
                  <a:pt x="1859" y="354"/>
                </a:lnTo>
                <a:lnTo>
                  <a:pt x="1577" y="466"/>
                </a:lnTo>
                <a:lnTo>
                  <a:pt x="1364" y="756"/>
                </a:lnTo>
                <a:lnTo>
                  <a:pt x="1406" y="749"/>
                </a:lnTo>
                <a:lnTo>
                  <a:pt x="1379" y="795"/>
                </a:lnTo>
                <a:lnTo>
                  <a:pt x="1311" y="802"/>
                </a:lnTo>
                <a:lnTo>
                  <a:pt x="1347" y="768"/>
                </a:lnTo>
                <a:lnTo>
                  <a:pt x="854" y="939"/>
                </a:lnTo>
                <a:lnTo>
                  <a:pt x="415" y="1117"/>
                </a:lnTo>
                <a:lnTo>
                  <a:pt x="188" y="1261"/>
                </a:lnTo>
                <a:lnTo>
                  <a:pt x="62" y="1251"/>
                </a:lnTo>
                <a:lnTo>
                  <a:pt x="47" y="1293"/>
                </a:lnTo>
                <a:lnTo>
                  <a:pt x="58" y="1312"/>
                </a:lnTo>
                <a:lnTo>
                  <a:pt x="57" y="1329"/>
                </a:lnTo>
                <a:lnTo>
                  <a:pt x="38" y="1319"/>
                </a:lnTo>
                <a:lnTo>
                  <a:pt x="0" y="1422"/>
                </a:lnTo>
                <a:lnTo>
                  <a:pt x="146" y="1401"/>
                </a:lnTo>
                <a:lnTo>
                  <a:pt x="193" y="1348"/>
                </a:lnTo>
                <a:lnTo>
                  <a:pt x="176" y="1290"/>
                </a:lnTo>
                <a:lnTo>
                  <a:pt x="340" y="1343"/>
                </a:lnTo>
                <a:lnTo>
                  <a:pt x="339" y="1444"/>
                </a:lnTo>
                <a:lnTo>
                  <a:pt x="287" y="1522"/>
                </a:lnTo>
                <a:lnTo>
                  <a:pt x="346" y="1586"/>
                </a:lnTo>
                <a:lnTo>
                  <a:pt x="329" y="1655"/>
                </a:lnTo>
                <a:lnTo>
                  <a:pt x="107" y="1540"/>
                </a:lnTo>
                <a:lnTo>
                  <a:pt x="111" y="1608"/>
                </a:lnTo>
                <a:lnTo>
                  <a:pt x="127" y="1622"/>
                </a:lnTo>
                <a:lnTo>
                  <a:pt x="134" y="1638"/>
                </a:lnTo>
                <a:lnTo>
                  <a:pt x="133" y="1690"/>
                </a:lnTo>
                <a:lnTo>
                  <a:pt x="139" y="1722"/>
                </a:lnTo>
                <a:lnTo>
                  <a:pt x="139" y="1747"/>
                </a:lnTo>
                <a:lnTo>
                  <a:pt x="163" y="1783"/>
                </a:lnTo>
                <a:lnTo>
                  <a:pt x="169" y="1811"/>
                </a:lnTo>
                <a:lnTo>
                  <a:pt x="177" y="1831"/>
                </a:lnTo>
                <a:lnTo>
                  <a:pt x="179" y="1874"/>
                </a:lnTo>
                <a:lnTo>
                  <a:pt x="195" y="1952"/>
                </a:lnTo>
                <a:lnTo>
                  <a:pt x="215" y="1973"/>
                </a:lnTo>
                <a:lnTo>
                  <a:pt x="215" y="2042"/>
                </a:lnTo>
                <a:lnTo>
                  <a:pt x="241" y="2060"/>
                </a:lnTo>
                <a:lnTo>
                  <a:pt x="215" y="2107"/>
                </a:lnTo>
                <a:lnTo>
                  <a:pt x="211" y="2124"/>
                </a:lnTo>
                <a:lnTo>
                  <a:pt x="199" y="2113"/>
                </a:lnTo>
                <a:lnTo>
                  <a:pt x="199" y="2130"/>
                </a:lnTo>
                <a:lnTo>
                  <a:pt x="177" y="2155"/>
                </a:lnTo>
                <a:lnTo>
                  <a:pt x="195" y="2202"/>
                </a:lnTo>
                <a:lnTo>
                  <a:pt x="182" y="2316"/>
                </a:lnTo>
                <a:lnTo>
                  <a:pt x="167" y="2340"/>
                </a:lnTo>
                <a:lnTo>
                  <a:pt x="149" y="2349"/>
                </a:lnTo>
                <a:lnTo>
                  <a:pt x="134" y="2365"/>
                </a:lnTo>
                <a:lnTo>
                  <a:pt x="93" y="2395"/>
                </a:lnTo>
                <a:lnTo>
                  <a:pt x="58" y="2423"/>
                </a:lnTo>
                <a:lnTo>
                  <a:pt x="45" y="2445"/>
                </a:lnTo>
                <a:lnTo>
                  <a:pt x="39" y="2472"/>
                </a:lnTo>
                <a:lnTo>
                  <a:pt x="38" y="2513"/>
                </a:lnTo>
                <a:lnTo>
                  <a:pt x="39" y="2546"/>
                </a:lnTo>
                <a:lnTo>
                  <a:pt x="28" y="2583"/>
                </a:lnTo>
                <a:lnTo>
                  <a:pt x="35" y="2602"/>
                </a:lnTo>
                <a:lnTo>
                  <a:pt x="74" y="2608"/>
                </a:lnTo>
                <a:lnTo>
                  <a:pt x="88" y="2628"/>
                </a:lnTo>
                <a:lnTo>
                  <a:pt x="146" y="2665"/>
                </a:lnTo>
                <a:lnTo>
                  <a:pt x="182" y="2678"/>
                </a:lnTo>
                <a:lnTo>
                  <a:pt x="229" y="2750"/>
                </a:lnTo>
                <a:lnTo>
                  <a:pt x="261" y="2785"/>
                </a:lnTo>
                <a:close/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2360" y="912960"/>
            <a:ext cx="37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ap Symbols"/>
                <a:ea typeface="Map Symbols"/>
              </a:rPr>
              <a:t>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4320" y="990720"/>
            <a:ext cx="113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240" y="227664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3080" y="3068640"/>
            <a:ext cx="92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4600" y="39337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17080" y="5950080"/>
            <a:ext cx="98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24440" y="189072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сто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86040" y="551664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"/>
              </a:rPr>
              <a:t>БЕЛОРУ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42600" y="602136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3855960"/>
            <a:ext cx="70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5240" y="310500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атв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800600"/>
            <a:ext cx="115920" cy="115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28880" y="4797360"/>
            <a:ext cx="115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Калинингра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9"/>
          <a:stretch/>
        </p:blipFill>
        <p:spPr>
          <a:xfrm>
            <a:off x="7772400" y="1295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0"/>
          <a:stretch/>
        </p:blipFill>
        <p:spPr>
          <a:xfrm>
            <a:off x="4838760" y="4343400"/>
            <a:ext cx="342720" cy="457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935240" y="4648320"/>
            <a:ext cx="45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"/>
              </a:rPr>
              <a:t>Росс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40520" y="2286000"/>
            <a:ext cx="84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Narrow"/>
              </a:rPr>
              <a:t>Калининградская область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31240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18000" y="19810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464832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24382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4320" y="25146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Пс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63244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05520" y="617220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2920" y="49528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2670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2920" y="47689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Мин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74960" y="18446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Стокголь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79640" y="4005360"/>
            <a:ext cx="16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Копенгаг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6216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Варша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6369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Берл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447920"/>
            <a:ext cx="6781680" cy="6781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505320"/>
            <a:ext cx="2684520" cy="26845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495320" y="1447560"/>
            <a:ext cx="304920" cy="3352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005200">
            <a:off x="4009680" y="2577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912600">
            <a:off x="3706560" y="414936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505320" y="4419720"/>
            <a:ext cx="121896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65840" y="4202280"/>
            <a:ext cx="3914640" cy="2442960"/>
          </a:xfrm>
          <a:custGeom>
            <a:avLst/>
            <a:gdLst/>
            <a:ahLst/>
            <a:rect l="l" t="t" r="r" b="b"/>
            <a:pathLst>
              <a:path w="2466" h="1539">
                <a:moveTo>
                  <a:pt x="0" y="0"/>
                </a:moveTo>
                <a:lnTo>
                  <a:pt x="366" y="99"/>
                </a:lnTo>
                <a:lnTo>
                  <a:pt x="584" y="163"/>
                </a:lnTo>
                <a:lnTo>
                  <a:pt x="648" y="201"/>
                </a:lnTo>
                <a:lnTo>
                  <a:pt x="898" y="310"/>
                </a:lnTo>
                <a:lnTo>
                  <a:pt x="1704" y="630"/>
                </a:lnTo>
                <a:lnTo>
                  <a:pt x="2466" y="1539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604360" y="4221000"/>
            <a:ext cx="533160" cy="381240"/>
          </a:xfrm>
          <a:prstGeom prst="wedgeRoundRectCallout">
            <a:avLst>
              <a:gd name="adj1" fmla="val -185166"/>
              <a:gd name="adj2" fmla="val 74583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9c9c"/>
                </a:solidFill>
                <a:latin typeface="Times New Roman"/>
              </a:rPr>
              <a:t>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31000" y="2781360"/>
            <a:ext cx="457200" cy="304920"/>
          </a:xfrm>
          <a:prstGeom prst="wedgeRoundRectCallout">
            <a:avLst>
              <a:gd name="adj1" fmla="val -187819"/>
              <a:gd name="adj2" fmla="val -63541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9c9c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105520"/>
            <a:ext cx="609480" cy="228600"/>
          </a:xfrm>
          <a:prstGeom prst="wedgeRoundRectCallout">
            <a:avLst>
              <a:gd name="adj1" fmla="val 4689"/>
              <a:gd name="adj2" fmla="val -224305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9c9c"/>
                </a:solidFill>
                <a:latin typeface="Times New Roman"/>
              </a:rPr>
              <a:t>IX</a:t>
            </a:r>
            <a:r>
              <a:rPr b="1" lang="ru-RU" sz="1200" spc="-1" strike="noStrike">
                <a:solidFill>
                  <a:srgbClr val="9c9c9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9c9c9c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5562720"/>
            <a:ext cx="457200" cy="228600"/>
          </a:xfrm>
          <a:prstGeom prst="wedgeRoundRectCallout">
            <a:avLst>
              <a:gd name="adj1" fmla="val 45486"/>
              <a:gd name="adj2" fmla="val -208333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9c9c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9c9c9c"/>
                </a:solidFill>
                <a:latin typeface="Times New Roman"/>
              </a:rPr>
              <a:t> 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9280" y="476280"/>
            <a:ext cx="5112720" cy="1827360"/>
            <a:chOff x="179280" y="476280"/>
            <a:chExt cx="5112720" cy="1827360"/>
          </a:xfrm>
        </p:grpSpPr>
        <p:sp>
          <p:nvSpPr>
            <p:cNvPr id="339" name=""/>
            <p:cNvSpPr/>
            <p:nvPr/>
          </p:nvSpPr>
          <p:spPr>
            <a:xfrm>
              <a:off x="179280" y="476280"/>
              <a:ext cx="49129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0920" y="484560"/>
              <a:ext cx="4411080" cy="1819080"/>
            </a:xfrm>
            <a:prstGeom prst="rect">
              <a:avLst/>
            </a:prstGeom>
            <a:solidFill>
              <a:srgbClr val="97d1d5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Транспортный коридор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I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 Narrow"/>
                </a:rPr>
                <a:t> (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ViaBaltica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)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Транспортный коридор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</a:t>
              </a:r>
              <a:r>
                <a:rPr b="1" lang="de-DE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I A 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Транспортный коридор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I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Х</a:t>
              </a:r>
              <a:r>
                <a:rPr b="1" lang="en-US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66cc"/>
                  </a:solidFill>
                  <a:latin typeface="Arial Narrow"/>
                </a:rPr>
                <a:t> </a:t>
              </a:r>
              <a:r>
                <a:rPr b="1" i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Транспортный коридор</a:t>
              </a:r>
              <a:r>
                <a:rPr b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 IX 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Пар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9280" y="668160"/>
              <a:ext cx="709920" cy="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9280" y="1054440"/>
              <a:ext cx="709920" cy="0"/>
            </a:xfrm>
            <a:prstGeom prst="line">
              <a:avLst/>
            </a:prstGeom>
            <a:ln cap="sq"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9280" y="1344240"/>
              <a:ext cx="709920" cy="0"/>
            </a:xfrm>
            <a:prstGeom prst="line">
              <a:avLst/>
            </a:prstGeom>
            <a:ln cap="sq"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9280" y="1730520"/>
              <a:ext cx="709920" cy="0"/>
            </a:xfrm>
            <a:prstGeom prst="line">
              <a:avLst/>
            </a:prstGeom>
            <a:ln cap="sq"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033960" y="40766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ауна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41972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00760" y="98100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167652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411480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51418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3044400">
            <a:off x="8030160" y="566064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в Кие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1371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Талл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3733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лайпе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72160" y="54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Хельсин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70320" y="29973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Риг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4692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ильню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9480" y="515772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9640" y="50846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Гомел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5229360"/>
            <a:ext cx="1195560" cy="143964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88000" y="4724280"/>
            <a:ext cx="576000" cy="14472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364000" y="3141720"/>
            <a:ext cx="503280" cy="158256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6140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Орш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29640" y="35733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62880" y="90792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С.-Петербур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24720" y="90792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346560" y="4510080"/>
            <a:ext cx="144108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9" y="77"/>
                </a:moveTo>
                <a:arcTo wR="10800" hR="10800" stAng="-4988721" swAng="4988721"/>
                <a:lnTo>
                  <a:pt x="10800" y="10800"/>
                </a:lnTo>
                <a:close/>
              </a:path>
              <a:path fill="none" w="21600" h="21600">
                <a:moveTo>
                  <a:pt x="12089" y="77"/>
                </a:moveTo>
                <a:arcTo wR="10800" hR="10800" stAng="-4988721" swAng="4988721"/>
              </a:path>
            </a:pathLst>
          </a:custGeom>
          <a:noFill/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9160" y="1052640"/>
            <a:ext cx="0" cy="64764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70320" y="1773360"/>
            <a:ext cx="1030320" cy="4464000"/>
          </a:xfrm>
          <a:custGeom>
            <a:avLst/>
            <a:gdLst/>
            <a:ahLst/>
            <a:rect l="l" t="t" r="r" b="b"/>
            <a:pathLst>
              <a:path w="704" h="2812">
                <a:moveTo>
                  <a:pt x="590" y="0"/>
                </a:moveTo>
                <a:cubicBezTo>
                  <a:pt x="647" y="219"/>
                  <a:pt x="704" y="438"/>
                  <a:pt x="681" y="589"/>
                </a:cubicBezTo>
                <a:cubicBezTo>
                  <a:pt x="658" y="740"/>
                  <a:pt x="469" y="718"/>
                  <a:pt x="454" y="907"/>
                </a:cubicBezTo>
                <a:cubicBezTo>
                  <a:pt x="439" y="1096"/>
                  <a:pt x="666" y="1406"/>
                  <a:pt x="590" y="1723"/>
                </a:cubicBezTo>
                <a:cubicBezTo>
                  <a:pt x="514" y="2040"/>
                  <a:pt x="98" y="2631"/>
                  <a:pt x="0" y="2812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3240" y="515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Гдань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66040" y="6922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Выбор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65840" y="62064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33960" y="549360"/>
            <a:ext cx="1949400" cy="4751280"/>
          </a:xfrm>
          <a:custGeom>
            <a:avLst/>
            <a:gdLst/>
            <a:ahLst/>
            <a:rect l="l" t="t" r="r" b="b"/>
            <a:pathLst>
              <a:path w="1330" h="2993">
                <a:moveTo>
                  <a:pt x="0" y="271"/>
                </a:moveTo>
                <a:cubicBezTo>
                  <a:pt x="204" y="176"/>
                  <a:pt x="408" y="82"/>
                  <a:pt x="589" y="90"/>
                </a:cubicBezTo>
                <a:cubicBezTo>
                  <a:pt x="770" y="98"/>
                  <a:pt x="967" y="0"/>
                  <a:pt x="1088" y="317"/>
                </a:cubicBezTo>
                <a:cubicBezTo>
                  <a:pt x="1209" y="634"/>
                  <a:pt x="1300" y="1549"/>
                  <a:pt x="1315" y="1995"/>
                </a:cubicBezTo>
                <a:cubicBezTo>
                  <a:pt x="1330" y="2441"/>
                  <a:pt x="1202" y="2827"/>
                  <a:pt x="1179" y="2993"/>
                </a:cubicBezTo>
              </a:path>
            </a:pathLst>
          </a:custGeom>
          <a:noFill/>
          <a:ln cap="sq"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4320" y="2060640"/>
            <a:ext cx="53172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72160" y="4508640"/>
            <a:ext cx="1197000" cy="360360"/>
          </a:xfrm>
          <a:custGeom>
            <a:avLst/>
            <a:gdLst/>
            <a:ahLst/>
            <a:rect l="l" t="t" r="r" b="b"/>
            <a:pathLst>
              <a:path w="817" h="318">
                <a:moveTo>
                  <a:pt x="0" y="318"/>
                </a:moveTo>
                <a:cubicBezTo>
                  <a:pt x="136" y="299"/>
                  <a:pt x="272" y="280"/>
                  <a:pt x="408" y="227"/>
                </a:cubicBezTo>
                <a:cubicBezTo>
                  <a:pt x="544" y="174"/>
                  <a:pt x="749" y="38"/>
                  <a:pt x="817" y="0"/>
                </a:cubicBezTo>
              </a:path>
            </a:pathLst>
          </a:custGeom>
          <a:noFill/>
          <a:ln cap="sq"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335-AFAF-4E0B-80AE-528C67DED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69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Уровень безработицы по определению МОТ  </a:t>
            </a:r>
            <a:br>
              <a:rPr sz="2400"/>
            </a:b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% к экономически активному населению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387360" y="1638360"/>
          <a:ext cx="8510400" cy="48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1638360"/>
                    <a:ext cx="85104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25A-DC1E-4EDD-A988-35D745FFC5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692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Объем инвестиций в основной капитал на душу населения</a:t>
            </a: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текущих ценах, тыс. руб.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87360" y="1638360"/>
          <a:ext cx="8510400" cy="48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1638360"/>
                    <a:ext cx="85104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2CB-0B2B-44BB-A927-950193400B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024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ВВП/ВРП на душу населения </a:t>
            </a:r>
            <a:br>
              <a:rPr sz="2400"/>
            </a:b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текущих ценах, тыс. руб.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50720" y="1557360"/>
          <a:ext cx="819468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720" y="1557360"/>
                    <a:ext cx="8194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 rot="16200000">
            <a:off x="-43920" y="21949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61a"/>
                </a:solidFill>
                <a:latin typeface="Arial"/>
              </a:rPr>
              <a:t>тыс. руб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A0E-65D1-4014-84EB-672BCD68BC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69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Объем промышленного производства на душу населения</a:t>
            </a: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текущих ценах, тыс. руб.)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87360" y="1638360"/>
          <a:ext cx="8510400" cy="48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1638360"/>
                    <a:ext cx="85104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5BA-A259-4485-BF6C-BCE09D72D6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502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Новый Губернатор Калининградской области – новая стратегия (</a:t>
            </a:r>
            <a:r>
              <a:rPr b="1" lang="en-US" sz="2400" spc="-1" strike="noStrike">
                <a:solidFill>
                  <a:srgbClr val="424262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779640" y="1628280"/>
            <a:ext cx="51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6 сентября 2005 го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ластной Думой Калининград-ской области по представлению Президента России В.В.Путина был избран новый Губернатор Калининград-ской области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оргий Валентинович Бо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8 сентября 2005 го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новь избранный Губернатор вступил в долж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8 октября 2005 го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убернатор Калининградской области Георгий Валентинович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ос представил полпреду президента в СЗФО Илье Клебанову программу развития российского эксклава на ближайшие 10 ле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11360" y="1557360"/>
            <a:ext cx="32097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0BD-3A46-47A7-9229-BEFD428488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3760" y="549000"/>
            <a:ext cx="8502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Новый Губернатор Калининградской области – новая стратегия (</a:t>
            </a:r>
            <a:r>
              <a:rPr b="1" lang="en-US" sz="2400" spc="-1" strike="noStrike">
                <a:solidFill>
                  <a:srgbClr val="424262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42426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3 месяца новая программа развития Калининградской области будет окончательно сверстана и представлена общественности на обсужд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… уже сейчас мы делаем первые шаги по реализации этой программы, не дожидаясь ее окончательного принятия, поскольку нам надо успеть запрыгнуть в уходящий поезд федерального бюджета 2006 года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.Боо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убернатор Калининград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3AD-0675-4D2D-894F-FED214107C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166760" y="26557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7120" y="2873520"/>
            <a:ext cx="160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9890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35280" y="620640"/>
            <a:ext cx="266400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дминистра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32000" y="1773360"/>
            <a:ext cx="291600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Бизнес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ооб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16720" y="620640"/>
            <a:ext cx="244800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3933720"/>
            <a:ext cx="8207280" cy="273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екларац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 стратегическом партнерст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 реализации Стратегии социально-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развития Калининград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к региона сотрудничест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 период до 2010 года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инята 19 апреля 2003 года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620640"/>
            <a:ext cx="2916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ластная Ду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2360" y="1773360"/>
            <a:ext cx="2916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уницип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628640"/>
            <a:ext cx="358560" cy="2305080"/>
          </a:xfrm>
          <a:prstGeom prst="downArrow">
            <a:avLst>
              <a:gd name="adj1" fmla="val 28315"/>
              <a:gd name="adj2" fmla="val 75002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56000" y="2781360"/>
            <a:ext cx="358560" cy="1152360"/>
          </a:xfrm>
          <a:prstGeom prst="downArrow">
            <a:avLst>
              <a:gd name="adj1" fmla="val 28315"/>
              <a:gd name="adj2" fmla="val 57820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1628640"/>
            <a:ext cx="358920" cy="2305080"/>
          </a:xfrm>
          <a:prstGeom prst="downArrow">
            <a:avLst>
              <a:gd name="adj1" fmla="val 28315"/>
              <a:gd name="adj2" fmla="val 74926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56360" y="2781360"/>
            <a:ext cx="431640" cy="1152360"/>
          </a:xfrm>
          <a:prstGeom prst="downArrow">
            <a:avLst>
              <a:gd name="adj1" fmla="val 21241"/>
              <a:gd name="adj2" fmla="val 49909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8000" y="1628640"/>
            <a:ext cx="358920" cy="2305080"/>
          </a:xfrm>
          <a:prstGeom prst="downArrow">
            <a:avLst>
              <a:gd name="adj1" fmla="val 28315"/>
              <a:gd name="adj2" fmla="val 74926"/>
            </a:avLst>
          </a:prstGeom>
          <a:solidFill>
            <a:srgbClr val="97d1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B27-54D9-48CD-8008-ED59D0F427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0"/>
            <a:ext cx="7315200" cy="6858000"/>
          </a:xfrm>
          <a:prstGeom prst="rect">
            <a:avLst/>
          </a:prstGeom>
          <a:solidFill>
            <a:srgbClr val="869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355760" y="0"/>
            <a:ext cx="649296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33520" y="0"/>
            <a:ext cx="6094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c9c9c"/>
            </a:solidFill>
            <a:miter/>
          </a:ln>
          <a:effectLst>
            <a:outerShdw dist="77353" dir="56247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0"/>
            <a:ext cx="6094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c9c9c"/>
            </a:solidFill>
            <a:miter/>
          </a:ln>
          <a:effectLst>
            <a:outerShdw dist="77353" dir="56247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5CE-DE60-456F-B18C-07B82A9EB9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819520" y="2297160"/>
            <a:ext cx="35049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696ca"/>
                </a:solidFill>
                <a:uFillTx/>
                <a:latin typeface="Arial"/>
              </a:rPr>
              <a:t>МИ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РЕГИОН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СОТРУДНИЧЕСТВА,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КОНТАКТНЫЙ РЕГИОН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РОССИИ И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ЕВРОПЕЙСКОГО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СОЮ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52280"/>
            <a:ext cx="3276360" cy="3056040"/>
          </a:xfrm>
          <a:prstGeom prst="rect">
            <a:avLst/>
          </a:prstGeom>
          <a:solidFill>
            <a:srgbClr val="8696ca"/>
          </a:solidFill>
          <a:ln w="38160">
            <a:solidFill>
              <a:srgbClr val="ffcc00"/>
            </a:solidFill>
            <a:miter/>
          </a:ln>
          <a:effectLst>
            <a:outerShdw dist="71785" dir="2700000" blurRad="0" rotWithShape="0">
              <a:srgbClr val="9c9c9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1. ОСНОВНЫЕ</a:t>
            </a:r>
            <a:br>
              <a:rPr sz="1800"/>
            </a:b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ЦЕЛИ СТРАТЕГИИ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Содействие развитию малого 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него бизнеса Росс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Развитие и эффективная реализация человеческого потенциа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Формирование конкурентной экономи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Достижение социальной консолидац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152280"/>
            <a:ext cx="3200400" cy="2971800"/>
          </a:xfrm>
          <a:prstGeom prst="rect">
            <a:avLst/>
          </a:prstGeom>
          <a:solidFill>
            <a:srgbClr val="8696ca"/>
          </a:solidFill>
          <a:ln w="38160">
            <a:solidFill>
              <a:srgbClr val="ffcc00"/>
            </a:solidFill>
            <a:miter/>
          </a:ln>
          <a:effectLst>
            <a:outerShdw dist="71785" dir="2700000" blurRad="0" rotWithShape="0">
              <a:srgbClr val="9c9c9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2. ВИДЕНИЕ</a:t>
            </a:r>
            <a:r>
              <a:rPr b="1" lang="en-US" sz="1800" spc="-1" strike="noStrike">
                <a:solidFill>
                  <a:srgbClr val="22509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БУДУЩЕГО</a:t>
            </a:r>
            <a:br>
              <a:rPr sz="1800"/>
            </a:b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КАЛИНИНГРАДСКОЙ</a:t>
            </a:r>
            <a:br>
              <a:rPr sz="1800"/>
            </a:b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Устойчиво развивающийся регион в Европ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Контактны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гион Росси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Европейского Союз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Регион сотрудничест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Регио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атегически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ресов Росс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3819600"/>
            <a:ext cx="3200400" cy="2886120"/>
          </a:xfrm>
          <a:prstGeom prst="rect">
            <a:avLst/>
          </a:prstGeom>
          <a:solidFill>
            <a:srgbClr val="8696ca"/>
          </a:solidFill>
          <a:ln w="38160">
            <a:solidFill>
              <a:srgbClr val="ffcc00"/>
            </a:solidFill>
            <a:miter/>
          </a:ln>
          <a:effectLst>
            <a:outerShdw dist="71785" dir="2700000" blurRad="0" rotWithShape="0">
              <a:srgbClr val="9c9c9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3. ПРИОРИТЕТНЫЕ  НАПРАВЛЕНИЯ</a:t>
            </a:r>
            <a:br>
              <a:rPr sz="1800"/>
            </a:b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ДЕЙСТВИЯ  ВЛ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Качество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изни,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стандарты,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солидац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Инфраструктура, системы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изнеобеспеч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Хозяйственный климат, ОЭ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Эффективность, честность и открытость вл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851280"/>
            <a:ext cx="3276360" cy="2842920"/>
          </a:xfrm>
          <a:prstGeom prst="rect">
            <a:avLst/>
          </a:prstGeom>
          <a:solidFill>
            <a:srgbClr val="8696ca"/>
          </a:solidFill>
          <a:ln w="38160">
            <a:solidFill>
              <a:srgbClr val="ffcc00"/>
            </a:solidFill>
            <a:miter/>
          </a:ln>
          <a:effectLst>
            <a:outerShdw dist="71785" dir="2700000" blurRad="0" rotWithShape="0">
              <a:srgbClr val="9c9c9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09c"/>
                </a:solidFill>
                <a:latin typeface="Arial"/>
              </a:rPr>
              <a:t>4. МЕХАНИЗМ РЕАЛИЗАЦИИ СТРАТЕ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ОЭЗ и ФЦ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Регулярное обновление и независимый мониторин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Презентация, открытость, общественное соглас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Интеграц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деральной, региональной и муниципальных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атег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A45-DADB-4B7B-8AE8-7D2DCA6ED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0" y="88272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2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2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3AD-AC4E-4F88-B285-FD89511D5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484360" y="1700280"/>
          <a:ext cx="6499440" cy="50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700280"/>
                    <a:ext cx="649944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324000" y="620640"/>
            <a:ext cx="6516360" cy="4508640"/>
            <a:chOff x="324000" y="620640"/>
            <a:chExt cx="6516360" cy="4508640"/>
          </a:xfrm>
        </p:grpSpPr>
        <p:graphicFrame>
          <p:nvGraphicFramePr>
            <p:cNvPr id="405" name=""/>
            <p:cNvGraphicFramePr/>
            <p:nvPr/>
          </p:nvGraphicFramePr>
          <p:xfrm>
            <a:off x="2268360" y="1700280"/>
            <a:ext cx="4572000" cy="3429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68360" y="1700280"/>
                      <a:ext cx="457200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24000" y="620640"/>
            <a:ext cx="6083280" cy="801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4000" y="620640"/>
                      <a:ext cx="608328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3419640" y="1413000"/>
            <a:ext cx="36360" cy="341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19640" y="1413000"/>
                      <a:ext cx="3636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1" name=""/>
          <p:cNvSpPr/>
          <p:nvPr/>
        </p:nvSpPr>
        <p:spPr>
          <a:xfrm>
            <a:off x="755640" y="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законодательства Калининградской области регулирующая государственное планирование и прогнози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0C15-8CED-4599-87AD-82BC0E9220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1341360"/>
            <a:ext cx="868680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КАЗАТЕЛЬ, ЕДИНИЦА ИЗМЕРЕНИЯ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2002 г.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2010 г.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 ценах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2002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аловой региональный продукт (ВРП), млн. руб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.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 41 663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83 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РП на душу населения, руб........................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..... 44 237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88 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Реальные денежные доходы населения, %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.... 100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Доля населения с доходами ниже прожиточного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минимума, %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……………………….…………………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.... 40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бъем переработки грузов в портовом комплексе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алининградской области, млн. т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........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...... 9,9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бъем промышленной продукции, млн. руб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 26 662,7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80 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аловая продукция сельского хозяйства, млн. руб....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 4882,6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3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Доля расходов областного бюджета на развитие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научно-технического потенциала (расчетная величина), %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 0,03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бъем инвестиций в основной капитал, млн. руб..........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 6512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16 2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бъем накопленных иностранных инвестиций,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млн. долларов США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…………………………………………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.…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.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...... 55,7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solidFill>
            <a:srgbClr val="2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КОЛИЧЕСТВЕННЫЕ ОРИЕНТИРЫ СТРАТЕГИИ:</a:t>
            </a:r>
            <a:br>
              <a:rPr sz="1800"/>
            </a:br>
            <a:r>
              <a:rPr b="1" lang="ru-RU" sz="1800" spc="-1" strike="noStrike">
                <a:solidFill>
                  <a:srgbClr val="8696ca"/>
                </a:solidFill>
                <a:latin typeface="Arial"/>
              </a:rPr>
              <a:t>2010 г. ПО СРАВНЕНИЮ С 200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1905120"/>
          <a:ext cx="60984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7010280" y="2263680"/>
          <a:ext cx="609840" cy="40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226368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7010280" y="2644920"/>
          <a:ext cx="60984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0280" y="264492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7010280" y="3863880"/>
          <a:ext cx="60984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10280" y="386388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7010280" y="4191120"/>
          <a:ext cx="609840" cy="40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10280" y="419112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010280" y="4495680"/>
          <a:ext cx="609840" cy="403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10280" y="449568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7010280" y="5159520"/>
          <a:ext cx="609840" cy="403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10280" y="515952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10280" y="5540400"/>
          <a:ext cx="609840" cy="403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10280" y="554040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10280" y="6149880"/>
          <a:ext cx="609840" cy="403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010280" y="6149880"/>
                    <a:ext cx="609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010280" y="3200400"/>
          <a:ext cx="615960" cy="406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10280" y="3200400"/>
                    <a:ext cx="6159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2FC-650F-44DD-934D-AF22AEFCC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3760" y="981000"/>
            <a:ext cx="8502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Динамика ВВП России и ВРП Калининград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424262"/>
                </a:solidFill>
                <a:latin typeface="Arial"/>
              </a:rPr>
              <a:t>Российской Федерации </a:t>
            </a:r>
            <a:r>
              <a:rPr b="0" i="1" lang="ru-RU" sz="1800" spc="-1" strike="noStrike">
                <a:solidFill>
                  <a:srgbClr val="424262"/>
                </a:solidFill>
                <a:latin typeface="Arial"/>
              </a:rPr>
              <a:t>(в % к 1994 году)</a:t>
            </a:r>
            <a:r>
              <a:rPr b="0" lang="ru-RU" sz="2000" spc="-1" strike="noStrike">
                <a:solidFill>
                  <a:srgbClr val="42426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63400" y="1714680"/>
          <a:ext cx="8158320" cy="46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400" y="1714680"/>
                    <a:ext cx="815832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245-8655-4E40-A7B8-9191266854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5:10:28Z</dcterms:created>
  <dc:creator>OLga</dc:creator>
  <dc:description/>
  <dc:language>en-US</dc:language>
  <cp:lastModifiedBy>Elena Belova</cp:lastModifiedBy>
  <dcterms:modified xsi:type="dcterms:W3CDTF">2005-11-09T08:27:29Z</dcterms:modified>
  <cp:revision>253</cp:revision>
  <dc:subject/>
  <dc:title>Предварительные итоги социально-экономического развития Калининградской области в 2003 году</dc:title>
</cp:coreProperties>
</file>