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021-CE1B-442E-AAD1-016DE604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5D3-3F43-4290-84A1-7876DE0E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21D-0BA4-4519-8F63-6B1D6CA8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B47-7FA7-434A-B538-082DCC67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35B-FE99-4CD4-A20C-AAD1EDD6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37D-8753-4A75-B7A2-7246B355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78F-D7EF-4D04-B4F2-7ADA8E98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D93-06C4-4CDB-B7F2-883A9F4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48F-E9C0-455F-A6CD-656DD54B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12D-87C7-4A3A-B61B-9EC1B46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44C-0A60-4642-BDFA-74E7834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800-EA3C-4ED9-A357-1B90294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AD8C-EE42-44B9-9F10-B46948E8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06280"/>
            <a:ext cx="7772400" cy="44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АЛЬНО-ЭКОНОМИЧЕСКОЕ РАЗВИТИЕ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ОВЕРШЕНСТВОВА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ЕНИЯ НА МЕСТНОМ УРОВНЕ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– 20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разработке федеральной социальной политики с учетом опыта реализации проектов социальных реформ на мест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в разработке схемы перераспределения полномочий в области социальной защиты между федеральными, региональными и местными органами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адресности социальной помощи насе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работы социальных служб на местном уровне путём проведения обучающих семинаров и други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развитию системы социального зак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развитию социально ответственн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передового опыта организации социальных служ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НАВЫКОВ РАЗРАБОТКИ СОЦИАЛЬНО-ЭКОНОМИЧЕСКОЙ ПОЛИТИКИ И МЕХАНИЗМОВ ЕЕ РЕАЛИЗАЦИИ НА ФЕДЕРАЛЬНОМ, РЕГИОНАЛЬНОМ И МЕСТНОМ УРОВ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уководящих сотрудников федеральных органов исполнительной власти в области современных методов анализа и разработки социально-экономическ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уководящих сотрудников ОМС и лидеров НКО навыкам анализа и принятия решений в сфере разработки социально-экономическ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КА, ВНЕДРЕНИЕ И РАСПРОСТРАНЕНИЕ УСПЕШНЫХ МОДЕЛЕЙ СОЦИАЛЬНО-ЭКОНОМИЧЕСКИХ РЕФОРМ НА МЕСТ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ние Центра поддержки реформ на местном уровне в ПФ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йствие ОМС в разработке, реализации, мониторинге и оценке инновационных программ и моделей социально-эконом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рдинация взаимодействия между органами госвласти, негосударственным сектором и деловым сообществом по вопросам развития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600200"/>
            <a:ext cx="731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65556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ление системы местного самоуправ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ышение эффективности работы ОМС по управлению муниципальными 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йствие ОМС в организации привлечения местных жителей к взаимовыгодному сотрудниче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чение представителей ОМС и лидеров НКО навыкам эффективного предоставления социальны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ышение уровня подготовки руководящих сотрудников органов государственной власти, ОМС, и лидеров НКО по управлению социально-экономическим развитием на мест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ЙСТВИЕ РАЗРАБОТКЕ ПОЛИТИКИ СОЦИАЛЬНО-ЭКОНОМИЧЕСКОГО РАЗВИТИЯ ГОРОД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ФЕДЕРАЛЬНОМ, РЕГИОНАЛЬНОМ И МЕСТНОМ УРОВ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604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ценка опыта проведения политики социально-экономических реформ на мест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ормативно-правовой базы развития ЖКХ, рынка земли, системы финансирования строительства и приобретения недвиж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в реализации на местном уровне проектов, демонстрирующих степень эффективности различных компонентов социально-экономических реформ, осуществляемых федеральными органами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академической программы по подготовке специалистов в сфере управления и планирования город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016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НИЕ ПРОЦЕССА ФОРМИРОВАНИЯ И ИСПОЛНЕНИЯ МЕСТНЫХ БЮДЖ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бюджетного финансирования на мест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процесса принятия финансовых решений на базе внедрения современных методов бюджетн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эффективных моделей участия населения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жбюджетных отношений на основе повышения эффективности обмена данными и анализа бюджетно-финансовой информации местных и региональных админист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ЙСТВИЕ РЕФОРМЕ СИСТЕМЫ СОЦИАЛЬНОГО ОБЕСПЕЧЕНИЯ В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7:19:39Z</dcterms:created>
  <dc:creator>Kosareva</dc:creator>
  <dc:description/>
  <dc:language>en-US</dc:language>
  <cp:lastModifiedBy>EIST </cp:lastModifiedBy>
  <dcterms:modified xsi:type="dcterms:W3CDTF">2002-04-19T06:19:37Z</dcterms:modified>
  <cp:revision>25</cp:revision>
  <dc:subject/>
  <dc:title>STRATEGIC PLANNING AT LOCAL LEVEL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3295576</vt:r8>
  </property>
  <property fmtid="{D5CDD505-2E9C-101B-9397-08002B2CF9AE}" pid="3" name="_AuthorEmail">
    <vt:lpwstr>kosareva@urbaneconomics.ru</vt:lpwstr>
  </property>
  <property fmtid="{D5CDD505-2E9C-101B-9397-08002B2CF9AE}" pid="4" name="_AuthorEmailDisplayName">
    <vt:lpwstr>Косарева Надежда Борисовна</vt:lpwstr>
  </property>
  <property fmtid="{D5CDD505-2E9C-101B-9397-08002B2CF9AE}" pid="5" name="_EmailSubject">
    <vt:lpwstr>Пузанов.ppt</vt:lpwstr>
  </property>
</Properties>
</file>