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5FF-C266-4C53-B929-ECD3AFB8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E78-D1A4-4CA7-B58D-63D20B19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1CB-103F-46E6-B947-B29AA88B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AD9-4565-452A-8C79-171437A4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8BF2-A5F8-4FD8-9C6D-CB07711D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981C-9FB9-4247-8F81-8D839CF0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674E-3225-466F-AA22-23B62EAF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BCD0-4A23-4922-A11C-3ED0E11B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95A8-EAA0-4A9C-9010-CB73B61D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06480" y="-360"/>
            <a:ext cx="7337520" cy="79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9F3D-7657-4315-AAEA-4A8F416A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CEB5-E9AE-4211-A8C9-01C788A2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7CB-A58E-44DB-B7B7-A17DA1DF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6841-2D99-455C-96DB-51B3DB53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75D7-BBB1-4C86-ADEC-735BBCFF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BFDF-9FB3-4678-B16F-DB746871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46A5-E610-4668-9177-D9049512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42B0-8091-43F1-8124-C292F2CB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1B0-6F03-4F33-8933-F137AA2C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B41-6EA2-4FD7-BCEB-9E38330D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8DF-4653-47C7-8F1E-338CE432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806480" y="-360"/>
            <a:ext cx="7337520" cy="79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17F-4B17-4C0D-956B-EFBAF11D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761-3605-4FAD-BEA4-1AE8FF4C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C59-838A-44CE-9052-864215DF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608-F763-4EBD-9F16-FC519DD2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59F7-57E0-4197-92CA-38AFB83FB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6480" y="-360"/>
            <a:ext cx="73375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4461480" y="2175480"/>
            <a:ext cx="220680" cy="914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241760" y="6620040"/>
            <a:ext cx="19018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36F7-DE4D-4168-879D-0C0AA0375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9360" y="909720"/>
            <a:ext cx="1122120" cy="594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1320" cy="1376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04440" y="2045880"/>
            <a:ext cx="6999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Тверской опыт разработки региональной стратегии: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диалектика создания образа будущего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1925640"/>
            <a:ext cx="781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3370320"/>
            <a:ext cx="781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25640" y="3970440"/>
            <a:ext cx="699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А. А. Лошаков, заместитель</a:t>
            </a:r>
            <a:br>
              <a:rPr sz="1600"/>
            </a:b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Губернатора Тверской обла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8BCA-EC94-47AC-9FD8-9CC52A93EF38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65040" y="1504440"/>
            <a:ext cx="78786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Шаг 1. Инвентаризация образов прошл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«Тверь – в Москву двер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«Тверь – дорога между С. Петербургом и Москво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«Тверь – исток Росси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487E-5AE0-4C91-BA63-7575A2F23E4E}" type="slidenum">
              <a:t>2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596960"/>
            <a:ext cx="10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20320" y="0"/>
            <a:ext cx="8023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Шаг 2. Определение «конкурентных преимуществ»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1325520" y="619200"/>
            <a:ext cx="7597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44440" y="782640"/>
          <a:ext cx="7456320" cy="5576760"/>
        </p:xfrm>
        <a:graphic>
          <a:graphicData uri="http://schemas.openxmlformats.org/drawingml/2006/table">
            <a:tbl>
              <a:tblPr/>
              <a:tblGrid>
                <a:gridCol w="1490400"/>
                <a:gridCol w="1492560"/>
                <a:gridCol w="1490400"/>
                <a:gridCol w="1490760"/>
                <a:gridCol w="149220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изость к Москв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с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ода и эк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учный потенци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рф, лес, лен и проч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40CD-2809-4E9E-B84A-19EE94BBA10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96960"/>
            <a:ext cx="10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20320" y="0"/>
            <a:ext cx="8023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Шаг 3. Анализ «конкурентных преимуществ»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1325520" y="619200"/>
            <a:ext cx="7597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4440" y="782640"/>
          <a:ext cx="7575480" cy="5572080"/>
        </p:xfrm>
        <a:graphic>
          <a:graphicData uri="http://schemas.openxmlformats.org/drawingml/2006/table">
            <a:tbl>
              <a:tblPr/>
              <a:tblGrid>
                <a:gridCol w="1514520"/>
                <a:gridCol w="1515960"/>
                <a:gridCol w="1514160"/>
                <a:gridCol w="1514880"/>
                <a:gridCol w="151596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ейств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изость к Москв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ток населения и кадр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с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битые доро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ода и эк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испо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учный потенци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авданы расходы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рф, лес, лен и проч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испо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71C2-6C97-4889-BAAF-8F87542706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96960"/>
            <a:ext cx="10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20320" y="0"/>
            <a:ext cx="8023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Шаг 4. Анализ внешних условий и тенденций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325520" y="619200"/>
            <a:ext cx="7597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44440" y="542880"/>
          <a:ext cx="7456680" cy="5811840"/>
        </p:xfrm>
        <a:graphic>
          <a:graphicData uri="http://schemas.openxmlformats.org/drawingml/2006/table">
            <a:tbl>
              <a:tblPr/>
              <a:tblGrid>
                <a:gridCol w="1490760"/>
                <a:gridCol w="1492200"/>
                <a:gridCol w="1490760"/>
                <a:gridCol w="1490760"/>
                <a:gridCol w="14922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ейств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ешние усло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изость к Москв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ток населения и кадр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м. субурбан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с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битые доро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яга к активному образу жи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ода и эк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испо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ищная субурбан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учный потенци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авданы расходы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рос на наукоемкие производ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рф, лес, лен и проч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испо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ые техн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1742-4F21-4EBA-8213-584F67E66F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96960"/>
            <a:ext cx="10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20320" y="0"/>
            <a:ext cx="80233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Шаг 5. Формулирование стратегических целей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1325520" y="619200"/>
            <a:ext cx="7597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44440" y="542880"/>
          <a:ext cx="7635960" cy="6324480"/>
        </p:xfrm>
        <a:graphic>
          <a:graphicData uri="http://schemas.openxmlformats.org/drawingml/2006/table">
            <a:tbl>
              <a:tblPr/>
              <a:tblGrid>
                <a:gridCol w="1527480"/>
                <a:gridCol w="1527120"/>
                <a:gridCol w="1527120"/>
                <a:gridCol w="1525680"/>
                <a:gridCol w="1528560"/>
              </a:tblGrid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ейств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ешние усло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изость к Москв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ток населения и кадр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м. субурбан-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крыть «дверь» для товаров, закрыть для людей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с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битые доро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яга к активному образу жи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ысить капилярн-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делать витрин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ода и эк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испо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ищная субурбан-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оить жиль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вать инфраст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учный потенци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авданы расходы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рос на наукоемкие производ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крепить кад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фориент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рф, лес, лен и проч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испо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ые техн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нять новые техн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крывать нов. рын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8C7F-1BAA-47EB-92B7-89E9F35801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596960"/>
            <a:ext cx="10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20320" y="-360"/>
            <a:ext cx="8023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Шаг 6. Постановка задач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325520" y="619200"/>
            <a:ext cx="7597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44440" y="542880"/>
          <a:ext cx="7696440" cy="6202440"/>
        </p:xfrm>
        <a:graphic>
          <a:graphicData uri="http://schemas.openxmlformats.org/drawingml/2006/table">
            <a:tbl>
              <a:tblPr/>
              <a:tblGrid>
                <a:gridCol w="1538280"/>
                <a:gridCol w="1540080"/>
                <a:gridCol w="1539720"/>
                <a:gridCol w="1538280"/>
                <a:gridCol w="154008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ейств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ешние усло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изость к Москв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ток населения и кадр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м. субурбан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крыть дверь для людей, открыть для товар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-во товаров для б. гор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с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битые доро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яга к активному образу жи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ысить капилярн-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делать витрин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растр. Обустр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ла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тав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ода и эк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испо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ищная субурбан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оить жиль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вать инфраст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ищное стр-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тур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учный потенци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авданы расходы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рос на наукоемкие производ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крепить кад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фориент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технопарковой сре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рф, лес, лен и проч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испо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ые техн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нять новые техн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крывать нов. рын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рф? Л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н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50AA-FAC4-4E9A-B80F-1098F1E7054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596960"/>
            <a:ext cx="10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20320" y="361440"/>
            <a:ext cx="80233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Схема территориального планирования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325520" y="619200"/>
            <a:ext cx="7597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765000"/>
            <a:ext cx="746748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0B2F-BBD9-45EE-B0F4-F66D586B1E7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5:52:56Z</dcterms:created>
  <dc:creator>Мирошниченко</dc:creator>
  <dc:description/>
  <dc:language>en-US</dc:language>
  <cp:lastModifiedBy>aal</cp:lastModifiedBy>
  <dcterms:modified xsi:type="dcterms:W3CDTF">2005-10-18T16:18:10Z</dcterms:modified>
  <cp:revision>81</cp:revision>
  <dc:subject/>
  <dc:title>Социально-экономическое развитие области</dc:title>
</cp:coreProperties>
</file>