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docx" ContentType="application/vnd.openxmlformats-officedocument.wordprocessingml.documen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0913-5AEA-4FD7-8AF8-B2E9C2AC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5B38-D0DA-471A-A17C-DA5019E5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C430-F833-49B6-91ED-8B24943D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EBA0-C18F-47E7-9B43-D7D2C43F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BED-DCD6-45D8-81DD-CC03BC62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05B6-1EB6-4EF2-93CB-B45D334D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E424-355F-48EF-8542-47095DF3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CD27-1AEF-430E-9AE3-F011E0D3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82A-C49D-4777-9EFE-D8D70E6E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3DC0-1592-4455-99D4-EC233885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8CDA-4D7A-4F04-8A4F-140D9559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AE30-2C76-4E5D-8303-712D4505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B3B0-F62A-40A8-8363-CE737D5A4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04920" y="152280"/>
          <a:ext cx="76176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280"/>
                    <a:ext cx="76176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179280" y="620640"/>
            <a:ext cx="2016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Этот проект финансируется Европейской Комиссией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838080" y="22096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ект Европейской Коми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ДДЕРЖКА РАЗВИ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ЛИНИНГРАДСКОЙ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UROPEAID/114287/C/SV/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-31680"/>
          <a:ext cx="9144000" cy="12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1680"/>
                    <a:ext cx="914400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457200" y="5486400"/>
          <a:ext cx="1200240" cy="102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486400"/>
                    <a:ext cx="120024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315200" y="5486400"/>
            <a:ext cx="1477800" cy="1009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64000" y="5950080"/>
            <a:ext cx="252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Санкт – 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0-21 октября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765000"/>
            <a:ext cx="77724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Компоненты по цели 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16905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уровня доходов нас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еспечение занят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доступности жилья и качества жилищно-коммунальных усл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социальной инфраструктуры, обеспечивающей доступность и эффективность услуг в области здравоохранения, образования, культуры и с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ая поддержка ослабленных и уязвимых групп нас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руктура</a:t>
            </a:r>
            <a:br>
              <a:rPr sz="2400"/>
            </a:b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Среднесрочного индикативного плана администрации </a:t>
            </a:r>
            <a:br>
              <a:rPr sz="2400"/>
            </a:b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области  по реализации Стратегии – СИП (КП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Структура КП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аспор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Комплексного плана действий администрации Калининградской области на 2005-2007 гг. по реализации Стратегии социально-экономического развития Калининградской области как региона сотрудничества на период до 2010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Основные положения КП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.1. Вве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.2. Стратегическое планирование социально-экономического развития Калининградской области как региона сотрудничества до 2010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.3. Основные цели, задачи, сроки и этапы реализации мероприятий КП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.3.1. Основные цели КПДА и целевые показатели (общие индикаторы) на 2007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.3.2.  Сроки и этапы реализации КП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.4. Система планов и программ в составе КП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.4.1. Планы действий по реализации основных целей КП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.4.2. Роль и место федеральных и региональных целевых программ в КП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.4.3. Международные проекты и про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.5. Организация управления КПДА и контроль за ходом его испол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.5.1. Механизмы и принципы реализации КП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.6. Организация мониторинга исполнения КП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.6.1. Система мониторинга КП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.6.2. Система индикаторов: общие, частные и специ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.7. Ресурсное обеспечение КП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.8. Ожидаемые результаты и оценка реализации КП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9647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Структура</a:t>
            </a:r>
            <a:br>
              <a:rPr sz="2400"/>
            </a:b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среднесрочного индикативного плана администрации </a:t>
            </a:r>
            <a:br>
              <a:rPr sz="2400"/>
            </a:b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бласти  по реализации Стратегии – СИП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2. Основные цели КПДА, задачи и мероприятия по их достиж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.1.1. Ключев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.1.2. Основные задачи по достижению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.1.3. Ожидаемы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.1.4. Механизмы реализации: планы, программы, нормативно-правовые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.1.5. Ресурсное обеспечение. Обобщенная 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.2. Формирование конкурентной экономики региона, опирающейся на инновации и интеллектуальные ресурсы, обладающей устойчивым и долговременным потенциалом ро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.2.1. Ключев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.2.2. Основные задачи по достижению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.2.3. Ожидаемы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.2.4. Механизмы реализации: планы, программы, нормативно-правовые 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.2.5. Ресурсное обеспечение. Обобщенная 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.3. Содействие развитию малого и среднего бизнеса, ориентированного на трансферт инноваций в регионы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.3.1. Ключев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.3.2. Основные задачи по достижению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.3.4. Механизмы реализации: планы, программы, нормативно-правовые 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.3.5. Ресурсное обеспечение. Обобщенная 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.4. Достижение социальной консолидации как основы укрепления российской государственности на территории области и реализации жизненно важных интересов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.4.1. Ключев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.4.2. Основные задачи по достижению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.4.3. Ожидаемы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.4.4. Механизмы реализации: планы, программы, нормативно-правовые 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.4.5. Ресурсное обеспечение. Обобщенная 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Структура</a:t>
            </a:r>
            <a:br>
              <a:rPr sz="2400"/>
            </a:b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среднесрочного индикативного плана администрации  области  по реализации Стратегии – СИП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(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риложение 3.1. План действий по достижению цели «Создание условий для развития человеческого потенциала и его эффективного примене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Таблица 3.1.1. «Специальные индикаторы выполнения мероприят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риложение 3.2 Формирование конкурентной экономики региона, опирающейся на инновации и интеллектуальные ресурсы, обладающей устойчивым и долговременным потенциалом ро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Таблица 3.2.1. «Специальные индикаторы выполнения мероприят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риложение 3.3. План действий по достижению цели «Содействие развитию малого и среднего бизнеса, ориентированного на трансферт инноваций в регионы Росси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Таблица 3.3.1. «Специальные индикаторы выполнения мероприят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риложение 3.4. План действий по достижению цели «Достижение социальной консолидации как основы укрепления российской государственности на территории области в реализации жизненно важных интересов населе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Таблица 3.4.1. «Специальные индикаторы выполнения мероприят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4. Приложение Образец таблицы «Финансирование мероприят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5. Приложения «Областные и федеральные программы, инвестиционные проекты и предложе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риложение 5.1. Областные про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риложение 5.2. Федеральные про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риложение 5.3. Федеральная целевая программа развития Калининградской области до 2010 г. (ФЦП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Таблица 5.3.1. Мероприятия ФЦП, распределенные по основным целям Комплексного плана действий администрации обла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риложение 5.4. Областная инвестиционная программа  на 2005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риложение 5.5. Инвестиционные проекты и предл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6. Приложение «Перечень международных проектов и програм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14280" y="1960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3333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Основные задачи КП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620640"/>
            <a:ext cx="8229600" cy="60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4280" y="19605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1440" y="1052640"/>
            <a:ext cx="3970440" cy="785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вная цель Страте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Устойчивое повышение уровня и качества жизни населения Калининградской области, сокращение разрыва в уровне благосостояния с сопредельными странам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106720"/>
            <a:ext cx="1657440" cy="900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А. Создание условий дл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я  человеческого потенциала и его эффективного применени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1917720"/>
            <a:ext cx="2232000" cy="1008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Б. Формирование конкурентной экономики региона, опирающей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инновации и интеллектуальные ресурсы, обладающей устойчивы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и долговременным потенциалом рос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7800" y="1917720"/>
            <a:ext cx="2192400" cy="1008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В. Содействие развитию малого и среднего бизнеса, ориентированного на трансферт инноваций в регионы Росс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34160" y="1917720"/>
            <a:ext cx="2050920" cy="1008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Г. Достижение социальной консолидации как основы укрепления российской государственности на территории области и реализации жизненной важных интересов насел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1773360"/>
            <a:ext cx="431640" cy="144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49800" y="1773360"/>
            <a:ext cx="432000" cy="144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325440" y="1052280"/>
            <a:ext cx="2016000" cy="831600"/>
          </a:xfrm>
          <a:custGeom>
            <a:avLst/>
            <a:gdLst>
              <a:gd name="textAreaLeft" fmla="*/ 672120 w 2016000"/>
              <a:gd name="textAreaRight" fmla="*/ 1726920 w 2016000"/>
              <a:gd name="textAreaTop" fmla="*/ 478800 h 831600"/>
              <a:gd name="textAreaBottom" fmla="*/ 712440 h 83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rot="10800000">
            <a:off x="6299640" y="1052640"/>
            <a:ext cx="1841400" cy="831600"/>
          </a:xfrm>
          <a:custGeom>
            <a:avLst/>
            <a:gdLst>
              <a:gd name="textAreaLeft" fmla="*/ 613440 w 1841400"/>
              <a:gd name="textAreaRight" fmla="*/ 1576800 w 1841400"/>
              <a:gd name="textAreaTop" fmla="*/ 478800 h 831600"/>
              <a:gd name="textAreaBottom" fmla="*/ 712440 h 83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720" y="3141720"/>
            <a:ext cx="1295640" cy="43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А.1. Повышение уровня доходов населен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6720" y="3789360"/>
            <a:ext cx="1295640" cy="43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А..2 Обеспечение занятост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6720" y="4437000"/>
            <a:ext cx="1295640" cy="64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А.3 Повышение доступности жиль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5229360"/>
            <a:ext cx="1224000" cy="136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А.4 Развитие социальной инфраструктуры, обеспечивающей доступность и эффективность услуг в области здравоохранения, образования, культуры и спорт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61080" y="3068640"/>
            <a:ext cx="1584000" cy="649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В.1 Стимулирование существующих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приятий к использованию инноваций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61080" y="3933720"/>
            <a:ext cx="1584000" cy="50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В.2 Создание условий для образования  новых инновационных предприят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61080" y="4581360"/>
            <a:ext cx="1584000" cy="43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В.3 Формирование инфраструктуры поддержки инноваций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89440" y="5157720"/>
            <a:ext cx="1727280" cy="79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В.4 Расширение возможностей межрегионального и международног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трудничества для трансферта технологических и социальных инновац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21000" y="3030480"/>
            <a:ext cx="1647720" cy="59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Б.1 Поддержка компаний с высоким потенциалом роста (как экспортно-ориентированных, так и импортозамещающих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21000" y="3841920"/>
            <a:ext cx="1720800" cy="59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Б.2 Устранение структурных ограничений экономического роста с учетом интеграционных процессов и международного разделения труд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21000" y="4653000"/>
            <a:ext cx="1720800" cy="72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Б.3 Улучшение хозяйственного и инвестиционного климата, совершенствование механизма ОЭ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21000" y="5518080"/>
            <a:ext cx="1792080" cy="115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Б.4 Формирование сбалансированной пространственной организации экономики региона (диверсификация экономики в монофункциональных городах и стимулирование развития локально-промышленных зон в депрессивных районах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3080" y="3068640"/>
            <a:ext cx="1763640" cy="66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Г.1 Формирование устойчивого диалога между властью, бизнесом и гражданским обществом, укрепление механизма «социального партнерства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4581360"/>
            <a:ext cx="1763640" cy="594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Г.2 Создание условий для преодоления конфликта интересов между административно-территориальными образованиям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93080" y="5302080"/>
            <a:ext cx="1763640" cy="50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Г.3 Снижение социальной дифференциации между различными слоями населен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93080" y="5950080"/>
            <a:ext cx="1763640" cy="64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Г.4 Формирование толерантного сознания и поведения, веротерпимости, профилактика различных видов экстремиз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7080" y="2925720"/>
            <a:ext cx="0" cy="295128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01760" y="3260880"/>
            <a:ext cx="246240" cy="118800"/>
          </a:xfrm>
          <a:prstGeom prst="rightArrow">
            <a:avLst>
              <a:gd name="adj1" fmla="val 50000"/>
              <a:gd name="adj2" fmla="val 51818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30560" y="4073400"/>
            <a:ext cx="209520" cy="119160"/>
          </a:xfrm>
          <a:prstGeom prst="rightArrow">
            <a:avLst>
              <a:gd name="adj1" fmla="val 50000"/>
              <a:gd name="adj2" fmla="val 43958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7080" y="5013360"/>
            <a:ext cx="220680" cy="119160"/>
          </a:xfrm>
          <a:prstGeom prst="rightArrow">
            <a:avLst>
              <a:gd name="adj1" fmla="val 50000"/>
              <a:gd name="adj2" fmla="val 4629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3440" y="2925720"/>
            <a:ext cx="0" cy="331164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77080" y="2925720"/>
            <a:ext cx="0" cy="331164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3440" y="3284640"/>
            <a:ext cx="287640" cy="14436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3440" y="5470560"/>
            <a:ext cx="287640" cy="119160"/>
          </a:xfrm>
          <a:prstGeom prst="rightArrow">
            <a:avLst>
              <a:gd name="adj1" fmla="val 50000"/>
              <a:gd name="adj2" fmla="val 60347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4726080"/>
            <a:ext cx="287640" cy="142920"/>
          </a:xfrm>
          <a:prstGeom prst="rightArrow">
            <a:avLst>
              <a:gd name="adj1" fmla="val 50000"/>
              <a:gd name="adj2" fmla="val 50315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3357720"/>
            <a:ext cx="216000" cy="125280"/>
          </a:xfrm>
          <a:prstGeom prst="rightArrow">
            <a:avLst>
              <a:gd name="adj1" fmla="val 50000"/>
              <a:gd name="adj2" fmla="val 43103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77080" y="4797360"/>
            <a:ext cx="216000" cy="98640"/>
          </a:xfrm>
          <a:prstGeom prst="rightArrow">
            <a:avLst>
              <a:gd name="adj1" fmla="val 50000"/>
              <a:gd name="adj2" fmla="val 54745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77080" y="5445000"/>
            <a:ext cx="216000" cy="119160"/>
          </a:xfrm>
          <a:prstGeom prst="rightArrow">
            <a:avLst>
              <a:gd name="adj1" fmla="val 50000"/>
              <a:gd name="adj2" fmla="val 45317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77080" y="6165720"/>
            <a:ext cx="216000" cy="142920"/>
          </a:xfrm>
          <a:prstGeom prst="rightArrow">
            <a:avLst>
              <a:gd name="adj1" fmla="val 50000"/>
              <a:gd name="adj2" fmla="val 37783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1080" y="2781360"/>
            <a:ext cx="0" cy="287964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1080" y="3284640"/>
            <a:ext cx="215640" cy="144360"/>
          </a:xfrm>
          <a:prstGeom prst="rightArrow">
            <a:avLst>
              <a:gd name="adj1" fmla="val 50000"/>
              <a:gd name="adj2" fmla="val 37344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1080" y="4073400"/>
            <a:ext cx="215640" cy="147600"/>
          </a:xfrm>
          <a:prstGeom prst="rightArrow">
            <a:avLst>
              <a:gd name="adj1" fmla="val 50000"/>
              <a:gd name="adj2" fmla="val 36524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1080" y="5589720"/>
            <a:ext cx="287280" cy="14436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1080" y="4726080"/>
            <a:ext cx="215640" cy="142920"/>
          </a:xfrm>
          <a:prstGeom prst="rightArrow">
            <a:avLst>
              <a:gd name="adj1" fmla="val 50000"/>
              <a:gd name="adj2" fmla="val 3772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36680" y="5816520"/>
            <a:ext cx="203400" cy="119160"/>
          </a:xfrm>
          <a:prstGeom prst="rightArrow">
            <a:avLst>
              <a:gd name="adj1" fmla="val 50000"/>
              <a:gd name="adj2" fmla="val 42674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9440" y="6094440"/>
            <a:ext cx="172728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В.5 Создание финансовых институтов поддержки инновационного предпринимательств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3440" y="609444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3440" y="4189320"/>
            <a:ext cx="287640" cy="104760"/>
          </a:xfrm>
          <a:prstGeom prst="rightArrow">
            <a:avLst>
              <a:gd name="adj1" fmla="val 50000"/>
              <a:gd name="adj2" fmla="val 68643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93080" y="3860640"/>
            <a:ext cx="1763640" cy="594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Г.2 Повышение эффективности деятельности  исполнительных (государственных) органов власти области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77080" y="4076640"/>
            <a:ext cx="216000" cy="147600"/>
          </a:xfrm>
          <a:prstGeom prst="rightArrow">
            <a:avLst>
              <a:gd name="adj1" fmla="val 50000"/>
              <a:gd name="adj2" fmla="val 36585"/>
            </a:avLst>
          </a:prstGeom>
          <a:solidFill>
            <a:srgbClr val="ff99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98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382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7792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0" y="981000"/>
            <a:ext cx="8856720" cy="4741920"/>
            <a:chOff x="0" y="981000"/>
            <a:chExt cx="8856720" cy="4741920"/>
          </a:xfrm>
        </p:grpSpPr>
        <p:sp>
          <p:nvSpPr>
            <p:cNvPr id="142" name=""/>
            <p:cNvSpPr/>
            <p:nvPr/>
          </p:nvSpPr>
          <p:spPr>
            <a:xfrm>
              <a:off x="0" y="2980080"/>
              <a:ext cx="2091600" cy="9486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А. Создание условий дл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развития  человеческого потенциала и его эффективного применен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2294280"/>
              <a:ext cx="8856720" cy="6858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Частные индикаторы (средний уровень) 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это обобщающие характеристики условий для развития социальной среды и эффективного использования человеческого потенциала, формирования конкурентной экономики в регионе, удовлетворения жизненно важных интересов населения и, в конечном счете, повышения уровня и качества жизни населения, отражают  степень достижения основных целей СИП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29520" y="981000"/>
              <a:ext cx="3448800" cy="11430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Система индикаторов СИ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Общие индикаторы (верхний уровень) 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это макроэкономические обобщающие характеристики социально-экономического положения Калининградской области, отражают степень достижения главной цели Стратег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2520" y="2980080"/>
              <a:ext cx="2194560" cy="9486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Б. Формирование конкурентной экономики региона, опирающейс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на инновации и интеллектуальные ресурсы, обладающей устойчивы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и долговременным потенциалом рост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28360" y="2980080"/>
              <a:ext cx="2194560" cy="9486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В. Содействие развитию малого и среднего бизнеса, ориентированного на трансферт инноваций в регионы Росс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93840" y="2980080"/>
              <a:ext cx="2162520" cy="9500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Г. Достижение социальной консолидации как основы укрепления российской государственности на территории области и реализации жизненной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важных интересов населе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8400" y="2065680"/>
              <a:ext cx="51084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43160" y="2065680"/>
              <a:ext cx="5223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0800000">
              <a:off x="411480" y="1437840"/>
              <a:ext cx="2318040" cy="914400"/>
            </a:xfrm>
            <a:custGeom>
              <a:avLst/>
              <a:gdLst>
                <a:gd name="textAreaLeft" fmla="*/ 665640 w 2318040"/>
                <a:gd name="textAreaRight" fmla="*/ 1987560 w 2318040"/>
                <a:gd name="textAreaTop" fmla="*/ 525960 h 914400"/>
                <a:gd name="textAreaBottom" fmla="*/ 78408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04"/>
                  </a:moveTo>
                  <a:lnTo>
                    <a:pt x="12422" y="15504"/>
                  </a:lnTo>
                  <a:lnTo>
                    <a:pt x="12422" y="6204"/>
                  </a:lnTo>
                  <a:lnTo>
                    <a:pt x="9340" y="6204"/>
                  </a:lnTo>
                  <a:lnTo>
                    <a:pt x="15470" y="0"/>
                  </a:lnTo>
                  <a:lnTo>
                    <a:pt x="21600" y="6204"/>
                  </a:lnTo>
                  <a:lnTo>
                    <a:pt x="18518" y="6204"/>
                  </a:lnTo>
                  <a:lnTo>
                    <a:pt x="1851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rot="10800000">
              <a:off x="6177960" y="1438200"/>
              <a:ext cx="2073240" cy="914400"/>
            </a:xfrm>
            <a:custGeom>
              <a:avLst/>
              <a:gdLst>
                <a:gd name="textAreaLeft" fmla="*/ 691200 w 2073240"/>
                <a:gd name="textAreaRight" fmla="*/ 1775880 w 2073240"/>
                <a:gd name="textAreaTop" fmla="*/ 526680 h 914400"/>
                <a:gd name="textAreaBottom" fmla="*/ 7833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8880" y="4123080"/>
              <a:ext cx="17802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Специальные индикаторы (нижний уровень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8880" y="5145120"/>
              <a:ext cx="17766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Специальные индикаторы (нижний уровень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40200" y="4123080"/>
              <a:ext cx="1731240" cy="381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Специальные индикаторы (нижний уровень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40200" y="4694760"/>
              <a:ext cx="1722240" cy="342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40200" y="5265720"/>
              <a:ext cx="169812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Специальные индикаторы (нижний уровень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74360" y="4123080"/>
              <a:ext cx="1776240" cy="381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Специальные индикаторы (нижний уровень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74360" y="4694760"/>
              <a:ext cx="1776240" cy="342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8880" y="4694760"/>
              <a:ext cx="1776600" cy="328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74360" y="5265720"/>
              <a:ext cx="177624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Специальные индикаторы (нижний уровень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06040" y="4123080"/>
              <a:ext cx="1698120" cy="381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Специальные индикаторы (нижний уровень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06040" y="4694760"/>
              <a:ext cx="1657800" cy="342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06040" y="5265720"/>
              <a:ext cx="1641960" cy="41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Специальные индикаторы (нижний уровень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68440" y="3894480"/>
              <a:ext cx="0" cy="160020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68440" y="4237560"/>
              <a:ext cx="221400" cy="118800"/>
            </a:xfrm>
            <a:prstGeom prst="rightArrow">
              <a:avLst>
                <a:gd name="adj1" fmla="val 50000"/>
                <a:gd name="adj2" fmla="val 46591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68440" y="4808880"/>
              <a:ext cx="189360" cy="118800"/>
            </a:xfrm>
            <a:prstGeom prst="rightArrow">
              <a:avLst>
                <a:gd name="adj1" fmla="val 50000"/>
                <a:gd name="adj2" fmla="val 39848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68440" y="5380560"/>
              <a:ext cx="197280" cy="118800"/>
            </a:xfrm>
            <a:prstGeom prst="rightArrow">
              <a:avLst>
                <a:gd name="adj1" fmla="val 50000"/>
                <a:gd name="adj2" fmla="val 41515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6899760" y="3894480"/>
              <a:ext cx="7920" cy="171432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99760" y="4237560"/>
              <a:ext cx="209160" cy="118800"/>
            </a:xfrm>
            <a:prstGeom prst="rightArrow">
              <a:avLst>
                <a:gd name="adj1" fmla="val 50000"/>
                <a:gd name="adj2" fmla="val 44015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99760" y="4808880"/>
              <a:ext cx="209160" cy="118800"/>
            </a:xfrm>
            <a:prstGeom prst="rightArrow">
              <a:avLst>
                <a:gd name="adj1" fmla="val 50000"/>
                <a:gd name="adj2" fmla="val 44015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99760" y="5495040"/>
              <a:ext cx="208800" cy="118440"/>
            </a:xfrm>
            <a:prstGeom prst="rightArrow">
              <a:avLst>
                <a:gd name="adj1" fmla="val 50000"/>
                <a:gd name="adj2" fmla="val 44073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2960" y="3894480"/>
              <a:ext cx="0" cy="148608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2960" y="4237560"/>
              <a:ext cx="182520" cy="118800"/>
            </a:xfrm>
            <a:prstGeom prst="rightArrow">
              <a:avLst>
                <a:gd name="adj1" fmla="val 50000"/>
                <a:gd name="adj2" fmla="val 38409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2960" y="5265720"/>
              <a:ext cx="182520" cy="118440"/>
            </a:xfrm>
            <a:prstGeom prst="rightArrow">
              <a:avLst>
                <a:gd name="adj1" fmla="val 50000"/>
                <a:gd name="adj2" fmla="val 3852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2960" y="4808880"/>
              <a:ext cx="182520" cy="118800"/>
            </a:xfrm>
            <a:prstGeom prst="rightArrow">
              <a:avLst>
                <a:gd name="adj1" fmla="val 50000"/>
                <a:gd name="adj2" fmla="val 38409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34280" y="4237560"/>
              <a:ext cx="182520" cy="118800"/>
            </a:xfrm>
            <a:prstGeom prst="rightArrow">
              <a:avLst>
                <a:gd name="adj1" fmla="val 50000"/>
                <a:gd name="adj2" fmla="val 38409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34280" y="4808880"/>
              <a:ext cx="221040" cy="118800"/>
            </a:xfrm>
            <a:prstGeom prst="rightArrow">
              <a:avLst>
                <a:gd name="adj1" fmla="val 50000"/>
                <a:gd name="adj2" fmla="val 46515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34280" y="5380560"/>
              <a:ext cx="221040" cy="118800"/>
            </a:xfrm>
            <a:prstGeom prst="rightArrow">
              <a:avLst>
                <a:gd name="adj1" fmla="val 50000"/>
                <a:gd name="adj2" fmla="val 46515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34280" y="3894480"/>
              <a:ext cx="0" cy="160020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14840" y="1323720"/>
              <a:ext cx="329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5920" y="89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5920" y="22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880920"/>
            <a:ext cx="3816360" cy="1800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оздание услов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ля развития человече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тенциала и 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эффективного приме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3186000"/>
            <a:ext cx="4896000" cy="151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сновные цели СИ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809640"/>
            <a:ext cx="4537080" cy="1944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Формирование конкурентоспособ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экономики региона, опирающей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 интеллектуальные ресур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бладающей устойчив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 долговременным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тенциалом ро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2360" y="5202360"/>
            <a:ext cx="3743280" cy="1655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одействию развит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малого и средн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бизнеса, ориентирова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 трансферт иннов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 регионы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6360" y="4913280"/>
            <a:ext cx="4176720" cy="1944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остижение социа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онсолидации как основ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крепления россий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государственности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ерритории област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еализации жизненно важ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нтересов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4725200">
            <a:off x="1588320" y="2862720"/>
            <a:ext cx="865080" cy="485640"/>
          </a:xfrm>
          <a:prstGeom prst="rightArrow">
            <a:avLst>
              <a:gd name="adj1" fmla="val 36454"/>
              <a:gd name="adj2" fmla="val 312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3189000">
            <a:off x="6228000" y="4453560"/>
            <a:ext cx="877680" cy="298440"/>
          </a:xfrm>
          <a:prstGeom prst="rightArrow">
            <a:avLst>
              <a:gd name="adj1" fmla="val 50000"/>
              <a:gd name="adj2" fmla="val 735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8154800">
            <a:off x="6130080" y="2918160"/>
            <a:ext cx="998640" cy="501840"/>
          </a:xfrm>
          <a:prstGeom prst="rightArrow">
            <a:avLst>
              <a:gd name="adj1" fmla="val 27287"/>
              <a:gd name="adj2" fmla="val 453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6880200">
            <a:off x="1443960" y="4528800"/>
            <a:ext cx="1003320" cy="485640"/>
          </a:xfrm>
          <a:prstGeom prst="rightArrow">
            <a:avLst>
              <a:gd name="adj1" fmla="val 36454"/>
              <a:gd name="adj2" fmla="val 362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38440" y="1658880"/>
            <a:ext cx="3959280" cy="43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лавная цель Стратеги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7720" y="2522520"/>
            <a:ext cx="1440000" cy="5032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Цель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94080" y="2522520"/>
            <a:ext cx="1511280" cy="504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Цель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70440" y="2522520"/>
            <a:ext cx="1511280" cy="5032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Цель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02440" y="2522520"/>
            <a:ext cx="1511280" cy="5032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Цель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78080" y="2233440"/>
            <a:ext cx="4392720" cy="2890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Основные ц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04640" y="3817800"/>
            <a:ext cx="217800" cy="6494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А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3817800"/>
            <a:ext cx="216000" cy="6494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А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97000" y="3817800"/>
            <a:ext cx="216000" cy="6494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А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57360" y="3817800"/>
            <a:ext cx="216000" cy="6494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А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89000" y="3817800"/>
            <a:ext cx="216000" cy="6494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А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2440" y="338616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ада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09720" y="3817800"/>
            <a:ext cx="216000" cy="6494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Б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70080" y="3817800"/>
            <a:ext cx="216000" cy="6494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Б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30440" y="3817800"/>
            <a:ext cx="216000" cy="6494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Б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89360" y="3817800"/>
            <a:ext cx="216000" cy="6494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Б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41720" y="3817800"/>
            <a:ext cx="216000" cy="6494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В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30800" y="3817800"/>
            <a:ext cx="216000" cy="6494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В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18080" y="3817800"/>
            <a:ext cx="216000" cy="6494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В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05360" y="3817800"/>
            <a:ext cx="216000" cy="6494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В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4440" y="3817800"/>
            <a:ext cx="216000" cy="6494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В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62800" y="3817800"/>
            <a:ext cx="216000" cy="6494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Г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821720" y="3817800"/>
            <a:ext cx="215640" cy="6494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Г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110440" y="3817800"/>
            <a:ext cx="216000" cy="6494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Г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470800" y="3817800"/>
            <a:ext cx="216000" cy="6494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Г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81360" y="33796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ада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30800" y="338616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ада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2800" y="33861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ада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7720" y="5330880"/>
            <a:ext cx="14472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81000" y="533088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25360" y="5330880"/>
            <a:ext cx="14472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70080" y="533088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73360" y="533088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17720" y="533088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62080" y="5330880"/>
            <a:ext cx="14472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2440" y="597852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5000" y="5978520"/>
            <a:ext cx="14472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09720" y="597852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13000" y="597852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57360" y="597852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01720" y="5978520"/>
            <a:ext cx="14472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65360" y="533088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709720" y="5330880"/>
            <a:ext cx="14472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54440" y="533088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89360" y="533088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46440" y="533088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33720" y="5330880"/>
            <a:ext cx="14472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97360" y="597852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54440" y="597852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09720" y="5978520"/>
            <a:ext cx="14472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30440" y="5978520"/>
            <a:ext cx="14472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73360" y="5978520"/>
            <a:ext cx="14472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718080" y="597852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2440" y="533088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54440" y="5330880"/>
            <a:ext cx="14472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97360" y="533088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41720" y="5330880"/>
            <a:ext cx="14472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02080" y="5330880"/>
            <a:ext cx="14472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46800" y="533088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89720" y="533088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950080" y="533088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94440" y="533088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238800" y="533088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41720" y="5978520"/>
            <a:ext cx="14472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86440" y="597852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230800" y="597852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89720" y="597852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34080" y="597852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878440" y="597852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246800" y="5330880"/>
            <a:ext cx="14472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389720" y="5330880"/>
            <a:ext cx="14472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34440" y="533088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326440" y="533088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470800" y="5330880"/>
            <a:ext cx="14472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613720" y="533088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89720" y="5978520"/>
            <a:ext cx="14472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534440" y="597852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78800" y="597852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039160" y="597852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182080" y="597852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326440" y="597852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4640" y="489888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Меро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65360" y="489888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Меро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70440" y="489276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Меро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246800" y="49640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Меро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3280" y="69228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Verdana"/>
              </a:rPr>
              <a:t>Технология достижения Главной 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Verdana"/>
              </a:rPr>
              <a:t>основных целей в индикативном пл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917720" y="209052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070080" y="20905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5518080" y="209052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6381360" y="2090520"/>
            <a:ext cx="79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49360" y="3025800"/>
            <a:ext cx="215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981000" y="3025800"/>
            <a:ext cx="73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341360" y="30258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1557000" y="3025800"/>
            <a:ext cx="144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1773360" y="3025800"/>
            <a:ext cx="288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854440" y="3025800"/>
            <a:ext cx="71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13000" y="30258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3502080" y="3025800"/>
            <a:ext cx="71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3789000" y="3025800"/>
            <a:ext cx="144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086440" y="3025800"/>
            <a:ext cx="71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373720" y="3025800"/>
            <a:ext cx="73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662440" y="3025800"/>
            <a:ext cx="7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950080" y="30258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6165360" y="3025800"/>
            <a:ext cx="73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7605720" y="30258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821360" y="3025800"/>
            <a:ext cx="73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8110440" y="3025800"/>
            <a:ext cx="144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8326440" y="3025800"/>
            <a:ext cx="287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77720" y="446688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838080" y="4467240"/>
            <a:ext cx="716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197000" y="4466880"/>
            <a:ext cx="73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630440" y="4467240"/>
            <a:ext cx="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2061720" y="4466880"/>
            <a:ext cx="7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638440" y="4466880"/>
            <a:ext cx="1429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070080" y="4467240"/>
            <a:ext cx="716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502080" y="446724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62440" y="44668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870440" y="4394160"/>
            <a:ext cx="142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157720" y="4467240"/>
            <a:ext cx="14436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5518080" y="4466880"/>
            <a:ext cx="7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5878440" y="4467240"/>
            <a:ext cx="716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6238440" y="4466880"/>
            <a:ext cx="7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7462800" y="4466880"/>
            <a:ext cx="7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7750080" y="4467240"/>
            <a:ext cx="144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8182080" y="446724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8542440" y="4466880"/>
            <a:ext cx="7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33360" y="5330880"/>
            <a:ext cx="14436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277920"/>
            <a:ext cx="8229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4360" y="2708280"/>
            <a:ext cx="2496960" cy="3745080"/>
          </a:xfrm>
          <a:prstGeom prst="flowChartAlternateProcess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осит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тноси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жидаем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характерис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эконом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бстано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еги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635280" y="414972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ыно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д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24360" y="2708280"/>
            <a:ext cx="2735280" cy="3745080"/>
          </a:xfrm>
          <a:prstGeom prst="flowChartAlternateProcess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риенти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казыва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егиональн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ообще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целев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прав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дминист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 трехлетню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ерспективу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203280" y="2421000"/>
            <a:ext cx="1081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356000" y="2421000"/>
            <a:ext cx="1295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403280" y="1628640"/>
            <a:ext cx="5977080" cy="7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Целевые показатели С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ндика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95280" y="62064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Verdana"/>
              </a:rPr>
              <a:t>Роль и назначение целевых показателей (индикатор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96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229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5280" y="880920"/>
            <a:ext cx="8424720" cy="165600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ИП разрабатывается (уточняет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ежегодно на трехлетний с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 обновлением на год впе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700360" y="3257640"/>
            <a:ext cx="3311640" cy="1800000"/>
          </a:xfrm>
          <a:prstGeom prst="flowChartDecision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Мониторинг  и  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9280" y="5776920"/>
            <a:ext cx="8569440" cy="1081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Комиссия по разработке СИ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51280" y="2392200"/>
            <a:ext cx="936720" cy="865440"/>
          </a:xfrm>
          <a:prstGeom prst="upDownArrow">
            <a:avLst>
              <a:gd name="adj1" fmla="val 17630"/>
              <a:gd name="adj2" fmla="val 278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00000" y="5057640"/>
            <a:ext cx="6840720" cy="719280"/>
          </a:xfrm>
          <a:prstGeom prst="upArrowCallout">
            <a:avLst>
              <a:gd name="adj1" fmla="val 60591"/>
              <a:gd name="adj2" fmla="val 237763"/>
              <a:gd name="adj3" fmla="val 26491"/>
              <a:gd name="adj4" fmla="val 1562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4000" y="3112920"/>
            <a:ext cx="2376360" cy="1729080"/>
          </a:xfrm>
          <a:prstGeom prst="flowChartAlternateProcess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ниторинг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еле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каз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уществл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УЭ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12000" y="2968560"/>
            <a:ext cx="2520720" cy="1944720"/>
          </a:xfrm>
          <a:prstGeom prst="flowChartAlternateProcess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егуля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езультатив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сполн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0560" y="2781360"/>
            <a:ext cx="87138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Стратегии к ее реализаци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ы формирования среднесрочного (индикативного) плана и внедрения его в практику управления региональными органами 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77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ладимир Пантелее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перт по региональному развит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анкт – 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20-21 октября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50920" y="115920"/>
          <a:ext cx="261936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5920"/>
                    <a:ext cx="26193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45960" y="2057400"/>
          <a:ext cx="3611520" cy="266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960" y="2057400"/>
                    <a:ext cx="36115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Механизмы реализации СИ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1280" y="1700280"/>
            <a:ext cx="7993080" cy="100800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Мероприятия СИ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3068640"/>
            <a:ext cx="2520720" cy="2305080"/>
          </a:xfrm>
          <a:prstGeom prst="flowChartMultidocumen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трасл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целе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348000" y="3141720"/>
            <a:ext cx="2592360" cy="2232000"/>
          </a:xfrm>
          <a:prstGeom prst="flowChartMultidocumen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еку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л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руктур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дразд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16000" y="5805360"/>
            <a:ext cx="7128000" cy="7923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роект бюджета на очередно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 перспективный финансовый п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372360" y="3068640"/>
            <a:ext cx="2501640" cy="2160720"/>
          </a:xfrm>
          <a:prstGeom prst="flowChartMultidocumen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Межотрасл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целе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ект Европейской Коми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ДДЕРЖКА РАЗВИ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АЛИНИНГРАДСКОЙ ОБ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UROPEAID/114287/C/SV/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тоянный руководитель: Фиоренцо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ерот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нтактный телефон/ факс: +7 (0112) 536120,5328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дрес: 236060 Калининград, ул. Геологическая, 1 каб. 4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-mail: guest1@rda.baltne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0" y="-31680"/>
          <a:ext cx="9144000" cy="12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1680"/>
                    <a:ext cx="914400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457200" y="5486400"/>
          <a:ext cx="1200240" cy="102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486400"/>
                    <a:ext cx="120024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4" name="" descr=""/>
          <p:cNvPicPr/>
          <p:nvPr/>
        </p:nvPicPr>
        <p:blipFill>
          <a:blip r:embed="rId5"/>
          <a:stretch/>
        </p:blipFill>
        <p:spPr>
          <a:xfrm>
            <a:off x="7315200" y="5486400"/>
            <a:ext cx="1477800" cy="10098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564000" y="5950080"/>
            <a:ext cx="252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Санкт – 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0-21 октября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Подходы к выбору эффективных механизмов реализации  приорит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еднесрочный 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индика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стема показ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ланс целей, задач, ожидаемых результатов, мероприятий, целевых показателей, временных рам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и уровня целевых показ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Как реализовать Стратеги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туационный анал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ор приорит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уппы вли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ституциональные возмо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бъекты стратегического план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ика формирования среднесрочного стратегического пл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Выбор форм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цепция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ндартизация форм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бован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чет табл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а показателей: верхний (региональный), средний (по основным целям), нижний (по отраслям) уров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Процедуры формирования пл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очный семин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положения (инструктивные материал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ещания рабочих групп и тематических комисс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путатские слушания (обсуждение со стейкхолдер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ые семин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ая конфе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ие консуль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Декомпозиция основных целей на операциональные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ка задач на соответствие основным целям и  подцел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жидаемый результ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оприятия направленные на  достижение резуль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несенность по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тели достижения цели выраженные количеств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Система  планов  и  программ  в  составе С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ланы структурных подразделений  и основные  цели СИ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оль и место ФЦП, федеральных и региональных целевых программ в СИП (количество программ и объектов, ориентированных на соответствующие цели СИП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еждународные проекты и программы (количество программ и проектов, ориентированных на основные цели СИП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692280"/>
            <a:ext cx="828036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 u="sng">
                <a:solidFill>
                  <a:srgbClr val="333399"/>
                </a:solidFill>
                <a:uFillTx/>
                <a:latin typeface="Arial"/>
              </a:rPr>
              <a:t>Основа СИП – планы действий структурных подразделений администрации област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25760"/>
            <a:ext cx="77724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ючевые проблемы отрас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жидаем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ро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ик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о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ственные подразделения за мониторинг достижения уровня ц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08:31:00Z</dcterms:created>
  <dc:creator>Guest1</dc:creator>
  <dc:description/>
  <dc:language>en-US</dc:language>
  <cp:lastModifiedBy>guest2</cp:lastModifiedBy>
  <dcterms:modified xsi:type="dcterms:W3CDTF">2005-10-20T13:50:28Z</dcterms:modified>
  <cp:revision>26</cp:revision>
  <dc:subject/>
  <dc:title>От Стратегии к реализации: проблемы реализации</dc:title>
</cp:coreProperties>
</file>