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25DD-241C-40C8-A61A-655635A0D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7CFB-A74D-4D67-BF5A-55724F65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A327-0187-478F-8C65-59C5A19DF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C32C-4038-4845-B79B-FB6CFCFC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B213-4AFE-4A88-BD99-40ABE3A4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E6D4-1DF5-4C40-B381-35502BD7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6832-9352-4933-A0D6-1723B2F3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C39B-111B-400B-AD61-9B224345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5EF8-CBB6-4F1F-837F-B493F1A3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1B42-D03A-46DD-93C9-1F3F9F15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636B-17B8-4C9E-9EE1-DB5C7EF1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5513-2CCD-4AAE-A758-5FB068AC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D1F2-E7CC-4185-90AC-401275891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9720" y="2209680"/>
            <a:ext cx="76964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Реализация стратегии развития города с помощью системы сбалансированных целевых показател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160" y="57913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езентация для участни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ретьего всероссийского форума лидеров стратегического планир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нкт-Петербург, 20-21 октября 2004 го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McK Document"/>
          <p:cNvSpPr/>
          <p:nvPr/>
        </p:nvSpPr>
        <p:spPr>
          <a:xfrm>
            <a:off x="1295280" y="6019920"/>
            <a:ext cx="65534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3049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наненко С.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меститель мэра города Череповц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логодская обла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04920" y="2890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Пример статуса целевого показате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838080"/>
            <a:ext cx="8610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15685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личество квартирных краж за недел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3581280"/>
            <a:ext cx="1218960" cy="68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581280"/>
            <a:ext cx="83844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81480" y="3581280"/>
            <a:ext cx="83844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47920" y="3581280"/>
            <a:ext cx="16761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19920" y="3581280"/>
            <a:ext cx="16761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05000" y="3124080"/>
            <a:ext cx="692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                          25           35                 45           55                     и боле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7497-398E-4300-84F9-3A409597DC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09480" y="1981080"/>
            <a:ext cx="784872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88720" y="2103480"/>
            <a:ext cx="81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тратег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52840" y="2031840"/>
            <a:ext cx="1171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тратегическ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53240" y="2100240"/>
            <a:ext cx="90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оказател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48360" y="2095560"/>
            <a:ext cx="136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Целевые знач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05520" y="19810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19810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90920" y="19810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09480" y="245124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19840" y="2101680"/>
            <a:ext cx="16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Целевые программ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53080" y="19810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295960" y="5029200"/>
            <a:ext cx="1066680" cy="762120"/>
            <a:chOff x="5295960" y="5029200"/>
            <a:chExt cx="1066680" cy="762120"/>
          </a:xfrm>
        </p:grpSpPr>
        <p:sp>
          <p:nvSpPr>
            <p:cNvPr id="237" name=""/>
            <p:cNvSpPr/>
            <p:nvPr/>
          </p:nvSpPr>
          <p:spPr>
            <a:xfrm>
              <a:off x="5295960" y="5029200"/>
              <a:ext cx="1066680" cy="762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00520" y="50292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981400" y="50292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295960" y="5105520"/>
              <a:ext cx="10666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295960" y="3809880"/>
            <a:ext cx="1066680" cy="838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295960" y="4037760"/>
            <a:ext cx="1066680" cy="228600"/>
          </a:xfrm>
          <a:custGeom>
            <a:avLst/>
            <a:gdLst/>
            <a:ahLst/>
            <a:rect l="l" t="t" r="r" b="b"/>
            <a:pathLst>
              <a:path w="624" h="200">
                <a:moveTo>
                  <a:pt x="0" y="0"/>
                </a:moveTo>
                <a:cubicBezTo>
                  <a:pt x="36" y="56"/>
                  <a:pt x="72" y="112"/>
                  <a:pt x="144" y="144"/>
                </a:cubicBezTo>
                <a:cubicBezTo>
                  <a:pt x="216" y="176"/>
                  <a:pt x="352" y="184"/>
                  <a:pt x="432" y="192"/>
                </a:cubicBezTo>
                <a:cubicBezTo>
                  <a:pt x="512" y="200"/>
                  <a:pt x="568" y="196"/>
                  <a:pt x="624" y="192"/>
                </a:cubicBezTo>
              </a:path>
            </a:pathLst>
          </a:custGeom>
          <a:solidFill>
            <a:srgbClr val="b2b2b2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00880" y="3809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981760" y="3809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95960" y="2666880"/>
            <a:ext cx="106668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98176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302080" y="2949480"/>
            <a:ext cx="106704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2691720"/>
            <a:ext cx="129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лучшение здоровья горож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37648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величение налоговых доходов бюдж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90920" y="496800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влечение молодых квалифицированных кад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90920" y="358128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90920" y="48006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50272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ртериальная гипертенз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9800" y="4946040"/>
            <a:ext cx="63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Кадр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48040" y="243756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жидаемая продолж-ность жизн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8040" y="297108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Количество заболеваний на душу насел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86200" y="2971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2971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86200" y="4191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53080" y="4191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48040" y="373320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Уровень доходов от малого бизнес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8040" y="421560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Уровень доходов от среднего бизнес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86200" y="5334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48040" y="479664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Количество сотрудников младше 30 ле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48040" y="5279400"/>
            <a:ext cx="1295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Оценки по итогам аттестации молодых сотруднико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16200000">
            <a:off x="1485720" y="875520"/>
            <a:ext cx="228600" cy="1981440"/>
          </a:xfrm>
          <a:custGeom>
            <a:avLst/>
            <a:gdLst>
              <a:gd name="textAreaLeft" fmla="*/ 0 w 228600"/>
              <a:gd name="textAreaRight" fmla="*/ 82440 w 22860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4610160" y="-266760"/>
            <a:ext cx="228600" cy="4267080"/>
          </a:xfrm>
          <a:custGeom>
            <a:avLst/>
            <a:gdLst>
              <a:gd name="textAreaLeft" fmla="*/ 0 w 228600"/>
              <a:gd name="textAreaRight" fmla="*/ 82440 w 22860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95320" y="1479600"/>
            <a:ext cx="140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арта страте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69320" y="1477800"/>
            <a:ext cx="25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истема целевых показ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6200000">
            <a:off x="7543800" y="106632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59400" y="147636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Бюдж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22860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Связь карты стратегии, сбалансированных целевых показателей и бюджетного планир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0" y="19810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553080" y="5334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600960" y="2629080"/>
            <a:ext cx="19368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00960" y="3181320"/>
            <a:ext cx="193680" cy="1634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600960" y="3819600"/>
            <a:ext cx="193680" cy="1634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00960" y="4419720"/>
            <a:ext cx="193680" cy="1634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00960" y="5000760"/>
            <a:ext cx="193680" cy="16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00960" y="5562720"/>
            <a:ext cx="193680" cy="1634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685800" y="2619360"/>
            <a:ext cx="1828800" cy="3123720"/>
            <a:chOff x="685800" y="2619360"/>
            <a:chExt cx="1828800" cy="3123720"/>
          </a:xfrm>
        </p:grpSpPr>
        <p:sp>
          <p:nvSpPr>
            <p:cNvPr id="284" name=""/>
            <p:cNvSpPr/>
            <p:nvPr/>
          </p:nvSpPr>
          <p:spPr>
            <a:xfrm>
              <a:off x="1335960" y="4374000"/>
              <a:ext cx="532800" cy="43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35960" y="5309280"/>
              <a:ext cx="532800" cy="43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12560" y="3461400"/>
              <a:ext cx="578160" cy="43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914480" y="3461400"/>
              <a:ext cx="600120" cy="43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5800" y="3461400"/>
              <a:ext cx="601560" cy="43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36680" y="2619360"/>
              <a:ext cx="532800" cy="43380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0" name=""/>
            <p:cNvCxnSpPr>
              <a:stCxn id="285" idx="0"/>
              <a:endCxn id="284" idx="2"/>
            </p:cNvCxnSpPr>
            <p:nvPr/>
          </p:nvCxnSpPr>
          <p:spPr>
            <a:xfrm flipV="1">
              <a:off x="1602000" y="4807440"/>
              <a:ext cx="1080" cy="501840"/>
            </a:xfrm>
            <a:prstGeom prst="straightConnector1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4" idx="0"/>
              <a:endCxn id="286" idx="2"/>
            </p:cNvCxnSpPr>
            <p:nvPr/>
          </p:nvCxnSpPr>
          <p:spPr>
            <a:xfrm flipH="1" flipV="1">
              <a:off x="1601280" y="3894480"/>
              <a:ext cx="1080" cy="479160"/>
            </a:xfrm>
            <a:prstGeom prst="straightConnector1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86" idx="0"/>
              <a:endCxn id="289" idx="2"/>
            </p:cNvCxnSpPr>
            <p:nvPr/>
          </p:nvCxnSpPr>
          <p:spPr>
            <a:xfrm flipV="1">
              <a:off x="1602000" y="3052800"/>
              <a:ext cx="1440" cy="408960"/>
            </a:xfrm>
            <a:prstGeom prst="straightConnector1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3" name=""/>
            <p:cNvCxnSpPr>
              <a:stCxn id="284" idx="3"/>
              <a:endCxn id="287" idx="2"/>
            </p:cNvCxnSpPr>
            <p:nvPr/>
          </p:nvCxnSpPr>
          <p:spPr>
            <a:xfrm flipV="1">
              <a:off x="1868760" y="3894840"/>
              <a:ext cx="346320" cy="696240"/>
            </a:xfrm>
            <a:prstGeom prst="bentConnector2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84" idx="1"/>
              <a:endCxn id="288" idx="2"/>
            </p:cNvCxnSpPr>
            <p:nvPr/>
          </p:nvCxnSpPr>
          <p:spPr>
            <a:xfrm rot="10800000">
              <a:off x="985680" y="3894480"/>
              <a:ext cx="349920" cy="696240"/>
            </a:xfrm>
            <a:prstGeom prst="bentConnector2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87" idx="0"/>
              <a:endCxn id="289" idx="3"/>
            </p:cNvCxnSpPr>
            <p:nvPr/>
          </p:nvCxnSpPr>
          <p:spPr>
            <a:xfrm flipV="1" rot="16200000">
              <a:off x="1728720" y="2975400"/>
              <a:ext cx="626040" cy="345960"/>
            </a:xfrm>
            <a:prstGeom prst="curvedConnector2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88" idx="0"/>
              <a:endCxn id="289" idx="1"/>
            </p:cNvCxnSpPr>
            <p:nvPr/>
          </p:nvCxnSpPr>
          <p:spPr>
            <a:xfrm flipH="1" flipV="1" rot="5400000">
              <a:off x="848520" y="2973240"/>
              <a:ext cx="626040" cy="350640"/>
            </a:xfrm>
            <a:prstGeom prst="curvedConnector2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5031-1A0B-458E-8318-5B8416FA6D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04920" y="1936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Целевые показатели для цели П1 «Создание  условий для комфортного проживания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5105520"/>
            <a:ext cx="281952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казатель П1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Фактическая обеспеченность условиями проживания в микрорайона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3733920"/>
            <a:ext cx="2819520" cy="114300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казатель П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ценка степени комфортности проживания в микрорайоне по отдельным составляющи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295280"/>
            <a:ext cx="5410440" cy="609840"/>
          </a:xfrm>
          <a:prstGeom prst="rect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Цель П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оздание  условий для комфортного прожи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2362320"/>
            <a:ext cx="2819520" cy="114300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казатель П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щая оценка степени комфортности проживания в микрорайон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911160"/>
            <a:ext cx="85341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77320" y="3510000"/>
            <a:ext cx="5117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н    факт   статус       инициатив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/р №1       4,5       3,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/р №2       4,5       4,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81280" y="453384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380280" y="408636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80280" y="4619520"/>
            <a:ext cx="304560" cy="30492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77080" y="4006800"/>
            <a:ext cx="2152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ведение нового маршру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обретение автобу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81280" y="39402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81280" y="509436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350532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0" y="3516480"/>
            <a:ext cx="0" cy="156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3505320"/>
            <a:ext cx="0" cy="156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18200" y="3516480"/>
            <a:ext cx="0" cy="156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3505320"/>
            <a:ext cx="0" cy="156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991720" y="3516480"/>
            <a:ext cx="0" cy="156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923160" y="3505320"/>
            <a:ext cx="0" cy="156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3711600"/>
            <a:ext cx="152640" cy="1219320"/>
          </a:xfrm>
          <a:custGeom>
            <a:avLst/>
            <a:gdLst>
              <a:gd name="textAreaLeft" fmla="*/ 0 w 152640"/>
              <a:gd name="textAreaRight" fmla="*/ 153000 w 15264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BEB6-131D-4ECE-BE5A-1C9E00ACC0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04920" y="15228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Система управления организации, ориентированной на стратег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4920" y="914400"/>
            <a:ext cx="8610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76680" y="1905120"/>
            <a:ext cx="1752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ратег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5760" y="2606760"/>
            <a:ext cx="2241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3333cc"/>
                </a:solidFill>
                <a:latin typeface="Arial"/>
              </a:rPr>
              <a:t>Цикл стратегического управл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76680" y="3200400"/>
            <a:ext cx="1752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Целевые показате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675240" y="4191120"/>
            <a:ext cx="1752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юдж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903840" y="5334120"/>
            <a:ext cx="12952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355284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нятны приоритеты, наиболее проблемные места, точки приложения основных усил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886360" y="2465280"/>
            <a:ext cx="2876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тратегия может быть быстро скорректирована при изменении внешних и внутренних услов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886360" y="3855960"/>
            <a:ext cx="2724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нятно, как мы продвигаемся к главной цели развития, а также по всем направлени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18040" y="560088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199120" y="560088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652120" y="4861080"/>
            <a:ext cx="68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95560" y="4857840"/>
            <a:ext cx="61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Оцен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10800000">
            <a:off x="3676320" y="2171520"/>
            <a:ext cx="2160" cy="1296000"/>
          </a:xfrm>
          <a:prstGeom prst="curvedConnector5">
            <a:avLst>
              <a:gd name="adj1" fmla="val -14400000"/>
              <a:gd name="adj2" fmla="val 49986"/>
              <a:gd name="adj3" fmla="val -14400000"/>
            </a:avLst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333" name=""/>
          <p:cNvCxnSpPr/>
          <p:nvPr/>
        </p:nvCxnSpPr>
        <p:spPr>
          <a:xfrm flipV="1" rot="10800000">
            <a:off x="3674520" y="3466800"/>
            <a:ext cx="2160" cy="991440"/>
          </a:xfrm>
          <a:prstGeom prst="curvedConnector5">
            <a:avLst>
              <a:gd name="adj1" fmla="val 14500000"/>
              <a:gd name="adj2" fmla="val 49981"/>
              <a:gd name="adj3" fmla="val 14500000"/>
            </a:avLst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334" name=""/>
          <p:cNvCxnSpPr/>
          <p:nvPr/>
        </p:nvCxnSpPr>
        <p:spPr>
          <a:xfrm flipH="1" flipV="1" rot="10800000">
            <a:off x="3674880" y="4456800"/>
            <a:ext cx="2160" cy="114372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335" name=""/>
          <p:cNvCxnSpPr/>
          <p:nvPr/>
        </p:nvCxnSpPr>
        <p:spPr>
          <a:xfrm flipV="1">
            <a:off x="5428800" y="2171520"/>
            <a:ext cx="2520" cy="1296000"/>
          </a:xfrm>
          <a:prstGeom prst="curvedConnector5">
            <a:avLst>
              <a:gd name="adj1" fmla="val 14400000"/>
              <a:gd name="adj2" fmla="val 49986"/>
              <a:gd name="adj3" fmla="val 14400000"/>
            </a:avLst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336" name=""/>
          <p:cNvCxnSpPr/>
          <p:nvPr/>
        </p:nvCxnSpPr>
        <p:spPr>
          <a:xfrm flipH="1" flipV="1" rot="5400000">
            <a:off x="4253400" y="4411800"/>
            <a:ext cx="2121480" cy="230760"/>
          </a:xfrm>
          <a:prstGeom prst="curvedConnector5">
            <a:avLst>
              <a:gd name="adj1" fmla="val 220"/>
              <a:gd name="adj2" fmla="val 110312"/>
              <a:gd name="adj3" fmla="val 220"/>
            </a:avLst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337" name=""/>
          <p:cNvCxnSpPr/>
          <p:nvPr/>
        </p:nvCxnSpPr>
        <p:spPr>
          <a:xfrm flipV="1">
            <a:off x="5425560" y="4457160"/>
            <a:ext cx="2520" cy="114372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338" name=""/>
          <p:cNvSpPr/>
          <p:nvPr/>
        </p:nvSpPr>
        <p:spPr>
          <a:xfrm>
            <a:off x="3681360" y="4829040"/>
            <a:ext cx="171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3333cc"/>
                </a:solidFill>
                <a:latin typeface="Arial"/>
              </a:rPr>
              <a:t>Цикл оперативного управл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4800600"/>
            <a:ext cx="2514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Ресурсы выделяются осознанно, на основе приорите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5800" y="28954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«Финансисты»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886360" y="1859040"/>
            <a:ext cx="28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«Стратеги»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886360" y="5105520"/>
            <a:ext cx="272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Бюджет формируется на основе стратегии, целей, приорите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CB6D-FC1E-4373-A95B-B736149F1E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Каскадирование систем целевых показате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28600" y="838080"/>
            <a:ext cx="8686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3429000" y="1981080"/>
            <a:ext cx="2286000" cy="1584360"/>
            <a:chOff x="3429000" y="1981080"/>
            <a:chExt cx="2286000" cy="1584360"/>
          </a:xfrm>
        </p:grpSpPr>
        <p:sp>
          <p:nvSpPr>
            <p:cNvPr id="346" name=""/>
            <p:cNvSpPr/>
            <p:nvPr/>
          </p:nvSpPr>
          <p:spPr>
            <a:xfrm>
              <a:off x="3429000" y="1981080"/>
              <a:ext cx="2286000" cy="15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444120" y="2128680"/>
              <a:ext cx="529560" cy="12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</a:rPr>
                <a:t>Стратегия - карта стратегии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006080" y="2100240"/>
              <a:ext cx="377280" cy="15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</a:rPr>
                <a:t>Стратегические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</a:rPr>
                <a:t>цели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33760" y="2126880"/>
              <a:ext cx="325440" cy="12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</a:rPr>
                <a:t>Показатели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734000" y="2125440"/>
              <a:ext cx="444240" cy="12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</a:rPr>
                <a:t>Целевые показатели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738320" y="1981080"/>
              <a:ext cx="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383360" y="1981080"/>
              <a:ext cx="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006080" y="1981080"/>
              <a:ext cx="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3429000" y="216864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94440" y="2003040"/>
              <a:ext cx="483840" cy="15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</a:rPr>
                <a:t>Целевые программы, бюджет развития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60240" y="1981080"/>
              <a:ext cx="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576960" y="2224800"/>
              <a:ext cx="288360" cy="1522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88040" y="3351960"/>
              <a:ext cx="177480" cy="15228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88040" y="2895120"/>
              <a:ext cx="221760" cy="152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732120" y="2773080"/>
              <a:ext cx="221760" cy="1522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88040" y="2529360"/>
              <a:ext cx="22176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43200" y="3199680"/>
              <a:ext cx="177480" cy="15228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76400" y="3351960"/>
              <a:ext cx="177480" cy="15228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4" name=""/>
            <p:cNvCxnSpPr>
              <a:stCxn id="360" idx="0"/>
              <a:endCxn id="357" idx="4"/>
            </p:cNvCxnSpPr>
            <p:nvPr/>
          </p:nvCxnSpPr>
          <p:spPr>
            <a:xfrm flipV="1" rot="16200000">
              <a:off x="3583440" y="2513520"/>
              <a:ext cx="396720" cy="122400"/>
            </a:xfrm>
            <a:prstGeom prst="curvedConnector5">
              <a:avLst>
                <a:gd name="adj1" fmla="val 49954"/>
                <a:gd name="adj2" fmla="val 49852"/>
                <a:gd name="adj3" fmla="val 4995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5" name=""/>
            <p:cNvCxnSpPr>
              <a:stCxn id="361" idx="0"/>
              <a:endCxn id="357" idx="4"/>
            </p:cNvCxnSpPr>
            <p:nvPr/>
          </p:nvCxnSpPr>
          <p:spPr>
            <a:xfrm flipH="1" flipV="1" rot="5400000">
              <a:off x="3583080" y="2391840"/>
              <a:ext cx="153000" cy="122400"/>
            </a:xfrm>
            <a:prstGeom prst="curvedConnector5">
              <a:avLst>
                <a:gd name="adj1" fmla="val 50000"/>
                <a:gd name="adj2" fmla="val 49852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6" name=""/>
            <p:cNvCxnSpPr>
              <a:stCxn id="359" idx="0"/>
              <a:endCxn id="361" idx="4"/>
            </p:cNvCxnSpPr>
            <p:nvPr/>
          </p:nvCxnSpPr>
          <p:spPr>
            <a:xfrm flipV="1">
              <a:off x="3598560" y="2681280"/>
              <a:ext cx="1080" cy="2138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7" name=""/>
            <p:cNvCxnSpPr>
              <a:stCxn id="362" idx="0"/>
              <a:endCxn id="359" idx="4"/>
            </p:cNvCxnSpPr>
            <p:nvPr/>
          </p:nvCxnSpPr>
          <p:spPr>
            <a:xfrm flipV="1" rot="16200000">
              <a:off x="3588480" y="3056400"/>
              <a:ext cx="153000" cy="1335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8" name=""/>
            <p:cNvCxnSpPr>
              <a:stCxn id="358" idx="0"/>
              <a:endCxn id="359" idx="4"/>
            </p:cNvCxnSpPr>
            <p:nvPr/>
          </p:nvCxnSpPr>
          <p:spPr>
            <a:xfrm flipH="1" flipV="1" rot="5400000">
              <a:off x="3435120" y="3188160"/>
              <a:ext cx="305280" cy="22680"/>
            </a:xfrm>
            <a:prstGeom prst="curvedConnector5">
              <a:avLst>
                <a:gd name="adj1" fmla="val 49940"/>
                <a:gd name="adj2" fmla="val 50000"/>
                <a:gd name="adj3" fmla="val 4994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9" name=""/>
            <p:cNvCxnSpPr>
              <a:stCxn id="363" idx="0"/>
              <a:endCxn id="360" idx="4"/>
            </p:cNvCxnSpPr>
            <p:nvPr/>
          </p:nvCxnSpPr>
          <p:spPr>
            <a:xfrm flipV="1" rot="16200000">
              <a:off x="3640320" y="3127320"/>
              <a:ext cx="426960" cy="22680"/>
            </a:xfrm>
            <a:prstGeom prst="curvedConnector5">
              <a:avLst>
                <a:gd name="adj1" fmla="val 49957"/>
                <a:gd name="adj2" fmla="val 50000"/>
                <a:gd name="adj3" fmla="val 4995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0" name=""/>
            <p:cNvCxnSpPr>
              <a:stCxn id="362" idx="0"/>
              <a:endCxn id="360" idx="4"/>
            </p:cNvCxnSpPr>
            <p:nvPr/>
          </p:nvCxnSpPr>
          <p:spPr>
            <a:xfrm flipH="1" flipV="1" rot="5400000">
              <a:off x="3650400" y="3006720"/>
              <a:ext cx="274680" cy="111600"/>
            </a:xfrm>
            <a:prstGeom prst="curvedConnector5">
              <a:avLst>
                <a:gd name="adj1" fmla="val 50000"/>
                <a:gd name="adj2" fmla="val 49838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71" name=""/>
            <p:cNvGrpSpPr/>
            <p:nvPr/>
          </p:nvGrpSpPr>
          <p:grpSpPr>
            <a:xfrm>
              <a:off x="4794120" y="3199680"/>
              <a:ext cx="310680" cy="304560"/>
              <a:chOff x="4794120" y="3199680"/>
              <a:chExt cx="310680" cy="304560"/>
            </a:xfrm>
          </p:grpSpPr>
          <p:sp>
            <p:nvSpPr>
              <p:cNvPr id="372" name=""/>
              <p:cNvSpPr/>
              <p:nvPr/>
            </p:nvSpPr>
            <p:spPr>
              <a:xfrm>
                <a:off x="4794120" y="3199680"/>
                <a:ext cx="310680" cy="3045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882680" y="3199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993920" y="3199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V="1">
                <a:off x="4794120" y="3229560"/>
                <a:ext cx="31068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4794120" y="2712240"/>
              <a:ext cx="310680" cy="334800"/>
              <a:chOff x="4794120" y="2712240"/>
              <a:chExt cx="310680" cy="334800"/>
            </a:xfrm>
          </p:grpSpPr>
          <p:sp>
            <p:nvSpPr>
              <p:cNvPr id="377" name=""/>
              <p:cNvSpPr/>
              <p:nvPr/>
            </p:nvSpPr>
            <p:spPr>
              <a:xfrm>
                <a:off x="4794120" y="2712240"/>
                <a:ext cx="310680" cy="3348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794120" y="2803320"/>
                <a:ext cx="310680" cy="91080"/>
              </a:xfrm>
              <a:custGeom>
                <a:avLst/>
                <a:gdLst/>
                <a:ahLst/>
                <a:rect l="l" t="t" r="r" b="b"/>
                <a:pathLst>
                  <a:path w="624" h="200">
                    <a:moveTo>
                      <a:pt x="0" y="0"/>
                    </a:moveTo>
                    <a:cubicBezTo>
                      <a:pt x="36" y="56"/>
                      <a:pt x="72" y="112"/>
                      <a:pt x="144" y="144"/>
                    </a:cubicBezTo>
                    <a:cubicBezTo>
                      <a:pt x="216" y="176"/>
                      <a:pt x="352" y="184"/>
                      <a:pt x="432" y="192"/>
                    </a:cubicBezTo>
                    <a:cubicBezTo>
                      <a:pt x="512" y="200"/>
                      <a:pt x="568" y="196"/>
                      <a:pt x="624" y="192"/>
                    </a:cubicBezTo>
                  </a:path>
                </a:pathLst>
              </a:custGeom>
              <a:solidFill>
                <a:srgbClr val="b2b2b2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882680" y="2712240"/>
                <a:ext cx="0" cy="33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993920" y="2712240"/>
                <a:ext cx="0" cy="33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4794120" y="2255040"/>
              <a:ext cx="310680" cy="304560"/>
              <a:chOff x="4794120" y="2255040"/>
              <a:chExt cx="310680" cy="304560"/>
            </a:xfrm>
          </p:grpSpPr>
          <p:sp>
            <p:nvSpPr>
              <p:cNvPr id="382" name=""/>
              <p:cNvSpPr/>
              <p:nvPr/>
            </p:nvSpPr>
            <p:spPr>
              <a:xfrm>
                <a:off x="4794120" y="2255040"/>
                <a:ext cx="310680" cy="3045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82680" y="22550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993920" y="22550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4794120" y="2284920"/>
                <a:ext cx="310680" cy="60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4006800" y="2301480"/>
              <a:ext cx="37620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Улучшение здоровья горожан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06800" y="2752200"/>
              <a:ext cx="376200" cy="2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Увеличение налоговых доходов бюджета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006800" y="3231720"/>
              <a:ext cx="376200" cy="2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Привлечение молодых квалифицированных кадров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06080" y="2620800"/>
              <a:ext cx="170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006080" y="3108240"/>
              <a:ext cx="170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162400" y="2273040"/>
              <a:ext cx="387360" cy="2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Здоровый город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Жилище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57360" y="2723400"/>
              <a:ext cx="5230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00" spc="-1" strike="noStrike">
                  <a:solidFill>
                    <a:srgbClr val="000000"/>
                  </a:solidFill>
                  <a:latin typeface="Arial"/>
                </a:rPr>
                <a:t>Развитие малого бизнеса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00" spc="-1" strike="noStrike">
                  <a:solidFill>
                    <a:srgbClr val="000000"/>
                  </a:solidFill>
                  <a:latin typeface="Arial"/>
                </a:rPr>
                <a:t>Помощь среднему бизнесу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59160" y="3179520"/>
              <a:ext cx="273240" cy="12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Кадры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71840" y="2180880"/>
              <a:ext cx="37800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Количество заболеваний на душу населения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371840" y="2393640"/>
              <a:ext cx="37800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Обеспеченность собственным жильем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383360" y="2377080"/>
              <a:ext cx="35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160240" y="2377080"/>
              <a:ext cx="55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383360" y="2864520"/>
              <a:ext cx="35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60240" y="2864520"/>
              <a:ext cx="55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371840" y="2668320"/>
              <a:ext cx="37800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Уровень доходов от малого бизнеса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71840" y="2877480"/>
              <a:ext cx="378000" cy="2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Уровень доходов от среднего бизнеса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383360" y="3321720"/>
              <a:ext cx="35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71840" y="3123720"/>
              <a:ext cx="37800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Количество сотрудников младше 30 лет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371840" y="3317040"/>
              <a:ext cx="3780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Оценки по итогам аттестации молодых сотрудников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1523880" y="4816440"/>
            <a:ext cx="2286000" cy="1584360"/>
            <a:chOff x="1523880" y="4816440"/>
            <a:chExt cx="2286000" cy="1584360"/>
          </a:xfrm>
        </p:grpSpPr>
        <p:sp>
          <p:nvSpPr>
            <p:cNvPr id="406" name=""/>
            <p:cNvSpPr/>
            <p:nvPr/>
          </p:nvSpPr>
          <p:spPr>
            <a:xfrm>
              <a:off x="1523880" y="4816440"/>
              <a:ext cx="2286000" cy="15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39000" y="4964040"/>
              <a:ext cx="529560" cy="12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</a:rPr>
                <a:t>Стратегия - карта стратегии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100960" y="4935600"/>
              <a:ext cx="377280" cy="15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</a:rPr>
                <a:t>Стратегические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</a:rPr>
                <a:t>цели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28640" y="4962240"/>
              <a:ext cx="325440" cy="12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</a:rPr>
                <a:t>Показатели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828880" y="4960800"/>
              <a:ext cx="444240" cy="12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</a:rPr>
                <a:t>Целевые показатели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833200" y="4816440"/>
              <a:ext cx="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8240" y="4816440"/>
              <a:ext cx="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100960" y="4816440"/>
              <a:ext cx="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1523880" y="5004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289320" y="4838400"/>
              <a:ext cx="483840" cy="15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</a:rPr>
                <a:t>Целевые программы, бюджет развития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255120" y="4816440"/>
              <a:ext cx="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671840" y="5060160"/>
              <a:ext cx="288360" cy="1522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582920" y="6187320"/>
              <a:ext cx="177480" cy="15228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582920" y="5730480"/>
              <a:ext cx="221760" cy="15228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827000" y="5608440"/>
              <a:ext cx="221760" cy="15228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582920" y="5364720"/>
              <a:ext cx="221760" cy="15228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738080" y="6035040"/>
              <a:ext cx="177480" cy="15228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871280" y="6187320"/>
              <a:ext cx="177480" cy="15228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4" name=""/>
            <p:cNvCxnSpPr>
              <a:stCxn id="420" idx="0"/>
              <a:endCxn id="417" idx="4"/>
            </p:cNvCxnSpPr>
            <p:nvPr/>
          </p:nvCxnSpPr>
          <p:spPr>
            <a:xfrm flipV="1" rot="16200000">
              <a:off x="1678320" y="5348880"/>
              <a:ext cx="396720" cy="122400"/>
            </a:xfrm>
            <a:prstGeom prst="curvedConnector5">
              <a:avLst>
                <a:gd name="adj1" fmla="val 49954"/>
                <a:gd name="adj2" fmla="val 49852"/>
                <a:gd name="adj3" fmla="val 4995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5" name=""/>
            <p:cNvCxnSpPr>
              <a:stCxn id="421" idx="0"/>
              <a:endCxn id="417" idx="4"/>
            </p:cNvCxnSpPr>
            <p:nvPr/>
          </p:nvCxnSpPr>
          <p:spPr>
            <a:xfrm flipH="1" flipV="1" rot="5400000">
              <a:off x="1677960" y="5227200"/>
              <a:ext cx="153000" cy="122400"/>
            </a:xfrm>
            <a:prstGeom prst="curvedConnector5">
              <a:avLst>
                <a:gd name="adj1" fmla="val 50000"/>
                <a:gd name="adj2" fmla="val 49852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6" name=""/>
            <p:cNvCxnSpPr>
              <a:stCxn id="419" idx="0"/>
              <a:endCxn id="421" idx="4"/>
            </p:cNvCxnSpPr>
            <p:nvPr/>
          </p:nvCxnSpPr>
          <p:spPr>
            <a:xfrm flipV="1">
              <a:off x="1693440" y="5516640"/>
              <a:ext cx="1080" cy="2138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7" name=""/>
            <p:cNvCxnSpPr>
              <a:stCxn id="422" idx="0"/>
              <a:endCxn id="419" idx="4"/>
            </p:cNvCxnSpPr>
            <p:nvPr/>
          </p:nvCxnSpPr>
          <p:spPr>
            <a:xfrm flipV="1" rot="16200000">
              <a:off x="1683360" y="5891760"/>
              <a:ext cx="153000" cy="1335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8" name=""/>
            <p:cNvCxnSpPr>
              <a:stCxn id="418" idx="0"/>
              <a:endCxn id="419" idx="4"/>
            </p:cNvCxnSpPr>
            <p:nvPr/>
          </p:nvCxnSpPr>
          <p:spPr>
            <a:xfrm flipH="1" flipV="1" rot="5400000">
              <a:off x="1530000" y="6023520"/>
              <a:ext cx="305280" cy="22680"/>
            </a:xfrm>
            <a:prstGeom prst="curvedConnector5">
              <a:avLst>
                <a:gd name="adj1" fmla="val 49940"/>
                <a:gd name="adj2" fmla="val 50000"/>
                <a:gd name="adj3" fmla="val 4994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9" name=""/>
            <p:cNvCxnSpPr>
              <a:stCxn id="423" idx="0"/>
              <a:endCxn id="420" idx="4"/>
            </p:cNvCxnSpPr>
            <p:nvPr/>
          </p:nvCxnSpPr>
          <p:spPr>
            <a:xfrm flipV="1" rot="16200000">
              <a:off x="1735200" y="5962680"/>
              <a:ext cx="426960" cy="22680"/>
            </a:xfrm>
            <a:prstGeom prst="curvedConnector5">
              <a:avLst>
                <a:gd name="adj1" fmla="val 49957"/>
                <a:gd name="adj2" fmla="val 50000"/>
                <a:gd name="adj3" fmla="val 4995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0" name=""/>
            <p:cNvCxnSpPr>
              <a:stCxn id="422" idx="0"/>
              <a:endCxn id="420" idx="4"/>
            </p:cNvCxnSpPr>
            <p:nvPr/>
          </p:nvCxnSpPr>
          <p:spPr>
            <a:xfrm flipH="1" flipV="1" rot="5400000">
              <a:off x="1745280" y="5842080"/>
              <a:ext cx="274680" cy="111600"/>
            </a:xfrm>
            <a:prstGeom prst="curvedConnector5">
              <a:avLst>
                <a:gd name="adj1" fmla="val 50000"/>
                <a:gd name="adj2" fmla="val 49838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431" name=""/>
            <p:cNvGrpSpPr/>
            <p:nvPr/>
          </p:nvGrpSpPr>
          <p:grpSpPr>
            <a:xfrm>
              <a:off x="2889000" y="6035040"/>
              <a:ext cx="310680" cy="304560"/>
              <a:chOff x="2889000" y="6035040"/>
              <a:chExt cx="310680" cy="304560"/>
            </a:xfrm>
          </p:grpSpPr>
          <p:sp>
            <p:nvSpPr>
              <p:cNvPr id="432" name=""/>
              <p:cNvSpPr/>
              <p:nvPr/>
            </p:nvSpPr>
            <p:spPr>
              <a:xfrm>
                <a:off x="2889000" y="6035040"/>
                <a:ext cx="310680" cy="3045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977560" y="60350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088800" y="60350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2889000" y="6064920"/>
                <a:ext cx="31068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2889000" y="5547600"/>
              <a:ext cx="310680" cy="334800"/>
              <a:chOff x="2889000" y="5547600"/>
              <a:chExt cx="310680" cy="334800"/>
            </a:xfrm>
          </p:grpSpPr>
          <p:sp>
            <p:nvSpPr>
              <p:cNvPr id="437" name=""/>
              <p:cNvSpPr/>
              <p:nvPr/>
            </p:nvSpPr>
            <p:spPr>
              <a:xfrm>
                <a:off x="2889000" y="5547600"/>
                <a:ext cx="310680" cy="3348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889000" y="5638680"/>
                <a:ext cx="310680" cy="91080"/>
              </a:xfrm>
              <a:custGeom>
                <a:avLst/>
                <a:gdLst/>
                <a:ahLst/>
                <a:rect l="l" t="t" r="r" b="b"/>
                <a:pathLst>
                  <a:path w="624" h="200">
                    <a:moveTo>
                      <a:pt x="0" y="0"/>
                    </a:moveTo>
                    <a:cubicBezTo>
                      <a:pt x="36" y="56"/>
                      <a:pt x="72" y="112"/>
                      <a:pt x="144" y="144"/>
                    </a:cubicBezTo>
                    <a:cubicBezTo>
                      <a:pt x="216" y="176"/>
                      <a:pt x="352" y="184"/>
                      <a:pt x="432" y="192"/>
                    </a:cubicBezTo>
                    <a:cubicBezTo>
                      <a:pt x="512" y="200"/>
                      <a:pt x="568" y="196"/>
                      <a:pt x="624" y="192"/>
                    </a:cubicBezTo>
                  </a:path>
                </a:pathLst>
              </a:custGeom>
              <a:solidFill>
                <a:srgbClr val="b2b2b2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977560" y="5547600"/>
                <a:ext cx="0" cy="33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088800" y="5547600"/>
                <a:ext cx="0" cy="33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2889000" y="5090400"/>
              <a:ext cx="310680" cy="304560"/>
              <a:chOff x="2889000" y="5090400"/>
              <a:chExt cx="310680" cy="304560"/>
            </a:xfrm>
          </p:grpSpPr>
          <p:sp>
            <p:nvSpPr>
              <p:cNvPr id="442" name=""/>
              <p:cNvSpPr/>
              <p:nvPr/>
            </p:nvSpPr>
            <p:spPr>
              <a:xfrm>
                <a:off x="2889000" y="5090400"/>
                <a:ext cx="310680" cy="3045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977560" y="50904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088800" y="50904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2889000" y="5120280"/>
                <a:ext cx="310680" cy="60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2101680" y="5136840"/>
              <a:ext cx="37620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Улучшение здоровья горожан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101680" y="5587560"/>
              <a:ext cx="376200" cy="2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Увеличение налоговых доходов бюджета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01680" y="6067080"/>
              <a:ext cx="376200" cy="2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Привлечение молодых квалифицированных кадров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00960" y="5456160"/>
              <a:ext cx="170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00960" y="5943600"/>
              <a:ext cx="170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257280" y="5108400"/>
              <a:ext cx="387360" cy="2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Здоровый город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Жилище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252240" y="5558760"/>
              <a:ext cx="5230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00" spc="-1" strike="noStrike">
                  <a:solidFill>
                    <a:srgbClr val="000000"/>
                  </a:solidFill>
                  <a:latin typeface="Arial"/>
                </a:rPr>
                <a:t>Развитие малого бизнеса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00" spc="-1" strike="noStrike">
                  <a:solidFill>
                    <a:srgbClr val="000000"/>
                  </a:solidFill>
                  <a:latin typeface="Arial"/>
                </a:rPr>
                <a:t>Помощь среднему бизнесу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254040" y="6014880"/>
              <a:ext cx="273240" cy="12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Кадры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466720" y="5016240"/>
              <a:ext cx="37800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Количество заболеваний на душу населения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466720" y="5229000"/>
              <a:ext cx="37800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Обеспеченность собственным жильем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78240" y="5212440"/>
              <a:ext cx="35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55120" y="5212440"/>
              <a:ext cx="55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78240" y="5699880"/>
              <a:ext cx="35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255120" y="5699880"/>
              <a:ext cx="55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466720" y="5503680"/>
              <a:ext cx="37800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Уровень доходов от малого бизнеса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466720" y="5712840"/>
              <a:ext cx="378000" cy="2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Уровень доходов от среднего бизнеса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478240" y="6157080"/>
              <a:ext cx="35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466720" y="5959080"/>
              <a:ext cx="37800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Количество сотрудников младше 30 лет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466720" y="6152400"/>
              <a:ext cx="3780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Оценки по итогам аттестации молодых сотрудников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5257800" y="4816440"/>
            <a:ext cx="2286000" cy="1584360"/>
            <a:chOff x="5257800" y="4816440"/>
            <a:chExt cx="2286000" cy="1584360"/>
          </a:xfrm>
        </p:grpSpPr>
        <p:sp>
          <p:nvSpPr>
            <p:cNvPr id="466" name=""/>
            <p:cNvSpPr/>
            <p:nvPr/>
          </p:nvSpPr>
          <p:spPr>
            <a:xfrm>
              <a:off x="5257800" y="4816440"/>
              <a:ext cx="2286000" cy="15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272920" y="4964040"/>
              <a:ext cx="529560" cy="12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</a:rPr>
                <a:t>Стратегия - карта стратегии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834880" y="4935600"/>
              <a:ext cx="377280" cy="15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</a:rPr>
                <a:t>Стратегические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</a:rPr>
                <a:t>цели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262560" y="4962240"/>
              <a:ext cx="325440" cy="12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</a:rPr>
                <a:t>Показатели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562800" y="4960800"/>
              <a:ext cx="444240" cy="12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</a:rPr>
                <a:t>Целевые показатели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567120" y="4816440"/>
              <a:ext cx="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212160" y="4816440"/>
              <a:ext cx="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834880" y="4816440"/>
              <a:ext cx="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5257800" y="5004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23240" y="4838400"/>
              <a:ext cx="483840" cy="15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</a:rPr>
                <a:t>Целевые программы, бюджет развития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989040" y="4816440"/>
              <a:ext cx="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405760" y="5060160"/>
              <a:ext cx="288360" cy="1522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316840" y="6187320"/>
              <a:ext cx="177480" cy="15228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316840" y="5730480"/>
              <a:ext cx="221760" cy="15228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560920" y="5608440"/>
              <a:ext cx="221760" cy="15228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316840" y="5364720"/>
              <a:ext cx="221760" cy="15228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472000" y="6035040"/>
              <a:ext cx="177480" cy="15228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605200" y="6187320"/>
              <a:ext cx="177480" cy="15228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4" name=""/>
            <p:cNvCxnSpPr>
              <a:stCxn id="480" idx="0"/>
              <a:endCxn id="477" idx="4"/>
            </p:cNvCxnSpPr>
            <p:nvPr/>
          </p:nvCxnSpPr>
          <p:spPr>
            <a:xfrm flipV="1" rot="16200000">
              <a:off x="5412240" y="5348880"/>
              <a:ext cx="396720" cy="122400"/>
            </a:xfrm>
            <a:prstGeom prst="curvedConnector5">
              <a:avLst>
                <a:gd name="adj1" fmla="val 49954"/>
                <a:gd name="adj2" fmla="val 49852"/>
                <a:gd name="adj3" fmla="val 4995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5" name=""/>
            <p:cNvCxnSpPr>
              <a:stCxn id="481" idx="0"/>
              <a:endCxn id="477" idx="4"/>
            </p:cNvCxnSpPr>
            <p:nvPr/>
          </p:nvCxnSpPr>
          <p:spPr>
            <a:xfrm flipH="1" flipV="1" rot="5400000">
              <a:off x="5411880" y="5227200"/>
              <a:ext cx="153000" cy="122400"/>
            </a:xfrm>
            <a:prstGeom prst="curvedConnector5">
              <a:avLst>
                <a:gd name="adj1" fmla="val 50000"/>
                <a:gd name="adj2" fmla="val 49852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6" name=""/>
            <p:cNvCxnSpPr>
              <a:stCxn id="479" idx="0"/>
              <a:endCxn id="481" idx="4"/>
            </p:cNvCxnSpPr>
            <p:nvPr/>
          </p:nvCxnSpPr>
          <p:spPr>
            <a:xfrm flipV="1">
              <a:off x="5427360" y="5516640"/>
              <a:ext cx="1080" cy="2138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7" name=""/>
            <p:cNvCxnSpPr>
              <a:stCxn id="482" idx="0"/>
              <a:endCxn id="479" idx="4"/>
            </p:cNvCxnSpPr>
            <p:nvPr/>
          </p:nvCxnSpPr>
          <p:spPr>
            <a:xfrm flipV="1" rot="16200000">
              <a:off x="5417280" y="5891760"/>
              <a:ext cx="153000" cy="1335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8" name=""/>
            <p:cNvCxnSpPr>
              <a:stCxn id="478" idx="0"/>
              <a:endCxn id="479" idx="4"/>
            </p:cNvCxnSpPr>
            <p:nvPr/>
          </p:nvCxnSpPr>
          <p:spPr>
            <a:xfrm flipH="1" flipV="1" rot="5400000">
              <a:off x="5263920" y="6023520"/>
              <a:ext cx="305280" cy="22680"/>
            </a:xfrm>
            <a:prstGeom prst="curvedConnector5">
              <a:avLst>
                <a:gd name="adj1" fmla="val 49940"/>
                <a:gd name="adj2" fmla="val 50000"/>
                <a:gd name="adj3" fmla="val 4994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9" name=""/>
            <p:cNvCxnSpPr>
              <a:stCxn id="483" idx="0"/>
              <a:endCxn id="480" idx="4"/>
            </p:cNvCxnSpPr>
            <p:nvPr/>
          </p:nvCxnSpPr>
          <p:spPr>
            <a:xfrm flipV="1" rot="16200000">
              <a:off x="5469120" y="5962680"/>
              <a:ext cx="426960" cy="22680"/>
            </a:xfrm>
            <a:prstGeom prst="curvedConnector5">
              <a:avLst>
                <a:gd name="adj1" fmla="val 49957"/>
                <a:gd name="adj2" fmla="val 50000"/>
                <a:gd name="adj3" fmla="val 4995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0" name=""/>
            <p:cNvCxnSpPr>
              <a:stCxn id="482" idx="0"/>
              <a:endCxn id="480" idx="4"/>
            </p:cNvCxnSpPr>
            <p:nvPr/>
          </p:nvCxnSpPr>
          <p:spPr>
            <a:xfrm flipH="1" flipV="1" rot="5400000">
              <a:off x="5479200" y="5842080"/>
              <a:ext cx="274680" cy="111600"/>
            </a:xfrm>
            <a:prstGeom prst="curvedConnector5">
              <a:avLst>
                <a:gd name="adj1" fmla="val 50000"/>
                <a:gd name="adj2" fmla="val 49838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491" name=""/>
            <p:cNvGrpSpPr/>
            <p:nvPr/>
          </p:nvGrpSpPr>
          <p:grpSpPr>
            <a:xfrm>
              <a:off x="6622920" y="6035040"/>
              <a:ext cx="310680" cy="304560"/>
              <a:chOff x="6622920" y="6035040"/>
              <a:chExt cx="310680" cy="304560"/>
            </a:xfrm>
          </p:grpSpPr>
          <p:sp>
            <p:nvSpPr>
              <p:cNvPr id="492" name=""/>
              <p:cNvSpPr/>
              <p:nvPr/>
            </p:nvSpPr>
            <p:spPr>
              <a:xfrm>
                <a:off x="6622920" y="6035040"/>
                <a:ext cx="310680" cy="3045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711480" y="60350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822720" y="60350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6622920" y="6064920"/>
                <a:ext cx="31068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6" name=""/>
            <p:cNvGrpSpPr/>
            <p:nvPr/>
          </p:nvGrpSpPr>
          <p:grpSpPr>
            <a:xfrm>
              <a:off x="6622920" y="5547600"/>
              <a:ext cx="310680" cy="334800"/>
              <a:chOff x="6622920" y="5547600"/>
              <a:chExt cx="310680" cy="334800"/>
            </a:xfrm>
          </p:grpSpPr>
          <p:sp>
            <p:nvSpPr>
              <p:cNvPr id="497" name=""/>
              <p:cNvSpPr/>
              <p:nvPr/>
            </p:nvSpPr>
            <p:spPr>
              <a:xfrm>
                <a:off x="6622920" y="5547600"/>
                <a:ext cx="310680" cy="3348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622920" y="5638680"/>
                <a:ext cx="310680" cy="91080"/>
              </a:xfrm>
              <a:custGeom>
                <a:avLst/>
                <a:gdLst/>
                <a:ahLst/>
                <a:rect l="l" t="t" r="r" b="b"/>
                <a:pathLst>
                  <a:path w="624" h="200">
                    <a:moveTo>
                      <a:pt x="0" y="0"/>
                    </a:moveTo>
                    <a:cubicBezTo>
                      <a:pt x="36" y="56"/>
                      <a:pt x="72" y="112"/>
                      <a:pt x="144" y="144"/>
                    </a:cubicBezTo>
                    <a:cubicBezTo>
                      <a:pt x="216" y="176"/>
                      <a:pt x="352" y="184"/>
                      <a:pt x="432" y="192"/>
                    </a:cubicBezTo>
                    <a:cubicBezTo>
                      <a:pt x="512" y="200"/>
                      <a:pt x="568" y="196"/>
                      <a:pt x="624" y="192"/>
                    </a:cubicBezTo>
                  </a:path>
                </a:pathLst>
              </a:custGeom>
              <a:solidFill>
                <a:srgbClr val="b2b2b2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711480" y="5547600"/>
                <a:ext cx="0" cy="33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822720" y="5547600"/>
                <a:ext cx="0" cy="33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6622920" y="5090400"/>
              <a:ext cx="310680" cy="304560"/>
              <a:chOff x="6622920" y="5090400"/>
              <a:chExt cx="310680" cy="304560"/>
            </a:xfrm>
          </p:grpSpPr>
          <p:sp>
            <p:nvSpPr>
              <p:cNvPr id="502" name=""/>
              <p:cNvSpPr/>
              <p:nvPr/>
            </p:nvSpPr>
            <p:spPr>
              <a:xfrm>
                <a:off x="6622920" y="5090400"/>
                <a:ext cx="310680" cy="3045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711480" y="50904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822720" y="50904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6622920" y="5120280"/>
                <a:ext cx="310680" cy="60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835600" y="5136840"/>
              <a:ext cx="37620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Улучшение здоровья горожан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35600" y="5587560"/>
              <a:ext cx="376200" cy="2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Увеличение налоговых доходов бюджета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835600" y="6067080"/>
              <a:ext cx="376200" cy="2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Привлечение молодых квалифицированных кадров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834880" y="5456160"/>
              <a:ext cx="170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834880" y="5943600"/>
              <a:ext cx="170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991200" y="5108400"/>
              <a:ext cx="387360" cy="2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Здоровый город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Жилище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86160" y="5558760"/>
              <a:ext cx="5230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00" spc="-1" strike="noStrike">
                  <a:solidFill>
                    <a:srgbClr val="000000"/>
                  </a:solidFill>
                  <a:latin typeface="Arial"/>
                </a:rPr>
                <a:t>Развитие малого бизнеса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00" spc="-1" strike="noStrike">
                  <a:solidFill>
                    <a:srgbClr val="000000"/>
                  </a:solidFill>
                  <a:latin typeface="Arial"/>
                </a:rPr>
                <a:t>Помощь среднему бизнесу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87960" y="6014880"/>
              <a:ext cx="273240" cy="12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Кадры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200640" y="5016240"/>
              <a:ext cx="37800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Количество заболеваний на душу населения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200640" y="5229000"/>
              <a:ext cx="37800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Обеспеченность собственным жильем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212160" y="5212440"/>
              <a:ext cx="35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989040" y="5212440"/>
              <a:ext cx="55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212160" y="5699880"/>
              <a:ext cx="35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989040" y="5699880"/>
              <a:ext cx="55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00640" y="5503680"/>
              <a:ext cx="37800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Уровень доходов от малого бизнеса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00640" y="5712840"/>
              <a:ext cx="378000" cy="2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Уровень доходов от среднего бизнеса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212160" y="6157080"/>
              <a:ext cx="35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200640" y="5959080"/>
              <a:ext cx="37800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Количество сотрудников младше 30 лет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00640" y="6152400"/>
              <a:ext cx="3780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Оценки по итогам аттестации молодых сотрудников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4192200" y="1371600"/>
            <a:ext cx="71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Горо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6" name=""/>
          <p:cNvCxnSpPr>
            <a:stCxn id="361" idx="2"/>
            <a:endCxn id="421" idx="0"/>
          </p:cNvCxnSpPr>
          <p:nvPr/>
        </p:nvCxnSpPr>
        <p:spPr>
          <a:xfrm flipV="1" rot="10800000">
            <a:off x="1693080" y="2604600"/>
            <a:ext cx="1794600" cy="275976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27" name=""/>
          <p:cNvCxnSpPr>
            <a:stCxn id="360" idx="6"/>
            <a:endCxn id="479" idx="0"/>
          </p:cNvCxnSpPr>
          <p:nvPr/>
        </p:nvCxnSpPr>
        <p:spPr>
          <a:xfrm>
            <a:off x="3954600" y="2849400"/>
            <a:ext cx="1473840" cy="288216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28" name=""/>
          <p:cNvCxnSpPr>
            <a:stCxn id="357" idx="6"/>
            <a:endCxn id="477" idx="7"/>
          </p:cNvCxnSpPr>
          <p:nvPr/>
        </p:nvCxnSpPr>
        <p:spPr>
          <a:xfrm>
            <a:off x="3865320" y="2301840"/>
            <a:ext cx="1786680" cy="278208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29" name=""/>
          <p:cNvCxnSpPr>
            <a:stCxn id="358" idx="2"/>
            <a:endCxn id="423" idx="0"/>
          </p:cNvCxnSpPr>
          <p:nvPr/>
        </p:nvCxnSpPr>
        <p:spPr>
          <a:xfrm flipV="1" rot="10800000">
            <a:off x="1959840" y="3428640"/>
            <a:ext cx="1527840" cy="275976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30" name=""/>
          <p:cNvCxnSpPr>
            <a:stCxn id="358" idx="4"/>
            <a:endCxn id="478" idx="2"/>
          </p:cNvCxnSpPr>
          <p:nvPr/>
        </p:nvCxnSpPr>
        <p:spPr>
          <a:xfrm flipH="1" rot="16200000">
            <a:off x="3066120" y="4014720"/>
            <a:ext cx="2759760" cy="174060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31" name=""/>
          <p:cNvSpPr/>
          <p:nvPr/>
        </p:nvSpPr>
        <p:spPr>
          <a:xfrm>
            <a:off x="3198960" y="4267080"/>
            <a:ext cx="27669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Структурные подразде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7490-A56A-44FB-9B54-32962EBC75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228600" y="5504040"/>
            <a:ext cx="32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олитика в области обучения и рост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28600" y="4113360"/>
            <a:ext cx="196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нутренняя полити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8600" y="2894040"/>
            <a:ext cx="196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Финансовая полити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28600" y="153036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отребительская полити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257800" y="1523880"/>
            <a:ext cx="359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олитика по отношению к финансовым донора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248520" y="1824120"/>
            <a:ext cx="2361960" cy="9144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беспечение информацией о деятельности архивного отдела и М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133720" y="3187800"/>
            <a:ext cx="2259000" cy="850680"/>
          </a:xfrm>
          <a:prstGeom prst="rect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ивлечение иных, кроме городского бюджета, средст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800600" y="3187800"/>
            <a:ext cx="2286000" cy="850680"/>
          </a:xfrm>
          <a:prstGeom prst="rect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птимизация расходов городского бюджета на содержание архивного отдела и М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09480" y="4406760"/>
            <a:ext cx="1279800" cy="100332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Реструктуризация управл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391520" y="4406760"/>
            <a:ext cx="1218960" cy="100332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частие в формировании имиджа мэ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352680" y="4406760"/>
            <a:ext cx="1371600" cy="100332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овершенствование процессо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981080" y="4406760"/>
            <a:ext cx="1279800" cy="100332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Эффективное использование имущества архивного отдела и М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9480" y="5791320"/>
            <a:ext cx="1752840" cy="85068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оздание условий для обеспечения кадрам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743200" y="5791320"/>
            <a:ext cx="1752480" cy="85068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омпетенций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навы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876920" y="5791320"/>
            <a:ext cx="1752480" cy="85068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Достижение высокого уровня мотив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934320" y="5791320"/>
            <a:ext cx="1752480" cy="85068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ормирование культ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276720" y="1824120"/>
            <a:ext cx="2676240" cy="914400"/>
          </a:xfrm>
          <a:prstGeom prst="rect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Удовлетворение потребностей юридических и физических лиц, иных архивов в восстановлении и поиске необходимо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9480" y="1824120"/>
            <a:ext cx="2362320" cy="914400"/>
          </a:xfrm>
          <a:prstGeom prst="rect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Удовлетворение потребностей юридических лиц в хранении информации (в т.ч. в депозитарном хранен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800600" y="4406760"/>
            <a:ext cx="1219320" cy="100332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Формирование единого подхода в архивах города по учету и хранению информаци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095880" y="4406760"/>
            <a:ext cx="1219320" cy="100332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ормирование архивного фонда го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04920" y="31896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Карта стратегии Архивного Отдела мэрии города Черепов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04920" y="914400"/>
            <a:ext cx="85341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51DC-108E-4620-A1B8-3D6409C70A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304920" y="2286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Пример целевых показателей Архивного Отдела мэрии города Черепов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04920" y="914400"/>
            <a:ext cx="85341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748480" y="4267080"/>
            <a:ext cx="175248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% своевременно удовлетворенных запро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62120" y="3733920"/>
            <a:ext cx="1752480" cy="838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оличество случаев утраты принятой документ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62120" y="4952880"/>
            <a:ext cx="175248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оличество (объем) принятых докум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895480" y="3733920"/>
            <a:ext cx="1752840" cy="838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ол-во договоров на депозитарное хранение и платны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895480" y="4952880"/>
            <a:ext cx="175284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ценка юридических ли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029200" y="1905120"/>
            <a:ext cx="3200400" cy="1143000"/>
          </a:xfrm>
          <a:prstGeom prst="rect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довлетворение потребностей юридических и физических лиц, иных архивов в восстановлении и поиске необходимой информ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95280" y="1905120"/>
            <a:ext cx="2824200" cy="1143000"/>
          </a:xfrm>
          <a:prstGeom prst="rect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довлетворение потребностей юридических лиц в хранении информ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3" name=""/>
          <p:cNvCxnSpPr>
            <a:stCxn id="562" idx="2"/>
            <a:endCxn id="557" idx="3"/>
          </p:cNvCxnSpPr>
          <p:nvPr/>
        </p:nvCxnSpPr>
        <p:spPr>
          <a:xfrm rot="5400000">
            <a:off x="2070360" y="3515400"/>
            <a:ext cx="1096200" cy="18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2"/>
            <a:endCxn id="558" idx="3"/>
          </p:cNvCxnSpPr>
          <p:nvPr/>
        </p:nvCxnSpPr>
        <p:spPr>
          <a:xfrm rot="5400000">
            <a:off x="1460520" y="4125240"/>
            <a:ext cx="2315520" cy="18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5" name=""/>
          <p:cNvCxnSpPr>
            <a:stCxn id="562" idx="2"/>
            <a:endCxn id="560" idx="1"/>
          </p:cNvCxnSpPr>
          <p:nvPr/>
        </p:nvCxnSpPr>
        <p:spPr>
          <a:xfrm flipH="1" rot="16200000">
            <a:off x="1636560" y="4128120"/>
            <a:ext cx="2315520" cy="17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"/>
          <p:cNvCxnSpPr>
            <a:stCxn id="562" idx="2"/>
            <a:endCxn id="559" idx="1"/>
          </p:cNvCxnSpPr>
          <p:nvPr/>
        </p:nvCxnSpPr>
        <p:spPr>
          <a:xfrm flipH="1" rot="16200000">
            <a:off x="2246040" y="3518280"/>
            <a:ext cx="1096200" cy="17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7" name=""/>
          <p:cNvCxnSpPr>
            <a:stCxn id="561" idx="2"/>
            <a:endCxn id="556" idx="0"/>
          </p:cNvCxnSpPr>
          <p:nvPr/>
        </p:nvCxnSpPr>
        <p:spPr>
          <a:xfrm flipH="1">
            <a:off x="6624000" y="3057120"/>
            <a:ext cx="5400" cy="11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C8E4-D04C-4DCF-B3D3-B44889E9EA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304920" y="3049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Что такое система сбалансированных целевых показателей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09480" y="1523880"/>
            <a:ext cx="76201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управления (а не только система измерени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ханизм, переводящий стратегию «на язык действий», интегрирующий стратегическое и бюджетное планир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румент, позволяющий каждому подразделению увидеть свое место в направлении общего разви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 для постоянного улучшения деятельности организации и ее результатов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тральная нервная система орган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28600" y="838080"/>
            <a:ext cx="8686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DC3B-7C5D-4D2A-B56F-FDF9A7F95C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298800" y="289080"/>
            <a:ext cx="47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Дальнейшие направления развит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04920" y="838080"/>
            <a:ext cx="8610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80880" y="1154160"/>
            <a:ext cx="8153640" cy="50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buClr>
                <a:srgbClr val="3333cc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системы целевых показате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30240" indent="-457200"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крепление нормативно-правовыми акт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0240" indent="-457200"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оработка ряда показател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0240" indent="-457200"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втоматиз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0240" indent="-457200"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3333cc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дернизация системы управления (включая структуру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30240" indent="-457200"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0240" indent="-457200"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истема управления, основанная на управлении результат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правление целями подразделениями (не мероприятиям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ругая форма программы социально-экономического развит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вышение самостоятельности, прозрачности и ответственности подраздел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грамма обуч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0240" indent="-457200"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зменения, вызванные реформой местного самоуправ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0240" indent="-457200"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0240" indent="-457200"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56EB-D778-4C9A-A24B-6E229BD7C2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298800" y="289080"/>
            <a:ext cx="47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Дальнейшие направления развит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04920" y="838080"/>
            <a:ext cx="8610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80880" y="1154160"/>
            <a:ext cx="8153640" cy="50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buClr>
                <a:srgbClr val="3333cc"/>
              </a:buClr>
              <a:buSzPct val="12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ение системы сбалансированных целевых показателей для сети муниципальных учрежд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3333cc"/>
              </a:buClr>
              <a:buSzPct val="12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3333cc"/>
              </a:buClr>
              <a:buSzPct val="12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дрение бюджетирования, ориентированного на результа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30240" indent="-457200"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0240" indent="-457200"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ход на финансирование, основанное на долгосрочных целя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0240" indent="-457200"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ие эффективности бюджетных расходов за счет внедрения механизма «управления результатами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0240" indent="-457200"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ие самостоятельности, прозрачности и ответственности администраторов бюджетных средст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67B1-3392-4707-9833-7CE66FA326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17153" t="22683" r="35509" b="0"/>
          <a:stretch/>
        </p:blipFill>
        <p:spPr>
          <a:xfrm>
            <a:off x="380880" y="1295280"/>
            <a:ext cx="4464000" cy="4496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99880" y="289080"/>
            <a:ext cx="39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Череповец – краткая справ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838080"/>
            <a:ext cx="8610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76040" y="3602160"/>
            <a:ext cx="1563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Черепове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87560" y="3879720"/>
            <a:ext cx="173160" cy="1731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1523880"/>
            <a:ext cx="4190760" cy="41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селение – 311 тыс. жите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ем производ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3 - 101,4 млрд. руб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4 - 156,6 млрд. руб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юдж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3 – 2820 млн. руб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4 – 3260 млн. руб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няя заработная пла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3 – 8207 руб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4 – 10400 руб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5F9B-8F63-47FD-A0C9-50971ED535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30492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Традиционная система управ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838080"/>
            <a:ext cx="8610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3301920"/>
            <a:ext cx="1752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юдж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2880" y="3987720"/>
            <a:ext cx="26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</a:rPr>
              <a:t>Цикл оперативного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4444920"/>
            <a:ext cx="1752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/>
          <p:nvPr/>
        </p:nvCxnSpPr>
        <p:spPr>
          <a:xfrm flipH="1" flipV="1" rot="10800000">
            <a:off x="3580200" y="3529440"/>
            <a:ext cx="2520" cy="1143720"/>
          </a:xfrm>
          <a:prstGeom prst="curvedConnector5">
            <a:avLst>
              <a:gd name="adj1" fmla="val -27900000"/>
              <a:gd name="adj2" fmla="val 50000"/>
              <a:gd name="adj3" fmla="val -27900000"/>
            </a:avLst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7" name=""/>
          <p:cNvSpPr/>
          <p:nvPr/>
        </p:nvSpPr>
        <p:spPr>
          <a:xfrm>
            <a:off x="3048120" y="474984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474984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/>
          <p:nvPr/>
        </p:nvCxnSpPr>
        <p:spPr>
          <a:xfrm flipV="1">
            <a:off x="5482800" y="3552120"/>
            <a:ext cx="2520" cy="1143720"/>
          </a:xfrm>
          <a:prstGeom prst="curvedConnector5">
            <a:avLst>
              <a:gd name="adj1" fmla="val 32300000"/>
              <a:gd name="adj2" fmla="val 50000"/>
              <a:gd name="adj3" fmla="val 32300000"/>
            </a:avLst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0" name=""/>
          <p:cNvSpPr/>
          <p:nvPr/>
        </p:nvSpPr>
        <p:spPr>
          <a:xfrm>
            <a:off x="1600200" y="3911760"/>
            <a:ext cx="13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5200" y="398772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це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8680" y="5181480"/>
            <a:ext cx="77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ч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86920" y="5237280"/>
            <a:ext cx="6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2120" y="1523880"/>
            <a:ext cx="1752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ратег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5200" y="21718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1523880"/>
            <a:ext cx="25146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«Финансисты»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оценить приоритетность и эффективность расходов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учесть долгосрочный характер многих проектов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1523880"/>
            <a:ext cx="25146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«Стратеги»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сделать так, чтобы стратегия не осталась просто документом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добиться внедрения этого инструмента в жизнь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C125-7B9C-4166-A3BF-15F4BD134B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96280" y="289080"/>
            <a:ext cx="66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Проблемы реализации стратегии развития гор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838080"/>
            <a:ext cx="8610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154160"/>
            <a:ext cx="8153640" cy="50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чень многие города научились делать очень хорошие стратег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нако пока нет примеров удачной реализации стратег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же разработав стратегию, города продолжают базировать принятие решений прежде всего на бюджетном процесс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таких условиях стратегия постепенно отмирает как ненужный документ, мешающий бюджетному процесс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0EDD-766F-4C9F-A0F5-1F6A8E65AC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920" y="22860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Модель интеграции бюджетного и стратегического планирования, наиболее часто используемая город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990720"/>
            <a:ext cx="8610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38680" y="1905120"/>
            <a:ext cx="1752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ратег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7760" y="2606760"/>
            <a:ext cx="2241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Arial"/>
              </a:rPr>
              <a:t>Цикл стратегического управл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38680" y="3200400"/>
            <a:ext cx="1752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ланы, целевые программ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36880" y="4191120"/>
            <a:ext cx="17528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юдж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65480" y="5334120"/>
            <a:ext cx="12956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457200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инансирования недостаточно для выполнения всех програм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5880" y="2666880"/>
            <a:ext cx="28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тратегия не реализова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5880" y="3597120"/>
            <a:ext cx="2724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грамма не выполнена и цель не выполнена из-за недостатка финансир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79680" y="560088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61120" y="560088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00000" y="4861080"/>
            <a:ext cx="919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Финансовы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57560" y="4857840"/>
            <a:ext cx="61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Оцен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/>
          <p:nvPr/>
        </p:nvCxnSpPr>
        <p:spPr>
          <a:xfrm flipH="1" flipV="1" rot="10800000">
            <a:off x="3838320" y="2171520"/>
            <a:ext cx="2160" cy="1296000"/>
          </a:xfrm>
          <a:prstGeom prst="curvedConnector5">
            <a:avLst>
              <a:gd name="adj1" fmla="val -14400000"/>
              <a:gd name="adj2" fmla="val 49986"/>
              <a:gd name="adj3" fmla="val -14400000"/>
            </a:avLst>
          </a:prstGeom>
          <a:ln w="2556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86" name=""/>
          <p:cNvCxnSpPr/>
          <p:nvPr/>
        </p:nvCxnSpPr>
        <p:spPr>
          <a:xfrm flipV="1" rot="10800000">
            <a:off x="3836160" y="3466800"/>
            <a:ext cx="2520" cy="991440"/>
          </a:xfrm>
          <a:prstGeom prst="curvedConnector5">
            <a:avLst>
              <a:gd name="adj1" fmla="val 14500000"/>
              <a:gd name="adj2" fmla="val 49981"/>
              <a:gd name="adj3" fmla="val 14500000"/>
            </a:avLst>
          </a:prstGeom>
          <a:ln w="25560">
            <a:solidFill>
              <a:srgbClr val="ff0000"/>
            </a:solidFill>
            <a:prstDash val="dash"/>
            <a:miter/>
            <a:tailEnd len="lg" type="triangle" w="med"/>
          </a:ln>
        </p:spPr>
      </p:cxnSp>
      <p:cxnSp>
        <p:nvCxnSpPr>
          <p:cNvPr id="87" name=""/>
          <p:cNvCxnSpPr/>
          <p:nvPr/>
        </p:nvCxnSpPr>
        <p:spPr>
          <a:xfrm flipH="1" flipV="1" rot="10800000">
            <a:off x="3835800" y="4456800"/>
            <a:ext cx="2520" cy="114372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med"/>
          </a:ln>
        </p:spPr>
      </p:cxnSp>
      <p:cxnSp>
        <p:nvCxnSpPr>
          <p:cNvPr id="88" name=""/>
          <p:cNvCxnSpPr/>
          <p:nvPr/>
        </p:nvCxnSpPr>
        <p:spPr>
          <a:xfrm flipV="1">
            <a:off x="5591160" y="2171520"/>
            <a:ext cx="2160" cy="1296000"/>
          </a:xfrm>
          <a:prstGeom prst="curvedConnector5">
            <a:avLst>
              <a:gd name="adj1" fmla="val 14400000"/>
              <a:gd name="adj2" fmla="val 49986"/>
              <a:gd name="adj3" fmla="val 14400000"/>
            </a:avLst>
          </a:prstGeom>
          <a:ln w="25560">
            <a:solidFill>
              <a:srgbClr val="ff0000"/>
            </a:solidFill>
            <a:prstDash val="dash"/>
            <a:miter/>
            <a:tailEnd len="lg" type="triangle" w="med"/>
          </a:ln>
        </p:spPr>
      </p:cxnSp>
      <p:cxnSp>
        <p:nvCxnSpPr>
          <p:cNvPr id="89" name=""/>
          <p:cNvCxnSpPr/>
          <p:nvPr/>
        </p:nvCxnSpPr>
        <p:spPr>
          <a:xfrm flipH="1" flipV="1" rot="5400000">
            <a:off x="4415400" y="4411800"/>
            <a:ext cx="2121480" cy="230760"/>
          </a:xfrm>
          <a:prstGeom prst="curvedConnector5">
            <a:avLst>
              <a:gd name="adj1" fmla="val 220"/>
              <a:gd name="adj2" fmla="val 110312"/>
              <a:gd name="adj3" fmla="val 220"/>
            </a:avLst>
          </a:prstGeom>
          <a:ln w="25560">
            <a:solidFill>
              <a:srgbClr val="ff0000"/>
            </a:solidFill>
            <a:prstDash val="dash"/>
            <a:miter/>
            <a:tailEnd len="lg" type="triangle" w="med"/>
          </a:ln>
        </p:spPr>
      </p:cxnSp>
      <p:cxnSp>
        <p:nvCxnSpPr>
          <p:cNvPr id="90" name=""/>
          <p:cNvCxnSpPr/>
          <p:nvPr/>
        </p:nvCxnSpPr>
        <p:spPr>
          <a:xfrm flipV="1">
            <a:off x="5587560" y="4457160"/>
            <a:ext cx="2520" cy="114372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1" name=""/>
          <p:cNvSpPr/>
          <p:nvPr/>
        </p:nvSpPr>
        <p:spPr>
          <a:xfrm>
            <a:off x="3843360" y="4829040"/>
            <a:ext cx="171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3333cc"/>
                </a:solidFill>
                <a:latin typeface="Arial"/>
              </a:rPr>
              <a:t>Цикл оперативного управл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35053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епонятно, какие заявки включить в бюджет и как добиться эффективно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24920" y="5656320"/>
            <a:ext cx="674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оч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84560" y="5730840"/>
            <a:ext cx="57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30481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«Финансисты»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1981080"/>
            <a:ext cx="28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«Стратеги»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BD47-1DD3-40A3-9E99-A260B7BF67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846520" y="2133720"/>
            <a:ext cx="1282680" cy="83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Целевые программ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лан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6520" y="2133720"/>
            <a:ext cx="1444680" cy="83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2133720"/>
            <a:ext cx="1447920" cy="83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тратег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2286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Переход на иной принцип интеграции стратегии и бюджетного планир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32640" y="2133720"/>
            <a:ext cx="1444680" cy="83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Целевые показател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2480" y="4648320"/>
            <a:ext cx="1282680" cy="83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Целевые программ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лан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4648320"/>
            <a:ext cx="1444680" cy="83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87400" y="4648320"/>
            <a:ext cx="1447920" cy="83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тратег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05280" y="4648320"/>
            <a:ext cx="1444680" cy="83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Целевые показател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99" idx="3"/>
            <a:endCxn id="97" idx="1"/>
          </p:cNvCxnSpPr>
          <p:nvPr/>
        </p:nvCxnSpPr>
        <p:spPr>
          <a:xfrm>
            <a:off x="2371680" y="2552400"/>
            <a:ext cx="4658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6" idx="3"/>
            <a:endCxn id="103" idx="1"/>
          </p:cNvCxnSpPr>
          <p:nvPr/>
        </p:nvCxnSpPr>
        <p:spPr>
          <a:xfrm>
            <a:off x="6259320" y="5067000"/>
            <a:ext cx="4338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8" idx="3"/>
            <a:endCxn id="102" idx="1"/>
          </p:cNvCxnSpPr>
          <p:nvPr/>
        </p:nvCxnSpPr>
        <p:spPr>
          <a:xfrm>
            <a:off x="6100920" y="2552400"/>
            <a:ext cx="522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4" idx="3"/>
            <a:endCxn id="106" idx="1"/>
          </p:cNvCxnSpPr>
          <p:nvPr/>
        </p:nvCxnSpPr>
        <p:spPr>
          <a:xfrm>
            <a:off x="4273200" y="5067000"/>
            <a:ext cx="523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5" idx="3"/>
            <a:endCxn id="104" idx="1"/>
          </p:cNvCxnSpPr>
          <p:nvPr/>
        </p:nvCxnSpPr>
        <p:spPr>
          <a:xfrm>
            <a:off x="2344680" y="5067000"/>
            <a:ext cx="4658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97" idx="3"/>
            <a:endCxn id="98" idx="1"/>
          </p:cNvCxnSpPr>
          <p:nvPr/>
        </p:nvCxnSpPr>
        <p:spPr>
          <a:xfrm>
            <a:off x="4138200" y="2552400"/>
            <a:ext cx="4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 flipV="1">
            <a:off x="3581280" y="3695040"/>
            <a:ext cx="1600200" cy="3049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4470-0ACB-4035-9B74-23F9F6CEB2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357280" y="4316400"/>
            <a:ext cx="1619280" cy="53964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нутренняя поли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57280" y="5479920"/>
            <a:ext cx="1619280" cy="5400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литика в области обучения и ро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57280" y="3181320"/>
            <a:ext cx="1619280" cy="539640"/>
          </a:xfrm>
          <a:prstGeom prst="rect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Ценность услуг для потреб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181320"/>
            <a:ext cx="1824120" cy="5396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алогоплательщики и законода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3181320"/>
            <a:ext cx="1828800" cy="539640"/>
          </a:xfrm>
          <a:prstGeom prst="rect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инансовые и социальные издерж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59080" y="2133720"/>
            <a:ext cx="1619280" cy="539640"/>
          </a:xfrm>
          <a:prstGeom prst="flowChartAlternateProcess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Главная цель развития го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5" idx="0"/>
            <a:endCxn id="114" idx="2"/>
          </p:cNvCxnSpPr>
          <p:nvPr/>
        </p:nvCxnSpPr>
        <p:spPr>
          <a:xfrm flipV="1">
            <a:off x="3166560" y="4865400"/>
            <a:ext cx="1080" cy="60552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4" idx="0"/>
            <a:endCxn id="116" idx="2"/>
          </p:cNvCxnSpPr>
          <p:nvPr/>
        </p:nvCxnSpPr>
        <p:spPr>
          <a:xfrm flipV="1">
            <a:off x="3166560" y="3729960"/>
            <a:ext cx="1080" cy="57708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6" idx="0"/>
            <a:endCxn id="119" idx="2"/>
          </p:cNvCxnSpPr>
          <p:nvPr/>
        </p:nvCxnSpPr>
        <p:spPr>
          <a:xfrm flipV="1">
            <a:off x="3166560" y="2682360"/>
            <a:ext cx="2520" cy="4896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4" idx="3"/>
            <a:endCxn id="117" idx="2"/>
          </p:cNvCxnSpPr>
          <p:nvPr/>
        </p:nvCxnSpPr>
        <p:spPr>
          <a:xfrm flipV="1">
            <a:off x="3985920" y="3729960"/>
            <a:ext cx="1042200" cy="856440"/>
          </a:xfrm>
          <a:prstGeom prst="bentConnector2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4" idx="1"/>
            <a:endCxn id="118" idx="2"/>
          </p:cNvCxnSpPr>
          <p:nvPr/>
        </p:nvCxnSpPr>
        <p:spPr>
          <a:xfrm rot="10800000">
            <a:off x="1294560" y="3729960"/>
            <a:ext cx="1053360" cy="856440"/>
          </a:xfrm>
          <a:prstGeom prst="bentConnector2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0"/>
            <a:endCxn id="119" idx="3"/>
          </p:cNvCxnSpPr>
          <p:nvPr/>
        </p:nvCxnSpPr>
        <p:spPr>
          <a:xfrm flipV="1" rot="16200000">
            <a:off x="4122720" y="2266920"/>
            <a:ext cx="769320" cy="1040760"/>
          </a:xfrm>
          <a:prstGeom prst="curvedConnector2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8" idx="0"/>
            <a:endCxn id="119" idx="1"/>
          </p:cNvCxnSpPr>
          <p:nvPr/>
        </p:nvCxnSpPr>
        <p:spPr>
          <a:xfrm flipH="1" flipV="1" rot="5400000">
            <a:off x="1437840" y="2260080"/>
            <a:ext cx="769320" cy="1054800"/>
          </a:xfrm>
          <a:prstGeom prst="curvedConnector2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04920" y="2286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Архитектура карты стратегии для некоммерческой организ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5880" y="544032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Знания и навыки сотрудников - это основа для всех инноваций и продвиж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4343400"/>
            <a:ext cx="26672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Квалифицированные, наделенные полномочиями сотрудники будут улучшать свою работ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2971800"/>
            <a:ext cx="266724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4,5. Улучшенные процессы приведут к росту удовлетворения потребителей, снижению издержек и росту поддержки со стороны финансовых доно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2057400"/>
            <a:ext cx="26672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Выполнение основных целей приведет к выполнению миссии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84DB-78DE-4219-AAB8-6154CF7111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4920" y="3049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Карта стратегии города Черепов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59440" y="1725480"/>
            <a:ext cx="914400" cy="1003320"/>
          </a:xfrm>
          <a:prstGeom prst="rect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Создание условий для гармоничного развития будущего покол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81240" y="1725480"/>
            <a:ext cx="863640" cy="1003320"/>
          </a:xfrm>
          <a:prstGeom prst="rect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Здоровый горо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29280" y="1725480"/>
            <a:ext cx="971640" cy="1003320"/>
          </a:xfrm>
          <a:prstGeom prst="rect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Создание условий для самореализации горожан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3143160"/>
            <a:ext cx="1619280" cy="828720"/>
          </a:xfrm>
          <a:prstGeom prst="rect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артнерство в финансировани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3143160"/>
            <a:ext cx="1619280" cy="828720"/>
          </a:xfrm>
          <a:prstGeom prst="rect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птимизация расходов бюджет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54920" y="1725480"/>
            <a:ext cx="914400" cy="10033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Обеспечение информации о деятельности ОМС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1360" y="4275000"/>
            <a:ext cx="1539720" cy="100332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Реструктуризация управл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95760" y="4275000"/>
            <a:ext cx="1590840" cy="100332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Развитие механизмов участия общества в управлении городо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77920" y="4275000"/>
            <a:ext cx="1656000" cy="100332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овышение эффективности использования земельно-имущественного комплекс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5715000"/>
            <a:ext cx="1752480" cy="83808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оздание условий для обеспечения кадрами ОМСУ и бюджетной сфер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5715000"/>
            <a:ext cx="1752840" cy="83808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омпетенций и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навыко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57480" y="1725480"/>
            <a:ext cx="863640" cy="1003320"/>
          </a:xfrm>
          <a:prstGeom prst="rect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Повышение качества услу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98880" y="1725480"/>
            <a:ext cx="934920" cy="1003320"/>
          </a:xfrm>
          <a:prstGeom prst="rect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Формирование кадрового потенциал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89600" y="1725480"/>
            <a:ext cx="914400" cy="1003320"/>
          </a:xfrm>
          <a:prstGeom prst="rect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Создание условий для развития бизнес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6080" y="1725480"/>
            <a:ext cx="863280" cy="1003320"/>
          </a:xfrm>
          <a:prstGeom prst="rect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Создание  условий для комфорт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прожива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35160" y="1725480"/>
            <a:ext cx="863640" cy="1003320"/>
          </a:xfrm>
          <a:prstGeom prst="rect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Создание условий для удовлетворения потребностей в жиль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4275000"/>
            <a:ext cx="1523880" cy="100332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Формирование и реализация  имиджевой политики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00600" y="5715000"/>
            <a:ext cx="1752480" cy="83808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Достижение высокого уровня мотиваци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5715000"/>
            <a:ext cx="1752480" cy="83808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Формирование культуры, ориентированной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на потребителя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инновации, улучш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9760" y="5416560"/>
            <a:ext cx="33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олитика в области обучения и рост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5600" y="3992400"/>
            <a:ext cx="196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нутренняя полити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9760" y="2840040"/>
            <a:ext cx="196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Финансовая полити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139392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отребительская полити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67240" y="1400040"/>
            <a:ext cx="359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олитика по отношению к финансовым донора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914400"/>
            <a:ext cx="85341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19600" y="4276800"/>
            <a:ext cx="1590480" cy="100332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овершенствование процессо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8012-9681-461A-88CB-326ED399C7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71600" y="1981080"/>
            <a:ext cx="60958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50840" y="2103480"/>
            <a:ext cx="81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тратег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14600" y="2031840"/>
            <a:ext cx="1171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тратегическ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15000" y="2100240"/>
            <a:ext cx="90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оказател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77080" y="2095560"/>
            <a:ext cx="136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Целевые знач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867280" y="19810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19810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52680" y="19810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371240" y="245124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058080" y="5029200"/>
            <a:ext cx="1066680" cy="762120"/>
            <a:chOff x="6058080" y="5029200"/>
            <a:chExt cx="1066680" cy="762120"/>
          </a:xfrm>
        </p:grpSpPr>
        <p:sp>
          <p:nvSpPr>
            <p:cNvPr id="170" name=""/>
            <p:cNvSpPr/>
            <p:nvPr/>
          </p:nvSpPr>
          <p:spPr>
            <a:xfrm>
              <a:off x="6058080" y="5029200"/>
              <a:ext cx="1066680" cy="762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62640" y="50292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43520" y="50292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6058080" y="5105520"/>
              <a:ext cx="10666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058080" y="3809880"/>
            <a:ext cx="1066680" cy="838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058080" y="4037760"/>
            <a:ext cx="1066680" cy="228600"/>
          </a:xfrm>
          <a:custGeom>
            <a:avLst/>
            <a:gdLst/>
            <a:ahLst/>
            <a:rect l="l" t="t" r="r" b="b"/>
            <a:pathLst>
              <a:path w="624" h="200">
                <a:moveTo>
                  <a:pt x="0" y="0"/>
                </a:moveTo>
                <a:cubicBezTo>
                  <a:pt x="36" y="56"/>
                  <a:pt x="72" y="112"/>
                  <a:pt x="144" y="144"/>
                </a:cubicBezTo>
                <a:cubicBezTo>
                  <a:pt x="216" y="176"/>
                  <a:pt x="352" y="184"/>
                  <a:pt x="432" y="192"/>
                </a:cubicBezTo>
                <a:cubicBezTo>
                  <a:pt x="512" y="200"/>
                  <a:pt x="568" y="196"/>
                  <a:pt x="624" y="192"/>
                </a:cubicBezTo>
              </a:path>
            </a:pathLst>
          </a:custGeom>
          <a:solidFill>
            <a:srgbClr val="b2b2b2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62640" y="3809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43880" y="3809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58080" y="2666880"/>
            <a:ext cx="106668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6264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438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064200" y="2949480"/>
            <a:ext cx="10666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52680" y="2691720"/>
            <a:ext cx="129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лучшение здоровья горож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52680" y="3764880"/>
            <a:ext cx="12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величение налоговых доходов бюдж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52680" y="4968000"/>
            <a:ext cx="12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влечение молодых квалифицированных кад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35812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52680" y="48006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10160" y="243756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жидаемая продолж-ность жизн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10160" y="297108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Количество заболеваний на душу насел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29718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8320" y="4191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10160" y="373320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Уровень доходов от малого бизнес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10160" y="4215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Уровень доходов от среднего бизнес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8320" y="5334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10160" y="479664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Количество сотрудников младше 30 ле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10160" y="5279400"/>
            <a:ext cx="1295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Оценки по итогам аттестации молодых сотруднико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2247840" y="875880"/>
            <a:ext cx="228600" cy="1981080"/>
          </a:xfrm>
          <a:custGeom>
            <a:avLst/>
            <a:gdLst>
              <a:gd name="textAreaLeft" fmla="*/ 0 w 228600"/>
              <a:gd name="textAreaRight" fmla="*/ 82440 w 22860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6200000">
            <a:off x="5295600" y="-190800"/>
            <a:ext cx="228600" cy="4114800"/>
          </a:xfrm>
          <a:custGeom>
            <a:avLst/>
            <a:gdLst>
              <a:gd name="textAreaLeft" fmla="*/ 0 w 228600"/>
              <a:gd name="textAreaRight" fmla="*/ 82440 w 22860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57440" y="1479600"/>
            <a:ext cx="140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арта страте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31440" y="1477800"/>
            <a:ext cx="25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истема целевых показ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22860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Связь карты стратегии и сбалансированных целевых показате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990720"/>
            <a:ext cx="8534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438200" y="2600280"/>
            <a:ext cx="1828800" cy="3200040"/>
            <a:chOff x="1438200" y="2600280"/>
            <a:chExt cx="1828800" cy="3200040"/>
          </a:xfrm>
        </p:grpSpPr>
        <p:sp>
          <p:nvSpPr>
            <p:cNvPr id="203" name=""/>
            <p:cNvSpPr/>
            <p:nvPr/>
          </p:nvSpPr>
          <p:spPr>
            <a:xfrm>
              <a:off x="2088360" y="4397760"/>
              <a:ext cx="532800" cy="44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088360" y="5355720"/>
              <a:ext cx="532800" cy="44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064960" y="3462840"/>
              <a:ext cx="578160" cy="44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66880" y="3462840"/>
              <a:ext cx="600120" cy="44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38200" y="3462840"/>
              <a:ext cx="601560" cy="44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89080" y="2600280"/>
              <a:ext cx="532800" cy="44424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9" name=""/>
            <p:cNvCxnSpPr>
              <a:stCxn id="204" idx="0"/>
              <a:endCxn id="203" idx="2"/>
            </p:cNvCxnSpPr>
            <p:nvPr/>
          </p:nvCxnSpPr>
          <p:spPr>
            <a:xfrm flipV="1">
              <a:off x="2354400" y="4841280"/>
              <a:ext cx="1080" cy="514440"/>
            </a:xfrm>
            <a:prstGeom prst="straightConnector1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>
              <a:stCxn id="203" idx="0"/>
              <a:endCxn id="205" idx="2"/>
            </p:cNvCxnSpPr>
            <p:nvPr/>
          </p:nvCxnSpPr>
          <p:spPr>
            <a:xfrm flipH="1" flipV="1">
              <a:off x="2353680" y="3907080"/>
              <a:ext cx="1080" cy="491040"/>
            </a:xfrm>
            <a:prstGeom prst="straightConnector1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1" name=""/>
            <p:cNvCxnSpPr>
              <a:stCxn id="205" idx="0"/>
              <a:endCxn id="208" idx="2"/>
            </p:cNvCxnSpPr>
            <p:nvPr/>
          </p:nvCxnSpPr>
          <p:spPr>
            <a:xfrm flipV="1">
              <a:off x="2354400" y="3044160"/>
              <a:ext cx="1440" cy="419040"/>
            </a:xfrm>
            <a:prstGeom prst="straightConnector1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2" name=""/>
            <p:cNvCxnSpPr>
              <a:stCxn id="203" idx="3"/>
              <a:endCxn id="206" idx="2"/>
            </p:cNvCxnSpPr>
            <p:nvPr/>
          </p:nvCxnSpPr>
          <p:spPr>
            <a:xfrm flipV="1">
              <a:off x="2621160" y="3907080"/>
              <a:ext cx="346320" cy="712800"/>
            </a:xfrm>
            <a:prstGeom prst="bentConnector2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3" name=""/>
            <p:cNvCxnSpPr>
              <a:stCxn id="203" idx="1"/>
              <a:endCxn id="207" idx="2"/>
            </p:cNvCxnSpPr>
            <p:nvPr/>
          </p:nvCxnSpPr>
          <p:spPr>
            <a:xfrm rot="10800000">
              <a:off x="1738080" y="3906720"/>
              <a:ext cx="349920" cy="712800"/>
            </a:xfrm>
            <a:prstGeom prst="bentConnector2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4" name=""/>
            <p:cNvCxnSpPr>
              <a:stCxn id="206" idx="0"/>
              <a:endCxn id="208" idx="3"/>
            </p:cNvCxnSpPr>
            <p:nvPr/>
          </p:nvCxnSpPr>
          <p:spPr>
            <a:xfrm flipV="1" rot="16200000">
              <a:off x="2473920" y="2968920"/>
              <a:ext cx="640800" cy="345960"/>
            </a:xfrm>
            <a:prstGeom prst="curvedConnector2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5" name=""/>
            <p:cNvCxnSpPr>
              <a:stCxn id="207" idx="0"/>
              <a:endCxn id="208" idx="1"/>
            </p:cNvCxnSpPr>
            <p:nvPr/>
          </p:nvCxnSpPr>
          <p:spPr>
            <a:xfrm flipH="1" flipV="1" rot="5400000">
              <a:off x="1593360" y="2966760"/>
              <a:ext cx="640800" cy="350640"/>
            </a:xfrm>
            <a:prstGeom prst="curvedConnector2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C9AA-CADE-40AA-8D5B-B0A51198A4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09:47:39Z</dcterms:created>
  <dc:creator>law</dc:creator>
  <dc:description/>
  <dc:language>en-US</dc:language>
  <cp:lastModifiedBy> отдел планирования</cp:lastModifiedBy>
  <dcterms:modified xsi:type="dcterms:W3CDTF">2004-10-19T19:08:14Z</dcterms:modified>
  <cp:revision>24</cp:revision>
  <dc:subject/>
  <dc:title>Связь стратегического планирования с  бюджетным процессом:  система сбалансированных целевых показателей</dc:title>
</cp:coreProperties>
</file>