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0640" y="215640"/>
            <a:ext cx="4221000" cy="82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215640"/>
            <a:ext cx="42210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453360"/>
            <a:ext cx="835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ГРУППА ПЛАНИРОВАНИЯ ПО РАЗРАБОТКЕ СТРАТЕГИЧЕСКОГО ПЛАНА РАЗВИТИЯ ГОРОДА ВОЛОГ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79280" y="6408720"/>
            <a:ext cx="432000" cy="33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11280" y="645336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610480" y="228600"/>
          <a:ext cx="38124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10480" y="228600"/>
                    <a:ext cx="3812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fb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9fb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9fb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fb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9fb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e9fb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fb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9fbff"/>
              </a:solidFill>
              <a:latin typeface="Verdana"/>
            </a:endParaRPr>
          </a:p>
          <a:p>
            <a:pPr lvl="3" marL="1752480" indent="-380880">
              <a:spcBef>
                <a:spcPts val="499"/>
              </a:spcBef>
              <a:buClr>
                <a:srgbClr val="e9fb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b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9fbff"/>
              </a:solidFill>
              <a:latin typeface="Verdana"/>
            </a:endParaRPr>
          </a:p>
          <a:p>
            <a:pPr lvl="4" marL="2209680" indent="-380880">
              <a:spcBef>
                <a:spcPts val="499"/>
              </a:spcBef>
              <a:buClr>
                <a:srgbClr val="e9fbff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b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9fbff"/>
              </a:solidFill>
              <a:latin typeface="Verdana"/>
            </a:endParaRPr>
          </a:p>
          <a:p>
            <a:pPr lvl="5" marL="2209680" indent="-3808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b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9fbff"/>
              </a:solidFill>
              <a:latin typeface="Verdana"/>
            </a:endParaRPr>
          </a:p>
          <a:p>
            <a:pPr lvl="6" marL="2209680" indent="-3808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b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9fb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ile-server/IS/photos.asp?LNG=RUS&amp;Page=photo&amp;Photo=128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file-server/IS/photos.asp?LNG=RUS&amp;Page=photo&amp;Photo=22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file-server/IS/photos.asp?LNG=RUS&amp;Page=photo&amp;Photo=20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file-server/IS/firmsph.asp?LNG=RUS&amp;Page=object&amp;sql=select%20*%20from%20%5BBI:%20PHOTOS%5D%20where%20%5BCODE%5D=194&amp;Firm=1" TargetMode="External"/><Relationship Id="rId9" Type="http://schemas.openxmlformats.org/officeDocument/2006/relationships/image" Target="../media/image7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771280" y="980640"/>
            <a:ext cx="6048360" cy="28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Стратегический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план развития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ahoma"/>
              </a:rPr>
              <a:t>города Вологды</a:t>
            </a:r>
            <a:endParaRPr b="0" lang="en-US" sz="3600" spc="-1" strike="noStrike">
              <a:solidFill>
                <a:srgbClr val="e9fbff"/>
              </a:solidFill>
              <a:latin typeface="Verdana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421000"/>
            <a:ext cx="1439640" cy="99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126828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71640" y="357336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71640" y="4724280"/>
            <a:ext cx="143964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445000"/>
            <a:ext cx="5616360" cy="216000"/>
          </a:xfrm>
          <a:prstGeom prst="rect">
            <a:avLst/>
          </a:prstGeom>
          <a:gradFill rotWithShape="0">
            <a:gsLst>
              <a:gs pos="0">
                <a:srgbClr val="142e20"/>
              </a:gs>
              <a:gs pos="50000">
                <a:srgbClr val="51645a"/>
              </a:gs>
              <a:gs pos="100000">
                <a:srgbClr val="142e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82800" bIns="82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10480" y="228600"/>
          <a:ext cx="381240" cy="30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610480" y="228600"/>
                    <a:ext cx="3812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0" y="1066680"/>
            <a:ext cx="38926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413000"/>
            <a:ext cx="822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Идеология варианта:</a:t>
            </a: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 создание таких условий для долгосрочного развития, чтобы бизнесу было выгодно приходить и вкладывать деньги именно на этой территории, реформирование и синхронизация городских процессов жизнедеятельности с учетом понимания и уважения взаимных интерес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440" y="152280"/>
            <a:ext cx="5935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82800" bIns="82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ариант 5. «Комфортная бизнес-зон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19720" y="685800"/>
            <a:ext cx="4465440" cy="56386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142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1840" y="18774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685800"/>
            <a:ext cx="40338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26-28 марта 2004 г. в Вологде состоялось проектное совещание «Вологда 2020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участниками совещания стали представители областных и городских властей, бизнеса, бюджетной сферы, культуры и нау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в результате совещания был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</a:rPr>
              <a:t>выбран вариант развития «Вологда - Комфортная бизнес-зона»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и подписан меморандум о необходимости реализации проекта «Стратегический план развития города Вологды» на основе интеграции ресурсов, совместных интересов и взаимной ответств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ыбор варианта разви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421000"/>
            <a:ext cx="4017960" cy="2114640"/>
          </a:xfrm>
          <a:custGeom>
            <a:avLst/>
            <a:gdLst/>
            <a:ahLst/>
            <a:rect l="l" t="t" r="r" b="b"/>
            <a:pathLst>
              <a:path w="3053" h="1818">
                <a:moveTo>
                  <a:pt x="1008" y="1818"/>
                </a:moveTo>
                <a:cubicBezTo>
                  <a:pt x="936" y="1725"/>
                  <a:pt x="681" y="1417"/>
                  <a:pt x="582" y="1254"/>
                </a:cubicBezTo>
                <a:cubicBezTo>
                  <a:pt x="483" y="1091"/>
                  <a:pt x="367" y="959"/>
                  <a:pt x="414" y="840"/>
                </a:cubicBezTo>
                <a:cubicBezTo>
                  <a:pt x="461" y="721"/>
                  <a:pt x="638" y="606"/>
                  <a:pt x="864" y="540"/>
                </a:cubicBezTo>
                <a:cubicBezTo>
                  <a:pt x="1090" y="474"/>
                  <a:pt x="1461" y="438"/>
                  <a:pt x="1770" y="444"/>
                </a:cubicBezTo>
                <a:cubicBezTo>
                  <a:pt x="2079" y="450"/>
                  <a:pt x="2508" y="496"/>
                  <a:pt x="2718" y="576"/>
                </a:cubicBezTo>
                <a:cubicBezTo>
                  <a:pt x="2928" y="656"/>
                  <a:pt x="3053" y="812"/>
                  <a:pt x="3030" y="924"/>
                </a:cubicBezTo>
                <a:cubicBezTo>
                  <a:pt x="3007" y="1036"/>
                  <a:pt x="2791" y="1174"/>
                  <a:pt x="2580" y="1248"/>
                </a:cubicBezTo>
                <a:cubicBezTo>
                  <a:pt x="2369" y="1322"/>
                  <a:pt x="2068" y="1407"/>
                  <a:pt x="1764" y="1368"/>
                </a:cubicBezTo>
                <a:cubicBezTo>
                  <a:pt x="1460" y="1329"/>
                  <a:pt x="1050" y="1242"/>
                  <a:pt x="756" y="1014"/>
                </a:cubicBezTo>
                <a:cubicBezTo>
                  <a:pt x="462" y="786"/>
                  <a:pt x="157" y="211"/>
                  <a:pt x="0" y="0"/>
                </a:cubicBezTo>
              </a:path>
            </a:pathLst>
          </a:custGeom>
          <a:noFill/>
          <a:ln w="7632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508640"/>
            <a:ext cx="2108520" cy="871560"/>
          </a:xfrm>
          <a:custGeom>
            <a:avLst/>
            <a:gdLst/>
            <a:ahLst/>
            <a:rect l="l" t="t" r="r" b="b"/>
            <a:pathLst>
              <a:path w="3053" h="1818">
                <a:moveTo>
                  <a:pt x="1008" y="1818"/>
                </a:moveTo>
                <a:cubicBezTo>
                  <a:pt x="936" y="1725"/>
                  <a:pt x="681" y="1417"/>
                  <a:pt x="582" y="1254"/>
                </a:cubicBezTo>
                <a:cubicBezTo>
                  <a:pt x="483" y="1091"/>
                  <a:pt x="367" y="959"/>
                  <a:pt x="414" y="840"/>
                </a:cubicBezTo>
                <a:cubicBezTo>
                  <a:pt x="461" y="721"/>
                  <a:pt x="638" y="606"/>
                  <a:pt x="864" y="540"/>
                </a:cubicBezTo>
                <a:cubicBezTo>
                  <a:pt x="1090" y="474"/>
                  <a:pt x="1461" y="438"/>
                  <a:pt x="1770" y="444"/>
                </a:cubicBezTo>
                <a:cubicBezTo>
                  <a:pt x="2079" y="450"/>
                  <a:pt x="2508" y="496"/>
                  <a:pt x="2718" y="576"/>
                </a:cubicBezTo>
                <a:cubicBezTo>
                  <a:pt x="2928" y="656"/>
                  <a:pt x="3053" y="812"/>
                  <a:pt x="3030" y="924"/>
                </a:cubicBezTo>
                <a:cubicBezTo>
                  <a:pt x="3007" y="1036"/>
                  <a:pt x="2791" y="1174"/>
                  <a:pt x="2580" y="1248"/>
                </a:cubicBezTo>
                <a:cubicBezTo>
                  <a:pt x="2369" y="1322"/>
                  <a:pt x="2068" y="1407"/>
                  <a:pt x="1764" y="1368"/>
                </a:cubicBezTo>
                <a:cubicBezTo>
                  <a:pt x="1460" y="1329"/>
                  <a:pt x="1050" y="1242"/>
                  <a:pt x="756" y="1014"/>
                </a:cubicBezTo>
                <a:cubicBezTo>
                  <a:pt x="462" y="786"/>
                  <a:pt x="157" y="211"/>
                  <a:pt x="0" y="0"/>
                </a:cubicBezTo>
              </a:path>
            </a:pathLst>
          </a:custGeom>
          <a:noFill/>
          <a:ln w="763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5334120"/>
            <a:ext cx="1008360" cy="334800"/>
          </a:xfrm>
          <a:custGeom>
            <a:avLst/>
            <a:gdLst/>
            <a:ahLst/>
            <a:rect l="l" t="t" r="r" b="b"/>
            <a:pathLst>
              <a:path w="3053" h="1818">
                <a:moveTo>
                  <a:pt x="1008" y="1818"/>
                </a:moveTo>
                <a:cubicBezTo>
                  <a:pt x="936" y="1725"/>
                  <a:pt x="681" y="1417"/>
                  <a:pt x="582" y="1254"/>
                </a:cubicBezTo>
                <a:cubicBezTo>
                  <a:pt x="483" y="1091"/>
                  <a:pt x="367" y="959"/>
                  <a:pt x="414" y="840"/>
                </a:cubicBezTo>
                <a:cubicBezTo>
                  <a:pt x="461" y="721"/>
                  <a:pt x="638" y="606"/>
                  <a:pt x="864" y="540"/>
                </a:cubicBezTo>
                <a:cubicBezTo>
                  <a:pt x="1090" y="474"/>
                  <a:pt x="1461" y="438"/>
                  <a:pt x="1770" y="444"/>
                </a:cubicBezTo>
                <a:cubicBezTo>
                  <a:pt x="2079" y="450"/>
                  <a:pt x="2508" y="496"/>
                  <a:pt x="2718" y="576"/>
                </a:cubicBezTo>
                <a:cubicBezTo>
                  <a:pt x="2928" y="656"/>
                  <a:pt x="3053" y="812"/>
                  <a:pt x="3030" y="924"/>
                </a:cubicBezTo>
                <a:cubicBezTo>
                  <a:pt x="3007" y="1036"/>
                  <a:pt x="2791" y="1174"/>
                  <a:pt x="2580" y="1248"/>
                </a:cubicBezTo>
                <a:cubicBezTo>
                  <a:pt x="2369" y="1322"/>
                  <a:pt x="2068" y="1407"/>
                  <a:pt x="1764" y="1368"/>
                </a:cubicBezTo>
                <a:cubicBezTo>
                  <a:pt x="1460" y="1329"/>
                  <a:pt x="1050" y="1242"/>
                  <a:pt x="756" y="1014"/>
                </a:cubicBezTo>
                <a:cubicBezTo>
                  <a:pt x="462" y="786"/>
                  <a:pt x="157" y="211"/>
                  <a:pt x="0" y="0"/>
                </a:cubicBezTo>
              </a:path>
            </a:pathLst>
          </a:custGeom>
          <a:noFill/>
          <a:ln w="76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520" y="5300640"/>
            <a:ext cx="155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руппа 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лан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440" y="4292640"/>
            <a:ext cx="1558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Группа </a:t>
            </a:r>
            <a:br>
              <a:rPr sz="1400"/>
            </a:b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эксперто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Группа </a:t>
            </a:r>
            <a:br>
              <a:rPr sz="1400"/>
            </a:b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план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1960" y="1700280"/>
            <a:ext cx="230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Tahoma"/>
              </a:rPr>
              <a:t>Группа эксперто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Tahoma"/>
              </a:rPr>
              <a:t>Группа планировани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419720" y="838080"/>
            <a:ext cx="4465440" cy="5399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142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8160" y="1143000"/>
            <a:ext cx="381636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- анализ ресурсного потенциала для реализации выбранного сценар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- экспертная моде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352680"/>
            <a:ext cx="2108160" cy="871560"/>
          </a:xfrm>
          <a:custGeom>
            <a:avLst/>
            <a:gdLst/>
            <a:ahLst/>
            <a:rect l="l" t="t" r="r" b="b"/>
            <a:pathLst>
              <a:path w="3053" h="1818">
                <a:moveTo>
                  <a:pt x="1008" y="1818"/>
                </a:moveTo>
                <a:cubicBezTo>
                  <a:pt x="936" y="1725"/>
                  <a:pt x="681" y="1417"/>
                  <a:pt x="582" y="1254"/>
                </a:cubicBezTo>
                <a:cubicBezTo>
                  <a:pt x="483" y="1091"/>
                  <a:pt x="367" y="959"/>
                  <a:pt x="414" y="840"/>
                </a:cubicBezTo>
                <a:cubicBezTo>
                  <a:pt x="461" y="721"/>
                  <a:pt x="638" y="606"/>
                  <a:pt x="864" y="540"/>
                </a:cubicBezTo>
                <a:cubicBezTo>
                  <a:pt x="1090" y="474"/>
                  <a:pt x="1461" y="438"/>
                  <a:pt x="1770" y="444"/>
                </a:cubicBezTo>
                <a:cubicBezTo>
                  <a:pt x="2079" y="450"/>
                  <a:pt x="2508" y="496"/>
                  <a:pt x="2718" y="576"/>
                </a:cubicBezTo>
                <a:cubicBezTo>
                  <a:pt x="2928" y="656"/>
                  <a:pt x="3053" y="812"/>
                  <a:pt x="3030" y="924"/>
                </a:cubicBezTo>
                <a:cubicBezTo>
                  <a:pt x="3007" y="1036"/>
                  <a:pt x="2791" y="1174"/>
                  <a:pt x="2580" y="1248"/>
                </a:cubicBezTo>
                <a:cubicBezTo>
                  <a:pt x="2369" y="1322"/>
                  <a:pt x="2068" y="1407"/>
                  <a:pt x="1764" y="1368"/>
                </a:cubicBezTo>
                <a:cubicBezTo>
                  <a:pt x="1460" y="1329"/>
                  <a:pt x="1050" y="1242"/>
                  <a:pt x="756" y="1014"/>
                </a:cubicBezTo>
                <a:cubicBezTo>
                  <a:pt x="462" y="786"/>
                  <a:pt x="157" y="211"/>
                  <a:pt x="0" y="0"/>
                </a:cubicBezTo>
              </a:path>
            </a:pathLst>
          </a:custGeom>
          <a:noFill/>
          <a:ln w="763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221000"/>
            <a:ext cx="1008360" cy="335160"/>
          </a:xfrm>
          <a:custGeom>
            <a:avLst/>
            <a:gdLst/>
            <a:ahLst/>
            <a:rect l="l" t="t" r="r" b="b"/>
            <a:pathLst>
              <a:path w="3053" h="1818">
                <a:moveTo>
                  <a:pt x="1008" y="1818"/>
                </a:moveTo>
                <a:cubicBezTo>
                  <a:pt x="936" y="1725"/>
                  <a:pt x="681" y="1417"/>
                  <a:pt x="582" y="1254"/>
                </a:cubicBezTo>
                <a:cubicBezTo>
                  <a:pt x="483" y="1091"/>
                  <a:pt x="367" y="959"/>
                  <a:pt x="414" y="840"/>
                </a:cubicBezTo>
                <a:cubicBezTo>
                  <a:pt x="461" y="721"/>
                  <a:pt x="638" y="606"/>
                  <a:pt x="864" y="540"/>
                </a:cubicBezTo>
                <a:cubicBezTo>
                  <a:pt x="1090" y="474"/>
                  <a:pt x="1461" y="438"/>
                  <a:pt x="1770" y="444"/>
                </a:cubicBezTo>
                <a:cubicBezTo>
                  <a:pt x="2079" y="450"/>
                  <a:pt x="2508" y="496"/>
                  <a:pt x="2718" y="576"/>
                </a:cubicBezTo>
                <a:cubicBezTo>
                  <a:pt x="2928" y="656"/>
                  <a:pt x="3053" y="812"/>
                  <a:pt x="3030" y="924"/>
                </a:cubicBezTo>
                <a:cubicBezTo>
                  <a:pt x="3007" y="1036"/>
                  <a:pt x="2791" y="1174"/>
                  <a:pt x="2580" y="1248"/>
                </a:cubicBezTo>
                <a:cubicBezTo>
                  <a:pt x="2369" y="1322"/>
                  <a:pt x="2068" y="1407"/>
                  <a:pt x="1764" y="1368"/>
                </a:cubicBezTo>
                <a:cubicBezTo>
                  <a:pt x="1460" y="1329"/>
                  <a:pt x="1050" y="1242"/>
                  <a:pt x="756" y="1014"/>
                </a:cubicBezTo>
                <a:cubicBezTo>
                  <a:pt x="462" y="786"/>
                  <a:pt x="157" y="211"/>
                  <a:pt x="0" y="0"/>
                </a:cubicBezTo>
              </a:path>
            </a:pathLst>
          </a:custGeom>
          <a:noFill/>
          <a:ln w="76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933720"/>
            <a:ext cx="152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ahoma"/>
              </a:rPr>
              <a:t>Группа 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Tahoma"/>
              </a:rPr>
              <a:t>план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5440" y="2637000"/>
            <a:ext cx="1558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Группа </a:t>
            </a:r>
            <a:br>
              <a:rPr sz="1400"/>
            </a:b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эксперто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Группа </a:t>
            </a:r>
            <a:br>
              <a:rPr sz="1400"/>
            </a:b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план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514600"/>
            <a:ext cx="7991280" cy="266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18800" bIns="118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смотрению подлежат только действительно важные вещи, мультиплицирующие и «сшивающие» проекты, которые в формате единой стратегии дадут ощутимые результаты и под которые найдутся финансовые, трудовые, административные и временные 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0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Идеальное состояние инфраструктур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052640"/>
            <a:ext cx="302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Идеальное состояние инфраструктур в контексте выбранного сцена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19720" y="838080"/>
            <a:ext cx="4465440" cy="5486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142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907920"/>
            <a:ext cx="396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</a:rPr>
              <a:t>. привязка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Стратегического плана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</a:rPr>
              <a:t>к текущей работе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городской администрации и, других участников социально-экономического развития города (частных предприятий, общественных групп и т.д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</a:rPr>
              <a:t>вовлечение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в процесс реализации Стратегического плана наибольшего числа заинтересованных лиц и организац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3.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</a:rPr>
              <a:t>организация системы контроля и мониторинга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реализации Стратегического плана – отслеживание соответствия результатов развития стратегическим приоритетам и мониторинг общей динамики социально-экономического развития го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000" y="901800"/>
            <a:ext cx="3933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Три основных вопроса,</a:t>
            </a:r>
            <a:br>
              <a:rPr sz="2200"/>
            </a:b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возникающих перед разработчиками механизмов реализации Стратегического пла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Что предстоит сдела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1557360"/>
            <a:ext cx="2857680" cy="1152360"/>
          </a:xfrm>
          <a:prstGeom prst="rect">
            <a:avLst/>
          </a:prstGeom>
          <a:gradFill rotWithShape="0">
            <a:gsLst>
              <a:gs pos="0">
                <a:srgbClr val="470317"/>
              </a:gs>
              <a:gs pos="50000">
                <a:srgbClr val="9c0832"/>
              </a:gs>
              <a:gs pos="100000">
                <a:srgbClr val="470317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атегический п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628640"/>
            <a:ext cx="2737080" cy="1152720"/>
          </a:xfrm>
          <a:prstGeom prst="rect">
            <a:avLst/>
          </a:prstGeom>
          <a:solidFill>
            <a:srgbClr val="0066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неральный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3573360"/>
            <a:ext cx="6553440" cy="1152720"/>
          </a:xfrm>
          <a:prstGeom prst="rect">
            <a:avLst/>
          </a:prstGeom>
          <a:solidFill>
            <a:srgbClr val="0066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циально-экономическ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205000"/>
            <a:ext cx="357120" cy="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2924280"/>
            <a:ext cx="3240" cy="34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2924280"/>
            <a:ext cx="2880" cy="34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3120"/>
            <a:ext cx="8520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ициация разработ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480" y="2349360"/>
            <a:ext cx="82296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18800" bIns="118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410480"/>
            <a:ext cx="8496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писание протокола между Правительством области, Администрацией города и ООО «Клуб делового общения» о намерениях по реализации проекта </a:t>
            </a:r>
            <a:r>
              <a:rPr b="1" lang="ru-RU" sz="2400" spc="-1" strike="noStrike">
                <a:solidFill>
                  <a:srgbClr val="006600"/>
                </a:solidFill>
                <a:latin typeface="Tahoma"/>
              </a:rPr>
              <a:t>«Стратегический план развития города Вологды»</a:t>
            </a: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5050"/>
                </a:solidFill>
                <a:latin typeface="Tahoma"/>
              </a:rPr>
              <a:t>проекта, основанного на принципах сбалансированности и уважения интересов каждого, интеграции ресурсов и установления системы партне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3645000"/>
            <a:ext cx="61214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18800" bIns="118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8774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Генезис города и архетип вологжани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285640"/>
            <a:ext cx="5867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Цель исследования: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понять, почему сегодня мы имеем именно такой 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город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, а не другой,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какие 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люди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 здесь живут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и насколько сопричастно 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общество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 способно двигаться в достижении поставленных целей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48520" y="2500200"/>
            <a:ext cx="2543040" cy="367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857160"/>
            <a:ext cx="8686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ahoma"/>
              </a:rPr>
              <a:t>Невозможно видение какой-либо перспективы безотносительно к «строительным материалам» прошл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62520" y="838080"/>
            <a:ext cx="4800600" cy="10670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142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907920"/>
            <a:ext cx="46339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Социально-культурная характеристика города и населения, основными тезисами которой стали утвержд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3112920" cy="4670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ртрет жителя и Портрет города глазами жител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490920"/>
            <a:ext cx="48006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солидарен не только в признании уникального культурно-исторического наследия, но и в желании жить в более благоустроенном и благополучном простран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5181480"/>
            <a:ext cx="4724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не воспримет революционных изменений, все изменения должны носить эволюционный харак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133720"/>
            <a:ext cx="49528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наш житель несмотря на существующие проблемы, не намерен уезжать из этого города и свое будущее связывает именно с Вологд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1219320"/>
            <a:ext cx="6934320" cy="11408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e7f0e7"/>
              </a:gs>
              <a:gs pos="100000">
                <a:srgbClr val="006600"/>
              </a:gs>
            </a:gsLst>
            <a:lin ang="5400000"/>
          </a:gradFill>
          <a:ln cap="sq"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Портрет жителя и Портрет города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4800600"/>
            <a:ext cx="5333760" cy="11408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e7f0e7"/>
              </a:gs>
              <a:gs pos="100000">
                <a:srgbClr val="006600"/>
              </a:gs>
            </a:gsLst>
            <a:lin ang="5400000"/>
          </a:gradFill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Инфраструктурный анализ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828800"/>
            <a:ext cx="533520" cy="1066680"/>
          </a:xfrm>
          <a:prstGeom prst="downArrow">
            <a:avLst>
              <a:gd name="adj1" fmla="val 50000"/>
              <a:gd name="adj2" fmla="val 49983"/>
            </a:avLst>
          </a:prstGeom>
          <a:gradFill rotWithShape="0">
            <a:gsLst>
              <a:gs pos="0">
                <a:srgbClr val="73aa73"/>
              </a:gs>
              <a:gs pos="100000">
                <a:srgbClr val="0066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82800" bIns="82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657600"/>
            <a:ext cx="533520" cy="1219320"/>
          </a:xfrm>
          <a:prstGeom prst="upArrow">
            <a:avLst>
              <a:gd name="adj1" fmla="val 50000"/>
              <a:gd name="adj2" fmla="val 78085"/>
            </a:avLst>
          </a:prstGeom>
          <a:gradFill rotWithShape="0">
            <a:gsLst>
              <a:gs pos="0">
                <a:srgbClr val="73aa73"/>
              </a:gs>
              <a:gs pos="100000">
                <a:srgbClr val="0066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82800" bIns="82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895480"/>
            <a:ext cx="6858000" cy="1384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e7f0e7"/>
              </a:gs>
              <a:gs pos="100000">
                <a:srgbClr val="006600"/>
              </a:gs>
            </a:gsLst>
            <a:lin ang="5400000"/>
          </a:gradFill>
          <a:ln cap="sq"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Варианты развития города</a:t>
            </a: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ариант 1. «Вологда -туристический лубок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Отреставрированы исторический центр, памятники архитектурного зод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Развита торгово-сервисная сеть (гостиниц, кафе, ресторанов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Работают парки развлечений, районы города обеспечены объектами культурно-бытовой сф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Открыты пешеходные з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Развивается организованная торговля художественными промысл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Традиционно проводятся фестивали,ярмарки, выстав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ариант 2. «Наращивание столичных функций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2880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Идеология варианта: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умножение количества государственных институтов, привлечение в город представительств различных фондов, ассоциаций, банковских и торговых компаний и т.п., за которыми «идут» большие день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ариант 3. «Вологда - индустриальный центр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4479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Роль ключевого элемента возлагается на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функционирование крупного производства, а также систему диверсифицированных производств, которая сглаживает межотраслевые колебания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0" y="1066680"/>
            <a:ext cx="38926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31400"/>
            <a:ext cx="8610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ариант 4. «Как есть, движение по инерции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066680"/>
            <a:ext cx="80769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Идеология варианта: </a:t>
            </a: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тказ от резких движений, стагнация системы управления городом.  На каждом уровне ожидание того, что большинство процессов пойдут сами собой.  Продолжение проблемно-ориентированных попыток освоения тех же самых небольших бюджетных дене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06:16:00Z</dcterms:created>
  <dc:creator>Аксеновский А.Г.</dc:creator>
  <dc:description/>
  <dc:language>en-US</dc:language>
  <cp:lastModifiedBy>Obuhova.EA</cp:lastModifiedBy>
  <cp:lastPrinted>2003-12-03T07:44:06Z</cp:lastPrinted>
  <dcterms:modified xsi:type="dcterms:W3CDTF">2004-10-15T10:38:36Z</dcterms:modified>
  <cp:revision>530</cp:revision>
  <dc:subject/>
  <dc:title>Презентация PowerPoint</dc:title>
</cp:coreProperties>
</file>