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74D-E168-47C5-84BF-3EA02311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B6D-1784-46B2-9FD1-46B448E8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0E6-4A0B-4781-9987-2CDBAB5E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5C2-F02C-45EB-B707-E203D371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84F1-FAFC-4A12-8505-CAA4E2FA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39CF-89B5-4799-99AC-569C0D8E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38F2-9723-4FC3-BDC6-3C9C6358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A082-0182-4CAF-B027-C396EB82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0E47-6D5F-4967-B1F0-C06AE710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EB99-65A7-420A-8CBD-B54E122B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D9B8-97D1-4297-AE8D-19B3F09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C69-AA0C-4462-A957-78828170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AA5E-DB8D-4AC3-B12F-EDAF689E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3C49-6540-433C-B7F4-7AD0F64B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FB18-D45D-4FDF-BCDB-21CE922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B8A0-8A9A-4AFB-903D-74BFCF28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E38B-4C58-47A5-8592-E468DCF5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9A2-FA87-4276-8045-15E1662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C46-1289-4282-8D92-1B7150E5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D78-418A-4931-8EF5-BDFE124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05E-23B9-4DE1-9A59-C4253C7C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FB7-7218-40CC-90D2-1397EDA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68A-B77C-457C-8998-5D08DEB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C81-292E-4485-95AD-5BD644AF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44B7-957F-4B93-88E7-53E714B1BD4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4D05-9C93-41F1-9D5E-8B4319002F8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Опыт внедрения программных методов в управлении региональными финансами: стратегический план и вопросы ежегодного финансирова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ищенко В.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Фонд реструктуризации предприят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901800"/>
            <a:ext cx="4152960" cy="5803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Совершенствование среднесрочного финансового планирования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16080" y="1839960"/>
            <a:ext cx="351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Определение общей суммы расходов осуществляется на следующий финансовый год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44920" y="1638360"/>
            <a:ext cx="469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spcBef>
                <a:spcPts val="125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Переход к многолетнему (среднесрочному) планированию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indent="380880">
              <a:spcBef>
                <a:spcPts val="125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Последовательная («скользящая») корректировка будущих периодов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4200" y="1023840"/>
            <a:ext cx="39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Существующий порядо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41760" y="1039680"/>
            <a:ext cx="44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Среднесрочное планировани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70240" y="1487520"/>
            <a:ext cx="0" cy="4959360"/>
          </a:xfrm>
          <a:prstGeom prst="line">
            <a:avLst/>
          </a:prstGeom>
          <a:ln cap="rnd" w="2844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381560" y="5540040"/>
            <a:ext cx="3838680" cy="11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46640" y="3579840"/>
            <a:ext cx="1800" cy="22255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73720" y="3630600"/>
            <a:ext cx="1800" cy="2222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65880" y="3646440"/>
            <a:ext cx="1800" cy="22258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9080" y="55548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92720" y="5554800"/>
            <a:ext cx="95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t+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21520" y="5554800"/>
            <a:ext cx="9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t+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96040" y="5568840"/>
            <a:ext cx="9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t+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35400" y="4960800"/>
            <a:ext cx="1020960" cy="441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78320" y="4317840"/>
            <a:ext cx="1020960" cy="428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84880" y="3648240"/>
            <a:ext cx="1020960" cy="42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65720" y="4967280"/>
            <a:ext cx="2021040" cy="398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план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83440" y="4313160"/>
            <a:ext cx="2020680" cy="398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план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84960" y="3643200"/>
            <a:ext cx="1638360" cy="398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план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23200" y="4505400"/>
            <a:ext cx="42696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736120" y="4061880"/>
            <a:ext cx="0" cy="44316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2840" y="2425680"/>
            <a:ext cx="649080" cy="144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55760" y="5549760"/>
            <a:ext cx="3838320" cy="129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20840" y="3579840"/>
            <a:ext cx="1440" cy="22366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7920" y="3630600"/>
            <a:ext cx="1440" cy="22352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40080" y="3648240"/>
            <a:ext cx="1440" cy="22366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3280" y="5565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66920" y="5565600"/>
            <a:ext cx="95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t+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95360" y="5565600"/>
            <a:ext cx="9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t+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0240" y="5578560"/>
            <a:ext cx="9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t+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" y="4951440"/>
            <a:ext cx="1020960" cy="476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39920" y="4575240"/>
            <a:ext cx="1020600" cy="476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59080" y="4135320"/>
            <a:ext cx="1020600" cy="474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55760" y="5037120"/>
            <a:ext cx="426960" cy="266400"/>
            <a:chOff x="1355760" y="5037120"/>
            <a:chExt cx="426960" cy="266400"/>
          </a:xfrm>
        </p:grpSpPr>
        <p:sp>
          <p:nvSpPr>
            <p:cNvPr id="320" name=""/>
            <p:cNvSpPr/>
            <p:nvPr/>
          </p:nvSpPr>
          <p:spPr>
            <a:xfrm>
              <a:off x="1355760" y="5303520"/>
              <a:ext cx="426960" cy="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768320" y="5037120"/>
              <a:ext cx="0" cy="2664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387520" y="4599000"/>
            <a:ext cx="426960" cy="313920"/>
            <a:chOff x="2387520" y="4599000"/>
            <a:chExt cx="426960" cy="313920"/>
          </a:xfrm>
        </p:grpSpPr>
        <p:sp>
          <p:nvSpPr>
            <p:cNvPr id="323" name=""/>
            <p:cNvSpPr/>
            <p:nvPr/>
          </p:nvSpPr>
          <p:spPr>
            <a:xfrm>
              <a:off x="2387520" y="4912920"/>
              <a:ext cx="426960" cy="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800080" y="4599000"/>
              <a:ext cx="0" cy="31392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871800" y="4268880"/>
            <a:ext cx="649440" cy="144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45440" y="5153040"/>
            <a:ext cx="42696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758000" y="4710240"/>
            <a:ext cx="0" cy="44280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ка ФЦП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Для удобства восприятия результатов анализа была использована цветовая индикация, позволяющая визуализировать результаты как в масштабах всего массива ФЦП, так и по каждой ФЦП в отдель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– дальнейшее продолжение программы нецелесообразно (исправление означает создание принципиально другой программы)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Желтый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программа требует существенной переделки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Tahoma"/>
              </a:rPr>
              <a:t>Зеленый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– программа нуждается в формальном приведении в соответстви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спределение оценок ФЦП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-177840" y="457200"/>
          <a:ext cx="9321840" cy="33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457200"/>
                    <a:ext cx="932184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1280" y="3581280"/>
            <a:ext cx="82296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 диаграмме представлено распределение ФЦП по интегральной оценке эксперто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– продолжение программы в существующем виде нецелесообразно (наличие красного в интегральной оценке ФЦП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5 программ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– программа требует существенной переделки (наличие желтого и отсутствие красного в интегральной оценке ФЦП) –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37 программ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Зеленый</a:t>
            </a:r>
            <a:r>
              <a:rPr b="0" lang="ru-RU" sz="2000" spc="-1" strike="noStrike">
                <a:solidFill>
                  <a:srgbClr val="ecd88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– программа требует формального приведения в соответствие (зеленая интегральная оценка ФЦП) –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2 программы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новные проблем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соответствие принципам программно-целевого планирования и управлен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«Лоскутность» и несистемность проблем, решаемых действующими ФЦП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ублирование ФЦП текущих функций существующих министерств и ведомств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соответствие задач, решаемых ФЦП, разграничению полномочий между уровнями бюджетной систем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определенность выгодополучателей ФЦП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эффективность механизмов софинансирован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сутствие обоснованных расчетов социально-экономической эффектив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новные проблемы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оответствие принципам программно-целевого планирования и управления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Достижение заявленных целей не приводит к решению поставленной проблемы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Цели не будут достигнуты при реализации программных мероприятий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Заявленные целевые индикаторы не соответствуют заявленным целям и проблеме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ъем ресурсов не соответствует масштабам решаемых проблем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новные проблемы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ублирование в ФЦП текущих функций существующих министерств и ведомст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обходимость ФЦП объясняется межведомтсвенным характером проблем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 госзаказчик ФЦП, и ведомства отчитываются одними и теми же успехами. Ответственность размы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новные проблемы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еханизмы привлечения и использования средств региональных бюджетов и внебюджетных средств не эффективн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 большинстве случаев планы «софинансирования» не выполняютс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 некоторых случаях федеральные бюджетные средства составляют не более 5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уществующая практика ни ФЦП, ни БОРа пока не позволяет реализовать преимущества программно-целевого метода в полном объеме, что препятствует реализации стратегических задач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США – примерно 50% госрасходов осуществляется по программно-целевому методу, во Франции – до 80%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рограммно-целевой метод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Решение поставленной проблемы тождественно достижению комплекса целей/подцелей, исчерпывающим образом описываемых целевыми индикаторами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Для достижения цели/подцелей необходима и достаточна реализация комплекса мероприятий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Для реализации мероприятий необходимы и достаточны организационные, финансовые и временные ресурс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04920" y="1454040"/>
            <a:ext cx="8573760" cy="1612800"/>
            <a:chOff x="304920" y="1454040"/>
            <a:chExt cx="8573760" cy="1612800"/>
          </a:xfrm>
        </p:grpSpPr>
        <p:cxnSp>
          <p:nvCxnSpPr>
            <p:cNvPr id="213" name="_s16465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6288480" y="722160"/>
              <a:ext cx="264240" cy="3650760"/>
            </a:xfrm>
            <a:prstGeom prst="bentConnector3">
              <a:avLst>
                <a:gd name="adj1" fmla="val 43246"/>
              </a:avLst>
            </a:prstGeom>
            <a:ln w="38160">
              <a:solidFill>
                <a:srgbClr val="40458c"/>
              </a:solidFill>
              <a:miter/>
            </a:ln>
          </p:spPr>
        </p:cxnSp>
        <p:cxnSp>
          <p:nvCxnSpPr>
            <p:cNvPr id="216" name="_s16463"/>
            <p:cNvCxnSpPr>
              <a:stCxn id="217" idx="0"/>
              <a:endCxn id="215" idx="2"/>
            </p:cNvCxnSpPr>
            <p:nvPr/>
          </p:nvCxnSpPr>
          <p:spPr>
            <a:xfrm flipV="1" rot="16200000">
              <a:off x="5556960" y="1453680"/>
              <a:ext cx="264240" cy="2187720"/>
            </a:xfrm>
            <a:prstGeom prst="bentConnector3">
              <a:avLst>
                <a:gd name="adj1" fmla="val 43246"/>
              </a:avLst>
            </a:prstGeom>
            <a:ln w="38160">
              <a:solidFill>
                <a:srgbClr val="40458c"/>
              </a:solidFill>
              <a:miter/>
            </a:ln>
          </p:spPr>
        </p:cxnSp>
        <p:cxnSp>
          <p:nvCxnSpPr>
            <p:cNvPr id="218" name="_s16446"/>
            <p:cNvCxnSpPr>
              <a:stCxn id="219" idx="0"/>
              <a:endCxn id="215" idx="2"/>
            </p:cNvCxnSpPr>
            <p:nvPr/>
          </p:nvCxnSpPr>
          <p:spPr>
            <a:xfrm flipV="1" rot="16200000">
              <a:off x="4826520" y="2184120"/>
              <a:ext cx="264240" cy="726840"/>
            </a:xfrm>
            <a:prstGeom prst="bentConnector3">
              <a:avLst>
                <a:gd name="adj1" fmla="val 43246"/>
              </a:avLst>
            </a:prstGeom>
            <a:ln w="38160">
              <a:solidFill>
                <a:srgbClr val="40458c"/>
              </a:solidFill>
              <a:miter/>
            </a:ln>
          </p:spPr>
        </p:cxnSp>
        <p:cxnSp>
          <p:nvCxnSpPr>
            <p:cNvPr id="220" name="_s16444"/>
            <p:cNvCxnSpPr>
              <a:stCxn id="221" idx="0"/>
              <a:endCxn id="215" idx="2"/>
            </p:cNvCxnSpPr>
            <p:nvPr/>
          </p:nvCxnSpPr>
          <p:spPr>
            <a:xfrm flipH="1" flipV="1" rot="5400000">
              <a:off x="4096800" y="2180880"/>
              <a:ext cx="264240" cy="733320"/>
            </a:xfrm>
            <a:prstGeom prst="bentConnector3">
              <a:avLst>
                <a:gd name="adj1" fmla="val 43246"/>
              </a:avLst>
            </a:prstGeom>
            <a:ln w="38160">
              <a:solidFill>
                <a:srgbClr val="40458c"/>
              </a:solidFill>
              <a:miter/>
            </a:ln>
          </p:spPr>
        </p:cxnSp>
        <p:cxnSp>
          <p:nvCxnSpPr>
            <p:cNvPr id="222" name="_s16406"/>
            <p:cNvCxnSpPr>
              <a:stCxn id="223" idx="0"/>
              <a:endCxn id="215" idx="2"/>
            </p:cNvCxnSpPr>
            <p:nvPr/>
          </p:nvCxnSpPr>
          <p:spPr>
            <a:xfrm flipH="1" flipV="1" rot="5400000">
              <a:off x="3365280" y="1449720"/>
              <a:ext cx="264240" cy="2196000"/>
            </a:xfrm>
            <a:prstGeom prst="bentConnector3">
              <a:avLst>
                <a:gd name="adj1" fmla="val 43246"/>
              </a:avLst>
            </a:prstGeom>
            <a:ln w="38160">
              <a:solidFill>
                <a:srgbClr val="40458c"/>
              </a:solidFill>
              <a:miter/>
            </a:ln>
          </p:spPr>
        </p:cxnSp>
        <p:cxnSp>
          <p:nvCxnSpPr>
            <p:cNvPr id="224" name="_s16404"/>
            <p:cNvCxnSpPr>
              <a:stCxn id="225" idx="0"/>
              <a:endCxn id="215" idx="2"/>
            </p:cNvCxnSpPr>
            <p:nvPr/>
          </p:nvCxnSpPr>
          <p:spPr>
            <a:xfrm flipH="1" flipV="1" rot="5400000">
              <a:off x="2635200" y="718920"/>
              <a:ext cx="264240" cy="3657240"/>
            </a:xfrm>
            <a:prstGeom prst="bentConnector3">
              <a:avLst>
                <a:gd name="adj1" fmla="val 43246"/>
              </a:avLst>
            </a:prstGeom>
            <a:ln w="38160">
              <a:solidFill>
                <a:srgbClr val="40458c"/>
              </a:solidFill>
              <a:miter/>
            </a:ln>
          </p:spPr>
        </p:cxnSp>
        <p:cxnSp>
          <p:nvCxnSpPr>
            <p:cNvPr id="226" name="_s16397"/>
            <p:cNvCxnSpPr>
              <a:stCxn id="215" idx="0"/>
              <a:endCxn id="227" idx="2"/>
            </p:cNvCxnSpPr>
            <p:nvPr/>
          </p:nvCxnSpPr>
          <p:spPr>
            <a:xfrm flipH="1" flipV="1" rot="5400000">
              <a:off x="4509000" y="1927440"/>
              <a:ext cx="175320" cy="21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40458c"/>
              </a:solidFill>
              <a:miter/>
            </a:ln>
          </p:spPr>
        </p:cxnSp>
        <p:sp>
          <p:nvSpPr>
            <p:cNvPr id="227" name="_s16392"/>
            <p:cNvSpPr/>
            <p:nvPr/>
          </p:nvSpPr>
          <p:spPr>
            <a:xfrm>
              <a:off x="4018680" y="1454040"/>
              <a:ext cx="1154160" cy="3729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458c"/>
                  </a:solidFill>
                  <a:latin typeface="Tahoma"/>
                </a:rPr>
                <a:t>Проблема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_s16394"/>
            <p:cNvSpPr/>
            <p:nvPr/>
          </p:nvSpPr>
          <p:spPr>
            <a:xfrm>
              <a:off x="1281960" y="2030400"/>
              <a:ext cx="6625800" cy="3711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Tahoma"/>
                </a:rPr>
                <a:t>Ц е л ь / п о д ц е л и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_s16403"/>
            <p:cNvSpPr/>
            <p:nvPr/>
          </p:nvSpPr>
          <p:spPr>
            <a:xfrm>
              <a:off x="304920" y="2693880"/>
              <a:ext cx="1269000" cy="3729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458c"/>
                  </a:solidFill>
                  <a:latin typeface="Tahoma"/>
                </a:rPr>
                <a:t>Мероприятия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_s16405"/>
            <p:cNvSpPr/>
            <p:nvPr/>
          </p:nvSpPr>
          <p:spPr>
            <a:xfrm>
              <a:off x="1765800" y="2693880"/>
              <a:ext cx="1269000" cy="3729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458c"/>
                  </a:solidFill>
                  <a:latin typeface="Tahoma"/>
                </a:rPr>
                <a:t>Мероприятия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39040" y="1527120"/>
              <a:ext cx="2016720" cy="27648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458c"/>
                  </a:solidFill>
                  <a:latin typeface="Tahoma"/>
                </a:rPr>
                <a:t>Целевые индикаторы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_s16443"/>
            <p:cNvSpPr/>
            <p:nvPr/>
          </p:nvSpPr>
          <p:spPr>
            <a:xfrm>
              <a:off x="3226680" y="2693880"/>
              <a:ext cx="1269000" cy="3729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458c"/>
                  </a:solidFill>
                  <a:latin typeface="Tahoma"/>
                </a:rPr>
                <a:t>Мероприятия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_s16445"/>
            <p:cNvSpPr/>
            <p:nvPr/>
          </p:nvSpPr>
          <p:spPr>
            <a:xfrm>
              <a:off x="4687560" y="2693880"/>
              <a:ext cx="1269000" cy="3729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458c"/>
                  </a:solidFill>
                  <a:latin typeface="Tahoma"/>
                </a:rPr>
                <a:t>Мероприятия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_s16462"/>
            <p:cNvSpPr/>
            <p:nvPr/>
          </p:nvSpPr>
          <p:spPr>
            <a:xfrm>
              <a:off x="6148800" y="2693880"/>
              <a:ext cx="1269000" cy="3729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458c"/>
                  </a:solidFill>
                  <a:latin typeface="Tahoma"/>
                </a:rPr>
                <a:t>Мероприятия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_s16464"/>
            <p:cNvSpPr/>
            <p:nvPr/>
          </p:nvSpPr>
          <p:spPr>
            <a:xfrm>
              <a:off x="7609680" y="2693880"/>
              <a:ext cx="1269000" cy="3729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458c"/>
                  </a:solidFill>
                  <a:latin typeface="Tahoma"/>
                </a:rPr>
                <a:t>Мероприятия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24120" y="3470400"/>
            <a:ext cx="4176720" cy="6116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Ресурсы 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(сроки, институциональные условия, финансы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3327480"/>
            <a:ext cx="72010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066680" y="3109680"/>
            <a:ext cx="0" cy="215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651040" y="3109680"/>
            <a:ext cx="0" cy="215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948120" y="3109680"/>
            <a:ext cx="0" cy="215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43400" y="3109680"/>
            <a:ext cx="0" cy="215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683400" y="3109680"/>
            <a:ext cx="0" cy="215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267760" y="3109680"/>
            <a:ext cx="0" cy="215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7400" y="3327120"/>
            <a:ext cx="0" cy="1429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51400" y="1527120"/>
            <a:ext cx="2016360" cy="2764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58c"/>
                </a:solidFill>
                <a:latin typeface="Tahoma"/>
              </a:rPr>
              <a:t>Целевые индикаторы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716120" y="181440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20120" y="181440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901800"/>
            <a:ext cx="4508640" cy="5803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64960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2120" y="1973160"/>
            <a:ext cx="875988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88080" y="2344680"/>
            <a:ext cx="38131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Отличия от существующей систем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212480"/>
            <a:ext cx="448776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Контроль за ресурсами 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</a:rPr>
              <a:t>(казначейское исполнение бюджета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978360" y="1176480"/>
            <a:ext cx="51656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008080"/>
                </a:solidFill>
                <a:latin typeface="Times New Roman"/>
              </a:rPr>
              <a:t>Контроль за результатами </a:t>
            </a:r>
            <a:r>
              <a:rPr b="1" lang="ru-RU" sz="2600" spc="-1" strike="noStrike">
                <a:solidFill>
                  <a:srgbClr val="40458c"/>
                </a:solidFill>
                <a:latin typeface="Times New Roman"/>
              </a:rPr>
              <a:t>(программно-целевое бюджетирование)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2862360"/>
            <a:ext cx="1218960" cy="664920"/>
          </a:xfrm>
          <a:prstGeom prst="rightArrow">
            <a:avLst>
              <a:gd name="adj1" fmla="val 50000"/>
              <a:gd name="adj2" fmla="val 45831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3048120"/>
            <a:ext cx="3863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80"/>
                </a:solidFill>
                <a:latin typeface="Times New Roman"/>
              </a:rPr>
              <a:t>Ключевые понятия</a:t>
            </a: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36520" indent="-236520" algn="ctr">
              <a:lnSpc>
                <a:spcPct val="100000"/>
              </a:lnSpc>
              <a:spcBef>
                <a:spcPts val="64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58c"/>
                </a:solidFill>
                <a:latin typeface="Times New Roman"/>
              </a:rPr>
              <a:t>целевое использование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36520" indent="-236520" algn="ctr">
              <a:lnSpc>
                <a:spcPct val="100000"/>
              </a:lnSpc>
              <a:spcBef>
                <a:spcPts val="64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58c"/>
                </a:solidFill>
                <a:latin typeface="Times New Roman"/>
              </a:rPr>
              <a:t>планирование «от достигнутого»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36520" indent="-236520" algn="ctr">
              <a:lnSpc>
                <a:spcPct val="100000"/>
              </a:lnSpc>
              <a:spcBef>
                <a:spcPts val="64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58c"/>
                </a:solidFill>
                <a:latin typeface="Times New Roman"/>
              </a:rPr>
              <a:t>низкая степень ответственности распорядителей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971800"/>
            <a:ext cx="386424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80"/>
                </a:solidFill>
                <a:latin typeface="Times New Roman"/>
              </a:rPr>
              <a:t>Ключевые поняти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46960" indent="-246960" algn="ctr">
              <a:lnSpc>
                <a:spcPct val="100000"/>
              </a:lnSpc>
              <a:spcBef>
                <a:spcPts val="64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58c"/>
                </a:solidFill>
                <a:latin typeface="Times New Roman"/>
              </a:rPr>
              <a:t>эффективное использование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46960" indent="-246960" algn="ctr">
              <a:lnSpc>
                <a:spcPct val="100000"/>
              </a:lnSpc>
              <a:spcBef>
                <a:spcPts val="64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58c"/>
                </a:solidFill>
                <a:latin typeface="Times New Roman"/>
              </a:rPr>
              <a:t>планирование результата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46960" indent="-246960" algn="ctr">
              <a:lnSpc>
                <a:spcPct val="100000"/>
              </a:lnSpc>
              <a:spcBef>
                <a:spcPts val="649"/>
              </a:spcBef>
              <a:buClr>
                <a:srgbClr val="6f89f7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58c"/>
                </a:solidFill>
                <a:latin typeface="Times New Roman"/>
              </a:rPr>
              <a:t>ответственность распорядителей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66"/>
                </a:solidFill>
                <a:latin typeface="Tahoma"/>
              </a:rPr>
              <a:t>Реализация программ в региональном управлении через призму бюджетной политики</a:t>
            </a:r>
            <a:endParaRPr b="0" lang="en-US" sz="3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Федеральные и региональные целевые програм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Фонд реформирования региональных финансов (2001-2004)/Фонд реформирования региональных и муниципальных финансов (2004-…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сперимент по внедрению методов бюджетного планирования, ориентированного на результат (федеральный уровень, 2004-2006, региональный уровень 2005-2006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1447920"/>
            <a:ext cx="9144000" cy="190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8080"/>
                </a:solidFill>
                <a:latin typeface="Tahoma"/>
              </a:rPr>
              <a:t>Программно-целевое бюджетировани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это система бюджетного планирования и исполнения, связывающая произведенные расходы с ожидаемой отдачей от этих расходов, с их социальной и экономической эффективность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635040" y="4681440"/>
            <a:ext cx="31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Results-oriented budge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960" y="3343320"/>
            <a:ext cx="29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erformance budge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33960" y="3371760"/>
            <a:ext cx="31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Программно-целевое бюджетировани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78600" y="4557600"/>
            <a:ext cx="314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Бюджетирование, ориентированное на результат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БОР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24360" y="4137120"/>
            <a:ext cx="6206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24360" y="4275000"/>
            <a:ext cx="6206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4400640"/>
            <a:ext cx="62100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933560" y="4189320"/>
            <a:ext cx="222120" cy="338040"/>
            <a:chOff x="1933560" y="4189320"/>
            <a:chExt cx="222120" cy="338040"/>
          </a:xfrm>
        </p:grpSpPr>
        <p:sp>
          <p:nvSpPr>
            <p:cNvPr id="264" name=""/>
            <p:cNvSpPr/>
            <p:nvPr/>
          </p:nvSpPr>
          <p:spPr>
            <a:xfrm>
              <a:off x="2039400" y="4189320"/>
              <a:ext cx="0" cy="338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33560" y="4189320"/>
              <a:ext cx="0" cy="338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55680" y="4189320"/>
              <a:ext cx="0" cy="338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461280" y="4178160"/>
            <a:ext cx="236520" cy="308160"/>
            <a:chOff x="6461280" y="4178160"/>
            <a:chExt cx="236520" cy="308160"/>
          </a:xfrm>
        </p:grpSpPr>
        <p:sp>
          <p:nvSpPr>
            <p:cNvPr id="268" name=""/>
            <p:cNvSpPr/>
            <p:nvPr/>
          </p:nvSpPr>
          <p:spPr>
            <a:xfrm>
              <a:off x="6573960" y="4178160"/>
              <a:ext cx="0" cy="308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1280" y="4178160"/>
              <a:ext cx="0" cy="308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97800" y="4178160"/>
              <a:ext cx="0" cy="308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 flipV="1">
            <a:off x="3422520" y="3592080"/>
            <a:ext cx="1638360" cy="180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467160" y="5052600"/>
            <a:ext cx="1638360" cy="180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БОР и программно-целевое бюджетировани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ая характеристика подходо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ФЦП – долгосрочные программы развития со средним периодом реализации не менее 5 ле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ФРРФ/ФРРМФ– «пилотная»/текущая среднесрочная программа, ориентированная на передовые сильные регионы с собственной мотивацией (срок 2 года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БОР – «пилотная» программа, с ориентацией на средние по размерам ведомства с обязательным участием в ежегодном режим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Формализация и адаптивность програм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62120" y="1905120"/>
          <a:ext cx="8001000" cy="4114800"/>
        </p:xfrm>
        <a:graphic>
          <a:graphicData uri="http://schemas.openxmlformats.org/drawingml/2006/table">
            <a:tbl>
              <a:tblPr/>
              <a:tblGrid>
                <a:gridCol w="2666880"/>
                <a:gridCol w="1960560"/>
                <a:gridCol w="1725480"/>
                <a:gridCol w="16480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Долгосрочность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8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Адаптивность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ФЦП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ФРРФ/ ФРРМФ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БОР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3886200" y="2666880"/>
            <a:ext cx="4419720" cy="228600"/>
          </a:xfrm>
          <a:prstGeom prst="rightArrow">
            <a:avLst>
              <a:gd name="adj1" fmla="val 50000"/>
              <a:gd name="adj2" fmla="val 483346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0400" y="3200400"/>
            <a:ext cx="152280" cy="2819520"/>
          </a:xfrm>
          <a:prstGeom prst="downArrow">
            <a:avLst>
              <a:gd name="adj1" fmla="val 50000"/>
              <a:gd name="adj2" fmla="val 462884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зличия в подхода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drawingml/2006/table">
            <a:tbl>
              <a:tblPr/>
              <a:tblGrid>
                <a:gridCol w="2057400"/>
                <a:gridCol w="2514600"/>
                <a:gridCol w="2209680"/>
                <a:gridCol w="2362320"/>
              </a:tblGrid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ФЦП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ФРРФ/ ФРРМФ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БОР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не формализован-ный отбор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5/8 регионов и 8 муниципали-тетов - конкурс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се фед. министерства, 3 пилот. регион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Сумма средств на участника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… </a:t>
                      </a: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миллиардов рублей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40/180 млн. рублей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5-30 млн. рублей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оличество показателей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Обобщенные показател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50/27, преиму-щественно качественны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01, количест-венны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Ответствен-ность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Не определена, возможно отсутствие денег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Отсутствие денег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Орг. выводы, отсутствие денег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ализация БОРа на федеральном уровн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водный доклад Правительства, увязывающий стратегические цели с показателями бюджетной политик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Доклады всех ведомств, включая некоторые внутренние подразд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9 федеральных ведомств участвуют в конкурсе, распределяя до 80% своих расходов по среднесрочным программам (МЭРТ, Минпромэнерго, Минсельхоз, Минтранспорта, Минкультуры и т.д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ланируемый эксперимент в 3 региона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3:59:27Z</dcterms:created>
  <dc:creator>Vladislav Onischenko</dc:creator>
  <dc:description/>
  <dc:language>en-US</dc:language>
  <cp:lastModifiedBy>Vladislav Onischenko</cp:lastModifiedBy>
  <dcterms:modified xsi:type="dcterms:W3CDTF">2004-10-20T09:45:51Z</dcterms:modified>
  <cp:revision>10</cp:revision>
  <dc:subject/>
  <dc:title>Системы стимулирования реформ в Российской Федерации: результаты сравнительного анализа на примере Фонда реформирования региональных финансов и эксперимента по внедрению бюджетирования, ориентированного на результат</dc:title>
</cp:coreProperties>
</file>