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DB7-5AE4-42B7-9BA0-51072064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C18-9B55-4746-85F6-C849151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EBB-6CE7-4319-A8BE-894229A5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F06-B59D-4573-AC24-21E5232D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D2E-8F16-475A-818D-27426507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035E-1DD0-4A73-91D5-3F306EB5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0E99-94B1-41F6-926B-15BFEAEE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1633-D9E3-4868-9517-40A410D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8400-0D9C-4E93-97E1-D1123BE4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AC18-C1A2-4B87-93D1-141897CE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A410-C7E8-4E3E-9FDA-8855921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656-24A9-417F-A2D9-5E1591C6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36F3-5F78-4134-97E6-7238D79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3B1B-C97D-45B2-85C8-649087E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C2F1-867A-4B4A-8A0B-2FA361C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B7CE-E81F-4783-AACA-9659D571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441F-7524-43DB-A161-012B9B72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59F-485F-44A9-B669-676C9522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D0E-8AB3-4ACD-9E16-2F663E55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422-C2EF-442B-9CC8-A485AC20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554-64D1-4A07-9ED8-6FACDC1D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582-C87F-4404-B0B3-1B3A265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C61-CE0F-41D3-8FBC-AD87F21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D2C-8BFF-426B-8749-2685B33D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156C-9E8C-402A-A408-CB0677DDEC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ECAF-02BE-45FD-99FD-BAB05BE7D4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guest1@rda.baltnet.ru" TargetMode="External"/><Relationship Id="rId2" Type="http://schemas.openxmlformats.org/officeDocument/2006/relationships/hyperlink" Target="mailto:sperotto@rda.baltnet.ru" TargetMode="External"/><Relationship Id="rId3" Type="http://schemas.openxmlformats.org/officeDocument/2006/relationships/hyperlink" Target="http://www.kaliningrad-rda.org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И. Пантелее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сперт проекта по региональному 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785988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одействие в рамках проекта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uropeAid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разработке Комплексного плана действий администрации области на 2005-2007 г.г. по реализации Стратегии социально – экономического развития Калининград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как региона сотру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на период до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20-21 октября 2004 г. , Санкт-Петербург, 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440" y="44280"/>
            <a:ext cx="9144000" cy="1368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68360" y="4724280"/>
            <a:ext cx="7993080" cy="1839960"/>
            <a:chOff x="468360" y="4724280"/>
            <a:chExt cx="7993080" cy="18399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68360" y="4724280"/>
              <a:ext cx="7993080" cy="18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7278840" y="4765680"/>
              <a:ext cx="509400" cy="61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Проблемы, возникающие при среднесрочном планирован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37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тсутствие четко выделенных ожидаемых результатов в планах действий структурных подразделений не позволяет ориентировать текущую деятельность администрации на достижение сформулированных ц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37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е все участники стратегического планирования в структурных подразделениях администрации заинтересованы в  формировании системы индикативных показателей достижения целей, так как это может стать инструментом оценки результатов их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37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тсутствие системного,  логико-структурного   подхода при формировании «дерева целей»,  слабое соответствие целей, мероприятий и показателей достижения ожидаем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37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и формировании бюджета господствует практика распределения ресурсов бюджета вне связи  с достигаемыми результ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37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рассогласование целей, ожидаемых результатов при взаимодействии со стейкхолд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37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тсутствует постоянно действующий механизм взаимодействия среднесрочного планирования с представителями муниципали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37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рганизация лоббирования ведомственных интересов (сельское –хозяй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озможности институализации среднесрочного планирования  на уровне рег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законодательное обеспечение системы индикативного планирования, в том числе, с учетом  целевых установок ежегодного бюджетного послания губернатора к областному парламе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формирование организационно-управленческого механ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реализации КП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содействие переходу формирования расходных статей бюджета от затратного к программно-целевому (проектному) под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создание регионального Совета стратегическому  партнерству по реализации Стратегии, программ, индикативных пл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создание  Совета по стратегическому партнерству  и территориальному развитию муниципальных образований ( в рамках Ассоциации муниципальных образова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36006 Калининград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л.Геологическая 1, каб. 404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./ факс +7 0112 53 61 20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+7 0112 43 62 75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guest1@rda.baltnet.ru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sperotto@rda.baltnet.ru</a:t>
            </a:r>
            <a:br>
              <a:rPr sz="3000"/>
            </a:br>
            <a:r>
              <a:rPr b="0" lang="en-US" sz="3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www.kaliningrad-rda.org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8440" y="15840"/>
            <a:ext cx="914400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468360" y="4724280"/>
            <a:ext cx="7993080" cy="1839960"/>
            <a:chOff x="468360" y="4724280"/>
            <a:chExt cx="7993080" cy="1839960"/>
          </a:xfrm>
        </p:grpSpPr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468360" y="4724280"/>
              <a:ext cx="7993080" cy="18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7278840" y="4765680"/>
              <a:ext cx="509400" cy="61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Проект «Поддержка развития Калининградской области»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uropeAid /114287/C/SV/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920" y="198900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ограмма сотрудничества ЕС и России (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ac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оект финансируется 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оект реализуется консорциумом 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артнер проекта «Агентство регионального экономического развития (Калининград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cc"/>
                </a:solidFill>
                <a:latin typeface="Arial"/>
              </a:rPr>
              <a:t>Реализуется консорциумом </a:t>
            </a:r>
            <a:br>
              <a:rPr sz="3800"/>
            </a:b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INNO/Tebodin/</a:t>
            </a:r>
            <a:br>
              <a:rPr sz="3800"/>
            </a:b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KPMG Economic Consulting/</a:t>
            </a:r>
            <a:br>
              <a:rPr sz="3800"/>
            </a:b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Leontief Centre Consorti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оек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Улучшение темпов экономического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развития Калининград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Конкретные задачи проекта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Содействие в выработке региональной политики экономического развития области и усовершенствование правовой и регулятивной основы экономической деятельности в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Развитие торговли со странами ЕС и привлечение инвестиций в регион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Расширение возможностей АРР в области решения указанных задач после заверше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Экспертами проекта организуются</a:t>
            </a:r>
            <a:br>
              <a:rPr sz="3300"/>
            </a:b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 и проводятся мероприятия </a:t>
            </a:r>
            <a:br>
              <a:rPr sz="3300"/>
            </a:b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приоритетным направлениям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40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одействие в реализации Стратегии развития Калининградской области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Рекомендации по «Концепции федеральной политики по отношению к Калининград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одействие в составлении программы развития Калининградской области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Развитие торговли и привлечение инвестиций в регион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Расширение возможностей АРР для решения указанных задач после завершения проекта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92280"/>
            <a:ext cx="395280" cy="1728720"/>
          </a:xfrm>
          <a:custGeom>
            <a:avLst/>
            <a:gdLst>
              <a:gd name="textAreaLeft" fmla="*/ 252720 w 395280"/>
              <a:gd name="textAreaRight" fmla="*/ 395640 w 395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Приоритетные темы консультативных исследо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Подготовлены  экономические бюллетени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«Перспективы внешнеторгового режима Калининградской област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«Поддержка экспорта в Калининградской области»: анализ ситуации и инструменты политики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«Иностранные инвестиции в Калининградской области: состояние и меры поддержки»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Региональная политика в приграничных районах Польши и Литвы: цели, механизмы и возможности использования их опыта в Калининградской област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«Конкурентоспособность калининградских компаний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Подготовлен и находится в печати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Годовой экономический обзор за 2003 год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 включающий также и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Годовой отчет АРР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Подготовлен предварительный вариант двуязычной версии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Дайджест, Буклет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 “Стратегии социально-экономического развития Калининградской области как региона партнерства, до 2010 год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ru-RU" sz="2100" spc="-1" strike="noStrike">
                <a:solidFill>
                  <a:srgbClr val="3333cc"/>
                </a:solidFill>
                <a:latin typeface="Arial"/>
              </a:rPr>
              <a:t>В рамках содействия разработке Комплексного плана действий администрации на 2005-2007г.г. по реализации Стратегии развития региона экспертами проекта </a:t>
            </a:r>
            <a:br>
              <a:rPr sz="2100"/>
            </a:br>
            <a:r>
              <a:rPr b="0" lang="ru-RU" sz="2100" spc="-1" strike="noStrike">
                <a:solidFill>
                  <a:srgbClr val="3333cc"/>
                </a:solidFill>
                <a:latin typeface="Arial"/>
              </a:rPr>
              <a:t>совместно с ГУЭРиТ администрации области были подготовлены и проведе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2708280"/>
            <a:ext cx="8785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Семинар по приоритетам регионального экономического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2 октября 2003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Семинар «От Стратегии к плану действий» 27  января 200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Депутатские слушания «От Стратегии к плану действий» 2 марта 200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Обучающий семинар для сотрудников администрации области по формированию индикаторов достижения цели 8-9 июня 200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Семинар со стейкхолдерами по согласованию приоритетов и показателей достижения целей 22-23 июня 200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Международная конференция «Стратегия развития Калининградской области: приоритеты реализации и задачи обновления» 17 сентября 200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Рабочая встреча с представителями органов власти  Поморского и Варминско-Мазурского воеводств Польши, предмет ведения которых стратегическое планирование 18 сентября 200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Содействие в разработке исходного варианта Комплексного плана действий администрации области на 2005-2007г.г. по реализации Стратегии  </a:t>
            </a:r>
            <a:br>
              <a:rPr sz="2500"/>
            </a:b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развития регион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3333cc"/>
                </a:solidFill>
                <a:latin typeface="Arial"/>
              </a:rPr>
              <a:t>Эксперты проекта участвовали в подготовке материалов  и проведении</a:t>
            </a:r>
            <a:r>
              <a:rPr b="0" lang="ru-RU" sz="27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3333cc"/>
                </a:solidFill>
                <a:latin typeface="Arial"/>
              </a:rPr>
              <a:t>заседаний Комиссии по разработке КПДА -</a:t>
            </a:r>
            <a:r>
              <a:rPr b="0" lang="ru-RU" sz="2300" spc="-1" strike="noStrike">
                <a:solidFill>
                  <a:srgbClr val="3333cc"/>
                </a:solidFill>
                <a:latin typeface="Arial"/>
              </a:rPr>
              <a:t>26 января и 14 мая 2004 го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cc"/>
                </a:solidFill>
                <a:latin typeface="Arial"/>
              </a:rPr>
              <a:t>заседаний рабочих групп (31) </a:t>
            </a:r>
            <a:r>
              <a:rPr b="0" lang="ru-RU" sz="2300" spc="-1" strike="noStrike">
                <a:solidFill>
                  <a:srgbClr val="3333cc"/>
                </a:solidFill>
                <a:latin typeface="Arial"/>
              </a:rPr>
              <a:t> февраля  -  май 2004 го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cc"/>
                </a:solidFill>
                <a:latin typeface="Arial"/>
              </a:rPr>
              <a:t>заседаний тематических комиссий с участием стейкхолдеров  </a:t>
            </a:r>
            <a:r>
              <a:rPr b="0" lang="ru-RU" sz="2300" spc="-1" strike="noStrike">
                <a:solidFill>
                  <a:srgbClr val="3333cc"/>
                </a:solidFill>
                <a:latin typeface="Arial"/>
              </a:rPr>
              <a:t>март-апрель 2005 го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одействие Комиссии по среднесрочному стратегическому планировани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кспертами проекта  совместно с ГУЭРиТ осуществлялась подготовка: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аучно –методических рекомендаций по деятельности рабочи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переработка и адаптация «стандартного формата» и таблицы планов действий структурных подразделений администрации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труктура КПДА и основные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огико-структурная схема КПДА с показателями достижения приоритет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Декларация и положение для учреждения Совета по стратегическому партнерс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8:38:23Z</dcterms:created>
  <dc:creator>XXX</dc:creator>
  <dc:description/>
  <dc:language>en-US</dc:language>
  <cp:lastModifiedBy>XXX</cp:lastModifiedBy>
  <dcterms:modified xsi:type="dcterms:W3CDTF">2004-10-17T17:35:59Z</dcterms:modified>
  <cp:revision>22</cp:revision>
  <dc:subject/>
  <dc:title>Проект «Поддержка развития Калининградской области» EuropeAid /114287/C/SV/RU</dc:title>
</cp:coreProperties>
</file>