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C35-6B68-4E1E-93EE-8F01B932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FA9-ADC6-479D-AE8C-202B2AA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FAE-ECA6-4C8F-A1DA-BA95964B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2A5-CDCC-47DA-AD87-EFBF5AD9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CBD-9187-401E-B82E-8F86D0F6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D4A-D7F7-428B-BEAA-D8E63CE6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DAE-EBEB-4C97-AF08-BC505678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AD3-771D-487D-A43E-93DB1AF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E43-4982-410F-9702-F98D883B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ED8-82D1-4326-AF45-B34C76D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3F2-F42A-4DBF-B92F-3D66BCBD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105-45F2-429C-99BE-6556072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48CF-2EA1-477B-B9A5-7FF769285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990720"/>
            <a:ext cx="8763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ТРАТЕГИЧЕСКОЕ ПЛАН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ГОРОДАХ И РЕГИОНАХ РОСС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НОВОМ ВИТКЕ РЕФОР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ЧАСТНО-ОБЩЕСТВЕННЫЕ ПРОЕК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 САНКТ - ПЕТЕРБУРГ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0" y="6583320"/>
            <a:ext cx="26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Symbol"/>
                <a:ea typeface="Symbol"/>
              </a:rPr>
              <a:t>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МЦСЭИ «Леонтьевский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центр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вершение строительства Ю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падных очистных сооружений (ЮЗО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572" t="37525" r="84557" b="20128"/>
          <a:stretch/>
        </p:blipFill>
        <p:spPr>
          <a:xfrm>
            <a:off x="228600" y="1143000"/>
            <a:ext cx="200016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066680"/>
            <a:ext cx="6553080" cy="5339520"/>
          </a:xfrm>
          <a:prstGeom prst="rect">
            <a:avLst/>
          </a:prstGeom>
          <a:solidFill>
            <a:srgbClr val="0066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Penta"/>
              </a:rPr>
              <a:t>Цели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Pen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ent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е сброса неочищенных сточных вод на 330 тыс.куб. метров в сут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е сброса загрязняющих веществ в Финский зали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учшение экологической обстановки в акватории Финского зали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Penta"/>
                <a:ea typeface="Times New Roman"/>
              </a:rPr>
              <a:t>возможность жилищного строительства в юго-западной и центральной частях Санкт-Петербурга.</a:t>
            </a:r>
            <a:r>
              <a:rPr b="1" lang="ru-RU" sz="2800" spc="-1" strike="noStrike">
                <a:solidFill>
                  <a:srgbClr val="ffffff"/>
                </a:solidFill>
                <a:latin typeface="Pent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вершение строительства Ю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падных очистных сооружений (ЮЗО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572" t="37525" r="84557" b="20128"/>
          <a:stretch/>
        </p:blipFill>
        <p:spPr>
          <a:xfrm>
            <a:off x="228600" y="1143000"/>
            <a:ext cx="200016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1523880"/>
            <a:ext cx="6553080" cy="3810960"/>
          </a:xfrm>
          <a:prstGeom prst="rect">
            <a:avLst/>
          </a:prstGeom>
          <a:solidFill>
            <a:srgbClr val="0066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Penta"/>
                <a:ea typeface="Times New Roman"/>
              </a:rPr>
              <a:t>Сроки реализации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2-2016 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: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ительство ЮЗОС - 2002-2005 г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куп ЮЗОС в собственность Санкт-Петербурга - 2005-2016 год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вершение строительства Ю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падных очистных сооружений (ЮЗО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572" t="37525" r="84557" b="20128"/>
          <a:stretch/>
        </p:blipFill>
        <p:spPr>
          <a:xfrm>
            <a:off x="228600" y="1143000"/>
            <a:ext cx="200016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295280"/>
            <a:ext cx="6553080" cy="4018680"/>
          </a:xfrm>
          <a:prstGeom prst="rect">
            <a:avLst/>
          </a:prstGeom>
          <a:solidFill>
            <a:srgbClr val="0066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Penta"/>
                <a:ea typeface="Times New Roman"/>
              </a:rPr>
              <a:t>С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тоимость проект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м финансирования в период строительств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9,7 млн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ем финансирования по выкупу ЮЗОС в собственность Санкт-Петербург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9,0 млн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том числе выплата процентов и дивидендов – 132,2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н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вершение строительства Ю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падных очистных сооружений (ЮЗО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41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kanalbas" descr="Схема канализации Санкт-Петербурга"/>
          <p:cNvPicPr/>
          <p:nvPr/>
        </p:nvPicPr>
        <p:blipFill>
          <a:blip r:embed="rId2"/>
          <a:stretch/>
        </p:blipFill>
        <p:spPr>
          <a:xfrm>
            <a:off x="1981080" y="914400"/>
            <a:ext cx="5099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вершение строительства Ю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падных очистных сооружений (ЮЗО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572" t="37525" r="84557" b="20128"/>
          <a:stretch/>
        </p:blipFill>
        <p:spPr>
          <a:xfrm>
            <a:off x="228600" y="1143000"/>
            <a:ext cx="2000160" cy="4343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990720"/>
            <a:ext cx="6553080" cy="5705280"/>
          </a:xfrm>
          <a:prstGeom prst="rect">
            <a:avLst/>
          </a:prstGeom>
          <a:solidFill>
            <a:srgbClr val="0066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Penta"/>
              </a:rPr>
              <a:t>Заказчик строительства:</a:t>
            </a:r>
            <a:r>
              <a:rPr b="1" lang="en-US" sz="2400" spc="-1" strike="noStrike">
                <a:solidFill>
                  <a:srgbClr val="ffffff"/>
                </a:solidFill>
                <a:latin typeface="Pent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ОО “Нордво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Penta"/>
              </a:rPr>
              <a:t>Генеральный подрядчик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ЮЗОС Констракшн Ою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ffff99"/>
                </a:solidFill>
                <a:latin typeface="Penta"/>
                <a:ea typeface="Times New Roman"/>
              </a:rPr>
              <a:t>оордин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атор </a:t>
            </a:r>
            <a:r>
              <a:rPr b="1" lang="ru-RU" sz="3600" spc="-1" strike="noStrike">
                <a:solidFill>
                  <a:srgbClr val="ffff99"/>
                </a:solidFill>
                <a:latin typeface="Penta"/>
                <a:ea typeface="Times New Roman"/>
              </a:rPr>
              <a:t>работ по строительству</a:t>
            </a:r>
            <a:r>
              <a:rPr b="1" lang="ru-RU" sz="3600" spc="-1" strike="noStrike">
                <a:solidFill>
                  <a:srgbClr val="ffff99"/>
                </a:solidFill>
                <a:latin typeface="Pent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УП «Водоканал» Санкт-Петербур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К</a:t>
            </a:r>
            <a:r>
              <a:rPr b="1" lang="ru-RU" sz="3600" spc="-1" strike="noStrike">
                <a:solidFill>
                  <a:srgbClr val="ffff99"/>
                </a:solidFill>
                <a:latin typeface="Penta"/>
                <a:ea typeface="Times New Roman"/>
              </a:rPr>
              <a:t>оордин</a:t>
            </a:r>
            <a:r>
              <a:rPr b="1" lang="ru-RU" sz="3600" spc="-1" strike="noStrike">
                <a:solidFill>
                  <a:srgbClr val="ffff99"/>
                </a:solidFill>
                <a:latin typeface="Times New Roman"/>
              </a:rPr>
              <a:t>атор финансирования проекта</a:t>
            </a:r>
            <a:r>
              <a:rPr b="1" lang="ru-RU" sz="3600" spc="-1" strike="noStrike">
                <a:solidFill>
                  <a:srgbClr val="ffff99"/>
                </a:solidFill>
                <a:latin typeface="Pent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Penta"/>
                <a:ea typeface="Times New Roman"/>
              </a:rPr>
              <a:t>Северный инвестиционный банк</a:t>
            </a:r>
            <a:r>
              <a:rPr b="1" lang="ru-RU" sz="2800" spc="-1" strike="noStrike">
                <a:solidFill>
                  <a:srgbClr val="ffffff"/>
                </a:solidFill>
                <a:latin typeface="Pent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вершение строительства Юг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Западных очистных сооружений (ЮЗОС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572" t="37525" r="84557" b="20128"/>
          <a:stretch/>
        </p:blipFill>
        <p:spPr>
          <a:xfrm>
            <a:off x="228600" y="1143000"/>
            <a:ext cx="2000160" cy="434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914400"/>
            <a:ext cx="6553080" cy="5958720"/>
          </a:xfrm>
          <a:prstGeom prst="rect">
            <a:avLst/>
          </a:prstGeom>
          <a:solidFill>
            <a:srgbClr val="0066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Penta"/>
              </a:rPr>
              <a:t>Основные инвесторы:</a:t>
            </a:r>
            <a:r>
              <a:rPr b="1" lang="en-US" sz="2400" spc="-1" strike="noStrike">
                <a:solidFill>
                  <a:srgbClr val="ffffff"/>
                </a:solidFill>
                <a:latin typeface="Pent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</a:t>
            </a: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Северный инвестиционный банк — главный координатор работы (СИБ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Европейский инвестиционный банк (ЕИБ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Европейский банк реконструкции и развития (ЕБР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Финский фонд промышленного сотрудничества (Финнфан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Шведфанд Интернешнл АБ (Шведфан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Северная экологическая финансовая корпорация (НЕФКО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Министерство окружающей среды Финляндии (МОСФ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Шведское агентство содействия международному развитию (СИД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Экологическое партнерство Северного измерения (НДЭП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Привлечение частных инвестиций в городской автобусный транспор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447920"/>
            <a:ext cx="8229600" cy="4316400"/>
          </a:xfrm>
          <a:prstGeom prst="rect">
            <a:avLst/>
          </a:prstGeom>
          <a:solidFill>
            <a:srgbClr val="0066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Penta"/>
              </a:rPr>
              <a:t>Партнеры:</a:t>
            </a:r>
            <a:r>
              <a:rPr b="1" lang="en-US" sz="2400" spc="-1" strike="noStrike">
                <a:solidFill>
                  <a:srgbClr val="ffffff"/>
                </a:solidFill>
                <a:latin typeface="Pent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ОО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Скания-Пите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ГУП "Пассажиравтотранс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·Комитет по транспорт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c8dd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07800"/>
            <a:ext cx="8458200" cy="58140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ектирование и с</a:t>
            </a:r>
            <a:r>
              <a:rPr b="1" lang="en-US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троительст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Penta"/>
                <a:ea typeface="Times New Roman"/>
              </a:rPr>
              <a:t> Западного скоростного диаметр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7632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8610480" y="6324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9080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72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0440" y="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3cover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10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10:00:59Z</dcterms:created>
  <dc:creator>Sharov Vladimir</dc:creator>
  <dc:description/>
  <dc:language>en-US</dc:language>
  <cp:lastModifiedBy>Русецкий ВВ</cp:lastModifiedBy>
  <dcterms:modified xsi:type="dcterms:W3CDTF">2004-10-19T22:46:34Z</dcterms:modified>
  <cp:revision>676</cp:revision>
  <dc:subject/>
  <dc:title>Презентация PowerPoint</dc:title>
</cp:coreProperties>
</file>