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104-1851-4D2C-BD31-A266896A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055-3EF9-4834-B5DE-D53BE6B6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5A6-AC56-4DF4-964B-53FD20EC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30D-5F8E-4505-B512-D8769624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575-387D-4338-B59C-9E34A6E0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62E-C60F-4EA1-92DC-9CD54211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741-3569-4ACE-AE45-5E53B3D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C18-417C-4F68-AC5C-5EE707A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949-21E4-48EF-AE6E-EC420B7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C69-6EE6-4F91-93C6-6EAE989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F93-7731-4385-AAD2-6E04F21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DAC-1D79-4B09-A7DB-D43922D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E65-E7B1-4AB6-9CEF-2E7A6C781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676520"/>
            <a:ext cx="7467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Narrow"/>
              </a:rPr>
              <a:t>Поддержка содействия сокращению бедности в Ленинградской области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Narrow"/>
              </a:rPr>
              <a:t>Финансирована DFID в партнерстве с Ленинградской областью</a:t>
            </a:r>
            <a:endParaRPr b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Narrow"/>
              <a:ea typeface="Arial Narrow"/>
            </a:endParaRPr>
          </a:p>
        </p:txBody>
      </p:sp>
      <p:pic>
        <p:nvPicPr>
          <p:cNvPr id="42" name="karta31p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724640" cy="3030480"/>
          </a:xfrm>
          <a:prstGeom prst="rect">
            <a:avLst/>
          </a:prstGeom>
          <a:ln w="0">
            <a:noFill/>
          </a:ln>
        </p:spPr>
      </p:pic>
      <p:pic>
        <p:nvPicPr>
          <p:cNvPr id="43" name="g718_lenobl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9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38280" y="2514600"/>
            <a:ext cx="4267440" cy="512640"/>
          </a:xfrm>
          <a:prstGeom prst="rect">
            <a:avLst/>
          </a:prstGeom>
          <a:ln w="0">
            <a:noFill/>
          </a:ln>
        </p:spPr>
      </p:pic>
      <p:pic>
        <p:nvPicPr>
          <p:cNvPr id="45" name="dfid" descr=""/>
          <p:cNvPicPr/>
          <p:nvPr/>
        </p:nvPicPr>
        <p:blipFill>
          <a:blip r:embed="rId4"/>
          <a:stretch/>
        </p:blipFill>
        <p:spPr>
          <a:xfrm>
            <a:off x="228600" y="380880"/>
            <a:ext cx="19810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Стратегия и измерение уровня бедности являются для Ленинградской области ключевыми факторами успеха в следующих област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0574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зработка передовой практики с использованием механизмов стратегического социального партнерства на местах с целью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стимулирования экономического и социального развития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снижения уровня бедности и социальной исключенно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недрение модели действий в свете недавнего заявления Президента В. Путина о том, что сокращение бедности является приоритетным направлением национальной политик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862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Стратегия и измерение уровня бедности являются для Ленинградской области ключевыми факторами успеха в следующих област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одолжение сбалансированного экономического и социального развития и разработка политики в сфере рынка труда для поддержания экономического роста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ние данных об изменениях в уровне бедности, состоянии домохозяйств и социальных сдвигах при разработке политики, стратегическом планировании и формировании бюдже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295280"/>
            <a:ext cx="78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еятельность компонента стратегическое планирование, координация и измерение уровня бедности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целена на достижение 6 результатов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146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Более совершенный анализ данных для разработки стратегий борьбы с бедностью на уровне Области в целом и по район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лучение новых данных по домохозяйствам в дополнение к уже существующим данны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Информация о географическом расположении очагов бедности и прочие вторичные данные для новой цифровой карты Области в целях содействия разработке поли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еятельность компонента стратегическое планирование, координация и измерение уровня бедности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целена на достижение 6 результатов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5909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овые формы партнерства с Правительством Ленинградской области с учетом эффекта синергии различных компонентов Программы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PRIL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крепление системного подхода к вопросам социальной политики при стратегическом планирован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витие эффективных социальных партнерств, особенно между организациями государственного сектора и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Деятельность в рамках компонента стратегическое планирование, координация 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измерение уровня бедности включает следующие мероприятия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666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зор имеющихся данных, касающихся проблем бед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ва обзора домохозяйств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ставление карты географических очагов бедности с использованием установленного метода картирования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нализ ситуации с бедностью в ЛО и фактологическая база для политических изменений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Деятельность в рамках компонента стратегическое планирование, координация 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измерение уровня бедности включает следующие мероприятия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8954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работка методов стратегического планирования с учетом интересов бедных слоев населения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системы малых грантов для поддержки партнерств на местном уровне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щая координация программы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LO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447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омпонент 2: 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Эффективность социальных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асходов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 ключевые проблемы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66688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пределение адекватности и предсказуемости финанс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ценка программ и определение приоритетов финанс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гулирование межбюджетных финансовых отношен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Эффективность социального бюджетирования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 рабочей программы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на  год 1 (2004-200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590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среднесрочного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юджетного планирования или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реднесрочного бюджетирования ориентированного на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зультат (СБОР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Р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азработ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едварительного варианта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новой формул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финансирования, являющейся основой бюджетных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ассигнований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областного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юджета в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муниципалитет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3884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Эффективность социального бюджетирования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 рабочей программы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на год 1 (2004-2005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819520"/>
            <a:ext cx="82296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Начало разработки методологии оценки эффектив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циальных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расходов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программ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Проведение организационн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о анализа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Роли, ответственность и взаимоотноше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рамках социального бюджет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ребования к организационным возможностя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219320"/>
            <a:ext cx="858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2005 и 2006 предлагаемые приоритетные направления рабо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альнейшие инициативы на основе проведенного анализа СБОР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недерение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и оценка новой формул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распределения межбюджетных трансферт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недрение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и анализ методологии оценк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эффективности програм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ализация программы по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повышен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квалификаци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сотрудников и эффективности социального бюджет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0 году DFID провел анализ своей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оссии (т. н. частичный профильный обзор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 результатам анализа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Стратегии DFID в Росс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01-2005 гг. была сформулирована «Программа партнерства». По результатам конкурса 2001 года к участию в программе были допущены две из восьми «приоритетных» областей: Ленинградская и  Нижегородская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 3: Социальная исключенность: семьи и дети группы риска </a:t>
            </a:r>
            <a:br>
              <a:rPr sz="2500"/>
            </a:b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500"/>
            </a:b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и задач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высить эффективность услуг семья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я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зрослы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и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 сфер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го обеспечения и здравоохра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системы социальных и медицинских служб, ориентированных на семью или конкретного ребенка, как в Области, так и в отдельных муниципальных образован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иоритеты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на 1 год работы програм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Рабочей группы в разработке и внедрении политики социальной включен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здание и поддержка в каждом пилотном районе местных рабочих групп, которые будут осуществлять практическое внедрение политики социальной включен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мощь пилотным районам по внедрению и мониторингу политики социальной включен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иоритеты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на 1 год работы програм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5909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азвитие на местном уровне служб, альтернативных закрытым учреждениям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оведение обучения персонала и отработка моделей социальных услуг, основанных на индивидуальном планировании и оценке эффективности оказываемой помощ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лучшение качества обслуживания в закрытых учреждения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онент 4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приниматель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действия проек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432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репление систем поддержки предприниматель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ети структур Администрации по поддержке малого и средне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требности «клиентов» эти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вых методологий и услуг для предприним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ерсонала данных структур в предоставлении новых услуг клиен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тные проект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учшение доступа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к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финансовы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редств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ам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ля нового и развивающегося бизнеса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810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сточников (внутренних) малого и среднего бизнес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нешних источников (бюджет, коммерческие банки и т.д.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вых методологий и структур проектного финансирован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координации между сетью структуры МСП и источниками финанс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 Гарантий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н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Л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держка Администрации Лен. области в разработке политики в сфере развития предпринимательст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тодологии и систем разработки экономической политики, которая ориентирована на поддержку беднейших слоев населения в ЕС и в странах с программой борьбы с бедностью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етодологии связи между экономической политикой и трудоустройством представителей групп риска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истемы госзаказов по обеспечению социальными услугами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SPRILO направлена на решение ключевых проблем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х для Ленинградской области, но также  имеющих место на Федеральном  уровне, а также в других регионах. В число данных проблем входят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уп к информации 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б уров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дности и социальной исключенности и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тви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сутствие основанной на фактах, планомерной, поддающейся измерению и характеризующейся устойчивостью результато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тик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ватка  комплексного стратегического взаимосвязанного подхода к улучшению положения беднейших и наиболе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язвимых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ев населения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е в настоящее время использование подхода партнерского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отрудничеств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уровнях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олжение страниц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рационального, согласующегося со стратегическими целями использования бюджетных ресурсов с учетом социальных стандартов и реальных потребностей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дальнейшей трансформации основных услуг в сфере социальной защиты в контексте более широкой политики, направленной на минимизацию социальной исключенности и ее неизбежных последствий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поддержан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ого развития  и создания всеобъемлющей модели экономического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основных участников проекта входя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Област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рганы местного самоуправления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совместно несущие ответственность за содействие внедрению сбалансированного подхода к экономическому развитию и эффективное, рациональное предоставление и администрирование общественных услуг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федеральных органов в Ленинградской обла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е общество, представители которого  будут играть в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ажную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ль в формировании социального партнерства  посредством участия в консультациях и процессе планирования, а также путем предоставления услуг в  сфере бизнеса и   социального обеспечен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ы следующие компонент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 1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ое планирование, Координация и Оценка уровня бедност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создаст информационную базу, которая позволит разработать и реализовать стратегию борьбы с бедностью и осуществлять ее мониторинг; укрепит механизмы стратегического планирования в целях разработки, реализации и мониторинга стратегии сокращения бедности на основе глубокого понимания природы и причин бед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 2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го бюджет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крепит институциональные возможности Ленинградской области и пилотных муниципальных образований в сфере планирования, распределения и мониторинга расходования средств на социальные нуж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1171440"/>
            <a:ext cx="79250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  3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исключенность: семьи и дети группы рис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совершенствует и повысит качество услуг, предоставляемых наиболее уязвимым и социально благополучным группам населения Ленинградской облас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 4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принимательств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совершенствует и повысит качество услуг, предоставляемых наиболее уязвимым и социально неблагополучным группам населения Ленинградской обла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каждого компонента важным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енто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программы является институциональное развитие и наращивание организационного потенци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онент 1: Стратегическое планирование, оценка бедности и координация Программы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аботка стратегии и оценка бедности будут способствов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51460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ю системы стратегического планирования в Обла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дрению более совершенного планирования и механизмов, позволяющих разработать согласованную политику снижения бедности и комплекс конкретных мероприятий по помощи бедным с целью направления всех ресурсов на осуществление мер по снижению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685800" y="1523520"/>
            <a:ext cx="7772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лучению новых данных и фактического материала для определения направлений новой политики посредством проведения обзоров домохозяйств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олее глубокому пониманию характера и причинной обусловленности бедности в целях совершенствования процесса выработки поли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0:55:56Z</dcterms:created>
  <dc:creator>All</dc:creator>
  <dc:description/>
  <dc:language>en-US</dc:language>
  <cp:lastModifiedBy>Jouk</cp:lastModifiedBy>
  <dcterms:modified xsi:type="dcterms:W3CDTF">2004-10-20T13:29:57Z</dcterms:modified>
  <cp:revision>16</cp:revision>
  <dc:subject/>
  <dc:title>SPRILO  ПРОГРАММА СОДЕЙСТВИЯ СОКРАЩЕНИЮ БЕДНОСТИ В ЛЕНИНГРАДСКОЙ ОБЛАСТИ</dc:title>
</cp:coreProperties>
</file>