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532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6760" y="272520"/>
            <a:ext cx="6845400" cy="34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6760" y="272520"/>
            <a:ext cx="684540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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0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9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200" y="1092240"/>
            <a:ext cx="80200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525600" y="6135840"/>
          <a:ext cx="176508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600" y="6135840"/>
                    <a:ext cx="17650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539640" y="361800"/>
            <a:ext cx="879480" cy="6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acis.spb@online.ru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r.ru/" TargetMode="External"/><Relationship Id="rId2" Type="http://schemas.openxmlformats.org/officeDocument/2006/relationships/hyperlink" Target="http://www.tacis-lso-rf.org/" TargetMode="External"/><Relationship Id="rId3" Type="http://schemas.openxmlformats.org/officeDocument/2006/relationships/hyperlink" Target="http://www.tacisinfo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7520" y="39060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сотрудничества ЕС и РФ (Тасис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76200"/>
            <a:ext cx="8325000" cy="455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4880" y="1461960"/>
            <a:ext cx="7734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иональное Бюро Поддержки, Санкт-Петербур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мир Скорох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айловский пр., 14, офис 32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. (812) 325 08 19 и 112 67 0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с (812) 325 08 2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tacis.spb@online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ww.tacis-lso-r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ханизмы финансирования проек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ы федерального и регионального уровня (Программа действ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ы малых проек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партнерства в институциональном строительстве (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PP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омпонен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консультирования по вопросам полити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сос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ПИР – Поддержка гражданского общества и местных  инициати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рит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инимум 1 партнер из РФ + 1 партнер из 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 от 18 до 24 месяцев, грант 100-200 тыс. Ев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-финансирование партнеров: 20% бюджета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 проектных предложений – начало 2005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проектов Программы партнерства в институциональном развитии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й план действий в области туризма и осуществления городских реформ в экономике Новгорода (1999-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ка в разработке экологического плана с приоритетом для качества воды и воздуха (Череповец, 1996-9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учшение планирования в системе здравоохранения и работы по охране здоровья (СПб, 2000-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ПИР – Ключевые государственные организаци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а консультирования по вопросам политики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требуют партнера ЕС при подготовке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итель – федеральный или региональный орган власти 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аточно краткого описания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требования о со-финансир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700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515440" cy="50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а соседств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аны на опыте приграничного сотрудничества в рамках ИНТЕРРЕГ и ТАСИС ПГ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рит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правило 1 партнер из РФ + 1 партнер из 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лемая территория в РФ – СПБ, Ленинградская, Мурманская, Архангельская, Калининградская и Псковская области, Карел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, объем, со-финанс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малых проектов приграничного сотрудничества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ое партнерство по созданию системы финансовой поддержки иннова-ционных МС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плана и системы ликвидации аварийных загрязнений в прибрежной зоне СПб и Ленинградской об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4480" y="561600"/>
            <a:ext cx="793404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8080"/>
                </a:solidFill>
                <a:uFillTx/>
                <a:latin typeface="Times New Roman"/>
              </a:rPr>
              <a:t>	</a:t>
            </a:r>
            <a:r>
              <a:rPr b="1" lang="ru-RU" sz="2800" spc="-1" strike="noStrike" u="sng">
                <a:solidFill>
                  <a:srgbClr val="808080"/>
                </a:solidFill>
                <a:uFillTx/>
                <a:latin typeface="Times New Roman"/>
              </a:rPr>
              <a:t>Информационные ресурсы</a:t>
            </a:r>
            <a:r>
              <a:rPr b="0" lang="ru-RU" sz="2800" spc="-1" strike="noStrike">
                <a:solidFill>
                  <a:srgbClr val="80808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ьство Европейской Комиссии в Росс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/ англ)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www.eur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Сайт Региональных бюро поддержки Таси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/ англ)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tacis-lso-rf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сылки на сайты подпрограм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BPP, Tempus, …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ое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айт проекта по распространению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www.tacisinf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11:44:02Z</dcterms:created>
  <dc:creator>ITAD</dc:creator>
  <dc:description/>
  <dc:language>en-US</dc:language>
  <cp:lastModifiedBy>Boris Zhikharevich</cp:lastModifiedBy>
  <cp:lastPrinted>2002-04-23T10:02:51Z</cp:lastPrinted>
  <dcterms:modified xsi:type="dcterms:W3CDTF">2004-10-12T14:31:52Z</dcterms:modified>
  <cp:revision>378</cp:revision>
  <dc:subject/>
  <dc:title>No Slide Title</dc:title>
</cp:coreProperties>
</file>