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EF8-F145-46E6-BD56-0E2992B2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E050-2B59-442F-A09B-CC2279B9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C56-4570-4A64-9CA5-38CBD256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1634-8343-4B94-944C-440202EB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C462-A40F-4A69-8E3E-9DFEF444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4F4-FB22-416E-A4E0-CC447865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5728-36A7-4A1D-BB0B-924281EF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FCC-C316-40BF-AA21-3553F2A3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CB0-0BB8-428C-8AFD-8D97299D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D68-834E-4580-8141-17E964D0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CC6-8E93-4E67-8902-840EB220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9C7D-31F9-41AA-9BD3-B4D9C117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9DE6-2F03-4F58-8BE7-3C5BA65E1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.А. Трегу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 ход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тратегии  социально-эконом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алининградской обл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ак региона сотруднич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а период до 2010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нкт-Петербург, Пушкин, 20-21 октября  200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532720" y="0"/>
            <a:ext cx="611280" cy="40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22400" y="1143000"/>
          <a:ext cx="760392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1143000"/>
                    <a:ext cx="76039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705720" y="1371600"/>
            <a:ext cx="2438280" cy="38088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лн.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538200"/>
            <a:ext cx="781056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намика поступления иностранных инвести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5302080"/>
            <a:ext cx="541044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атериально-техническое снабжение </a:t>
            </a: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– </a:t>
            </a:r>
            <a:r>
              <a:rPr b="1" lang="ru-RU" sz="1600" spc="-1" strike="noStrike">
                <a:solidFill>
                  <a:srgbClr val="66ff33"/>
                </a:solidFill>
                <a:latin typeface="Arial"/>
              </a:rPr>
              <a:t>46,2 </a:t>
            </a: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мышленность</a:t>
            </a: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– </a:t>
            </a:r>
            <a:r>
              <a:rPr b="1" lang="ru-RU" sz="1600" spc="-1" strike="noStrike">
                <a:solidFill>
                  <a:srgbClr val="66ff33"/>
                </a:solidFill>
                <a:latin typeface="Arial"/>
              </a:rPr>
              <a:t>38,7</a:t>
            </a: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орговлю и общ.питание</a:t>
            </a: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  –   </a:t>
            </a:r>
            <a:r>
              <a:rPr b="1" lang="ru-RU" sz="1600" spc="-1" strike="noStrike">
                <a:solidFill>
                  <a:srgbClr val="66ff33"/>
                </a:solidFill>
                <a:latin typeface="Arial"/>
              </a:rPr>
              <a:t>8,1</a:t>
            </a: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2565360"/>
            <a:ext cx="33526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0000"/>
                </a:solidFill>
                <a:latin typeface="Arial"/>
              </a:rPr>
              <a:t>ПРЯМЫЕ ИНВЕСТИЦИИ</a:t>
            </a:r>
            <a:r>
              <a:rPr b="1" lang="en-US" sz="1400" spc="-1" strike="noStrike">
                <a:solidFill>
                  <a:srgbClr val="ee0000"/>
                </a:solidFill>
                <a:latin typeface="Arial Narrow"/>
              </a:rPr>
              <a:t>     </a:t>
            </a:r>
            <a:r>
              <a:rPr b="1" lang="en-US" sz="1800" spc="-1" strike="noStrike">
                <a:solidFill>
                  <a:srgbClr val="ee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ee0000"/>
                </a:solidFill>
                <a:latin typeface="Arial Narrow"/>
              </a:rPr>
              <a:t> 24,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0000"/>
                </a:solidFill>
                <a:latin typeface="Arial"/>
              </a:rPr>
              <a:t>ПРОЧИЕ ИНВЕСТИЦИИ</a:t>
            </a:r>
            <a:r>
              <a:rPr b="1" lang="en-US" sz="1400" spc="-1" strike="noStrike">
                <a:solidFill>
                  <a:srgbClr val="ee0000"/>
                </a:solidFill>
                <a:latin typeface="Arial Narrow"/>
              </a:rPr>
              <a:t>      </a:t>
            </a:r>
            <a:r>
              <a:rPr b="1" lang="en-US" sz="1800" spc="-1" strike="noStrike">
                <a:solidFill>
                  <a:srgbClr val="ee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ee0000"/>
                </a:solidFill>
                <a:latin typeface="Arial Narrow"/>
              </a:rPr>
              <a:t> 75,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364000" y="1820880"/>
            <a:ext cx="3276360" cy="1171440"/>
            <a:chOff x="5364000" y="1820880"/>
            <a:chExt cx="3276360" cy="1171440"/>
          </a:xfrm>
        </p:grpSpPr>
        <p:sp>
          <p:nvSpPr>
            <p:cNvPr id="94" name=""/>
            <p:cNvSpPr/>
            <p:nvPr/>
          </p:nvSpPr>
          <p:spPr>
            <a:xfrm>
              <a:off x="6962760" y="1820880"/>
              <a:ext cx="86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 Narrow"/>
                </a:rPr>
                <a:t>(+17,8%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02600" y="2174760"/>
              <a:ext cx="2237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64000" y="2992320"/>
              <a:ext cx="3276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596360" y="422100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+8,3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0000" y="4724280"/>
            <a:ext cx="1655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532720" y="0"/>
            <a:ext cx="611280" cy="40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ля производства Калининградской области в промышленной продукции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2205000"/>
          <a:ext cx="8001000" cy="3753000"/>
        </p:xfrm>
        <a:graphic>
          <a:graphicData uri="http://schemas.openxmlformats.org/drawingml/2006/table">
            <a:tbl>
              <a:tblPr/>
              <a:tblGrid>
                <a:gridCol w="6129360"/>
                <a:gridCol w="1871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евиз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пылес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ервы рыб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ервы мяс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ная пищевая рыбная проду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ов рыбы и добыча морепроду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б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люл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ка и ликероводочные изд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об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228600" y="1600200"/>
            <a:ext cx="8686800" cy="30492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ля экономики области в экономике России в 2003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0,4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6237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авочно: доля населения области в России – 0,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04360" y="0"/>
            <a:ext cx="539640" cy="40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з продукции ОЭЗ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основную территорию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9640" y="2133720"/>
          <a:ext cx="7264440" cy="41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33720"/>
                    <a:ext cx="726444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0" y="2209680"/>
            <a:ext cx="3809880" cy="38124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млн. долл. США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2852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(+83,6%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532720" y="0"/>
            <a:ext cx="61128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468360" y="1413000"/>
          <a:ext cx="8292960" cy="50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3000"/>
                    <a:ext cx="8292960" cy="50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480320" y="333360"/>
            <a:ext cx="660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Объем переработки грузов по видам транспор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млн. то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0720" y="17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I </a:t>
            </a:r>
            <a:r>
              <a:rPr b="0" lang="ru-RU" sz="1800" spc="-1" strike="noStrike">
                <a:solidFill>
                  <a:srgbClr val="808080"/>
                </a:solidFill>
                <a:latin typeface="Times New Roman"/>
              </a:rPr>
              <a:t>полугодие 200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227640" y="2133720"/>
          <a:ext cx="2447640" cy="1633320"/>
        </p:xfrm>
        <a:graphic>
          <a:graphicData uri="http://schemas.openxmlformats.org/drawingml/2006/table">
            <a:tbl>
              <a:tblPr/>
              <a:tblGrid>
                <a:gridCol w="742320"/>
                <a:gridCol w="667440"/>
                <a:gridCol w="10378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/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2  млн.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10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fdf"/>
                    </a:solidFill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7 млн.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fdf"/>
                    </a:solidFill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 млн.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fdf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8532720" y="0"/>
            <a:ext cx="61128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116000" y="2205000"/>
          <a:ext cx="7559640" cy="1998720"/>
        </p:xfrm>
        <a:graphic>
          <a:graphicData uri="http://schemas.openxmlformats.org/drawingml/2006/table">
            <a:tbl>
              <a:tblPr/>
              <a:tblGrid>
                <a:gridCol w="3600360"/>
                <a:gridCol w="1368360"/>
                <a:gridCol w="2590920"/>
              </a:tblGrid>
              <a:tr h="591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оминальные,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,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2002 год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еальные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2002 год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116000" y="4221000"/>
          <a:ext cx="7559640" cy="1965600"/>
        </p:xfrm>
        <a:graphic>
          <a:graphicData uri="http://schemas.openxmlformats.org/drawingml/2006/table">
            <a:tbl>
              <a:tblPr/>
              <a:tblGrid>
                <a:gridCol w="3600360"/>
                <a:gridCol w="1368360"/>
                <a:gridCol w="2590920"/>
              </a:tblGrid>
              <a:tr h="497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лугодие 2004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оминальные,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,5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г 2003 год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еальные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9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г 2003 году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1836720" y="98100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реднедушевые денежные доходы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532720" y="0"/>
            <a:ext cx="61128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4360" y="2565360"/>
            <a:ext cx="7848360" cy="1440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ИДЕНИЕ БУДУЩ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КАЛИНИНГРА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11120" y="423720"/>
            <a:ext cx="6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0720" y="404640"/>
            <a:ext cx="269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ойч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вающийся рег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Евро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71480" y="4673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09640" y="4581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61440" y="4797360"/>
            <a:ext cx="18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и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трудн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3240" y="549360"/>
            <a:ext cx="239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ион Росси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вропейского Сою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333360"/>
            <a:ext cx="30243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ойч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вающийся рег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Евро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40360" y="333360"/>
            <a:ext cx="280836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ион Росси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вропейского Сою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4797360"/>
            <a:ext cx="287964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атег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ре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4724280"/>
            <a:ext cx="266364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и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трудн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2124000" y="1844640"/>
            <a:ext cx="432000" cy="72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588000" y="1915920"/>
            <a:ext cx="648000" cy="577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88000" y="4076640"/>
            <a:ext cx="576360" cy="503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050560" y="4076640"/>
            <a:ext cx="576360" cy="576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604360" y="0"/>
            <a:ext cx="539640" cy="40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ТОЙЧИВО РАЗВИВАЮЩИЙСЯ РЕГИОН РОССИИ   В    ЕВРОП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ая транспортная система, интегрированная в европейские се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щный портовый комплек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кательный туристко-рекреационный комплек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нсивные внешнеэкономические 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ое производ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пективные наукоемкие отрас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непрерывно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ый обра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04360" y="0"/>
            <a:ext cx="53964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АКТНЫЙ РЕГИОН РОССИИ И ЕВРОПЕЙСКОГО СОЮ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ериментальная площадка России для апробации новых механизмов экономического и технологического сотрудничества России и Е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актная территория Ро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онстрационная площадка современных технолог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актный деловой центр малого и среднего бизнеса Ро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й, телекомуникационный, консалтинговый центр по обслуживанию связей Восток-Зап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04360" y="0"/>
            <a:ext cx="53964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ГИОН СОТРУДНИЧЕСТ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тегические партн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оны Северо-Запада Ро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ие субъекты Российской Федер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ы СН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ы региона Балтийского мор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ые и свободные экономические з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459640" y="0"/>
            <a:ext cx="6843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ный план действ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министраци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ининградской области  (КПДА)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2005-2007 гг. по реализац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тегии социально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ого развития –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среднесрочный индикативный план развития территории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532720" y="0"/>
            <a:ext cx="61128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79280" y="260280"/>
          <a:ext cx="8713800" cy="64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71380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8675640" y="0"/>
            <a:ext cx="468360" cy="40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Структура промышленного производства </a:t>
            </a:r>
            <a:br>
              <a:rPr sz="1900"/>
            </a:b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Калининградской области РФ в 2003 году, в 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95280" y="1989000"/>
          <a:ext cx="849780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89000"/>
                    <a:ext cx="8497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уктура источников финансирования ФЦП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тия Калининградской области на период до 201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36480" y="1600200"/>
          <a:ext cx="78710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1600200"/>
                    <a:ext cx="78710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ределение финансовых средств на реализацию ФЦ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 комплек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60320" y="1600200"/>
          <a:ext cx="7623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1600200"/>
                    <a:ext cx="7623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0"/>
          <a:ext cx="8642160" cy="321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0"/>
                    <a:ext cx="864216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50920" y="3284640"/>
          <a:ext cx="8569080" cy="357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284640"/>
                    <a:ext cx="856908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равнительные данные экономического развития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Российской Федерации и Калининградской област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buClr>
                <a:srgbClr val="00808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2003 году, в % к 2002 году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5280" y="2349360"/>
          <a:ext cx="8291160" cy="4003560"/>
        </p:xfrm>
        <a:graphic>
          <a:graphicData uri="http://schemas.openxmlformats.org/drawingml/2006/table">
            <a:tbl>
              <a:tblPr/>
              <a:tblGrid>
                <a:gridCol w="5005440"/>
                <a:gridCol w="1398960"/>
                <a:gridCol w="1886760"/>
              </a:tblGrid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оссийская Фед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лининградская область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ая проду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6d6fc7"/>
                          </a:solidFill>
                          <a:latin typeface="Arial"/>
                        </a:rPr>
                        <a:t>11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кохозяйственная проду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вестиции в основной капи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6d6fc7"/>
                          </a:solidFill>
                          <a:latin typeface="Arial"/>
                        </a:rPr>
                        <a:t>16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еторговый оборот товаров и усл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6d6fc7"/>
                          </a:solidFill>
                          <a:latin typeface="Arial"/>
                        </a:rPr>
                        <a:t>13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равнительные данные экономического развития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Российской Федерации и Калининградской област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годии 2004 году, в % к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годию 2003 году 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4360" y="2492280"/>
          <a:ext cx="8002440" cy="4324320"/>
        </p:xfrm>
        <a:graphic>
          <a:graphicData uri="http://schemas.openxmlformats.org/drawingml/2006/table">
            <a:tbl>
              <a:tblPr/>
              <a:tblGrid>
                <a:gridCol w="4701960"/>
                <a:gridCol w="1403280"/>
                <a:gridCol w="1897200"/>
              </a:tblGrid>
              <a:tr h="88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оссийская Фед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лининградская область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ая проду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6d6fc7"/>
                          </a:solidFill>
                          <a:latin typeface="Arial"/>
                        </a:rPr>
                        <a:t>12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кохозяйственная проду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вестиции в основной капи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9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работ по договорам строительного подря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6d6fc7"/>
                          </a:solidFill>
                          <a:latin typeface="Arial"/>
                        </a:rPr>
                        <a:t>1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зарегистрированных безработ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 тыс.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6d6fc7"/>
                          </a:solidFill>
                          <a:latin typeface="Arial"/>
                        </a:rPr>
                        <a:t>9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66760" y="2655720"/>
            <a:ext cx="160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7120" y="2873520"/>
            <a:ext cx="160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1989000"/>
            <a:ext cx="18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62960" y="879840"/>
            <a:ext cx="8182800" cy="5519520"/>
            <a:chOff x="462960" y="879840"/>
            <a:chExt cx="8182800" cy="5519520"/>
          </a:xfrm>
        </p:grpSpPr>
        <p:sp>
          <p:nvSpPr>
            <p:cNvPr id="51" name=""/>
            <p:cNvSpPr/>
            <p:nvPr/>
          </p:nvSpPr>
          <p:spPr>
            <a:xfrm>
              <a:off x="781920" y="1687680"/>
              <a:ext cx="7863840" cy="296172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Декларац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о стратегическом партнерств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о реализации Стратегии социально-экономического развития Калининградской области как региона сотрудничеств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на период до 2010 год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ринята 19 апреля 2003 год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2960" y="879840"/>
              <a:ext cx="2337840" cy="673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Администрация обла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75720" y="5187960"/>
              <a:ext cx="2018880" cy="673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Бизнес-сообще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14120" y="5187960"/>
              <a:ext cx="2231640" cy="673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униципальные образо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626880" y="879840"/>
              <a:ext cx="2018880" cy="673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бластная Ду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38720" y="5591880"/>
              <a:ext cx="2125080" cy="807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бщественные организ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2801160" y="1014120"/>
              <a:ext cx="3825360" cy="673200"/>
            </a:xfrm>
            <a:prstGeom prst="upArrowCallout">
              <a:avLst>
                <a:gd name="adj1" fmla="val 142072"/>
                <a:gd name="adj2" fmla="val 142059"/>
                <a:gd name="adj3" fmla="val 16667"/>
                <a:gd name="adj4" fmla="val 6666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88760" y="4649760"/>
              <a:ext cx="3825360" cy="1076760"/>
            </a:xfrm>
            <a:custGeom>
              <a:avLst/>
              <a:gdLst>
                <a:gd name="textAreaLeft" fmla="*/ 0 w 3825360"/>
                <a:gd name="textAreaRight" fmla="*/ 3825720 w 3825360"/>
                <a:gd name="textAreaTop" fmla="*/ 0 h 1076760"/>
                <a:gd name="textAreaBottom" fmla="*/ 1077120 h 107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5100" y="4334"/>
                  </a:lnTo>
                  <a:lnTo>
                    <a:pt x="13000" y="4334"/>
                  </a:lnTo>
                  <a:lnTo>
                    <a:pt x="13000" y="8600"/>
                  </a:lnTo>
                  <a:lnTo>
                    <a:pt x="17266" y="8600"/>
                  </a:lnTo>
                  <a:lnTo>
                    <a:pt x="17266" y="6500"/>
                  </a:lnTo>
                  <a:lnTo>
                    <a:pt x="21600" y="10800"/>
                  </a:lnTo>
                  <a:lnTo>
                    <a:pt x="17266" y="15100"/>
                  </a:lnTo>
                  <a:lnTo>
                    <a:pt x="17266" y="13000"/>
                  </a:lnTo>
                  <a:lnTo>
                    <a:pt x="4334" y="13000"/>
                  </a:lnTo>
                  <a:lnTo>
                    <a:pt x="4334" y="15100"/>
                  </a:lnTo>
                  <a:lnTo>
                    <a:pt x="0" y="10800"/>
                  </a:lnTo>
                  <a:lnTo>
                    <a:pt x="4334" y="6500"/>
                  </a:lnTo>
                  <a:lnTo>
                    <a:pt x="4334" y="8600"/>
                  </a:lnTo>
                  <a:lnTo>
                    <a:pt x="8600" y="8600"/>
                  </a:lnTo>
                  <a:lnTo>
                    <a:pt x="8600" y="4334"/>
                  </a:lnTo>
                  <a:lnTo>
                    <a:pt x="6500" y="433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8604360" y="0"/>
            <a:ext cx="539640" cy="40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99640" y="836640"/>
            <a:ext cx="381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МИССИЯ КАЛИНИНГРАДСКОЙОБЛА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12682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ГИОН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ТРУДНИЧЕСТВА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АКТНЫЙ РЕГИОН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СИИ 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ВРОПЕЙСКОГ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Ю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8680" y="3500280"/>
            <a:ext cx="44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Главная цель  Стратег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3573360"/>
            <a:ext cx="403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ойчивое повышение уровня и качества жизни населения Калининградской области, сокращение разрыва в уровне благосостояния с сопредельными стра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532720" y="0"/>
            <a:ext cx="61128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62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сновные цели Стратегии: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Формирование конкурентоспособной экономики региона,     опирающейся на инновации и интеллектуальные ресурсы.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Содействие развитию малого и среднего бизнеса России на основе трансферта технологических и социальных инноваций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Создание условий для эффективного развития в области человеческого потенциала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Достижение социальной консолидации как основы укрепления российской государственности на территории области и реализации жизненно важных интересо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532720" y="0"/>
            <a:ext cx="61128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Показатели</a:t>
            </a: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уровня достижения основных  цел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1628640"/>
            <a:ext cx="6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0" y="1459080"/>
            <a:ext cx="950508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ловый региональный продукт........................................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о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2 р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П на душу населения.……………………………………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о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2 р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м промышленного производства….…………………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ост в 3 р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ельный вес расходов областного бюдж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азвитие научно-технического потенциала….…….…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ост в 10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м с/х производства.…………………………………….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о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1,5 р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м перевозок грузов.....................................................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ост в 2,2 р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м инвестиций в основной капитал...........................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2,2 р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м накопленных прям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ных инвестиций…………………......................….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ост в 20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енний товарооборот..................................................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о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3 р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вень реальных доходов населения.………………......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ост в 2 р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я населения с доходами ни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житочного минимума………………………………..…..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ни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безработицы (по определению МОТ)…………………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532720" y="0"/>
            <a:ext cx="611280" cy="40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5640" y="26028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ст валового внутреннего проду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ран региона Балтийского мо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период 1999-2003 г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в фиксированных ценах, в %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2240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8360" y="1916280"/>
          <a:ext cx="8280360" cy="4219560"/>
        </p:xfrm>
        <a:graphic>
          <a:graphicData uri="http://schemas.openxmlformats.org/drawingml/2006/table">
            <a:tbl>
              <a:tblPr/>
              <a:tblGrid>
                <a:gridCol w="2444760"/>
                <a:gridCol w="770040"/>
                <a:gridCol w="769680"/>
                <a:gridCol w="770040"/>
                <a:gridCol w="770040"/>
                <a:gridCol w="1001520"/>
                <a:gridCol w="806400"/>
                <a:gridCol w="947880"/>
              </a:tblGrid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ы /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ы прироста ВВП / ВРП по года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темпы прироста з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-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-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 –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ая Фед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РП Калининградской области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8604360" y="0"/>
            <a:ext cx="539640" cy="40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1280" y="1268280"/>
          <a:ext cx="8153280" cy="534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5328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755640" y="33336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изводство продукции промышленн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%, в сопоставимых ценах, к предыдущему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04360" y="0"/>
            <a:ext cx="53964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намика объемов российских инвести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77720" y="1909800"/>
          <a:ext cx="5413320" cy="42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1909800"/>
                    <a:ext cx="541332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32360" y="1773360"/>
            <a:ext cx="405936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ъем инвести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2003 году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4865,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млн.ру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2004 году (1 полугодие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132,7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лн.ру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80000" y="3716280"/>
            <a:ext cx="32799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35640" y="3857760"/>
            <a:ext cx="352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нансирова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ственные средства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47,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влеченные средства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52,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95008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% к предыдущему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604360" y="0"/>
            <a:ext cx="539640" cy="40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8:35:51Z</dcterms:created>
  <dc:creator>XXX</dc:creator>
  <dc:description/>
  <dc:language>en-US</dc:language>
  <cp:lastModifiedBy>Veronika Sharova</cp:lastModifiedBy>
  <dcterms:modified xsi:type="dcterms:W3CDTF">2004-10-29T07:30:49Z</dcterms:modified>
  <cp:revision>41</cp:revision>
  <dc:subject/>
  <dc:title>Б.А. Трегубов</dc:title>
</cp:coreProperties>
</file>