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A5611-44C2-44D9-B3D4-25D644881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27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3645000"/>
            <a:ext cx="7773840" cy="116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4923720"/>
            <a:ext cx="7773840" cy="116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C7655-DAF9-47EF-B6C9-EB9E5EDF9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27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3645000"/>
            <a:ext cx="3793320" cy="116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7760" y="3645000"/>
            <a:ext cx="3793320" cy="116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4923720"/>
            <a:ext cx="3793320" cy="116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7760" y="4923720"/>
            <a:ext cx="3793320" cy="116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326E9-CA03-475C-B3F3-9EBD07E9E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27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3645000"/>
            <a:ext cx="2503080" cy="116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080" y="3645000"/>
            <a:ext cx="2503080" cy="116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3645000"/>
            <a:ext cx="2503080" cy="116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4923720"/>
            <a:ext cx="2503080" cy="116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080" y="4923720"/>
            <a:ext cx="2503080" cy="116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923720"/>
            <a:ext cx="2503080" cy="116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B2B2A-9D7E-46B9-991D-F63D22E54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C66AF-D4E4-4986-9DA3-F3F1EAA09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27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4360" y="3645000"/>
            <a:ext cx="777384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5E4AF-05BD-4AA4-8964-A45196CC6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27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4360" y="3645000"/>
            <a:ext cx="7773840" cy="24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503C4-4BAB-478C-8A14-F065ED655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27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4360" y="3645000"/>
            <a:ext cx="3793320" cy="24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7760" y="3645000"/>
            <a:ext cx="3793320" cy="24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1B956-2426-4C63-9E22-FB38A5723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27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B44A9-5767-40E1-8835-FFDF03FBE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84360" y="333360"/>
            <a:ext cx="7772400" cy="1268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2874C-43F8-42C9-8C97-EF6F9FB9B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27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4360" y="3645000"/>
            <a:ext cx="3793320" cy="116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7760" y="3645000"/>
            <a:ext cx="3793320" cy="24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4360" y="4923720"/>
            <a:ext cx="3793320" cy="116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D70D3-84E4-417B-B402-3D1A31EF1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27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3645000"/>
            <a:ext cx="777384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54CC3-BE0B-44C8-BAFB-F58EBD462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27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4360" y="3645000"/>
            <a:ext cx="3793320" cy="24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7760" y="3645000"/>
            <a:ext cx="3793320" cy="116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7760" y="4923720"/>
            <a:ext cx="3793320" cy="116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3AB42-8685-4579-9494-2EF604779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27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4360" y="3645000"/>
            <a:ext cx="3793320" cy="116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7760" y="3645000"/>
            <a:ext cx="3793320" cy="116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4360" y="4923720"/>
            <a:ext cx="7773840" cy="116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E02ED-2C9D-4F1D-9B98-BE86A71F1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27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4360" y="3645000"/>
            <a:ext cx="7773840" cy="116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4360" y="4923720"/>
            <a:ext cx="7773840" cy="116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F99A5-EC29-4C8A-AB34-1938FD854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27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4360" y="3645000"/>
            <a:ext cx="3793320" cy="116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7760" y="3645000"/>
            <a:ext cx="3793320" cy="116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4360" y="4923720"/>
            <a:ext cx="3793320" cy="116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7760" y="4923720"/>
            <a:ext cx="3793320" cy="116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2D70A-32E6-476C-B5FD-EA7C42B0D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27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4360" y="3645000"/>
            <a:ext cx="2503080" cy="116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080" y="3645000"/>
            <a:ext cx="2503080" cy="116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3645000"/>
            <a:ext cx="2503080" cy="116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4360" y="4923720"/>
            <a:ext cx="2503080" cy="116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080" y="4923720"/>
            <a:ext cx="2503080" cy="116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923720"/>
            <a:ext cx="2503080" cy="116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DC056-51CF-4AE1-AEEB-770DC28F2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27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3645000"/>
            <a:ext cx="7773840" cy="24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C862B-B842-4396-8E56-653E47B39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27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3645000"/>
            <a:ext cx="3793320" cy="24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7760" y="3645000"/>
            <a:ext cx="3793320" cy="24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A1249-3767-4811-9405-39842C97F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27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13AD9-BFDA-44A2-873B-C6B3637A2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4360" y="333360"/>
            <a:ext cx="7772400" cy="1268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1285F-F670-47F4-9CCF-406BD4FC6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27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3645000"/>
            <a:ext cx="3793320" cy="116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7760" y="3645000"/>
            <a:ext cx="3793320" cy="24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4923720"/>
            <a:ext cx="3793320" cy="116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D19B9-0B8F-4587-AD31-A3DBE8A68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27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3645000"/>
            <a:ext cx="3793320" cy="24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7760" y="3645000"/>
            <a:ext cx="3793320" cy="116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7760" y="4923720"/>
            <a:ext cx="3793320" cy="116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19F08-9A50-4E43-8E5F-30508764D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27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3645000"/>
            <a:ext cx="3793320" cy="116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7760" y="3645000"/>
            <a:ext cx="3793320" cy="116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4923720"/>
            <a:ext cx="7773840" cy="116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7F121-92A3-4930-9084-4A0E1E8EA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7575"/>
            </a:gs>
            <a:gs pos="50000">
              <a:srgbClr val="66ffff"/>
            </a:gs>
            <a:gs pos="100000">
              <a:srgbClr val="2f75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0728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412640"/>
            <a:ext cx="800100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26828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B23C3-426C-4BB2-9F95-831BCB29BAA4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7575"/>
            </a:gs>
            <a:gs pos="50000">
              <a:srgbClr val="66ffff"/>
            </a:gs>
            <a:gs pos="100000">
              <a:srgbClr val="2f75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27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2C09D-2842-4A95-809A-12457EA84B5A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310356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7575"/>
            </a:gs>
            <a:gs pos="50000">
              <a:srgbClr val="66ffff"/>
            </a:gs>
            <a:gs pos="100000">
              <a:srgbClr val="2f75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27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Стратегическое планирование в Иркутской области на новом витке реформ: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опыт внедрения стратегических методов в систему государственного управления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66560" y="4436640"/>
            <a:ext cx="30974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Д.Ю. Федотов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Администрация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ркутской област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"/>
          <p:cNvSpPr/>
          <p:nvPr/>
        </p:nvSpPr>
        <p:spPr>
          <a:xfrm>
            <a:off x="1692360" y="6056280"/>
            <a:ext cx="604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анкт-Петербург, октябрь 20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5867280" y="3357720"/>
          <a:ext cx="2952720" cy="295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67280" y="3357720"/>
                    <a:ext cx="2952720" cy="295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0" y="-189000"/>
            <a:ext cx="9144000" cy="704700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50560" y="692280"/>
            <a:ext cx="3816360" cy="14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Зоны развития Иркутской области в соответствии со Схемой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7575"/>
            </a:gs>
            <a:gs pos="50000">
              <a:srgbClr val="66ffff"/>
            </a:gs>
            <a:gs pos="100000">
              <a:srgbClr val="2f75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0728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Работа над Схемой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68000" y="1412640"/>
            <a:ext cx="561636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75"/>
              </a:spcBef>
              <a:buClr>
                <a:srgbClr val="cc00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Анализ факторов роста административных районов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675"/>
              </a:spcBef>
              <a:buClr>
                <a:srgbClr val="cc00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Анализ природных, трудовых, производственных ресурсов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675"/>
              </a:spcBef>
              <a:buClr>
                <a:srgbClr val="cc00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Возможные перспективы развития 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675"/>
              </a:spcBef>
              <a:buClr>
                <a:srgbClr val="cc00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Совершенствование межрайонных связей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675"/>
              </a:spcBef>
              <a:buClr>
                <a:srgbClr val="cc00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Перечень инвестиционных проектов и т.п.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"/>
          <p:cNvSpPr/>
          <p:nvPr/>
        </p:nvSpPr>
        <p:spPr>
          <a:xfrm>
            <a:off x="6372360" y="1700280"/>
            <a:ext cx="2303280" cy="863640"/>
          </a:xfrm>
          <a:prstGeom prst="ellipse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Ресур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300720" y="4510080"/>
            <a:ext cx="2374920" cy="1224000"/>
          </a:xfrm>
          <a:prstGeom prst="rect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Конечны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продук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8" name=""/>
          <p:cNvCxnSpPr/>
          <p:nvPr/>
        </p:nvCxnSpPr>
        <p:spPr>
          <a:xfrm>
            <a:off x="7524360" y="2707920"/>
            <a:ext cx="1080" cy="1585080"/>
          </a:xfrm>
          <a:prstGeom prst="straightConnector1">
            <a:avLst/>
          </a:prstGeom>
          <a:ln w="44280">
            <a:solidFill>
              <a:srgbClr val="ff0000"/>
            </a:solidFill>
            <a:prstDash val="lg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7575"/>
            </a:gs>
            <a:gs pos="50000">
              <a:srgbClr val="66ffff"/>
            </a:gs>
            <a:gs pos="100000">
              <a:srgbClr val="2f75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27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Стратегическое планирование в Иркутской области на новом витке реформ: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опыт внедрения стратегических методов в систему государственного управления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466560" y="4436640"/>
            <a:ext cx="30974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Д.Ю. Федотов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Администрация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ркутской област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"/>
          <p:cNvSpPr/>
          <p:nvPr/>
        </p:nvSpPr>
        <p:spPr>
          <a:xfrm>
            <a:off x="1692360" y="6056280"/>
            <a:ext cx="604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анкт-Петербург, октябрь 20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5867280" y="3357720"/>
          <a:ext cx="2952720" cy="295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67280" y="3357720"/>
                    <a:ext cx="2952720" cy="295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5e75"/>
            </a:gs>
            <a:gs pos="50000">
              <a:srgbClr val="99ccff"/>
            </a:gs>
            <a:gs pos="100000">
              <a:srgbClr val="465e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0728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Программно-целевой метод управле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66280" y="2133360"/>
            <a:ext cx="7893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Является инструментом стратегической политики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Основывается на достижении конкретных целей во временной перспективе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Решает первостепенные задачи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Отрицает ситуационный подход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Использует системный подход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6454800" y="4433760"/>
            <a:ext cx="2689200" cy="24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99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0728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Реализация программно-целевого метода в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Иркутской област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66280" y="1412640"/>
            <a:ext cx="465300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С 1998 до 2001 года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Программа финансовой стабилизации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С 2002 до 2005 года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Программа социально-экономического развития (ПСЭР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>
            <a:lum bright="2000"/>
          </a:blip>
          <a:stretch/>
        </p:blipFill>
        <p:spPr>
          <a:xfrm rot="21462600">
            <a:off x="5345280" y="2106360"/>
            <a:ext cx="3619440" cy="32670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 txBox="1"/>
          <p:nvPr/>
        </p:nvSpPr>
        <p:spPr>
          <a:xfrm>
            <a:off x="5900760" y="2827440"/>
            <a:ext cx="2343240" cy="1106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146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648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Программа</a:t>
            </a:r>
            <a:endParaRPr b="0" lang="en-US" sz="1600" spc="1" strike="noStrike">
              <a:ln w="648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648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социально-экономического</a:t>
            </a:r>
            <a:endParaRPr b="0" lang="en-US" sz="1600" spc="1" strike="noStrike">
              <a:ln w="648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648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1" strike="noStrike">
                <a:ln w="648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развития </a:t>
            </a:r>
            <a:endParaRPr b="0" lang="en-US" sz="1600" spc="1" strike="noStrike">
              <a:ln w="648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648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Иркутской области</a:t>
            </a:r>
            <a:endParaRPr b="0" lang="en-US" sz="1600" spc="1" strike="noStrike">
              <a:ln w="648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3b2c1"/>
            </a:gs>
            <a:gs pos="50000">
              <a:srgbClr val="ff9966"/>
            </a:gs>
            <a:gs pos="100000">
              <a:srgbClr val="a3b2c1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0728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Механизм реализации ПСЭР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"/>
          <p:cNvSpPr/>
          <p:nvPr/>
        </p:nvSpPr>
        <p:spPr>
          <a:xfrm>
            <a:off x="1116000" y="1484280"/>
            <a:ext cx="69134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Создание организацион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структур (20 рабочих групп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Разработка алгоритма реш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задач (ежегодный План действий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Контроль над исполнени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Внесение корректиров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284720" y="2637000"/>
            <a:ext cx="485640" cy="504720"/>
          </a:xfrm>
          <a:prstGeom prst="downArrow">
            <a:avLst>
              <a:gd name="adj1" fmla="val 50000"/>
              <a:gd name="adj2" fmla="val 2598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284720" y="4076640"/>
            <a:ext cx="485640" cy="504720"/>
          </a:xfrm>
          <a:prstGeom prst="downArrow">
            <a:avLst>
              <a:gd name="adj1" fmla="val 50000"/>
              <a:gd name="adj2" fmla="val 2598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284720" y="5086440"/>
            <a:ext cx="485640" cy="503280"/>
          </a:xfrm>
          <a:prstGeom prst="downArrow">
            <a:avLst>
              <a:gd name="adj1" fmla="val 50000"/>
              <a:gd name="adj2" fmla="val 25908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rot="16200000">
            <a:off x="-831600" y="4079880"/>
            <a:ext cx="3097440" cy="642960"/>
          </a:xfrm>
          <a:custGeom>
            <a:avLst/>
            <a:gdLst>
              <a:gd name="textAreaLeft" fmla="*/ 541800 w 3097440"/>
              <a:gd name="textAreaRight" fmla="*/ 2245680 w 3097440"/>
              <a:gd name="textAreaTop" fmla="*/ 86040 h 642960"/>
              <a:gd name="textAreaBottom" fmla="*/ 556920 h 6429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1725398"/>
                <a:lnTo>
                  <a:pt x="20414" y="9985"/>
                </a:lnTo>
                <a:lnTo>
                  <a:pt x="17280" y="21600"/>
                </a:lnTo>
                <a:lnTo>
                  <a:pt x="11774" y="9985"/>
                </a:lnTo>
                <a:lnTo>
                  <a:pt x="13934" y="9985"/>
                </a:lnTo>
                <a:arcTo wR="7560" hR="21600" stAng="-3674602" swAng="-1367964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6300720" y="4243320"/>
            <a:ext cx="2843280" cy="26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7575"/>
            </a:gs>
            <a:gs pos="50000">
              <a:srgbClr val="66ffff"/>
            </a:gs>
            <a:gs pos="100000">
              <a:srgbClr val="2f75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0728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Трудности при создании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Плана действий ПСЭР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68360" y="1916280"/>
            <a:ext cx="8424720" cy="37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ПСЭР явилась дополнительной надстройкой к текущей деятельности подразделений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Подразделения не поняли четко цели и свои возможност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Подразделения не выработали приоритеты деятельност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7575"/>
            </a:gs>
            <a:gs pos="50000">
              <a:srgbClr val="66ffff"/>
            </a:gs>
            <a:gs pos="100000">
              <a:srgbClr val="2f75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0728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Промежуточные итоги 2003 г.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по реализации ПСЭР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566640" y="1557360"/>
            <a:ext cx="767736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Необходимость совершенствования механизма реализации ПСЭР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Необходимость совершенствования нормативно-правовой баз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Достижение индикаторов социально-экономического развития за 2003 год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Отставание экономических показателе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5219640" y="4452840"/>
            <a:ext cx="3924360" cy="24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7575"/>
            </a:gs>
            <a:gs pos="50000">
              <a:srgbClr val="66ffff"/>
            </a:gs>
            <a:gs pos="100000">
              <a:srgbClr val="2f75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072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Основа механизма реализации ПСЭР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"/>
          <p:cNvSpPr/>
          <p:nvPr/>
        </p:nvSpPr>
        <p:spPr>
          <a:xfrm>
            <a:off x="250920" y="1773360"/>
            <a:ext cx="2089080" cy="3887640"/>
          </a:xfrm>
          <a:prstGeom prst="flowChartAlternateProcess">
            <a:avLst/>
          </a:prstGeom>
          <a:solidFill>
            <a:srgbClr val="66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грамма социально-экономи-ческого развит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708360" y="1484280"/>
            <a:ext cx="5040360" cy="1152720"/>
          </a:xfrm>
          <a:prstGeom prst="flowChartTerminator">
            <a:avLst/>
          </a:prstGeom>
          <a:solidFill>
            <a:srgbClr val="66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сновные направле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оциально-экономическог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азвит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140360" y="3789360"/>
            <a:ext cx="863280" cy="792000"/>
          </a:xfrm>
          <a:prstGeom prst="flowChartOffpageConnector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292720" y="3789360"/>
            <a:ext cx="863640" cy="792000"/>
          </a:xfrm>
          <a:prstGeom prst="flowChartOffpageConnector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851280" y="3278160"/>
            <a:ext cx="47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Целевые подпрограм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669080" y="3789360"/>
            <a:ext cx="863640" cy="792000"/>
          </a:xfrm>
          <a:prstGeom prst="flowChartOffpageConnector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516720" y="3789360"/>
            <a:ext cx="863640" cy="792000"/>
          </a:xfrm>
          <a:prstGeom prst="flowChartOffpageConnector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958000" y="2779560"/>
            <a:ext cx="485640" cy="505080"/>
          </a:xfrm>
          <a:prstGeom prst="downArrow">
            <a:avLst>
              <a:gd name="adj1" fmla="val 50000"/>
              <a:gd name="adj2" fmla="val 26001"/>
            </a:avLst>
          </a:prstGeom>
          <a:solidFill>
            <a:srgbClr val="808000">
              <a:alpha val="6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708360" y="4869000"/>
            <a:ext cx="5111640" cy="1081080"/>
          </a:xfrm>
          <a:prstGeom prst="flowChartAlternateProcess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лан действ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556000" y="1773360"/>
            <a:ext cx="1079280" cy="3960720"/>
          </a:xfrm>
          <a:prstGeom prst="rightArrowCallout">
            <a:avLst>
              <a:gd name="adj1" fmla="val 68101"/>
              <a:gd name="adj2" fmla="val 91710"/>
              <a:gd name="adj3" fmla="val 27796"/>
              <a:gd name="adj4" fmla="val 53824"/>
            </a:avLst>
          </a:prstGeom>
          <a:solidFill>
            <a:srgbClr val="808000">
              <a:alpha val="6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00ccff"/>
            </a:gs>
            <a:gs pos="100000">
              <a:srgbClr val="99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0728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Задачи Схемы развития и размещения производительных сил Иркутской област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26560" y="1773000"/>
            <a:ext cx="753444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Оптимизация размещения производительных сил област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Определение приоритетов экономического развития МО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Формирование внутриобластных экономических кластеров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7164360" y="4797360"/>
            <a:ext cx="1795320" cy="18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3" name=""/>
          <p:cNvGraphicFramePr/>
          <p:nvPr/>
        </p:nvGraphicFramePr>
        <p:xfrm>
          <a:off x="1476360" y="241200"/>
          <a:ext cx="7199280" cy="661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41200"/>
                    <a:ext cx="7199280" cy="661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"/>
          <p:cNvSpPr/>
          <p:nvPr/>
        </p:nvSpPr>
        <p:spPr>
          <a:xfrm>
            <a:off x="7166880" y="2781360"/>
            <a:ext cx="125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ухой Ло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276720" y="5300640"/>
            <a:ext cx="1942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выктинское газовое месторожд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508720" y="1844640"/>
            <a:ext cx="215640" cy="360360"/>
          </a:xfrm>
          <a:prstGeom prst="triangle">
            <a:avLst>
              <a:gd name="adj" fmla="val 50000"/>
            </a:avLst>
          </a:prstGeom>
          <a:solidFill>
            <a:srgbClr val="00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284720" y="4869000"/>
            <a:ext cx="216000" cy="360360"/>
          </a:xfrm>
          <a:prstGeom prst="triangle">
            <a:avLst>
              <a:gd name="adj" fmla="val 50000"/>
            </a:avLst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308720" y="3284640"/>
            <a:ext cx="56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A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924360" y="2205000"/>
            <a:ext cx="3313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ерхнечонское нефтяное месторожд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68360" y="260280"/>
            <a:ext cx="813600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ерспективы освоения природно-ресурсного потенциала области в соответствии со Схем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164360" y="4869000"/>
            <a:ext cx="142416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200"/>
                </a:solidFill>
                <a:latin typeface="Arial"/>
              </a:rPr>
              <a:t>золо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200"/>
                </a:solidFill>
                <a:latin typeface="Arial"/>
              </a:rPr>
              <a:t>неф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200"/>
                </a:solidFill>
                <a:latin typeface="Arial"/>
              </a:rPr>
              <a:t>га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516720" y="4869000"/>
            <a:ext cx="56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A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59640" y="5302080"/>
            <a:ext cx="216000" cy="28764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659640" y="5734080"/>
            <a:ext cx="216000" cy="287280"/>
          </a:xfrm>
          <a:prstGeom prst="triangle">
            <a:avLst>
              <a:gd name="adj" fmla="val 50000"/>
            </a:avLst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ree"/>
          <p:cNvSpPr/>
          <p:nvPr/>
        </p:nvSpPr>
        <p:spPr>
          <a:xfrm>
            <a:off x="3419640" y="4005360"/>
            <a:ext cx="360360" cy="504720"/>
          </a:xfr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ree"/>
          <p:cNvSpPr/>
          <p:nvPr/>
        </p:nvSpPr>
        <p:spPr>
          <a:xfrm>
            <a:off x="5364000" y="2852640"/>
            <a:ext cx="360360" cy="505080"/>
          </a:xfr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ree"/>
          <p:cNvSpPr/>
          <p:nvPr/>
        </p:nvSpPr>
        <p:spPr>
          <a:xfrm>
            <a:off x="4284720" y="4005360"/>
            <a:ext cx="360360" cy="504720"/>
          </a:xfr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ree"/>
          <p:cNvSpPr/>
          <p:nvPr/>
        </p:nvSpPr>
        <p:spPr>
          <a:xfrm>
            <a:off x="5292720" y="3645000"/>
            <a:ext cx="360360" cy="504720"/>
          </a:xfr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ree"/>
          <p:cNvSpPr/>
          <p:nvPr/>
        </p:nvSpPr>
        <p:spPr>
          <a:xfrm>
            <a:off x="6156360" y="2924280"/>
            <a:ext cx="360360" cy="504720"/>
          </a:xfr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ree"/>
          <p:cNvSpPr/>
          <p:nvPr/>
        </p:nvSpPr>
        <p:spPr>
          <a:xfrm>
            <a:off x="4140360" y="2924280"/>
            <a:ext cx="360360" cy="504720"/>
          </a:xfr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5T10:01:48Z</dcterms:created>
  <dc:creator>1</dc:creator>
  <dc:description/>
  <dc:language>en-US</dc:language>
  <cp:lastModifiedBy>Виолин Сергей</cp:lastModifiedBy>
  <dcterms:modified xsi:type="dcterms:W3CDTF">2004-10-18T06:19:52Z</dcterms:modified>
  <cp:revision>150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53167525</vt:r8>
  </property>
  <property fmtid="{D5CDD505-2E9C-101B-9397-08002B2CF9AE}" pid="3" name="_AuthorEmail">
    <vt:lpwstr>violin@admirk.ru</vt:lpwstr>
  </property>
  <property fmtid="{D5CDD505-2E9C-101B-9397-08002B2CF9AE}" pid="4" name="_AuthorEmailDisplayName">
    <vt:lpwstr>violin</vt:lpwstr>
  </property>
  <property fmtid="{D5CDD505-2E9C-101B-9397-08002B2CF9AE}" pid="5" name="_EmailSubject">
    <vt:lpwstr>Для Федотова Д.Ю.</vt:lpwstr>
  </property>
</Properties>
</file>