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96D-F4BC-44EE-87A4-CBA192E2B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6F9-25D4-4A45-8F6E-406C4105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AC8-D5DA-4325-A661-F22A9061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2152-F547-48DA-84B7-59B7A330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D1BF-D52F-4976-A23E-DBC5389D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59BE-6947-4F39-B3DA-3B7B09F3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4BB4-4717-4020-AB05-C01949EB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1E1C-1DF3-44C9-8E02-E769BDD2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4B3C-D5D2-4133-836B-C1C94B28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A1E2-95AE-4843-B272-EDD44D91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1DB4-A080-44BE-AE56-CD01E76E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759-A66F-476C-91EA-1E693B6D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E23C-8889-4C3A-B1FC-8EB6A5CE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ABF7-3865-47B7-993F-4F41DEB5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69CB-ADB3-46E9-A7CC-C355D7B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55034-C077-4543-B14D-BED3EC35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030C-426F-400C-9273-BE8697D3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A6C-CB05-4F77-B260-2C0EA06C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2A5-A3B9-41E0-A2EC-7C79107B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041E-0085-4FB7-8D1F-2394415F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77B-D5CA-4BBB-BAAF-8AC5BC08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E7D9-D28D-47FD-9680-603C29B6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485-E3BE-4C42-88E3-671C7AE9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C443-59FF-4484-8D87-5651DF80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8870F-39A4-44D8-B17B-8DCC4F14C45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8B66-CA65-4777-A7A6-6DB320896B44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640" y="2130480"/>
            <a:ext cx="835344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Частно-общественное партнерство – направления и перспективы реализации (на примере г. Казани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егапроект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«Надежный дом, удобный район: реформирование и развитие жилищной сферы»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5657760" cy="163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857680" y="1301760"/>
            <a:ext cx="19429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 rot="10821000">
            <a:off x="1186560" y="413784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Структура жилищного фонда Казани по формам собственност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ПЫТ в организации партнерст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году администрация префектуры территории «Казанский посад» объявила конкурс на право заключения договора подряда на санитарно-техническое содержание улиц, тротуаров, дворов, расположенных на территории «Казанский посад», а также вывоз мусора сроком на 1 (один) го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Цель – обеспечение надлежащей санитарно-технической эксплуатации территории «Казанский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участия в конкурсе обратились 13 организаций, фирм и частных лиц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ПЫТ в организации партнерст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001 год - Департамент жилищно-коммунального хозяйства администрации г.Казани объявил конкурс на отбор подрядных организаций, частных компаний, предпринимателей для обслуживания, содержания и ремонта жилых домов (ЖЭУ) по двум номинациям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) подрядная организация для обслуживания жилого микрорайо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) предприниматель-подрядчик (семейный предприниматель) для обслуживания жилого дома, группы домов с предоставлением служебной кварти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Цель и мотивация - улучшение качества обслуживания населения и снижение бюджетной нагруз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частия в конкурсе обратилось 24 подрядные организации, 34 частных предпринимате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ПЫТ в организации партнерст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2 год - постановление Главы администрации г.Казани об организации эксперимента по реформированию жилищно-коммунального хозяйства на базе жилого массива «Новатор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ель проекта – улучшение содержания жилого фонда, повышение качества жилищно-коммунальных услуг, более рациональное использование бюджетных средств, создание условий для развития конкурентной среды, содействия новым формам хозяйствования, реализации задач по реформированию ЖКХ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ель проекта определяет его задачи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проведение эксперимента по отработке механизмов реформирования ЖКХ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самоорганизация населения (в форме домовых комитетов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поддержка предпринимательской инициативы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- повышения уровня эксплуатации, ремонта и обслуживания жилых и нежилых строений, их инженерного оборудования и санитарно-технического состояния территории отдельно взятого жилого массива «Новатор» в Советском районе г.Казани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Юридическое оформление – договор о передаче жилого массива «Новатор» в доверительное управле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иболее распространенные  риски партнерств в сфере жилищно-коммунального хозяйств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ксплуатационный рис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инансовый рис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ституциональный рис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рмин и его пере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"public-private partnership"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но-общественное партнер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но-государственное партнер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осударственно-частное партнер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униципально-частное партнер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но-государственная кооперац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ублично-частное партнерств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енно-частное партнерство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тратегия развития Казани до 2015 год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курентные позиции Каз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иссия и главная цель развития Каз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ратегические направления развития Казан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ели, задачи и меры по реализации Стратеги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гапроект «Надежный дом, удобный район: реформирование и развитие жилищной сферы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Стратегические направления развития Казан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плоченное общест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инамичная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стойчивая городская сред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плоченное общество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Учитывая многоплановость социальных вопросов, целесообразно рассматривать общую проблематику применительно к основным секторам и отраслям социальной сфер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разован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ультура и средства массовой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доровье насел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циальная 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циальная структур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ражданское общество и вла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Цель </a:t>
            </a: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«Всесторонне развитие личности на основе улучшения качества, доступности и разнообразия услуг в сфере образования, культуры, здравоохранения; развитие гражданского общества, системы местного самоуправления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Цель 1. Создание столичной образовательной системы, соответствующей современным требованиям, укрепление позиции Казани как  университетского цент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циальная защ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Цель 4. Смягчение негативных последствий бедности, уменьшение социального неравенст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оциальная защи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«Программа мероприятий по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овершенствованию мер социальной поддержки населения»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правленна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замену натуральных льгот денежными компенсациями, переход к оказанию социальных услуг на договорной основе и привлечение негосударственных подрядчиков к выполнению муниципального заказа на социальное обслужива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егапроект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«Надежный дом, удобный район: реформирование и развитие жилищной сферы»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учшении среды жизнедеяте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жилья и социальной инфраструктуры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ходе реформирования ЖК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 развития жилищной сферы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Важнейшими целями были признан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Эффективное функционирование предприятий ЖКХ и повышение качества их услу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еспечение социальных гарантий малоимущим слоям насе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здание безопасной и благоустроенной городской среды, обеспечивающей комфортные условия жизне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Мегапроект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«Надежный дом, удобный район: реформирование и развитие жилищной сферы»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лищный фонд Казани составляет 20,1 млн м2 или 46,7 тыс. жилых домов (по состоянию на 1 января 2002 г.). В течение последних пяти лет за счет строительства нового жилья жилищный фонд ежегодно увеличивался более чем на 500 тыс. м2, т. е. прирост в расчете на одного человека составляет 2,5 м2 жилой площади. Для сравнения: в Москве этот показатель составляет 2,1 м2, Уфе ‑ 1,33 м2, Санкт-Петербурге ‑ 1,2 м2, Самаре и Челябинске ‑ 1,12 м2, Нижнем Новгороде ‑ 0,74 м2, Омске ‑ 0,52 м2. В среднем на одного жителя Казани по состоянию на 1 января 2002 г. приходилось 19,1 м2 общей площади жиль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ля частного жилищного фонда в общем жилищном фонде Казани неуклонно растет и составляет сейчас около 60%. Тем не менее дома, в которых подавляющее количество квартир являются частными, фактически относятся к муниципальному жилищному фонду, поскольку внешние стены, сети, подвалы и чердаки находятся на балансе муниципалите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2:07:44Z</dcterms:created>
  <dc:creator>Sveta</dc:creator>
  <dc:description/>
  <dc:language>en-US</dc:language>
  <cp:lastModifiedBy>Veronika Sharova</cp:lastModifiedBy>
  <dcterms:modified xsi:type="dcterms:W3CDTF">2004-10-29T07:08:04Z</dcterms:modified>
  <cp:revision>15</cp:revision>
  <dc:subject/>
  <dc:title>Термин и его перевод</dc:title>
</cp:coreProperties>
</file>