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7.wmf" ContentType="image/x-wmf"/>
  <Override PartName="/ppt/media/image4.wmf" ContentType="image/x-wmf"/>
  <Override PartName="/ppt/media/image28.wmf" ContentType="image/x-wmf"/>
  <Override PartName="/ppt/media/image30.png" ContentType="image/png"/>
  <Override PartName="/ppt/media/image37.jpeg" ContentType="image/jpeg"/>
  <Override PartName="/ppt/media/image5.wmf" ContentType="image/x-wmf"/>
  <Override PartName="/ppt/media/image39.gif" ContentType="image/gif"/>
  <Override PartName="/ppt/media/image33.jpeg" ContentType="image/jpeg"/>
  <Override PartName="/ppt/media/image40.png" ContentType="image/png"/>
  <Override PartName="/ppt/media/image42.jpeg" ContentType="image/jpeg"/>
  <Override PartName="/ppt/media/image44.jpeg" ContentType="image/jpeg"/>
  <Override PartName="/ppt/media/image46.png" ContentType="image/png"/>
  <Override PartName="/ppt/media/image6.wmf" ContentType="image/x-wmf"/>
  <Override PartName="/ppt/media/image43.jpeg" ContentType="image/jpeg"/>
  <Override PartName="/ppt/media/image35.png" ContentType="image/png"/>
  <Override PartName="/ppt/media/image47.png" ContentType="image/png"/>
  <Override PartName="/ppt/media/image49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png" ContentType="image/png"/>
  <Override PartName="/ppt/media/image48.png" ContentType="image/png"/>
  <Override PartName="/ppt/media/image53.jpeg" ContentType="image/jpeg"/>
  <Override PartName="/ppt/media/image50.jpeg" ContentType="image/jpeg"/>
  <Override PartName="/ppt/media/image52.png" ContentType="image/png"/>
  <Override PartName="/ppt/media/image13.wmf" ContentType="image/x-wmf"/>
  <Override PartName="/ppt/media/image8.jpeg" ContentType="image/jpeg"/>
  <Override PartName="/ppt/media/image29.jpeg" ContentType="image/jpeg"/>
  <Override PartName="/ppt/media/image12.wmf" ContentType="image/x-wmf"/>
  <Override PartName="/ppt/media/image9.wmf" ContentType="image/x-wmf"/>
  <Override PartName="/ppt/media/image41.png" ContentType="image/png"/>
  <Override PartName="/ppt/media/image11.wmf" ContentType="image/x-wmf"/>
  <Override PartName="/ppt/media/image3.png" ContentType="image/png"/>
  <Override PartName="/ppt/media/image31.jpeg" ContentType="image/jpe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8bc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ac8b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8bc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ac8b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8bc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ac8b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089C-515A-4658-A725-CDCC49A157C7}" type="slidenum">
              <a:rPr b="1" lang="ru-RU" sz="1200" spc="-1" strike="noStrike">
                <a:solidFill>
                  <a:srgbClr val="fac8bc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9E1-772E-450E-8C3A-2579C13B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BF9-C21D-420E-8EC6-C98D8049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366-26D6-4D86-9DE8-08AC369A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B3F-D27C-40DF-AA84-162F113E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258B-2925-4932-B6C0-5E59DC13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F7EE-C60E-476D-874F-FFE77BD9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74F1-41DD-4A7A-A35C-F07437CC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D17E-CE16-4329-9D01-859E6362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ACE4-9407-45C8-AA74-88FF06C2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0F6E-91A3-4D19-A82D-9DB55E3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047F-B615-428B-B66D-31098845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007-4425-49F4-A922-AB91D1E0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05C8-8879-47A2-9D36-7A861AC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9D8A-312E-4938-97B6-98554221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60BE-1519-41EB-9723-E036BF5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2AA6-1CEB-4F55-A4CC-8E7440C5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E101-7AAF-417D-9AAE-A0DD4FDD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BB5-BB6E-4D13-B82F-D268FE6A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759-16B3-450C-9E31-45CF6CC8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6DF-7CC9-4DC9-8845-0A270D9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A0F-482F-44E3-A3AB-705F41BE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3A1-001C-40B6-B14A-B67D5DB7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9CF-79A9-4AEB-95C7-9F4BBC52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62D-039A-4980-A725-1C597010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EBF7-B2A8-497F-B1F7-D4C953425DD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14D0-6FA5-4599-885C-1071FF79C10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image" Target="../media/image22.wmf"/><Relationship Id="rId16" Type="http://schemas.openxmlformats.org/officeDocument/2006/relationships/image" Target="../media/image23.wmf"/><Relationship Id="rId17" Type="http://schemas.openxmlformats.org/officeDocument/2006/relationships/image" Target="../media/image24.wmf"/><Relationship Id="rId18" Type="http://schemas.openxmlformats.org/officeDocument/2006/relationships/image" Target="../media/image25.wmf"/><Relationship Id="rId19" Type="http://schemas.openxmlformats.org/officeDocument/2006/relationships/image" Target="../media/image26.wmf"/><Relationship Id="rId20" Type="http://schemas.openxmlformats.org/officeDocument/2006/relationships/image" Target="../media/image27.wmf"/><Relationship Id="rId21" Type="http://schemas.openxmlformats.org/officeDocument/2006/relationships/image" Target="../media/image28.wmf"/><Relationship Id="rId22" Type="http://schemas.openxmlformats.org/officeDocument/2006/relationships/image" Target="../media/image28.wmf"/><Relationship Id="rId23" Type="http://schemas.openxmlformats.org/officeDocument/2006/relationships/image" Target="../media/image29.jpeg"/><Relationship Id="rId24" Type="http://schemas.openxmlformats.org/officeDocument/2006/relationships/image" Target="../media/image30.png"/><Relationship Id="rId25" Type="http://schemas.openxmlformats.org/officeDocument/2006/relationships/image" Target="../media/image30.png"/><Relationship Id="rId26" Type="http://schemas.openxmlformats.org/officeDocument/2006/relationships/image" Target="../media/image30.png"/><Relationship Id="rId27" Type="http://schemas.openxmlformats.org/officeDocument/2006/relationships/image" Target="../media/image31.jpeg"/><Relationship Id="rId28" Type="http://schemas.openxmlformats.org/officeDocument/2006/relationships/image" Target="../media/image32.jpeg"/><Relationship Id="rId29" Type="http://schemas.openxmlformats.org/officeDocument/2006/relationships/image" Target="../media/image33.jpeg"/><Relationship Id="rId30" Type="http://schemas.openxmlformats.org/officeDocument/2006/relationships/image" Target="../media/image34.jpeg"/><Relationship Id="rId3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40384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9e6af"/>
                </a:solidFill>
                <a:latin typeface="Times New Roman"/>
              </a:rPr>
              <a:t>РАЗВИТИЕ ВЫПУСКА МАШИН</a:t>
            </a:r>
            <a:br>
              <a:rPr sz="3800"/>
            </a:br>
            <a:r>
              <a:rPr b="1" lang="en-US" sz="3800" spc="-1" strike="noStrike">
                <a:solidFill>
                  <a:srgbClr val="f9e6af"/>
                </a:solidFill>
                <a:latin typeface="Times New Roman"/>
              </a:rPr>
              <a:t>И ОБОРУДОВАНИЯ</a:t>
            </a:r>
            <a:br>
              <a:rPr sz="3800"/>
            </a:br>
            <a:r>
              <a:rPr b="1" lang="en-US" sz="3800" spc="-1" strike="noStrike">
                <a:solidFill>
                  <a:srgbClr val="f9e6af"/>
                </a:solidFill>
                <a:latin typeface="Times New Roman"/>
              </a:rPr>
              <a:t>ДЛЯ ГОРОДСКОГО ХОЗЯЙСТВА</a:t>
            </a:r>
            <a:endParaRPr b="0" lang="en-US" sz="3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2362320"/>
            <a:ext cx="7696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e6af"/>
                </a:solidFill>
                <a:latin typeface="Arial Narrow"/>
                <a:ea typeface="Times New Roman"/>
              </a:rPr>
              <a:t>Комплексная целевая программа</a:t>
            </a:r>
            <a:r>
              <a:rPr b="1" i="1" lang="en-US" sz="2800" spc="-1" strike="noStrike">
                <a:solidFill>
                  <a:srgbClr val="f9e6af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f9e6af"/>
                </a:solidFill>
                <a:latin typeface="Arial Narrow"/>
                <a:ea typeface="Times New Roman"/>
              </a:rPr>
              <a:t>реализации Стратегического плана</a:t>
            </a:r>
            <a:r>
              <a:rPr b="1" i="1" lang="en-US" sz="2800" spc="-1" strike="noStrike">
                <a:solidFill>
                  <a:srgbClr val="f9e6af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f9e6af"/>
                </a:solidFill>
                <a:latin typeface="Arial Narrow"/>
                <a:ea typeface="Times New Roman"/>
              </a:rPr>
              <a:t>устойчивого развития города</a:t>
            </a:r>
            <a:r>
              <a:rPr b="1" i="1" lang="en-US" sz="2800" spc="-1" strike="noStrike">
                <a:solidFill>
                  <a:srgbClr val="f9e6af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f9e6af"/>
                </a:solidFill>
                <a:latin typeface="Arial Narrow"/>
                <a:ea typeface="Times New Roman"/>
              </a:rPr>
              <a:t>Новосибирска</a:t>
            </a:r>
            <a:r>
              <a:rPr b="1" i="1" lang="en-US" sz="2800" spc="-1" strike="noStrike">
                <a:solidFill>
                  <a:srgbClr val="f9e6a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e6af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86200" y="304920"/>
          <a:ext cx="1905120" cy="18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04920"/>
                    <a:ext cx="1905120" cy="18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09480" y="22860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3e1ed"/>
                </a:solidFill>
                <a:latin typeface="Times New Roman"/>
              </a:rPr>
              <a:t>ПРОМЫШЛЕННО-ТЕХНИЧЕСКАЯ БАЗА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8600" y="685800"/>
            <a:ext cx="85345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3e1ed"/>
                </a:solidFill>
                <a:uFillTx/>
                <a:latin typeface="Times New Roman"/>
              </a:rPr>
              <a:t>Услуги в научно-технической сфере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28600" y="2362320"/>
            <a:ext cx="4114800" cy="3276360"/>
            <a:chOff x="228600" y="2362320"/>
            <a:chExt cx="4114800" cy="3276360"/>
          </a:xfrm>
        </p:grpSpPr>
        <p:sp>
          <p:nvSpPr>
            <p:cNvPr id="752" name=""/>
            <p:cNvSpPr/>
            <p:nvPr/>
          </p:nvSpPr>
          <p:spPr>
            <a:xfrm>
              <a:off x="228600" y="2362320"/>
              <a:ext cx="4114800" cy="3276360"/>
            </a:xfrm>
            <a:prstGeom prst="rect">
              <a:avLst/>
            </a:prstGeom>
            <a:solidFill>
              <a:srgbClr val="c3e1ed"/>
            </a:solidFill>
            <a:ln w="9360">
              <a:solidFill>
                <a:srgbClr val="c3e1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0880" y="2438280"/>
              <a:ext cx="3886200" cy="31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7a"/>
                  </a:solidFill>
                  <a:latin typeface="Times New Roman"/>
                </a:rPr>
                <a:t>Инновационные центры </a:t>
              </a:r>
              <a:br>
                <a:rPr sz="1800"/>
              </a:br>
              <a:r>
                <a:rPr b="1" i="1" lang="ru-RU" sz="1800" spc="-1" strike="noStrike">
                  <a:solidFill>
                    <a:srgbClr val="00007a"/>
                  </a:solidFill>
                  <a:latin typeface="Times New Roman"/>
                </a:rPr>
                <a:t>и фонды содействия научно-техническому развитию: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Технопарк «Новосибирск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Новосибирский Фонд «Дом промыш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-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ленности»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Фонд содействия развитию малых форм предприятий в научно-технической сфере (Фонд Бортника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300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7a"/>
                  </a:solidFill>
                  <a:latin typeface="Times New Roman"/>
                </a:rPr>
                <a:t>Задачи: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7a"/>
                  </a:solidFill>
                  <a:latin typeface="Times New Roman"/>
                </a:rPr>
                <a:t>Организация конкурсов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7a"/>
                  </a:solidFill>
                  <a:latin typeface="Times New Roman"/>
                </a:rPr>
                <a:t>Отбор и поддержка проектов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7a"/>
                  </a:solidFill>
                  <a:latin typeface="Times New Roman"/>
                </a:rPr>
                <a:t>Венчурная деятельность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7a"/>
                  </a:solidFill>
                  <a:latin typeface="Times New Roman"/>
                </a:rPr>
                <a:t>Привлечение инвестиций (в т.ч. иностран-ных)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5105520" y="2362320"/>
            <a:ext cx="3961800" cy="3276000"/>
            <a:chOff x="5105520" y="2362320"/>
            <a:chExt cx="3961800" cy="3276000"/>
          </a:xfrm>
        </p:grpSpPr>
        <p:sp>
          <p:nvSpPr>
            <p:cNvPr id="755" name=""/>
            <p:cNvSpPr/>
            <p:nvPr/>
          </p:nvSpPr>
          <p:spPr>
            <a:xfrm>
              <a:off x="5105520" y="2362320"/>
              <a:ext cx="3885840" cy="3276000"/>
            </a:xfrm>
            <a:prstGeom prst="rect">
              <a:avLst/>
            </a:prstGeom>
            <a:solidFill>
              <a:srgbClr val="c3e1ed"/>
            </a:solidFill>
            <a:ln w="9360">
              <a:solidFill>
                <a:srgbClr val="c3e1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81480" y="2601720"/>
              <a:ext cx="3885840" cy="24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7a"/>
                  </a:solidFill>
                  <a:latin typeface="Times New Roman"/>
                </a:rPr>
                <a:t>Консалтинговые организации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457200" indent="-457200"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7a"/>
                  </a:solidFill>
                  <a:latin typeface="Times New Roman"/>
                </a:rPr>
                <a:t>в научно-технической сфере: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457200" indent="-457200"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Ассоциация профессиональных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консультантов «Ключевые технологии»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НППК  «Консалтинг Сибири»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Группа компаний Мамонов Консалтинг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7a"/>
                  </a:solidFill>
                  <a:latin typeface="Times New Roman"/>
                </a:rPr>
                <a:t>Задачи: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7a"/>
                  </a:solidFill>
                  <a:latin typeface="Times New Roman"/>
                </a:rPr>
                <a:t>Системный анализ и маркетинг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7a"/>
                  </a:solidFill>
                  <a:latin typeface="Times New Roman"/>
                </a:rPr>
                <a:t>Разработка  технических идей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7a"/>
                  </a:solidFill>
                  <a:latin typeface="Times New Roman"/>
                </a:rPr>
                <a:t>Разработка бизнес-планов проектов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676520" y="1219320"/>
            <a:ext cx="5638680" cy="761760"/>
            <a:chOff x="1676520" y="1219320"/>
            <a:chExt cx="5638680" cy="761760"/>
          </a:xfrm>
        </p:grpSpPr>
        <p:sp>
          <p:nvSpPr>
            <p:cNvPr id="758" name=""/>
            <p:cNvSpPr/>
            <p:nvPr/>
          </p:nvSpPr>
          <p:spPr>
            <a:xfrm>
              <a:off x="1676520" y="1219320"/>
              <a:ext cx="5638680" cy="761760"/>
            </a:xfrm>
            <a:prstGeom prst="rect">
              <a:avLst/>
            </a:prstGeom>
            <a:solidFill>
              <a:srgbClr val="c3e1e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752480" y="129528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a"/>
                  </a:solidFill>
                  <a:latin typeface="Times New Roman"/>
                </a:rPr>
                <a:t>Проекты по техническому оснащению</a:t>
              </a: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7a"/>
                  </a:solidFill>
                  <a:latin typeface="Times New Roman"/>
                </a:rPr>
                <a:t>городского</a:t>
              </a: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 хозяйства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1905120" y="5958000"/>
            <a:ext cx="5181480" cy="671400"/>
            <a:chOff x="1905120" y="5958000"/>
            <a:chExt cx="5181480" cy="671400"/>
          </a:xfrm>
        </p:grpSpPr>
        <p:sp>
          <p:nvSpPr>
            <p:cNvPr id="761" name=""/>
            <p:cNvSpPr/>
            <p:nvPr/>
          </p:nvSpPr>
          <p:spPr>
            <a:xfrm>
              <a:off x="1905120" y="5958000"/>
              <a:ext cx="5181480" cy="671400"/>
            </a:xfrm>
            <a:prstGeom prst="rect">
              <a:avLst/>
            </a:prstGeom>
            <a:solidFill>
              <a:srgbClr val="c3e1e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351880" y="6089760"/>
              <a:ext cx="435492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7a"/>
                  </a:solidFill>
                  <a:latin typeface="Times New Roman"/>
                </a:rPr>
                <a:t>Кредитно-финансовые учреждения города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7a"/>
                  </a:solidFill>
                  <a:latin typeface="Times New Roman"/>
                </a:rPr>
                <a:t>Инвестиционная деятельность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4486320" y="2001960"/>
            <a:ext cx="457200" cy="4038480"/>
          </a:xfrm>
          <a:prstGeom prst="upArrow">
            <a:avLst>
              <a:gd name="adj1" fmla="val 36111"/>
              <a:gd name="adj2" fmla="val 56597"/>
            </a:avLst>
          </a:prstGeom>
          <a:solidFill>
            <a:srgbClr val="c3e1e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981080" y="182880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c3e1e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553080" y="182880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c3e1e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057400" y="5410080"/>
            <a:ext cx="4952880" cy="533520"/>
            <a:chOff x="2057400" y="5410080"/>
            <a:chExt cx="4952880" cy="533520"/>
          </a:xfrm>
        </p:grpSpPr>
        <p:sp>
          <p:nvSpPr>
            <p:cNvPr id="767" name=""/>
            <p:cNvSpPr/>
            <p:nvPr/>
          </p:nvSpPr>
          <p:spPr>
            <a:xfrm flipV="1">
              <a:off x="2057400" y="5410080"/>
              <a:ext cx="380880" cy="533520"/>
            </a:xfrm>
            <a:prstGeom prst="upArrow">
              <a:avLst>
                <a:gd name="adj1" fmla="val 50000"/>
                <a:gd name="adj2" fmla="val 35019"/>
              </a:avLst>
            </a:prstGeom>
            <a:solidFill>
              <a:srgbClr val="c3e1e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6629400" y="5410080"/>
              <a:ext cx="380880" cy="533520"/>
            </a:xfrm>
            <a:prstGeom prst="upArrow">
              <a:avLst>
                <a:gd name="adj1" fmla="val 50000"/>
                <a:gd name="adj2" fmla="val 35019"/>
              </a:avLst>
            </a:prstGeom>
            <a:solidFill>
              <a:srgbClr val="c3e1e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1066680" y="23623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оздание на базе научно-технического потенциала го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рода и производственной кооперации новосибирских предприятий отраслей организационно-планового ме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ханизма по техническому перевооружению городского хозяйства Новосибирска машин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ми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и оборудован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м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обеспечивающ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повышение 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уровня 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механизации труда в городском хозяйстве, улучшение качества со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держания городских объектов и снижение эксплуата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ционных затрат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143000" y="30492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НАЯ ЦЕЛЬ КОМПЛЕКСНОЙ ЦЕЛЕВОЙ ПРОГРАММЫ РАЗВИТИЕ ВЫПУСКА МАШИН И ОБОРУДОВАНИЯ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ЛЯ ГОРОДСКОГО ХОЗЯЙ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2590920" y="2666880"/>
            <a:ext cx="0" cy="2210040"/>
          </a:xfrm>
          <a:prstGeom prst="line">
            <a:avLst/>
          </a:prstGeom>
          <a:ln w="76320">
            <a:solidFill>
              <a:srgbClr val="f9e6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e6af"/>
                </a:solidFill>
                <a:latin typeface="Times New Roman"/>
              </a:rPr>
              <a:t>ПРИОРИТЕТНЫЕ ЗАДАЧИ</a:t>
            </a:r>
            <a:br>
              <a:rPr sz="4000"/>
            </a:br>
            <a:br>
              <a:rPr sz="500"/>
            </a:br>
            <a:r>
              <a:rPr b="1" lang="en-US" sz="3000" spc="-1" strike="noStrike">
                <a:solidFill>
                  <a:srgbClr val="f9e6af"/>
                </a:solidFill>
                <a:latin typeface="Arial"/>
                <a:ea typeface="Times New Roman"/>
              </a:rPr>
              <a:t>ТЕХНИЧЕСКОГО</a:t>
            </a:r>
            <a:r>
              <a:rPr b="1" lang="en-US" sz="3000" spc="-1" strike="noStrike">
                <a:solidFill>
                  <a:srgbClr val="f9e6a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9e6af"/>
                </a:solidFill>
                <a:latin typeface="Arial"/>
                <a:ea typeface="Times New Roman"/>
              </a:rPr>
              <a:t>ПЕРЕВООРУЖЕНИЯ ОТРАСЛЕЙ</a:t>
            </a:r>
            <a:r>
              <a:rPr b="1" lang="en-US" sz="3000" spc="-1" strike="noStrike">
                <a:solidFill>
                  <a:srgbClr val="f9e6a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9e6af"/>
                </a:solidFill>
                <a:latin typeface="Arial"/>
                <a:ea typeface="Times New Roman"/>
              </a:rPr>
              <a:t>ГОРОДСКОГО ХОЗЯЙСТВА</a:t>
            </a:r>
            <a:r>
              <a:rPr b="0" lang="en-US" sz="3200" spc="-1" strike="noStrike">
                <a:solidFill>
                  <a:srgbClr val="f9e6a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57200" y="1981080"/>
            <a:ext cx="8610480" cy="838440"/>
            <a:chOff x="457200" y="1981080"/>
            <a:chExt cx="8610480" cy="838440"/>
          </a:xfrm>
        </p:grpSpPr>
        <p:sp>
          <p:nvSpPr>
            <p:cNvPr id="774" name=""/>
            <p:cNvSpPr/>
            <p:nvPr/>
          </p:nvSpPr>
          <p:spPr>
            <a:xfrm>
              <a:off x="457200" y="1981080"/>
              <a:ext cx="8610480" cy="838440"/>
            </a:xfrm>
            <a:prstGeom prst="rect">
              <a:avLst/>
            </a:prstGeom>
            <a:solidFill>
              <a:srgbClr val="f9e6a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33520" y="2085840"/>
              <a:ext cx="845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a"/>
                  </a:solidFill>
                  <a:latin typeface="Times New Roman"/>
                </a:rPr>
                <a:t>Получение в необходимом количестве и эффективное использование современных высокопроизводительных машин и оборудования :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85800" y="3276720"/>
            <a:ext cx="1752480" cy="1295280"/>
            <a:chOff x="685800" y="3276720"/>
            <a:chExt cx="1752480" cy="1295280"/>
          </a:xfrm>
        </p:grpSpPr>
        <p:sp>
          <p:nvSpPr>
            <p:cNvPr id="777" name=""/>
            <p:cNvSpPr/>
            <p:nvPr/>
          </p:nvSpPr>
          <p:spPr>
            <a:xfrm>
              <a:off x="685800" y="3276720"/>
              <a:ext cx="1752480" cy="1295280"/>
            </a:xfrm>
            <a:prstGeom prst="rect">
              <a:avLst/>
            </a:prstGeom>
            <a:solidFill>
              <a:srgbClr val="f9e6a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8480" y="3406680"/>
              <a:ext cx="1639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для санитарного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содержания  и текущего ремон-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та улично-дорож-ной сети город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858000" y="3276720"/>
            <a:ext cx="1752480" cy="1295280"/>
            <a:chOff x="6858000" y="3276720"/>
            <a:chExt cx="1752480" cy="1295280"/>
          </a:xfrm>
        </p:grpSpPr>
        <p:sp>
          <p:nvSpPr>
            <p:cNvPr id="780" name=""/>
            <p:cNvSpPr/>
            <p:nvPr/>
          </p:nvSpPr>
          <p:spPr>
            <a:xfrm>
              <a:off x="6858000" y="3276720"/>
              <a:ext cx="1752480" cy="1295280"/>
            </a:xfrm>
            <a:prstGeom prst="rect">
              <a:avLst/>
            </a:prstGeom>
            <a:solidFill>
              <a:srgbClr val="f9e6a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34320" y="3429000"/>
              <a:ext cx="160020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для эффективно-го освещения  городской терри-тории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990720" y="4876920"/>
            <a:ext cx="1752480" cy="1295280"/>
            <a:chOff x="990720" y="4876920"/>
            <a:chExt cx="1752480" cy="1295280"/>
          </a:xfrm>
        </p:grpSpPr>
        <p:sp>
          <p:nvSpPr>
            <p:cNvPr id="783" name=""/>
            <p:cNvSpPr/>
            <p:nvPr/>
          </p:nvSpPr>
          <p:spPr>
            <a:xfrm>
              <a:off x="990720" y="4876920"/>
              <a:ext cx="1752480" cy="1295280"/>
            </a:xfrm>
            <a:prstGeom prst="rect">
              <a:avLst/>
            </a:prstGeom>
            <a:solidFill>
              <a:srgbClr val="f9e6a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66680" y="4898880"/>
              <a:ext cx="1600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для благоустрой-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ства и уборки ЖКХ дворовых территорий,пе-шеходных доро-жек и тротуаров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743200" y="3276720"/>
            <a:ext cx="1752480" cy="1295280"/>
            <a:chOff x="2743200" y="3276720"/>
            <a:chExt cx="1752480" cy="1295280"/>
          </a:xfrm>
        </p:grpSpPr>
        <p:sp>
          <p:nvSpPr>
            <p:cNvPr id="786" name=""/>
            <p:cNvSpPr/>
            <p:nvPr/>
          </p:nvSpPr>
          <p:spPr>
            <a:xfrm>
              <a:off x="2743200" y="3276720"/>
              <a:ext cx="1752480" cy="1295280"/>
            </a:xfrm>
            <a:prstGeom prst="rect">
              <a:avLst/>
            </a:prstGeom>
            <a:solidFill>
              <a:srgbClr val="f9e6a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55880" y="3406680"/>
              <a:ext cx="16002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для сбора, выво-за, переработки</a:t>
              </a:r>
              <a:br>
                <a:rPr sz="1600"/>
              </a:b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и утилизации   муниципальных твердых отходов 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073320" y="4876920"/>
            <a:ext cx="1752840" cy="1295280"/>
            <a:chOff x="3073320" y="4876920"/>
            <a:chExt cx="1752840" cy="1295280"/>
          </a:xfrm>
        </p:grpSpPr>
        <p:sp>
          <p:nvSpPr>
            <p:cNvPr id="789" name=""/>
            <p:cNvSpPr/>
            <p:nvPr/>
          </p:nvSpPr>
          <p:spPr>
            <a:xfrm>
              <a:off x="3073320" y="4876920"/>
              <a:ext cx="1752840" cy="1295280"/>
            </a:xfrm>
            <a:prstGeom prst="rect">
              <a:avLst/>
            </a:prstGeom>
            <a:solidFill>
              <a:srgbClr val="f9e6a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00400" y="4930920"/>
              <a:ext cx="160020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для озеленитель-ных и лесопар-ковых работ на территории го-род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5156280" y="4876920"/>
            <a:ext cx="1752480" cy="1295280"/>
            <a:chOff x="5156280" y="4876920"/>
            <a:chExt cx="1752480" cy="1295280"/>
          </a:xfrm>
        </p:grpSpPr>
        <p:sp>
          <p:nvSpPr>
            <p:cNvPr id="792" name=""/>
            <p:cNvSpPr/>
            <p:nvPr/>
          </p:nvSpPr>
          <p:spPr>
            <a:xfrm>
              <a:off x="5156280" y="4876920"/>
              <a:ext cx="1752480" cy="1295280"/>
            </a:xfrm>
            <a:prstGeom prst="rect">
              <a:avLst/>
            </a:prstGeom>
            <a:solidFill>
              <a:srgbClr val="f9e6a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57800" y="5019840"/>
              <a:ext cx="160020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для энергосбеже-ния в жилищно-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коммунальном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хозяйстве город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4800600" y="3276720"/>
            <a:ext cx="1752480" cy="1295280"/>
            <a:chOff x="4800600" y="3276720"/>
            <a:chExt cx="1752480" cy="1295280"/>
          </a:xfrm>
        </p:grpSpPr>
        <p:sp>
          <p:nvSpPr>
            <p:cNvPr id="795" name=""/>
            <p:cNvSpPr/>
            <p:nvPr/>
          </p:nvSpPr>
          <p:spPr>
            <a:xfrm>
              <a:off x="4800600" y="3276720"/>
              <a:ext cx="1752480" cy="1295280"/>
            </a:xfrm>
            <a:prstGeom prst="rect">
              <a:avLst/>
            </a:prstGeom>
            <a:solidFill>
              <a:srgbClr val="f9e6a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876920" y="3429000"/>
              <a:ext cx="167616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для работы и раз-вития системы водообеспечения и водоотведения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648320" y="2666880"/>
            <a:ext cx="0" cy="2210040"/>
          </a:xfrm>
          <a:prstGeom prst="line">
            <a:avLst/>
          </a:prstGeom>
          <a:ln w="76320">
            <a:solidFill>
              <a:srgbClr val="f9e6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705720" y="2666880"/>
            <a:ext cx="0" cy="2210040"/>
          </a:xfrm>
          <a:prstGeom prst="line">
            <a:avLst/>
          </a:prstGeom>
          <a:ln w="76320">
            <a:solidFill>
              <a:srgbClr val="f9e6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763120" y="2666880"/>
            <a:ext cx="0" cy="2210040"/>
          </a:xfrm>
          <a:prstGeom prst="line">
            <a:avLst/>
          </a:prstGeom>
          <a:ln w="76320">
            <a:solidFill>
              <a:srgbClr val="f9e6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238880" y="4876920"/>
            <a:ext cx="1752840" cy="1295280"/>
            <a:chOff x="7238880" y="4876920"/>
            <a:chExt cx="1752840" cy="1295280"/>
          </a:xfrm>
        </p:grpSpPr>
        <p:sp>
          <p:nvSpPr>
            <p:cNvPr id="801" name=""/>
            <p:cNvSpPr/>
            <p:nvPr/>
          </p:nvSpPr>
          <p:spPr>
            <a:xfrm>
              <a:off x="7238880" y="4876920"/>
              <a:ext cx="1752840" cy="1295280"/>
            </a:xfrm>
            <a:prstGeom prst="rect">
              <a:avLst/>
            </a:prstGeom>
            <a:solidFill>
              <a:srgbClr val="f9e6a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15200" y="5151600"/>
              <a:ext cx="160020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для муниципаль-ного транспорт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город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1600200" y="2819520"/>
            <a:ext cx="0" cy="457200"/>
          </a:xfrm>
          <a:prstGeom prst="line">
            <a:avLst/>
          </a:prstGeom>
          <a:ln w="76320">
            <a:solidFill>
              <a:srgbClr val="f9e6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57600" y="2819520"/>
            <a:ext cx="0" cy="457200"/>
          </a:xfrm>
          <a:prstGeom prst="line">
            <a:avLst/>
          </a:prstGeom>
          <a:ln w="76320">
            <a:solidFill>
              <a:srgbClr val="f9e6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15000" y="2819520"/>
            <a:ext cx="0" cy="457200"/>
          </a:xfrm>
          <a:prstGeom prst="line">
            <a:avLst/>
          </a:prstGeom>
          <a:ln w="76320">
            <a:solidFill>
              <a:srgbClr val="f9e6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72400" y="2819520"/>
            <a:ext cx="0" cy="457200"/>
          </a:xfrm>
          <a:prstGeom prst="line">
            <a:avLst/>
          </a:prstGeom>
          <a:ln w="76320">
            <a:solidFill>
              <a:srgbClr val="f9e6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ТЕХНОЛОГИИ И ОБОРУДОВАНИЕ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ДЛЯ УБОРКИ, САНИТАРНОГО СОДЕРЖАНИЯ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И РЕМОНТА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УЛИЧНО-ДОРОЖНОЙ СЕТИ ГОРОДА ДВОРОВЫХ ТЕРРИТО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РИЙ, ПЕШЕХОДНЫХ ДОРОЖЕК И ТРОТУАРОВ</a:t>
            </a: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2280" y="1371600"/>
            <a:ext cx="36576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етняя схема рабо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дметание дорог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подметальными машинам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йка дорог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поливо-моечными машинам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емонт дорожного полотн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елка трещи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для чего требуются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прессоры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, специализированные ма-шины  для заливки битума и его трас-портировки,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гудронаторы и ас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льтоукладчики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Ямочный ремонт асфальто-бетонных по-крытий работ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специальными машинам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(например, машинами ЗАО «Бецема»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нение волн и наплывов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сфальто-бетонных покрытий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тко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- машины: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фальтразогревател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и, автогрйдеры,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тк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114800" y="1484280"/>
            <a:ext cx="49230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имняя схема работы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ебание и подметание снега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ужно-щеточными снегоочистителям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ботка дорожных покрытий противогололедн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 материалами,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ами и тележками, равномер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брасывающие эти материал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ывание уплотненного снега и льда, сгребание и сметание скола, машинами, оснащенными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лыва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ями-рыхлителями, плугом и щетками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игание снега и скола в кучи, образование проез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 и проходов в валах снега на перекрестках, у ост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к пассажирского транспорта, подъездов к зданиям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орочны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ашин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ами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втогрейдер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ами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бульдозе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ам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узка снега и скола в транспортные средства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е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погрузчикам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ывоз снега и скола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валам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ли переброска его на свободные площади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егоочистителе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метание дорожных покрытий при длительном о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тствии снегопадов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метально-уборочными маши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ми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73160" y="5867280"/>
            <a:ext cx="881856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Основной тенденцией в развитии техники для уборки дорог, улиц, тротуаров, площадей и от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крытых площадок городских территорий является создание комбинированных дорожных ма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шин на базе специальных шасси с широким регулированием скорости движения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зимней уборке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жнейшей проблемой является замена песчано-соляной смеси на менее аг-рессивные и эффективные реагенты с более высокой плавящей способностью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92160" y="6095880"/>
            <a:ext cx="8975520" cy="673200"/>
          </a:xfrm>
          <a:prstGeom prst="rect">
            <a:avLst/>
          </a:prstGeom>
          <a:solidFill>
            <a:srgbClr val="00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160" y="2541600"/>
            <a:ext cx="8977320" cy="1503360"/>
          </a:xfrm>
          <a:prstGeom prst="rect">
            <a:avLst/>
          </a:prstGeom>
          <a:solidFill>
            <a:srgbClr val="00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ТЕХНОЛОГИИ И ОБОРУДОВАНИЕ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ДЛЯ УБОРКИ, САНИТАРНОГО СОДЕРЖАНИЯ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И РЕМОНТА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УЛИЧНО-ДОРОЖНОЙ СЕТИ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ГОРОДА ДВОРОВЫХ ТЕРРИТОРИЙ, ПЕШЕХОДНЫХ ДОРОЖЕК И ТРОТУАРОВ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87480" y="1590840"/>
            <a:ext cx="8990640" cy="5154480"/>
            <a:chOff x="87480" y="1590840"/>
            <a:chExt cx="8990640" cy="5154480"/>
          </a:xfrm>
        </p:grpSpPr>
        <p:grpSp>
          <p:nvGrpSpPr>
            <p:cNvPr id="815" name=""/>
            <p:cNvGrpSpPr/>
            <p:nvPr/>
          </p:nvGrpSpPr>
          <p:grpSpPr>
            <a:xfrm>
              <a:off x="87480" y="1590840"/>
              <a:ext cx="2280960" cy="729000"/>
              <a:chOff x="87480" y="1590840"/>
              <a:chExt cx="2280960" cy="729000"/>
            </a:xfrm>
          </p:grpSpPr>
          <p:sp>
            <p:nvSpPr>
              <p:cNvPr id="816" name=""/>
              <p:cNvSpPr/>
              <p:nvPr/>
            </p:nvSpPr>
            <p:spPr>
              <a:xfrm>
                <a:off x="164160" y="1590840"/>
                <a:ext cx="2127240" cy="7290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Виды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оборудования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7480" y="1590840"/>
                <a:ext cx="2280960" cy="7290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2368800" y="1590840"/>
              <a:ext cx="663480" cy="729000"/>
              <a:chOff x="2368800" y="1590840"/>
              <a:chExt cx="663480" cy="729000"/>
            </a:xfrm>
          </p:grpSpPr>
          <p:sp>
            <p:nvSpPr>
              <p:cNvPr id="819" name=""/>
              <p:cNvSpPr/>
              <p:nvPr/>
            </p:nvSpPr>
            <p:spPr>
              <a:xfrm>
                <a:off x="2445120" y="1590840"/>
                <a:ext cx="510120" cy="7290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Нали­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чие (2003 год)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368800" y="1590840"/>
                <a:ext cx="663480" cy="7290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3032640" y="1590840"/>
              <a:ext cx="6045480" cy="223560"/>
              <a:chOff x="3032640" y="1590840"/>
              <a:chExt cx="6045480" cy="223560"/>
            </a:xfrm>
          </p:grpSpPr>
          <p:sp>
            <p:nvSpPr>
              <p:cNvPr id="822" name=""/>
              <p:cNvSpPr/>
              <p:nvPr/>
            </p:nvSpPr>
            <p:spPr>
              <a:xfrm>
                <a:off x="3109320" y="1590840"/>
                <a:ext cx="5891760" cy="223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Прогноз потребности в новой технике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032640" y="1590840"/>
                <a:ext cx="6045480" cy="223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3032640" y="1814400"/>
              <a:ext cx="1812960" cy="223200"/>
              <a:chOff x="3032640" y="1814400"/>
              <a:chExt cx="1812960" cy="223200"/>
            </a:xfrm>
          </p:grpSpPr>
          <p:sp>
            <p:nvSpPr>
              <p:cNvPr id="825" name=""/>
              <p:cNvSpPr/>
              <p:nvPr/>
            </p:nvSpPr>
            <p:spPr>
              <a:xfrm>
                <a:off x="3109320" y="1814400"/>
                <a:ext cx="1659600" cy="223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003÷2005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32640" y="1814400"/>
                <a:ext cx="1812960" cy="223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4845960" y="1814400"/>
              <a:ext cx="1420200" cy="223200"/>
              <a:chOff x="4845960" y="1814400"/>
              <a:chExt cx="1420200" cy="223200"/>
            </a:xfrm>
          </p:grpSpPr>
          <p:sp>
            <p:nvSpPr>
              <p:cNvPr id="828" name=""/>
              <p:cNvSpPr/>
              <p:nvPr/>
            </p:nvSpPr>
            <p:spPr>
              <a:xfrm>
                <a:off x="4922640" y="1814400"/>
                <a:ext cx="1266840" cy="223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006÷2010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845960" y="1814400"/>
                <a:ext cx="1420200" cy="223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266880" y="1814400"/>
              <a:ext cx="1392120" cy="223200"/>
              <a:chOff x="6266880" y="1814400"/>
              <a:chExt cx="1392120" cy="223200"/>
            </a:xfrm>
          </p:grpSpPr>
          <p:sp>
            <p:nvSpPr>
              <p:cNvPr id="831" name=""/>
              <p:cNvSpPr/>
              <p:nvPr/>
            </p:nvSpPr>
            <p:spPr>
              <a:xfrm>
                <a:off x="6343560" y="1814400"/>
                <a:ext cx="1238400" cy="223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011÷2015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266880" y="1814400"/>
                <a:ext cx="1392120" cy="223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7659360" y="1814400"/>
              <a:ext cx="1418760" cy="223200"/>
              <a:chOff x="7659360" y="1814400"/>
              <a:chExt cx="1418760" cy="223200"/>
            </a:xfrm>
          </p:grpSpPr>
          <p:sp>
            <p:nvSpPr>
              <p:cNvPr id="834" name=""/>
              <p:cNvSpPr/>
              <p:nvPr/>
            </p:nvSpPr>
            <p:spPr>
              <a:xfrm>
                <a:off x="7736040" y="1814400"/>
                <a:ext cx="1265040" cy="223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016÷2020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59360" y="1814400"/>
                <a:ext cx="1418760" cy="223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3032640" y="2037600"/>
              <a:ext cx="672480" cy="281880"/>
              <a:chOff x="3032640" y="2037600"/>
              <a:chExt cx="672480" cy="281880"/>
            </a:xfrm>
          </p:grpSpPr>
          <p:sp>
            <p:nvSpPr>
              <p:cNvPr id="837" name=""/>
              <p:cNvSpPr/>
              <p:nvPr/>
            </p:nvSpPr>
            <p:spPr>
              <a:xfrm>
                <a:off x="3109320" y="2037600"/>
                <a:ext cx="518760" cy="281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Колич</a:t>
                </a:r>
                <a:r>
                  <a:rPr b="1" lang="ru-RU" sz="1200" spc="-1" strike="noStrike">
                    <a:solidFill>
                      <a:srgbClr val="eaeaea"/>
                    </a:solidFill>
                    <a:latin typeface="Times New Roman"/>
                  </a:rPr>
                  <a:t>.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032640" y="2037600"/>
                <a:ext cx="672480" cy="281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3705840" y="2037600"/>
              <a:ext cx="1139760" cy="281880"/>
              <a:chOff x="3705840" y="2037600"/>
              <a:chExt cx="1139760" cy="281880"/>
            </a:xfrm>
          </p:grpSpPr>
          <p:sp>
            <p:nvSpPr>
              <p:cNvPr id="840" name=""/>
              <p:cNvSpPr/>
              <p:nvPr/>
            </p:nvSpPr>
            <p:spPr>
              <a:xfrm>
                <a:off x="3782160" y="2037600"/>
                <a:ext cx="986760" cy="281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Стоим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.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5840" y="2037600"/>
                <a:ext cx="1139760" cy="281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4845960" y="2037600"/>
              <a:ext cx="706680" cy="281880"/>
              <a:chOff x="4845960" y="2037600"/>
              <a:chExt cx="706680" cy="281880"/>
            </a:xfrm>
          </p:grpSpPr>
          <p:sp>
            <p:nvSpPr>
              <p:cNvPr id="843" name=""/>
              <p:cNvSpPr/>
              <p:nvPr/>
            </p:nvSpPr>
            <p:spPr>
              <a:xfrm>
                <a:off x="4922640" y="2037600"/>
                <a:ext cx="552960" cy="281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Колич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</a:rPr>
                  <a:t>.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45960" y="2037600"/>
                <a:ext cx="706680" cy="281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5553360" y="2037600"/>
              <a:ext cx="713160" cy="281880"/>
              <a:chOff x="5553360" y="2037600"/>
              <a:chExt cx="713160" cy="281880"/>
            </a:xfrm>
          </p:grpSpPr>
          <p:sp>
            <p:nvSpPr>
              <p:cNvPr id="846" name=""/>
              <p:cNvSpPr/>
              <p:nvPr/>
            </p:nvSpPr>
            <p:spPr>
              <a:xfrm>
                <a:off x="5629680" y="2037600"/>
                <a:ext cx="560160" cy="281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Стоим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553360" y="2037600"/>
                <a:ext cx="713160" cy="281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6266880" y="2037600"/>
              <a:ext cx="680040" cy="281880"/>
              <a:chOff x="6266880" y="2037600"/>
              <a:chExt cx="680040" cy="281880"/>
            </a:xfrm>
          </p:grpSpPr>
          <p:sp>
            <p:nvSpPr>
              <p:cNvPr id="849" name=""/>
              <p:cNvSpPr/>
              <p:nvPr/>
            </p:nvSpPr>
            <p:spPr>
              <a:xfrm>
                <a:off x="6343560" y="2037600"/>
                <a:ext cx="526320" cy="281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Колич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</a:rPr>
                  <a:t>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66880" y="2037600"/>
                <a:ext cx="680040" cy="281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6947280" y="2037600"/>
              <a:ext cx="711360" cy="281880"/>
              <a:chOff x="6947280" y="2037600"/>
              <a:chExt cx="711360" cy="281880"/>
            </a:xfrm>
          </p:grpSpPr>
          <p:sp>
            <p:nvSpPr>
              <p:cNvPr id="852" name=""/>
              <p:cNvSpPr/>
              <p:nvPr/>
            </p:nvSpPr>
            <p:spPr>
              <a:xfrm>
                <a:off x="7023600" y="2037600"/>
                <a:ext cx="558000" cy="281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Стоим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947280" y="2037600"/>
                <a:ext cx="711360" cy="281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659360" y="2037600"/>
              <a:ext cx="706320" cy="281880"/>
              <a:chOff x="7659360" y="2037600"/>
              <a:chExt cx="706320" cy="281880"/>
            </a:xfrm>
          </p:grpSpPr>
          <p:sp>
            <p:nvSpPr>
              <p:cNvPr id="855" name=""/>
              <p:cNvSpPr/>
              <p:nvPr/>
            </p:nvSpPr>
            <p:spPr>
              <a:xfrm>
                <a:off x="7736040" y="2037600"/>
                <a:ext cx="552960" cy="281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Колич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</a:rPr>
                  <a:t>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59360" y="2037600"/>
                <a:ext cx="706320" cy="281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8366040" y="2037600"/>
              <a:ext cx="711720" cy="281880"/>
              <a:chOff x="8366040" y="2037600"/>
              <a:chExt cx="711720" cy="281880"/>
            </a:xfrm>
          </p:grpSpPr>
          <p:sp>
            <p:nvSpPr>
              <p:cNvPr id="858" name=""/>
              <p:cNvSpPr/>
              <p:nvPr/>
            </p:nvSpPr>
            <p:spPr>
              <a:xfrm>
                <a:off x="8442720" y="2037600"/>
                <a:ext cx="558000" cy="281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Стоим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366040" y="2037600"/>
                <a:ext cx="711720" cy="281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87480" y="2319840"/>
              <a:ext cx="8990640" cy="223200"/>
              <a:chOff x="87480" y="2319840"/>
              <a:chExt cx="8990640" cy="223200"/>
            </a:xfrm>
          </p:grpSpPr>
          <p:sp>
            <p:nvSpPr>
              <p:cNvPr id="861" name=""/>
              <p:cNvSpPr/>
              <p:nvPr/>
            </p:nvSpPr>
            <p:spPr>
              <a:xfrm>
                <a:off x="164160" y="2319840"/>
                <a:ext cx="8836920" cy="223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Специал</a:t>
                </a:r>
                <a:r>
                  <a:rPr b="1" i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изированные</a:t>
                </a:r>
                <a:r>
                  <a:rPr b="1" i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 машины для летней и зимней уборки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7480" y="2319840"/>
                <a:ext cx="8990640" cy="223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87480" y="2543400"/>
              <a:ext cx="2280960" cy="394560"/>
              <a:chOff x="87480" y="2543400"/>
              <a:chExt cx="2280960" cy="394560"/>
            </a:xfrm>
          </p:grpSpPr>
          <p:sp>
            <p:nvSpPr>
              <p:cNvPr id="864" name=""/>
              <p:cNvSpPr/>
              <p:nvPr/>
            </p:nvSpPr>
            <p:spPr>
              <a:xfrm>
                <a:off x="164160" y="2543400"/>
                <a:ext cx="212724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  <a:ea typeface="Arial Unicode MS"/>
                  </a:rPr>
                  <a:t>Подметально-уборочные ма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</a:rPr>
                  <a:t>-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  <a:ea typeface="Arial Unicode MS"/>
                  </a:rPr>
                  <a:t>шины, включая оборудование типа «Бродвей» и вакуумное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7480" y="2543400"/>
                <a:ext cx="228096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2368800" y="2543400"/>
              <a:ext cx="663480" cy="394560"/>
              <a:chOff x="2368800" y="2543400"/>
              <a:chExt cx="663480" cy="394560"/>
            </a:xfrm>
          </p:grpSpPr>
          <p:sp>
            <p:nvSpPr>
              <p:cNvPr id="867" name=""/>
              <p:cNvSpPr/>
              <p:nvPr/>
            </p:nvSpPr>
            <p:spPr>
              <a:xfrm>
                <a:off x="2445120" y="2543400"/>
                <a:ext cx="51012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53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368800" y="2543400"/>
                <a:ext cx="66348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3032640" y="2543400"/>
              <a:ext cx="674280" cy="394560"/>
              <a:chOff x="3032640" y="2543400"/>
              <a:chExt cx="674280" cy="394560"/>
            </a:xfrm>
          </p:grpSpPr>
          <p:sp>
            <p:nvSpPr>
              <p:cNvPr id="870" name=""/>
              <p:cNvSpPr/>
              <p:nvPr/>
            </p:nvSpPr>
            <p:spPr>
              <a:xfrm>
                <a:off x="3109320" y="2543400"/>
                <a:ext cx="52056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6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5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032640" y="2543400"/>
                <a:ext cx="67428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3707280" y="2543400"/>
              <a:ext cx="1136520" cy="394560"/>
              <a:chOff x="3707280" y="2543400"/>
              <a:chExt cx="1136520" cy="394560"/>
            </a:xfrm>
          </p:grpSpPr>
          <p:sp>
            <p:nvSpPr>
              <p:cNvPr id="873" name=""/>
              <p:cNvSpPr/>
              <p:nvPr/>
            </p:nvSpPr>
            <p:spPr>
              <a:xfrm>
                <a:off x="3783960" y="2543400"/>
                <a:ext cx="98280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9,1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707280" y="2543400"/>
                <a:ext cx="113652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4844520" y="2543400"/>
              <a:ext cx="708120" cy="394560"/>
              <a:chOff x="4844520" y="2543400"/>
              <a:chExt cx="708120" cy="394560"/>
            </a:xfrm>
          </p:grpSpPr>
          <p:sp>
            <p:nvSpPr>
              <p:cNvPr id="876" name=""/>
              <p:cNvSpPr/>
              <p:nvPr/>
            </p:nvSpPr>
            <p:spPr>
              <a:xfrm>
                <a:off x="4921200" y="2543400"/>
                <a:ext cx="55440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82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5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844520" y="2543400"/>
                <a:ext cx="70812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5553360" y="2543400"/>
              <a:ext cx="711360" cy="394560"/>
              <a:chOff x="5553360" y="2543400"/>
              <a:chExt cx="711360" cy="394560"/>
            </a:xfrm>
          </p:grpSpPr>
          <p:sp>
            <p:nvSpPr>
              <p:cNvPr id="879" name=""/>
              <p:cNvSpPr/>
              <p:nvPr/>
            </p:nvSpPr>
            <p:spPr>
              <a:xfrm>
                <a:off x="5629680" y="2543400"/>
                <a:ext cx="55800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5,3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53360" y="2543400"/>
                <a:ext cx="71136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6265440" y="2543400"/>
              <a:ext cx="681480" cy="394560"/>
              <a:chOff x="6265440" y="2543400"/>
              <a:chExt cx="681480" cy="394560"/>
            </a:xfrm>
          </p:grpSpPr>
          <p:sp>
            <p:nvSpPr>
              <p:cNvPr id="882" name=""/>
              <p:cNvSpPr/>
              <p:nvPr/>
            </p:nvSpPr>
            <p:spPr>
              <a:xfrm>
                <a:off x="6342120" y="2543400"/>
                <a:ext cx="52776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04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6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265440" y="2543400"/>
                <a:ext cx="68148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6947280" y="2543400"/>
              <a:ext cx="711360" cy="394560"/>
              <a:chOff x="6947280" y="2543400"/>
              <a:chExt cx="711360" cy="39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7023600" y="2543400"/>
                <a:ext cx="55800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5,9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947280" y="2543400"/>
                <a:ext cx="71136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7659360" y="2543400"/>
              <a:ext cx="706320" cy="394560"/>
              <a:chOff x="7659360" y="2543400"/>
              <a:chExt cx="706320" cy="394560"/>
            </a:xfrm>
          </p:grpSpPr>
          <p:sp>
            <p:nvSpPr>
              <p:cNvPr id="888" name=""/>
              <p:cNvSpPr/>
              <p:nvPr/>
            </p:nvSpPr>
            <p:spPr>
              <a:xfrm>
                <a:off x="7736040" y="2543400"/>
                <a:ext cx="55296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25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6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59360" y="2543400"/>
                <a:ext cx="70632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8366040" y="2543400"/>
              <a:ext cx="711720" cy="394560"/>
              <a:chOff x="8366040" y="2543400"/>
              <a:chExt cx="711720" cy="394560"/>
            </a:xfrm>
          </p:grpSpPr>
          <p:sp>
            <p:nvSpPr>
              <p:cNvPr id="891" name=""/>
              <p:cNvSpPr/>
              <p:nvPr/>
            </p:nvSpPr>
            <p:spPr>
              <a:xfrm>
                <a:off x="8442720" y="2543400"/>
                <a:ext cx="55800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6,0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366040" y="2543400"/>
                <a:ext cx="71172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87480" y="2938320"/>
              <a:ext cx="2280960" cy="335880"/>
              <a:chOff x="87480" y="2938320"/>
              <a:chExt cx="2280960" cy="335880"/>
            </a:xfrm>
          </p:grpSpPr>
          <p:sp>
            <p:nvSpPr>
              <p:cNvPr id="894" name=""/>
              <p:cNvSpPr/>
              <p:nvPr/>
            </p:nvSpPr>
            <p:spPr>
              <a:xfrm>
                <a:off x="164160" y="2938320"/>
                <a:ext cx="212724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Arial Unicode MS"/>
                    <a:ea typeface="Arial Unicode MS"/>
                  </a:rPr>
                  <a:t>Поливомоечные машины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7480" y="2938320"/>
                <a:ext cx="22809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2368800" y="2938320"/>
              <a:ext cx="663480" cy="335880"/>
              <a:chOff x="2368800" y="2938320"/>
              <a:chExt cx="663480" cy="335880"/>
            </a:xfrm>
          </p:grpSpPr>
          <p:sp>
            <p:nvSpPr>
              <p:cNvPr id="897" name=""/>
              <p:cNvSpPr/>
              <p:nvPr/>
            </p:nvSpPr>
            <p:spPr>
              <a:xfrm>
                <a:off x="2445120" y="2938320"/>
                <a:ext cx="51012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73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368800" y="2938320"/>
                <a:ext cx="6634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3032640" y="2938320"/>
              <a:ext cx="674280" cy="335880"/>
              <a:chOff x="3032640" y="2938320"/>
              <a:chExt cx="674280" cy="335880"/>
            </a:xfrm>
          </p:grpSpPr>
          <p:sp>
            <p:nvSpPr>
              <p:cNvPr id="900" name=""/>
              <p:cNvSpPr/>
              <p:nvPr/>
            </p:nvSpPr>
            <p:spPr>
              <a:xfrm>
                <a:off x="3109320" y="2938320"/>
                <a:ext cx="5205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8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8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32640" y="2938320"/>
                <a:ext cx="6742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3707280" y="2938320"/>
              <a:ext cx="1136520" cy="335880"/>
              <a:chOff x="3707280" y="2938320"/>
              <a:chExt cx="1136520" cy="335880"/>
            </a:xfrm>
          </p:grpSpPr>
          <p:sp>
            <p:nvSpPr>
              <p:cNvPr id="903" name=""/>
              <p:cNvSpPr/>
              <p:nvPr/>
            </p:nvSpPr>
            <p:spPr>
              <a:xfrm>
                <a:off x="3783960" y="2938320"/>
                <a:ext cx="9828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6,4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07280" y="2938320"/>
                <a:ext cx="11365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844520" y="2938320"/>
              <a:ext cx="708120" cy="335880"/>
              <a:chOff x="4844520" y="2938320"/>
              <a:chExt cx="708120" cy="335880"/>
            </a:xfrm>
          </p:grpSpPr>
          <p:sp>
            <p:nvSpPr>
              <p:cNvPr id="906" name=""/>
              <p:cNvSpPr/>
              <p:nvPr/>
            </p:nvSpPr>
            <p:spPr>
              <a:xfrm>
                <a:off x="4921200" y="2938320"/>
                <a:ext cx="5544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0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39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844520" y="2938320"/>
                <a:ext cx="7081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5553360" y="2938320"/>
              <a:ext cx="711360" cy="335880"/>
              <a:chOff x="5553360" y="2938320"/>
              <a:chExt cx="711360" cy="335880"/>
            </a:xfrm>
          </p:grpSpPr>
          <p:sp>
            <p:nvSpPr>
              <p:cNvPr id="909" name=""/>
              <p:cNvSpPr/>
              <p:nvPr/>
            </p:nvSpPr>
            <p:spPr>
              <a:xfrm>
                <a:off x="5629680" y="293832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1,6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53360" y="2938320"/>
                <a:ext cx="7113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6265440" y="2938320"/>
              <a:ext cx="681480" cy="335880"/>
              <a:chOff x="6265440" y="2938320"/>
              <a:chExt cx="681480" cy="335880"/>
            </a:xfrm>
          </p:grpSpPr>
          <p:sp>
            <p:nvSpPr>
              <p:cNvPr id="912" name=""/>
              <p:cNvSpPr/>
              <p:nvPr/>
            </p:nvSpPr>
            <p:spPr>
              <a:xfrm>
                <a:off x="6342120" y="2938320"/>
                <a:ext cx="5277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2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43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265440" y="2938320"/>
                <a:ext cx="6814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6947280" y="2938320"/>
              <a:ext cx="711360" cy="335880"/>
              <a:chOff x="6947280" y="2938320"/>
              <a:chExt cx="711360" cy="335880"/>
            </a:xfrm>
          </p:grpSpPr>
          <p:sp>
            <p:nvSpPr>
              <p:cNvPr id="915" name=""/>
              <p:cNvSpPr/>
              <p:nvPr/>
            </p:nvSpPr>
            <p:spPr>
              <a:xfrm>
                <a:off x="7023600" y="293832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2,0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947280" y="2938320"/>
                <a:ext cx="7113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7659360" y="2938320"/>
              <a:ext cx="706320" cy="335880"/>
              <a:chOff x="7659360" y="2938320"/>
              <a:chExt cx="706320" cy="335880"/>
            </a:xfrm>
          </p:grpSpPr>
          <p:sp>
            <p:nvSpPr>
              <p:cNvPr id="918" name=""/>
              <p:cNvSpPr/>
              <p:nvPr/>
            </p:nvSpPr>
            <p:spPr>
              <a:xfrm>
                <a:off x="7736040" y="2938320"/>
                <a:ext cx="5529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4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48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659360" y="2938320"/>
                <a:ext cx="7063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8366040" y="2938320"/>
              <a:ext cx="711720" cy="335880"/>
              <a:chOff x="8366040" y="2938320"/>
              <a:chExt cx="711720" cy="335880"/>
            </a:xfrm>
          </p:grpSpPr>
          <p:sp>
            <p:nvSpPr>
              <p:cNvPr id="921" name=""/>
              <p:cNvSpPr/>
              <p:nvPr/>
            </p:nvSpPr>
            <p:spPr>
              <a:xfrm>
                <a:off x="8442720" y="293832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2,4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366040" y="2938320"/>
                <a:ext cx="7117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87480" y="3274200"/>
              <a:ext cx="2280960" cy="335880"/>
              <a:chOff x="87480" y="3274200"/>
              <a:chExt cx="2280960" cy="335880"/>
            </a:xfrm>
          </p:grpSpPr>
          <p:sp>
            <p:nvSpPr>
              <p:cNvPr id="924" name=""/>
              <p:cNvSpPr/>
              <p:nvPr/>
            </p:nvSpPr>
            <p:spPr>
              <a:xfrm>
                <a:off x="164160" y="3274200"/>
                <a:ext cx="212724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eaeaea"/>
                    </a:solidFill>
                    <a:latin typeface="Arial Unicode MS"/>
                    <a:ea typeface="Arial Unicode MS"/>
                  </a:rPr>
                  <a:t>Снегочистители и сне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</a:rPr>
                  <a:t>го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Arial Unicode MS"/>
                    <a:ea typeface="Arial Unicode MS"/>
                  </a:rPr>
                  <a:t>погрузчики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7480" y="3274200"/>
                <a:ext cx="22809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2368800" y="3274200"/>
              <a:ext cx="663480" cy="335880"/>
              <a:chOff x="2368800" y="3274200"/>
              <a:chExt cx="663480" cy="335880"/>
            </a:xfrm>
          </p:grpSpPr>
          <p:sp>
            <p:nvSpPr>
              <p:cNvPr id="927" name=""/>
              <p:cNvSpPr/>
              <p:nvPr/>
            </p:nvSpPr>
            <p:spPr>
              <a:xfrm>
                <a:off x="2445120" y="3274200"/>
                <a:ext cx="51012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85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368800" y="3274200"/>
                <a:ext cx="6634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3032640" y="3274200"/>
              <a:ext cx="674280" cy="335880"/>
              <a:chOff x="3032640" y="3274200"/>
              <a:chExt cx="674280" cy="335880"/>
            </a:xfrm>
          </p:grpSpPr>
          <p:sp>
            <p:nvSpPr>
              <p:cNvPr id="930" name=""/>
              <p:cNvSpPr/>
              <p:nvPr/>
            </p:nvSpPr>
            <p:spPr>
              <a:xfrm>
                <a:off x="3109320" y="3274200"/>
                <a:ext cx="5205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08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30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032640" y="3274200"/>
                <a:ext cx="6742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3707280" y="3274200"/>
              <a:ext cx="1136520" cy="335880"/>
              <a:chOff x="3707280" y="3274200"/>
              <a:chExt cx="1136520" cy="335880"/>
            </a:xfrm>
          </p:grpSpPr>
          <p:sp>
            <p:nvSpPr>
              <p:cNvPr id="933" name=""/>
              <p:cNvSpPr/>
              <p:nvPr/>
            </p:nvSpPr>
            <p:spPr>
              <a:xfrm>
                <a:off x="3783960" y="3274200"/>
                <a:ext cx="9828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4,9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707280" y="3274200"/>
                <a:ext cx="11365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4844520" y="3274200"/>
              <a:ext cx="708120" cy="335880"/>
              <a:chOff x="4844520" y="3274200"/>
              <a:chExt cx="708120" cy="335880"/>
            </a:xfrm>
          </p:grpSpPr>
          <p:sp>
            <p:nvSpPr>
              <p:cNvPr id="936" name=""/>
              <p:cNvSpPr/>
              <p:nvPr/>
            </p:nvSpPr>
            <p:spPr>
              <a:xfrm>
                <a:off x="4921200" y="3274200"/>
                <a:ext cx="5544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7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67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844520" y="3274200"/>
                <a:ext cx="7081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5553360" y="3274200"/>
              <a:ext cx="711360" cy="335880"/>
              <a:chOff x="5553360" y="3274200"/>
              <a:chExt cx="711360" cy="335880"/>
            </a:xfrm>
          </p:grpSpPr>
          <p:sp>
            <p:nvSpPr>
              <p:cNvPr id="939" name=""/>
              <p:cNvSpPr/>
              <p:nvPr/>
            </p:nvSpPr>
            <p:spPr>
              <a:xfrm>
                <a:off x="5629680" y="327420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33,7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553360" y="3274200"/>
                <a:ext cx="7113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6265440" y="3274200"/>
              <a:ext cx="681480" cy="335880"/>
              <a:chOff x="6265440" y="3274200"/>
              <a:chExt cx="681480" cy="335880"/>
            </a:xfrm>
          </p:grpSpPr>
          <p:sp>
            <p:nvSpPr>
              <p:cNvPr id="942" name=""/>
              <p:cNvSpPr/>
              <p:nvPr/>
            </p:nvSpPr>
            <p:spPr>
              <a:xfrm>
                <a:off x="6342120" y="3274200"/>
                <a:ext cx="5277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23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69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65440" y="3274200"/>
                <a:ext cx="6814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6947280" y="3274200"/>
              <a:ext cx="711360" cy="335880"/>
              <a:chOff x="6947280" y="3274200"/>
              <a:chExt cx="711360" cy="335880"/>
            </a:xfrm>
          </p:grpSpPr>
          <p:sp>
            <p:nvSpPr>
              <p:cNvPr id="945" name=""/>
              <p:cNvSpPr/>
              <p:nvPr/>
            </p:nvSpPr>
            <p:spPr>
              <a:xfrm>
                <a:off x="7023600" y="327420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34,3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947280" y="3274200"/>
                <a:ext cx="7113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7659360" y="3274200"/>
              <a:ext cx="706320" cy="335880"/>
              <a:chOff x="7659360" y="3274200"/>
              <a:chExt cx="706320" cy="335880"/>
            </a:xfrm>
          </p:grpSpPr>
          <p:sp>
            <p:nvSpPr>
              <p:cNvPr id="948" name=""/>
              <p:cNvSpPr/>
              <p:nvPr/>
            </p:nvSpPr>
            <p:spPr>
              <a:xfrm>
                <a:off x="7736040" y="3274200"/>
                <a:ext cx="5529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29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72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59360" y="3274200"/>
                <a:ext cx="7063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8366040" y="3274200"/>
              <a:ext cx="711720" cy="335880"/>
              <a:chOff x="8366040" y="3274200"/>
              <a:chExt cx="711720" cy="335880"/>
            </a:xfrm>
          </p:grpSpPr>
          <p:sp>
            <p:nvSpPr>
              <p:cNvPr id="951" name=""/>
              <p:cNvSpPr/>
              <p:nvPr/>
            </p:nvSpPr>
            <p:spPr>
              <a:xfrm>
                <a:off x="8442720" y="327420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35.8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366040" y="3274200"/>
                <a:ext cx="7117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87480" y="3610440"/>
              <a:ext cx="2280960" cy="453240"/>
              <a:chOff x="87480" y="3610440"/>
              <a:chExt cx="2280960" cy="453240"/>
            </a:xfrm>
          </p:grpSpPr>
          <p:sp>
            <p:nvSpPr>
              <p:cNvPr id="954" name=""/>
              <p:cNvSpPr/>
              <p:nvPr/>
            </p:nvSpPr>
            <p:spPr>
              <a:xfrm>
                <a:off x="164160" y="3610440"/>
                <a:ext cx="2127240" cy="4532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just"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  <a:ea typeface="Arial Unicode MS"/>
                  </a:rPr>
                  <a:t>Универсальные и специальные разбрасыватели противоголо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</a:rPr>
                  <a:t>-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  <a:ea typeface="Arial Unicode MS"/>
                  </a:rPr>
                  <a:t>ледных материалов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Arial Unicode MS"/>
                    <a:ea typeface="Arial Unicode MS"/>
                  </a:rPr>
                  <a:t>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7480" y="3610440"/>
                <a:ext cx="2280960" cy="4532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2368800" y="3610440"/>
              <a:ext cx="663480" cy="453240"/>
              <a:chOff x="2368800" y="3610440"/>
              <a:chExt cx="663480" cy="453240"/>
            </a:xfrm>
          </p:grpSpPr>
          <p:sp>
            <p:nvSpPr>
              <p:cNvPr id="957" name=""/>
              <p:cNvSpPr/>
              <p:nvPr/>
            </p:nvSpPr>
            <p:spPr>
              <a:xfrm>
                <a:off x="2445120" y="3610440"/>
                <a:ext cx="510120" cy="4532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44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68800" y="3610440"/>
                <a:ext cx="663480" cy="4532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032640" y="3610440"/>
              <a:ext cx="674280" cy="453240"/>
              <a:chOff x="3032640" y="3610440"/>
              <a:chExt cx="674280" cy="453240"/>
            </a:xfrm>
          </p:grpSpPr>
          <p:sp>
            <p:nvSpPr>
              <p:cNvPr id="960" name=""/>
              <p:cNvSpPr/>
              <p:nvPr/>
            </p:nvSpPr>
            <p:spPr>
              <a:xfrm>
                <a:off x="3109320" y="3610440"/>
                <a:ext cx="520560" cy="4532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6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7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032640" y="3610440"/>
                <a:ext cx="674280" cy="4532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3707280" y="3610440"/>
              <a:ext cx="1136520" cy="453240"/>
              <a:chOff x="3707280" y="3610440"/>
              <a:chExt cx="1136520" cy="453240"/>
            </a:xfrm>
          </p:grpSpPr>
          <p:sp>
            <p:nvSpPr>
              <p:cNvPr id="963" name=""/>
              <p:cNvSpPr/>
              <p:nvPr/>
            </p:nvSpPr>
            <p:spPr>
              <a:xfrm>
                <a:off x="3783960" y="3610440"/>
                <a:ext cx="982800" cy="4532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6,9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707280" y="3610440"/>
                <a:ext cx="1136520" cy="4532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4844520" y="3610440"/>
              <a:ext cx="708120" cy="453240"/>
              <a:chOff x="4844520" y="3610440"/>
              <a:chExt cx="708120" cy="453240"/>
            </a:xfrm>
          </p:grpSpPr>
          <p:sp>
            <p:nvSpPr>
              <p:cNvPr id="966" name=""/>
              <p:cNvSpPr/>
              <p:nvPr/>
            </p:nvSpPr>
            <p:spPr>
              <a:xfrm>
                <a:off x="4921200" y="3610440"/>
                <a:ext cx="554400" cy="4532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02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45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844520" y="3610440"/>
                <a:ext cx="708120" cy="4532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5553360" y="3610440"/>
              <a:ext cx="711360" cy="453240"/>
              <a:chOff x="5553360" y="3610440"/>
              <a:chExt cx="711360" cy="453240"/>
            </a:xfrm>
          </p:grpSpPr>
          <p:sp>
            <p:nvSpPr>
              <p:cNvPr id="969" name=""/>
              <p:cNvSpPr/>
              <p:nvPr/>
            </p:nvSpPr>
            <p:spPr>
              <a:xfrm>
                <a:off x="5629680" y="3610440"/>
                <a:ext cx="558000" cy="4532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8,0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53360" y="3610440"/>
                <a:ext cx="711360" cy="4532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6265440" y="3610440"/>
              <a:ext cx="681480" cy="453240"/>
              <a:chOff x="6265440" y="3610440"/>
              <a:chExt cx="681480" cy="453240"/>
            </a:xfrm>
          </p:grpSpPr>
          <p:sp>
            <p:nvSpPr>
              <p:cNvPr id="972" name=""/>
              <p:cNvSpPr/>
              <p:nvPr/>
            </p:nvSpPr>
            <p:spPr>
              <a:xfrm>
                <a:off x="6342120" y="3610440"/>
                <a:ext cx="527760" cy="4532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45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63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265440" y="3610440"/>
                <a:ext cx="681480" cy="4532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6947280" y="3610440"/>
              <a:ext cx="711360" cy="453240"/>
              <a:chOff x="6947280" y="3610440"/>
              <a:chExt cx="711360" cy="453240"/>
            </a:xfrm>
          </p:grpSpPr>
          <p:sp>
            <p:nvSpPr>
              <p:cNvPr id="975" name=""/>
              <p:cNvSpPr/>
              <p:nvPr/>
            </p:nvSpPr>
            <p:spPr>
              <a:xfrm>
                <a:off x="7023600" y="3610440"/>
                <a:ext cx="558000" cy="4532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5,4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947280" y="3610440"/>
                <a:ext cx="711360" cy="4532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7659360" y="3610440"/>
              <a:ext cx="706320" cy="453240"/>
              <a:chOff x="7659360" y="3610440"/>
              <a:chExt cx="706320" cy="453240"/>
            </a:xfrm>
          </p:grpSpPr>
          <p:sp>
            <p:nvSpPr>
              <p:cNvPr id="978" name=""/>
              <p:cNvSpPr/>
              <p:nvPr/>
            </p:nvSpPr>
            <p:spPr>
              <a:xfrm>
                <a:off x="7736040" y="3610440"/>
                <a:ext cx="552960" cy="4532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85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69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659360" y="3610440"/>
                <a:ext cx="706320" cy="4532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8366040" y="3610440"/>
              <a:ext cx="711720" cy="453240"/>
              <a:chOff x="8366040" y="3610440"/>
              <a:chExt cx="711720" cy="453240"/>
            </a:xfrm>
          </p:grpSpPr>
          <p:sp>
            <p:nvSpPr>
              <p:cNvPr id="981" name=""/>
              <p:cNvSpPr/>
              <p:nvPr/>
            </p:nvSpPr>
            <p:spPr>
              <a:xfrm>
                <a:off x="8442720" y="3610440"/>
                <a:ext cx="558000" cy="4532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7,6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366040" y="3610440"/>
                <a:ext cx="711720" cy="4532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87480" y="4063680"/>
              <a:ext cx="2280960" cy="277200"/>
              <a:chOff x="87480" y="4063680"/>
              <a:chExt cx="2280960" cy="277200"/>
            </a:xfrm>
          </p:grpSpPr>
          <p:sp>
            <p:nvSpPr>
              <p:cNvPr id="984" name=""/>
              <p:cNvSpPr/>
              <p:nvPr/>
            </p:nvSpPr>
            <p:spPr>
              <a:xfrm>
                <a:off x="164160" y="4063680"/>
                <a:ext cx="212724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Arial Unicode MS"/>
                    <a:ea typeface="Arial Unicode MS"/>
                  </a:rPr>
                  <a:t>Автогрейдеры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7480" y="4063680"/>
                <a:ext cx="228096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2368800" y="4063680"/>
              <a:ext cx="663480" cy="277200"/>
              <a:chOff x="2368800" y="4063680"/>
              <a:chExt cx="663480" cy="277200"/>
            </a:xfrm>
          </p:grpSpPr>
          <p:sp>
            <p:nvSpPr>
              <p:cNvPr id="987" name=""/>
              <p:cNvSpPr/>
              <p:nvPr/>
            </p:nvSpPr>
            <p:spPr>
              <a:xfrm>
                <a:off x="2445120" y="4063680"/>
                <a:ext cx="51012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368800" y="4063680"/>
                <a:ext cx="66348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3032640" y="4063680"/>
              <a:ext cx="674280" cy="277200"/>
              <a:chOff x="3032640" y="4063680"/>
              <a:chExt cx="674280" cy="277200"/>
            </a:xfrm>
          </p:grpSpPr>
          <p:sp>
            <p:nvSpPr>
              <p:cNvPr id="990" name=""/>
              <p:cNvSpPr/>
              <p:nvPr/>
            </p:nvSpPr>
            <p:spPr>
              <a:xfrm>
                <a:off x="3109320" y="4063680"/>
                <a:ext cx="52056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41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032640" y="4063680"/>
                <a:ext cx="67428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3707280" y="4063680"/>
              <a:ext cx="1136520" cy="277200"/>
              <a:chOff x="3707280" y="4063680"/>
              <a:chExt cx="1136520" cy="277200"/>
            </a:xfrm>
          </p:grpSpPr>
          <p:sp>
            <p:nvSpPr>
              <p:cNvPr id="993" name=""/>
              <p:cNvSpPr/>
              <p:nvPr/>
            </p:nvSpPr>
            <p:spPr>
              <a:xfrm>
                <a:off x="3783960" y="4063680"/>
                <a:ext cx="98280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,8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07280" y="4063680"/>
                <a:ext cx="113652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4844520" y="4063680"/>
              <a:ext cx="708120" cy="277200"/>
              <a:chOff x="4844520" y="4063680"/>
              <a:chExt cx="708120" cy="277200"/>
            </a:xfrm>
          </p:grpSpPr>
          <p:sp>
            <p:nvSpPr>
              <p:cNvPr id="996" name=""/>
              <p:cNvSpPr/>
              <p:nvPr/>
            </p:nvSpPr>
            <p:spPr>
              <a:xfrm>
                <a:off x="4921200" y="4063680"/>
                <a:ext cx="55440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44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844520" y="4063680"/>
                <a:ext cx="70812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5553360" y="4063680"/>
              <a:ext cx="711360" cy="277200"/>
              <a:chOff x="5553360" y="4063680"/>
              <a:chExt cx="711360" cy="277200"/>
            </a:xfrm>
          </p:grpSpPr>
          <p:sp>
            <p:nvSpPr>
              <p:cNvPr id="999" name=""/>
              <p:cNvSpPr/>
              <p:nvPr/>
            </p:nvSpPr>
            <p:spPr>
              <a:xfrm>
                <a:off x="5629680" y="4063680"/>
                <a:ext cx="55800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5,0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553360" y="4063680"/>
                <a:ext cx="71136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6265440" y="4063680"/>
              <a:ext cx="681480" cy="277200"/>
              <a:chOff x="6265440" y="4063680"/>
              <a:chExt cx="681480" cy="277200"/>
            </a:xfrm>
          </p:grpSpPr>
          <p:sp>
            <p:nvSpPr>
              <p:cNvPr id="1002" name=""/>
              <p:cNvSpPr/>
              <p:nvPr/>
            </p:nvSpPr>
            <p:spPr>
              <a:xfrm>
                <a:off x="6342120" y="4063680"/>
                <a:ext cx="52776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47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265440" y="4063680"/>
                <a:ext cx="68148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6947280" y="4063680"/>
              <a:ext cx="711360" cy="277200"/>
              <a:chOff x="6947280" y="4063680"/>
              <a:chExt cx="711360" cy="277200"/>
            </a:xfrm>
          </p:grpSpPr>
          <p:sp>
            <p:nvSpPr>
              <p:cNvPr id="1005" name=""/>
              <p:cNvSpPr/>
              <p:nvPr/>
            </p:nvSpPr>
            <p:spPr>
              <a:xfrm>
                <a:off x="7023600" y="4063680"/>
                <a:ext cx="55800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5,2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947280" y="4063680"/>
                <a:ext cx="71136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7659360" y="4063680"/>
              <a:ext cx="706320" cy="277200"/>
              <a:chOff x="7659360" y="4063680"/>
              <a:chExt cx="706320" cy="277200"/>
            </a:xfrm>
          </p:grpSpPr>
          <p:sp>
            <p:nvSpPr>
              <p:cNvPr id="1008" name=""/>
              <p:cNvSpPr/>
              <p:nvPr/>
            </p:nvSpPr>
            <p:spPr>
              <a:xfrm>
                <a:off x="7736040" y="4063680"/>
                <a:ext cx="55296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5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659360" y="4063680"/>
                <a:ext cx="70632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8366040" y="4063680"/>
              <a:ext cx="711720" cy="277200"/>
              <a:chOff x="8366040" y="4063680"/>
              <a:chExt cx="711720" cy="277200"/>
            </a:xfrm>
          </p:grpSpPr>
          <p:sp>
            <p:nvSpPr>
              <p:cNvPr id="1011" name=""/>
              <p:cNvSpPr/>
              <p:nvPr/>
            </p:nvSpPr>
            <p:spPr>
              <a:xfrm>
                <a:off x="8442720" y="4063680"/>
                <a:ext cx="55800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5,4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366040" y="4063680"/>
                <a:ext cx="71172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87480" y="4341240"/>
              <a:ext cx="2280960" cy="277200"/>
              <a:chOff x="87480" y="4341240"/>
              <a:chExt cx="2280960" cy="277200"/>
            </a:xfrm>
          </p:grpSpPr>
          <p:sp>
            <p:nvSpPr>
              <p:cNvPr id="1014" name=""/>
              <p:cNvSpPr/>
              <p:nvPr/>
            </p:nvSpPr>
            <p:spPr>
              <a:xfrm>
                <a:off x="164160" y="4341240"/>
                <a:ext cx="212724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Arial Unicode MS"/>
                    <a:ea typeface="Arial Unicode MS"/>
                  </a:rPr>
                  <a:t>Бульдозеры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7480" y="4341240"/>
                <a:ext cx="228096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2368800" y="4341240"/>
              <a:ext cx="663480" cy="277200"/>
              <a:chOff x="2368800" y="4341240"/>
              <a:chExt cx="663480" cy="277200"/>
            </a:xfrm>
          </p:grpSpPr>
          <p:sp>
            <p:nvSpPr>
              <p:cNvPr id="1017" name=""/>
              <p:cNvSpPr/>
              <p:nvPr/>
            </p:nvSpPr>
            <p:spPr>
              <a:xfrm>
                <a:off x="2445120" y="4341240"/>
                <a:ext cx="51012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68800" y="4341240"/>
                <a:ext cx="66348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3032640" y="4341240"/>
              <a:ext cx="674280" cy="277200"/>
              <a:chOff x="3032640" y="4341240"/>
              <a:chExt cx="674280" cy="277200"/>
            </a:xfrm>
          </p:grpSpPr>
          <p:sp>
            <p:nvSpPr>
              <p:cNvPr id="1020" name=""/>
              <p:cNvSpPr/>
              <p:nvPr/>
            </p:nvSpPr>
            <p:spPr>
              <a:xfrm>
                <a:off x="3109320" y="4341240"/>
                <a:ext cx="52056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61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3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32640" y="4341240"/>
                <a:ext cx="67428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3707280" y="4341240"/>
              <a:ext cx="1136520" cy="277200"/>
              <a:chOff x="3707280" y="4341240"/>
              <a:chExt cx="1136520" cy="277200"/>
            </a:xfrm>
          </p:grpSpPr>
          <p:sp>
            <p:nvSpPr>
              <p:cNvPr id="1023" name=""/>
              <p:cNvSpPr/>
              <p:nvPr/>
            </p:nvSpPr>
            <p:spPr>
              <a:xfrm>
                <a:off x="3783960" y="4341240"/>
                <a:ext cx="98280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,1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707280" y="4341240"/>
                <a:ext cx="113652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4844520" y="4341240"/>
              <a:ext cx="708120" cy="277200"/>
              <a:chOff x="4844520" y="4341240"/>
              <a:chExt cx="708120" cy="27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921200" y="4341240"/>
                <a:ext cx="55440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62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7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44520" y="4341240"/>
                <a:ext cx="70812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5553360" y="4341240"/>
              <a:ext cx="711360" cy="277200"/>
              <a:chOff x="5553360" y="4341240"/>
              <a:chExt cx="711360" cy="277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5629680" y="4341240"/>
                <a:ext cx="55800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,8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53360" y="4341240"/>
                <a:ext cx="71136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265440" y="4341240"/>
              <a:ext cx="681480" cy="277200"/>
              <a:chOff x="6265440" y="4341240"/>
              <a:chExt cx="681480" cy="277200"/>
            </a:xfrm>
          </p:grpSpPr>
          <p:sp>
            <p:nvSpPr>
              <p:cNvPr id="1032" name=""/>
              <p:cNvSpPr/>
              <p:nvPr/>
            </p:nvSpPr>
            <p:spPr>
              <a:xfrm>
                <a:off x="6342120" y="4341240"/>
                <a:ext cx="52776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63.7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265440" y="4341240"/>
                <a:ext cx="68148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947280" y="4341240"/>
              <a:ext cx="711360" cy="277200"/>
              <a:chOff x="6947280" y="4341240"/>
              <a:chExt cx="711360" cy="277200"/>
            </a:xfrm>
          </p:grpSpPr>
          <p:sp>
            <p:nvSpPr>
              <p:cNvPr id="1035" name=""/>
              <p:cNvSpPr/>
              <p:nvPr/>
            </p:nvSpPr>
            <p:spPr>
              <a:xfrm>
                <a:off x="7023600" y="4341240"/>
                <a:ext cx="55800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,9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947280" y="4341240"/>
                <a:ext cx="71136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7659360" y="4341240"/>
              <a:ext cx="706320" cy="277200"/>
              <a:chOff x="7659360" y="4341240"/>
              <a:chExt cx="706320" cy="277200"/>
            </a:xfrm>
          </p:grpSpPr>
          <p:sp>
            <p:nvSpPr>
              <p:cNvPr id="1038" name=""/>
              <p:cNvSpPr/>
              <p:nvPr/>
            </p:nvSpPr>
            <p:spPr>
              <a:xfrm>
                <a:off x="7736040" y="4341240"/>
                <a:ext cx="55296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65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8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659360" y="4341240"/>
                <a:ext cx="70632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8366040" y="4341240"/>
              <a:ext cx="711720" cy="277200"/>
              <a:chOff x="8366040" y="4341240"/>
              <a:chExt cx="711720" cy="277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442720" y="4341240"/>
                <a:ext cx="558000" cy="277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3,38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66040" y="4341240"/>
                <a:ext cx="711720" cy="277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87480" y="4618440"/>
              <a:ext cx="2280960" cy="276840"/>
              <a:chOff x="87480" y="4618440"/>
              <a:chExt cx="2280960" cy="276840"/>
            </a:xfrm>
          </p:grpSpPr>
          <p:sp>
            <p:nvSpPr>
              <p:cNvPr id="1044" name=""/>
              <p:cNvSpPr/>
              <p:nvPr/>
            </p:nvSpPr>
            <p:spPr>
              <a:xfrm>
                <a:off x="164160" y="4618440"/>
                <a:ext cx="2127240" cy="2768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eaeaea"/>
                    </a:solidFill>
                    <a:latin typeface="Arial Unicode MS"/>
                    <a:ea typeface="Arial Unicode MS"/>
                  </a:rPr>
                  <a:t>Каналопромывочные машины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7480" y="4618440"/>
                <a:ext cx="2280960" cy="2768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2368800" y="4618440"/>
              <a:ext cx="663480" cy="276840"/>
              <a:chOff x="2368800" y="4618440"/>
              <a:chExt cx="663480" cy="276840"/>
            </a:xfrm>
          </p:grpSpPr>
          <p:sp>
            <p:nvSpPr>
              <p:cNvPr id="1047" name=""/>
              <p:cNvSpPr/>
              <p:nvPr/>
            </p:nvSpPr>
            <p:spPr>
              <a:xfrm>
                <a:off x="2445120" y="4618440"/>
                <a:ext cx="510120" cy="2768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368800" y="4618440"/>
                <a:ext cx="663480" cy="2768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032640" y="4618440"/>
              <a:ext cx="674280" cy="276840"/>
              <a:chOff x="3032640" y="4618440"/>
              <a:chExt cx="674280" cy="276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109320" y="4618440"/>
                <a:ext cx="520560" cy="2768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6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032640" y="4618440"/>
                <a:ext cx="674280" cy="2768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707280" y="4618440"/>
              <a:ext cx="1136520" cy="276840"/>
              <a:chOff x="3707280" y="4618440"/>
              <a:chExt cx="1136520" cy="276840"/>
            </a:xfrm>
          </p:grpSpPr>
          <p:sp>
            <p:nvSpPr>
              <p:cNvPr id="1053" name=""/>
              <p:cNvSpPr/>
              <p:nvPr/>
            </p:nvSpPr>
            <p:spPr>
              <a:xfrm>
                <a:off x="3783960" y="4618440"/>
                <a:ext cx="982800" cy="2768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,2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707280" y="4618440"/>
                <a:ext cx="1136520" cy="2768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4844520" y="4618440"/>
              <a:ext cx="708120" cy="276840"/>
              <a:chOff x="4844520" y="4618440"/>
              <a:chExt cx="708120" cy="2768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21200" y="4618440"/>
                <a:ext cx="554400" cy="2768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9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4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844520" y="4618440"/>
                <a:ext cx="708120" cy="2768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5553360" y="4618440"/>
              <a:ext cx="711360" cy="276840"/>
              <a:chOff x="5553360" y="4618440"/>
              <a:chExt cx="711360" cy="276840"/>
            </a:xfrm>
          </p:grpSpPr>
          <p:sp>
            <p:nvSpPr>
              <p:cNvPr id="1059" name=""/>
              <p:cNvSpPr/>
              <p:nvPr/>
            </p:nvSpPr>
            <p:spPr>
              <a:xfrm>
                <a:off x="5629680" y="4618440"/>
                <a:ext cx="558000" cy="2768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3,6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553360" y="4618440"/>
                <a:ext cx="711360" cy="2768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65440" y="4618440"/>
              <a:ext cx="681480" cy="276840"/>
              <a:chOff x="6265440" y="4618440"/>
              <a:chExt cx="681480" cy="276840"/>
            </a:xfrm>
          </p:grpSpPr>
          <p:sp>
            <p:nvSpPr>
              <p:cNvPr id="1062" name=""/>
              <p:cNvSpPr/>
              <p:nvPr/>
            </p:nvSpPr>
            <p:spPr>
              <a:xfrm>
                <a:off x="6342120" y="4618440"/>
                <a:ext cx="527760" cy="2768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2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4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265440" y="4618440"/>
                <a:ext cx="681480" cy="2768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947280" y="4618440"/>
              <a:ext cx="711360" cy="276840"/>
              <a:chOff x="6947280" y="4618440"/>
              <a:chExt cx="711360" cy="276840"/>
            </a:xfrm>
          </p:grpSpPr>
          <p:sp>
            <p:nvSpPr>
              <p:cNvPr id="1065" name=""/>
              <p:cNvSpPr/>
              <p:nvPr/>
            </p:nvSpPr>
            <p:spPr>
              <a:xfrm>
                <a:off x="7023600" y="4618440"/>
                <a:ext cx="558000" cy="2768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3,9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947280" y="4618440"/>
                <a:ext cx="711360" cy="2768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7659360" y="4618440"/>
              <a:ext cx="706320" cy="276840"/>
              <a:chOff x="7659360" y="4618440"/>
              <a:chExt cx="706320" cy="276840"/>
            </a:xfrm>
          </p:grpSpPr>
          <p:sp>
            <p:nvSpPr>
              <p:cNvPr id="1068" name=""/>
              <p:cNvSpPr/>
              <p:nvPr/>
            </p:nvSpPr>
            <p:spPr>
              <a:xfrm>
                <a:off x="7736040" y="4618440"/>
                <a:ext cx="552960" cy="2768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5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4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59360" y="4618440"/>
                <a:ext cx="706320" cy="2768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8366040" y="4618440"/>
              <a:ext cx="711720" cy="276840"/>
              <a:chOff x="8366040" y="4618440"/>
              <a:chExt cx="711720" cy="276840"/>
            </a:xfrm>
          </p:grpSpPr>
          <p:sp>
            <p:nvSpPr>
              <p:cNvPr id="1071" name=""/>
              <p:cNvSpPr/>
              <p:nvPr/>
            </p:nvSpPr>
            <p:spPr>
              <a:xfrm>
                <a:off x="8442720" y="4618440"/>
                <a:ext cx="558000" cy="27684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4,2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66040" y="4618440"/>
                <a:ext cx="711720" cy="27684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87480" y="4895640"/>
              <a:ext cx="8990640" cy="223200"/>
              <a:chOff x="87480" y="4895640"/>
              <a:chExt cx="8990640" cy="223200"/>
            </a:xfrm>
          </p:grpSpPr>
          <p:sp>
            <p:nvSpPr>
              <p:cNvPr id="1074" name=""/>
              <p:cNvSpPr/>
              <p:nvPr/>
            </p:nvSpPr>
            <p:spPr>
              <a:xfrm>
                <a:off x="164160" y="4895640"/>
                <a:ext cx="8836920" cy="223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Уни</a:t>
                </a:r>
                <a:r>
                  <a:rPr b="1" i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в</a:t>
                </a:r>
                <a:r>
                  <a:rPr b="1" i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ерсальные многофункциональные машины для работы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7480" y="4895640"/>
                <a:ext cx="8990640" cy="223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87480" y="5118840"/>
              <a:ext cx="2280960" cy="335880"/>
              <a:chOff x="87480" y="5118840"/>
              <a:chExt cx="2280960" cy="335880"/>
            </a:xfrm>
          </p:grpSpPr>
          <p:sp>
            <p:nvSpPr>
              <p:cNvPr id="1077" name=""/>
              <p:cNvSpPr/>
              <p:nvPr/>
            </p:nvSpPr>
            <p:spPr>
              <a:xfrm>
                <a:off x="164160" y="5118840"/>
                <a:ext cx="212724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eaeaea"/>
                    </a:solidFill>
                    <a:latin typeface="Arial Unicode MS"/>
                    <a:ea typeface="Arial Unicode MS"/>
                  </a:rPr>
                  <a:t>Универсальные уборочные машины на базе минитрактора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7480" y="5118840"/>
                <a:ext cx="22809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2368800" y="5118840"/>
              <a:ext cx="663480" cy="335880"/>
              <a:chOff x="2368800" y="5118840"/>
              <a:chExt cx="663480" cy="335880"/>
            </a:xfrm>
          </p:grpSpPr>
          <p:sp>
            <p:nvSpPr>
              <p:cNvPr id="1080" name=""/>
              <p:cNvSpPr/>
              <p:nvPr/>
            </p:nvSpPr>
            <p:spPr>
              <a:xfrm>
                <a:off x="2445120" y="5118840"/>
                <a:ext cx="51012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55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368800" y="5118840"/>
                <a:ext cx="6634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032640" y="5118840"/>
              <a:ext cx="674280" cy="335880"/>
              <a:chOff x="3032640" y="5118840"/>
              <a:chExt cx="674280" cy="335880"/>
            </a:xfrm>
          </p:grpSpPr>
          <p:sp>
            <p:nvSpPr>
              <p:cNvPr id="1083" name=""/>
              <p:cNvSpPr/>
              <p:nvPr/>
            </p:nvSpPr>
            <p:spPr>
              <a:xfrm>
                <a:off x="3109320" y="5118840"/>
                <a:ext cx="5205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64 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2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032640" y="5118840"/>
                <a:ext cx="6742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3707280" y="5118840"/>
              <a:ext cx="1136520" cy="335880"/>
              <a:chOff x="3707280" y="5118840"/>
              <a:chExt cx="1136520" cy="335880"/>
            </a:xfrm>
          </p:grpSpPr>
          <p:sp>
            <p:nvSpPr>
              <p:cNvPr id="1086" name=""/>
              <p:cNvSpPr/>
              <p:nvPr/>
            </p:nvSpPr>
            <p:spPr>
              <a:xfrm>
                <a:off x="3783960" y="5118840"/>
                <a:ext cx="9828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3,2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707280" y="5118840"/>
                <a:ext cx="11365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4844520" y="5118840"/>
              <a:ext cx="708120" cy="335880"/>
              <a:chOff x="4844520" y="5118840"/>
              <a:chExt cx="708120" cy="335880"/>
            </a:xfrm>
          </p:grpSpPr>
          <p:sp>
            <p:nvSpPr>
              <p:cNvPr id="1089" name=""/>
              <p:cNvSpPr/>
              <p:nvPr/>
            </p:nvSpPr>
            <p:spPr>
              <a:xfrm>
                <a:off x="4921200" y="5118840"/>
                <a:ext cx="5544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85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6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44520" y="5118840"/>
                <a:ext cx="7081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5553360" y="5118840"/>
              <a:ext cx="711360" cy="335880"/>
              <a:chOff x="5553360" y="5118840"/>
              <a:chExt cx="711360" cy="335880"/>
            </a:xfrm>
          </p:grpSpPr>
          <p:sp>
            <p:nvSpPr>
              <p:cNvPr id="1092" name=""/>
              <p:cNvSpPr/>
              <p:nvPr/>
            </p:nvSpPr>
            <p:spPr>
              <a:xfrm>
                <a:off x="5629680" y="511884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7,8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553360" y="5118840"/>
                <a:ext cx="7113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6265440" y="5118840"/>
              <a:ext cx="681480" cy="335880"/>
              <a:chOff x="6265440" y="5118840"/>
              <a:chExt cx="681480" cy="335880"/>
            </a:xfrm>
          </p:grpSpPr>
          <p:sp>
            <p:nvSpPr>
              <p:cNvPr id="1095" name=""/>
              <p:cNvSpPr/>
              <p:nvPr/>
            </p:nvSpPr>
            <p:spPr>
              <a:xfrm>
                <a:off x="6342120" y="5118840"/>
                <a:ext cx="5277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05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7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65440" y="5118840"/>
                <a:ext cx="6814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6947280" y="5118840"/>
              <a:ext cx="709920" cy="335880"/>
              <a:chOff x="6947280" y="5118840"/>
              <a:chExt cx="709920" cy="335880"/>
            </a:xfrm>
          </p:grpSpPr>
          <p:sp>
            <p:nvSpPr>
              <p:cNvPr id="1098" name=""/>
              <p:cNvSpPr/>
              <p:nvPr/>
            </p:nvSpPr>
            <p:spPr>
              <a:xfrm>
                <a:off x="7023600" y="5118840"/>
                <a:ext cx="5565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8,0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947280" y="5118840"/>
                <a:ext cx="7099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7657920" y="5118840"/>
              <a:ext cx="707760" cy="335880"/>
              <a:chOff x="7657920" y="5118840"/>
              <a:chExt cx="707760" cy="335880"/>
            </a:xfrm>
          </p:grpSpPr>
          <p:sp>
            <p:nvSpPr>
              <p:cNvPr id="1101" name=""/>
              <p:cNvSpPr/>
              <p:nvPr/>
            </p:nvSpPr>
            <p:spPr>
              <a:xfrm>
                <a:off x="7734240" y="5118840"/>
                <a:ext cx="55512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26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9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57920" y="5118840"/>
                <a:ext cx="7077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8366040" y="5118840"/>
              <a:ext cx="711720" cy="335880"/>
              <a:chOff x="8366040" y="5118840"/>
              <a:chExt cx="711720" cy="335880"/>
            </a:xfrm>
          </p:grpSpPr>
          <p:sp>
            <p:nvSpPr>
              <p:cNvPr id="1104" name=""/>
              <p:cNvSpPr/>
              <p:nvPr/>
            </p:nvSpPr>
            <p:spPr>
              <a:xfrm>
                <a:off x="8442720" y="511884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8,8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366040" y="5118840"/>
                <a:ext cx="7117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87480" y="5455080"/>
              <a:ext cx="2280960" cy="394560"/>
              <a:chOff x="87480" y="5455080"/>
              <a:chExt cx="2280960" cy="394560"/>
            </a:xfrm>
          </p:grpSpPr>
          <p:sp>
            <p:nvSpPr>
              <p:cNvPr id="1107" name=""/>
              <p:cNvSpPr/>
              <p:nvPr/>
            </p:nvSpPr>
            <p:spPr>
              <a:xfrm>
                <a:off x="164160" y="5455080"/>
                <a:ext cx="212724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  <a:ea typeface="Arial Unicode MS"/>
                  </a:rPr>
                  <a:t>Многоцелевые комм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</a:rPr>
                  <a:t>у</a:t>
                </a:r>
                <a:r>
                  <a:rPr b="1" lang="ru-RU" sz="1100" spc="-1" strike="noStrike">
                    <a:solidFill>
                      <a:srgbClr val="eaeaea"/>
                    </a:solidFill>
                    <a:latin typeface="Times New Roman"/>
                    <a:ea typeface="Arial Unicode MS"/>
                  </a:rPr>
                  <a:t>нально-строительные машины (типа МКСМ-800)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7480" y="5455080"/>
                <a:ext cx="228096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2368800" y="5455080"/>
              <a:ext cx="663480" cy="394560"/>
              <a:chOff x="2368800" y="5455080"/>
              <a:chExt cx="663480" cy="394560"/>
            </a:xfrm>
          </p:grpSpPr>
          <p:sp>
            <p:nvSpPr>
              <p:cNvPr id="1110" name=""/>
              <p:cNvSpPr/>
              <p:nvPr/>
            </p:nvSpPr>
            <p:spPr>
              <a:xfrm>
                <a:off x="2445120" y="5455080"/>
                <a:ext cx="51012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368800" y="5455080"/>
                <a:ext cx="66348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3032640" y="5455080"/>
              <a:ext cx="674280" cy="394560"/>
              <a:chOff x="3032640" y="5455080"/>
              <a:chExt cx="674280" cy="394560"/>
            </a:xfrm>
          </p:grpSpPr>
          <p:sp>
            <p:nvSpPr>
              <p:cNvPr id="1113" name=""/>
              <p:cNvSpPr/>
              <p:nvPr/>
            </p:nvSpPr>
            <p:spPr>
              <a:xfrm>
                <a:off x="3109320" y="5455080"/>
                <a:ext cx="52056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8 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3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032640" y="5455080"/>
                <a:ext cx="67428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3707280" y="5455080"/>
              <a:ext cx="1136520" cy="394560"/>
              <a:chOff x="3707280" y="5455080"/>
              <a:chExt cx="1136520" cy="394560"/>
            </a:xfrm>
          </p:grpSpPr>
          <p:sp>
            <p:nvSpPr>
              <p:cNvPr id="1116" name=""/>
              <p:cNvSpPr/>
              <p:nvPr/>
            </p:nvSpPr>
            <p:spPr>
              <a:xfrm>
                <a:off x="3783960" y="5455080"/>
                <a:ext cx="98280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,8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707280" y="5455080"/>
                <a:ext cx="113652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4844520" y="5455080"/>
              <a:ext cx="708120" cy="394560"/>
              <a:chOff x="4844520" y="5455080"/>
              <a:chExt cx="708120" cy="394560"/>
            </a:xfrm>
          </p:grpSpPr>
          <p:sp>
            <p:nvSpPr>
              <p:cNvPr id="1119" name=""/>
              <p:cNvSpPr/>
              <p:nvPr/>
            </p:nvSpPr>
            <p:spPr>
              <a:xfrm>
                <a:off x="4921200" y="5455080"/>
                <a:ext cx="55440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24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7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44520" y="5455080"/>
                <a:ext cx="70812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5553360" y="5455080"/>
              <a:ext cx="711360" cy="394560"/>
              <a:chOff x="5553360" y="5455080"/>
              <a:chExt cx="711360" cy="394560"/>
            </a:xfrm>
          </p:grpSpPr>
          <p:sp>
            <p:nvSpPr>
              <p:cNvPr id="1122" name=""/>
              <p:cNvSpPr/>
              <p:nvPr/>
            </p:nvSpPr>
            <p:spPr>
              <a:xfrm>
                <a:off x="5629680" y="5455080"/>
                <a:ext cx="55800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3,6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553360" y="5455080"/>
                <a:ext cx="71136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6265440" y="5455080"/>
              <a:ext cx="681480" cy="394560"/>
              <a:chOff x="6265440" y="5455080"/>
              <a:chExt cx="681480" cy="394560"/>
            </a:xfrm>
          </p:grpSpPr>
          <p:sp>
            <p:nvSpPr>
              <p:cNvPr id="1125" name=""/>
              <p:cNvSpPr/>
              <p:nvPr/>
            </p:nvSpPr>
            <p:spPr>
              <a:xfrm>
                <a:off x="6342120" y="5455080"/>
                <a:ext cx="52776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3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8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265440" y="5455080"/>
                <a:ext cx="68148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6947280" y="5455080"/>
              <a:ext cx="709920" cy="394560"/>
              <a:chOff x="6947280" y="5455080"/>
              <a:chExt cx="709920" cy="394560"/>
            </a:xfrm>
          </p:grpSpPr>
          <p:sp>
            <p:nvSpPr>
              <p:cNvPr id="1128" name=""/>
              <p:cNvSpPr/>
              <p:nvPr/>
            </p:nvSpPr>
            <p:spPr>
              <a:xfrm>
                <a:off x="7023600" y="5455080"/>
                <a:ext cx="55656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4,6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47280" y="5455080"/>
                <a:ext cx="70992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7657920" y="5455080"/>
              <a:ext cx="707760" cy="394560"/>
              <a:chOff x="7657920" y="5455080"/>
              <a:chExt cx="707760" cy="394560"/>
            </a:xfrm>
          </p:grpSpPr>
          <p:sp>
            <p:nvSpPr>
              <p:cNvPr id="1131" name=""/>
              <p:cNvSpPr/>
              <p:nvPr/>
            </p:nvSpPr>
            <p:spPr>
              <a:xfrm>
                <a:off x="7734240" y="5455080"/>
                <a:ext cx="55512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36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9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657920" y="5455080"/>
                <a:ext cx="70776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8366040" y="5455080"/>
              <a:ext cx="711720" cy="394560"/>
              <a:chOff x="8366040" y="5455080"/>
              <a:chExt cx="711720" cy="394560"/>
            </a:xfrm>
          </p:grpSpPr>
          <p:sp>
            <p:nvSpPr>
              <p:cNvPr id="1134" name=""/>
              <p:cNvSpPr/>
              <p:nvPr/>
            </p:nvSpPr>
            <p:spPr>
              <a:xfrm>
                <a:off x="8442720" y="5455080"/>
                <a:ext cx="558000" cy="39456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5,0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366040" y="5455080"/>
                <a:ext cx="711720" cy="39456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87480" y="5850000"/>
              <a:ext cx="8990640" cy="223200"/>
              <a:chOff x="87480" y="5850000"/>
              <a:chExt cx="8990640" cy="223200"/>
            </a:xfrm>
          </p:grpSpPr>
          <p:sp>
            <p:nvSpPr>
              <p:cNvPr id="1137" name=""/>
              <p:cNvSpPr/>
              <p:nvPr/>
            </p:nvSpPr>
            <p:spPr>
              <a:xfrm>
                <a:off x="164160" y="5850000"/>
                <a:ext cx="8836920" cy="22320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Устройства малой механизации работы дворников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7480" y="5850000"/>
                <a:ext cx="8990640" cy="22320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87480" y="6073560"/>
              <a:ext cx="2282400" cy="335880"/>
              <a:chOff x="87480" y="6073560"/>
              <a:chExt cx="2282400" cy="335880"/>
            </a:xfrm>
          </p:grpSpPr>
          <p:sp>
            <p:nvSpPr>
              <p:cNvPr id="1140" name=""/>
              <p:cNvSpPr/>
              <p:nvPr/>
            </p:nvSpPr>
            <p:spPr>
              <a:xfrm>
                <a:off x="164160" y="6073560"/>
                <a:ext cx="212868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Arial Unicode MS"/>
                    <a:ea typeface="Arial Unicode MS"/>
                  </a:rPr>
                  <a:t>Мотоблоки с навесными инструментами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7480" y="6073560"/>
                <a:ext cx="228240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2370240" y="6073560"/>
              <a:ext cx="661680" cy="335880"/>
              <a:chOff x="2370240" y="6073560"/>
              <a:chExt cx="661680" cy="335880"/>
            </a:xfrm>
          </p:grpSpPr>
          <p:sp>
            <p:nvSpPr>
              <p:cNvPr id="1143" name=""/>
              <p:cNvSpPr/>
              <p:nvPr/>
            </p:nvSpPr>
            <p:spPr>
              <a:xfrm>
                <a:off x="2446920" y="6073560"/>
                <a:ext cx="5079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370240" y="6073560"/>
                <a:ext cx="6616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3032640" y="6073560"/>
              <a:ext cx="674280" cy="335880"/>
              <a:chOff x="3032640" y="6073560"/>
              <a:chExt cx="674280" cy="335880"/>
            </a:xfrm>
          </p:grpSpPr>
          <p:sp>
            <p:nvSpPr>
              <p:cNvPr id="1146" name=""/>
              <p:cNvSpPr/>
              <p:nvPr/>
            </p:nvSpPr>
            <p:spPr>
              <a:xfrm>
                <a:off x="3109320" y="6073560"/>
                <a:ext cx="5205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5 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5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032640" y="6073560"/>
                <a:ext cx="6742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3707280" y="6073560"/>
              <a:ext cx="1136520" cy="335880"/>
              <a:chOff x="3707280" y="6073560"/>
              <a:chExt cx="1136520" cy="335880"/>
            </a:xfrm>
          </p:grpSpPr>
          <p:sp>
            <p:nvSpPr>
              <p:cNvPr id="1149" name=""/>
              <p:cNvSpPr/>
              <p:nvPr/>
            </p:nvSpPr>
            <p:spPr>
              <a:xfrm>
                <a:off x="3783960" y="6073560"/>
                <a:ext cx="9828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0,2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707280" y="6073560"/>
                <a:ext cx="11365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4844520" y="6073560"/>
              <a:ext cx="708120" cy="335880"/>
              <a:chOff x="4844520" y="6073560"/>
              <a:chExt cx="708120" cy="335880"/>
            </a:xfrm>
          </p:grpSpPr>
          <p:sp>
            <p:nvSpPr>
              <p:cNvPr id="1152" name=""/>
              <p:cNvSpPr/>
              <p:nvPr/>
            </p:nvSpPr>
            <p:spPr>
              <a:xfrm>
                <a:off x="4921200" y="6073560"/>
                <a:ext cx="5544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3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</a:rPr>
                  <a:t>5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30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844520" y="6073560"/>
                <a:ext cx="7081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5553360" y="6073560"/>
              <a:ext cx="711360" cy="335880"/>
              <a:chOff x="5553360" y="6073560"/>
              <a:chExt cx="711360" cy="335880"/>
            </a:xfrm>
          </p:grpSpPr>
          <p:sp>
            <p:nvSpPr>
              <p:cNvPr id="1155" name=""/>
              <p:cNvSpPr/>
              <p:nvPr/>
            </p:nvSpPr>
            <p:spPr>
              <a:xfrm>
                <a:off x="5629680" y="607356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0,8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553360" y="6073560"/>
                <a:ext cx="7113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6265440" y="6073560"/>
              <a:ext cx="681480" cy="335880"/>
              <a:chOff x="6265440" y="6073560"/>
              <a:chExt cx="681480" cy="335880"/>
            </a:xfrm>
          </p:grpSpPr>
          <p:sp>
            <p:nvSpPr>
              <p:cNvPr id="1158" name=""/>
              <p:cNvSpPr/>
              <p:nvPr/>
            </p:nvSpPr>
            <p:spPr>
              <a:xfrm>
                <a:off x="6342120" y="6073560"/>
                <a:ext cx="5277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</a:rPr>
                  <a:t>100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40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265440" y="6073560"/>
                <a:ext cx="6814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6947280" y="6073560"/>
              <a:ext cx="709920" cy="335880"/>
              <a:chOff x="6947280" y="6073560"/>
              <a:chExt cx="709920" cy="335880"/>
            </a:xfrm>
          </p:grpSpPr>
          <p:sp>
            <p:nvSpPr>
              <p:cNvPr id="1161" name=""/>
              <p:cNvSpPr/>
              <p:nvPr/>
            </p:nvSpPr>
            <p:spPr>
              <a:xfrm>
                <a:off x="7023600" y="6073560"/>
                <a:ext cx="5565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,4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947280" y="6073560"/>
                <a:ext cx="7099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7657920" y="6073560"/>
              <a:ext cx="707760" cy="335880"/>
              <a:chOff x="7657920" y="6073560"/>
              <a:chExt cx="707760" cy="335880"/>
            </a:xfrm>
          </p:grpSpPr>
          <p:sp>
            <p:nvSpPr>
              <p:cNvPr id="1164" name=""/>
              <p:cNvSpPr/>
              <p:nvPr/>
            </p:nvSpPr>
            <p:spPr>
              <a:xfrm>
                <a:off x="7734240" y="6073560"/>
                <a:ext cx="55512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</a:rPr>
                  <a:t>5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70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657920" y="6073560"/>
                <a:ext cx="7077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8366040" y="6073560"/>
              <a:ext cx="711720" cy="335880"/>
              <a:chOff x="8366040" y="6073560"/>
              <a:chExt cx="711720" cy="335880"/>
            </a:xfrm>
          </p:grpSpPr>
          <p:sp>
            <p:nvSpPr>
              <p:cNvPr id="1167" name=""/>
              <p:cNvSpPr/>
              <p:nvPr/>
            </p:nvSpPr>
            <p:spPr>
              <a:xfrm>
                <a:off x="8442720" y="607356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3,0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366040" y="6073560"/>
                <a:ext cx="7117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87480" y="6409440"/>
              <a:ext cx="2282400" cy="335880"/>
              <a:chOff x="87480" y="6409440"/>
              <a:chExt cx="2282400" cy="335880"/>
            </a:xfrm>
          </p:grpSpPr>
          <p:sp>
            <p:nvSpPr>
              <p:cNvPr id="1170" name=""/>
              <p:cNvSpPr/>
              <p:nvPr/>
            </p:nvSpPr>
            <p:spPr>
              <a:xfrm>
                <a:off x="164160" y="6409440"/>
                <a:ext cx="212868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Arial Unicode MS"/>
                  </a:rPr>
                  <a:t>Ручной снегоуборщик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7480" y="6409440"/>
                <a:ext cx="228240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2370240" y="6409440"/>
              <a:ext cx="661680" cy="335880"/>
              <a:chOff x="2370240" y="6409440"/>
              <a:chExt cx="661680" cy="335880"/>
            </a:xfrm>
          </p:grpSpPr>
          <p:sp>
            <p:nvSpPr>
              <p:cNvPr id="1173" name=""/>
              <p:cNvSpPr/>
              <p:nvPr/>
            </p:nvSpPr>
            <p:spPr>
              <a:xfrm>
                <a:off x="2446920" y="6409440"/>
                <a:ext cx="5079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370240" y="6409440"/>
                <a:ext cx="6616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3032640" y="6409440"/>
              <a:ext cx="674280" cy="335880"/>
              <a:chOff x="3032640" y="6409440"/>
              <a:chExt cx="674280" cy="335880"/>
            </a:xfrm>
          </p:grpSpPr>
          <p:sp>
            <p:nvSpPr>
              <p:cNvPr id="1176" name=""/>
              <p:cNvSpPr/>
              <p:nvPr/>
            </p:nvSpPr>
            <p:spPr>
              <a:xfrm>
                <a:off x="3109320" y="6409440"/>
                <a:ext cx="5205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20 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18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32640" y="6409440"/>
                <a:ext cx="6742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3707280" y="6409440"/>
              <a:ext cx="1136520" cy="335880"/>
              <a:chOff x="3707280" y="6409440"/>
              <a:chExt cx="1136520" cy="335880"/>
            </a:xfrm>
          </p:grpSpPr>
          <p:sp>
            <p:nvSpPr>
              <p:cNvPr id="1179" name=""/>
              <p:cNvSpPr/>
              <p:nvPr/>
            </p:nvSpPr>
            <p:spPr>
              <a:xfrm>
                <a:off x="3783960" y="6409440"/>
                <a:ext cx="9828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0,9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707280" y="6409440"/>
                <a:ext cx="11365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4844520" y="6409440"/>
              <a:ext cx="708120" cy="335880"/>
              <a:chOff x="4844520" y="6409440"/>
              <a:chExt cx="708120" cy="335880"/>
            </a:xfrm>
          </p:grpSpPr>
          <p:sp>
            <p:nvSpPr>
              <p:cNvPr id="1182" name=""/>
              <p:cNvSpPr/>
              <p:nvPr/>
            </p:nvSpPr>
            <p:spPr>
              <a:xfrm>
                <a:off x="4921200" y="6409440"/>
                <a:ext cx="5544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6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4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0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844520" y="6409440"/>
                <a:ext cx="7081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553360" y="6409440"/>
              <a:ext cx="711360" cy="335880"/>
              <a:chOff x="5553360" y="6409440"/>
              <a:chExt cx="711360" cy="335880"/>
            </a:xfrm>
          </p:grpSpPr>
          <p:sp>
            <p:nvSpPr>
              <p:cNvPr id="1185" name=""/>
              <p:cNvSpPr/>
              <p:nvPr/>
            </p:nvSpPr>
            <p:spPr>
              <a:xfrm>
                <a:off x="5629680" y="640944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,0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553360" y="6409440"/>
                <a:ext cx="7113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6265440" y="6409440"/>
              <a:ext cx="681480" cy="335880"/>
              <a:chOff x="6265440" y="6409440"/>
              <a:chExt cx="681480" cy="335880"/>
            </a:xfrm>
          </p:grpSpPr>
          <p:sp>
            <p:nvSpPr>
              <p:cNvPr id="1188" name=""/>
              <p:cNvSpPr/>
              <p:nvPr/>
            </p:nvSpPr>
            <p:spPr>
              <a:xfrm>
                <a:off x="6342120" y="6409440"/>
                <a:ext cx="5277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0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4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0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265440" y="6409440"/>
                <a:ext cx="68148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6947280" y="6409440"/>
              <a:ext cx="709920" cy="335880"/>
              <a:chOff x="6947280" y="6409440"/>
              <a:chExt cx="709920" cy="335880"/>
            </a:xfrm>
          </p:grpSpPr>
          <p:sp>
            <p:nvSpPr>
              <p:cNvPr id="1191" name=""/>
              <p:cNvSpPr/>
              <p:nvPr/>
            </p:nvSpPr>
            <p:spPr>
              <a:xfrm>
                <a:off x="7023600" y="6409440"/>
                <a:ext cx="55656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2,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8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947280" y="6409440"/>
                <a:ext cx="7099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7657920" y="6409440"/>
              <a:ext cx="707760" cy="335880"/>
              <a:chOff x="7657920" y="6409440"/>
              <a:chExt cx="707760" cy="335880"/>
            </a:xfrm>
          </p:grpSpPr>
          <p:sp>
            <p:nvSpPr>
              <p:cNvPr id="1194" name=""/>
              <p:cNvSpPr/>
              <p:nvPr/>
            </p:nvSpPr>
            <p:spPr>
              <a:xfrm>
                <a:off x="7734240" y="6409440"/>
                <a:ext cx="55512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 </a:t>
                </a:r>
                <a:r>
                  <a:rPr b="1" lang="en-US" sz="1100" spc="-1" strike="noStrike" u="sng">
                    <a:solidFill>
                      <a:srgbClr val="eaeaea"/>
                    </a:solidFill>
                    <a:uFillTx/>
                    <a:latin typeface="Times New Roman"/>
                    <a:ea typeface="Times New Roman"/>
                  </a:rPr>
                  <a:t>140 .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4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0</a:t>
                </a: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657920" y="6409440"/>
                <a:ext cx="70776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8366040" y="6409440"/>
              <a:ext cx="711720" cy="335880"/>
              <a:chOff x="8366040" y="6409440"/>
              <a:chExt cx="711720" cy="335880"/>
            </a:xfrm>
          </p:grpSpPr>
          <p:sp>
            <p:nvSpPr>
              <p:cNvPr id="1197" name=""/>
              <p:cNvSpPr/>
              <p:nvPr/>
            </p:nvSpPr>
            <p:spPr>
              <a:xfrm>
                <a:off x="8442720" y="6409440"/>
                <a:ext cx="558000" cy="335880"/>
              </a:xfrm>
              <a:prstGeom prst="rect">
                <a:avLst/>
              </a:prstGeom>
              <a:noFill/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eaeaea"/>
                    </a:solidFill>
                    <a:latin typeface="Times New Roman"/>
                  </a:rPr>
                  <a:t>3,4</a:t>
                </a:r>
                <a:endParaRPr b="0" lang="en-US" sz="1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66040" y="6409440"/>
                <a:ext cx="711720" cy="335880"/>
              </a:xfrm>
              <a:prstGeom prst="rect">
                <a:avLst/>
              </a:prstGeom>
              <a:noFill/>
              <a:ln w="324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9" name=""/>
          <p:cNvSpPr/>
          <p:nvPr/>
        </p:nvSpPr>
        <p:spPr>
          <a:xfrm>
            <a:off x="152280" y="1066680"/>
            <a:ext cx="8839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Пот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</a:t>
            </a: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бности в техническом перевооружении парка машин и оборудования</a:t>
            </a: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для содержания городских территорий (кол</a:t>
            </a: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и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чество</a:t>
            </a: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единиц, стоимость в млн. руб.)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ТЕХНОЛОГИИ И ОБОРУДОВАНИЕ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ДЛЯ УБОРКИ, САНИТАРНОГО СОДЕРЖАНИЯ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И РЕМОНТА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УЛИЧНО-ДОРОЖНОЙ СЕТИ ГОРОДА ДВОРОВЫХ ТЕРРИТОРИЙ, ПЕШЕХОДНЫХ ДОРОЖЕК И ТРОТУАРОВ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85800" y="1447920"/>
            <a:ext cx="845820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25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ые предложения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1. Учитывая имеющийся на Новосибирском заводе дорожных машин опыт про-изводства навесного оборудования подметально-уборочных и поливо-моеч-ных машин  на шасси автомобилей ЗИЛ, ГАЗ и КамАЗ, включить в програм-му муниципальный заказ данному заводу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а) на обновление и модернизацию парка оснащения указанных машин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б) создание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струкци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ысокопроизводительной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метально-уборочной машины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по типу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ведской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шины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родвей»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и организация её серийного производства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7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) создание конструкции и организация производства вакуумных пылемусоро-уборочных машин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2. Предусмотреть в программе заказы кафедре механизации Новосибирского го-сударственного архитектурно-строительного университета и факультету строительно-дорожных машин Сибирского госуниверситета путей сообще-ния (НИИЖТу) разработку и создание опытных образцов механизмов для уборки дворовых территорий и механизации труда дворников город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ывая уникальный набор научных школ по химии в Новосибирском научном центре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О РАН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их богатый опыт по решению сложнейших прикладных задач, целесообразно химическим институтам Новосибирска дать заказ на создание недорогих эффективно работающих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и неагрессивных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огололедных средств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762120" y="7632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АШИНЫ И ОБОРУДОВАНИЕ ДЛЯ СБОРА, ВЫВОЗА, ПЕРЕРАБОТКИ И УТИЛИЗАЦИИ ТВЕРДЫХ ОТХОДОВ</a:t>
            </a: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5715000" y="1447920"/>
            <a:ext cx="3206880" cy="1663560"/>
            <a:chOff x="5715000" y="1447920"/>
            <a:chExt cx="3206880" cy="1663560"/>
          </a:xfrm>
        </p:grpSpPr>
        <p:grpSp>
          <p:nvGrpSpPr>
            <p:cNvPr id="1204" name=""/>
            <p:cNvGrpSpPr/>
            <p:nvPr/>
          </p:nvGrpSpPr>
          <p:grpSpPr>
            <a:xfrm>
              <a:off x="6313320" y="1746360"/>
              <a:ext cx="992160" cy="282600"/>
              <a:chOff x="6313320" y="1746360"/>
              <a:chExt cx="992160" cy="282600"/>
            </a:xfrm>
          </p:grpSpPr>
          <p:pic>
            <p:nvPicPr>
              <p:cNvPr id="1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13320" y="1746360"/>
                <a:ext cx="992160" cy="2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"/>
              <p:cNvSpPr/>
              <p:nvPr/>
            </p:nvSpPr>
            <p:spPr>
              <a:xfrm>
                <a:off x="6313320" y="1746360"/>
                <a:ext cx="984600" cy="275040"/>
              </a:xfrm>
              <a:custGeom>
                <a:avLst/>
                <a:gdLst/>
                <a:ahLst/>
                <a:rect l="l" t="t" r="r" b="b"/>
                <a:pathLst>
                  <a:path w="1549" h="433">
                    <a:moveTo>
                      <a:pt x="0" y="265"/>
                    </a:moveTo>
                    <a:lnTo>
                      <a:pt x="24" y="253"/>
                    </a:lnTo>
                    <a:lnTo>
                      <a:pt x="48" y="241"/>
                    </a:lnTo>
                    <a:lnTo>
                      <a:pt x="72" y="229"/>
                    </a:lnTo>
                    <a:lnTo>
                      <a:pt x="96" y="217"/>
                    </a:lnTo>
                    <a:lnTo>
                      <a:pt x="120" y="205"/>
                    </a:lnTo>
                    <a:lnTo>
                      <a:pt x="144" y="193"/>
                    </a:lnTo>
                    <a:lnTo>
                      <a:pt x="180" y="181"/>
                    </a:lnTo>
                    <a:lnTo>
                      <a:pt x="216" y="169"/>
                    </a:lnTo>
                    <a:lnTo>
                      <a:pt x="252" y="157"/>
                    </a:lnTo>
                    <a:lnTo>
                      <a:pt x="288" y="145"/>
                    </a:lnTo>
                    <a:lnTo>
                      <a:pt x="324" y="133"/>
                    </a:lnTo>
                    <a:lnTo>
                      <a:pt x="372" y="121"/>
                    </a:lnTo>
                    <a:lnTo>
                      <a:pt x="408" y="109"/>
                    </a:lnTo>
                    <a:lnTo>
                      <a:pt x="432" y="109"/>
                    </a:lnTo>
                    <a:lnTo>
                      <a:pt x="480" y="97"/>
                    </a:lnTo>
                    <a:lnTo>
                      <a:pt x="516" y="84"/>
                    </a:lnTo>
                    <a:lnTo>
                      <a:pt x="564" y="84"/>
                    </a:lnTo>
                    <a:lnTo>
                      <a:pt x="612" y="72"/>
                    </a:lnTo>
                    <a:lnTo>
                      <a:pt x="660" y="60"/>
                    </a:lnTo>
                    <a:lnTo>
                      <a:pt x="708" y="60"/>
                    </a:lnTo>
                    <a:lnTo>
                      <a:pt x="768" y="48"/>
                    </a:lnTo>
                    <a:lnTo>
                      <a:pt x="816" y="36"/>
                    </a:lnTo>
                    <a:lnTo>
                      <a:pt x="840" y="36"/>
                    </a:lnTo>
                    <a:lnTo>
                      <a:pt x="901" y="36"/>
                    </a:lnTo>
                    <a:lnTo>
                      <a:pt x="949" y="24"/>
                    </a:lnTo>
                    <a:lnTo>
                      <a:pt x="1009" y="24"/>
                    </a:lnTo>
                    <a:lnTo>
                      <a:pt x="1057" y="12"/>
                    </a:lnTo>
                    <a:lnTo>
                      <a:pt x="1117" y="12"/>
                    </a:lnTo>
                    <a:lnTo>
                      <a:pt x="1177" y="12"/>
                    </a:lnTo>
                    <a:lnTo>
                      <a:pt x="1237" y="0"/>
                    </a:lnTo>
                    <a:lnTo>
                      <a:pt x="1285" y="0"/>
                    </a:lnTo>
                    <a:lnTo>
                      <a:pt x="1321" y="0"/>
                    </a:lnTo>
                    <a:lnTo>
                      <a:pt x="1381" y="0"/>
                    </a:lnTo>
                    <a:lnTo>
                      <a:pt x="1441" y="0"/>
                    </a:lnTo>
                    <a:lnTo>
                      <a:pt x="1489" y="0"/>
                    </a:lnTo>
                    <a:lnTo>
                      <a:pt x="1549" y="0"/>
                    </a:lnTo>
                    <a:lnTo>
                      <a:pt x="1549" y="433"/>
                    </a:lnTo>
                    <a:lnTo>
                      <a:pt x="0" y="265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13320" y="1746360"/>
                <a:ext cx="984600" cy="275040"/>
              </a:xfrm>
              <a:custGeom>
                <a:avLst/>
                <a:gdLst/>
                <a:ahLst/>
                <a:rect l="l" t="t" r="r" b="b"/>
                <a:pathLst>
                  <a:path w="1549" h="433">
                    <a:moveTo>
                      <a:pt x="0" y="265"/>
                    </a:moveTo>
                    <a:lnTo>
                      <a:pt x="24" y="253"/>
                    </a:lnTo>
                    <a:lnTo>
                      <a:pt x="48" y="241"/>
                    </a:lnTo>
                    <a:lnTo>
                      <a:pt x="72" y="229"/>
                    </a:lnTo>
                    <a:lnTo>
                      <a:pt x="96" y="217"/>
                    </a:lnTo>
                    <a:lnTo>
                      <a:pt x="120" y="205"/>
                    </a:lnTo>
                    <a:lnTo>
                      <a:pt x="144" y="193"/>
                    </a:lnTo>
                    <a:lnTo>
                      <a:pt x="180" y="181"/>
                    </a:lnTo>
                    <a:lnTo>
                      <a:pt x="216" y="169"/>
                    </a:lnTo>
                    <a:lnTo>
                      <a:pt x="252" y="157"/>
                    </a:lnTo>
                    <a:lnTo>
                      <a:pt x="288" y="145"/>
                    </a:lnTo>
                    <a:lnTo>
                      <a:pt x="324" y="133"/>
                    </a:lnTo>
                    <a:lnTo>
                      <a:pt x="372" y="121"/>
                    </a:lnTo>
                    <a:lnTo>
                      <a:pt x="408" y="109"/>
                    </a:lnTo>
                    <a:lnTo>
                      <a:pt x="432" y="109"/>
                    </a:lnTo>
                    <a:lnTo>
                      <a:pt x="480" y="97"/>
                    </a:lnTo>
                    <a:lnTo>
                      <a:pt x="516" y="84"/>
                    </a:lnTo>
                    <a:lnTo>
                      <a:pt x="564" y="84"/>
                    </a:lnTo>
                    <a:lnTo>
                      <a:pt x="612" y="72"/>
                    </a:lnTo>
                    <a:lnTo>
                      <a:pt x="660" y="60"/>
                    </a:lnTo>
                    <a:lnTo>
                      <a:pt x="708" y="60"/>
                    </a:lnTo>
                    <a:lnTo>
                      <a:pt x="768" y="48"/>
                    </a:lnTo>
                    <a:lnTo>
                      <a:pt x="816" y="36"/>
                    </a:lnTo>
                    <a:lnTo>
                      <a:pt x="840" y="36"/>
                    </a:lnTo>
                    <a:lnTo>
                      <a:pt x="901" y="36"/>
                    </a:lnTo>
                    <a:lnTo>
                      <a:pt x="949" y="24"/>
                    </a:lnTo>
                    <a:lnTo>
                      <a:pt x="1009" y="24"/>
                    </a:lnTo>
                    <a:lnTo>
                      <a:pt x="1057" y="12"/>
                    </a:lnTo>
                    <a:lnTo>
                      <a:pt x="1117" y="12"/>
                    </a:lnTo>
                    <a:lnTo>
                      <a:pt x="1177" y="12"/>
                    </a:lnTo>
                    <a:lnTo>
                      <a:pt x="1237" y="0"/>
                    </a:lnTo>
                    <a:lnTo>
                      <a:pt x="1285" y="0"/>
                    </a:lnTo>
                    <a:lnTo>
                      <a:pt x="1321" y="0"/>
                    </a:lnTo>
                    <a:lnTo>
                      <a:pt x="1381" y="0"/>
                    </a:lnTo>
                    <a:lnTo>
                      <a:pt x="1441" y="0"/>
                    </a:lnTo>
                    <a:lnTo>
                      <a:pt x="1489" y="0"/>
                    </a:lnTo>
                    <a:lnTo>
                      <a:pt x="1549" y="0"/>
                    </a:lnTo>
                    <a:lnTo>
                      <a:pt x="1549" y="43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3320" y="1746360"/>
                <a:ext cx="992160" cy="282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9" name=""/>
            <p:cNvSpPr/>
            <p:nvPr/>
          </p:nvSpPr>
          <p:spPr>
            <a:xfrm>
              <a:off x="6313320" y="1746360"/>
              <a:ext cx="984240" cy="274680"/>
            </a:xfrm>
            <a:custGeom>
              <a:avLst/>
              <a:gdLst/>
              <a:ahLst/>
              <a:rect l="l" t="t" r="r" b="b"/>
              <a:pathLst>
                <a:path w="1549" h="433">
                  <a:moveTo>
                    <a:pt x="0" y="265"/>
                  </a:moveTo>
                  <a:lnTo>
                    <a:pt x="24" y="253"/>
                  </a:lnTo>
                  <a:lnTo>
                    <a:pt x="48" y="241"/>
                  </a:lnTo>
                  <a:lnTo>
                    <a:pt x="72" y="229"/>
                  </a:lnTo>
                  <a:lnTo>
                    <a:pt x="96" y="217"/>
                  </a:lnTo>
                  <a:lnTo>
                    <a:pt x="120" y="205"/>
                  </a:lnTo>
                  <a:lnTo>
                    <a:pt x="144" y="193"/>
                  </a:lnTo>
                  <a:lnTo>
                    <a:pt x="180" y="181"/>
                  </a:lnTo>
                  <a:lnTo>
                    <a:pt x="216" y="169"/>
                  </a:lnTo>
                  <a:lnTo>
                    <a:pt x="252" y="157"/>
                  </a:lnTo>
                  <a:lnTo>
                    <a:pt x="288" y="145"/>
                  </a:lnTo>
                  <a:lnTo>
                    <a:pt x="324" y="133"/>
                  </a:lnTo>
                  <a:lnTo>
                    <a:pt x="372" y="121"/>
                  </a:lnTo>
                  <a:lnTo>
                    <a:pt x="408" y="109"/>
                  </a:lnTo>
                  <a:lnTo>
                    <a:pt x="432" y="109"/>
                  </a:lnTo>
                  <a:lnTo>
                    <a:pt x="480" y="97"/>
                  </a:lnTo>
                  <a:lnTo>
                    <a:pt x="516" y="84"/>
                  </a:lnTo>
                  <a:lnTo>
                    <a:pt x="564" y="84"/>
                  </a:lnTo>
                  <a:lnTo>
                    <a:pt x="612" y="72"/>
                  </a:lnTo>
                  <a:lnTo>
                    <a:pt x="660" y="60"/>
                  </a:lnTo>
                  <a:lnTo>
                    <a:pt x="708" y="60"/>
                  </a:lnTo>
                  <a:lnTo>
                    <a:pt x="768" y="48"/>
                  </a:lnTo>
                  <a:lnTo>
                    <a:pt x="816" y="36"/>
                  </a:lnTo>
                  <a:lnTo>
                    <a:pt x="840" y="36"/>
                  </a:lnTo>
                  <a:lnTo>
                    <a:pt x="901" y="36"/>
                  </a:lnTo>
                  <a:lnTo>
                    <a:pt x="949" y="24"/>
                  </a:lnTo>
                  <a:lnTo>
                    <a:pt x="1009" y="24"/>
                  </a:lnTo>
                  <a:lnTo>
                    <a:pt x="1057" y="12"/>
                  </a:lnTo>
                  <a:lnTo>
                    <a:pt x="1117" y="12"/>
                  </a:lnTo>
                  <a:lnTo>
                    <a:pt x="1177" y="12"/>
                  </a:lnTo>
                  <a:lnTo>
                    <a:pt x="1237" y="0"/>
                  </a:lnTo>
                  <a:lnTo>
                    <a:pt x="1285" y="0"/>
                  </a:lnTo>
                  <a:lnTo>
                    <a:pt x="1321" y="0"/>
                  </a:lnTo>
                  <a:lnTo>
                    <a:pt x="1381" y="0"/>
                  </a:lnTo>
                  <a:lnTo>
                    <a:pt x="1441" y="0"/>
                  </a:lnTo>
                  <a:lnTo>
                    <a:pt x="1489" y="0"/>
                  </a:lnTo>
                  <a:lnTo>
                    <a:pt x="1549" y="0"/>
                  </a:lnTo>
                  <a:lnTo>
                    <a:pt x="1549" y="433"/>
                  </a:lnTo>
                  <a:lnTo>
                    <a:pt x="0" y="265"/>
                  </a:lnTo>
                  <a:close/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8343720" y="2021040"/>
              <a:ext cx="30240" cy="358560"/>
              <a:chOff x="8343720" y="2021040"/>
              <a:chExt cx="30240" cy="358560"/>
            </a:xfrm>
          </p:grpSpPr>
          <p:pic>
            <p:nvPicPr>
              <p:cNvPr id="121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43720" y="2021040"/>
                <a:ext cx="30240" cy="358560"/>
              </a:xfrm>
              <a:prstGeom prst="rect">
                <a:avLst/>
              </a:prstGeom>
              <a:ln w="9360">
                <a:solidFill>
                  <a:srgbClr val="eaeaea"/>
                </a:solidFill>
                <a:miter/>
              </a:ln>
            </p:spPr>
          </p:pic>
          <p:sp>
            <p:nvSpPr>
              <p:cNvPr id="1212" name=""/>
              <p:cNvSpPr/>
              <p:nvPr/>
            </p:nvSpPr>
            <p:spPr>
              <a:xfrm>
                <a:off x="8343720" y="2021040"/>
                <a:ext cx="22680" cy="351000"/>
              </a:xfrm>
              <a:custGeom>
                <a:avLst/>
                <a:gdLst/>
                <a:ahLst/>
                <a:rect l="l" t="t" r="r" b="b"/>
                <a:pathLst>
                  <a:path w="36" h="552">
                    <a:moveTo>
                      <a:pt x="36" y="0"/>
                    </a:moveTo>
                    <a:lnTo>
                      <a:pt x="36" y="12"/>
                    </a:lnTo>
                    <a:lnTo>
                      <a:pt x="24" y="24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12" y="60"/>
                    </a:lnTo>
                    <a:lnTo>
                      <a:pt x="0" y="84"/>
                    </a:lnTo>
                    <a:lnTo>
                      <a:pt x="0" y="552"/>
                    </a:lnTo>
                    <a:lnTo>
                      <a:pt x="12" y="528"/>
                    </a:lnTo>
                    <a:lnTo>
                      <a:pt x="24" y="516"/>
                    </a:lnTo>
                    <a:lnTo>
                      <a:pt x="24" y="516"/>
                    </a:lnTo>
                    <a:lnTo>
                      <a:pt x="24" y="492"/>
                    </a:lnTo>
                    <a:lnTo>
                      <a:pt x="36" y="480"/>
                    </a:lnTo>
                    <a:lnTo>
                      <a:pt x="36" y="468"/>
                    </a:lnTo>
                    <a:lnTo>
                      <a:pt x="36" y="0"/>
                    </a:lnTo>
                    <a:close/>
                  </a:path>
                </a:pathLst>
              </a:custGeom>
              <a:noFill/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343720" y="2021040"/>
                <a:ext cx="22680" cy="351000"/>
              </a:xfrm>
              <a:custGeom>
                <a:avLst/>
                <a:gdLst/>
                <a:ahLst/>
                <a:rect l="l" t="t" r="r" b="b"/>
                <a:pathLst>
                  <a:path w="36" h="552">
                    <a:moveTo>
                      <a:pt x="36" y="0"/>
                    </a:moveTo>
                    <a:lnTo>
                      <a:pt x="36" y="12"/>
                    </a:lnTo>
                    <a:lnTo>
                      <a:pt x="24" y="24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12" y="60"/>
                    </a:lnTo>
                    <a:lnTo>
                      <a:pt x="0" y="84"/>
                    </a:lnTo>
                    <a:lnTo>
                      <a:pt x="0" y="552"/>
                    </a:lnTo>
                    <a:lnTo>
                      <a:pt x="12" y="528"/>
                    </a:lnTo>
                    <a:lnTo>
                      <a:pt x="24" y="516"/>
                    </a:lnTo>
                    <a:lnTo>
                      <a:pt x="24" y="516"/>
                    </a:lnTo>
                    <a:lnTo>
                      <a:pt x="24" y="492"/>
                    </a:lnTo>
                    <a:lnTo>
                      <a:pt x="36" y="480"/>
                    </a:lnTo>
                    <a:lnTo>
                      <a:pt x="36" y="468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3720" y="2021040"/>
                <a:ext cx="30240" cy="358560"/>
              </a:xfrm>
              <a:prstGeom prst="rect">
                <a:avLst/>
              </a:prstGeom>
              <a:ln w="9360">
                <a:solidFill>
                  <a:srgbClr val="eaeaea"/>
                </a:solidFill>
                <a:miter/>
              </a:ln>
            </p:spPr>
          </p:pic>
        </p:grpSp>
        <p:sp>
          <p:nvSpPr>
            <p:cNvPr id="1215" name=""/>
            <p:cNvSpPr/>
            <p:nvPr/>
          </p:nvSpPr>
          <p:spPr>
            <a:xfrm>
              <a:off x="8343720" y="2021040"/>
              <a:ext cx="22320" cy="350640"/>
            </a:xfrm>
            <a:custGeom>
              <a:avLst/>
              <a:gdLst/>
              <a:ahLst/>
              <a:rect l="l" t="t" r="r" b="b"/>
              <a:pathLst>
                <a:path w="36" h="552">
                  <a:moveTo>
                    <a:pt x="36" y="0"/>
                  </a:moveTo>
                  <a:lnTo>
                    <a:pt x="36" y="12"/>
                  </a:lnTo>
                  <a:lnTo>
                    <a:pt x="24" y="2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2" y="60"/>
                  </a:lnTo>
                  <a:lnTo>
                    <a:pt x="0" y="84"/>
                  </a:lnTo>
                  <a:lnTo>
                    <a:pt x="0" y="552"/>
                  </a:lnTo>
                  <a:lnTo>
                    <a:pt x="12" y="528"/>
                  </a:lnTo>
                  <a:lnTo>
                    <a:pt x="24" y="516"/>
                  </a:lnTo>
                  <a:lnTo>
                    <a:pt x="24" y="516"/>
                  </a:lnTo>
                  <a:lnTo>
                    <a:pt x="24" y="492"/>
                  </a:lnTo>
                  <a:lnTo>
                    <a:pt x="36" y="480"/>
                  </a:lnTo>
                  <a:lnTo>
                    <a:pt x="36" y="468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7560">
              <a:solidFill>
                <a:srgbClr val="0000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7297560" y="1746360"/>
              <a:ext cx="1076400" cy="334800"/>
              <a:chOff x="7297560" y="1746360"/>
              <a:chExt cx="1076400" cy="334800"/>
            </a:xfrm>
          </p:grpSpPr>
          <p:pic>
            <p:nvPicPr>
              <p:cNvPr id="12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97560" y="1746360"/>
                <a:ext cx="10764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8" name=""/>
              <p:cNvSpPr/>
              <p:nvPr/>
            </p:nvSpPr>
            <p:spPr>
              <a:xfrm>
                <a:off x="7297560" y="1746360"/>
                <a:ext cx="1068840" cy="327240"/>
              </a:xfrm>
              <a:custGeom>
                <a:avLst/>
                <a:gdLst/>
                <a:ahLst/>
                <a:rect l="l" t="t" r="r" b="b"/>
                <a:pathLst>
                  <a:path w="1682" h="517">
                    <a:moveTo>
                      <a:pt x="0" y="0"/>
                    </a:moveTo>
                    <a:lnTo>
                      <a:pt x="60" y="0"/>
                    </a:lnTo>
                    <a:lnTo>
                      <a:pt x="120" y="0"/>
                    </a:lnTo>
                    <a:lnTo>
                      <a:pt x="180" y="0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348" y="12"/>
                    </a:lnTo>
                    <a:lnTo>
                      <a:pt x="409" y="12"/>
                    </a:lnTo>
                    <a:lnTo>
                      <a:pt x="469" y="12"/>
                    </a:lnTo>
                    <a:lnTo>
                      <a:pt x="517" y="24"/>
                    </a:lnTo>
                    <a:lnTo>
                      <a:pt x="577" y="24"/>
                    </a:lnTo>
                    <a:lnTo>
                      <a:pt x="637" y="24"/>
                    </a:lnTo>
                    <a:lnTo>
                      <a:pt x="685" y="36"/>
                    </a:lnTo>
                    <a:lnTo>
                      <a:pt x="733" y="36"/>
                    </a:lnTo>
                    <a:lnTo>
                      <a:pt x="793" y="48"/>
                    </a:lnTo>
                    <a:lnTo>
                      <a:pt x="841" y="60"/>
                    </a:lnTo>
                    <a:lnTo>
                      <a:pt x="889" y="60"/>
                    </a:lnTo>
                    <a:lnTo>
                      <a:pt x="937" y="72"/>
                    </a:lnTo>
                    <a:lnTo>
                      <a:pt x="985" y="84"/>
                    </a:lnTo>
                    <a:lnTo>
                      <a:pt x="1033" y="84"/>
                    </a:lnTo>
                    <a:lnTo>
                      <a:pt x="1081" y="97"/>
                    </a:lnTo>
                    <a:lnTo>
                      <a:pt x="1129" y="109"/>
                    </a:lnTo>
                    <a:lnTo>
                      <a:pt x="1165" y="121"/>
                    </a:lnTo>
                    <a:lnTo>
                      <a:pt x="1213" y="133"/>
                    </a:lnTo>
                    <a:lnTo>
                      <a:pt x="1249" y="145"/>
                    </a:lnTo>
                    <a:lnTo>
                      <a:pt x="1285" y="157"/>
                    </a:lnTo>
                    <a:lnTo>
                      <a:pt x="1309" y="157"/>
                    </a:lnTo>
                    <a:lnTo>
                      <a:pt x="1345" y="169"/>
                    </a:lnTo>
                    <a:lnTo>
                      <a:pt x="1381" y="181"/>
                    </a:lnTo>
                    <a:lnTo>
                      <a:pt x="1405" y="193"/>
                    </a:lnTo>
                    <a:lnTo>
                      <a:pt x="1441" y="205"/>
                    </a:lnTo>
                    <a:lnTo>
                      <a:pt x="1465" y="217"/>
                    </a:lnTo>
                    <a:lnTo>
                      <a:pt x="1501" y="229"/>
                    </a:lnTo>
                    <a:lnTo>
                      <a:pt x="1526" y="253"/>
                    </a:lnTo>
                    <a:lnTo>
                      <a:pt x="1550" y="265"/>
                    </a:lnTo>
                    <a:lnTo>
                      <a:pt x="1562" y="277"/>
                    </a:lnTo>
                    <a:lnTo>
                      <a:pt x="1586" y="289"/>
                    </a:lnTo>
                    <a:lnTo>
                      <a:pt x="1610" y="301"/>
                    </a:lnTo>
                    <a:lnTo>
                      <a:pt x="1622" y="313"/>
                    </a:lnTo>
                    <a:lnTo>
                      <a:pt x="1634" y="337"/>
                    </a:lnTo>
                    <a:lnTo>
                      <a:pt x="1646" y="349"/>
                    </a:lnTo>
                    <a:lnTo>
                      <a:pt x="1658" y="361"/>
                    </a:lnTo>
                    <a:lnTo>
                      <a:pt x="1670" y="373"/>
                    </a:lnTo>
                    <a:lnTo>
                      <a:pt x="1670" y="397"/>
                    </a:lnTo>
                    <a:lnTo>
                      <a:pt x="1682" y="409"/>
                    </a:lnTo>
                    <a:lnTo>
                      <a:pt x="1682" y="421"/>
                    </a:lnTo>
                    <a:lnTo>
                      <a:pt x="1682" y="433"/>
                    </a:lnTo>
                    <a:lnTo>
                      <a:pt x="1682" y="457"/>
                    </a:lnTo>
                    <a:lnTo>
                      <a:pt x="1670" y="469"/>
                    </a:lnTo>
                    <a:lnTo>
                      <a:pt x="1670" y="481"/>
                    </a:lnTo>
                    <a:lnTo>
                      <a:pt x="1658" y="493"/>
                    </a:lnTo>
                    <a:lnTo>
                      <a:pt x="1646" y="517"/>
                    </a:lnTo>
                    <a:lnTo>
                      <a:pt x="0" y="43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297560" y="1746360"/>
                <a:ext cx="1068840" cy="327240"/>
              </a:xfrm>
              <a:custGeom>
                <a:avLst/>
                <a:gdLst/>
                <a:ahLst/>
                <a:rect l="l" t="t" r="r" b="b"/>
                <a:pathLst>
                  <a:path w="1682" h="517">
                    <a:moveTo>
                      <a:pt x="0" y="0"/>
                    </a:moveTo>
                    <a:lnTo>
                      <a:pt x="60" y="0"/>
                    </a:lnTo>
                    <a:lnTo>
                      <a:pt x="120" y="0"/>
                    </a:lnTo>
                    <a:lnTo>
                      <a:pt x="180" y="0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348" y="12"/>
                    </a:lnTo>
                    <a:lnTo>
                      <a:pt x="409" y="12"/>
                    </a:lnTo>
                    <a:lnTo>
                      <a:pt x="469" y="12"/>
                    </a:lnTo>
                    <a:lnTo>
                      <a:pt x="517" y="24"/>
                    </a:lnTo>
                    <a:lnTo>
                      <a:pt x="577" y="24"/>
                    </a:lnTo>
                    <a:lnTo>
                      <a:pt x="637" y="24"/>
                    </a:lnTo>
                    <a:lnTo>
                      <a:pt x="685" y="36"/>
                    </a:lnTo>
                    <a:lnTo>
                      <a:pt x="733" y="36"/>
                    </a:lnTo>
                    <a:lnTo>
                      <a:pt x="793" y="48"/>
                    </a:lnTo>
                    <a:lnTo>
                      <a:pt x="841" y="60"/>
                    </a:lnTo>
                    <a:lnTo>
                      <a:pt x="889" y="60"/>
                    </a:lnTo>
                    <a:lnTo>
                      <a:pt x="937" y="72"/>
                    </a:lnTo>
                    <a:lnTo>
                      <a:pt x="985" y="84"/>
                    </a:lnTo>
                    <a:lnTo>
                      <a:pt x="1033" y="84"/>
                    </a:lnTo>
                    <a:lnTo>
                      <a:pt x="1081" y="97"/>
                    </a:lnTo>
                    <a:lnTo>
                      <a:pt x="1129" y="109"/>
                    </a:lnTo>
                    <a:lnTo>
                      <a:pt x="1165" y="121"/>
                    </a:lnTo>
                    <a:lnTo>
                      <a:pt x="1213" y="133"/>
                    </a:lnTo>
                    <a:lnTo>
                      <a:pt x="1249" y="145"/>
                    </a:lnTo>
                    <a:lnTo>
                      <a:pt x="1285" y="157"/>
                    </a:lnTo>
                    <a:lnTo>
                      <a:pt x="1309" y="157"/>
                    </a:lnTo>
                    <a:lnTo>
                      <a:pt x="1345" y="169"/>
                    </a:lnTo>
                    <a:lnTo>
                      <a:pt x="1381" y="181"/>
                    </a:lnTo>
                    <a:lnTo>
                      <a:pt x="1405" y="193"/>
                    </a:lnTo>
                    <a:lnTo>
                      <a:pt x="1441" y="205"/>
                    </a:lnTo>
                    <a:lnTo>
                      <a:pt x="1465" y="217"/>
                    </a:lnTo>
                    <a:lnTo>
                      <a:pt x="1501" y="229"/>
                    </a:lnTo>
                    <a:lnTo>
                      <a:pt x="1526" y="253"/>
                    </a:lnTo>
                    <a:lnTo>
                      <a:pt x="1550" y="265"/>
                    </a:lnTo>
                    <a:lnTo>
                      <a:pt x="1562" y="277"/>
                    </a:lnTo>
                    <a:lnTo>
                      <a:pt x="1586" y="289"/>
                    </a:lnTo>
                    <a:lnTo>
                      <a:pt x="1610" y="301"/>
                    </a:lnTo>
                    <a:lnTo>
                      <a:pt x="1622" y="313"/>
                    </a:lnTo>
                    <a:lnTo>
                      <a:pt x="1634" y="337"/>
                    </a:lnTo>
                    <a:lnTo>
                      <a:pt x="1646" y="349"/>
                    </a:lnTo>
                    <a:lnTo>
                      <a:pt x="1658" y="361"/>
                    </a:lnTo>
                    <a:lnTo>
                      <a:pt x="1670" y="373"/>
                    </a:lnTo>
                    <a:lnTo>
                      <a:pt x="1670" y="397"/>
                    </a:lnTo>
                    <a:lnTo>
                      <a:pt x="1682" y="409"/>
                    </a:lnTo>
                    <a:lnTo>
                      <a:pt x="1682" y="421"/>
                    </a:lnTo>
                    <a:lnTo>
                      <a:pt x="1682" y="433"/>
                    </a:lnTo>
                    <a:lnTo>
                      <a:pt x="1682" y="457"/>
                    </a:lnTo>
                    <a:lnTo>
                      <a:pt x="1670" y="469"/>
                    </a:lnTo>
                    <a:lnTo>
                      <a:pt x="1670" y="481"/>
                    </a:lnTo>
                    <a:lnTo>
                      <a:pt x="1658" y="493"/>
                    </a:lnTo>
                    <a:lnTo>
                      <a:pt x="1646" y="517"/>
                    </a:lnTo>
                    <a:lnTo>
                      <a:pt x="0" y="4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97560" y="1746360"/>
                <a:ext cx="1076400" cy="33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1" name=""/>
            <p:cNvSpPr/>
            <p:nvPr/>
          </p:nvSpPr>
          <p:spPr>
            <a:xfrm>
              <a:off x="7297560" y="1746360"/>
              <a:ext cx="1068480" cy="328680"/>
            </a:xfrm>
            <a:custGeom>
              <a:avLst/>
              <a:gdLst/>
              <a:ahLst/>
              <a:rect l="l" t="t" r="r" b="b"/>
              <a:pathLst>
                <a:path w="1682" h="517">
                  <a:moveTo>
                    <a:pt x="0" y="0"/>
                  </a:moveTo>
                  <a:lnTo>
                    <a:pt x="60" y="0"/>
                  </a:lnTo>
                  <a:lnTo>
                    <a:pt x="120" y="0"/>
                  </a:lnTo>
                  <a:lnTo>
                    <a:pt x="180" y="0"/>
                  </a:lnTo>
                  <a:lnTo>
                    <a:pt x="240" y="0"/>
                  </a:lnTo>
                  <a:lnTo>
                    <a:pt x="288" y="0"/>
                  </a:lnTo>
                  <a:lnTo>
                    <a:pt x="348" y="12"/>
                  </a:lnTo>
                  <a:lnTo>
                    <a:pt x="409" y="12"/>
                  </a:lnTo>
                  <a:lnTo>
                    <a:pt x="469" y="12"/>
                  </a:lnTo>
                  <a:lnTo>
                    <a:pt x="517" y="24"/>
                  </a:lnTo>
                  <a:lnTo>
                    <a:pt x="577" y="24"/>
                  </a:lnTo>
                  <a:lnTo>
                    <a:pt x="637" y="24"/>
                  </a:lnTo>
                  <a:lnTo>
                    <a:pt x="685" y="36"/>
                  </a:lnTo>
                  <a:lnTo>
                    <a:pt x="733" y="36"/>
                  </a:lnTo>
                  <a:lnTo>
                    <a:pt x="793" y="48"/>
                  </a:lnTo>
                  <a:lnTo>
                    <a:pt x="841" y="60"/>
                  </a:lnTo>
                  <a:lnTo>
                    <a:pt x="889" y="60"/>
                  </a:lnTo>
                  <a:lnTo>
                    <a:pt x="937" y="72"/>
                  </a:lnTo>
                  <a:lnTo>
                    <a:pt x="985" y="84"/>
                  </a:lnTo>
                  <a:lnTo>
                    <a:pt x="1033" y="84"/>
                  </a:lnTo>
                  <a:lnTo>
                    <a:pt x="1081" y="97"/>
                  </a:lnTo>
                  <a:lnTo>
                    <a:pt x="1129" y="109"/>
                  </a:lnTo>
                  <a:lnTo>
                    <a:pt x="1165" y="121"/>
                  </a:lnTo>
                  <a:lnTo>
                    <a:pt x="1213" y="133"/>
                  </a:lnTo>
                  <a:lnTo>
                    <a:pt x="1249" y="145"/>
                  </a:lnTo>
                  <a:lnTo>
                    <a:pt x="1285" y="157"/>
                  </a:lnTo>
                  <a:lnTo>
                    <a:pt x="1309" y="157"/>
                  </a:lnTo>
                  <a:lnTo>
                    <a:pt x="1345" y="169"/>
                  </a:lnTo>
                  <a:lnTo>
                    <a:pt x="1381" y="181"/>
                  </a:lnTo>
                  <a:lnTo>
                    <a:pt x="1405" y="193"/>
                  </a:lnTo>
                  <a:lnTo>
                    <a:pt x="1441" y="205"/>
                  </a:lnTo>
                  <a:lnTo>
                    <a:pt x="1465" y="217"/>
                  </a:lnTo>
                  <a:lnTo>
                    <a:pt x="1501" y="229"/>
                  </a:lnTo>
                  <a:lnTo>
                    <a:pt x="1526" y="253"/>
                  </a:lnTo>
                  <a:lnTo>
                    <a:pt x="1550" y="265"/>
                  </a:lnTo>
                  <a:lnTo>
                    <a:pt x="1562" y="277"/>
                  </a:lnTo>
                  <a:lnTo>
                    <a:pt x="1586" y="289"/>
                  </a:lnTo>
                  <a:lnTo>
                    <a:pt x="1610" y="301"/>
                  </a:lnTo>
                  <a:lnTo>
                    <a:pt x="1622" y="313"/>
                  </a:lnTo>
                  <a:lnTo>
                    <a:pt x="1634" y="337"/>
                  </a:lnTo>
                  <a:lnTo>
                    <a:pt x="1646" y="349"/>
                  </a:lnTo>
                  <a:lnTo>
                    <a:pt x="1658" y="361"/>
                  </a:lnTo>
                  <a:lnTo>
                    <a:pt x="1670" y="373"/>
                  </a:lnTo>
                  <a:lnTo>
                    <a:pt x="1670" y="397"/>
                  </a:lnTo>
                  <a:lnTo>
                    <a:pt x="1682" y="409"/>
                  </a:lnTo>
                  <a:lnTo>
                    <a:pt x="1682" y="421"/>
                  </a:lnTo>
                  <a:lnTo>
                    <a:pt x="1682" y="433"/>
                  </a:lnTo>
                  <a:lnTo>
                    <a:pt x="1682" y="457"/>
                  </a:lnTo>
                  <a:lnTo>
                    <a:pt x="1670" y="469"/>
                  </a:lnTo>
                  <a:lnTo>
                    <a:pt x="1670" y="481"/>
                  </a:lnTo>
                  <a:lnTo>
                    <a:pt x="1658" y="493"/>
                  </a:lnTo>
                  <a:lnTo>
                    <a:pt x="1646" y="517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205840" y="2075040"/>
              <a:ext cx="137880" cy="387360"/>
            </a:xfrm>
            <a:custGeom>
              <a:avLst/>
              <a:gdLst/>
              <a:ahLst/>
              <a:rect l="l" t="t" r="r" b="b"/>
              <a:pathLst>
                <a:path w="217" h="612">
                  <a:moveTo>
                    <a:pt x="217" y="0"/>
                  </a:moveTo>
                  <a:lnTo>
                    <a:pt x="205" y="12"/>
                  </a:lnTo>
                  <a:lnTo>
                    <a:pt x="193" y="24"/>
                  </a:lnTo>
                  <a:lnTo>
                    <a:pt x="181" y="36"/>
                  </a:lnTo>
                  <a:lnTo>
                    <a:pt x="169" y="48"/>
                  </a:lnTo>
                  <a:lnTo>
                    <a:pt x="145" y="60"/>
                  </a:lnTo>
                  <a:lnTo>
                    <a:pt x="133" y="72"/>
                  </a:lnTo>
                  <a:lnTo>
                    <a:pt x="121" y="84"/>
                  </a:lnTo>
                  <a:lnTo>
                    <a:pt x="97" y="96"/>
                  </a:lnTo>
                  <a:lnTo>
                    <a:pt x="72" y="108"/>
                  </a:lnTo>
                  <a:lnTo>
                    <a:pt x="36" y="120"/>
                  </a:lnTo>
                  <a:lnTo>
                    <a:pt x="24" y="132"/>
                  </a:lnTo>
                  <a:lnTo>
                    <a:pt x="0" y="144"/>
                  </a:lnTo>
                  <a:lnTo>
                    <a:pt x="0" y="612"/>
                  </a:lnTo>
                  <a:lnTo>
                    <a:pt x="24" y="600"/>
                  </a:lnTo>
                  <a:lnTo>
                    <a:pt x="36" y="588"/>
                  </a:lnTo>
                  <a:lnTo>
                    <a:pt x="72" y="576"/>
                  </a:lnTo>
                  <a:lnTo>
                    <a:pt x="97" y="564"/>
                  </a:lnTo>
                  <a:lnTo>
                    <a:pt x="121" y="552"/>
                  </a:lnTo>
                  <a:lnTo>
                    <a:pt x="133" y="540"/>
                  </a:lnTo>
                  <a:lnTo>
                    <a:pt x="145" y="528"/>
                  </a:lnTo>
                  <a:lnTo>
                    <a:pt x="169" y="516"/>
                  </a:lnTo>
                  <a:lnTo>
                    <a:pt x="181" y="504"/>
                  </a:lnTo>
                  <a:lnTo>
                    <a:pt x="193" y="492"/>
                  </a:lnTo>
                  <a:lnTo>
                    <a:pt x="205" y="480"/>
                  </a:lnTo>
                  <a:lnTo>
                    <a:pt x="217" y="468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1a66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297560" y="2021040"/>
              <a:ext cx="1046160" cy="144360"/>
            </a:xfrm>
            <a:custGeom>
              <a:avLst/>
              <a:gdLst/>
              <a:ahLst/>
              <a:rect l="l" t="t" r="r" b="b"/>
              <a:pathLst>
                <a:path w="1646" h="228">
                  <a:moveTo>
                    <a:pt x="1646" y="84"/>
                  </a:moveTo>
                  <a:lnTo>
                    <a:pt x="1634" y="96"/>
                  </a:lnTo>
                  <a:lnTo>
                    <a:pt x="1622" y="108"/>
                  </a:lnTo>
                  <a:lnTo>
                    <a:pt x="1610" y="120"/>
                  </a:lnTo>
                  <a:lnTo>
                    <a:pt x="1598" y="132"/>
                  </a:lnTo>
                  <a:lnTo>
                    <a:pt x="1574" y="144"/>
                  </a:lnTo>
                  <a:lnTo>
                    <a:pt x="1562" y="156"/>
                  </a:lnTo>
                  <a:lnTo>
                    <a:pt x="1550" y="168"/>
                  </a:lnTo>
                  <a:lnTo>
                    <a:pt x="1526" y="180"/>
                  </a:lnTo>
                  <a:lnTo>
                    <a:pt x="1501" y="192"/>
                  </a:lnTo>
                  <a:lnTo>
                    <a:pt x="1465" y="204"/>
                  </a:lnTo>
                  <a:lnTo>
                    <a:pt x="1453" y="216"/>
                  </a:lnTo>
                  <a:lnTo>
                    <a:pt x="1429" y="228"/>
                  </a:lnTo>
                  <a:lnTo>
                    <a:pt x="0" y="0"/>
                  </a:lnTo>
                  <a:lnTo>
                    <a:pt x="1646" y="84"/>
                  </a:lnTo>
                  <a:close/>
                </a:path>
              </a:pathLst>
            </a:custGeom>
            <a:solidFill>
              <a:srgbClr val="33cccc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297640" y="2317680"/>
              <a:ext cx="335160" cy="1000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44" y="0"/>
                  </a:moveTo>
                  <a:lnTo>
                    <a:pt x="44" y="8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8075520" y="2165400"/>
              <a:ext cx="138240" cy="342720"/>
              <a:chOff x="8075520" y="2165400"/>
              <a:chExt cx="138240" cy="342720"/>
            </a:xfrm>
          </p:grpSpPr>
          <p:pic>
            <p:nvPicPr>
              <p:cNvPr id="122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075520" y="2165400"/>
                <a:ext cx="138240" cy="34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8075520" y="2165400"/>
                <a:ext cx="130680" cy="335160"/>
              </a:xfrm>
              <a:custGeom>
                <a:avLst/>
                <a:gdLst/>
                <a:ahLst/>
                <a:rect l="l" t="t" r="r" b="b"/>
                <a:pathLst>
                  <a:path w="204" h="528">
                    <a:moveTo>
                      <a:pt x="204" y="0"/>
                    </a:moveTo>
                    <a:lnTo>
                      <a:pt x="168" y="12"/>
                    </a:lnTo>
                    <a:lnTo>
                      <a:pt x="132" y="24"/>
                    </a:lnTo>
                    <a:lnTo>
                      <a:pt x="96" y="36"/>
                    </a:lnTo>
                    <a:lnTo>
                      <a:pt x="84" y="36"/>
                    </a:lnTo>
                    <a:lnTo>
                      <a:pt x="48" y="48"/>
                    </a:lnTo>
                    <a:lnTo>
                      <a:pt x="0" y="60"/>
                    </a:lnTo>
                    <a:lnTo>
                      <a:pt x="0" y="528"/>
                    </a:lnTo>
                    <a:lnTo>
                      <a:pt x="48" y="516"/>
                    </a:lnTo>
                    <a:lnTo>
                      <a:pt x="84" y="504"/>
                    </a:lnTo>
                    <a:lnTo>
                      <a:pt x="96" y="504"/>
                    </a:lnTo>
                    <a:lnTo>
                      <a:pt x="132" y="492"/>
                    </a:lnTo>
                    <a:lnTo>
                      <a:pt x="168" y="480"/>
                    </a:lnTo>
                    <a:lnTo>
                      <a:pt x="204" y="468"/>
                    </a:lnTo>
                    <a:lnTo>
                      <a:pt x="204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075520" y="2165400"/>
                <a:ext cx="130680" cy="335160"/>
              </a:xfrm>
              <a:custGeom>
                <a:avLst/>
                <a:gdLst/>
                <a:ahLst/>
                <a:rect l="l" t="t" r="r" b="b"/>
                <a:pathLst>
                  <a:path w="204" h="528">
                    <a:moveTo>
                      <a:pt x="204" y="0"/>
                    </a:moveTo>
                    <a:lnTo>
                      <a:pt x="168" y="12"/>
                    </a:lnTo>
                    <a:lnTo>
                      <a:pt x="132" y="24"/>
                    </a:lnTo>
                    <a:lnTo>
                      <a:pt x="96" y="36"/>
                    </a:lnTo>
                    <a:lnTo>
                      <a:pt x="84" y="36"/>
                    </a:lnTo>
                    <a:lnTo>
                      <a:pt x="48" y="48"/>
                    </a:lnTo>
                    <a:lnTo>
                      <a:pt x="0" y="60"/>
                    </a:lnTo>
                    <a:lnTo>
                      <a:pt x="0" y="528"/>
                    </a:lnTo>
                    <a:lnTo>
                      <a:pt x="48" y="516"/>
                    </a:lnTo>
                    <a:lnTo>
                      <a:pt x="84" y="504"/>
                    </a:lnTo>
                    <a:lnTo>
                      <a:pt x="96" y="504"/>
                    </a:lnTo>
                    <a:lnTo>
                      <a:pt x="132" y="492"/>
                    </a:lnTo>
                    <a:lnTo>
                      <a:pt x="168" y="480"/>
                    </a:lnTo>
                    <a:lnTo>
                      <a:pt x="204" y="468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075520" y="2165400"/>
                <a:ext cx="138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0" name=""/>
            <p:cNvSpPr/>
            <p:nvPr/>
          </p:nvSpPr>
          <p:spPr>
            <a:xfrm>
              <a:off x="8075520" y="2165400"/>
              <a:ext cx="130320" cy="334800"/>
            </a:xfrm>
            <a:custGeom>
              <a:avLst/>
              <a:gdLst/>
              <a:ahLst/>
              <a:rect l="l" t="t" r="r" b="b"/>
              <a:pathLst>
                <a:path w="204" h="528">
                  <a:moveTo>
                    <a:pt x="204" y="0"/>
                  </a:moveTo>
                  <a:lnTo>
                    <a:pt x="168" y="12"/>
                  </a:lnTo>
                  <a:lnTo>
                    <a:pt x="132" y="24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48" y="48"/>
                  </a:lnTo>
                  <a:lnTo>
                    <a:pt x="0" y="60"/>
                  </a:lnTo>
                  <a:lnTo>
                    <a:pt x="0" y="528"/>
                  </a:lnTo>
                  <a:lnTo>
                    <a:pt x="48" y="516"/>
                  </a:lnTo>
                  <a:lnTo>
                    <a:pt x="84" y="504"/>
                  </a:lnTo>
                  <a:lnTo>
                    <a:pt x="96" y="504"/>
                  </a:lnTo>
                  <a:lnTo>
                    <a:pt x="132" y="492"/>
                  </a:lnTo>
                  <a:lnTo>
                    <a:pt x="168" y="480"/>
                  </a:lnTo>
                  <a:lnTo>
                    <a:pt x="204" y="468"/>
                  </a:lnTo>
                  <a:lnTo>
                    <a:pt x="204" y="0"/>
                  </a:lnTo>
                  <a:close/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31" name=""/>
            <p:cNvGrpSpPr/>
            <p:nvPr/>
          </p:nvGrpSpPr>
          <p:grpSpPr>
            <a:xfrm>
              <a:off x="7297560" y="2021040"/>
              <a:ext cx="916200" cy="190440"/>
              <a:chOff x="7297560" y="2021040"/>
              <a:chExt cx="916200" cy="190440"/>
            </a:xfrm>
          </p:grpSpPr>
          <p:pic>
            <p:nvPicPr>
              <p:cNvPr id="123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97560" y="2021040"/>
                <a:ext cx="91620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3" name=""/>
              <p:cNvSpPr/>
              <p:nvPr/>
            </p:nvSpPr>
            <p:spPr>
              <a:xfrm>
                <a:off x="7297560" y="2021040"/>
                <a:ext cx="908640" cy="182880"/>
              </a:xfrm>
              <a:custGeom>
                <a:avLst/>
                <a:gdLst/>
                <a:ahLst/>
                <a:rect l="l" t="t" r="r" b="b"/>
                <a:pathLst>
                  <a:path w="1429" h="288">
                    <a:moveTo>
                      <a:pt x="1429" y="228"/>
                    </a:moveTo>
                    <a:lnTo>
                      <a:pt x="1393" y="240"/>
                    </a:lnTo>
                    <a:lnTo>
                      <a:pt x="1357" y="252"/>
                    </a:lnTo>
                    <a:lnTo>
                      <a:pt x="1321" y="264"/>
                    </a:lnTo>
                    <a:lnTo>
                      <a:pt x="1309" y="264"/>
                    </a:lnTo>
                    <a:lnTo>
                      <a:pt x="1273" y="276"/>
                    </a:lnTo>
                    <a:lnTo>
                      <a:pt x="1225" y="288"/>
                    </a:lnTo>
                    <a:lnTo>
                      <a:pt x="0" y="0"/>
                    </a:lnTo>
                    <a:lnTo>
                      <a:pt x="1429" y="228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97560" y="2021040"/>
                <a:ext cx="908640" cy="182880"/>
              </a:xfrm>
              <a:custGeom>
                <a:avLst/>
                <a:gdLst/>
                <a:ahLst/>
                <a:rect l="l" t="t" r="r" b="b"/>
                <a:pathLst>
                  <a:path w="1429" h="288">
                    <a:moveTo>
                      <a:pt x="1429" y="228"/>
                    </a:moveTo>
                    <a:lnTo>
                      <a:pt x="1393" y="240"/>
                    </a:lnTo>
                    <a:lnTo>
                      <a:pt x="1357" y="252"/>
                    </a:lnTo>
                    <a:lnTo>
                      <a:pt x="1321" y="264"/>
                    </a:lnTo>
                    <a:lnTo>
                      <a:pt x="1309" y="264"/>
                    </a:lnTo>
                    <a:lnTo>
                      <a:pt x="1273" y="276"/>
                    </a:lnTo>
                    <a:lnTo>
                      <a:pt x="1225" y="288"/>
                    </a:lnTo>
                    <a:lnTo>
                      <a:pt x="0" y="0"/>
                    </a:lnTo>
                    <a:lnTo>
                      <a:pt x="1429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3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297560" y="2021040"/>
                <a:ext cx="91620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6" name=""/>
            <p:cNvSpPr/>
            <p:nvPr/>
          </p:nvSpPr>
          <p:spPr>
            <a:xfrm>
              <a:off x="7297560" y="2021040"/>
              <a:ext cx="908280" cy="182520"/>
            </a:xfrm>
            <a:custGeom>
              <a:avLst/>
              <a:gdLst/>
              <a:ahLst/>
              <a:rect l="l" t="t" r="r" b="b"/>
              <a:pathLst>
                <a:path w="1429" h="288">
                  <a:moveTo>
                    <a:pt x="1429" y="228"/>
                  </a:moveTo>
                  <a:lnTo>
                    <a:pt x="1393" y="240"/>
                  </a:lnTo>
                  <a:lnTo>
                    <a:pt x="1357" y="252"/>
                  </a:lnTo>
                  <a:lnTo>
                    <a:pt x="1321" y="264"/>
                  </a:lnTo>
                  <a:lnTo>
                    <a:pt x="1309" y="264"/>
                  </a:lnTo>
                  <a:lnTo>
                    <a:pt x="1273" y="276"/>
                  </a:lnTo>
                  <a:lnTo>
                    <a:pt x="1225" y="288"/>
                  </a:lnTo>
                  <a:lnTo>
                    <a:pt x="0" y="0"/>
                  </a:lnTo>
                  <a:lnTo>
                    <a:pt x="1429" y="228"/>
                  </a:lnTo>
                  <a:close/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151840" y="2486160"/>
              <a:ext cx="206280" cy="1141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15"/>
                  </a:moveTo>
                  <a:lnTo>
                    <a:pt x="19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816680" y="2203560"/>
              <a:ext cx="258840" cy="350640"/>
            </a:xfrm>
            <a:custGeom>
              <a:avLst/>
              <a:gdLst/>
              <a:ahLst/>
              <a:rect l="l" t="t" r="r" b="b"/>
              <a:pathLst>
                <a:path w="408" h="552">
                  <a:moveTo>
                    <a:pt x="408" y="0"/>
                  </a:moveTo>
                  <a:lnTo>
                    <a:pt x="372" y="12"/>
                  </a:lnTo>
                  <a:lnTo>
                    <a:pt x="324" y="24"/>
                  </a:lnTo>
                  <a:lnTo>
                    <a:pt x="288" y="36"/>
                  </a:lnTo>
                  <a:lnTo>
                    <a:pt x="240" y="48"/>
                  </a:lnTo>
                  <a:lnTo>
                    <a:pt x="192" y="60"/>
                  </a:lnTo>
                  <a:lnTo>
                    <a:pt x="144" y="60"/>
                  </a:lnTo>
                  <a:lnTo>
                    <a:pt x="96" y="72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552"/>
                  </a:lnTo>
                  <a:lnTo>
                    <a:pt x="48" y="552"/>
                  </a:lnTo>
                  <a:lnTo>
                    <a:pt x="96" y="540"/>
                  </a:lnTo>
                  <a:lnTo>
                    <a:pt x="144" y="528"/>
                  </a:lnTo>
                  <a:lnTo>
                    <a:pt x="192" y="528"/>
                  </a:lnTo>
                  <a:lnTo>
                    <a:pt x="240" y="516"/>
                  </a:lnTo>
                  <a:lnTo>
                    <a:pt x="288" y="504"/>
                  </a:lnTo>
                  <a:lnTo>
                    <a:pt x="324" y="492"/>
                  </a:lnTo>
                  <a:lnTo>
                    <a:pt x="372" y="480"/>
                  </a:lnTo>
                  <a:lnTo>
                    <a:pt x="408" y="468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97560" y="2021040"/>
              <a:ext cx="777960" cy="236520"/>
            </a:xfrm>
            <a:custGeom>
              <a:avLst/>
              <a:gdLst/>
              <a:ahLst/>
              <a:rect l="l" t="t" r="r" b="b"/>
              <a:pathLst>
                <a:path w="1225" h="372">
                  <a:moveTo>
                    <a:pt x="1225" y="288"/>
                  </a:moveTo>
                  <a:lnTo>
                    <a:pt x="1189" y="300"/>
                  </a:lnTo>
                  <a:lnTo>
                    <a:pt x="1141" y="312"/>
                  </a:lnTo>
                  <a:lnTo>
                    <a:pt x="1105" y="324"/>
                  </a:lnTo>
                  <a:lnTo>
                    <a:pt x="1057" y="336"/>
                  </a:lnTo>
                  <a:lnTo>
                    <a:pt x="1009" y="348"/>
                  </a:lnTo>
                  <a:lnTo>
                    <a:pt x="961" y="348"/>
                  </a:lnTo>
                  <a:lnTo>
                    <a:pt x="913" y="360"/>
                  </a:lnTo>
                  <a:lnTo>
                    <a:pt x="865" y="372"/>
                  </a:lnTo>
                  <a:lnTo>
                    <a:pt x="817" y="372"/>
                  </a:lnTo>
                  <a:lnTo>
                    <a:pt x="0" y="0"/>
                  </a:lnTo>
                  <a:lnTo>
                    <a:pt x="1225" y="288"/>
                  </a:lnTo>
                  <a:close/>
                </a:path>
              </a:pathLst>
            </a:custGeom>
            <a:solidFill>
              <a:srgbClr val="ccff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954920" y="2532240"/>
              <a:ext cx="352440" cy="25056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lnTo>
                    <a:pt x="38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7503840" y="2257560"/>
              <a:ext cx="320760" cy="334800"/>
              <a:chOff x="7503840" y="2257560"/>
              <a:chExt cx="320760" cy="334800"/>
            </a:xfrm>
          </p:grpSpPr>
          <p:pic>
            <p:nvPicPr>
              <p:cNvPr id="124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03840" y="2257560"/>
                <a:ext cx="32076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7503840" y="2257560"/>
                <a:ext cx="313200" cy="326520"/>
              </a:xfrm>
              <a:custGeom>
                <a:avLst/>
                <a:gdLst/>
                <a:ahLst/>
                <a:rect l="l" t="t" r="r" b="b"/>
                <a:pathLst>
                  <a:path w="493" h="516">
                    <a:moveTo>
                      <a:pt x="493" y="0"/>
                    </a:moveTo>
                    <a:lnTo>
                      <a:pt x="445" y="12"/>
                    </a:lnTo>
                    <a:lnTo>
                      <a:pt x="385" y="12"/>
                    </a:lnTo>
                    <a:lnTo>
                      <a:pt x="337" y="24"/>
                    </a:lnTo>
                    <a:lnTo>
                      <a:pt x="277" y="24"/>
                    </a:lnTo>
                    <a:lnTo>
                      <a:pt x="229" y="36"/>
                    </a:lnTo>
                    <a:lnTo>
                      <a:pt x="169" y="36"/>
                    </a:lnTo>
                    <a:lnTo>
                      <a:pt x="109" y="48"/>
                    </a:lnTo>
                    <a:lnTo>
                      <a:pt x="60" y="48"/>
                    </a:lnTo>
                    <a:lnTo>
                      <a:pt x="0" y="48"/>
                    </a:lnTo>
                    <a:lnTo>
                      <a:pt x="0" y="516"/>
                    </a:lnTo>
                    <a:lnTo>
                      <a:pt x="60" y="516"/>
                    </a:lnTo>
                    <a:lnTo>
                      <a:pt x="109" y="516"/>
                    </a:lnTo>
                    <a:lnTo>
                      <a:pt x="169" y="504"/>
                    </a:lnTo>
                    <a:lnTo>
                      <a:pt x="229" y="504"/>
                    </a:lnTo>
                    <a:lnTo>
                      <a:pt x="277" y="492"/>
                    </a:lnTo>
                    <a:lnTo>
                      <a:pt x="337" y="492"/>
                    </a:lnTo>
                    <a:lnTo>
                      <a:pt x="385" y="480"/>
                    </a:lnTo>
                    <a:lnTo>
                      <a:pt x="445" y="480"/>
                    </a:lnTo>
                    <a:lnTo>
                      <a:pt x="493" y="468"/>
                    </a:lnTo>
                    <a:lnTo>
                      <a:pt x="493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503840" y="2257560"/>
                <a:ext cx="313200" cy="326520"/>
              </a:xfrm>
              <a:custGeom>
                <a:avLst/>
                <a:gdLst/>
                <a:ahLst/>
                <a:rect l="l" t="t" r="r" b="b"/>
                <a:pathLst>
                  <a:path w="493" h="516">
                    <a:moveTo>
                      <a:pt x="493" y="0"/>
                    </a:moveTo>
                    <a:lnTo>
                      <a:pt x="445" y="12"/>
                    </a:lnTo>
                    <a:lnTo>
                      <a:pt x="385" y="12"/>
                    </a:lnTo>
                    <a:lnTo>
                      <a:pt x="337" y="24"/>
                    </a:lnTo>
                    <a:lnTo>
                      <a:pt x="277" y="24"/>
                    </a:lnTo>
                    <a:lnTo>
                      <a:pt x="229" y="36"/>
                    </a:lnTo>
                    <a:lnTo>
                      <a:pt x="169" y="36"/>
                    </a:lnTo>
                    <a:lnTo>
                      <a:pt x="109" y="48"/>
                    </a:lnTo>
                    <a:lnTo>
                      <a:pt x="60" y="48"/>
                    </a:lnTo>
                    <a:lnTo>
                      <a:pt x="0" y="48"/>
                    </a:lnTo>
                    <a:lnTo>
                      <a:pt x="0" y="516"/>
                    </a:lnTo>
                    <a:lnTo>
                      <a:pt x="60" y="516"/>
                    </a:lnTo>
                    <a:lnTo>
                      <a:pt x="109" y="516"/>
                    </a:lnTo>
                    <a:lnTo>
                      <a:pt x="169" y="504"/>
                    </a:lnTo>
                    <a:lnTo>
                      <a:pt x="229" y="504"/>
                    </a:lnTo>
                    <a:lnTo>
                      <a:pt x="277" y="492"/>
                    </a:lnTo>
                    <a:lnTo>
                      <a:pt x="337" y="492"/>
                    </a:lnTo>
                    <a:lnTo>
                      <a:pt x="385" y="480"/>
                    </a:lnTo>
                    <a:lnTo>
                      <a:pt x="445" y="480"/>
                    </a:lnTo>
                    <a:lnTo>
                      <a:pt x="493" y="468"/>
                    </a:lnTo>
                    <a:lnTo>
                      <a:pt x="4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4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03840" y="2257560"/>
                <a:ext cx="320760" cy="33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6" name=""/>
            <p:cNvSpPr/>
            <p:nvPr/>
          </p:nvSpPr>
          <p:spPr>
            <a:xfrm>
              <a:off x="7503840" y="2257560"/>
              <a:ext cx="312840" cy="326880"/>
            </a:xfrm>
            <a:custGeom>
              <a:avLst/>
              <a:gdLst/>
              <a:ahLst/>
              <a:rect l="l" t="t" r="r" b="b"/>
              <a:pathLst>
                <a:path w="493" h="516">
                  <a:moveTo>
                    <a:pt x="493" y="0"/>
                  </a:moveTo>
                  <a:lnTo>
                    <a:pt x="445" y="12"/>
                  </a:lnTo>
                  <a:lnTo>
                    <a:pt x="385" y="12"/>
                  </a:lnTo>
                  <a:lnTo>
                    <a:pt x="337" y="24"/>
                  </a:lnTo>
                  <a:lnTo>
                    <a:pt x="277" y="24"/>
                  </a:lnTo>
                  <a:lnTo>
                    <a:pt x="229" y="36"/>
                  </a:lnTo>
                  <a:lnTo>
                    <a:pt x="169" y="36"/>
                  </a:lnTo>
                  <a:lnTo>
                    <a:pt x="109" y="48"/>
                  </a:lnTo>
                  <a:lnTo>
                    <a:pt x="60" y="48"/>
                  </a:lnTo>
                  <a:lnTo>
                    <a:pt x="0" y="48"/>
                  </a:lnTo>
                  <a:lnTo>
                    <a:pt x="0" y="516"/>
                  </a:lnTo>
                  <a:lnTo>
                    <a:pt x="60" y="516"/>
                  </a:lnTo>
                  <a:lnTo>
                    <a:pt x="109" y="516"/>
                  </a:lnTo>
                  <a:lnTo>
                    <a:pt x="169" y="504"/>
                  </a:lnTo>
                  <a:lnTo>
                    <a:pt x="229" y="504"/>
                  </a:lnTo>
                  <a:lnTo>
                    <a:pt x="277" y="492"/>
                  </a:lnTo>
                  <a:lnTo>
                    <a:pt x="337" y="492"/>
                  </a:lnTo>
                  <a:lnTo>
                    <a:pt x="385" y="480"/>
                  </a:lnTo>
                  <a:lnTo>
                    <a:pt x="445" y="480"/>
                  </a:lnTo>
                  <a:lnTo>
                    <a:pt x="493" y="468"/>
                  </a:lnTo>
                  <a:lnTo>
                    <a:pt x="493" y="0"/>
                  </a:lnTo>
                  <a:close/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47" name=""/>
            <p:cNvGrpSpPr/>
            <p:nvPr/>
          </p:nvGrpSpPr>
          <p:grpSpPr>
            <a:xfrm>
              <a:off x="7297560" y="2021040"/>
              <a:ext cx="527040" cy="274680"/>
              <a:chOff x="7297560" y="2021040"/>
              <a:chExt cx="527040" cy="274680"/>
            </a:xfrm>
          </p:grpSpPr>
          <p:pic>
            <p:nvPicPr>
              <p:cNvPr id="124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97560" y="2021040"/>
                <a:ext cx="5270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>
                <a:off x="7297560" y="2021040"/>
                <a:ext cx="519480" cy="267120"/>
              </a:xfrm>
              <a:custGeom>
                <a:avLst/>
                <a:gdLst/>
                <a:ahLst/>
                <a:rect l="l" t="t" r="r" b="b"/>
                <a:pathLst>
                  <a:path w="817" h="420">
                    <a:moveTo>
                      <a:pt x="817" y="372"/>
                    </a:moveTo>
                    <a:lnTo>
                      <a:pt x="769" y="384"/>
                    </a:lnTo>
                    <a:lnTo>
                      <a:pt x="709" y="384"/>
                    </a:lnTo>
                    <a:lnTo>
                      <a:pt x="661" y="396"/>
                    </a:lnTo>
                    <a:lnTo>
                      <a:pt x="601" y="396"/>
                    </a:lnTo>
                    <a:lnTo>
                      <a:pt x="553" y="408"/>
                    </a:lnTo>
                    <a:lnTo>
                      <a:pt x="493" y="408"/>
                    </a:lnTo>
                    <a:lnTo>
                      <a:pt x="433" y="420"/>
                    </a:lnTo>
                    <a:lnTo>
                      <a:pt x="384" y="420"/>
                    </a:lnTo>
                    <a:lnTo>
                      <a:pt x="324" y="420"/>
                    </a:lnTo>
                    <a:lnTo>
                      <a:pt x="0" y="0"/>
                    </a:lnTo>
                    <a:lnTo>
                      <a:pt x="817" y="372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297560" y="2021040"/>
                <a:ext cx="519480" cy="267120"/>
              </a:xfrm>
              <a:custGeom>
                <a:avLst/>
                <a:gdLst/>
                <a:ahLst/>
                <a:rect l="l" t="t" r="r" b="b"/>
                <a:pathLst>
                  <a:path w="817" h="420">
                    <a:moveTo>
                      <a:pt x="817" y="372"/>
                    </a:moveTo>
                    <a:lnTo>
                      <a:pt x="769" y="384"/>
                    </a:lnTo>
                    <a:lnTo>
                      <a:pt x="709" y="384"/>
                    </a:lnTo>
                    <a:lnTo>
                      <a:pt x="661" y="396"/>
                    </a:lnTo>
                    <a:lnTo>
                      <a:pt x="601" y="396"/>
                    </a:lnTo>
                    <a:lnTo>
                      <a:pt x="553" y="408"/>
                    </a:lnTo>
                    <a:lnTo>
                      <a:pt x="493" y="408"/>
                    </a:lnTo>
                    <a:lnTo>
                      <a:pt x="433" y="420"/>
                    </a:lnTo>
                    <a:lnTo>
                      <a:pt x="384" y="420"/>
                    </a:lnTo>
                    <a:lnTo>
                      <a:pt x="324" y="420"/>
                    </a:lnTo>
                    <a:lnTo>
                      <a:pt x="0" y="0"/>
                    </a:lnTo>
                    <a:lnTo>
                      <a:pt x="817" y="3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5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297560" y="2021040"/>
                <a:ext cx="527040" cy="274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2" name=""/>
            <p:cNvSpPr/>
            <p:nvPr/>
          </p:nvSpPr>
          <p:spPr>
            <a:xfrm>
              <a:off x="7297560" y="2021040"/>
              <a:ext cx="519120" cy="266760"/>
            </a:xfrm>
            <a:custGeom>
              <a:avLst/>
              <a:gdLst/>
              <a:ahLst/>
              <a:rect l="l" t="t" r="r" b="b"/>
              <a:pathLst>
                <a:path w="817" h="420">
                  <a:moveTo>
                    <a:pt x="817" y="372"/>
                  </a:moveTo>
                  <a:lnTo>
                    <a:pt x="769" y="384"/>
                  </a:lnTo>
                  <a:lnTo>
                    <a:pt x="709" y="384"/>
                  </a:lnTo>
                  <a:lnTo>
                    <a:pt x="661" y="396"/>
                  </a:lnTo>
                  <a:lnTo>
                    <a:pt x="601" y="396"/>
                  </a:lnTo>
                  <a:lnTo>
                    <a:pt x="553" y="408"/>
                  </a:lnTo>
                  <a:lnTo>
                    <a:pt x="493" y="408"/>
                  </a:lnTo>
                  <a:lnTo>
                    <a:pt x="433" y="420"/>
                  </a:lnTo>
                  <a:lnTo>
                    <a:pt x="384" y="420"/>
                  </a:lnTo>
                  <a:lnTo>
                    <a:pt x="324" y="420"/>
                  </a:lnTo>
                  <a:lnTo>
                    <a:pt x="0" y="0"/>
                  </a:lnTo>
                  <a:lnTo>
                    <a:pt x="817" y="372"/>
                  </a:lnTo>
                  <a:close/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664400" y="2576520"/>
              <a:ext cx="261720" cy="206280"/>
            </a:xfrm>
            <a:custGeom>
              <a:avLst/>
              <a:gdLst/>
              <a:ahLst/>
              <a:rect l="l" t="t" r="r" b="b"/>
              <a:pathLst>
                <a:path w="41" h="12">
                  <a:moveTo>
                    <a:pt x="41" y="12"/>
                  </a:moveTo>
                  <a:lnTo>
                    <a:pt x="4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54" name=""/>
            <p:cNvGrpSpPr/>
            <p:nvPr/>
          </p:nvGrpSpPr>
          <p:grpSpPr>
            <a:xfrm>
              <a:off x="6237000" y="2021040"/>
              <a:ext cx="938520" cy="571320"/>
              <a:chOff x="6237000" y="2021040"/>
              <a:chExt cx="938520" cy="571320"/>
            </a:xfrm>
          </p:grpSpPr>
          <p:pic>
            <p:nvPicPr>
              <p:cNvPr id="125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37000" y="2021040"/>
                <a:ext cx="938520" cy="57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6" name=""/>
              <p:cNvSpPr/>
              <p:nvPr/>
            </p:nvSpPr>
            <p:spPr>
              <a:xfrm>
                <a:off x="6237000" y="2021040"/>
                <a:ext cx="930960" cy="563040"/>
              </a:xfrm>
              <a:custGeom>
                <a:avLst/>
                <a:gdLst/>
                <a:ahLst/>
                <a:rect l="l" t="t" r="r" b="b"/>
                <a:pathLst>
                  <a:path w="1465" h="888">
                    <a:moveTo>
                      <a:pt x="1465" y="420"/>
                    </a:moveTo>
                    <a:lnTo>
                      <a:pt x="1405" y="420"/>
                    </a:lnTo>
                    <a:lnTo>
                      <a:pt x="1357" y="420"/>
                    </a:lnTo>
                    <a:lnTo>
                      <a:pt x="1297" y="420"/>
                    </a:lnTo>
                    <a:lnTo>
                      <a:pt x="1237" y="420"/>
                    </a:lnTo>
                    <a:lnTo>
                      <a:pt x="1177" y="408"/>
                    </a:lnTo>
                    <a:lnTo>
                      <a:pt x="1129" y="408"/>
                    </a:lnTo>
                    <a:lnTo>
                      <a:pt x="1069" y="396"/>
                    </a:lnTo>
                    <a:lnTo>
                      <a:pt x="1021" y="396"/>
                    </a:lnTo>
                    <a:lnTo>
                      <a:pt x="960" y="384"/>
                    </a:lnTo>
                    <a:lnTo>
                      <a:pt x="912" y="384"/>
                    </a:lnTo>
                    <a:lnTo>
                      <a:pt x="864" y="372"/>
                    </a:lnTo>
                    <a:lnTo>
                      <a:pt x="804" y="372"/>
                    </a:lnTo>
                    <a:lnTo>
                      <a:pt x="756" y="360"/>
                    </a:lnTo>
                    <a:lnTo>
                      <a:pt x="708" y="348"/>
                    </a:lnTo>
                    <a:lnTo>
                      <a:pt x="660" y="348"/>
                    </a:lnTo>
                    <a:lnTo>
                      <a:pt x="612" y="336"/>
                    </a:lnTo>
                    <a:lnTo>
                      <a:pt x="576" y="324"/>
                    </a:lnTo>
                    <a:lnTo>
                      <a:pt x="528" y="312"/>
                    </a:lnTo>
                    <a:lnTo>
                      <a:pt x="492" y="300"/>
                    </a:lnTo>
                    <a:lnTo>
                      <a:pt x="444" y="288"/>
                    </a:lnTo>
                    <a:lnTo>
                      <a:pt x="408" y="276"/>
                    </a:lnTo>
                    <a:lnTo>
                      <a:pt x="384" y="276"/>
                    </a:lnTo>
                    <a:lnTo>
                      <a:pt x="348" y="264"/>
                    </a:lnTo>
                    <a:lnTo>
                      <a:pt x="312" y="252"/>
                    </a:lnTo>
                    <a:lnTo>
                      <a:pt x="288" y="240"/>
                    </a:lnTo>
                    <a:lnTo>
                      <a:pt x="252" y="228"/>
                    </a:lnTo>
                    <a:lnTo>
                      <a:pt x="216" y="216"/>
                    </a:lnTo>
                    <a:lnTo>
                      <a:pt x="192" y="204"/>
                    </a:lnTo>
                    <a:lnTo>
                      <a:pt x="168" y="192"/>
                    </a:lnTo>
                    <a:lnTo>
                      <a:pt x="144" y="168"/>
                    </a:lnTo>
                    <a:lnTo>
                      <a:pt x="120" y="156"/>
                    </a:lnTo>
                    <a:lnTo>
                      <a:pt x="96" y="144"/>
                    </a:lnTo>
                    <a:lnTo>
                      <a:pt x="84" y="132"/>
                    </a:lnTo>
                    <a:lnTo>
                      <a:pt x="60" y="120"/>
                    </a:lnTo>
                    <a:lnTo>
                      <a:pt x="48" y="96"/>
                    </a:lnTo>
                    <a:lnTo>
                      <a:pt x="36" y="84"/>
                    </a:lnTo>
                    <a:lnTo>
                      <a:pt x="24" y="72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468"/>
                    </a:lnTo>
                    <a:lnTo>
                      <a:pt x="0" y="480"/>
                    </a:lnTo>
                    <a:lnTo>
                      <a:pt x="0" y="492"/>
                    </a:lnTo>
                    <a:lnTo>
                      <a:pt x="12" y="516"/>
                    </a:lnTo>
                    <a:lnTo>
                      <a:pt x="12" y="528"/>
                    </a:lnTo>
                    <a:lnTo>
                      <a:pt x="24" y="540"/>
                    </a:lnTo>
                    <a:lnTo>
                      <a:pt x="36" y="552"/>
                    </a:lnTo>
                    <a:lnTo>
                      <a:pt x="48" y="564"/>
                    </a:lnTo>
                    <a:lnTo>
                      <a:pt x="60" y="588"/>
                    </a:lnTo>
                    <a:lnTo>
                      <a:pt x="84" y="600"/>
                    </a:lnTo>
                    <a:lnTo>
                      <a:pt x="96" y="612"/>
                    </a:lnTo>
                    <a:lnTo>
                      <a:pt x="120" y="624"/>
                    </a:lnTo>
                    <a:lnTo>
                      <a:pt x="144" y="636"/>
                    </a:lnTo>
                    <a:lnTo>
                      <a:pt x="168" y="660"/>
                    </a:lnTo>
                    <a:lnTo>
                      <a:pt x="192" y="672"/>
                    </a:lnTo>
                    <a:lnTo>
                      <a:pt x="216" y="684"/>
                    </a:lnTo>
                    <a:lnTo>
                      <a:pt x="252" y="696"/>
                    </a:lnTo>
                    <a:lnTo>
                      <a:pt x="288" y="708"/>
                    </a:lnTo>
                    <a:lnTo>
                      <a:pt x="312" y="720"/>
                    </a:lnTo>
                    <a:lnTo>
                      <a:pt x="348" y="732"/>
                    </a:lnTo>
                    <a:lnTo>
                      <a:pt x="384" y="744"/>
                    </a:lnTo>
                    <a:lnTo>
                      <a:pt x="408" y="744"/>
                    </a:lnTo>
                    <a:lnTo>
                      <a:pt x="444" y="756"/>
                    </a:lnTo>
                    <a:lnTo>
                      <a:pt x="492" y="768"/>
                    </a:lnTo>
                    <a:lnTo>
                      <a:pt x="528" y="780"/>
                    </a:lnTo>
                    <a:lnTo>
                      <a:pt x="576" y="792"/>
                    </a:lnTo>
                    <a:lnTo>
                      <a:pt x="612" y="804"/>
                    </a:lnTo>
                    <a:lnTo>
                      <a:pt x="660" y="816"/>
                    </a:lnTo>
                    <a:lnTo>
                      <a:pt x="708" y="816"/>
                    </a:lnTo>
                    <a:lnTo>
                      <a:pt x="756" y="828"/>
                    </a:lnTo>
                    <a:lnTo>
                      <a:pt x="804" y="840"/>
                    </a:lnTo>
                    <a:lnTo>
                      <a:pt x="864" y="840"/>
                    </a:lnTo>
                    <a:lnTo>
                      <a:pt x="912" y="852"/>
                    </a:lnTo>
                    <a:lnTo>
                      <a:pt x="960" y="852"/>
                    </a:lnTo>
                    <a:lnTo>
                      <a:pt x="1021" y="864"/>
                    </a:lnTo>
                    <a:lnTo>
                      <a:pt x="1069" y="864"/>
                    </a:lnTo>
                    <a:lnTo>
                      <a:pt x="1129" y="876"/>
                    </a:lnTo>
                    <a:lnTo>
                      <a:pt x="1177" y="876"/>
                    </a:lnTo>
                    <a:lnTo>
                      <a:pt x="1237" y="888"/>
                    </a:lnTo>
                    <a:lnTo>
                      <a:pt x="1297" y="888"/>
                    </a:lnTo>
                    <a:lnTo>
                      <a:pt x="1357" y="888"/>
                    </a:lnTo>
                    <a:lnTo>
                      <a:pt x="1405" y="888"/>
                    </a:lnTo>
                    <a:lnTo>
                      <a:pt x="1465" y="888"/>
                    </a:lnTo>
                    <a:lnTo>
                      <a:pt x="1465" y="42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237000" y="2021040"/>
                <a:ext cx="930960" cy="563040"/>
              </a:xfrm>
              <a:custGeom>
                <a:avLst/>
                <a:gdLst/>
                <a:ahLst/>
                <a:rect l="l" t="t" r="r" b="b"/>
                <a:pathLst>
                  <a:path w="1465" h="888">
                    <a:moveTo>
                      <a:pt x="1465" y="420"/>
                    </a:moveTo>
                    <a:lnTo>
                      <a:pt x="1405" y="420"/>
                    </a:lnTo>
                    <a:lnTo>
                      <a:pt x="1357" y="420"/>
                    </a:lnTo>
                    <a:lnTo>
                      <a:pt x="1297" y="420"/>
                    </a:lnTo>
                    <a:lnTo>
                      <a:pt x="1237" y="420"/>
                    </a:lnTo>
                    <a:lnTo>
                      <a:pt x="1177" y="408"/>
                    </a:lnTo>
                    <a:lnTo>
                      <a:pt x="1129" y="408"/>
                    </a:lnTo>
                    <a:lnTo>
                      <a:pt x="1069" y="396"/>
                    </a:lnTo>
                    <a:lnTo>
                      <a:pt x="1021" y="396"/>
                    </a:lnTo>
                    <a:lnTo>
                      <a:pt x="960" y="384"/>
                    </a:lnTo>
                    <a:lnTo>
                      <a:pt x="912" y="384"/>
                    </a:lnTo>
                    <a:lnTo>
                      <a:pt x="864" y="372"/>
                    </a:lnTo>
                    <a:lnTo>
                      <a:pt x="804" y="372"/>
                    </a:lnTo>
                    <a:lnTo>
                      <a:pt x="756" y="360"/>
                    </a:lnTo>
                    <a:lnTo>
                      <a:pt x="708" y="348"/>
                    </a:lnTo>
                    <a:lnTo>
                      <a:pt x="660" y="348"/>
                    </a:lnTo>
                    <a:lnTo>
                      <a:pt x="612" y="336"/>
                    </a:lnTo>
                    <a:lnTo>
                      <a:pt x="576" y="324"/>
                    </a:lnTo>
                    <a:lnTo>
                      <a:pt x="528" y="312"/>
                    </a:lnTo>
                    <a:lnTo>
                      <a:pt x="492" y="300"/>
                    </a:lnTo>
                    <a:lnTo>
                      <a:pt x="444" y="288"/>
                    </a:lnTo>
                    <a:lnTo>
                      <a:pt x="408" y="276"/>
                    </a:lnTo>
                    <a:lnTo>
                      <a:pt x="384" y="276"/>
                    </a:lnTo>
                    <a:lnTo>
                      <a:pt x="348" y="264"/>
                    </a:lnTo>
                    <a:lnTo>
                      <a:pt x="312" y="252"/>
                    </a:lnTo>
                    <a:lnTo>
                      <a:pt x="288" y="240"/>
                    </a:lnTo>
                    <a:lnTo>
                      <a:pt x="252" y="228"/>
                    </a:lnTo>
                    <a:lnTo>
                      <a:pt x="216" y="216"/>
                    </a:lnTo>
                    <a:lnTo>
                      <a:pt x="192" y="204"/>
                    </a:lnTo>
                    <a:lnTo>
                      <a:pt x="168" y="192"/>
                    </a:lnTo>
                    <a:lnTo>
                      <a:pt x="144" y="168"/>
                    </a:lnTo>
                    <a:lnTo>
                      <a:pt x="120" y="156"/>
                    </a:lnTo>
                    <a:lnTo>
                      <a:pt x="96" y="144"/>
                    </a:lnTo>
                    <a:lnTo>
                      <a:pt x="84" y="132"/>
                    </a:lnTo>
                    <a:lnTo>
                      <a:pt x="60" y="120"/>
                    </a:lnTo>
                    <a:lnTo>
                      <a:pt x="48" y="96"/>
                    </a:lnTo>
                    <a:lnTo>
                      <a:pt x="36" y="84"/>
                    </a:lnTo>
                    <a:lnTo>
                      <a:pt x="24" y="72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468"/>
                    </a:lnTo>
                    <a:lnTo>
                      <a:pt x="0" y="480"/>
                    </a:lnTo>
                    <a:lnTo>
                      <a:pt x="0" y="492"/>
                    </a:lnTo>
                    <a:lnTo>
                      <a:pt x="12" y="516"/>
                    </a:lnTo>
                    <a:lnTo>
                      <a:pt x="12" y="528"/>
                    </a:lnTo>
                    <a:lnTo>
                      <a:pt x="24" y="540"/>
                    </a:lnTo>
                    <a:lnTo>
                      <a:pt x="36" y="552"/>
                    </a:lnTo>
                    <a:lnTo>
                      <a:pt x="48" y="564"/>
                    </a:lnTo>
                    <a:lnTo>
                      <a:pt x="60" y="588"/>
                    </a:lnTo>
                    <a:lnTo>
                      <a:pt x="84" y="600"/>
                    </a:lnTo>
                    <a:lnTo>
                      <a:pt x="96" y="612"/>
                    </a:lnTo>
                    <a:lnTo>
                      <a:pt x="120" y="624"/>
                    </a:lnTo>
                    <a:lnTo>
                      <a:pt x="144" y="636"/>
                    </a:lnTo>
                    <a:lnTo>
                      <a:pt x="168" y="660"/>
                    </a:lnTo>
                    <a:lnTo>
                      <a:pt x="192" y="672"/>
                    </a:lnTo>
                    <a:lnTo>
                      <a:pt x="216" y="684"/>
                    </a:lnTo>
                    <a:lnTo>
                      <a:pt x="252" y="696"/>
                    </a:lnTo>
                    <a:lnTo>
                      <a:pt x="288" y="708"/>
                    </a:lnTo>
                    <a:lnTo>
                      <a:pt x="312" y="720"/>
                    </a:lnTo>
                    <a:lnTo>
                      <a:pt x="348" y="732"/>
                    </a:lnTo>
                    <a:lnTo>
                      <a:pt x="384" y="744"/>
                    </a:lnTo>
                    <a:lnTo>
                      <a:pt x="408" y="744"/>
                    </a:lnTo>
                    <a:lnTo>
                      <a:pt x="444" y="756"/>
                    </a:lnTo>
                    <a:lnTo>
                      <a:pt x="492" y="768"/>
                    </a:lnTo>
                    <a:lnTo>
                      <a:pt x="528" y="780"/>
                    </a:lnTo>
                    <a:lnTo>
                      <a:pt x="576" y="792"/>
                    </a:lnTo>
                    <a:lnTo>
                      <a:pt x="612" y="804"/>
                    </a:lnTo>
                    <a:lnTo>
                      <a:pt x="660" y="816"/>
                    </a:lnTo>
                    <a:lnTo>
                      <a:pt x="708" y="816"/>
                    </a:lnTo>
                    <a:lnTo>
                      <a:pt x="756" y="828"/>
                    </a:lnTo>
                    <a:lnTo>
                      <a:pt x="804" y="840"/>
                    </a:lnTo>
                    <a:lnTo>
                      <a:pt x="864" y="840"/>
                    </a:lnTo>
                    <a:lnTo>
                      <a:pt x="912" y="852"/>
                    </a:lnTo>
                    <a:lnTo>
                      <a:pt x="960" y="852"/>
                    </a:lnTo>
                    <a:lnTo>
                      <a:pt x="1021" y="864"/>
                    </a:lnTo>
                    <a:lnTo>
                      <a:pt x="1069" y="864"/>
                    </a:lnTo>
                    <a:lnTo>
                      <a:pt x="1129" y="876"/>
                    </a:lnTo>
                    <a:lnTo>
                      <a:pt x="1177" y="876"/>
                    </a:lnTo>
                    <a:lnTo>
                      <a:pt x="1237" y="888"/>
                    </a:lnTo>
                    <a:lnTo>
                      <a:pt x="1297" y="888"/>
                    </a:lnTo>
                    <a:lnTo>
                      <a:pt x="1357" y="888"/>
                    </a:lnTo>
                    <a:lnTo>
                      <a:pt x="1405" y="888"/>
                    </a:lnTo>
                    <a:lnTo>
                      <a:pt x="1465" y="888"/>
                    </a:lnTo>
                    <a:lnTo>
                      <a:pt x="1465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5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237000" y="2021040"/>
                <a:ext cx="938520" cy="57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9" name=""/>
            <p:cNvSpPr/>
            <p:nvPr/>
          </p:nvSpPr>
          <p:spPr>
            <a:xfrm>
              <a:off x="6237000" y="2021040"/>
              <a:ext cx="930600" cy="563400"/>
            </a:xfrm>
            <a:custGeom>
              <a:avLst/>
              <a:gdLst/>
              <a:ahLst/>
              <a:rect l="l" t="t" r="r" b="b"/>
              <a:pathLst>
                <a:path w="1465" h="888">
                  <a:moveTo>
                    <a:pt x="1465" y="420"/>
                  </a:moveTo>
                  <a:lnTo>
                    <a:pt x="1405" y="420"/>
                  </a:lnTo>
                  <a:lnTo>
                    <a:pt x="1357" y="420"/>
                  </a:lnTo>
                  <a:lnTo>
                    <a:pt x="1297" y="420"/>
                  </a:lnTo>
                  <a:lnTo>
                    <a:pt x="1237" y="420"/>
                  </a:lnTo>
                  <a:lnTo>
                    <a:pt x="1177" y="408"/>
                  </a:lnTo>
                  <a:lnTo>
                    <a:pt x="1129" y="408"/>
                  </a:lnTo>
                  <a:lnTo>
                    <a:pt x="1069" y="396"/>
                  </a:lnTo>
                  <a:lnTo>
                    <a:pt x="1021" y="396"/>
                  </a:lnTo>
                  <a:lnTo>
                    <a:pt x="960" y="384"/>
                  </a:lnTo>
                  <a:lnTo>
                    <a:pt x="912" y="384"/>
                  </a:lnTo>
                  <a:lnTo>
                    <a:pt x="864" y="372"/>
                  </a:lnTo>
                  <a:lnTo>
                    <a:pt x="804" y="372"/>
                  </a:lnTo>
                  <a:lnTo>
                    <a:pt x="756" y="360"/>
                  </a:lnTo>
                  <a:lnTo>
                    <a:pt x="708" y="348"/>
                  </a:lnTo>
                  <a:lnTo>
                    <a:pt x="660" y="348"/>
                  </a:lnTo>
                  <a:lnTo>
                    <a:pt x="612" y="336"/>
                  </a:lnTo>
                  <a:lnTo>
                    <a:pt x="576" y="324"/>
                  </a:lnTo>
                  <a:lnTo>
                    <a:pt x="528" y="312"/>
                  </a:lnTo>
                  <a:lnTo>
                    <a:pt x="492" y="300"/>
                  </a:lnTo>
                  <a:lnTo>
                    <a:pt x="444" y="288"/>
                  </a:lnTo>
                  <a:lnTo>
                    <a:pt x="408" y="276"/>
                  </a:lnTo>
                  <a:lnTo>
                    <a:pt x="384" y="276"/>
                  </a:lnTo>
                  <a:lnTo>
                    <a:pt x="348" y="264"/>
                  </a:lnTo>
                  <a:lnTo>
                    <a:pt x="312" y="252"/>
                  </a:lnTo>
                  <a:lnTo>
                    <a:pt x="288" y="240"/>
                  </a:lnTo>
                  <a:lnTo>
                    <a:pt x="252" y="228"/>
                  </a:lnTo>
                  <a:lnTo>
                    <a:pt x="216" y="216"/>
                  </a:lnTo>
                  <a:lnTo>
                    <a:pt x="192" y="204"/>
                  </a:lnTo>
                  <a:lnTo>
                    <a:pt x="168" y="192"/>
                  </a:lnTo>
                  <a:lnTo>
                    <a:pt x="144" y="168"/>
                  </a:lnTo>
                  <a:lnTo>
                    <a:pt x="120" y="156"/>
                  </a:lnTo>
                  <a:lnTo>
                    <a:pt x="96" y="144"/>
                  </a:lnTo>
                  <a:lnTo>
                    <a:pt x="84" y="132"/>
                  </a:lnTo>
                  <a:lnTo>
                    <a:pt x="60" y="120"/>
                  </a:lnTo>
                  <a:lnTo>
                    <a:pt x="48" y="96"/>
                  </a:lnTo>
                  <a:lnTo>
                    <a:pt x="36" y="84"/>
                  </a:lnTo>
                  <a:lnTo>
                    <a:pt x="24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468"/>
                  </a:lnTo>
                  <a:lnTo>
                    <a:pt x="0" y="480"/>
                  </a:lnTo>
                  <a:lnTo>
                    <a:pt x="0" y="492"/>
                  </a:lnTo>
                  <a:lnTo>
                    <a:pt x="12" y="516"/>
                  </a:lnTo>
                  <a:lnTo>
                    <a:pt x="12" y="528"/>
                  </a:lnTo>
                  <a:lnTo>
                    <a:pt x="24" y="540"/>
                  </a:lnTo>
                  <a:lnTo>
                    <a:pt x="36" y="552"/>
                  </a:lnTo>
                  <a:lnTo>
                    <a:pt x="48" y="564"/>
                  </a:lnTo>
                  <a:lnTo>
                    <a:pt x="60" y="588"/>
                  </a:lnTo>
                  <a:lnTo>
                    <a:pt x="84" y="600"/>
                  </a:lnTo>
                  <a:lnTo>
                    <a:pt x="96" y="612"/>
                  </a:lnTo>
                  <a:lnTo>
                    <a:pt x="120" y="624"/>
                  </a:lnTo>
                  <a:lnTo>
                    <a:pt x="144" y="636"/>
                  </a:lnTo>
                  <a:lnTo>
                    <a:pt x="168" y="660"/>
                  </a:lnTo>
                  <a:lnTo>
                    <a:pt x="192" y="672"/>
                  </a:lnTo>
                  <a:lnTo>
                    <a:pt x="216" y="684"/>
                  </a:lnTo>
                  <a:lnTo>
                    <a:pt x="252" y="696"/>
                  </a:lnTo>
                  <a:lnTo>
                    <a:pt x="288" y="708"/>
                  </a:lnTo>
                  <a:lnTo>
                    <a:pt x="312" y="720"/>
                  </a:lnTo>
                  <a:lnTo>
                    <a:pt x="348" y="732"/>
                  </a:lnTo>
                  <a:lnTo>
                    <a:pt x="384" y="744"/>
                  </a:lnTo>
                  <a:lnTo>
                    <a:pt x="408" y="744"/>
                  </a:lnTo>
                  <a:lnTo>
                    <a:pt x="444" y="756"/>
                  </a:lnTo>
                  <a:lnTo>
                    <a:pt x="492" y="768"/>
                  </a:lnTo>
                  <a:lnTo>
                    <a:pt x="528" y="780"/>
                  </a:lnTo>
                  <a:lnTo>
                    <a:pt x="576" y="792"/>
                  </a:lnTo>
                  <a:lnTo>
                    <a:pt x="612" y="804"/>
                  </a:lnTo>
                  <a:lnTo>
                    <a:pt x="660" y="816"/>
                  </a:lnTo>
                  <a:lnTo>
                    <a:pt x="708" y="816"/>
                  </a:lnTo>
                  <a:lnTo>
                    <a:pt x="756" y="828"/>
                  </a:lnTo>
                  <a:lnTo>
                    <a:pt x="804" y="840"/>
                  </a:lnTo>
                  <a:lnTo>
                    <a:pt x="864" y="840"/>
                  </a:lnTo>
                  <a:lnTo>
                    <a:pt x="912" y="852"/>
                  </a:lnTo>
                  <a:lnTo>
                    <a:pt x="960" y="852"/>
                  </a:lnTo>
                  <a:lnTo>
                    <a:pt x="1021" y="864"/>
                  </a:lnTo>
                  <a:lnTo>
                    <a:pt x="1069" y="864"/>
                  </a:lnTo>
                  <a:lnTo>
                    <a:pt x="1129" y="876"/>
                  </a:lnTo>
                  <a:lnTo>
                    <a:pt x="1177" y="876"/>
                  </a:lnTo>
                  <a:lnTo>
                    <a:pt x="1237" y="888"/>
                  </a:lnTo>
                  <a:lnTo>
                    <a:pt x="1297" y="888"/>
                  </a:lnTo>
                  <a:lnTo>
                    <a:pt x="1357" y="888"/>
                  </a:lnTo>
                  <a:lnTo>
                    <a:pt x="1405" y="888"/>
                  </a:lnTo>
                  <a:lnTo>
                    <a:pt x="1465" y="888"/>
                  </a:lnTo>
                  <a:lnTo>
                    <a:pt x="1465" y="420"/>
                  </a:lnTo>
                  <a:close/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6237000" y="1914480"/>
              <a:ext cx="1068480" cy="381240"/>
              <a:chOff x="6237000" y="1914480"/>
              <a:chExt cx="1068480" cy="381240"/>
            </a:xfrm>
          </p:grpSpPr>
          <p:pic>
            <p:nvPicPr>
              <p:cNvPr id="126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237000" y="1914480"/>
                <a:ext cx="10684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2" name=""/>
              <p:cNvSpPr/>
              <p:nvPr/>
            </p:nvSpPr>
            <p:spPr>
              <a:xfrm>
                <a:off x="6237000" y="1914480"/>
                <a:ext cx="1060920" cy="373680"/>
              </a:xfrm>
              <a:custGeom>
                <a:avLst/>
                <a:gdLst/>
                <a:ahLst/>
                <a:rect l="l" t="t" r="r" b="b"/>
                <a:pathLst>
                  <a:path w="1669" h="588">
                    <a:moveTo>
                      <a:pt x="1465" y="588"/>
                    </a:moveTo>
                    <a:lnTo>
                      <a:pt x="1405" y="588"/>
                    </a:lnTo>
                    <a:lnTo>
                      <a:pt x="1357" y="588"/>
                    </a:lnTo>
                    <a:lnTo>
                      <a:pt x="1297" y="588"/>
                    </a:lnTo>
                    <a:lnTo>
                      <a:pt x="1237" y="588"/>
                    </a:lnTo>
                    <a:lnTo>
                      <a:pt x="1177" y="576"/>
                    </a:lnTo>
                    <a:lnTo>
                      <a:pt x="1129" y="576"/>
                    </a:lnTo>
                    <a:lnTo>
                      <a:pt x="1069" y="564"/>
                    </a:lnTo>
                    <a:lnTo>
                      <a:pt x="1021" y="564"/>
                    </a:lnTo>
                    <a:lnTo>
                      <a:pt x="960" y="552"/>
                    </a:lnTo>
                    <a:lnTo>
                      <a:pt x="936" y="552"/>
                    </a:lnTo>
                    <a:lnTo>
                      <a:pt x="888" y="552"/>
                    </a:lnTo>
                    <a:lnTo>
                      <a:pt x="828" y="540"/>
                    </a:lnTo>
                    <a:lnTo>
                      <a:pt x="780" y="528"/>
                    </a:lnTo>
                    <a:lnTo>
                      <a:pt x="732" y="528"/>
                    </a:lnTo>
                    <a:lnTo>
                      <a:pt x="684" y="516"/>
                    </a:lnTo>
                    <a:lnTo>
                      <a:pt x="636" y="504"/>
                    </a:lnTo>
                    <a:lnTo>
                      <a:pt x="600" y="492"/>
                    </a:lnTo>
                    <a:lnTo>
                      <a:pt x="552" y="492"/>
                    </a:lnTo>
                    <a:lnTo>
                      <a:pt x="504" y="480"/>
                    </a:lnTo>
                    <a:lnTo>
                      <a:pt x="468" y="468"/>
                    </a:lnTo>
                    <a:lnTo>
                      <a:pt x="432" y="456"/>
                    </a:lnTo>
                    <a:lnTo>
                      <a:pt x="384" y="444"/>
                    </a:lnTo>
                    <a:lnTo>
                      <a:pt x="348" y="432"/>
                    </a:lnTo>
                    <a:lnTo>
                      <a:pt x="312" y="420"/>
                    </a:lnTo>
                    <a:lnTo>
                      <a:pt x="288" y="408"/>
                    </a:lnTo>
                    <a:lnTo>
                      <a:pt x="252" y="396"/>
                    </a:lnTo>
                    <a:lnTo>
                      <a:pt x="216" y="384"/>
                    </a:lnTo>
                    <a:lnTo>
                      <a:pt x="204" y="372"/>
                    </a:lnTo>
                    <a:lnTo>
                      <a:pt x="180" y="360"/>
                    </a:lnTo>
                    <a:lnTo>
                      <a:pt x="156" y="348"/>
                    </a:lnTo>
                    <a:lnTo>
                      <a:pt x="132" y="336"/>
                    </a:lnTo>
                    <a:lnTo>
                      <a:pt x="108" y="324"/>
                    </a:lnTo>
                    <a:lnTo>
                      <a:pt x="84" y="300"/>
                    </a:lnTo>
                    <a:lnTo>
                      <a:pt x="72" y="288"/>
                    </a:lnTo>
                    <a:lnTo>
                      <a:pt x="60" y="276"/>
                    </a:lnTo>
                    <a:lnTo>
                      <a:pt x="36" y="264"/>
                    </a:lnTo>
                    <a:lnTo>
                      <a:pt x="24" y="252"/>
                    </a:lnTo>
                    <a:lnTo>
                      <a:pt x="12" y="228"/>
                    </a:lnTo>
                    <a:lnTo>
                      <a:pt x="12" y="216"/>
                    </a:lnTo>
                    <a:lnTo>
                      <a:pt x="0" y="204"/>
                    </a:lnTo>
                    <a:lnTo>
                      <a:pt x="0" y="192"/>
                    </a:lnTo>
                    <a:lnTo>
                      <a:pt x="0" y="168"/>
                    </a:lnTo>
                    <a:lnTo>
                      <a:pt x="0" y="156"/>
                    </a:lnTo>
                    <a:lnTo>
                      <a:pt x="0" y="144"/>
                    </a:lnTo>
                    <a:lnTo>
                      <a:pt x="0" y="132"/>
                    </a:lnTo>
                    <a:lnTo>
                      <a:pt x="12" y="120"/>
                    </a:lnTo>
                    <a:lnTo>
                      <a:pt x="12" y="108"/>
                    </a:lnTo>
                    <a:lnTo>
                      <a:pt x="24" y="84"/>
                    </a:lnTo>
                    <a:lnTo>
                      <a:pt x="36" y="72"/>
                    </a:lnTo>
                    <a:lnTo>
                      <a:pt x="48" y="60"/>
                    </a:lnTo>
                    <a:lnTo>
                      <a:pt x="60" y="48"/>
                    </a:lnTo>
                    <a:lnTo>
                      <a:pt x="84" y="36"/>
                    </a:lnTo>
                    <a:lnTo>
                      <a:pt x="96" y="12"/>
                    </a:lnTo>
                    <a:lnTo>
                      <a:pt x="120" y="0"/>
                    </a:lnTo>
                    <a:lnTo>
                      <a:pt x="1669" y="168"/>
                    </a:lnTo>
                    <a:lnTo>
                      <a:pt x="1465" y="588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237000" y="1914480"/>
                <a:ext cx="1060920" cy="373680"/>
              </a:xfrm>
              <a:custGeom>
                <a:avLst/>
                <a:gdLst/>
                <a:ahLst/>
                <a:rect l="l" t="t" r="r" b="b"/>
                <a:pathLst>
                  <a:path w="1669" h="588">
                    <a:moveTo>
                      <a:pt x="1465" y="588"/>
                    </a:moveTo>
                    <a:lnTo>
                      <a:pt x="1405" y="588"/>
                    </a:lnTo>
                    <a:lnTo>
                      <a:pt x="1357" y="588"/>
                    </a:lnTo>
                    <a:lnTo>
                      <a:pt x="1297" y="588"/>
                    </a:lnTo>
                    <a:lnTo>
                      <a:pt x="1237" y="588"/>
                    </a:lnTo>
                    <a:lnTo>
                      <a:pt x="1177" y="576"/>
                    </a:lnTo>
                    <a:lnTo>
                      <a:pt x="1129" y="576"/>
                    </a:lnTo>
                    <a:lnTo>
                      <a:pt x="1069" y="564"/>
                    </a:lnTo>
                    <a:lnTo>
                      <a:pt x="1021" y="564"/>
                    </a:lnTo>
                    <a:lnTo>
                      <a:pt x="960" y="552"/>
                    </a:lnTo>
                    <a:lnTo>
                      <a:pt x="936" y="552"/>
                    </a:lnTo>
                    <a:lnTo>
                      <a:pt x="888" y="552"/>
                    </a:lnTo>
                    <a:lnTo>
                      <a:pt x="828" y="540"/>
                    </a:lnTo>
                    <a:lnTo>
                      <a:pt x="780" y="528"/>
                    </a:lnTo>
                    <a:lnTo>
                      <a:pt x="732" y="528"/>
                    </a:lnTo>
                    <a:lnTo>
                      <a:pt x="684" y="516"/>
                    </a:lnTo>
                    <a:lnTo>
                      <a:pt x="636" y="504"/>
                    </a:lnTo>
                    <a:lnTo>
                      <a:pt x="600" y="492"/>
                    </a:lnTo>
                    <a:lnTo>
                      <a:pt x="552" y="492"/>
                    </a:lnTo>
                    <a:lnTo>
                      <a:pt x="504" y="480"/>
                    </a:lnTo>
                    <a:lnTo>
                      <a:pt x="468" y="468"/>
                    </a:lnTo>
                    <a:lnTo>
                      <a:pt x="432" y="456"/>
                    </a:lnTo>
                    <a:lnTo>
                      <a:pt x="384" y="444"/>
                    </a:lnTo>
                    <a:lnTo>
                      <a:pt x="348" y="432"/>
                    </a:lnTo>
                    <a:lnTo>
                      <a:pt x="312" y="420"/>
                    </a:lnTo>
                    <a:lnTo>
                      <a:pt x="288" y="408"/>
                    </a:lnTo>
                    <a:lnTo>
                      <a:pt x="252" y="396"/>
                    </a:lnTo>
                    <a:lnTo>
                      <a:pt x="216" y="384"/>
                    </a:lnTo>
                    <a:lnTo>
                      <a:pt x="204" y="372"/>
                    </a:lnTo>
                    <a:lnTo>
                      <a:pt x="180" y="360"/>
                    </a:lnTo>
                    <a:lnTo>
                      <a:pt x="156" y="348"/>
                    </a:lnTo>
                    <a:lnTo>
                      <a:pt x="132" y="336"/>
                    </a:lnTo>
                    <a:lnTo>
                      <a:pt x="108" y="324"/>
                    </a:lnTo>
                    <a:lnTo>
                      <a:pt x="84" y="300"/>
                    </a:lnTo>
                    <a:lnTo>
                      <a:pt x="72" y="288"/>
                    </a:lnTo>
                    <a:lnTo>
                      <a:pt x="60" y="276"/>
                    </a:lnTo>
                    <a:lnTo>
                      <a:pt x="36" y="264"/>
                    </a:lnTo>
                    <a:lnTo>
                      <a:pt x="24" y="252"/>
                    </a:lnTo>
                    <a:lnTo>
                      <a:pt x="12" y="228"/>
                    </a:lnTo>
                    <a:lnTo>
                      <a:pt x="12" y="216"/>
                    </a:lnTo>
                    <a:lnTo>
                      <a:pt x="0" y="204"/>
                    </a:lnTo>
                    <a:lnTo>
                      <a:pt x="0" y="192"/>
                    </a:lnTo>
                    <a:lnTo>
                      <a:pt x="0" y="168"/>
                    </a:lnTo>
                    <a:lnTo>
                      <a:pt x="0" y="156"/>
                    </a:lnTo>
                    <a:lnTo>
                      <a:pt x="0" y="144"/>
                    </a:lnTo>
                    <a:lnTo>
                      <a:pt x="0" y="132"/>
                    </a:lnTo>
                    <a:lnTo>
                      <a:pt x="12" y="120"/>
                    </a:lnTo>
                    <a:lnTo>
                      <a:pt x="12" y="108"/>
                    </a:lnTo>
                    <a:lnTo>
                      <a:pt x="24" y="84"/>
                    </a:lnTo>
                    <a:lnTo>
                      <a:pt x="36" y="72"/>
                    </a:lnTo>
                    <a:lnTo>
                      <a:pt x="48" y="60"/>
                    </a:lnTo>
                    <a:lnTo>
                      <a:pt x="60" y="48"/>
                    </a:lnTo>
                    <a:lnTo>
                      <a:pt x="84" y="36"/>
                    </a:lnTo>
                    <a:lnTo>
                      <a:pt x="96" y="12"/>
                    </a:lnTo>
                    <a:lnTo>
                      <a:pt x="120" y="0"/>
                    </a:lnTo>
                    <a:lnTo>
                      <a:pt x="1669" y="168"/>
                    </a:lnTo>
                    <a:lnTo>
                      <a:pt x="1465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6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237000" y="1914480"/>
                <a:ext cx="1068480" cy="3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5" name=""/>
            <p:cNvSpPr/>
            <p:nvPr/>
          </p:nvSpPr>
          <p:spPr>
            <a:xfrm>
              <a:off x="6237000" y="1914480"/>
              <a:ext cx="1060560" cy="37332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465" y="588"/>
                  </a:moveTo>
                  <a:lnTo>
                    <a:pt x="1405" y="588"/>
                  </a:lnTo>
                  <a:lnTo>
                    <a:pt x="1357" y="588"/>
                  </a:lnTo>
                  <a:lnTo>
                    <a:pt x="1297" y="588"/>
                  </a:lnTo>
                  <a:lnTo>
                    <a:pt x="1237" y="588"/>
                  </a:lnTo>
                  <a:lnTo>
                    <a:pt x="1177" y="576"/>
                  </a:lnTo>
                  <a:lnTo>
                    <a:pt x="1129" y="576"/>
                  </a:lnTo>
                  <a:lnTo>
                    <a:pt x="1069" y="564"/>
                  </a:lnTo>
                  <a:lnTo>
                    <a:pt x="1021" y="564"/>
                  </a:lnTo>
                  <a:lnTo>
                    <a:pt x="960" y="552"/>
                  </a:lnTo>
                  <a:lnTo>
                    <a:pt x="936" y="552"/>
                  </a:lnTo>
                  <a:lnTo>
                    <a:pt x="888" y="552"/>
                  </a:lnTo>
                  <a:lnTo>
                    <a:pt x="828" y="540"/>
                  </a:lnTo>
                  <a:lnTo>
                    <a:pt x="780" y="528"/>
                  </a:lnTo>
                  <a:lnTo>
                    <a:pt x="732" y="528"/>
                  </a:lnTo>
                  <a:lnTo>
                    <a:pt x="684" y="516"/>
                  </a:lnTo>
                  <a:lnTo>
                    <a:pt x="636" y="504"/>
                  </a:lnTo>
                  <a:lnTo>
                    <a:pt x="600" y="492"/>
                  </a:lnTo>
                  <a:lnTo>
                    <a:pt x="552" y="492"/>
                  </a:lnTo>
                  <a:lnTo>
                    <a:pt x="504" y="480"/>
                  </a:lnTo>
                  <a:lnTo>
                    <a:pt x="468" y="468"/>
                  </a:lnTo>
                  <a:lnTo>
                    <a:pt x="432" y="456"/>
                  </a:lnTo>
                  <a:lnTo>
                    <a:pt x="384" y="444"/>
                  </a:lnTo>
                  <a:lnTo>
                    <a:pt x="348" y="432"/>
                  </a:lnTo>
                  <a:lnTo>
                    <a:pt x="312" y="420"/>
                  </a:lnTo>
                  <a:lnTo>
                    <a:pt x="288" y="408"/>
                  </a:lnTo>
                  <a:lnTo>
                    <a:pt x="252" y="396"/>
                  </a:lnTo>
                  <a:lnTo>
                    <a:pt x="216" y="384"/>
                  </a:lnTo>
                  <a:lnTo>
                    <a:pt x="204" y="372"/>
                  </a:lnTo>
                  <a:lnTo>
                    <a:pt x="180" y="360"/>
                  </a:lnTo>
                  <a:lnTo>
                    <a:pt x="156" y="348"/>
                  </a:lnTo>
                  <a:lnTo>
                    <a:pt x="132" y="336"/>
                  </a:lnTo>
                  <a:lnTo>
                    <a:pt x="108" y="324"/>
                  </a:lnTo>
                  <a:lnTo>
                    <a:pt x="84" y="300"/>
                  </a:lnTo>
                  <a:lnTo>
                    <a:pt x="72" y="288"/>
                  </a:lnTo>
                  <a:lnTo>
                    <a:pt x="60" y="276"/>
                  </a:lnTo>
                  <a:lnTo>
                    <a:pt x="36" y="264"/>
                  </a:lnTo>
                  <a:lnTo>
                    <a:pt x="24" y="252"/>
                  </a:lnTo>
                  <a:lnTo>
                    <a:pt x="12" y="228"/>
                  </a:lnTo>
                  <a:lnTo>
                    <a:pt x="12" y="216"/>
                  </a:lnTo>
                  <a:lnTo>
                    <a:pt x="0" y="204"/>
                  </a:lnTo>
                  <a:lnTo>
                    <a:pt x="0" y="192"/>
                  </a:lnTo>
                  <a:lnTo>
                    <a:pt x="0" y="168"/>
                  </a:lnTo>
                  <a:lnTo>
                    <a:pt x="0" y="156"/>
                  </a:lnTo>
                  <a:lnTo>
                    <a:pt x="0" y="144"/>
                  </a:lnTo>
                  <a:lnTo>
                    <a:pt x="0" y="132"/>
                  </a:lnTo>
                  <a:lnTo>
                    <a:pt x="12" y="120"/>
                  </a:lnTo>
                  <a:lnTo>
                    <a:pt x="12" y="108"/>
                  </a:lnTo>
                  <a:lnTo>
                    <a:pt x="24" y="84"/>
                  </a:lnTo>
                  <a:lnTo>
                    <a:pt x="36" y="72"/>
                  </a:lnTo>
                  <a:lnTo>
                    <a:pt x="48" y="60"/>
                  </a:lnTo>
                  <a:lnTo>
                    <a:pt x="60" y="48"/>
                  </a:lnTo>
                  <a:lnTo>
                    <a:pt x="84" y="36"/>
                  </a:lnTo>
                  <a:lnTo>
                    <a:pt x="96" y="12"/>
                  </a:lnTo>
                  <a:lnTo>
                    <a:pt x="120" y="0"/>
                  </a:lnTo>
                  <a:lnTo>
                    <a:pt x="1669" y="168"/>
                  </a:lnTo>
                  <a:lnTo>
                    <a:pt x="1465" y="588"/>
                  </a:lnTo>
                  <a:close/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06840" y="2462400"/>
              <a:ext cx="74880" cy="11412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3"/>
                  </a:moveTo>
                  <a:lnTo>
                    <a:pt x="8" y="3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373880" y="2287800"/>
              <a:ext cx="129960" cy="304560"/>
            </a:xfrm>
            <a:custGeom>
              <a:avLst/>
              <a:gdLst/>
              <a:ahLst/>
              <a:rect l="l" t="t" r="r" b="b"/>
              <a:pathLst>
                <a:path w="204" h="481">
                  <a:moveTo>
                    <a:pt x="204" y="0"/>
                  </a:moveTo>
                  <a:lnTo>
                    <a:pt x="168" y="0"/>
                  </a:lnTo>
                  <a:lnTo>
                    <a:pt x="144" y="0"/>
                  </a:lnTo>
                  <a:lnTo>
                    <a:pt x="84" y="0"/>
                  </a:lnTo>
                  <a:lnTo>
                    <a:pt x="60" y="12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481"/>
                  </a:lnTo>
                  <a:lnTo>
                    <a:pt x="24" y="481"/>
                  </a:lnTo>
                  <a:lnTo>
                    <a:pt x="60" y="481"/>
                  </a:lnTo>
                  <a:lnTo>
                    <a:pt x="84" y="468"/>
                  </a:lnTo>
                  <a:lnTo>
                    <a:pt x="144" y="468"/>
                  </a:lnTo>
                  <a:lnTo>
                    <a:pt x="168" y="468"/>
                  </a:lnTo>
                  <a:lnTo>
                    <a:pt x="204" y="468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297560" y="2021040"/>
              <a:ext cx="206280" cy="274680"/>
            </a:xfrm>
            <a:custGeom>
              <a:avLst/>
              <a:gdLst/>
              <a:ahLst/>
              <a:rect l="l" t="t" r="r" b="b"/>
              <a:pathLst>
                <a:path w="324" h="432">
                  <a:moveTo>
                    <a:pt x="324" y="420"/>
                  </a:moveTo>
                  <a:lnTo>
                    <a:pt x="288" y="420"/>
                  </a:lnTo>
                  <a:lnTo>
                    <a:pt x="264" y="420"/>
                  </a:lnTo>
                  <a:lnTo>
                    <a:pt x="204" y="420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20" y="432"/>
                  </a:lnTo>
                  <a:lnTo>
                    <a:pt x="0" y="0"/>
                  </a:lnTo>
                  <a:lnTo>
                    <a:pt x="324" y="420"/>
                  </a:lnTo>
                  <a:close/>
                </a:path>
              </a:pathLst>
            </a:custGeom>
            <a:solidFill>
              <a:srgbClr val="9933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7167600" y="2287800"/>
              <a:ext cx="214200" cy="312480"/>
              <a:chOff x="7167600" y="2287800"/>
              <a:chExt cx="214200" cy="312480"/>
            </a:xfrm>
          </p:grpSpPr>
          <p:pic>
            <p:nvPicPr>
              <p:cNvPr id="127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167600" y="2287800"/>
                <a:ext cx="214200" cy="31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"/>
              <p:cNvSpPr/>
              <p:nvPr/>
            </p:nvSpPr>
            <p:spPr>
              <a:xfrm>
                <a:off x="7167600" y="2287800"/>
                <a:ext cx="206640" cy="304920"/>
              </a:xfrm>
              <a:custGeom>
                <a:avLst/>
                <a:gdLst/>
                <a:ahLst/>
                <a:rect l="l" t="t" r="r" b="b"/>
                <a:pathLst>
                  <a:path w="324" h="481">
                    <a:moveTo>
                      <a:pt x="324" y="12"/>
                    </a:moveTo>
                    <a:lnTo>
                      <a:pt x="264" y="12"/>
                    </a:lnTo>
                    <a:lnTo>
                      <a:pt x="204" y="12"/>
                    </a:lnTo>
                    <a:lnTo>
                      <a:pt x="144" y="12"/>
                    </a:lnTo>
                    <a:lnTo>
                      <a:pt x="120" y="12"/>
                    </a:lnTo>
                    <a:lnTo>
                      <a:pt x="60" y="12"/>
                    </a:lnTo>
                    <a:lnTo>
                      <a:pt x="0" y="0"/>
                    </a:lnTo>
                    <a:lnTo>
                      <a:pt x="0" y="468"/>
                    </a:lnTo>
                    <a:lnTo>
                      <a:pt x="60" y="481"/>
                    </a:lnTo>
                    <a:lnTo>
                      <a:pt x="120" y="481"/>
                    </a:lnTo>
                    <a:lnTo>
                      <a:pt x="144" y="481"/>
                    </a:lnTo>
                    <a:lnTo>
                      <a:pt x="204" y="481"/>
                    </a:lnTo>
                    <a:lnTo>
                      <a:pt x="264" y="481"/>
                    </a:lnTo>
                    <a:lnTo>
                      <a:pt x="324" y="481"/>
                    </a:lnTo>
                    <a:lnTo>
                      <a:pt x="324" y="12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167600" y="2287800"/>
                <a:ext cx="206640" cy="304920"/>
              </a:xfrm>
              <a:custGeom>
                <a:avLst/>
                <a:gdLst/>
                <a:ahLst/>
                <a:rect l="l" t="t" r="r" b="b"/>
                <a:pathLst>
                  <a:path w="324" h="481">
                    <a:moveTo>
                      <a:pt x="324" y="12"/>
                    </a:moveTo>
                    <a:lnTo>
                      <a:pt x="264" y="12"/>
                    </a:lnTo>
                    <a:lnTo>
                      <a:pt x="204" y="12"/>
                    </a:lnTo>
                    <a:lnTo>
                      <a:pt x="144" y="12"/>
                    </a:lnTo>
                    <a:lnTo>
                      <a:pt x="120" y="12"/>
                    </a:lnTo>
                    <a:lnTo>
                      <a:pt x="60" y="12"/>
                    </a:lnTo>
                    <a:lnTo>
                      <a:pt x="0" y="0"/>
                    </a:lnTo>
                    <a:lnTo>
                      <a:pt x="0" y="468"/>
                    </a:lnTo>
                    <a:lnTo>
                      <a:pt x="60" y="481"/>
                    </a:lnTo>
                    <a:lnTo>
                      <a:pt x="120" y="481"/>
                    </a:lnTo>
                    <a:lnTo>
                      <a:pt x="144" y="481"/>
                    </a:lnTo>
                    <a:lnTo>
                      <a:pt x="204" y="481"/>
                    </a:lnTo>
                    <a:lnTo>
                      <a:pt x="264" y="481"/>
                    </a:lnTo>
                    <a:lnTo>
                      <a:pt x="324" y="481"/>
                    </a:lnTo>
                    <a:lnTo>
                      <a:pt x="3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73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167600" y="2287800"/>
                <a:ext cx="214200" cy="31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4" name=""/>
            <p:cNvSpPr/>
            <p:nvPr/>
          </p:nvSpPr>
          <p:spPr>
            <a:xfrm>
              <a:off x="7167600" y="2287800"/>
              <a:ext cx="206280" cy="304560"/>
            </a:xfrm>
            <a:custGeom>
              <a:avLst/>
              <a:gdLst/>
              <a:ahLst/>
              <a:rect l="l" t="t" r="r" b="b"/>
              <a:pathLst>
                <a:path w="324" h="481">
                  <a:moveTo>
                    <a:pt x="324" y="12"/>
                  </a:moveTo>
                  <a:lnTo>
                    <a:pt x="264" y="12"/>
                  </a:lnTo>
                  <a:lnTo>
                    <a:pt x="204" y="12"/>
                  </a:lnTo>
                  <a:lnTo>
                    <a:pt x="144" y="12"/>
                  </a:lnTo>
                  <a:lnTo>
                    <a:pt x="120" y="12"/>
                  </a:lnTo>
                  <a:lnTo>
                    <a:pt x="60" y="12"/>
                  </a:lnTo>
                  <a:lnTo>
                    <a:pt x="0" y="0"/>
                  </a:lnTo>
                  <a:lnTo>
                    <a:pt x="0" y="468"/>
                  </a:lnTo>
                  <a:lnTo>
                    <a:pt x="60" y="481"/>
                  </a:lnTo>
                  <a:lnTo>
                    <a:pt x="120" y="481"/>
                  </a:lnTo>
                  <a:lnTo>
                    <a:pt x="144" y="481"/>
                  </a:lnTo>
                  <a:lnTo>
                    <a:pt x="204" y="481"/>
                  </a:lnTo>
                  <a:lnTo>
                    <a:pt x="264" y="481"/>
                  </a:lnTo>
                  <a:lnTo>
                    <a:pt x="324" y="481"/>
                  </a:lnTo>
                  <a:lnTo>
                    <a:pt x="324" y="12"/>
                  </a:lnTo>
                  <a:close/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75" name=""/>
            <p:cNvGrpSpPr/>
            <p:nvPr/>
          </p:nvGrpSpPr>
          <p:grpSpPr>
            <a:xfrm>
              <a:off x="7167600" y="2021040"/>
              <a:ext cx="214200" cy="282600"/>
              <a:chOff x="7167600" y="2021040"/>
              <a:chExt cx="214200" cy="282600"/>
            </a:xfrm>
          </p:grpSpPr>
          <p:pic>
            <p:nvPicPr>
              <p:cNvPr id="127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167600" y="2021040"/>
                <a:ext cx="214200" cy="2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"/>
              <p:cNvSpPr/>
              <p:nvPr/>
            </p:nvSpPr>
            <p:spPr>
              <a:xfrm>
                <a:off x="7167600" y="2021040"/>
                <a:ext cx="206640" cy="275040"/>
              </a:xfrm>
              <a:custGeom>
                <a:avLst/>
                <a:gdLst/>
                <a:ahLst/>
                <a:rect l="l" t="t" r="r" b="b"/>
                <a:pathLst>
                  <a:path w="324" h="432">
                    <a:moveTo>
                      <a:pt x="324" y="432"/>
                    </a:moveTo>
                    <a:lnTo>
                      <a:pt x="264" y="432"/>
                    </a:lnTo>
                    <a:lnTo>
                      <a:pt x="204" y="432"/>
                    </a:lnTo>
                    <a:lnTo>
                      <a:pt x="144" y="432"/>
                    </a:lnTo>
                    <a:lnTo>
                      <a:pt x="120" y="432"/>
                    </a:lnTo>
                    <a:lnTo>
                      <a:pt x="60" y="432"/>
                    </a:lnTo>
                    <a:lnTo>
                      <a:pt x="0" y="420"/>
                    </a:lnTo>
                    <a:lnTo>
                      <a:pt x="204" y="0"/>
                    </a:lnTo>
                    <a:lnTo>
                      <a:pt x="324" y="432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167600" y="2021040"/>
                <a:ext cx="206640" cy="275040"/>
              </a:xfrm>
              <a:custGeom>
                <a:avLst/>
                <a:gdLst/>
                <a:ahLst/>
                <a:rect l="l" t="t" r="r" b="b"/>
                <a:pathLst>
                  <a:path w="324" h="432">
                    <a:moveTo>
                      <a:pt x="324" y="432"/>
                    </a:moveTo>
                    <a:lnTo>
                      <a:pt x="264" y="432"/>
                    </a:lnTo>
                    <a:lnTo>
                      <a:pt x="204" y="432"/>
                    </a:lnTo>
                    <a:lnTo>
                      <a:pt x="144" y="432"/>
                    </a:lnTo>
                    <a:lnTo>
                      <a:pt x="120" y="432"/>
                    </a:lnTo>
                    <a:lnTo>
                      <a:pt x="60" y="432"/>
                    </a:lnTo>
                    <a:lnTo>
                      <a:pt x="0" y="420"/>
                    </a:lnTo>
                    <a:lnTo>
                      <a:pt x="204" y="0"/>
                    </a:lnTo>
                    <a:lnTo>
                      <a:pt x="324" y="4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7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7600" y="2021040"/>
                <a:ext cx="214200" cy="282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0" name=""/>
            <p:cNvSpPr/>
            <p:nvPr/>
          </p:nvSpPr>
          <p:spPr>
            <a:xfrm>
              <a:off x="7167600" y="2021040"/>
              <a:ext cx="206280" cy="274680"/>
            </a:xfrm>
            <a:custGeom>
              <a:avLst/>
              <a:gdLst/>
              <a:ahLst/>
              <a:rect l="l" t="t" r="r" b="b"/>
              <a:pathLst>
                <a:path w="324" h="432">
                  <a:moveTo>
                    <a:pt x="324" y="432"/>
                  </a:moveTo>
                  <a:lnTo>
                    <a:pt x="264" y="432"/>
                  </a:lnTo>
                  <a:lnTo>
                    <a:pt x="204" y="432"/>
                  </a:lnTo>
                  <a:lnTo>
                    <a:pt x="144" y="432"/>
                  </a:lnTo>
                  <a:lnTo>
                    <a:pt x="120" y="432"/>
                  </a:lnTo>
                  <a:lnTo>
                    <a:pt x="60" y="432"/>
                  </a:lnTo>
                  <a:lnTo>
                    <a:pt x="0" y="420"/>
                  </a:lnTo>
                  <a:lnTo>
                    <a:pt x="204" y="0"/>
                  </a:lnTo>
                  <a:lnTo>
                    <a:pt x="324" y="432"/>
                  </a:lnTo>
                  <a:close/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933960" y="2570040"/>
              <a:ext cx="320760" cy="2746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36"/>
                  </a:moveTo>
                  <a:lnTo>
                    <a:pt x="8" y="36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91360" y="1501920"/>
              <a:ext cx="79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Другое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19 %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319800" y="278280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Древесина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3 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15760" y="2782800"/>
              <a:ext cx="3985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Резина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и кожа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2 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97520" y="2828880"/>
              <a:ext cx="54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Текстиль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5 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398440" y="2722680"/>
              <a:ext cx="50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Пластик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5 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453160" y="203688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Стекло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6 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377200" y="2448000"/>
              <a:ext cx="5446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ffffff"/>
                  </a:solidFill>
                  <a:latin typeface="Times New Roman"/>
                </a:rPr>
                <a:t>Металлы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Times New Roman"/>
                </a:rPr>
                <a:t>3 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89640" y="1447920"/>
              <a:ext cx="965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Бумага и картон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28 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15000" y="241632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Пищевые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 отходы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29 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7390800" y="2600280"/>
              <a:ext cx="41400" cy="18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5791320" y="762120"/>
            <a:ext cx="312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Times New Roman"/>
              </a:rPr>
              <a:t>Структура муницпальных</a:t>
            </a:r>
            <a:br>
              <a:rPr sz="1800"/>
            </a:b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Times New Roman"/>
              </a:rPr>
              <a:t>твердых отходов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990720" y="762120"/>
            <a:ext cx="41814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Современные технологии</a:t>
            </a:r>
            <a:r>
              <a:rPr b="1" i="1" lang="en-US" sz="1800" spc="-1" strike="noStrike" u="sng">
                <a:solidFill>
                  <a:srgbClr val="eaeaea"/>
                </a:solidFill>
                <a:uFillTx/>
                <a:latin typeface="Times New Roman"/>
              </a:rPr>
              <a:t> управления</a:t>
            </a:r>
            <a:br>
              <a:rPr sz="1800"/>
            </a:br>
            <a:r>
              <a:rPr b="1" i="1" lang="en-US" sz="1800" spc="-1" strike="noStrike" u="sng">
                <a:solidFill>
                  <a:srgbClr val="eaeaea"/>
                </a:solidFill>
                <a:uFillTx/>
                <a:latin typeface="Times New Roman"/>
              </a:rPr>
              <a:t>твердыми муниципальными отходам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1143000" y="1676520"/>
            <a:ext cx="1143000" cy="837720"/>
            <a:chOff x="1143000" y="1676520"/>
            <a:chExt cx="1143000" cy="837720"/>
          </a:xfrm>
        </p:grpSpPr>
        <p:pic>
          <p:nvPicPr>
            <p:cNvPr id="1295" name="tip_3b" descr=""/>
            <p:cNvPicPr/>
            <p:nvPr/>
          </p:nvPicPr>
          <p:blipFill>
            <a:blip r:embed="rId23"/>
            <a:stretch/>
          </p:blipFill>
          <p:spPr>
            <a:xfrm>
              <a:off x="1143000" y="1676520"/>
              <a:ext cx="1143000" cy="79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6" name=""/>
            <p:cNvGrpSpPr/>
            <p:nvPr/>
          </p:nvGrpSpPr>
          <p:grpSpPr>
            <a:xfrm>
              <a:off x="1371600" y="1981080"/>
              <a:ext cx="532800" cy="533160"/>
              <a:chOff x="1371600" y="1981080"/>
              <a:chExt cx="532800" cy="533160"/>
            </a:xfrm>
          </p:grpSpPr>
          <p:pic>
            <p:nvPicPr>
              <p:cNvPr id="1297" name="c2" descr=""/>
              <p:cNvPicPr/>
              <p:nvPr/>
            </p:nvPicPr>
            <p:blipFill>
              <a:blip r:embed="rId24"/>
              <a:stretch/>
            </p:blipFill>
            <p:spPr>
              <a:xfrm>
                <a:off x="1371600" y="1981080"/>
                <a:ext cx="35640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8" name="c2" descr=""/>
              <p:cNvPicPr/>
              <p:nvPr/>
            </p:nvPicPr>
            <p:blipFill>
              <a:blip r:embed="rId25"/>
              <a:stretch/>
            </p:blipFill>
            <p:spPr>
              <a:xfrm>
                <a:off x="1459800" y="2061720"/>
                <a:ext cx="35640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9" name="c2" descr=""/>
              <p:cNvPicPr/>
              <p:nvPr/>
            </p:nvPicPr>
            <p:blipFill>
              <a:blip r:embed="rId26"/>
              <a:stretch/>
            </p:blipFill>
            <p:spPr>
              <a:xfrm>
                <a:off x="1548360" y="2143080"/>
                <a:ext cx="356040" cy="371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00" name=""/>
          <p:cNvSpPr/>
          <p:nvPr/>
        </p:nvSpPr>
        <p:spPr>
          <a:xfrm>
            <a:off x="990720" y="2514600"/>
            <a:ext cx="1828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Сбор отходов (в т.ч. селективный)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1" name="mc91" descr="фото МС-91"/>
          <p:cNvPicPr/>
          <p:nvPr/>
        </p:nvPicPr>
        <p:blipFill>
          <a:blip r:embed="rId27"/>
          <a:stretch/>
        </p:blipFill>
        <p:spPr>
          <a:xfrm>
            <a:off x="3048120" y="1371600"/>
            <a:ext cx="1828800" cy="1163520"/>
          </a:xfrm>
          <a:prstGeom prst="rect">
            <a:avLst/>
          </a:prstGeom>
          <a:ln w="0">
            <a:noFill/>
          </a:ln>
        </p:spPr>
      </p:pic>
      <p:sp>
        <p:nvSpPr>
          <p:cNvPr id="1302" name=""/>
          <p:cNvSpPr/>
          <p:nvPr/>
        </p:nvSpPr>
        <p:spPr>
          <a:xfrm>
            <a:off x="2438280" y="1905120"/>
            <a:ext cx="533520" cy="304560"/>
          </a:xfrm>
          <a:prstGeom prst="rightArrow">
            <a:avLst>
              <a:gd name="adj1" fmla="val 37500"/>
              <a:gd name="adj2" fmla="val 41191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276720" y="2514600"/>
            <a:ext cx="144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Вывоз отход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мусоровозам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04" name=""/>
          <p:cNvGrpSpPr/>
          <p:nvPr/>
        </p:nvGrpSpPr>
        <p:grpSpPr>
          <a:xfrm>
            <a:off x="1932120" y="2247840"/>
            <a:ext cx="3294000" cy="1055880"/>
            <a:chOff x="1932120" y="2247840"/>
            <a:chExt cx="3294000" cy="1055880"/>
          </a:xfrm>
        </p:grpSpPr>
        <p:sp>
          <p:nvSpPr>
            <p:cNvPr id="1305" name=""/>
            <p:cNvSpPr/>
            <p:nvPr/>
          </p:nvSpPr>
          <p:spPr>
            <a:xfrm rot="5400000">
              <a:off x="1936440" y="3003480"/>
              <a:ext cx="295560" cy="304560"/>
            </a:xfrm>
            <a:prstGeom prst="rightArrow">
              <a:avLst>
                <a:gd name="adj1" fmla="val 36463"/>
                <a:gd name="adj2" fmla="val 39787"/>
              </a:avLst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031840" y="3008160"/>
              <a:ext cx="3184560" cy="1144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2200" y="2247840"/>
              <a:ext cx="219240" cy="120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5400000">
              <a:off x="4753800" y="2640600"/>
              <a:ext cx="842760" cy="101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09" name="msk2" descr=""/>
          <p:cNvPicPr/>
          <p:nvPr/>
        </p:nvPicPr>
        <p:blipFill>
          <a:blip r:embed="rId28">
            <a:lum bright="12000"/>
          </a:blip>
          <a:srcRect l="0" t="0" r="1163" b="3407"/>
          <a:stretch/>
        </p:blipFill>
        <p:spPr>
          <a:xfrm>
            <a:off x="1052640" y="3341520"/>
            <a:ext cx="2133360" cy="143064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/>
          <p:nvPr/>
        </p:nvSpPr>
        <p:spPr>
          <a:xfrm>
            <a:off x="3276720" y="3200400"/>
            <a:ext cx="19047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Мусоросортировоч-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ные клмплексы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1" name="newpr03" descr="Подающий конвейер линии сортировки"/>
          <p:cNvPicPr/>
          <p:nvPr/>
        </p:nvPicPr>
        <p:blipFill>
          <a:blip r:embed="rId29"/>
          <a:stretch/>
        </p:blipFill>
        <p:spPr>
          <a:xfrm>
            <a:off x="3733920" y="3719520"/>
            <a:ext cx="1218960" cy="852480"/>
          </a:xfrm>
          <a:prstGeom prst="rect">
            <a:avLst/>
          </a:prstGeom>
          <a:ln w="0">
            <a:noFill/>
          </a:ln>
        </p:spPr>
      </p:pic>
      <p:pic>
        <p:nvPicPr>
          <p:cNvPr id="1312" name="newpr04" descr="Пакетировочный  пресс  испанской фирмы  &quot;ИМАБЕ   ИБЕРИКА&quot;, H-50/1000"/>
          <p:cNvPicPr/>
          <p:nvPr/>
        </p:nvPicPr>
        <p:blipFill>
          <a:blip r:embed="rId30"/>
          <a:stretch/>
        </p:blipFill>
        <p:spPr>
          <a:xfrm>
            <a:off x="3657600" y="4853160"/>
            <a:ext cx="1371600" cy="938160"/>
          </a:xfrm>
          <a:prstGeom prst="rect">
            <a:avLst/>
          </a:prstGeom>
          <a:ln w="0">
            <a:noFill/>
          </a:ln>
        </p:spPr>
      </p:pic>
      <p:sp>
        <p:nvSpPr>
          <p:cNvPr id="1313" name=""/>
          <p:cNvSpPr/>
          <p:nvPr/>
        </p:nvSpPr>
        <p:spPr>
          <a:xfrm>
            <a:off x="3276720" y="3871800"/>
            <a:ext cx="380880" cy="304920"/>
          </a:xfrm>
          <a:prstGeom prst="rightArrow">
            <a:avLst>
              <a:gd name="adj1" fmla="val 31250"/>
              <a:gd name="adj2" fmla="val 39035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5400000">
            <a:off x="4228920" y="4533840"/>
            <a:ext cx="304920" cy="380880"/>
          </a:xfrm>
          <a:prstGeom prst="rightArrow">
            <a:avLst>
              <a:gd name="adj1" fmla="val 31250"/>
              <a:gd name="adj2" fmla="val 3125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990720" y="4800600"/>
            <a:ext cx="228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звешивание отходов и их выгрузка из мусоро-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озов в приемном боксе на полотно движужуще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ся транспортер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Сепарация отходов ба- рабанным грохотом и сортировка вторичного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сыряья на движущемся конвейере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429000" y="5848200"/>
            <a:ext cx="167652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Прессовани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и брикетирование отсортирован-ных отходов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952880" y="6095880"/>
            <a:ext cx="838440" cy="304920"/>
          </a:xfrm>
          <a:prstGeom prst="rightArrow">
            <a:avLst>
              <a:gd name="adj1" fmla="val 37500"/>
              <a:gd name="adj2" fmla="val 64656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8905400">
            <a:off x="5333760" y="3885840"/>
            <a:ext cx="1066680" cy="304920"/>
          </a:xfrm>
          <a:prstGeom prst="rightArrow">
            <a:avLst>
              <a:gd name="adj1" fmla="val 37500"/>
              <a:gd name="adj2" fmla="val 82257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943600" y="6130800"/>
            <a:ext cx="28195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Захоронение на полигоне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стемн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ая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укладк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на полигоне и укрытие слоем земли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4952880" y="1752480"/>
            <a:ext cx="895680" cy="3007800"/>
            <a:chOff x="4952880" y="1752480"/>
            <a:chExt cx="895680" cy="3007800"/>
          </a:xfrm>
        </p:grpSpPr>
        <p:sp>
          <p:nvSpPr>
            <p:cNvPr id="1321" name=""/>
            <p:cNvSpPr/>
            <p:nvPr/>
          </p:nvSpPr>
          <p:spPr>
            <a:xfrm>
              <a:off x="4952880" y="1752480"/>
              <a:ext cx="484200" cy="117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410080" y="1752480"/>
              <a:ext cx="109800" cy="2743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699200">
              <a:off x="5417640" y="4383000"/>
              <a:ext cx="381240" cy="304920"/>
            </a:xfrm>
            <a:prstGeom prst="rightArrow">
              <a:avLst>
                <a:gd name="adj1" fmla="val 37426"/>
                <a:gd name="adj2" fmla="val 52049"/>
              </a:avLst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5867280" y="4343400"/>
            <a:ext cx="312444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Выработка товарной теплово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энергии для систем централизо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ванного теплоснабжения путем плазменного сжигания в мусоро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сжигающих цехах системы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рай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нных тепловых станц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(проект Института теплофизик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О РАН) 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rot="18905400">
            <a:off x="4876560" y="5409720"/>
            <a:ext cx="1066680" cy="304920"/>
          </a:xfrm>
          <a:prstGeom prst="rightArrow">
            <a:avLst>
              <a:gd name="adj1" fmla="val 37500"/>
              <a:gd name="adj2" fmla="val 82257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324480" y="3462480"/>
            <a:ext cx="25146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aeaea"/>
                </a:solidFill>
                <a:latin typeface="Times New Roman"/>
              </a:rPr>
              <a:t>Каталитическое сжигание отход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( 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проект Института катализа</a:t>
            </a:r>
            <a:br>
              <a:rPr sz="1400"/>
            </a:b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СО РАН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Schema" descr="Schema.gif (154778 bytes)"/>
          <p:cNvPicPr/>
          <p:nvPr/>
        </p:nvPicPr>
        <p:blipFill>
          <a:blip r:embed="rId1"/>
          <a:srcRect l="0" t="0" r="1052" b="0"/>
          <a:stretch/>
        </p:blipFill>
        <p:spPr>
          <a:xfrm>
            <a:off x="152280" y="457200"/>
            <a:ext cx="7010640" cy="3719520"/>
          </a:xfrm>
          <a:prstGeom prst="rect">
            <a:avLst/>
          </a:prstGeom>
          <a:ln w="0">
            <a:noFill/>
          </a:ln>
        </p:spPr>
      </p:pic>
      <p:grpSp>
        <p:nvGrpSpPr>
          <p:cNvPr id="1328" name=""/>
          <p:cNvGrpSpPr/>
          <p:nvPr/>
        </p:nvGrpSpPr>
        <p:grpSpPr>
          <a:xfrm>
            <a:off x="4267080" y="3124080"/>
            <a:ext cx="4876920" cy="3690360"/>
            <a:chOff x="4267080" y="3124080"/>
            <a:chExt cx="4876920" cy="3690360"/>
          </a:xfrm>
        </p:grpSpPr>
        <p:pic>
          <p:nvPicPr>
            <p:cNvPr id="1329" name="Basin_Shema" descr="Basin_Shema.GIF (128981 bytes)"/>
            <p:cNvPicPr/>
            <p:nvPr/>
          </p:nvPicPr>
          <p:blipFill>
            <a:blip r:embed="rId2"/>
            <a:srcRect l="0" t="0" r="0" b="7268"/>
            <a:stretch/>
          </p:blipFill>
          <p:spPr>
            <a:xfrm>
              <a:off x="4267080" y="3124080"/>
              <a:ext cx="4876920" cy="33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4267080" y="6477120"/>
              <a:ext cx="487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imes New Roman"/>
                </a:rPr>
                <a:t>Принципиальная схема КРТС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76320" y="0"/>
            <a:ext cx="899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Комплексные районные тепловые станции (КРТС) сжигания отходов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15200" y="609480"/>
            <a:ext cx="17524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Проект разрабо-тан Институто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Теплофизики СО РАН, Научно-про-изводственной фирмой «Техэнер-гохимпром» и Но-восибирским про-ектно-изыскатель-ским институтом ВНИПИ энергети-ческой технологи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96920" y="4213080"/>
            <a:ext cx="407016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РТС является теплоутилизационным предприятием. Его главной продукцией яв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яется тепловая энергия, получаемая при сжигании муниципальных отходов.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КРТС состоит из трех главных цехов: мусоросжигательного цеха, в котором сжи-гаются отходы и мусор, котельной с испо-льзование обычного топлива (угля, мазута, газа), теплосетевого цеха, где нагревается теплоноситель системы теплоснабжения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Изготовление оборудование для КРТС намечено на новосибирских заводах: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Электротерм», «Промстальконструкция», «Тяжстанкогидропресс» и др.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00068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Проект Института катализа СО РАН по сжиганию твердых отходов</a:t>
            </a:r>
            <a:endParaRPr b="0" lang="en-US" sz="22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1676520" y="1828800"/>
            <a:ext cx="7238880" cy="4952880"/>
            <a:chOff x="1676520" y="1828800"/>
            <a:chExt cx="7238880" cy="4952880"/>
          </a:xfrm>
        </p:grpSpPr>
        <p:sp>
          <p:nvSpPr>
            <p:cNvPr id="1337" name=""/>
            <p:cNvSpPr/>
            <p:nvPr/>
          </p:nvSpPr>
          <p:spPr>
            <a:xfrm>
              <a:off x="1676520" y="1828800"/>
              <a:ext cx="7238880" cy="49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338" name="схема-ТО" descr=""/>
            <p:cNvPicPr/>
            <p:nvPr/>
          </p:nvPicPr>
          <p:blipFill>
            <a:blip r:embed="rId1"/>
            <a:stretch/>
          </p:blipFill>
          <p:spPr>
            <a:xfrm>
              <a:off x="1905120" y="1981080"/>
              <a:ext cx="6922800" cy="46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9" name=""/>
          <p:cNvSpPr/>
          <p:nvPr/>
        </p:nvSpPr>
        <p:spPr>
          <a:xfrm>
            <a:off x="0" y="53352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хнология сжигания основана на применении организованного псевдоожиженного слоя кат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изатор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Отходы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осле механического обезвоживания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в центрифугах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о влажности 70-80% шнековым дозатором подаются непосредственно в псевдоожиженный слой катализатора, где при температуре 650÷750</a:t>
            </a:r>
            <a:r>
              <a:rPr b="1" lang="ru-RU" sz="16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о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 происходит сушка и сжигание отходов. Зольные остатки выносятся из слоя в режиме пневмотранспорта и улавливаются в циклонах и мокром скруббере, а затем вывозятся на складирование или после остекловывания утилизируются в качестве наполните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я асфальта и бетона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-461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-4680" y="2652840"/>
            <a:ext cx="9153360" cy="1523880"/>
            <a:chOff x="-4680" y="2652840"/>
            <a:chExt cx="9153360" cy="1523880"/>
          </a:xfrm>
        </p:grpSpPr>
        <p:sp>
          <p:nvSpPr>
            <p:cNvPr id="1342" name=""/>
            <p:cNvSpPr/>
            <p:nvPr/>
          </p:nvSpPr>
          <p:spPr>
            <a:xfrm>
              <a:off x="-4680" y="2652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-4680" y="2652840"/>
              <a:ext cx="915336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ru-RU" sz="94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ru-RU" sz="10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44" name="institut_kataliz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1413000" cy="2286000"/>
          </a:xfrm>
          <a:prstGeom prst="rect">
            <a:avLst/>
          </a:prstGeom>
          <a:ln w="0">
            <a:noFill/>
          </a:ln>
        </p:spPr>
      </p:pic>
      <p:pic>
        <p:nvPicPr>
          <p:cNvPr id="1345" name="ik_banner" descr=""/>
          <p:cNvPicPr/>
          <p:nvPr/>
        </p:nvPicPr>
        <p:blipFill>
          <a:blip r:embed="rId3"/>
          <a:stretch/>
        </p:blipFill>
        <p:spPr>
          <a:xfrm>
            <a:off x="228600" y="2286000"/>
            <a:ext cx="1282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Потребности в оборудовании для технического перевооружения системы управления муниципальными отходами (кол-во единиц, стоимость в млн.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руб.)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152280" y="636480"/>
          <a:ext cx="8839440" cy="5827680"/>
        </p:xfrm>
        <a:graphic>
          <a:graphicData uri="http://schemas.openxmlformats.org/drawingml/2006/table">
            <a:tbl>
              <a:tblPr/>
              <a:tblGrid>
                <a:gridCol w="4724640"/>
                <a:gridCol w="457200"/>
                <a:gridCol w="533160"/>
                <a:gridCol w="457200"/>
                <a:gridCol w="533520"/>
                <a:gridCol w="533520"/>
                <a:gridCol w="533160"/>
                <a:gridCol w="506520"/>
                <a:gridCol w="56052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Виды оборудования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÷200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÷20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÷20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÷20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оим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оим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оим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оим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Контейнерные площадки для  сбора 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вердых бытовых отходов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195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11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198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37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202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7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2080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,15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Контейнеры для сбора 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муниципальных отходов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35 - 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,75 м</a:t>
                      </a:r>
                      <a:r>
                        <a:rPr b="1" lang="en-US" sz="12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780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,2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9300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55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,6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10500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3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6,3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12000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0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4,7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нкер – накопитель для крупно­габаритного мусора– 2 м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500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,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640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,6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790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3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850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,8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усороперегрузочные контейнеры с гидроподпрессовко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ьшой и средней  емкости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15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1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27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16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40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24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50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34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усоровозы с объемом кузова 22,5 м</a:t>
                      </a:r>
                      <a:r>
                        <a:rPr b="1" lang="en-US" sz="12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40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,4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4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,1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42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,1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45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3,1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усоровозы с объемом кузова 7,5 м</a:t>
                      </a:r>
                      <a:r>
                        <a:rPr b="1" lang="en-US" sz="12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23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,4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24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,4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25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8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25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,3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Комплекты спецоборудования для мусоровозов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1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2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8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27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,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35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,6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Станция приемки ТБО, в т.ч. два комплекта электронных весов для взвешивания мусоровозов в стати­ке или в движении, ком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пьютерный терминал, автоматические системы видеорегистра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ии, идентификации и управления движением маши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4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1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4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,3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5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,2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6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,8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ехнологическая линия сортировки ТБО, включая металличе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-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кий транспортер с питателем для подачи мусора, вращающийся грохот, магнитный сепаратор, столы ручной сортировки, бункеры для фракций, прессовое оборудование. и др.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8,1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4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6,9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5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5,3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6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9,6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Оборудование для пристраиваемых к районным котельным сжигательных цехов по технологии сжигания отходов во вращаю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щихся барабанных печах с дополнением ее технологией получе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ия шлаков в остеклованном виде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13,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3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30,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5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10,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7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75,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Передвижная пилотная установк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каталитического сжигания влажных остатков городских очистных сооружений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49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2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67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2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  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21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пытно-промышленная установка каталитического сжигания влажных остатков городского коммунального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озяйства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ощно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тью до 1,5 тонн/час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7,4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1,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4,7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1447920"/>
            <a:ext cx="838188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ХЕМА РАЗРАБОТКИ КОМПЛЕКСНОЙ ЦЕЛЕВОЙ ПРОГРАММЫ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1623960"/>
            <a:ext cx="80773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АШИНЫ И ОБОРУДОВАНИЕ ДЛЯ СБОРА, ВЫВОЗА, ПЕРЕРАБОТКИ И УТИЛИЗАЦИИ ТВЕРДЫХ ОТХОДОВ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85800" y="635040"/>
            <a:ext cx="8458200" cy="68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ые предложения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1. Предлагается в качестве ключевых направлений (не только данного раздела, но и всей программы) избрать два основных наиболее проработанных с научной, технологической, экологической и экономической позиций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 проект Института теплофизики СО РАН  по созданию комплексных районных теп-ловых станций, обеспечивающий утилизацию в тепло  твердых бытовых отходов (ТБО)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 проект Института катализа СО РАН по каталитическому сжиганию твердых отходов, который наиболее выгодно использовать для сжигания ила, накапливающегося в системе водоотведения город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Оба проекта являются энергосберегающими, работают на возобновляемых ресурсах, обе-спечивают экологическую и тепловую безопасность населения.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При реализации этих проектов они могут стать важнейшей конкурентоспособной про-дукцией промышленности город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2. Поручить МП «Спецавтохозяйство» организовать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 детальную  разработку и представить на экспертизу проект и бизнес-план создания мусоросортировочных комплексов, предусматривающих учет доставляемых ТБО и из-влечение полезного вторсырья, в т.ч. стекла (его готов приобретать з-д «Экран»), метал-лических предметов, полиэтиленовых бутылок и т.п.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 перспективный проект утилизации отслужившей свой срок бытовой техники (холо-дильников, компьютеров, телевихоров), а также автомобил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4. В рамках формирования муниципального заказа объявить конкурс на разработку и организацию производства современных контейнеров для сбора ТБО, в том числе и для раздельного сбора отходов разного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тип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5. Предлагается учитывать при принятии решений по управлению ТБО стремление ряда фирм (прежде всего, зарубежных) правдами и неправдами сбыть муниципалитетам экологически опасные мусоросжигающие заводы одностадийного сжигания, когда окисли-телем является воздух. Эти за-воды являются источниками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одисперсной пыл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ок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д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ов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ы и азота, фуран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ов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иоксин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ов, пагубным образом отражающихся на здоровье горожан. Здесь необходима стражайшая научная и общественная экспертиза.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Предложения в связи с ожидаемыми изменениями в структуре отходов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990720" y="1143000"/>
            <a:ext cx="815328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 течение ближайших 15-20 лет резко обострятся проблемы утилизации старых автомобилей, автомобильных покрышек, холодильников, стиральных машин, электронной аппаратуры (прежде всего, компьютеров, телевизионных приемников и сотовых телефонов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 этой связи в программе предлагается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начать разработку технологий утилизации отслуживших автомобилей отработав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шей бытовой техники (в зависимости от конструкции, материалов компонентов,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наличия цветных и драгоценных металлов и т.п.)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разработать с учетом специфики Новосибирска схемы сбора отработавшей техники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разработать технологию утилизации холодильников и защиты воздуха от загряз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нения, вызываемого озоноразрушаюшими хладаагентами;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подготовить технические задания и разместить заказы на разработку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 установок переработки автомобильных покрышек для получения металличе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ского и текстильного корда, резиновой крошки или порошка, других изделий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 установок для извлечения драгоценных и цветных металлов при переработке электронного лома;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 установок переработки электронного и кабельного скрапа с целью получения металлической крошки, поставляемой на рафинировочные заводы и неметаллических отходов для укрепления бетонных смесей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 технологии и оборудования для утилизации сложного металлолома от автомо-билей и бытовой техники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 оборудования по переработке пластмассовых деталей бытовой техник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предусмотреть решение правовых вопросов (в частности ответственность за утил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зацию отработавшей техники ее владельцев и заводов-изготови-телей).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АШИНЫ И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БОРУДОВАНИЕ ДЛЯ ОЗЕЛ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ИТЕЛЬНЫХ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 ЛЕСОПАРКОВЫХ РАБОТ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53" name=""/>
          <p:cNvGraphicFramePr/>
          <p:nvPr/>
        </p:nvGraphicFramePr>
        <p:xfrm>
          <a:off x="990720" y="1371600"/>
          <a:ext cx="2465280" cy="18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24652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5" name=""/>
          <p:cNvGraphicFramePr/>
          <p:nvPr/>
        </p:nvGraphicFramePr>
        <p:xfrm>
          <a:off x="7010280" y="3460680"/>
          <a:ext cx="2133720" cy="15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460680"/>
                    <a:ext cx="213372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7" name=""/>
          <p:cNvSpPr/>
          <p:nvPr/>
        </p:nvSpPr>
        <p:spPr>
          <a:xfrm>
            <a:off x="762120" y="3276720"/>
            <a:ext cx="6248160" cy="18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работах по озеленению города значительную часть занимает закладка газон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ов и уход за ними. Для этого применяются: газонные решетки, различные газонокосилки (с бензиновыми и электрическими двигателями), мотокосы, кусторезы, устройст-ва для сгребания и уборки скошенной травы, измельчители стеб-лей, поливальные устройства и т.п. Эта техника используется в больших масштабах по сравнению с лесопарковой, ею должны ос-нащаться и дворники. Кроме того, она относительно недолговеч-на и отличается слабой ремонтопригодностью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505320" y="1295280"/>
            <a:ext cx="563868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Для озеленительных работ в городе используется: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99"/>
              </a:spcAft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л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сопарковое, лесохозяйственное, питомническое обору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ование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 (лесопосадочные машины, ямобуры, бензиновые и электрические пилы, измельчители ветвей, измельчители пней и т.п.)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99"/>
              </a:spcAft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оборудование для полива (дождевальные машины, гидро-манипуляторы и т.п.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Потребности в этой технике не превышают нескольки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единиц оборудования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838080" y="5257800"/>
            <a:ext cx="82296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Лесопосадки в Новосибирске имеют ограниченную номенклатуру, причем не лучшую для условий города. Основную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роль в определении и предоставлении исходного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мате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иала для перспективных зеленых насаждений может сыграть Центральный Сибирс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ий ботани­ческий сад Сибирского отделения РАН. За 50 лет существования Ботани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ческого сада учеными накоплен солидный опыт по вы­ращиванию и культивиров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ию сибирской флоры. В настоящее время его живые коллекции насчитывают более 7 тыс. видов, сортов, гибридов и форм растений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МАШИНЫ 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БОРУДОВАНИЕ ДЛЯ ОЗЕЛЕНИТЕЛЬНЫХ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 ЛЕСОПАРКОВЫХ РАБОТ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066680" y="838080"/>
            <a:ext cx="784872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ое предложение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Включить в программу муниципальный заказ Центральному сибирскому ботаническому саду СО РАН на разработку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оптимальной  системы лесонасаждений  в  Новосибирске с указанием наиболее приемлемых для конкретных районов города видов  деревьев и других растений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рекомендаций по высаживанию растений при рекультивации нарушенных земель города, прежде всего, на задернованных полигонах захоронения твердых муниципальных отходов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подготовить издание каталога рекомендуемых для выращивания в условиях Новосибирска.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2" name="csbg-11" descr=""/>
          <p:cNvPicPr/>
          <p:nvPr/>
        </p:nvPicPr>
        <p:blipFill>
          <a:blip r:embed="rId1"/>
          <a:stretch/>
        </p:blipFill>
        <p:spPr>
          <a:xfrm>
            <a:off x="941400" y="3048120"/>
            <a:ext cx="8126280" cy="192564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>
            <a:off x="838080" y="5105520"/>
            <a:ext cx="830592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ругие предложения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 соответствие с экспертными оценками из всей широкой номенклатуры машин и обо-рудования для озеленительных и лесопарковых работ целесообразно  рекомендовать для освоения на предприятиях Новосибирска сенокосилки с бензиновым или электрическим двигателем, мотокосы,  бензиновые и электрические пилы, дождевальные стационар-ные установки. Они, по мнению экспертов, могут иметь достаточно хороший спрос. Для принятия решений необходимо составить соответствующие бизнес-планы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Другие виды техники рекомендуется приобретать у изготовителей в других местах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УДОВАНИЕ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ФФЕКТИВНОГО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ЕЩЕНИЯ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СКОЙ ТЕРРИТОРИ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65" name="rku16_zhku16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789600" y="34920"/>
            <a:ext cx="2362320" cy="1643040"/>
          </a:xfrm>
          <a:prstGeom prst="rect">
            <a:avLst/>
          </a:prstGeom>
          <a:ln w="0">
            <a:noFill/>
          </a:ln>
        </p:spPr>
      </p:pic>
      <p:sp>
        <p:nvSpPr>
          <p:cNvPr id="1366" name=""/>
          <p:cNvSpPr/>
          <p:nvPr/>
        </p:nvSpPr>
        <p:spPr>
          <a:xfrm>
            <a:off x="914400" y="1143000"/>
            <a:ext cx="800100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стоящее время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на балансе МУ «Горсвет»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ходятс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олее 28,3 тыс. светильников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выше 50 % из них (15,2 тыс.)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тутными лампами, более 35 %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10,4 тыс.) – с лампами накаливания и менее 10 % (2,7 тыс.) – с натриевыми.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Н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рмативные сроки службы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этих ламп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т 7 до 10 лет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Техническая политика мэрии в данном направлении направлена в основном на за-мену ртутных ламп и ламп накаливания на натриевые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Серьезными проблемами являются также  кабельное хозяйство и система управле-ния наружным освещением территории город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зким местом в конструкции светильников является отражатель, отражающая способность которого при эксплуатации снижается на 40% уже в течение первого го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а, что непосредственно уменьшает светоотдачу. В связи с использованием для н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ужного освещения улиц опор контактной сети троллейбусов увеличивается вибр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ионная нагрузка на светильник, что приводит к ослаблению крепления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ветильни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а на кронштейне и самопроизвольному вывертыванию ламп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200400" y="3867120"/>
            <a:ext cx="579132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Кардинальное решение проблемы освещения городской тер-ритории предлагают Институт теплофизики СО РАН и ОАО «НЭВЗ-СОЮЗ». Ими разработан принципиально новый вид светильника с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ндукционн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ой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ламп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ой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трансформаторного тип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лектронной пускорегулирующей аппаратурой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 Р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азр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отанная</a:t>
            </a:r>
            <a:r>
              <a:rPr b="1" lang="ru-RU" sz="13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ндукционная лампа превышает параметры элект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одных неоновых дуговых ламп почти в 2,5 раза, а по ресурсу – в 50 раз. Кроме того, индукционная лампа существенно ком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актнее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8" name="ris7_lampa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133720" cy="1265040"/>
          </a:xfrm>
          <a:prstGeom prst="rect">
            <a:avLst/>
          </a:prstGeom>
          <a:ln w="0">
            <a:noFill/>
          </a:ln>
        </p:spPr>
      </p:pic>
      <p:sp>
        <p:nvSpPr>
          <p:cNvPr id="1369" name=""/>
          <p:cNvSpPr/>
          <p:nvPr/>
        </p:nvSpPr>
        <p:spPr>
          <a:xfrm>
            <a:off x="762120" y="5486400"/>
            <a:ext cx="670536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 настоящее время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зработана неоновая дуговая индукционная лампа, которая можетт применяться в светильниках для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архитектур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ой подсветки зданий и сооружений, освещения парковых аллей, фон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анов, памятников и пр.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По светимости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зработанная индукционная лампа превышает параметры электродных неоновых дуговых ламп почти в 2,5 раза, а по ресурсу – в 50 раз. Кроме того, индукционная лам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а существенно компактнее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0" name="Неон_лампа1" descr=""/>
          <p:cNvPicPr/>
          <p:nvPr/>
        </p:nvPicPr>
        <p:blipFill>
          <a:blip r:embed="rId3"/>
          <a:stretch/>
        </p:blipFill>
        <p:spPr>
          <a:xfrm>
            <a:off x="7467480" y="5486400"/>
            <a:ext cx="16765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УДОВАНИ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ФФЕКТИВНОГО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ЕЩЕН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СКОЙ ТЕРРИТОРИИ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43000" y="1143000"/>
            <a:ext cx="777240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ые предложения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ключить в программу муниципальный заказ Институту теплофизики СО РАН  и ОАО «НЭВЗ-Союз» изготовление и полную замену светильников наружного освещения города на светильники с индукционными натриевыми лампам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2. Р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работать и внедрить в Новосибирске систему централизованного управления уличным освещением с использованием в качестве канала связи высокоскоростную помехоустойчивую цифровую радиосвязь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должна работать по введённому пользователем графику (отдельно ночной и вечерний режимы ) и обеспечивать включение и выключение освещения по команде диспетчера и в автоматическом режиме по программе без вмешательства оператора, в том числе по сигналам датчиков освещенности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еспечени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ьной и безопасной эксплуатации, реконс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ции и нового строительства сетей уличного освещени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роду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е-обходимо иметь не менее 28 надежных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втовыш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ек, которые в насто-ящее время в большом дефиците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990720" y="509580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хнология подготовки воды на всех насосно-фильтроваль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ых станциях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 Новосибирске ведется по по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классической с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хе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ме с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рименением реагентов, отстаиванияи фильтрации.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мес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те с тем, п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 качеству питьевой воды Новосибирск входит в пя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рку лучших городов страны, что безусловно является  заслугой МП «Горводок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л»,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де постоянно совершенствуется технологический процесс внедряются новые материалы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 технологии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ХНОЛОГИИ И ОБОРУДОВАНИЕ</a:t>
            </a: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СИСТЕМАХ ВОДОСНАБЖЕНИЯ И ВОДООТВЕДЕНИЯ</a:t>
            </a:r>
            <a:r>
              <a:rPr b="1" lang="en-US" sz="2600" spc="-1" strike="noStrike">
                <a:solidFill>
                  <a:srgbClr val="ebd18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914400" y="914400"/>
            <a:ext cx="8077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стемы водоснабжения и водоотведения Новосибирска являются крупнейшими в Сибири и Дальнего Востока. К началу нового столетия мощность хозяйственно-питье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ого водопровода города составила 900 тыс. м</a:t>
            </a:r>
            <a:r>
              <a:rPr b="1" lang="ru-RU" sz="16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сут. Протяженность водоводов, магист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льных и внутриквартальных сетей достигла 1340 км. Питьевой водой обеспечи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аются не только жители Новосибирска, но и близлежащих городов и поселков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914400" y="19810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сточником водоснабжения Новосибирска является река Обь, альтернативного ис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очника в городе нет. Это обстоятельство обусловливает исключительно высокий риск для населения с точки зрения обеспечения безопасности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914400" y="2743200"/>
            <a:ext cx="5943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Одной из главных проблем водоснабжения города является осложнения в работе водозаборов города. Это связано со сниже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нием уровня воды в реке,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оторое обусловлено размывом русла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нижнем бьефе ГЭС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, где расположены водозаборы, Причиной послужило необдуманное в отношении последствий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звлечени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из русла более 50 млн. м</a:t>
            </a:r>
            <a:r>
              <a:rPr b="1" lang="ru-RU" sz="16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гравийно-песчаной смеси для нужд строительства, а также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проведение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углубления фарватер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настоящее время уровень воды в нижнем бьефе ниже расчетно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о более 1 м. Это требует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серьез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ой реконструкции водозабор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ых сооружений город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и соответственно участия промышлен-ности город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6980400" y="2514600"/>
            <a:ext cx="2163600" cy="2990160"/>
            <a:chOff x="6980400" y="2514600"/>
            <a:chExt cx="2163600" cy="2990160"/>
          </a:xfrm>
        </p:grpSpPr>
        <p:graphicFrame>
          <p:nvGraphicFramePr>
            <p:cNvPr id="1379" name=""/>
            <p:cNvGraphicFramePr/>
            <p:nvPr/>
          </p:nvGraphicFramePr>
          <p:xfrm>
            <a:off x="6980400" y="2514600"/>
            <a:ext cx="2087280" cy="274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80400" y="2514600"/>
                      <a:ext cx="208728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1" name=""/>
            <p:cNvSpPr/>
            <p:nvPr/>
          </p:nvSpPr>
          <p:spPr>
            <a:xfrm>
              <a:off x="7010280" y="5334120"/>
              <a:ext cx="213372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eaeaea"/>
                  </a:solidFill>
                  <a:latin typeface="Times New Roman"/>
                </a:rPr>
                <a:t>Ковшевой забор НФС</a:t>
              </a:r>
              <a:r>
                <a:rPr b="1" lang="en-US" sz="1400" spc="-1" strike="noStrike">
                  <a:solidFill>
                    <a:srgbClr val="eaeaea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Замена и прокладка трубопроводов</a:t>
            </a: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914400" y="609480"/>
            <a:ext cx="8077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i="1" lang="en-US" sz="1600" spc="-1" strike="noStrike">
                <a:solidFill>
                  <a:srgbClr val="eaeaea"/>
                </a:solidFill>
                <a:latin typeface="Times New Roman"/>
              </a:rPr>
              <a:t>Из общего количества водопроводных сетей 60% состоят из стальных труб, 36 % - из чугунных и 4 % полиэтиленовых. Износ водопроводной сети 70 %. Десятки км сетей требуют замены или реконструкции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. Аналогичная ситуация в отношении и канализационной трубопроводной сет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648320" y="1600200"/>
            <a:ext cx="4572000" cy="1873440"/>
            <a:chOff x="4648320" y="1600200"/>
            <a:chExt cx="4572000" cy="1873440"/>
          </a:xfrm>
        </p:grpSpPr>
        <p:pic>
          <p:nvPicPr>
            <p:cNvPr id="1385" name="sch_05" descr="Схема бестраншейной замены инженерных коммуникаций"/>
            <p:cNvPicPr/>
            <p:nvPr/>
          </p:nvPicPr>
          <p:blipFill>
            <a:blip r:embed="rId1">
              <a:lum bright="16000"/>
            </a:blip>
            <a:stretch/>
          </p:blipFill>
          <p:spPr>
            <a:xfrm>
              <a:off x="4648320" y="1600200"/>
              <a:ext cx="44960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>
              <a:off x="4800960" y="2886120"/>
              <a:ext cx="4419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"/>
                </a:rPr>
                <a:t>Бестраншейная замена трубопроводов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"/>
                </a:rPr>
                <a:t>через существующие колодцы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648320" y="3809880"/>
            <a:ext cx="4647960" cy="2539800"/>
            <a:chOff x="4648320" y="3809880"/>
            <a:chExt cx="4647960" cy="2539800"/>
          </a:xfrm>
        </p:grpSpPr>
        <p:pic>
          <p:nvPicPr>
            <p:cNvPr id="1388" name="sch_06" descr="Схема бестраншейной замены сетей водоснабжения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4648320" y="3809880"/>
              <a:ext cx="4495680" cy="20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9" name=""/>
            <p:cNvSpPr/>
            <p:nvPr/>
          </p:nvSpPr>
          <p:spPr>
            <a:xfrm>
              <a:off x="4648320" y="5981400"/>
              <a:ext cx="464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"/>
                </a:rPr>
                <a:t>Бестраншейная прокладка трубопроводов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1143000" y="4384800"/>
            <a:ext cx="3047760" cy="2394000"/>
            <a:chOff x="1143000" y="4384800"/>
            <a:chExt cx="3047760" cy="2394000"/>
          </a:xfrm>
        </p:grpSpPr>
        <p:pic>
          <p:nvPicPr>
            <p:cNvPr id="1391" name="photo_08" descr="Комплект оборудования для бестраншейной замены трубопроводов"/>
            <p:cNvPicPr/>
            <p:nvPr/>
          </p:nvPicPr>
          <p:blipFill>
            <a:blip r:embed="rId3"/>
            <a:stretch/>
          </p:blipFill>
          <p:spPr>
            <a:xfrm>
              <a:off x="1143000" y="4384800"/>
              <a:ext cx="304776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2" name=""/>
            <p:cNvSpPr/>
            <p:nvPr/>
          </p:nvSpPr>
          <p:spPr>
            <a:xfrm>
              <a:off x="1295280" y="6137280"/>
              <a:ext cx="274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eaeaea"/>
                  </a:solidFill>
                  <a:latin typeface="Times New Roman"/>
                </a:rPr>
                <a:t>Комплект оборудования для </a:t>
              </a:r>
              <a:r>
                <a:rPr b="1" i="1" lang="en-US" sz="16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бестраншейной прокладки</a:t>
              </a:r>
              <a:r>
                <a:rPr b="0" lang="en-US" sz="16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16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трубопроводов</a:t>
              </a:r>
              <a:r>
                <a:rPr b="0" lang="en-US" sz="16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914400" y="1523880"/>
            <a:ext cx="3638520" cy="26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Для замены изношенных трубопро-водов, а также прокладки новых в Но-восибирске используется бестраншей-ная технология разработанная в Инс-титуте горного дела СО РАН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Работы ведутся с помощью  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комп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ект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оборудования, 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основой которого является 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невмоуда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рная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машин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а 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тветствующего диаметра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Себестоимость бестраншейной ук-ладки в 1,5 - 5 раз ниже себестоимости по обычной траншейной технологи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Технологии водоотведения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467160" y="765000"/>
            <a:ext cx="5448240" cy="53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чистные сооружения канализации Ново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бирска являются важнейшим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родо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х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нным комплексом в области и крупнейшим за Уралом.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ведены в строй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1981 году.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ло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щадь, занимаемая комплексом, около 200 га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очные воды более 700 тыс. м</a:t>
            </a:r>
            <a:r>
              <a:rPr b="1" lang="ru-RU" sz="20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сут., а в паводковый период до 950 тыс. м</a:t>
            </a:r>
            <a:r>
              <a:rPr b="1" lang="ru-RU" sz="20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сут. подвер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аются полной биологической очистке до тре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уемых экологических параметро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 очистных сооружениях канализации ежесуточно образуется около 3700 м</a:t>
            </a:r>
            <a:r>
              <a:rPr b="1" lang="ru-RU" sz="20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осадка, который обезвоживается на центрифуге и 4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-х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центрипрессах. Испытан и успешно применен способ обезвоживания осадков непосредствен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о на иловых площадках с использованием различных видов флокулянтов, что позволило снизить эксплуатационные затраты в 3-4 раза. На основе проведенного гидравлического моделирования реконструируются горизон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альные песколовки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914400" y="3886200"/>
            <a:ext cx="2286000" cy="2448360"/>
            <a:chOff x="914400" y="3886200"/>
            <a:chExt cx="2286000" cy="2448360"/>
          </a:xfrm>
        </p:grpSpPr>
        <p:pic>
          <p:nvPicPr>
            <p:cNvPr id="1397" name="0807-16b" descr=""/>
            <p:cNvPicPr/>
            <p:nvPr/>
          </p:nvPicPr>
          <p:blipFill>
            <a:blip r:embed="rId1"/>
            <a:stretch/>
          </p:blipFill>
          <p:spPr>
            <a:xfrm>
              <a:off x="990720" y="3886200"/>
              <a:ext cx="2133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8" name=""/>
            <p:cNvSpPr/>
            <p:nvPr/>
          </p:nvSpPr>
          <p:spPr>
            <a:xfrm>
              <a:off x="914400" y="5943600"/>
              <a:ext cx="228600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eaeaea"/>
                  </a:solidFill>
                  <a:latin typeface="Times New Roman"/>
                </a:rPr>
                <a:t>Цех обработки осадка</a:t>
              </a:r>
              <a:r>
                <a:rPr b="1" lang="en-US" sz="26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914400" y="914400"/>
            <a:ext cx="2133720" cy="2516400"/>
            <a:chOff x="914400" y="914400"/>
            <a:chExt cx="2133720" cy="2516400"/>
          </a:xfrm>
        </p:grpSpPr>
        <p:pic>
          <p:nvPicPr>
            <p:cNvPr id="1400" name="0807-13b" descr=""/>
            <p:cNvPicPr/>
            <p:nvPr/>
          </p:nvPicPr>
          <p:blipFill>
            <a:blip r:embed="rId2"/>
            <a:stretch/>
          </p:blipFill>
          <p:spPr>
            <a:xfrm>
              <a:off x="914400" y="914400"/>
              <a:ext cx="2133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1" name=""/>
            <p:cNvSpPr/>
            <p:nvPr/>
          </p:nvSpPr>
          <p:spPr>
            <a:xfrm>
              <a:off x="914400" y="2971800"/>
              <a:ext cx="2133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imes New Roman"/>
                </a:rPr>
                <a:t>Биологическая очистк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И И ОБОРУДОВАНИ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ИСТЕМАХ ВОДОСНАБЖЕНИЯ И ВОДООТВЕДЕ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295280" y="955800"/>
            <a:ext cx="746784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ые предложения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ключить в программу в качестве основных мер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Дальнейшее развитие технологий бестраншейной замены изношенных и прокладки новых трубопроводов с использованием  оборудования, разрабатки Института горного дела СО РАН и  научно-производственной компании «Комбест». Обеспечить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ерекладку сетей трубопроводов до 40 км  в го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окращение потерь питьевой воды путем поквартирного учета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её потребления населением, для чего наладить выпуск счетчиков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асхода воды промышленностью город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а базе научного задела институтов СО РАН и вузов города  соз-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дать систему непрерывного мониторинга качества реки Оби, как главного источника водоснабжения города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азвивать производство труб и арматуры, насосного оборудова-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ия, а также реагентов для очистки воды на базе новосибирских предприяти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полнительное предложен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ужна разработка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пециальных инвестиционных проектов по совершенствованию работы системы водоснабжения, прежд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, по созданию альтернативного источника водоснабжения Новосибирска на основе подземных вод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ОБЛЕ</a:t>
            </a:r>
            <a:r>
              <a:rPr b="1" lang="ru-RU" sz="64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НАЯ СИТУАЦИЯ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Общие проблемы городского хозяйств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281952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eaeaea"/>
                </a:solidFill>
                <a:latin typeface="Times New Roman"/>
              </a:rPr>
              <a:t>Проблемы инноваций в технологиях, обретении но-вых  машин и оборудования для городского хозяйства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4952880"/>
            <a:ext cx="51814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Проблемы использования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   научного и производственного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   потенциала город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43000" y="1371600"/>
            <a:ext cx="3581280" cy="1219320"/>
            <a:chOff x="1143000" y="1371600"/>
            <a:chExt cx="3581280" cy="1219320"/>
          </a:xfrm>
        </p:grpSpPr>
        <p:sp>
          <p:nvSpPr>
            <p:cNvPr id="121" name=""/>
            <p:cNvSpPr/>
            <p:nvPr/>
          </p:nvSpPr>
          <p:spPr>
            <a:xfrm>
              <a:off x="1143000" y="1371600"/>
              <a:ext cx="3581280" cy="1219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280" y="1676520"/>
              <a:ext cx="3276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БЛАГОУСТРОЙСТВО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ТЕРРИТОРИИ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143000" y="1371600"/>
            <a:ext cx="3581280" cy="1219320"/>
            <a:chOff x="1143000" y="1371600"/>
            <a:chExt cx="3581280" cy="1219320"/>
          </a:xfrm>
        </p:grpSpPr>
        <p:sp>
          <p:nvSpPr>
            <p:cNvPr id="124" name=""/>
            <p:cNvSpPr/>
            <p:nvPr/>
          </p:nvSpPr>
          <p:spPr>
            <a:xfrm>
              <a:off x="1143000" y="1371600"/>
              <a:ext cx="3581280" cy="1219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1523880"/>
              <a:ext cx="3276720" cy="9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Управление твердыми муниципальными </a:t>
              </a:r>
              <a:br>
                <a:rPr sz="2400"/>
              </a:b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отходами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143000" y="1371600"/>
            <a:ext cx="3581280" cy="1219320"/>
            <a:chOff x="1143000" y="1371600"/>
            <a:chExt cx="3581280" cy="1219320"/>
          </a:xfrm>
        </p:grpSpPr>
        <p:sp>
          <p:nvSpPr>
            <p:cNvPr id="127" name=""/>
            <p:cNvSpPr/>
            <p:nvPr/>
          </p:nvSpPr>
          <p:spPr>
            <a:xfrm>
              <a:off x="1143000" y="1371600"/>
              <a:ext cx="3581280" cy="1219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95280" y="1676520"/>
              <a:ext cx="3200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Защита атмосферы города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143000" y="1371600"/>
            <a:ext cx="3581280" cy="1219320"/>
            <a:chOff x="1143000" y="1371600"/>
            <a:chExt cx="3581280" cy="1219320"/>
          </a:xfrm>
        </p:grpSpPr>
        <p:sp>
          <p:nvSpPr>
            <p:cNvPr id="130" name=""/>
            <p:cNvSpPr/>
            <p:nvPr/>
          </p:nvSpPr>
          <p:spPr>
            <a:xfrm>
              <a:off x="1143000" y="1371600"/>
              <a:ext cx="3581280" cy="1219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5280" y="1676520"/>
              <a:ext cx="3276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Освещение территории города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143000" y="1371600"/>
            <a:ext cx="3581280" cy="1219320"/>
            <a:chOff x="1143000" y="1371600"/>
            <a:chExt cx="3581280" cy="1219320"/>
          </a:xfrm>
        </p:grpSpPr>
        <p:sp>
          <p:nvSpPr>
            <p:cNvPr id="133" name=""/>
            <p:cNvSpPr/>
            <p:nvPr/>
          </p:nvSpPr>
          <p:spPr>
            <a:xfrm>
              <a:off x="1143000" y="1371600"/>
              <a:ext cx="3581280" cy="1219320"/>
            </a:xfrm>
            <a:prstGeom prst="rect">
              <a:avLst/>
            </a:prstGeom>
            <a:solidFill>
              <a:srgbClr val="af8935"/>
            </a:solidFill>
            <a:ln w="9360">
              <a:solidFill>
                <a:srgbClr val="af89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1523880"/>
              <a:ext cx="3276720" cy="9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Управление жилищно-коммунальным хозяйством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43000" y="1371600"/>
            <a:ext cx="3581280" cy="1219320"/>
            <a:chOff x="1143000" y="1371600"/>
            <a:chExt cx="3581280" cy="1219320"/>
          </a:xfrm>
        </p:grpSpPr>
        <p:sp>
          <p:nvSpPr>
            <p:cNvPr id="136" name=""/>
            <p:cNvSpPr/>
            <p:nvPr/>
          </p:nvSpPr>
          <p:spPr>
            <a:xfrm>
              <a:off x="1143000" y="1371600"/>
              <a:ext cx="3581280" cy="1219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8960" y="1676520"/>
              <a:ext cx="33523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ВОДООБЕСПЕЧЕНИЕ ВОДООТВЕД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143000" y="1371600"/>
            <a:ext cx="3581280" cy="1219320"/>
            <a:chOff x="1143000" y="1371600"/>
            <a:chExt cx="3581280" cy="1219320"/>
          </a:xfrm>
        </p:grpSpPr>
        <p:sp>
          <p:nvSpPr>
            <p:cNvPr id="139" name=""/>
            <p:cNvSpPr/>
            <p:nvPr/>
          </p:nvSpPr>
          <p:spPr>
            <a:xfrm>
              <a:off x="1143000" y="1371600"/>
              <a:ext cx="3581280" cy="12193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1504800"/>
              <a:ext cx="3276720" cy="9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ff33"/>
                  </a:solidFill>
                  <a:latin typeface="Times New Roman"/>
                </a:rPr>
                <a:t>Обеспечение перевозки пассажиров муници-пальным транспортом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1371600"/>
            <a:ext cx="3581280" cy="1219320"/>
            <a:chOff x="1143000" y="1371600"/>
            <a:chExt cx="3581280" cy="1219320"/>
          </a:xfrm>
        </p:grpSpPr>
        <p:sp>
          <p:nvSpPr>
            <p:cNvPr id="142" name=""/>
            <p:cNvSpPr/>
            <p:nvPr/>
          </p:nvSpPr>
          <p:spPr>
            <a:xfrm>
              <a:off x="1143000" y="1371600"/>
              <a:ext cx="3581280" cy="1219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1600" y="1663560"/>
              <a:ext cx="3200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ЭНЕРГО-</a:t>
              </a:r>
              <a:br>
                <a:rPr sz="2400"/>
              </a:b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СБЕРЕЖ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143000" y="1371600"/>
            <a:ext cx="3657600" cy="1219320"/>
            <a:chOff x="1143000" y="1371600"/>
            <a:chExt cx="3657600" cy="1219320"/>
          </a:xfrm>
        </p:grpSpPr>
        <p:sp>
          <p:nvSpPr>
            <p:cNvPr id="145" name=""/>
            <p:cNvSpPr/>
            <p:nvPr/>
          </p:nvSpPr>
          <p:spPr>
            <a:xfrm>
              <a:off x="1143000" y="1371600"/>
              <a:ext cx="3657600" cy="12193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3000" y="1524240"/>
              <a:ext cx="36576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Times New Roman"/>
                </a:rPr>
                <a:t>Общие проблемы городского хозяйства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38280" y="2743200"/>
            <a:ext cx="5257800" cy="1523880"/>
            <a:chOff x="2438280" y="2743200"/>
            <a:chExt cx="5257800" cy="1523880"/>
          </a:xfrm>
        </p:grpSpPr>
        <p:sp>
          <p:nvSpPr>
            <p:cNvPr id="148" name=""/>
            <p:cNvSpPr/>
            <p:nvPr/>
          </p:nvSpPr>
          <p:spPr>
            <a:xfrm>
              <a:off x="2438280" y="2743200"/>
              <a:ext cx="5257800" cy="1523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2869920"/>
              <a:ext cx="502920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В целом ряде отраслей городского хозяйства сегодня применяются недостаточно эффективные,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трудоемкие, ручные технологии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438280" y="2743200"/>
            <a:ext cx="5257800" cy="1523880"/>
            <a:chOff x="2438280" y="2743200"/>
            <a:chExt cx="5257800" cy="1523880"/>
          </a:xfrm>
        </p:grpSpPr>
        <p:sp>
          <p:nvSpPr>
            <p:cNvPr id="151" name=""/>
            <p:cNvSpPr/>
            <p:nvPr/>
          </p:nvSpPr>
          <p:spPr>
            <a:xfrm>
              <a:off x="2438280" y="2743200"/>
              <a:ext cx="5257800" cy="15238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3029040"/>
              <a:ext cx="4114800" cy="9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Городское хозяйство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испытывает дефицит в машинах и оборудовании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438280" y="2743200"/>
            <a:ext cx="5257800" cy="1523880"/>
            <a:chOff x="2438280" y="2743200"/>
            <a:chExt cx="5257800" cy="1523880"/>
          </a:xfrm>
        </p:grpSpPr>
        <p:sp>
          <p:nvSpPr>
            <p:cNvPr id="154" name=""/>
            <p:cNvSpPr/>
            <p:nvPr/>
          </p:nvSpPr>
          <p:spPr>
            <a:xfrm>
              <a:off x="2438280" y="2743200"/>
              <a:ext cx="5257800" cy="1523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5480" y="2895480"/>
              <a:ext cx="426744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Значительная часть машин и оборудования в городском хозяйстве изношены.</a:t>
              </a:r>
              <a:br>
                <a:rPr sz="2400"/>
              </a:b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Износ часто достигает до 70 %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362320" y="2743200"/>
            <a:ext cx="6019200" cy="1523880"/>
            <a:chOff x="2362320" y="2743200"/>
            <a:chExt cx="6019200" cy="1523880"/>
          </a:xfrm>
        </p:grpSpPr>
        <p:sp>
          <p:nvSpPr>
            <p:cNvPr id="157" name=""/>
            <p:cNvSpPr/>
            <p:nvPr/>
          </p:nvSpPr>
          <p:spPr>
            <a:xfrm>
              <a:off x="2362320" y="2743200"/>
              <a:ext cx="6019200" cy="1523880"/>
            </a:xfrm>
            <a:prstGeom prst="rect">
              <a:avLst/>
            </a:prstGeom>
            <a:solidFill>
              <a:srgbClr val="00007a"/>
            </a:solidFill>
            <a:ln w="9360">
              <a:solidFill>
                <a:srgbClr val="00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26840" y="2809440"/>
              <a:ext cx="5689800" cy="14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eaeaea"/>
                  </a:solidFill>
                  <a:latin typeface="Times New Roman"/>
                </a:rPr>
                <a:t>Проблемы инноваций в техно-логиях, обретении новых машин и оборудования для городского хозяйства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14800" y="4876920"/>
            <a:ext cx="4876920" cy="1600200"/>
            <a:chOff x="4114800" y="4876920"/>
            <a:chExt cx="4876920" cy="1600200"/>
          </a:xfrm>
        </p:grpSpPr>
        <p:sp>
          <p:nvSpPr>
            <p:cNvPr id="160" name=""/>
            <p:cNvSpPr/>
            <p:nvPr/>
          </p:nvSpPr>
          <p:spPr>
            <a:xfrm>
              <a:off x="4114800" y="4876920"/>
              <a:ext cx="4876920" cy="160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5029560"/>
              <a:ext cx="472428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Промышленность Новосибирска выпускает незначительное число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a"/>
                  </a:solidFill>
                  <a:latin typeface="Times New Roman"/>
                </a:rPr>
                <a:t>видов оборудования и машин для городского хозяйства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14800" y="4876920"/>
            <a:ext cx="4894200" cy="1600200"/>
            <a:chOff x="4114800" y="4876920"/>
            <a:chExt cx="4894200" cy="1600200"/>
          </a:xfrm>
        </p:grpSpPr>
        <p:sp>
          <p:nvSpPr>
            <p:cNvPr id="163" name=""/>
            <p:cNvSpPr/>
            <p:nvPr/>
          </p:nvSpPr>
          <p:spPr>
            <a:xfrm>
              <a:off x="4114800" y="4876920"/>
              <a:ext cx="4876560" cy="1600200"/>
            </a:xfrm>
            <a:prstGeom prst="rect">
              <a:avLst/>
            </a:prstGeom>
            <a:solidFill>
              <a:srgbClr val="555bad"/>
            </a:solidFill>
            <a:ln w="9360">
              <a:solidFill>
                <a:srgbClr val="555b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90760" y="5029200"/>
              <a:ext cx="481824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ff33"/>
                  </a:solidFill>
                  <a:latin typeface="Times New Roman"/>
                </a:rPr>
                <a:t>Научные учреждения и КБ, наука в вузах очень мало занимаются разработками технологий и ма-шин для городского хозяйства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114800" y="4876920"/>
            <a:ext cx="4894200" cy="1600200"/>
            <a:chOff x="4114800" y="4876920"/>
            <a:chExt cx="4894200" cy="1600200"/>
          </a:xfrm>
        </p:grpSpPr>
        <p:sp>
          <p:nvSpPr>
            <p:cNvPr id="166" name=""/>
            <p:cNvSpPr/>
            <p:nvPr/>
          </p:nvSpPr>
          <p:spPr>
            <a:xfrm>
              <a:off x="4114800" y="4876920"/>
              <a:ext cx="4876920" cy="1600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1120" y="5029560"/>
              <a:ext cx="481788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7a"/>
                  </a:solidFill>
                  <a:latin typeface="Times New Roman"/>
                </a:rPr>
                <a:t>В Новосибирске отсутствует сис-тема комплексной постановки задач технического оснащения городского хозяйства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14800" y="4876920"/>
            <a:ext cx="5070600" cy="1600200"/>
            <a:chOff x="4114800" y="4876920"/>
            <a:chExt cx="5070600" cy="1600200"/>
          </a:xfrm>
        </p:grpSpPr>
        <p:sp>
          <p:nvSpPr>
            <p:cNvPr id="169" name=""/>
            <p:cNvSpPr/>
            <p:nvPr/>
          </p:nvSpPr>
          <p:spPr>
            <a:xfrm>
              <a:off x="4114800" y="4876920"/>
              <a:ext cx="5029200" cy="1600200"/>
            </a:xfrm>
            <a:prstGeom prst="rect">
              <a:avLst/>
            </a:prstGeom>
            <a:solidFill>
              <a:srgbClr val="0000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3280" y="5084640"/>
              <a:ext cx="49921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Times New Roman"/>
                </a:rPr>
                <a:t>Проблемы использования</a:t>
              </a:r>
              <a:br>
                <a:rPr sz="2800"/>
              </a:br>
              <a:r>
                <a:rPr b="1" i="1" lang="en-US" sz="2800" spc="-1" strike="noStrike">
                  <a:solidFill>
                    <a:srgbClr val="eaeaea"/>
                  </a:solidFill>
                  <a:latin typeface="Times New Roman"/>
                </a:rPr>
                <a:t>научного и производственного</a:t>
              </a:r>
              <a:br>
                <a:rPr sz="2800"/>
              </a:br>
              <a:r>
                <a:rPr b="1" i="1" lang="en-US" sz="2800" spc="-1" strike="noStrike">
                  <a:solidFill>
                    <a:srgbClr val="eaeaea"/>
                  </a:solidFill>
                  <a:latin typeface="Times New Roman"/>
                </a:rPr>
                <a:t>потенциала города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0" y="152280"/>
            <a:ext cx="91440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требности в техническо</a:t>
            </a: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1" i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еревооружени</a:t>
            </a: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и системы </a:t>
            </a:r>
            <a:r>
              <a:rPr b="1" i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одо</a:t>
            </a: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снаб</a:t>
            </a:r>
            <a:r>
              <a:rPr b="1" i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жения</a:t>
            </a:r>
            <a:br>
              <a:rPr sz="1800"/>
            </a:br>
            <a:r>
              <a:rPr b="1" i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 отведения вод (стоимость в млн. руб</a:t>
            </a: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i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в ценах 2003 г.)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203040" y="762120"/>
            <a:ext cx="8712000" cy="949320"/>
            <a:chOff x="203040" y="762120"/>
            <a:chExt cx="8712000" cy="949320"/>
          </a:xfrm>
        </p:grpSpPr>
        <p:grpSp>
          <p:nvGrpSpPr>
            <p:cNvPr id="1406" name=""/>
            <p:cNvGrpSpPr/>
            <p:nvPr/>
          </p:nvGrpSpPr>
          <p:grpSpPr>
            <a:xfrm>
              <a:off x="206640" y="763560"/>
              <a:ext cx="8704080" cy="946440"/>
              <a:chOff x="206640" y="763560"/>
              <a:chExt cx="8704080" cy="946440"/>
            </a:xfrm>
          </p:grpSpPr>
          <p:grpSp>
            <p:nvGrpSpPr>
              <p:cNvPr id="1407" name=""/>
              <p:cNvGrpSpPr/>
              <p:nvPr/>
            </p:nvGrpSpPr>
            <p:grpSpPr>
              <a:xfrm>
                <a:off x="206640" y="763560"/>
                <a:ext cx="2610720" cy="946440"/>
                <a:chOff x="206640" y="763560"/>
                <a:chExt cx="2610720" cy="94644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284040" y="763560"/>
                  <a:ext cx="2455920" cy="946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Виды оборудования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206640" y="763560"/>
                  <a:ext cx="2610720" cy="946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2817720" y="763560"/>
                <a:ext cx="708480" cy="946440"/>
                <a:chOff x="2817720" y="763560"/>
                <a:chExt cx="708480" cy="94644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2894760" y="763560"/>
                  <a:ext cx="554040" cy="946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Еди</a:t>
                  </a:r>
                  <a:r>
                    <a:rPr b="1" lang="ru-RU" sz="12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r>
                    <a:rPr b="1" lang="ru-RU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ницы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817720" y="763560"/>
                  <a:ext cx="708480" cy="946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3" name=""/>
              <p:cNvGrpSpPr/>
              <p:nvPr/>
            </p:nvGrpSpPr>
            <p:grpSpPr>
              <a:xfrm>
                <a:off x="3526920" y="763560"/>
                <a:ext cx="5383800" cy="289440"/>
                <a:chOff x="3526920" y="763560"/>
                <a:chExt cx="5383800" cy="28944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3604320" y="763560"/>
                  <a:ext cx="5229000" cy="289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Прогноз потребности в новой технике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3526920" y="763560"/>
                  <a:ext cx="5383800" cy="289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3526920" y="1053000"/>
                <a:ext cx="1345320" cy="289440"/>
                <a:chOff x="3526920" y="1053000"/>
                <a:chExt cx="1345320" cy="28944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3604320" y="1053000"/>
                  <a:ext cx="1190880" cy="289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03÷2005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3526920" y="1053000"/>
                  <a:ext cx="1345320" cy="289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4872600" y="1053000"/>
                <a:ext cx="1345680" cy="289440"/>
                <a:chOff x="4872600" y="1053000"/>
                <a:chExt cx="1345680" cy="28944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4950000" y="1053000"/>
                  <a:ext cx="1190880" cy="289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06÷2010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4872600" y="1053000"/>
                  <a:ext cx="1345680" cy="289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6219000" y="1053000"/>
                <a:ext cx="1345320" cy="289440"/>
                <a:chOff x="6219000" y="1053000"/>
                <a:chExt cx="1345320" cy="28944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6296400" y="1053000"/>
                  <a:ext cx="1190880" cy="289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11÷2015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6219000" y="1053000"/>
                  <a:ext cx="1345320" cy="289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7565040" y="1053000"/>
                <a:ext cx="1345680" cy="289440"/>
                <a:chOff x="7565040" y="1053000"/>
                <a:chExt cx="1345680" cy="28944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7642440" y="1053000"/>
                  <a:ext cx="1190880" cy="289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16÷20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20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565040" y="1053000"/>
                  <a:ext cx="1345680" cy="289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3526920" y="1342440"/>
                <a:ext cx="672480" cy="367200"/>
                <a:chOff x="3526920" y="1342440"/>
                <a:chExt cx="672480" cy="36720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604320" y="1342440"/>
                  <a:ext cx="51804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кол-во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526920" y="1342440"/>
                  <a:ext cx="67248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4199760" y="1342440"/>
                <a:ext cx="672480" cy="367200"/>
                <a:chOff x="4199760" y="1342440"/>
                <a:chExt cx="672480" cy="36720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4277160" y="1342440"/>
                  <a:ext cx="51804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стоим.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4199760" y="1342440"/>
                  <a:ext cx="67248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872600" y="1342440"/>
                <a:ext cx="672840" cy="367200"/>
                <a:chOff x="4872600" y="1342440"/>
                <a:chExt cx="672840" cy="36720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950000" y="1342440"/>
                  <a:ext cx="51804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кол-во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872600" y="1342440"/>
                  <a:ext cx="67284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5546160" y="1342440"/>
                <a:ext cx="672480" cy="367200"/>
                <a:chOff x="5546160" y="1342440"/>
                <a:chExt cx="672480" cy="3672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5623200" y="1342440"/>
                  <a:ext cx="51804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стоим.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5546160" y="1342440"/>
                  <a:ext cx="67248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0" name=""/>
              <p:cNvGrpSpPr/>
              <p:nvPr/>
            </p:nvGrpSpPr>
            <p:grpSpPr>
              <a:xfrm>
                <a:off x="6219000" y="1342440"/>
                <a:ext cx="672480" cy="367200"/>
                <a:chOff x="6219000" y="1342440"/>
                <a:chExt cx="672480" cy="36720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6296400" y="1342440"/>
                  <a:ext cx="51804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кол-во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6219000" y="1342440"/>
                  <a:ext cx="67248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6891840" y="1342440"/>
                <a:ext cx="672480" cy="367200"/>
                <a:chOff x="6891840" y="1342440"/>
                <a:chExt cx="672480" cy="36720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6969240" y="1342440"/>
                  <a:ext cx="51804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стоим.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891840" y="1342440"/>
                  <a:ext cx="67248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7565040" y="1342440"/>
                <a:ext cx="672840" cy="367200"/>
                <a:chOff x="7565040" y="1342440"/>
                <a:chExt cx="672840" cy="36720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7642440" y="1342440"/>
                  <a:ext cx="51804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кол-во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565040" y="1342440"/>
                  <a:ext cx="67284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8238240" y="1342440"/>
                <a:ext cx="672480" cy="367200"/>
                <a:chOff x="8238240" y="1342440"/>
                <a:chExt cx="672480" cy="36720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8315280" y="1342440"/>
                  <a:ext cx="51804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стоим.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8238240" y="1342440"/>
                  <a:ext cx="672480" cy="367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2" name=""/>
            <p:cNvSpPr/>
            <p:nvPr/>
          </p:nvSpPr>
          <p:spPr>
            <a:xfrm>
              <a:off x="203040" y="762120"/>
              <a:ext cx="8712000" cy="94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1453" name=""/>
          <p:cNvGraphicFramePr/>
          <p:nvPr/>
        </p:nvGraphicFramePr>
        <p:xfrm>
          <a:off x="228600" y="1704960"/>
          <a:ext cx="8686800" cy="5025960"/>
        </p:xfrm>
        <a:graphic>
          <a:graphicData uri="http://schemas.openxmlformats.org/drawingml/2006/table">
            <a:tbl>
              <a:tblPr/>
              <a:tblGrid>
                <a:gridCol w="2573280"/>
                <a:gridCol w="727200"/>
                <a:gridCol w="662040"/>
                <a:gridCol w="685800"/>
                <a:gridCol w="685800"/>
                <a:gridCol w="685800"/>
                <a:gridCol w="685800"/>
                <a:gridCol w="182520"/>
                <a:gridCol w="503280"/>
                <a:gridCol w="679320"/>
                <a:gridCol w="615960"/>
              </a:tblGrid>
              <a:tr h="30708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рубы и армату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рубы металлические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Ǿ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0-2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ыс. 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рубы металлические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Ǿ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250-2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ыс. 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22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3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рубы пластиковы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ыс. 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2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4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6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1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8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Задвижки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Ǿ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50-8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. шт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7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77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3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1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одосчетчики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. шт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27648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асосное оборудование в комплекте с электродвигателем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Центробежные консольн. насос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. комп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Центробежные насосы двухстор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. комп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Центробежн. агрегаты типа ЭЦВ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. комп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асосы сточно-массовых сре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. комп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7648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гент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агулянты 40 % </a:t>
                      </a: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l</a:t>
                      </a:r>
                      <a:r>
                        <a:rPr b="1" lang="en-US" sz="12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0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ыс. 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5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6,2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6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3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6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9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7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5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Флокулян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ыс. 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1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25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8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25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25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6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Хлор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ыс. 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7648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борудование для бестраншейной прокладки и заменв трубопроводов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мплект для замены труб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мпл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мплект для прокладки труб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мпл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3446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ЭНЕРГОСБЕРЕГАЮЩИЕ ТЕХНОЛОГИИ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В ГОРОДСКОМ ХОЗЯЙСТВЕ</a:t>
            </a: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38080" y="1371600"/>
            <a:ext cx="807732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я комплексного решения проблем энергосбережения в городе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еобхо-дим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истема механизмов поддержки инновационных проектов в данной области, причем не только для учета электроэнергии,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отребляемого тепла, воды, газа и т.д. Такими системами, уже зарекомендовавшими себя в сфере реализации инновационного потенциала являются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нстра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онные зоны высокой энергетической эффективност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а из таких зон создана в Новосибирске Сибирским отделением РАН. Она представляет собой комплекс объектов, расположенных как на терр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ии Академгородка, так и в других районах города, на котором реал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уются энергосберегающие проекты, демонстрируются эффекты примен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я энергосберегающих техники и технологий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ствования нормативно-правового об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чения энергосбережения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ами Демонстрационной зоны СО РАН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ются: ультразвуковой теплосчетчик «Тр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»; информационный центр сбора данных по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ту потребления энергоресурсов; абсорбцион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ые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трансформаторы (тепловые насосы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окомпрессионны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епловые насосы;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р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я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урбин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 противодавлением;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ьн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оборотного водоснабжения; топливны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мент; каталитический генератор тепла и др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программе приведены прогнозные оценк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требности в этом оборудовании и приборах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6" name="" descr=""/>
          <p:cNvPicPr/>
          <p:nvPr/>
        </p:nvPicPr>
        <p:blipFill>
          <a:blip r:embed="rId1"/>
          <a:stretch/>
        </p:blipFill>
        <p:spPr>
          <a:xfrm>
            <a:off x="6019920" y="3736800"/>
            <a:ext cx="30384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ЭНЕРГОСБЕРЕГАЮЩИЕ ТЕХНОЛОГИИ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В ГОРОДСКОМ ХОЗЯЙСТВЕ</a:t>
            </a: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990720" y="990720"/>
            <a:ext cx="800100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ые предложения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едусмотреть в программе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асширение производства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ных приборов учета электроэнергии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до объемов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,0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тыс. штук уже к 2005 году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величение выпуска ультразвуковых теплосчетчиков  Тритон» разработ-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ки Института теплофизики СО РАН (освоенного холдингом «НЭВЗ-Союз») и широкое их внедрение в системе энергопотребления  городского хозяйства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недрение в период до 2010 года в ЖКХ города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 автоматического регулирования и учета потребления тепловой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и электрической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нергии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, по схемам, предла-гаемым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женерны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центр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м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ибирского государствен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го университета путей сообщения - НИИ РТК (Ресурсосберегающие технологии и коррозия)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полнительные предложения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 качестве дополнительных предложений целесообразно наметить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- производство и установку приборов управления освещением в  местах общего пользования (светозвуковых патронов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недрение технологии пневмоимпульскной очистки внутренних поверх-ностей трубопроводов и отопительных систем в помещениях,  разрабо-танной Институтом теоретической и прикладной механики СО РАН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широкое использование теплопеленгаторов, способных улавливать утечку тепла (разработки </a:t>
            </a:r>
            <a:r>
              <a:rPr b="1" i="1" lang="ru-RU" sz="1800" spc="-1" strike="noStrike">
                <a:solidFill>
                  <a:srgbClr val="ffffff"/>
                </a:solidFill>
                <a:latin typeface="Arial Cyr"/>
              </a:rPr>
              <a:t>КТИ прикладной микроэлектроники СО РАН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06668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ТЕХНИКА ДЛЯ МУНИЦИПАЛЬНОГО ПАССАЖИРСКОГО ТРАНСПОРТА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990720" y="1327320"/>
            <a:ext cx="7924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дна из острых проблем городского хозяйства – плохое состояние подвиж-ного состава  муниципальной транспортной системы, который изношен (по оценкам специалистов муниципалитета троллейбусы и трамваи – на 90 %, автобусы – на 72 %). 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ыход из проблемной ситуации 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роизводство в городе  собственных тролейбусов и автобусов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048120" y="2508120"/>
            <a:ext cx="599256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настоящее время  идет реализаци проекта «Троллей-бус», в соответствие с которым обновляется троллейбус-ный парк города. Обновленный троллейбус имеет новый кузов. У него производится капитальный ремонт навес-ного оборудования, узлов и агрегатов. Новый кузов не сварной, а клеенный по технологии, заимствованной в Голландии.  Это существенно улучшает внешний вид  и удлиняет срок службы. Все оборудование перенесено на крышу, что увеличивает безопасность пассажиров. Пер-вые троллейбусы изготов-лены и собранны специалис-тами ОАО «Сибэлтранс-сервис», которое намерено дове-сти их выпуск до 100 в год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876240" y="2590920"/>
            <a:ext cx="2019240" cy="2212560"/>
            <a:chOff x="876240" y="2590920"/>
            <a:chExt cx="2019240" cy="2212560"/>
          </a:xfrm>
        </p:grpSpPr>
        <p:pic>
          <p:nvPicPr>
            <p:cNvPr id="1463" name="troll" descr=""/>
            <p:cNvPicPr/>
            <p:nvPr/>
          </p:nvPicPr>
          <p:blipFill>
            <a:blip r:embed="rId1"/>
            <a:stretch/>
          </p:blipFill>
          <p:spPr>
            <a:xfrm>
              <a:off x="876240" y="2590920"/>
              <a:ext cx="2019240" cy="20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876240" y="4611240"/>
              <a:ext cx="19810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7a"/>
                  </a:solidFill>
                  <a:latin typeface="Times New Roman"/>
                </a:rPr>
                <a:t>Обновленный троллейбус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838080" y="5060880"/>
            <a:ext cx="8153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 программе п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дусматривается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нейшая реконструкция ма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н в направлениях совершенствования форм кузова, разработки и установки на тролле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сы контроллера электромеханического уси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ля руля, снижения потерь тепла в зимний период, минимизации удельных норм расхода электроэнергии, уменьшения контактных электросое­динений, увеличения их надежности и т.д.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Проблемы лифтового оборудования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990720" y="1023840"/>
            <a:ext cx="800100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ифтовое оборудование в городе изношено. Около 16 % всех лифтов в жилых домах выработали нормативный 25-летний срок. Они требуют постоянной диаг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остики, после которой и необходимого ремонта сроки их эксплуатации продлев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ются не более, чем на 3 года. Около 60 лифтов с распашной системой открывания кабины устарели как морально, так и физически. Эти лифты, составлящие 1,3 % от всех лифтов в жилых домах, требуют немедленной замены. Кроме того, лифт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е хозяйство страдает от разграбления лифтов и вандализма со стороны о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дельных граждан. По этим причинам останавливается до 4 % лифтов. Ущерб от варварства составлляет более 3 млн. в год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 истечению 34 лет эксплуатации лифты должны быть заменены. Поскольку в Новосибирске в массовом порядке лифты вводились в эксплуатацию в начале 70–х годов. приближается время, когда они столь же массово будут переходить в категорию подлежащих замене. Ежегодно приблизительно двести лифтов будут вырабатывать нормативный срок эксплуатации. К 2008 году наступит ситуация, когда потребуется менять 20% действующих лифтов, а 50% лифтов выработают нормативный срок эксплуатации. Замена одного лифта стоит 450 тыс. рубл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Массовую закупку нового лифтового оборудования из-за отсутствия финанс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ых средств осуществить очень сложно, поэтому началась реализация проектов реконструк­ции и поэтапной модернизации кабин, электрооборудования и мех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ических частей лифтового оборудования, доведения их до состояния, удовл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ряющего требованиям Горгостехнадзора, внедрения систем диспетчеризации и диагностики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амый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ардинальный путь, который в программе рассматрива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ся как приоритетный, -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это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оздание производства лифтового оборудования на предприятиях города.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ОСНОВНЫЕ ПРИОРИТЕТНЫЕ НАПРАВЛЕНИЯ ПРОГРАММЫ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838080" y="1143000"/>
            <a:ext cx="815364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озданию комплексных районных тепловых станций, обеспечивающих утилизацию в тепло  твердых бытовых отходов, и установок каталитического сжигания  ил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2. Развитие бестраншейных технологий прокладки и замены инженерных коммуникаци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3. Создание на базе химических институтов СО РАН эффективных, безопасных и недорогих противогололедных технологий и с использо-ванием машиностроительного потенциала города проектирование  и производство оборудования для обработки городских дорог и тер-риторий жидкими и твердыми противогололедными реагентами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4. Создание и организация серийного производства Сибирского троллейбус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5. Освоение производства лифтового оборудования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6. Внедрение в системах энергобеспечения ЖКХ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 автомати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кого регулирования и учета потребления тепловой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и электриче-ской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нергии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(концепция компьютеризированного дома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7. Изготовление и полная замена светильников наружно-го освещения города на светильники с индукционными натриевыми лампа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8. Создание и выпуск современной уборочной техник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9. Создание в  Новосибирске оптимальной  системы лесонасаждени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МЕХАНИЗМ РЕАЛИЗАЦИИ ПРОГРАММЫ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914400" y="1143000"/>
            <a:ext cx="8077320" cy="5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Для организации работы по Программе 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предлагается создать </a:t>
            </a: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инновационно-промышленный центр «Машины и оборудование городского хозяйства»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  и при нем </a:t>
            </a: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Дирекцию Программы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i="1" lang="ru-RU" sz="2200" spc="-1" strike="noStrike" u="sng">
                <a:solidFill>
                  <a:srgbClr val="eaeaea"/>
                </a:solidFill>
                <a:uFillTx/>
                <a:latin typeface="Times New Roman"/>
              </a:rPr>
              <a:t>Финансирование работ по программ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осуществляется из бюджета города, объемы финансирования уточняются каждый год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i="1" lang="ru-RU" sz="2200" spc="-1" strike="noStrike" u="sng">
                <a:solidFill>
                  <a:srgbClr val="eaeaea"/>
                </a:solidFill>
                <a:uFillTx/>
                <a:latin typeface="Times New Roman"/>
              </a:rPr>
              <a:t>Дополнительные источники финансирования</a:t>
            </a:r>
            <a:r>
              <a:rPr b="1" i="1" lang="ru-RU" sz="2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федеральный и областной бюджеты в виде средств, предус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атриваемых программами соответствующего уровня и/или предоставляемых в форме льгот и преференций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редства территориального экологического фонда, фонда «Дом промышленности» и других фондов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обственные средства предприятий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,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влечённые и иные инвестиционные сре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дства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295280" y="245268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Спасибо за внимание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410080" y="2286000"/>
            <a:ext cx="3505320" cy="3505320"/>
            <a:chOff x="5410080" y="2286000"/>
            <a:chExt cx="3505320" cy="3505320"/>
          </a:xfrm>
        </p:grpSpPr>
        <p:sp>
          <p:nvSpPr>
            <p:cNvPr id="172" name=""/>
            <p:cNvSpPr/>
            <p:nvPr/>
          </p:nvSpPr>
          <p:spPr>
            <a:xfrm>
              <a:off x="5410080" y="2286000"/>
              <a:ext cx="3505320" cy="35053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5476680" y="2362320"/>
              <a:ext cx="3333960" cy="334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5924520" y="2819520"/>
            <a:ext cx="2438280" cy="2438280"/>
            <a:chOff x="5924520" y="2819520"/>
            <a:chExt cx="2438280" cy="2438280"/>
          </a:xfrm>
        </p:grpSpPr>
        <p:sp>
          <p:nvSpPr>
            <p:cNvPr id="175" name=""/>
            <p:cNvSpPr/>
            <p:nvPr/>
          </p:nvSpPr>
          <p:spPr>
            <a:xfrm>
              <a:off x="5924520" y="2819520"/>
              <a:ext cx="2438280" cy="243828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5991120" y="2857680"/>
              <a:ext cx="2304360" cy="23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Times New Roman"/>
              </a:rPr>
              <a:t>Состав и структура рабочей группы, разрабатывающей программу</a:t>
            </a:r>
            <a:endParaRPr b="0" lang="en-US" sz="3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348240" y="3222720"/>
            <a:ext cx="1592280" cy="1550880"/>
            <a:chOff x="6348240" y="3222720"/>
            <a:chExt cx="1592280" cy="1550880"/>
          </a:xfrm>
        </p:grpSpPr>
        <p:sp>
          <p:nvSpPr>
            <p:cNvPr id="179" name=""/>
            <p:cNvSpPr/>
            <p:nvPr/>
          </p:nvSpPr>
          <p:spPr>
            <a:xfrm>
              <a:off x="6348240" y="3222720"/>
              <a:ext cx="1592280" cy="1550880"/>
            </a:xfrm>
            <a:prstGeom prst="ellipse">
              <a:avLst/>
            </a:prstGeom>
            <a:solidFill>
              <a:srgbClr val="eaeaea"/>
            </a:solidFill>
            <a:ln w="19080">
              <a:solidFill>
                <a:srgbClr val="0000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6598800" y="3352680"/>
              <a:ext cx="111456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76320" y="1447920"/>
            <a:ext cx="2601720" cy="2361960"/>
            <a:chOff x="76320" y="1447920"/>
            <a:chExt cx="2601720" cy="2361960"/>
          </a:xfrm>
        </p:grpSpPr>
        <p:pic>
          <p:nvPicPr>
            <p:cNvPr id="182" name="8428" descr=" Курленя Михаил Владимирович"/>
            <p:cNvPicPr/>
            <p:nvPr/>
          </p:nvPicPr>
          <p:blipFill>
            <a:blip r:embed="rId4"/>
            <a:stretch/>
          </p:blipFill>
          <p:spPr>
            <a:xfrm>
              <a:off x="76320" y="1447920"/>
              <a:ext cx="144756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066680" y="2692440"/>
              <a:ext cx="1611360" cy="11174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7a"/>
                  </a:solidFill>
                  <a:latin typeface="Times New Roman"/>
                </a:rPr>
                <a:t>Научный руководитель – крупный ученый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678040" y="1523880"/>
            <a:ext cx="2930760" cy="2286000"/>
            <a:chOff x="2678040" y="1523880"/>
            <a:chExt cx="2930760" cy="2286000"/>
          </a:xfrm>
        </p:grpSpPr>
        <p:pic>
          <p:nvPicPr>
            <p:cNvPr id="185" name="nest" descr=""/>
            <p:cNvPicPr/>
            <p:nvPr/>
          </p:nvPicPr>
          <p:blipFill>
            <a:blip r:embed="rId5"/>
            <a:stretch/>
          </p:blipFill>
          <p:spPr>
            <a:xfrm>
              <a:off x="4267080" y="1523880"/>
              <a:ext cx="134172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044880" y="2692440"/>
              <a:ext cx="1908000" cy="11174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7a"/>
                  </a:solidFill>
                  <a:latin typeface="Times New Roman"/>
                </a:rPr>
                <a:t>Ответственный от мэрии – начальник департамента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78040" y="3211560"/>
              <a:ext cx="36684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069920" y="3794040"/>
            <a:ext cx="3730680" cy="1463760"/>
            <a:chOff x="1069920" y="3794040"/>
            <a:chExt cx="3730680" cy="1463760"/>
          </a:xfrm>
        </p:grpSpPr>
        <p:sp>
          <p:nvSpPr>
            <p:cNvPr id="189" name=""/>
            <p:cNvSpPr/>
            <p:nvPr/>
          </p:nvSpPr>
          <p:spPr>
            <a:xfrm>
              <a:off x="1069920" y="4444920"/>
              <a:ext cx="3730680" cy="8128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7a"/>
                  </a:solidFill>
                  <a:latin typeface="Times New Roman"/>
                </a:rPr>
                <a:t>Специалисты, руководители предприятий, предприниматели, инвесторы, чиновники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73080" y="3794040"/>
              <a:ext cx="0" cy="6541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2560" y="3794040"/>
              <a:ext cx="0" cy="6541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0"/>
              <a:ext cx="2708280" cy="2192400"/>
              <a:chOff x="0" y="0"/>
              <a:chExt cx="2708280" cy="219240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0"/>
                <a:ext cx="2708280" cy="21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323232"/>
                    </a:solidFill>
                    <a:latin typeface="Times New Roman"/>
                  </a:rPr>
                  <a:t>  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УСЛОВИЯ РАБОТЫ ГОРОДСКОГО ХОЗЯЙСТВА</a:t>
            </a:r>
            <a:endParaRPr b="0" lang="en-US" sz="26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120" y="4343400"/>
            <a:ext cx="4190760" cy="2362320"/>
            <a:chOff x="762120" y="4343400"/>
            <a:chExt cx="4190760" cy="2362320"/>
          </a:xfrm>
        </p:grpSpPr>
        <p:sp>
          <p:nvSpPr>
            <p:cNvPr id="199" name=""/>
            <p:cNvSpPr/>
            <p:nvPr/>
          </p:nvSpPr>
          <p:spPr>
            <a:xfrm>
              <a:off x="762120" y="4343400"/>
              <a:ext cx="4190760" cy="2362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990720" y="4419720"/>
              <a:ext cx="3809880" cy="2120760"/>
              <a:chOff x="990720" y="4419720"/>
              <a:chExt cx="3809880" cy="212076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676520" y="4751280"/>
                <a:ext cx="2288880" cy="1497240"/>
                <a:chOff x="1676520" y="4751280"/>
                <a:chExt cx="2288880" cy="14972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489400" y="5203440"/>
                  <a:ext cx="435960" cy="279720"/>
                </a:xfrm>
                <a:custGeom>
                  <a:avLst/>
                  <a:gdLst/>
                  <a:ahLst/>
                  <a:rect l="l" t="t" r="r" b="b"/>
                  <a:pathLst>
                    <a:path w="912" h="504">
                      <a:moveTo>
                        <a:pt x="0" y="60"/>
                      </a:moveTo>
                      <a:lnTo>
                        <a:pt x="60" y="48"/>
                      </a:lnTo>
                      <a:lnTo>
                        <a:pt x="96" y="48"/>
                      </a:lnTo>
                      <a:lnTo>
                        <a:pt x="156" y="36"/>
                      </a:lnTo>
                      <a:lnTo>
                        <a:pt x="180" y="36"/>
                      </a:lnTo>
                      <a:lnTo>
                        <a:pt x="252" y="24"/>
                      </a:lnTo>
                      <a:lnTo>
                        <a:pt x="276" y="24"/>
                      </a:lnTo>
                      <a:lnTo>
                        <a:pt x="348" y="24"/>
                      </a:lnTo>
                      <a:lnTo>
                        <a:pt x="372" y="12"/>
                      </a:lnTo>
                      <a:lnTo>
                        <a:pt x="444" y="12"/>
                      </a:lnTo>
                      <a:lnTo>
                        <a:pt x="504" y="12"/>
                      </a:lnTo>
                      <a:lnTo>
                        <a:pt x="540" y="12"/>
                      </a:lnTo>
                      <a:lnTo>
                        <a:pt x="612" y="0"/>
                      </a:lnTo>
                      <a:lnTo>
                        <a:pt x="636" y="0"/>
                      </a:lnTo>
                      <a:lnTo>
                        <a:pt x="708" y="0"/>
                      </a:lnTo>
                      <a:lnTo>
                        <a:pt x="744" y="0"/>
                      </a:lnTo>
                      <a:lnTo>
                        <a:pt x="804" y="0"/>
                      </a:lnTo>
                      <a:lnTo>
                        <a:pt x="840" y="0"/>
                      </a:lnTo>
                      <a:lnTo>
                        <a:pt x="912" y="0"/>
                      </a:lnTo>
                      <a:lnTo>
                        <a:pt x="912" y="504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993366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2595960" y="5004720"/>
                  <a:ext cx="56880" cy="20556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11" y="0"/>
                      </a:moveTo>
                      <a:lnTo>
                        <a:pt x="11" y="10"/>
                      </a:lnTo>
                      <a:lnTo>
                        <a:pt x="0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133000" y="5236920"/>
                  <a:ext cx="792360" cy="246240"/>
                </a:xfrm>
                <a:custGeom>
                  <a:avLst/>
                  <a:gdLst/>
                  <a:ahLst/>
                  <a:rect l="l" t="t" r="r" b="b"/>
                  <a:pathLst>
                    <a:path w="1656" h="444">
                      <a:moveTo>
                        <a:pt x="0" y="180"/>
                      </a:moveTo>
                      <a:lnTo>
                        <a:pt x="12" y="168"/>
                      </a:lnTo>
                      <a:lnTo>
                        <a:pt x="48" y="156"/>
                      </a:lnTo>
                      <a:lnTo>
                        <a:pt x="72" y="156"/>
                      </a:lnTo>
                      <a:lnTo>
                        <a:pt x="108" y="132"/>
                      </a:lnTo>
                      <a:lnTo>
                        <a:pt x="132" y="132"/>
                      </a:lnTo>
                      <a:lnTo>
                        <a:pt x="168" y="120"/>
                      </a:lnTo>
                      <a:lnTo>
                        <a:pt x="192" y="108"/>
                      </a:lnTo>
                      <a:lnTo>
                        <a:pt x="240" y="96"/>
                      </a:lnTo>
                      <a:lnTo>
                        <a:pt x="264" y="96"/>
                      </a:lnTo>
                      <a:lnTo>
                        <a:pt x="312" y="84"/>
                      </a:lnTo>
                      <a:lnTo>
                        <a:pt x="336" y="72"/>
                      </a:lnTo>
                      <a:lnTo>
                        <a:pt x="384" y="60"/>
                      </a:lnTo>
                      <a:lnTo>
                        <a:pt x="408" y="60"/>
                      </a:lnTo>
                      <a:lnTo>
                        <a:pt x="468" y="48"/>
                      </a:lnTo>
                      <a:lnTo>
                        <a:pt x="492" y="36"/>
                      </a:lnTo>
                      <a:lnTo>
                        <a:pt x="540" y="24"/>
                      </a:lnTo>
                      <a:lnTo>
                        <a:pt x="576" y="24"/>
                      </a:lnTo>
                      <a:lnTo>
                        <a:pt x="624" y="12"/>
                      </a:lnTo>
                      <a:lnTo>
                        <a:pt x="660" y="12"/>
                      </a:lnTo>
                      <a:lnTo>
                        <a:pt x="720" y="0"/>
                      </a:lnTo>
                      <a:lnTo>
                        <a:pt x="744" y="0"/>
                      </a:lnTo>
                      <a:lnTo>
                        <a:pt x="1656" y="444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207880" y="4751280"/>
                  <a:ext cx="100080" cy="532080"/>
                </a:xfrm>
                <a:custGeom>
                  <a:avLst/>
                  <a:gdLst/>
                  <a:ahLst/>
                  <a:rect l="l" t="t" r="r" b="b"/>
                  <a:pathLst>
                    <a:path w="13" h="9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3" y="9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972160" y="5469840"/>
                  <a:ext cx="924480" cy="292680"/>
                </a:xfrm>
                <a:prstGeom prst="rect">
                  <a:avLst/>
                </a:prstGeom>
                <a:solidFill>
                  <a:srgbClr val="80664d"/>
                </a:solidFill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72160" y="5189760"/>
                  <a:ext cx="924480" cy="280080"/>
                </a:xfrm>
                <a:custGeom>
                  <a:avLst/>
                  <a:gdLst/>
                  <a:ahLst/>
                  <a:rect l="l" t="t" r="r" b="b"/>
                  <a:pathLst>
                    <a:path w="1932" h="504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96" y="0"/>
                      </a:lnTo>
                      <a:lnTo>
                        <a:pt x="168" y="0"/>
                      </a:lnTo>
                      <a:lnTo>
                        <a:pt x="228" y="0"/>
                      </a:lnTo>
                      <a:lnTo>
                        <a:pt x="264" y="0"/>
                      </a:lnTo>
                      <a:lnTo>
                        <a:pt x="336" y="0"/>
                      </a:lnTo>
                      <a:lnTo>
                        <a:pt x="396" y="12"/>
                      </a:lnTo>
                      <a:lnTo>
                        <a:pt x="432" y="12"/>
                      </a:lnTo>
                      <a:lnTo>
                        <a:pt x="492" y="12"/>
                      </a:lnTo>
                      <a:lnTo>
                        <a:pt x="528" y="12"/>
                      </a:lnTo>
                      <a:lnTo>
                        <a:pt x="600" y="24"/>
                      </a:lnTo>
                      <a:lnTo>
                        <a:pt x="660" y="24"/>
                      </a:lnTo>
                      <a:lnTo>
                        <a:pt x="684" y="36"/>
                      </a:lnTo>
                      <a:lnTo>
                        <a:pt x="756" y="36"/>
                      </a:lnTo>
                      <a:lnTo>
                        <a:pt x="816" y="48"/>
                      </a:lnTo>
                      <a:lnTo>
                        <a:pt x="840" y="48"/>
                      </a:lnTo>
                      <a:lnTo>
                        <a:pt x="900" y="60"/>
                      </a:lnTo>
                      <a:lnTo>
                        <a:pt x="960" y="60"/>
                      </a:lnTo>
                      <a:lnTo>
                        <a:pt x="996" y="72"/>
                      </a:lnTo>
                      <a:lnTo>
                        <a:pt x="1044" y="84"/>
                      </a:lnTo>
                      <a:lnTo>
                        <a:pt x="1104" y="84"/>
                      </a:lnTo>
                      <a:lnTo>
                        <a:pt x="1128" y="96"/>
                      </a:lnTo>
                      <a:lnTo>
                        <a:pt x="1188" y="108"/>
                      </a:lnTo>
                      <a:lnTo>
                        <a:pt x="1236" y="120"/>
                      </a:lnTo>
                      <a:lnTo>
                        <a:pt x="1260" y="120"/>
                      </a:lnTo>
                      <a:lnTo>
                        <a:pt x="1320" y="132"/>
                      </a:lnTo>
                      <a:lnTo>
                        <a:pt x="1368" y="144"/>
                      </a:lnTo>
                      <a:lnTo>
                        <a:pt x="1392" y="156"/>
                      </a:lnTo>
                      <a:lnTo>
                        <a:pt x="1428" y="168"/>
                      </a:lnTo>
                      <a:lnTo>
                        <a:pt x="1452" y="168"/>
                      </a:lnTo>
                      <a:lnTo>
                        <a:pt x="1500" y="180"/>
                      </a:lnTo>
                      <a:lnTo>
                        <a:pt x="1536" y="192"/>
                      </a:lnTo>
                      <a:lnTo>
                        <a:pt x="1560" y="204"/>
                      </a:lnTo>
                      <a:lnTo>
                        <a:pt x="1596" y="216"/>
                      </a:lnTo>
                      <a:lnTo>
                        <a:pt x="1632" y="228"/>
                      </a:lnTo>
                      <a:lnTo>
                        <a:pt x="1656" y="240"/>
                      </a:lnTo>
                      <a:lnTo>
                        <a:pt x="1692" y="252"/>
                      </a:lnTo>
                      <a:lnTo>
                        <a:pt x="1716" y="276"/>
                      </a:lnTo>
                      <a:lnTo>
                        <a:pt x="1728" y="276"/>
                      </a:lnTo>
                      <a:lnTo>
                        <a:pt x="1764" y="300"/>
                      </a:lnTo>
                      <a:lnTo>
                        <a:pt x="1788" y="312"/>
                      </a:lnTo>
                      <a:lnTo>
                        <a:pt x="1800" y="324"/>
                      </a:lnTo>
                      <a:lnTo>
                        <a:pt x="1824" y="336"/>
                      </a:lnTo>
                      <a:lnTo>
                        <a:pt x="1848" y="348"/>
                      </a:lnTo>
                      <a:lnTo>
                        <a:pt x="1860" y="360"/>
                      </a:lnTo>
                      <a:lnTo>
                        <a:pt x="1872" y="384"/>
                      </a:lnTo>
                      <a:lnTo>
                        <a:pt x="1884" y="384"/>
                      </a:lnTo>
                      <a:lnTo>
                        <a:pt x="1896" y="408"/>
                      </a:lnTo>
                      <a:lnTo>
                        <a:pt x="1908" y="420"/>
                      </a:lnTo>
                      <a:lnTo>
                        <a:pt x="1908" y="432"/>
                      </a:lnTo>
                      <a:lnTo>
                        <a:pt x="1920" y="444"/>
                      </a:lnTo>
                      <a:lnTo>
                        <a:pt x="1920" y="468"/>
                      </a:lnTo>
                      <a:lnTo>
                        <a:pt x="1932" y="480"/>
                      </a:lnTo>
                      <a:lnTo>
                        <a:pt x="1932" y="492"/>
                      </a:lnTo>
                      <a:lnTo>
                        <a:pt x="0" y="50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615480" y="5177160"/>
                  <a:ext cx="183600" cy="9252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32" y="0"/>
                      </a:moveTo>
                      <a:lnTo>
                        <a:pt x="32" y="1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000880" y="5483160"/>
                  <a:ext cx="45360" cy="379080"/>
                </a:xfrm>
                <a:custGeom>
                  <a:avLst/>
                  <a:gdLst/>
                  <a:ahLst/>
                  <a:rect l="l" t="t" r="r" b="b"/>
                  <a:pathLst>
                    <a:path w="96" h="684">
                      <a:moveTo>
                        <a:pt x="96" y="156"/>
                      </a:moveTo>
                      <a:lnTo>
                        <a:pt x="72" y="132"/>
                      </a:lnTo>
                      <a:lnTo>
                        <a:pt x="60" y="132"/>
                      </a:lnTo>
                      <a:lnTo>
                        <a:pt x="48" y="108"/>
                      </a:lnTo>
                      <a:lnTo>
                        <a:pt x="36" y="96"/>
                      </a:lnTo>
                      <a:lnTo>
                        <a:pt x="24" y="84"/>
                      </a:lnTo>
                      <a:lnTo>
                        <a:pt x="24" y="72"/>
                      </a:lnTo>
                      <a:lnTo>
                        <a:pt x="12" y="60"/>
                      </a:lnTo>
                      <a:lnTo>
                        <a:pt x="12" y="48"/>
                      </a:lnTo>
                      <a:lnTo>
                        <a:pt x="0" y="36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52"/>
                      </a:lnTo>
                      <a:lnTo>
                        <a:pt x="0" y="564"/>
                      </a:lnTo>
                      <a:lnTo>
                        <a:pt x="12" y="576"/>
                      </a:lnTo>
                      <a:lnTo>
                        <a:pt x="12" y="588"/>
                      </a:lnTo>
                      <a:lnTo>
                        <a:pt x="24" y="600"/>
                      </a:lnTo>
                      <a:lnTo>
                        <a:pt x="24" y="612"/>
                      </a:lnTo>
                      <a:lnTo>
                        <a:pt x="36" y="624"/>
                      </a:lnTo>
                      <a:lnTo>
                        <a:pt x="48" y="636"/>
                      </a:lnTo>
                      <a:lnTo>
                        <a:pt x="60" y="660"/>
                      </a:lnTo>
                      <a:lnTo>
                        <a:pt x="72" y="660"/>
                      </a:lnTo>
                      <a:lnTo>
                        <a:pt x="96" y="684"/>
                      </a:lnTo>
                      <a:lnTo>
                        <a:pt x="96" y="156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000880" y="5336640"/>
                  <a:ext cx="924480" cy="232920"/>
                </a:xfrm>
                <a:custGeom>
                  <a:avLst/>
                  <a:gdLst/>
                  <a:ahLst/>
                  <a:rect l="l" t="t" r="r" b="b"/>
                  <a:pathLst>
                    <a:path w="1932" h="420">
                      <a:moveTo>
                        <a:pt x="96" y="420"/>
                      </a:moveTo>
                      <a:lnTo>
                        <a:pt x="72" y="396"/>
                      </a:lnTo>
                      <a:lnTo>
                        <a:pt x="60" y="396"/>
                      </a:lnTo>
                      <a:lnTo>
                        <a:pt x="48" y="372"/>
                      </a:lnTo>
                      <a:lnTo>
                        <a:pt x="36" y="360"/>
                      </a:lnTo>
                      <a:lnTo>
                        <a:pt x="24" y="348"/>
                      </a:lnTo>
                      <a:lnTo>
                        <a:pt x="12" y="336"/>
                      </a:lnTo>
                      <a:lnTo>
                        <a:pt x="12" y="324"/>
                      </a:lnTo>
                      <a:lnTo>
                        <a:pt x="0" y="300"/>
                      </a:lnTo>
                      <a:lnTo>
                        <a:pt x="0" y="288"/>
                      </a:lnTo>
                      <a:lnTo>
                        <a:pt x="0" y="276"/>
                      </a:lnTo>
                      <a:lnTo>
                        <a:pt x="0" y="264"/>
                      </a:lnTo>
                      <a:lnTo>
                        <a:pt x="0" y="240"/>
                      </a:lnTo>
                      <a:lnTo>
                        <a:pt x="0" y="240"/>
                      </a:lnTo>
                      <a:lnTo>
                        <a:pt x="0" y="216"/>
                      </a:lnTo>
                      <a:lnTo>
                        <a:pt x="12" y="204"/>
                      </a:lnTo>
                      <a:lnTo>
                        <a:pt x="12" y="192"/>
                      </a:lnTo>
                      <a:lnTo>
                        <a:pt x="24" y="168"/>
                      </a:lnTo>
                      <a:lnTo>
                        <a:pt x="36" y="168"/>
                      </a:lnTo>
                      <a:lnTo>
                        <a:pt x="48" y="144"/>
                      </a:lnTo>
                      <a:lnTo>
                        <a:pt x="60" y="132"/>
                      </a:lnTo>
                      <a:lnTo>
                        <a:pt x="72" y="120"/>
                      </a:lnTo>
                      <a:lnTo>
                        <a:pt x="96" y="108"/>
                      </a:lnTo>
                      <a:lnTo>
                        <a:pt x="108" y="84"/>
                      </a:lnTo>
                      <a:lnTo>
                        <a:pt x="120" y="84"/>
                      </a:lnTo>
                      <a:lnTo>
                        <a:pt x="156" y="60"/>
                      </a:lnTo>
                      <a:lnTo>
                        <a:pt x="168" y="60"/>
                      </a:lnTo>
                      <a:lnTo>
                        <a:pt x="192" y="36"/>
                      </a:lnTo>
                      <a:lnTo>
                        <a:pt x="228" y="24"/>
                      </a:lnTo>
                      <a:lnTo>
                        <a:pt x="240" y="12"/>
                      </a:lnTo>
                      <a:lnTo>
                        <a:pt x="276" y="0"/>
                      </a:lnTo>
                      <a:lnTo>
                        <a:pt x="1932" y="264"/>
                      </a:lnTo>
                      <a:lnTo>
                        <a:pt x="96" y="42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676520" y="5150520"/>
                  <a:ext cx="330120" cy="306000"/>
                </a:xfrm>
                <a:custGeom>
                  <a:avLst/>
                  <a:gdLst/>
                  <a:ahLst/>
                  <a:rect l="l" t="t" r="r" b="b"/>
                  <a:pathLst>
                    <a:path w="97" h="46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9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046600" y="5569560"/>
                  <a:ext cx="46080" cy="326160"/>
                </a:xfrm>
                <a:custGeom>
                  <a:avLst/>
                  <a:gdLst/>
                  <a:ahLst/>
                  <a:rect l="l" t="t" r="r" b="b"/>
                  <a:pathLst>
                    <a:path w="96" h="588">
                      <a:moveTo>
                        <a:pt x="96" y="60"/>
                      </a:moveTo>
                      <a:lnTo>
                        <a:pt x="84" y="60"/>
                      </a:lnTo>
                      <a:lnTo>
                        <a:pt x="60" y="36"/>
                      </a:lnTo>
                      <a:lnTo>
                        <a:pt x="36" y="24"/>
                      </a:lnTo>
                      <a:lnTo>
                        <a:pt x="24" y="2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528"/>
                      </a:lnTo>
                      <a:lnTo>
                        <a:pt x="12" y="528"/>
                      </a:lnTo>
                      <a:lnTo>
                        <a:pt x="24" y="552"/>
                      </a:lnTo>
                      <a:lnTo>
                        <a:pt x="36" y="552"/>
                      </a:lnTo>
                      <a:lnTo>
                        <a:pt x="60" y="564"/>
                      </a:lnTo>
                      <a:lnTo>
                        <a:pt x="84" y="588"/>
                      </a:lnTo>
                      <a:lnTo>
                        <a:pt x="96" y="588"/>
                      </a:lnTo>
                      <a:lnTo>
                        <a:pt x="96" y="6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46600" y="5483160"/>
                  <a:ext cx="878760" cy="119880"/>
                </a:xfrm>
                <a:custGeom>
                  <a:avLst/>
                  <a:gdLst/>
                  <a:ahLst/>
                  <a:rect l="l" t="t" r="r" b="b"/>
                  <a:pathLst>
                    <a:path w="1836" h="216">
                      <a:moveTo>
                        <a:pt x="96" y="216"/>
                      </a:moveTo>
                      <a:lnTo>
                        <a:pt x="84" y="216"/>
                      </a:lnTo>
                      <a:lnTo>
                        <a:pt x="60" y="192"/>
                      </a:lnTo>
                      <a:lnTo>
                        <a:pt x="36" y="180"/>
                      </a:lnTo>
                      <a:lnTo>
                        <a:pt x="24" y="180"/>
                      </a:lnTo>
                      <a:lnTo>
                        <a:pt x="12" y="156"/>
                      </a:lnTo>
                      <a:lnTo>
                        <a:pt x="0" y="156"/>
                      </a:lnTo>
                      <a:lnTo>
                        <a:pt x="1836" y="0"/>
                      </a:lnTo>
                      <a:lnTo>
                        <a:pt x="96" y="21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848600" y="5848920"/>
                  <a:ext cx="221400" cy="133920"/>
                </a:xfrm>
                <a:custGeom>
                  <a:avLst/>
                  <a:gdLst/>
                  <a:ahLst/>
                  <a:rect l="l" t="t" r="r" b="b"/>
                  <a:pathLst>
                    <a:path w="110" h="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735720" y="5496480"/>
                  <a:ext cx="229680" cy="472320"/>
                </a:xfrm>
                <a:custGeom>
                  <a:avLst/>
                  <a:gdLst/>
                  <a:ahLst/>
                  <a:rect l="l" t="t" r="r" b="b"/>
                  <a:pathLst>
                    <a:path w="480" h="852">
                      <a:moveTo>
                        <a:pt x="480" y="0"/>
                      </a:moveTo>
                      <a:lnTo>
                        <a:pt x="480" y="12"/>
                      </a:lnTo>
                      <a:lnTo>
                        <a:pt x="480" y="24"/>
                      </a:lnTo>
                      <a:lnTo>
                        <a:pt x="468" y="36"/>
                      </a:lnTo>
                      <a:lnTo>
                        <a:pt x="468" y="48"/>
                      </a:lnTo>
                      <a:lnTo>
                        <a:pt x="456" y="72"/>
                      </a:lnTo>
                      <a:lnTo>
                        <a:pt x="456" y="72"/>
                      </a:lnTo>
                      <a:lnTo>
                        <a:pt x="444" y="96"/>
                      </a:lnTo>
                      <a:lnTo>
                        <a:pt x="432" y="96"/>
                      </a:lnTo>
                      <a:lnTo>
                        <a:pt x="420" y="120"/>
                      </a:lnTo>
                      <a:lnTo>
                        <a:pt x="408" y="132"/>
                      </a:lnTo>
                      <a:lnTo>
                        <a:pt x="396" y="144"/>
                      </a:lnTo>
                      <a:lnTo>
                        <a:pt x="384" y="156"/>
                      </a:lnTo>
                      <a:lnTo>
                        <a:pt x="360" y="168"/>
                      </a:lnTo>
                      <a:lnTo>
                        <a:pt x="348" y="180"/>
                      </a:lnTo>
                      <a:lnTo>
                        <a:pt x="324" y="192"/>
                      </a:lnTo>
                      <a:lnTo>
                        <a:pt x="312" y="204"/>
                      </a:lnTo>
                      <a:lnTo>
                        <a:pt x="276" y="216"/>
                      </a:lnTo>
                      <a:lnTo>
                        <a:pt x="264" y="228"/>
                      </a:lnTo>
                      <a:lnTo>
                        <a:pt x="240" y="240"/>
                      </a:lnTo>
                      <a:lnTo>
                        <a:pt x="216" y="252"/>
                      </a:lnTo>
                      <a:lnTo>
                        <a:pt x="180" y="264"/>
                      </a:lnTo>
                      <a:lnTo>
                        <a:pt x="168" y="276"/>
                      </a:lnTo>
                      <a:lnTo>
                        <a:pt x="132" y="288"/>
                      </a:lnTo>
                      <a:lnTo>
                        <a:pt x="108" y="288"/>
                      </a:lnTo>
                      <a:lnTo>
                        <a:pt x="72" y="312"/>
                      </a:lnTo>
                      <a:lnTo>
                        <a:pt x="48" y="312"/>
                      </a:lnTo>
                      <a:lnTo>
                        <a:pt x="0" y="324"/>
                      </a:lnTo>
                      <a:lnTo>
                        <a:pt x="0" y="852"/>
                      </a:lnTo>
                      <a:lnTo>
                        <a:pt x="48" y="840"/>
                      </a:lnTo>
                      <a:lnTo>
                        <a:pt x="72" y="840"/>
                      </a:lnTo>
                      <a:lnTo>
                        <a:pt x="108" y="816"/>
                      </a:lnTo>
                      <a:lnTo>
                        <a:pt x="132" y="816"/>
                      </a:lnTo>
                      <a:lnTo>
                        <a:pt x="168" y="804"/>
                      </a:lnTo>
                      <a:lnTo>
                        <a:pt x="180" y="792"/>
                      </a:lnTo>
                      <a:lnTo>
                        <a:pt x="216" y="780"/>
                      </a:lnTo>
                      <a:lnTo>
                        <a:pt x="240" y="768"/>
                      </a:lnTo>
                      <a:lnTo>
                        <a:pt x="264" y="756"/>
                      </a:lnTo>
                      <a:lnTo>
                        <a:pt x="276" y="744"/>
                      </a:lnTo>
                      <a:lnTo>
                        <a:pt x="312" y="732"/>
                      </a:lnTo>
                      <a:lnTo>
                        <a:pt x="324" y="720"/>
                      </a:lnTo>
                      <a:lnTo>
                        <a:pt x="348" y="708"/>
                      </a:lnTo>
                      <a:lnTo>
                        <a:pt x="360" y="696"/>
                      </a:lnTo>
                      <a:lnTo>
                        <a:pt x="384" y="684"/>
                      </a:lnTo>
                      <a:lnTo>
                        <a:pt x="396" y="672"/>
                      </a:lnTo>
                      <a:lnTo>
                        <a:pt x="408" y="660"/>
                      </a:lnTo>
                      <a:lnTo>
                        <a:pt x="420" y="648"/>
                      </a:lnTo>
                      <a:lnTo>
                        <a:pt x="432" y="624"/>
                      </a:lnTo>
                      <a:lnTo>
                        <a:pt x="444" y="624"/>
                      </a:lnTo>
                      <a:lnTo>
                        <a:pt x="456" y="600"/>
                      </a:lnTo>
                      <a:lnTo>
                        <a:pt x="456" y="600"/>
                      </a:lnTo>
                      <a:lnTo>
                        <a:pt x="468" y="576"/>
                      </a:lnTo>
                      <a:lnTo>
                        <a:pt x="468" y="564"/>
                      </a:lnTo>
                      <a:lnTo>
                        <a:pt x="480" y="552"/>
                      </a:lnTo>
                      <a:lnTo>
                        <a:pt x="480" y="540"/>
                      </a:lnTo>
                      <a:lnTo>
                        <a:pt x="480" y="528"/>
                      </a:lnTo>
                      <a:lnTo>
                        <a:pt x="480" y="0"/>
                      </a:lnTo>
                      <a:close/>
                    </a:path>
                  </a:pathLst>
                </a:custGeom>
                <a:solidFill>
                  <a:srgbClr val="4b4b4b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040560" y="5496480"/>
                  <a:ext cx="694800" cy="472320"/>
                </a:xfrm>
                <a:custGeom>
                  <a:avLst/>
                  <a:gdLst/>
                  <a:ahLst/>
                  <a:rect l="l" t="t" r="r" b="b"/>
                  <a:pathLst>
                    <a:path w="1452" h="852">
                      <a:moveTo>
                        <a:pt x="0" y="0"/>
                      </a:moveTo>
                      <a:lnTo>
                        <a:pt x="1452" y="324"/>
                      </a:lnTo>
                      <a:lnTo>
                        <a:pt x="1452" y="852"/>
                      </a:lnTo>
                      <a:lnTo>
                        <a:pt x="0" y="5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b4b4b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040560" y="5489640"/>
                  <a:ext cx="924480" cy="186480"/>
                </a:xfrm>
                <a:custGeom>
                  <a:avLst/>
                  <a:gdLst/>
                  <a:ahLst/>
                  <a:rect l="l" t="t" r="r" b="b"/>
                  <a:pathLst>
                    <a:path w="1932" h="336">
                      <a:moveTo>
                        <a:pt x="1932" y="0"/>
                      </a:moveTo>
                      <a:lnTo>
                        <a:pt x="1932" y="12"/>
                      </a:lnTo>
                      <a:lnTo>
                        <a:pt x="1932" y="24"/>
                      </a:lnTo>
                      <a:lnTo>
                        <a:pt x="1920" y="48"/>
                      </a:lnTo>
                      <a:lnTo>
                        <a:pt x="1920" y="48"/>
                      </a:lnTo>
                      <a:lnTo>
                        <a:pt x="1920" y="72"/>
                      </a:lnTo>
                      <a:lnTo>
                        <a:pt x="1908" y="84"/>
                      </a:lnTo>
                      <a:lnTo>
                        <a:pt x="1896" y="96"/>
                      </a:lnTo>
                      <a:lnTo>
                        <a:pt x="1896" y="108"/>
                      </a:lnTo>
                      <a:lnTo>
                        <a:pt x="1884" y="120"/>
                      </a:lnTo>
                      <a:lnTo>
                        <a:pt x="1860" y="144"/>
                      </a:lnTo>
                      <a:lnTo>
                        <a:pt x="1860" y="144"/>
                      </a:lnTo>
                      <a:lnTo>
                        <a:pt x="1836" y="168"/>
                      </a:lnTo>
                      <a:lnTo>
                        <a:pt x="1824" y="168"/>
                      </a:lnTo>
                      <a:lnTo>
                        <a:pt x="1800" y="192"/>
                      </a:lnTo>
                      <a:lnTo>
                        <a:pt x="1788" y="192"/>
                      </a:lnTo>
                      <a:lnTo>
                        <a:pt x="1764" y="216"/>
                      </a:lnTo>
                      <a:lnTo>
                        <a:pt x="1752" y="228"/>
                      </a:lnTo>
                      <a:lnTo>
                        <a:pt x="1716" y="240"/>
                      </a:lnTo>
                      <a:lnTo>
                        <a:pt x="1692" y="252"/>
                      </a:lnTo>
                      <a:lnTo>
                        <a:pt x="1668" y="264"/>
                      </a:lnTo>
                      <a:lnTo>
                        <a:pt x="1632" y="276"/>
                      </a:lnTo>
                      <a:lnTo>
                        <a:pt x="1620" y="288"/>
                      </a:lnTo>
                      <a:lnTo>
                        <a:pt x="1584" y="300"/>
                      </a:lnTo>
                      <a:lnTo>
                        <a:pt x="1560" y="300"/>
                      </a:lnTo>
                      <a:lnTo>
                        <a:pt x="1524" y="324"/>
                      </a:lnTo>
                      <a:lnTo>
                        <a:pt x="1500" y="324"/>
                      </a:lnTo>
                      <a:lnTo>
                        <a:pt x="1452" y="336"/>
                      </a:lnTo>
                      <a:lnTo>
                        <a:pt x="0" y="12"/>
                      </a:lnTo>
                      <a:lnTo>
                        <a:pt x="1932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801600" y="5882760"/>
                  <a:ext cx="106560" cy="365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55" y="49"/>
                      </a:moveTo>
                      <a:lnTo>
                        <a:pt x="45" y="4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093040" y="5603400"/>
                  <a:ext cx="143280" cy="359280"/>
                </a:xfrm>
                <a:custGeom>
                  <a:avLst/>
                  <a:gdLst/>
                  <a:ahLst/>
                  <a:rect l="l" t="t" r="r" b="b"/>
                  <a:pathLst>
                    <a:path w="300" h="648">
                      <a:moveTo>
                        <a:pt x="300" y="120"/>
                      </a:moveTo>
                      <a:lnTo>
                        <a:pt x="276" y="108"/>
                      </a:lnTo>
                      <a:lnTo>
                        <a:pt x="240" y="96"/>
                      </a:lnTo>
                      <a:lnTo>
                        <a:pt x="216" y="96"/>
                      </a:lnTo>
                      <a:lnTo>
                        <a:pt x="192" y="84"/>
                      </a:lnTo>
                      <a:lnTo>
                        <a:pt x="156" y="72"/>
                      </a:lnTo>
                      <a:lnTo>
                        <a:pt x="132" y="60"/>
                      </a:lnTo>
                      <a:lnTo>
                        <a:pt x="120" y="60"/>
                      </a:lnTo>
                      <a:lnTo>
                        <a:pt x="84" y="36"/>
                      </a:lnTo>
                      <a:lnTo>
                        <a:pt x="60" y="36"/>
                      </a:lnTo>
                      <a:lnTo>
                        <a:pt x="48" y="24"/>
                      </a:lnTo>
                      <a:lnTo>
                        <a:pt x="12" y="12"/>
                      </a:lnTo>
                      <a:lnTo>
                        <a:pt x="0" y="0"/>
                      </a:lnTo>
                      <a:lnTo>
                        <a:pt x="0" y="528"/>
                      </a:lnTo>
                      <a:lnTo>
                        <a:pt x="12" y="540"/>
                      </a:lnTo>
                      <a:lnTo>
                        <a:pt x="48" y="552"/>
                      </a:lnTo>
                      <a:lnTo>
                        <a:pt x="60" y="564"/>
                      </a:lnTo>
                      <a:lnTo>
                        <a:pt x="84" y="564"/>
                      </a:lnTo>
                      <a:lnTo>
                        <a:pt x="120" y="588"/>
                      </a:lnTo>
                      <a:lnTo>
                        <a:pt x="132" y="588"/>
                      </a:lnTo>
                      <a:lnTo>
                        <a:pt x="156" y="600"/>
                      </a:lnTo>
                      <a:lnTo>
                        <a:pt x="192" y="612"/>
                      </a:lnTo>
                      <a:lnTo>
                        <a:pt x="216" y="624"/>
                      </a:lnTo>
                      <a:lnTo>
                        <a:pt x="240" y="624"/>
                      </a:lnTo>
                      <a:lnTo>
                        <a:pt x="276" y="636"/>
                      </a:lnTo>
                      <a:lnTo>
                        <a:pt x="300" y="648"/>
                      </a:lnTo>
                      <a:lnTo>
                        <a:pt x="300" y="12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093040" y="5483160"/>
                  <a:ext cx="832320" cy="186120"/>
                </a:xfrm>
                <a:custGeom>
                  <a:avLst/>
                  <a:gdLst/>
                  <a:ahLst/>
                  <a:rect l="l" t="t" r="r" b="b"/>
                  <a:pathLst>
                    <a:path w="1740" h="336">
                      <a:moveTo>
                        <a:pt x="300" y="336"/>
                      </a:moveTo>
                      <a:lnTo>
                        <a:pt x="276" y="324"/>
                      </a:lnTo>
                      <a:lnTo>
                        <a:pt x="240" y="312"/>
                      </a:lnTo>
                      <a:lnTo>
                        <a:pt x="216" y="312"/>
                      </a:lnTo>
                      <a:lnTo>
                        <a:pt x="192" y="300"/>
                      </a:lnTo>
                      <a:lnTo>
                        <a:pt x="156" y="288"/>
                      </a:lnTo>
                      <a:lnTo>
                        <a:pt x="132" y="276"/>
                      </a:lnTo>
                      <a:lnTo>
                        <a:pt x="120" y="276"/>
                      </a:lnTo>
                      <a:lnTo>
                        <a:pt x="84" y="252"/>
                      </a:lnTo>
                      <a:lnTo>
                        <a:pt x="60" y="252"/>
                      </a:lnTo>
                      <a:lnTo>
                        <a:pt x="48" y="240"/>
                      </a:lnTo>
                      <a:lnTo>
                        <a:pt x="12" y="228"/>
                      </a:lnTo>
                      <a:lnTo>
                        <a:pt x="0" y="216"/>
                      </a:lnTo>
                      <a:lnTo>
                        <a:pt x="1740" y="0"/>
                      </a:lnTo>
                      <a:lnTo>
                        <a:pt x="300" y="3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906200" y="5929200"/>
                  <a:ext cx="254880" cy="319320"/>
                </a:xfrm>
                <a:custGeom>
                  <a:avLst/>
                  <a:gdLst/>
                  <a:ahLst/>
                  <a:rect l="l" t="t" r="r" b="b"/>
                  <a:pathLst>
                    <a:path w="53" h="63">
                      <a:moveTo>
                        <a:pt x="0" y="63"/>
                      </a:moveTo>
                      <a:lnTo>
                        <a:pt x="0" y="53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236680" y="5663160"/>
                  <a:ext cx="1384560" cy="392400"/>
                </a:xfrm>
                <a:custGeom>
                  <a:avLst/>
                  <a:gdLst/>
                  <a:ahLst/>
                  <a:rect l="l" t="t" r="r" b="b"/>
                  <a:pathLst>
                    <a:path w="2892" h="708">
                      <a:moveTo>
                        <a:pt x="2892" y="0"/>
                      </a:moveTo>
                      <a:lnTo>
                        <a:pt x="2844" y="12"/>
                      </a:lnTo>
                      <a:lnTo>
                        <a:pt x="2832" y="24"/>
                      </a:lnTo>
                      <a:lnTo>
                        <a:pt x="2784" y="36"/>
                      </a:lnTo>
                      <a:lnTo>
                        <a:pt x="2760" y="36"/>
                      </a:lnTo>
                      <a:lnTo>
                        <a:pt x="2700" y="48"/>
                      </a:lnTo>
                      <a:lnTo>
                        <a:pt x="2652" y="60"/>
                      </a:lnTo>
                      <a:lnTo>
                        <a:pt x="2628" y="72"/>
                      </a:lnTo>
                      <a:lnTo>
                        <a:pt x="2568" y="84"/>
                      </a:lnTo>
                      <a:lnTo>
                        <a:pt x="2520" y="96"/>
                      </a:lnTo>
                      <a:lnTo>
                        <a:pt x="2484" y="96"/>
                      </a:lnTo>
                      <a:lnTo>
                        <a:pt x="2436" y="108"/>
                      </a:lnTo>
                      <a:lnTo>
                        <a:pt x="2400" y="108"/>
                      </a:lnTo>
                      <a:lnTo>
                        <a:pt x="2340" y="120"/>
                      </a:lnTo>
                      <a:lnTo>
                        <a:pt x="2280" y="120"/>
                      </a:lnTo>
                      <a:lnTo>
                        <a:pt x="2256" y="132"/>
                      </a:lnTo>
                      <a:lnTo>
                        <a:pt x="2196" y="132"/>
                      </a:lnTo>
                      <a:lnTo>
                        <a:pt x="2160" y="144"/>
                      </a:lnTo>
                      <a:lnTo>
                        <a:pt x="2100" y="144"/>
                      </a:lnTo>
                      <a:lnTo>
                        <a:pt x="2040" y="156"/>
                      </a:lnTo>
                      <a:lnTo>
                        <a:pt x="2004" y="156"/>
                      </a:lnTo>
                      <a:lnTo>
                        <a:pt x="1932" y="156"/>
                      </a:lnTo>
                      <a:lnTo>
                        <a:pt x="1872" y="168"/>
                      </a:lnTo>
                      <a:lnTo>
                        <a:pt x="1836" y="168"/>
                      </a:lnTo>
                      <a:lnTo>
                        <a:pt x="1776" y="168"/>
                      </a:lnTo>
                      <a:lnTo>
                        <a:pt x="1740" y="168"/>
                      </a:lnTo>
                      <a:lnTo>
                        <a:pt x="1668" y="168"/>
                      </a:lnTo>
                      <a:lnTo>
                        <a:pt x="1608" y="180"/>
                      </a:lnTo>
                      <a:lnTo>
                        <a:pt x="1572" y="180"/>
                      </a:lnTo>
                      <a:lnTo>
                        <a:pt x="1500" y="180"/>
                      </a:lnTo>
                      <a:lnTo>
                        <a:pt x="1440" y="180"/>
                      </a:lnTo>
                      <a:lnTo>
                        <a:pt x="1404" y="180"/>
                      </a:lnTo>
                      <a:lnTo>
                        <a:pt x="1332" y="180"/>
                      </a:lnTo>
                      <a:lnTo>
                        <a:pt x="1308" y="180"/>
                      </a:lnTo>
                      <a:lnTo>
                        <a:pt x="1236" y="180"/>
                      </a:lnTo>
                      <a:lnTo>
                        <a:pt x="1164" y="168"/>
                      </a:lnTo>
                      <a:lnTo>
                        <a:pt x="1140" y="168"/>
                      </a:lnTo>
                      <a:lnTo>
                        <a:pt x="1068" y="168"/>
                      </a:lnTo>
                      <a:lnTo>
                        <a:pt x="1032" y="168"/>
                      </a:lnTo>
                      <a:lnTo>
                        <a:pt x="972" y="168"/>
                      </a:lnTo>
                      <a:lnTo>
                        <a:pt x="900" y="156"/>
                      </a:lnTo>
                      <a:lnTo>
                        <a:pt x="876" y="156"/>
                      </a:lnTo>
                      <a:lnTo>
                        <a:pt x="804" y="144"/>
                      </a:lnTo>
                      <a:lnTo>
                        <a:pt x="744" y="144"/>
                      </a:lnTo>
                      <a:lnTo>
                        <a:pt x="708" y="144"/>
                      </a:lnTo>
                      <a:lnTo>
                        <a:pt x="648" y="132"/>
                      </a:lnTo>
                      <a:lnTo>
                        <a:pt x="624" y="132"/>
                      </a:lnTo>
                      <a:lnTo>
                        <a:pt x="564" y="120"/>
                      </a:lnTo>
                      <a:lnTo>
                        <a:pt x="504" y="108"/>
                      </a:lnTo>
                      <a:lnTo>
                        <a:pt x="468" y="108"/>
                      </a:lnTo>
                      <a:lnTo>
                        <a:pt x="408" y="96"/>
                      </a:lnTo>
                      <a:lnTo>
                        <a:pt x="384" y="96"/>
                      </a:lnTo>
                      <a:lnTo>
                        <a:pt x="324" y="84"/>
                      </a:lnTo>
                      <a:lnTo>
                        <a:pt x="276" y="72"/>
                      </a:lnTo>
                      <a:lnTo>
                        <a:pt x="252" y="72"/>
                      </a:lnTo>
                      <a:lnTo>
                        <a:pt x="192" y="60"/>
                      </a:lnTo>
                      <a:lnTo>
                        <a:pt x="144" y="48"/>
                      </a:lnTo>
                      <a:lnTo>
                        <a:pt x="120" y="36"/>
                      </a:lnTo>
                      <a:lnTo>
                        <a:pt x="72" y="24"/>
                      </a:lnTo>
                      <a:lnTo>
                        <a:pt x="48" y="24"/>
                      </a:lnTo>
                      <a:lnTo>
                        <a:pt x="0" y="12"/>
                      </a:lnTo>
                      <a:lnTo>
                        <a:pt x="0" y="540"/>
                      </a:lnTo>
                      <a:lnTo>
                        <a:pt x="48" y="552"/>
                      </a:lnTo>
                      <a:lnTo>
                        <a:pt x="72" y="552"/>
                      </a:lnTo>
                      <a:lnTo>
                        <a:pt x="120" y="564"/>
                      </a:lnTo>
                      <a:lnTo>
                        <a:pt x="144" y="576"/>
                      </a:lnTo>
                      <a:lnTo>
                        <a:pt x="192" y="588"/>
                      </a:lnTo>
                      <a:lnTo>
                        <a:pt x="252" y="600"/>
                      </a:lnTo>
                      <a:lnTo>
                        <a:pt x="276" y="600"/>
                      </a:lnTo>
                      <a:lnTo>
                        <a:pt x="324" y="612"/>
                      </a:lnTo>
                      <a:lnTo>
                        <a:pt x="384" y="624"/>
                      </a:lnTo>
                      <a:lnTo>
                        <a:pt x="408" y="624"/>
                      </a:lnTo>
                      <a:lnTo>
                        <a:pt x="468" y="636"/>
                      </a:lnTo>
                      <a:lnTo>
                        <a:pt x="504" y="636"/>
                      </a:lnTo>
                      <a:lnTo>
                        <a:pt x="564" y="648"/>
                      </a:lnTo>
                      <a:lnTo>
                        <a:pt x="624" y="660"/>
                      </a:lnTo>
                      <a:lnTo>
                        <a:pt x="648" y="660"/>
                      </a:lnTo>
                      <a:lnTo>
                        <a:pt x="708" y="672"/>
                      </a:lnTo>
                      <a:lnTo>
                        <a:pt x="744" y="672"/>
                      </a:lnTo>
                      <a:lnTo>
                        <a:pt x="804" y="672"/>
                      </a:lnTo>
                      <a:lnTo>
                        <a:pt x="876" y="684"/>
                      </a:lnTo>
                      <a:lnTo>
                        <a:pt x="900" y="684"/>
                      </a:lnTo>
                      <a:lnTo>
                        <a:pt x="972" y="696"/>
                      </a:lnTo>
                      <a:lnTo>
                        <a:pt x="1032" y="696"/>
                      </a:lnTo>
                      <a:lnTo>
                        <a:pt x="1068" y="696"/>
                      </a:lnTo>
                      <a:lnTo>
                        <a:pt x="1140" y="696"/>
                      </a:lnTo>
                      <a:lnTo>
                        <a:pt x="1164" y="696"/>
                      </a:lnTo>
                      <a:lnTo>
                        <a:pt x="1236" y="708"/>
                      </a:lnTo>
                      <a:lnTo>
                        <a:pt x="1308" y="708"/>
                      </a:lnTo>
                      <a:lnTo>
                        <a:pt x="1332" y="708"/>
                      </a:lnTo>
                      <a:lnTo>
                        <a:pt x="1404" y="708"/>
                      </a:lnTo>
                      <a:lnTo>
                        <a:pt x="1440" y="708"/>
                      </a:lnTo>
                      <a:lnTo>
                        <a:pt x="1500" y="708"/>
                      </a:lnTo>
                      <a:lnTo>
                        <a:pt x="1572" y="708"/>
                      </a:lnTo>
                      <a:lnTo>
                        <a:pt x="1608" y="708"/>
                      </a:lnTo>
                      <a:lnTo>
                        <a:pt x="1668" y="696"/>
                      </a:lnTo>
                      <a:lnTo>
                        <a:pt x="1740" y="696"/>
                      </a:lnTo>
                      <a:lnTo>
                        <a:pt x="1776" y="696"/>
                      </a:lnTo>
                      <a:lnTo>
                        <a:pt x="1836" y="696"/>
                      </a:lnTo>
                      <a:lnTo>
                        <a:pt x="1872" y="696"/>
                      </a:lnTo>
                      <a:lnTo>
                        <a:pt x="1932" y="684"/>
                      </a:lnTo>
                      <a:lnTo>
                        <a:pt x="2004" y="684"/>
                      </a:lnTo>
                      <a:lnTo>
                        <a:pt x="2040" y="684"/>
                      </a:lnTo>
                      <a:lnTo>
                        <a:pt x="2100" y="672"/>
                      </a:lnTo>
                      <a:lnTo>
                        <a:pt x="2160" y="672"/>
                      </a:lnTo>
                      <a:lnTo>
                        <a:pt x="2196" y="660"/>
                      </a:lnTo>
                      <a:lnTo>
                        <a:pt x="2256" y="660"/>
                      </a:lnTo>
                      <a:lnTo>
                        <a:pt x="2280" y="648"/>
                      </a:lnTo>
                      <a:lnTo>
                        <a:pt x="2340" y="648"/>
                      </a:lnTo>
                      <a:lnTo>
                        <a:pt x="2400" y="636"/>
                      </a:lnTo>
                      <a:lnTo>
                        <a:pt x="2436" y="636"/>
                      </a:lnTo>
                      <a:lnTo>
                        <a:pt x="2484" y="624"/>
                      </a:lnTo>
                      <a:lnTo>
                        <a:pt x="2520" y="624"/>
                      </a:lnTo>
                      <a:lnTo>
                        <a:pt x="2568" y="612"/>
                      </a:lnTo>
                      <a:lnTo>
                        <a:pt x="2628" y="600"/>
                      </a:lnTo>
                      <a:lnTo>
                        <a:pt x="2652" y="588"/>
                      </a:lnTo>
                      <a:lnTo>
                        <a:pt x="2700" y="576"/>
                      </a:lnTo>
                      <a:lnTo>
                        <a:pt x="2760" y="564"/>
                      </a:lnTo>
                      <a:lnTo>
                        <a:pt x="2784" y="564"/>
                      </a:lnTo>
                      <a:lnTo>
                        <a:pt x="2832" y="552"/>
                      </a:lnTo>
                      <a:lnTo>
                        <a:pt x="2844" y="540"/>
                      </a:lnTo>
                      <a:lnTo>
                        <a:pt x="2892" y="528"/>
                      </a:lnTo>
                      <a:lnTo>
                        <a:pt x="2892" y="0"/>
                      </a:lnTo>
                      <a:close/>
                    </a:path>
                  </a:pathLst>
                </a:custGeom>
                <a:solidFill>
                  <a:srgbClr val="664d80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236680" y="5483160"/>
                  <a:ext cx="1384560" cy="279360"/>
                </a:xfrm>
                <a:custGeom>
                  <a:avLst/>
                  <a:gdLst/>
                  <a:ahLst/>
                  <a:rect l="l" t="t" r="r" b="b"/>
                  <a:pathLst>
                    <a:path w="2892" h="504">
                      <a:moveTo>
                        <a:pt x="2892" y="324"/>
                      </a:moveTo>
                      <a:lnTo>
                        <a:pt x="2844" y="336"/>
                      </a:lnTo>
                      <a:lnTo>
                        <a:pt x="2832" y="348"/>
                      </a:lnTo>
                      <a:lnTo>
                        <a:pt x="2784" y="360"/>
                      </a:lnTo>
                      <a:lnTo>
                        <a:pt x="2760" y="360"/>
                      </a:lnTo>
                      <a:lnTo>
                        <a:pt x="2700" y="372"/>
                      </a:lnTo>
                      <a:lnTo>
                        <a:pt x="2652" y="384"/>
                      </a:lnTo>
                      <a:lnTo>
                        <a:pt x="2628" y="396"/>
                      </a:lnTo>
                      <a:lnTo>
                        <a:pt x="2568" y="408"/>
                      </a:lnTo>
                      <a:lnTo>
                        <a:pt x="2520" y="420"/>
                      </a:lnTo>
                      <a:lnTo>
                        <a:pt x="2484" y="420"/>
                      </a:lnTo>
                      <a:lnTo>
                        <a:pt x="2436" y="432"/>
                      </a:lnTo>
                      <a:lnTo>
                        <a:pt x="2400" y="432"/>
                      </a:lnTo>
                      <a:lnTo>
                        <a:pt x="2340" y="444"/>
                      </a:lnTo>
                      <a:lnTo>
                        <a:pt x="2280" y="444"/>
                      </a:lnTo>
                      <a:lnTo>
                        <a:pt x="2256" y="456"/>
                      </a:lnTo>
                      <a:lnTo>
                        <a:pt x="2196" y="456"/>
                      </a:lnTo>
                      <a:lnTo>
                        <a:pt x="2160" y="468"/>
                      </a:lnTo>
                      <a:lnTo>
                        <a:pt x="2100" y="468"/>
                      </a:lnTo>
                      <a:lnTo>
                        <a:pt x="2040" y="480"/>
                      </a:lnTo>
                      <a:lnTo>
                        <a:pt x="2004" y="480"/>
                      </a:lnTo>
                      <a:lnTo>
                        <a:pt x="1932" y="480"/>
                      </a:lnTo>
                      <a:lnTo>
                        <a:pt x="1872" y="492"/>
                      </a:lnTo>
                      <a:lnTo>
                        <a:pt x="1836" y="492"/>
                      </a:lnTo>
                      <a:lnTo>
                        <a:pt x="1776" y="492"/>
                      </a:lnTo>
                      <a:lnTo>
                        <a:pt x="1740" y="492"/>
                      </a:lnTo>
                      <a:lnTo>
                        <a:pt x="1668" y="492"/>
                      </a:lnTo>
                      <a:lnTo>
                        <a:pt x="1608" y="504"/>
                      </a:lnTo>
                      <a:lnTo>
                        <a:pt x="1572" y="504"/>
                      </a:lnTo>
                      <a:lnTo>
                        <a:pt x="1500" y="504"/>
                      </a:lnTo>
                      <a:lnTo>
                        <a:pt x="1440" y="504"/>
                      </a:lnTo>
                      <a:lnTo>
                        <a:pt x="1404" y="504"/>
                      </a:lnTo>
                      <a:lnTo>
                        <a:pt x="1332" y="504"/>
                      </a:lnTo>
                      <a:lnTo>
                        <a:pt x="1308" y="504"/>
                      </a:lnTo>
                      <a:lnTo>
                        <a:pt x="1236" y="504"/>
                      </a:lnTo>
                      <a:lnTo>
                        <a:pt x="1164" y="492"/>
                      </a:lnTo>
                      <a:lnTo>
                        <a:pt x="1140" y="492"/>
                      </a:lnTo>
                      <a:lnTo>
                        <a:pt x="1068" y="492"/>
                      </a:lnTo>
                      <a:lnTo>
                        <a:pt x="1032" y="492"/>
                      </a:lnTo>
                      <a:lnTo>
                        <a:pt x="972" y="492"/>
                      </a:lnTo>
                      <a:lnTo>
                        <a:pt x="900" y="480"/>
                      </a:lnTo>
                      <a:lnTo>
                        <a:pt x="876" y="480"/>
                      </a:lnTo>
                      <a:lnTo>
                        <a:pt x="804" y="468"/>
                      </a:lnTo>
                      <a:lnTo>
                        <a:pt x="744" y="468"/>
                      </a:lnTo>
                      <a:lnTo>
                        <a:pt x="708" y="468"/>
                      </a:lnTo>
                      <a:lnTo>
                        <a:pt x="648" y="456"/>
                      </a:lnTo>
                      <a:lnTo>
                        <a:pt x="624" y="456"/>
                      </a:lnTo>
                      <a:lnTo>
                        <a:pt x="564" y="444"/>
                      </a:lnTo>
                      <a:lnTo>
                        <a:pt x="504" y="432"/>
                      </a:lnTo>
                      <a:lnTo>
                        <a:pt x="468" y="432"/>
                      </a:lnTo>
                      <a:lnTo>
                        <a:pt x="408" y="420"/>
                      </a:lnTo>
                      <a:lnTo>
                        <a:pt x="384" y="420"/>
                      </a:lnTo>
                      <a:lnTo>
                        <a:pt x="324" y="408"/>
                      </a:lnTo>
                      <a:lnTo>
                        <a:pt x="276" y="396"/>
                      </a:lnTo>
                      <a:lnTo>
                        <a:pt x="252" y="396"/>
                      </a:lnTo>
                      <a:lnTo>
                        <a:pt x="192" y="384"/>
                      </a:lnTo>
                      <a:lnTo>
                        <a:pt x="144" y="372"/>
                      </a:lnTo>
                      <a:lnTo>
                        <a:pt x="120" y="360"/>
                      </a:lnTo>
                      <a:lnTo>
                        <a:pt x="72" y="348"/>
                      </a:lnTo>
                      <a:lnTo>
                        <a:pt x="48" y="348"/>
                      </a:lnTo>
                      <a:lnTo>
                        <a:pt x="0" y="336"/>
                      </a:lnTo>
                      <a:lnTo>
                        <a:pt x="1440" y="0"/>
                      </a:lnTo>
                      <a:lnTo>
                        <a:pt x="2892" y="324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657600" y="4965840"/>
                <a:ext cx="9907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7a"/>
                    </a:solidFill>
                    <a:latin typeface="Times New Roman"/>
                  </a:rPr>
                  <a:t>Жилая зона, 25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14600" y="4800600"/>
                <a:ext cx="9907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7a"/>
                    </a:solidFill>
                    <a:latin typeface="Times New Roman"/>
                  </a:rPr>
                  <a:t>Неудобицы, свалки, 8%, 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62320" y="6095880"/>
                <a:ext cx="990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7a"/>
                    </a:solidFill>
                    <a:latin typeface="Times New Roman"/>
                  </a:rPr>
                  <a:t>Промзона, 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7a"/>
                    </a:solidFill>
                    <a:latin typeface="Times New Roman"/>
                  </a:rPr>
                  <a:t>склады, 26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429000" y="6248520"/>
                <a:ext cx="1371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7a"/>
                    </a:solidFill>
                    <a:latin typeface="Times New Roman"/>
                  </a:rPr>
                  <a:t>Улично-дорожная сеть,12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43000" y="6248520"/>
                <a:ext cx="11430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7a"/>
                    </a:solidFill>
                    <a:latin typeface="Times New Roman"/>
                  </a:rPr>
                  <a:t>Зона железной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7a"/>
                    </a:solidFill>
                    <a:latin typeface="Times New Roman"/>
                  </a:rPr>
                  <a:t>дороги, 4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43000" y="4673520"/>
                <a:ext cx="10666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7a"/>
                    </a:solidFill>
                    <a:latin typeface="Times New Roman"/>
                  </a:rPr>
                  <a:t>Водные прост-ранства, 9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990720" y="5041800"/>
                <a:ext cx="8380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7a"/>
                    </a:solidFill>
                    <a:latin typeface="Times New Roman"/>
                  </a:rPr>
                  <a:t>Лесной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7a"/>
                    </a:solidFill>
                    <a:latin typeface="Times New Roman"/>
                  </a:rPr>
                  <a:t>фонд, 14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066680" y="5686560"/>
                <a:ext cx="83844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7a"/>
                    </a:solidFill>
                    <a:latin typeface="Times New Roman"/>
                  </a:rPr>
                  <a:t>Зеленые на-саждения,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7a"/>
                    </a:solidFill>
                    <a:latin typeface="Times New Roman"/>
                  </a:rPr>
                  <a:t>2 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66680" y="4419720"/>
                <a:ext cx="37339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7a"/>
                    </a:solidFill>
                    <a:latin typeface="Times New Roman"/>
                  </a:rPr>
                  <a:t>Структура территории Новосибирска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5105520" y="4343400"/>
            <a:ext cx="3886200" cy="2362320"/>
            <a:chOff x="5105520" y="4343400"/>
            <a:chExt cx="3886200" cy="2362320"/>
          </a:xfrm>
        </p:grpSpPr>
        <p:sp>
          <p:nvSpPr>
            <p:cNvPr id="234" name=""/>
            <p:cNvSpPr/>
            <p:nvPr/>
          </p:nvSpPr>
          <p:spPr>
            <a:xfrm>
              <a:off x="5105520" y="4343400"/>
              <a:ext cx="3886200" cy="2362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4419720"/>
              <a:ext cx="335736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Показатели климата Новосибирск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08640" y="4648320"/>
              <a:ext cx="3357360" cy="19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Средняя годовая температура воздуха –  0,2</a:t>
              </a:r>
              <a:r>
                <a:rPr b="1" i="1" lang="ru-RU" sz="1200" spc="-1" strike="noStrike" baseline="30000">
                  <a:solidFill>
                    <a:srgbClr val="00007a"/>
                  </a:solidFill>
                  <a:latin typeface="Times New Roman"/>
                  <a:ea typeface="Times New Roman"/>
                </a:rPr>
                <a:t>О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 С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Среднемесячная температура: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        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самого теплого месяца (июля)   +19</a:t>
              </a:r>
              <a:r>
                <a:rPr b="1" i="1" lang="ru-RU" sz="1200" spc="-1" strike="noStrike" baseline="30000">
                  <a:solidFill>
                    <a:srgbClr val="00007a"/>
                  </a:solidFill>
                  <a:latin typeface="Times New Roman"/>
                  <a:ea typeface="Times New Roman"/>
                </a:rPr>
                <a:t>О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 С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         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самого холодного (января)  -19</a:t>
              </a:r>
              <a:r>
                <a:rPr b="1" i="1" lang="ru-RU" sz="1200" spc="-1" strike="noStrike" baseline="30000">
                  <a:solidFill>
                    <a:srgbClr val="00007a"/>
                  </a:solidFill>
                  <a:latin typeface="Times New Roman"/>
                  <a:ea typeface="Times New Roman"/>
                </a:rPr>
                <a:t>О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 С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Абсолютный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	</a:t>
              </a:r>
              <a:r>
                <a:rPr b="1" i="1" lang="en-US" sz="1200" spc="-1" strike="noStrike">
                  <a:solidFill>
                    <a:srgbClr val="00007a"/>
                  </a:solidFill>
                  <a:latin typeface="Times New Roman"/>
                </a:rPr>
                <a:t>max 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температуры воздуха +40</a:t>
              </a:r>
              <a:r>
                <a:rPr b="1" i="1" lang="ru-RU" sz="1200" spc="-1" strike="noStrike" baseline="30000">
                  <a:solidFill>
                    <a:srgbClr val="00007a"/>
                  </a:solidFill>
                  <a:latin typeface="Times New Roman"/>
                  <a:ea typeface="Times New Roman"/>
                </a:rPr>
                <a:t>О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 С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Абсолютный </a:t>
              </a:r>
              <a:r>
                <a:rPr b="1" i="1" lang="en-US" sz="1200" spc="-1" strike="noStrike">
                  <a:solidFill>
                    <a:srgbClr val="00007a"/>
                  </a:solidFill>
                  <a:latin typeface="Times New Roman"/>
                </a:rPr>
                <a:t>min 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температуры воздуха  -51</a:t>
              </a:r>
              <a:r>
                <a:rPr b="1" i="1" lang="ru-RU" sz="1200" spc="-1" strike="noStrike" baseline="30000">
                  <a:solidFill>
                    <a:srgbClr val="00007a"/>
                  </a:solidFill>
                  <a:latin typeface="Times New Roman"/>
                  <a:ea typeface="Times New Roman"/>
                </a:rPr>
                <a:t>О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 С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 Периоды со среднесуточной  температурой6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	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выше 0</a:t>
              </a:r>
              <a:r>
                <a:rPr b="1" i="1" lang="ru-RU" sz="1200" spc="-1" strike="noStrike" baseline="30000">
                  <a:solidFill>
                    <a:srgbClr val="00007a"/>
                  </a:solidFill>
                  <a:latin typeface="Times New Roman"/>
                  <a:ea typeface="Times New Roman"/>
                </a:rPr>
                <a:t>О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 С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 (теплый)   –  188 дней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	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ниже 0</a:t>
              </a:r>
              <a:r>
                <a:rPr b="1" i="1" lang="ru-RU" sz="1200" spc="-1" strike="noStrike" baseline="30000">
                  <a:solidFill>
                    <a:srgbClr val="00007a"/>
                  </a:solidFill>
                  <a:latin typeface="Times New Roman"/>
                  <a:ea typeface="Times New Roman"/>
                </a:rPr>
                <a:t>О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 С</a:t>
              </a: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  (холодный) – 177 дней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Сумма осадков: за год 425 мм, в том числе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В теплый период (апрель-октябрь) – 330 мм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7a"/>
                  </a:solidFill>
                  <a:latin typeface="Times New Roman"/>
                </a:rPr>
                <a:t>В холодный период  (ноябрь – март)  95 мм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62120" y="533520"/>
            <a:ext cx="8229600" cy="3733560"/>
            <a:chOff x="762120" y="533520"/>
            <a:chExt cx="8229600" cy="3733560"/>
          </a:xfrm>
        </p:grpSpPr>
        <p:sp>
          <p:nvSpPr>
            <p:cNvPr id="238" name=""/>
            <p:cNvSpPr/>
            <p:nvPr/>
          </p:nvSpPr>
          <p:spPr>
            <a:xfrm>
              <a:off x="762120" y="609480"/>
              <a:ext cx="8229600" cy="365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23920" y="533520"/>
              <a:ext cx="61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7a"/>
                  </a:solidFill>
                  <a:latin typeface="Times New Roman"/>
                </a:rPr>
                <a:t>Заселенность</a:t>
              </a: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 районов города Новосибирск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5840" y="1724040"/>
              <a:ext cx="7913880" cy="247680"/>
            </a:xfrm>
            <a:prstGeom prst="rect">
              <a:avLst/>
            </a:prstGeom>
            <a:solidFill>
              <a:srgbClr val="fac8b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0240" y="3693960"/>
              <a:ext cx="7913880" cy="247680"/>
            </a:xfrm>
            <a:prstGeom prst="rect">
              <a:avLst/>
            </a:prstGeom>
            <a:solidFill>
              <a:srgbClr val="fac8b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914400" y="914400"/>
              <a:ext cx="7923960" cy="3276360"/>
              <a:chOff x="914400" y="914400"/>
              <a:chExt cx="7923960" cy="327636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914400" y="914400"/>
                <a:ext cx="1564920" cy="554040"/>
                <a:chOff x="914400" y="914400"/>
                <a:chExt cx="1564920" cy="5540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924120" y="916560"/>
                  <a:ext cx="1545120" cy="5515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Районы города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914400" y="914400"/>
                  <a:ext cx="1564920" cy="55404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479680" y="914400"/>
                <a:ext cx="776160" cy="554040"/>
                <a:chOff x="2479680" y="914400"/>
                <a:chExt cx="776160" cy="5540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2489400" y="916560"/>
                  <a:ext cx="756360" cy="5515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Числен</a:t>
                  </a:r>
                  <a:r>
                    <a:rPr b="0" i="1" lang="ru-RU" sz="1000" spc="-1" strike="noStrike">
                      <a:solidFill>
                        <a:srgbClr val="00007a"/>
                      </a:solidFill>
                      <a:latin typeface="Times New Roman"/>
                    </a:rPr>
                    <a:t>-</a:t>
                  </a:r>
                  <a:r>
                    <a:rPr b="0" i="1" lang="ru-RU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ность населения, тыс. чел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479680" y="914400"/>
                  <a:ext cx="776160" cy="55404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256200" y="914400"/>
                <a:ext cx="808920" cy="554040"/>
                <a:chOff x="3256200" y="914400"/>
                <a:chExt cx="808920" cy="5540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266280" y="916560"/>
                  <a:ext cx="788760" cy="5515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Площадь территории рай­на, км</a:t>
                  </a:r>
                  <a:r>
                    <a:rPr b="0" i="1" lang="en-US" sz="1000" spc="-1" strike="noStrike" baseline="30000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256200" y="914400"/>
                  <a:ext cx="808920" cy="55404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065840" y="914400"/>
                <a:ext cx="729360" cy="554040"/>
                <a:chOff x="4065840" y="914400"/>
                <a:chExt cx="729360" cy="5540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075560" y="916560"/>
                  <a:ext cx="709560" cy="5515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Жилой фонд района,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тыс. м</a:t>
                  </a:r>
                  <a:r>
                    <a:rPr b="0" i="1" lang="en-US" sz="1000" spc="-1" strike="noStrike" baseline="30000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65840" y="914400"/>
                  <a:ext cx="729360" cy="55404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795560" y="914400"/>
                <a:ext cx="853920" cy="554040"/>
                <a:chOff x="4795560" y="914400"/>
                <a:chExt cx="853920" cy="5540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805280" y="916560"/>
                  <a:ext cx="834120" cy="5515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Плотность населения человек</a:t>
                  </a:r>
                  <a:br>
                    <a:rPr sz="1000"/>
                  </a:br>
                  <a:r>
                    <a:rPr b="0" i="1" lang="en-US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на км</a:t>
                  </a:r>
                  <a:r>
                    <a:rPr b="0" i="1" lang="en-US" sz="1000" spc="-1" strike="noStrike" baseline="30000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795560" y="914400"/>
                  <a:ext cx="853920" cy="55404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649840" y="914400"/>
                <a:ext cx="1017720" cy="554040"/>
                <a:chOff x="5649840" y="914400"/>
                <a:chExt cx="1017720" cy="5540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659560" y="916560"/>
                  <a:ext cx="997920" cy="5515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Плотность жилого фонда, тыс.м</a:t>
                  </a:r>
                  <a:r>
                    <a:rPr b="0" i="1" lang="en-US" sz="1000" spc="-1" strike="noStrike" baseline="30000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</a:t>
                  </a:r>
                  <a:r>
                    <a:rPr b="0" i="1" lang="en-US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 </a:t>
                  </a:r>
                  <a:r>
                    <a:rPr b="0" i="1" lang="en-US" sz="1000" spc="-1" strike="noStrike">
                      <a:solidFill>
                        <a:srgbClr val="00007a"/>
                      </a:solidFill>
                      <a:latin typeface="Times New Roman"/>
                    </a:rPr>
                    <a:t> </a:t>
                  </a:r>
                  <a:r>
                    <a:rPr b="0" i="1" lang="en-US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на км</a:t>
                  </a:r>
                  <a:r>
                    <a:rPr b="0" i="1" lang="en-US" sz="1000" spc="-1" strike="noStrike" baseline="30000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649840" y="914400"/>
                  <a:ext cx="1017720" cy="55404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668280" y="914400"/>
                <a:ext cx="779040" cy="555840"/>
                <a:chOff x="6668280" y="914400"/>
                <a:chExt cx="779040" cy="5558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668280" y="914400"/>
                  <a:ext cx="779040" cy="5558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Доля чис</a:t>
                  </a:r>
                  <a:r>
                    <a:rPr b="0" i="1" lang="ru-RU" sz="1000" spc="-1" strike="noStrike">
                      <a:solidFill>
                        <a:srgbClr val="00007a"/>
                      </a:solidFill>
                      <a:latin typeface="Times New Roman"/>
                    </a:rPr>
                    <a:t>-</a:t>
                  </a:r>
                  <a:r>
                    <a:rPr b="0" i="1" lang="ru-RU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ленности населения района</a:t>
                  </a:r>
                  <a:r>
                    <a:rPr b="0" i="1" lang="ru-RU" sz="1000" spc="-1" strike="noStrike">
                      <a:solidFill>
                        <a:srgbClr val="00007a"/>
                      </a:solidFill>
                      <a:latin typeface="Times New Roman"/>
                    </a:rPr>
                    <a:t>,  %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68280" y="914400"/>
                  <a:ext cx="779040" cy="55584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7448040" y="914400"/>
                <a:ext cx="693360" cy="554040"/>
                <a:chOff x="7448040" y="914400"/>
                <a:chExt cx="693360" cy="554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457760" y="916560"/>
                  <a:ext cx="673560" cy="5515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Доля жилого фонда</a:t>
                  </a:r>
                  <a:r>
                    <a:rPr b="0" i="1" lang="en-US" sz="1000" spc="-1" strike="noStrike">
                      <a:solidFill>
                        <a:srgbClr val="00007a"/>
                      </a:solidFill>
                      <a:latin typeface="Times New Roman"/>
                    </a:rPr>
                    <a:t>,</a:t>
                  </a:r>
                  <a:r>
                    <a:rPr b="0" lang="en-US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%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448040" y="914400"/>
                  <a:ext cx="693360" cy="55404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8141760" y="914400"/>
                <a:ext cx="696600" cy="554040"/>
                <a:chOff x="8141760" y="914400"/>
                <a:chExt cx="696600" cy="5540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8151480" y="916560"/>
                  <a:ext cx="676800" cy="5515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Доля террито­</a:t>
                  </a:r>
                  <a:br>
                    <a:rPr sz="1000"/>
                  </a:br>
                  <a:r>
                    <a:rPr b="0" i="1" lang="ru-RU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рии рай</a:t>
                  </a:r>
                  <a:r>
                    <a:rPr b="0" i="1" lang="ru-RU" sz="1000" spc="-1" strike="noStrike">
                      <a:solidFill>
                        <a:srgbClr val="00007a"/>
                      </a:solidFill>
                      <a:latin typeface="Times New Roman"/>
                    </a:rPr>
                    <a:t>-</a:t>
                  </a:r>
                  <a:r>
                    <a:rPr b="0" i="1" lang="ru-RU" sz="10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она, %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141760" y="914400"/>
                  <a:ext cx="696600" cy="55404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14400" y="1470240"/>
                <a:ext cx="1564920" cy="245160"/>
                <a:chOff x="914400" y="1470240"/>
                <a:chExt cx="1564920" cy="2451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24120" y="1472400"/>
                  <a:ext cx="1545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</a:rPr>
                    <a:t>  </a:t>
                  </a:r>
                  <a:r>
                    <a:rPr b="0" i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Дзержинский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14400" y="1470240"/>
                  <a:ext cx="1564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479680" y="1470240"/>
                <a:ext cx="776160" cy="245160"/>
                <a:chOff x="2479680" y="1470240"/>
                <a:chExt cx="776160" cy="245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489400" y="1472400"/>
                  <a:ext cx="7563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56,4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79680" y="1470240"/>
                  <a:ext cx="7761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256200" y="1470240"/>
                <a:ext cx="808920" cy="245160"/>
                <a:chOff x="3256200" y="1470240"/>
                <a:chExt cx="808920" cy="2451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266280" y="1472400"/>
                  <a:ext cx="7887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36,7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256200" y="1470240"/>
                  <a:ext cx="808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065840" y="1470240"/>
                <a:ext cx="729360" cy="245160"/>
                <a:chOff x="4065840" y="1470240"/>
                <a:chExt cx="729360" cy="2451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075560" y="1472400"/>
                  <a:ext cx="709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809,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065840" y="1470240"/>
                  <a:ext cx="729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795560" y="1470240"/>
                <a:ext cx="853920" cy="245160"/>
                <a:chOff x="4795560" y="1470240"/>
                <a:chExt cx="853920" cy="2451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805280" y="1472400"/>
                  <a:ext cx="834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426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795560" y="1470240"/>
                  <a:ext cx="853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5649840" y="1470240"/>
                <a:ext cx="1017720" cy="245160"/>
                <a:chOff x="5649840" y="1470240"/>
                <a:chExt cx="1017720" cy="245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659560" y="1472400"/>
                  <a:ext cx="9979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76,5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649840" y="1470240"/>
                  <a:ext cx="10177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668280" y="1470240"/>
                <a:ext cx="779040" cy="247680"/>
                <a:chOff x="6668280" y="1470240"/>
                <a:chExt cx="779040" cy="2476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6668280" y="1470240"/>
                  <a:ext cx="779040" cy="24768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1,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668280" y="1470240"/>
                  <a:ext cx="779040" cy="2476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448040" y="1470240"/>
                <a:ext cx="693360" cy="245160"/>
                <a:chOff x="7448040" y="1470240"/>
                <a:chExt cx="693360" cy="2451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457760" y="1472400"/>
                  <a:ext cx="673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0,8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448040" y="1470240"/>
                  <a:ext cx="693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8141760" y="1470240"/>
                <a:ext cx="696600" cy="245160"/>
                <a:chOff x="8141760" y="1470240"/>
                <a:chExt cx="696600" cy="2451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8151480" y="1472400"/>
                  <a:ext cx="67680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7,3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141760" y="1470240"/>
                  <a:ext cx="69660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914400" y="1718280"/>
                <a:ext cx="1564920" cy="244080"/>
                <a:chOff x="914400" y="1718280"/>
                <a:chExt cx="1564920" cy="2440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24120" y="1720440"/>
                  <a:ext cx="15451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</a:rPr>
                    <a:t>  </a:t>
                  </a:r>
                  <a:r>
                    <a:rPr b="0" i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Железнодорожный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914400" y="1718280"/>
                  <a:ext cx="1564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479680" y="1718280"/>
                <a:ext cx="776160" cy="244080"/>
                <a:chOff x="2479680" y="1718280"/>
                <a:chExt cx="776160" cy="2440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489400" y="1720440"/>
                  <a:ext cx="7563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63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479680" y="1718280"/>
                  <a:ext cx="7761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256200" y="1718280"/>
                <a:ext cx="808920" cy="244080"/>
                <a:chOff x="3256200" y="1718280"/>
                <a:chExt cx="808920" cy="2440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266280" y="1720440"/>
                  <a:ext cx="7887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7,5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256200" y="1718280"/>
                  <a:ext cx="808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065840" y="1718280"/>
                <a:ext cx="729360" cy="244080"/>
                <a:chOff x="4065840" y="1718280"/>
                <a:chExt cx="729360" cy="2440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075560" y="1720440"/>
                  <a:ext cx="7095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36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065840" y="1718280"/>
                  <a:ext cx="7293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795560" y="1718280"/>
                <a:ext cx="853920" cy="244080"/>
                <a:chOff x="4795560" y="1718280"/>
                <a:chExt cx="853920" cy="2440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805280" y="1720440"/>
                  <a:ext cx="8341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840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95560" y="1718280"/>
                  <a:ext cx="853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649840" y="1718280"/>
                <a:ext cx="1017720" cy="244080"/>
                <a:chOff x="5649840" y="1718280"/>
                <a:chExt cx="1017720" cy="2440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659560" y="1720440"/>
                  <a:ext cx="9979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81,6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649840" y="1718280"/>
                  <a:ext cx="10177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68280" y="1718280"/>
                <a:ext cx="779040" cy="247320"/>
                <a:chOff x="6668280" y="1718280"/>
                <a:chExt cx="779040" cy="247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8280" y="1718280"/>
                  <a:ext cx="779040" cy="2473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4,4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68280" y="1718280"/>
                  <a:ext cx="779040" cy="24732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48040" y="1718280"/>
                <a:ext cx="693360" cy="244080"/>
                <a:chOff x="7448040" y="1718280"/>
                <a:chExt cx="693360" cy="244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457760" y="1720440"/>
                  <a:ext cx="6735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5,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48040" y="1718280"/>
                  <a:ext cx="6933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8141760" y="1718280"/>
                <a:ext cx="696600" cy="244080"/>
                <a:chOff x="8141760" y="1718280"/>
                <a:chExt cx="696600" cy="244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8151480" y="1720440"/>
                  <a:ext cx="67680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,5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141760" y="1718280"/>
                  <a:ext cx="69660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14400" y="1965600"/>
                <a:ext cx="1564920" cy="244080"/>
                <a:chOff x="914400" y="1965600"/>
                <a:chExt cx="1564920" cy="244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924120" y="1968120"/>
                  <a:ext cx="15451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7a"/>
                      </a:solidFill>
                      <a:latin typeface="Times New Roman"/>
                    </a:rPr>
                    <a:t>  </a:t>
                  </a:r>
                  <a:r>
                    <a:rPr b="0" lang="ru-RU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Зае</a:t>
                  </a:r>
                  <a:r>
                    <a:rPr b="0" i="1" lang="ru-RU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л</a:t>
                  </a:r>
                  <a:r>
                    <a:rPr b="0" lang="ru-RU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ьцовский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14400" y="1965600"/>
                  <a:ext cx="1564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2479680" y="1965600"/>
                <a:ext cx="776160" cy="244080"/>
                <a:chOff x="2479680" y="1965600"/>
                <a:chExt cx="776160" cy="2440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489400" y="1968120"/>
                  <a:ext cx="7563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37,6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479680" y="1965600"/>
                  <a:ext cx="7761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3256200" y="1965600"/>
                <a:ext cx="808920" cy="244080"/>
                <a:chOff x="3256200" y="1965600"/>
                <a:chExt cx="808920" cy="2440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266280" y="1968120"/>
                  <a:ext cx="7887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83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256200" y="1965600"/>
                  <a:ext cx="808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4065840" y="1965600"/>
                <a:ext cx="729360" cy="244080"/>
                <a:chOff x="4065840" y="1965600"/>
                <a:chExt cx="729360" cy="2440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075560" y="1968120"/>
                  <a:ext cx="7095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555,1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065840" y="1965600"/>
                  <a:ext cx="7293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795560" y="1965600"/>
                <a:ext cx="853920" cy="244080"/>
                <a:chOff x="4795560" y="1965600"/>
                <a:chExt cx="853920" cy="244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805280" y="1968120"/>
                  <a:ext cx="8341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658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795560" y="1965600"/>
                  <a:ext cx="853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649840" y="1965600"/>
                <a:ext cx="1017720" cy="244080"/>
                <a:chOff x="5649840" y="1965600"/>
                <a:chExt cx="1017720" cy="2440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659560" y="1968120"/>
                  <a:ext cx="9979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30,8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649840" y="1965600"/>
                  <a:ext cx="10177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668280" y="1965600"/>
                <a:ext cx="779040" cy="246240"/>
                <a:chOff x="6668280" y="1965600"/>
                <a:chExt cx="779040" cy="2462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668280" y="1965600"/>
                  <a:ext cx="779040" cy="2462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9,7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68280" y="1965600"/>
                  <a:ext cx="779040" cy="24624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448040" y="1965600"/>
                <a:ext cx="693360" cy="244080"/>
                <a:chOff x="7448040" y="1965600"/>
                <a:chExt cx="693360" cy="244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7457760" y="1968120"/>
                  <a:ext cx="6735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9,8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448040" y="1965600"/>
                  <a:ext cx="6933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8141760" y="1965600"/>
                <a:ext cx="696600" cy="244080"/>
                <a:chOff x="8141760" y="1965600"/>
                <a:chExt cx="696600" cy="2440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8151480" y="1968120"/>
                  <a:ext cx="67680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6,6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141760" y="1965600"/>
                  <a:ext cx="69660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914400" y="2212200"/>
                <a:ext cx="1564920" cy="245160"/>
                <a:chOff x="914400" y="2212200"/>
                <a:chExt cx="1564920" cy="2451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924120" y="2214360"/>
                  <a:ext cx="1545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</a:rPr>
                    <a:t>  </a:t>
                  </a:r>
                  <a:r>
                    <a:rPr b="0" i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Калининский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914400" y="2212200"/>
                  <a:ext cx="1564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479680" y="2212200"/>
                <a:ext cx="776160" cy="245160"/>
                <a:chOff x="2479680" y="2212200"/>
                <a:chExt cx="776160" cy="2451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489400" y="2214360"/>
                  <a:ext cx="7563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74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479680" y="2212200"/>
                  <a:ext cx="7761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256200" y="2212200"/>
                <a:ext cx="808920" cy="245160"/>
                <a:chOff x="3256200" y="2212200"/>
                <a:chExt cx="808920" cy="245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266280" y="2214360"/>
                  <a:ext cx="7887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41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56200" y="2212200"/>
                  <a:ext cx="808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4065840" y="2212200"/>
                <a:ext cx="729360" cy="245160"/>
                <a:chOff x="4065840" y="2212200"/>
                <a:chExt cx="729360" cy="2451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075560" y="2214360"/>
                  <a:ext cx="709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877,9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065840" y="2212200"/>
                  <a:ext cx="729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795560" y="2212200"/>
                <a:ext cx="853920" cy="245160"/>
                <a:chOff x="4795560" y="2212200"/>
                <a:chExt cx="853920" cy="2451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805280" y="2214360"/>
                  <a:ext cx="834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4244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795560" y="2212200"/>
                  <a:ext cx="853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649840" y="2212200"/>
                <a:ext cx="1017720" cy="245160"/>
                <a:chOff x="5649840" y="2212200"/>
                <a:chExt cx="1017720" cy="2451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659560" y="2214360"/>
                  <a:ext cx="9979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70,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649840" y="2212200"/>
                  <a:ext cx="10177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68280" y="2212200"/>
                <a:ext cx="779040" cy="247320"/>
                <a:chOff x="6668280" y="2212200"/>
                <a:chExt cx="779040" cy="2473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8280" y="2212200"/>
                  <a:ext cx="779040" cy="2473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2,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68280" y="2212200"/>
                  <a:ext cx="779040" cy="24732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48040" y="2212200"/>
                <a:ext cx="693360" cy="245160"/>
                <a:chOff x="7448040" y="2212200"/>
                <a:chExt cx="693360" cy="2451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457760" y="2214360"/>
                  <a:ext cx="673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1,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48040" y="2212200"/>
                  <a:ext cx="693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8141760" y="2212200"/>
                <a:ext cx="696600" cy="245160"/>
                <a:chOff x="8141760" y="2212200"/>
                <a:chExt cx="696600" cy="2451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8151480" y="2214360"/>
                  <a:ext cx="67680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8,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141760" y="2212200"/>
                  <a:ext cx="69660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14400" y="2459520"/>
                <a:ext cx="1564920" cy="245160"/>
                <a:chOff x="914400" y="2459520"/>
                <a:chExt cx="1564920" cy="24516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924120" y="2461680"/>
                  <a:ext cx="1545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</a:rPr>
                    <a:t>  </a:t>
                  </a:r>
                  <a:r>
                    <a:rPr b="0" i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Кировский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14400" y="2459520"/>
                  <a:ext cx="1564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479680" y="2459520"/>
                <a:ext cx="776160" cy="245160"/>
                <a:chOff x="2479680" y="2459520"/>
                <a:chExt cx="776160" cy="2451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489400" y="2461680"/>
                  <a:ext cx="7563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69,8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79680" y="2459520"/>
                  <a:ext cx="7761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256200" y="2459520"/>
                <a:ext cx="808920" cy="245160"/>
                <a:chOff x="3256200" y="2459520"/>
                <a:chExt cx="808920" cy="24516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266280" y="2461680"/>
                  <a:ext cx="7887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5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256200" y="2459520"/>
                  <a:ext cx="808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065840" y="2459520"/>
                <a:ext cx="729360" cy="245160"/>
                <a:chOff x="4065840" y="2459520"/>
                <a:chExt cx="729360" cy="2451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075560" y="2461680"/>
                  <a:ext cx="709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3054,5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065840" y="2459520"/>
                  <a:ext cx="729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795560" y="2459520"/>
                <a:ext cx="853920" cy="245160"/>
                <a:chOff x="4795560" y="2459520"/>
                <a:chExt cx="853920" cy="24516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805280" y="2461680"/>
                  <a:ext cx="834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3265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795560" y="2459520"/>
                  <a:ext cx="853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5649840" y="2459520"/>
                <a:ext cx="1017720" cy="245160"/>
                <a:chOff x="5649840" y="2459520"/>
                <a:chExt cx="1017720" cy="24516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5659560" y="2461680"/>
                  <a:ext cx="9979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58,7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649840" y="2459520"/>
                  <a:ext cx="10177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668280" y="2459520"/>
                <a:ext cx="779040" cy="247320"/>
                <a:chOff x="6668280" y="2459520"/>
                <a:chExt cx="779040" cy="2473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6668280" y="2459520"/>
                  <a:ext cx="779040" cy="2473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1,9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668280" y="2459520"/>
                  <a:ext cx="779040" cy="24732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7448040" y="2459520"/>
                <a:ext cx="693360" cy="245160"/>
                <a:chOff x="7448040" y="2459520"/>
                <a:chExt cx="693360" cy="2451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457760" y="2461680"/>
                  <a:ext cx="673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1,7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448040" y="2459520"/>
                  <a:ext cx="693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8141760" y="2459520"/>
                <a:ext cx="696600" cy="245160"/>
                <a:chOff x="8141760" y="2459520"/>
                <a:chExt cx="696600" cy="2451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8151480" y="2461680"/>
                  <a:ext cx="67680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0,4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141760" y="2459520"/>
                  <a:ext cx="69660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914400" y="2706840"/>
                <a:ext cx="1564920" cy="245160"/>
                <a:chOff x="914400" y="2706840"/>
                <a:chExt cx="1564920" cy="2451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924120" y="2709000"/>
                  <a:ext cx="1545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</a:rPr>
                    <a:t>  </a:t>
                  </a:r>
                  <a:r>
                    <a:rPr b="0" i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Ленинский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914400" y="2706840"/>
                  <a:ext cx="1564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479680" y="2706840"/>
                <a:ext cx="776160" cy="245160"/>
                <a:chOff x="2479680" y="2706840"/>
                <a:chExt cx="776160" cy="2451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2489400" y="2709000"/>
                  <a:ext cx="7563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73,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479680" y="2706840"/>
                  <a:ext cx="7761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256200" y="2706840"/>
                <a:ext cx="808920" cy="245160"/>
                <a:chOff x="3256200" y="2706840"/>
                <a:chExt cx="808920" cy="245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266280" y="2709000"/>
                  <a:ext cx="7887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70,3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256200" y="2706840"/>
                  <a:ext cx="808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4065840" y="2706840"/>
                <a:ext cx="729360" cy="245160"/>
                <a:chOff x="4065840" y="2706840"/>
                <a:chExt cx="729360" cy="24516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4075560" y="2709000"/>
                  <a:ext cx="709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5081,1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065840" y="2706840"/>
                  <a:ext cx="729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795560" y="2706840"/>
                <a:ext cx="853920" cy="245160"/>
                <a:chOff x="4795560" y="2706840"/>
                <a:chExt cx="853920" cy="2451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805280" y="2709000"/>
                  <a:ext cx="834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3886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795560" y="2706840"/>
                  <a:ext cx="853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649840" y="2706840"/>
                <a:ext cx="1017720" cy="245160"/>
                <a:chOff x="5649840" y="2706840"/>
                <a:chExt cx="1017720" cy="2451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659560" y="2709000"/>
                  <a:ext cx="9979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72,3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649840" y="2706840"/>
                  <a:ext cx="10177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68280" y="2706840"/>
                <a:ext cx="779040" cy="247680"/>
                <a:chOff x="6668280" y="2706840"/>
                <a:chExt cx="779040" cy="2476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8280" y="2706840"/>
                  <a:ext cx="779040" cy="24768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9,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68280" y="2706840"/>
                  <a:ext cx="779040" cy="2476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48040" y="2706840"/>
                <a:ext cx="693360" cy="245160"/>
                <a:chOff x="7448040" y="2706840"/>
                <a:chExt cx="693360" cy="245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457760" y="2709000"/>
                  <a:ext cx="673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9,5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48040" y="2706840"/>
                  <a:ext cx="693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8141760" y="2706840"/>
                <a:ext cx="696600" cy="245160"/>
                <a:chOff x="8141760" y="2706840"/>
                <a:chExt cx="696600" cy="2451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8151480" y="2709000"/>
                  <a:ext cx="67680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4,1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141760" y="2706840"/>
                  <a:ext cx="69660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14400" y="2954880"/>
                <a:ext cx="1564920" cy="244080"/>
                <a:chOff x="914400" y="2954880"/>
                <a:chExt cx="1564920" cy="2440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924120" y="2957040"/>
                  <a:ext cx="15451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</a:rPr>
                    <a:t>  </a:t>
                  </a:r>
                  <a:r>
                    <a:rPr b="0" i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Октябрьский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14400" y="2954880"/>
                  <a:ext cx="1564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479680" y="2954880"/>
                <a:ext cx="776160" cy="244080"/>
                <a:chOff x="2479680" y="2954880"/>
                <a:chExt cx="776160" cy="2440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2489400" y="2957040"/>
                  <a:ext cx="7563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76,6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479680" y="2954880"/>
                  <a:ext cx="7761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256200" y="2954880"/>
                <a:ext cx="808920" cy="244080"/>
                <a:chOff x="3256200" y="2954880"/>
                <a:chExt cx="808920" cy="2440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266280" y="2957040"/>
                  <a:ext cx="7887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57,6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256200" y="2954880"/>
                  <a:ext cx="808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4065840" y="2954880"/>
                <a:ext cx="729360" cy="244080"/>
                <a:chOff x="4065840" y="2954880"/>
                <a:chExt cx="729360" cy="2440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075560" y="2957040"/>
                  <a:ext cx="7095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3101,8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065840" y="2954880"/>
                  <a:ext cx="7293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4795560" y="2954880"/>
                <a:ext cx="853920" cy="244080"/>
                <a:chOff x="4795560" y="2954880"/>
                <a:chExt cx="853920" cy="2440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805280" y="2957040"/>
                  <a:ext cx="8341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3066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795560" y="2954880"/>
                  <a:ext cx="853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5649840" y="2954880"/>
                <a:ext cx="1017720" cy="244080"/>
                <a:chOff x="5649840" y="2954880"/>
                <a:chExt cx="1017720" cy="2440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5659560" y="2957040"/>
                  <a:ext cx="9979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53,9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649840" y="2954880"/>
                  <a:ext cx="10177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668280" y="2954880"/>
                <a:ext cx="779040" cy="247320"/>
                <a:chOff x="6668280" y="2954880"/>
                <a:chExt cx="779040" cy="2473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668280" y="2954880"/>
                  <a:ext cx="779040" cy="2473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2,4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668280" y="2954880"/>
                  <a:ext cx="779040" cy="24732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448040" y="2954880"/>
                <a:ext cx="693360" cy="244080"/>
                <a:chOff x="7448040" y="2954880"/>
                <a:chExt cx="693360" cy="2440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57760" y="2957040"/>
                  <a:ext cx="6735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1,9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448040" y="2954880"/>
                  <a:ext cx="6933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8141760" y="2954880"/>
                <a:ext cx="696600" cy="244080"/>
                <a:chOff x="8141760" y="2954880"/>
                <a:chExt cx="696600" cy="2440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8151480" y="2957040"/>
                  <a:ext cx="67680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1,5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8141760" y="2954880"/>
                  <a:ext cx="69660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914400" y="3202200"/>
                <a:ext cx="1564920" cy="244080"/>
                <a:chOff x="914400" y="3202200"/>
                <a:chExt cx="1564920" cy="24408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924120" y="3204360"/>
                  <a:ext cx="15451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</a:rPr>
                    <a:t>  </a:t>
                  </a:r>
                  <a:r>
                    <a:rPr b="0" i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Первомайский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914400" y="3202200"/>
                  <a:ext cx="1564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479680" y="3202200"/>
                <a:ext cx="776160" cy="244080"/>
                <a:chOff x="2479680" y="3202200"/>
                <a:chExt cx="776160" cy="2440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489400" y="3204360"/>
                  <a:ext cx="7563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71,7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479680" y="3202200"/>
                  <a:ext cx="7761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256200" y="3202200"/>
                <a:ext cx="808920" cy="244080"/>
                <a:chOff x="3256200" y="3202200"/>
                <a:chExt cx="808920" cy="2440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266280" y="3204360"/>
                  <a:ext cx="7887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69,3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256200" y="3202200"/>
                  <a:ext cx="808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4065840" y="3202200"/>
                <a:ext cx="729360" cy="244080"/>
                <a:chOff x="4065840" y="3202200"/>
                <a:chExt cx="729360" cy="2440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075560" y="3204360"/>
                  <a:ext cx="7095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212,4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065840" y="3202200"/>
                  <a:ext cx="7293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795560" y="3202200"/>
                <a:ext cx="853920" cy="244080"/>
                <a:chOff x="4795560" y="3202200"/>
                <a:chExt cx="853920" cy="2440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805280" y="3204360"/>
                  <a:ext cx="8341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035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795560" y="3202200"/>
                  <a:ext cx="853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649840" y="3202200"/>
                <a:ext cx="1017720" cy="244080"/>
                <a:chOff x="5649840" y="3202200"/>
                <a:chExt cx="1017720" cy="2440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659560" y="3204360"/>
                  <a:ext cx="9979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7,5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649840" y="3202200"/>
                  <a:ext cx="10177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668280" y="3202200"/>
                <a:ext cx="779040" cy="247320"/>
                <a:chOff x="6668280" y="3202200"/>
                <a:chExt cx="779040" cy="2473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668280" y="3202200"/>
                  <a:ext cx="779040" cy="2473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5,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68280" y="3202200"/>
                  <a:ext cx="779040" cy="24732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7448040" y="3202200"/>
                <a:ext cx="693360" cy="244080"/>
                <a:chOff x="7448040" y="3202200"/>
                <a:chExt cx="693360" cy="2440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7457760" y="3204360"/>
                  <a:ext cx="6735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4,6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448040" y="3202200"/>
                  <a:ext cx="6933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8141760" y="3202200"/>
                <a:ext cx="696600" cy="244080"/>
                <a:chOff x="8141760" y="3202200"/>
                <a:chExt cx="696600" cy="2440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151480" y="3204360"/>
                  <a:ext cx="67680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3,9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141760" y="3202200"/>
                  <a:ext cx="69660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914400" y="3449520"/>
                <a:ext cx="1564920" cy="244080"/>
                <a:chOff x="914400" y="3449520"/>
                <a:chExt cx="1564920" cy="2440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924120" y="3451680"/>
                  <a:ext cx="15451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</a:rPr>
                    <a:t>  </a:t>
                  </a:r>
                  <a:r>
                    <a:rPr b="0" i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Советский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914400" y="3449520"/>
                  <a:ext cx="1564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2479680" y="3449520"/>
                <a:ext cx="776160" cy="244080"/>
                <a:chOff x="2479680" y="3449520"/>
                <a:chExt cx="776160" cy="2440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2489400" y="3451680"/>
                  <a:ext cx="7563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31,3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79680" y="3449520"/>
                  <a:ext cx="7761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256200" y="3449520"/>
                <a:ext cx="808920" cy="244080"/>
                <a:chOff x="3256200" y="3449520"/>
                <a:chExt cx="808920" cy="2440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266280" y="3451680"/>
                  <a:ext cx="7887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76,4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256200" y="3449520"/>
                  <a:ext cx="808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065840" y="3449520"/>
                <a:ext cx="729360" cy="244080"/>
                <a:chOff x="4065840" y="3449520"/>
                <a:chExt cx="729360" cy="2440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075560" y="3451680"/>
                  <a:ext cx="7095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463,8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065840" y="3449520"/>
                  <a:ext cx="7293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4795560" y="3449520"/>
                <a:ext cx="853920" cy="244080"/>
                <a:chOff x="4795560" y="3449520"/>
                <a:chExt cx="853920" cy="2440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4805280" y="3451680"/>
                  <a:ext cx="8341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719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795560" y="3449520"/>
                  <a:ext cx="8539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5649840" y="3449520"/>
                <a:ext cx="1017720" cy="244080"/>
                <a:chOff x="5649840" y="3449520"/>
                <a:chExt cx="1017720" cy="24408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659560" y="3451680"/>
                  <a:ext cx="99792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32,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649840" y="3449520"/>
                  <a:ext cx="101772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68280" y="3449520"/>
                <a:ext cx="779040" cy="246240"/>
                <a:chOff x="6668280" y="3449520"/>
                <a:chExt cx="779040" cy="2462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68280" y="3449520"/>
                  <a:ext cx="779040" cy="2462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9,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68280" y="3449520"/>
                  <a:ext cx="779040" cy="24624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7448040" y="3449520"/>
                <a:ext cx="693360" cy="244080"/>
                <a:chOff x="7448040" y="3449520"/>
                <a:chExt cx="693360" cy="244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7457760" y="3451680"/>
                  <a:ext cx="67356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9,4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48040" y="3449520"/>
                  <a:ext cx="69336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8141760" y="3449520"/>
                <a:ext cx="696600" cy="244080"/>
                <a:chOff x="8141760" y="3449520"/>
                <a:chExt cx="696600" cy="24408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151480" y="3451680"/>
                  <a:ext cx="676800" cy="24156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5,3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41760" y="3449520"/>
                  <a:ext cx="696600" cy="24408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914400" y="3696120"/>
                <a:ext cx="1564920" cy="245160"/>
                <a:chOff x="914400" y="3696120"/>
                <a:chExt cx="1564920" cy="2451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924120" y="3698280"/>
                  <a:ext cx="1545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Центральный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914400" y="3696120"/>
                  <a:ext cx="1564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479680" y="3696120"/>
                <a:ext cx="776160" cy="245160"/>
                <a:chOff x="2479680" y="3696120"/>
                <a:chExt cx="776160" cy="245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2489400" y="3698280"/>
                  <a:ext cx="7563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7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479680" y="3696120"/>
                  <a:ext cx="7761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256200" y="3696120"/>
                <a:ext cx="808920" cy="245160"/>
                <a:chOff x="3256200" y="3696120"/>
                <a:chExt cx="808920" cy="2451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3266280" y="3698280"/>
                  <a:ext cx="7887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6,4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256200" y="3696120"/>
                  <a:ext cx="808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4065840" y="3696120"/>
                <a:ext cx="729360" cy="245160"/>
                <a:chOff x="4065840" y="3696120"/>
                <a:chExt cx="729360" cy="2451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075560" y="3698280"/>
                  <a:ext cx="709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576,6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065840" y="3696120"/>
                  <a:ext cx="729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4795560" y="3696120"/>
                <a:ext cx="853920" cy="245160"/>
                <a:chOff x="4795560" y="3696120"/>
                <a:chExt cx="853920" cy="2451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805280" y="3698280"/>
                  <a:ext cx="834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125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795560" y="3696120"/>
                  <a:ext cx="853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5649840" y="3696120"/>
                <a:ext cx="1017720" cy="245160"/>
                <a:chOff x="5649840" y="3696120"/>
                <a:chExt cx="1017720" cy="2451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659560" y="3698280"/>
                  <a:ext cx="9979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46,3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649840" y="3696120"/>
                  <a:ext cx="10177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6668280" y="3696120"/>
                <a:ext cx="779040" cy="247320"/>
                <a:chOff x="6668280" y="3696120"/>
                <a:chExt cx="779040" cy="2473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6668280" y="3696120"/>
                  <a:ext cx="779040" cy="2473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5,1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668280" y="3696120"/>
                  <a:ext cx="779040" cy="24732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7448040" y="3696120"/>
                <a:ext cx="693360" cy="245160"/>
                <a:chOff x="7448040" y="3696120"/>
                <a:chExt cx="693360" cy="24516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457760" y="3698280"/>
                  <a:ext cx="673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6,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448040" y="3696120"/>
                  <a:ext cx="693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8141760" y="3696120"/>
                <a:ext cx="696600" cy="245160"/>
                <a:chOff x="8141760" y="3696120"/>
                <a:chExt cx="696600" cy="2451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8151480" y="3698280"/>
                  <a:ext cx="67680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,3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141760" y="3696120"/>
                  <a:ext cx="69660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914400" y="3943440"/>
                <a:ext cx="1564920" cy="245160"/>
                <a:chOff x="914400" y="3943440"/>
                <a:chExt cx="1564920" cy="2451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924120" y="3945600"/>
                  <a:ext cx="1545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</a:rPr>
                    <a:t>  </a:t>
                  </a:r>
                  <a:r>
                    <a:rPr b="1" i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Город</a:t>
                  </a:r>
                  <a:r>
                    <a:rPr b="0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 </a:t>
                  </a:r>
                  <a:r>
                    <a:rPr b="1" i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в целом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914400" y="3943440"/>
                  <a:ext cx="1564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2479680" y="3943440"/>
                <a:ext cx="776160" cy="245160"/>
                <a:chOff x="2479680" y="3943440"/>
                <a:chExt cx="776160" cy="2451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2489400" y="3945600"/>
                  <a:ext cx="7563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425,6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479680" y="3943440"/>
                  <a:ext cx="7761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3256200" y="3943440"/>
                <a:ext cx="808920" cy="245160"/>
                <a:chOff x="3256200" y="3943440"/>
                <a:chExt cx="808920" cy="2451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3266280" y="3945600"/>
                  <a:ext cx="7887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500,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256200" y="3943440"/>
                  <a:ext cx="808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065840" y="3943440"/>
                <a:ext cx="729360" cy="245160"/>
                <a:chOff x="4065840" y="3943440"/>
                <a:chExt cx="729360" cy="2451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4075560" y="3945600"/>
                  <a:ext cx="709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6094,4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65840" y="3943440"/>
                  <a:ext cx="729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4795560" y="3943440"/>
                <a:ext cx="853920" cy="245160"/>
                <a:chOff x="4795560" y="3943440"/>
                <a:chExt cx="853920" cy="24516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4805280" y="3945600"/>
                  <a:ext cx="8341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285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795560" y="3943440"/>
                  <a:ext cx="8539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5649840" y="3943440"/>
                <a:ext cx="1017720" cy="245160"/>
                <a:chOff x="5649840" y="3943440"/>
                <a:chExt cx="1017720" cy="2451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5659560" y="3945600"/>
                  <a:ext cx="99792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52,2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649840" y="3943440"/>
                  <a:ext cx="101772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6668280" y="3943440"/>
                <a:ext cx="779040" cy="247320"/>
                <a:chOff x="6668280" y="3943440"/>
                <a:chExt cx="779040" cy="2473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668280" y="3943440"/>
                  <a:ext cx="779040" cy="24732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00,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668280" y="3943440"/>
                  <a:ext cx="779040" cy="24732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7448040" y="3943440"/>
                <a:ext cx="693360" cy="245160"/>
                <a:chOff x="7448040" y="3943440"/>
                <a:chExt cx="693360" cy="2451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7457760" y="3945600"/>
                  <a:ext cx="67356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00,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448040" y="3943440"/>
                  <a:ext cx="69336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8141760" y="3943440"/>
                <a:ext cx="696600" cy="245160"/>
                <a:chOff x="8141760" y="3943440"/>
                <a:chExt cx="696600" cy="2451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8151480" y="3945600"/>
                  <a:ext cx="676800" cy="242640"/>
                </a:xfrm>
                <a:prstGeom prst="rect">
                  <a:avLst/>
                </a:prstGeom>
                <a:noFill/>
                <a:ln w="9360">
                  <a:solidFill>
                    <a:srgbClr val="0000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7a"/>
                      </a:solidFill>
                      <a:latin typeface="Times New Roman"/>
                      <a:ea typeface="Arial Unicode MS"/>
                    </a:rPr>
                    <a:t>100,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141760" y="3943440"/>
                  <a:ext cx="696600" cy="245160"/>
                </a:xfrm>
                <a:prstGeom prst="rect">
                  <a:avLst/>
                </a:prstGeom>
                <a:noFill/>
                <a:ln w="0">
                  <a:solidFill>
                    <a:srgbClr val="00007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af4f8"/>
                </a:solidFill>
                <a:latin typeface="Times New Roman"/>
              </a:rPr>
              <a:t>ИСХОДНЫЕ ПОЗИЦИИ К ПОСТРОЕНИЮ КОНЦЕПЦИИ ПРОГРАММЫ</a:t>
            </a:r>
            <a:endParaRPr b="0" lang="en-US" sz="3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af4f8"/>
                </a:solidFill>
                <a:latin typeface="Times New Roman"/>
              </a:rPr>
              <a:t>1. </a:t>
            </a: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ОРИЕНТАЦИЯ НА СОВРЕ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МЕННЫЕ ЭФФЕКТИВНЫ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ТЕХНОЛОГИИ И ТЕХНИЧЕ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СКОЕ ОСНАЩЕНИЕ ЖИЗНЕ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ОБЕСПЕЧИВАЮЩИХ ОТРА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СЛЕЙ ХОЗЯЙСТВА Г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403884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2. ОЦЕНКА НАУЧНО-ТЕХНИЧЕ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СКОГО И ПРОИЗВОДСТВЕННО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ТЕХНОЛОГИЧЕСКОГО  ПОТЕН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ЦИАЛА НОВОСИБИРСКА С ПО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ЗИЦИЙ ВОЗМОЖНОСТИ СОЗДА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НИЯ БАЗЫ ПРОИЗВОДСТВА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МАШИН И ОБОРУД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f4f8"/>
                </a:solidFill>
                <a:latin typeface="Times New Roman"/>
              </a:rPr>
              <a:t>ДЛЯ ГОРОДСКОГО ХОЗЯЙ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4267080"/>
            <a:ext cx="4038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Критерии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Уровень машиностроительных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технологий на предприятиях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Конкурентоспособность, научны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и инновационный заде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Конструкторско-проектная под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держка производств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Потенциал системы профессио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нального образовани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Инвестиционные возможност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4114800"/>
            <a:ext cx="3733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Критерии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Санитарное состояние террито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рии и экологическая обстановк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Надежность снабжения теплом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водой, электроэнергией, газом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Нормальное функционирование жи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лищно-коммунального комплекс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Развитие дорожно-транспортно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системы город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Внешний облик и уровень благо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af4f8"/>
                </a:solidFill>
                <a:latin typeface="Times New Roman"/>
              </a:rPr>
              <a:t>устройств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af4f8"/>
                </a:solidFill>
                <a:latin typeface="Times New Roman"/>
              </a:rPr>
              <a:t>ПРОМЫШЛЕННО-ТЕХНИЧЕСКАЯ БАЗА  </a:t>
            </a:r>
            <a:endParaRPr b="0" lang="en-US" sz="30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76320" y="609480"/>
            <a:ext cx="3200400" cy="2814840"/>
            <a:chOff x="76320" y="609480"/>
            <a:chExt cx="3200400" cy="2814840"/>
          </a:xfrm>
        </p:grpSpPr>
        <p:grpSp>
          <p:nvGrpSpPr>
            <p:cNvPr id="574" name=""/>
            <p:cNvGrpSpPr/>
            <p:nvPr/>
          </p:nvGrpSpPr>
          <p:grpSpPr>
            <a:xfrm>
              <a:off x="76320" y="609480"/>
              <a:ext cx="3200400" cy="1957320"/>
              <a:chOff x="76320" y="609480"/>
              <a:chExt cx="3200400" cy="1957320"/>
            </a:xfrm>
          </p:grpSpPr>
          <p:sp>
            <p:nvSpPr>
              <p:cNvPr id="575" name=""/>
              <p:cNvSpPr/>
              <p:nvPr/>
            </p:nvSpPr>
            <p:spPr>
              <a:xfrm>
                <a:off x="76320" y="609480"/>
                <a:ext cx="76320" cy="194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576" name="" descr=""/>
              <p:cNvPicPr/>
              <p:nvPr/>
            </p:nvPicPr>
            <p:blipFill>
              <a:blip r:embed="rId1"/>
              <a:srcRect l="0" t="-7386" r="0" b="14802"/>
              <a:stretch/>
            </p:blipFill>
            <p:spPr>
              <a:xfrm>
                <a:off x="152640" y="609480"/>
                <a:ext cx="3124080" cy="195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7" name=""/>
            <p:cNvSpPr/>
            <p:nvPr/>
          </p:nvSpPr>
          <p:spPr>
            <a:xfrm>
              <a:off x="380880" y="2643120"/>
              <a:ext cx="259092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Динамика физического объема производства про-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мышленной продукции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(1950 = 100 %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792440" y="2133720"/>
            <a:ext cx="7351920" cy="4726440"/>
            <a:chOff x="1792440" y="2133720"/>
            <a:chExt cx="7351920" cy="4726440"/>
          </a:xfrm>
        </p:grpSpPr>
        <p:grpSp>
          <p:nvGrpSpPr>
            <p:cNvPr id="579" name=""/>
            <p:cNvGrpSpPr/>
            <p:nvPr/>
          </p:nvGrpSpPr>
          <p:grpSpPr>
            <a:xfrm>
              <a:off x="1792440" y="2643120"/>
              <a:ext cx="7351920" cy="4217040"/>
              <a:chOff x="1792440" y="2643120"/>
              <a:chExt cx="7351920" cy="4217040"/>
            </a:xfrm>
          </p:grpSpPr>
          <p:sp>
            <p:nvSpPr>
              <p:cNvPr id="580" name=""/>
              <p:cNvSpPr/>
              <p:nvPr/>
            </p:nvSpPr>
            <p:spPr>
              <a:xfrm>
                <a:off x="3673440" y="2719440"/>
                <a:ext cx="5189400" cy="3062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73440" y="5477040"/>
                <a:ext cx="518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673440" y="5172120"/>
                <a:ext cx="518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673440" y="4861080"/>
                <a:ext cx="518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73440" y="4556160"/>
                <a:ext cx="518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73440" y="4251240"/>
                <a:ext cx="518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73440" y="3946680"/>
                <a:ext cx="518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73440" y="3641760"/>
                <a:ext cx="518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673440" y="3328920"/>
                <a:ext cx="518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73440" y="3024360"/>
                <a:ext cx="518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673440" y="2719440"/>
                <a:ext cx="518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411800" y="2719440"/>
                <a:ext cx="1440" cy="306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159520" y="2719440"/>
                <a:ext cx="0" cy="306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97520" y="2719440"/>
                <a:ext cx="1800" cy="306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637320" y="2719440"/>
                <a:ext cx="0" cy="306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377120" y="2719440"/>
                <a:ext cx="0" cy="306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123400" y="2719440"/>
                <a:ext cx="0" cy="306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862840" y="2719440"/>
                <a:ext cx="0" cy="306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673440" y="2719440"/>
                <a:ext cx="5189400" cy="3062160"/>
              </a:xfrm>
              <a:prstGeom prst="rect">
                <a:avLst/>
              </a:prstGeom>
              <a:noFill/>
              <a:ln w="7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673440" y="5767560"/>
                <a:ext cx="5189400" cy="14040"/>
              </a:xfrm>
              <a:custGeom>
                <a:avLst/>
                <a:gdLst/>
                <a:ahLst/>
                <a:rect l="l" t="t" r="r" b="b"/>
                <a:pathLst>
                  <a:path w="8172" h="24">
                    <a:moveTo>
                      <a:pt x="0" y="24"/>
                    </a:moveTo>
                    <a:lnTo>
                      <a:pt x="0" y="0"/>
                    </a:lnTo>
                    <a:lnTo>
                      <a:pt x="1164" y="0"/>
                    </a:lnTo>
                    <a:lnTo>
                      <a:pt x="2340" y="0"/>
                    </a:lnTo>
                    <a:lnTo>
                      <a:pt x="3504" y="12"/>
                    </a:lnTo>
                    <a:lnTo>
                      <a:pt x="4668" y="12"/>
                    </a:lnTo>
                    <a:lnTo>
                      <a:pt x="5832" y="0"/>
                    </a:lnTo>
                    <a:lnTo>
                      <a:pt x="7008" y="0"/>
                    </a:lnTo>
                    <a:lnTo>
                      <a:pt x="8172" y="0"/>
                    </a:lnTo>
                    <a:lnTo>
                      <a:pt x="8172" y="24"/>
                    </a:lnTo>
                    <a:lnTo>
                      <a:pt x="7008" y="24"/>
                    </a:lnTo>
                    <a:lnTo>
                      <a:pt x="5832" y="24"/>
                    </a:lnTo>
                    <a:lnTo>
                      <a:pt x="4668" y="24"/>
                    </a:lnTo>
                    <a:lnTo>
                      <a:pt x="3504" y="24"/>
                    </a:lnTo>
                    <a:lnTo>
                      <a:pt x="2340" y="24"/>
                    </a:lnTo>
                    <a:lnTo>
                      <a:pt x="1164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999ff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673440" y="5737320"/>
                <a:ext cx="5189400" cy="38160"/>
              </a:xfrm>
              <a:custGeom>
                <a:avLst/>
                <a:gdLst/>
                <a:ahLst/>
                <a:rect l="l" t="t" r="r" b="b"/>
                <a:pathLst>
                  <a:path w="8172" h="60">
                    <a:moveTo>
                      <a:pt x="0" y="48"/>
                    </a:moveTo>
                    <a:lnTo>
                      <a:pt x="0" y="12"/>
                    </a:lnTo>
                    <a:lnTo>
                      <a:pt x="1164" y="12"/>
                    </a:lnTo>
                    <a:lnTo>
                      <a:pt x="2340" y="0"/>
                    </a:lnTo>
                    <a:lnTo>
                      <a:pt x="3504" y="24"/>
                    </a:lnTo>
                    <a:lnTo>
                      <a:pt x="4668" y="24"/>
                    </a:lnTo>
                    <a:lnTo>
                      <a:pt x="5832" y="12"/>
                    </a:lnTo>
                    <a:lnTo>
                      <a:pt x="7008" y="0"/>
                    </a:lnTo>
                    <a:lnTo>
                      <a:pt x="8172" y="0"/>
                    </a:lnTo>
                    <a:lnTo>
                      <a:pt x="8172" y="48"/>
                    </a:lnTo>
                    <a:lnTo>
                      <a:pt x="7008" y="48"/>
                    </a:lnTo>
                    <a:lnTo>
                      <a:pt x="5832" y="48"/>
                    </a:lnTo>
                    <a:lnTo>
                      <a:pt x="4668" y="60"/>
                    </a:lnTo>
                    <a:lnTo>
                      <a:pt x="3504" y="60"/>
                    </a:lnTo>
                    <a:lnTo>
                      <a:pt x="2340" y="48"/>
                    </a:lnTo>
                    <a:lnTo>
                      <a:pt x="116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93366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73440" y="5675400"/>
                <a:ext cx="5189400" cy="75960"/>
              </a:xfrm>
              <a:custGeom>
                <a:avLst/>
                <a:gdLst/>
                <a:ahLst/>
                <a:rect l="l" t="t" r="r" b="b"/>
                <a:pathLst>
                  <a:path w="8172" h="120">
                    <a:moveTo>
                      <a:pt x="0" y="108"/>
                    </a:moveTo>
                    <a:lnTo>
                      <a:pt x="0" y="60"/>
                    </a:lnTo>
                    <a:lnTo>
                      <a:pt x="1164" y="48"/>
                    </a:lnTo>
                    <a:lnTo>
                      <a:pt x="2340" y="24"/>
                    </a:lnTo>
                    <a:lnTo>
                      <a:pt x="3504" y="48"/>
                    </a:lnTo>
                    <a:lnTo>
                      <a:pt x="4668" y="36"/>
                    </a:lnTo>
                    <a:lnTo>
                      <a:pt x="5832" y="24"/>
                    </a:lnTo>
                    <a:lnTo>
                      <a:pt x="7008" y="12"/>
                    </a:lnTo>
                    <a:lnTo>
                      <a:pt x="8172" y="0"/>
                    </a:lnTo>
                    <a:lnTo>
                      <a:pt x="8172" y="96"/>
                    </a:lnTo>
                    <a:lnTo>
                      <a:pt x="7008" y="96"/>
                    </a:lnTo>
                    <a:lnTo>
                      <a:pt x="5832" y="108"/>
                    </a:lnTo>
                    <a:lnTo>
                      <a:pt x="4668" y="120"/>
                    </a:lnTo>
                    <a:lnTo>
                      <a:pt x="3504" y="120"/>
                    </a:lnTo>
                    <a:lnTo>
                      <a:pt x="2340" y="96"/>
                    </a:lnTo>
                    <a:lnTo>
                      <a:pt x="1164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673440" y="5568840"/>
                <a:ext cx="5189400" cy="144720"/>
              </a:xfrm>
              <a:custGeom>
                <a:avLst/>
                <a:gdLst/>
                <a:ahLst/>
                <a:rect l="l" t="t" r="r" b="b"/>
                <a:pathLst>
                  <a:path w="8172" h="228">
                    <a:moveTo>
                      <a:pt x="0" y="228"/>
                    </a:moveTo>
                    <a:lnTo>
                      <a:pt x="0" y="24"/>
                    </a:lnTo>
                    <a:lnTo>
                      <a:pt x="1164" y="84"/>
                    </a:lnTo>
                    <a:lnTo>
                      <a:pt x="2340" y="36"/>
                    </a:lnTo>
                    <a:lnTo>
                      <a:pt x="3504" y="108"/>
                    </a:lnTo>
                    <a:lnTo>
                      <a:pt x="4668" y="60"/>
                    </a:lnTo>
                    <a:lnTo>
                      <a:pt x="5832" y="36"/>
                    </a:lnTo>
                    <a:lnTo>
                      <a:pt x="7008" y="0"/>
                    </a:lnTo>
                    <a:lnTo>
                      <a:pt x="8172" y="24"/>
                    </a:lnTo>
                    <a:lnTo>
                      <a:pt x="8172" y="168"/>
                    </a:lnTo>
                    <a:lnTo>
                      <a:pt x="7008" y="180"/>
                    </a:lnTo>
                    <a:lnTo>
                      <a:pt x="5832" y="192"/>
                    </a:lnTo>
                    <a:lnTo>
                      <a:pt x="4668" y="204"/>
                    </a:lnTo>
                    <a:lnTo>
                      <a:pt x="3504" y="216"/>
                    </a:lnTo>
                    <a:lnTo>
                      <a:pt x="2340" y="192"/>
                    </a:lnTo>
                    <a:lnTo>
                      <a:pt x="1164" y="216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73440" y="5492880"/>
                <a:ext cx="5189400" cy="144360"/>
              </a:xfrm>
              <a:custGeom>
                <a:avLst/>
                <a:gdLst/>
                <a:ahLst/>
                <a:rect l="l" t="t" r="r" b="b"/>
                <a:pathLst>
                  <a:path w="8172" h="228">
                    <a:moveTo>
                      <a:pt x="0" y="144"/>
                    </a:moveTo>
                    <a:lnTo>
                      <a:pt x="0" y="84"/>
                    </a:lnTo>
                    <a:lnTo>
                      <a:pt x="1164" y="84"/>
                    </a:lnTo>
                    <a:lnTo>
                      <a:pt x="2340" y="0"/>
                    </a:lnTo>
                    <a:lnTo>
                      <a:pt x="3504" y="144"/>
                    </a:lnTo>
                    <a:lnTo>
                      <a:pt x="4668" y="108"/>
                    </a:lnTo>
                    <a:lnTo>
                      <a:pt x="5832" y="120"/>
                    </a:lnTo>
                    <a:lnTo>
                      <a:pt x="7008" y="36"/>
                    </a:lnTo>
                    <a:lnTo>
                      <a:pt x="8172" y="72"/>
                    </a:lnTo>
                    <a:lnTo>
                      <a:pt x="8172" y="144"/>
                    </a:lnTo>
                    <a:lnTo>
                      <a:pt x="7008" y="120"/>
                    </a:lnTo>
                    <a:lnTo>
                      <a:pt x="5832" y="156"/>
                    </a:lnTo>
                    <a:lnTo>
                      <a:pt x="4668" y="180"/>
                    </a:lnTo>
                    <a:lnTo>
                      <a:pt x="3504" y="228"/>
                    </a:lnTo>
                    <a:lnTo>
                      <a:pt x="2340" y="156"/>
                    </a:lnTo>
                    <a:lnTo>
                      <a:pt x="1164" y="20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673440" y="4792680"/>
                <a:ext cx="5189400" cy="792000"/>
              </a:xfrm>
              <a:custGeom>
                <a:avLst/>
                <a:gdLst/>
                <a:ahLst/>
                <a:rect l="l" t="t" r="r" b="b"/>
                <a:pathLst>
                  <a:path w="8172" h="1248">
                    <a:moveTo>
                      <a:pt x="0" y="1188"/>
                    </a:moveTo>
                    <a:lnTo>
                      <a:pt x="0" y="192"/>
                    </a:lnTo>
                    <a:lnTo>
                      <a:pt x="1164" y="228"/>
                    </a:lnTo>
                    <a:lnTo>
                      <a:pt x="2340" y="0"/>
                    </a:lnTo>
                    <a:lnTo>
                      <a:pt x="3504" y="348"/>
                    </a:lnTo>
                    <a:lnTo>
                      <a:pt x="4668" y="276"/>
                    </a:lnTo>
                    <a:lnTo>
                      <a:pt x="5832" y="444"/>
                    </a:lnTo>
                    <a:lnTo>
                      <a:pt x="7008" y="348"/>
                    </a:lnTo>
                    <a:lnTo>
                      <a:pt x="8172" y="348"/>
                    </a:lnTo>
                    <a:lnTo>
                      <a:pt x="8172" y="1176"/>
                    </a:lnTo>
                    <a:lnTo>
                      <a:pt x="7008" y="1140"/>
                    </a:lnTo>
                    <a:lnTo>
                      <a:pt x="5832" y="1224"/>
                    </a:lnTo>
                    <a:lnTo>
                      <a:pt x="4668" y="1212"/>
                    </a:lnTo>
                    <a:lnTo>
                      <a:pt x="3504" y="1248"/>
                    </a:lnTo>
                    <a:lnTo>
                      <a:pt x="2340" y="1104"/>
                    </a:lnTo>
                    <a:lnTo>
                      <a:pt x="1164" y="1188"/>
                    </a:lnTo>
                    <a:lnTo>
                      <a:pt x="0" y="1188"/>
                    </a:lnTo>
                    <a:close/>
                  </a:path>
                </a:pathLst>
              </a:custGeom>
              <a:solidFill>
                <a:srgbClr val="c9d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673440" y="4708440"/>
                <a:ext cx="5189400" cy="365040"/>
              </a:xfrm>
              <a:custGeom>
                <a:avLst/>
                <a:gdLst/>
                <a:ahLst/>
                <a:rect l="l" t="t" r="r" b="b"/>
                <a:pathLst>
                  <a:path w="8172" h="576">
                    <a:moveTo>
                      <a:pt x="0" y="324"/>
                    </a:moveTo>
                    <a:lnTo>
                      <a:pt x="0" y="168"/>
                    </a:lnTo>
                    <a:lnTo>
                      <a:pt x="1164" y="240"/>
                    </a:lnTo>
                    <a:lnTo>
                      <a:pt x="2340" y="0"/>
                    </a:lnTo>
                    <a:lnTo>
                      <a:pt x="3504" y="408"/>
                    </a:lnTo>
                    <a:lnTo>
                      <a:pt x="4668" y="360"/>
                    </a:lnTo>
                    <a:lnTo>
                      <a:pt x="5832" y="540"/>
                    </a:lnTo>
                    <a:lnTo>
                      <a:pt x="7008" y="444"/>
                    </a:lnTo>
                    <a:lnTo>
                      <a:pt x="8172" y="444"/>
                    </a:lnTo>
                    <a:lnTo>
                      <a:pt x="8172" y="480"/>
                    </a:lnTo>
                    <a:lnTo>
                      <a:pt x="7008" y="480"/>
                    </a:lnTo>
                    <a:lnTo>
                      <a:pt x="5832" y="576"/>
                    </a:lnTo>
                    <a:lnTo>
                      <a:pt x="4668" y="408"/>
                    </a:lnTo>
                    <a:lnTo>
                      <a:pt x="3504" y="480"/>
                    </a:lnTo>
                    <a:lnTo>
                      <a:pt x="2340" y="132"/>
                    </a:lnTo>
                    <a:lnTo>
                      <a:pt x="1164" y="360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673440" y="4518000"/>
                <a:ext cx="5189400" cy="533520"/>
              </a:xfrm>
              <a:custGeom>
                <a:avLst/>
                <a:gdLst/>
                <a:ahLst/>
                <a:rect l="l" t="t" r="r" b="b"/>
                <a:pathLst>
                  <a:path w="8172" h="840">
                    <a:moveTo>
                      <a:pt x="0" y="468"/>
                    </a:moveTo>
                    <a:lnTo>
                      <a:pt x="0" y="192"/>
                    </a:lnTo>
                    <a:lnTo>
                      <a:pt x="1164" y="216"/>
                    </a:lnTo>
                    <a:lnTo>
                      <a:pt x="2340" y="0"/>
                    </a:lnTo>
                    <a:lnTo>
                      <a:pt x="3504" y="516"/>
                    </a:lnTo>
                    <a:lnTo>
                      <a:pt x="4668" y="504"/>
                    </a:lnTo>
                    <a:lnTo>
                      <a:pt x="5832" y="696"/>
                    </a:lnTo>
                    <a:lnTo>
                      <a:pt x="7008" y="588"/>
                    </a:lnTo>
                    <a:lnTo>
                      <a:pt x="8172" y="564"/>
                    </a:lnTo>
                    <a:lnTo>
                      <a:pt x="8172" y="744"/>
                    </a:lnTo>
                    <a:lnTo>
                      <a:pt x="7008" y="744"/>
                    </a:lnTo>
                    <a:lnTo>
                      <a:pt x="5832" y="840"/>
                    </a:lnTo>
                    <a:lnTo>
                      <a:pt x="4668" y="660"/>
                    </a:lnTo>
                    <a:lnTo>
                      <a:pt x="3504" y="708"/>
                    </a:lnTo>
                    <a:lnTo>
                      <a:pt x="2340" y="300"/>
                    </a:lnTo>
                    <a:lnTo>
                      <a:pt x="1164" y="54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c3e1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673440" y="4433760"/>
                <a:ext cx="5189400" cy="525600"/>
              </a:xfrm>
              <a:custGeom>
                <a:avLst/>
                <a:gdLst/>
                <a:ahLst/>
                <a:rect l="l" t="t" r="r" b="b"/>
                <a:pathLst>
                  <a:path w="8172" h="828">
                    <a:moveTo>
                      <a:pt x="0" y="324"/>
                    </a:moveTo>
                    <a:lnTo>
                      <a:pt x="0" y="144"/>
                    </a:lnTo>
                    <a:lnTo>
                      <a:pt x="1164" y="204"/>
                    </a:lnTo>
                    <a:lnTo>
                      <a:pt x="2340" y="0"/>
                    </a:lnTo>
                    <a:lnTo>
                      <a:pt x="3504" y="540"/>
                    </a:lnTo>
                    <a:lnTo>
                      <a:pt x="4668" y="504"/>
                    </a:lnTo>
                    <a:lnTo>
                      <a:pt x="5832" y="684"/>
                    </a:lnTo>
                    <a:lnTo>
                      <a:pt x="7008" y="624"/>
                    </a:lnTo>
                    <a:lnTo>
                      <a:pt x="8172" y="600"/>
                    </a:lnTo>
                    <a:lnTo>
                      <a:pt x="8172" y="696"/>
                    </a:lnTo>
                    <a:lnTo>
                      <a:pt x="7008" y="720"/>
                    </a:lnTo>
                    <a:lnTo>
                      <a:pt x="5832" y="828"/>
                    </a:lnTo>
                    <a:lnTo>
                      <a:pt x="4668" y="636"/>
                    </a:lnTo>
                    <a:lnTo>
                      <a:pt x="3504" y="648"/>
                    </a:lnTo>
                    <a:lnTo>
                      <a:pt x="2340" y="132"/>
                    </a:lnTo>
                    <a:lnTo>
                      <a:pt x="1164" y="348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673440" y="4387680"/>
                <a:ext cx="5189400" cy="479520"/>
              </a:xfrm>
              <a:custGeom>
                <a:avLst/>
                <a:gdLst/>
                <a:ahLst/>
                <a:rect l="l" t="t" r="r" b="b"/>
                <a:pathLst>
                  <a:path w="8172" h="756">
                    <a:moveTo>
                      <a:pt x="0" y="216"/>
                    </a:moveTo>
                    <a:lnTo>
                      <a:pt x="0" y="120"/>
                    </a:lnTo>
                    <a:lnTo>
                      <a:pt x="1164" y="180"/>
                    </a:lnTo>
                    <a:lnTo>
                      <a:pt x="2340" y="0"/>
                    </a:lnTo>
                    <a:lnTo>
                      <a:pt x="3504" y="600"/>
                    </a:lnTo>
                    <a:lnTo>
                      <a:pt x="4668" y="528"/>
                    </a:lnTo>
                    <a:lnTo>
                      <a:pt x="5832" y="684"/>
                    </a:lnTo>
                    <a:lnTo>
                      <a:pt x="7008" y="612"/>
                    </a:lnTo>
                    <a:lnTo>
                      <a:pt x="8172" y="480"/>
                    </a:lnTo>
                    <a:lnTo>
                      <a:pt x="8172" y="672"/>
                    </a:lnTo>
                    <a:lnTo>
                      <a:pt x="7008" y="696"/>
                    </a:lnTo>
                    <a:lnTo>
                      <a:pt x="5832" y="756"/>
                    </a:lnTo>
                    <a:lnTo>
                      <a:pt x="4668" y="576"/>
                    </a:lnTo>
                    <a:lnTo>
                      <a:pt x="3504" y="612"/>
                    </a:lnTo>
                    <a:lnTo>
                      <a:pt x="2340" y="72"/>
                    </a:lnTo>
                    <a:lnTo>
                      <a:pt x="1164" y="276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673440" y="4259160"/>
                <a:ext cx="5189400" cy="563760"/>
              </a:xfrm>
              <a:custGeom>
                <a:avLst/>
                <a:gdLst/>
                <a:ahLst/>
                <a:rect l="l" t="t" r="r" b="b"/>
                <a:pathLst>
                  <a:path w="8172" h="888">
                    <a:moveTo>
                      <a:pt x="0" y="324"/>
                    </a:moveTo>
                    <a:lnTo>
                      <a:pt x="0" y="192"/>
                    </a:lnTo>
                    <a:lnTo>
                      <a:pt x="1164" y="252"/>
                    </a:lnTo>
                    <a:lnTo>
                      <a:pt x="2340" y="108"/>
                    </a:lnTo>
                    <a:lnTo>
                      <a:pt x="3504" y="720"/>
                    </a:lnTo>
                    <a:lnTo>
                      <a:pt x="4668" y="588"/>
                    </a:lnTo>
                    <a:lnTo>
                      <a:pt x="5832" y="0"/>
                    </a:lnTo>
                    <a:lnTo>
                      <a:pt x="7008" y="156"/>
                    </a:lnTo>
                    <a:lnTo>
                      <a:pt x="8172" y="24"/>
                    </a:lnTo>
                    <a:lnTo>
                      <a:pt x="8172" y="684"/>
                    </a:lnTo>
                    <a:lnTo>
                      <a:pt x="7008" y="816"/>
                    </a:lnTo>
                    <a:lnTo>
                      <a:pt x="5832" y="888"/>
                    </a:lnTo>
                    <a:lnTo>
                      <a:pt x="4668" y="732"/>
                    </a:lnTo>
                    <a:lnTo>
                      <a:pt x="3504" y="804"/>
                    </a:lnTo>
                    <a:lnTo>
                      <a:pt x="2340" y="204"/>
                    </a:lnTo>
                    <a:lnTo>
                      <a:pt x="1164" y="38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673440" y="3497400"/>
                <a:ext cx="5189400" cy="1218960"/>
              </a:xfrm>
              <a:custGeom>
                <a:avLst/>
                <a:gdLst/>
                <a:ahLst/>
                <a:rect l="l" t="t" r="r" b="b"/>
                <a:pathLst>
                  <a:path w="8172" h="1920">
                    <a:moveTo>
                      <a:pt x="0" y="1392"/>
                    </a:moveTo>
                    <a:lnTo>
                      <a:pt x="0" y="1320"/>
                    </a:lnTo>
                    <a:lnTo>
                      <a:pt x="1164" y="1332"/>
                    </a:lnTo>
                    <a:lnTo>
                      <a:pt x="2340" y="1176"/>
                    </a:lnTo>
                    <a:lnTo>
                      <a:pt x="3504" y="300"/>
                    </a:lnTo>
                    <a:lnTo>
                      <a:pt x="4668" y="756"/>
                    </a:lnTo>
                    <a:lnTo>
                      <a:pt x="5832" y="192"/>
                    </a:lnTo>
                    <a:lnTo>
                      <a:pt x="7008" y="312"/>
                    </a:lnTo>
                    <a:lnTo>
                      <a:pt x="8172" y="0"/>
                    </a:lnTo>
                    <a:lnTo>
                      <a:pt x="8172" y="1224"/>
                    </a:lnTo>
                    <a:lnTo>
                      <a:pt x="7008" y="1356"/>
                    </a:lnTo>
                    <a:lnTo>
                      <a:pt x="5832" y="1200"/>
                    </a:lnTo>
                    <a:lnTo>
                      <a:pt x="4668" y="1788"/>
                    </a:lnTo>
                    <a:lnTo>
                      <a:pt x="3504" y="1920"/>
                    </a:lnTo>
                    <a:lnTo>
                      <a:pt x="2340" y="1308"/>
                    </a:lnTo>
                    <a:lnTo>
                      <a:pt x="1164" y="1452"/>
                    </a:lnTo>
                    <a:lnTo>
                      <a:pt x="0" y="139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673440" y="2719440"/>
                <a:ext cx="5189400" cy="1622520"/>
              </a:xfrm>
              <a:custGeom>
                <a:avLst/>
                <a:gdLst/>
                <a:ahLst/>
                <a:rect l="l" t="t" r="r" b="b"/>
                <a:pathLst>
                  <a:path w="8172" h="2556">
                    <a:moveTo>
                      <a:pt x="0" y="2544"/>
                    </a:moveTo>
                    <a:lnTo>
                      <a:pt x="0" y="0"/>
                    </a:lnTo>
                    <a:lnTo>
                      <a:pt x="1164" y="0"/>
                    </a:lnTo>
                    <a:lnTo>
                      <a:pt x="2340" y="0"/>
                    </a:lnTo>
                    <a:lnTo>
                      <a:pt x="3504" y="0"/>
                    </a:lnTo>
                    <a:lnTo>
                      <a:pt x="4668" y="0"/>
                    </a:lnTo>
                    <a:lnTo>
                      <a:pt x="5832" y="0"/>
                    </a:lnTo>
                    <a:lnTo>
                      <a:pt x="7008" y="0"/>
                    </a:lnTo>
                    <a:lnTo>
                      <a:pt x="8172" y="0"/>
                    </a:lnTo>
                    <a:lnTo>
                      <a:pt x="8172" y="1224"/>
                    </a:lnTo>
                    <a:lnTo>
                      <a:pt x="7008" y="1536"/>
                    </a:lnTo>
                    <a:lnTo>
                      <a:pt x="5832" y="1416"/>
                    </a:lnTo>
                    <a:lnTo>
                      <a:pt x="4668" y="1980"/>
                    </a:lnTo>
                    <a:lnTo>
                      <a:pt x="3504" y="1524"/>
                    </a:lnTo>
                    <a:lnTo>
                      <a:pt x="2340" y="2400"/>
                    </a:lnTo>
                    <a:lnTo>
                      <a:pt x="1164" y="2556"/>
                    </a:lnTo>
                    <a:lnTo>
                      <a:pt x="0" y="25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673440" y="5767560"/>
                <a:ext cx="5189400" cy="14040"/>
              </a:xfrm>
              <a:custGeom>
                <a:avLst/>
                <a:gdLst/>
                <a:ahLst/>
                <a:rect l="l" t="t" r="r" b="b"/>
                <a:pathLst>
                  <a:path w="8172" h="24">
                    <a:moveTo>
                      <a:pt x="0" y="24"/>
                    </a:moveTo>
                    <a:lnTo>
                      <a:pt x="0" y="0"/>
                    </a:lnTo>
                    <a:lnTo>
                      <a:pt x="1164" y="0"/>
                    </a:lnTo>
                    <a:lnTo>
                      <a:pt x="2340" y="0"/>
                    </a:lnTo>
                    <a:lnTo>
                      <a:pt x="3504" y="12"/>
                    </a:lnTo>
                    <a:lnTo>
                      <a:pt x="4668" y="12"/>
                    </a:lnTo>
                    <a:lnTo>
                      <a:pt x="5832" y="0"/>
                    </a:lnTo>
                    <a:lnTo>
                      <a:pt x="7008" y="0"/>
                    </a:lnTo>
                    <a:lnTo>
                      <a:pt x="8172" y="0"/>
                    </a:lnTo>
                    <a:lnTo>
                      <a:pt x="8172" y="24"/>
                    </a:lnTo>
                    <a:lnTo>
                      <a:pt x="7008" y="24"/>
                    </a:lnTo>
                    <a:lnTo>
                      <a:pt x="5832" y="24"/>
                    </a:lnTo>
                    <a:lnTo>
                      <a:pt x="4668" y="24"/>
                    </a:lnTo>
                    <a:lnTo>
                      <a:pt x="3504" y="24"/>
                    </a:lnTo>
                    <a:lnTo>
                      <a:pt x="2340" y="24"/>
                    </a:lnTo>
                    <a:lnTo>
                      <a:pt x="1164" y="24"/>
                    </a:lnTo>
                    <a:lnTo>
                      <a:pt x="0" y="24"/>
                    </a:lnTo>
                  </a:path>
                </a:pathLst>
              </a:custGeom>
              <a:noFill/>
              <a:ln w="75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673440" y="5737320"/>
                <a:ext cx="5189400" cy="38160"/>
              </a:xfrm>
              <a:custGeom>
                <a:avLst/>
                <a:gdLst/>
                <a:ahLst/>
                <a:rect l="l" t="t" r="r" b="b"/>
                <a:pathLst>
                  <a:path w="8172" h="60">
                    <a:moveTo>
                      <a:pt x="0" y="48"/>
                    </a:moveTo>
                    <a:lnTo>
                      <a:pt x="0" y="12"/>
                    </a:lnTo>
                    <a:lnTo>
                      <a:pt x="1164" y="12"/>
                    </a:lnTo>
                    <a:lnTo>
                      <a:pt x="2340" y="0"/>
                    </a:lnTo>
                    <a:lnTo>
                      <a:pt x="3504" y="24"/>
                    </a:lnTo>
                    <a:lnTo>
                      <a:pt x="4668" y="24"/>
                    </a:lnTo>
                    <a:lnTo>
                      <a:pt x="5832" y="12"/>
                    </a:lnTo>
                    <a:lnTo>
                      <a:pt x="7008" y="0"/>
                    </a:lnTo>
                    <a:lnTo>
                      <a:pt x="8172" y="0"/>
                    </a:lnTo>
                    <a:lnTo>
                      <a:pt x="8172" y="48"/>
                    </a:lnTo>
                    <a:lnTo>
                      <a:pt x="7008" y="48"/>
                    </a:lnTo>
                    <a:lnTo>
                      <a:pt x="5832" y="48"/>
                    </a:lnTo>
                    <a:lnTo>
                      <a:pt x="4668" y="60"/>
                    </a:lnTo>
                    <a:lnTo>
                      <a:pt x="3504" y="60"/>
                    </a:lnTo>
                    <a:lnTo>
                      <a:pt x="2340" y="48"/>
                    </a:lnTo>
                    <a:lnTo>
                      <a:pt x="1164" y="48"/>
                    </a:lnTo>
                    <a:lnTo>
                      <a:pt x="0" y="48"/>
                    </a:lnTo>
                  </a:path>
                </a:pathLst>
              </a:custGeom>
              <a:noFill/>
              <a:ln w="75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673440" y="5675400"/>
                <a:ext cx="5189400" cy="75960"/>
              </a:xfrm>
              <a:custGeom>
                <a:avLst/>
                <a:gdLst/>
                <a:ahLst/>
                <a:rect l="l" t="t" r="r" b="b"/>
                <a:pathLst>
                  <a:path w="8172" h="120">
                    <a:moveTo>
                      <a:pt x="0" y="108"/>
                    </a:moveTo>
                    <a:lnTo>
                      <a:pt x="0" y="60"/>
                    </a:lnTo>
                    <a:lnTo>
                      <a:pt x="1164" y="48"/>
                    </a:lnTo>
                    <a:lnTo>
                      <a:pt x="2340" y="24"/>
                    </a:lnTo>
                    <a:lnTo>
                      <a:pt x="3504" y="48"/>
                    </a:lnTo>
                    <a:lnTo>
                      <a:pt x="4668" y="36"/>
                    </a:lnTo>
                    <a:lnTo>
                      <a:pt x="5832" y="24"/>
                    </a:lnTo>
                    <a:lnTo>
                      <a:pt x="7008" y="12"/>
                    </a:lnTo>
                    <a:lnTo>
                      <a:pt x="8172" y="0"/>
                    </a:lnTo>
                    <a:lnTo>
                      <a:pt x="8172" y="96"/>
                    </a:lnTo>
                    <a:lnTo>
                      <a:pt x="7008" y="96"/>
                    </a:lnTo>
                    <a:lnTo>
                      <a:pt x="5832" y="108"/>
                    </a:lnTo>
                    <a:lnTo>
                      <a:pt x="4668" y="120"/>
                    </a:lnTo>
                    <a:lnTo>
                      <a:pt x="3504" y="120"/>
                    </a:lnTo>
                    <a:lnTo>
                      <a:pt x="2340" y="96"/>
                    </a:lnTo>
                    <a:lnTo>
                      <a:pt x="1164" y="108"/>
                    </a:lnTo>
                    <a:lnTo>
                      <a:pt x="0" y="108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673440" y="5568840"/>
                <a:ext cx="5189400" cy="144720"/>
              </a:xfrm>
              <a:custGeom>
                <a:avLst/>
                <a:gdLst/>
                <a:ahLst/>
                <a:rect l="l" t="t" r="r" b="b"/>
                <a:pathLst>
                  <a:path w="8172" h="228">
                    <a:moveTo>
                      <a:pt x="0" y="228"/>
                    </a:moveTo>
                    <a:lnTo>
                      <a:pt x="0" y="24"/>
                    </a:lnTo>
                    <a:lnTo>
                      <a:pt x="1164" y="84"/>
                    </a:lnTo>
                    <a:lnTo>
                      <a:pt x="2340" y="36"/>
                    </a:lnTo>
                    <a:lnTo>
                      <a:pt x="3504" y="108"/>
                    </a:lnTo>
                    <a:lnTo>
                      <a:pt x="4668" y="60"/>
                    </a:lnTo>
                    <a:lnTo>
                      <a:pt x="5832" y="36"/>
                    </a:lnTo>
                    <a:lnTo>
                      <a:pt x="7008" y="0"/>
                    </a:lnTo>
                    <a:lnTo>
                      <a:pt x="8172" y="24"/>
                    </a:lnTo>
                    <a:lnTo>
                      <a:pt x="8172" y="168"/>
                    </a:lnTo>
                    <a:lnTo>
                      <a:pt x="7008" y="180"/>
                    </a:lnTo>
                    <a:lnTo>
                      <a:pt x="5832" y="192"/>
                    </a:lnTo>
                    <a:lnTo>
                      <a:pt x="4668" y="204"/>
                    </a:lnTo>
                    <a:lnTo>
                      <a:pt x="3504" y="216"/>
                    </a:lnTo>
                    <a:lnTo>
                      <a:pt x="2340" y="192"/>
                    </a:lnTo>
                    <a:lnTo>
                      <a:pt x="1164" y="216"/>
                    </a:lnTo>
                    <a:lnTo>
                      <a:pt x="0" y="228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673440" y="5492880"/>
                <a:ext cx="5189400" cy="144360"/>
              </a:xfrm>
              <a:custGeom>
                <a:avLst/>
                <a:gdLst/>
                <a:ahLst/>
                <a:rect l="l" t="t" r="r" b="b"/>
                <a:pathLst>
                  <a:path w="8172" h="228">
                    <a:moveTo>
                      <a:pt x="0" y="144"/>
                    </a:moveTo>
                    <a:lnTo>
                      <a:pt x="0" y="84"/>
                    </a:lnTo>
                    <a:lnTo>
                      <a:pt x="1164" y="84"/>
                    </a:lnTo>
                    <a:lnTo>
                      <a:pt x="2340" y="0"/>
                    </a:lnTo>
                    <a:lnTo>
                      <a:pt x="3504" y="144"/>
                    </a:lnTo>
                    <a:lnTo>
                      <a:pt x="4668" y="108"/>
                    </a:lnTo>
                    <a:lnTo>
                      <a:pt x="5832" y="120"/>
                    </a:lnTo>
                    <a:lnTo>
                      <a:pt x="7008" y="36"/>
                    </a:lnTo>
                    <a:lnTo>
                      <a:pt x="8172" y="72"/>
                    </a:lnTo>
                    <a:lnTo>
                      <a:pt x="8172" y="144"/>
                    </a:lnTo>
                    <a:lnTo>
                      <a:pt x="7008" y="120"/>
                    </a:lnTo>
                    <a:lnTo>
                      <a:pt x="5832" y="156"/>
                    </a:lnTo>
                    <a:lnTo>
                      <a:pt x="4668" y="180"/>
                    </a:lnTo>
                    <a:lnTo>
                      <a:pt x="3504" y="228"/>
                    </a:lnTo>
                    <a:lnTo>
                      <a:pt x="2340" y="156"/>
                    </a:lnTo>
                    <a:lnTo>
                      <a:pt x="1164" y="204"/>
                    </a:lnTo>
                    <a:lnTo>
                      <a:pt x="0" y="144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73440" y="4792680"/>
                <a:ext cx="5189400" cy="792000"/>
              </a:xfrm>
              <a:custGeom>
                <a:avLst/>
                <a:gdLst/>
                <a:ahLst/>
                <a:rect l="l" t="t" r="r" b="b"/>
                <a:pathLst>
                  <a:path w="8172" h="1248">
                    <a:moveTo>
                      <a:pt x="0" y="1188"/>
                    </a:moveTo>
                    <a:lnTo>
                      <a:pt x="0" y="192"/>
                    </a:lnTo>
                    <a:lnTo>
                      <a:pt x="1164" y="228"/>
                    </a:lnTo>
                    <a:lnTo>
                      <a:pt x="2340" y="0"/>
                    </a:lnTo>
                    <a:lnTo>
                      <a:pt x="3504" y="348"/>
                    </a:lnTo>
                    <a:lnTo>
                      <a:pt x="4668" y="276"/>
                    </a:lnTo>
                    <a:lnTo>
                      <a:pt x="5832" y="444"/>
                    </a:lnTo>
                    <a:lnTo>
                      <a:pt x="7008" y="348"/>
                    </a:lnTo>
                    <a:lnTo>
                      <a:pt x="8172" y="348"/>
                    </a:lnTo>
                    <a:lnTo>
                      <a:pt x="8172" y="1176"/>
                    </a:lnTo>
                    <a:lnTo>
                      <a:pt x="7008" y="1140"/>
                    </a:lnTo>
                    <a:lnTo>
                      <a:pt x="5832" y="1224"/>
                    </a:lnTo>
                    <a:lnTo>
                      <a:pt x="4668" y="1212"/>
                    </a:lnTo>
                    <a:lnTo>
                      <a:pt x="3504" y="1248"/>
                    </a:lnTo>
                    <a:lnTo>
                      <a:pt x="2340" y="1104"/>
                    </a:lnTo>
                    <a:lnTo>
                      <a:pt x="1164" y="1188"/>
                    </a:lnTo>
                    <a:lnTo>
                      <a:pt x="0" y="1188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673440" y="4708440"/>
                <a:ext cx="5189400" cy="365040"/>
              </a:xfrm>
              <a:custGeom>
                <a:avLst/>
                <a:gdLst/>
                <a:ahLst/>
                <a:rect l="l" t="t" r="r" b="b"/>
                <a:pathLst>
                  <a:path w="8172" h="576">
                    <a:moveTo>
                      <a:pt x="0" y="324"/>
                    </a:moveTo>
                    <a:lnTo>
                      <a:pt x="0" y="168"/>
                    </a:lnTo>
                    <a:lnTo>
                      <a:pt x="1164" y="240"/>
                    </a:lnTo>
                    <a:lnTo>
                      <a:pt x="2340" y="0"/>
                    </a:lnTo>
                    <a:lnTo>
                      <a:pt x="3504" y="408"/>
                    </a:lnTo>
                    <a:lnTo>
                      <a:pt x="4668" y="360"/>
                    </a:lnTo>
                    <a:lnTo>
                      <a:pt x="5832" y="540"/>
                    </a:lnTo>
                    <a:lnTo>
                      <a:pt x="7008" y="444"/>
                    </a:lnTo>
                    <a:lnTo>
                      <a:pt x="8172" y="444"/>
                    </a:lnTo>
                    <a:lnTo>
                      <a:pt x="8172" y="480"/>
                    </a:lnTo>
                    <a:lnTo>
                      <a:pt x="7008" y="480"/>
                    </a:lnTo>
                    <a:lnTo>
                      <a:pt x="5832" y="576"/>
                    </a:lnTo>
                    <a:lnTo>
                      <a:pt x="4668" y="408"/>
                    </a:lnTo>
                    <a:lnTo>
                      <a:pt x="3504" y="480"/>
                    </a:lnTo>
                    <a:lnTo>
                      <a:pt x="2340" y="132"/>
                    </a:lnTo>
                    <a:lnTo>
                      <a:pt x="1164" y="360"/>
                    </a:lnTo>
                    <a:lnTo>
                      <a:pt x="0" y="324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673440" y="4518000"/>
                <a:ext cx="5189400" cy="533520"/>
              </a:xfrm>
              <a:custGeom>
                <a:avLst/>
                <a:gdLst/>
                <a:ahLst/>
                <a:rect l="l" t="t" r="r" b="b"/>
                <a:pathLst>
                  <a:path w="8172" h="840">
                    <a:moveTo>
                      <a:pt x="0" y="468"/>
                    </a:moveTo>
                    <a:lnTo>
                      <a:pt x="0" y="192"/>
                    </a:lnTo>
                    <a:lnTo>
                      <a:pt x="1164" y="216"/>
                    </a:lnTo>
                    <a:lnTo>
                      <a:pt x="2340" y="0"/>
                    </a:lnTo>
                    <a:lnTo>
                      <a:pt x="3504" y="516"/>
                    </a:lnTo>
                    <a:lnTo>
                      <a:pt x="4668" y="504"/>
                    </a:lnTo>
                    <a:lnTo>
                      <a:pt x="5832" y="696"/>
                    </a:lnTo>
                    <a:lnTo>
                      <a:pt x="7008" y="588"/>
                    </a:lnTo>
                    <a:lnTo>
                      <a:pt x="8172" y="564"/>
                    </a:lnTo>
                    <a:lnTo>
                      <a:pt x="8172" y="744"/>
                    </a:lnTo>
                    <a:lnTo>
                      <a:pt x="7008" y="744"/>
                    </a:lnTo>
                    <a:lnTo>
                      <a:pt x="5832" y="840"/>
                    </a:lnTo>
                    <a:lnTo>
                      <a:pt x="4668" y="660"/>
                    </a:lnTo>
                    <a:lnTo>
                      <a:pt x="3504" y="708"/>
                    </a:lnTo>
                    <a:lnTo>
                      <a:pt x="2340" y="300"/>
                    </a:lnTo>
                    <a:lnTo>
                      <a:pt x="1164" y="540"/>
                    </a:lnTo>
                    <a:lnTo>
                      <a:pt x="0" y="468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673440" y="4433760"/>
                <a:ext cx="5189400" cy="525600"/>
              </a:xfrm>
              <a:custGeom>
                <a:avLst/>
                <a:gdLst/>
                <a:ahLst/>
                <a:rect l="l" t="t" r="r" b="b"/>
                <a:pathLst>
                  <a:path w="8172" h="828">
                    <a:moveTo>
                      <a:pt x="0" y="324"/>
                    </a:moveTo>
                    <a:lnTo>
                      <a:pt x="0" y="144"/>
                    </a:lnTo>
                    <a:lnTo>
                      <a:pt x="1164" y="204"/>
                    </a:lnTo>
                    <a:lnTo>
                      <a:pt x="2340" y="0"/>
                    </a:lnTo>
                    <a:lnTo>
                      <a:pt x="3504" y="540"/>
                    </a:lnTo>
                    <a:lnTo>
                      <a:pt x="4668" y="504"/>
                    </a:lnTo>
                    <a:lnTo>
                      <a:pt x="5832" y="684"/>
                    </a:lnTo>
                    <a:lnTo>
                      <a:pt x="7008" y="624"/>
                    </a:lnTo>
                    <a:lnTo>
                      <a:pt x="8172" y="600"/>
                    </a:lnTo>
                    <a:lnTo>
                      <a:pt x="8172" y="696"/>
                    </a:lnTo>
                    <a:lnTo>
                      <a:pt x="7008" y="720"/>
                    </a:lnTo>
                    <a:lnTo>
                      <a:pt x="5832" y="828"/>
                    </a:lnTo>
                    <a:lnTo>
                      <a:pt x="4668" y="636"/>
                    </a:lnTo>
                    <a:lnTo>
                      <a:pt x="3504" y="648"/>
                    </a:lnTo>
                    <a:lnTo>
                      <a:pt x="2340" y="132"/>
                    </a:lnTo>
                    <a:lnTo>
                      <a:pt x="1164" y="348"/>
                    </a:lnTo>
                    <a:lnTo>
                      <a:pt x="0" y="324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673440" y="4387680"/>
                <a:ext cx="5189400" cy="479520"/>
              </a:xfrm>
              <a:custGeom>
                <a:avLst/>
                <a:gdLst/>
                <a:ahLst/>
                <a:rect l="l" t="t" r="r" b="b"/>
                <a:pathLst>
                  <a:path w="8172" h="756">
                    <a:moveTo>
                      <a:pt x="0" y="216"/>
                    </a:moveTo>
                    <a:lnTo>
                      <a:pt x="0" y="120"/>
                    </a:lnTo>
                    <a:lnTo>
                      <a:pt x="1164" y="180"/>
                    </a:lnTo>
                    <a:lnTo>
                      <a:pt x="2340" y="0"/>
                    </a:lnTo>
                    <a:lnTo>
                      <a:pt x="3504" y="600"/>
                    </a:lnTo>
                    <a:lnTo>
                      <a:pt x="4668" y="528"/>
                    </a:lnTo>
                    <a:lnTo>
                      <a:pt x="5832" y="684"/>
                    </a:lnTo>
                    <a:lnTo>
                      <a:pt x="7008" y="612"/>
                    </a:lnTo>
                    <a:lnTo>
                      <a:pt x="8172" y="480"/>
                    </a:lnTo>
                    <a:lnTo>
                      <a:pt x="8172" y="672"/>
                    </a:lnTo>
                    <a:lnTo>
                      <a:pt x="7008" y="696"/>
                    </a:lnTo>
                    <a:lnTo>
                      <a:pt x="5832" y="756"/>
                    </a:lnTo>
                    <a:lnTo>
                      <a:pt x="4668" y="576"/>
                    </a:lnTo>
                    <a:lnTo>
                      <a:pt x="3504" y="612"/>
                    </a:lnTo>
                    <a:lnTo>
                      <a:pt x="2340" y="72"/>
                    </a:lnTo>
                    <a:lnTo>
                      <a:pt x="1164" y="276"/>
                    </a:lnTo>
                    <a:lnTo>
                      <a:pt x="0" y="216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673440" y="4259160"/>
                <a:ext cx="5189400" cy="563760"/>
              </a:xfrm>
              <a:custGeom>
                <a:avLst/>
                <a:gdLst/>
                <a:ahLst/>
                <a:rect l="l" t="t" r="r" b="b"/>
                <a:pathLst>
                  <a:path w="8172" h="888">
                    <a:moveTo>
                      <a:pt x="0" y="324"/>
                    </a:moveTo>
                    <a:lnTo>
                      <a:pt x="0" y="192"/>
                    </a:lnTo>
                    <a:lnTo>
                      <a:pt x="1164" y="252"/>
                    </a:lnTo>
                    <a:lnTo>
                      <a:pt x="2340" y="108"/>
                    </a:lnTo>
                    <a:lnTo>
                      <a:pt x="3504" y="720"/>
                    </a:lnTo>
                    <a:lnTo>
                      <a:pt x="4668" y="588"/>
                    </a:lnTo>
                    <a:lnTo>
                      <a:pt x="5832" y="0"/>
                    </a:lnTo>
                    <a:lnTo>
                      <a:pt x="7008" y="156"/>
                    </a:lnTo>
                    <a:lnTo>
                      <a:pt x="8172" y="24"/>
                    </a:lnTo>
                    <a:lnTo>
                      <a:pt x="8172" y="684"/>
                    </a:lnTo>
                    <a:lnTo>
                      <a:pt x="7008" y="816"/>
                    </a:lnTo>
                    <a:lnTo>
                      <a:pt x="5832" y="888"/>
                    </a:lnTo>
                    <a:lnTo>
                      <a:pt x="4668" y="732"/>
                    </a:lnTo>
                    <a:lnTo>
                      <a:pt x="3504" y="804"/>
                    </a:lnTo>
                    <a:lnTo>
                      <a:pt x="2340" y="204"/>
                    </a:lnTo>
                    <a:lnTo>
                      <a:pt x="1164" y="384"/>
                    </a:lnTo>
                    <a:lnTo>
                      <a:pt x="0" y="324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673440" y="3497400"/>
                <a:ext cx="5189400" cy="1218960"/>
              </a:xfrm>
              <a:custGeom>
                <a:avLst/>
                <a:gdLst/>
                <a:ahLst/>
                <a:rect l="l" t="t" r="r" b="b"/>
                <a:pathLst>
                  <a:path w="8172" h="1920">
                    <a:moveTo>
                      <a:pt x="0" y="1392"/>
                    </a:moveTo>
                    <a:lnTo>
                      <a:pt x="0" y="1320"/>
                    </a:lnTo>
                    <a:lnTo>
                      <a:pt x="1164" y="1332"/>
                    </a:lnTo>
                    <a:lnTo>
                      <a:pt x="2340" y="1176"/>
                    </a:lnTo>
                    <a:lnTo>
                      <a:pt x="3504" y="300"/>
                    </a:lnTo>
                    <a:lnTo>
                      <a:pt x="4668" y="756"/>
                    </a:lnTo>
                    <a:lnTo>
                      <a:pt x="5832" y="192"/>
                    </a:lnTo>
                    <a:lnTo>
                      <a:pt x="7008" y="312"/>
                    </a:lnTo>
                    <a:lnTo>
                      <a:pt x="8172" y="0"/>
                    </a:lnTo>
                    <a:lnTo>
                      <a:pt x="8172" y="1224"/>
                    </a:lnTo>
                    <a:lnTo>
                      <a:pt x="7008" y="1356"/>
                    </a:lnTo>
                    <a:lnTo>
                      <a:pt x="5832" y="1200"/>
                    </a:lnTo>
                    <a:lnTo>
                      <a:pt x="4668" y="1788"/>
                    </a:lnTo>
                    <a:lnTo>
                      <a:pt x="3504" y="1920"/>
                    </a:lnTo>
                    <a:lnTo>
                      <a:pt x="2340" y="1308"/>
                    </a:lnTo>
                    <a:lnTo>
                      <a:pt x="1164" y="1452"/>
                    </a:lnTo>
                    <a:lnTo>
                      <a:pt x="0" y="1392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673440" y="2719440"/>
                <a:ext cx="5189400" cy="1622520"/>
              </a:xfrm>
              <a:custGeom>
                <a:avLst/>
                <a:gdLst/>
                <a:ahLst/>
                <a:rect l="l" t="t" r="r" b="b"/>
                <a:pathLst>
                  <a:path w="8172" h="2556">
                    <a:moveTo>
                      <a:pt x="0" y="2544"/>
                    </a:moveTo>
                    <a:lnTo>
                      <a:pt x="0" y="0"/>
                    </a:lnTo>
                    <a:lnTo>
                      <a:pt x="1164" y="0"/>
                    </a:lnTo>
                    <a:lnTo>
                      <a:pt x="2340" y="0"/>
                    </a:lnTo>
                    <a:lnTo>
                      <a:pt x="3504" y="0"/>
                    </a:lnTo>
                    <a:lnTo>
                      <a:pt x="4668" y="0"/>
                    </a:lnTo>
                    <a:lnTo>
                      <a:pt x="5832" y="0"/>
                    </a:lnTo>
                    <a:lnTo>
                      <a:pt x="7008" y="0"/>
                    </a:lnTo>
                    <a:lnTo>
                      <a:pt x="8172" y="0"/>
                    </a:lnTo>
                    <a:lnTo>
                      <a:pt x="8172" y="1224"/>
                    </a:lnTo>
                    <a:lnTo>
                      <a:pt x="7008" y="1536"/>
                    </a:lnTo>
                    <a:lnTo>
                      <a:pt x="5832" y="1416"/>
                    </a:lnTo>
                    <a:lnTo>
                      <a:pt x="4668" y="1980"/>
                    </a:lnTo>
                    <a:lnTo>
                      <a:pt x="3504" y="1524"/>
                    </a:lnTo>
                    <a:lnTo>
                      <a:pt x="2340" y="2400"/>
                    </a:lnTo>
                    <a:lnTo>
                      <a:pt x="1164" y="2556"/>
                    </a:lnTo>
                    <a:lnTo>
                      <a:pt x="0" y="2544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73440" y="2719440"/>
                <a:ext cx="0" cy="306216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627360" y="5781600"/>
                <a:ext cx="46080" cy="180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27360" y="5477040"/>
                <a:ext cx="46080" cy="144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627360" y="5172120"/>
                <a:ext cx="46080" cy="144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627360" y="4861080"/>
                <a:ext cx="46080" cy="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627360" y="4556160"/>
                <a:ext cx="46080" cy="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27360" y="4251240"/>
                <a:ext cx="46080" cy="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627360" y="3946680"/>
                <a:ext cx="46080" cy="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27360" y="3641760"/>
                <a:ext cx="46080" cy="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627360" y="3328920"/>
                <a:ext cx="46080" cy="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627360" y="3024360"/>
                <a:ext cx="46080" cy="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27360" y="2719440"/>
                <a:ext cx="46080" cy="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673440" y="5781600"/>
                <a:ext cx="5189400" cy="180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3673440" y="5781600"/>
                <a:ext cx="0" cy="4608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4411800" y="5781600"/>
                <a:ext cx="1440" cy="4608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5159520" y="5781600"/>
                <a:ext cx="0" cy="4608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5897520" y="5781600"/>
                <a:ext cx="1800" cy="4608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6637320" y="5781600"/>
                <a:ext cx="0" cy="4608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7377120" y="5781600"/>
                <a:ext cx="0" cy="4608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8123400" y="5781600"/>
                <a:ext cx="0" cy="4608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8862840" y="5781600"/>
                <a:ext cx="0" cy="46080"/>
              </a:xfrm>
              <a:prstGeom prst="line">
                <a:avLst/>
              </a:prstGeom>
              <a:ln w="0">
                <a:solidFill>
                  <a:srgbClr val="eaeae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352320" y="5705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0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276360" y="54007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10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76360" y="5095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20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76360" y="4784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30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76360" y="4479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40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76360" y="41752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50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76360" y="38703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60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76360" y="35654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70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276360" y="32529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80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76360" y="29480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90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200040" y="26431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100%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79960" y="5873760"/>
                <a:ext cx="3524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1996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00760" y="5873760"/>
                <a:ext cx="3524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1997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38760" y="5873760"/>
                <a:ext cx="3542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1998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78560" y="5873760"/>
                <a:ext cx="3524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1999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218360" y="5873760"/>
                <a:ext cx="3524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2000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964640" y="5873760"/>
                <a:ext cx="3524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2001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704440" y="5873760"/>
                <a:ext cx="35208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2002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537000" y="5889600"/>
                <a:ext cx="35388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Times New Roman"/>
                  </a:rPr>
                  <a:t>1995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4408560" y="2719440"/>
                <a:ext cx="3240" cy="3039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8856720" y="2712600"/>
                <a:ext cx="1440" cy="3040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5165640" y="2719440"/>
                <a:ext cx="1800" cy="3039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5897520" y="2728440"/>
                <a:ext cx="1800" cy="303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6638760" y="2728440"/>
                <a:ext cx="1800" cy="303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7375680" y="2719440"/>
                <a:ext cx="1440" cy="3039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8129520" y="2728440"/>
                <a:ext cx="3240" cy="303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22960" y="3016080"/>
                <a:ext cx="1752480" cy="228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ffffff"/>
                    </a:solidFill>
                    <a:latin typeface="Times New Roman"/>
                  </a:rPr>
                  <a:t>Машиностроение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770520" y="3930480"/>
                <a:ext cx="1828800" cy="228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7a"/>
                    </a:solidFill>
                    <a:latin typeface="Times New Roman"/>
                  </a:rPr>
                  <a:t>Электроэнергетика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978600" y="4449600"/>
                <a:ext cx="1828800" cy="228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7a"/>
                    </a:solidFill>
                    <a:latin typeface="Times New Roman"/>
                  </a:rPr>
                  <a:t>Цветная металлургия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89440" y="5187960"/>
                <a:ext cx="2590920" cy="228600"/>
              </a:xfrm>
              <a:prstGeom prst="rect">
                <a:avLst/>
              </a:prstGeom>
              <a:solidFill>
                <a:srgbClr val="c9d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7a"/>
                    </a:solidFill>
                    <a:latin typeface="Times New Roman"/>
                  </a:rPr>
                  <a:t>Пищевая промышленность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3112920" y="4502160"/>
                <a:ext cx="990720" cy="222120"/>
              </a:xfrm>
              <a:prstGeom prst="line">
                <a:avLst/>
              </a:prstGeom>
              <a:ln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3036600" y="4572000"/>
                <a:ext cx="1523880" cy="609480"/>
              </a:xfrm>
              <a:prstGeom prst="line">
                <a:avLst/>
              </a:prstGeom>
              <a:ln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3417480" y="4724280"/>
                <a:ext cx="1143000" cy="914400"/>
              </a:xfrm>
              <a:prstGeom prst="line">
                <a:avLst/>
              </a:prstGeom>
              <a:ln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313320" y="5562720"/>
                <a:ext cx="304920" cy="990360"/>
              </a:xfrm>
              <a:prstGeom prst="line">
                <a:avLst/>
              </a:prstGeom>
              <a:ln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3570120" y="5791320"/>
                <a:ext cx="609840" cy="761760"/>
              </a:xfrm>
              <a:prstGeom prst="line">
                <a:avLst/>
              </a:prstGeom>
              <a:ln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2732040" y="5791320"/>
                <a:ext cx="990720" cy="457200"/>
              </a:xfrm>
              <a:prstGeom prst="line">
                <a:avLst/>
              </a:prstGeom>
              <a:ln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98920" y="5638680"/>
                <a:ext cx="228600" cy="609840"/>
              </a:xfrm>
              <a:prstGeom prst="line">
                <a:avLst/>
              </a:prstGeom>
              <a:ln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8446680" y="4991040"/>
                <a:ext cx="228600" cy="1181160"/>
              </a:xfrm>
              <a:prstGeom prst="line">
                <a:avLst/>
              </a:prstGeom>
              <a:ln w="190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198520" y="4578480"/>
                <a:ext cx="10670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eaeaea"/>
                    </a:solidFill>
                    <a:latin typeface="Times New Roman"/>
                  </a:rPr>
                  <a:t>Черная</a:t>
                </a:r>
                <a:r>
                  <a:rPr b="1" lang="ru-RU" sz="1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1" sz="1400" spc="-1" strike="noStrike">
                    <a:solidFill>
                      <a:srgbClr val="eaeaea"/>
                    </a:solidFill>
                    <a:latin typeface="Times New Roman"/>
                  </a:rPr>
                  <a:t>ме</a:t>
                </a:r>
                <a:r>
                  <a:rPr b="1" lang="ru-RU" sz="1400" spc="-1" strike="noStrike">
                    <a:solidFill>
                      <a:srgbClr val="eaeaea"/>
                    </a:solidFill>
                    <a:latin typeface="Times New Roman"/>
                  </a:rPr>
                  <a:t>-</a:t>
                </a:r>
                <a:r>
                  <a:rPr b="1" sz="1400" spc="-1" strike="noStrike">
                    <a:solidFill>
                      <a:srgbClr val="eaeaea"/>
                    </a:solidFill>
                    <a:latin typeface="Times New Roman"/>
                  </a:rPr>
                  <a:t>таллур</a:t>
                </a:r>
                <a:r>
                  <a:rPr b="1" lang="ru-RU" sz="1400" spc="-1" strike="noStrike">
                    <a:solidFill>
                      <a:srgbClr val="eaeaea"/>
                    </a:solidFill>
                    <a:latin typeface="Times New Roman"/>
                  </a:rPr>
                  <a:t>гия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92440" y="5499000"/>
                <a:ext cx="167616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eaeaea"/>
                    </a:solidFill>
                    <a:latin typeface="Times New Roman"/>
                  </a:rPr>
                  <a:t>Промышленность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eaeaea"/>
                    </a:solidFill>
                    <a:latin typeface="Times New Roman"/>
                  </a:rPr>
                  <a:t>с</a:t>
                </a:r>
                <a:r>
                  <a:rPr b="1" sz="1400" spc="-1" strike="noStrike">
                    <a:solidFill>
                      <a:srgbClr val="eaeaea"/>
                    </a:solidFill>
                    <a:latin typeface="Times New Roman"/>
                  </a:rPr>
                  <a:t>трои</a:t>
                </a:r>
                <a:r>
                  <a:rPr b="1" lang="ru-RU" sz="1400" spc="-1" strike="noStrike">
                    <a:solidFill>
                      <a:srgbClr val="eaeaea"/>
                    </a:solidFill>
                    <a:latin typeface="Times New Roman"/>
                  </a:rPr>
                  <a:t>-</a:t>
                </a:r>
                <a:r>
                  <a:rPr b="1" sz="1400" spc="-1" strike="noStrike">
                    <a:solidFill>
                      <a:srgbClr val="eaeaea"/>
                    </a:solidFill>
                    <a:latin typeface="Times New Roman"/>
                  </a:rPr>
                  <a:t>тельных материалов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817640" y="5029200"/>
                <a:ext cx="167652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Times New Roman"/>
                  </a:rPr>
                  <a:t>Химическая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Times New Roman"/>
                  </a:rPr>
                  <a:t>промышленность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923160" y="6070680"/>
                <a:ext cx="222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eaeaea"/>
                    </a:solidFill>
                    <a:latin typeface="Times New Roman"/>
                  </a:rPr>
                  <a:t>Лесная и деревооработка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970640" y="6172200"/>
                <a:ext cx="165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Times New Roman"/>
                  </a:rPr>
                  <a:t>Полиграфическая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51560" y="6519960"/>
                <a:ext cx="350496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eaeaea"/>
                    </a:solidFill>
                    <a:latin typeface="Times New Roman"/>
                  </a:rPr>
                  <a:t>Мукомольно-круяная</a:t>
                </a:r>
                <a:r>
                  <a:rPr b="1" lang="ru-RU" sz="1400" spc="-1" strike="noStrike">
                    <a:solidFill>
                      <a:srgbClr val="eaeaea"/>
                    </a:solidFill>
                    <a:latin typeface="Times New Roman"/>
                  </a:rPr>
                  <a:t> промышленность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103640" y="6172200"/>
                <a:ext cx="228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Times New Roman"/>
                  </a:rPr>
                  <a:t>Легкая промышленность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274840" y="6553080"/>
                <a:ext cx="312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Times New Roman"/>
                  </a:rPr>
                  <a:t>Медицинская промышленность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429000" y="2133720"/>
              <a:ext cx="5410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Изменения в структуре промышленности Новосибирск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(по данным Новосибирского Облгоскомстата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505320" y="914400"/>
            <a:ext cx="556236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смотря на обвальное снижение в 90-е годы промышленного производств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а, в струк-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уре его промышленности большая доля сохра- няется у отраслей машиностроения 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5%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2400" y="3733920"/>
            <a:ext cx="300168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адение производства наиболее сильно проя-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илось в отра-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ях оборон-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й промыш-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енности, до-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нирующе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дореформен-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ый  период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Новосибир-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ке.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457200"/>
            <a:ext cx="5410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af4f8"/>
                </a:solidFill>
                <a:uFillTx/>
                <a:latin typeface="Times New Roman"/>
              </a:rPr>
              <a:t>Структура промышленности город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 rot="3805200">
            <a:off x="5955120" y="2297880"/>
            <a:ext cx="685800" cy="357480"/>
          </a:xfrm>
          <a:prstGeom prst="rightArrow">
            <a:avLst>
              <a:gd name="adj1" fmla="val 45000"/>
              <a:gd name="adj2" fmla="val 51957"/>
            </a:avLst>
          </a:prstGeom>
          <a:gradFill rotWithShape="0">
            <a:gsLst>
              <a:gs pos="0">
                <a:srgbClr val="9af4f8"/>
              </a:gs>
              <a:gs pos="100000">
                <a:srgbClr val="467072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af4f8"/>
                </a:solidFill>
                <a:latin typeface="Times New Roman"/>
              </a:rPr>
              <a:t>ПРОМЫШЛЕННО-ТЕХНИЧЕСКАЯ БАЗА</a:t>
            </a:r>
            <a:endParaRPr b="0" lang="en-US" sz="3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685800"/>
            <a:ext cx="85345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af4f8"/>
                </a:solidFill>
                <a:uFillTx/>
                <a:latin typeface="Times New Roman"/>
              </a:rPr>
              <a:t>Технологическая база машиностроительных предприят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52280" y="1371600"/>
            <a:ext cx="3733920" cy="1600200"/>
            <a:chOff x="152280" y="1371600"/>
            <a:chExt cx="3733920" cy="1600200"/>
          </a:xfrm>
        </p:grpSpPr>
        <p:sp>
          <p:nvSpPr>
            <p:cNvPr id="700" name=""/>
            <p:cNvSpPr/>
            <p:nvPr/>
          </p:nvSpPr>
          <p:spPr>
            <a:xfrm>
              <a:off x="152280" y="1371600"/>
              <a:ext cx="3733920" cy="1600200"/>
            </a:xfrm>
            <a:prstGeom prst="rect">
              <a:avLst/>
            </a:prstGeom>
            <a:gradFill rotWithShape="0">
              <a:gsLst>
                <a:gs pos="0">
                  <a:srgbClr val="467072"/>
                </a:gs>
                <a:gs pos="100000">
                  <a:srgbClr val="9af4f8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3920" y="1447920"/>
              <a:ext cx="35899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00080">
                <a:lnSpc>
                  <a:spcPct val="75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Заготовительное производство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10008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техпроцессы:   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100080">
                <a:lnSpc>
                  <a:spcPct val="70000"/>
                </a:lnSpc>
                <a:spcBef>
                  <a:spcPts val="201"/>
                </a:spcBef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литье всех видов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100080">
                <a:lnSpc>
                  <a:spcPct val="70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  </a:t>
              </a: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кузнечное и прессовальные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100080">
                <a:lnSpc>
                  <a:spcPct val="70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  </a:t>
              </a: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волочильные и прокатные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100080">
                <a:lnSpc>
                  <a:spcPct val="70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  </a:t>
              </a: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черновая механообработка и др</a:t>
              </a:r>
              <a:r>
                <a:rPr b="1" i="1" lang="en-US" sz="1800" spc="-1" strike="noStrike">
                  <a:solidFill>
                    <a:srgbClr val="00007a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100080">
                <a:lnSpc>
                  <a:spcPct val="70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  </a:t>
              </a: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раскройные и листоштамповочные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267080" y="1371600"/>
            <a:ext cx="1905120" cy="1143000"/>
            <a:chOff x="4267080" y="1371600"/>
            <a:chExt cx="1905120" cy="1143000"/>
          </a:xfrm>
        </p:grpSpPr>
        <p:sp>
          <p:nvSpPr>
            <p:cNvPr id="703" name=""/>
            <p:cNvSpPr/>
            <p:nvPr/>
          </p:nvSpPr>
          <p:spPr>
            <a:xfrm>
              <a:off x="4267080" y="1371600"/>
              <a:ext cx="1905120" cy="1143000"/>
            </a:xfrm>
            <a:prstGeom prst="rect">
              <a:avLst/>
            </a:prstGeom>
            <a:gradFill rotWithShape="0">
              <a:gsLst>
                <a:gs pos="0">
                  <a:srgbClr val="446c6e"/>
                </a:gs>
                <a:gs pos="100000">
                  <a:srgbClr val="9af4f8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343400" y="1451160"/>
              <a:ext cx="1752480" cy="9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Изготовление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инструмента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режущего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   </a:t>
              </a: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штампов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   </a:t>
              </a:r>
              <a:r>
                <a:rPr b="1" i="1" lang="en-US" sz="1600" spc="-1" strike="noStrike">
                  <a:solidFill>
                    <a:srgbClr val="00007a"/>
                  </a:solidFill>
                  <a:latin typeface="Times New Roman"/>
                </a:rPr>
                <a:t>пресс-форм и т.д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 rot="1999800">
            <a:off x="837720" y="2971800"/>
            <a:ext cx="685800" cy="380880"/>
          </a:xfrm>
          <a:prstGeom prst="rightArrow">
            <a:avLst>
              <a:gd name="adj1" fmla="val 45000"/>
              <a:gd name="adj2" fmla="val 48765"/>
            </a:avLst>
          </a:prstGeom>
          <a:gradFill rotWithShape="0">
            <a:gsLst>
              <a:gs pos="0">
                <a:srgbClr val="9af4f8"/>
              </a:gs>
              <a:gs pos="100000">
                <a:srgbClr val="467072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23880" y="2819520"/>
            <a:ext cx="5715000" cy="1676160"/>
            <a:chOff x="1523880" y="2819520"/>
            <a:chExt cx="5715000" cy="1676160"/>
          </a:xfrm>
        </p:grpSpPr>
        <p:sp>
          <p:nvSpPr>
            <p:cNvPr id="707" name=""/>
            <p:cNvSpPr/>
            <p:nvPr/>
          </p:nvSpPr>
          <p:spPr>
            <a:xfrm>
              <a:off x="1523880" y="2819520"/>
              <a:ext cx="5715000" cy="1676160"/>
            </a:xfrm>
            <a:prstGeom prst="rect">
              <a:avLst/>
            </a:prstGeom>
            <a:gradFill rotWithShape="0">
              <a:gsLst>
                <a:gs pos="0">
                  <a:srgbClr val="467072"/>
                </a:gs>
                <a:gs pos="100000">
                  <a:srgbClr val="9af4f8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676520" y="2819520"/>
              <a:ext cx="3504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Производство деталей и узлов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600200" y="3173400"/>
              <a:ext cx="5562720" cy="13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хпроцессы: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формообразования (резанием, прессованием,  штамповкой,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	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электро-физическими методами и др.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чистовой и прецизионной обработки поверхностей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упрочнения (закалкой, химически и пр.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нанесения покрытия (гальванически, напылением и др.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сварки, склеивания и соединения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5181480" y="4343400"/>
            <a:ext cx="3810240" cy="1676520"/>
            <a:chOff x="5181480" y="4343400"/>
            <a:chExt cx="3810240" cy="1676520"/>
          </a:xfrm>
        </p:grpSpPr>
        <p:sp>
          <p:nvSpPr>
            <p:cNvPr id="711" name=""/>
            <p:cNvSpPr/>
            <p:nvPr/>
          </p:nvSpPr>
          <p:spPr>
            <a:xfrm>
              <a:off x="5181480" y="4343400"/>
              <a:ext cx="3810240" cy="1676520"/>
            </a:xfrm>
            <a:prstGeom prst="rect">
              <a:avLst/>
            </a:prstGeom>
            <a:gradFill rotWithShape="0">
              <a:gsLst>
                <a:gs pos="0">
                  <a:srgbClr val="467072"/>
                </a:gs>
                <a:gs pos="100000">
                  <a:srgbClr val="9af4f8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34120" y="4419720"/>
              <a:ext cx="3504960" cy="14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5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Сборка машин и оборудования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хпроцессы: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400"/>
                </a:spcBef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сборка на конвейере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сборка на стапеле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окраск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испытаний работоспособности и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     </a:t>
              </a:r>
              <a:r>
                <a:rPr b="1" i="1" lang="ru-RU" sz="1600" spc="-1" strike="noStrike">
                  <a:solidFill>
                    <a:srgbClr val="00007a"/>
                  </a:solidFill>
                  <a:latin typeface="Times New Roman"/>
                </a:rPr>
                <a:t>надежности функционирования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 rot="1999800">
            <a:off x="4495320" y="4495680"/>
            <a:ext cx="685800" cy="381240"/>
          </a:xfrm>
          <a:prstGeom prst="rightArrow">
            <a:avLst>
              <a:gd name="adj1" fmla="val 45000"/>
              <a:gd name="adj2" fmla="val 48719"/>
            </a:avLst>
          </a:prstGeom>
          <a:gradFill rotWithShape="0">
            <a:gsLst>
              <a:gs pos="0">
                <a:srgbClr val="9af4f8"/>
              </a:gs>
              <a:gs pos="100000">
                <a:srgbClr val="467072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86200" y="20574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9af4f8"/>
              </a:gs>
              <a:gs pos="100000">
                <a:srgbClr val="467072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7162920" y="1371600"/>
            <a:ext cx="1828800" cy="1143000"/>
            <a:chOff x="7162920" y="1371600"/>
            <a:chExt cx="1828800" cy="1143000"/>
          </a:xfrm>
        </p:grpSpPr>
        <p:sp>
          <p:nvSpPr>
            <p:cNvPr id="716" name=""/>
            <p:cNvSpPr/>
            <p:nvPr/>
          </p:nvSpPr>
          <p:spPr>
            <a:xfrm>
              <a:off x="7162920" y="1371600"/>
              <a:ext cx="1828800" cy="1143000"/>
            </a:xfrm>
            <a:prstGeom prst="rect">
              <a:avLst/>
            </a:prstGeom>
            <a:gradFill rotWithShape="0">
              <a:gsLst>
                <a:gs pos="0">
                  <a:srgbClr val="466f71"/>
                </a:gs>
                <a:gs pos="100000">
                  <a:srgbClr val="9af4f8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38880" y="1440000"/>
              <a:ext cx="1676520" cy="98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Изготовление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00007a"/>
                  </a:solidFill>
                  <a:latin typeface="Times New Roman"/>
                </a:rPr>
                <a:t>контрольно-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00007a"/>
                  </a:solidFill>
                  <a:latin typeface="Times New Roman"/>
                </a:rPr>
                <a:t>измерительной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00007a"/>
                  </a:solidFill>
                  <a:latin typeface="Times New Roman"/>
                </a:rPr>
                <a:t>аппаратуры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 rot="9019800">
            <a:off x="7238520" y="2514240"/>
            <a:ext cx="685800" cy="360360"/>
          </a:xfrm>
          <a:prstGeom prst="rightArrow">
            <a:avLst>
              <a:gd name="adj1" fmla="val 45000"/>
              <a:gd name="adj2" fmla="val 51542"/>
            </a:avLst>
          </a:prstGeom>
          <a:gradFill rotWithShape="0">
            <a:gsLst>
              <a:gs pos="0">
                <a:srgbClr val="9af4f8"/>
              </a:gs>
              <a:gs pos="100000">
                <a:srgbClr val="467072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72200" y="175248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gradFill rotWithShape="0">
            <a:gsLst>
              <a:gs pos="0">
                <a:srgbClr val="9af4f8"/>
              </a:gs>
              <a:gs pos="100000">
                <a:srgbClr val="467072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350200" y="2514600"/>
            <a:ext cx="276120" cy="1828800"/>
          </a:xfrm>
          <a:prstGeom prst="downArrow">
            <a:avLst>
              <a:gd name="adj1" fmla="val 50000"/>
              <a:gd name="adj2" fmla="val 74174"/>
            </a:avLst>
          </a:prstGeom>
          <a:gradFill rotWithShape="0">
            <a:gsLst>
              <a:gs pos="0">
                <a:srgbClr val="9af4f8"/>
              </a:gs>
              <a:gs pos="100000">
                <a:srgbClr val="467072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4724280"/>
            <a:ext cx="502920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едприятия Новосибирска, особенно крупные среднего и точного машиностро-ения, обладают в совокупности современ-ными технологическими процессами по полному производственному циклу, чт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зволяет утверждать о возможности осво-ения производства при соответствующем спросе широкой номенклатуры машин, оборудования и приборо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 flipV="1">
            <a:off x="4419720" y="5029200"/>
            <a:ext cx="380880" cy="838080"/>
          </a:xfrm>
          <a:prstGeom prst="downArrow">
            <a:avLst>
              <a:gd name="adj1" fmla="val 40843"/>
              <a:gd name="adj2" fmla="val 37090"/>
            </a:avLst>
          </a:prstGeom>
          <a:solidFill>
            <a:srgbClr val="c3e1e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22860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3e1ed"/>
                </a:solidFill>
                <a:latin typeface="Times New Roman"/>
              </a:rPr>
              <a:t>ПРОМЫШЛЕННО-ТЕХНИЧЕСКАЯ БАЗА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43000" y="838080"/>
            <a:ext cx="67057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3e1ed"/>
                </a:solidFill>
                <a:uFillTx/>
                <a:latin typeface="Times New Roman"/>
              </a:rPr>
              <a:t>Научный и образовательный потенциал город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521160" y="2870280"/>
            <a:ext cx="2133360" cy="2158920"/>
            <a:chOff x="3521160" y="2870280"/>
            <a:chExt cx="2133360" cy="2158920"/>
          </a:xfrm>
        </p:grpSpPr>
        <p:pic>
          <p:nvPicPr>
            <p:cNvPr id="726" name="" descr="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 flipH="1">
              <a:off x="3521160" y="2870280"/>
              <a:ext cx="21333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4038480" y="3657600"/>
              <a:ext cx="1011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7a"/>
                  </a:solidFill>
                  <a:latin typeface="Arial Narrow"/>
                </a:rPr>
                <a:t>Городское хозяйство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2666880" y="5791320"/>
            <a:ext cx="3886200" cy="761760"/>
            <a:chOff x="2666880" y="5791320"/>
            <a:chExt cx="3886200" cy="761760"/>
          </a:xfrm>
        </p:grpSpPr>
        <p:sp>
          <p:nvSpPr>
            <p:cNvPr id="729" name=""/>
            <p:cNvSpPr/>
            <p:nvPr/>
          </p:nvSpPr>
          <p:spPr>
            <a:xfrm>
              <a:off x="2666880" y="5791320"/>
              <a:ext cx="3886200" cy="761760"/>
            </a:xfrm>
            <a:prstGeom prst="rect">
              <a:avLst/>
            </a:prstGeom>
            <a:solidFill>
              <a:srgbClr val="c3e1e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43200" y="5867280"/>
              <a:ext cx="373392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7a"/>
                  </a:solidFill>
                  <a:latin typeface="Times New Roman"/>
                </a:rPr>
                <a:t>Отраслевые НИИ, проектно-тех-нологические институты, завод-ская наука: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52280" y="1523880"/>
            <a:ext cx="2590920" cy="4276800"/>
            <a:chOff x="152280" y="1523880"/>
            <a:chExt cx="2590920" cy="4276800"/>
          </a:xfrm>
        </p:grpSpPr>
        <p:sp>
          <p:nvSpPr>
            <p:cNvPr id="732" name=""/>
            <p:cNvSpPr/>
            <p:nvPr/>
          </p:nvSpPr>
          <p:spPr>
            <a:xfrm>
              <a:off x="152280" y="1523880"/>
              <a:ext cx="2590920" cy="4038840"/>
            </a:xfrm>
            <a:prstGeom prst="rect">
              <a:avLst/>
            </a:prstGeom>
            <a:solidFill>
              <a:srgbClr val="c3e1e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8600" y="1644480"/>
              <a:ext cx="22096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7a"/>
                  </a:solidFill>
                  <a:latin typeface="Times New Roman"/>
                </a:rPr>
                <a:t>НИУ Новосибирско-го научного центра: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3040" y="2133720"/>
              <a:ext cx="2463840" cy="36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5000"/>
                </a:lnSpc>
                <a:spcAft>
                  <a:spcPts val="400"/>
                </a:spcAft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Институт теплофизики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Институт теоретической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 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и прикладной механики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Aft>
                  <a:spcPts val="400"/>
                </a:spcAft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Институт горного дел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Институт ядерной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физики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Объединенный институт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 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гидродинамики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Объединенный институт 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 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катализа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Инстит.  химии твердого  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тела и механохимии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Институт кинетики и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 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горения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Институт лазерной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физики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Объединенный институт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00007a"/>
                  </a:solidFill>
                  <a:latin typeface="Times New Roman"/>
                </a:rPr>
                <a:t>информатики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400800" y="1523880"/>
            <a:ext cx="2666880" cy="4038840"/>
            <a:chOff x="6400800" y="1523880"/>
            <a:chExt cx="2666880" cy="4038840"/>
          </a:xfrm>
        </p:grpSpPr>
        <p:sp>
          <p:nvSpPr>
            <p:cNvPr id="736" name=""/>
            <p:cNvSpPr/>
            <p:nvPr/>
          </p:nvSpPr>
          <p:spPr>
            <a:xfrm>
              <a:off x="6400800" y="1523880"/>
              <a:ext cx="2666880" cy="4038840"/>
            </a:xfrm>
            <a:prstGeom prst="rect">
              <a:avLst/>
            </a:prstGeom>
            <a:solidFill>
              <a:srgbClr val="c3e1e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05720" y="1644480"/>
              <a:ext cx="22240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7a"/>
                  </a:solidFill>
                  <a:latin typeface="Times New Roman"/>
                </a:rPr>
                <a:t>Вузы города Ново-бирска: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77120" y="2133720"/>
              <a:ext cx="2555640" cy="30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5000"/>
                </a:lnSpc>
                <a:spcAft>
                  <a:spcPts val="437"/>
                </a:spcAft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Новосибирский государствен-ный технический университет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Aft>
                  <a:spcPts val="437"/>
                </a:spcAft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Сибирский государственный университет путей сообщения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Aft>
                  <a:spcPts val="437"/>
                </a:spcAft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Новосибирский государствен-ный архитектурно-строитель-ный университет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Aft>
                  <a:spcPts val="437"/>
                </a:spcAft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Сибирский государственный     университет телекоммуника-ций и информатики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Aft>
                  <a:spcPts val="437"/>
                </a:spcAft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Новосибирский государствен-ный университет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Aft>
                  <a:spcPts val="437"/>
                </a:spcAft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Новосибирская государствен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-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ная академия водного транс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-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порта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Aft>
                  <a:spcPts val="524"/>
                </a:spcAft>
                <a:buClr>
                  <a:srgbClr val="00007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Новосибирская академия гео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</a:rPr>
                <a:t>-</a:t>
              </a:r>
              <a:r>
                <a:rPr b="1" lang="ru-RU" sz="1400" spc="-1" strike="noStrike">
                  <a:solidFill>
                    <a:srgbClr val="00007a"/>
                  </a:solidFill>
                  <a:latin typeface="Times New Roman"/>
                  <a:ea typeface="Times New Roman"/>
                </a:rPr>
                <a:t>дезии и картографии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2743200" y="3774960"/>
            <a:ext cx="762120" cy="339840"/>
          </a:xfrm>
          <a:prstGeom prst="rightArrow">
            <a:avLst>
              <a:gd name="adj1" fmla="val 45000"/>
              <a:gd name="adj2" fmla="val 52794"/>
            </a:avLst>
          </a:prstGeom>
          <a:solidFill>
            <a:srgbClr val="c3e1e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638680" y="3784680"/>
            <a:ext cx="762120" cy="341280"/>
          </a:xfrm>
          <a:prstGeom prst="leftArrow">
            <a:avLst>
              <a:gd name="adj1" fmla="val 45000"/>
              <a:gd name="adj2" fmla="val 44197"/>
            </a:avLst>
          </a:prstGeom>
          <a:solidFill>
            <a:srgbClr val="c3e1e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953000" y="5506920"/>
            <a:ext cx="5348520" cy="789840"/>
            <a:chOff x="1953000" y="5506920"/>
            <a:chExt cx="5348520" cy="789840"/>
          </a:xfrm>
        </p:grpSpPr>
        <p:sp>
          <p:nvSpPr>
            <p:cNvPr id="742" name=""/>
            <p:cNvSpPr/>
            <p:nvPr/>
          </p:nvSpPr>
          <p:spPr>
            <a:xfrm rot="19140600">
              <a:off x="6476760" y="5748480"/>
              <a:ext cx="838080" cy="271440"/>
            </a:xfrm>
            <a:prstGeom prst="leftRightArrow">
              <a:avLst>
                <a:gd name="adj1" fmla="val 50000"/>
                <a:gd name="adj2" fmla="val 61465"/>
              </a:avLst>
            </a:prstGeom>
            <a:solidFill>
              <a:srgbClr val="c3e1e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705400">
              <a:off x="1924560" y="5770800"/>
              <a:ext cx="838080" cy="268560"/>
            </a:xfrm>
            <a:prstGeom prst="leftRightArrow">
              <a:avLst>
                <a:gd name="adj1" fmla="val 50000"/>
                <a:gd name="adj2" fmla="val 62124"/>
              </a:avLst>
            </a:prstGeom>
            <a:solidFill>
              <a:srgbClr val="c3e1e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2743200" y="1600200"/>
            <a:ext cx="3657600" cy="274680"/>
          </a:xfrm>
          <a:prstGeom prst="leftRightArrow">
            <a:avLst>
              <a:gd name="adj1" fmla="val 44509"/>
              <a:gd name="adj2" fmla="val 53202"/>
            </a:avLst>
          </a:prstGeom>
          <a:solidFill>
            <a:srgbClr val="c3e1e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95480" y="4800600"/>
            <a:ext cx="152424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пытное  производство,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зработанных машин и обору-дован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73520" y="2133720"/>
            <a:ext cx="165096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учно-техниче-ские проекты по технологиям го-родского хозяй-ства, маши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м, ма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лой ме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хани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ци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800600" y="5029200"/>
            <a:ext cx="1523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одготовка 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ереподготовк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специалис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895480" y="2133720"/>
            <a:ext cx="165096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учно-техниче-ские проекты п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ехнологиям го-родского хозяй-ства, маши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м и обо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удова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ию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8:10:56Z</dcterms:created>
  <dc:creator>Чистяков</dc:creator>
  <dc:description/>
  <dc:language>en-US</dc:language>
  <cp:lastModifiedBy>Чистяков</cp:lastModifiedBy>
  <dcterms:modified xsi:type="dcterms:W3CDTF">2004-10-18T16:21:08Z</dcterms:modified>
  <cp:revision>59</cp:revision>
  <dc:subject/>
  <dc:title>РАЗВИТИЕ ВЫПУСКА МАШИН И ОБОРУДОВАНИЯ ДЛЯ ГОРОДСКОГО ХОЗЯЙСТВА</dc:title>
</cp:coreProperties>
</file>