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CD52-7EC2-4015-9C6A-1FFA9E92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017A-223B-4650-AEEC-F57576BD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1EFC-9545-46B6-8621-668C7F11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2B7F-DECF-410C-A19D-71B2FFAF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8206-740F-4C63-B205-7F8A1140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498A-022F-4011-B092-C731B69A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473B-ECE1-4C45-8B0B-E2156248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8D77-9631-48EA-AA43-8E4CB9B5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C1CE-4C1F-42E9-A380-F150D956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4509-05E1-4349-9FA7-035899B2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93B0-823E-420A-8EB2-7C7D6B17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2599-2945-44CB-AB01-EC3DC538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9D43-2E4A-4D3B-B7A6-1CFD32C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CAED-1ED5-4524-A50B-6F3E7370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90E0-26E3-4776-B27A-BB862AF0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A48F-1BFE-4818-8047-E4735C80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5B0E-ABEF-4963-992E-FA4F3B28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C920-7CCF-4645-ABEF-19812412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6DFC-AEA0-4A66-BDEE-6DF8B31F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B36D-F260-48F8-AA26-253A57DC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2894-7C04-42DF-8717-3EF3C33C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CB36-6724-4807-A4D9-1A2CBC1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6A46B-F352-451E-9A14-1CAA5DED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6FC3-397B-4DFB-82C8-03EC7524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120E-4331-475F-B9BD-0477153F7F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9CDD-BC70-4D82-8793-CDFC59C860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57120" y="1041480"/>
          <a:ext cx="331956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041480"/>
                    <a:ext cx="331956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Шушкин2" descr=""/>
          <p:cNvPicPr/>
          <p:nvPr/>
        </p:nvPicPr>
        <p:blipFill>
          <a:blip r:embed="rId3"/>
          <a:stretch/>
        </p:blipFill>
        <p:spPr>
          <a:xfrm>
            <a:off x="6629400" y="2114640"/>
            <a:ext cx="1990800" cy="2628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3429000"/>
            <a:ext cx="5943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Шушкин Борис Александрови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едседатель постоянного комитета по законодательству, государственному строительству и местному самоуправл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hushkin@duma.kaliningrad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70120" y="792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70120" y="601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76280"/>
            <a:ext cx="4319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КАЛИНИНГРАДСКА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ОБЛАСТНАЯ ДУМ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98E3-A3A4-4EB2-9663-F8D71C7971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ффективное использование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874880"/>
            <a:ext cx="73454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блемы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настоящее время только на территории обла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ициально утверждены около 50-60 програм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аждая программа разрабатывается на баз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ивного мнения полит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мена команд приводит к игнорированию принят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нее програм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F99E-192C-411D-AC62-06CFAFC023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2760" y="482400"/>
            <a:ext cx="8178480" cy="4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434440" y="189000"/>
            <a:ext cx="709560" cy="606240"/>
            <a:chOff x="8434440" y="189000"/>
            <a:chExt cx="709560" cy="60624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8434440" y="189000"/>
              <a:ext cx="70956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 txBox="1"/>
            <p:nvPr/>
          </p:nvSpPr>
          <p:spPr>
            <a:xfrm>
              <a:off x="8434440" y="189000"/>
              <a:ext cx="709560" cy="60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9" name=""/>
          <p:cNvGraphicFramePr/>
          <p:nvPr/>
        </p:nvGraphicFramePr>
        <p:xfrm>
          <a:off x="1523880" y="1676520"/>
          <a:ext cx="5929560" cy="2205000"/>
        </p:xfrm>
        <a:graphic>
          <a:graphicData uri="http://schemas.openxmlformats.org/drawingml/2006/table">
            <a:tbl>
              <a:tblPr/>
              <a:tblGrid>
                <a:gridCol w="1184400"/>
                <a:gridCol w="1187280"/>
                <a:gridCol w="1186200"/>
                <a:gridCol w="1187280"/>
                <a:gridCol w="118440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связь приоритетов по блокам – основа формирования програм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.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. стро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9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990720" y="4876920"/>
            <a:ext cx="727236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Областные комплексные программы 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5335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ОРМИРОВАНИЕ ЦЕЛЕВЫХ И  КОМПЛЕКСНЫХ ПРОГРАММ               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98900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4313160"/>
            <a:ext cx="1152360" cy="360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4313160"/>
            <a:ext cx="936360" cy="3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343400"/>
            <a:ext cx="1008360" cy="3603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4313160"/>
            <a:ext cx="1081080" cy="3603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16720" y="4313160"/>
            <a:ext cx="1008000" cy="360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73392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80988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80988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380988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35160" y="365616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Целевые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4673520"/>
            <a:ext cx="1404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4673520"/>
            <a:ext cx="468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467352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790960" y="4673520"/>
            <a:ext cx="468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48360" y="4673520"/>
            <a:ext cx="6192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6019920"/>
            <a:ext cx="2895480" cy="609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граммы и фонды Е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6019920"/>
            <a:ext cx="2666880" cy="6094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граммы и фонды Р.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28800" y="5638320"/>
            <a:ext cx="17524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86400" y="5638320"/>
            <a:ext cx="18288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981080"/>
            <a:ext cx="30492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562720"/>
            <a:ext cx="30492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58200" y="5486400"/>
            <a:ext cx="38088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3BAC-AF45-4B8B-8371-DC93C5437C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Ценности устойчив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нности устойчивого развития определяется местом и значениембазовых понят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1800" spc="-1" strike="noStrike">
                <a:solidFill>
                  <a:srgbClr val="66ff66"/>
                </a:solidFill>
                <a:latin typeface="Tahoma"/>
              </a:rPr>
              <a:t>экология,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культур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99ccff"/>
                </a:solidFill>
                <a:latin typeface="Tahoma"/>
              </a:rPr>
              <a:t>социальная сфера,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экономик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 поли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атья 6.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бластная государственная политика осуществляется в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оциальной сфере, сферах экологии, культуры, экономики и территориального управления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…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иоритетными направлениями областной государственной политики является деятельность органов государственной власти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бласти в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циальной сфере, сферах экологии и культуры… 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атья 5. Основные принципы областной государственн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“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изнание окружающей среды и культуры ценностями мировоззренческого уровня, определяющими смысл жизни человека и мотивы его поведения… .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4343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45720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172360" y="404640"/>
            <a:ext cx="709560" cy="606600"/>
            <a:chOff x="8172360" y="404640"/>
            <a:chExt cx="709560" cy="6066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8172360" y="404640"/>
              <a:ext cx="709560" cy="6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 txBox="1"/>
            <p:nvPr/>
          </p:nvSpPr>
          <p:spPr>
            <a:xfrm>
              <a:off x="8172360" y="404640"/>
              <a:ext cx="709560" cy="60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157C-7A52-4DD7-B40A-1D79AC2E42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К ИДЕОЛОГИИ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883040" y="1858680"/>
            <a:ext cx="3627360" cy="3141000"/>
            <a:chOff x="4883040" y="1858680"/>
            <a:chExt cx="3627360" cy="3141000"/>
          </a:xfrm>
        </p:grpSpPr>
        <p:sp>
          <p:nvSpPr>
            <p:cNvPr id="225" name="_s148488"/>
            <p:cNvSpPr/>
            <p:nvPr/>
          </p:nvSpPr>
          <p:spPr>
            <a:xfrm flipV="1">
              <a:off x="6333840" y="1858680"/>
              <a:ext cx="725760" cy="628560"/>
            </a:xfrm>
            <a:custGeom>
              <a:avLst/>
              <a:gdLst>
                <a:gd name="textAreaLeft" fmla="*/ 260280 w 725760"/>
                <a:gd name="textAreaRight" fmla="*/ 465480 w 725760"/>
                <a:gd name="textAreaTop" fmla="*/ 225360 h 628560"/>
                <a:gd name="textAreaBottom" fmla="*/ 403200 h 62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Эколог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_s148489"/>
            <p:cNvSpPr/>
            <p:nvPr/>
          </p:nvSpPr>
          <p:spPr>
            <a:xfrm flipV="1">
              <a:off x="5972040" y="2486880"/>
              <a:ext cx="1450800" cy="628200"/>
            </a:xfrm>
            <a:custGeom>
              <a:avLst/>
              <a:gdLst>
                <a:gd name="textAreaLeft" fmla="*/ 318960 w 1450800"/>
                <a:gd name="textAreaRight" fmla="*/ 1131840 w 1450800"/>
                <a:gd name="textAreaTop" fmla="*/ 137880 h 628200"/>
                <a:gd name="textAreaBottom" fmla="*/ 490320 h 62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_s148491"/>
            <p:cNvSpPr/>
            <p:nvPr/>
          </p:nvSpPr>
          <p:spPr>
            <a:xfrm flipV="1">
              <a:off x="5608440" y="3115440"/>
              <a:ext cx="2176560" cy="626760"/>
            </a:xfrm>
            <a:custGeom>
              <a:avLst/>
              <a:gdLst>
                <a:gd name="textAreaLeft" fmla="*/ 377640 w 2176560"/>
                <a:gd name="textAreaRight" fmla="*/ 1798920 w 2176560"/>
                <a:gd name="textAreaTop" fmla="*/ 108720 h 626760"/>
                <a:gd name="textAreaBottom" fmla="*/ 518040 h 6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Социальная сфер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_s148490"/>
            <p:cNvSpPr/>
            <p:nvPr/>
          </p:nvSpPr>
          <p:spPr>
            <a:xfrm flipV="1">
              <a:off x="5244840" y="3742560"/>
              <a:ext cx="2901960" cy="628200"/>
            </a:xfrm>
            <a:custGeom>
              <a:avLst/>
              <a:gdLst>
                <a:gd name="textAreaLeft" fmla="*/ 436680 w 2901960"/>
                <a:gd name="textAreaRight" fmla="*/ 2465280 w 2901960"/>
                <a:gd name="textAreaTop" fmla="*/ 94320 h 628200"/>
                <a:gd name="textAreaBottom" fmla="*/ 533880 h 62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Экономи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_s148492"/>
            <p:cNvSpPr/>
            <p:nvPr/>
          </p:nvSpPr>
          <p:spPr>
            <a:xfrm flipV="1">
              <a:off x="4883040" y="4371120"/>
              <a:ext cx="3627360" cy="628200"/>
            </a:xfrm>
            <a:custGeom>
              <a:avLst/>
              <a:gdLst>
                <a:gd name="textAreaLeft" fmla="*/ 495360 w 3627360"/>
                <a:gd name="textAreaRight" fmla="*/ 3132000 w 3627360"/>
                <a:gd name="textAreaTop" fmla="*/ 85680 h 628200"/>
                <a:gd name="textAreaBottom" fmla="*/ 542520 h 62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лити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24720" y="1844640"/>
            <a:ext cx="1295280" cy="1297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56720" y="1989000"/>
            <a:ext cx="287280" cy="287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0517400">
            <a:off x="7956360" y="2349360"/>
            <a:ext cx="360360" cy="503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9146000">
            <a:off x="7885080" y="3212640"/>
            <a:ext cx="720720" cy="432000"/>
          </a:xfrm>
          <a:custGeom>
            <a:avLst/>
            <a:gdLst>
              <a:gd name="textAreaLeft" fmla="*/ 126000 w 720720"/>
              <a:gd name="textAreaRight" fmla="*/ 522720 w 720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6000" y="1341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ЖИЗ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26920" y="2060640"/>
            <a:ext cx="3888000" cy="3367800"/>
            <a:chOff x="826920" y="2060640"/>
            <a:chExt cx="3888000" cy="3367800"/>
          </a:xfrm>
        </p:grpSpPr>
        <p:sp>
          <p:nvSpPr>
            <p:cNvPr id="237" name="_s1028"/>
            <p:cNvSpPr/>
            <p:nvPr/>
          </p:nvSpPr>
          <p:spPr>
            <a:xfrm flipV="1" rot="10800000">
              <a:off x="2361240" y="4802760"/>
              <a:ext cx="818280" cy="625320"/>
            </a:xfrm>
            <a:custGeom>
              <a:avLst/>
              <a:gdLst>
                <a:gd name="textAreaLeft" fmla="*/ 293400 w 818280"/>
                <a:gd name="textAreaRight" fmla="*/ 524880 w 818280"/>
                <a:gd name="textAreaTop" fmla="*/ 224280 h 625320"/>
                <a:gd name="textAreaBottom" fmla="*/ 401040 h 6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_s1029"/>
            <p:cNvSpPr/>
            <p:nvPr/>
          </p:nvSpPr>
          <p:spPr>
            <a:xfrm flipV="1" rot="10800000">
              <a:off x="1951920" y="4118040"/>
              <a:ext cx="1534680" cy="629280"/>
            </a:xfrm>
            <a:custGeom>
              <a:avLst/>
              <a:gdLst>
                <a:gd name="textAreaLeft" fmla="*/ 337320 w 1534680"/>
                <a:gd name="textAreaRight" fmla="*/ 1197360 w 1534680"/>
                <a:gd name="textAreaTop" fmla="*/ 138240 h 629280"/>
                <a:gd name="textAreaBottom" fmla="*/ 491040 h 62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_s1030"/>
            <p:cNvSpPr/>
            <p:nvPr/>
          </p:nvSpPr>
          <p:spPr>
            <a:xfrm flipV="1" rot="10800000">
              <a:off x="1440360" y="3431160"/>
              <a:ext cx="2557800" cy="621000"/>
            </a:xfrm>
            <a:custGeom>
              <a:avLst/>
              <a:gdLst>
                <a:gd name="textAreaLeft" fmla="*/ 443880 w 2557800"/>
                <a:gd name="textAreaRight" fmla="*/ 2113920 w 2557800"/>
                <a:gd name="textAreaTop" fmla="*/ 107640 h 621000"/>
                <a:gd name="textAreaBottom" fmla="*/ 51336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_s1031"/>
            <p:cNvSpPr/>
            <p:nvPr/>
          </p:nvSpPr>
          <p:spPr>
            <a:xfrm flipV="1" rot="10800000">
              <a:off x="1235520" y="2745360"/>
              <a:ext cx="3171960" cy="626040"/>
            </a:xfrm>
            <a:custGeom>
              <a:avLst/>
              <a:gdLst>
                <a:gd name="textAreaLeft" fmla="*/ 477000 w 3171960"/>
                <a:gd name="textAreaRight" fmla="*/ 2694960 w 3171960"/>
                <a:gd name="textAreaTop" fmla="*/ 93960 h 626040"/>
                <a:gd name="textAreaBottom" fmla="*/ 532080 h 62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_s1032"/>
            <p:cNvSpPr/>
            <p:nvPr/>
          </p:nvSpPr>
          <p:spPr>
            <a:xfrm flipV="1" rot="10800000">
              <a:off x="826920" y="2060640"/>
              <a:ext cx="3888000" cy="628560"/>
            </a:xfrm>
            <a:custGeom>
              <a:avLst/>
              <a:gdLst>
                <a:gd name="textAreaLeft" fmla="*/ 531000 w 3888000"/>
                <a:gd name="textAreaRight" fmla="*/ 3357000 w 3888000"/>
                <a:gd name="textAreaTop" fmla="*/ 85680 h 628560"/>
                <a:gd name="textAreaBottom" fmla="*/ 542880 h 62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971640" y="2276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ЛИ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2781360"/>
            <a:ext cx="23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35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19280" y="42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УЛЬ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494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27280" y="5157720"/>
            <a:ext cx="5184720" cy="1008000"/>
          </a:xfrm>
          <a:custGeom>
            <a:avLst/>
            <a:gdLst>
              <a:gd name="textAreaLeft" fmla="*/ 1728360 w 5184720"/>
              <a:gd name="textAreaRight" fmla="*/ 3932280 w 5184720"/>
              <a:gd name="textAreaTop" fmla="*/ 679320 h 1008000"/>
              <a:gd name="textAreaBottom" fmla="*/ 764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9776"/>
                </a:moveTo>
                <a:lnTo>
                  <a:pt x="14558" y="19776"/>
                </a:lnTo>
                <a:lnTo>
                  <a:pt x="14558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6382" y="7200"/>
                </a:lnTo>
                <a:lnTo>
                  <a:pt x="163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148428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028000" y="476280"/>
            <a:ext cx="709560" cy="606240"/>
            <a:chOff x="8028000" y="476280"/>
            <a:chExt cx="709560" cy="60624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8028000" y="476280"/>
              <a:ext cx="70956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 txBox="1"/>
            <p:nvPr/>
          </p:nvSpPr>
          <p:spPr>
            <a:xfrm>
              <a:off x="8028000" y="476280"/>
              <a:ext cx="709560" cy="60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6AD0-C73B-4071-A9B3-4D952E861B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24160" y="97488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сто и значение Зако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Об  общих принципах организации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стратегического планирования в Калининградской области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”</a:t>
            </a:r>
            <a:br>
              <a:rPr sz="2400"/>
            </a:b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23640" y="1915920"/>
            <a:ext cx="81262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ичины появления проекта закона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 законе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 государственной политике…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отсутствовал организационный  механизм его ре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сновные документы разрабатывали органы власти  Калининградской области  без  участия общественности и бизн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 реальности к решению ключевых вопросов развития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опускался ограниченный круг ли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стоящий закон определяет общие принципы орган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ратегического планирования, порядок вовлечения и учас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рриториального и местного сообщества в разработ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нятии и реализации основных документов по устойчив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звитию области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(Преамбула проекта зако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088480" y="404640"/>
            <a:ext cx="765000" cy="7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6CC9-ED0A-4D97-AF62-BAD53CF7B8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8600" y="1752480"/>
            <a:ext cx="8713800" cy="49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5440" y="505440"/>
            <a:ext cx="2646720" cy="8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сто и значение организационных структур  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434440" y="189000"/>
            <a:ext cx="709560" cy="606240"/>
            <a:chOff x="8434440" y="189000"/>
            <a:chExt cx="709560" cy="60624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434440" y="189000"/>
              <a:ext cx="70956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434440" y="189000"/>
              <a:ext cx="709560" cy="60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467160" y="1700280"/>
            <a:ext cx="220968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Концепция устойчивого                         развит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Миссия, принципы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67160" y="2565360"/>
            <a:ext cx="2209680" cy="685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Стратегия развит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15-20 лет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Цели, приоритеты, механизмы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606680" y="3576600"/>
          <a:ext cx="5929200" cy="1068480"/>
        </p:xfrm>
        <a:graphic>
          <a:graphicData uri="http://schemas.openxmlformats.org/drawingml/2006/table">
            <a:tbl>
              <a:tblPr/>
              <a:tblGrid>
                <a:gridCol w="1184400"/>
                <a:gridCol w="1187640"/>
                <a:gridCol w="1184760"/>
                <a:gridCol w="1187640"/>
                <a:gridCol w="1184760"/>
              </a:tblGrid>
              <a:tr h="372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ок системного законода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.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. стро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1655640" y="4797360"/>
            <a:ext cx="583272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Целевые программы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бластные комплексные программы  разви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88000" y="5877000"/>
            <a:ext cx="236232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Федеральные программы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5805360"/>
            <a:ext cx="228600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граммы и Фонды ЕС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00720" y="1773360"/>
            <a:ext cx="234648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оссийская Федерация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З   ” Основы  федеральной   политики по Калининградской   области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1700280"/>
            <a:ext cx="2089080" cy="107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вропейский сою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еждународные документы   по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572000" y="1371600"/>
            <a:ext cx="1447920" cy="328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2205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247920"/>
            <a:ext cx="0" cy="32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12000" y="2708280"/>
            <a:ext cx="0" cy="31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2781360"/>
            <a:ext cx="0" cy="30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198900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51640" y="206064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581360"/>
            <a:ext cx="0" cy="2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700360" y="5410080"/>
            <a:ext cx="1795320" cy="8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4572000" y="5409720"/>
            <a:ext cx="2016000" cy="7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3581280"/>
            <a:ext cx="5943600" cy="1067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3770280"/>
            <a:ext cx="46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ок системного законодатель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03640" y="549360"/>
            <a:ext cx="2819520" cy="8380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РГСТРУКТУРЫ С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0360" y="83664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11430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6781680" y="137160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8014-C0F5-4D2A-B889-A04C422561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1523880"/>
            <a:ext cx="8229600" cy="88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а 1.  Общие по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ермины, цели,  задач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нципы участия территориального сообществ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2743200"/>
            <a:ext cx="8291520" cy="14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а 2.  Организационные формы участия территориаль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общества в  стратегическом  планирова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рганизационные структу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частие общественности, бизнес – сообщества, органов власти и местного самоуправления в процессе стратегического план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4572000"/>
            <a:ext cx="8450280" cy="167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а 3. Порядок обсуждения и принятия основных  доку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устойчивому     развитию обла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окументы,  подлежащие рассмотрению в Совете по стратегическому планировани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Порядок обсуждения, разработки  и принятия основных документ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стратегического планирования по реализации  основных докум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476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УКТУРА ЗАКОНО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765360" cy="7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FAB5-51A7-4FCB-BCA1-0BB94E0340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Я СТРАТЕГИЧЕСКОГО ПЛАНИРОВАНИЯ В КАЛИНИНГРАДСКОЙ ОБЛАСТИ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3429000"/>
            <a:ext cx="4103640" cy="302436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7548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4005360"/>
            <a:ext cx="18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ВЕ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501336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08720" y="5084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ЕНТР     С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5805360"/>
            <a:ext cx="3313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ЕМАТИЧЕСКИЕ  КОМИСС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АБОЧИЕ ГРУПП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24360" y="4797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19640" y="558972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1114560"/>
            <a:ext cx="403236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Субъекты С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Органы государственной в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лининград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Органы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Бизнес-сообще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Общественные орган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Участники С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Федеральные органы в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Международные институ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2133720"/>
            <a:ext cx="2629080" cy="42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360" y="2349360"/>
            <a:ext cx="2286000" cy="61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РГАНИЗАЦИЯ ПРОЦЕССА С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4360" y="3213000"/>
            <a:ext cx="2286000" cy="10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ЕКТИРОВАНИЕ ДОКУМЕНТОВ ПО РАЗВИТИЮ КАЛИНИНГРАДСКОЙ ОБЛАСТ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4508640"/>
            <a:ext cx="2286000" cy="70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РИНЯТИЕ И УТВЕРЖДЕНИЕ ДОКУ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4120" y="5504040"/>
            <a:ext cx="2286000" cy="70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Л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1197000"/>
            <a:ext cx="2664000" cy="719280"/>
          </a:xfrm>
          <a:prstGeom prst="cloudCallout">
            <a:avLst>
              <a:gd name="adj1" fmla="val 103337"/>
              <a:gd name="adj2" fmla="val 4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НИМАНИЕ НЕОБХОДИМОСТИ С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357336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РГСТРУКТУРЫ С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85080" y="1413000"/>
            <a:ext cx="719280" cy="3311280"/>
          </a:xfrm>
          <a:custGeom>
            <a:avLst/>
            <a:gdLst>
              <a:gd name="textAreaLeft" fmla="*/ 96120 w 719280"/>
              <a:gd name="textAreaRight" fmla="*/ 623160 w 719280"/>
              <a:gd name="textAreaTop" fmla="*/ 579240 h 3311280"/>
              <a:gd name="textAreaBottom" fmla="*/ 2400840 h 33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1273400">
            <a:off x="3059280" y="4220280"/>
            <a:ext cx="2519280" cy="1008360"/>
          </a:xfrm>
          <a:custGeom>
            <a:avLst/>
            <a:gdLst>
              <a:gd name="textAreaLeft" fmla="*/ 440640 w 2519280"/>
              <a:gd name="textAreaRight" fmla="*/ 1826640 w 2519280"/>
              <a:gd name="textAreaTop" fmla="*/ 135000 h 1008360"/>
              <a:gd name="textAreaBottom" fmla="*/ 873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8172360" y="476280"/>
            <a:ext cx="709560" cy="606240"/>
            <a:chOff x="8172360" y="476280"/>
            <a:chExt cx="709560" cy="60624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8172360" y="476280"/>
              <a:ext cx="70956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 txBox="1"/>
            <p:nvPr/>
          </p:nvSpPr>
          <p:spPr>
            <a:xfrm>
              <a:off x="8172360" y="476280"/>
              <a:ext cx="709560" cy="60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4362-99BA-45E2-81CA-09706C43A9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Ход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76560" y="874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6560" y="2421000"/>
            <a:ext cx="820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 Практически 1 этап проекта завершен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   текст проекта закона готов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   обсуждение проекта  на депутатских слушания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ноябр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   внесение, вопроса на заседание областной Ду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V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вартал 2004 г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Приступили к разработке модели стратегического управления на местном уровн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8172360" y="476280"/>
            <a:ext cx="709560" cy="606240"/>
            <a:chOff x="8172360" y="476280"/>
            <a:chExt cx="709560" cy="60624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8172360" y="476280"/>
              <a:ext cx="70956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 txBox="1"/>
            <p:nvPr/>
          </p:nvSpPr>
          <p:spPr>
            <a:xfrm>
              <a:off x="8172360" y="476280"/>
              <a:ext cx="709560" cy="60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BB52-E18B-4E60-9050-8DD876FA4D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лан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оклад состоит из 3 частей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Информация о проект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SIS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рамках котор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зрабатывается  проект регионального закон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3300"/>
                </a:solidFill>
                <a:latin typeface="Tahoma"/>
              </a:rPr>
              <a:t>«О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б общих принципах организации </a:t>
            </a:r>
            <a:r>
              <a:rPr b="1" lang="sv-SE" sz="1800" spc="-1" strike="noStrike">
                <a:solidFill>
                  <a:srgbClr val="ff3300"/>
                </a:solidFill>
                <a:latin typeface="Tahoma"/>
              </a:rPr>
              <a:t> стратегическ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3300"/>
                </a:solidFill>
                <a:latin typeface="Tahoma"/>
              </a:rPr>
              <a:t>планировани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я</a:t>
            </a:r>
            <a:r>
              <a:rPr b="1" lang="sv-SE" sz="1800" spc="-1" strike="noStrike">
                <a:solidFill>
                  <a:srgbClr val="ff3300"/>
                </a:solidFill>
                <a:latin typeface="Tahoma"/>
              </a:rPr>
              <a:t> в Калининградской области».</a:t>
            </a:r>
            <a:r>
              <a:rPr b="1" lang="sv-S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скольку  данный  проект закона является организационным  механизмом реализации  закона КО “ О  государственной политике в  Калининградской области основных направлениях ее правового регулирования”    (Принят 21 мая 2000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  Место, значение закон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О  государственной политике в  Калининградской области основных направлениях ее правового регулирования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  О проекте закона   </a:t>
            </a:r>
            <a:r>
              <a:rPr b="0" i="1" lang="sv-SE" sz="1800" spc="-1" strike="noStrike">
                <a:solidFill>
                  <a:srgbClr val="ff3300"/>
                </a:solidFill>
                <a:latin typeface="Tahoma"/>
              </a:rPr>
              <a:t>«О</a:t>
            </a:r>
            <a:r>
              <a:rPr b="0" i="1" lang="ru-RU" sz="1800" spc="-1" strike="noStrike">
                <a:solidFill>
                  <a:srgbClr val="ff3300"/>
                </a:solidFill>
                <a:latin typeface="Tahoma"/>
              </a:rPr>
              <a:t>б общих принципах организации </a:t>
            </a:r>
            <a:r>
              <a:rPr b="0" i="1" lang="sv-SE" sz="1800" spc="-1" strike="noStrike">
                <a:solidFill>
                  <a:srgbClr val="ff3300"/>
                </a:solidFill>
                <a:latin typeface="Tahoma"/>
              </a:rPr>
              <a:t> стратегическ</a:t>
            </a:r>
            <a:r>
              <a:rPr b="0" i="1" lang="ru-RU" sz="1800" spc="-1" strike="noStrike">
                <a:solidFill>
                  <a:srgbClr val="ff3300"/>
                </a:solidFill>
                <a:latin typeface="Tahoma"/>
              </a:rPr>
              <a:t>ого</a:t>
            </a:r>
            <a:r>
              <a:rPr b="0" i="1" lang="sv-SE" sz="1800" spc="-1" strike="noStrike">
                <a:solidFill>
                  <a:srgbClr val="ff3300"/>
                </a:solidFill>
                <a:latin typeface="Tahoma"/>
              </a:rPr>
              <a:t> планировани</a:t>
            </a:r>
            <a:r>
              <a:rPr b="0" i="1" lang="ru-RU" sz="1800" spc="-1" strike="noStrike">
                <a:solidFill>
                  <a:srgbClr val="ff3300"/>
                </a:solidFill>
                <a:latin typeface="Tahoma"/>
              </a:rPr>
              <a:t>я</a:t>
            </a:r>
            <a:r>
              <a:rPr b="0" i="1" lang="sv-SE" sz="1800" spc="-1" strike="noStrike">
                <a:solidFill>
                  <a:srgbClr val="ff3300"/>
                </a:solidFill>
                <a:latin typeface="Tahoma"/>
              </a:rPr>
              <a:t> в Калининградской област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393F-C66E-4B88-B892-711A242153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U TACIS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AMAN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ategic manag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 the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aliningrad Oblast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«Стратегическое управл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в Калининградской обла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451640" y="5589720"/>
          <a:ext cx="107964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5589720"/>
                    <a:ext cx="1079640" cy="618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37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736040" y="333360"/>
            <a:ext cx="1042920" cy="1079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8360" y="5622840"/>
            <a:ext cx="1008000" cy="7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0A02-BD40-40F8-B277-E0DFA8956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ТРУДНИЧЕСТВО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ХАЛЛАНД - КАЛИНИН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52520" y="1844640"/>
            <a:ext cx="463716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885080" y="476280"/>
            <a:ext cx="822240" cy="8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4A45-7700-4106-89EB-0CD17414E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артнеры по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4000" y="2349360"/>
            <a:ext cx="4968720" cy="3449880"/>
            <a:chOff x="324000" y="2349360"/>
            <a:chExt cx="4968720" cy="344988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324000" y="2349360"/>
              <a:ext cx="4968720" cy="34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324000" y="2349360"/>
              <a:ext cx="4968720" cy="344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740720" y="476280"/>
            <a:ext cx="974520" cy="100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80000" y="1989000"/>
            <a:ext cx="316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лининградская Областная Ду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эр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. Калинингра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дминистрац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. Балтийс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ссоциация муниципальных образований округа Халланд, Швец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1B86-F06D-4AAA-A8E6-6D60050AFB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ahoma"/>
              </a:rPr>
              <a:t>Ожидаемые результаты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68320" y="2172960"/>
            <a:ext cx="74836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 algn="just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Принятие Закона Калининградской области «О стратегическом планировании в Калининградской обла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Модель стратегического управления в муниципальных образованиях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 algn="just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Методические рекомендации по внедрению модели стратегического управления в муниципалитетах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885080" y="333360"/>
            <a:ext cx="1042920" cy="10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FF241-B8C1-425A-AB4B-A357A682C3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кие проблемы мы пытаемся решить  закон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«О государственной политике в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Калининградской области и основных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направлениях ее правового регулир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вращения  существующего хаоса законов   в системное комплексное законодательство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крепления на законодательном уровне базовых ценностей устойчивого развития об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я региональных экологических, культурных, социальных, экономических интересо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здания  инструмента эффективного использования ресурсо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0DD5-0B3E-4EB2-A7A1-1A579AAFCF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52480" y="1967040"/>
            <a:ext cx="7099560" cy="42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82760" y="482400"/>
            <a:ext cx="8178480" cy="4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434440" y="189000"/>
            <a:ext cx="709560" cy="606240"/>
            <a:chOff x="8434440" y="189000"/>
            <a:chExt cx="709560" cy="6062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8434440" y="189000"/>
              <a:ext cx="70956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8434440" y="189000"/>
              <a:ext cx="709560" cy="60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962520" y="2209680"/>
            <a:ext cx="2209680" cy="60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Концепция устойчивого                         развит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Миссия, принципы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3048120"/>
            <a:ext cx="2209680" cy="685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Стратегия развит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15-20 лет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Цели, приоритеты, механизмы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90920" y="4038480"/>
          <a:ext cx="5929200" cy="981000"/>
        </p:xfrm>
        <a:graphic>
          <a:graphicData uri="http://schemas.openxmlformats.org/drawingml/2006/table">
            <a:tbl>
              <a:tblPr/>
              <a:tblGrid>
                <a:gridCol w="1184040"/>
                <a:gridCol w="1187640"/>
                <a:gridCol w="1185840"/>
                <a:gridCol w="1187280"/>
                <a:gridCol w="11844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ок системного законода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.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. стро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590920" y="5257800"/>
            <a:ext cx="583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Целевые програм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тратегии (генеральные планы) развития муниципальных образований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бластные комплексные программы  разви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33520"/>
            <a:ext cx="79246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 законодательного хаоса к системному законодательств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ормирование пакета региональных интерес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( Основы внутренней полит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8195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733920"/>
            <a:ext cx="0" cy="24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02920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98900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250920" y="1915920"/>
            <a:ext cx="1032840" cy="41050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Закон КО “ О  государственной политике в  Калининградской области основных направлениях ее правового регулирования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3886200"/>
            <a:ext cx="497160" cy="304920"/>
          </a:xfrm>
          <a:custGeom>
            <a:avLst/>
            <a:gdLst>
              <a:gd name="textAreaLeft" fmla="*/ 77400 w 497160"/>
              <a:gd name="textAreaRight" fmla="*/ 435240 w 497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3EDD-952E-486D-B962-E5EF348B90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1600200"/>
            <a:ext cx="8713800" cy="492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82400" y="482400"/>
            <a:ext cx="7951320" cy="4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заимосвязь регионального законодательства с  федеральным и законодательством Е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формирование внешней полити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434440" y="189000"/>
            <a:ext cx="709560" cy="606240"/>
            <a:chOff x="8434440" y="189000"/>
            <a:chExt cx="709560" cy="60624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434440" y="189000"/>
              <a:ext cx="70956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434440" y="189000"/>
              <a:ext cx="709560" cy="60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429000" y="1905120"/>
            <a:ext cx="220968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Концепция устойчивого                         развит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Миссия, принципы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666880"/>
            <a:ext cx="2209680" cy="685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Стратегия развит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15-20 лет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Цели, приоритеты, механизмы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3657600"/>
          <a:ext cx="5935680" cy="836640"/>
        </p:xfrm>
        <a:graphic>
          <a:graphicData uri="http://schemas.openxmlformats.org/drawingml/2006/table">
            <a:tbl>
              <a:tblPr/>
              <a:tblGrid>
                <a:gridCol w="1185840"/>
                <a:gridCol w="1189080"/>
                <a:gridCol w="1185840"/>
                <a:gridCol w="1189080"/>
                <a:gridCol w="1185840"/>
              </a:tblGrid>
              <a:tr h="339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ок системного законода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.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. стро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655640" y="4797360"/>
            <a:ext cx="5832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Целевые програм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тратегии (генеральные планы) развития муниципальных образований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бластные комплексные программы  разви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5877000"/>
            <a:ext cx="2362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Федеральные программы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5805360"/>
            <a:ext cx="2286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граммы и Фонды ЕС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773360"/>
            <a:ext cx="234648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оссийская Федерация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З   ” Основы  федеральной   политики по Калининградской   области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752480"/>
            <a:ext cx="2089080" cy="106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вропейский сою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еждународные документы   по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514600"/>
            <a:ext cx="0" cy="20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429000"/>
            <a:ext cx="0" cy="297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2708280"/>
            <a:ext cx="0" cy="31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258560" y="2971800"/>
            <a:ext cx="36360" cy="28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198900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06064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57200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700360" y="5516640"/>
            <a:ext cx="187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572000" y="5516280"/>
            <a:ext cx="201600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3962520"/>
            <a:ext cx="1143000" cy="533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962520"/>
            <a:ext cx="12193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1960" y="396252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3657600"/>
            <a:ext cx="5943600" cy="838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6320" y="3922560"/>
            <a:ext cx="47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ное законодательство по блок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182880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52DA-7C7E-41E5-A667-506B3F8D1F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1:15:18Z</dcterms:created>
  <dc:creator>Sharkov</dc:creator>
  <dc:description/>
  <dc:language>en-US</dc:language>
  <cp:lastModifiedBy>Sharkov</cp:lastModifiedBy>
  <dcterms:modified xsi:type="dcterms:W3CDTF">2004-10-15T13:25:30Z</dcterms:modified>
  <cp:revision>54</cp:revision>
  <dc:subject/>
  <dc:title>Еврорегион сотрудни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06795929</vt:r8>
  </property>
  <property fmtid="{D5CDD505-2E9C-101B-9397-08002B2CF9AE}" pid="3" name="_AuthorEmail">
    <vt:lpwstr>kovaleva@duma.kaliningrad.org</vt:lpwstr>
  </property>
  <property fmtid="{D5CDD505-2E9C-101B-9397-08002B2CF9AE}" pid="4" name="_AuthorEmailDisplayName">
    <vt:lpwstr>Kovaleva</vt:lpwstr>
  </property>
  <property fmtid="{D5CDD505-2E9C-101B-9397-08002B2CF9AE}" pid="5" name="_EmailSubject">
    <vt:lpwstr>Доклад Шушкина</vt:lpwstr>
  </property>
</Properties>
</file>