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7523-E95D-4988-B162-52E7F1884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E056-F625-42BB-A342-491276B4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5FD9-1591-4138-88B2-332D6CA49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1771-AD75-465B-B607-2953027C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71EB-36D3-472D-BA8D-40B6878EE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6ABE-C7A4-4469-B4AC-59AFACAC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7D31-AE86-441C-AB4C-CD9573DA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A524-F8DE-4F77-AB17-10225766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CCCD-7D34-4C89-9E40-51709E6B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15640" y="188640"/>
            <a:ext cx="779292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1DF2-0564-4511-8DD9-D00EBDD7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908B-CEB1-4FE7-A657-8D25C22F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7611-BF01-4AF8-88D3-12AF6201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EC37-685B-4F8F-B881-0CD4D0CA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27C5-FF4E-4A3E-A60E-101950F3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51F9-83B4-4C6E-ABD0-4809AC71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07AF-9712-45F9-9ACA-78B0F80E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A8F6-FFF4-4F24-B39A-73E475496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2D32-6DB6-4A72-BB78-0C038381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7E12-4D60-4158-BD75-748C1A66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19C0-49BE-426C-9B78-B9DF59D8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15640" y="188640"/>
            <a:ext cx="779292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75A7-34EE-4154-8CBA-A9C7F581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CD61-1AAA-47A1-BA3A-AC18FF42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D67A-DA35-44AA-A1CA-091CEB8E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4438-EA02-4158-806A-357139D4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30200" y="477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5200" y="4507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46200" y="26028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34920" y="4777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4920" y="76500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97040" y="3430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03280" y="112536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412D-59CF-4E2F-9A70-B75C43A280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476280"/>
            <a:ext cx="9009000" cy="1052640"/>
            <a:chOff x="0" y="476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584280"/>
              <a:ext cx="711360" cy="474840"/>
              <a:chOff x="290520" y="584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584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584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006560"/>
              <a:ext cx="737640" cy="474840"/>
              <a:chOff x="414360" y="1006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006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006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933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476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298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10DE-2001-48CB-B65F-B547E40BF0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7724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68000" y="1699920"/>
            <a:ext cx="8280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Проекты частно-общественного партнерства в г.Обнинск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лферов Ю.Б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П «Территориальное развитие и инновационная экономика» (НП ТРИЭ), г.Обнинс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Реализация проек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59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клад администрации: здание площадью 1200 кв.м. и средства Программы наукограда (из них финансировались некоторые НИР и ОКР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клад других участников: денежные средства (бизнес), имущество и преимущественные права коммерческого использования технологических разработок (НИИ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настоящее время финансирование проекта осуществляется преимущественно за счет собственных средств, полученных от реализации производимой продукции, выполняемых для заказчиков НИР и ОКР, инжиниринговых услуг, прочих услуг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поддержке администрации города ОЦНТ активно сотрудничает с федеральной и региональной властью по законодательству в области инновационной деятельности и интеллектуальной собственност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5616720" cy="5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Результаты и вывод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631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егодня ОЦНТ – крупнейшее предприятие инновационной инфраструктуры в Калужской области. Структура доходов в 2003г.: производство наукоемкой продукции - 36,4%, инжиниринговые услуги – 18,6%, НИР – 14,6%, ОКР – 14%, прочие – 16,4%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Факторы успеха: удачный выбор технологических разработок на начальном этапе, научный потенциал обнинских НИИ, инициатива бизнеса, поддержка администрации, финансовые ресурсы Программы наукограда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Факторы, оказывающие отрицательное влияние: недостаток опыта в области коммерциализации технологий, недостаточная рыночная ориентированность обнинских НИИ, недостаток средств на начальном этап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Вывод: в проекте реализовано трехстороннее партнерство «наука-власть-бизнес». Опыт проекта очень интересен, но в силу своей специфики может иметь ограниченное распространение в других муниципальных образованиях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7724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Информация о г.Обнинск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68000" y="1699920"/>
            <a:ext cx="828036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стоположение: Калужская область (100км от Москвы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селение: 108 тыс. челове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ходы бюджета в 2004г.: 900 млн руб. (прогноз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ходы бюджета в 2004г.: 983 млн руб. (прогноз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нинск – город «мирного атома», первый наукоград Росс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79328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тратегический пла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128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звание: «Программа развития города Обнинска как наукограда Российской Федерации на 2000-2004гг.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грамма разработана администрацией города с привлечением «ключевых игроков» в 1998г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щественное обсуждение проведено в 1999г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грамма утверждена Президентом РФ в мае 2000г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фициальное начало реализации – октябрь, 2000г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дельные мероприятия реализовывались с 1998г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05636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Краткая информация о проект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486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звание: «Создание новой муниципальной промышленной зоны и технологического парка»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Цели: создание промзоны (50га) со всей необходимой инфраструктурой (дороги, электричество, вода, газ) для размещения новых производств. Создание Технопарка для развития малых технологических компани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лгосрочный эффект: привлечение инвестиций,  увеличение налоговых поступлений, создание новых рабочих мест, диверсификация экономики город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рок реализации: 2000 – 2005гг. (план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3280" y="260280"/>
            <a:ext cx="640872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Начальный этап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706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нициаторы проекта: бизнес, ТПП г.Обнинска (1999г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ект поддержан администрацией города и включен в Программу наукограда (2000г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астники проекта: проект был открыт для долевого участия и компаний-подрядчиков на конкурсной основ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реждено НП «Технопарк» (заказчик-застройщик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работан бизнес-план, ТЭО, проведены необходимые земельные изыскания частично за счет города, частично за счет компаний-инициаторо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7201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Реализация проек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559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клад администрации: земельный участок 50га и средства Программы наукогра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клад бизнеса: подготовительные работы, постройка помещений Технопарка за свой счет, подрядные работ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од проекта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2001-2002гг. смена заказчика-застройщика, постройка Технопарка заморожен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 2004г. строительство инженерных коммуникаций промзоны практически завершено. Отдельные инвесторы уже ведут постройку своих производственных помещений и сооружени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6120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Результаты и вывод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6310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 сентябрю 2004г. на конкурсной основе уже отобрано 10 российских и зарубежных инвесторов. Заключено инвестиционных соглашений на общую сумму 60-65 млн долл. В 2005-2006гг. появится 1000-1500 новых рабочих мес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акторы успеха: финансовые ресурсы Программы наукограда, инициатива бизнеса, поддержка администр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акторы, оказывающие отрицательное влияние: отсутствие преемственности местной вла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вод: опыт проекта может быть полезен муниципальным образованиям, имеющим достаточные ресурсы, необходима политическая стабильность для более эффективного сотрудничества с бизнесо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8560" y="333360"/>
            <a:ext cx="705636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Краткая информация о проект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02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звание: «Создание Обнинского центра науки и технологий»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Цели: создание инфраструктуры для коммерциализации технологических разработок обнинских НИИ, содействие развитию малого и среднего технологического бизнеса, производство и реализация наукоемкой продукции, участие в финансировании НИР и ОКР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лгосрочный эффект: развитие сотрудничества науки и бизнеса, развитие малого и среднего инновационного бизнеса,  привлечение дополнительного финансирования в науку, создание новых рабочих мест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рок реализации: с 1997 (сроки не ограничивались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439272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Начальный этап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5579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нициаторы проекта: группа НИИ г.Обнинска и малых технологических компаний (1997г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ект поддержан администрацией города и включен в Программу наукограда (1997-1998гг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астники проекта: проект был открыт для долевого участи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реждено ООО «Обнинский центр науки и технолог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начальном этапе проект испытывал недостаток средств (в частности, поэтому не было серьезной разработки бизнес-плана и ТЭО). После запуска в производство первого коммерчески успешного продукта появились средства для реализации других перспективных разработок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10:44:00Z</dcterms:created>
  <dc:creator>Yuri Alferov</dc:creator>
  <dc:description/>
  <dc:language>en-US</dc:language>
  <cp:lastModifiedBy>Yuri Alferov</cp:lastModifiedBy>
  <dcterms:modified xsi:type="dcterms:W3CDTF">2004-10-19T13:42:22Z</dcterms:modified>
  <cp:revision>10</cp:revision>
  <dc:subject/>
  <dc:title>Информация о г.Обнинске</dc:title>
</cp:coreProperties>
</file>