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380-7E37-44FC-BEA3-1017EFE4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D5E-20CD-4A68-8C7A-E89E43D2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27C2-B3A6-44EB-9751-D7AEC8B09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17D-6022-4A3F-B272-7F28AB13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6283-44D0-419D-838A-39B4A4BE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F00F-2D57-4E60-B15D-1F3FDB8F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8B24-3A7A-4CB7-89E5-87310EAA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B7C1-0A06-4383-9FE7-D7E1AA0F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26ED-04C8-482E-89AD-CAB56C92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F466-4A41-495D-9367-CDB66B65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D9DE-83DE-450C-83F3-6ABE7520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E3A-6FE2-4BAD-B278-3B7295CB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9BF4-1BDF-4E57-A31F-CBC57F8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8914-9958-4381-83B7-A40DAE5C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E11B-B050-4FB6-AC03-922CB75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D25A-4020-4F62-AB9F-29EFA39A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F54E-489E-4393-9351-9A14FD9B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20-E83E-42BB-A8D5-FE40C05D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140-AAEE-496B-8101-1A7A9120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2A8-7C5F-492E-B654-A0EB5ACD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F36-876F-4847-82BE-81A8C09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C728-EC9B-43EC-AA0C-A575D5D8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296-F15D-4B22-A40F-CFBBB508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0C2-223B-4AF1-8355-8AAB96E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D8F-604E-4028-A55D-8D535D50D6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D715-01B0-4E1D-B4E6-E2E76D6CE5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I Distance Learning Progra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egic Forum, St Petersburg, October 20-21,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818-DF8E-4E0D-B365-E3C118BD42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5066" t="12736" r="1857" b="5418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7E4-1CCD-4395-B042-D6BF91B08A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990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алендарный план кур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Зима-весна 2004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447920"/>
            <a:ext cx="86868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1 – 26 января – 1 феврал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2 – 2 февраля – 8 февра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3 – 9 февраля – 15 февра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4 – 16 февраля – 22 февра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5 – 23 февраля – 29 февра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6 – 1 марта – 7 март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7 – 8 марта – 21 мар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8 – 22 марта – 28 мар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9 – 29 марта – 4 апре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одуль 10 – 5 апреля – 11 апреля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ополнительные дискусси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урсовой проект – 12 апреля – 12 м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888-FF4A-44E3-B6C1-31D9FA435C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25195" t="12736" r="1857" b="7859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CDF-08A1-429E-9C5F-AA3B11896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27025" t="12653" r="-59" b="7987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8ED-CBB0-443A-9B78-3AA48366D7D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5835" t="12736" r="1857" b="7982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A331-D376-412E-97A0-B0AA3BAB7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5835" t="12736" r="1857" b="5418"/>
          <a:stretch/>
        </p:blipFill>
        <p:spPr>
          <a:xfrm>
            <a:off x="152280" y="30492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BFD-330C-4D7F-95EB-98539189C3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8334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835" t="12736" r="1860" b="5418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CBA-1DE0-4F65-871C-98552765D9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5835" t="12662" r="1857" b="7657"/>
          <a:stretch/>
        </p:blipFill>
        <p:spPr>
          <a:xfrm>
            <a:off x="152280" y="304920"/>
            <a:ext cx="876312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46D-8308-4727-84B7-51A3B78B0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5835" t="12736" r="0" b="7982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405A-E430-47AA-AC84-D4C533CA7E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835" t="12736" r="1857" b="798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06B-CD21-46DF-B0E4-DBD9F4469B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Background: World Bank Institut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date: support capacity building in client count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hematic di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ban team – part of Finance and Private Sector Di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full time staff working worldwi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ban and City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nicipal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ster Risk Management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F1B-52FB-4F26-87E7-E2A413C203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241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5835" t="12653" r="1857" b="5217"/>
          <a:stretch/>
        </p:blipFill>
        <p:spPr>
          <a:xfrm>
            <a:off x="0" y="228600"/>
            <a:ext cx="8915400" cy="641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AE9-6C03-4C3A-A447-1FA9F6252E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2412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5835" t="12653" r="1953" b="5217"/>
          <a:stretch/>
        </p:blipFill>
        <p:spPr>
          <a:xfrm>
            <a:off x="228600" y="228600"/>
            <a:ext cx="8686800" cy="624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5BE-E706-4596-A1DC-41A6EF1B62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5835" t="12736" r="0" b="7982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A0C-FE0E-45D0-9A9E-38EF2D8BDE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5835" t="12736" r="1857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D00-D917-46AA-AC0E-32EE9D1C56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5835" t="12736" r="1857" b="7982"/>
          <a:stretch/>
        </p:blipFill>
        <p:spPr>
          <a:xfrm>
            <a:off x="304920" y="2286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A4D-77FB-4A8D-A363-E98D78A31A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5835" t="12736" r="1857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F9C-96FE-4661-AB62-E83E29E9D0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27025" t="12653" r="-59" b="7987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8F2-9943-4642-A16B-0BABE08594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5835" t="12736" r="0" b="7982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D9B-2D78-43F0-99D9-5D16ECB5349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5835" t="12736" r="1857" b="5418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7E2-3A62-4279-AEA0-78D65179F5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F0D-041B-490F-86D9-DD926EDCE4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rban and City Management Pro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ining progra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rehensive and specialized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Urban and City Management Core Course; Land Management, LED and Poverty reduction; Urban Security; Gender and Local Governance; Municipal Radio Training Programs – Uganda, Malawi, Guatemala; Latin America 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licy Servi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sensus building, awareness raising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CA Housing and Communal Services Reform, Russia; Decentralization Policy Options, Guatemala; Gender and Local Governance, Russia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nowledge Excha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frica Local Government Action Forum, Latin America Public Administration Forum, Leontief Center: Strategic Forum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9E7-1DE5-426F-A54B-4A506CB14A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71560" y="25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7156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5835" t="12736" r="0" b="31024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DF74-6416-4DE0-8225-C53ED4FB6C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71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5835" t="12736" r="0" b="7982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342-64C3-4A1C-AAE9-97D7473F85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9068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23143" t="12736" r="0" b="5418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926-4C63-4721-BC65-2CBBE89E2F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7156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rcRect l="5835" t="12736" r="0" b="5418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62B-193D-49FC-81F7-88E121939C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2412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5835" t="12736" r="1857" b="10541"/>
          <a:stretch/>
        </p:blipFill>
        <p:spPr>
          <a:xfrm>
            <a:off x="304920" y="15228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F5B-0EF3-45F4-9A49-8960CB99BE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27025" t="12653" r="-59" b="7987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552-A8E8-4C1B-8F49-EA20A23AF4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429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5477" t="11826" r="0" b="5034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360-3212-46C7-80A3-81F4F12CAFC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5835" t="12736" r="1857" b="5418"/>
          <a:stretch/>
        </p:blipFill>
        <p:spPr>
          <a:xfrm>
            <a:off x="304920" y="152280"/>
            <a:ext cx="861048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D9F-CF13-450B-A7E3-4FBBEC2AFD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8604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8604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412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6027" t="12653" r="1857" b="7864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7F9-7AEC-496A-A65A-5BEFA8F55E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Характеристика участников кур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раны и города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1447920"/>
            <a:ext cx="236196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лабу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жев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емеро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ичурин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аход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Н. Новгор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рм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трозавод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льят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ом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1447920"/>
            <a:ext cx="15242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руз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билис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1447920"/>
            <a:ext cx="17528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кра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ердянс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10280" y="1447920"/>
            <a:ext cx="2133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ыргызст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ишке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144792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д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шине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D84-7685-45BD-A6DA-4258EB76ADE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ching 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learni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D-ROM, web-based, video-conferences, radi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ED for Poverty Reduction, Urban and City Management for Transition Economies (in English and Russian); 5 courses in Natural Disaster Risk Management (in English, French, Spanish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ship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networks, associations, think tanks, research and training instit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United Cities and Local Governments; UNITAR; ECLAC; Leontief Center, Institute of Urban Economics, Russia; Metropolitan Research Institute, Hungary)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377-D4EE-4F44-A036-16850538CB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Характеристика участников кур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121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сто работы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828800"/>
            <a:ext cx="22860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281952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ы исполнительной и законодательной власти – 9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нсалтинговые организации – 3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ысшие учебные заведения – 9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1981080"/>
            <a:ext cx="2819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Женщины – 7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ужчины – 14 че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844-E390-421A-8765-061D4B8A0BA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412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5898" t="12736" r="1857" b="5418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7E9-0AED-4D20-A3D2-F5B05F36DC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4296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5477" t="11826" r="0" b="5034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4F22-E839-41E1-A2D2-81E158FE99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8860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7755" t="12736" r="1702" b="5418"/>
          <a:stretch/>
        </p:blipFill>
        <p:spPr>
          <a:xfrm>
            <a:off x="228600" y="228600"/>
            <a:ext cx="8610480" cy="632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7B80-1448-4545-8633-7D5C4FEA8D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Future of UCM On-Line Cours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Course: Janu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developmen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self-standing courses: Framework Course + three specialization courses: Overview: Urban Governance, Specialization Courses: Financial Management, Sectoral Issues, Cross-Cutt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depth technical knowledge and skills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Russian specific learning material while keeping the conceptual part and international exper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 based involvement of partners, experts, networks in design and deliver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FD3-04F2-4CFD-A4D1-88CB7E838D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CM On-line Course for Transitional Economies in English and Russi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lobal Course, 2 step adjustment: to transitional economies and to FSU count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ontief Centre, Institute of Urban Economics, OSI/LGI, OSI-Small Town Programs, LOGIN; Bertelsmann Foundation:Cities of Change, Participants’ case studies, WB exper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lot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nuary-May, 2004 jointly with the Leontief Centr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 Modul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ban Challeng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rategic Planning and L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ource Mobiliz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P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dget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al Estate and Housi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ban 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viron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ban Pover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416-A833-49BA-A04A-47A131D8F7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80" y="6583320"/>
            <a:ext cx="28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ЦСЭИ «Леонтьевский центр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860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828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itul2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7DBD-0E69-4879-8FB3-45052697E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3856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954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7025" t="12653" r="-59" b="7987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83FA-C729-4C95-A438-F2646D2F6C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432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5066" t="12736" r="0" b="7982"/>
          <a:stretch/>
        </p:blipFill>
        <p:spPr>
          <a:xfrm>
            <a:off x="228600" y="152280"/>
            <a:ext cx="8763120" cy="648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4C1F-B323-48BF-B8B5-69A3B249FF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9544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25195" t="12736" r="1853" b="5418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3598-2857-4B8A-A180-F57B44F3E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9:28:57Z</dcterms:created>
  <dc:creator>WB83811</dc:creator>
  <dc:description/>
  <dc:language>en-US</dc:language>
  <cp:lastModifiedBy>WB83811</cp:lastModifiedBy>
  <dcterms:modified xsi:type="dcterms:W3CDTF">2004-10-20T20:57:31Z</dcterms:modified>
  <cp:revision>1</cp:revision>
  <dc:subject/>
  <dc:title>WBI Distance Learning Programs</dc:title>
</cp:coreProperties>
</file>