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C91-14BF-46AE-8028-1CA4E74C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A5A-672B-42CB-98A1-1A870A46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935-DA23-43E4-BD1D-3A38CC52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323-CD90-4429-846D-89603122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BEFF-7262-4A80-9A99-3EFE5072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340A-CA33-407B-B236-BB31E0EC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4E16-A3EE-4E42-BF8C-F86B7F44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32C0-E83F-4608-9CA7-0CB15651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21A1-5BD7-4BD1-A681-9F878DFA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6961-2974-4297-A6F7-76CCF0CC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8AC-6E30-430E-B50C-5902EC28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1F8-ABE5-4501-AA05-1674533B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B29F-8F82-4CDD-B72B-BBDFBC7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5906-6190-49F4-8E3D-13839291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7371-D3C6-4547-8AC3-C72B6462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D741-5F6F-4E2C-BFDE-CA14CA87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C5E0-88ED-42B7-8BC3-A13A3BBB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C2B-618C-4158-AD13-AFC4F73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43C-D2DA-4F80-BBF9-A2D61CFB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14E-1DC2-4F46-AEA0-22E6EF79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C03-1078-4161-B9D8-9F7F303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A80-518D-414A-A4AE-96977925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D6D-0E59-4F01-BE21-48E87F5D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C20-E831-446B-90DF-AEF0539B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240" y="609480"/>
            <a:ext cx="87231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оделирование</a:t>
            </a:r>
            <a:br>
              <a:rPr sz="4400"/>
            </a:b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оследствий реализации</a:t>
            </a:r>
            <a:br>
              <a:rPr sz="4400"/>
            </a:b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стратегии регионального экономического развит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02840" y="3151080"/>
            <a:ext cx="6939000" cy="29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льневосточный центр экономического развития, Владивос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брамов А.Л., Величко А.С.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выдов Д.В., Достовалов В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2209680"/>
            <a:ext cx="11430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876920"/>
            <a:ext cx="25909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аровский к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5943600"/>
            <a:ext cx="266724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орский к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4038480"/>
            <a:ext cx="29718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алин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3048120"/>
            <a:ext cx="30481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адан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038480"/>
            <a:ext cx="20574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ейская А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981080"/>
            <a:ext cx="21337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отский А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895480"/>
            <a:ext cx="30481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ат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4876920"/>
            <a:ext cx="25909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346720"/>
            <a:ext cx="0" cy="59688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391520" y="3352320"/>
            <a:ext cx="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437920" y="4267080"/>
            <a:ext cx="213372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5105520"/>
            <a:ext cx="30456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6720" y="3504960"/>
            <a:ext cx="3124440" cy="53316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bcbcb"/>
                </a:solidFill>
                <a:latin typeface="Times New Roman"/>
              </a:rPr>
              <a:t>Топливно-энергетический комплекс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Структура оптимальных перето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опливно-энергетический комплекс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ерарархия связ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82880" y="1468440"/>
            <a:ext cx="5657760" cy="5059440"/>
            <a:chOff x="1982880" y="1468440"/>
            <a:chExt cx="5657760" cy="5059440"/>
          </a:xfrm>
        </p:grpSpPr>
        <p:sp>
          <p:nvSpPr>
            <p:cNvPr id="148" name=""/>
            <p:cNvSpPr/>
            <p:nvPr/>
          </p:nvSpPr>
          <p:spPr>
            <a:xfrm>
              <a:off x="2967120" y="1631880"/>
              <a:ext cx="3263760" cy="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68560" y="2106720"/>
              <a:ext cx="3264120" cy="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68560" y="2624040"/>
              <a:ext cx="2619360" cy="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8560" y="3139920"/>
              <a:ext cx="2619360" cy="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8560" y="1468440"/>
              <a:ext cx="0" cy="465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8560" y="6119640"/>
              <a:ext cx="438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68560" y="3605040"/>
              <a:ext cx="2271600" cy="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68560" y="4122720"/>
              <a:ext cx="1609920" cy="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68560" y="5618160"/>
              <a:ext cx="530280" cy="82440"/>
            </a:xfrm>
            <a:custGeom>
              <a:avLst/>
              <a:gdLst/>
              <a:ahLst/>
              <a:rect l="l" t="t" r="r" b="b"/>
              <a:pathLst>
                <a:path w="334" h="52">
                  <a:moveTo>
                    <a:pt x="0" y="1"/>
                  </a:moveTo>
                  <a:lnTo>
                    <a:pt x="0" y="52"/>
                  </a:lnTo>
                  <a:lnTo>
                    <a:pt x="334" y="51"/>
                  </a:lnTo>
                  <a:lnTo>
                    <a:pt x="3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67120" y="5173560"/>
              <a:ext cx="530280" cy="85680"/>
            </a:xfrm>
            <a:custGeom>
              <a:avLst/>
              <a:gdLst/>
              <a:ahLst/>
              <a:rect l="l" t="t" r="r" b="b"/>
              <a:pathLst>
                <a:path w="334" h="54">
                  <a:moveTo>
                    <a:pt x="0" y="3"/>
                  </a:moveTo>
                  <a:lnTo>
                    <a:pt x="0" y="54"/>
                  </a:lnTo>
                  <a:lnTo>
                    <a:pt x="334" y="51"/>
                  </a:lnTo>
                  <a:lnTo>
                    <a:pt x="33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68560" y="4680000"/>
              <a:ext cx="1081080" cy="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19360" y="5408640"/>
              <a:ext cx="530280" cy="82440"/>
            </a:xfrm>
            <a:custGeom>
              <a:avLst/>
              <a:gdLst/>
              <a:ahLst/>
              <a:rect l="l" t="t" r="r" b="b"/>
              <a:pathLst>
                <a:path w="334" h="52">
                  <a:moveTo>
                    <a:pt x="0" y="2"/>
                  </a:moveTo>
                  <a:lnTo>
                    <a:pt x="0" y="52"/>
                  </a:lnTo>
                  <a:lnTo>
                    <a:pt x="334" y="51"/>
                  </a:lnTo>
                  <a:lnTo>
                    <a:pt x="33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11480" y="4719600"/>
              <a:ext cx="79560" cy="73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57440" y="5219640"/>
              <a:ext cx="81000" cy="439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49760" y="2664000"/>
              <a:ext cx="7956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91280" y="1671480"/>
              <a:ext cx="81000" cy="249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87920" y="2871720"/>
              <a:ext cx="642960" cy="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82880" y="1468440"/>
              <a:ext cx="984240" cy="48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12120" y="1535040"/>
              <a:ext cx="39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Чук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12480" y="2035080"/>
              <a:ext cx="53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Камч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11040" y="2535120"/>
              <a:ext cx="497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Якут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12480" y="303516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Маг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12480" y="3535200"/>
              <a:ext cx="56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Прим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11760" y="4037040"/>
              <a:ext cx="53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Амур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11760" y="453708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Сах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11760" y="5037120"/>
              <a:ext cx="38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Евр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11760" y="554364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Хаб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35680" y="6130800"/>
              <a:ext cx="804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65640" y="62024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11440" y="62992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m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40320" y="4162320"/>
              <a:ext cx="82440" cy="909720"/>
            </a:xfrm>
            <a:custGeom>
              <a:avLst/>
              <a:gdLst/>
              <a:ahLst/>
              <a:rect l="l" t="t" r="r" b="b"/>
              <a:pathLst>
                <a:path w="52" h="573">
                  <a:moveTo>
                    <a:pt x="50" y="0"/>
                  </a:moveTo>
                  <a:lnTo>
                    <a:pt x="0" y="0"/>
                  </a:lnTo>
                  <a:lnTo>
                    <a:pt x="1" y="573"/>
                  </a:lnTo>
                  <a:lnTo>
                    <a:pt x="52" y="57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49640" y="5030640"/>
              <a:ext cx="528840" cy="82800"/>
            </a:xfrm>
            <a:custGeom>
              <a:avLst/>
              <a:gdLst/>
              <a:ahLst/>
              <a:rect l="l" t="t" r="r" b="b"/>
              <a:pathLst>
                <a:path w="333" h="52">
                  <a:moveTo>
                    <a:pt x="0" y="1"/>
                  </a:moveTo>
                  <a:lnTo>
                    <a:pt x="0" y="52"/>
                  </a:lnTo>
                  <a:lnTo>
                    <a:pt x="333" y="51"/>
                  </a:lnTo>
                  <a:lnTo>
                    <a:pt x="3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49640" y="5025960"/>
              <a:ext cx="528840" cy="82440"/>
            </a:xfrm>
            <a:custGeom>
              <a:avLst/>
              <a:gdLst/>
              <a:ahLst/>
              <a:rect l="l" t="t" r="r" b="b"/>
              <a:pathLst>
                <a:path w="333" h="52">
                  <a:moveTo>
                    <a:pt x="0" y="1"/>
                  </a:moveTo>
                  <a:lnTo>
                    <a:pt x="0" y="52"/>
                  </a:lnTo>
                  <a:lnTo>
                    <a:pt x="333" y="51"/>
                  </a:lnTo>
                  <a:lnTo>
                    <a:pt x="3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00560" y="3645000"/>
              <a:ext cx="81000" cy="9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8480" y="4519440"/>
              <a:ext cx="66168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40160" y="4122720"/>
              <a:ext cx="990720" cy="8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bcbcb"/>
                </a:solidFill>
                <a:latin typeface="Times New Roman"/>
              </a:rPr>
              <a:t>Горнодобывающая промышленность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Структура оптимальных перето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09680"/>
            <a:ext cx="11430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4876920"/>
            <a:ext cx="25909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аровский к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943600"/>
            <a:ext cx="266724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орский к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038480"/>
            <a:ext cx="29718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алин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3048120"/>
            <a:ext cx="30481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адан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038480"/>
            <a:ext cx="20574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ейская А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1981080"/>
            <a:ext cx="21337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отский А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2895480"/>
            <a:ext cx="30481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ат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876920"/>
            <a:ext cx="25909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48520" y="4495320"/>
            <a:ext cx="1143000" cy="17528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752480" y="2209320"/>
            <a:ext cx="5029200" cy="2286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72000" y="4267080"/>
            <a:ext cx="121932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437920" y="4266720"/>
            <a:ext cx="114300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2438280"/>
            <a:ext cx="182880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666880"/>
            <a:ext cx="533160" cy="13716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2438280"/>
            <a:ext cx="563904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666880"/>
            <a:ext cx="76320" cy="22100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Горнодобывающая промышленность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ерарархия связ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22720" y="1744560"/>
            <a:ext cx="316872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24160" y="2205000"/>
            <a:ext cx="317016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24160" y="2708280"/>
            <a:ext cx="254484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24160" y="3208320"/>
            <a:ext cx="2043000" cy="7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22720" y="1528920"/>
            <a:ext cx="1440" cy="45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4160" y="6103800"/>
            <a:ext cx="425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24160" y="3660840"/>
            <a:ext cx="204300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24160" y="4164120"/>
            <a:ext cx="156384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24160" y="5614920"/>
            <a:ext cx="515880" cy="81000"/>
          </a:xfrm>
          <a:custGeom>
            <a:avLst/>
            <a:gdLst/>
            <a:ahLst/>
            <a:rect l="l" t="t" r="r" b="b"/>
            <a:pathLst>
              <a:path w="325" h="51">
                <a:moveTo>
                  <a:pt x="0" y="2"/>
                </a:moveTo>
                <a:lnTo>
                  <a:pt x="0" y="51"/>
                </a:lnTo>
                <a:lnTo>
                  <a:pt x="325" y="50"/>
                </a:lnTo>
                <a:lnTo>
                  <a:pt x="325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22720" y="5184720"/>
            <a:ext cx="514080" cy="82440"/>
          </a:xfrm>
          <a:custGeom>
            <a:avLst/>
            <a:gdLst/>
            <a:ahLst/>
            <a:rect l="l" t="t" r="r" b="b"/>
            <a:pathLst>
              <a:path w="324" h="52">
                <a:moveTo>
                  <a:pt x="0" y="2"/>
                </a:moveTo>
                <a:lnTo>
                  <a:pt x="0" y="52"/>
                </a:lnTo>
                <a:lnTo>
                  <a:pt x="324" y="49"/>
                </a:lnTo>
                <a:lnTo>
                  <a:pt x="324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24160" y="4705200"/>
            <a:ext cx="105084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59120" y="5413320"/>
            <a:ext cx="515880" cy="79560"/>
          </a:xfrm>
          <a:custGeom>
            <a:avLst/>
            <a:gdLst/>
            <a:ahLst/>
            <a:rect l="l" t="t" r="r" b="b"/>
            <a:pathLst>
              <a:path w="325" h="50">
                <a:moveTo>
                  <a:pt x="0" y="1"/>
                </a:moveTo>
                <a:lnTo>
                  <a:pt x="0" y="50"/>
                </a:lnTo>
                <a:lnTo>
                  <a:pt x="325" y="49"/>
                </a:lnTo>
                <a:lnTo>
                  <a:pt x="325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37200" y="4743360"/>
            <a:ext cx="7776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00440" y="5229360"/>
            <a:ext cx="777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29360" y="3198960"/>
            <a:ext cx="792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3280" y="1782720"/>
            <a:ext cx="79200" cy="287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66920" y="1585800"/>
            <a:ext cx="955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40440" y="1649520"/>
            <a:ext cx="39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Чук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640" y="2135160"/>
            <a:ext cx="53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Камч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9360" y="2620800"/>
            <a:ext cx="53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Амур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9720" y="3108240"/>
            <a:ext cx="497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Яку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640" y="359424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аг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640" y="4079880"/>
            <a:ext cx="561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рим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640" y="4565520"/>
            <a:ext cx="38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Евр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640" y="5051520"/>
            <a:ext cx="37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9360" y="5543640"/>
            <a:ext cx="37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Хаб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8600" y="6113520"/>
            <a:ext cx="782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51040" y="61833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88560" y="6276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49840" y="4202280"/>
            <a:ext cx="81000" cy="882360"/>
          </a:xfrm>
          <a:custGeom>
            <a:avLst/>
            <a:gdLst/>
            <a:ahLst/>
            <a:rect l="l" t="t" r="r" b="b"/>
            <a:pathLst>
              <a:path w="51" h="556">
                <a:moveTo>
                  <a:pt x="49" y="0"/>
                </a:moveTo>
                <a:lnTo>
                  <a:pt x="0" y="0"/>
                </a:lnTo>
                <a:lnTo>
                  <a:pt x="1" y="556"/>
                </a:lnTo>
                <a:lnTo>
                  <a:pt x="51" y="556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75000" y="5045040"/>
            <a:ext cx="513000" cy="81000"/>
          </a:xfrm>
          <a:custGeom>
            <a:avLst/>
            <a:gdLst/>
            <a:ahLst/>
            <a:rect l="l" t="t" r="r" b="b"/>
            <a:pathLst>
              <a:path w="323" h="51">
                <a:moveTo>
                  <a:pt x="0" y="1"/>
                </a:moveTo>
                <a:lnTo>
                  <a:pt x="0" y="51"/>
                </a:lnTo>
                <a:lnTo>
                  <a:pt x="323" y="49"/>
                </a:lnTo>
                <a:lnTo>
                  <a:pt x="32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75000" y="5040360"/>
            <a:ext cx="513000" cy="81000"/>
          </a:xfrm>
          <a:custGeom>
            <a:avLst/>
            <a:gdLst/>
            <a:ahLst/>
            <a:rect l="l" t="t" r="r" b="b"/>
            <a:pathLst>
              <a:path w="323" h="51">
                <a:moveTo>
                  <a:pt x="0" y="2"/>
                </a:moveTo>
                <a:lnTo>
                  <a:pt x="0" y="51"/>
                </a:lnTo>
                <a:lnTo>
                  <a:pt x="323" y="50"/>
                </a:lnTo>
                <a:lnTo>
                  <a:pt x="323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4618080"/>
            <a:ext cx="160344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30840" y="2746440"/>
            <a:ext cx="77760" cy="73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67160" y="3438360"/>
            <a:ext cx="501840" cy="7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9000" y="3054240"/>
            <a:ext cx="62244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bcbcb"/>
                </a:solidFill>
                <a:latin typeface="Times New Roman"/>
              </a:rPr>
              <a:t>Лесная промышленность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Структура оптимальных перето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2209680"/>
            <a:ext cx="11430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876920"/>
            <a:ext cx="25909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аровский к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5943600"/>
            <a:ext cx="266724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орский к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1320" y="4038480"/>
            <a:ext cx="29718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алин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3048120"/>
            <a:ext cx="30481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адан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4038480"/>
            <a:ext cx="20574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ейская А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1981080"/>
            <a:ext cx="21337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отский А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2895480"/>
            <a:ext cx="30481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ат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876920"/>
            <a:ext cx="25909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1447920" y="4495320"/>
            <a:ext cx="2133360" cy="167652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495680" y="3352680"/>
            <a:ext cx="2057400" cy="15242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572000" y="4267080"/>
            <a:ext cx="121932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437920" y="4266720"/>
            <a:ext cx="114300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76720" y="5105520"/>
            <a:ext cx="30456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733920" y="3505320"/>
            <a:ext cx="838080" cy="13716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1066320" y="2666520"/>
            <a:ext cx="3505320" cy="22100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Лесная промышленность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ерарархия связ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35160" y="1628640"/>
            <a:ext cx="37702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36960" y="2106720"/>
            <a:ext cx="37684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36960" y="2627280"/>
            <a:ext cx="37684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36960" y="3143160"/>
            <a:ext cx="2959200" cy="82800"/>
          </a:xfrm>
          <a:custGeom>
            <a:avLst/>
            <a:gdLst/>
            <a:ahLst/>
            <a:rect l="l" t="t" r="r" b="b"/>
            <a:pathLst>
              <a:path w="1864" h="52">
                <a:moveTo>
                  <a:pt x="0" y="1"/>
                </a:moveTo>
                <a:lnTo>
                  <a:pt x="0" y="52"/>
                </a:lnTo>
                <a:lnTo>
                  <a:pt x="1864" y="51"/>
                </a:lnTo>
                <a:lnTo>
                  <a:pt x="1864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35160" y="1406520"/>
            <a:ext cx="1800" cy="473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6960" y="6143760"/>
            <a:ext cx="4408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36960" y="3613320"/>
            <a:ext cx="2217600" cy="8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36960" y="4133880"/>
            <a:ext cx="162072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36960" y="5637240"/>
            <a:ext cx="534960" cy="84240"/>
          </a:xfrm>
          <a:custGeom>
            <a:avLst/>
            <a:gdLst/>
            <a:ahLst/>
            <a:rect l="l" t="t" r="r" b="b"/>
            <a:pathLst>
              <a:path w="337" h="53">
                <a:moveTo>
                  <a:pt x="0" y="2"/>
                </a:moveTo>
                <a:lnTo>
                  <a:pt x="0" y="53"/>
                </a:lnTo>
                <a:lnTo>
                  <a:pt x="337" y="51"/>
                </a:lnTo>
                <a:lnTo>
                  <a:pt x="337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35160" y="5191200"/>
            <a:ext cx="533520" cy="85680"/>
          </a:xfrm>
          <a:custGeom>
            <a:avLst/>
            <a:gdLst/>
            <a:ahLst/>
            <a:rect l="l" t="t" r="r" b="b"/>
            <a:pathLst>
              <a:path w="336" h="54">
                <a:moveTo>
                  <a:pt x="0" y="3"/>
                </a:moveTo>
                <a:lnTo>
                  <a:pt x="0" y="54"/>
                </a:lnTo>
                <a:lnTo>
                  <a:pt x="336" y="51"/>
                </a:lnTo>
                <a:lnTo>
                  <a:pt x="336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36960" y="4694400"/>
            <a:ext cx="1089000" cy="8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91000" y="5427720"/>
            <a:ext cx="534960" cy="82440"/>
          </a:xfrm>
          <a:custGeom>
            <a:avLst/>
            <a:gdLst/>
            <a:ahLst/>
            <a:rect l="l" t="t" r="r" b="b"/>
            <a:pathLst>
              <a:path w="337" h="52">
                <a:moveTo>
                  <a:pt x="0" y="1"/>
                </a:moveTo>
                <a:lnTo>
                  <a:pt x="0" y="52"/>
                </a:lnTo>
                <a:lnTo>
                  <a:pt x="337" y="51"/>
                </a:lnTo>
                <a:lnTo>
                  <a:pt x="337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86360" y="4734000"/>
            <a:ext cx="81000" cy="73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30520" y="5237280"/>
            <a:ext cx="81000" cy="44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65840" y="1668600"/>
            <a:ext cx="81000" cy="19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46240" y="1465200"/>
            <a:ext cx="9889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6680" y="1530360"/>
            <a:ext cx="39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Чук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39560" y="2033640"/>
            <a:ext cx="497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Яку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9560" y="2536920"/>
            <a:ext cx="53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Камч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35960" y="304020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аг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41000" y="3543480"/>
            <a:ext cx="561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рим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0280" y="4046400"/>
            <a:ext cx="53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Амур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34520" y="4549680"/>
            <a:ext cx="37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34520" y="5052960"/>
            <a:ext cx="38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Евр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33800" y="5564160"/>
            <a:ext cx="37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Хаб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26400" y="6154560"/>
            <a:ext cx="80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09280" y="62262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632304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25960" y="5099040"/>
            <a:ext cx="531720" cy="84240"/>
          </a:xfrm>
          <a:custGeom>
            <a:avLst/>
            <a:gdLst/>
            <a:ahLst/>
            <a:rect l="l" t="t" r="r" b="b"/>
            <a:pathLst>
              <a:path w="335" h="53">
                <a:moveTo>
                  <a:pt x="0" y="2"/>
                </a:moveTo>
                <a:lnTo>
                  <a:pt x="0" y="53"/>
                </a:lnTo>
                <a:lnTo>
                  <a:pt x="335" y="51"/>
                </a:lnTo>
                <a:lnTo>
                  <a:pt x="335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14960" y="3652920"/>
            <a:ext cx="81000" cy="9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18080" y="4173480"/>
            <a:ext cx="82440" cy="974880"/>
          </a:xfrm>
          <a:custGeom>
            <a:avLst/>
            <a:gdLst/>
            <a:ahLst/>
            <a:rect l="l" t="t" r="r" b="b"/>
            <a:pathLst>
              <a:path w="52" h="614">
                <a:moveTo>
                  <a:pt x="51" y="0"/>
                </a:moveTo>
                <a:lnTo>
                  <a:pt x="0" y="0"/>
                </a:lnTo>
                <a:lnTo>
                  <a:pt x="1" y="614"/>
                </a:lnTo>
                <a:lnTo>
                  <a:pt x="52" y="614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57680" y="4605480"/>
            <a:ext cx="59688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54560" y="4133880"/>
            <a:ext cx="74160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56200" y="3182760"/>
            <a:ext cx="810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96160" y="3613320"/>
            <a:ext cx="809280" cy="8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bcbcb"/>
                </a:solidFill>
                <a:latin typeface="Times New Roman"/>
              </a:rPr>
              <a:t>Пищевая промышленность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Структура оптимальных перето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2209680"/>
            <a:ext cx="11430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4876920"/>
            <a:ext cx="25909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аровский к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5943600"/>
            <a:ext cx="266724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орский к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1320" y="4038480"/>
            <a:ext cx="29718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алин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3048120"/>
            <a:ext cx="30481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адан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4038480"/>
            <a:ext cx="205740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ейская А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1981080"/>
            <a:ext cx="21337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отский А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2895480"/>
            <a:ext cx="30481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ат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4876920"/>
            <a:ext cx="2590920" cy="45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ская об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105520" y="3124080"/>
            <a:ext cx="761760" cy="1526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647960" y="4267080"/>
            <a:ext cx="114300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361960" y="4267080"/>
            <a:ext cx="342900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057400" y="4267080"/>
            <a:ext cx="373392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752480" y="2437920"/>
            <a:ext cx="41148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772400" y="2438280"/>
            <a:ext cx="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133360" y="3352680"/>
            <a:ext cx="5638680" cy="15242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ищевая промышленность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ерарархия связ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14800" y="1695600"/>
            <a:ext cx="3644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16240" y="2157480"/>
            <a:ext cx="317340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240" y="2660760"/>
            <a:ext cx="259884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16240" y="3162240"/>
            <a:ext cx="204624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16240" y="1479600"/>
            <a:ext cx="0" cy="458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16240" y="6060960"/>
            <a:ext cx="426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6240" y="3614760"/>
            <a:ext cx="156528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16240" y="4119480"/>
            <a:ext cx="156528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16240" y="5572080"/>
            <a:ext cx="515880" cy="81000"/>
          </a:xfrm>
          <a:custGeom>
            <a:avLst/>
            <a:gdLst/>
            <a:ahLst/>
            <a:rect l="l" t="t" r="r" b="b"/>
            <a:pathLst>
              <a:path w="325" h="51">
                <a:moveTo>
                  <a:pt x="0" y="2"/>
                </a:moveTo>
                <a:lnTo>
                  <a:pt x="0" y="51"/>
                </a:lnTo>
                <a:lnTo>
                  <a:pt x="325" y="50"/>
                </a:lnTo>
                <a:lnTo>
                  <a:pt x="325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14800" y="5141880"/>
            <a:ext cx="515880" cy="81000"/>
          </a:xfrm>
          <a:custGeom>
            <a:avLst/>
            <a:gdLst/>
            <a:ahLst/>
            <a:rect l="l" t="t" r="r" b="b"/>
            <a:pathLst>
              <a:path w="325" h="51">
                <a:moveTo>
                  <a:pt x="0" y="2"/>
                </a:moveTo>
                <a:lnTo>
                  <a:pt x="0" y="51"/>
                </a:lnTo>
                <a:lnTo>
                  <a:pt x="325" y="49"/>
                </a:lnTo>
                <a:lnTo>
                  <a:pt x="325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16240" y="4660920"/>
            <a:ext cx="105084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51200" y="5369040"/>
            <a:ext cx="515880" cy="81000"/>
          </a:xfrm>
          <a:custGeom>
            <a:avLst/>
            <a:gdLst/>
            <a:ahLst/>
            <a:rect l="l" t="t" r="r" b="b"/>
            <a:pathLst>
              <a:path w="325" h="51">
                <a:moveTo>
                  <a:pt x="0" y="2"/>
                </a:moveTo>
                <a:lnTo>
                  <a:pt x="0" y="51"/>
                </a:lnTo>
                <a:lnTo>
                  <a:pt x="325" y="50"/>
                </a:lnTo>
                <a:lnTo>
                  <a:pt x="325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29280" y="4699080"/>
            <a:ext cx="79200" cy="71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92520" y="5186520"/>
            <a:ext cx="777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43360" y="3652920"/>
            <a:ext cx="81000" cy="504720"/>
          </a:xfrm>
          <a:custGeom>
            <a:avLst/>
            <a:gdLst/>
            <a:ahLst/>
            <a:rect l="l" t="t" r="r" b="b"/>
            <a:pathLst>
              <a:path w="51" h="318">
                <a:moveTo>
                  <a:pt x="50" y="0"/>
                </a:moveTo>
                <a:lnTo>
                  <a:pt x="0" y="0"/>
                </a:lnTo>
                <a:lnTo>
                  <a:pt x="2" y="318"/>
                </a:lnTo>
                <a:lnTo>
                  <a:pt x="51" y="31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21640" y="1733400"/>
            <a:ext cx="79200" cy="336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57560" y="1536840"/>
            <a:ext cx="9572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0720" y="1600200"/>
            <a:ext cx="497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Яку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0720" y="2087640"/>
            <a:ext cx="53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Амур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29640" y="2575080"/>
            <a:ext cx="561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рим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0000" y="3060720"/>
            <a:ext cx="38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Евр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28920" y="3548160"/>
            <a:ext cx="37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29640" y="4033800"/>
            <a:ext cx="37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Хаб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1800" y="4521240"/>
            <a:ext cx="39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Чук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29640" y="500868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аг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0000" y="5500800"/>
            <a:ext cx="53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Камч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77160" y="6072120"/>
            <a:ext cx="782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49600" y="61419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86400" y="62355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5060880"/>
            <a:ext cx="259236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1520" y="3843360"/>
            <a:ext cx="517680" cy="81000"/>
          </a:xfrm>
          <a:custGeom>
            <a:avLst/>
            <a:gdLst/>
            <a:ahLst/>
            <a:rect l="l" t="t" r="r" b="b"/>
            <a:pathLst>
              <a:path w="326" h="51">
                <a:moveTo>
                  <a:pt x="0" y="2"/>
                </a:moveTo>
                <a:lnTo>
                  <a:pt x="0" y="51"/>
                </a:lnTo>
                <a:lnTo>
                  <a:pt x="326" y="50"/>
                </a:lnTo>
                <a:lnTo>
                  <a:pt x="326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24320" y="3200400"/>
            <a:ext cx="77760" cy="68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76920" y="2698920"/>
            <a:ext cx="77760" cy="8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99200" y="3525840"/>
            <a:ext cx="515880" cy="81000"/>
          </a:xfrm>
          <a:custGeom>
            <a:avLst/>
            <a:gdLst/>
            <a:ahLst/>
            <a:rect l="l" t="t" r="r" b="b"/>
            <a:pathLst>
              <a:path w="325" h="51">
                <a:moveTo>
                  <a:pt x="0" y="2"/>
                </a:moveTo>
                <a:lnTo>
                  <a:pt x="0" y="51"/>
                </a:lnTo>
                <a:lnTo>
                  <a:pt x="325" y="50"/>
                </a:lnTo>
                <a:lnTo>
                  <a:pt x="325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15080" y="3054240"/>
            <a:ext cx="57456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50040" y="2195640"/>
            <a:ext cx="77760" cy="8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89640" y="2577960"/>
            <a:ext cx="517680" cy="81000"/>
          </a:xfrm>
          <a:custGeom>
            <a:avLst/>
            <a:gdLst/>
            <a:ahLst/>
            <a:rect l="l" t="t" r="r" b="b"/>
            <a:pathLst>
              <a:path w="326" h="51">
                <a:moveTo>
                  <a:pt x="0" y="2"/>
                </a:moveTo>
                <a:lnTo>
                  <a:pt x="0" y="51"/>
                </a:lnTo>
                <a:lnTo>
                  <a:pt x="326" y="50"/>
                </a:lnTo>
                <a:lnTo>
                  <a:pt x="326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Структура региональных взаимосвязе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тер “Юг” в составе Приморского, Хабаровского краев, Сахалинской, Амурской областей, Еврейской АО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тер “Север” включает в себя Камчатскую и Магаданскую обла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оделирование роста импорта продукции пищевой промышленности</a:t>
            </a:r>
            <a:br>
              <a:rPr sz="3200"/>
            </a:b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 Приморский край на 10%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760" y="2290680"/>
            <a:ext cx="869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е ввоза в регион из других регионов Д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7240" y="274788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3,3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4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2,4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3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1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3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1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3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,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4027320"/>
            <a:ext cx="81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е вывоза из региона в другие регионы Д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7240" y="448452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14,4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1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2,2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4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1,1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1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3,2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,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ли проек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ирование «сравнительных преимуществ» регион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ирование межрегиональных перетоков продукции на Д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лиз влияния федеральных инициатив на экономику регионов Д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оделирование роста импорта продукции пищевой промышленности</a:t>
            </a:r>
            <a:br>
              <a:rPr sz="3200"/>
            </a:b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 Приморский край на 20%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2760" y="2290680"/>
            <a:ext cx="869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е ввоза в регион из других регионов Д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4027320"/>
            <a:ext cx="81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е вывоза из региона в другие регионы Д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7240" y="274788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5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9,5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4,9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7,6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3,6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7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4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7,3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7240" y="448452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28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3,3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4,5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2,3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1,6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3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6,4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,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оделирование роста экспорта продукции ТЭК из Сахалинской области на 10%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2760" y="2290680"/>
            <a:ext cx="869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е ввоза в регион из других регионов Д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4027320"/>
            <a:ext cx="81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е вывоза из региона в другие регионы Д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5360" y="27478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4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,6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9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0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6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2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4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5360" y="448452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,9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,9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3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,6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1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,4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,4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оделирование роста экспорта продукции ТЭК из Сахалинской области на 20%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2760" y="2290680"/>
            <a:ext cx="869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е ввоза в регион из других регионов Д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4027320"/>
            <a:ext cx="81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ение вывоза из региона в другие регионы Д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5360" y="27478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,3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,9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0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,2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5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5360" y="448452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б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у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ч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у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2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2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,8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,7%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0,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Экономическая стратегия и промышленная полити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ледствия вступления в ВТО различны для страны в целом, для производителей и потребителей в регионах (то, что хорошо для РФ в целом не обязательно хорошо для регионов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Экономическая стратегия и промышленная полити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88520" y="1980720"/>
            <a:ext cx="7969320" cy="44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спортная стратегия России (для ТЭК, черной и цветной металлургии, лесной промышленности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Дальнем Востоке улучшает положение производителей, однако ограничивает внутреннее потребление продукции этих отраслей субъектами региональной экономи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Экономическая стратегия и промышленная полити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8720" y="2290680"/>
            <a:ext cx="762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ие импортных пошлин и нетарифных мер по защите национальных производителей в пищевой промышленности может ухудшить на Дальнем Востоке положение потребителе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етодолог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81280"/>
            <a:ext cx="7772400" cy="377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ногорегиональная межотраслевая модель Леонтьева-Страу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тропийная модель Вильсон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ный анализ и иерархия региональных связе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Анализ отраслевой структуры экономики Д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ЭК (электроэнергетик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пливная промышленность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нодобывающая промышленность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черная, цветная металлургия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сная, деревообрабатывающая, целлюлозно-бумажная промышлен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щевая промышлен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нспорт и связ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е отрас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Анализ отраслевой структуры экономики Д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Анализ отраслевой структуры экономики регионов Д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806480"/>
          <a:ext cx="9144000" cy="50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6480"/>
                    <a:ext cx="914400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одель межрегиональных перетоков продукции на Д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4840" y="1844640"/>
            <a:ext cx="753264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личество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дукции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ой отрасли, произведенной и поставляемой из региона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регион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–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затраты, связанные с производство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поставкой единицы продукции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ой отрасли из региона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регион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уммарная стоимость перевозок продукции в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ом регионе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52960" y="5600880"/>
                <a:ext cx="24796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243080" y="1830240"/>
                <a:ext cx="390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43080" y="3220920"/>
                <a:ext cx="3618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2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одель межрегиональных перетоков продукции на Д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084320" y="1900080"/>
                <a:ext cx="403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033560" y="286056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52560" y="1900080"/>
            <a:ext cx="797076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личество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дукции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ой отрасли, производимой и поставляемой из региона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регион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ехнологические коэффициенты, характеризующие затраты продукта отрасли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необходимые для производства единицы продукта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в регионе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нечное потребление продукции отрасли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в регионе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754360" y="5757840"/>
                <a:ext cx="3697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sup>
                        </m:sSubSup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33560" y="4689360"/>
                <a:ext cx="374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одель межрегиональных перетоков продукции на Д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65440" y="3691080"/>
                <a:ext cx="44276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e>
                    </m:nary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551640" y="2205000"/>
                <a:ext cx="411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64080" y="5514840"/>
                <a:ext cx="23479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465280" y="1900080"/>
            <a:ext cx="79711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219400"/>
            <a:ext cx="771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Задача поиска оптимальных перетоков      , соответствующих наиболее вероятному состоянию экономической системы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37040" y="4518000"/>
                <a:ext cx="3362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sup>
                        </m:sSubSup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6408720"/>
            <a:ext cx="38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ВЦЭ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05:26:56Z</dcterms:created>
  <dc:creator>Andrey</dc:creator>
  <dc:description/>
  <dc:language>en-US</dc:language>
  <cp:lastModifiedBy>Alex</cp:lastModifiedBy>
  <dcterms:modified xsi:type="dcterms:W3CDTF">2004-11-09T10:08:32Z</dcterms:modified>
  <cp:revision>153</cp:revision>
  <dc:subject/>
  <dc:title>«Гравитационная» модель экономики Дальнего Востока России</dc:title>
</cp:coreProperties>
</file>