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90F2-EC84-4457-9091-C6DB7953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C8FB-B553-4130-87BD-42AA1B8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DF34-E6EF-4073-946B-734043F5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54BB-DA3F-4B23-9AF2-D31AFFFB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83B-A687-4992-AFDE-19A96DAF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1C7-ADAD-428E-9EAC-8A661AC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056C-3B63-4860-A006-E1C5F043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B89-4798-4184-9334-642D73FC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A8E3-A9EA-4403-A2E3-BBE724E2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6A21-5BDF-4879-8CAD-DF4E7F0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A28B-A725-4FA4-A705-B3254F5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3BCC-AD8A-455D-85CA-C994F782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98AA-8142-4C57-B3AA-7AE7069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9A4-EFA0-4180-9091-2F44540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B5F4-E437-439C-84EC-16DD9F01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545-F30F-4750-B952-E5A269CC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7EC0-4C62-4D3A-B3EF-D7DD0C2F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1919-E085-4CB0-AD42-ACF2D4E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A632-DD0E-4681-9F53-EEA3620E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9F79-E842-4538-B622-4CEE1C30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8CEE-D572-4412-8B9F-A0D7FB3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D42C-F2E0-4C85-B77D-8A34901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5CCE-ED0E-4856-A8B8-8CBF3C0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43D6-03BF-4271-95CB-4E214DE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F8BA-6D01-4CF7-95AB-020E53E09D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CF0-9019-43B3-866F-E47A031F49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99cc"/>
                </a:solidFill>
                <a:latin typeface="Arial"/>
              </a:rPr>
              <a:t>ЖИЛИЩНАЯ РЕФОРМА В РОССИИ: СЛЕДУЮЩИЕ ШАГИ И ОСТАЮЩИЕСЯ ВЫЗОВ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А.С.Пузан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Генеральный директор Фон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«Институт экономики город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 октября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Структура пакета законопроектов по формированию рынка доступного ж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4000" y="1587600"/>
            <a:ext cx="8640360" cy="5151600"/>
            <a:chOff x="324000" y="1587600"/>
            <a:chExt cx="8640360" cy="5151600"/>
          </a:xfrm>
        </p:grpSpPr>
        <p:sp>
          <p:nvSpPr>
            <p:cNvPr id="152" name=""/>
            <p:cNvSpPr/>
            <p:nvPr/>
          </p:nvSpPr>
          <p:spPr>
            <a:xfrm>
              <a:off x="1775520" y="1587600"/>
              <a:ext cx="6026760" cy="13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ИЛИЩНАЯ ПОЛИ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 Жилищного кодекса – регулирование базовых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авоотношений в жилищной сфере (предоставление жилья по социальному найму, коммерческий наем жилья, собственность на жилье, использование жилых помещени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978640"/>
              <a:ext cx="2759400" cy="28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С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еспечение условий для развития ипотечного жилищного кредитования, жилищно-накопительных программ и других форм расширения платежеспособного спроса граждан на жилье (изменения гражданского, гражданско-процессуального, ипотечного законодательства, законодательства о ценных бумагах, о страховании и др.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99400" y="2947680"/>
              <a:ext cx="2977200" cy="28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ОБОР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еспечение снижения затрат на совершение сделок и снижение рисков утраты права собственности на жилье, формирование конкурентных цен на рынке и стабилизация реальных цен на жилье (изменение гражданского законодательства, законодательства о регистрации прав на недвижимость и о государственном учете объектов недвижимости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2760" y="2993400"/>
              <a:ext cx="2541600" cy="30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РЕДЛ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еспечение условий для увеличения объемов жилищного строительства, упрощение доступа к земельным участкам, развитие инженерно-коммунальной инфраструктуры (проекты Градостроительного кодекса, законов об инвестиционных соглашениях и тарифном регулировании, изменения Бюджетного кодекс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9240" y="5833440"/>
              <a:ext cx="7768080" cy="90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НАЛОГООБЛ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ДС, налог на прибыль, подоходный налог, плата за землю, государственная пошлина, местный налог на недвиж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93320" y="2724480"/>
              <a:ext cx="726480" cy="243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52720" y="2724480"/>
              <a:ext cx="0" cy="243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2560" y="2724480"/>
              <a:ext cx="654480" cy="243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2065320" y="5406840"/>
              <a:ext cx="726480" cy="425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752720" y="5650200"/>
              <a:ext cx="0" cy="182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786000" y="5589720"/>
              <a:ext cx="798480" cy="243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1960" y="4126320"/>
              <a:ext cx="21924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276600" y="4126320"/>
              <a:ext cx="1458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7DE6-8C06-4E01-B864-416779D587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Варианты базового сце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981080"/>
          <a:ext cx="8229240" cy="3886200"/>
        </p:xfrm>
        <a:graphic>
          <a:graphicData uri="http://schemas.openxmlformats.org/drawingml/2006/table">
            <a:tbl>
              <a:tblPr/>
              <a:tblGrid>
                <a:gridCol w="1692000"/>
                <a:gridCol w="1201680"/>
                <a:gridCol w="2520000"/>
                <a:gridCol w="2815560"/>
              </a:tblGrid>
              <a:tr h="4572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B983-884F-4353-86B4-E7E6A1B36E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Объем рынка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1413000"/>
          <a:ext cx="8136000" cy="40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813600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FF9F-1141-4C45-83EB-EECFC2A3A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Изменение средней рыночной реальной цены жилья 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989000"/>
          <a:ext cx="8281800" cy="39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28180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2106-C99E-405B-A6AB-E8F90F029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Основные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я домохозяйств, которым будет доступно приобретение стандартной квартиры (54 кв. м.) за счет собственных средств и жилищных кредитов, увеличится с 9% в 2003 г. до 31% в 201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0D16-3A0C-4AFF-8252-7D87581AB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99cc"/>
                </a:solidFill>
                <a:latin typeface="Arial"/>
              </a:rPr>
              <a:t>ОСНОВНЫЕ ПОЛОЖЕНИЯ ПРОЕКТА ЖИЛИЩНОГО КОДЕКСА РОССИЙСКОЙ ФЕДЕР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C4CC-197C-4203-9756-3750BA4F16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238880" y="4681440"/>
            <a:ext cx="1447920" cy="911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Tahoma"/>
              </a:rPr>
              <a:t>Постановлен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Tahoma"/>
              </a:rPr>
              <a:t>Правительств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Tahoma"/>
              </a:rPr>
              <a:t>Российско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Tahoma"/>
              </a:rPr>
              <a:t>Федерации, Указы Президента Российской Федерац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8920" y="4800600"/>
            <a:ext cx="1916280" cy="762120"/>
          </a:xfrm>
          <a:custGeom>
            <a:avLst/>
            <a:gdLst>
              <a:gd name="textAreaLeft" fmla="*/ 0 w 1916280"/>
              <a:gd name="textAreaRight" fmla="*/ 1916640 w 1916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1" y="0"/>
                </a:lnTo>
                <a:lnTo>
                  <a:pt x="21600" y="10800"/>
                </a:lnTo>
                <a:lnTo>
                  <a:pt x="19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818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Жилищный кодекс Российской Федерации – базовый нормативный правовой акт в системе жилищного законод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4757760"/>
            <a:ext cx="533520" cy="228600"/>
          </a:xfrm>
          <a:prstGeom prst="rightArrow">
            <a:avLst>
              <a:gd name="adj1" fmla="val 55565"/>
              <a:gd name="adj2" fmla="val 7132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0920" y="6205680"/>
            <a:ext cx="6629400" cy="304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Tahoma"/>
              </a:rPr>
              <a:t>Нормативные правовые акты субъектов Российской Федер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3946320" y="3368520"/>
            <a:ext cx="422280" cy="5181840"/>
          </a:xfrm>
          <a:custGeom>
            <a:avLst/>
            <a:gdLst>
              <a:gd name="textAreaLeft" fmla="*/ 0 w 422280"/>
              <a:gd name="textAreaRight" fmla="*/ 422640 w 42228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67" y="0"/>
                </a:lnTo>
                <a:lnTo>
                  <a:pt x="21600" y="10800"/>
                </a:lnTo>
                <a:lnTo>
                  <a:pt x="1076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5440320"/>
            <a:ext cx="2862360" cy="274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80"/>
                </a:solidFill>
                <a:latin typeface="Tahoma"/>
              </a:rPr>
              <a:t>Ведомственные нормативные правовые ак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3869640" y="4393440"/>
            <a:ext cx="457200" cy="1643040"/>
          </a:xfrm>
          <a:custGeom>
            <a:avLst/>
            <a:gdLst>
              <a:gd name="textAreaLeft" fmla="*/ 0 w 457200"/>
              <a:gd name="textAreaRight" fmla="*/ 457560 w 4572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09" y="0"/>
                </a:lnTo>
                <a:lnTo>
                  <a:pt x="21600" y="10800"/>
                </a:lnTo>
                <a:lnTo>
                  <a:pt x="1490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500720"/>
            <a:ext cx="1666800" cy="49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Tahoma"/>
              </a:rPr>
              <a:t>Федеральные  закон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(закон «О статусе военнослужащих» и т.п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3724560" y="3205800"/>
            <a:ext cx="914400" cy="1675080"/>
          </a:xfrm>
          <a:custGeom>
            <a:avLst/>
            <a:gdLst>
              <a:gd name="textAreaLeft" fmla="*/ 0 w 914400"/>
              <a:gd name="textAreaRight" fmla="*/ 914760 w 914400"/>
              <a:gd name="textAreaTop" fmla="*/ 0 h 1675080"/>
              <a:gd name="textAreaBottom" fmla="*/ 1675440 h 16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97" y="0"/>
                </a:lnTo>
                <a:lnTo>
                  <a:pt x="21600" y="10800"/>
                </a:lnTo>
                <a:lnTo>
                  <a:pt x="132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043000"/>
            <a:ext cx="1287720" cy="623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Бюджетны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кодек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Российско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Федерац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743200"/>
            <a:ext cx="1287720" cy="838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Кодекс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Российско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Федерации о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Tahoma"/>
              </a:rPr>
              <a:t>административных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Tahoma"/>
              </a:rPr>
              <a:t>правонарушениях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343400"/>
            <a:ext cx="128772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Социальное законодательств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1828800"/>
            <a:ext cx="144792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Tahoma"/>
              </a:rPr>
              <a:t>Земельны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Tahoma"/>
              </a:rPr>
              <a:t>кодек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Tahoma"/>
              </a:rPr>
              <a:t>Россий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Tahoma"/>
              </a:rPr>
              <a:t>Федер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3276720"/>
            <a:ext cx="144792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Градостроительны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кодек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Российско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Федер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1599840" y="1976400"/>
            <a:ext cx="1523880" cy="6904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5" y="0"/>
                </a:lnTo>
                <a:lnTo>
                  <a:pt x="21600" y="10800"/>
                </a:lnTo>
                <a:lnTo>
                  <a:pt x="1973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1523520" y="2743200"/>
            <a:ext cx="1600200" cy="8380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7" y="0"/>
                </a:lnTo>
                <a:lnTo>
                  <a:pt x="21600" y="10800"/>
                </a:lnTo>
                <a:lnTo>
                  <a:pt x="196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1600200" y="4343040"/>
            <a:ext cx="1371600" cy="7621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1" y="0"/>
                </a:lnTo>
                <a:lnTo>
                  <a:pt x="21600" y="10800"/>
                </a:lnTo>
                <a:lnTo>
                  <a:pt x="19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038320"/>
            <a:ext cx="1371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Регулирование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отношений в жилищной сфере, связанных 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обязательством бюджет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7432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Правовое регулирова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ответственности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нарушение нор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жилищного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законодатель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Российской Федер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3434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Регулирование льгот по оплате жилья и коммунальных услу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1160" y="4876920"/>
            <a:ext cx="184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Tahoma"/>
              </a:rPr>
              <a:t>Регулирование отдельных жилищных отношений во исполнение норм Жилищного кодекса и федеральны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Tahoma"/>
              </a:rPr>
              <a:t>закон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2887560" y="3493800"/>
            <a:ext cx="533520" cy="228600"/>
          </a:xfrm>
          <a:prstGeom prst="rightArrow">
            <a:avLst>
              <a:gd name="adj1" fmla="val 55565"/>
              <a:gd name="adj2" fmla="val 7132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421600">
            <a:off x="4790880" y="4366800"/>
            <a:ext cx="711000" cy="235080"/>
          </a:xfrm>
          <a:prstGeom prst="rightArrow">
            <a:avLst>
              <a:gd name="adj1" fmla="val 53139"/>
              <a:gd name="adj2" fmla="val 5343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376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7400" y="3890880"/>
            <a:ext cx="13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Правовое регулирование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отдельных видов жилищных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отношений на основе норм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Жилищного кодекса</a:t>
            </a:r>
            <a:r>
              <a:rPr b="1" lang="en-US" sz="6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29240" y="3357720"/>
            <a:ext cx="1785960" cy="53316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29240" y="1828800"/>
            <a:ext cx="1785960" cy="7668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9840" y="3494160"/>
            <a:ext cx="533160" cy="228600"/>
          </a:xfrm>
          <a:prstGeom prst="rightArrow">
            <a:avLst>
              <a:gd name="adj1" fmla="val 55565"/>
              <a:gd name="adj2" fmla="val 71275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68800" y="2976480"/>
            <a:ext cx="1827000" cy="8827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4760" y="3205080"/>
            <a:ext cx="167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Жилищный кодек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Российской Федер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986360"/>
            <a:ext cx="17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0000"/>
                </a:solidFill>
                <a:latin typeface="Tahoma"/>
              </a:rPr>
              <a:t>Правовое регулирование отдельных видов жилищных отношений на основе функциональных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0000"/>
                </a:solidFill>
                <a:latin typeface="Tahoma"/>
              </a:rPr>
              <a:t>полномочий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74848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Правовое регулирование отдельных видов жилищных отношений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на основе норм Жилищного кодекса и федеральных законов в пределах конституционных полномочий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субъектов Российской Федерац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52920" y="1905120"/>
            <a:ext cx="18622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Регулирова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земельных отноше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по поводу участков под жилищными объекта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29240" y="3357720"/>
            <a:ext cx="170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Строительство, реконструкция и перевод в нежилы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помещ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676520"/>
            <a:ext cx="930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I уровен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867280"/>
            <a:ext cx="103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ahoma"/>
              </a:rPr>
              <a:t>II уровен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039200" y="1605600"/>
            <a:ext cx="533160" cy="2208240"/>
          </a:xfrm>
          <a:custGeom>
            <a:avLst/>
            <a:gdLst>
              <a:gd name="textAreaLeft" fmla="*/ 0 w 533160"/>
              <a:gd name="textAreaRight" fmla="*/ 533520 w 533160"/>
              <a:gd name="textAreaTop" fmla="*/ 0 h 2208240"/>
              <a:gd name="textAreaBottom" fmla="*/ 220860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97" y="0"/>
                </a:lnTo>
                <a:lnTo>
                  <a:pt x="21600" y="10800"/>
                </a:lnTo>
                <a:lnTo>
                  <a:pt x="132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1840" y="1981080"/>
            <a:ext cx="2208240" cy="462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Конституция Российской Феде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92480" y="2519280"/>
            <a:ext cx="20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Обеспечение реализации и защит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конституционного права граждан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Tahoma"/>
              </a:rPr>
              <a:t>на жилищ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92400"/>
            <a:ext cx="1447920" cy="655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Гражданск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кодек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Российско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Федер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983040"/>
            <a:ext cx="1905120" cy="609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398304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Регулировани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отношений собственности в жилищной сфере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Tahoma"/>
              </a:rPr>
              <a:t>пользование жилым помещением по договору найм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666880"/>
            <a:ext cx="144792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Законодательство о техническом регулирован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581280"/>
            <a:ext cx="131148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Законодательство о приватизации жиль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523880" y="3611520"/>
            <a:ext cx="1447920" cy="73188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581280"/>
            <a:ext cx="1143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Приватизация жилых помеще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29240" y="2671920"/>
            <a:ext cx="1785960" cy="60948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29240" y="2743200"/>
            <a:ext cx="1557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ahoma"/>
              </a:rPr>
              <a:t>Требования к жилым помещения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8BE4-F549-4515-90BE-676D55653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Структура законо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БЩИЕ ПО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1. ОСНОВНЫЕ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ЛОЖЕНИЯ.ПРАВО ГРАЖДАН НА ЖИЛИЩЕ.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ЖИЛИЩНОЕ ЗАКОНОДАТЕЛЬСТ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2. ОБЪЕКТЫ  ЖИЛИЩНЫХ ПРАВ. ЖИЛИЩНЫЙ ФОН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 3. ПЕРЕВОД ЖИЛЫХ ПОМЕЩЕНИЙ В НЕЖИЛЫЕ ПОМЕЩЕНИЯ И НЕЖИЛЫХ ПОМЕЩЕНИЙ В ЖИЛЫЕ ПОМЕЩ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4. ПЕРЕУСТРОЙСТВО И ПЕРЕПЛАНИРОВКА ЖИЛОГО ПОМЕЩ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ПРАВО СОБСТВЕННОСТИ  И ДРУГИЕ ВЕЩНЫЕ ПРАВА НА ЖИЛЫЕ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5. ПРАВА И ОБЯЗАННОСТИ СОБСТВЕННИКА ЖИЛОГО ПОМЕЩЕНИЯ, А ТАКЖЕ ИНЫХ ГРАЖДАН, ПРОЖИВАЮЩИХ В ПРИНАДЛЕЖАЩЕМ ЕМУ  ПОМЕЩЕН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ва 6. ОБЩЕЕ ИМУЩЕСТВО СОБСТВЕННИКОВ ПОМЕЩЕНИЙ МНОГОКВАРТИРНОГО ДОМ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ЛЫЕ ПОМЕЩЕНИЯ, ПРЕДОСТАВЛЯЕМЫЕ ПО ДОГОВОРУ СОЦИАЛЬНОГО НАЙ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СЛУЖЕБНЫЕ  И   СПЕЦИАЛИЗИРОВАННЫЕ ЖИЛЫЕ  ПОМЕ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ЖИЛИЩНЫЕ И ЖИЛИЩНО-СТРОИТЕЛЬНЫЕ КООПЕРАТИВ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ТОВАРИЩЕСТВО СОБСТВЕННИКОВ ЖИЛ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ПЛАТА ЗА ЖИЛОЕ ПОМЕЩЕНИЕ И КОММУНАЛЬНЫ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УПРАВЛЕНИЕ ЖИЛЫМИ ДО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FCA5-DB08-4DD5-B192-F96B584A28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Структура жилищного фонда и порядок пользования жилыми помещ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05120"/>
            <a:ext cx="7813440" cy="441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Жилищный фо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4720" y="2346480"/>
            <a:ext cx="2521080" cy="4442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Государств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6360" y="2346480"/>
            <a:ext cx="2689200" cy="403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Ча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14720" y="2790720"/>
            <a:ext cx="1260360" cy="443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Федераль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75080" y="2790720"/>
            <a:ext cx="1260720" cy="443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Субъектов 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9000" y="3747960"/>
            <a:ext cx="2799000" cy="444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Социального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70600" y="3772080"/>
            <a:ext cx="2521080" cy="80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Коммерческого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3733920"/>
            <a:ext cx="1622520" cy="457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ahoma"/>
              </a:rPr>
              <a:t>Служебный и специализированны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6520" y="3190320"/>
            <a:ext cx="0" cy="555480"/>
          </a:xfrm>
          <a:prstGeom prst="line">
            <a:avLst/>
          </a:prstGeom>
          <a:ln w="38160">
            <a:solidFill>
              <a:srgbClr val="8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9840" y="3233160"/>
            <a:ext cx="0" cy="22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3270960"/>
            <a:ext cx="0" cy="481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572000"/>
            <a:ext cx="1931760" cy="554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Договор социального най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жилого поме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724280"/>
            <a:ext cx="1792440" cy="565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ahoma"/>
              </a:rPr>
              <a:t>Договоры най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ahoma"/>
              </a:rPr>
              <a:t>жилого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6120" y="3233160"/>
            <a:ext cx="0" cy="22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72440" y="4547520"/>
            <a:ext cx="0" cy="555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346480"/>
            <a:ext cx="2100240" cy="887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Tahoma"/>
              </a:rPr>
              <a:t>Муницип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0960" y="2749680"/>
            <a:ext cx="1344600" cy="555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Tahoma"/>
              </a:rPr>
              <a:t>В собственности юридических ли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6360" y="2749680"/>
            <a:ext cx="1344600" cy="555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Tahoma"/>
              </a:rPr>
              <a:t>В собственности частных ли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23160" y="3290040"/>
            <a:ext cx="0" cy="481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4191120"/>
            <a:ext cx="0" cy="48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94360" y="5103720"/>
            <a:ext cx="1792440" cy="554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Договор най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жилого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9280" y="4191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42900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342900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5692-C23C-41E6-AA79-6FF005E4C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Роль органов местного самоуправления в содействии гражданам в улучшении жилищных усло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981080"/>
          <a:ext cx="8229600" cy="4343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ОМ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иму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местного 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муницип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жилого помещения по договору социального най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, установленные законом категории гражд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 государственных полномоч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целевых субвенций из соответствующих бюдж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безвозмездных субсидий на приобретение жилья, иные формы содействия, предусмотренные соответствующим зако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B7D8-D72F-456F-9C8E-10CFF026D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Общая характеристика проблем и предлагаемых мер по формированию рынка доступного ж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779480"/>
            <a:ext cx="8893080" cy="5038560"/>
            <a:chOff x="250920" y="1779480"/>
            <a:chExt cx="8893080" cy="5038560"/>
          </a:xfrm>
        </p:grpSpPr>
        <p:sp>
          <p:nvSpPr>
            <p:cNvPr id="110" name=""/>
            <p:cNvSpPr/>
            <p:nvPr/>
          </p:nvSpPr>
          <p:spPr>
            <a:xfrm>
              <a:off x="250920" y="2180880"/>
              <a:ext cx="36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изкий платежеспособный спрос населения на жиль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1280" y="1798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8720" y="17794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2810880"/>
              <a:ext cx="324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сокие процентные ставки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 ипотечным жилищным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едит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0920" y="3783960"/>
              <a:ext cx="367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достаточное предложени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лья, низкие объемы жилищного строи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0920" y="4700520"/>
              <a:ext cx="33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сокие издержки по совершению сделок на рынке жилья и кредит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67280" y="2180880"/>
              <a:ext cx="48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витие ипотечного жилищного кредитования и других форм повышения платежеспособного спроса населения, налоговые ме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67280" y="2810880"/>
              <a:ext cx="48974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силение залоговых прав кредиторов, создание новых институтов (страхования ипотечных рисков, кредитных бюро), повышение надежности и снижение требуемой доходности по ипотечным ценным бумагам, налоговые ме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7280" y="3783960"/>
              <a:ext cx="507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здание условий для увеличения жилищного строительства, предоставления земельных участков, их обеспечения инженерно-коммунальной инфраструктурой, бюджетные и налоговые ме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7280" y="4700520"/>
              <a:ext cx="48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мена нотариального удостоверения договоров ипотеки, совершенствование системы регистрации прав на недвижимость и учета объектов недвижи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920" y="5444280"/>
              <a:ext cx="33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достаточная защита прав собственности на жилье и прав граждан, вкладывающих средства в строительство и приобретение жи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7280" y="5445360"/>
              <a:ext cx="5076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силение прав добросовестных приобретателей недвижимости, создание системы государственных финансовых компенсаций собственникам жилья при утрате прав собственности, регулирование деятельности по привлечению средств граждан в строительство и приобретение жи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9640" y="2352240"/>
              <a:ext cx="576000" cy="171720"/>
            </a:xfrm>
            <a:prstGeom prst="rightArrow">
              <a:avLst>
                <a:gd name="adj1" fmla="val 50000"/>
                <a:gd name="adj2" fmla="val 838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9640" y="3097440"/>
              <a:ext cx="576000" cy="171720"/>
            </a:xfrm>
            <a:prstGeom prst="rightArrow">
              <a:avLst>
                <a:gd name="adj1" fmla="val 50000"/>
                <a:gd name="adj2" fmla="val 838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19640" y="3898800"/>
              <a:ext cx="576000" cy="171720"/>
            </a:xfrm>
            <a:prstGeom prst="rightArrow">
              <a:avLst>
                <a:gd name="adj1" fmla="val 50000"/>
                <a:gd name="adj2" fmla="val 838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19640" y="4872240"/>
              <a:ext cx="576000" cy="171720"/>
            </a:xfrm>
            <a:prstGeom prst="rightArrow">
              <a:avLst>
                <a:gd name="adj1" fmla="val 50000"/>
                <a:gd name="adj2" fmla="val 838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19640" y="5673600"/>
              <a:ext cx="576000" cy="171720"/>
            </a:xfrm>
            <a:prstGeom prst="rightArrow">
              <a:avLst>
                <a:gd name="adj1" fmla="val 50000"/>
                <a:gd name="adj2" fmla="val 838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A60F-290F-4DA2-9403-925B42A813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Предоставление жилья бесплатно или за доступную пл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платное предоставление жилья – оплачиваются только текущие расходы по содержанию и ремонту жилья и расходы по предоставлению коммунальны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оставление жилья за доступную плату – помимо вышеупомянутых частично включены капитальные расходы на реновацию (плата за пользование жилым помещен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E115-84EC-411A-9D22-1B545E6FCF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Вопросы управления в жилищной сф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ая формулировка объекта управления – многоквартирные жилые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ельный участок – неотъемлемая часть общего имущества многоквартирн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титут общего собрания собстве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предмета управления и функций управляющ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язательность решения общего собрания соб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роны в договоре управления в отсутствие ТС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елы вмешательства ОМСУ в действия (бездействие) соб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D6D3-CFF9-4997-A2BB-DED17B2A5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Некоторые проблемные вопросы законо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щение института хозяйственного ведения муниципальный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ищные права при изъятии земельного участка для государственных или муниципальных нужд (в т.ч. в случае признания жилого дома аварийн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изнания гражданина малоиму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ординация нормативов предоставления жилых помещений по договору социального найма и нормативов начисления субсидий на оплату жилья и коммун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блемы переходного периода (в т.ч. существующая очередь нуждающихся в улучшении жилищных усло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610D-81ED-4B0E-9761-E4CCE3066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00360" y="182880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99cc"/>
                </a:solidFill>
                <a:latin typeface="Arial"/>
              </a:rPr>
              <a:t>ПРОЕКТ</a:t>
            </a:r>
            <a:br>
              <a:rPr sz="3800"/>
            </a:br>
            <a:r>
              <a:rPr b="1" lang="ru-RU" sz="3800" spc="-1" strike="noStrike">
                <a:solidFill>
                  <a:srgbClr val="9999cc"/>
                </a:solidFill>
                <a:latin typeface="Arial"/>
              </a:rPr>
              <a:t>ГРАДОСТРОИТЕЛЬНОГО</a:t>
            </a:r>
            <a:r>
              <a:rPr b="1" lang="en-US" sz="3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9999cc"/>
                </a:solidFill>
                <a:latin typeface="Arial"/>
              </a:rPr>
              <a:t>КОДЕКСА</a:t>
            </a:r>
            <a:br>
              <a:rPr sz="3800"/>
            </a:br>
            <a:r>
              <a:rPr b="1" lang="ru-RU" sz="3800" spc="-1" strike="noStrike">
                <a:solidFill>
                  <a:srgbClr val="9999cc"/>
                </a:solidFill>
                <a:latin typeface="Arial"/>
              </a:rPr>
              <a:t>РОССИЙСКОЙ ФЕДЕР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928-A91A-4C6B-8E5A-85DA7DE891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cc"/>
                </a:solidFill>
                <a:latin typeface="Arial"/>
                <a:ea typeface="Times New Roman"/>
              </a:rPr>
              <a:t>Градострои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риториальн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вое зон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ировка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готовка проектной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ительство (включая реконструкц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BFA9-13CD-4304-BA68-9185204CD4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Территориальное планирование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на уровн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413000"/>
          <a:ext cx="8291520" cy="5351400"/>
        </p:xfrm>
        <a:graphic>
          <a:graphicData uri="http://schemas.openxmlformats.org/drawingml/2006/table">
            <a:tbl>
              <a:tblPr/>
              <a:tblGrid>
                <a:gridCol w="4259160"/>
                <a:gridCol w="254160"/>
                <a:gridCol w="37782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а развития планировочной структуры территории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 Схемы планирования размещения объектов строительства федераль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 Схемы планирования изменения границ зем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54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ъятие (выкуп) для федеральных нуж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541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 обороны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541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 федеральных энергетических систем и ядерной энерге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541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 федерального транспорта, путей сообщения, информации 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54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но-правовые дейст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541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ые объекты, необходимые для выполнения федеральных полномочий, установленных федеральными зако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сного фо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ного фо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ель особо охраняемых природных территорий федераль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ель об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ель поселений – городов федерального значения – Москвы и Санкт-Петербур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55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206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расположение зон резерв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55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206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как основание для установления границ зон резервирования посредством градостроительной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019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вляются основанием для действий по изменению границ категорий зем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019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для установления измененных границ земель указанных категорий посредством градостроительной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4BB6-34C1-4BB6-B632-492A17818B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Территориальное планирование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на уровне субъекто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413000"/>
          <a:ext cx="8229600" cy="5410080"/>
        </p:xfrm>
        <a:graphic>
          <a:graphicData uri="http://schemas.openxmlformats.org/drawingml/2006/table">
            <a:tbl>
              <a:tblPr/>
              <a:tblGrid>
                <a:gridCol w="3909960"/>
                <a:gridCol w="406440"/>
                <a:gridCol w="39132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а развития планировочной структуры территории субъекта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 Схемы планирования размещения объектов строительства регионального зна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 Схемы планирования изменения границ зем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089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ъятие (выкуп) для региональных нуж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9720" indent="-190440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03089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мобильные и железные дороги региональ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9720" indent="-190440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03089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 инженерно-технической инфраструктуры региональ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3089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но-правовые дейст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9720" indent="-190440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03089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ые объекты, необходимые для выполнения региональных полномочий, установленных зако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2541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ель сельскохозяйственного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1032541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ель особо охраняемых природных территорий региональ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расположение зон резерв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как основание для установления границ зон резервирования посредством градостроительной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вляются основанием для действий по изменению границ  категорий зем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для установления измененных границ земель указанных категорий посредством градостроительной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23B0-3B85-4498-AF2C-12231C396B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Территориальное планирование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на уровне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197000"/>
          <a:ext cx="8229600" cy="5654520"/>
        </p:xfrm>
        <a:graphic>
          <a:graphicData uri="http://schemas.openxmlformats.org/drawingml/2006/table">
            <a:tbl>
              <a:tblPr/>
              <a:tblGrid>
                <a:gridCol w="3911760"/>
                <a:gridCol w="269640"/>
                <a:gridCol w="4048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 Генеральные пл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2440" indent="-268560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ских окру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2440" indent="-268560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 Схемы развития планировочной структуры территории  муниципальных район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ые функциональные з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оны запрещений, огранич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оны резервирования территорий для размещения объектов транспортной, инженерно-технической инфраструктуры для муниципальных нужд (изъятие (выкуп) для муниципальных нуж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ирование размещения объектов, необходимых для выполнения муниципальных полномочий (частно-правовые действ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размещения объектов транспортной, инженерно-технической инфраструктуры (изъятие (выкуп) для муниципальных нуж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размещения иных объектов, необходимых для реализации полномочий (частно-правовые действ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межселенных территориях - границы категории земель промышленности, энергетики, транспорта,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е план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ем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как основание для подготовки правил землепользования и застрой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расположение зон резервирования для установления их границ посредством градостроительной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расположение зон резервирования для установления их границ посредством документации по планировке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67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ются как основание для подготовки документации по градостроительной планировке территории для размещения объектов промышленности на межселенных территор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E3CF-5EE3-4263-BC2C-D6DD9DAE92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равила землепользования и застройки (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8360" y="1595520"/>
          <a:ext cx="8229600" cy="514656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приним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ставительные орг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ания для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план городского округа,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ритор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ницы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ускается подготовка ПЗЗ применительно к частям территории городского округа, поселения с последовательным расширением территориальных границ действия путем внесения в ПЗЗ изменений и дополн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прав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 процед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а правового з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 градостроительных регламентов применительно к территориальным зон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градостроительных регл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разрешенного использования объектов недвиж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ельные параме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каких территорий, земельных участков, объектов градостроительный регламент 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ли лесного фо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ли водного фо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ли особо охраняемых природных тер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ники истории и культуры (объекты недвижим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ники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 algn="just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роги, улицы, трассы инженерно-технических коммуник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A0F5-78B2-4B5A-B9F3-250C58F2F5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Контроль за осуществлением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градострои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39640" y="1549440"/>
          <a:ext cx="8209080" cy="4832280"/>
        </p:xfrm>
        <a:graphic>
          <a:graphicData uri="http://schemas.openxmlformats.org/drawingml/2006/table">
            <a:tbl>
              <a:tblPr/>
              <a:tblGrid>
                <a:gridCol w="5873760"/>
                <a:gridCol w="233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прово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 Государственная экспертиза проектной докум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особо опасные, технически сложные и уникальные объ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роверка её соответствия техническим регламентам, а для уникальных объектов – определение допустимости реализации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йская Феде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 Государственный строительный надзор за соблюдением техн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ламентов в процессе строительства осо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асных, технически сложных и уникальных объ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бъ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ри определении порядка проведения и методобеспечения Российской Федер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 Оценка соответствия в форме подтверждения соответствия техническим регламентам проектной документации объектов, не являющихся особо опасными, технически сложными или уника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цо, ответственное за проектную документацию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экспертная орган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 Общественные обсуждения документов территориального планирования, документации о планировке, правил землепользования и застройки (референдумы, публичные слушания и другие форм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 Выдача разрешения на строительство (утверждённая заказчиком проектная документация проверяется на соответствие градостроительным регламентам и линиям градостроительного регулир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  Выдача разрешения на ввод объектов в эксплуатацию - проверка соответствия градостроительным регламентам и линиям градостроительного регулир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1E56-A14D-430F-B83F-BD00E47983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Изменение коэффициента доступности жилья в России</a:t>
            </a: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90840" y="2081160"/>
          <a:ext cx="5962320" cy="36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2081160"/>
                    <a:ext cx="596232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11280" y="5791320"/>
            <a:ext cx="8280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*Соотношение средней цены стандартной квартиры (54 кв.м.) и среднего годового дохода домохозяйства (3 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A6D4-CC6C-4762-8FCD-3148B8669B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Основные отличия предлагаемой редакции от действующей редакции Градостроительного кодекс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981080"/>
          <a:ext cx="8229600" cy="4472280"/>
        </p:xfrm>
        <a:graphic>
          <a:graphicData uri="http://schemas.openxmlformats.org/drawingml/2006/table">
            <a:tbl>
              <a:tblPr/>
              <a:tblGrid>
                <a:gridCol w="1162080"/>
                <a:gridCol w="7067520"/>
              </a:tblGrid>
              <a:tr h="50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авл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отсутствует в действующей редак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ткое определение предмета законодательства о градостроительной деятельности, его соотношения с земельным, лесным, водным и иными видами законо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дуры прямого действия п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готовке, согласованию и утверждению правовых актов, документации в сфере градостроите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ю общественности и частных собственников объектов недвижимости в принятии градостроительных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рмы, регламентирующие действия по подготовке оснований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ервирования земельных участков для реализации государственных и муниципаль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вода земель из одной категории в друг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динение разрозненных требований в области санитарной, экологической, противопожарной и иных видов безопасности в сводные технические регламенты по размещению, проектированию и строительству объектов недвижимости и усиление ответственности за их соблю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ение ответственности государства за проектирование и строительство особо опасных, технически сложных и уникальны объектов (госэкспертиза проектной документации, надзор за строительств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ответственности участников проектной и строительной деятельности за соблюдение технических реглам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рисков ответственности в строительстве и проектировании, аттестация в С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5040" indent="-285840">
                        <a:buClr>
                          <a:srgbClr val="000000"/>
                        </a:buClr>
                        <a:buSzPct val="80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ущественная ответственность за причинение вр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ходные положения с установленными сроками разработки правовых актов, документации, а также юридическими последствиями невыполнения таких сроков (проект федерального закона «О введении в действие Градостроительного кодекса РФ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39B7-F6B5-4430-B0E8-7AB15D1BB3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оследовательность реализации норм Градостроительного кодекс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981080"/>
          <a:ext cx="8229600" cy="3911760"/>
        </p:xfrm>
        <a:graphic>
          <a:graphicData uri="http://schemas.openxmlformats.org/drawingml/2006/table">
            <a:tbl>
              <a:tblPr/>
              <a:tblGrid>
                <a:gridCol w="5499000"/>
                <a:gridCol w="273060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я по территориальному планированию и градостроительному регулирован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и наступления правовых последствий (со дня вступления Кодекса в силу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ринятие актов территориального планирования Российской Федерации, субъектов Российской Федерации, муниципальных рай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инятие правил землепользования и застройки поселений, городских окру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EFB0-8F6A-4C5C-A1B1-0E28F4C56D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роект федерального закона «Об инвестиционных соглашениях в сфере коммунального обслужи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– создать условия для привлечения частных инвесторов в сферу управления и развития объектов муниципальной коммунальной инфраструктуры и увеличение объемов жилищного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ирование отношений муниципалитетов и инвесторов по  заключению инвестиционных соглашений с целью использования и создания нового муниципального имущества в сфе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прав и обязанностей сторон по инвестиционному соглашению, а также условий по обеспечению непрерывности предоставления коммунальных услуг с целью обеспечения гарантий прав и законных интересов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порядка проведения торгов с целью заключения инвестиционного соглашения и условий заключения соглашений без проведения тор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A08D-3702-4F3F-8EBD-4D2E1144CF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роект федерального закона «Об общих принципах регулирования тарифов организаций коммунального комплек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ы государственной власти субъект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беспечивают регулирование тарифов на тепловую и электрическую энерг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 соответствии с действующим законодательством в области электроэнергети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еспечивают регулирование тарифов на товары и услуги организации коммунального комплекса, в случае если потребители, подключенные к этим системам, находятся в границах нескольких городских округов или городских, сельских поселений, расположенных на территории нескольких муниципальных район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беспечивают утверждение производственных программ регулируемых ими организаций коммунального комп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5DE3-9668-4B0A-8AFB-50DA584178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роект федерального закона «Об общих принципах регулирования тарифов организаций коммунального комплек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рганы местного само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спечивают регулирование тарифов на товары и услуги организации коммунального комплекса, эксплуатирующие системы водоснабжения, водоотведения и очистки сточных вод, утилизации (захоронение) твердых бытовых отходов, если более 80% потребителей товаров и услуг, подключенных к этим системам, находятся в пределах одного муниципального образован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местного самоуправления обеспечивают регулирование тарифов на услуги организаций коммунального комплекса по подключению новых потребителей к системам коммунальной инфраструктуры муниципальных образований, а также устанавливают инвестиционные надбавки, которые учитываются при расчете тарифов для потребителей коммунальных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003A-FB94-433C-BE3C-1A6851474D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Модели преобразований унитар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50920" y="2205000"/>
            <a:ext cx="8640720" cy="3456000"/>
            <a:chOff x="250920" y="2205000"/>
            <a:chExt cx="8640720" cy="3456000"/>
          </a:xfrm>
        </p:grpSpPr>
        <p:sp>
          <p:nvSpPr>
            <p:cNvPr id="287" name=""/>
            <p:cNvSpPr/>
            <p:nvPr/>
          </p:nvSpPr>
          <p:spPr>
            <a:xfrm>
              <a:off x="250920" y="3068640"/>
              <a:ext cx="271116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Акционирование коммунальных предприятий с возможной частичной  продажей акций  при сохранении контрольного пакета у муниципалитет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3840" y="2205000"/>
              <a:ext cx="1845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одель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30560" y="3068640"/>
              <a:ext cx="261756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Муниципальная собственность на основные фонды, частное управление и инвестиции (концессии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35280" y="2205000"/>
              <a:ext cx="1736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одель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1640" y="2997360"/>
              <a:ext cx="2880000" cy="26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Приватизация путем продажи всех или контрольного пакета акций акционированного коммунального предприятия частному инвестор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0560" y="2205000"/>
              <a:ext cx="15890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одель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D789-BAB2-4C37-9909-8F5718A6A1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Формы государственно-частного партнерства и распределения ри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671480"/>
                <a:gridCol w="1602000"/>
                <a:gridCol w="1554120"/>
                <a:gridCol w="1808280"/>
                <a:gridCol w="15937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сплуа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усл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 на акти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ный контра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кт на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 аре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ый 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7E87-2F7A-4B68-B734-13C70F164C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Основные проблемы взаимодействия публичной власти и бизнеса в водном сект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нансовые рис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говые обя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рифное рег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юджет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сутствие договорной прак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412A-1E1D-40C6-9A4E-B3F4CB57CD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Реформа системы тарифного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ак регул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ование носит целевой характер (производственная и инвестиционная програм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риф устанавливается на фиксированны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ются условия  для автоматического пересмотра тариф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чет  тарифа максимально формализован (операционная ч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E10E-0928-4692-A3C6-5CCAD5A3EC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Развитие инфраструктуры</a:t>
            </a:r>
            <a:br>
              <a:rPr sz="3600"/>
            </a:br>
            <a:r>
              <a:rPr b="1" lang="ru-RU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Финанс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1628640"/>
          <a:ext cx="8229600" cy="3878280"/>
        </p:xfrm>
        <a:graphic>
          <a:graphicData uri="http://schemas.openxmlformats.org/drawingml/2006/table">
            <a:tbl>
              <a:tblPr/>
              <a:tblGrid>
                <a:gridCol w="2173320"/>
                <a:gridCol w="1652400"/>
                <a:gridCol w="2152800"/>
                <a:gridCol w="22510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застройщик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потребителями коммунальных услу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местным бюдже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 локальных внутриплощадочных инженерных с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женерное обеспечение земельных участков (магистральные и разводящие с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и модернизация имеющихся инфраструктур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468360" y="551664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ТП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– плата за подключение рассчитываемая как тариф на подключение умноженный на заявленную мощность объекта строительства,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– собственные расходы застройщика,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Т -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тариф на коммунальную услугу,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Б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- бюджет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B030-B658-4350-AD3B-AE9BF76E23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= 100%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77760" y="2279520"/>
          <a:ext cx="718668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2279520"/>
                    <a:ext cx="7186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47D1-3221-4421-8037-62E4F28E63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Развитие инфраструктуры</a:t>
            </a:r>
            <a:br>
              <a:rPr sz="3600"/>
            </a:br>
            <a:r>
              <a:rPr b="1" lang="ru-RU" sz="3600" spc="-1" strike="noStrike">
                <a:solidFill>
                  <a:srgbClr val="9999cc"/>
                </a:solidFill>
                <a:latin typeface="Arial"/>
                <a:ea typeface="Times New Roman"/>
              </a:rPr>
              <a:t>Плата за под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ывается как тариф, умноженный на заявленную мощность объекта жилищного стро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 на подключение является регулируемым и устанавливается органами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я от платы за подключение расходуются исключительно на развитие коммунальной инфра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я от платы за подключение являются доходами коммунальны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8FCE-C659-492C-8226-B8AF39A687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Жилищные потребности населения в 2003 г.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(в % от всех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1413000"/>
          <a:ext cx="756108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5610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4360" y="3645000"/>
          <a:ext cx="7416720" cy="262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645000"/>
                    <a:ext cx="741672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5958-8F69-4FDD-BCDC-FF32002D4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Потребность и спрос населения на жилье и жилищные кредиты по условиям 2003 г. 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(в ценах 2003 г.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81080"/>
          <a:ext cx="8291520" cy="3886200"/>
        </p:xfrm>
        <a:graphic>
          <a:graphicData uri="http://schemas.openxmlformats.org/drawingml/2006/table">
            <a:tbl>
              <a:tblPr/>
              <a:tblGrid>
                <a:gridCol w="2077920"/>
                <a:gridCol w="681120"/>
                <a:gridCol w="687600"/>
                <a:gridCol w="682560"/>
                <a:gridCol w="684000"/>
                <a:gridCol w="682560"/>
                <a:gridCol w="684360"/>
                <a:gridCol w="682560"/>
                <a:gridCol w="684360"/>
                <a:gridCol w="744480"/>
              </a:tblGrid>
              <a:tr h="33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требность в жил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ос на жил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39640" y="616572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2AB7-6809-4C65-A86E-D90C22498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Times New Roman"/>
              </a:rPr>
              <a:t>Возможности развития инженерно-технической инфраструктуры в городах по обеспечению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58920" y="1916280"/>
          <a:ext cx="604836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60483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B104-A735-4556-B282-BDAB14265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Статистика ответов представителей 45 крупнейших строительных компаний на вопрос: «Какие, на Ваш взгляд, существуют основные препятствия для увеличения Вашей компанией объемов строительства жилья?» </a:t>
            </a:r>
            <a:br>
              <a:rPr sz="1800"/>
            </a:b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( 9 обозначает наивысший приоритет, 8 – следующий по значению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981080"/>
            <a:ext cx="7158240" cy="444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FF50-6D08-48E1-9528-4F2023DEB1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Статистика ответов представителей 45 крупнейших строительных компаний на вопрос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?»</a:t>
            </a:r>
            <a:br>
              <a:rPr sz="1800"/>
            </a:b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( 6 обозначает наивысший приоритет, 5 – следующий по значению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7388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39E7-EE51-466F-BD3F-80090239A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7:13:47Z</dcterms:created>
  <dc:creator>zemtsovskaya</dc:creator>
  <dc:description/>
  <dc:language>en-US</dc:language>
  <cp:lastModifiedBy>Veronika Sharova</cp:lastModifiedBy>
  <dcterms:modified xsi:type="dcterms:W3CDTF">2004-11-23T13:19:46Z</dcterms:modified>
  <cp:revision>5</cp:revision>
  <dc:subject/>
  <dc:title>ЖИЛИЩНАЯ РЕФОРМА В РОССИИ: СЛЕДУЮЩИЕ ШАГИ И ОСТАЮЩИЕСЯ ВЫЗОВЫ</dc:title>
</cp:coreProperties>
</file>