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07FD-FEED-4AB4-989E-5E0B7289C3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ытость, неопределенность терминов «Лучшая практика», «Кодекс лучшей практ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ум три вари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третьего компон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сть ввести сверху даже стандар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ка ВМР по отдельным направлениям (отдельным субпроект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ость взгля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&amp;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ышле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одного суб-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агностик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лючевых объектов модер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деление принципов которые в основу Концеп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е положения Станда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не в оправдание присутствия на семин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говорить о серьезной стратегии, не понимая огранич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 технологии какими бы самодостаточными модулями мы их не видели не могут рассматриваться вне связи с финансовой моделью функционирования региона, которая, в свою очередь должна быть зависима от стратегии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м в терминах огранич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TA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технологии, которые дают ограничения, не только как надо, но и как нельзя. Как нельзя планировать долг на инвестиционные цели в рамках стратегического пл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авила оценки внед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ва уровня ( в т.ч законодательны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«пакетная» логика для ключевых по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р практически формализация результатов оказания общественных услуг и выражение количества и качества оказанных услуг не в объеме израсходованных на эти цели средств, а в конкретных объективно измеряемых индикатор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здесь мы неизбежно упираемся в качество и своевременность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999A-283D-480A-BD02-5FC7C6FEF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77796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ы не понимаем механистически. Недостаточно «включение» отдельных бл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ое планирование будет гораздо менее чужеродной идеей при иной системе управления, а соответственно иной  функциональной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слайде представлена упрощенная структура управления бюджетной отраслью:Пунктирной линией обозначены субъекты внешней среды (т.е –субъекты рынка). Главное противоречие, которое существует сегодня –  конфликт интересов субъектов рынка и государственных организаций, что безусловно препятствует достижению главной стратегической цели государственной власти. Картина которую мы имеем сегодня отличается тем, что огромная махина в виде  надстройки над производственной сферой не способна не только управлять производственной сферой, но даже просто развернуться, поскольку не сбалансирована внутри и все колесики вертятся в разные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ОМУ ПОСВЯЩЕН ПРОЕКТ реструктуризации госсектора и совершенствованию управления расхо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тому, что иная система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3100320"/>
            <a:ext cx="126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убъекты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446720" y="2481120"/>
            <a:ext cx="1036440" cy="827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селение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треб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юдже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Сначала об этом несколько тезисов, базируясь на мнениях, высказанных западными экспертами, работающими в рамках проекта. Это важно идеологически нельзя об этом не сказать в попытке обобщенного взгляда на конкретные субпроекты, о которых я упомяну ни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Эти вопросы иллюстрируют взаимосвязь тех двух понятий, которые на предыдущем слайде. Второй вопрос в большей степенью со стратегией, первый и третий с правилами, с финансовым менеджм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То с чем столкнулись, осознали не в одном суб-проекте и то, что в той или иной степени пытаемся решить, усовершенствовать развить, перестро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</a:rPr>
              <a:t>В рамках проекта не только выявление проблем но и попытка их решения в тех или иных субпрое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гляд Минфина России на содержание и темпы реформ в этой ч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ющий субпроект в Проек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Это взгляд постороннего. Вероятно можно спорить. И да и нет. Без закона нет действия,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м образов в трех регион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цветным – на следующем слай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орма не ограничива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TAP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но в нем и в связанных с ним проектах следует отметить нескорлько взаимосвязанных ключевых мероприятий-полож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7427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360" y="1905120"/>
            <a:ext cx="7467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ект «Техническое содействие реформе бюджетной системы на региональном уровне»: внедрение новых стандартов управления общественными финанс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53341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.К.Панов, Некоммерческий фонд реструктуризации предприятий и развития финансовых институ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В чем новизна</a:t>
            </a: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 Что внедрять</a:t>
            </a:r>
            <a:r>
              <a:rPr b="1" lang="en-US" sz="2800" spc="-1" strike="noStrike">
                <a:solidFill>
                  <a:srgbClr val="000000"/>
                </a:solidFill>
                <a:latin typeface="Microsoft Sans Serif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2001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 «расширенного мониторинг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учшая прак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048120" y="4229280"/>
            <a:ext cx="1371600" cy="79992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23880" y="4229280"/>
            <a:ext cx="1371600" cy="79992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4229280"/>
            <a:ext cx="1371600" cy="799920"/>
          </a:xfrm>
          <a:prstGeom prst="flowChart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048120" y="3428280"/>
            <a:ext cx="1371600" cy="80028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72000" y="3428280"/>
            <a:ext cx="1371600" cy="80028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572000" y="2971800"/>
            <a:ext cx="1371600" cy="4572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227240"/>
            <a:ext cx="9144000" cy="35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60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295280"/>
            <a:ext cx="2819160" cy="1524240"/>
          </a:xfrm>
          <a:prstGeom prst="wedgeRectCallout">
            <a:avLst>
              <a:gd name="adj1" fmla="val -47972"/>
              <a:gd name="adj2" fmla="val 58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декс наилучшей практики в терминах 3-го компонент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T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048120"/>
            <a:ext cx="2971800" cy="1447560"/>
          </a:xfrm>
          <a:prstGeom prst="wedgeRectCallout">
            <a:avLst>
              <a:gd name="adj1" fmla="val -58333"/>
              <a:gd name="adj2" fmla="val 16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овые стандарты управления, разработанные в рамках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TA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789800">
            <a:off x="2285640" y="5562000"/>
            <a:ext cx="3579840" cy="1066680"/>
          </a:xfrm>
          <a:prstGeom prst="wedgeRectCallout">
            <a:avLst>
              <a:gd name="adj1" fmla="val -41449"/>
              <a:gd name="adj2" fmla="val 103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йствующая нормативно-правовая база и существующая прак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62280" y="2971800"/>
            <a:ext cx="75960" cy="1219320"/>
          </a:xfrm>
          <a:custGeom>
            <a:avLst/>
            <a:gdLst>
              <a:gd name="textAreaLeft" fmla="*/ 48600 w 75960"/>
              <a:gd name="textAreaRight" fmla="*/ 76320 w 759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022480"/>
            <a:ext cx="298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5766840"/>
            <a:ext cx="810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967520" cy="590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оведен анализ существующей практики и нормативно-правовой б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Предложены новые стандарты управления (правила, процедуры) в тех или иных подсистемах системы управления общественными финансами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например, подсистемы управления долгом, финансового планирования, бюджетных закуп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едложены дополнительные процедуры, соответствующие уровню «Кодекса наилучшей практики» (принимается наиболее прогрессивными регионами на заведомо добровольной осно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разрабатываемого «продукта» (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g&amp;play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) в рамках каждого из субпроектов компонента «техническая помощь»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600200"/>
            <a:ext cx="2286000" cy="10666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200400"/>
            <a:ext cx="2286000" cy="91440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2743200"/>
            <a:ext cx="2514600" cy="106668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4495680"/>
            <a:ext cx="3124440" cy="129564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09120" y="4114080"/>
            <a:ext cx="2286000" cy="1676520"/>
          </a:xfrm>
          <a:prstGeom prst="bevel">
            <a:avLst>
              <a:gd name="adj" fmla="val 12500"/>
            </a:avLst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8288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цеп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4640" y="3352680"/>
            <a:ext cx="1861560" cy="4597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4267080"/>
            <a:ext cx="29718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рматив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4917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724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295596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МР  Минфин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1600200"/>
            <a:ext cx="2438280" cy="9144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676520"/>
            <a:ext cx="21571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екс лучш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26668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029200"/>
            <a:ext cx="1600200" cy="380880"/>
          </a:xfrm>
          <a:prstGeom prst="leftRightArrow">
            <a:avLst>
              <a:gd name="adj1" fmla="val 50000"/>
              <a:gd name="adj2" fmla="val 836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81280"/>
            <a:ext cx="1600200" cy="1219320"/>
          </a:xfrm>
          <a:prstGeom prst="line">
            <a:avLst/>
          </a:prstGeom>
          <a:ln w="174600">
            <a:solidFill>
              <a:srgbClr val="bbe0e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572000" y="3657240"/>
            <a:ext cx="1447920" cy="304920"/>
          </a:xfrm>
          <a:prstGeom prst="line">
            <a:avLst/>
          </a:prstGeom>
          <a:ln w="16812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2895480"/>
            <a:ext cx="7904160" cy="3548160"/>
          </a:xfrm>
          <a:custGeom>
            <a:avLst/>
            <a:gdLst/>
            <a:ahLst/>
            <a:rect l="l" t="t" r="r" b="b"/>
            <a:pathLst>
              <a:path w="4979" h="2235">
                <a:moveTo>
                  <a:pt x="1164" y="2151"/>
                </a:moveTo>
                <a:cubicBezTo>
                  <a:pt x="1057" y="2115"/>
                  <a:pt x="938" y="2131"/>
                  <a:pt x="828" y="2103"/>
                </a:cubicBezTo>
                <a:cubicBezTo>
                  <a:pt x="751" y="2052"/>
                  <a:pt x="687" y="2012"/>
                  <a:pt x="600" y="1983"/>
                </a:cubicBezTo>
                <a:cubicBezTo>
                  <a:pt x="584" y="1971"/>
                  <a:pt x="569" y="1957"/>
                  <a:pt x="552" y="1947"/>
                </a:cubicBezTo>
                <a:cubicBezTo>
                  <a:pt x="533" y="1937"/>
                  <a:pt x="510" y="1934"/>
                  <a:pt x="492" y="1923"/>
                </a:cubicBezTo>
                <a:cubicBezTo>
                  <a:pt x="478" y="1914"/>
                  <a:pt x="470" y="1897"/>
                  <a:pt x="456" y="1887"/>
                </a:cubicBezTo>
                <a:cubicBezTo>
                  <a:pt x="451" y="1884"/>
                  <a:pt x="345" y="1830"/>
                  <a:pt x="336" y="1827"/>
                </a:cubicBezTo>
                <a:cubicBezTo>
                  <a:pt x="305" y="1815"/>
                  <a:pt x="271" y="1813"/>
                  <a:pt x="240" y="1803"/>
                </a:cubicBezTo>
                <a:cubicBezTo>
                  <a:pt x="183" y="1718"/>
                  <a:pt x="129" y="1630"/>
                  <a:pt x="84" y="1539"/>
                </a:cubicBezTo>
                <a:cubicBezTo>
                  <a:pt x="57" y="1484"/>
                  <a:pt x="67" y="1417"/>
                  <a:pt x="48" y="1359"/>
                </a:cubicBezTo>
                <a:cubicBezTo>
                  <a:pt x="31" y="1307"/>
                  <a:pt x="17" y="1255"/>
                  <a:pt x="0" y="1203"/>
                </a:cubicBezTo>
                <a:cubicBezTo>
                  <a:pt x="48" y="869"/>
                  <a:pt x="69" y="962"/>
                  <a:pt x="24" y="783"/>
                </a:cubicBezTo>
                <a:cubicBezTo>
                  <a:pt x="28" y="667"/>
                  <a:pt x="29" y="551"/>
                  <a:pt x="36" y="435"/>
                </a:cubicBezTo>
                <a:cubicBezTo>
                  <a:pt x="48" y="245"/>
                  <a:pt x="291" y="108"/>
                  <a:pt x="456" y="75"/>
                </a:cubicBezTo>
                <a:cubicBezTo>
                  <a:pt x="569" y="0"/>
                  <a:pt x="1264" y="47"/>
                  <a:pt x="1416" y="51"/>
                </a:cubicBezTo>
                <a:cubicBezTo>
                  <a:pt x="1502" y="80"/>
                  <a:pt x="1585" y="48"/>
                  <a:pt x="1668" y="27"/>
                </a:cubicBezTo>
                <a:cubicBezTo>
                  <a:pt x="1768" y="31"/>
                  <a:pt x="1868" y="32"/>
                  <a:pt x="1968" y="39"/>
                </a:cubicBezTo>
                <a:cubicBezTo>
                  <a:pt x="2095" y="49"/>
                  <a:pt x="2215" y="81"/>
                  <a:pt x="2340" y="99"/>
                </a:cubicBezTo>
                <a:cubicBezTo>
                  <a:pt x="2384" y="116"/>
                  <a:pt x="2445" y="131"/>
                  <a:pt x="2484" y="159"/>
                </a:cubicBezTo>
                <a:cubicBezTo>
                  <a:pt x="2530" y="192"/>
                  <a:pt x="2515" y="196"/>
                  <a:pt x="2544" y="243"/>
                </a:cubicBezTo>
                <a:cubicBezTo>
                  <a:pt x="2575" y="293"/>
                  <a:pt x="2632" y="344"/>
                  <a:pt x="2688" y="363"/>
                </a:cubicBezTo>
                <a:cubicBezTo>
                  <a:pt x="2700" y="423"/>
                  <a:pt x="2697" y="563"/>
                  <a:pt x="2748" y="603"/>
                </a:cubicBezTo>
                <a:cubicBezTo>
                  <a:pt x="2769" y="620"/>
                  <a:pt x="2798" y="624"/>
                  <a:pt x="2820" y="639"/>
                </a:cubicBezTo>
                <a:cubicBezTo>
                  <a:pt x="2859" y="698"/>
                  <a:pt x="2824" y="658"/>
                  <a:pt x="2892" y="699"/>
                </a:cubicBezTo>
                <a:cubicBezTo>
                  <a:pt x="3003" y="766"/>
                  <a:pt x="3004" y="765"/>
                  <a:pt x="3144" y="783"/>
                </a:cubicBezTo>
                <a:cubicBezTo>
                  <a:pt x="3479" y="917"/>
                  <a:pt x="4224" y="867"/>
                  <a:pt x="4224" y="867"/>
                </a:cubicBezTo>
                <a:cubicBezTo>
                  <a:pt x="4330" y="856"/>
                  <a:pt x="4419" y="858"/>
                  <a:pt x="4524" y="879"/>
                </a:cubicBezTo>
                <a:cubicBezTo>
                  <a:pt x="4599" y="916"/>
                  <a:pt x="4669" y="929"/>
                  <a:pt x="4752" y="939"/>
                </a:cubicBezTo>
                <a:cubicBezTo>
                  <a:pt x="4780" y="948"/>
                  <a:pt x="4810" y="950"/>
                  <a:pt x="4836" y="963"/>
                </a:cubicBezTo>
                <a:cubicBezTo>
                  <a:pt x="4862" y="976"/>
                  <a:pt x="4908" y="1011"/>
                  <a:pt x="4908" y="1011"/>
                </a:cubicBezTo>
                <a:cubicBezTo>
                  <a:pt x="4927" y="1067"/>
                  <a:pt x="4937" y="1108"/>
                  <a:pt x="4968" y="1155"/>
                </a:cubicBezTo>
                <a:cubicBezTo>
                  <a:pt x="4964" y="1303"/>
                  <a:pt x="4979" y="1453"/>
                  <a:pt x="4956" y="1599"/>
                </a:cubicBezTo>
                <a:cubicBezTo>
                  <a:pt x="4953" y="1619"/>
                  <a:pt x="4914" y="1601"/>
                  <a:pt x="4896" y="1611"/>
                </a:cubicBezTo>
                <a:cubicBezTo>
                  <a:pt x="4883" y="1618"/>
                  <a:pt x="4880" y="1635"/>
                  <a:pt x="4872" y="1647"/>
                </a:cubicBezTo>
                <a:cubicBezTo>
                  <a:pt x="4859" y="1744"/>
                  <a:pt x="4865" y="1831"/>
                  <a:pt x="4812" y="1911"/>
                </a:cubicBezTo>
                <a:cubicBezTo>
                  <a:pt x="4780" y="2039"/>
                  <a:pt x="4682" y="2147"/>
                  <a:pt x="4560" y="2199"/>
                </a:cubicBezTo>
                <a:cubicBezTo>
                  <a:pt x="4545" y="2205"/>
                  <a:pt x="4527" y="2205"/>
                  <a:pt x="4512" y="2211"/>
                </a:cubicBezTo>
                <a:cubicBezTo>
                  <a:pt x="4495" y="2217"/>
                  <a:pt x="4480" y="2227"/>
                  <a:pt x="4464" y="2235"/>
                </a:cubicBezTo>
                <a:cubicBezTo>
                  <a:pt x="4344" y="2231"/>
                  <a:pt x="4224" y="2230"/>
                  <a:pt x="4104" y="2223"/>
                </a:cubicBezTo>
                <a:cubicBezTo>
                  <a:pt x="3974" y="2215"/>
                  <a:pt x="3841" y="2155"/>
                  <a:pt x="3708" y="2151"/>
                </a:cubicBezTo>
                <a:cubicBezTo>
                  <a:pt x="3484" y="2144"/>
                  <a:pt x="3260" y="2143"/>
                  <a:pt x="3036" y="2139"/>
                </a:cubicBezTo>
                <a:cubicBezTo>
                  <a:pt x="2906" y="2113"/>
                  <a:pt x="2772" y="2112"/>
                  <a:pt x="2640" y="2103"/>
                </a:cubicBezTo>
                <a:cubicBezTo>
                  <a:pt x="2476" y="2112"/>
                  <a:pt x="2312" y="2114"/>
                  <a:pt x="2148" y="2127"/>
                </a:cubicBezTo>
                <a:cubicBezTo>
                  <a:pt x="2106" y="2130"/>
                  <a:pt x="2068" y="2152"/>
                  <a:pt x="2028" y="2163"/>
                </a:cubicBezTo>
                <a:cubicBezTo>
                  <a:pt x="1965" y="2180"/>
                  <a:pt x="1900" y="2186"/>
                  <a:pt x="1836" y="2199"/>
                </a:cubicBezTo>
                <a:cubicBezTo>
                  <a:pt x="1612" y="2184"/>
                  <a:pt x="1388" y="2170"/>
                  <a:pt x="1164" y="2151"/>
                </a:cubicBezTo>
                <a:close/>
              </a:path>
            </a:pathLst>
          </a:custGeom>
          <a:noFill/>
          <a:ln w="572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достатки практики управления дол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сутствие управления условными обязательств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сутствие процедур управления рис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изкий уровень аналитических возможностей информационн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полный учет обязательст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правильная консолидация д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сутствие формализованных процедур принятия решений о заимствова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тсутствие связи информационных систем с системами бюджетного учета и планир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знообразие форм неформального учета и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бъекты модерниз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учета прямых и условных обязатель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анализа информ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управления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отчетности и раскрыт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принятия решений о заимствов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ституциональн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и место Стандар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71400"/>
            <a:ext cx="392256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дол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его объё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годный объём его обслужи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жегодный прирос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ий состав информации Долговой кни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7920" y="2500200"/>
            <a:ext cx="390852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мов упра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ятия реш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дения детального учё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правления рис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2600" y="1581120"/>
            <a:ext cx="387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определяет Б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09960" y="1573200"/>
            <a:ext cx="387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не определя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16840" y="4427640"/>
            <a:ext cx="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62640" y="1481040"/>
            <a:ext cx="0" cy="4556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0840" y="2300400"/>
            <a:ext cx="837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88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инципы управления долгом и условными обязательствам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в основе Концеп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ение объема долговых обязательств на экономически безопасном уровне, с учетом всех возможных рис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нота исполнения долговых обя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евременность исполнения долговых и иных обя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изация стоимости долговых обя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зрачность управления долгом и иными обязательствам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номически безопасный уровень дол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9600" y="120780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623880">
              <a:spcBef>
                <a:spcPts val="1624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зможность исполнение и долговых и иных принятых на себя бюджетных обязатель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-536760">
              <a:spcBef>
                <a:spcPts val="1624"/>
              </a:spcBef>
              <a:buClr>
                <a:srgbClr val="3333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ланирование предусматривает обслуживание и погашение долга исключительно за счёт доходов бюджета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2235240" indent="-531720">
              <a:spcBef>
                <a:spcPts val="1624"/>
              </a:spcBef>
              <a:buClr>
                <a:srgbClr val="33cc33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нцепция долговой емкости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+ включение в принятие решений просроченной кредиторской задолжен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4367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Долговая ёмк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305080" y="2058840"/>
            <a:ext cx="1450800" cy="116712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43480" y="2203560"/>
            <a:ext cx="2678040" cy="1535040"/>
          </a:xfrm>
          <a:prstGeom prst="wedgeRoundRectCallout">
            <a:avLst>
              <a:gd name="adj1" fmla="val -40754"/>
              <a:gd name="adj2" fmla="val 110495"/>
              <a:gd name="adj3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Долговая ёмк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2305080" y="2058480"/>
            <a:ext cx="1450800" cy="3729240"/>
          </a:xfrm>
          <a:prstGeom prst="rect">
            <a:avLst/>
          </a:prstGeom>
          <a:solidFill>
            <a:srgbClr val="66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4346640" y="3250800"/>
            <a:ext cx="1450800" cy="253692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кущ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518 4.10405E-006 L -0.01094 4.10405E-006 E">
                                      <p:cBhvr>
                                        <p:cTn id="6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81481E-006 L -3.61111E-006 0.33333 E">
                                      <p:cBhvr>
                                        <p:cTn id="16" dur="3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839000" y="1225440"/>
            <a:ext cx="784440" cy="2105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41600" y="610092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11440" y="2241720"/>
            <a:ext cx="784440" cy="1089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19320" y="4210200"/>
            <a:ext cx="79380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5160" y="5083200"/>
            <a:ext cx="784080" cy="5954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46640" y="1514520"/>
            <a:ext cx="784440" cy="1816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40200" y="2009880"/>
            <a:ext cx="784440" cy="1320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19320" y="3257640"/>
            <a:ext cx="77940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19320" y="3543480"/>
            <a:ext cx="797040" cy="266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19320" y="3817800"/>
            <a:ext cx="784080" cy="392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4000" y="0"/>
            <a:ext cx="847548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гашение уже принятых обязатель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03520" y="1108080"/>
            <a:ext cx="528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53000" y="76032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86440" y="76032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88200" y="76032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80200" y="76032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2760" y="80964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2920" y="240660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лговая ем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20000" y="2108160"/>
            <a:ext cx="84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48440" y="320760"/>
            <a:ext cx="8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1120" y="364320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копленный дол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2520" y="4903920"/>
            <a:ext cx="181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осроченная кредито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6600" y="4929120"/>
            <a:ext cx="784440" cy="158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5160" y="4770360"/>
            <a:ext cx="784080" cy="158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6600" y="4599000"/>
            <a:ext cx="784440" cy="171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5160" y="4587840"/>
            <a:ext cx="784080" cy="1089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19320" y="3252960"/>
            <a:ext cx="798480" cy="11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2000" y="5799240"/>
            <a:ext cx="231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жидаемая ответственность по гаран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41600" y="617868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1600" y="625644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41600" y="633240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3040" y="6100920"/>
            <a:ext cx="784440" cy="314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115 L 0.31215 -0.00115 C 0.4526 -0.00115 0.62552 0.03773 0.62552 0.06968 L 0.62552 0.14074 E">
                                      <p:cBhvr>
                                        <p:cTn id="28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0.00069 L 0.21962 0.00069 C 0.3184 0.00069 0.44028 0.02939 0.44028 0.05277 L 0.44028 0.10602 E">
                                      <p:cBhvr>
                                        <p:cTn id="30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69 L 0.14861 0.00069 C 0.2151 0.00069 0.29757 0.00949 0.29757 0.01713 L 0.29757 0.03402 E">
                                      <p:cBhvr>
                                        <p:cTn id="32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301 L 0.15208 0.00347 E">
                                      <p:cBhvr>
                                        <p:cTn id="34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08 0.00347 L 0.15208 -0.15764 E">
                                      <p:cBhvr>
                                        <p:cTn id="37" dur="3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757 0.03403 L 0.29757 -0.1243 E">
                                      <p:cBhvr>
                                        <p:cTn id="39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028 0.10602 L 0.43975 -0.06875 E">
                                      <p:cBhvr>
                                        <p:cTn id="41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552 0.14074 L 0.62569 -0.02963 E">
                                      <p:cBhvr>
                                        <p:cTn id="43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85185E-006 L 0.3125 1.85185E-006 C 0.4526 1.85185E-006 0.625 0.03611 0.625 0.06597 L 0.625 0.13194 E">
                                      <p:cBhvr>
                                        <p:cTn id="50" dur="3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22222E-006 L 0.21962 -2.22222E-006 C 0.31753 -2.22222E-006 0.43923 0.02986 0.43923 0.05463 L 0.43923 0.10926 E">
                                      <p:cBhvr>
                                        <p:cTn id="52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46 L 0.1467 0.00046 C 0.21267 0.00046 0.29444 0.02361 0.29444 0.04329 L 0.29444 0.08611 E">
                                      <p:cBhvr>
                                        <p:cTn id="54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5208 2.96296E-006 E">
                                      <p:cBhvr>
                                        <p:cTn id="56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5 0.13194 L 0.62448 -0.24884 E">
                                      <p:cBhvr>
                                        <p:cTn id="59" dur="3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924 0.10926 L 0.43924 -0.27014 E">
                                      <p:cBhvr>
                                        <p:cTn id="61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445 0.08612 L 0.29566 -0.30995 E">
                                      <p:cBhvr>
                                        <p:cTn id="63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08 2.96296E-006 L 0.15104 -0.37361 E">
                                      <p:cBhvr>
                                        <p:cTn id="65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29011 1.11111E-006 C 0.42032 1.11111E-006 0.58091 0.00949 0.58091 0.01736 L 0.58091 0.03495 E">
                                      <p:cBhvr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0.1974 -1.48148E-006 C 0.28594 -1.48148E-006 0.39497 0.00648 0.39497 0.01181 L 0.39497 0.02361 E">
                                      <p:cBhvr>
                                        <p:cTn id="7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0.12518 -4.07407E-006 C 0.18125 -4.07407E-006 0.25035 0.00324 0.25035 0.00602 L 0.25035 0.01227 E">
                                      <p:cBhvr>
                                        <p:cTn id="75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0.10695 0.00115 E">
                                      <p:cBhvr>
                                        <p:cTn id="7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95 0.00115 L 0.10695 -0.56274 E">
                                      <p:cBhvr>
                                        <p:cTn id="80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035 0.01227 L 0.25122 -0.51481 E">
                                      <p:cBhvr>
                                        <p:cTn id="8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497 0.02361 L 0.39497 -0.48518 E">
                                      <p:cBhvr>
                                        <p:cTn id="8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091 0.03495 L 0.58004 -0.48056 E">
                                      <p:cBhvr>
                                        <p:cTn id="8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ое план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ственный финансовый менедж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362320"/>
            <a:ext cx="838080" cy="190476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4760"/>
              <a:gd name="textAreaBottom" fmla="*/ 138096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153280" y="2209680"/>
            <a:ext cx="762120" cy="1828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282240 h 1828800"/>
              <a:gd name="textAreaBottom" fmla="*/ 13636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3333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сштабы долговой емкости и просроченной кредиторской задолженност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субъекты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82760" y="2367000"/>
          <a:ext cx="8251560" cy="4068720"/>
        </p:xfrm>
        <a:graphic>
          <a:graphicData uri="http://schemas.openxmlformats.org/drawingml/2006/table">
            <a:tbl>
              <a:tblPr/>
              <a:tblGrid>
                <a:gridCol w="3014640"/>
                <a:gridCol w="1395360"/>
                <a:gridCol w="2011320"/>
                <a:gridCol w="1830240"/>
              </a:tblGrid>
              <a:tr h="12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говая ем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роченная кредит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ая емкость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кредит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=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целом по РФ (млрд. рубл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,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исло субъектов с отрицательными знач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ее (руб. на челове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99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00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сштабы долговой емкости и просроченной кредиторской задолженност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муниципальные образо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82760" y="2367000"/>
          <a:ext cx="8251560" cy="4068720"/>
        </p:xfrm>
        <a:graphic>
          <a:graphicData uri="http://schemas.openxmlformats.org/drawingml/2006/table">
            <a:tbl>
              <a:tblPr/>
              <a:tblGrid>
                <a:gridCol w="3014640"/>
                <a:gridCol w="1395360"/>
                <a:gridCol w="2011320"/>
                <a:gridCol w="1830240"/>
              </a:tblGrid>
              <a:tr h="120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лговая емк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сроченная кредит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говая емкость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-кредит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=1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целом по РФ (млрд. рубл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число субъектов с отрицательными знач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66"/>
                          </a:solidFill>
                          <a:latin typeface="Arial"/>
                          <a:ea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нее (руб. на челове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ование  новых обязательст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00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и привлечения новых обязательст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-53640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финанс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-53640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ирование инвест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-536400">
              <a:spcBef>
                <a:spcPts val="700"/>
              </a:spcBef>
              <a:spcAft>
                <a:spcPts val="10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ирование кассовых разры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 новых обязательст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ребности в рефинансирован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37080" y="3755880"/>
            <a:ext cx="784080" cy="1089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67520" y="2739960"/>
            <a:ext cx="784440" cy="21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273720" y="3044880"/>
            <a:ext cx="784440" cy="1816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970520" y="3524400"/>
            <a:ext cx="784080" cy="13204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9080" y="2449440"/>
            <a:ext cx="528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90800" y="19652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24600" y="196524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1965240"/>
            <a:ext cx="4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18360" y="196524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201456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000" y="3921120"/>
            <a:ext cx="13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лговая ем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110360" y="3622680"/>
            <a:ext cx="84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7080" y="4627440"/>
            <a:ext cx="78408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49880" y="3327480"/>
            <a:ext cx="784440" cy="1533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967520" y="4568760"/>
            <a:ext cx="78444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70520" y="4454640"/>
            <a:ext cx="784080" cy="390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67520" y="4387680"/>
            <a:ext cx="784440" cy="176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37080" y="4025880"/>
            <a:ext cx="784080" cy="6001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70520" y="4292640"/>
            <a:ext cx="78408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108920" y="1590840"/>
            <a:ext cx="84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46640" y="2678040"/>
            <a:ext cx="784440" cy="6526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31080" y="2604960"/>
            <a:ext cx="84240" cy="432000"/>
          </a:xfrm>
          <a:custGeom>
            <a:avLst/>
            <a:gdLst>
              <a:gd name="textAreaLeft" fmla="*/ 0 w 84240"/>
              <a:gd name="textAreaRight" fmla="*/ 30240 w 842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51680" y="26049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3240" y="5418000"/>
            <a:ext cx="723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обходимо провести рефинансирование или досрочное погашение обязательств 3 года на величину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37080" y="394488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69320" y="430704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46640" y="2597040"/>
            <a:ext cx="78444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70520" y="421164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4680" y="2568600"/>
            <a:ext cx="1303560" cy="3044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4680" y="3098880"/>
            <a:ext cx="1303560" cy="16207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е долговой ем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2200" y="3454560"/>
            <a:ext cx="25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лговая емкость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ого года после исполнения уже принят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4680" y="5135400"/>
            <a:ext cx="1303560" cy="47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4680" y="4851360"/>
            <a:ext cx="1303560" cy="279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7920" y="4716360"/>
            <a:ext cx="1298520" cy="13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44680" y="2568600"/>
            <a:ext cx="1303560" cy="1461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4680" y="2719440"/>
            <a:ext cx="1303560" cy="3776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0960" y="4722840"/>
            <a:ext cx="2570040" cy="1065240"/>
          </a:xfrm>
          <a:prstGeom prst="wedgeRoundRectCallout">
            <a:avLst>
              <a:gd name="adj1" fmla="val -59699"/>
              <a:gd name="adj2" fmla="val -107226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гашение  новых долговых обяза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2160" y="3073320"/>
            <a:ext cx="2882880" cy="997200"/>
          </a:xfrm>
          <a:prstGeom prst="wedgeRoundRectCallout">
            <a:avLst>
              <a:gd name="adj1" fmla="val -59250"/>
              <a:gd name="adj2" fmla="val -87740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жидаемая ответственность по новым гарант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7200" y="995400"/>
            <a:ext cx="2685960" cy="1332000"/>
          </a:xfrm>
          <a:prstGeom prst="wedgeRoundRectCallout">
            <a:avLst>
              <a:gd name="adj1" fmla="val -64300"/>
              <a:gd name="adj2" fmla="val 31287"/>
              <a:gd name="adj3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«страховочная» часть; 5-10% в зависимости от точности прог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1149E-006 L 0.06146 4.41149E-006 E">
                                      <p:cBhvr>
                                        <p:cTn id="105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90083E-006 L 0.11441 -0.02781 E">
                                      <p:cBhvr>
                                        <p:cTn id="108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16867E-006 L 0.14757 -0.07692 E">
                                      <p:cBhvr>
                                        <p:cTn id="1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120240"/>
            <a:ext cx="82296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 объёма  инвестиционных заимств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91080" y="3160800"/>
            <a:ext cx="784080" cy="12268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18640" y="2282760"/>
            <a:ext cx="784080" cy="21049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03880" y="2583000"/>
            <a:ext cx="784440" cy="1815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24520" y="2938320"/>
            <a:ext cx="784080" cy="144936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75160" y="2048040"/>
            <a:ext cx="528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36880" y="1646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70320" y="1646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2080" y="1646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64440" y="164628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000" y="1695600"/>
            <a:ext cx="116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7000" y="3463920"/>
            <a:ext cx="13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лговая емк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174080" y="3165480"/>
            <a:ext cx="84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91080" y="4170240"/>
            <a:ext cx="78408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3880" y="3981600"/>
            <a:ext cx="784440" cy="42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18640" y="4111560"/>
            <a:ext cx="784080" cy="276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24520" y="3997440"/>
            <a:ext cx="784080" cy="390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18640" y="3930480"/>
            <a:ext cx="784080" cy="176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91080" y="3568680"/>
            <a:ext cx="784080" cy="6001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4520" y="3835440"/>
            <a:ext cx="78408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55000" y="1271520"/>
            <a:ext cx="84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03880" y="3821040"/>
            <a:ext cx="784440" cy="1555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91080" y="348768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020080" y="384984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03880" y="3741840"/>
            <a:ext cx="78444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4520" y="3754440"/>
            <a:ext cx="784080" cy="77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92520" y="3157560"/>
            <a:ext cx="78408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20080" y="2197080"/>
            <a:ext cx="784080" cy="9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03880" y="2487600"/>
            <a:ext cx="78444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24520" y="2936880"/>
            <a:ext cx="78408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24520" y="2879640"/>
            <a:ext cx="78408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18640" y="2084400"/>
            <a:ext cx="784080" cy="1224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203880" y="2392200"/>
            <a:ext cx="784440" cy="954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7000" y="4297320"/>
            <a:ext cx="23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нвестицион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7000" y="4956120"/>
            <a:ext cx="2307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дпрограмм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97000" y="5386320"/>
            <a:ext cx="2307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дпрограмм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000" y="5772240"/>
            <a:ext cx="23079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Подпрограмма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89280" y="5008680"/>
            <a:ext cx="784440" cy="222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89280" y="5089680"/>
            <a:ext cx="784440" cy="56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022720" y="4867200"/>
            <a:ext cx="784440" cy="3636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91080" y="5465880"/>
            <a:ext cx="784080" cy="5810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03880" y="5446800"/>
            <a:ext cx="784440" cy="21096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22720" y="5300640"/>
            <a:ext cx="784440" cy="3571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03880" y="5465880"/>
            <a:ext cx="784440" cy="58104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73360" y="2112840"/>
            <a:ext cx="115920" cy="1047960"/>
          </a:xfrm>
          <a:custGeom>
            <a:avLst/>
            <a:gdLst>
              <a:gd name="textAreaLeft" fmla="*/ 74160 w 115920"/>
              <a:gd name="textAreaRight" fmla="*/ 116280 w 115920"/>
              <a:gd name="textAreaTop" fmla="*/ 27000 h 1047960"/>
              <a:gd name="textAreaBottom" fmla="*/ 1020960 h 10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31800" y="2244600"/>
            <a:ext cx="18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7c80"/>
                </a:solidFill>
                <a:latin typeface="Arial"/>
              </a:rPr>
              <a:t>ограничение на величину дефи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360" y="5757840"/>
            <a:ext cx="2843280" cy="0"/>
          </a:xfrm>
          <a:prstGeom prst="line">
            <a:avLst/>
          </a:prstGeom>
          <a:ln w="3168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2.22222E-006 L 0.00018 -0.25486 E">
                                      <p:cBhvr>
                                        <p:cTn id="139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L 0.00017 -0.21412 E">
                                      <p:cBhvr>
                                        <p:cTn id="141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9259E-006 L 0.00017 -0.32477 E">
                                      <p:cBhvr>
                                        <p:cTn id="162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7.40741E-007 L 0.0007 -0.28055 E">
                                      <p:cBhvr>
                                        <p:cTn id="16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0.00018 -0.36319 E">
                                      <p:cBhvr>
                                        <p:cTn id="168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7c8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0.0007 -0.37083 E">
                                      <p:cBhvr>
                                        <p:cTn id="1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85185E-006 L 2.22222E-006 -0.49074 E">
                                      <p:cBhvr>
                                        <p:cTn id="190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49074 L 2.22222E-006 0.00023 E">
                                      <p:cBhvr>
                                        <p:cTn id="201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37083 L 0.0007 0.00023 E">
                                      <p:cBhvr>
                                        <p:cTn id="20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L 0.1092 0.04329 E">
                                      <p:cBhvr>
                                        <p:cTn id="21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60400" y="674640"/>
            <a:ext cx="782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я разработок на пример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бпрое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«Управление долгом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6480" y="857160"/>
            <a:ext cx="8319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1. Пакет нормативных актов, принятых исполнительными органами власти субъектов Федерации, регламентирующих систему управления долгом и условными обязательствами бюджета субъекта Российской Федерации, определяющих и регулирующих следующие параметры системы управления долгом и условными обязательствами бюджетов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1.1 Зафиксированные и утвержденные цели, задачи и общие принципы долговой политик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1.2 Список объектов системы управления долгом и условными обязательствами, включая просроченную кредиторскую задолженность бюджетных организаций, в соответствии с материалами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суб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проекта «Управление долгом» (RFTAP 3.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1.3 Список субъектов системы управления долгом и условными обязательствами на уровне региона и их функции, в соответствии с материалами 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</a:rPr>
              <a:t>суб</a:t>
            </a:r>
            <a:r>
              <a:rPr b="0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проекта «Управление долгом» (RFTAP 3.4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055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тер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я разработок на пример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бпрое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«Управление долгом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твержденная процедура планирования прямых и условных обязательств. Использование при планировании утвержденного определения и методики расчета долговой емкости бюджета (в соответствии с материа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оекта «Управление долгом» (RFTAP 3.4)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Наличие описанной процедуры обмена информацией между субъектами управления обязательствами, стратегического и инвестиционного планирования, среднесрочного финансового планирования  и бюджетного планирования. Утвержденный порядок разработки и принятия программы заимствований  (например, в виде приложения к проекту бюдже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Утвержденный порядок учета и формы для учета обязательств, включая условные обязательства и просроченную кредиторскую задолженность (если она есть) и затраты по обслуживанию обязательств. Учет обязательств в виде реестра обязательств, порядок учета регламентирует состав и структуру информации об обязательствах, источники информации, периодичность внесения информации в реестр. Долговой книги недостаточно как формы учета обязательств.</a:t>
            </a:r>
            <a:r>
              <a:rPr b="1" lang="ru-RU" sz="2000" spc="-1" strike="noStrike">
                <a:solidFill>
                  <a:srgbClr val="000000"/>
                </a:solidFill>
                <a:latin typeface="Microsoft Sans Serif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ер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я разработок на пример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убпроек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«Управление долгом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4200" y="1219320"/>
            <a:ext cx="8751960" cy="72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Основные положения стандартов управления долгом и условными обязательствами субъекта Российской Федерации закреплены в региональном законодательстве (или поправках к не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Порядок учета и  формы для учета консолидированного долг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 Утвержденная классификация рисков и методические рекомендации по управлению рис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 Утвержденный порядок реструктуризации обязательств, в том числе просроченной кредиторской задолженности  бюджетных организаци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. Утвержденный порядок раскрытия информации о состоянии консолидированного долга и условных обязательств бюджета субъекта Российской Феде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7. Наличие автоматизированной системы ведения реестра обязательств бюджета и государственного (муниципального) сектора. Автоматизированная система должна представлять собой специализированное программное обеспечение на основе электронной базы данных, способную хранить и обновлять информацию, а также автоматически готовящую всю отчетность в утвержденных формах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icrosoft Sans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-326880" y="-990720"/>
            <a:ext cx="90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838080"/>
            <a:ext cx="2743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1447920"/>
            <a:ext cx="38098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авительство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1981080"/>
            <a:ext cx="1371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1981080"/>
            <a:ext cx="24382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рас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нисте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24480" y="2133720"/>
            <a:ext cx="838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1981080"/>
            <a:ext cx="1295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57600" y="2971800"/>
            <a:ext cx="2438280" cy="6094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юджетной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315200" y="213372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Юри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914400"/>
            <a:ext cx="11430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С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80988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80988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38680" y="3809880"/>
            <a:ext cx="7621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2590920"/>
            <a:ext cx="137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1828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72200" y="1676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0572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9246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2819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6576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0040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426708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629400" y="3657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971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90720" y="3962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362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95480" y="3276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14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3208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ое бюджетное упр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и основных блока вопросов, которые можно выделить, рассматривая процесс управления общественными финансам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Бюджетная дисципл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ли общий размер доходов, расходов, профицита или дефицита и государственного долга приемлемым с учетом текущих и предполагаемых экономических условий, способности государства собирать налоги и потребностей в услугах бюджетных учреждени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Эффективность распреде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ны ли приоритеты государства в области расходов в контексте развития российского общества, программных задач, бюджетных обязательств и затратности утвержденных програм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spcAft>
                <a:spcPts val="249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Эффективность 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ется ли государству управлять бюджетными учреждениями таким образом, чтобы обеспечивать предоставление ими населению качественных услуг в обмен на израсходованные  средств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 д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чень форм существования долга является закрыты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едитные соглашения и догово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осударственные займы за счет выпуска ценных бумаг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а и соглашения о получении бюджетных ссу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говора о предоставлении гарант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глашения и договора о пролонгации и реструктуризации долговых обязательств прошлых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 проведена черта между условными и прямыми обязательст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лный перечень (прежде всего, нет кредиторской задолженн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меры прямых и условных обязатель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я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дитные согла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юджетные кред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едиторская задолж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лов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арантии и поруч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язательства предприятий, полностью или частично принадлежащих админ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изводные финансовы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дебные” 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ые” обяз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ирование  новых обязательств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требност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20960"/>
            <a:ext cx="8229600" cy="40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вестиционные заим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вестиционная программа – список подпрограмм/проектов в порядке приоритетности с графиками финансирования и датами завер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 инвестиционного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нансирование кассовых разры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тельность и величина определяется бюджетным планиро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7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анирование  новых условных обязательств/гаранти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реб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9120" y="2157120"/>
            <a:ext cx="822960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а предоставления гарантий – список гарантий, которые планируется выдать, в порядке приоритетности с оценками ожидаемой ответственности по 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571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, реализующий экономическую поли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6192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блемы стран с переходной экономико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ффективное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79020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ханизмы внутреннего контроля и системы финансового управления не соответствуют стандартам (стандарты зачастую не сформулирова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ыточное количество бюджетных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ила контроля за ресурсами жесткие, но часто наруш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ое качество бюджетных услуг (бюджетная услуга зачастую не определе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четкого представления об объеме ресурсов, которые будут доступны в течение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ирование – это в большей степени классификация расходов, нежели принятие решений о необходимых мерах со стороны государства и их сто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юджетные учреждения предоставляют гражданам базовые услуги, но практически не конкурируют за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зкий уровень заработной платы и квалификации государственных служа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ует единая система своевременной поставки и анализа информации о сделках, финансовых потоках, обязательствах, задолженности, риска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6400" y="228600"/>
            <a:ext cx="8067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структуризация бюджет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066680"/>
            <a:ext cx="3733920" cy="497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Сложившаяся систем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оответствие бюджетной сети полномочия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ногоуровневая иерархия и дисперсность с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тиворечивость статуса бюджетных учрежд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етное финансировани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о -  производитель услу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1295280"/>
            <a:ext cx="3798720" cy="497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Times New Roman"/>
              </a:rPr>
              <a:t>Новая система (с 2008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тказ от избыточной с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тимизация структуры с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менение статуса бюджетных учрежден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вые организационно-правовые формы (ОПФ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ормативно-подушевое финансирование и соцзака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государство - регулятор, организатор и заказчик услуг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16200" y="3200400"/>
            <a:ext cx="1489320" cy="979560"/>
          </a:xfrm>
          <a:prstGeom prst="rightArrow">
            <a:avLst>
              <a:gd name="adj1" fmla="val 50000"/>
              <a:gd name="adj2" fmla="val 380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05-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рные размышления о подходе России к реформированию бюджетного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05696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5000"/>
              </a:lnSpc>
              <a:spcBef>
                <a:spcPts val="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Законодательство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Чрезмерное внимание к законодательству в ущерб практик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конодательство неоправданно детализировано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ребует частого внесения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аконодательство должно создавать возможности для реформы, а не диктовать малейшие дета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5000"/>
              </a:lnSpc>
              <a:spcBef>
                <a:spcPts val="9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ракти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оправданное внимание к «наилучшим» моделям бюджетного управ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едостаточное внимание к базовым возможностя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15800">
              <a:lnSpc>
                <a:spcPct val="105000"/>
              </a:lnSpc>
              <a:spcBef>
                <a:spcPts val="913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ледует стремиться к реализации «добротных» моделей бюджетного управления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именяемых практически во всех развитых странах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ект МБРР «Техническое содействие реформе бюджетной системы на региональном уров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01520"/>
            <a:ext cx="792468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 компон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ение бюджетного законодательства на федеральном и региональном уров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репление потенциала федерального монитор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йствие субнациональным органам власти в сфере бухгалтерского учета и бюджетного планирования (Техн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аслевые обзоры бюджетных расход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которые субпроекты компонента «Техническая помощ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овое план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значейское управление и управление наличн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юджетная отчетность, учет и 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ризация бюджетной сферы и повышение эффективности расходов региональных и местных бюдж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истема управления дол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гиональная система бюджетных закуп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нципы управления региональными финансами, стандарты наилучшей практики, и Руководство по управлению региональными и местными финанс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Вертикальная» координация бюджетной ре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343160"/>
            <a:ext cx="8288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д реформирования региональных и муниципальных финан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д софинансирования социальных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Стандартный» мониторинг региональных и муниципальных финанс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Расширенный» мониторинг региональных и муниципаль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декс лучшей практики управления региональными и муниципальными финан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ство по управлению региональными и муниципальными финанс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ка и переподготовка кад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ы техниче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09:50:49Z</dcterms:created>
  <dc:creator>alex</dc:creator>
  <dc:description/>
  <dc:language>en-US</dc:language>
  <cp:lastModifiedBy>Mikhail Panov</cp:lastModifiedBy>
  <dcterms:modified xsi:type="dcterms:W3CDTF">2004-10-19T10:11:12Z</dcterms:modified>
  <cp:revision>58</cp:revision>
  <dc:subject/>
  <dc:title>Основные подходы к управлению долгом и условными обязательствами</dc:title>
</cp:coreProperties>
</file>