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9025-2A0A-43B5-A13C-1B49C2D9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9E2-FB8E-4A55-9062-203AB3A6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90C9-E134-4F38-81E3-92055DA4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7C1C-9E23-488F-BE70-8663896B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11F7-AC9B-4D99-B8B9-9EAC026D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BC6-CE20-427F-9914-E11E2871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0EA-E3F2-4374-9629-C6ECD355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887-8934-4D3D-A291-A69381B1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224-3204-4655-859C-6364175E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5BA-BE48-46C8-A0FF-67C9EF09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E028-844A-45BD-940E-2A342FB7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3D9-E410-415B-8173-E22B44AD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EE4C-0EA3-45B5-9750-3517218B2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етий общероссийский форум лидеров стратегического планирования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ТРАТЕГИЧЕСКОЕ ПЛАНИРОВАНИЕ В ГОРОДАХ И РЕГИОНАХ РОССИИ НА НОВОМ ВИТКЕ РЕ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ушкин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0-21 октября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2004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ВЫШЕНИЕ КВАЛИФИКАЦИИ КАК ФАКТОР ЭФФЕКТИВНОСТИ СТРАТЕГИЧЕСКОГО ПЛАН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.Е. Балоб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кадемия социального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3623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ГРАММА "МАЛЫЕ ГОРОДА РОСС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0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ГАНИЗАЦИОННАЯ СХЕМА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38400">
            <a:off x="1692000" y="1483200"/>
            <a:ext cx="4641840" cy="792360"/>
          </a:xfrm>
          <a:prstGeom prst="rightArrow">
            <a:avLst>
              <a:gd name="adj1" fmla="val 50000"/>
              <a:gd name="adj2" fmla="val 14645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1413000"/>
            <a:ext cx="1447920" cy="799920"/>
            <a:chOff x="179280" y="1413000"/>
            <a:chExt cx="1447920" cy="799920"/>
          </a:xfrm>
        </p:grpSpPr>
        <p:sp>
          <p:nvSpPr>
            <p:cNvPr id="110" name=""/>
            <p:cNvSpPr/>
            <p:nvPr/>
          </p:nvSpPr>
          <p:spPr>
            <a:xfrm>
              <a:off x="789120" y="1641600"/>
              <a:ext cx="838080" cy="457200"/>
            </a:xfrm>
            <a:prstGeom prst="parallelogram">
              <a:avLst>
                <a:gd name="adj" fmla="val 29159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8320" y="1527120"/>
              <a:ext cx="838440" cy="457200"/>
            </a:xfrm>
            <a:prstGeom prst="parallelogram">
              <a:avLst>
                <a:gd name="adj" fmla="val 29172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960" y="1413000"/>
              <a:ext cx="838440" cy="457200"/>
            </a:xfrm>
            <a:prstGeom prst="parallelogram">
              <a:avLst>
                <a:gd name="adj" fmla="val 29172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400" y="1717560"/>
              <a:ext cx="838440" cy="457200"/>
            </a:xfrm>
            <a:prstGeom prst="parallelogram">
              <a:avLst>
                <a:gd name="adj" fmla="val 29172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80" y="1755720"/>
              <a:ext cx="838440" cy="457200"/>
            </a:xfrm>
            <a:prstGeom prst="parallelogram">
              <a:avLst>
                <a:gd name="adj" fmla="val 29172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аяв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648480" y="1264680"/>
            <a:ext cx="1581120" cy="1210320"/>
            <a:chOff x="6648480" y="1264680"/>
            <a:chExt cx="1581120" cy="1210320"/>
          </a:xfrm>
        </p:grpSpPr>
        <p:sp>
          <p:nvSpPr>
            <p:cNvPr id="116" name=""/>
            <p:cNvSpPr/>
            <p:nvPr/>
          </p:nvSpPr>
          <p:spPr>
            <a:xfrm>
              <a:off x="6648480" y="1484280"/>
              <a:ext cx="1581120" cy="990720"/>
            </a:xfrm>
            <a:prstGeom prst="cloudCallout">
              <a:avLst>
                <a:gd name="adj1" fmla="val 19578"/>
                <a:gd name="adj2" fmla="val 34296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оговор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039800">
              <a:off x="7293600" y="1354680"/>
              <a:ext cx="319320" cy="145800"/>
            </a:xfrm>
            <a:prstGeom prst="leftArrow">
              <a:avLst>
                <a:gd name="adj1" fmla="val 50000"/>
                <a:gd name="adj2" fmla="val 54753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24000" y="2205000"/>
            <a:ext cx="3672000" cy="792000"/>
            <a:chOff x="2124000" y="2205000"/>
            <a:chExt cx="3672000" cy="792000"/>
          </a:xfrm>
        </p:grpSpPr>
        <p:grpSp>
          <p:nvGrpSpPr>
            <p:cNvPr id="119" name=""/>
            <p:cNvGrpSpPr/>
            <p:nvPr/>
          </p:nvGrpSpPr>
          <p:grpSpPr>
            <a:xfrm>
              <a:off x="2555640" y="2205000"/>
              <a:ext cx="2519640" cy="792000"/>
              <a:chOff x="2555640" y="2205000"/>
              <a:chExt cx="2519640" cy="792000"/>
            </a:xfrm>
          </p:grpSpPr>
          <p:sp>
            <p:nvSpPr>
              <p:cNvPr id="120" name=""/>
              <p:cNvSpPr/>
              <p:nvPr/>
            </p:nvSpPr>
            <p:spPr>
              <a:xfrm>
                <a:off x="2555640" y="2205000"/>
                <a:ext cx="503280" cy="792000"/>
              </a:xfrm>
              <a:prstGeom prst="upArrow">
                <a:avLst>
                  <a:gd name="adj1" fmla="val 50000"/>
                  <a:gd name="adj2" fmla="val 3934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64000" y="2205000"/>
                <a:ext cx="502920" cy="792000"/>
              </a:xfrm>
              <a:prstGeom prst="upArrow">
                <a:avLst>
                  <a:gd name="adj1" fmla="val 50000"/>
                  <a:gd name="adj2" fmla="val 3937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72000" y="2205000"/>
                <a:ext cx="503280" cy="792000"/>
              </a:xfrm>
              <a:prstGeom prst="upArrow">
                <a:avLst>
                  <a:gd name="adj1" fmla="val 50000"/>
                  <a:gd name="adj2" fmla="val 3934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124000" y="2565360"/>
              <a:ext cx="36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Семинары для мэров и ГС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16360" y="549360"/>
            <a:ext cx="3970080" cy="785520"/>
            <a:chOff x="4716360" y="549360"/>
            <a:chExt cx="3970080" cy="785520"/>
          </a:xfrm>
        </p:grpSpPr>
        <p:grpSp>
          <p:nvGrpSpPr>
            <p:cNvPr id="125" name=""/>
            <p:cNvGrpSpPr/>
            <p:nvPr/>
          </p:nvGrpSpPr>
          <p:grpSpPr>
            <a:xfrm>
              <a:off x="6516720" y="620640"/>
              <a:ext cx="2169720" cy="714240"/>
              <a:chOff x="6516720" y="620640"/>
              <a:chExt cx="2169720" cy="7142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6998760" y="620640"/>
                <a:ext cx="978480" cy="647280"/>
                <a:chOff x="6998760" y="620640"/>
                <a:chExt cx="978480" cy="647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998760" y="811080"/>
                  <a:ext cx="531720" cy="437760"/>
                </a:xfrm>
                <a:prstGeom prst="ellipse">
                  <a:avLst/>
                </a:prstGeom>
                <a:solidFill>
                  <a:srgbClr val="ffff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68680" y="811080"/>
                  <a:ext cx="531720" cy="437760"/>
                </a:xfrm>
                <a:prstGeom prst="ellipse">
                  <a:avLst/>
                </a:prstGeom>
                <a:solidFill>
                  <a:srgbClr val="ffff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339320" y="677520"/>
                  <a:ext cx="531720" cy="437760"/>
                </a:xfrm>
                <a:prstGeom prst="ellipse">
                  <a:avLst/>
                </a:prstGeom>
                <a:solidFill>
                  <a:srgbClr val="ffff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041240" y="620640"/>
                  <a:ext cx="531720" cy="438120"/>
                </a:xfrm>
                <a:prstGeom prst="ellipse">
                  <a:avLst/>
                </a:prstGeom>
                <a:solidFill>
                  <a:srgbClr val="ffff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445520" y="830160"/>
                  <a:ext cx="531720" cy="437760"/>
                </a:xfrm>
                <a:prstGeom prst="ellipse">
                  <a:avLst/>
                </a:prstGeom>
                <a:solidFill>
                  <a:srgbClr val="ffff9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6516720" y="692280"/>
                <a:ext cx="2169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онсалтинговые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rot="5400000">
              <a:off x="5111640" y="153720"/>
              <a:ext cx="720720" cy="1511280"/>
            </a:xfrm>
            <a:prstGeom prst="upArrow">
              <a:avLst>
                <a:gd name="adj1" fmla="val 50000"/>
                <a:gd name="adj2" fmla="val 52423"/>
              </a:avLst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Тенд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04000" y="2565360"/>
            <a:ext cx="1079640" cy="1943280"/>
          </a:xfrm>
          <a:prstGeom prst="downArrow">
            <a:avLst>
              <a:gd name="adj1" fmla="val 50000"/>
              <a:gd name="adj2" fmla="val 4499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рабо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те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5039280" y="2529360"/>
            <a:ext cx="1297080" cy="1943280"/>
          </a:xfrm>
          <a:prstGeom prst="upArrow">
            <a:avLst>
              <a:gd name="adj1" fmla="val 50000"/>
              <a:gd name="adj2" fmla="val 374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6920" y="5013360"/>
            <a:ext cx="1297080" cy="647640"/>
          </a:xfrm>
          <a:prstGeom prst="leftArrow">
            <a:avLst>
              <a:gd name="adj1" fmla="val 50000"/>
              <a:gd name="adj2" fmla="val 5006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4508640"/>
            <a:ext cx="3814920" cy="792000"/>
          </a:xfrm>
          <a:prstGeom prst="leftArrow">
            <a:avLst>
              <a:gd name="adj1" fmla="val 50000"/>
              <a:gd name="adj2" fmla="val 12042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изация страте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132000" y="5157360"/>
            <a:ext cx="3745080" cy="1711080"/>
            <a:chOff x="3132000" y="5157360"/>
            <a:chExt cx="3745080" cy="1711080"/>
          </a:xfrm>
        </p:grpSpPr>
        <p:grpSp>
          <p:nvGrpSpPr>
            <p:cNvPr id="139" name=""/>
            <p:cNvGrpSpPr/>
            <p:nvPr/>
          </p:nvGrpSpPr>
          <p:grpSpPr>
            <a:xfrm>
              <a:off x="3348000" y="5157360"/>
              <a:ext cx="2520720" cy="576360"/>
              <a:chOff x="3348000" y="5157360"/>
              <a:chExt cx="2520720" cy="576360"/>
            </a:xfrm>
          </p:grpSpPr>
          <p:sp>
            <p:nvSpPr>
              <p:cNvPr id="140" name=""/>
              <p:cNvSpPr/>
              <p:nvPr/>
            </p:nvSpPr>
            <p:spPr>
              <a:xfrm flipV="1">
                <a:off x="3348000" y="5157000"/>
                <a:ext cx="504720" cy="576360"/>
              </a:xfrm>
              <a:prstGeom prst="downArrow">
                <a:avLst>
                  <a:gd name="adj1" fmla="val 50000"/>
                  <a:gd name="adj2" fmla="val 28549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995640" y="5157000"/>
                <a:ext cx="504720" cy="576360"/>
              </a:xfrm>
              <a:prstGeom prst="downArrow">
                <a:avLst>
                  <a:gd name="adj1" fmla="val 50000"/>
                  <a:gd name="adj2" fmla="val 28549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716360" y="5157000"/>
                <a:ext cx="504720" cy="576360"/>
              </a:xfrm>
              <a:prstGeom prst="downArrow">
                <a:avLst>
                  <a:gd name="adj1" fmla="val 50000"/>
                  <a:gd name="adj2" fmla="val 28549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364000" y="5157000"/>
                <a:ext cx="504720" cy="576360"/>
              </a:xfrm>
              <a:prstGeom prst="downArrow">
                <a:avLst>
                  <a:gd name="adj1" fmla="val 50000"/>
                  <a:gd name="adj2" fmla="val 28549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132000" y="5665680"/>
              <a:ext cx="3745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Повышение квалифика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Информационная поддерж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Международные программ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4221000"/>
            <a:ext cx="2160720" cy="1484640"/>
          </a:xfrm>
          <a:custGeom>
            <a:avLst/>
            <a:gdLst>
              <a:gd name="textAreaLeft" fmla="*/ 493200 w 2160720"/>
              <a:gd name="textAreaRight" fmla="*/ 1667520 w 2160720"/>
              <a:gd name="textAreaTop" fmla="*/ 338760 h 1484640"/>
              <a:gd name="textAreaBottom" fmla="*/ 1145880 h 148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из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те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805360"/>
            <a:ext cx="2016360" cy="863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Передача метод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Консульт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3357720"/>
            <a:ext cx="2449440" cy="574560"/>
          </a:xfrm>
          <a:prstGeom prst="leftArrow">
            <a:avLst>
              <a:gd name="adj1" fmla="val 50000"/>
              <a:gd name="adj2" fmla="val 1065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Консульт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692280"/>
            <a:ext cx="151128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Конкурс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отб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443640" y="4653000"/>
            <a:ext cx="1511280" cy="1081080"/>
            <a:chOff x="6443640" y="4653000"/>
            <a:chExt cx="1511280" cy="1081080"/>
          </a:xfrm>
        </p:grpSpPr>
        <p:grpSp>
          <p:nvGrpSpPr>
            <p:cNvPr id="150" name=""/>
            <p:cNvGrpSpPr/>
            <p:nvPr/>
          </p:nvGrpSpPr>
          <p:grpSpPr>
            <a:xfrm>
              <a:off x="6516720" y="4653000"/>
              <a:ext cx="1293840" cy="1081080"/>
              <a:chOff x="6516720" y="4653000"/>
              <a:chExt cx="1293840" cy="1081080"/>
            </a:xfrm>
          </p:grpSpPr>
          <p:sp>
            <p:nvSpPr>
              <p:cNvPr id="151" name=""/>
              <p:cNvSpPr/>
              <p:nvPr/>
            </p:nvSpPr>
            <p:spPr>
              <a:xfrm>
                <a:off x="6516720" y="4724280"/>
                <a:ext cx="718920" cy="649440"/>
              </a:xfrm>
              <a:prstGeom prst="verticalScroll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59280" y="4869000"/>
                <a:ext cx="719280" cy="649080"/>
              </a:xfrm>
              <a:prstGeom prst="verticalScroll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91280" y="4653000"/>
                <a:ext cx="719280" cy="649080"/>
              </a:xfrm>
              <a:prstGeom prst="verticalScroll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804000" y="5084640"/>
                <a:ext cx="718920" cy="649440"/>
              </a:xfrm>
              <a:prstGeom prst="verticalScroll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443640" y="48909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тратег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0920" y="2708280"/>
            <a:ext cx="1512720" cy="12952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рректиров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атег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1523880"/>
            <a:ext cx="8076960" cy="1524240"/>
          </a:xfrm>
          <a:prstGeom prst="rightArrow">
            <a:avLst>
              <a:gd name="adj1" fmla="val 50000"/>
              <a:gd name="adj2" fmla="val 1324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2133720"/>
            <a:ext cx="8077320" cy="1523880"/>
          </a:xfrm>
          <a:prstGeom prst="rightArrow">
            <a:avLst>
              <a:gd name="adj1" fmla="val 50000"/>
              <a:gd name="adj2" fmla="val 1325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2666880"/>
            <a:ext cx="8076960" cy="1524240"/>
          </a:xfrm>
          <a:prstGeom prst="rightArrow">
            <a:avLst>
              <a:gd name="adj1" fmla="val 50000"/>
              <a:gd name="adj2" fmla="val 1324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590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РАБОТКА СТРАТЕГ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 rot="19293600">
            <a:off x="-76320" y="4419360"/>
            <a:ext cx="3733920" cy="685800"/>
          </a:xfrm>
          <a:prstGeom prst="rightArrow">
            <a:avLst>
              <a:gd name="adj1" fmla="val 50000"/>
              <a:gd name="adj2" fmla="val 136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19293600">
            <a:off x="1218960" y="4267080"/>
            <a:ext cx="3733560" cy="685800"/>
          </a:xfrm>
          <a:prstGeom prst="rightArrow">
            <a:avLst>
              <a:gd name="adj1" fmla="val 50000"/>
              <a:gd name="adj2" fmla="val 1361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9293600">
            <a:off x="2590560" y="4267080"/>
            <a:ext cx="3733560" cy="685800"/>
          </a:xfrm>
          <a:prstGeom prst="rightArrow">
            <a:avLst>
              <a:gd name="adj1" fmla="val 50000"/>
              <a:gd name="adj2" fmla="val 1361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 rot="19293600">
            <a:off x="3809520" y="4266720"/>
            <a:ext cx="3733920" cy="685800"/>
          </a:xfrm>
          <a:prstGeom prst="rightArrow">
            <a:avLst>
              <a:gd name="adj1" fmla="val 50000"/>
              <a:gd name="adj2" fmla="val 136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724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ТЕЛЬНЫЕ МЕРОПРИЯ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РАЗОВАТЕЛЬНЫЕ ПРОГРАММЫ ДЛЯ ПОДДЕРЖКИ ПРАКТИЧЕСКИХ РАЗРАБО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5238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ориентация на практические 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использование разных образовательных технолог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остроение учебных программ на основе анализа опы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ивязка к мес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ИСТЕМНОСТЬ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ldnew" descr=""/>
          <p:cNvPicPr/>
          <p:nvPr/>
        </p:nvPicPr>
        <p:blipFill>
          <a:blip r:embed="rId1"/>
          <a:stretch/>
        </p:blipFill>
        <p:spPr>
          <a:xfrm>
            <a:off x="0" y="-157320"/>
            <a:ext cx="9144000" cy="732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523880"/>
            <a:ext cx="8076960" cy="1524240"/>
          </a:xfrm>
          <a:prstGeom prst="rightArrow">
            <a:avLst>
              <a:gd name="adj1" fmla="val 50000"/>
              <a:gd name="adj2" fmla="val 1324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8077320" cy="1523880"/>
          </a:xfrm>
          <a:prstGeom prst="rightArrow">
            <a:avLst>
              <a:gd name="adj1" fmla="val 50000"/>
              <a:gd name="adj2" fmla="val 1325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666880"/>
            <a:ext cx="8076960" cy="1524240"/>
          </a:xfrm>
          <a:prstGeom prst="rightArrow">
            <a:avLst>
              <a:gd name="adj1" fmla="val 50000"/>
              <a:gd name="adj2" fmla="val 1324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590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РАБОТКА СТРАТЕГ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 rot="19293600">
            <a:off x="-76320" y="4419360"/>
            <a:ext cx="3733920" cy="685800"/>
          </a:xfrm>
          <a:prstGeom prst="rightArrow">
            <a:avLst>
              <a:gd name="adj1" fmla="val 50000"/>
              <a:gd name="adj2" fmla="val 136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 rot="19293600">
            <a:off x="1218960" y="4267080"/>
            <a:ext cx="3733560" cy="685800"/>
          </a:xfrm>
          <a:prstGeom prst="rightArrow">
            <a:avLst>
              <a:gd name="adj1" fmla="val 50000"/>
              <a:gd name="adj2" fmla="val 1361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9293600">
            <a:off x="2590560" y="4267080"/>
            <a:ext cx="3733560" cy="685800"/>
          </a:xfrm>
          <a:prstGeom prst="rightArrow">
            <a:avLst>
              <a:gd name="adj1" fmla="val 50000"/>
              <a:gd name="adj2" fmla="val 1361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 rot="19293600">
            <a:off x="3809520" y="4266720"/>
            <a:ext cx="3733920" cy="685800"/>
          </a:xfrm>
          <a:prstGeom prst="rightArrow">
            <a:avLst>
              <a:gd name="adj1" fmla="val 50000"/>
              <a:gd name="adj2" fmla="val 136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724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ТЕЛЬНЫЕ МЕРОПРИЯ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РАЗОВАТЕЛЬНЫЕ ПРОГРАММЫ ДЛЯ ПОДДЕРЖКИ ПРАКТИЧЕСКИХ РАЗРАБО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Ы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524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Консультационная фирма "ИМС" (1997-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Московский общественный научный фонд (1998-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грамма "Малые города России" (2000-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3352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едставление и анализ целей, задач и структуры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ведение в проблематик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апуск и поддержка самостоятельной работы участник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НЦИ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ормирование и поддержка и самостоятельной позиции учас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блемная постановка вопро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рганизация самостоятельной практической работы учас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8108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НСУЛЬТАЦИОННАЯ ФИРМА "ИМС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97-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5720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униципальное управление в условиях криз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еорганизация структур муниципального управления как средство повышения устойчивости систем городского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блемные и проектные семин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28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СКОВСКИЙ ОБЩЕСТВЕННЫЙ НАУЧ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грамма "Местное самоуправление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разовательный компонен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98-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088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76920" indent="-37692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М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тратегическое планирование в муниципальном управл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естные сообщества в местном самоуправл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Задачи и организация деятельности представительных 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естное самоуправление и муниципальное разви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ктивные образовательные технологии обучения взросл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роблемные и проектные семин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тренин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тренинги для трен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76320"/>
            <a:ext cx="9144000" cy="609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ЕБНЫЙ МОДУ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645080"/>
            <a:ext cx="2743200" cy="1298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38080" y="1395360"/>
            <a:ext cx="2895840" cy="1447920"/>
            <a:chOff x="838080" y="1395360"/>
            <a:chExt cx="2895840" cy="1447920"/>
          </a:xfrm>
        </p:grpSpPr>
        <p:grpSp>
          <p:nvGrpSpPr>
            <p:cNvPr id="64" name=""/>
            <p:cNvGrpSpPr/>
            <p:nvPr/>
          </p:nvGrpSpPr>
          <p:grpSpPr>
            <a:xfrm>
              <a:off x="1905120" y="1395360"/>
              <a:ext cx="838080" cy="762120"/>
              <a:chOff x="1905120" y="1395360"/>
              <a:chExt cx="83808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1905120" y="1395360"/>
                <a:ext cx="533520" cy="457200"/>
              </a:xfrm>
              <a:prstGeom prst="parallelogram">
                <a:avLst>
                  <a:gd name="adj" fmla="val 29173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7400" y="1547640"/>
                <a:ext cx="533520" cy="457200"/>
              </a:xfrm>
              <a:prstGeom prst="parallelogram">
                <a:avLst>
                  <a:gd name="adj" fmla="val 29173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10040" y="1700280"/>
                <a:ext cx="533160" cy="457200"/>
              </a:xfrm>
              <a:prstGeom prst="parallelogram">
                <a:avLst>
                  <a:gd name="adj" fmla="val 2915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066680" y="2386080"/>
              <a:ext cx="2667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определение целей моду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38080" y="2080800"/>
              <a:ext cx="824040" cy="7621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743200" y="914400"/>
            <a:ext cx="4800600" cy="1752120"/>
            <a:chOff x="2743200" y="914400"/>
            <a:chExt cx="4800600" cy="1752120"/>
          </a:xfrm>
        </p:grpSpPr>
        <p:sp>
          <p:nvSpPr>
            <p:cNvPr id="71" name=""/>
            <p:cNvSpPr/>
            <p:nvPr/>
          </p:nvSpPr>
          <p:spPr>
            <a:xfrm>
              <a:off x="2743200" y="914400"/>
              <a:ext cx="3505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разработка программы моду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1904760"/>
              <a:ext cx="30481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553080" y="1295280"/>
              <a:ext cx="990720" cy="1371240"/>
              <a:chOff x="6553080" y="1295280"/>
              <a:chExt cx="990720" cy="1371240"/>
            </a:xfrm>
          </p:grpSpPr>
          <p:sp>
            <p:nvSpPr>
              <p:cNvPr id="74" name=""/>
              <p:cNvSpPr/>
              <p:nvPr/>
            </p:nvSpPr>
            <p:spPr>
              <a:xfrm>
                <a:off x="6858000" y="1569600"/>
                <a:ext cx="685800" cy="1096920"/>
              </a:xfrm>
              <a:prstGeom prst="foldedCorner">
                <a:avLst>
                  <a:gd name="adj" fmla="val 50000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05360" y="1432080"/>
                <a:ext cx="685800" cy="1097280"/>
              </a:xfrm>
              <a:prstGeom prst="foldedCorner">
                <a:avLst>
                  <a:gd name="adj" fmla="val 50000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3080" y="1295280"/>
                <a:ext cx="685800" cy="1097280"/>
              </a:xfrm>
              <a:prstGeom prst="foldedCorner">
                <a:avLst>
                  <a:gd name="adj" fmla="val 50000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6400800" y="2971800"/>
            <a:ext cx="2666880" cy="1371600"/>
            <a:chOff x="6400800" y="2971800"/>
            <a:chExt cx="2666880" cy="1371600"/>
          </a:xfrm>
        </p:grpSpPr>
        <p:sp>
          <p:nvSpPr>
            <p:cNvPr id="78" name=""/>
            <p:cNvSpPr/>
            <p:nvPr/>
          </p:nvSpPr>
          <p:spPr>
            <a:xfrm>
              <a:off x="7086600" y="2971800"/>
              <a:ext cx="0" cy="137160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124080"/>
              <a:ext cx="266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проведение моду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791320" y="4648320"/>
            <a:ext cx="2743200" cy="1298520"/>
            <a:chOff x="5791320" y="4648320"/>
            <a:chExt cx="2743200" cy="1298520"/>
          </a:xfrm>
        </p:grpSpPr>
        <p:sp>
          <p:nvSpPr>
            <p:cNvPr id="81" name=""/>
            <p:cNvSpPr/>
            <p:nvPr/>
          </p:nvSpPr>
          <p:spPr>
            <a:xfrm>
              <a:off x="5791320" y="4648320"/>
              <a:ext cx="2743200" cy="12985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65960" y="4956480"/>
              <a:ext cx="1458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ситуация модул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286000" y="4038480"/>
            <a:ext cx="4952880" cy="901440"/>
            <a:chOff x="2286000" y="4038480"/>
            <a:chExt cx="4952880" cy="901440"/>
          </a:xfrm>
        </p:grpSpPr>
        <p:sp>
          <p:nvSpPr>
            <p:cNvPr id="84" name=""/>
            <p:cNvSpPr/>
            <p:nvPr/>
          </p:nvSpPr>
          <p:spPr>
            <a:xfrm>
              <a:off x="2286000" y="4190760"/>
              <a:ext cx="4952880" cy="685800"/>
            </a:xfrm>
            <a:custGeom>
              <a:avLst/>
              <a:gdLst>
                <a:gd name="textAreaLeft" fmla="*/ 991800 w 4952880"/>
                <a:gd name="textAreaRight" fmla="*/ 3083040 w 495288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52" hR="21600" stAng="10800000" swAng="5400000"/>
                  <a:lnTo>
                    <a:pt x="9119" y="0"/>
                  </a:lnTo>
                  <a:arcTo wR="8652" hR="21600" stAng="-5400000" swAng="3837137"/>
                  <a:lnTo>
                    <a:pt x="21439" y="17450"/>
                  </a:lnTo>
                  <a:lnTo>
                    <a:pt x="17538" y="21600"/>
                  </a:lnTo>
                  <a:lnTo>
                    <a:pt x="13314" y="17450"/>
                  </a:lnTo>
                  <a:lnTo>
                    <a:pt x="17143" y="17450"/>
                  </a:lnTo>
                  <a:arcTo wR="8652" hR="21600" stAng="-1562863" swAng="-3799963"/>
                  <a:lnTo>
                    <a:pt x="8886" y="8"/>
                  </a:lnTo>
                  <a:arcTo wR="8652" hR="21600" stAng="-5437175" swAng="-5362825"/>
                  <a:close/>
                </a:path>
                <a:path fill="darkenLess" w="21600" h="21600">
                  <a:moveTo>
                    <a:pt x="0" y="21600"/>
                  </a:moveTo>
                  <a:arcTo wR="8652" hR="21600" stAng="10800000" swAng="5400000"/>
                  <a:lnTo>
                    <a:pt x="8652" y="0"/>
                  </a:lnTo>
                  <a:arcTo wR="8652" hR="21600" stAng="-5400000" swAng="37175"/>
                  <a:lnTo>
                    <a:pt x="8886" y="8"/>
                  </a:lnTo>
                  <a:arcTo wR="8652" hR="21600" stAng="-5437175" swAng="-536282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76720" y="411480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66ff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86200" y="403848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66ff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411480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66ff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523520" y="5257800"/>
            <a:ext cx="4953240" cy="991800"/>
            <a:chOff x="1523520" y="5257800"/>
            <a:chExt cx="4953240" cy="991800"/>
          </a:xfrm>
        </p:grpSpPr>
        <p:sp>
          <p:nvSpPr>
            <p:cNvPr id="89" name=""/>
            <p:cNvSpPr/>
            <p:nvPr/>
          </p:nvSpPr>
          <p:spPr>
            <a:xfrm flipH="1" flipV="1">
              <a:off x="1523160" y="5561640"/>
              <a:ext cx="4953240" cy="685800"/>
            </a:xfrm>
            <a:custGeom>
              <a:avLst/>
              <a:gdLst>
                <a:gd name="textAreaLeft" fmla="*/ 991800 w 4953240"/>
                <a:gd name="textAreaRight" fmla="*/ 3083040 w 495324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52" hR="21600" stAng="10800000" swAng="5400000"/>
                  <a:lnTo>
                    <a:pt x="9119" y="0"/>
                  </a:lnTo>
                  <a:arcTo wR="8652" hR="21600" stAng="-5400000" swAng="3837137"/>
                  <a:lnTo>
                    <a:pt x="21439" y="17450"/>
                  </a:lnTo>
                  <a:lnTo>
                    <a:pt x="17538" y="21600"/>
                  </a:lnTo>
                  <a:lnTo>
                    <a:pt x="13314" y="17450"/>
                  </a:lnTo>
                  <a:lnTo>
                    <a:pt x="17143" y="17450"/>
                  </a:lnTo>
                  <a:arcTo wR="8652" hR="21600" stAng="-1562863" swAng="-3799963"/>
                  <a:lnTo>
                    <a:pt x="8886" y="8"/>
                  </a:lnTo>
                  <a:arcTo wR="8652" hR="21600" stAng="-5437175" swAng="-5362825"/>
                  <a:close/>
                </a:path>
                <a:path fill="darkenLess" w="21600" h="21600">
                  <a:moveTo>
                    <a:pt x="0" y="21600"/>
                  </a:moveTo>
                  <a:arcTo wR="8652" hR="21600" stAng="10800000" swAng="5400000"/>
                  <a:lnTo>
                    <a:pt x="8652" y="0"/>
                  </a:lnTo>
                  <a:arcTo wR="8652" hR="21600" stAng="-5400000" swAng="37175"/>
                  <a:lnTo>
                    <a:pt x="8886" y="8"/>
                  </a:lnTo>
                  <a:arcTo wR="8652" hR="21600" stAng="-5437175" swAng="-536282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29000" y="525780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542448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525780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572000" y="3505320"/>
            <a:ext cx="1600200" cy="18288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66520" y="3505320"/>
            <a:ext cx="1600200" cy="167616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581280"/>
            <a:ext cx="0" cy="175284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62520" y="2514600"/>
            <a:ext cx="3047760" cy="1099440"/>
            <a:chOff x="3962520" y="2514600"/>
            <a:chExt cx="3047760" cy="1099440"/>
          </a:xfrm>
        </p:grpSpPr>
        <p:sp>
          <p:nvSpPr>
            <p:cNvPr id="97" name=""/>
            <p:cNvSpPr/>
            <p:nvPr/>
          </p:nvSpPr>
          <p:spPr>
            <a:xfrm>
              <a:off x="4800600" y="2590560"/>
              <a:ext cx="220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Arial"/>
                </a:rPr>
                <a:t>анализ результатов моду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2520" y="2514600"/>
              <a:ext cx="838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66ff"/>
                  </a:solidFill>
                  <a:latin typeface="Webdings"/>
                  <a:ea typeface="Webdings"/>
                </a:rPr>
                <a:t>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6320" y="3068640"/>
            <a:ext cx="2895480" cy="1980720"/>
            <a:chOff x="76320" y="3068640"/>
            <a:chExt cx="2895480" cy="1980720"/>
          </a:xfrm>
        </p:grpSpPr>
        <p:sp>
          <p:nvSpPr>
            <p:cNvPr id="100" name=""/>
            <p:cNvSpPr/>
            <p:nvPr/>
          </p:nvSpPr>
          <p:spPr>
            <a:xfrm>
              <a:off x="609480" y="4059000"/>
              <a:ext cx="609840" cy="990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14400" y="3906720"/>
              <a:ext cx="2057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анализ ситу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320" y="3068640"/>
              <a:ext cx="838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99"/>
                  </a:solidFill>
                  <a:latin typeface="Webdings"/>
                  <a:ea typeface="Webdings"/>
                </a:rPr>
                <a:t>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133720" y="288936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249720"/>
            <a:ext cx="1218960" cy="15228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990720" y="3478320"/>
            <a:ext cx="1218960" cy="15228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6:07:02Z</dcterms:created>
  <dc:creator>Бал</dc:creator>
  <dc:description/>
  <dc:language>en-US</dc:language>
  <cp:lastModifiedBy>Бал</cp:lastModifiedBy>
  <dcterms:modified xsi:type="dcterms:W3CDTF">2004-10-20T19:20:50Z</dcterms:modified>
  <cp:revision>7</cp:revision>
  <dc:subject/>
  <dc:title>Презентация PowerPoint</dc:title>
</cp:coreProperties>
</file>