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4CD4-DA06-4044-B982-4D2530C7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CFB7-AF8D-428F-BC72-C01A6AF7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E5CE-CE98-4878-84F1-61C395FB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27C-B235-439D-A89A-3F77FD90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54F-7A47-477A-9FC1-3B9E42D7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8BA-17B6-41BA-8CFF-8F9DCCC9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60FD-F86B-4C72-93CF-92AD768D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FBB5-E139-4CFB-BF61-03A4C69E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99C2-DE3B-4FCB-9320-42787FB8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F396-F42C-4445-A8B8-C8CD6F7B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E49B-C067-4957-A3C7-7201D65B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1CC0-23D4-439A-8908-91CBA519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F95C-BB23-4E41-B8C4-577F610DC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379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стратегического планирования в условиях муниципальной реформы и модернизации финансово-бюджетного процес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6680" y="161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16" descr=""/>
          <p:cNvPicPr/>
          <p:nvPr/>
        </p:nvPicPr>
        <p:blipFill>
          <a:blip r:embed="rId1"/>
          <a:stretch/>
        </p:blipFill>
        <p:spPr>
          <a:xfrm>
            <a:off x="304920" y="816120"/>
            <a:ext cx="883908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3440" y="146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9" descr=""/>
          <p:cNvPicPr/>
          <p:nvPr/>
        </p:nvPicPr>
        <p:blipFill>
          <a:blip r:embed="rId1"/>
          <a:stretch/>
        </p:blipFill>
        <p:spPr>
          <a:xfrm>
            <a:off x="1603440" y="1465200"/>
            <a:ext cx="59389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668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m6" descr=""/>
          <p:cNvPicPr/>
          <p:nvPr/>
        </p:nvPicPr>
        <p:blipFill>
          <a:blip r:embed="rId1"/>
          <a:stretch/>
        </p:blipFill>
        <p:spPr>
          <a:xfrm>
            <a:off x="152280" y="419040"/>
            <a:ext cx="876312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03440" y="181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m10" descr=""/>
          <p:cNvPicPr/>
          <p:nvPr/>
        </p:nvPicPr>
        <p:blipFill>
          <a:blip r:embed="rId1"/>
          <a:stretch/>
        </p:blipFill>
        <p:spPr>
          <a:xfrm>
            <a:off x="1603440" y="1817640"/>
            <a:ext cx="59389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1:09:28Z</dcterms:created>
  <dc:creator>user</dc:creator>
  <dc:description/>
  <dc:language>en-US</dc:language>
  <cp:lastModifiedBy>user</cp:lastModifiedBy>
  <dcterms:modified xsi:type="dcterms:W3CDTF">2004-10-20T11:16:30Z</dcterms:modified>
  <cp:revision>2</cp:revision>
  <dc:subject/>
  <dc:title>Презентация PowerPoint</dc:title>
</cp:coreProperties>
</file>