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AE6-979A-4642-B8D6-4D9AA926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102-3DDF-4F50-A20C-77F135EF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0D3-9E70-4F84-BFAA-C5FBB41D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49D-9F26-425E-AB55-BE7FDEE6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E22-DACF-4B8A-B1E6-9D01E7C1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607-60E7-4DBA-A474-825E904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4D2-E3E0-4B8D-A4B6-5EDAC676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703-0DBD-491B-AB89-E80CCC20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817-B87D-41C5-9C35-15ECB8B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677-7DEB-49A0-B94D-980530B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DEB-CD3A-44F5-9605-6CC42FA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B6A-08C9-46B1-A105-CA8484A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A79-C59A-4129-9EDA-A4E35CB4B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468360" y="1773360"/>
            <a:ext cx="8351640" cy="388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Система 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осударственного 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ланирования 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анкт-Петербурга"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723920" y="-3733560"/>
            <a:ext cx="304560" cy="838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04920"/>
            <a:ext cx="8229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badi MT Condensed Light"/>
              </a:rPr>
              <a:t>КОМИТЕТ ЭКОНОМИЧЕСКОГО РАЗВИТИЯ, ПРОМЫШЛЕННОЙ ПОЛИТИКИ И ТОРГОВ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атегический план Санкт-Петербурга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енеральный план развития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98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Генеральный план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градостроительная документация о градостроительном планировании развития территорий городских и сельских посе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Генеральный план в системе государственного планирования Санкт-Петербурга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– это пространственные решения реализации политик и резервные территории для развития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41440" y="2924280"/>
          <a:ext cx="352908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2924280"/>
                    <a:ext cx="35290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45080" y="2924280"/>
          <a:ext cx="3608280" cy="304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5080" y="2924280"/>
                    <a:ext cx="36082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41440" y="5948280"/>
            <a:ext cx="34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badi MT Condensed Light"/>
              </a:rPr>
              <a:t>Плотность населения чел./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5080" y="5948280"/>
            <a:ext cx="3816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badi MT Condensed Light"/>
              </a:rPr>
              <a:t>Плотность мест приложения труда чел./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2160" y="6237360"/>
            <a:ext cx="3386520" cy="497520"/>
            <a:chOff x="632160" y="6237360"/>
            <a:chExt cx="3386520" cy="497520"/>
          </a:xfrm>
        </p:grpSpPr>
        <p:sp>
          <p:nvSpPr>
            <p:cNvPr id="160" name=""/>
            <p:cNvSpPr/>
            <p:nvPr/>
          </p:nvSpPr>
          <p:spPr>
            <a:xfrm>
              <a:off x="632160" y="6272280"/>
              <a:ext cx="116640" cy="170280"/>
            </a:xfrm>
            <a:prstGeom prst="rect">
              <a:avLst/>
            </a:prstGeom>
            <a:solidFill>
              <a:srgbClr val="b95927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1720" y="623736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</a:rPr>
                <a:t>265 – 5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160" y="6509880"/>
              <a:ext cx="116640" cy="169200"/>
            </a:xfrm>
            <a:prstGeom prst="rect">
              <a:avLst/>
            </a:prstGeom>
            <a:solidFill>
              <a:srgbClr val="f4a642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1720" y="646020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</a:rPr>
                <a:t>169 – 26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6040" y="6272280"/>
              <a:ext cx="97200" cy="170280"/>
            </a:xfrm>
            <a:prstGeom prst="rect">
              <a:avLst/>
            </a:prstGeom>
            <a:solidFill>
              <a:srgbClr val="e1c19a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24360" y="623736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</a:rPr>
                <a:t>98 – 1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6040" y="6509880"/>
              <a:ext cx="97200" cy="169200"/>
            </a:xfrm>
            <a:prstGeom prst="rect">
              <a:avLst/>
            </a:prstGeom>
            <a:solidFill>
              <a:srgbClr val="eee199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4000" y="6460200"/>
              <a:ext cx="817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52 –  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64760" y="6272280"/>
              <a:ext cx="116640" cy="170280"/>
            </a:xfrm>
            <a:prstGeom prst="rect">
              <a:avLst/>
            </a:prstGeom>
            <a:solidFill>
              <a:srgbClr val="f0dbbc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08480" y="62373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</a:rPr>
                <a:t>9 –  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64760" y="6509880"/>
              <a:ext cx="116640" cy="169200"/>
            </a:xfrm>
            <a:prstGeom prst="rect">
              <a:avLst/>
            </a:prstGeom>
            <a:solidFill>
              <a:srgbClr val="f1ebd3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5680" y="646020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</a:rPr>
                <a:t>0 –   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810680" y="6237360"/>
            <a:ext cx="3843000" cy="495720"/>
            <a:chOff x="4810680" y="6237360"/>
            <a:chExt cx="3843000" cy="495720"/>
          </a:xfrm>
        </p:grpSpPr>
        <p:sp>
          <p:nvSpPr>
            <p:cNvPr id="173" name=""/>
            <p:cNvSpPr/>
            <p:nvPr/>
          </p:nvSpPr>
          <p:spPr>
            <a:xfrm>
              <a:off x="4810680" y="6302160"/>
              <a:ext cx="124920" cy="180000"/>
            </a:xfrm>
            <a:prstGeom prst="rect">
              <a:avLst/>
            </a:prstGeom>
            <a:solidFill>
              <a:srgbClr val="311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10680" y="630216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11840" y="626040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</a:rPr>
                <a:t>220 – 3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10680" y="6529680"/>
              <a:ext cx="124920" cy="180000"/>
            </a:xfrm>
            <a:prstGeom prst="rect">
              <a:avLst/>
            </a:prstGeom>
            <a:solidFill>
              <a:srgbClr val="30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10680" y="652968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11840" y="648936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</a:rPr>
                <a:t>112 – 2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73440" y="6278760"/>
              <a:ext cx="124920" cy="180000"/>
            </a:xfrm>
            <a:prstGeom prst="rect">
              <a:avLst/>
            </a:prstGeom>
            <a:solidFill>
              <a:srgbClr val="6c4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73440" y="627876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66040" y="623736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</a:rPr>
                <a:t>52 – 1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73440" y="6506280"/>
              <a:ext cx="124920" cy="180000"/>
            </a:xfrm>
            <a:prstGeom prst="rect">
              <a:avLst/>
            </a:prstGeom>
            <a:solidFill>
              <a:srgbClr val="977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73440" y="650628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73600" y="6464520"/>
              <a:ext cx="72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</a:rPr>
                <a:t>28 –  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56560" y="6289560"/>
              <a:ext cx="125640" cy="180000"/>
            </a:xfrm>
            <a:prstGeom prst="rect">
              <a:avLst/>
            </a:prstGeom>
            <a:solidFill>
              <a:srgbClr val="b6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56560" y="6289560"/>
              <a:ext cx="12564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43480" y="62481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</a:rPr>
                <a:t>8 –  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56560" y="6518880"/>
              <a:ext cx="125640" cy="180000"/>
            </a:xfrm>
            <a:prstGeom prst="rect">
              <a:avLst/>
            </a:prstGeom>
            <a:solidFill>
              <a:srgbClr val="e7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56560" y="6518880"/>
              <a:ext cx="12564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57520" y="647856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31516"/>
                  </a:solidFill>
                  <a:latin typeface="Abadi MT Condensed Light"/>
                </a:rPr>
                <a:t>0 –  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рамма социально-экономического развития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2920" y="1052640"/>
            <a:ext cx="88930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рограмма социально-экономического развития Санкт-Петербур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документ, содержащий комплекс взаимоувязанных мероприятий (в том числе целевых программ), направленных на реализацию основных положений Стратегического плана Санкт-Петербурга, обеспечение минимальных стандартов и достижение целевых стандар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рограмма социально-экономического развития включает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1. Нормативы стандартов качества (целевые и аварийные (пороговые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2. Перечень целевых программ,  АПКВ, Ф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Адресная программа капитальных вложений (АПКВ)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- перечень строек и объектов городского хозяйства с указанием государственного заказчика Санкт-Петербурга (далее - государственный заказчик), строительного (в некоторых случаях юридического) адреса, отрасли городского хозяйства и объем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Фонд развития инфраструктуры (ФРИ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фонд денежных средств, образуемый, начиная с 2003 года, в соответствии с законодательством Российской Федерации в составе бюджета Санкт-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50920" y="333360"/>
            <a:ext cx="8713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Программа социально-экономического развития </a:t>
            </a:r>
            <a:br>
              <a:rPr sz="2400"/>
            </a:b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Санкт-Петербурга включает в себя следующие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52360"/>
            <a:ext cx="88200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Демографическая 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. Градостроительная 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. Промышленная, научно-техническая и инновационная 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. Политика в области тран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. Политика в области здравоохра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. Политика в области информации, связи и телекоммуник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7. Политика в области на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8. Политика в области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9. Политика в области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0. Экологическая 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1. Политика в области социальной защиты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2. Политика в области жилищно-коммунального хозя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3. Политика в области потребительск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4. Политика в области физкультуры и 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5. Политика в области развития тур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6. Политика в области обеспечения личной и общественной без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7. Политика в области государственного и муниципальн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8. Политика в области инженерного обеспечения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9. Политика в сфере управления государственным имуще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Ресурсное обеспечение  полит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19700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Ресурсы, подлежащие плановому распределению между политик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ерритор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опливно-энергетические ресур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ехногенная нагрузка на окружающую среду(эколог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с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инан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Инструменты планирования и распределения ресурсов: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опливно-энергетический бал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Демографический бал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аланс терри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кологический балан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ерспективный финансов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280" y="260280"/>
            <a:ext cx="8893440" cy="6526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56944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Что дает программа для Санкт-Петербурга?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7840" y="1216080"/>
            <a:ext cx="837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6200" y="928800"/>
            <a:ext cx="858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7920" y="836640"/>
            <a:ext cx="965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Вводятся измеримые цели социально-эконом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Развития Санкт-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2. Вводятся показатели эффективности деятельности Правитель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и его орг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3. Вводятся стандарты качества жизни в Санкт-Петербурге и норм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их обеспе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4. Устанавливается обязанность Правительства по соблюд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стандартов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5. Вводятся балансы общественно-значимых  ресурсов, как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Инструмент государственного 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6. Конкретные Планы работы Прав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спективный финансовый план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1131840"/>
            <a:ext cx="889344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ный финансовый план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ерспективный финансовый план - документ, формируемый одновременно с проектом бюджета на очередной финансовый год на основе среднесрочного прогноза социально-экономического развития Российской Федерации, субъекта Российской Федерации, муниципального образования и содержащий данные о прогнозных возможностях бюджета по мобилизации доходов, привлечению государственных или муниципальных заимствований и финансированию основных расходо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редполагаемую структура бюд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олитику доходов и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Минимальные нормативы бюджетной обеспеченности аварийных нормативов стандартов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жегодное послание Губернатора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68280"/>
            <a:ext cx="88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Ежегодное послание Губернатора Санкт-Петербурга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содерж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иерархическую систему целей социально-экономического развития Санкт-Петербурга на перспективу в три - пять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перечень целевых показателей стандартов качества на ближайшую перспективу, предложения по возможным изменениям в Стратегическом плане (отдельные политики, реестр государственных функц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перечень и возможно размеры нормативы бюджетной обеспеченности на текущий го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задачи на бюджет развития (уточненный размер доходов и расходов, АПКВ, ФРИ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элементы системы целей, подлежащие реализации в предстоящем бюджетном году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юджет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34136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Бюджет Санкт-Петербург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- форма образования и расходования фонда денежных средств, предназначенных для финансового обеспечения задач и функций государства и местного самоуправ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Бюджет в первую очередь финансирует нормы бюджетной обеспеченности аварийных показателей стандартов и минимальных социальных стандартов, определенных в ежегодном послании Губернатора. Остальная часть бюджета, определенная в перспективном финансовом плане, распределяется в соответствии с программой социально-экономического развития между проектами развития территории и целевыми программами, направленными на достижения целевых показателей, определенных в Стратегическом пл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рядок формирования бюджета Санкт-Петербурга при системе государственного планирования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052640"/>
            <a:ext cx="208764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Цели социально-экономического развития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205000"/>
            <a:ext cx="2087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онцеп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1339920"/>
            <a:ext cx="38876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тандарты качеств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1916280"/>
            <a:ext cx="3887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Государственные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2708280"/>
            <a:ext cx="388764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ормативы стандартов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аварийные и цел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64000" y="3282840"/>
            <a:ext cx="3887640" cy="57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рограмма социально-эконом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4290840"/>
            <a:ext cx="38876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инимальные нормативы бюджетной обеспе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4867200"/>
            <a:ext cx="388764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ерспективный финансовый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220500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3860640"/>
            <a:ext cx="358920" cy="430200"/>
          </a:xfrm>
          <a:prstGeom prst="downArrow">
            <a:avLst>
              <a:gd name="adj1" fmla="val 50000"/>
              <a:gd name="adj2" fmla="val 2996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2720" y="515772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566100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жегодные нормативы бюджетной обеспе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2924280"/>
            <a:ext cx="2087640" cy="24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Корректировка Стратегическо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Корректировка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Ежегодные нормативы бюджетной обеспе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1557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627280" y="3068640"/>
            <a:ext cx="936720" cy="865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4292640"/>
            <a:ext cx="9367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627280" y="1844280"/>
            <a:ext cx="936720" cy="165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5373720"/>
            <a:ext cx="20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Ежегодное послание Губернатор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6237360"/>
            <a:ext cx="3816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Бюджет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244000" y="1268280"/>
            <a:ext cx="649080" cy="518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естр государственных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7668000" y="1340640"/>
            <a:ext cx="358920" cy="792360"/>
          </a:xfrm>
          <a:prstGeom prst="downArrow">
            <a:avLst>
              <a:gd name="adj1" fmla="val 50000"/>
              <a:gd name="adj2" fmla="val 551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7668000" y="2707200"/>
            <a:ext cx="358560" cy="792360"/>
          </a:xfrm>
          <a:prstGeom prst="downArrow">
            <a:avLst>
              <a:gd name="adj1" fmla="val 50000"/>
              <a:gd name="adj2" fmla="val 552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7668000" y="4291560"/>
            <a:ext cx="358560" cy="792360"/>
          </a:xfrm>
          <a:prstGeom prst="downArrow">
            <a:avLst>
              <a:gd name="adj1" fmla="val 50000"/>
              <a:gd name="adj2" fmla="val 552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7668000" y="5517360"/>
            <a:ext cx="358920" cy="792360"/>
          </a:xfrm>
          <a:prstGeom prst="downArrow">
            <a:avLst>
              <a:gd name="adj1" fmla="val 50000"/>
              <a:gd name="adj2" fmla="val 551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27280" y="4724280"/>
            <a:ext cx="100800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badi MT Condensed Light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уктура документов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badi MT Condensed Light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Нормативы стандартов качест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Целевые программы, АПКВ, ФР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Предполагаемая структура бюджета           Политика доходов и расходов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Минимальные нормативы бюджетной обеспеченности стандартов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badi MT Condensed Light"/>
              </a:rPr>
              <a:t>Политики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badi MT Condensed Light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badi MT Condensed Light"/>
              </a:rPr>
              <a:t>стандарты, пространственное решение, инфраструктура, ресурс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badi MT Condensed Light"/>
              </a:rPr>
              <a:t>Реестр государственных функц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енеральный план развития СП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Цели и приоритеты социально-экономического развит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6000" y="638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Light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1852200"/>
            <a:ext cx="360072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Цели и задачи Правительства СПб              Корректировка Программы СЭР и Стратегического пл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Приоритеты, структура бюджета                 Нормативы бюджетной обеспеченности          Лимиты целевых программ, АПКВ, ФРИ и п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План доходов и расх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712360" y="659124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ели и задачи системы государственного планирования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68280"/>
            <a:ext cx="9144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Цели: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Обеспечение устойчивого сбалансированного социально-экономического развития Санкт-Петербур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Переход от хаотичного развития города к упорядоченному, целенап-равленному развитию, позволяющему эффективно решать актуальные проблемы социально-экономического развития г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54280"/>
            <a:ext cx="907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Упорядочивание процесса финансового, пространственного, организационного план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Формирование единого подхода к планированию и прогнозированию  развития Санкт-Петербурга на основе построения четкой взаимоувязанной системы документов стратегического план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Создание непрерывной системы принятия эффективных управленческих решений на уровне органов власти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нципы построения Системы государственного планирования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197000"/>
            <a:ext cx="87854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Эффективн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Предполагает, что система государственного планирования обеспечивает эффективное достижение поставленных целей в различных сферах жизни Санкт-Петербурга (рост ВРП и удвоение бюджета Санкт-Петербурга). Включает в себя экономическую эффективность и социальную 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Управляем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Предполагает, что в системе государственного планирования существует постоянное управленческое воздействие со стороны органов государственной власти. То есть система фиксирует государственные функции по управлению эконом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3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Многовариантность и оптимальн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Предполагает   наличие различных вариантов развития города, при этом система государственного планирования позволяет выбрать наилучший, оптимальный вариант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4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Системность и комплексн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Предполагает, что система государственного планирования охватывает все сферы жизни города, а при разработке документов стратегического планирования учитывается все многообразие факторов, определяющих развитие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badi MT Condensed Light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уктура документов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badi MT Condensed Light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Нормативы стандартов качест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Целевые программы, АПКВ, ФР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Предполагаемая структура бюджета           Политика доходов и расходов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Минимальные нормативы бюджетной обеспеченности стандартов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badi MT Condensed Light"/>
              </a:rPr>
              <a:t>Политики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badi MT Condensed Light"/>
              </a:rPr>
              <a:t>:</a:t>
            </a: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badi MT Condensed Light"/>
              </a:rPr>
              <a:t>стандарты, пространственное решение, инфраструктура, ресурс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badi MT Condensed Light"/>
              </a:rPr>
              <a:t>Реестр государственных функц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енеральный план развития СП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Цели и приоритеты социально-экономического развит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00" y="638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Light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852200"/>
            <a:ext cx="360072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Цели и задачи Правительства СПб              Корректировка Программы СЭР и Стратегического пл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Приоритеты, структура бюджета                 Нормативы бюджетной обеспеченности          Лимиты целевых программ, АПКВ, ФРИ и п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badi MT Condensed Light"/>
              </a:rPr>
              <a:t>План доходов и расх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12360" y="659124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рядок формирования бюджета Санкт-Петербурга при системе государственного планирования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052640"/>
            <a:ext cx="208764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Цели социально-экономического развития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205000"/>
            <a:ext cx="2087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онцеп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339920"/>
            <a:ext cx="38876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тандарты качеств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1916280"/>
            <a:ext cx="3887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Государственные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708280"/>
            <a:ext cx="388764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ормативы стандартов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аварийные и цел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3282840"/>
            <a:ext cx="3887640" cy="57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рограмма социально-эконом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4290840"/>
            <a:ext cx="38876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инимальные нормативы бюджетной обеспе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867200"/>
            <a:ext cx="388764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ерспективный финансовый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220500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3860640"/>
            <a:ext cx="358920" cy="430200"/>
          </a:xfrm>
          <a:prstGeom prst="downArrow">
            <a:avLst>
              <a:gd name="adj1" fmla="val 50000"/>
              <a:gd name="adj2" fmla="val 2996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515772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566100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жегодные нормативы бюджетной обеспе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924280"/>
            <a:ext cx="2087640" cy="24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Корректировка Стратегическо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Корректировка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Ежегодные нормативы бюджетной обеспе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1557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627280" y="3068640"/>
            <a:ext cx="936720" cy="865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4292640"/>
            <a:ext cx="9367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27280" y="1844280"/>
            <a:ext cx="936720" cy="165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373720"/>
            <a:ext cx="20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Ежегодное послание Губернатор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6237360"/>
            <a:ext cx="3816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Бюджет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244000" y="1268280"/>
            <a:ext cx="649080" cy="518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естр государственных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668000" y="1340640"/>
            <a:ext cx="358920" cy="792360"/>
          </a:xfrm>
          <a:prstGeom prst="downArrow">
            <a:avLst>
              <a:gd name="adj1" fmla="val 50000"/>
              <a:gd name="adj2" fmla="val 551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668000" y="2707200"/>
            <a:ext cx="358560" cy="792360"/>
          </a:xfrm>
          <a:prstGeom prst="downArrow">
            <a:avLst>
              <a:gd name="adj1" fmla="val 50000"/>
              <a:gd name="adj2" fmla="val 552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7668000" y="4291560"/>
            <a:ext cx="358560" cy="792360"/>
          </a:xfrm>
          <a:prstGeom prst="downArrow">
            <a:avLst>
              <a:gd name="adj1" fmla="val 50000"/>
              <a:gd name="adj2" fmla="val 552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668000" y="5517360"/>
            <a:ext cx="358920" cy="792360"/>
          </a:xfrm>
          <a:prstGeom prst="downArrow">
            <a:avLst>
              <a:gd name="adj1" fmla="val 50000"/>
              <a:gd name="adj2" fmla="val 551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4724280"/>
            <a:ext cx="100800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63840"/>
            <a:ext cx="9144000" cy="5178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нцепция социально-экономического развития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125360"/>
            <a:ext cx="8569080" cy="54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9640" indent="-3603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Главная (стратегическая) це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- стабильное улучшение качества жизни всех слоев населения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Базовые параметры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В городе будут проживать 4,7 млн.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Ожидаемая продолжительность жизни при рождении достигнет 7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Среднемесячная начисленная заработная плата составит около 2 тыс. долл. США (по паритету покупательной способности российского рубля в 2003 год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Доля населения с низкими доходами не будет превышать 10% от общей численност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Общий уровень жизни в городе будет таким, что Санкт-Петербург будет привлекать ежегодно до 35 тысяч мигрантов - квалифицированных специалистов трудоспособ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Среднегодовые темпы роста валового регионального продукта (ВРП) будут составлять не менее 6-8%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В структуре ВРП будут преобладать услуги (8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Прямые иностранные инвестиции достигнут 2 млрд. долларов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6036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Число туристов из-за рубежа достигнет 8 млн. в год, количество мест в гостиницах вырастет с 30 до 150 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атегический план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620640"/>
            <a:ext cx="878544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Стратегический план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– документ, представляющий собой научно-обоснованную систему целей социально-экономического развития Санкт-Петербурга и мероприятий по их достижению. Стратегический план включает в себя свод государственных политик в различных областях жизнедеятельности Санкт-Петербурга, Генеральный план развития Санкт-Петербурга, реестр государственных функций Санкт-Петербурга и комплексный прогноз социально-экономическ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08360" y="4581360"/>
          <a:ext cx="2386080" cy="1004760"/>
        </p:xfrm>
        <a:graphic>
          <a:graphicData uri="http://schemas.openxmlformats.org/drawingml/2006/table">
            <a:tbl>
              <a:tblPr/>
              <a:tblGrid>
                <a:gridCol w="2386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неральный план развития Санкт-Петербур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411280" y="2852640"/>
            <a:ext cx="4608720" cy="10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badi MT Condensed Light"/>
              </a:rPr>
              <a:t>Стратегический пл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badi MT Condensed Light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4581360"/>
          <a:ext cx="2374560" cy="935280"/>
        </p:xfrm>
        <a:graphic>
          <a:graphicData uri="http://schemas.openxmlformats.org/drawingml/2006/table">
            <a:tbl>
              <a:tblPr/>
              <a:tblGrid>
                <a:gridCol w="237456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бор полит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526080" y="4510080"/>
          <a:ext cx="2374920" cy="10047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естр государственных фун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 rot="19200000">
            <a:off x="6437160" y="4003200"/>
            <a:ext cx="863640" cy="462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94080" y="4005360"/>
            <a:ext cx="863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8360" y="580536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adi MT Condensed Light"/>
              </a:rPr>
              <a:t>Территориальное 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589720"/>
            <a:ext cx="280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adi MT Condensed Light"/>
              </a:rPr>
              <a:t>Стандарты ка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adi MT Condensed Light"/>
              </a:rPr>
              <a:t>Ресурсное обеспечение Комплекс административных и финансов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26080" y="551664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adi MT Condensed Light"/>
              </a:rPr>
              <a:t>Роль государства в эконом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397600">
            <a:off x="2174400" y="3975120"/>
            <a:ext cx="863640" cy="54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атегический план Санкт-Петербурга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осударственные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2920" y="1197000"/>
            <a:ext cx="88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Государственная политика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система основных целей развития Санкт-Петербурга в отдельной области жизнедеятельности города, согласующаяся с целями Стратегического пла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стандарты качества Санкт-Петербур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ресурсное обеспечение достижения стандартов качества Санкт-Петербурга с учетом пространственно-территориальных решений Генерального плана Санкт-Петербур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инфраструктура достижения стандартов качества Санкт-Петер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159080"/>
            <a:ext cx="8893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Государственная политика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анализ ситуации и описание основных проб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стандарты качества и их обосн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ресурсное обеспеч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территориально-пространственные решения по обеспечению стандартов ка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 основные направления реализации политики с учетом ресурсных огранич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хема подготовки элементов стратегического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268280"/>
            <a:ext cx="4105080" cy="68436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badi MT Condensed Light"/>
              </a:rPr>
              <a:t>Набор поли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205000"/>
            <a:ext cx="4105080" cy="68436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badi MT Condensed Light"/>
              </a:rPr>
              <a:t>Стандарты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3141720"/>
            <a:ext cx="4105080" cy="6840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badi MT Condensed Light"/>
              </a:rPr>
              <a:t>Баланс терри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4076640"/>
            <a:ext cx="4105080" cy="68436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badi MT Condensed Light"/>
              </a:rPr>
              <a:t>Ресурс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5013360"/>
            <a:ext cx="4105080" cy="6840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badi MT Condensed Light"/>
              </a:rPr>
              <a:t>Инфраструктур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950080"/>
            <a:ext cx="4105080" cy="6840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badi MT Condensed Light"/>
              </a:rPr>
              <a:t>Нормативы стандартов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2720" y="1268280"/>
            <a:ext cx="338472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badi MT Condensed Light"/>
              </a:rPr>
              <a:t>Устанавливается постановлением Правительств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badi MT Condensed Light"/>
              </a:rPr>
              <a:t>Определяются КЭРПП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badi MT Condensed Light"/>
              </a:rPr>
              <a:t>Предлагается отраслевыми комите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badi MT Condensed Light"/>
              </a:rPr>
              <a:t>Устанавливается постановлением Правительств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badi MT Condensed Light"/>
              </a:rPr>
              <a:t>Разрабатываются КЭРПП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164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57164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1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642920" y="4698720"/>
            <a:ext cx="57636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571640" y="630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642920" y="501336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773360"/>
            <a:ext cx="671760" cy="4464000"/>
          </a:xfrm>
          <a:prstGeom prst="downArrow">
            <a:avLst>
              <a:gd name="adj1" fmla="val 50000"/>
              <a:gd name="adj2" fmla="val 166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1:48:31Z</dcterms:created>
  <dc:creator>blank_v</dc:creator>
  <dc:description/>
  <dc:language>en-US</dc:language>
  <cp:lastModifiedBy>Ira</cp:lastModifiedBy>
  <dcterms:modified xsi:type="dcterms:W3CDTF">2004-10-20T08:28:15Z</dcterms:modified>
  <cp:revision>1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1137634</vt:r8>
  </property>
  <property fmtid="{D5CDD505-2E9C-101B-9397-08002B2CF9AE}" pid="3" name="_AuthorEmail">
    <vt:lpwstr>karyakin@CEDIPT.cedipt.com</vt:lpwstr>
  </property>
  <property fmtid="{D5CDD505-2E9C-101B-9397-08002B2CF9AE}" pid="4" name="_AuthorEmailDisplayName">
    <vt:lpwstr>Карякин Г.А.</vt:lpwstr>
  </property>
  <property fmtid="{D5CDD505-2E9C-101B-9397-08002B2CF9AE}" pid="5" name="_EmailSubject">
    <vt:lpwstr>материалы по гос. планированию к форуму 20.10.2004</vt:lpwstr>
  </property>
</Properties>
</file>