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3F3-D9EE-4D17-A982-AD6778AB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936-42E9-49F1-BEF4-3406C75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584-2C7E-4A03-9D06-8F97D407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962-B46C-4648-BBA1-37DD2AF6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5C0-8746-4C41-868B-256AED6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5C1-FAC9-4A71-8F5E-F63F3536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662-B1E0-4F67-813A-58CC9BB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1DE-C563-4D7C-81A1-4BD1A0A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364-6C59-48F6-AF59-317A9DB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9D9-99E3-4C73-B189-94352D7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2C7-17F9-45C9-818D-2B3FA6B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DBA-F001-4C4B-9572-50F29D3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DE9-4D54-42DA-AAAA-4D0F1D0FE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7345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екс лучшей практики как инструмент муниципального управления и планирования</a:t>
            </a: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тровв Г.Ю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ор направления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Муниципальное экономическое развитие» Фонд «Институт экономики город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4640"/>
            <a:ext cx="1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6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ратегическое планирование в городах и регион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, 20-21 октября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86360" y="619200"/>
            <a:ext cx="1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0920" y="547560"/>
            <a:ext cx="1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1052640"/>
            <a:ext cx="1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-819000"/>
            <a:ext cx="10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истика Кодекса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еография лучших практ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оло 40 российских муниципальных образований из 21 регио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331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дим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лог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ркут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ада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жегор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гор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зе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м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3213000"/>
            <a:ext cx="29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ор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а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рат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публика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м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ьян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баров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увашская 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росла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льнейшая работа над Кодексом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1374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аботка, изд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ращение КЛП в постоянно действующий форум в рамках соглашения между ИЭГ и КМО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можные формы работы – интернет-сайт, периодическое переиздание КЛП, проведение конференций и проч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ная информа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(095) 787-45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63-5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rov@urbaneconomics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@urbaneconomics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сто Кодекса лучшей практики в систем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П – инструмент для сбора, изучения и распространения лучших примеров муниципального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П – не альтернатива нормативным требованиям, а дополнение к 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П носит рекомендательный харак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Кодекс лучшей практики муниципальным образования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информации о лучших стандартах управления на муниципальном уров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активного участия в муниципальном «форум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имиджа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присоединения муниципальных образований к Кодексу лучшей прак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губо добровольное принятие стандартов КЛ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формального «членства» в КЛ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постепенного расширения участия в КЛ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альная ответственность за декларацию присоединения к КЛ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Кодекса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80629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части: Кодекс и Библиотека Кодек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хмерная группировка лучших практи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траслям муниципального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тепени распростра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о описано 61 прак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Кодекса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44640"/>
            <a:ext cx="8062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практики в Кодексе включае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перехода к практи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стандар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ходы к ре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практики в Библиотеке включае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исходной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апные мероприятия по ре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министративное и организационное обесп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кторы успешного внедр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блемы внедрения и пути их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траты на внед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ные результ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истика Кодекса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практик по отрасл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униципальное экономическое развитие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униципальные финансы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ый сектор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одское хозяйство (ЖКХ и транспорт)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формы в сфере земли и недвижимости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лищное финансирование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истика Кодекса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практик по объек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внутри» самих администраций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заимодействие администрации с муниципальными предприятиями, организациями и учреждениями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заимодействие с прочими хозяйствующими субъектами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заимодействие с населением, расширение межсекторного сотрудничества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истика Кодекса лучшей практики в сфере муниципаль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360"/>
            <a:ext cx="8137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личество практик по степени распространени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овый уровень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спективный уровень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тегический уровень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8:14:57Z</dcterms:created>
  <dc:creator>zaitseva</dc:creator>
  <dc:description/>
  <dc:language>en-US</dc:language>
  <cp:lastModifiedBy> user</cp:lastModifiedBy>
  <dcterms:modified xsi:type="dcterms:W3CDTF">2004-10-21T16:08:17Z</dcterms:modified>
  <cp:revision>47</cp:revision>
  <dc:subject/>
  <dc:title>Economic Forecasting for Large Russian Cities </dc:title>
</cp:coreProperties>
</file>