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A83-F1F6-4077-98D7-E074FC01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85D-50D4-41BC-BAC7-D65494F1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E8A-9545-4132-BD18-E9DE4FCC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459-91BE-4CA8-A9E0-61C1A194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A8C3-C6D8-4A98-9E97-B257910B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C4E1-001A-4CF8-B7E5-CBFC6015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096C-CC45-4252-8EB3-ECD4D218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A9DE-58C1-475B-B0BC-929BBE40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0354-186B-4A68-A871-CE51744C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FB82-E530-437A-836C-D534AADF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9993-011A-40B9-8E7C-8559312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25E-93AC-4C5C-AA27-0432F4F3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4E60-D5B7-4038-9A00-D98A275F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3A94-A7EB-4B21-A365-B3C29959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BE5A-2E2A-4062-89C9-51CBFBB0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59E0-9D98-4CA3-987A-AFF27B24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6899-9EF6-4F1E-852D-D6BCFB7C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10E-B138-42E0-8C80-BC44742F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F7B-A20D-4164-9739-CD1FBCC2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EAE-C3D9-47B0-9716-7CA27328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4F3-F7A4-4621-B9AF-816D9AA8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FCB-3DCE-4029-AF92-4097C21A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0B7-721B-4638-8F14-CF67AD39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9CA-82A1-4287-BCAE-7EF2BA42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2BCB-E707-4027-B73F-36148BF226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0EE3-AD32-4098-845C-50216D92A4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87804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82880"/>
            <a:ext cx="9144000" cy="1647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Ресурсный центр по стратегическому планированию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 Леонтьевском центре</a:t>
            </a:r>
            <a:br>
              <a:rPr sz="2000"/>
            </a:br>
            <a:br>
              <a:rPr sz="4000"/>
            </a:b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Б.С.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Жихаре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352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Территориально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стратегическо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планирование</a:t>
            </a:r>
            <a:br>
              <a:rPr sz="4000"/>
            </a:b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в Росс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1997 – 2004 гг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-30492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7467480" cy="413712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sp>
        <p:nvSpPr>
          <p:cNvPr id="355" name=""/>
          <p:cNvSpPr/>
          <p:nvPr/>
        </p:nvSpPr>
        <p:spPr>
          <a:xfrm>
            <a:off x="228600" y="48600"/>
            <a:ext cx="8915400" cy="86004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053"/>
                </a:solidFill>
                <a:latin typeface="Times New Roman"/>
                <a:ea typeface="Arial Unicode MS"/>
              </a:rPr>
              <a:t>Распределение ответов на  вопрос</a:t>
            </a:r>
            <a:br>
              <a:rPr sz="1600"/>
            </a:br>
            <a:r>
              <a:rPr b="1" lang="en-US" sz="1600" spc="-1" strike="noStrike">
                <a:solidFill>
                  <a:srgbClr val="003053"/>
                </a:solidFill>
                <a:latin typeface="Times New Roman"/>
                <a:ea typeface="Arial Unicode MS"/>
              </a:rPr>
              <a:t> </a:t>
            </a:r>
            <a:r>
              <a:rPr b="1" i="1" lang="ru-RU" sz="1600" spc="-1" strike="noStrike">
                <a:solidFill>
                  <a:srgbClr val="003053"/>
                </a:solidFill>
                <a:latin typeface="Times New Roman"/>
              </a:rPr>
              <a:t>«</a:t>
            </a:r>
            <a:r>
              <a:rPr b="1" i="1" lang="en-US" sz="1600" spc="-1" strike="noStrike">
                <a:solidFill>
                  <a:srgbClr val="003053"/>
                </a:solidFill>
                <a:latin typeface="Times New Roman"/>
                <a:ea typeface="Arial Unicode MS"/>
              </a:rPr>
              <a:t>Какое из приведенных высказываний точнее отражает Вашу точку зрения на стратегическое планирование на уровне муниципальных образований</a:t>
            </a:r>
            <a:r>
              <a:rPr b="1" i="1" lang="ru-RU" sz="1600" spc="-1" strike="noStrike">
                <a:solidFill>
                  <a:srgbClr val="003053"/>
                </a:solidFill>
                <a:latin typeface="Times New Roman"/>
              </a:rPr>
              <a:t>?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139760" y="1154160"/>
          <a:ext cx="7432920" cy="545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9760" y="1154160"/>
                    <a:ext cx="743292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45720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45720"/>
            <a:ext cx="8001000" cy="67860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ОЦЕНКА  МУНИЦИПАЛЬНЫМИ ВЛАСТЯМИ ВЛИЯНИЯ  СТРАТЕГИЧЕСКОГО ПЛАНИРОВАНИЯ  </a:t>
            </a: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(В СРЕДНЕМ ПО 38 АНКЕТА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87804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graphicFrame>
        <p:nvGraphicFramePr>
          <p:cNvPr id="361" name=""/>
          <p:cNvGraphicFramePr/>
          <p:nvPr/>
        </p:nvGraphicFramePr>
        <p:xfrm>
          <a:off x="476280" y="1198440"/>
          <a:ext cx="8442360" cy="608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198440"/>
                    <a:ext cx="844236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181800"/>
            <a:ext cx="8382240" cy="40428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ЧТО ДЕЛАЕТ ДОКУМЕНТ СТРАТЕГИЧЕСКИ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sp>
        <p:nvSpPr>
          <p:cNvPr id="366" name=""/>
          <p:cNvSpPr/>
          <p:nvPr/>
        </p:nvSpPr>
        <p:spPr>
          <a:xfrm>
            <a:off x="809640" y="1219320"/>
            <a:ext cx="79581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Территориальное стратегическое планирование - самостоятельное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в собственных интересах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определение сообществом целей и основных направлений устойчивого социально-экономического развития в динамичной конкурентной сре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редмет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конкурентоспособ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роцесс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диало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181800"/>
            <a:ext cx="8382240" cy="40428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ЧТО ДЕЛАЕТ ДОКУМЕНТ СТРАТЕГИЧЕСКИ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sp>
        <p:nvSpPr>
          <p:cNvPr id="370" name=""/>
          <p:cNvSpPr/>
          <p:nvPr/>
        </p:nvSpPr>
        <p:spPr>
          <a:xfrm>
            <a:off x="30492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Times New Roman"/>
              </a:rPr>
              <a:t>ВЗГЛЯД ИЗ БУДУЩЕГО В НАСТОЯЩЕ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Times New Roman"/>
              </a:rPr>
              <a:t>ВИДЕНИЕ ЖЕЛАЕМОГО БУДУЩЕГО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Times New Roman"/>
              </a:rPr>
              <a:t>ФОРМУЛИРОВКА МИССИ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Times New Roman"/>
              </a:rPr>
              <a:t>СЦЕНАРИ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Times New Roman"/>
              </a:rPr>
              <a:t>АНАЛИЗ КОНКУРЕНТОСПОСОБНОСТИ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Times New Roman"/>
              </a:rPr>
              <a:t>АНАЛИЗ ДВИЖУЩИХ СИЛ РАЗВИТ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Times New Roman"/>
              </a:rPr>
              <a:t>УЧЕТ ИНТЕРЕСОВ СУБЪЕКТОВ РАЗВИТ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Times New Roman"/>
              </a:rPr>
              <a:t>УЧАСТИЕ СТЕЙКХОЛДЕРОВ,  ПЕРЕГОВОРЫ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Times New Roman"/>
              </a:rPr>
              <a:t>ПРИОРИТЕТЫ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Times New Roman"/>
              </a:rPr>
              <a:t>НАЛИЧИЕ СУБЪЕКТА РЕАЛИЗАЦИ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6699"/>
                </a:solidFill>
                <a:latin typeface="Times New Roman"/>
              </a:rPr>
              <a:t>МОНИТОРИНГ</a:t>
            </a:r>
            <a:r>
              <a:rPr b="1" lang="ru-RU" sz="3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        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181800"/>
            <a:ext cx="8382240" cy="40428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ЛАБЫЕ СТОРОНЫ  СТРАТЕГИЧЕСКИХ ДОКУМ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795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отсутствие четких приоритет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 - нередко такие документы превращаются в "список благих намерений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отсутствие механизмов реализации и мониторинг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слабая увязка процесс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 стратегирования на 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федеральном, региональном и 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муниципальном уровн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слабая увязка с параллельными процессами в градостроительном или пространственном планировани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формальное вовлечение стейкхолдеров и населения, что резко снижает шансы на реализацию докуме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28600" y="1295280"/>
            <a:ext cx="8686800" cy="576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. Территориальное стратегическое планирование осмыслено научным сообществом, вошло в учебные программы профильных специально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2. Разработан развитый методический инструментарий, доведенный до технологического уровня (например, технология КРЭП Леонтьевского центра).  Этот инструментарий опубликован и доступен, что позволяет организовать процесс стратегического планирования специалистам средней квалифик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3. Сформировался корпус консультантов, владеющих технологиями стратегического планирования и ряд школ, развивающих несколько различающиеся подходы к стратегическому планирова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58920" y="260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овременный этап развития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, 2004 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34596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37320" y="175248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28600" y="1295280"/>
            <a:ext cx="8686800" cy="52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4. Разработано большое количество (сотни) стратегических документов регионального и муниципального уровня; стратегическое планирование становится обыденным процесс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5. Снижается объем поддержки стратегического планирования со стороны зарубежных донорских организаций, соответственно уменьшаются внешние стимулы к данной деятельности и возрастает значение внутренних стиму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6. Сформирована сетевая инфраструктура методической и информационной </a:t>
            </a: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оддержк</a:t>
            </a:r>
            <a:r>
              <a:rPr b="0" lang="ru-RU" sz="2400" spc="-1" strike="noStrike">
                <a:solidFill>
                  <a:srgbClr val="336699"/>
                </a:solidFill>
                <a:latin typeface="Times New Roman"/>
              </a:rPr>
              <a:t>и стратегического планировани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58920" y="260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овременный этап развития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, 2004 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34596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37320" y="175248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93480"/>
            <a:ext cx="8381880" cy="98316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http://www.citystrategy.leontief.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745164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-73080"/>
            <a:ext cx="8381880" cy="98316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луб городов стратегов (70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00000" y="714240"/>
            <a:ext cx="76806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5432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1447920"/>
            <a:ext cx="914400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Ресурсный центр и партнерская се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организац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Клуб консультант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по стратегическому планировани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Ассоциация специалистов по экономическому развитию территор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АССЭ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76360" y="189000"/>
            <a:ext cx="65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 Unicode MS"/>
              </a:rPr>
              <a:t>Ресурсный центр по стратегическому планированию при Леонтьевском центре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1066680"/>
            <a:ext cx="88390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1996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1997 г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г.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разработан Стратегический план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Санкт-Петербург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1998, 1999, 2000 г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 – начата разработка стратегических планов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Новосибирска, Омска и Екатеринбурга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1999 – 2002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гг.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– по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ограмме «Малые  города» Фонда Сороса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разработаны Стратегии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циально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-экономического развития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73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2000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 200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г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г.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 – разработаны Стратегии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сковской и Ленинградской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областей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, 5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шахтерских городов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ошли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мпании по разработке стратегических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ланов муниципальных образований в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алининградской, Тверской, Ивановской об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2003 -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иняты Стратегии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Казани, Екатеринбурга, Череповц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2004 –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иняты планы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Новосибирска, Петрозаводска, Железногорска,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дут работы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в Ростове-на-Дону, Хабаровске, Владивостоке, Псковской области;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вершаются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в Калининграде, Вологде, Артеме, … .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      </a:t>
            </a:r>
            <a:br>
              <a:rPr sz="1600"/>
            </a:b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 целом не менее 150 городов и районов попытались применить стратегическое планиро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3524040" cy="23288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28600" y="228600"/>
            <a:ext cx="8458200" cy="873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Penta"/>
              </a:rPr>
              <a:t>История стратегического планирования в городах Росс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1341360"/>
            <a:ext cx="8686800" cy="615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едеральный закон, систематизирующий работу по разработке программ, стратегий и концепций социально-экономического развития территорий, формирующий единый понятийный аппарат, регулирующий общие принципы планирования, предусматривающий систему индикаторов, а также механизм реализации планов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задающий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рядок планирования и требования обязательные  для планов, в осуществлении которых участвует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РФ,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рекомендательные для друг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9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рриториальное стратегическое планирование на уровне городов и регионов осмысленн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только если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йствует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государственная программа поддержки территорий – стратег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9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а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ичие общенациональной стратегии развития территорий и определенной иерархии стратег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58920" y="260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Тенденция 1. «Вертикаль». Унификация и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34596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37320" y="175248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04920" y="1752480"/>
            <a:ext cx="8686800" cy="460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охранение разнообразия подходов к стратегическому планировани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тремление к уникальн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ризнание главной ценностью стратегического планирования развития личности и местного сообще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58920" y="26028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Тенденция 2.   «Партнерство». Разнообразие и гуманизация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23880" y="34596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175248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04920" y="1752480"/>
            <a:ext cx="8686800" cy="543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облема реализации, проектного управ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ормативы и индикаторы как средство повышения результативности деятельности вла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офессионализация деятельности по экономическому развитию территорий, постоянство этой деятельности при изменении конкретных форм и методов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58920" y="260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Актуальные вопрос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34596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37320" y="175248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"/>
          <p:cNvGraphicFramePr/>
          <p:nvPr/>
        </p:nvGraphicFramePr>
        <p:xfrm>
          <a:off x="4014720" y="1585800"/>
          <a:ext cx="1166760" cy="16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4720" y="1585800"/>
                    <a:ext cx="116676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0" y="3398760"/>
            <a:ext cx="9144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СТРАТЕГИЧЕСКОЕ  ПЛАНИРО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В  ГОРОДАХ  И  РЕГИОН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РОССИИ</a:t>
            </a:r>
            <a:r>
              <a:rPr b="1" lang="ru-RU" sz="3200" spc="-1" strike="noStrike">
                <a:solidFill>
                  <a:srgbClr val="336699"/>
                </a:solidFill>
                <a:latin typeface="Times New Roman Cyr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Times New Roman Cyr"/>
              </a:rPr>
              <a:t>на новом витке рефор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28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ТРЕТИЙ  ОБЩЕРОССИЙС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ФОРУМ  ЛИДЕ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ТРАТЕГИЧЕСКОГО  ПЛАНИР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58672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20 – 21 октября 2004 г., Санкт-Петербур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0" y="1989000"/>
            <a:ext cx="9144000" cy="512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336699"/>
              </a:buClr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99"/>
                </a:solidFill>
                <a:uFillTx/>
                <a:latin typeface="Times New Roman Cyr"/>
                <a:ea typeface="Times New Roman"/>
              </a:rPr>
              <a:t>Вертикаль или партнерство</a:t>
            </a:r>
            <a:r>
              <a:rPr b="1" lang="ru-RU" sz="32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 Cyr"/>
              </a:rPr>
              <a:t>Согласование стратегий разных уровн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 Cyr"/>
              </a:rPr>
              <a:t>Межбюджетные отнош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 Cyr"/>
              </a:rPr>
              <a:t>Законодательное обеспеч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99"/>
                </a:solidFill>
                <a:uFillTx/>
                <a:latin typeface="Times New Roman Cyr"/>
              </a:rPr>
              <a:t>2. Реализац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 Cyr"/>
              </a:rPr>
              <a:t>Проект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 Cyr"/>
              </a:rPr>
              <a:t>Частно-государственные </a:t>
            </a: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Times New Roman Cyr"/>
              </a:rPr>
              <a:t>(частно-общественные) проек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 Cyr"/>
              </a:rPr>
              <a:t>Нормативы и индикатор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28600"/>
            <a:ext cx="9144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ТРЕТИЙ  ОБЩЕРОССИЙС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ФОРУМ  ЛИДЕ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ТРАТЕГИЧЕСКОГО  ПЛАНИРОВАНИЯ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возные тем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523880"/>
            <a:ext cx="8520120" cy="46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о ответам 217 городов (из 108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«В настоящее время многие города переходят от текущего и среднесрочного планирования к разработке долгосрочных стратегий собственного развит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половине ответивших на вопросы анкеты городов внедрен институт стратегического планирования местного социально-экономического развит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Малые и средние города по этому показателю не уступают большим, не являющимся центрами субъектов Федерации: во всех трех группах доля городов, разрабатывающих стратегии развития, близка к 50%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еди центров субъектов Федерации эта доля существенно выше – более 70%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260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Стратегическое планирование в городах России, по данным опроса ИЭГ, 2004 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34596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37320" y="175248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8600" y="1523880"/>
            <a:ext cx="419112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 Cyr"/>
              </a:rPr>
              <a:t>Имеют стратегические планы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Екатеринбур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Новосибирс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Челябинс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Каза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Омс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58920" y="260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Стратегическое планирование в городах миллионниках России, 2004 </a:t>
            </a: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34596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37320" y="175248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4572000"/>
            <a:ext cx="41911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 Cyr"/>
              </a:rPr>
              <a:t>Ведут разработку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Ростов-на-Дон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Волг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Перм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4191120"/>
            <a:ext cx="4191120" cy="7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 Cyr"/>
              </a:rPr>
              <a:t>Не планируют разработку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Уф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828800"/>
            <a:ext cx="4191120" cy="7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 Cyr"/>
              </a:rPr>
              <a:t>Незаконченные попытки разработки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Нижний Новгор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3124080"/>
            <a:ext cx="4190760" cy="7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 Cyr"/>
              </a:rPr>
              <a:t>Планируют начать разработку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 Cyr"/>
              </a:rPr>
              <a:t>Сам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6320" y="4114800"/>
            <a:ext cx="2286000" cy="246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ратовская область, Хабаровский край, Смоленская область, Тамбовская область, Томская область, Республика Дагестан, Брянская область.  Калининградская область, Мурманская область Алтайский край,  Приморский край, Республика Мордовия, Ивановская область, Чувашская республика, Пензенская обла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23760"/>
            <a:ext cx="7924680" cy="64260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НАЛИЧИЕ  СТРАТЕГИЧЕСКИХ  ДОКУМЕНТОВ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В  СУБЪЕКТАХ  ФЕДЕРАЦИИ, 200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5392800"/>
            <a:ext cx="18288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ярский край, Кемеровская область, Омская область, Свердловская область, Новгородская область, Оренбургская область, Тюменская обла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210280"/>
            <a:ext cx="1752480" cy="155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кутская область, Орловская область, Республика Карелия, Республика Марий Эл, Республика Татарстан, Ставропольский край, Кировская обла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5210280"/>
            <a:ext cx="2627280" cy="155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чатская область, Тверская область, Кабардино-Балкарская Республика, Ульяновская область, Воронежская область, Республика Бурятия, Магаданская область, Ростовская область, Республика Коми, Курская область, Самарская обла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" y="3838680"/>
            <a:ext cx="312840" cy="312480"/>
          </a:xfrm>
          <a:prstGeom prst="rect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3849840"/>
            <a:ext cx="121896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08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5105520"/>
            <a:ext cx="312840" cy="31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56240" y="5116680"/>
            <a:ext cx="121896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08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63840" y="4753080"/>
            <a:ext cx="295200" cy="493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51120" y="4761000"/>
            <a:ext cx="144000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ЦЕПЦИЯ  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72200" y="4944960"/>
            <a:ext cx="312840" cy="31284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77120" y="4952880"/>
            <a:ext cx="129528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08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506592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sp>
        <p:nvSpPr>
          <p:cNvPr id="334" name=""/>
          <p:cNvSpPr/>
          <p:nvPr/>
        </p:nvSpPr>
        <p:spPr>
          <a:xfrm>
            <a:off x="533520" y="304920"/>
            <a:ext cx="7924680" cy="36828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УЧАСТНИКИ ОПРОСА ЛЕОНТЬЕВСКОГО ЦЕНТРА, 200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1371600"/>
            <a:ext cx="18288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0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9 ГОР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410080" y="1371600"/>
            <a:ext cx="198144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РАЙ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143000" y="2362320"/>
            <a:ext cx="2666880" cy="299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99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ин, Астрахань, Вологда, Воркута, Заречный, Иваново, Ижевск, Казань, Кемерово, Киров (Калужская область), Курган, Курск, Лермонтов, Находка, Новошахтинск, Обнинск, Петрозаводск, Полысаево, Похвистнево, Ростов-на-Дону, Рыбинск, Самара, Саратов, Сургут, Хабаровск, Челябинск, Череповец, Южно-Сахалинс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05520" y="2362320"/>
            <a:ext cx="2590560" cy="299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иковский район, Бежецкий район Тверской области, Валдайский район, Каргопольский район, Красноармейский район, Ломоносовский район, округ Муром, Приозерский район, Пучежский район, Торопецкий район, Карачевский район, Грязовецкий район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23760"/>
            <a:ext cx="7924680" cy="91692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НАЛИЧИЕ  СТРАТЕГИЧЕСКИХ  ДОКУМЕНТОВ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В МУНИЦИПАЛЬНЫХ ОБРАЗОВАНИЯХ – УЧАСТНИКАХ ОПРОСА, 200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227240" y="1371600"/>
          <a:ext cx="6710400" cy="499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7240" y="1371600"/>
                    <a:ext cx="671040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87804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sp>
        <p:nvSpPr>
          <p:cNvPr id="345" name=""/>
          <p:cNvSpPr/>
          <p:nvPr/>
        </p:nvSpPr>
        <p:spPr>
          <a:xfrm>
            <a:off x="609480" y="45720"/>
            <a:ext cx="8001000" cy="67860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ИНТЕНСИВНОСТЬ ИСПОЛЬЗОВАНИЯ ЭЛЕМЕНТОВ ТЕХНОЛОГИИ СТРАТЕГИЧЕСКОГО ПЛАНИР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7240" y="765000"/>
          <a:ext cx="8934480" cy="5729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0" y="765000"/>
                    <a:ext cx="893448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5720"/>
            <a:ext cx="8001000" cy="67860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ИНТЕНСИВНОСТЬ ИСПОЛЬЗОВАНИЯ СТРАТЕГИИ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В ПРОЦЕССЕ УПРАВ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graphicFrame>
        <p:nvGraphicFramePr>
          <p:cNvPr id="351" name=""/>
          <p:cNvGraphicFramePr/>
          <p:nvPr/>
        </p:nvGraphicFramePr>
        <p:xfrm>
          <a:off x="71280" y="995400"/>
          <a:ext cx="8731440" cy="4387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" y="995400"/>
                    <a:ext cx="873144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1:17:07Z</dcterms:created>
  <dc:creator>user</dc:creator>
  <dc:description/>
  <dc:language>en-US</dc:language>
  <cp:lastModifiedBy>Boris Zhikharevich</cp:lastModifiedBy>
  <dcterms:modified xsi:type="dcterms:W3CDTF">2004-10-28T14:51:01Z</dcterms:modified>
  <cp:revision>228</cp:revision>
  <dc:subject/>
  <dc:title>Результаты анкетирования по стратегическому планированию</dc:title>
</cp:coreProperties>
</file>