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297-4165-4812-BC2C-8C1D56F3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7A5-8CD2-41C8-A52D-D7F63146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0FB-FCC6-4DC1-8272-5474BC68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44A-E3FB-4C5F-85B6-99955C44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6B6-9454-4691-BF97-0C212D0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9F7-D235-4DE5-BE8E-AC6C6497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050-828E-4856-A97B-C227B8A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28A-AD6C-4E01-A956-FE4099F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FF9-A110-4DAC-A17F-6C9B940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A97-EA97-4650-9794-6CE01443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030-2F37-48BC-9EE0-97ECECA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5FA-E88D-4BE1-B320-40F7106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031-DE44-458C-AD14-B4CFE856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дрение стратегического планирования на муниципальном уровне с позиции управления измене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585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унцев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д развития Заречного Технополи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дская Дума МО «г. Заре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ояние дел с использованием стратегического план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мощная технология, эффективная в муниципальном управл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технология многократно опробована и широко используется в смежных отраслях управления (бизнес, учрежд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я освоена  и   используется крупными городами, принося отличные результа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я редко применяется в остальных (малых) муниципальных образова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пизодический опыт такого применения в большинстве случаев не дает заметного для населения результ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ина неуспехов по оценке профессионалов в существующей практике межбюджетных отношений, в отсутствии опыта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окое внедрение технологии, безусловно (по мнению профессионалов), благоприятно скажется на муниципальном управлении независимо от условий в каждом данном муниципальном образовании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оответствие желаний и потребностей существующему состоянию де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емое состояние – широкое использование в практике муниципального управления стратегического планирования как эффективного инструмента, в котором профессионалы абсолютно увер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управления изменениями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имер: «Стратегия управления сложным изменением»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ало процесса  (Согласование предназначения, миссии организации;  Оценка внешних и внутренних условий; Обеспечение вовлечен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ение переходом (Постановка целей изменений; Осуществление изменений и развивающих мероприятий; Оценка и закрепление изменений: измерение результатов и обсуждение успех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аграмма поля си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54840" y="1778760"/>
            <a:ext cx="6410520" cy="4489200"/>
            <a:chOff x="1554840" y="1778760"/>
            <a:chExt cx="6410520" cy="4489200"/>
          </a:xfrm>
        </p:grpSpPr>
        <p:sp>
          <p:nvSpPr>
            <p:cNvPr id="52" name=""/>
            <p:cNvSpPr/>
            <p:nvPr/>
          </p:nvSpPr>
          <p:spPr>
            <a:xfrm>
              <a:off x="1554840" y="2723400"/>
              <a:ext cx="6267600" cy="271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Широкое внедрение стратегического планирования в практику муниципального управлен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4160" y="4141800"/>
              <a:ext cx="1392840" cy="1298520"/>
            </a:xfrm>
            <a:prstGeom prst="upArrow">
              <a:avLst>
                <a:gd name="adj1" fmla="val 46148"/>
                <a:gd name="adj2" fmla="val 222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щ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и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й опы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60280" y="4141800"/>
              <a:ext cx="1392840" cy="1298520"/>
            </a:xfrm>
            <a:prstGeom prst="upArrow">
              <a:avLst>
                <a:gd name="adj1" fmla="val 46148"/>
                <a:gd name="adj2" fmla="val 222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зб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тель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93160" y="4141800"/>
              <a:ext cx="1392840" cy="1298520"/>
            </a:xfrm>
            <a:prstGeom prst="upArrow">
              <a:avLst>
                <a:gd name="adj1" fmla="val 46148"/>
                <a:gd name="adj2" fmla="val 222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ем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27040" y="4141800"/>
              <a:ext cx="1392840" cy="1298520"/>
            </a:xfrm>
            <a:prstGeom prst="upArrow">
              <a:avLst>
                <a:gd name="adj1" fmla="val 46148"/>
                <a:gd name="adj2" fmla="val 222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е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циплинарный опыт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7000" y="2723400"/>
              <a:ext cx="3207240" cy="945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ер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исте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94160" y="1778760"/>
              <a:ext cx="1672200" cy="944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триц. опыт малых М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1778760"/>
              <a:ext cx="2508120" cy="944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серватизм  должностных ли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53120" y="1778760"/>
              <a:ext cx="1812240" cy="944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ежбюджетные отно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3120" y="5440680"/>
              <a:ext cx="1811160" cy="82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ССЭ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83960" y="5440680"/>
              <a:ext cx="1812240" cy="82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орода - страте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96200" y="5440680"/>
              <a:ext cx="2089440" cy="827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есс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чиновн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, заинтересованные в продвижении измен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ниципальные руководители в городах, имеющих успешный опыт стратегического пла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сионалы, заинтересованные в продвижении технологии как одной из 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ессивные чиновники, к числу которых можно отнести и кандидатов на различных муниципальных выб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, сопротивляющиеся продвижению измен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ниципальные лидеры, имеющие отрицательный опыт  использования стратегического пла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жностные лица регионального и федерального уровня не заинтересованные в успешной самостоятельности  муниципальных образ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жностные лица регионального уровня, заинтересованные в концентрации властных и финансовых ресурсов на  уровне рег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ю лидера, взявшего на себя роль основного координатора и инициатора  в деле продвижения стратегического планирования  в муниципальное управление, формировать не для 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поиска стратегии для внедрения изменения  должна трансформироваться в  совершенно другую задачу эффективной работы нашей  профессиональной общественной  организации (АССЭ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тегия АССЭ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вижение профессиональных интересов АССЭТ в законодательной и исполнительной власти всех уров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0:19:21Z</dcterms:created>
  <dc:creator>Евгений Нилович</dc:creator>
  <dc:description/>
  <dc:language>en-US</dc:language>
  <cp:lastModifiedBy>Евгений Нилович</cp:lastModifiedBy>
  <dcterms:modified xsi:type="dcterms:W3CDTF">2004-10-16T09:32:46Z</dcterms:modified>
  <cp:revision>6</cp:revision>
  <dc:subject/>
  <dc:title>Стратегия развития – инструмент управления  без власти.  </dc:title>
</cp:coreProperties>
</file>