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AB93-3902-480C-9424-EA237DEC9315}" type="slidenum">
              <a:rPr b="1" i="1" lang="fr-FR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Титульная страница Презентации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77760" y="77004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586040"/>
            <a:ext cx="50292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B –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</a:rPr>
              <a:t>Концессионный Сервисный Контракт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</a:rPr>
              <a:t> Часть 2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(1)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</a:rPr>
              <a:t>Людмила С. Колядич/ Венера Т. Низамутдино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ми вопросами организации управления активам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ус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со стороны менедж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проведения инвентар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финансирования инвести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активами осуществляется в соответствии с нормами бухгалтерского и налогов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целей налогового учета применяются положения Постановления № 1 от 01.01.2002  «О классификации основных средств, включаемых в амортизационные групп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целей бухгалтерского учета, по основным средствам, введенным в эксплуатацию до 2002 года могут применяться положения Постановления № 1072  О ЕДИНЫХ НОРМАХ АМОРТИЗАЦИОННЫХ ОТЧИСЛЕНИЙ НА ПОЛНОЕ ВОССТАНОВЛЕНИЕ ОСНОВНЫХ ФОНДОВ от 22.10.199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проведения инвентаризации определен положениями Закона «О бухгалтерском учете» № 129-ФЗ и Методическими указаниями по инвентаризации имущества и финансовых обязательствах, утвержденных Приказом Минфина РФ № 49 от 13.06.1995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целями инвентаризации являются: выявление фактического наличия имущества; сопоставление фактического наличия имущества с данными бухгалтерского учета; проверка полноты отражения в учете обязатель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040" y="4657680"/>
            <a:ext cx="5319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 –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цессионный Сервисный Контракт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Часть 2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(1)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Людмила С. Колядич/ Венера Т. Низамутдин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едеральное, региональное и муниципальное законодательства не содержат положений, которые могли бы оказаться препятствием на пути законного учреждения сервисного контракта  в области оказания услуг водоснабжения, водоотведения, теплоснабжения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соответствии со ст. 421.2 ГК РФ стороны могут заключить договор, как предусмотренный, так и не предусмотренный законом или иными правовыми актами.  Стороны могут заключить договор, в котором содержатся элементы различных договоров, предусмотренных законом или иными правовыми актами (смешанный договор). К отношениям сторон по смешанному договору применяются в соответствующих частях правила о договорах, элементы которых содержатся в смешанном договоре, если иное не вытекает из соглашения сторон или существа смешанного договор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части договора на услуги водотеплоснабжения и водоотведения применяются нормы ГК РФ о договоре энергоснабжения. Особенности договора энергоснабжения определены ст. 539-547 ГК.РФ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 договору на выполнение работ по установке оборудования могут быть урегулированы общими положениями о подряде (ст. 702-729 ГК РФ). Обязательства владельца оборудования по обслуживанию и содержанию оборудования в технически исправном состоянии могут регулироваться договором о концессии либо договором аренды имущества (Глава 34 ГК РФ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933800"/>
            <a:ext cx="5029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Корпоративный План Развития системы ЖКХ. Часть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юдмила С.Колядич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Венера Т.Низамутдинова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C9D2-F140-4EC3-B520-41663220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3C1C-4B0D-434B-82B3-765E79FB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E0B-42AA-490A-9D0A-5849A224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0D6-674B-40C5-AFEC-7BC169C8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91A-733C-4E0B-B797-3602AF92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3C7-3D8C-43D6-B0D7-2B234647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80A8-CC90-4ABC-87FD-81D1A2B9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09A-BEA1-4E8F-9D63-2A141DDE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3F4-A0D5-4B3B-BBA8-2DFD1671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A82-FC76-4D49-AA97-6F24F0C6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33D-E7B6-4C20-AE57-470B02C3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596-EF24-4A9E-91FD-A8719265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fld id="{41BA90E2-5DC0-4F3D-8AAD-6C757F16E535}" type="datetime"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F7F0-2814-4AE5-A2D2-261D4D8AC650}" type="slidenum">
              <a:rPr b="0" i="1" lang="fr-F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33cc"/>
                </a:solidFill>
                <a:uFillTx/>
                <a:latin typeface="Times New Roman"/>
              </a:rPr>
              <a:t>Title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4922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астно-общественное партнерство в коммунальной сфере города Сургу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нкт-Петербур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тябрь 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260280"/>
            <a:ext cx="1441440" cy="16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D1E-0D1F-44F2-B377-62C2723C9D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A40AC-3277-43BB-977A-2C220AB19EC7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2002 г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едит Европейского банка реконструкции и развития в размере 1.350 млн. рублей на 10 л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арант – бюджет Ханты-Мансийского автономного округ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FF2-8104-4E45-8F10-974E4001825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5C19B-7846-490E-BDF5-AADD215A5A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рограмма институционального развит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000" y="2420640"/>
            <a:ext cx="784692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грамма повышения кредитоспособности муниципалитета (Эрнст энд Ян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4000" y="3715920"/>
            <a:ext cx="784836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грамма улучшения  производственно-финансовой деятельности коммунальных служб (Консорциум Сеурека-Бисио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910-DDF4-4A4D-9893-E6BC4697F1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F6D76-BB82-4612-8D90-059FD5F9D7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58920" y="1773360"/>
            <a:ext cx="288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1341360"/>
            <a:ext cx="4319640" cy="720720"/>
          </a:xfrm>
          <a:prstGeom prst="bevel">
            <a:avLst>
              <a:gd name="adj" fmla="val 125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равление активами и обеспеч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42920" y="2349360"/>
            <a:ext cx="7058160" cy="432000"/>
            <a:chOff x="1042920" y="2349360"/>
            <a:chExt cx="7058160" cy="432000"/>
          </a:xfrm>
        </p:grpSpPr>
        <p:sp>
          <p:nvSpPr>
            <p:cNvPr id="87" name=""/>
            <p:cNvSpPr/>
            <p:nvPr/>
          </p:nvSpPr>
          <p:spPr>
            <a:xfrm>
              <a:off x="1042920" y="2349360"/>
              <a:ext cx="3382920" cy="432000"/>
            </a:xfrm>
            <a:prstGeom prst="bevel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точники финансирования  инвестици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48360" y="2349360"/>
              <a:ext cx="2952720" cy="432000"/>
            </a:xfrm>
            <a:prstGeom prst="bevel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Управление активам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843280" y="1989000"/>
            <a:ext cx="3457440" cy="503280"/>
            <a:chOff x="2843280" y="1989000"/>
            <a:chExt cx="3457440" cy="503280"/>
          </a:xfrm>
        </p:grpSpPr>
        <p:sp>
          <p:nvSpPr>
            <p:cNvPr id="90" name=""/>
            <p:cNvSpPr/>
            <p:nvPr/>
          </p:nvSpPr>
          <p:spPr>
            <a:xfrm>
              <a:off x="2843280" y="1989000"/>
              <a:ext cx="288720" cy="503280"/>
            </a:xfrm>
            <a:prstGeom prst="downArrow">
              <a:avLst>
                <a:gd name="adj1" fmla="val 50000"/>
                <a:gd name="adj2" fmla="val 4357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12000" y="1989000"/>
              <a:ext cx="288720" cy="503280"/>
            </a:xfrm>
            <a:prstGeom prst="downArrow">
              <a:avLst>
                <a:gd name="adj1" fmla="val 50000"/>
                <a:gd name="adj2" fmla="val 4357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900000" y="2924280"/>
            <a:ext cx="7056720" cy="576000"/>
            <a:chOff x="900000" y="2924280"/>
            <a:chExt cx="7056720" cy="576000"/>
          </a:xfrm>
        </p:grpSpPr>
        <p:sp>
          <p:nvSpPr>
            <p:cNvPr id="93" name=""/>
            <p:cNvSpPr/>
            <p:nvPr/>
          </p:nvSpPr>
          <p:spPr>
            <a:xfrm>
              <a:off x="900000" y="2924280"/>
              <a:ext cx="1584360" cy="576000"/>
            </a:xfrm>
            <a:prstGeom prst="bevel">
              <a:avLst>
                <a:gd name="adj" fmla="val 1250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обствен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16360" y="2924280"/>
              <a:ext cx="1584360" cy="576000"/>
            </a:xfrm>
            <a:prstGeom prst="bevel">
              <a:avLst>
                <a:gd name="adj" fmla="val 1250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ивлечен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92720" y="2924280"/>
              <a:ext cx="2664000" cy="576000"/>
            </a:xfrm>
            <a:prstGeom prst="bevel">
              <a:avLst>
                <a:gd name="adj" fmla="val 12500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инципы управл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00000" y="3933720"/>
            <a:ext cx="7056720" cy="1871640"/>
            <a:chOff x="900000" y="3933720"/>
            <a:chExt cx="7056720" cy="1871640"/>
          </a:xfrm>
        </p:grpSpPr>
        <p:sp>
          <p:nvSpPr>
            <p:cNvPr id="97" name=""/>
            <p:cNvSpPr/>
            <p:nvPr/>
          </p:nvSpPr>
          <p:spPr>
            <a:xfrm>
              <a:off x="900000" y="3933720"/>
              <a:ext cx="1871640" cy="1871640"/>
            </a:xfrm>
            <a:prstGeom prst="foldedCorner">
              <a:avLst>
                <a:gd name="adj" fmla="val 125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Амортизацион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тчисления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зносы учредителей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Целевое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финансирование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ступления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Чистая прибыль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16360" y="3933720"/>
              <a:ext cx="1655640" cy="1870200"/>
            </a:xfrm>
            <a:prstGeom prst="foldedCorner">
              <a:avLst>
                <a:gd name="adj" fmla="val 125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редиты и займы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Эмиссия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ыпуск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долговы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бязательст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92720" y="3933720"/>
              <a:ext cx="2664000" cy="1871640"/>
            </a:xfrm>
            <a:prstGeom prst="foldedCorner">
              <a:avLst>
                <a:gd name="adj" fmla="val 125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Для целей налогового учета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Для целей бухгалтерского учет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619280" y="3500280"/>
            <a:ext cx="5113440" cy="505080"/>
            <a:chOff x="1619280" y="3500280"/>
            <a:chExt cx="5113440" cy="505080"/>
          </a:xfrm>
        </p:grpSpPr>
        <p:sp>
          <p:nvSpPr>
            <p:cNvPr id="101" name=""/>
            <p:cNvSpPr/>
            <p:nvPr/>
          </p:nvSpPr>
          <p:spPr>
            <a:xfrm>
              <a:off x="1619280" y="3500280"/>
              <a:ext cx="216000" cy="505080"/>
            </a:xfrm>
            <a:prstGeom prst="downArrow">
              <a:avLst>
                <a:gd name="adj1" fmla="val 50000"/>
                <a:gd name="adj2" fmla="val 58458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5280" y="3500280"/>
              <a:ext cx="216000" cy="505080"/>
            </a:xfrm>
            <a:prstGeom prst="downArrow">
              <a:avLst>
                <a:gd name="adj1" fmla="val 50000"/>
                <a:gd name="adj2" fmla="val 58458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6720" y="3500280"/>
              <a:ext cx="216000" cy="505080"/>
            </a:xfrm>
            <a:prstGeom prst="downArrow">
              <a:avLst>
                <a:gd name="adj1" fmla="val 50000"/>
                <a:gd name="adj2" fmla="val 58458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а улучшения производственно-финансовой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00200" y="1793880"/>
            <a:ext cx="318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2060640"/>
            <a:ext cx="3673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кт смешанного ти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2924280"/>
            <a:ext cx="777528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сутствие в законодательстве запретов заключать сервисный контракт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догов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можность сочетать формы различных договоров, установленных законодательством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ешанная форма контр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49360"/>
            <a:ext cx="6264360" cy="93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Юридическое обосно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ограмма улучшения  производственно-финансовой деятельности коммунальных служб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093760" y="1816200"/>
            <a:ext cx="5256360" cy="4176720"/>
            <a:chOff x="2093760" y="1816200"/>
            <a:chExt cx="5256360" cy="4176720"/>
          </a:xfrm>
        </p:grpSpPr>
        <p:grpSp>
          <p:nvGrpSpPr>
            <p:cNvPr id="111" name=""/>
            <p:cNvGrpSpPr/>
            <p:nvPr/>
          </p:nvGrpSpPr>
          <p:grpSpPr>
            <a:xfrm>
              <a:off x="2093760" y="1816200"/>
              <a:ext cx="5256360" cy="4176720"/>
              <a:chOff x="2093760" y="1816200"/>
              <a:chExt cx="5256360" cy="4176720"/>
            </a:xfrm>
          </p:grpSpPr>
          <p:sp>
            <p:nvSpPr>
              <p:cNvPr id="112" name="_s185351"/>
              <p:cNvSpPr/>
              <p:nvPr/>
            </p:nvSpPr>
            <p:spPr>
              <a:xfrm>
                <a:off x="4613400" y="1816200"/>
                <a:ext cx="2736720" cy="1584360"/>
              </a:xfrm>
              <a:prstGeom prst="ellipse">
                <a:avLst/>
              </a:prstGeom>
              <a:solidFill>
                <a:srgbClr val="33cccc">
                  <a:alpha val="50000"/>
                </a:srgbClr>
              </a:solidFill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_s185352"/>
              <p:cNvSpPr/>
              <p:nvPr/>
            </p:nvSpPr>
            <p:spPr>
              <a:xfrm>
                <a:off x="3173400" y="2392560"/>
                <a:ext cx="863640" cy="377640"/>
              </a:xfrm>
              <a:prstGeom prst="rect">
                <a:avLst/>
              </a:prstGeom>
              <a:noFill/>
              <a:ln w="28440">
                <a:solidFill>
                  <a:srgbClr val="000080"/>
                </a:solidFill>
                <a:miter/>
              </a:ln>
              <a:effectLst>
                <a:outerShdw dist="53966" dir="18900000" blurRad="0" rotWithShape="0">
                  <a:srgbClr val="33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ГТ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_s185353"/>
              <p:cNvSpPr/>
              <p:nvPr/>
            </p:nvSpPr>
            <p:spPr>
              <a:xfrm>
                <a:off x="2093760" y="1887840"/>
                <a:ext cx="2881440" cy="1584000"/>
              </a:xfrm>
              <a:prstGeom prst="ellipse">
                <a:avLst/>
              </a:prstGeom>
              <a:solidFill>
                <a:srgbClr val="33cccc"/>
              </a:solidFill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_s185354"/>
              <p:cNvSpPr/>
              <p:nvPr/>
            </p:nvSpPr>
            <p:spPr>
              <a:xfrm>
                <a:off x="2741760" y="4840560"/>
                <a:ext cx="3959280" cy="1152360"/>
              </a:xfrm>
              <a:prstGeom prst="rect">
                <a:avLst/>
              </a:prstGeom>
              <a:solidFill>
                <a:srgbClr val="339966">
                  <a:alpha val="59000"/>
                </a:srgbClr>
              </a:solidFill>
              <a:ln w="28440">
                <a:solidFill>
                  <a:srgbClr val="ffffff"/>
                </a:solidFill>
                <a:miter/>
              </a:ln>
              <a:effectLst>
                <a:outerShdw dist="53966" dir="18900000" blurRad="0" rotWithShape="0">
                  <a:srgbClr val="33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Открытое акционерное общество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rot="16200000">
              <a:off x="4283280" y="2205000"/>
              <a:ext cx="792000" cy="3240000"/>
            </a:xfrm>
            <a:custGeom>
              <a:avLst/>
              <a:gdLst>
                <a:gd name="textAreaLeft" fmla="*/ 506160 w 792000"/>
                <a:gd name="textAreaRight" fmla="*/ 792360 w 792000"/>
                <a:gd name="textAreaTop" fmla="*/ 83880 h 3240000"/>
                <a:gd name="textAreaBottom" fmla="*/ 3156120 h 32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7"/>
                    <a:pt x="10800" y="1794"/>
                  </a:cubicBezTo>
                  <a:lnTo>
                    <a:pt x="10800" y="9519"/>
                  </a:lnTo>
                  <a:cubicBezTo>
                    <a:pt x="10800" y="10416"/>
                    <a:pt x="5400" y="11313"/>
                    <a:pt x="0" y="11313"/>
                  </a:cubicBezTo>
                  <a:cubicBezTo>
                    <a:pt x="5400" y="11313"/>
                    <a:pt x="10800" y="12210"/>
                    <a:pt x="10800" y="13107"/>
                  </a:cubicBezTo>
                  <a:lnTo>
                    <a:pt x="10800" y="19806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лияние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присоедине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0" y="4292640"/>
              <a:ext cx="360360" cy="1438200"/>
            </a:xfrm>
            <a:prstGeom prst="downArrow">
              <a:avLst>
                <a:gd name="adj1" fmla="val 50185"/>
                <a:gd name="adj2" fmla="val 99775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еобразов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80000" y="2349360"/>
              <a:ext cx="863640" cy="503280"/>
            </a:xfrm>
            <a:prstGeom prst="bevel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ГВК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32360" y="2421000"/>
              <a:ext cx="792000" cy="431640"/>
            </a:xfrm>
            <a:prstGeom prst="bevel">
              <a:avLst>
                <a:gd name="adj" fmla="val 1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ГТ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586-99AE-4FE3-A48F-3E818F2BAAC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28B2D-D700-4DE2-94A9-83D5CE2A29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564000" y="5300640"/>
            <a:ext cx="2016000" cy="504720"/>
          </a:xfrm>
          <a:prstGeom prst="rect">
            <a:avLst/>
          </a:prstGeom>
          <a:solidFill>
            <a:srgbClr val="cc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ред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3716280"/>
            <a:ext cx="4321440" cy="504720"/>
          </a:xfrm>
          <a:prstGeom prst="rect">
            <a:avLst/>
          </a:prstGeom>
          <a:solidFill>
            <a:srgbClr val="cc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ргутская Городская Ду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19280" y="4581360"/>
            <a:ext cx="590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ение о реорганизации (слияние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соединени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4221000"/>
            <a:ext cx="433440" cy="1079640"/>
          </a:xfrm>
          <a:prstGeom prst="upArrow">
            <a:avLst>
              <a:gd name="adj1" fmla="val 50000"/>
              <a:gd name="adj2" fmla="val 62272"/>
            </a:avLst>
          </a:prstGeom>
          <a:solidFill>
            <a:srgbClr val="ccffff">
              <a:alpha val="36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3068640"/>
            <a:ext cx="61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ение о приватизации (план, схем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2492280"/>
            <a:ext cx="3313080" cy="368280"/>
          </a:xfrm>
          <a:prstGeom prst="rect">
            <a:avLst/>
          </a:prstGeom>
          <a:solidFill>
            <a:srgbClr val="ccffcc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Н ПРИВАТИЗ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765000"/>
            <a:ext cx="5976720" cy="863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 реа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A1A-49B8-49A1-A544-F2578E01C81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лан приват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981000"/>
          <a:ext cx="91440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584-F323-4582-B8E7-50FD3F6A247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34702-FE9F-4814-829B-53FC33C7FF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4360" y="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производства промышленной проду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-247680" y="542880"/>
          <a:ext cx="9572760" cy="655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47680" y="542880"/>
                    <a:ext cx="9572760" cy="655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2D4-243C-48E2-A999-21FC50D5EAF1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62B3D-524F-4077-BB31-1D1AD25E90BF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74520" y="1123920"/>
          <a:ext cx="9105840" cy="5721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20" y="1123920"/>
                    <a:ext cx="910584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345760" y="18900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м инвестиций, млн.ру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5B2-16B2-4E3D-B5FB-611EC5CC8A2C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C627C-E12D-4AAF-B80A-5F18EDB949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914120" y="189000"/>
            <a:ext cx="61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объемов экспорта и импор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C4C-6E18-4B81-B933-311146125AB7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1FD4C-C6DB-4472-8159-EF576F190A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Times New Roman"/>
              </a:rPr>
              <a:t>Риски и опас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981000"/>
            <a:ext cx="734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Природно-климатические услов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Удаленн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Моноструктурный характер эконом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Зависимость от цен на нефт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67E-248C-4BD9-8E5D-961CDDC587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EC585-64EF-48E5-BC87-E1149DB074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Развитие города, как перспективного, экономически сильного, удобного и привлекательного города Сибири и Ро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здание условий для укрепления надежности и разностороннего развития экономического потенциала Сургута, как гарантии благосостояния его гражд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действие развитию человеческого ресурса: город для чел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вышение архитектурной и инвестиционной привлекательности Сургу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CAD-F628-40F4-8708-2A5B8D06F8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EF24F-8D0D-4BA3-864A-B5F36B7F90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вышение архитектурной и инвестиционной привлекательности Сургу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2707920"/>
            <a:ext cx="38098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готовка и реализация проекта развития коммунальных служб горо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0" y="2637000"/>
            <a:ext cx="4245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Разработка программы привлечения инвестиций с использованием механизма ипотечного кредит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D6E-0C2D-4EE9-ACCC-9193D0EBFF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EFA8C-A72C-4CB9-8F41-F0F5D5FC82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2001 год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wi consalt i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Технико-экономическое исследование по возможности реализации и окупаемости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Формирование Программы приоритетных инвести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4C6-C5B2-46A9-8D59-4B3968B0B6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73E2E-3C44-4D5A-808B-A7EFA3ADC3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жидания частных инвесто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3887640" cy="37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ные взаимоотношения с бюдже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платежеспособность потреб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утствие законодательной баз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окий износ основных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03640" y="2636640"/>
            <a:ext cx="381024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окая рентабельность в отдельных секторах ЖК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989000"/>
            <a:ext cx="324036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3640" y="1989000"/>
            <a:ext cx="345600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69C-8C4E-4CC7-80DD-EBAE3BF2EF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230B8-FFB0-4667-9A8B-0CC48B688F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9:26:45Z</dcterms:created>
  <dc:creator>Sylvie BARBOSA</dc:creator>
  <dc:description/>
  <dc:language>en-US</dc:language>
  <cp:lastModifiedBy>Казаков Олег</cp:lastModifiedBy>
  <dcterms:modified xsi:type="dcterms:W3CDTF">2004-10-20T05:25:40Z</dcterms:modified>
  <cp:revision>793</cp:revision>
  <dc:subject/>
  <dc:title>1. Présentation du rapport</dc:title>
</cp:coreProperties>
</file>