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40D-DA7B-4E71-A212-D2060CF2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041-199D-4673-BFE8-50E6E0B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F45-7CBE-40E8-BE0D-7CBAC0F7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038-DDD6-465C-A0C5-44B6543F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6951-DD07-44F5-BB5D-085AB0E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258D-0831-4E62-857E-4BA15C2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88CA-1A0D-43AD-933E-09ED83C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AE2-C7BB-4C9C-8FC1-648B1C29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B7E0-3732-4004-9557-1730F64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1F9-7B3C-4184-BF7B-8F2E7F3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5473-73F6-4AED-BAE9-CEF1485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0C0-2F16-4079-AC63-74DB853E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35D-6C33-4A25-88C0-FB7468D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7784-5E0D-455F-AF11-76A6793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153-920B-43DE-8B3F-0EDA520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DDC-2C1C-4A9E-A2D0-076BE599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647A-147E-4E92-994C-8400F232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340-980B-4674-A216-0E13F96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2EE-680B-456B-A6B5-C3B8877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C14-4844-4EA3-8E5B-A992A24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F52-1105-4502-BA0C-F5CCFCC9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8A5-7ECE-4098-A0DD-8CB9F6A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EF0-E142-4348-B4CD-4CEDC2A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247-56D3-4850-9111-A077D9C2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C34E-0AB4-4C59-9A4E-8FADAA93B89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256-438F-4201-8E43-FBFE3685CFF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c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использованием кластерного подхода </a:t>
            </a:r>
            <a:br>
              <a:rPr sz="36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(на примере Елабужского района и города Елабуга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оклад Ахметзяновой Э.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 Форум лидеров стратегического планирования , г.Санкт-Петербург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19-21.10.03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1828440"/>
            <a:ext cx="7961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лабуга относится к малым городам с населением чуть меньше 80 тыс.челове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адлежит к числ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ейших городов Республи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атарст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еологические раскопки и научные исследования определили возраст города как поселения порядка 100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лабуга связана с такими знаменитыми именами как : Иван Иванович Шишкин, Марина Ивановна Цветаева, кавалерист-девица Надежда Андреевна Дурова, маршал Говоров, ученый Бехтере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звестные на всю страну купеческие династии Стахеевых, Гирбасовых, Ушковых, Чернов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4-х километрах от Елабуги находится знаменитый на весь мир Ананьинский могильник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.в. до н.э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ще в 1970 году г. Елабуге как крупному комплексному памятнику культуры, имеющему исторически сложившуюся планировочную структуру и застройку, сохранившему ценные памятники архитектуры, градостроительные ансамбли, природный ландшафт и древний археологический слой был присвоен статус «историческое место России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90 году постановлением Российской Федерации создан Елабужский историко-архитектурный и художественный музей-заповедник и в 1995 году присвоен федеральный стату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временно Елабуга является развитым промышленным городом и аграрной территор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мышленность города представлена такими отраслями ка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фтедобывающая отрасл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шинострое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гкая промышленность с вековыми традиция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ищевая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йиндуст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чительную долю (более 70%) в формировании местного бюджета вносят предприятия нефтедобы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 все благополучие территории зависит от колебаний цен на неф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зработка стратегии развития территории с использованием кластерного подх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ще одной особенностью территории  является наличие завода-автогиганта – ГУП РТ ПО «ЕлАЗ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го на сегодняшний день огромное количество незадействованных производственных мощн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рограммы социально-экономического развития Елабужского района и города Елабуга на 2002–2006 год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753200"/>
            <a:ext cx="6705720" cy="131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стижение социальной и экономической самодостаточности территории без учета конъюнктуры цен на неф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200400"/>
            <a:ext cx="670572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ути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2171520" y="4609800"/>
            <a:ext cx="91440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вершенствование системы управления недвижимост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514600" y="3657240"/>
            <a:ext cx="83844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971800" y="2742840"/>
            <a:ext cx="83844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вершенствование системы управления Регио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562360" y="2742840"/>
            <a:ext cx="83844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ализация приоритетных инвестиционных прое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6019560" y="3657240"/>
            <a:ext cx="83844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азвитие сельского хозяй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6362640" y="4609800"/>
            <a:ext cx="91440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формирование ЖКХ, механизмы улучшения жилищных услов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кластера технических тканей на основе синтетических волокон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505320"/>
            <a:ext cx="914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ластер химических волок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505320"/>
            <a:ext cx="914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ластер формования ни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14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9907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05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914400"/>
            <a:ext cx="8533800" cy="5797440"/>
            <a:chOff x="304920" y="914400"/>
            <a:chExt cx="8533800" cy="5797440"/>
          </a:xfrm>
        </p:grpSpPr>
        <p:sp>
          <p:nvSpPr>
            <p:cNvPr id="130" name=""/>
            <p:cNvSpPr/>
            <p:nvPr/>
          </p:nvSpPr>
          <p:spPr>
            <a:xfrm>
              <a:off x="2698560" y="2606760"/>
              <a:ext cx="3330360" cy="879120"/>
            </a:xfrm>
            <a:prstGeom prst="rect">
              <a:avLst/>
            </a:pr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Кластер технических тканей на основе синтетических воло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8560" y="3486240"/>
              <a:ext cx="1109880" cy="1172880"/>
            </a:xfrm>
            <a:prstGeom prst="rect">
              <a:avLst/>
            </a:pr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ластер химических волоко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0" y="3486240"/>
              <a:ext cx="1109880" cy="1172880"/>
            </a:xfrm>
            <a:prstGeom prst="rect">
              <a:avLst/>
            </a:pr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ластер формования ни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8680" y="3486240"/>
              <a:ext cx="1109880" cy="1172880"/>
            </a:xfrm>
            <a:prstGeom prst="rect">
              <a:avLst/>
            </a:prstGeom>
            <a:solidFill>
              <a:srgbClr val="00e4a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Кластер ткач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86440" y="914400"/>
              <a:ext cx="1352880" cy="1209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ссоциация производителей технических и текстильных тканей (Ростекстиль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3360" y="914400"/>
              <a:ext cx="1248840" cy="1209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дминистрация Елабужского района и г.Елабу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96240" y="914400"/>
              <a:ext cx="1248840" cy="1209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ирекция исследований и развития отраслевых кластеров Р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4720" y="2123640"/>
              <a:ext cx="12488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7960" y="212364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571640" y="2123640"/>
              <a:ext cx="12488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1600" y="914400"/>
              <a:ext cx="1977120" cy="6037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троительство и недвиж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600" y="1640880"/>
              <a:ext cx="1977120" cy="3621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ранспор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61600" y="2123640"/>
              <a:ext cx="1977120" cy="724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формационная и телекоммуникационная инфраструк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1600" y="2968920"/>
              <a:ext cx="1977120" cy="10864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варно-сырьевая б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насосные стан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-железнодорожные цистер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-складские емк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-трубопровод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-упаковочная тар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61600" y="4176360"/>
              <a:ext cx="1977120" cy="4827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лама и продвижение това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3520" y="1157760"/>
              <a:ext cx="0" cy="32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653520" y="441792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653520" y="345168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653520" y="248580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53520" y="188208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53520" y="115776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028920" y="296892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1600" y="5021640"/>
              <a:ext cx="1977120" cy="48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рикотажный клас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1600" y="5625000"/>
              <a:ext cx="1977120" cy="48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кстильный клас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61600" y="6228720"/>
              <a:ext cx="1977120" cy="482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Швейный клас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5320" y="5142240"/>
              <a:ext cx="0" cy="1328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55320" y="647028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3520" y="586656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3520" y="514224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028920" y="3330720"/>
              <a:ext cx="624240" cy="2535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5987520"/>
              <a:ext cx="1665000" cy="72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Шинный и нефтехимический клас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178000" y="3330720"/>
              <a:ext cx="520200" cy="2173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86440" y="5504400"/>
              <a:ext cx="1248840" cy="1207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Учебные заведения для подготовки специалис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9320" y="5504400"/>
              <a:ext cx="1248840" cy="1207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учно-исследовательский институт, лаборатории для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92200" y="5504400"/>
              <a:ext cx="1248840" cy="1207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0680" y="5262840"/>
              <a:ext cx="270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10680" y="526284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63920" y="526284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6800" y="5262840"/>
              <a:ext cx="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363920" y="4658760"/>
              <a:ext cx="0" cy="60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916200"/>
              <a:ext cx="1665000" cy="72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сновное сырье, катализаторы, крас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1761480"/>
              <a:ext cx="1665000" cy="84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борудование для текстильного и химического произво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2727360"/>
              <a:ext cx="1665000" cy="96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хнологии для получения синтетических нитей и текстильных тка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78000" y="1278360"/>
              <a:ext cx="0" cy="19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69920" y="127836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9920" y="212364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69920" y="321012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8000" y="2244240"/>
              <a:ext cx="520200" cy="72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920" y="5142240"/>
              <a:ext cx="1665000" cy="72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еталлургический класте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920" y="4296960"/>
              <a:ext cx="1665000" cy="724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орнодобывающий клас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4780080"/>
              <a:ext cx="0" cy="1569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69920" y="634968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9920" y="550440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69920" y="478008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06:18:27Z</dcterms:created>
  <dc:creator>Эльмира</dc:creator>
  <dc:description/>
  <dc:language>en-US</dc:language>
  <cp:lastModifiedBy>Boris Zhikharevich</cp:lastModifiedBy>
  <dcterms:modified xsi:type="dcterms:W3CDTF">2003-10-20T08:51:28Z</dcterms:modified>
  <cp:revision>17</cp:revision>
  <dc:subject/>
  <dc:title>Разработка стратегии развития территории, используя кластерный подход  (на примере Елабужского района и города Елабуга)</dc:title>
</cp:coreProperties>
</file>