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8FA-C1A7-4CC2-9642-4C14074B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87552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30040" y="3636360"/>
            <a:ext cx="87552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FDE-197E-443C-A5D7-471B426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636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0040" y="363636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6360" y="363636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501-685B-4970-A852-52899E97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0320" y="86688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50240" y="86688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30040" y="363636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0320" y="363636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50240" y="3636360"/>
            <a:ext cx="28188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CC5-53B7-4675-9CA5-44C989A2E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30040" y="866880"/>
            <a:ext cx="875520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A5A-AC1A-4E7C-B104-451C7539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87552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7BE-12D6-4FDB-B703-8E96CA78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42724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6360" y="866880"/>
            <a:ext cx="42724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322-5E0F-451F-B662-497E15C1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6727-B541-40C2-AC12-F0258859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63240" y="229680"/>
            <a:ext cx="862308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1D52-39D4-407D-BD29-79621BE3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360" y="866880"/>
            <a:ext cx="42724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30040" y="363636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22B-986A-4B58-9F62-76CE2E35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42724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36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6360" y="363636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08C-0A4F-4596-8E43-E9F7713B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3004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6360" y="866880"/>
            <a:ext cx="42724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30040" y="3636360"/>
            <a:ext cx="87552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0513-275D-49F7-80DD-0208A0C5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720" y="6732720"/>
            <a:ext cx="4967280" cy="1252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12240" y="2446200"/>
            <a:ext cx="131760" cy="441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30040" y="866880"/>
            <a:ext cx="87552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8883720" y="6603840"/>
            <a:ext cx="216000" cy="2160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9326-4955-43A8-8039-56FA95CD4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15840" y="-142920"/>
            <a:ext cx="533520" cy="731520"/>
            <a:chOff x="15840" y="-142920"/>
            <a:chExt cx="533520" cy="731520"/>
          </a:xfrm>
        </p:grpSpPr>
        <p:sp>
          <p:nvSpPr>
            <p:cNvPr id="9" name=""/>
            <p:cNvSpPr/>
            <p:nvPr/>
          </p:nvSpPr>
          <p:spPr>
            <a:xfrm>
              <a:off x="15840" y="-142920"/>
              <a:ext cx="5335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6440" y="34560"/>
              <a:ext cx="26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82520" y="70920"/>
              <a:ext cx="366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217440" y="533520"/>
            <a:ext cx="11160" cy="6172200"/>
            <a:chOff x="217440" y="533520"/>
            <a:chExt cx="11160" cy="6172200"/>
          </a:xfrm>
        </p:grpSpPr>
        <p:sp>
          <p:nvSpPr>
            <p:cNvPr id="13" name=""/>
            <p:cNvSpPr/>
            <p:nvPr/>
          </p:nvSpPr>
          <p:spPr>
            <a:xfrm>
              <a:off x="228600" y="533520"/>
              <a:ext cx="0" cy="61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17440" y="533520"/>
              <a:ext cx="0" cy="61722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457200" y="217440"/>
            <a:ext cx="8534520" cy="11160"/>
            <a:chOff x="457200" y="217440"/>
            <a:chExt cx="8534520" cy="11160"/>
          </a:xfrm>
        </p:grpSpPr>
        <p:sp>
          <p:nvSpPr>
            <p:cNvPr id="16" name=""/>
            <p:cNvSpPr/>
            <p:nvPr/>
          </p:nvSpPr>
          <p:spPr>
            <a:xfrm>
              <a:off x="457200" y="228600"/>
              <a:ext cx="853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217440"/>
              <a:ext cx="85345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182520" y="534960"/>
            <a:ext cx="11160" cy="2879640"/>
            <a:chOff x="182520" y="534960"/>
            <a:chExt cx="11160" cy="2879640"/>
          </a:xfrm>
        </p:grpSpPr>
        <p:sp>
          <p:nvSpPr>
            <p:cNvPr id="19" name=""/>
            <p:cNvSpPr/>
            <p:nvPr/>
          </p:nvSpPr>
          <p:spPr>
            <a:xfrm>
              <a:off x="193680" y="5349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2520" y="534960"/>
              <a:ext cx="0" cy="2879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144360" y="534960"/>
            <a:ext cx="11160" cy="1440000"/>
            <a:chOff x="144360" y="534960"/>
            <a:chExt cx="11160" cy="1440000"/>
          </a:xfrm>
        </p:grpSpPr>
        <p:sp>
          <p:nvSpPr>
            <p:cNvPr id="22" name=""/>
            <p:cNvSpPr/>
            <p:nvPr/>
          </p:nvSpPr>
          <p:spPr>
            <a:xfrm>
              <a:off x="155520" y="534960"/>
              <a:ext cx="0" cy="14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4360" y="534960"/>
              <a:ext cx="0" cy="1440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108000" y="534960"/>
            <a:ext cx="11160" cy="719280"/>
            <a:chOff x="108000" y="534960"/>
            <a:chExt cx="11160" cy="719280"/>
          </a:xfrm>
        </p:grpSpPr>
        <p:sp>
          <p:nvSpPr>
            <p:cNvPr id="25" name=""/>
            <p:cNvSpPr/>
            <p:nvPr/>
          </p:nvSpPr>
          <p:spPr>
            <a:xfrm>
              <a:off x="119160" y="53496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08000" y="534960"/>
              <a:ext cx="0" cy="719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57200" y="182520"/>
            <a:ext cx="4317840" cy="11160"/>
            <a:chOff x="457200" y="182520"/>
            <a:chExt cx="4317840" cy="11160"/>
          </a:xfrm>
        </p:grpSpPr>
        <p:sp>
          <p:nvSpPr>
            <p:cNvPr id="28" name=""/>
            <p:cNvSpPr/>
            <p:nvPr/>
          </p:nvSpPr>
          <p:spPr>
            <a:xfrm>
              <a:off x="457200" y="193680"/>
              <a:ext cx="431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182520"/>
              <a:ext cx="43178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450720" y="146160"/>
            <a:ext cx="2159280" cy="11160"/>
            <a:chOff x="450720" y="146160"/>
            <a:chExt cx="2159280" cy="11160"/>
          </a:xfrm>
        </p:grpSpPr>
        <p:sp>
          <p:nvSpPr>
            <p:cNvPr id="31" name=""/>
            <p:cNvSpPr/>
            <p:nvPr/>
          </p:nvSpPr>
          <p:spPr>
            <a:xfrm>
              <a:off x="450720" y="157320"/>
              <a:ext cx="215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0720" y="146160"/>
              <a:ext cx="21592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465120" y="111240"/>
            <a:ext cx="1079640" cy="7920"/>
            <a:chOff x="465120" y="111240"/>
            <a:chExt cx="1079640" cy="7920"/>
          </a:xfrm>
        </p:grpSpPr>
        <p:sp>
          <p:nvSpPr>
            <p:cNvPr id="34" name=""/>
            <p:cNvSpPr/>
            <p:nvPr/>
          </p:nvSpPr>
          <p:spPr>
            <a:xfrm>
              <a:off x="465120" y="1191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65120" y="111240"/>
              <a:ext cx="1079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222120" y="6710400"/>
            <a:ext cx="8773920" cy="7920"/>
            <a:chOff x="222120" y="6710400"/>
            <a:chExt cx="8773920" cy="7920"/>
          </a:xfrm>
        </p:grpSpPr>
        <p:sp>
          <p:nvSpPr>
            <p:cNvPr id="37" name=""/>
            <p:cNvSpPr/>
            <p:nvPr/>
          </p:nvSpPr>
          <p:spPr>
            <a:xfrm>
              <a:off x="222120" y="6718320"/>
              <a:ext cx="877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22120" y="6710400"/>
              <a:ext cx="8773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8988480" y="225360"/>
            <a:ext cx="11160" cy="6495840"/>
            <a:chOff x="8988480" y="225360"/>
            <a:chExt cx="11160" cy="6495840"/>
          </a:xfrm>
        </p:grpSpPr>
        <p:sp>
          <p:nvSpPr>
            <p:cNvPr id="40" name=""/>
            <p:cNvSpPr/>
            <p:nvPr/>
          </p:nvSpPr>
          <p:spPr>
            <a:xfrm>
              <a:off x="8999640" y="225360"/>
              <a:ext cx="0" cy="649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988480" y="225360"/>
              <a:ext cx="0" cy="6495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" name=""/>
          <p:cNvSpPr/>
          <p:nvPr/>
        </p:nvSpPr>
        <p:spPr>
          <a:xfrm flipH="1">
            <a:off x="8879760" y="6602040"/>
            <a:ext cx="215640" cy="21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2" y="11427"/>
                </a:moveTo>
                <a:arcTo wR="10800" hR="10800" stAng="199702" swAng="15645077"/>
                <a:lnTo>
                  <a:pt x="10800" y="10800"/>
                </a:lnTo>
                <a:close/>
              </a:path>
              <a:path fill="none" w="21600" h="21600">
                <a:moveTo>
                  <a:pt x="21582" y="11427"/>
                </a:moveTo>
                <a:arcTo wR="10800" hR="10800" stAng="199702" swAng="15645077"/>
              </a:path>
            </a:pathLst>
          </a:custGeom>
          <a:solidFill>
            <a:srgbClr val="5f5f5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032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Основные аспекты </a:t>
            </a:r>
            <a:br>
              <a:rPr sz="4000"/>
            </a:b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формирования и реализации программ реформирования общественных финансов в субъектах Российской Федерации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475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аксова Екатерина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Центр исследования бюджетных отношений (ЦИБО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Vaksova@rb-centre.r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7960" y="492120"/>
            <a:ext cx="8623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Стратегии формирования програм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11240" y="1940040"/>
            <a:ext cx="296532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ительный прогресс на одном из этап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1400" y="4060800"/>
            <a:ext cx="307656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мерное распределение мероприятий по этапа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70600" y="1441440"/>
            <a:ext cx="2992320" cy="1099440"/>
          </a:xfrm>
          <a:prstGeom prst="rect">
            <a:avLst/>
          </a:prstGeom>
          <a:solidFill>
            <a:srgbClr val="ccec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Высок риск невыполнения программ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701800"/>
            <a:ext cx="2965680" cy="7642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8000"/>
                </a:solidFill>
                <a:latin typeface="Times New Roman"/>
              </a:rPr>
              <a:t>Высокая оценка Заяв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8640" y="5068800"/>
            <a:ext cx="2895840" cy="764280"/>
          </a:xfrm>
          <a:prstGeom prst="rect">
            <a:avLst/>
          </a:prstGeom>
          <a:solidFill>
            <a:srgbClr val="ccecff"/>
          </a:solidFill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Средняя оценка Заяв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38640" y="3795840"/>
            <a:ext cx="2938680" cy="100872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иск невыполнения программы практически отсутству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7849200">
            <a:off x="4032360" y="4336920"/>
            <a:ext cx="1177920" cy="1038240"/>
          </a:xfrm>
          <a:custGeom>
            <a:avLst/>
            <a:gdLst>
              <a:gd name="textAreaLeft" fmla="*/ 338040 w 1177920"/>
              <a:gd name="textAreaRight" fmla="*/ 1009080 w 1177920"/>
              <a:gd name="textAreaTop" fmla="*/ 606600 h 1038240"/>
              <a:gd name="textAreaBottom" fmla="*/ 88920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15560"/>
                </a:moveTo>
                <a:lnTo>
                  <a:pt x="6200" y="9519"/>
                </a:lnTo>
                <a:lnTo>
                  <a:pt x="6200" y="12619"/>
                </a:lnTo>
                <a:lnTo>
                  <a:pt x="12619" y="12619"/>
                </a:lnTo>
                <a:lnTo>
                  <a:pt x="12619" y="6200"/>
                </a:lnTo>
                <a:lnTo>
                  <a:pt x="9519" y="6200"/>
                </a:lnTo>
                <a:lnTo>
                  <a:pt x="1556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7849200">
            <a:off x="3976560" y="2023920"/>
            <a:ext cx="1177920" cy="1038240"/>
          </a:xfrm>
          <a:custGeom>
            <a:avLst/>
            <a:gdLst>
              <a:gd name="textAreaLeft" fmla="*/ 338040 w 1177920"/>
              <a:gd name="textAreaRight" fmla="*/ 1009080 w 1177920"/>
              <a:gd name="textAreaTop" fmla="*/ 606600 h 1038240"/>
              <a:gd name="textAreaBottom" fmla="*/ 889200 h 1038240"/>
            </a:gdLst>
            <a:ahLst/>
            <a:rect l="textAreaLeft" t="textAreaTop" r="textAreaRight" b="textAreaBottom"/>
            <a:pathLst>
              <a:path w="21600" h="21600">
                <a:moveTo>
                  <a:pt x="0" y="15560"/>
                </a:moveTo>
                <a:lnTo>
                  <a:pt x="6200" y="9519"/>
                </a:lnTo>
                <a:lnTo>
                  <a:pt x="6200" y="12619"/>
                </a:lnTo>
                <a:lnTo>
                  <a:pt x="12619" y="12619"/>
                </a:lnTo>
                <a:lnTo>
                  <a:pt x="12619" y="6200"/>
                </a:lnTo>
                <a:lnTo>
                  <a:pt x="9519" y="6200"/>
                </a:lnTo>
                <a:lnTo>
                  <a:pt x="1556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-1049400" y="1230480"/>
          <a:ext cx="1092672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9400" y="1230480"/>
                    <a:ext cx="1092672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345960" y="263520"/>
            <a:ext cx="854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Доля прогресса на каждом этапе в общем плане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0320" y="199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Ключевые факторы успешной реализации Программы реформирования региональных финансов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5640" y="1309680"/>
            <a:ext cx="875484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Статус программы реформирован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Структура управления и организации межведомственного взаимодейств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оддержка со стороны местных властей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Готовность к сотрудничеству со стороны законодательной ветви власт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"/>
          <p:cNvSpPr/>
          <p:nvPr/>
        </p:nvSpPr>
        <p:spPr>
          <a:xfrm>
            <a:off x="281160" y="287280"/>
            <a:ext cx="862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Ключевые факторы </a:t>
            </a:r>
            <a:br>
              <a:rPr sz="3600"/>
            </a:b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реализации Програм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6880" y="1711080"/>
            <a:ext cx="861696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Утверждение исполнительной и законодательной ветвями вла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Публикация в средствах массовой информаци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Детализация плана мероприятий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Формирование механизма финанс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797040"/>
            <a:ext cx="862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Статус Программы реформ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2800" y="2197080"/>
            <a:ext cx="8754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99"/>
                </a:solidFill>
                <a:latin typeface="Tahoma"/>
              </a:rPr>
              <a:t>При использовании внутренних ресурсов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ительные сторон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овышение квалификации сотрудников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Экономия бюджетных средств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олее глубокое понимание проблемы изнутри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рицательные стороны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нижение эффективности работы сотрудников в области текущей деятельности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ет стороннего, независимого взгляда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Вся ответственность ложится на исполнителей</a:t>
            </a:r>
            <a:endParaRPr b="0" lang="en-US" sz="20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64960" y="423720"/>
            <a:ext cx="8623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 Narrow"/>
              </a:rPr>
              <a:t>Выбор подхода к управлению программ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7560" y="1287360"/>
            <a:ext cx="2716200" cy="76428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Georgia"/>
              </a:rPr>
              <a:t>Внутренние силы регион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5000" y="1314360"/>
            <a:ext cx="2868840" cy="764280"/>
          </a:xfrm>
          <a:prstGeom prst="rect">
            <a:avLst/>
          </a:prstGeom>
          <a:solidFill>
            <a:srgbClr val="ccccff"/>
          </a:solidFill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3399"/>
                </a:solidFill>
                <a:latin typeface="Georgia"/>
              </a:rPr>
              <a:t>Найм сторонних консультан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56200" y="1122480"/>
            <a:ext cx="80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3300"/>
                </a:solidFill>
                <a:latin typeface="Georgi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522360"/>
            <a:ext cx="862308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Организационная схема управления программой реформирования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8800" y="1944360"/>
            <a:ext cx="875520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Создание специального отдел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Создание межведомственной рабочей групп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Назначение ответственного работник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Привлечение сторонних консультанто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20560" y="407520"/>
            <a:ext cx="8623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 Narrow"/>
              </a:rPr>
              <a:t>Управление программой реформировани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98600" y="1644480"/>
          <a:ext cx="8189640" cy="4615200"/>
        </p:xfrm>
        <a:graphic>
          <a:graphicData uri="http://schemas.openxmlformats.org/drawingml/2006/table">
            <a:tbl>
              <a:tblPr/>
              <a:tblGrid>
                <a:gridCol w="1749240"/>
                <a:gridCol w="2190960"/>
                <a:gridCol w="1758960"/>
                <a:gridCol w="1325520"/>
                <a:gridCol w="1164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хема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Чувашская Республ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  + ГП + М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Вологод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ординацион. совет + Г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амар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 + МРГ + Г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Челябин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  + ГП + М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г. Санкт-Петербу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дел + М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96800" y="1038240"/>
            <a:ext cx="81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Регионы первого от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3240" y="229680"/>
            <a:ext cx="862308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cc"/>
                </a:solidFill>
                <a:uFillTx/>
                <a:latin typeface="Arial Narrow"/>
              </a:rPr>
              <a:t>Управление программой реформирования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42800" y="1714680"/>
          <a:ext cx="8412120" cy="4479840"/>
        </p:xfrm>
        <a:graphic>
          <a:graphicData uri="http://schemas.openxmlformats.org/drawingml/2006/table">
            <a:tbl>
              <a:tblPr/>
              <a:tblGrid>
                <a:gridCol w="1967040"/>
                <a:gridCol w="2081160"/>
                <a:gridCol w="1805040"/>
                <a:gridCol w="1576440"/>
                <a:gridCol w="98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хема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Республика Карел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ходят в состав МР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Краснодарский кр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Хабаровский кра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д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Астрахан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ая групп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аратовская обла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д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42800" y="927000"/>
            <a:ext cx="81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Регионы второго от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1280" y="194760"/>
            <a:ext cx="862344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3333cc"/>
                </a:solidFill>
                <a:uFillTx/>
                <a:latin typeface="Arial Narrow"/>
              </a:rPr>
              <a:t>Управление программой реформирования</a:t>
            </a:r>
            <a:endParaRPr b="0" lang="en-US" sz="3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45960" y="1093680"/>
          <a:ext cx="8412120" cy="5162760"/>
        </p:xfrm>
        <a:graphic>
          <a:graphicData uri="http://schemas.openxmlformats.org/drawingml/2006/table">
            <a:tbl>
              <a:tblPr/>
              <a:tblGrid>
                <a:gridCol w="2148120"/>
                <a:gridCol w="2049480"/>
                <a:gridCol w="1655640"/>
                <a:gridCol w="1576440"/>
                <a:gridCol w="982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Реги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хема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Утвер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М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ая группа + 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ходят в 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Перм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ЦУП + 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Тве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РГ + 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 + М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Входят в МР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Таймыр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(Д.-Н.)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 + З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Красноя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абочая груп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Ленингра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Республ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Arial Narrow"/>
                        </a:rPr>
                        <a:t>Марий Э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334800" y="647640"/>
            <a:ext cx="81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Регионы третьего отб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4160" y="2746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Общие сведения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8800" y="1393920"/>
            <a:ext cx="8755200" cy="54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76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ограмма развития бюджетного федерализма в Российской Федерации на период до 2005 г.</a:t>
            </a:r>
            <a:br>
              <a:rPr sz="2800"/>
            </a:b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становление Правительства от 15.08.01 г. № 584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2276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Формирование Федерального фонда реформирования региональных финансов  (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Законы о федеральном бюджете на 2001, 2002, 2003 годы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20000"/>
              </a:lnSpc>
              <a:spcBef>
                <a:spcPts val="2276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Распределение средств Фонда реформирования региональных финансов с 2001 год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23720"/>
            <a:ext cx="862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Историческая спра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303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Цель - повышение качества управления региональными финанс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49600"/>
            <a:ext cx="9144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6680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120" y="1973160"/>
            <a:ext cx="875988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00000"/>
              </a:lnSpc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8800" y="2403000"/>
            <a:ext cx="8755200" cy="34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Принципы распредел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формализация оценок и услови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нкурсный отбор и обусловленност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добровольность и инициативность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ограмма реформирования региональных финансов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финансирование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351000" y="490680"/>
            <a:ext cx="8623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Цель ФРРФ и пути ее дости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4160" y="4167360"/>
            <a:ext cx="2133360" cy="196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еспублика Карелия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Хабаровский кра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раснодарский кра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Астраханская област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аратовская область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Красноярский край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Калужская область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2549520" y="1222200"/>
            <a:ext cx="101520" cy="162000"/>
          </a:xfrm>
          <a:custGeom>
            <a:avLst/>
            <a:gdLst/>
            <a:ahLst/>
            <a:rect l="l" t="t" r="r" b="b"/>
            <a:pathLst>
              <a:path w="196" h="317">
                <a:moveTo>
                  <a:pt x="81" y="317"/>
                </a:moveTo>
                <a:lnTo>
                  <a:pt x="60" y="267"/>
                </a:lnTo>
                <a:lnTo>
                  <a:pt x="35" y="201"/>
                </a:lnTo>
                <a:lnTo>
                  <a:pt x="11" y="93"/>
                </a:lnTo>
                <a:lnTo>
                  <a:pt x="0" y="22"/>
                </a:lnTo>
                <a:lnTo>
                  <a:pt x="22" y="28"/>
                </a:lnTo>
                <a:lnTo>
                  <a:pt x="54" y="64"/>
                </a:lnTo>
                <a:lnTo>
                  <a:pt x="53" y="37"/>
                </a:lnTo>
                <a:lnTo>
                  <a:pt x="47" y="12"/>
                </a:lnTo>
                <a:lnTo>
                  <a:pt x="83" y="0"/>
                </a:lnTo>
                <a:lnTo>
                  <a:pt x="109" y="46"/>
                </a:lnTo>
                <a:lnTo>
                  <a:pt x="116" y="81"/>
                </a:lnTo>
                <a:lnTo>
                  <a:pt x="121" y="113"/>
                </a:lnTo>
                <a:lnTo>
                  <a:pt x="129" y="132"/>
                </a:lnTo>
                <a:lnTo>
                  <a:pt x="156" y="119"/>
                </a:lnTo>
                <a:lnTo>
                  <a:pt x="189" y="115"/>
                </a:lnTo>
                <a:lnTo>
                  <a:pt x="171" y="208"/>
                </a:lnTo>
                <a:lnTo>
                  <a:pt x="196" y="260"/>
                </a:lnTo>
                <a:lnTo>
                  <a:pt x="177" y="267"/>
                </a:lnTo>
                <a:lnTo>
                  <a:pt x="172" y="305"/>
                </a:lnTo>
                <a:lnTo>
                  <a:pt x="140" y="296"/>
                </a:lnTo>
                <a:lnTo>
                  <a:pt x="81" y="31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9720" y="1581120"/>
            <a:ext cx="273240" cy="277920"/>
          </a:xfrm>
          <a:custGeom>
            <a:avLst/>
            <a:gdLst/>
            <a:ahLst/>
            <a:rect l="l" t="t" r="r" b="b"/>
            <a:pathLst>
              <a:path w="528" h="534">
                <a:moveTo>
                  <a:pt x="233" y="21"/>
                </a:moveTo>
                <a:lnTo>
                  <a:pt x="246" y="6"/>
                </a:lnTo>
                <a:lnTo>
                  <a:pt x="267" y="1"/>
                </a:lnTo>
                <a:lnTo>
                  <a:pt x="274" y="26"/>
                </a:lnTo>
                <a:lnTo>
                  <a:pt x="294" y="49"/>
                </a:lnTo>
                <a:lnTo>
                  <a:pt x="312" y="43"/>
                </a:lnTo>
                <a:lnTo>
                  <a:pt x="363" y="49"/>
                </a:lnTo>
                <a:lnTo>
                  <a:pt x="359" y="77"/>
                </a:lnTo>
                <a:lnTo>
                  <a:pt x="393" y="84"/>
                </a:lnTo>
                <a:lnTo>
                  <a:pt x="428" y="67"/>
                </a:lnTo>
                <a:lnTo>
                  <a:pt x="429" y="96"/>
                </a:lnTo>
                <a:lnTo>
                  <a:pt x="452" y="94"/>
                </a:lnTo>
                <a:lnTo>
                  <a:pt x="459" y="111"/>
                </a:lnTo>
                <a:lnTo>
                  <a:pt x="434" y="150"/>
                </a:lnTo>
                <a:lnTo>
                  <a:pt x="442" y="185"/>
                </a:lnTo>
                <a:lnTo>
                  <a:pt x="496" y="189"/>
                </a:lnTo>
                <a:lnTo>
                  <a:pt x="497" y="221"/>
                </a:lnTo>
                <a:lnTo>
                  <a:pt x="514" y="226"/>
                </a:lnTo>
                <a:lnTo>
                  <a:pt x="494" y="295"/>
                </a:lnTo>
                <a:lnTo>
                  <a:pt x="515" y="316"/>
                </a:lnTo>
                <a:lnTo>
                  <a:pt x="521" y="363"/>
                </a:lnTo>
                <a:lnTo>
                  <a:pt x="510" y="395"/>
                </a:lnTo>
                <a:lnTo>
                  <a:pt x="520" y="409"/>
                </a:lnTo>
                <a:lnTo>
                  <a:pt x="494" y="423"/>
                </a:lnTo>
                <a:lnTo>
                  <a:pt x="492" y="438"/>
                </a:lnTo>
                <a:lnTo>
                  <a:pt x="512" y="438"/>
                </a:lnTo>
                <a:lnTo>
                  <a:pt x="528" y="475"/>
                </a:lnTo>
                <a:lnTo>
                  <a:pt x="525" y="522"/>
                </a:lnTo>
                <a:lnTo>
                  <a:pt x="503" y="534"/>
                </a:lnTo>
                <a:lnTo>
                  <a:pt x="471" y="524"/>
                </a:lnTo>
                <a:lnTo>
                  <a:pt x="437" y="478"/>
                </a:lnTo>
                <a:lnTo>
                  <a:pt x="419" y="481"/>
                </a:lnTo>
                <a:lnTo>
                  <a:pt x="399" y="475"/>
                </a:lnTo>
                <a:lnTo>
                  <a:pt x="388" y="443"/>
                </a:lnTo>
                <a:lnTo>
                  <a:pt x="361" y="451"/>
                </a:lnTo>
                <a:lnTo>
                  <a:pt x="350" y="380"/>
                </a:lnTo>
                <a:lnTo>
                  <a:pt x="304" y="353"/>
                </a:lnTo>
                <a:lnTo>
                  <a:pt x="293" y="380"/>
                </a:lnTo>
                <a:lnTo>
                  <a:pt x="250" y="380"/>
                </a:lnTo>
                <a:lnTo>
                  <a:pt x="199" y="385"/>
                </a:lnTo>
                <a:lnTo>
                  <a:pt x="169" y="341"/>
                </a:lnTo>
                <a:lnTo>
                  <a:pt x="120" y="324"/>
                </a:lnTo>
                <a:lnTo>
                  <a:pt x="76" y="294"/>
                </a:lnTo>
                <a:lnTo>
                  <a:pt x="66" y="279"/>
                </a:lnTo>
                <a:lnTo>
                  <a:pt x="47" y="283"/>
                </a:lnTo>
                <a:lnTo>
                  <a:pt x="21" y="249"/>
                </a:lnTo>
                <a:lnTo>
                  <a:pt x="6" y="231"/>
                </a:lnTo>
                <a:lnTo>
                  <a:pt x="0" y="195"/>
                </a:lnTo>
                <a:lnTo>
                  <a:pt x="32" y="175"/>
                </a:lnTo>
                <a:lnTo>
                  <a:pt x="47" y="189"/>
                </a:lnTo>
                <a:lnTo>
                  <a:pt x="53" y="148"/>
                </a:lnTo>
                <a:lnTo>
                  <a:pt x="95" y="138"/>
                </a:lnTo>
                <a:lnTo>
                  <a:pt x="144" y="109"/>
                </a:lnTo>
                <a:lnTo>
                  <a:pt x="127" y="50"/>
                </a:lnTo>
                <a:lnTo>
                  <a:pt x="144" y="43"/>
                </a:lnTo>
                <a:lnTo>
                  <a:pt x="142" y="13"/>
                </a:lnTo>
                <a:lnTo>
                  <a:pt x="170" y="0"/>
                </a:lnTo>
                <a:lnTo>
                  <a:pt x="213" y="9"/>
                </a:lnTo>
                <a:lnTo>
                  <a:pt x="233" y="2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32040" y="1757520"/>
            <a:ext cx="271440" cy="233280"/>
          </a:xfrm>
          <a:custGeom>
            <a:avLst/>
            <a:gdLst/>
            <a:ahLst/>
            <a:rect l="l" t="t" r="r" b="b"/>
            <a:pathLst>
              <a:path w="525" h="451">
                <a:moveTo>
                  <a:pt x="328" y="100"/>
                </a:moveTo>
                <a:lnTo>
                  <a:pt x="355" y="134"/>
                </a:lnTo>
                <a:lnTo>
                  <a:pt x="364" y="189"/>
                </a:lnTo>
                <a:lnTo>
                  <a:pt x="383" y="214"/>
                </a:lnTo>
                <a:lnTo>
                  <a:pt x="442" y="230"/>
                </a:lnTo>
                <a:lnTo>
                  <a:pt x="479" y="241"/>
                </a:lnTo>
                <a:lnTo>
                  <a:pt x="498" y="262"/>
                </a:lnTo>
                <a:lnTo>
                  <a:pt x="499" y="315"/>
                </a:lnTo>
                <a:lnTo>
                  <a:pt x="525" y="360"/>
                </a:lnTo>
                <a:lnTo>
                  <a:pt x="488" y="409"/>
                </a:lnTo>
                <a:lnTo>
                  <a:pt x="464" y="411"/>
                </a:lnTo>
                <a:lnTo>
                  <a:pt x="423" y="450"/>
                </a:lnTo>
                <a:lnTo>
                  <a:pt x="362" y="451"/>
                </a:lnTo>
                <a:lnTo>
                  <a:pt x="338" y="440"/>
                </a:lnTo>
                <a:lnTo>
                  <a:pt x="312" y="448"/>
                </a:lnTo>
                <a:lnTo>
                  <a:pt x="284" y="411"/>
                </a:lnTo>
                <a:lnTo>
                  <a:pt x="244" y="433"/>
                </a:lnTo>
                <a:lnTo>
                  <a:pt x="250" y="396"/>
                </a:lnTo>
                <a:lnTo>
                  <a:pt x="229" y="355"/>
                </a:lnTo>
                <a:lnTo>
                  <a:pt x="161" y="378"/>
                </a:lnTo>
                <a:lnTo>
                  <a:pt x="144" y="371"/>
                </a:lnTo>
                <a:lnTo>
                  <a:pt x="127" y="391"/>
                </a:lnTo>
                <a:lnTo>
                  <a:pt x="110" y="372"/>
                </a:lnTo>
                <a:lnTo>
                  <a:pt x="93" y="384"/>
                </a:lnTo>
                <a:lnTo>
                  <a:pt x="27" y="373"/>
                </a:lnTo>
                <a:lnTo>
                  <a:pt x="0" y="367"/>
                </a:lnTo>
                <a:lnTo>
                  <a:pt x="14" y="318"/>
                </a:lnTo>
                <a:lnTo>
                  <a:pt x="33" y="320"/>
                </a:lnTo>
                <a:lnTo>
                  <a:pt x="27" y="271"/>
                </a:lnTo>
                <a:lnTo>
                  <a:pt x="15" y="235"/>
                </a:lnTo>
                <a:lnTo>
                  <a:pt x="53" y="224"/>
                </a:lnTo>
                <a:lnTo>
                  <a:pt x="65" y="149"/>
                </a:lnTo>
                <a:lnTo>
                  <a:pt x="89" y="122"/>
                </a:lnTo>
                <a:lnTo>
                  <a:pt x="99" y="111"/>
                </a:lnTo>
                <a:lnTo>
                  <a:pt x="123" y="99"/>
                </a:lnTo>
                <a:lnTo>
                  <a:pt x="132" y="50"/>
                </a:lnTo>
                <a:lnTo>
                  <a:pt x="189" y="49"/>
                </a:lnTo>
                <a:lnTo>
                  <a:pt x="220" y="12"/>
                </a:lnTo>
                <a:lnTo>
                  <a:pt x="233" y="15"/>
                </a:lnTo>
                <a:lnTo>
                  <a:pt x="269" y="4"/>
                </a:lnTo>
                <a:lnTo>
                  <a:pt x="291" y="0"/>
                </a:lnTo>
                <a:lnTo>
                  <a:pt x="314" y="42"/>
                </a:lnTo>
                <a:lnTo>
                  <a:pt x="331" y="66"/>
                </a:lnTo>
                <a:lnTo>
                  <a:pt x="328" y="1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92400" y="2054160"/>
            <a:ext cx="157320" cy="238320"/>
          </a:xfrm>
          <a:custGeom>
            <a:avLst/>
            <a:gdLst/>
            <a:ahLst/>
            <a:rect l="l" t="t" r="r" b="b"/>
            <a:pathLst>
              <a:path w="304" h="460">
                <a:moveTo>
                  <a:pt x="100" y="27"/>
                </a:moveTo>
                <a:lnTo>
                  <a:pt x="119" y="36"/>
                </a:lnTo>
                <a:lnTo>
                  <a:pt x="116" y="66"/>
                </a:lnTo>
                <a:lnTo>
                  <a:pt x="134" y="89"/>
                </a:lnTo>
                <a:lnTo>
                  <a:pt x="172" y="73"/>
                </a:lnTo>
                <a:lnTo>
                  <a:pt x="196" y="91"/>
                </a:lnTo>
                <a:lnTo>
                  <a:pt x="202" y="116"/>
                </a:lnTo>
                <a:lnTo>
                  <a:pt x="177" y="132"/>
                </a:lnTo>
                <a:lnTo>
                  <a:pt x="168" y="174"/>
                </a:lnTo>
                <a:lnTo>
                  <a:pt x="209" y="187"/>
                </a:lnTo>
                <a:lnTo>
                  <a:pt x="221" y="213"/>
                </a:lnTo>
                <a:lnTo>
                  <a:pt x="224" y="250"/>
                </a:lnTo>
                <a:lnTo>
                  <a:pt x="283" y="310"/>
                </a:lnTo>
                <a:lnTo>
                  <a:pt x="260" y="334"/>
                </a:lnTo>
                <a:lnTo>
                  <a:pt x="291" y="346"/>
                </a:lnTo>
                <a:lnTo>
                  <a:pt x="304" y="385"/>
                </a:lnTo>
                <a:lnTo>
                  <a:pt x="295" y="414"/>
                </a:lnTo>
                <a:lnTo>
                  <a:pt x="298" y="442"/>
                </a:lnTo>
                <a:lnTo>
                  <a:pt x="271" y="419"/>
                </a:lnTo>
                <a:lnTo>
                  <a:pt x="245" y="434"/>
                </a:lnTo>
                <a:lnTo>
                  <a:pt x="180" y="428"/>
                </a:lnTo>
                <a:lnTo>
                  <a:pt x="142" y="429"/>
                </a:lnTo>
                <a:lnTo>
                  <a:pt x="131" y="450"/>
                </a:lnTo>
                <a:lnTo>
                  <a:pt x="90" y="453"/>
                </a:lnTo>
                <a:lnTo>
                  <a:pt x="57" y="460"/>
                </a:lnTo>
                <a:lnTo>
                  <a:pt x="35" y="383"/>
                </a:lnTo>
                <a:lnTo>
                  <a:pt x="6" y="354"/>
                </a:lnTo>
                <a:lnTo>
                  <a:pt x="0" y="299"/>
                </a:lnTo>
                <a:lnTo>
                  <a:pt x="22" y="265"/>
                </a:lnTo>
                <a:lnTo>
                  <a:pt x="36" y="256"/>
                </a:lnTo>
                <a:lnTo>
                  <a:pt x="56" y="209"/>
                </a:lnTo>
                <a:lnTo>
                  <a:pt x="24" y="174"/>
                </a:lnTo>
                <a:lnTo>
                  <a:pt x="15" y="93"/>
                </a:lnTo>
                <a:lnTo>
                  <a:pt x="44" y="51"/>
                </a:lnTo>
                <a:lnTo>
                  <a:pt x="77" y="6"/>
                </a:lnTo>
                <a:lnTo>
                  <a:pt x="103" y="0"/>
                </a:lnTo>
                <a:lnTo>
                  <a:pt x="100" y="2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0960" y="2073240"/>
            <a:ext cx="168480" cy="184320"/>
          </a:xfrm>
          <a:custGeom>
            <a:avLst/>
            <a:gdLst/>
            <a:ahLst/>
            <a:rect l="l" t="t" r="r" b="b"/>
            <a:pathLst>
              <a:path w="327" h="357">
                <a:moveTo>
                  <a:pt x="0" y="46"/>
                </a:moveTo>
                <a:lnTo>
                  <a:pt x="28" y="50"/>
                </a:lnTo>
                <a:lnTo>
                  <a:pt x="57" y="22"/>
                </a:lnTo>
                <a:lnTo>
                  <a:pt x="111" y="23"/>
                </a:lnTo>
                <a:lnTo>
                  <a:pt x="117" y="0"/>
                </a:lnTo>
                <a:lnTo>
                  <a:pt x="144" y="25"/>
                </a:lnTo>
                <a:lnTo>
                  <a:pt x="184" y="72"/>
                </a:lnTo>
                <a:lnTo>
                  <a:pt x="206" y="65"/>
                </a:lnTo>
                <a:lnTo>
                  <a:pt x="227" y="29"/>
                </a:lnTo>
                <a:lnTo>
                  <a:pt x="230" y="63"/>
                </a:lnTo>
                <a:lnTo>
                  <a:pt x="288" y="52"/>
                </a:lnTo>
                <a:lnTo>
                  <a:pt x="290" y="96"/>
                </a:lnTo>
                <a:lnTo>
                  <a:pt x="313" y="98"/>
                </a:lnTo>
                <a:lnTo>
                  <a:pt x="324" y="112"/>
                </a:lnTo>
                <a:lnTo>
                  <a:pt x="314" y="137"/>
                </a:lnTo>
                <a:lnTo>
                  <a:pt x="327" y="184"/>
                </a:lnTo>
                <a:lnTo>
                  <a:pt x="295" y="191"/>
                </a:lnTo>
                <a:lnTo>
                  <a:pt x="274" y="239"/>
                </a:lnTo>
                <a:lnTo>
                  <a:pt x="247" y="267"/>
                </a:lnTo>
                <a:lnTo>
                  <a:pt x="215" y="301"/>
                </a:lnTo>
                <a:lnTo>
                  <a:pt x="184" y="331"/>
                </a:lnTo>
                <a:lnTo>
                  <a:pt x="169" y="314"/>
                </a:lnTo>
                <a:lnTo>
                  <a:pt x="144" y="336"/>
                </a:lnTo>
                <a:lnTo>
                  <a:pt x="127" y="319"/>
                </a:lnTo>
                <a:lnTo>
                  <a:pt x="88" y="357"/>
                </a:lnTo>
                <a:lnTo>
                  <a:pt x="62" y="338"/>
                </a:lnTo>
                <a:lnTo>
                  <a:pt x="60" y="303"/>
                </a:lnTo>
                <a:lnTo>
                  <a:pt x="41" y="283"/>
                </a:lnTo>
                <a:lnTo>
                  <a:pt x="42" y="250"/>
                </a:lnTo>
                <a:lnTo>
                  <a:pt x="66" y="228"/>
                </a:lnTo>
                <a:lnTo>
                  <a:pt x="38" y="203"/>
                </a:lnTo>
                <a:lnTo>
                  <a:pt x="20" y="153"/>
                </a:lnTo>
                <a:lnTo>
                  <a:pt x="34" y="129"/>
                </a:lnTo>
                <a:lnTo>
                  <a:pt x="18" y="115"/>
                </a:lnTo>
                <a:lnTo>
                  <a:pt x="0" y="4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09880" y="2184480"/>
            <a:ext cx="227160" cy="207720"/>
          </a:xfrm>
          <a:custGeom>
            <a:avLst/>
            <a:gdLst/>
            <a:ahLst/>
            <a:rect l="l" t="t" r="r" b="b"/>
            <a:pathLst>
              <a:path w="440" h="400">
                <a:moveTo>
                  <a:pt x="50" y="259"/>
                </a:moveTo>
                <a:lnTo>
                  <a:pt x="54" y="221"/>
                </a:lnTo>
                <a:lnTo>
                  <a:pt x="69" y="201"/>
                </a:lnTo>
                <a:lnTo>
                  <a:pt x="48" y="178"/>
                </a:lnTo>
                <a:lnTo>
                  <a:pt x="28" y="184"/>
                </a:lnTo>
                <a:lnTo>
                  <a:pt x="0" y="160"/>
                </a:lnTo>
                <a:lnTo>
                  <a:pt x="12" y="117"/>
                </a:lnTo>
                <a:lnTo>
                  <a:pt x="43" y="87"/>
                </a:lnTo>
                <a:lnTo>
                  <a:pt x="75" y="53"/>
                </a:lnTo>
                <a:lnTo>
                  <a:pt x="102" y="25"/>
                </a:lnTo>
                <a:lnTo>
                  <a:pt x="137" y="31"/>
                </a:lnTo>
                <a:lnTo>
                  <a:pt x="147" y="10"/>
                </a:lnTo>
                <a:lnTo>
                  <a:pt x="168" y="0"/>
                </a:lnTo>
                <a:lnTo>
                  <a:pt x="188" y="33"/>
                </a:lnTo>
                <a:lnTo>
                  <a:pt x="273" y="22"/>
                </a:lnTo>
                <a:lnTo>
                  <a:pt x="287" y="47"/>
                </a:lnTo>
                <a:lnTo>
                  <a:pt x="302" y="43"/>
                </a:lnTo>
                <a:lnTo>
                  <a:pt x="305" y="25"/>
                </a:lnTo>
                <a:lnTo>
                  <a:pt x="355" y="50"/>
                </a:lnTo>
                <a:lnTo>
                  <a:pt x="361" y="105"/>
                </a:lnTo>
                <a:lnTo>
                  <a:pt x="390" y="134"/>
                </a:lnTo>
                <a:lnTo>
                  <a:pt x="412" y="211"/>
                </a:lnTo>
                <a:lnTo>
                  <a:pt x="416" y="257"/>
                </a:lnTo>
                <a:lnTo>
                  <a:pt x="440" y="272"/>
                </a:lnTo>
                <a:lnTo>
                  <a:pt x="421" y="300"/>
                </a:lnTo>
                <a:lnTo>
                  <a:pt x="401" y="312"/>
                </a:lnTo>
                <a:lnTo>
                  <a:pt x="404" y="334"/>
                </a:lnTo>
                <a:lnTo>
                  <a:pt x="368" y="359"/>
                </a:lnTo>
                <a:lnTo>
                  <a:pt x="330" y="362"/>
                </a:lnTo>
                <a:lnTo>
                  <a:pt x="324" y="389"/>
                </a:lnTo>
                <a:lnTo>
                  <a:pt x="296" y="367"/>
                </a:lnTo>
                <a:lnTo>
                  <a:pt x="285" y="400"/>
                </a:lnTo>
                <a:lnTo>
                  <a:pt x="249" y="396"/>
                </a:lnTo>
                <a:lnTo>
                  <a:pt x="183" y="321"/>
                </a:lnTo>
                <a:lnTo>
                  <a:pt x="155" y="343"/>
                </a:lnTo>
                <a:lnTo>
                  <a:pt x="121" y="335"/>
                </a:lnTo>
                <a:lnTo>
                  <a:pt x="130" y="317"/>
                </a:lnTo>
                <a:lnTo>
                  <a:pt x="113" y="299"/>
                </a:lnTo>
                <a:lnTo>
                  <a:pt x="123" y="280"/>
                </a:lnTo>
                <a:lnTo>
                  <a:pt x="80" y="272"/>
                </a:lnTo>
                <a:lnTo>
                  <a:pt x="50" y="25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84480" y="1405080"/>
            <a:ext cx="358920" cy="379440"/>
          </a:xfrm>
          <a:custGeom>
            <a:avLst/>
            <a:gdLst/>
            <a:ahLst/>
            <a:rect l="l" t="t" r="r" b="b"/>
            <a:pathLst>
              <a:path w="691" h="733">
                <a:moveTo>
                  <a:pt x="430" y="194"/>
                </a:moveTo>
                <a:lnTo>
                  <a:pt x="398" y="211"/>
                </a:lnTo>
                <a:lnTo>
                  <a:pt x="382" y="250"/>
                </a:lnTo>
                <a:lnTo>
                  <a:pt x="356" y="271"/>
                </a:lnTo>
                <a:lnTo>
                  <a:pt x="334" y="306"/>
                </a:lnTo>
                <a:lnTo>
                  <a:pt x="305" y="317"/>
                </a:lnTo>
                <a:lnTo>
                  <a:pt x="311" y="339"/>
                </a:lnTo>
                <a:lnTo>
                  <a:pt x="319" y="355"/>
                </a:lnTo>
                <a:lnTo>
                  <a:pt x="347" y="350"/>
                </a:lnTo>
                <a:lnTo>
                  <a:pt x="365" y="343"/>
                </a:lnTo>
                <a:lnTo>
                  <a:pt x="386" y="350"/>
                </a:lnTo>
                <a:lnTo>
                  <a:pt x="388" y="381"/>
                </a:lnTo>
                <a:lnTo>
                  <a:pt x="380" y="405"/>
                </a:lnTo>
                <a:lnTo>
                  <a:pt x="408" y="423"/>
                </a:lnTo>
                <a:lnTo>
                  <a:pt x="436" y="411"/>
                </a:lnTo>
                <a:lnTo>
                  <a:pt x="455" y="396"/>
                </a:lnTo>
                <a:lnTo>
                  <a:pt x="466" y="411"/>
                </a:lnTo>
                <a:lnTo>
                  <a:pt x="497" y="406"/>
                </a:lnTo>
                <a:lnTo>
                  <a:pt x="536" y="414"/>
                </a:lnTo>
                <a:lnTo>
                  <a:pt x="563" y="420"/>
                </a:lnTo>
                <a:lnTo>
                  <a:pt x="573" y="447"/>
                </a:lnTo>
                <a:lnTo>
                  <a:pt x="602" y="449"/>
                </a:lnTo>
                <a:lnTo>
                  <a:pt x="607" y="429"/>
                </a:lnTo>
                <a:lnTo>
                  <a:pt x="589" y="423"/>
                </a:lnTo>
                <a:lnTo>
                  <a:pt x="597" y="404"/>
                </a:lnTo>
                <a:lnTo>
                  <a:pt x="645" y="457"/>
                </a:lnTo>
                <a:lnTo>
                  <a:pt x="635" y="482"/>
                </a:lnTo>
                <a:lnTo>
                  <a:pt x="676" y="486"/>
                </a:lnTo>
                <a:lnTo>
                  <a:pt x="691" y="542"/>
                </a:lnTo>
                <a:lnTo>
                  <a:pt x="681" y="554"/>
                </a:lnTo>
                <a:lnTo>
                  <a:pt x="690" y="574"/>
                </a:lnTo>
                <a:lnTo>
                  <a:pt x="670" y="585"/>
                </a:lnTo>
                <a:lnTo>
                  <a:pt x="641" y="593"/>
                </a:lnTo>
                <a:lnTo>
                  <a:pt x="607" y="579"/>
                </a:lnTo>
                <a:lnTo>
                  <a:pt x="576" y="609"/>
                </a:lnTo>
                <a:lnTo>
                  <a:pt x="520" y="632"/>
                </a:lnTo>
                <a:lnTo>
                  <a:pt x="484" y="646"/>
                </a:lnTo>
                <a:lnTo>
                  <a:pt x="490" y="687"/>
                </a:lnTo>
                <a:lnTo>
                  <a:pt x="475" y="686"/>
                </a:lnTo>
                <a:lnTo>
                  <a:pt x="447" y="700"/>
                </a:lnTo>
                <a:lnTo>
                  <a:pt x="459" y="723"/>
                </a:lnTo>
                <a:lnTo>
                  <a:pt x="385" y="733"/>
                </a:lnTo>
                <a:lnTo>
                  <a:pt x="351" y="709"/>
                </a:lnTo>
                <a:lnTo>
                  <a:pt x="316" y="706"/>
                </a:lnTo>
                <a:lnTo>
                  <a:pt x="310" y="659"/>
                </a:lnTo>
                <a:lnTo>
                  <a:pt x="289" y="638"/>
                </a:lnTo>
                <a:lnTo>
                  <a:pt x="309" y="569"/>
                </a:lnTo>
                <a:lnTo>
                  <a:pt x="292" y="564"/>
                </a:lnTo>
                <a:lnTo>
                  <a:pt x="291" y="532"/>
                </a:lnTo>
                <a:lnTo>
                  <a:pt x="237" y="528"/>
                </a:lnTo>
                <a:lnTo>
                  <a:pt x="229" y="493"/>
                </a:lnTo>
                <a:lnTo>
                  <a:pt x="254" y="454"/>
                </a:lnTo>
                <a:lnTo>
                  <a:pt x="247" y="437"/>
                </a:lnTo>
                <a:lnTo>
                  <a:pt x="224" y="439"/>
                </a:lnTo>
                <a:lnTo>
                  <a:pt x="223" y="410"/>
                </a:lnTo>
                <a:lnTo>
                  <a:pt x="188" y="427"/>
                </a:lnTo>
                <a:lnTo>
                  <a:pt x="154" y="420"/>
                </a:lnTo>
                <a:lnTo>
                  <a:pt x="158" y="392"/>
                </a:lnTo>
                <a:lnTo>
                  <a:pt x="107" y="386"/>
                </a:lnTo>
                <a:lnTo>
                  <a:pt x="89" y="392"/>
                </a:lnTo>
                <a:lnTo>
                  <a:pt x="69" y="369"/>
                </a:lnTo>
                <a:lnTo>
                  <a:pt x="62" y="344"/>
                </a:lnTo>
                <a:lnTo>
                  <a:pt x="41" y="349"/>
                </a:lnTo>
                <a:lnTo>
                  <a:pt x="28" y="364"/>
                </a:lnTo>
                <a:lnTo>
                  <a:pt x="8" y="352"/>
                </a:lnTo>
                <a:lnTo>
                  <a:pt x="0" y="309"/>
                </a:lnTo>
                <a:lnTo>
                  <a:pt x="19" y="275"/>
                </a:lnTo>
                <a:lnTo>
                  <a:pt x="28" y="230"/>
                </a:lnTo>
                <a:lnTo>
                  <a:pt x="13" y="166"/>
                </a:lnTo>
                <a:lnTo>
                  <a:pt x="30" y="144"/>
                </a:lnTo>
                <a:lnTo>
                  <a:pt x="12" y="110"/>
                </a:lnTo>
                <a:lnTo>
                  <a:pt x="38" y="107"/>
                </a:lnTo>
                <a:lnTo>
                  <a:pt x="66" y="102"/>
                </a:lnTo>
                <a:lnTo>
                  <a:pt x="94" y="121"/>
                </a:lnTo>
                <a:lnTo>
                  <a:pt x="105" y="95"/>
                </a:lnTo>
                <a:lnTo>
                  <a:pt x="128" y="90"/>
                </a:lnTo>
                <a:lnTo>
                  <a:pt x="155" y="76"/>
                </a:lnTo>
                <a:lnTo>
                  <a:pt x="149" y="110"/>
                </a:lnTo>
                <a:lnTo>
                  <a:pt x="183" y="103"/>
                </a:lnTo>
                <a:lnTo>
                  <a:pt x="188" y="141"/>
                </a:lnTo>
                <a:lnTo>
                  <a:pt x="208" y="155"/>
                </a:lnTo>
                <a:lnTo>
                  <a:pt x="231" y="147"/>
                </a:lnTo>
                <a:lnTo>
                  <a:pt x="247" y="211"/>
                </a:lnTo>
                <a:lnTo>
                  <a:pt x="251" y="246"/>
                </a:lnTo>
                <a:lnTo>
                  <a:pt x="266" y="246"/>
                </a:lnTo>
                <a:lnTo>
                  <a:pt x="279" y="213"/>
                </a:lnTo>
                <a:lnTo>
                  <a:pt x="291" y="199"/>
                </a:lnTo>
                <a:lnTo>
                  <a:pt x="289" y="172"/>
                </a:lnTo>
                <a:lnTo>
                  <a:pt x="267" y="126"/>
                </a:lnTo>
                <a:lnTo>
                  <a:pt x="280" y="101"/>
                </a:lnTo>
                <a:lnTo>
                  <a:pt x="281" y="72"/>
                </a:lnTo>
                <a:lnTo>
                  <a:pt x="309" y="54"/>
                </a:lnTo>
                <a:lnTo>
                  <a:pt x="331" y="57"/>
                </a:lnTo>
                <a:lnTo>
                  <a:pt x="311" y="34"/>
                </a:lnTo>
                <a:lnTo>
                  <a:pt x="285" y="21"/>
                </a:lnTo>
                <a:lnTo>
                  <a:pt x="278" y="0"/>
                </a:lnTo>
                <a:lnTo>
                  <a:pt x="386" y="28"/>
                </a:lnTo>
                <a:lnTo>
                  <a:pt x="456" y="53"/>
                </a:lnTo>
                <a:lnTo>
                  <a:pt x="442" y="91"/>
                </a:lnTo>
                <a:lnTo>
                  <a:pt x="446" y="125"/>
                </a:lnTo>
                <a:lnTo>
                  <a:pt x="447" y="163"/>
                </a:lnTo>
                <a:lnTo>
                  <a:pt x="430" y="19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4040" y="1698480"/>
            <a:ext cx="396720" cy="344520"/>
          </a:xfrm>
          <a:custGeom>
            <a:avLst/>
            <a:gdLst/>
            <a:ahLst/>
            <a:rect l="l" t="t" r="r" b="b"/>
            <a:pathLst>
              <a:path w="768" h="664">
                <a:moveTo>
                  <a:pt x="415" y="154"/>
                </a:moveTo>
                <a:lnTo>
                  <a:pt x="458" y="154"/>
                </a:lnTo>
                <a:lnTo>
                  <a:pt x="469" y="127"/>
                </a:lnTo>
                <a:lnTo>
                  <a:pt x="515" y="154"/>
                </a:lnTo>
                <a:lnTo>
                  <a:pt x="526" y="225"/>
                </a:lnTo>
                <a:lnTo>
                  <a:pt x="553" y="217"/>
                </a:lnTo>
                <a:lnTo>
                  <a:pt x="564" y="249"/>
                </a:lnTo>
                <a:lnTo>
                  <a:pt x="584" y="255"/>
                </a:lnTo>
                <a:lnTo>
                  <a:pt x="602" y="252"/>
                </a:lnTo>
                <a:lnTo>
                  <a:pt x="636" y="298"/>
                </a:lnTo>
                <a:lnTo>
                  <a:pt x="668" y="308"/>
                </a:lnTo>
                <a:lnTo>
                  <a:pt x="687" y="334"/>
                </a:lnTo>
                <a:lnTo>
                  <a:pt x="725" y="335"/>
                </a:lnTo>
                <a:lnTo>
                  <a:pt x="751" y="330"/>
                </a:lnTo>
                <a:lnTo>
                  <a:pt x="768" y="351"/>
                </a:lnTo>
                <a:lnTo>
                  <a:pt x="749" y="378"/>
                </a:lnTo>
                <a:lnTo>
                  <a:pt x="738" y="434"/>
                </a:lnTo>
                <a:lnTo>
                  <a:pt x="705" y="429"/>
                </a:lnTo>
                <a:lnTo>
                  <a:pt x="677" y="436"/>
                </a:lnTo>
                <a:lnTo>
                  <a:pt x="675" y="476"/>
                </a:lnTo>
                <a:lnTo>
                  <a:pt x="625" y="473"/>
                </a:lnTo>
                <a:lnTo>
                  <a:pt x="608" y="539"/>
                </a:lnTo>
                <a:lnTo>
                  <a:pt x="586" y="553"/>
                </a:lnTo>
                <a:lnTo>
                  <a:pt x="571" y="585"/>
                </a:lnTo>
                <a:lnTo>
                  <a:pt x="596" y="602"/>
                </a:lnTo>
                <a:lnTo>
                  <a:pt x="564" y="612"/>
                </a:lnTo>
                <a:lnTo>
                  <a:pt x="513" y="647"/>
                </a:lnTo>
                <a:lnTo>
                  <a:pt x="497" y="664"/>
                </a:lnTo>
                <a:lnTo>
                  <a:pt x="484" y="644"/>
                </a:lnTo>
                <a:lnTo>
                  <a:pt x="497" y="632"/>
                </a:lnTo>
                <a:lnTo>
                  <a:pt x="496" y="596"/>
                </a:lnTo>
                <a:lnTo>
                  <a:pt x="482" y="590"/>
                </a:lnTo>
                <a:lnTo>
                  <a:pt x="463" y="594"/>
                </a:lnTo>
                <a:lnTo>
                  <a:pt x="441" y="569"/>
                </a:lnTo>
                <a:lnTo>
                  <a:pt x="405" y="587"/>
                </a:lnTo>
                <a:lnTo>
                  <a:pt x="396" y="559"/>
                </a:lnTo>
                <a:lnTo>
                  <a:pt x="321" y="519"/>
                </a:lnTo>
                <a:lnTo>
                  <a:pt x="311" y="486"/>
                </a:lnTo>
                <a:lnTo>
                  <a:pt x="317" y="467"/>
                </a:lnTo>
                <a:lnTo>
                  <a:pt x="308" y="450"/>
                </a:lnTo>
                <a:lnTo>
                  <a:pt x="287" y="467"/>
                </a:lnTo>
                <a:lnTo>
                  <a:pt x="239" y="469"/>
                </a:lnTo>
                <a:lnTo>
                  <a:pt x="211" y="472"/>
                </a:lnTo>
                <a:lnTo>
                  <a:pt x="185" y="427"/>
                </a:lnTo>
                <a:lnTo>
                  <a:pt x="184" y="374"/>
                </a:lnTo>
                <a:lnTo>
                  <a:pt x="165" y="353"/>
                </a:lnTo>
                <a:lnTo>
                  <a:pt x="128" y="342"/>
                </a:lnTo>
                <a:lnTo>
                  <a:pt x="69" y="326"/>
                </a:lnTo>
                <a:lnTo>
                  <a:pt x="50" y="301"/>
                </a:lnTo>
                <a:lnTo>
                  <a:pt x="41" y="246"/>
                </a:lnTo>
                <a:lnTo>
                  <a:pt x="14" y="212"/>
                </a:lnTo>
                <a:lnTo>
                  <a:pt x="17" y="178"/>
                </a:lnTo>
                <a:lnTo>
                  <a:pt x="0" y="154"/>
                </a:lnTo>
                <a:lnTo>
                  <a:pt x="33" y="127"/>
                </a:lnTo>
                <a:lnTo>
                  <a:pt x="50" y="129"/>
                </a:lnTo>
                <a:lnTo>
                  <a:pt x="86" y="105"/>
                </a:lnTo>
                <a:lnTo>
                  <a:pt x="103" y="42"/>
                </a:lnTo>
                <a:lnTo>
                  <a:pt x="130" y="29"/>
                </a:lnTo>
                <a:lnTo>
                  <a:pt x="119" y="16"/>
                </a:lnTo>
                <a:lnTo>
                  <a:pt x="138" y="0"/>
                </a:lnTo>
                <a:lnTo>
                  <a:pt x="171" y="5"/>
                </a:lnTo>
                <a:lnTo>
                  <a:pt x="186" y="23"/>
                </a:lnTo>
                <a:lnTo>
                  <a:pt x="212" y="57"/>
                </a:lnTo>
                <a:lnTo>
                  <a:pt x="231" y="53"/>
                </a:lnTo>
                <a:lnTo>
                  <a:pt x="241" y="68"/>
                </a:lnTo>
                <a:lnTo>
                  <a:pt x="285" y="98"/>
                </a:lnTo>
                <a:lnTo>
                  <a:pt x="334" y="115"/>
                </a:lnTo>
                <a:lnTo>
                  <a:pt x="364" y="159"/>
                </a:lnTo>
                <a:lnTo>
                  <a:pt x="415" y="15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51280" y="1930320"/>
            <a:ext cx="199800" cy="279360"/>
          </a:xfrm>
          <a:custGeom>
            <a:avLst/>
            <a:gdLst/>
            <a:ahLst/>
            <a:rect l="l" t="t" r="r" b="b"/>
            <a:pathLst>
              <a:path w="388" h="538">
                <a:moveTo>
                  <a:pt x="0" y="112"/>
                </a:moveTo>
                <a:lnTo>
                  <a:pt x="41" y="73"/>
                </a:lnTo>
                <a:lnTo>
                  <a:pt x="65" y="71"/>
                </a:lnTo>
                <a:lnTo>
                  <a:pt x="102" y="22"/>
                </a:lnTo>
                <a:lnTo>
                  <a:pt x="130" y="19"/>
                </a:lnTo>
                <a:lnTo>
                  <a:pt x="178" y="17"/>
                </a:lnTo>
                <a:lnTo>
                  <a:pt x="199" y="0"/>
                </a:lnTo>
                <a:lnTo>
                  <a:pt x="208" y="17"/>
                </a:lnTo>
                <a:lnTo>
                  <a:pt x="202" y="36"/>
                </a:lnTo>
                <a:lnTo>
                  <a:pt x="212" y="69"/>
                </a:lnTo>
                <a:lnTo>
                  <a:pt x="287" y="109"/>
                </a:lnTo>
                <a:lnTo>
                  <a:pt x="296" y="137"/>
                </a:lnTo>
                <a:lnTo>
                  <a:pt x="332" y="119"/>
                </a:lnTo>
                <a:lnTo>
                  <a:pt x="354" y="144"/>
                </a:lnTo>
                <a:lnTo>
                  <a:pt x="373" y="140"/>
                </a:lnTo>
                <a:lnTo>
                  <a:pt x="387" y="146"/>
                </a:lnTo>
                <a:lnTo>
                  <a:pt x="388" y="182"/>
                </a:lnTo>
                <a:lnTo>
                  <a:pt x="375" y="194"/>
                </a:lnTo>
                <a:lnTo>
                  <a:pt x="388" y="214"/>
                </a:lnTo>
                <a:lnTo>
                  <a:pt x="379" y="239"/>
                </a:lnTo>
                <a:lnTo>
                  <a:pt x="353" y="245"/>
                </a:lnTo>
                <a:lnTo>
                  <a:pt x="320" y="290"/>
                </a:lnTo>
                <a:lnTo>
                  <a:pt x="291" y="332"/>
                </a:lnTo>
                <a:lnTo>
                  <a:pt x="300" y="413"/>
                </a:lnTo>
                <a:lnTo>
                  <a:pt x="332" y="448"/>
                </a:lnTo>
                <a:lnTo>
                  <a:pt x="312" y="495"/>
                </a:lnTo>
                <a:lnTo>
                  <a:pt x="298" y="504"/>
                </a:lnTo>
                <a:lnTo>
                  <a:pt x="276" y="538"/>
                </a:lnTo>
                <a:lnTo>
                  <a:pt x="226" y="513"/>
                </a:lnTo>
                <a:lnTo>
                  <a:pt x="223" y="531"/>
                </a:lnTo>
                <a:lnTo>
                  <a:pt x="208" y="535"/>
                </a:lnTo>
                <a:lnTo>
                  <a:pt x="194" y="510"/>
                </a:lnTo>
                <a:lnTo>
                  <a:pt x="109" y="521"/>
                </a:lnTo>
                <a:lnTo>
                  <a:pt x="89" y="488"/>
                </a:lnTo>
                <a:lnTo>
                  <a:pt x="68" y="498"/>
                </a:lnTo>
                <a:lnTo>
                  <a:pt x="58" y="519"/>
                </a:lnTo>
                <a:lnTo>
                  <a:pt x="23" y="513"/>
                </a:lnTo>
                <a:lnTo>
                  <a:pt x="44" y="465"/>
                </a:lnTo>
                <a:lnTo>
                  <a:pt x="76" y="458"/>
                </a:lnTo>
                <a:lnTo>
                  <a:pt x="63" y="411"/>
                </a:lnTo>
                <a:lnTo>
                  <a:pt x="73" y="386"/>
                </a:lnTo>
                <a:lnTo>
                  <a:pt x="62" y="372"/>
                </a:lnTo>
                <a:lnTo>
                  <a:pt x="39" y="370"/>
                </a:lnTo>
                <a:lnTo>
                  <a:pt x="37" y="326"/>
                </a:lnTo>
                <a:lnTo>
                  <a:pt x="63" y="291"/>
                </a:lnTo>
                <a:lnTo>
                  <a:pt x="75" y="255"/>
                </a:lnTo>
                <a:lnTo>
                  <a:pt x="56" y="195"/>
                </a:lnTo>
                <a:lnTo>
                  <a:pt x="32" y="194"/>
                </a:lnTo>
                <a:lnTo>
                  <a:pt x="22" y="127"/>
                </a:lnTo>
                <a:lnTo>
                  <a:pt x="0" y="11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89120" y="2098800"/>
            <a:ext cx="179640" cy="239760"/>
          </a:xfrm>
          <a:custGeom>
            <a:avLst/>
            <a:gdLst/>
            <a:ahLst/>
            <a:rect l="l" t="t" r="r" b="b"/>
            <a:pathLst>
              <a:path w="346" h="465">
                <a:moveTo>
                  <a:pt x="150" y="17"/>
                </a:moveTo>
                <a:lnTo>
                  <a:pt x="176" y="13"/>
                </a:lnTo>
                <a:lnTo>
                  <a:pt x="188" y="26"/>
                </a:lnTo>
                <a:lnTo>
                  <a:pt x="217" y="25"/>
                </a:lnTo>
                <a:lnTo>
                  <a:pt x="262" y="71"/>
                </a:lnTo>
                <a:lnTo>
                  <a:pt x="243" y="104"/>
                </a:lnTo>
                <a:lnTo>
                  <a:pt x="294" y="156"/>
                </a:lnTo>
                <a:lnTo>
                  <a:pt x="288" y="185"/>
                </a:lnTo>
                <a:lnTo>
                  <a:pt x="297" y="268"/>
                </a:lnTo>
                <a:lnTo>
                  <a:pt x="284" y="312"/>
                </a:lnTo>
                <a:lnTo>
                  <a:pt x="307" y="307"/>
                </a:lnTo>
                <a:lnTo>
                  <a:pt x="321" y="336"/>
                </a:lnTo>
                <a:lnTo>
                  <a:pt x="316" y="371"/>
                </a:lnTo>
                <a:lnTo>
                  <a:pt x="344" y="395"/>
                </a:lnTo>
                <a:lnTo>
                  <a:pt x="346" y="413"/>
                </a:lnTo>
                <a:lnTo>
                  <a:pt x="324" y="435"/>
                </a:lnTo>
                <a:lnTo>
                  <a:pt x="301" y="410"/>
                </a:lnTo>
                <a:lnTo>
                  <a:pt x="284" y="414"/>
                </a:lnTo>
                <a:lnTo>
                  <a:pt x="244" y="465"/>
                </a:lnTo>
                <a:lnTo>
                  <a:pt x="238" y="436"/>
                </a:lnTo>
                <a:lnTo>
                  <a:pt x="251" y="421"/>
                </a:lnTo>
                <a:lnTo>
                  <a:pt x="211" y="382"/>
                </a:lnTo>
                <a:lnTo>
                  <a:pt x="201" y="361"/>
                </a:lnTo>
                <a:lnTo>
                  <a:pt x="169" y="349"/>
                </a:lnTo>
                <a:lnTo>
                  <a:pt x="107" y="317"/>
                </a:lnTo>
                <a:lnTo>
                  <a:pt x="84" y="246"/>
                </a:lnTo>
                <a:lnTo>
                  <a:pt x="70" y="258"/>
                </a:lnTo>
                <a:lnTo>
                  <a:pt x="45" y="252"/>
                </a:lnTo>
                <a:lnTo>
                  <a:pt x="28" y="230"/>
                </a:lnTo>
                <a:lnTo>
                  <a:pt x="15" y="203"/>
                </a:lnTo>
                <a:lnTo>
                  <a:pt x="25" y="173"/>
                </a:lnTo>
                <a:lnTo>
                  <a:pt x="45" y="144"/>
                </a:lnTo>
                <a:lnTo>
                  <a:pt x="21" y="118"/>
                </a:lnTo>
                <a:lnTo>
                  <a:pt x="0" y="49"/>
                </a:lnTo>
                <a:lnTo>
                  <a:pt x="16" y="56"/>
                </a:lnTo>
                <a:lnTo>
                  <a:pt x="57" y="0"/>
                </a:lnTo>
                <a:lnTo>
                  <a:pt x="90" y="31"/>
                </a:lnTo>
                <a:lnTo>
                  <a:pt x="113" y="10"/>
                </a:lnTo>
                <a:lnTo>
                  <a:pt x="150" y="1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8840" y="1893960"/>
            <a:ext cx="209520" cy="217440"/>
          </a:xfrm>
          <a:custGeom>
            <a:avLst/>
            <a:gdLst/>
            <a:ahLst/>
            <a:rect l="l" t="t" r="r" b="b"/>
            <a:pathLst>
              <a:path w="405" h="423">
                <a:moveTo>
                  <a:pt x="170" y="423"/>
                </a:moveTo>
                <a:lnTo>
                  <a:pt x="158" y="410"/>
                </a:lnTo>
                <a:lnTo>
                  <a:pt x="132" y="414"/>
                </a:lnTo>
                <a:lnTo>
                  <a:pt x="95" y="407"/>
                </a:lnTo>
                <a:lnTo>
                  <a:pt x="100" y="370"/>
                </a:lnTo>
                <a:lnTo>
                  <a:pt x="126" y="350"/>
                </a:lnTo>
                <a:lnTo>
                  <a:pt x="140" y="300"/>
                </a:lnTo>
                <a:lnTo>
                  <a:pt x="126" y="271"/>
                </a:lnTo>
                <a:lnTo>
                  <a:pt x="108" y="245"/>
                </a:lnTo>
                <a:lnTo>
                  <a:pt x="71" y="227"/>
                </a:lnTo>
                <a:lnTo>
                  <a:pt x="59" y="165"/>
                </a:lnTo>
                <a:lnTo>
                  <a:pt x="19" y="177"/>
                </a:lnTo>
                <a:lnTo>
                  <a:pt x="0" y="134"/>
                </a:lnTo>
                <a:lnTo>
                  <a:pt x="14" y="97"/>
                </a:lnTo>
                <a:lnTo>
                  <a:pt x="52" y="84"/>
                </a:lnTo>
                <a:lnTo>
                  <a:pt x="75" y="48"/>
                </a:lnTo>
                <a:lnTo>
                  <a:pt x="91" y="52"/>
                </a:lnTo>
                <a:lnTo>
                  <a:pt x="130" y="0"/>
                </a:lnTo>
                <a:lnTo>
                  <a:pt x="153" y="3"/>
                </a:lnTo>
                <a:lnTo>
                  <a:pt x="173" y="30"/>
                </a:lnTo>
                <a:lnTo>
                  <a:pt x="161" y="48"/>
                </a:lnTo>
                <a:lnTo>
                  <a:pt x="171" y="78"/>
                </a:lnTo>
                <a:lnTo>
                  <a:pt x="224" y="91"/>
                </a:lnTo>
                <a:lnTo>
                  <a:pt x="239" y="112"/>
                </a:lnTo>
                <a:lnTo>
                  <a:pt x="258" y="105"/>
                </a:lnTo>
                <a:lnTo>
                  <a:pt x="285" y="111"/>
                </a:lnTo>
                <a:lnTo>
                  <a:pt x="351" y="122"/>
                </a:lnTo>
                <a:lnTo>
                  <a:pt x="368" y="110"/>
                </a:lnTo>
                <a:lnTo>
                  <a:pt x="385" y="129"/>
                </a:lnTo>
                <a:lnTo>
                  <a:pt x="402" y="145"/>
                </a:lnTo>
                <a:lnTo>
                  <a:pt x="382" y="174"/>
                </a:lnTo>
                <a:lnTo>
                  <a:pt x="405" y="204"/>
                </a:lnTo>
                <a:lnTo>
                  <a:pt x="381" y="263"/>
                </a:lnTo>
                <a:lnTo>
                  <a:pt x="350" y="282"/>
                </a:lnTo>
                <a:lnTo>
                  <a:pt x="365" y="328"/>
                </a:lnTo>
                <a:lnTo>
                  <a:pt x="355" y="350"/>
                </a:lnTo>
                <a:lnTo>
                  <a:pt x="336" y="363"/>
                </a:lnTo>
                <a:lnTo>
                  <a:pt x="335" y="391"/>
                </a:lnTo>
                <a:lnTo>
                  <a:pt x="273" y="362"/>
                </a:lnTo>
                <a:lnTo>
                  <a:pt x="269" y="400"/>
                </a:lnTo>
                <a:lnTo>
                  <a:pt x="200" y="407"/>
                </a:lnTo>
                <a:lnTo>
                  <a:pt x="199" y="422"/>
                </a:lnTo>
                <a:lnTo>
                  <a:pt x="170" y="4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06560" y="1844640"/>
            <a:ext cx="209520" cy="169920"/>
          </a:xfrm>
          <a:custGeom>
            <a:avLst/>
            <a:gdLst/>
            <a:ahLst/>
            <a:rect l="l" t="t" r="r" b="b"/>
            <a:pathLst>
              <a:path w="406" h="329">
                <a:moveTo>
                  <a:pt x="75" y="279"/>
                </a:moveTo>
                <a:lnTo>
                  <a:pt x="21" y="274"/>
                </a:lnTo>
                <a:lnTo>
                  <a:pt x="5" y="257"/>
                </a:lnTo>
                <a:lnTo>
                  <a:pt x="15" y="235"/>
                </a:lnTo>
                <a:lnTo>
                  <a:pt x="0" y="189"/>
                </a:lnTo>
                <a:lnTo>
                  <a:pt x="31" y="170"/>
                </a:lnTo>
                <a:lnTo>
                  <a:pt x="55" y="111"/>
                </a:lnTo>
                <a:lnTo>
                  <a:pt x="32" y="81"/>
                </a:lnTo>
                <a:lnTo>
                  <a:pt x="52" y="52"/>
                </a:lnTo>
                <a:lnTo>
                  <a:pt x="35" y="36"/>
                </a:lnTo>
                <a:lnTo>
                  <a:pt x="52" y="16"/>
                </a:lnTo>
                <a:lnTo>
                  <a:pt x="69" y="23"/>
                </a:lnTo>
                <a:lnTo>
                  <a:pt x="137" y="0"/>
                </a:lnTo>
                <a:lnTo>
                  <a:pt x="158" y="41"/>
                </a:lnTo>
                <a:lnTo>
                  <a:pt x="152" y="78"/>
                </a:lnTo>
                <a:lnTo>
                  <a:pt x="192" y="56"/>
                </a:lnTo>
                <a:lnTo>
                  <a:pt x="220" y="93"/>
                </a:lnTo>
                <a:lnTo>
                  <a:pt x="246" y="85"/>
                </a:lnTo>
                <a:lnTo>
                  <a:pt x="270" y="96"/>
                </a:lnTo>
                <a:lnTo>
                  <a:pt x="331" y="95"/>
                </a:lnTo>
                <a:lnTo>
                  <a:pt x="353" y="110"/>
                </a:lnTo>
                <a:lnTo>
                  <a:pt x="363" y="177"/>
                </a:lnTo>
                <a:lnTo>
                  <a:pt x="387" y="178"/>
                </a:lnTo>
                <a:lnTo>
                  <a:pt x="406" y="238"/>
                </a:lnTo>
                <a:lnTo>
                  <a:pt x="394" y="274"/>
                </a:lnTo>
                <a:lnTo>
                  <a:pt x="368" y="309"/>
                </a:lnTo>
                <a:lnTo>
                  <a:pt x="310" y="320"/>
                </a:lnTo>
                <a:lnTo>
                  <a:pt x="307" y="286"/>
                </a:lnTo>
                <a:lnTo>
                  <a:pt x="286" y="322"/>
                </a:lnTo>
                <a:lnTo>
                  <a:pt x="264" y="329"/>
                </a:lnTo>
                <a:lnTo>
                  <a:pt x="224" y="282"/>
                </a:lnTo>
                <a:lnTo>
                  <a:pt x="197" y="257"/>
                </a:lnTo>
                <a:lnTo>
                  <a:pt x="191" y="280"/>
                </a:lnTo>
                <a:lnTo>
                  <a:pt x="137" y="279"/>
                </a:lnTo>
                <a:lnTo>
                  <a:pt x="108" y="307"/>
                </a:lnTo>
                <a:lnTo>
                  <a:pt x="80" y="303"/>
                </a:lnTo>
                <a:lnTo>
                  <a:pt x="75" y="279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073240"/>
            <a:ext cx="155520" cy="198360"/>
          </a:xfrm>
          <a:custGeom>
            <a:avLst/>
            <a:gdLst/>
            <a:ahLst/>
            <a:rect l="l" t="t" r="r" b="b"/>
            <a:pathLst>
              <a:path w="297" h="383">
                <a:moveTo>
                  <a:pt x="231" y="46"/>
                </a:moveTo>
                <a:lnTo>
                  <a:pt x="249" y="115"/>
                </a:lnTo>
                <a:lnTo>
                  <a:pt x="265" y="129"/>
                </a:lnTo>
                <a:lnTo>
                  <a:pt x="251" y="153"/>
                </a:lnTo>
                <a:lnTo>
                  <a:pt x="269" y="203"/>
                </a:lnTo>
                <a:lnTo>
                  <a:pt x="297" y="228"/>
                </a:lnTo>
                <a:lnTo>
                  <a:pt x="273" y="250"/>
                </a:lnTo>
                <a:lnTo>
                  <a:pt x="272" y="283"/>
                </a:lnTo>
                <a:lnTo>
                  <a:pt x="232" y="309"/>
                </a:lnTo>
                <a:lnTo>
                  <a:pt x="195" y="314"/>
                </a:lnTo>
                <a:lnTo>
                  <a:pt x="174" y="375"/>
                </a:lnTo>
                <a:lnTo>
                  <a:pt x="156" y="379"/>
                </a:lnTo>
                <a:lnTo>
                  <a:pt x="136" y="367"/>
                </a:lnTo>
                <a:lnTo>
                  <a:pt x="104" y="383"/>
                </a:lnTo>
                <a:lnTo>
                  <a:pt x="90" y="354"/>
                </a:lnTo>
                <a:lnTo>
                  <a:pt x="67" y="359"/>
                </a:lnTo>
                <a:lnTo>
                  <a:pt x="80" y="315"/>
                </a:lnTo>
                <a:lnTo>
                  <a:pt x="71" y="232"/>
                </a:lnTo>
                <a:lnTo>
                  <a:pt x="77" y="203"/>
                </a:lnTo>
                <a:lnTo>
                  <a:pt x="26" y="151"/>
                </a:lnTo>
                <a:lnTo>
                  <a:pt x="45" y="118"/>
                </a:lnTo>
                <a:lnTo>
                  <a:pt x="0" y="72"/>
                </a:lnTo>
                <a:lnTo>
                  <a:pt x="1" y="57"/>
                </a:lnTo>
                <a:lnTo>
                  <a:pt x="70" y="50"/>
                </a:lnTo>
                <a:lnTo>
                  <a:pt x="74" y="12"/>
                </a:lnTo>
                <a:lnTo>
                  <a:pt x="136" y="41"/>
                </a:lnTo>
                <a:lnTo>
                  <a:pt x="137" y="13"/>
                </a:lnTo>
                <a:lnTo>
                  <a:pt x="156" y="0"/>
                </a:lnTo>
                <a:lnTo>
                  <a:pt x="172" y="17"/>
                </a:lnTo>
                <a:lnTo>
                  <a:pt x="226" y="22"/>
                </a:lnTo>
                <a:lnTo>
                  <a:pt x="231" y="4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36800" y="2317680"/>
            <a:ext cx="203400" cy="20628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222" y="13"/>
                </a:moveTo>
                <a:lnTo>
                  <a:pt x="265" y="21"/>
                </a:lnTo>
                <a:lnTo>
                  <a:pt x="255" y="40"/>
                </a:lnTo>
                <a:lnTo>
                  <a:pt x="272" y="58"/>
                </a:lnTo>
                <a:lnTo>
                  <a:pt x="263" y="76"/>
                </a:lnTo>
                <a:lnTo>
                  <a:pt x="297" y="84"/>
                </a:lnTo>
                <a:lnTo>
                  <a:pt x="325" y="62"/>
                </a:lnTo>
                <a:lnTo>
                  <a:pt x="391" y="137"/>
                </a:lnTo>
                <a:lnTo>
                  <a:pt x="346" y="151"/>
                </a:lnTo>
                <a:lnTo>
                  <a:pt x="340" y="178"/>
                </a:lnTo>
                <a:lnTo>
                  <a:pt x="328" y="193"/>
                </a:lnTo>
                <a:lnTo>
                  <a:pt x="315" y="242"/>
                </a:lnTo>
                <a:lnTo>
                  <a:pt x="312" y="298"/>
                </a:lnTo>
                <a:lnTo>
                  <a:pt x="287" y="349"/>
                </a:lnTo>
                <a:lnTo>
                  <a:pt x="249" y="351"/>
                </a:lnTo>
                <a:lnTo>
                  <a:pt x="235" y="369"/>
                </a:lnTo>
                <a:lnTo>
                  <a:pt x="222" y="363"/>
                </a:lnTo>
                <a:lnTo>
                  <a:pt x="151" y="382"/>
                </a:lnTo>
                <a:lnTo>
                  <a:pt x="86" y="400"/>
                </a:lnTo>
                <a:lnTo>
                  <a:pt x="64" y="391"/>
                </a:lnTo>
                <a:lnTo>
                  <a:pt x="81" y="368"/>
                </a:lnTo>
                <a:lnTo>
                  <a:pt x="57" y="361"/>
                </a:lnTo>
                <a:lnTo>
                  <a:pt x="38" y="274"/>
                </a:lnTo>
                <a:lnTo>
                  <a:pt x="6" y="268"/>
                </a:lnTo>
                <a:lnTo>
                  <a:pt x="0" y="239"/>
                </a:lnTo>
                <a:lnTo>
                  <a:pt x="25" y="224"/>
                </a:lnTo>
                <a:lnTo>
                  <a:pt x="6" y="178"/>
                </a:lnTo>
                <a:lnTo>
                  <a:pt x="33" y="177"/>
                </a:lnTo>
                <a:lnTo>
                  <a:pt x="63" y="164"/>
                </a:lnTo>
                <a:lnTo>
                  <a:pt x="72" y="57"/>
                </a:lnTo>
                <a:lnTo>
                  <a:pt x="91" y="47"/>
                </a:lnTo>
                <a:lnTo>
                  <a:pt x="141" y="29"/>
                </a:lnTo>
                <a:lnTo>
                  <a:pt x="192" y="0"/>
                </a:lnTo>
                <a:lnTo>
                  <a:pt x="222" y="1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4040" y="2300400"/>
            <a:ext cx="255600" cy="269640"/>
          </a:xfrm>
          <a:custGeom>
            <a:avLst/>
            <a:gdLst/>
            <a:ahLst/>
            <a:rect l="l" t="t" r="r" b="b"/>
            <a:pathLst>
              <a:path w="495" h="517">
                <a:moveTo>
                  <a:pt x="300" y="12"/>
                </a:moveTo>
                <a:lnTo>
                  <a:pt x="333" y="37"/>
                </a:lnTo>
                <a:lnTo>
                  <a:pt x="327" y="68"/>
                </a:lnTo>
                <a:lnTo>
                  <a:pt x="355" y="70"/>
                </a:lnTo>
                <a:lnTo>
                  <a:pt x="370" y="103"/>
                </a:lnTo>
                <a:lnTo>
                  <a:pt x="349" y="116"/>
                </a:lnTo>
                <a:lnTo>
                  <a:pt x="387" y="164"/>
                </a:lnTo>
                <a:lnTo>
                  <a:pt x="415" y="209"/>
                </a:lnTo>
                <a:lnTo>
                  <a:pt x="434" y="255"/>
                </a:lnTo>
                <a:lnTo>
                  <a:pt x="409" y="270"/>
                </a:lnTo>
                <a:lnTo>
                  <a:pt x="415" y="299"/>
                </a:lnTo>
                <a:lnTo>
                  <a:pt x="447" y="305"/>
                </a:lnTo>
                <a:lnTo>
                  <a:pt x="466" y="392"/>
                </a:lnTo>
                <a:lnTo>
                  <a:pt x="490" y="399"/>
                </a:lnTo>
                <a:lnTo>
                  <a:pt x="473" y="422"/>
                </a:lnTo>
                <a:lnTo>
                  <a:pt x="495" y="431"/>
                </a:lnTo>
                <a:lnTo>
                  <a:pt x="489" y="480"/>
                </a:lnTo>
                <a:lnTo>
                  <a:pt x="461" y="517"/>
                </a:lnTo>
                <a:lnTo>
                  <a:pt x="445" y="494"/>
                </a:lnTo>
                <a:lnTo>
                  <a:pt x="392" y="456"/>
                </a:lnTo>
                <a:lnTo>
                  <a:pt x="398" y="425"/>
                </a:lnTo>
                <a:lnTo>
                  <a:pt x="384" y="414"/>
                </a:lnTo>
                <a:lnTo>
                  <a:pt x="347" y="429"/>
                </a:lnTo>
                <a:lnTo>
                  <a:pt x="279" y="404"/>
                </a:lnTo>
                <a:lnTo>
                  <a:pt x="278" y="455"/>
                </a:lnTo>
                <a:lnTo>
                  <a:pt x="258" y="456"/>
                </a:lnTo>
                <a:lnTo>
                  <a:pt x="241" y="476"/>
                </a:lnTo>
                <a:lnTo>
                  <a:pt x="211" y="478"/>
                </a:lnTo>
                <a:lnTo>
                  <a:pt x="187" y="480"/>
                </a:lnTo>
                <a:lnTo>
                  <a:pt x="181" y="494"/>
                </a:lnTo>
                <a:lnTo>
                  <a:pt x="153" y="480"/>
                </a:lnTo>
                <a:lnTo>
                  <a:pt x="112" y="492"/>
                </a:lnTo>
                <a:lnTo>
                  <a:pt x="75" y="478"/>
                </a:lnTo>
                <a:lnTo>
                  <a:pt x="52" y="462"/>
                </a:lnTo>
                <a:lnTo>
                  <a:pt x="33" y="429"/>
                </a:lnTo>
                <a:lnTo>
                  <a:pt x="6" y="407"/>
                </a:lnTo>
                <a:lnTo>
                  <a:pt x="6" y="382"/>
                </a:lnTo>
                <a:lnTo>
                  <a:pt x="19" y="352"/>
                </a:lnTo>
                <a:lnTo>
                  <a:pt x="0" y="320"/>
                </a:lnTo>
                <a:lnTo>
                  <a:pt x="13" y="298"/>
                </a:lnTo>
                <a:lnTo>
                  <a:pt x="40" y="294"/>
                </a:lnTo>
                <a:lnTo>
                  <a:pt x="55" y="262"/>
                </a:lnTo>
                <a:lnTo>
                  <a:pt x="86" y="220"/>
                </a:lnTo>
                <a:lnTo>
                  <a:pt x="104" y="230"/>
                </a:lnTo>
                <a:lnTo>
                  <a:pt x="122" y="218"/>
                </a:lnTo>
                <a:lnTo>
                  <a:pt x="126" y="164"/>
                </a:lnTo>
                <a:lnTo>
                  <a:pt x="141" y="150"/>
                </a:lnTo>
                <a:lnTo>
                  <a:pt x="154" y="162"/>
                </a:lnTo>
                <a:lnTo>
                  <a:pt x="169" y="133"/>
                </a:lnTo>
                <a:lnTo>
                  <a:pt x="150" y="132"/>
                </a:lnTo>
                <a:lnTo>
                  <a:pt x="150" y="91"/>
                </a:lnTo>
                <a:lnTo>
                  <a:pt x="167" y="102"/>
                </a:lnTo>
                <a:lnTo>
                  <a:pt x="175" y="70"/>
                </a:lnTo>
                <a:lnTo>
                  <a:pt x="215" y="19"/>
                </a:lnTo>
                <a:lnTo>
                  <a:pt x="232" y="15"/>
                </a:lnTo>
                <a:lnTo>
                  <a:pt x="255" y="40"/>
                </a:lnTo>
                <a:lnTo>
                  <a:pt x="277" y="18"/>
                </a:lnTo>
                <a:lnTo>
                  <a:pt x="275" y="0"/>
                </a:lnTo>
                <a:lnTo>
                  <a:pt x="300" y="1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52560" y="2220840"/>
            <a:ext cx="193680" cy="189000"/>
          </a:xfrm>
          <a:custGeom>
            <a:avLst/>
            <a:gdLst/>
            <a:ahLst/>
            <a:rect l="l" t="t" r="r" b="b"/>
            <a:pathLst>
              <a:path w="373" h="368">
                <a:moveTo>
                  <a:pt x="0" y="135"/>
                </a:moveTo>
                <a:lnTo>
                  <a:pt x="5" y="100"/>
                </a:lnTo>
                <a:lnTo>
                  <a:pt x="37" y="84"/>
                </a:lnTo>
                <a:lnTo>
                  <a:pt x="57" y="96"/>
                </a:lnTo>
                <a:lnTo>
                  <a:pt x="75" y="92"/>
                </a:lnTo>
                <a:lnTo>
                  <a:pt x="96" y="31"/>
                </a:lnTo>
                <a:lnTo>
                  <a:pt x="133" y="26"/>
                </a:lnTo>
                <a:lnTo>
                  <a:pt x="173" y="0"/>
                </a:lnTo>
                <a:lnTo>
                  <a:pt x="192" y="20"/>
                </a:lnTo>
                <a:lnTo>
                  <a:pt x="194" y="55"/>
                </a:lnTo>
                <a:lnTo>
                  <a:pt x="220" y="74"/>
                </a:lnTo>
                <a:lnTo>
                  <a:pt x="259" y="36"/>
                </a:lnTo>
                <a:lnTo>
                  <a:pt x="276" y="53"/>
                </a:lnTo>
                <a:lnTo>
                  <a:pt x="301" y="31"/>
                </a:lnTo>
                <a:lnTo>
                  <a:pt x="316" y="48"/>
                </a:lnTo>
                <a:lnTo>
                  <a:pt x="304" y="91"/>
                </a:lnTo>
                <a:lnTo>
                  <a:pt x="332" y="115"/>
                </a:lnTo>
                <a:lnTo>
                  <a:pt x="352" y="109"/>
                </a:lnTo>
                <a:lnTo>
                  <a:pt x="373" y="132"/>
                </a:lnTo>
                <a:lnTo>
                  <a:pt x="358" y="152"/>
                </a:lnTo>
                <a:lnTo>
                  <a:pt x="354" y="190"/>
                </a:lnTo>
                <a:lnTo>
                  <a:pt x="303" y="219"/>
                </a:lnTo>
                <a:lnTo>
                  <a:pt x="253" y="237"/>
                </a:lnTo>
                <a:lnTo>
                  <a:pt x="234" y="247"/>
                </a:lnTo>
                <a:lnTo>
                  <a:pt x="225" y="354"/>
                </a:lnTo>
                <a:lnTo>
                  <a:pt x="195" y="367"/>
                </a:lnTo>
                <a:lnTo>
                  <a:pt x="168" y="368"/>
                </a:lnTo>
                <a:lnTo>
                  <a:pt x="140" y="323"/>
                </a:lnTo>
                <a:lnTo>
                  <a:pt x="102" y="275"/>
                </a:lnTo>
                <a:lnTo>
                  <a:pt x="123" y="262"/>
                </a:lnTo>
                <a:lnTo>
                  <a:pt x="108" y="229"/>
                </a:lnTo>
                <a:lnTo>
                  <a:pt x="80" y="227"/>
                </a:lnTo>
                <a:lnTo>
                  <a:pt x="86" y="196"/>
                </a:lnTo>
                <a:lnTo>
                  <a:pt x="53" y="171"/>
                </a:lnTo>
                <a:lnTo>
                  <a:pt x="28" y="159"/>
                </a:lnTo>
                <a:lnTo>
                  <a:pt x="0" y="13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44720" y="1461960"/>
            <a:ext cx="257400" cy="316080"/>
          </a:xfrm>
          <a:custGeom>
            <a:avLst/>
            <a:gdLst/>
            <a:ahLst/>
            <a:rect l="l" t="t" r="r" b="b"/>
            <a:pathLst>
              <a:path w="497" h="613">
                <a:moveTo>
                  <a:pt x="29" y="311"/>
                </a:moveTo>
                <a:lnTo>
                  <a:pt x="15" y="282"/>
                </a:lnTo>
                <a:lnTo>
                  <a:pt x="20" y="255"/>
                </a:lnTo>
                <a:lnTo>
                  <a:pt x="64" y="250"/>
                </a:lnTo>
                <a:lnTo>
                  <a:pt x="127" y="185"/>
                </a:lnTo>
                <a:lnTo>
                  <a:pt x="120" y="159"/>
                </a:lnTo>
                <a:lnTo>
                  <a:pt x="165" y="154"/>
                </a:lnTo>
                <a:lnTo>
                  <a:pt x="203" y="143"/>
                </a:lnTo>
                <a:lnTo>
                  <a:pt x="208" y="101"/>
                </a:lnTo>
                <a:lnTo>
                  <a:pt x="226" y="98"/>
                </a:lnTo>
                <a:lnTo>
                  <a:pt x="220" y="73"/>
                </a:lnTo>
                <a:lnTo>
                  <a:pt x="271" y="76"/>
                </a:lnTo>
                <a:lnTo>
                  <a:pt x="296" y="96"/>
                </a:lnTo>
                <a:lnTo>
                  <a:pt x="303" y="120"/>
                </a:lnTo>
                <a:lnTo>
                  <a:pt x="328" y="117"/>
                </a:lnTo>
                <a:lnTo>
                  <a:pt x="357" y="78"/>
                </a:lnTo>
                <a:lnTo>
                  <a:pt x="344" y="61"/>
                </a:lnTo>
                <a:lnTo>
                  <a:pt x="361" y="37"/>
                </a:lnTo>
                <a:lnTo>
                  <a:pt x="394" y="45"/>
                </a:lnTo>
                <a:lnTo>
                  <a:pt x="431" y="31"/>
                </a:lnTo>
                <a:lnTo>
                  <a:pt x="468" y="10"/>
                </a:lnTo>
                <a:lnTo>
                  <a:pt x="479" y="0"/>
                </a:lnTo>
                <a:lnTo>
                  <a:pt x="497" y="34"/>
                </a:lnTo>
                <a:lnTo>
                  <a:pt x="480" y="56"/>
                </a:lnTo>
                <a:lnTo>
                  <a:pt x="495" y="120"/>
                </a:lnTo>
                <a:lnTo>
                  <a:pt x="486" y="165"/>
                </a:lnTo>
                <a:lnTo>
                  <a:pt x="467" y="199"/>
                </a:lnTo>
                <a:lnTo>
                  <a:pt x="475" y="242"/>
                </a:lnTo>
                <a:lnTo>
                  <a:pt x="432" y="233"/>
                </a:lnTo>
                <a:lnTo>
                  <a:pt x="404" y="246"/>
                </a:lnTo>
                <a:lnTo>
                  <a:pt x="406" y="276"/>
                </a:lnTo>
                <a:lnTo>
                  <a:pt x="389" y="283"/>
                </a:lnTo>
                <a:lnTo>
                  <a:pt x="406" y="342"/>
                </a:lnTo>
                <a:lnTo>
                  <a:pt x="357" y="371"/>
                </a:lnTo>
                <a:lnTo>
                  <a:pt x="315" y="381"/>
                </a:lnTo>
                <a:lnTo>
                  <a:pt x="309" y="422"/>
                </a:lnTo>
                <a:lnTo>
                  <a:pt x="294" y="408"/>
                </a:lnTo>
                <a:lnTo>
                  <a:pt x="262" y="428"/>
                </a:lnTo>
                <a:lnTo>
                  <a:pt x="268" y="464"/>
                </a:lnTo>
                <a:lnTo>
                  <a:pt x="235" y="459"/>
                </a:lnTo>
                <a:lnTo>
                  <a:pt x="216" y="475"/>
                </a:lnTo>
                <a:lnTo>
                  <a:pt x="227" y="488"/>
                </a:lnTo>
                <a:lnTo>
                  <a:pt x="200" y="501"/>
                </a:lnTo>
                <a:lnTo>
                  <a:pt x="183" y="564"/>
                </a:lnTo>
                <a:lnTo>
                  <a:pt x="147" y="588"/>
                </a:lnTo>
                <a:lnTo>
                  <a:pt x="130" y="586"/>
                </a:lnTo>
                <a:lnTo>
                  <a:pt x="97" y="613"/>
                </a:lnTo>
                <a:lnTo>
                  <a:pt x="74" y="571"/>
                </a:lnTo>
                <a:lnTo>
                  <a:pt x="52" y="575"/>
                </a:lnTo>
                <a:lnTo>
                  <a:pt x="48" y="553"/>
                </a:lnTo>
                <a:lnTo>
                  <a:pt x="59" y="516"/>
                </a:lnTo>
                <a:lnTo>
                  <a:pt x="58" y="481"/>
                </a:lnTo>
                <a:lnTo>
                  <a:pt x="41" y="449"/>
                </a:lnTo>
                <a:lnTo>
                  <a:pt x="0" y="431"/>
                </a:lnTo>
                <a:lnTo>
                  <a:pt x="10" y="407"/>
                </a:lnTo>
                <a:lnTo>
                  <a:pt x="41" y="401"/>
                </a:lnTo>
                <a:lnTo>
                  <a:pt x="39" y="359"/>
                </a:lnTo>
                <a:lnTo>
                  <a:pt x="16" y="341"/>
                </a:lnTo>
                <a:lnTo>
                  <a:pt x="29" y="31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14880" y="1212840"/>
            <a:ext cx="527040" cy="557280"/>
          </a:xfrm>
          <a:custGeom>
            <a:avLst/>
            <a:gdLst/>
            <a:ahLst/>
            <a:rect l="l" t="t" r="r" b="b"/>
            <a:pathLst>
              <a:path w="1022" h="1074">
                <a:moveTo>
                  <a:pt x="258" y="477"/>
                </a:moveTo>
                <a:lnTo>
                  <a:pt x="298" y="482"/>
                </a:lnTo>
                <a:lnTo>
                  <a:pt x="370" y="477"/>
                </a:lnTo>
                <a:lnTo>
                  <a:pt x="395" y="434"/>
                </a:lnTo>
                <a:lnTo>
                  <a:pt x="446" y="277"/>
                </a:lnTo>
                <a:lnTo>
                  <a:pt x="525" y="296"/>
                </a:lnTo>
                <a:lnTo>
                  <a:pt x="550" y="274"/>
                </a:lnTo>
                <a:lnTo>
                  <a:pt x="561" y="229"/>
                </a:lnTo>
                <a:lnTo>
                  <a:pt x="592" y="215"/>
                </a:lnTo>
                <a:lnTo>
                  <a:pt x="615" y="217"/>
                </a:lnTo>
                <a:lnTo>
                  <a:pt x="629" y="198"/>
                </a:lnTo>
                <a:lnTo>
                  <a:pt x="623" y="177"/>
                </a:lnTo>
                <a:lnTo>
                  <a:pt x="654" y="143"/>
                </a:lnTo>
                <a:lnTo>
                  <a:pt x="676" y="155"/>
                </a:lnTo>
                <a:lnTo>
                  <a:pt x="699" y="144"/>
                </a:lnTo>
                <a:lnTo>
                  <a:pt x="689" y="127"/>
                </a:lnTo>
                <a:lnTo>
                  <a:pt x="749" y="115"/>
                </a:lnTo>
                <a:lnTo>
                  <a:pt x="760" y="100"/>
                </a:lnTo>
                <a:lnTo>
                  <a:pt x="776" y="128"/>
                </a:lnTo>
                <a:lnTo>
                  <a:pt x="910" y="0"/>
                </a:lnTo>
                <a:lnTo>
                  <a:pt x="986" y="131"/>
                </a:lnTo>
                <a:lnTo>
                  <a:pt x="966" y="155"/>
                </a:lnTo>
                <a:lnTo>
                  <a:pt x="968" y="163"/>
                </a:lnTo>
                <a:lnTo>
                  <a:pt x="943" y="177"/>
                </a:lnTo>
                <a:lnTo>
                  <a:pt x="958" y="219"/>
                </a:lnTo>
                <a:lnTo>
                  <a:pt x="978" y="209"/>
                </a:lnTo>
                <a:lnTo>
                  <a:pt x="989" y="224"/>
                </a:lnTo>
                <a:lnTo>
                  <a:pt x="1008" y="211"/>
                </a:lnTo>
                <a:lnTo>
                  <a:pt x="1018" y="248"/>
                </a:lnTo>
                <a:lnTo>
                  <a:pt x="1022" y="290"/>
                </a:lnTo>
                <a:lnTo>
                  <a:pt x="1009" y="309"/>
                </a:lnTo>
                <a:lnTo>
                  <a:pt x="1005" y="349"/>
                </a:lnTo>
                <a:lnTo>
                  <a:pt x="990" y="403"/>
                </a:lnTo>
                <a:lnTo>
                  <a:pt x="971" y="439"/>
                </a:lnTo>
                <a:lnTo>
                  <a:pt x="935" y="446"/>
                </a:lnTo>
                <a:lnTo>
                  <a:pt x="897" y="464"/>
                </a:lnTo>
                <a:lnTo>
                  <a:pt x="880" y="449"/>
                </a:lnTo>
                <a:lnTo>
                  <a:pt x="859" y="485"/>
                </a:lnTo>
                <a:lnTo>
                  <a:pt x="805" y="544"/>
                </a:lnTo>
                <a:lnTo>
                  <a:pt x="775" y="553"/>
                </a:lnTo>
                <a:lnTo>
                  <a:pt x="758" y="560"/>
                </a:lnTo>
                <a:lnTo>
                  <a:pt x="742" y="616"/>
                </a:lnTo>
                <a:lnTo>
                  <a:pt x="768" y="629"/>
                </a:lnTo>
                <a:lnTo>
                  <a:pt x="758" y="662"/>
                </a:lnTo>
                <a:lnTo>
                  <a:pt x="755" y="687"/>
                </a:lnTo>
                <a:lnTo>
                  <a:pt x="732" y="719"/>
                </a:lnTo>
                <a:lnTo>
                  <a:pt x="736" y="737"/>
                </a:lnTo>
                <a:lnTo>
                  <a:pt x="717" y="746"/>
                </a:lnTo>
                <a:lnTo>
                  <a:pt x="685" y="764"/>
                </a:lnTo>
                <a:lnTo>
                  <a:pt x="664" y="749"/>
                </a:lnTo>
                <a:lnTo>
                  <a:pt x="650" y="722"/>
                </a:lnTo>
                <a:lnTo>
                  <a:pt x="636" y="751"/>
                </a:lnTo>
                <a:lnTo>
                  <a:pt x="632" y="771"/>
                </a:lnTo>
                <a:lnTo>
                  <a:pt x="605" y="787"/>
                </a:lnTo>
                <a:lnTo>
                  <a:pt x="607" y="801"/>
                </a:lnTo>
                <a:lnTo>
                  <a:pt x="571" y="813"/>
                </a:lnTo>
                <a:lnTo>
                  <a:pt x="549" y="850"/>
                </a:lnTo>
                <a:lnTo>
                  <a:pt x="545" y="907"/>
                </a:lnTo>
                <a:lnTo>
                  <a:pt x="563" y="925"/>
                </a:lnTo>
                <a:lnTo>
                  <a:pt x="562" y="940"/>
                </a:lnTo>
                <a:lnTo>
                  <a:pt x="537" y="962"/>
                </a:lnTo>
                <a:lnTo>
                  <a:pt x="497" y="980"/>
                </a:lnTo>
                <a:lnTo>
                  <a:pt x="504" y="1002"/>
                </a:lnTo>
                <a:lnTo>
                  <a:pt x="477" y="1047"/>
                </a:lnTo>
                <a:lnTo>
                  <a:pt x="444" y="1067"/>
                </a:lnTo>
                <a:lnTo>
                  <a:pt x="404" y="1074"/>
                </a:lnTo>
                <a:lnTo>
                  <a:pt x="375" y="1042"/>
                </a:lnTo>
                <a:lnTo>
                  <a:pt x="372" y="1012"/>
                </a:lnTo>
                <a:lnTo>
                  <a:pt x="353" y="999"/>
                </a:lnTo>
                <a:lnTo>
                  <a:pt x="353" y="982"/>
                </a:lnTo>
                <a:lnTo>
                  <a:pt x="321" y="990"/>
                </a:lnTo>
                <a:lnTo>
                  <a:pt x="333" y="958"/>
                </a:lnTo>
                <a:lnTo>
                  <a:pt x="364" y="911"/>
                </a:lnTo>
                <a:lnTo>
                  <a:pt x="369" y="895"/>
                </a:lnTo>
                <a:lnTo>
                  <a:pt x="390" y="888"/>
                </a:lnTo>
                <a:lnTo>
                  <a:pt x="395" y="863"/>
                </a:lnTo>
                <a:lnTo>
                  <a:pt x="435" y="856"/>
                </a:lnTo>
                <a:lnTo>
                  <a:pt x="469" y="831"/>
                </a:lnTo>
                <a:lnTo>
                  <a:pt x="478" y="800"/>
                </a:lnTo>
                <a:lnTo>
                  <a:pt x="483" y="757"/>
                </a:lnTo>
                <a:lnTo>
                  <a:pt x="489" y="718"/>
                </a:lnTo>
                <a:lnTo>
                  <a:pt x="483" y="689"/>
                </a:lnTo>
                <a:lnTo>
                  <a:pt x="437" y="768"/>
                </a:lnTo>
                <a:lnTo>
                  <a:pt x="457" y="747"/>
                </a:lnTo>
                <a:lnTo>
                  <a:pt x="453" y="780"/>
                </a:lnTo>
                <a:lnTo>
                  <a:pt x="446" y="812"/>
                </a:lnTo>
                <a:lnTo>
                  <a:pt x="422" y="839"/>
                </a:lnTo>
                <a:lnTo>
                  <a:pt x="396" y="833"/>
                </a:lnTo>
                <a:lnTo>
                  <a:pt x="400" y="800"/>
                </a:lnTo>
                <a:lnTo>
                  <a:pt x="370" y="825"/>
                </a:lnTo>
                <a:lnTo>
                  <a:pt x="382" y="789"/>
                </a:lnTo>
                <a:lnTo>
                  <a:pt x="396" y="774"/>
                </a:lnTo>
                <a:lnTo>
                  <a:pt x="383" y="769"/>
                </a:lnTo>
                <a:lnTo>
                  <a:pt x="358" y="790"/>
                </a:lnTo>
                <a:lnTo>
                  <a:pt x="357" y="746"/>
                </a:lnTo>
                <a:lnTo>
                  <a:pt x="338" y="784"/>
                </a:lnTo>
                <a:lnTo>
                  <a:pt x="313" y="803"/>
                </a:lnTo>
                <a:lnTo>
                  <a:pt x="304" y="776"/>
                </a:lnTo>
                <a:lnTo>
                  <a:pt x="282" y="824"/>
                </a:lnTo>
                <a:lnTo>
                  <a:pt x="282" y="863"/>
                </a:lnTo>
                <a:lnTo>
                  <a:pt x="278" y="909"/>
                </a:lnTo>
                <a:lnTo>
                  <a:pt x="249" y="912"/>
                </a:lnTo>
                <a:lnTo>
                  <a:pt x="234" y="856"/>
                </a:lnTo>
                <a:lnTo>
                  <a:pt x="193" y="852"/>
                </a:lnTo>
                <a:lnTo>
                  <a:pt x="203" y="827"/>
                </a:lnTo>
                <a:lnTo>
                  <a:pt x="155" y="774"/>
                </a:lnTo>
                <a:lnTo>
                  <a:pt x="147" y="793"/>
                </a:lnTo>
                <a:lnTo>
                  <a:pt x="165" y="799"/>
                </a:lnTo>
                <a:lnTo>
                  <a:pt x="160" y="819"/>
                </a:lnTo>
                <a:lnTo>
                  <a:pt x="131" y="817"/>
                </a:lnTo>
                <a:lnTo>
                  <a:pt x="121" y="790"/>
                </a:lnTo>
                <a:lnTo>
                  <a:pt x="94" y="784"/>
                </a:lnTo>
                <a:lnTo>
                  <a:pt x="55" y="776"/>
                </a:lnTo>
                <a:lnTo>
                  <a:pt x="84" y="743"/>
                </a:lnTo>
                <a:lnTo>
                  <a:pt x="119" y="690"/>
                </a:lnTo>
                <a:lnTo>
                  <a:pt x="117" y="625"/>
                </a:lnTo>
                <a:lnTo>
                  <a:pt x="142" y="576"/>
                </a:lnTo>
                <a:lnTo>
                  <a:pt x="150" y="511"/>
                </a:lnTo>
                <a:lnTo>
                  <a:pt x="92" y="503"/>
                </a:lnTo>
                <a:lnTo>
                  <a:pt x="47" y="492"/>
                </a:lnTo>
                <a:lnTo>
                  <a:pt x="4" y="495"/>
                </a:lnTo>
                <a:lnTo>
                  <a:pt x="0" y="461"/>
                </a:lnTo>
                <a:lnTo>
                  <a:pt x="14" y="423"/>
                </a:lnTo>
                <a:lnTo>
                  <a:pt x="258" y="477"/>
                </a:lnTo>
                <a:close/>
              </a:path>
            </a:pathLst>
          </a:custGeom>
          <a:solidFill>
            <a:srgbClr val="00cc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79880" y="2087640"/>
            <a:ext cx="188640" cy="174600"/>
          </a:xfrm>
          <a:custGeom>
            <a:avLst/>
            <a:gdLst/>
            <a:ahLst/>
            <a:rect l="l" t="t" r="r" b="b"/>
            <a:pathLst>
              <a:path w="365" h="334">
                <a:moveTo>
                  <a:pt x="210" y="86"/>
                </a:moveTo>
                <a:lnTo>
                  <a:pt x="233" y="118"/>
                </a:lnTo>
                <a:lnTo>
                  <a:pt x="271" y="87"/>
                </a:lnTo>
                <a:lnTo>
                  <a:pt x="279" y="120"/>
                </a:lnTo>
                <a:lnTo>
                  <a:pt x="279" y="161"/>
                </a:lnTo>
                <a:lnTo>
                  <a:pt x="334" y="187"/>
                </a:lnTo>
                <a:lnTo>
                  <a:pt x="334" y="207"/>
                </a:lnTo>
                <a:lnTo>
                  <a:pt x="295" y="226"/>
                </a:lnTo>
                <a:lnTo>
                  <a:pt x="323" y="254"/>
                </a:lnTo>
                <a:lnTo>
                  <a:pt x="365" y="260"/>
                </a:lnTo>
                <a:lnTo>
                  <a:pt x="354" y="295"/>
                </a:lnTo>
                <a:lnTo>
                  <a:pt x="349" y="316"/>
                </a:lnTo>
                <a:lnTo>
                  <a:pt x="314" y="301"/>
                </a:lnTo>
                <a:lnTo>
                  <a:pt x="297" y="308"/>
                </a:lnTo>
                <a:lnTo>
                  <a:pt x="292" y="333"/>
                </a:lnTo>
                <a:lnTo>
                  <a:pt x="260" y="334"/>
                </a:lnTo>
                <a:lnTo>
                  <a:pt x="209" y="296"/>
                </a:lnTo>
                <a:lnTo>
                  <a:pt x="183" y="302"/>
                </a:lnTo>
                <a:lnTo>
                  <a:pt x="188" y="320"/>
                </a:lnTo>
                <a:lnTo>
                  <a:pt x="158" y="330"/>
                </a:lnTo>
                <a:lnTo>
                  <a:pt x="151" y="313"/>
                </a:lnTo>
                <a:lnTo>
                  <a:pt x="136" y="321"/>
                </a:lnTo>
                <a:lnTo>
                  <a:pt x="123" y="282"/>
                </a:lnTo>
                <a:lnTo>
                  <a:pt x="92" y="270"/>
                </a:lnTo>
                <a:lnTo>
                  <a:pt x="115" y="246"/>
                </a:lnTo>
                <a:lnTo>
                  <a:pt x="56" y="186"/>
                </a:lnTo>
                <a:lnTo>
                  <a:pt x="53" y="149"/>
                </a:lnTo>
                <a:lnTo>
                  <a:pt x="41" y="123"/>
                </a:lnTo>
                <a:lnTo>
                  <a:pt x="0" y="110"/>
                </a:lnTo>
                <a:lnTo>
                  <a:pt x="9" y="68"/>
                </a:lnTo>
                <a:lnTo>
                  <a:pt x="34" y="52"/>
                </a:lnTo>
                <a:lnTo>
                  <a:pt x="28" y="27"/>
                </a:lnTo>
                <a:lnTo>
                  <a:pt x="4" y="9"/>
                </a:lnTo>
                <a:lnTo>
                  <a:pt x="28" y="0"/>
                </a:lnTo>
                <a:lnTo>
                  <a:pt x="58" y="3"/>
                </a:lnTo>
                <a:lnTo>
                  <a:pt x="103" y="16"/>
                </a:lnTo>
                <a:lnTo>
                  <a:pt x="139" y="52"/>
                </a:lnTo>
                <a:lnTo>
                  <a:pt x="178" y="81"/>
                </a:lnTo>
                <a:lnTo>
                  <a:pt x="210" y="8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2640" y="2241720"/>
            <a:ext cx="404640" cy="245880"/>
          </a:xfrm>
          <a:custGeom>
            <a:avLst/>
            <a:gdLst/>
            <a:ahLst/>
            <a:rect l="l" t="t" r="r" b="b"/>
            <a:pathLst>
              <a:path w="781" h="477">
                <a:moveTo>
                  <a:pt x="507" y="29"/>
                </a:moveTo>
                <a:lnTo>
                  <a:pt x="550" y="30"/>
                </a:lnTo>
                <a:lnTo>
                  <a:pt x="563" y="48"/>
                </a:lnTo>
                <a:lnTo>
                  <a:pt x="597" y="34"/>
                </a:lnTo>
                <a:lnTo>
                  <a:pt x="612" y="14"/>
                </a:lnTo>
                <a:lnTo>
                  <a:pt x="628" y="17"/>
                </a:lnTo>
                <a:lnTo>
                  <a:pt x="650" y="68"/>
                </a:lnTo>
                <a:lnTo>
                  <a:pt x="642" y="87"/>
                </a:lnTo>
                <a:lnTo>
                  <a:pt x="668" y="90"/>
                </a:lnTo>
                <a:lnTo>
                  <a:pt x="715" y="125"/>
                </a:lnTo>
                <a:lnTo>
                  <a:pt x="762" y="200"/>
                </a:lnTo>
                <a:lnTo>
                  <a:pt x="781" y="249"/>
                </a:lnTo>
                <a:lnTo>
                  <a:pt x="746" y="250"/>
                </a:lnTo>
                <a:lnTo>
                  <a:pt x="705" y="281"/>
                </a:lnTo>
                <a:lnTo>
                  <a:pt x="697" y="255"/>
                </a:lnTo>
                <a:lnTo>
                  <a:pt x="666" y="248"/>
                </a:lnTo>
                <a:lnTo>
                  <a:pt x="662" y="225"/>
                </a:lnTo>
                <a:lnTo>
                  <a:pt x="629" y="237"/>
                </a:lnTo>
                <a:lnTo>
                  <a:pt x="622" y="268"/>
                </a:lnTo>
                <a:lnTo>
                  <a:pt x="601" y="262"/>
                </a:lnTo>
                <a:lnTo>
                  <a:pt x="575" y="285"/>
                </a:lnTo>
                <a:lnTo>
                  <a:pt x="545" y="260"/>
                </a:lnTo>
                <a:lnTo>
                  <a:pt x="520" y="241"/>
                </a:lnTo>
                <a:lnTo>
                  <a:pt x="480" y="264"/>
                </a:lnTo>
                <a:lnTo>
                  <a:pt x="460" y="247"/>
                </a:lnTo>
                <a:lnTo>
                  <a:pt x="439" y="256"/>
                </a:lnTo>
                <a:lnTo>
                  <a:pt x="455" y="289"/>
                </a:lnTo>
                <a:lnTo>
                  <a:pt x="426" y="307"/>
                </a:lnTo>
                <a:lnTo>
                  <a:pt x="418" y="359"/>
                </a:lnTo>
                <a:lnTo>
                  <a:pt x="387" y="372"/>
                </a:lnTo>
                <a:lnTo>
                  <a:pt x="343" y="385"/>
                </a:lnTo>
                <a:lnTo>
                  <a:pt x="332" y="415"/>
                </a:lnTo>
                <a:lnTo>
                  <a:pt x="338" y="446"/>
                </a:lnTo>
                <a:lnTo>
                  <a:pt x="320" y="448"/>
                </a:lnTo>
                <a:lnTo>
                  <a:pt x="282" y="459"/>
                </a:lnTo>
                <a:lnTo>
                  <a:pt x="260" y="477"/>
                </a:lnTo>
                <a:lnTo>
                  <a:pt x="229" y="454"/>
                </a:lnTo>
                <a:lnTo>
                  <a:pt x="256" y="437"/>
                </a:lnTo>
                <a:lnTo>
                  <a:pt x="250" y="418"/>
                </a:lnTo>
                <a:lnTo>
                  <a:pt x="201" y="431"/>
                </a:lnTo>
                <a:lnTo>
                  <a:pt x="180" y="424"/>
                </a:lnTo>
                <a:lnTo>
                  <a:pt x="154" y="423"/>
                </a:lnTo>
                <a:lnTo>
                  <a:pt x="130" y="437"/>
                </a:lnTo>
                <a:lnTo>
                  <a:pt x="122" y="465"/>
                </a:lnTo>
                <a:lnTo>
                  <a:pt x="87" y="415"/>
                </a:lnTo>
                <a:lnTo>
                  <a:pt x="71" y="348"/>
                </a:lnTo>
                <a:lnTo>
                  <a:pt x="91" y="318"/>
                </a:lnTo>
                <a:lnTo>
                  <a:pt x="80" y="269"/>
                </a:lnTo>
                <a:lnTo>
                  <a:pt x="64" y="242"/>
                </a:lnTo>
                <a:lnTo>
                  <a:pt x="54" y="239"/>
                </a:lnTo>
                <a:lnTo>
                  <a:pt x="34" y="249"/>
                </a:lnTo>
                <a:lnTo>
                  <a:pt x="17" y="212"/>
                </a:lnTo>
                <a:lnTo>
                  <a:pt x="9" y="189"/>
                </a:lnTo>
                <a:lnTo>
                  <a:pt x="28" y="161"/>
                </a:lnTo>
                <a:lnTo>
                  <a:pt x="4" y="146"/>
                </a:lnTo>
                <a:lnTo>
                  <a:pt x="0" y="100"/>
                </a:lnTo>
                <a:lnTo>
                  <a:pt x="33" y="93"/>
                </a:lnTo>
                <a:lnTo>
                  <a:pt x="74" y="90"/>
                </a:lnTo>
                <a:lnTo>
                  <a:pt x="85" y="69"/>
                </a:lnTo>
                <a:lnTo>
                  <a:pt x="123" y="68"/>
                </a:lnTo>
                <a:lnTo>
                  <a:pt x="188" y="74"/>
                </a:lnTo>
                <a:lnTo>
                  <a:pt x="214" y="59"/>
                </a:lnTo>
                <a:lnTo>
                  <a:pt x="241" y="82"/>
                </a:lnTo>
                <a:lnTo>
                  <a:pt x="238" y="54"/>
                </a:lnTo>
                <a:lnTo>
                  <a:pt x="247" y="25"/>
                </a:lnTo>
                <a:lnTo>
                  <a:pt x="262" y="17"/>
                </a:lnTo>
                <a:lnTo>
                  <a:pt x="269" y="34"/>
                </a:lnTo>
                <a:lnTo>
                  <a:pt x="299" y="24"/>
                </a:lnTo>
                <a:lnTo>
                  <a:pt x="294" y="6"/>
                </a:lnTo>
                <a:lnTo>
                  <a:pt x="320" y="0"/>
                </a:lnTo>
                <a:lnTo>
                  <a:pt x="371" y="38"/>
                </a:lnTo>
                <a:lnTo>
                  <a:pt x="403" y="37"/>
                </a:lnTo>
                <a:lnTo>
                  <a:pt x="408" y="12"/>
                </a:lnTo>
                <a:lnTo>
                  <a:pt x="425" y="5"/>
                </a:lnTo>
                <a:lnTo>
                  <a:pt x="460" y="20"/>
                </a:lnTo>
                <a:lnTo>
                  <a:pt x="483" y="20"/>
                </a:lnTo>
                <a:lnTo>
                  <a:pt x="507" y="2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2505240"/>
            <a:ext cx="338040" cy="423720"/>
          </a:xfrm>
          <a:custGeom>
            <a:avLst/>
            <a:gdLst/>
            <a:ahLst/>
            <a:rect l="l" t="t" r="r" b="b"/>
            <a:pathLst>
              <a:path w="657" h="820">
                <a:moveTo>
                  <a:pt x="591" y="520"/>
                </a:moveTo>
                <a:lnTo>
                  <a:pt x="625" y="534"/>
                </a:lnTo>
                <a:lnTo>
                  <a:pt x="630" y="579"/>
                </a:lnTo>
                <a:lnTo>
                  <a:pt x="634" y="639"/>
                </a:lnTo>
                <a:lnTo>
                  <a:pt x="648" y="669"/>
                </a:lnTo>
                <a:lnTo>
                  <a:pt x="629" y="682"/>
                </a:lnTo>
                <a:lnTo>
                  <a:pt x="657" y="726"/>
                </a:lnTo>
                <a:lnTo>
                  <a:pt x="647" y="759"/>
                </a:lnTo>
                <a:lnTo>
                  <a:pt x="620" y="783"/>
                </a:lnTo>
                <a:lnTo>
                  <a:pt x="609" y="765"/>
                </a:lnTo>
                <a:lnTo>
                  <a:pt x="584" y="776"/>
                </a:lnTo>
                <a:lnTo>
                  <a:pt x="544" y="783"/>
                </a:lnTo>
                <a:lnTo>
                  <a:pt x="510" y="758"/>
                </a:lnTo>
                <a:lnTo>
                  <a:pt x="482" y="762"/>
                </a:lnTo>
                <a:lnTo>
                  <a:pt x="449" y="731"/>
                </a:lnTo>
                <a:lnTo>
                  <a:pt x="430" y="737"/>
                </a:lnTo>
                <a:lnTo>
                  <a:pt x="421" y="759"/>
                </a:lnTo>
                <a:lnTo>
                  <a:pt x="384" y="747"/>
                </a:lnTo>
                <a:lnTo>
                  <a:pt x="343" y="743"/>
                </a:lnTo>
                <a:lnTo>
                  <a:pt x="321" y="720"/>
                </a:lnTo>
                <a:lnTo>
                  <a:pt x="260" y="820"/>
                </a:lnTo>
                <a:lnTo>
                  <a:pt x="200" y="803"/>
                </a:lnTo>
                <a:lnTo>
                  <a:pt x="191" y="772"/>
                </a:lnTo>
                <a:lnTo>
                  <a:pt x="208" y="748"/>
                </a:lnTo>
                <a:lnTo>
                  <a:pt x="228" y="652"/>
                </a:lnTo>
                <a:lnTo>
                  <a:pt x="196" y="644"/>
                </a:lnTo>
                <a:lnTo>
                  <a:pt x="188" y="623"/>
                </a:lnTo>
                <a:lnTo>
                  <a:pt x="201" y="607"/>
                </a:lnTo>
                <a:lnTo>
                  <a:pt x="180" y="586"/>
                </a:lnTo>
                <a:lnTo>
                  <a:pt x="184" y="559"/>
                </a:lnTo>
                <a:lnTo>
                  <a:pt x="178" y="528"/>
                </a:lnTo>
                <a:lnTo>
                  <a:pt x="159" y="530"/>
                </a:lnTo>
                <a:lnTo>
                  <a:pt x="124" y="503"/>
                </a:lnTo>
                <a:lnTo>
                  <a:pt x="138" y="486"/>
                </a:lnTo>
                <a:lnTo>
                  <a:pt x="134" y="452"/>
                </a:lnTo>
                <a:lnTo>
                  <a:pt x="114" y="446"/>
                </a:lnTo>
                <a:lnTo>
                  <a:pt x="101" y="457"/>
                </a:lnTo>
                <a:lnTo>
                  <a:pt x="71" y="420"/>
                </a:lnTo>
                <a:lnTo>
                  <a:pt x="80" y="402"/>
                </a:lnTo>
                <a:lnTo>
                  <a:pt x="116" y="386"/>
                </a:lnTo>
                <a:lnTo>
                  <a:pt x="134" y="360"/>
                </a:lnTo>
                <a:lnTo>
                  <a:pt x="139" y="331"/>
                </a:lnTo>
                <a:lnTo>
                  <a:pt x="107" y="280"/>
                </a:lnTo>
                <a:lnTo>
                  <a:pt x="91" y="253"/>
                </a:lnTo>
                <a:lnTo>
                  <a:pt x="67" y="254"/>
                </a:lnTo>
                <a:lnTo>
                  <a:pt x="66" y="228"/>
                </a:lnTo>
                <a:lnTo>
                  <a:pt x="21" y="199"/>
                </a:lnTo>
                <a:lnTo>
                  <a:pt x="2" y="191"/>
                </a:lnTo>
                <a:lnTo>
                  <a:pt x="2" y="153"/>
                </a:lnTo>
                <a:lnTo>
                  <a:pt x="0" y="123"/>
                </a:lnTo>
                <a:lnTo>
                  <a:pt x="28" y="86"/>
                </a:lnTo>
                <a:lnTo>
                  <a:pt x="34" y="37"/>
                </a:lnTo>
                <a:lnTo>
                  <a:pt x="99" y="19"/>
                </a:lnTo>
                <a:lnTo>
                  <a:pt x="170" y="0"/>
                </a:lnTo>
                <a:lnTo>
                  <a:pt x="183" y="6"/>
                </a:lnTo>
                <a:lnTo>
                  <a:pt x="204" y="35"/>
                </a:lnTo>
                <a:lnTo>
                  <a:pt x="239" y="68"/>
                </a:lnTo>
                <a:lnTo>
                  <a:pt x="256" y="129"/>
                </a:lnTo>
                <a:lnTo>
                  <a:pt x="297" y="120"/>
                </a:lnTo>
                <a:lnTo>
                  <a:pt x="300" y="197"/>
                </a:lnTo>
                <a:lnTo>
                  <a:pt x="321" y="191"/>
                </a:lnTo>
                <a:lnTo>
                  <a:pt x="361" y="217"/>
                </a:lnTo>
                <a:lnTo>
                  <a:pt x="380" y="219"/>
                </a:lnTo>
                <a:lnTo>
                  <a:pt x="372" y="240"/>
                </a:lnTo>
                <a:lnTo>
                  <a:pt x="382" y="265"/>
                </a:lnTo>
                <a:lnTo>
                  <a:pt x="427" y="260"/>
                </a:lnTo>
                <a:lnTo>
                  <a:pt x="467" y="283"/>
                </a:lnTo>
                <a:lnTo>
                  <a:pt x="475" y="309"/>
                </a:lnTo>
                <a:lnTo>
                  <a:pt x="488" y="348"/>
                </a:lnTo>
                <a:lnTo>
                  <a:pt x="530" y="389"/>
                </a:lnTo>
                <a:lnTo>
                  <a:pt x="573" y="398"/>
                </a:lnTo>
                <a:lnTo>
                  <a:pt x="599" y="445"/>
                </a:lnTo>
                <a:lnTo>
                  <a:pt x="607" y="479"/>
                </a:lnTo>
                <a:lnTo>
                  <a:pt x="591" y="520"/>
                </a:lnTo>
                <a:close/>
              </a:path>
            </a:pathLst>
          </a:custGeom>
          <a:solidFill>
            <a:srgbClr val="00cc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77960" y="2509920"/>
            <a:ext cx="389160" cy="396720"/>
          </a:xfrm>
          <a:custGeom>
            <a:avLst/>
            <a:gdLst/>
            <a:ahLst/>
            <a:rect l="l" t="t" r="r" b="b"/>
            <a:pathLst>
              <a:path w="750" h="765">
                <a:moveTo>
                  <a:pt x="639" y="648"/>
                </a:moveTo>
                <a:lnTo>
                  <a:pt x="555" y="696"/>
                </a:lnTo>
                <a:lnTo>
                  <a:pt x="555" y="750"/>
                </a:lnTo>
                <a:lnTo>
                  <a:pt x="526" y="755"/>
                </a:lnTo>
                <a:lnTo>
                  <a:pt x="493" y="746"/>
                </a:lnTo>
                <a:lnTo>
                  <a:pt x="440" y="765"/>
                </a:lnTo>
                <a:lnTo>
                  <a:pt x="443" y="715"/>
                </a:lnTo>
                <a:lnTo>
                  <a:pt x="425" y="679"/>
                </a:lnTo>
                <a:lnTo>
                  <a:pt x="373" y="686"/>
                </a:lnTo>
                <a:lnTo>
                  <a:pt x="343" y="671"/>
                </a:lnTo>
                <a:lnTo>
                  <a:pt x="310" y="655"/>
                </a:lnTo>
                <a:lnTo>
                  <a:pt x="276" y="649"/>
                </a:lnTo>
                <a:lnTo>
                  <a:pt x="262" y="702"/>
                </a:lnTo>
                <a:lnTo>
                  <a:pt x="251" y="661"/>
                </a:lnTo>
                <a:lnTo>
                  <a:pt x="220" y="669"/>
                </a:lnTo>
                <a:lnTo>
                  <a:pt x="210" y="637"/>
                </a:lnTo>
                <a:lnTo>
                  <a:pt x="224" y="619"/>
                </a:lnTo>
                <a:lnTo>
                  <a:pt x="214" y="587"/>
                </a:lnTo>
                <a:lnTo>
                  <a:pt x="187" y="609"/>
                </a:lnTo>
                <a:lnTo>
                  <a:pt x="186" y="635"/>
                </a:lnTo>
                <a:lnTo>
                  <a:pt x="161" y="641"/>
                </a:lnTo>
                <a:lnTo>
                  <a:pt x="148" y="607"/>
                </a:lnTo>
                <a:lnTo>
                  <a:pt x="115" y="616"/>
                </a:lnTo>
                <a:lnTo>
                  <a:pt x="95" y="598"/>
                </a:lnTo>
                <a:lnTo>
                  <a:pt x="68" y="600"/>
                </a:lnTo>
                <a:lnTo>
                  <a:pt x="52" y="618"/>
                </a:lnTo>
                <a:lnTo>
                  <a:pt x="38" y="599"/>
                </a:lnTo>
                <a:lnTo>
                  <a:pt x="8" y="573"/>
                </a:lnTo>
                <a:lnTo>
                  <a:pt x="25" y="560"/>
                </a:lnTo>
                <a:lnTo>
                  <a:pt x="26" y="541"/>
                </a:lnTo>
                <a:lnTo>
                  <a:pt x="0" y="539"/>
                </a:lnTo>
                <a:lnTo>
                  <a:pt x="30" y="485"/>
                </a:lnTo>
                <a:lnTo>
                  <a:pt x="37" y="449"/>
                </a:lnTo>
                <a:lnTo>
                  <a:pt x="34" y="412"/>
                </a:lnTo>
                <a:lnTo>
                  <a:pt x="9" y="387"/>
                </a:lnTo>
                <a:lnTo>
                  <a:pt x="40" y="375"/>
                </a:lnTo>
                <a:lnTo>
                  <a:pt x="72" y="352"/>
                </a:lnTo>
                <a:lnTo>
                  <a:pt x="137" y="389"/>
                </a:lnTo>
                <a:lnTo>
                  <a:pt x="159" y="380"/>
                </a:lnTo>
                <a:lnTo>
                  <a:pt x="186" y="364"/>
                </a:lnTo>
                <a:lnTo>
                  <a:pt x="196" y="329"/>
                </a:lnTo>
                <a:lnTo>
                  <a:pt x="200" y="306"/>
                </a:lnTo>
                <a:lnTo>
                  <a:pt x="199" y="286"/>
                </a:lnTo>
                <a:lnTo>
                  <a:pt x="181" y="270"/>
                </a:lnTo>
                <a:lnTo>
                  <a:pt x="214" y="245"/>
                </a:lnTo>
                <a:lnTo>
                  <a:pt x="244" y="226"/>
                </a:lnTo>
                <a:lnTo>
                  <a:pt x="268" y="214"/>
                </a:lnTo>
                <a:lnTo>
                  <a:pt x="281" y="157"/>
                </a:lnTo>
                <a:lnTo>
                  <a:pt x="274" y="128"/>
                </a:lnTo>
                <a:lnTo>
                  <a:pt x="299" y="74"/>
                </a:lnTo>
                <a:lnTo>
                  <a:pt x="329" y="72"/>
                </a:lnTo>
                <a:lnTo>
                  <a:pt x="346" y="52"/>
                </a:lnTo>
                <a:lnTo>
                  <a:pt x="366" y="51"/>
                </a:lnTo>
                <a:lnTo>
                  <a:pt x="367" y="0"/>
                </a:lnTo>
                <a:lnTo>
                  <a:pt x="435" y="25"/>
                </a:lnTo>
                <a:lnTo>
                  <a:pt x="472" y="10"/>
                </a:lnTo>
                <a:lnTo>
                  <a:pt x="486" y="21"/>
                </a:lnTo>
                <a:lnTo>
                  <a:pt x="480" y="52"/>
                </a:lnTo>
                <a:lnTo>
                  <a:pt x="533" y="90"/>
                </a:lnTo>
                <a:lnTo>
                  <a:pt x="549" y="113"/>
                </a:lnTo>
                <a:lnTo>
                  <a:pt x="551" y="143"/>
                </a:lnTo>
                <a:lnTo>
                  <a:pt x="551" y="181"/>
                </a:lnTo>
                <a:lnTo>
                  <a:pt x="570" y="189"/>
                </a:lnTo>
                <a:lnTo>
                  <a:pt x="615" y="218"/>
                </a:lnTo>
                <a:lnTo>
                  <a:pt x="616" y="244"/>
                </a:lnTo>
                <a:lnTo>
                  <a:pt x="640" y="243"/>
                </a:lnTo>
                <a:lnTo>
                  <a:pt x="656" y="270"/>
                </a:lnTo>
                <a:lnTo>
                  <a:pt x="688" y="321"/>
                </a:lnTo>
                <a:lnTo>
                  <a:pt x="683" y="350"/>
                </a:lnTo>
                <a:lnTo>
                  <a:pt x="665" y="376"/>
                </a:lnTo>
                <a:lnTo>
                  <a:pt x="629" y="392"/>
                </a:lnTo>
                <a:lnTo>
                  <a:pt x="620" y="410"/>
                </a:lnTo>
                <a:lnTo>
                  <a:pt x="650" y="447"/>
                </a:lnTo>
                <a:lnTo>
                  <a:pt x="663" y="436"/>
                </a:lnTo>
                <a:lnTo>
                  <a:pt x="683" y="442"/>
                </a:lnTo>
                <a:lnTo>
                  <a:pt x="687" y="476"/>
                </a:lnTo>
                <a:lnTo>
                  <a:pt x="673" y="493"/>
                </a:lnTo>
                <a:lnTo>
                  <a:pt x="708" y="520"/>
                </a:lnTo>
                <a:lnTo>
                  <a:pt x="727" y="518"/>
                </a:lnTo>
                <a:lnTo>
                  <a:pt x="733" y="549"/>
                </a:lnTo>
                <a:lnTo>
                  <a:pt x="729" y="576"/>
                </a:lnTo>
                <a:lnTo>
                  <a:pt x="750" y="597"/>
                </a:lnTo>
                <a:lnTo>
                  <a:pt x="737" y="613"/>
                </a:lnTo>
                <a:lnTo>
                  <a:pt x="745" y="634"/>
                </a:lnTo>
                <a:lnTo>
                  <a:pt x="701" y="662"/>
                </a:lnTo>
                <a:lnTo>
                  <a:pt x="670" y="666"/>
                </a:lnTo>
                <a:lnTo>
                  <a:pt x="639" y="64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0200" y="2340000"/>
            <a:ext cx="220680" cy="216000"/>
          </a:xfrm>
          <a:custGeom>
            <a:avLst/>
            <a:gdLst/>
            <a:ahLst/>
            <a:rect l="l" t="t" r="r" b="b"/>
            <a:pathLst>
              <a:path w="428" h="416">
                <a:moveTo>
                  <a:pt x="197" y="60"/>
                </a:moveTo>
                <a:lnTo>
                  <a:pt x="217" y="50"/>
                </a:lnTo>
                <a:lnTo>
                  <a:pt x="227" y="53"/>
                </a:lnTo>
                <a:lnTo>
                  <a:pt x="243" y="80"/>
                </a:lnTo>
                <a:lnTo>
                  <a:pt x="254" y="129"/>
                </a:lnTo>
                <a:lnTo>
                  <a:pt x="234" y="159"/>
                </a:lnTo>
                <a:lnTo>
                  <a:pt x="250" y="226"/>
                </a:lnTo>
                <a:lnTo>
                  <a:pt x="285" y="276"/>
                </a:lnTo>
                <a:lnTo>
                  <a:pt x="293" y="248"/>
                </a:lnTo>
                <a:lnTo>
                  <a:pt x="317" y="234"/>
                </a:lnTo>
                <a:lnTo>
                  <a:pt x="343" y="235"/>
                </a:lnTo>
                <a:lnTo>
                  <a:pt x="364" y="242"/>
                </a:lnTo>
                <a:lnTo>
                  <a:pt x="413" y="229"/>
                </a:lnTo>
                <a:lnTo>
                  <a:pt x="419" y="248"/>
                </a:lnTo>
                <a:lnTo>
                  <a:pt x="392" y="265"/>
                </a:lnTo>
                <a:lnTo>
                  <a:pt x="423" y="288"/>
                </a:lnTo>
                <a:lnTo>
                  <a:pt x="428" y="323"/>
                </a:lnTo>
                <a:lnTo>
                  <a:pt x="404" y="345"/>
                </a:lnTo>
                <a:lnTo>
                  <a:pt x="385" y="372"/>
                </a:lnTo>
                <a:lnTo>
                  <a:pt x="369" y="395"/>
                </a:lnTo>
                <a:lnTo>
                  <a:pt x="375" y="416"/>
                </a:lnTo>
                <a:lnTo>
                  <a:pt x="293" y="384"/>
                </a:lnTo>
                <a:lnTo>
                  <a:pt x="249" y="394"/>
                </a:lnTo>
                <a:lnTo>
                  <a:pt x="214" y="363"/>
                </a:lnTo>
                <a:lnTo>
                  <a:pt x="216" y="328"/>
                </a:lnTo>
                <a:lnTo>
                  <a:pt x="166" y="292"/>
                </a:lnTo>
                <a:lnTo>
                  <a:pt x="147" y="326"/>
                </a:lnTo>
                <a:lnTo>
                  <a:pt x="129" y="316"/>
                </a:lnTo>
                <a:lnTo>
                  <a:pt x="107" y="267"/>
                </a:lnTo>
                <a:lnTo>
                  <a:pt x="105" y="232"/>
                </a:lnTo>
                <a:lnTo>
                  <a:pt x="116" y="233"/>
                </a:lnTo>
                <a:lnTo>
                  <a:pt x="107" y="182"/>
                </a:lnTo>
                <a:lnTo>
                  <a:pt x="87" y="156"/>
                </a:lnTo>
                <a:lnTo>
                  <a:pt x="64" y="162"/>
                </a:lnTo>
                <a:lnTo>
                  <a:pt x="39" y="159"/>
                </a:lnTo>
                <a:lnTo>
                  <a:pt x="12" y="129"/>
                </a:lnTo>
                <a:lnTo>
                  <a:pt x="0" y="96"/>
                </a:lnTo>
                <a:lnTo>
                  <a:pt x="36" y="100"/>
                </a:lnTo>
                <a:lnTo>
                  <a:pt x="47" y="67"/>
                </a:lnTo>
                <a:lnTo>
                  <a:pt x="75" y="89"/>
                </a:lnTo>
                <a:lnTo>
                  <a:pt x="81" y="62"/>
                </a:lnTo>
                <a:lnTo>
                  <a:pt x="119" y="59"/>
                </a:lnTo>
                <a:lnTo>
                  <a:pt x="155" y="34"/>
                </a:lnTo>
                <a:lnTo>
                  <a:pt x="152" y="12"/>
                </a:lnTo>
                <a:lnTo>
                  <a:pt x="172" y="0"/>
                </a:lnTo>
                <a:lnTo>
                  <a:pt x="180" y="23"/>
                </a:lnTo>
                <a:lnTo>
                  <a:pt x="197" y="6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2880" y="1081080"/>
            <a:ext cx="335160" cy="519120"/>
          </a:xfrm>
          <a:custGeom>
            <a:avLst/>
            <a:gdLst/>
            <a:ahLst/>
            <a:rect l="l" t="t" r="r" b="b"/>
            <a:pathLst>
              <a:path w="645" h="1005">
                <a:moveTo>
                  <a:pt x="79" y="482"/>
                </a:moveTo>
                <a:lnTo>
                  <a:pt x="68" y="467"/>
                </a:lnTo>
                <a:lnTo>
                  <a:pt x="48" y="477"/>
                </a:lnTo>
                <a:lnTo>
                  <a:pt x="33" y="435"/>
                </a:lnTo>
                <a:lnTo>
                  <a:pt x="58" y="421"/>
                </a:lnTo>
                <a:lnTo>
                  <a:pt x="56" y="413"/>
                </a:lnTo>
                <a:lnTo>
                  <a:pt x="76" y="389"/>
                </a:lnTo>
                <a:lnTo>
                  <a:pt x="0" y="258"/>
                </a:lnTo>
                <a:lnTo>
                  <a:pt x="39" y="208"/>
                </a:lnTo>
                <a:lnTo>
                  <a:pt x="62" y="203"/>
                </a:lnTo>
                <a:lnTo>
                  <a:pt x="181" y="215"/>
                </a:lnTo>
                <a:lnTo>
                  <a:pt x="206" y="202"/>
                </a:lnTo>
                <a:lnTo>
                  <a:pt x="217" y="171"/>
                </a:lnTo>
                <a:lnTo>
                  <a:pt x="249" y="125"/>
                </a:lnTo>
                <a:lnTo>
                  <a:pt x="252" y="74"/>
                </a:lnTo>
                <a:lnTo>
                  <a:pt x="303" y="23"/>
                </a:lnTo>
                <a:lnTo>
                  <a:pt x="370" y="25"/>
                </a:lnTo>
                <a:lnTo>
                  <a:pt x="364" y="0"/>
                </a:lnTo>
                <a:lnTo>
                  <a:pt x="408" y="18"/>
                </a:lnTo>
                <a:lnTo>
                  <a:pt x="415" y="28"/>
                </a:lnTo>
                <a:lnTo>
                  <a:pt x="464" y="15"/>
                </a:lnTo>
                <a:lnTo>
                  <a:pt x="500" y="41"/>
                </a:lnTo>
                <a:lnTo>
                  <a:pt x="522" y="43"/>
                </a:lnTo>
                <a:lnTo>
                  <a:pt x="547" y="32"/>
                </a:lnTo>
                <a:lnTo>
                  <a:pt x="540" y="84"/>
                </a:lnTo>
                <a:lnTo>
                  <a:pt x="554" y="91"/>
                </a:lnTo>
                <a:lnTo>
                  <a:pt x="591" y="59"/>
                </a:lnTo>
                <a:lnTo>
                  <a:pt x="590" y="100"/>
                </a:lnTo>
                <a:lnTo>
                  <a:pt x="588" y="116"/>
                </a:lnTo>
                <a:lnTo>
                  <a:pt x="619" y="116"/>
                </a:lnTo>
                <a:lnTo>
                  <a:pt x="645" y="116"/>
                </a:lnTo>
                <a:lnTo>
                  <a:pt x="644" y="205"/>
                </a:lnTo>
                <a:lnTo>
                  <a:pt x="631" y="230"/>
                </a:lnTo>
                <a:lnTo>
                  <a:pt x="612" y="215"/>
                </a:lnTo>
                <a:lnTo>
                  <a:pt x="607" y="157"/>
                </a:lnTo>
                <a:lnTo>
                  <a:pt x="584" y="156"/>
                </a:lnTo>
                <a:lnTo>
                  <a:pt x="590" y="188"/>
                </a:lnTo>
                <a:lnTo>
                  <a:pt x="591" y="222"/>
                </a:lnTo>
                <a:lnTo>
                  <a:pt x="599" y="242"/>
                </a:lnTo>
                <a:lnTo>
                  <a:pt x="604" y="263"/>
                </a:lnTo>
                <a:lnTo>
                  <a:pt x="569" y="264"/>
                </a:lnTo>
                <a:lnTo>
                  <a:pt x="570" y="290"/>
                </a:lnTo>
                <a:lnTo>
                  <a:pt x="589" y="282"/>
                </a:lnTo>
                <a:lnTo>
                  <a:pt x="603" y="308"/>
                </a:lnTo>
                <a:lnTo>
                  <a:pt x="615" y="377"/>
                </a:lnTo>
                <a:lnTo>
                  <a:pt x="622" y="395"/>
                </a:lnTo>
                <a:lnTo>
                  <a:pt x="637" y="374"/>
                </a:lnTo>
                <a:lnTo>
                  <a:pt x="639" y="448"/>
                </a:lnTo>
                <a:lnTo>
                  <a:pt x="630" y="539"/>
                </a:lnTo>
                <a:lnTo>
                  <a:pt x="616" y="619"/>
                </a:lnTo>
                <a:lnTo>
                  <a:pt x="600" y="671"/>
                </a:lnTo>
                <a:lnTo>
                  <a:pt x="597" y="747"/>
                </a:lnTo>
                <a:lnTo>
                  <a:pt x="601" y="779"/>
                </a:lnTo>
                <a:lnTo>
                  <a:pt x="616" y="755"/>
                </a:lnTo>
                <a:lnTo>
                  <a:pt x="604" y="812"/>
                </a:lnTo>
                <a:lnTo>
                  <a:pt x="597" y="835"/>
                </a:lnTo>
                <a:lnTo>
                  <a:pt x="584" y="837"/>
                </a:lnTo>
                <a:lnTo>
                  <a:pt x="579" y="852"/>
                </a:lnTo>
                <a:lnTo>
                  <a:pt x="595" y="854"/>
                </a:lnTo>
                <a:lnTo>
                  <a:pt x="594" y="879"/>
                </a:lnTo>
                <a:lnTo>
                  <a:pt x="575" y="906"/>
                </a:lnTo>
                <a:lnTo>
                  <a:pt x="544" y="942"/>
                </a:lnTo>
                <a:lnTo>
                  <a:pt x="532" y="952"/>
                </a:lnTo>
                <a:lnTo>
                  <a:pt x="532" y="971"/>
                </a:lnTo>
                <a:lnTo>
                  <a:pt x="486" y="998"/>
                </a:lnTo>
                <a:lnTo>
                  <a:pt x="413" y="1005"/>
                </a:lnTo>
                <a:lnTo>
                  <a:pt x="359" y="997"/>
                </a:lnTo>
                <a:lnTo>
                  <a:pt x="315" y="980"/>
                </a:lnTo>
                <a:lnTo>
                  <a:pt x="259" y="947"/>
                </a:lnTo>
                <a:lnTo>
                  <a:pt x="229" y="909"/>
                </a:lnTo>
                <a:lnTo>
                  <a:pt x="212" y="852"/>
                </a:lnTo>
                <a:lnTo>
                  <a:pt x="218" y="799"/>
                </a:lnTo>
                <a:lnTo>
                  <a:pt x="185" y="737"/>
                </a:lnTo>
                <a:lnTo>
                  <a:pt x="173" y="672"/>
                </a:lnTo>
                <a:lnTo>
                  <a:pt x="181" y="617"/>
                </a:lnTo>
                <a:lnTo>
                  <a:pt x="162" y="594"/>
                </a:lnTo>
                <a:lnTo>
                  <a:pt x="169" y="581"/>
                </a:lnTo>
                <a:lnTo>
                  <a:pt x="172" y="559"/>
                </a:lnTo>
                <a:lnTo>
                  <a:pt x="168" y="534"/>
                </a:lnTo>
                <a:lnTo>
                  <a:pt x="176" y="513"/>
                </a:lnTo>
                <a:lnTo>
                  <a:pt x="159" y="516"/>
                </a:lnTo>
                <a:lnTo>
                  <a:pt x="180" y="443"/>
                </a:lnTo>
                <a:lnTo>
                  <a:pt x="192" y="441"/>
                </a:lnTo>
                <a:lnTo>
                  <a:pt x="191" y="404"/>
                </a:lnTo>
                <a:lnTo>
                  <a:pt x="176" y="402"/>
                </a:lnTo>
                <a:lnTo>
                  <a:pt x="170" y="430"/>
                </a:lnTo>
                <a:lnTo>
                  <a:pt x="148" y="427"/>
                </a:lnTo>
                <a:lnTo>
                  <a:pt x="144" y="474"/>
                </a:lnTo>
                <a:lnTo>
                  <a:pt x="137" y="505"/>
                </a:lnTo>
                <a:lnTo>
                  <a:pt x="108" y="506"/>
                </a:lnTo>
                <a:lnTo>
                  <a:pt x="98" y="469"/>
                </a:lnTo>
                <a:lnTo>
                  <a:pt x="79" y="48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44960" y="1920960"/>
            <a:ext cx="226800" cy="193680"/>
          </a:xfrm>
          <a:custGeom>
            <a:avLst/>
            <a:gdLst/>
            <a:ahLst/>
            <a:rect l="l" t="t" r="r" b="b"/>
            <a:pathLst>
              <a:path w="439" h="376">
                <a:moveTo>
                  <a:pt x="12" y="235"/>
                </a:moveTo>
                <a:lnTo>
                  <a:pt x="28" y="218"/>
                </a:lnTo>
                <a:lnTo>
                  <a:pt x="79" y="183"/>
                </a:lnTo>
                <a:lnTo>
                  <a:pt x="111" y="173"/>
                </a:lnTo>
                <a:lnTo>
                  <a:pt x="86" y="156"/>
                </a:lnTo>
                <a:lnTo>
                  <a:pt x="101" y="124"/>
                </a:lnTo>
                <a:lnTo>
                  <a:pt x="123" y="110"/>
                </a:lnTo>
                <a:lnTo>
                  <a:pt x="140" y="44"/>
                </a:lnTo>
                <a:lnTo>
                  <a:pt x="190" y="47"/>
                </a:lnTo>
                <a:lnTo>
                  <a:pt x="192" y="7"/>
                </a:lnTo>
                <a:lnTo>
                  <a:pt x="220" y="0"/>
                </a:lnTo>
                <a:lnTo>
                  <a:pt x="253" y="5"/>
                </a:lnTo>
                <a:lnTo>
                  <a:pt x="234" y="43"/>
                </a:lnTo>
                <a:lnTo>
                  <a:pt x="239" y="80"/>
                </a:lnTo>
                <a:lnTo>
                  <a:pt x="215" y="113"/>
                </a:lnTo>
                <a:lnTo>
                  <a:pt x="254" y="133"/>
                </a:lnTo>
                <a:lnTo>
                  <a:pt x="294" y="140"/>
                </a:lnTo>
                <a:lnTo>
                  <a:pt x="324" y="116"/>
                </a:lnTo>
                <a:lnTo>
                  <a:pt x="325" y="56"/>
                </a:lnTo>
                <a:lnTo>
                  <a:pt x="329" y="57"/>
                </a:lnTo>
                <a:lnTo>
                  <a:pt x="355" y="85"/>
                </a:lnTo>
                <a:lnTo>
                  <a:pt x="384" y="68"/>
                </a:lnTo>
                <a:lnTo>
                  <a:pt x="414" y="133"/>
                </a:lnTo>
                <a:lnTo>
                  <a:pt x="388" y="214"/>
                </a:lnTo>
                <a:lnTo>
                  <a:pt x="417" y="236"/>
                </a:lnTo>
                <a:lnTo>
                  <a:pt x="439" y="264"/>
                </a:lnTo>
                <a:lnTo>
                  <a:pt x="409" y="308"/>
                </a:lnTo>
                <a:lnTo>
                  <a:pt x="327" y="311"/>
                </a:lnTo>
                <a:lnTo>
                  <a:pt x="296" y="327"/>
                </a:lnTo>
                <a:lnTo>
                  <a:pt x="266" y="361"/>
                </a:lnTo>
                <a:lnTo>
                  <a:pt x="252" y="341"/>
                </a:lnTo>
                <a:lnTo>
                  <a:pt x="207" y="376"/>
                </a:lnTo>
                <a:lnTo>
                  <a:pt x="171" y="340"/>
                </a:lnTo>
                <a:lnTo>
                  <a:pt x="126" y="327"/>
                </a:lnTo>
                <a:lnTo>
                  <a:pt x="96" y="324"/>
                </a:lnTo>
                <a:lnTo>
                  <a:pt x="72" y="333"/>
                </a:lnTo>
                <a:lnTo>
                  <a:pt x="34" y="349"/>
                </a:lnTo>
                <a:lnTo>
                  <a:pt x="16" y="326"/>
                </a:lnTo>
                <a:lnTo>
                  <a:pt x="19" y="296"/>
                </a:lnTo>
                <a:lnTo>
                  <a:pt x="0" y="287"/>
                </a:lnTo>
                <a:lnTo>
                  <a:pt x="3" y="260"/>
                </a:lnTo>
                <a:lnTo>
                  <a:pt x="12" y="23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7400" y="2387520"/>
            <a:ext cx="220680" cy="277920"/>
          </a:xfrm>
          <a:custGeom>
            <a:avLst/>
            <a:gdLst/>
            <a:ahLst/>
            <a:rect l="l" t="t" r="r" b="b"/>
            <a:pathLst>
              <a:path w="426" h="535">
                <a:moveTo>
                  <a:pt x="156" y="0"/>
                </a:moveTo>
                <a:lnTo>
                  <a:pt x="168" y="33"/>
                </a:lnTo>
                <a:lnTo>
                  <a:pt x="195" y="63"/>
                </a:lnTo>
                <a:lnTo>
                  <a:pt x="220" y="66"/>
                </a:lnTo>
                <a:lnTo>
                  <a:pt x="243" y="60"/>
                </a:lnTo>
                <a:lnTo>
                  <a:pt x="263" y="86"/>
                </a:lnTo>
                <a:lnTo>
                  <a:pt x="272" y="137"/>
                </a:lnTo>
                <a:lnTo>
                  <a:pt x="261" y="136"/>
                </a:lnTo>
                <a:lnTo>
                  <a:pt x="263" y="171"/>
                </a:lnTo>
                <a:lnTo>
                  <a:pt x="285" y="220"/>
                </a:lnTo>
                <a:lnTo>
                  <a:pt x="303" y="230"/>
                </a:lnTo>
                <a:lnTo>
                  <a:pt x="322" y="196"/>
                </a:lnTo>
                <a:lnTo>
                  <a:pt x="372" y="232"/>
                </a:lnTo>
                <a:lnTo>
                  <a:pt x="370" y="267"/>
                </a:lnTo>
                <a:lnTo>
                  <a:pt x="405" y="298"/>
                </a:lnTo>
                <a:lnTo>
                  <a:pt x="426" y="327"/>
                </a:lnTo>
                <a:lnTo>
                  <a:pt x="404" y="391"/>
                </a:lnTo>
                <a:lnTo>
                  <a:pt x="393" y="410"/>
                </a:lnTo>
                <a:lnTo>
                  <a:pt x="399" y="424"/>
                </a:lnTo>
                <a:lnTo>
                  <a:pt x="387" y="473"/>
                </a:lnTo>
                <a:lnTo>
                  <a:pt x="350" y="501"/>
                </a:lnTo>
                <a:lnTo>
                  <a:pt x="329" y="529"/>
                </a:lnTo>
                <a:lnTo>
                  <a:pt x="292" y="535"/>
                </a:lnTo>
                <a:lnTo>
                  <a:pt x="284" y="509"/>
                </a:lnTo>
                <a:lnTo>
                  <a:pt x="244" y="486"/>
                </a:lnTo>
                <a:lnTo>
                  <a:pt x="199" y="491"/>
                </a:lnTo>
                <a:lnTo>
                  <a:pt x="189" y="466"/>
                </a:lnTo>
                <a:lnTo>
                  <a:pt x="197" y="445"/>
                </a:lnTo>
                <a:lnTo>
                  <a:pt x="178" y="443"/>
                </a:lnTo>
                <a:lnTo>
                  <a:pt x="138" y="417"/>
                </a:lnTo>
                <a:lnTo>
                  <a:pt x="117" y="423"/>
                </a:lnTo>
                <a:lnTo>
                  <a:pt x="114" y="346"/>
                </a:lnTo>
                <a:lnTo>
                  <a:pt x="73" y="355"/>
                </a:lnTo>
                <a:lnTo>
                  <a:pt x="56" y="294"/>
                </a:lnTo>
                <a:lnTo>
                  <a:pt x="21" y="261"/>
                </a:lnTo>
                <a:lnTo>
                  <a:pt x="0" y="232"/>
                </a:lnTo>
                <a:lnTo>
                  <a:pt x="14" y="214"/>
                </a:lnTo>
                <a:lnTo>
                  <a:pt x="52" y="212"/>
                </a:lnTo>
                <a:lnTo>
                  <a:pt x="77" y="161"/>
                </a:lnTo>
                <a:lnTo>
                  <a:pt x="80" y="105"/>
                </a:lnTo>
                <a:lnTo>
                  <a:pt x="93" y="56"/>
                </a:lnTo>
                <a:lnTo>
                  <a:pt x="105" y="41"/>
                </a:lnTo>
                <a:lnTo>
                  <a:pt x="111" y="14"/>
                </a:lnTo>
                <a:lnTo>
                  <a:pt x="156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60520" y="2522520"/>
            <a:ext cx="373320" cy="390600"/>
          </a:xfrm>
          <a:custGeom>
            <a:avLst/>
            <a:gdLst/>
            <a:ahLst/>
            <a:rect l="l" t="t" r="r" b="b"/>
            <a:pathLst>
              <a:path w="723" h="756">
                <a:moveTo>
                  <a:pt x="467" y="701"/>
                </a:moveTo>
                <a:lnTo>
                  <a:pt x="418" y="727"/>
                </a:lnTo>
                <a:lnTo>
                  <a:pt x="353" y="711"/>
                </a:lnTo>
                <a:lnTo>
                  <a:pt x="330" y="756"/>
                </a:lnTo>
                <a:lnTo>
                  <a:pt x="312" y="756"/>
                </a:lnTo>
                <a:lnTo>
                  <a:pt x="325" y="726"/>
                </a:lnTo>
                <a:lnTo>
                  <a:pt x="277" y="742"/>
                </a:lnTo>
                <a:lnTo>
                  <a:pt x="256" y="711"/>
                </a:lnTo>
                <a:lnTo>
                  <a:pt x="265" y="637"/>
                </a:lnTo>
                <a:lnTo>
                  <a:pt x="245" y="631"/>
                </a:lnTo>
                <a:lnTo>
                  <a:pt x="233" y="596"/>
                </a:lnTo>
                <a:lnTo>
                  <a:pt x="226" y="534"/>
                </a:lnTo>
                <a:lnTo>
                  <a:pt x="204" y="542"/>
                </a:lnTo>
                <a:lnTo>
                  <a:pt x="190" y="571"/>
                </a:lnTo>
                <a:lnTo>
                  <a:pt x="177" y="555"/>
                </a:lnTo>
                <a:lnTo>
                  <a:pt x="140" y="564"/>
                </a:lnTo>
                <a:lnTo>
                  <a:pt x="139" y="528"/>
                </a:lnTo>
                <a:lnTo>
                  <a:pt x="110" y="561"/>
                </a:lnTo>
                <a:lnTo>
                  <a:pt x="64" y="507"/>
                </a:lnTo>
                <a:lnTo>
                  <a:pt x="78" y="466"/>
                </a:lnTo>
                <a:lnTo>
                  <a:pt x="105" y="445"/>
                </a:lnTo>
                <a:lnTo>
                  <a:pt x="77" y="437"/>
                </a:lnTo>
                <a:lnTo>
                  <a:pt x="52" y="378"/>
                </a:lnTo>
                <a:lnTo>
                  <a:pt x="70" y="358"/>
                </a:lnTo>
                <a:lnTo>
                  <a:pt x="74" y="321"/>
                </a:lnTo>
                <a:lnTo>
                  <a:pt x="83" y="310"/>
                </a:lnTo>
                <a:lnTo>
                  <a:pt x="105" y="308"/>
                </a:lnTo>
                <a:lnTo>
                  <a:pt x="87" y="257"/>
                </a:lnTo>
                <a:lnTo>
                  <a:pt x="48" y="213"/>
                </a:lnTo>
                <a:lnTo>
                  <a:pt x="18" y="219"/>
                </a:lnTo>
                <a:lnTo>
                  <a:pt x="0" y="188"/>
                </a:lnTo>
                <a:lnTo>
                  <a:pt x="29" y="178"/>
                </a:lnTo>
                <a:lnTo>
                  <a:pt x="21" y="142"/>
                </a:lnTo>
                <a:lnTo>
                  <a:pt x="56" y="164"/>
                </a:lnTo>
                <a:lnTo>
                  <a:pt x="89" y="185"/>
                </a:lnTo>
                <a:lnTo>
                  <a:pt x="116" y="184"/>
                </a:lnTo>
                <a:lnTo>
                  <a:pt x="130" y="155"/>
                </a:lnTo>
                <a:lnTo>
                  <a:pt x="111" y="130"/>
                </a:lnTo>
                <a:lnTo>
                  <a:pt x="81" y="123"/>
                </a:lnTo>
                <a:lnTo>
                  <a:pt x="61" y="91"/>
                </a:lnTo>
                <a:lnTo>
                  <a:pt x="37" y="66"/>
                </a:lnTo>
                <a:lnTo>
                  <a:pt x="115" y="22"/>
                </a:lnTo>
                <a:lnTo>
                  <a:pt x="159" y="58"/>
                </a:lnTo>
                <a:lnTo>
                  <a:pt x="189" y="54"/>
                </a:lnTo>
                <a:lnTo>
                  <a:pt x="209" y="85"/>
                </a:lnTo>
                <a:lnTo>
                  <a:pt x="254" y="157"/>
                </a:lnTo>
                <a:lnTo>
                  <a:pt x="333" y="124"/>
                </a:lnTo>
                <a:lnTo>
                  <a:pt x="359" y="61"/>
                </a:lnTo>
                <a:lnTo>
                  <a:pt x="393" y="48"/>
                </a:lnTo>
                <a:lnTo>
                  <a:pt x="417" y="61"/>
                </a:lnTo>
                <a:lnTo>
                  <a:pt x="427" y="11"/>
                </a:lnTo>
                <a:lnTo>
                  <a:pt x="449" y="29"/>
                </a:lnTo>
                <a:lnTo>
                  <a:pt x="506" y="35"/>
                </a:lnTo>
                <a:lnTo>
                  <a:pt x="523" y="0"/>
                </a:lnTo>
                <a:lnTo>
                  <a:pt x="545" y="2"/>
                </a:lnTo>
                <a:lnTo>
                  <a:pt x="564" y="35"/>
                </a:lnTo>
                <a:lnTo>
                  <a:pt x="587" y="51"/>
                </a:lnTo>
                <a:lnTo>
                  <a:pt x="624" y="65"/>
                </a:lnTo>
                <a:lnTo>
                  <a:pt x="665" y="53"/>
                </a:lnTo>
                <a:lnTo>
                  <a:pt x="693" y="67"/>
                </a:lnTo>
                <a:lnTo>
                  <a:pt x="699" y="53"/>
                </a:lnTo>
                <a:lnTo>
                  <a:pt x="723" y="51"/>
                </a:lnTo>
                <a:lnTo>
                  <a:pt x="698" y="105"/>
                </a:lnTo>
                <a:lnTo>
                  <a:pt x="705" y="134"/>
                </a:lnTo>
                <a:lnTo>
                  <a:pt x="692" y="191"/>
                </a:lnTo>
                <a:lnTo>
                  <a:pt x="668" y="203"/>
                </a:lnTo>
                <a:lnTo>
                  <a:pt x="638" y="222"/>
                </a:lnTo>
                <a:lnTo>
                  <a:pt x="605" y="247"/>
                </a:lnTo>
                <a:lnTo>
                  <a:pt x="623" y="263"/>
                </a:lnTo>
                <a:lnTo>
                  <a:pt x="624" y="283"/>
                </a:lnTo>
                <a:lnTo>
                  <a:pt x="620" y="306"/>
                </a:lnTo>
                <a:lnTo>
                  <a:pt x="610" y="341"/>
                </a:lnTo>
                <a:lnTo>
                  <a:pt x="583" y="357"/>
                </a:lnTo>
                <a:lnTo>
                  <a:pt x="561" y="366"/>
                </a:lnTo>
                <a:lnTo>
                  <a:pt x="496" y="329"/>
                </a:lnTo>
                <a:lnTo>
                  <a:pt x="464" y="352"/>
                </a:lnTo>
                <a:lnTo>
                  <a:pt x="433" y="364"/>
                </a:lnTo>
                <a:lnTo>
                  <a:pt x="458" y="389"/>
                </a:lnTo>
                <a:lnTo>
                  <a:pt x="461" y="426"/>
                </a:lnTo>
                <a:lnTo>
                  <a:pt x="454" y="462"/>
                </a:lnTo>
                <a:lnTo>
                  <a:pt x="424" y="516"/>
                </a:lnTo>
                <a:lnTo>
                  <a:pt x="450" y="518"/>
                </a:lnTo>
                <a:lnTo>
                  <a:pt x="449" y="537"/>
                </a:lnTo>
                <a:lnTo>
                  <a:pt x="432" y="550"/>
                </a:lnTo>
                <a:lnTo>
                  <a:pt x="462" y="576"/>
                </a:lnTo>
                <a:lnTo>
                  <a:pt x="476" y="595"/>
                </a:lnTo>
                <a:lnTo>
                  <a:pt x="448" y="614"/>
                </a:lnTo>
                <a:lnTo>
                  <a:pt x="454" y="636"/>
                </a:lnTo>
                <a:lnTo>
                  <a:pt x="486" y="633"/>
                </a:lnTo>
                <a:lnTo>
                  <a:pt x="525" y="634"/>
                </a:lnTo>
                <a:lnTo>
                  <a:pt x="518" y="663"/>
                </a:lnTo>
                <a:lnTo>
                  <a:pt x="467" y="70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10040" y="2505240"/>
            <a:ext cx="252360" cy="230040"/>
          </a:xfrm>
          <a:custGeom>
            <a:avLst/>
            <a:gdLst/>
            <a:ahLst/>
            <a:rect l="l" t="t" r="r" b="b"/>
            <a:pathLst>
              <a:path w="489" h="444">
                <a:moveTo>
                  <a:pt x="323" y="143"/>
                </a:moveTo>
                <a:lnTo>
                  <a:pt x="357" y="139"/>
                </a:lnTo>
                <a:lnTo>
                  <a:pt x="386" y="162"/>
                </a:lnTo>
                <a:lnTo>
                  <a:pt x="392" y="201"/>
                </a:lnTo>
                <a:lnTo>
                  <a:pt x="425" y="231"/>
                </a:lnTo>
                <a:lnTo>
                  <a:pt x="478" y="234"/>
                </a:lnTo>
                <a:lnTo>
                  <a:pt x="461" y="298"/>
                </a:lnTo>
                <a:lnTo>
                  <a:pt x="489" y="354"/>
                </a:lnTo>
                <a:lnTo>
                  <a:pt x="473" y="391"/>
                </a:lnTo>
                <a:lnTo>
                  <a:pt x="438" y="416"/>
                </a:lnTo>
                <a:lnTo>
                  <a:pt x="402" y="417"/>
                </a:lnTo>
                <a:lnTo>
                  <a:pt x="386" y="429"/>
                </a:lnTo>
                <a:lnTo>
                  <a:pt x="382" y="408"/>
                </a:lnTo>
                <a:lnTo>
                  <a:pt x="345" y="374"/>
                </a:lnTo>
                <a:lnTo>
                  <a:pt x="324" y="348"/>
                </a:lnTo>
                <a:lnTo>
                  <a:pt x="289" y="352"/>
                </a:lnTo>
                <a:lnTo>
                  <a:pt x="270" y="313"/>
                </a:lnTo>
                <a:lnTo>
                  <a:pt x="261" y="330"/>
                </a:lnTo>
                <a:lnTo>
                  <a:pt x="246" y="310"/>
                </a:lnTo>
                <a:lnTo>
                  <a:pt x="224" y="339"/>
                </a:lnTo>
                <a:lnTo>
                  <a:pt x="206" y="316"/>
                </a:lnTo>
                <a:lnTo>
                  <a:pt x="180" y="320"/>
                </a:lnTo>
                <a:lnTo>
                  <a:pt x="155" y="373"/>
                </a:lnTo>
                <a:lnTo>
                  <a:pt x="165" y="417"/>
                </a:lnTo>
                <a:lnTo>
                  <a:pt x="124" y="444"/>
                </a:lnTo>
                <a:lnTo>
                  <a:pt x="98" y="397"/>
                </a:lnTo>
                <a:lnTo>
                  <a:pt x="55" y="388"/>
                </a:lnTo>
                <a:lnTo>
                  <a:pt x="13" y="347"/>
                </a:lnTo>
                <a:lnTo>
                  <a:pt x="0" y="308"/>
                </a:lnTo>
                <a:lnTo>
                  <a:pt x="37" y="302"/>
                </a:lnTo>
                <a:lnTo>
                  <a:pt x="58" y="274"/>
                </a:lnTo>
                <a:lnTo>
                  <a:pt x="95" y="246"/>
                </a:lnTo>
                <a:lnTo>
                  <a:pt x="107" y="197"/>
                </a:lnTo>
                <a:lnTo>
                  <a:pt x="101" y="183"/>
                </a:lnTo>
                <a:lnTo>
                  <a:pt x="112" y="164"/>
                </a:lnTo>
                <a:lnTo>
                  <a:pt x="134" y="100"/>
                </a:lnTo>
                <a:lnTo>
                  <a:pt x="113" y="71"/>
                </a:lnTo>
                <a:lnTo>
                  <a:pt x="157" y="61"/>
                </a:lnTo>
                <a:lnTo>
                  <a:pt x="239" y="93"/>
                </a:lnTo>
                <a:lnTo>
                  <a:pt x="233" y="72"/>
                </a:lnTo>
                <a:lnTo>
                  <a:pt x="249" y="49"/>
                </a:lnTo>
                <a:lnTo>
                  <a:pt x="268" y="22"/>
                </a:lnTo>
                <a:lnTo>
                  <a:pt x="292" y="0"/>
                </a:lnTo>
                <a:lnTo>
                  <a:pt x="281" y="49"/>
                </a:lnTo>
                <a:lnTo>
                  <a:pt x="295" y="79"/>
                </a:lnTo>
                <a:lnTo>
                  <a:pt x="312" y="98"/>
                </a:lnTo>
                <a:lnTo>
                  <a:pt x="297" y="128"/>
                </a:lnTo>
                <a:lnTo>
                  <a:pt x="323" y="14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52960" y="2048040"/>
            <a:ext cx="376200" cy="258480"/>
          </a:xfrm>
          <a:custGeom>
            <a:avLst/>
            <a:gdLst/>
            <a:ahLst/>
            <a:rect l="l" t="t" r="r" b="b"/>
            <a:pathLst>
              <a:path w="727" h="499">
                <a:moveTo>
                  <a:pt x="226" y="338"/>
                </a:moveTo>
                <a:lnTo>
                  <a:pt x="184" y="332"/>
                </a:lnTo>
                <a:lnTo>
                  <a:pt x="156" y="304"/>
                </a:lnTo>
                <a:lnTo>
                  <a:pt x="195" y="285"/>
                </a:lnTo>
                <a:lnTo>
                  <a:pt x="195" y="265"/>
                </a:lnTo>
                <a:lnTo>
                  <a:pt x="140" y="239"/>
                </a:lnTo>
                <a:lnTo>
                  <a:pt x="140" y="198"/>
                </a:lnTo>
                <a:lnTo>
                  <a:pt x="132" y="165"/>
                </a:lnTo>
                <a:lnTo>
                  <a:pt x="94" y="196"/>
                </a:lnTo>
                <a:lnTo>
                  <a:pt x="71" y="164"/>
                </a:lnTo>
                <a:lnTo>
                  <a:pt x="39" y="159"/>
                </a:lnTo>
                <a:lnTo>
                  <a:pt x="0" y="130"/>
                </a:lnTo>
                <a:lnTo>
                  <a:pt x="45" y="95"/>
                </a:lnTo>
                <a:lnTo>
                  <a:pt x="59" y="115"/>
                </a:lnTo>
                <a:lnTo>
                  <a:pt x="89" y="81"/>
                </a:lnTo>
                <a:lnTo>
                  <a:pt x="120" y="65"/>
                </a:lnTo>
                <a:lnTo>
                  <a:pt x="202" y="62"/>
                </a:lnTo>
                <a:lnTo>
                  <a:pt x="232" y="18"/>
                </a:lnTo>
                <a:lnTo>
                  <a:pt x="264" y="19"/>
                </a:lnTo>
                <a:lnTo>
                  <a:pt x="300" y="0"/>
                </a:lnTo>
                <a:lnTo>
                  <a:pt x="348" y="22"/>
                </a:lnTo>
                <a:lnTo>
                  <a:pt x="361" y="49"/>
                </a:lnTo>
                <a:lnTo>
                  <a:pt x="386" y="39"/>
                </a:lnTo>
                <a:lnTo>
                  <a:pt x="391" y="20"/>
                </a:lnTo>
                <a:lnTo>
                  <a:pt x="419" y="16"/>
                </a:lnTo>
                <a:lnTo>
                  <a:pt x="410" y="50"/>
                </a:lnTo>
                <a:lnTo>
                  <a:pt x="430" y="69"/>
                </a:lnTo>
                <a:lnTo>
                  <a:pt x="419" y="95"/>
                </a:lnTo>
                <a:lnTo>
                  <a:pt x="449" y="109"/>
                </a:lnTo>
                <a:lnTo>
                  <a:pt x="450" y="133"/>
                </a:lnTo>
                <a:lnTo>
                  <a:pt x="467" y="136"/>
                </a:lnTo>
                <a:lnTo>
                  <a:pt x="454" y="157"/>
                </a:lnTo>
                <a:lnTo>
                  <a:pt x="477" y="163"/>
                </a:lnTo>
                <a:lnTo>
                  <a:pt x="499" y="195"/>
                </a:lnTo>
                <a:lnTo>
                  <a:pt x="497" y="224"/>
                </a:lnTo>
                <a:lnTo>
                  <a:pt x="531" y="281"/>
                </a:lnTo>
                <a:lnTo>
                  <a:pt x="546" y="275"/>
                </a:lnTo>
                <a:lnTo>
                  <a:pt x="589" y="342"/>
                </a:lnTo>
                <a:lnTo>
                  <a:pt x="614" y="333"/>
                </a:lnTo>
                <a:lnTo>
                  <a:pt x="650" y="348"/>
                </a:lnTo>
                <a:lnTo>
                  <a:pt x="689" y="325"/>
                </a:lnTo>
                <a:lnTo>
                  <a:pt x="727" y="375"/>
                </a:lnTo>
                <a:lnTo>
                  <a:pt x="687" y="399"/>
                </a:lnTo>
                <a:lnTo>
                  <a:pt x="696" y="416"/>
                </a:lnTo>
                <a:lnTo>
                  <a:pt x="679" y="428"/>
                </a:lnTo>
                <a:lnTo>
                  <a:pt x="660" y="489"/>
                </a:lnTo>
                <a:lnTo>
                  <a:pt x="641" y="475"/>
                </a:lnTo>
                <a:lnTo>
                  <a:pt x="616" y="489"/>
                </a:lnTo>
                <a:lnTo>
                  <a:pt x="609" y="475"/>
                </a:lnTo>
                <a:lnTo>
                  <a:pt x="591" y="476"/>
                </a:lnTo>
                <a:lnTo>
                  <a:pt x="572" y="480"/>
                </a:lnTo>
                <a:lnTo>
                  <a:pt x="546" y="462"/>
                </a:lnTo>
                <a:lnTo>
                  <a:pt x="465" y="499"/>
                </a:lnTo>
                <a:lnTo>
                  <a:pt x="418" y="464"/>
                </a:lnTo>
                <a:lnTo>
                  <a:pt x="392" y="461"/>
                </a:lnTo>
                <a:lnTo>
                  <a:pt x="400" y="442"/>
                </a:lnTo>
                <a:lnTo>
                  <a:pt x="378" y="391"/>
                </a:lnTo>
                <a:lnTo>
                  <a:pt x="362" y="388"/>
                </a:lnTo>
                <a:lnTo>
                  <a:pt x="347" y="408"/>
                </a:lnTo>
                <a:lnTo>
                  <a:pt x="313" y="422"/>
                </a:lnTo>
                <a:lnTo>
                  <a:pt x="300" y="404"/>
                </a:lnTo>
                <a:lnTo>
                  <a:pt x="257" y="403"/>
                </a:lnTo>
                <a:lnTo>
                  <a:pt x="233" y="394"/>
                </a:lnTo>
                <a:lnTo>
                  <a:pt x="210" y="394"/>
                </a:lnTo>
                <a:lnTo>
                  <a:pt x="215" y="373"/>
                </a:lnTo>
                <a:lnTo>
                  <a:pt x="226" y="33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89560" y="2416320"/>
            <a:ext cx="797040" cy="1131840"/>
          </a:xfrm>
          <a:custGeom>
            <a:avLst/>
            <a:gdLst/>
            <a:ahLst/>
            <a:rect l="l" t="t" r="r" b="b"/>
            <a:pathLst>
              <a:path w="1541" h="2186">
                <a:moveTo>
                  <a:pt x="1407" y="150"/>
                </a:moveTo>
                <a:lnTo>
                  <a:pt x="1450" y="246"/>
                </a:lnTo>
                <a:lnTo>
                  <a:pt x="1436" y="546"/>
                </a:lnTo>
                <a:lnTo>
                  <a:pt x="1343" y="594"/>
                </a:lnTo>
                <a:lnTo>
                  <a:pt x="1387" y="625"/>
                </a:lnTo>
                <a:lnTo>
                  <a:pt x="1393" y="700"/>
                </a:lnTo>
                <a:lnTo>
                  <a:pt x="1382" y="761"/>
                </a:lnTo>
                <a:lnTo>
                  <a:pt x="1402" y="861"/>
                </a:lnTo>
                <a:lnTo>
                  <a:pt x="1433" y="878"/>
                </a:lnTo>
                <a:lnTo>
                  <a:pt x="1431" y="917"/>
                </a:lnTo>
                <a:lnTo>
                  <a:pt x="1355" y="986"/>
                </a:lnTo>
                <a:lnTo>
                  <a:pt x="1337" y="1052"/>
                </a:lnTo>
                <a:lnTo>
                  <a:pt x="1357" y="1091"/>
                </a:lnTo>
                <a:lnTo>
                  <a:pt x="1411" y="1085"/>
                </a:lnTo>
                <a:lnTo>
                  <a:pt x="1525" y="1130"/>
                </a:lnTo>
                <a:lnTo>
                  <a:pt x="1541" y="1176"/>
                </a:lnTo>
                <a:lnTo>
                  <a:pt x="1491" y="1182"/>
                </a:lnTo>
                <a:lnTo>
                  <a:pt x="1468" y="1196"/>
                </a:lnTo>
                <a:lnTo>
                  <a:pt x="1408" y="1186"/>
                </a:lnTo>
                <a:lnTo>
                  <a:pt x="1392" y="1270"/>
                </a:lnTo>
                <a:lnTo>
                  <a:pt x="1349" y="1354"/>
                </a:lnTo>
                <a:lnTo>
                  <a:pt x="1404" y="1437"/>
                </a:lnTo>
                <a:lnTo>
                  <a:pt x="1371" y="1488"/>
                </a:lnTo>
                <a:lnTo>
                  <a:pt x="1369" y="1546"/>
                </a:lnTo>
                <a:lnTo>
                  <a:pt x="1324" y="1580"/>
                </a:lnTo>
                <a:lnTo>
                  <a:pt x="1336" y="1611"/>
                </a:lnTo>
                <a:lnTo>
                  <a:pt x="1314" y="1631"/>
                </a:lnTo>
                <a:lnTo>
                  <a:pt x="1227" y="1668"/>
                </a:lnTo>
                <a:lnTo>
                  <a:pt x="1229" y="1706"/>
                </a:lnTo>
                <a:lnTo>
                  <a:pt x="1213" y="1723"/>
                </a:lnTo>
                <a:lnTo>
                  <a:pt x="1187" y="1801"/>
                </a:lnTo>
                <a:lnTo>
                  <a:pt x="1207" y="1862"/>
                </a:lnTo>
                <a:lnTo>
                  <a:pt x="1253" y="1884"/>
                </a:lnTo>
                <a:lnTo>
                  <a:pt x="1275" y="1876"/>
                </a:lnTo>
                <a:lnTo>
                  <a:pt x="1268" y="1961"/>
                </a:lnTo>
                <a:lnTo>
                  <a:pt x="1237" y="1966"/>
                </a:lnTo>
                <a:lnTo>
                  <a:pt x="1203" y="1982"/>
                </a:lnTo>
                <a:lnTo>
                  <a:pt x="1215" y="2029"/>
                </a:lnTo>
                <a:lnTo>
                  <a:pt x="1231" y="2027"/>
                </a:lnTo>
                <a:lnTo>
                  <a:pt x="1250" y="2096"/>
                </a:lnTo>
                <a:lnTo>
                  <a:pt x="1226" y="2112"/>
                </a:lnTo>
                <a:lnTo>
                  <a:pt x="1198" y="2149"/>
                </a:lnTo>
                <a:lnTo>
                  <a:pt x="1197" y="2177"/>
                </a:lnTo>
                <a:lnTo>
                  <a:pt x="1160" y="2186"/>
                </a:lnTo>
                <a:lnTo>
                  <a:pt x="1129" y="2153"/>
                </a:lnTo>
                <a:lnTo>
                  <a:pt x="1079" y="2109"/>
                </a:lnTo>
                <a:lnTo>
                  <a:pt x="1057" y="2053"/>
                </a:lnTo>
                <a:lnTo>
                  <a:pt x="1002" y="2013"/>
                </a:lnTo>
                <a:lnTo>
                  <a:pt x="987" y="1981"/>
                </a:lnTo>
                <a:lnTo>
                  <a:pt x="960" y="1994"/>
                </a:lnTo>
                <a:lnTo>
                  <a:pt x="913" y="1959"/>
                </a:lnTo>
                <a:lnTo>
                  <a:pt x="842" y="1951"/>
                </a:lnTo>
                <a:lnTo>
                  <a:pt x="775" y="1903"/>
                </a:lnTo>
                <a:lnTo>
                  <a:pt x="735" y="1873"/>
                </a:lnTo>
                <a:lnTo>
                  <a:pt x="688" y="1912"/>
                </a:lnTo>
                <a:lnTo>
                  <a:pt x="628" y="1929"/>
                </a:lnTo>
                <a:lnTo>
                  <a:pt x="540" y="1919"/>
                </a:lnTo>
                <a:lnTo>
                  <a:pt x="495" y="1943"/>
                </a:lnTo>
                <a:lnTo>
                  <a:pt x="450" y="1935"/>
                </a:lnTo>
                <a:lnTo>
                  <a:pt x="365" y="1917"/>
                </a:lnTo>
                <a:lnTo>
                  <a:pt x="323" y="1870"/>
                </a:lnTo>
                <a:lnTo>
                  <a:pt x="329" y="1781"/>
                </a:lnTo>
                <a:lnTo>
                  <a:pt x="367" y="1754"/>
                </a:lnTo>
                <a:lnTo>
                  <a:pt x="386" y="1683"/>
                </a:lnTo>
                <a:lnTo>
                  <a:pt x="377" y="1629"/>
                </a:lnTo>
                <a:lnTo>
                  <a:pt x="327" y="1595"/>
                </a:lnTo>
                <a:lnTo>
                  <a:pt x="277" y="1620"/>
                </a:lnTo>
                <a:lnTo>
                  <a:pt x="212" y="1590"/>
                </a:lnTo>
                <a:lnTo>
                  <a:pt x="208" y="1544"/>
                </a:lnTo>
                <a:lnTo>
                  <a:pt x="194" y="1532"/>
                </a:lnTo>
                <a:lnTo>
                  <a:pt x="155" y="1562"/>
                </a:lnTo>
                <a:lnTo>
                  <a:pt x="135" y="1588"/>
                </a:lnTo>
                <a:lnTo>
                  <a:pt x="105" y="1614"/>
                </a:lnTo>
                <a:lnTo>
                  <a:pt x="29" y="1621"/>
                </a:lnTo>
                <a:lnTo>
                  <a:pt x="12" y="1460"/>
                </a:lnTo>
                <a:lnTo>
                  <a:pt x="38" y="1437"/>
                </a:lnTo>
                <a:lnTo>
                  <a:pt x="48" y="1400"/>
                </a:lnTo>
                <a:lnTo>
                  <a:pt x="0" y="1333"/>
                </a:lnTo>
                <a:lnTo>
                  <a:pt x="48" y="1291"/>
                </a:lnTo>
                <a:lnTo>
                  <a:pt x="75" y="1290"/>
                </a:lnTo>
                <a:lnTo>
                  <a:pt x="100" y="1254"/>
                </a:lnTo>
                <a:lnTo>
                  <a:pt x="177" y="1205"/>
                </a:lnTo>
                <a:lnTo>
                  <a:pt x="192" y="1126"/>
                </a:lnTo>
                <a:lnTo>
                  <a:pt x="242" y="1083"/>
                </a:lnTo>
                <a:lnTo>
                  <a:pt x="241" y="1008"/>
                </a:lnTo>
                <a:lnTo>
                  <a:pt x="228" y="954"/>
                </a:lnTo>
                <a:lnTo>
                  <a:pt x="136" y="898"/>
                </a:lnTo>
                <a:lnTo>
                  <a:pt x="104" y="835"/>
                </a:lnTo>
                <a:lnTo>
                  <a:pt x="51" y="823"/>
                </a:lnTo>
                <a:lnTo>
                  <a:pt x="100" y="767"/>
                </a:lnTo>
                <a:lnTo>
                  <a:pt x="97" y="730"/>
                </a:lnTo>
                <a:lnTo>
                  <a:pt x="49" y="668"/>
                </a:lnTo>
                <a:lnTo>
                  <a:pt x="107" y="624"/>
                </a:lnTo>
                <a:lnTo>
                  <a:pt x="107" y="580"/>
                </a:lnTo>
                <a:lnTo>
                  <a:pt x="140" y="523"/>
                </a:lnTo>
                <a:lnTo>
                  <a:pt x="188" y="532"/>
                </a:lnTo>
                <a:lnTo>
                  <a:pt x="279" y="458"/>
                </a:lnTo>
                <a:lnTo>
                  <a:pt x="336" y="370"/>
                </a:lnTo>
                <a:lnTo>
                  <a:pt x="407" y="309"/>
                </a:lnTo>
                <a:lnTo>
                  <a:pt x="467" y="263"/>
                </a:lnTo>
                <a:lnTo>
                  <a:pt x="506" y="213"/>
                </a:lnTo>
                <a:lnTo>
                  <a:pt x="572" y="244"/>
                </a:lnTo>
                <a:lnTo>
                  <a:pt x="594" y="184"/>
                </a:lnTo>
                <a:lnTo>
                  <a:pt x="631" y="138"/>
                </a:lnTo>
                <a:lnTo>
                  <a:pt x="679" y="97"/>
                </a:lnTo>
                <a:lnTo>
                  <a:pt x="757" y="64"/>
                </a:lnTo>
                <a:lnTo>
                  <a:pt x="835" y="33"/>
                </a:lnTo>
                <a:lnTo>
                  <a:pt x="891" y="16"/>
                </a:lnTo>
                <a:lnTo>
                  <a:pt x="964" y="28"/>
                </a:lnTo>
                <a:lnTo>
                  <a:pt x="975" y="0"/>
                </a:lnTo>
                <a:lnTo>
                  <a:pt x="1028" y="23"/>
                </a:lnTo>
                <a:lnTo>
                  <a:pt x="1029" y="81"/>
                </a:lnTo>
                <a:lnTo>
                  <a:pt x="1053" y="67"/>
                </a:lnTo>
                <a:lnTo>
                  <a:pt x="1119" y="90"/>
                </a:lnTo>
                <a:lnTo>
                  <a:pt x="1139" y="118"/>
                </a:lnTo>
                <a:lnTo>
                  <a:pt x="1222" y="133"/>
                </a:lnTo>
                <a:lnTo>
                  <a:pt x="1247" y="151"/>
                </a:lnTo>
                <a:lnTo>
                  <a:pt x="1290" y="129"/>
                </a:lnTo>
                <a:lnTo>
                  <a:pt x="1343" y="143"/>
                </a:lnTo>
                <a:lnTo>
                  <a:pt x="1387" y="115"/>
                </a:lnTo>
                <a:lnTo>
                  <a:pt x="1421" y="114"/>
                </a:lnTo>
                <a:lnTo>
                  <a:pt x="1407" y="15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54400" y="2427120"/>
            <a:ext cx="141120" cy="140040"/>
          </a:xfrm>
          <a:custGeom>
            <a:avLst/>
            <a:gdLst/>
            <a:ahLst/>
            <a:rect l="l" t="t" r="r" b="b"/>
            <a:pathLst>
              <a:path w="271" h="274">
                <a:moveTo>
                  <a:pt x="170" y="215"/>
                </a:moveTo>
                <a:lnTo>
                  <a:pt x="144" y="221"/>
                </a:lnTo>
                <a:lnTo>
                  <a:pt x="167" y="236"/>
                </a:lnTo>
                <a:lnTo>
                  <a:pt x="149" y="263"/>
                </a:lnTo>
                <a:lnTo>
                  <a:pt x="116" y="274"/>
                </a:lnTo>
                <a:lnTo>
                  <a:pt x="78" y="265"/>
                </a:lnTo>
                <a:lnTo>
                  <a:pt x="71" y="245"/>
                </a:lnTo>
                <a:lnTo>
                  <a:pt x="31" y="251"/>
                </a:lnTo>
                <a:lnTo>
                  <a:pt x="14" y="232"/>
                </a:lnTo>
                <a:lnTo>
                  <a:pt x="0" y="202"/>
                </a:lnTo>
                <a:lnTo>
                  <a:pt x="11" y="153"/>
                </a:lnTo>
                <a:lnTo>
                  <a:pt x="6" y="118"/>
                </a:lnTo>
                <a:lnTo>
                  <a:pt x="28" y="100"/>
                </a:lnTo>
                <a:lnTo>
                  <a:pt x="66" y="89"/>
                </a:lnTo>
                <a:lnTo>
                  <a:pt x="84" y="87"/>
                </a:lnTo>
                <a:lnTo>
                  <a:pt x="78" y="56"/>
                </a:lnTo>
                <a:lnTo>
                  <a:pt x="89" y="26"/>
                </a:lnTo>
                <a:lnTo>
                  <a:pt x="133" y="13"/>
                </a:lnTo>
                <a:lnTo>
                  <a:pt x="164" y="0"/>
                </a:lnTo>
                <a:lnTo>
                  <a:pt x="182" y="15"/>
                </a:lnTo>
                <a:lnTo>
                  <a:pt x="207" y="38"/>
                </a:lnTo>
                <a:lnTo>
                  <a:pt x="271" y="62"/>
                </a:lnTo>
                <a:lnTo>
                  <a:pt x="260" y="82"/>
                </a:lnTo>
                <a:lnTo>
                  <a:pt x="271" y="129"/>
                </a:lnTo>
                <a:lnTo>
                  <a:pt x="259" y="156"/>
                </a:lnTo>
                <a:lnTo>
                  <a:pt x="271" y="207"/>
                </a:lnTo>
                <a:lnTo>
                  <a:pt x="214" y="205"/>
                </a:lnTo>
                <a:lnTo>
                  <a:pt x="170" y="215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38640" y="2365200"/>
            <a:ext cx="188640" cy="190800"/>
          </a:xfrm>
          <a:custGeom>
            <a:avLst/>
            <a:gdLst/>
            <a:ahLst/>
            <a:rect l="l" t="t" r="r" b="b"/>
            <a:pathLst>
              <a:path w="366" h="368">
                <a:moveTo>
                  <a:pt x="162" y="97"/>
                </a:moveTo>
                <a:lnTo>
                  <a:pt x="199" y="119"/>
                </a:lnTo>
                <a:lnTo>
                  <a:pt x="235" y="114"/>
                </a:lnTo>
                <a:lnTo>
                  <a:pt x="235" y="143"/>
                </a:lnTo>
                <a:lnTo>
                  <a:pt x="251" y="151"/>
                </a:lnTo>
                <a:lnTo>
                  <a:pt x="285" y="143"/>
                </a:lnTo>
                <a:lnTo>
                  <a:pt x="315" y="178"/>
                </a:lnTo>
                <a:lnTo>
                  <a:pt x="313" y="208"/>
                </a:lnTo>
                <a:lnTo>
                  <a:pt x="350" y="184"/>
                </a:lnTo>
                <a:lnTo>
                  <a:pt x="366" y="193"/>
                </a:lnTo>
                <a:lnTo>
                  <a:pt x="340" y="214"/>
                </a:lnTo>
                <a:lnTo>
                  <a:pt x="332" y="244"/>
                </a:lnTo>
                <a:lnTo>
                  <a:pt x="361" y="262"/>
                </a:lnTo>
                <a:lnTo>
                  <a:pt x="356" y="306"/>
                </a:lnTo>
                <a:lnTo>
                  <a:pt x="337" y="362"/>
                </a:lnTo>
                <a:lnTo>
                  <a:pt x="297" y="368"/>
                </a:lnTo>
                <a:lnTo>
                  <a:pt x="291" y="340"/>
                </a:lnTo>
                <a:lnTo>
                  <a:pt x="266" y="323"/>
                </a:lnTo>
                <a:lnTo>
                  <a:pt x="224" y="307"/>
                </a:lnTo>
                <a:lnTo>
                  <a:pt x="195" y="324"/>
                </a:lnTo>
                <a:lnTo>
                  <a:pt x="148" y="324"/>
                </a:lnTo>
                <a:lnTo>
                  <a:pt x="107" y="325"/>
                </a:lnTo>
                <a:lnTo>
                  <a:pt x="95" y="274"/>
                </a:lnTo>
                <a:lnTo>
                  <a:pt x="107" y="247"/>
                </a:lnTo>
                <a:lnTo>
                  <a:pt x="96" y="200"/>
                </a:lnTo>
                <a:lnTo>
                  <a:pt x="107" y="180"/>
                </a:lnTo>
                <a:lnTo>
                  <a:pt x="43" y="156"/>
                </a:lnTo>
                <a:lnTo>
                  <a:pt x="18" y="133"/>
                </a:lnTo>
                <a:lnTo>
                  <a:pt x="0" y="118"/>
                </a:lnTo>
                <a:lnTo>
                  <a:pt x="8" y="66"/>
                </a:lnTo>
                <a:lnTo>
                  <a:pt x="37" y="48"/>
                </a:lnTo>
                <a:lnTo>
                  <a:pt x="21" y="15"/>
                </a:lnTo>
                <a:lnTo>
                  <a:pt x="42" y="6"/>
                </a:lnTo>
                <a:lnTo>
                  <a:pt x="62" y="23"/>
                </a:lnTo>
                <a:lnTo>
                  <a:pt x="102" y="0"/>
                </a:lnTo>
                <a:lnTo>
                  <a:pt x="127" y="19"/>
                </a:lnTo>
                <a:lnTo>
                  <a:pt x="157" y="44"/>
                </a:lnTo>
                <a:lnTo>
                  <a:pt x="180" y="81"/>
                </a:lnTo>
                <a:lnTo>
                  <a:pt x="162" y="97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75080" y="1541520"/>
            <a:ext cx="679320" cy="676080"/>
          </a:xfrm>
          <a:custGeom>
            <a:avLst/>
            <a:gdLst/>
            <a:ahLst/>
            <a:rect l="l" t="t" r="r" b="b"/>
            <a:pathLst>
              <a:path w="1309" h="1306">
                <a:moveTo>
                  <a:pt x="870" y="171"/>
                </a:moveTo>
                <a:lnTo>
                  <a:pt x="906" y="171"/>
                </a:lnTo>
                <a:lnTo>
                  <a:pt x="942" y="197"/>
                </a:lnTo>
                <a:lnTo>
                  <a:pt x="983" y="210"/>
                </a:lnTo>
                <a:lnTo>
                  <a:pt x="1056" y="202"/>
                </a:lnTo>
                <a:lnTo>
                  <a:pt x="1065" y="242"/>
                </a:lnTo>
                <a:lnTo>
                  <a:pt x="1092" y="273"/>
                </a:lnTo>
                <a:lnTo>
                  <a:pt x="1085" y="307"/>
                </a:lnTo>
                <a:lnTo>
                  <a:pt x="1084" y="326"/>
                </a:lnTo>
                <a:lnTo>
                  <a:pt x="1044" y="320"/>
                </a:lnTo>
                <a:lnTo>
                  <a:pt x="1041" y="335"/>
                </a:lnTo>
                <a:lnTo>
                  <a:pt x="1074" y="339"/>
                </a:lnTo>
                <a:lnTo>
                  <a:pt x="1068" y="366"/>
                </a:lnTo>
                <a:lnTo>
                  <a:pt x="1055" y="390"/>
                </a:lnTo>
                <a:lnTo>
                  <a:pt x="1096" y="358"/>
                </a:lnTo>
                <a:lnTo>
                  <a:pt x="1121" y="344"/>
                </a:lnTo>
                <a:lnTo>
                  <a:pt x="1146" y="468"/>
                </a:lnTo>
                <a:lnTo>
                  <a:pt x="1165" y="512"/>
                </a:lnTo>
                <a:lnTo>
                  <a:pt x="1169" y="577"/>
                </a:lnTo>
                <a:lnTo>
                  <a:pt x="1189" y="607"/>
                </a:lnTo>
                <a:lnTo>
                  <a:pt x="1206" y="622"/>
                </a:lnTo>
                <a:lnTo>
                  <a:pt x="1220" y="607"/>
                </a:lnTo>
                <a:lnTo>
                  <a:pt x="1264" y="607"/>
                </a:lnTo>
                <a:lnTo>
                  <a:pt x="1309" y="655"/>
                </a:lnTo>
                <a:lnTo>
                  <a:pt x="1184" y="774"/>
                </a:lnTo>
                <a:lnTo>
                  <a:pt x="1227" y="804"/>
                </a:lnTo>
                <a:lnTo>
                  <a:pt x="1190" y="892"/>
                </a:lnTo>
                <a:lnTo>
                  <a:pt x="1199" y="918"/>
                </a:lnTo>
                <a:lnTo>
                  <a:pt x="1154" y="948"/>
                </a:lnTo>
                <a:lnTo>
                  <a:pt x="1128" y="893"/>
                </a:lnTo>
                <a:lnTo>
                  <a:pt x="1100" y="901"/>
                </a:lnTo>
                <a:lnTo>
                  <a:pt x="1080" y="869"/>
                </a:lnTo>
                <a:lnTo>
                  <a:pt x="1055" y="882"/>
                </a:lnTo>
                <a:lnTo>
                  <a:pt x="1040" y="860"/>
                </a:lnTo>
                <a:lnTo>
                  <a:pt x="1017" y="870"/>
                </a:lnTo>
                <a:lnTo>
                  <a:pt x="1001" y="855"/>
                </a:lnTo>
                <a:lnTo>
                  <a:pt x="1022" y="836"/>
                </a:lnTo>
                <a:lnTo>
                  <a:pt x="933" y="742"/>
                </a:lnTo>
                <a:lnTo>
                  <a:pt x="913" y="727"/>
                </a:lnTo>
                <a:lnTo>
                  <a:pt x="898" y="701"/>
                </a:lnTo>
                <a:lnTo>
                  <a:pt x="858" y="682"/>
                </a:lnTo>
                <a:lnTo>
                  <a:pt x="848" y="749"/>
                </a:lnTo>
                <a:lnTo>
                  <a:pt x="862" y="783"/>
                </a:lnTo>
                <a:lnTo>
                  <a:pt x="862" y="826"/>
                </a:lnTo>
                <a:lnTo>
                  <a:pt x="850" y="863"/>
                </a:lnTo>
                <a:lnTo>
                  <a:pt x="817" y="877"/>
                </a:lnTo>
                <a:lnTo>
                  <a:pt x="808" y="898"/>
                </a:lnTo>
                <a:lnTo>
                  <a:pt x="817" y="945"/>
                </a:lnTo>
                <a:lnTo>
                  <a:pt x="787" y="961"/>
                </a:lnTo>
                <a:lnTo>
                  <a:pt x="749" y="949"/>
                </a:lnTo>
                <a:lnTo>
                  <a:pt x="731" y="991"/>
                </a:lnTo>
                <a:lnTo>
                  <a:pt x="689" y="1019"/>
                </a:lnTo>
                <a:lnTo>
                  <a:pt x="693" y="1031"/>
                </a:lnTo>
                <a:lnTo>
                  <a:pt x="676" y="1049"/>
                </a:lnTo>
                <a:lnTo>
                  <a:pt x="688" y="1066"/>
                </a:lnTo>
                <a:lnTo>
                  <a:pt x="704" y="1056"/>
                </a:lnTo>
                <a:lnTo>
                  <a:pt x="739" y="1093"/>
                </a:lnTo>
                <a:lnTo>
                  <a:pt x="756" y="1091"/>
                </a:lnTo>
                <a:lnTo>
                  <a:pt x="752" y="1075"/>
                </a:lnTo>
                <a:lnTo>
                  <a:pt x="801" y="1047"/>
                </a:lnTo>
                <a:lnTo>
                  <a:pt x="818" y="1072"/>
                </a:lnTo>
                <a:lnTo>
                  <a:pt x="838" y="1063"/>
                </a:lnTo>
                <a:lnTo>
                  <a:pt x="871" y="1125"/>
                </a:lnTo>
                <a:lnTo>
                  <a:pt x="778" y="1188"/>
                </a:lnTo>
                <a:lnTo>
                  <a:pt x="765" y="1184"/>
                </a:lnTo>
                <a:lnTo>
                  <a:pt x="690" y="1225"/>
                </a:lnTo>
                <a:lnTo>
                  <a:pt x="708" y="1264"/>
                </a:lnTo>
                <a:lnTo>
                  <a:pt x="638" y="1306"/>
                </a:lnTo>
                <a:lnTo>
                  <a:pt x="625" y="1297"/>
                </a:lnTo>
                <a:lnTo>
                  <a:pt x="577" y="1272"/>
                </a:lnTo>
                <a:lnTo>
                  <a:pt x="542" y="1297"/>
                </a:lnTo>
                <a:lnTo>
                  <a:pt x="517" y="1256"/>
                </a:lnTo>
                <a:lnTo>
                  <a:pt x="534" y="1237"/>
                </a:lnTo>
                <a:lnTo>
                  <a:pt x="496" y="1177"/>
                </a:lnTo>
                <a:lnTo>
                  <a:pt x="460" y="1197"/>
                </a:lnTo>
                <a:lnTo>
                  <a:pt x="453" y="1165"/>
                </a:lnTo>
                <a:lnTo>
                  <a:pt x="460" y="1159"/>
                </a:lnTo>
                <a:lnTo>
                  <a:pt x="456" y="1125"/>
                </a:lnTo>
                <a:lnTo>
                  <a:pt x="431" y="1124"/>
                </a:lnTo>
                <a:lnTo>
                  <a:pt x="416" y="1079"/>
                </a:lnTo>
                <a:lnTo>
                  <a:pt x="439" y="1065"/>
                </a:lnTo>
                <a:lnTo>
                  <a:pt x="425" y="1030"/>
                </a:lnTo>
                <a:lnTo>
                  <a:pt x="366" y="1056"/>
                </a:lnTo>
                <a:lnTo>
                  <a:pt x="320" y="979"/>
                </a:lnTo>
                <a:lnTo>
                  <a:pt x="346" y="956"/>
                </a:lnTo>
                <a:lnTo>
                  <a:pt x="310" y="943"/>
                </a:lnTo>
                <a:lnTo>
                  <a:pt x="255" y="943"/>
                </a:lnTo>
                <a:lnTo>
                  <a:pt x="221" y="922"/>
                </a:lnTo>
                <a:lnTo>
                  <a:pt x="231" y="891"/>
                </a:lnTo>
                <a:lnTo>
                  <a:pt x="226" y="874"/>
                </a:lnTo>
                <a:lnTo>
                  <a:pt x="208" y="879"/>
                </a:lnTo>
                <a:lnTo>
                  <a:pt x="186" y="835"/>
                </a:lnTo>
                <a:lnTo>
                  <a:pt x="195" y="810"/>
                </a:lnTo>
                <a:lnTo>
                  <a:pt x="175" y="807"/>
                </a:lnTo>
                <a:lnTo>
                  <a:pt x="186" y="796"/>
                </a:lnTo>
                <a:lnTo>
                  <a:pt x="156" y="787"/>
                </a:lnTo>
                <a:lnTo>
                  <a:pt x="132" y="799"/>
                </a:lnTo>
                <a:lnTo>
                  <a:pt x="109" y="761"/>
                </a:lnTo>
                <a:lnTo>
                  <a:pt x="99" y="724"/>
                </a:lnTo>
                <a:lnTo>
                  <a:pt x="57" y="705"/>
                </a:lnTo>
                <a:lnTo>
                  <a:pt x="58" y="668"/>
                </a:lnTo>
                <a:lnTo>
                  <a:pt x="21" y="632"/>
                </a:lnTo>
                <a:lnTo>
                  <a:pt x="30" y="607"/>
                </a:lnTo>
                <a:lnTo>
                  <a:pt x="0" y="599"/>
                </a:lnTo>
                <a:lnTo>
                  <a:pt x="10" y="572"/>
                </a:lnTo>
                <a:lnTo>
                  <a:pt x="15" y="533"/>
                </a:lnTo>
                <a:lnTo>
                  <a:pt x="50" y="508"/>
                </a:lnTo>
                <a:lnTo>
                  <a:pt x="45" y="495"/>
                </a:lnTo>
                <a:lnTo>
                  <a:pt x="90" y="439"/>
                </a:lnTo>
                <a:lnTo>
                  <a:pt x="130" y="432"/>
                </a:lnTo>
                <a:lnTo>
                  <a:pt x="163" y="412"/>
                </a:lnTo>
                <a:lnTo>
                  <a:pt x="190" y="367"/>
                </a:lnTo>
                <a:lnTo>
                  <a:pt x="183" y="345"/>
                </a:lnTo>
                <a:lnTo>
                  <a:pt x="223" y="327"/>
                </a:lnTo>
                <a:lnTo>
                  <a:pt x="248" y="305"/>
                </a:lnTo>
                <a:lnTo>
                  <a:pt x="249" y="290"/>
                </a:lnTo>
                <a:lnTo>
                  <a:pt x="231" y="272"/>
                </a:lnTo>
                <a:lnTo>
                  <a:pt x="235" y="215"/>
                </a:lnTo>
                <a:lnTo>
                  <a:pt x="257" y="178"/>
                </a:lnTo>
                <a:lnTo>
                  <a:pt x="293" y="166"/>
                </a:lnTo>
                <a:lnTo>
                  <a:pt x="291" y="152"/>
                </a:lnTo>
                <a:lnTo>
                  <a:pt x="318" y="136"/>
                </a:lnTo>
                <a:lnTo>
                  <a:pt x="322" y="116"/>
                </a:lnTo>
                <a:lnTo>
                  <a:pt x="336" y="87"/>
                </a:lnTo>
                <a:lnTo>
                  <a:pt x="350" y="114"/>
                </a:lnTo>
                <a:lnTo>
                  <a:pt x="371" y="129"/>
                </a:lnTo>
                <a:lnTo>
                  <a:pt x="403" y="111"/>
                </a:lnTo>
                <a:lnTo>
                  <a:pt x="422" y="102"/>
                </a:lnTo>
                <a:lnTo>
                  <a:pt x="434" y="152"/>
                </a:lnTo>
                <a:lnTo>
                  <a:pt x="437" y="182"/>
                </a:lnTo>
                <a:lnTo>
                  <a:pt x="455" y="179"/>
                </a:lnTo>
                <a:lnTo>
                  <a:pt x="472" y="201"/>
                </a:lnTo>
                <a:lnTo>
                  <a:pt x="491" y="203"/>
                </a:lnTo>
                <a:lnTo>
                  <a:pt x="516" y="189"/>
                </a:lnTo>
                <a:lnTo>
                  <a:pt x="523" y="167"/>
                </a:lnTo>
                <a:lnTo>
                  <a:pt x="534" y="168"/>
                </a:lnTo>
                <a:lnTo>
                  <a:pt x="549" y="136"/>
                </a:lnTo>
                <a:lnTo>
                  <a:pt x="518" y="110"/>
                </a:lnTo>
                <a:lnTo>
                  <a:pt x="547" y="37"/>
                </a:lnTo>
                <a:lnTo>
                  <a:pt x="555" y="15"/>
                </a:lnTo>
                <a:lnTo>
                  <a:pt x="571" y="0"/>
                </a:lnTo>
                <a:lnTo>
                  <a:pt x="577" y="16"/>
                </a:lnTo>
                <a:lnTo>
                  <a:pt x="598" y="19"/>
                </a:lnTo>
                <a:lnTo>
                  <a:pt x="619" y="6"/>
                </a:lnTo>
                <a:lnTo>
                  <a:pt x="639" y="13"/>
                </a:lnTo>
                <a:lnTo>
                  <a:pt x="642" y="48"/>
                </a:lnTo>
                <a:lnTo>
                  <a:pt x="640" y="77"/>
                </a:lnTo>
                <a:lnTo>
                  <a:pt x="631" y="90"/>
                </a:lnTo>
                <a:lnTo>
                  <a:pt x="639" y="129"/>
                </a:lnTo>
                <a:lnTo>
                  <a:pt x="639" y="154"/>
                </a:lnTo>
                <a:lnTo>
                  <a:pt x="644" y="198"/>
                </a:lnTo>
                <a:lnTo>
                  <a:pt x="646" y="240"/>
                </a:lnTo>
                <a:lnTo>
                  <a:pt x="656" y="261"/>
                </a:lnTo>
                <a:lnTo>
                  <a:pt x="672" y="260"/>
                </a:lnTo>
                <a:lnTo>
                  <a:pt x="697" y="277"/>
                </a:lnTo>
                <a:lnTo>
                  <a:pt x="713" y="294"/>
                </a:lnTo>
                <a:lnTo>
                  <a:pt x="737" y="270"/>
                </a:lnTo>
                <a:lnTo>
                  <a:pt x="769" y="187"/>
                </a:lnTo>
                <a:lnTo>
                  <a:pt x="787" y="161"/>
                </a:lnTo>
                <a:lnTo>
                  <a:pt x="812" y="154"/>
                </a:lnTo>
                <a:lnTo>
                  <a:pt x="870" y="1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2149560"/>
            <a:ext cx="450720" cy="488880"/>
          </a:xfrm>
          <a:custGeom>
            <a:avLst/>
            <a:gdLst/>
            <a:ahLst/>
            <a:rect l="l" t="t" r="r" b="b"/>
            <a:pathLst>
              <a:path w="871" h="945">
                <a:moveTo>
                  <a:pt x="553" y="203"/>
                </a:moveTo>
                <a:lnTo>
                  <a:pt x="493" y="264"/>
                </a:lnTo>
                <a:lnTo>
                  <a:pt x="527" y="307"/>
                </a:lnTo>
                <a:lnTo>
                  <a:pt x="499" y="325"/>
                </a:lnTo>
                <a:lnTo>
                  <a:pt x="511" y="371"/>
                </a:lnTo>
                <a:lnTo>
                  <a:pt x="494" y="393"/>
                </a:lnTo>
                <a:lnTo>
                  <a:pt x="506" y="414"/>
                </a:lnTo>
                <a:lnTo>
                  <a:pt x="573" y="368"/>
                </a:lnTo>
                <a:lnTo>
                  <a:pt x="600" y="367"/>
                </a:lnTo>
                <a:lnTo>
                  <a:pt x="652" y="396"/>
                </a:lnTo>
                <a:lnTo>
                  <a:pt x="695" y="395"/>
                </a:lnTo>
                <a:lnTo>
                  <a:pt x="706" y="434"/>
                </a:lnTo>
                <a:lnTo>
                  <a:pt x="796" y="425"/>
                </a:lnTo>
                <a:lnTo>
                  <a:pt x="803" y="452"/>
                </a:lnTo>
                <a:lnTo>
                  <a:pt x="853" y="531"/>
                </a:lnTo>
                <a:lnTo>
                  <a:pt x="871" y="537"/>
                </a:lnTo>
                <a:lnTo>
                  <a:pt x="861" y="577"/>
                </a:lnTo>
                <a:lnTo>
                  <a:pt x="821" y="613"/>
                </a:lnTo>
                <a:lnTo>
                  <a:pt x="803" y="598"/>
                </a:lnTo>
                <a:lnTo>
                  <a:pt x="736" y="642"/>
                </a:lnTo>
                <a:lnTo>
                  <a:pt x="726" y="664"/>
                </a:lnTo>
                <a:lnTo>
                  <a:pt x="760" y="709"/>
                </a:lnTo>
                <a:lnTo>
                  <a:pt x="720" y="728"/>
                </a:lnTo>
                <a:lnTo>
                  <a:pt x="706" y="759"/>
                </a:lnTo>
                <a:lnTo>
                  <a:pt x="676" y="773"/>
                </a:lnTo>
                <a:lnTo>
                  <a:pt x="662" y="794"/>
                </a:lnTo>
                <a:lnTo>
                  <a:pt x="624" y="772"/>
                </a:lnTo>
                <a:lnTo>
                  <a:pt x="629" y="734"/>
                </a:lnTo>
                <a:lnTo>
                  <a:pt x="618" y="728"/>
                </a:lnTo>
                <a:lnTo>
                  <a:pt x="593" y="741"/>
                </a:lnTo>
                <a:lnTo>
                  <a:pt x="556" y="678"/>
                </a:lnTo>
                <a:lnTo>
                  <a:pt x="528" y="666"/>
                </a:lnTo>
                <a:lnTo>
                  <a:pt x="490" y="686"/>
                </a:lnTo>
                <a:lnTo>
                  <a:pt x="481" y="728"/>
                </a:lnTo>
                <a:lnTo>
                  <a:pt x="433" y="767"/>
                </a:lnTo>
                <a:lnTo>
                  <a:pt x="391" y="771"/>
                </a:lnTo>
                <a:lnTo>
                  <a:pt x="357" y="751"/>
                </a:lnTo>
                <a:lnTo>
                  <a:pt x="332" y="765"/>
                </a:lnTo>
                <a:lnTo>
                  <a:pt x="308" y="815"/>
                </a:lnTo>
                <a:lnTo>
                  <a:pt x="304" y="852"/>
                </a:lnTo>
                <a:lnTo>
                  <a:pt x="268" y="866"/>
                </a:lnTo>
                <a:lnTo>
                  <a:pt x="254" y="848"/>
                </a:lnTo>
                <a:lnTo>
                  <a:pt x="220" y="869"/>
                </a:lnTo>
                <a:lnTo>
                  <a:pt x="224" y="893"/>
                </a:lnTo>
                <a:lnTo>
                  <a:pt x="210" y="921"/>
                </a:lnTo>
                <a:lnTo>
                  <a:pt x="211" y="945"/>
                </a:lnTo>
                <a:lnTo>
                  <a:pt x="175" y="918"/>
                </a:lnTo>
                <a:lnTo>
                  <a:pt x="173" y="878"/>
                </a:lnTo>
                <a:lnTo>
                  <a:pt x="184" y="875"/>
                </a:lnTo>
                <a:lnTo>
                  <a:pt x="195" y="853"/>
                </a:lnTo>
                <a:lnTo>
                  <a:pt x="173" y="844"/>
                </a:lnTo>
                <a:lnTo>
                  <a:pt x="192" y="791"/>
                </a:lnTo>
                <a:lnTo>
                  <a:pt x="180" y="779"/>
                </a:lnTo>
                <a:lnTo>
                  <a:pt x="199" y="723"/>
                </a:lnTo>
                <a:lnTo>
                  <a:pt x="204" y="679"/>
                </a:lnTo>
                <a:lnTo>
                  <a:pt x="175" y="661"/>
                </a:lnTo>
                <a:lnTo>
                  <a:pt x="183" y="631"/>
                </a:lnTo>
                <a:lnTo>
                  <a:pt x="209" y="610"/>
                </a:lnTo>
                <a:lnTo>
                  <a:pt x="193" y="601"/>
                </a:lnTo>
                <a:lnTo>
                  <a:pt x="156" y="625"/>
                </a:lnTo>
                <a:lnTo>
                  <a:pt x="158" y="595"/>
                </a:lnTo>
                <a:lnTo>
                  <a:pt x="128" y="560"/>
                </a:lnTo>
                <a:lnTo>
                  <a:pt x="94" y="568"/>
                </a:lnTo>
                <a:lnTo>
                  <a:pt x="78" y="560"/>
                </a:lnTo>
                <a:lnTo>
                  <a:pt x="78" y="531"/>
                </a:lnTo>
                <a:lnTo>
                  <a:pt x="42" y="536"/>
                </a:lnTo>
                <a:lnTo>
                  <a:pt x="5" y="514"/>
                </a:lnTo>
                <a:lnTo>
                  <a:pt x="23" y="498"/>
                </a:lnTo>
                <a:lnTo>
                  <a:pt x="0" y="461"/>
                </a:lnTo>
                <a:lnTo>
                  <a:pt x="26" y="438"/>
                </a:lnTo>
                <a:lnTo>
                  <a:pt x="47" y="444"/>
                </a:lnTo>
                <a:lnTo>
                  <a:pt x="54" y="413"/>
                </a:lnTo>
                <a:lnTo>
                  <a:pt x="87" y="401"/>
                </a:lnTo>
                <a:lnTo>
                  <a:pt x="91" y="424"/>
                </a:lnTo>
                <a:lnTo>
                  <a:pt x="122" y="431"/>
                </a:lnTo>
                <a:lnTo>
                  <a:pt x="130" y="457"/>
                </a:lnTo>
                <a:lnTo>
                  <a:pt x="171" y="426"/>
                </a:lnTo>
                <a:lnTo>
                  <a:pt x="206" y="425"/>
                </a:lnTo>
                <a:lnTo>
                  <a:pt x="187" y="376"/>
                </a:lnTo>
                <a:lnTo>
                  <a:pt x="140" y="301"/>
                </a:lnTo>
                <a:lnTo>
                  <a:pt x="221" y="264"/>
                </a:lnTo>
                <a:lnTo>
                  <a:pt x="247" y="282"/>
                </a:lnTo>
                <a:lnTo>
                  <a:pt x="266" y="278"/>
                </a:lnTo>
                <a:lnTo>
                  <a:pt x="284" y="277"/>
                </a:lnTo>
                <a:lnTo>
                  <a:pt x="291" y="291"/>
                </a:lnTo>
                <a:lnTo>
                  <a:pt x="316" y="277"/>
                </a:lnTo>
                <a:lnTo>
                  <a:pt x="335" y="291"/>
                </a:lnTo>
                <a:lnTo>
                  <a:pt x="354" y="230"/>
                </a:lnTo>
                <a:lnTo>
                  <a:pt x="371" y="218"/>
                </a:lnTo>
                <a:lnTo>
                  <a:pt x="362" y="201"/>
                </a:lnTo>
                <a:lnTo>
                  <a:pt x="402" y="177"/>
                </a:lnTo>
                <a:lnTo>
                  <a:pt x="415" y="164"/>
                </a:lnTo>
                <a:lnTo>
                  <a:pt x="416" y="135"/>
                </a:lnTo>
                <a:lnTo>
                  <a:pt x="462" y="110"/>
                </a:lnTo>
                <a:lnTo>
                  <a:pt x="425" y="62"/>
                </a:lnTo>
                <a:lnTo>
                  <a:pt x="443" y="42"/>
                </a:lnTo>
                <a:lnTo>
                  <a:pt x="466" y="69"/>
                </a:lnTo>
                <a:lnTo>
                  <a:pt x="513" y="48"/>
                </a:lnTo>
                <a:lnTo>
                  <a:pt x="533" y="56"/>
                </a:lnTo>
                <a:lnTo>
                  <a:pt x="569" y="20"/>
                </a:lnTo>
                <a:lnTo>
                  <a:pt x="605" y="0"/>
                </a:lnTo>
                <a:lnTo>
                  <a:pt x="643" y="60"/>
                </a:lnTo>
                <a:lnTo>
                  <a:pt x="626" y="79"/>
                </a:lnTo>
                <a:lnTo>
                  <a:pt x="651" y="120"/>
                </a:lnTo>
                <a:lnTo>
                  <a:pt x="600" y="174"/>
                </a:lnTo>
                <a:lnTo>
                  <a:pt x="600" y="205"/>
                </a:lnTo>
                <a:lnTo>
                  <a:pt x="553" y="20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54320" y="1568520"/>
            <a:ext cx="744840" cy="604800"/>
          </a:xfrm>
          <a:custGeom>
            <a:avLst/>
            <a:gdLst/>
            <a:ahLst/>
            <a:rect l="l" t="t" r="r" b="b"/>
            <a:pathLst>
              <a:path w="1436" h="1175">
                <a:moveTo>
                  <a:pt x="397" y="175"/>
                </a:moveTo>
                <a:lnTo>
                  <a:pt x="373" y="204"/>
                </a:lnTo>
                <a:lnTo>
                  <a:pt x="363" y="251"/>
                </a:lnTo>
                <a:lnTo>
                  <a:pt x="347" y="281"/>
                </a:lnTo>
                <a:lnTo>
                  <a:pt x="319" y="287"/>
                </a:lnTo>
                <a:lnTo>
                  <a:pt x="311" y="271"/>
                </a:lnTo>
                <a:lnTo>
                  <a:pt x="255" y="230"/>
                </a:lnTo>
                <a:lnTo>
                  <a:pt x="240" y="246"/>
                </a:lnTo>
                <a:lnTo>
                  <a:pt x="204" y="236"/>
                </a:lnTo>
                <a:lnTo>
                  <a:pt x="184" y="249"/>
                </a:lnTo>
                <a:lnTo>
                  <a:pt x="183" y="304"/>
                </a:lnTo>
                <a:lnTo>
                  <a:pt x="169" y="326"/>
                </a:lnTo>
                <a:lnTo>
                  <a:pt x="152" y="361"/>
                </a:lnTo>
                <a:lnTo>
                  <a:pt x="157" y="382"/>
                </a:lnTo>
                <a:lnTo>
                  <a:pt x="182" y="403"/>
                </a:lnTo>
                <a:lnTo>
                  <a:pt x="200" y="428"/>
                </a:lnTo>
                <a:lnTo>
                  <a:pt x="240" y="458"/>
                </a:lnTo>
                <a:lnTo>
                  <a:pt x="269" y="452"/>
                </a:lnTo>
                <a:lnTo>
                  <a:pt x="286" y="428"/>
                </a:lnTo>
                <a:lnTo>
                  <a:pt x="317" y="415"/>
                </a:lnTo>
                <a:lnTo>
                  <a:pt x="338" y="405"/>
                </a:lnTo>
                <a:lnTo>
                  <a:pt x="349" y="388"/>
                </a:lnTo>
                <a:lnTo>
                  <a:pt x="380" y="401"/>
                </a:lnTo>
                <a:lnTo>
                  <a:pt x="400" y="420"/>
                </a:lnTo>
                <a:lnTo>
                  <a:pt x="424" y="417"/>
                </a:lnTo>
                <a:lnTo>
                  <a:pt x="434" y="386"/>
                </a:lnTo>
                <a:lnTo>
                  <a:pt x="443" y="416"/>
                </a:lnTo>
                <a:lnTo>
                  <a:pt x="525" y="441"/>
                </a:lnTo>
                <a:lnTo>
                  <a:pt x="593" y="445"/>
                </a:lnTo>
                <a:lnTo>
                  <a:pt x="646" y="473"/>
                </a:lnTo>
                <a:lnTo>
                  <a:pt x="676" y="486"/>
                </a:lnTo>
                <a:lnTo>
                  <a:pt x="677" y="510"/>
                </a:lnTo>
                <a:lnTo>
                  <a:pt x="663" y="506"/>
                </a:lnTo>
                <a:lnTo>
                  <a:pt x="661" y="523"/>
                </a:lnTo>
                <a:lnTo>
                  <a:pt x="702" y="538"/>
                </a:lnTo>
                <a:lnTo>
                  <a:pt x="710" y="491"/>
                </a:lnTo>
                <a:lnTo>
                  <a:pt x="778" y="498"/>
                </a:lnTo>
                <a:lnTo>
                  <a:pt x="821" y="511"/>
                </a:lnTo>
                <a:lnTo>
                  <a:pt x="865" y="545"/>
                </a:lnTo>
                <a:lnTo>
                  <a:pt x="801" y="519"/>
                </a:lnTo>
                <a:lnTo>
                  <a:pt x="810" y="542"/>
                </a:lnTo>
                <a:lnTo>
                  <a:pt x="790" y="550"/>
                </a:lnTo>
                <a:lnTo>
                  <a:pt x="757" y="591"/>
                </a:lnTo>
                <a:lnTo>
                  <a:pt x="737" y="598"/>
                </a:lnTo>
                <a:lnTo>
                  <a:pt x="719" y="571"/>
                </a:lnTo>
                <a:lnTo>
                  <a:pt x="697" y="588"/>
                </a:lnTo>
                <a:lnTo>
                  <a:pt x="722" y="608"/>
                </a:lnTo>
                <a:lnTo>
                  <a:pt x="739" y="629"/>
                </a:lnTo>
                <a:lnTo>
                  <a:pt x="759" y="639"/>
                </a:lnTo>
                <a:lnTo>
                  <a:pt x="752" y="669"/>
                </a:lnTo>
                <a:lnTo>
                  <a:pt x="768" y="675"/>
                </a:lnTo>
                <a:lnTo>
                  <a:pt x="790" y="653"/>
                </a:lnTo>
                <a:lnTo>
                  <a:pt x="812" y="649"/>
                </a:lnTo>
                <a:lnTo>
                  <a:pt x="834" y="645"/>
                </a:lnTo>
                <a:lnTo>
                  <a:pt x="881" y="666"/>
                </a:lnTo>
                <a:lnTo>
                  <a:pt x="899" y="685"/>
                </a:lnTo>
                <a:lnTo>
                  <a:pt x="918" y="716"/>
                </a:lnTo>
                <a:lnTo>
                  <a:pt x="940" y="739"/>
                </a:lnTo>
                <a:lnTo>
                  <a:pt x="974" y="734"/>
                </a:lnTo>
                <a:lnTo>
                  <a:pt x="1002" y="734"/>
                </a:lnTo>
                <a:lnTo>
                  <a:pt x="1037" y="734"/>
                </a:lnTo>
                <a:lnTo>
                  <a:pt x="1075" y="749"/>
                </a:lnTo>
                <a:lnTo>
                  <a:pt x="1074" y="789"/>
                </a:lnTo>
                <a:lnTo>
                  <a:pt x="1070" y="812"/>
                </a:lnTo>
                <a:lnTo>
                  <a:pt x="1048" y="806"/>
                </a:lnTo>
                <a:lnTo>
                  <a:pt x="1035" y="826"/>
                </a:lnTo>
                <a:lnTo>
                  <a:pt x="1011" y="848"/>
                </a:lnTo>
                <a:lnTo>
                  <a:pt x="1033" y="882"/>
                </a:lnTo>
                <a:lnTo>
                  <a:pt x="1054" y="880"/>
                </a:lnTo>
                <a:lnTo>
                  <a:pt x="1069" y="869"/>
                </a:lnTo>
                <a:lnTo>
                  <a:pt x="1075" y="844"/>
                </a:lnTo>
                <a:lnTo>
                  <a:pt x="1091" y="837"/>
                </a:lnTo>
                <a:lnTo>
                  <a:pt x="1107" y="856"/>
                </a:lnTo>
                <a:lnTo>
                  <a:pt x="1141" y="863"/>
                </a:lnTo>
                <a:lnTo>
                  <a:pt x="1171" y="850"/>
                </a:lnTo>
                <a:lnTo>
                  <a:pt x="1187" y="828"/>
                </a:lnTo>
                <a:lnTo>
                  <a:pt x="1200" y="775"/>
                </a:lnTo>
                <a:lnTo>
                  <a:pt x="1204" y="740"/>
                </a:lnTo>
                <a:lnTo>
                  <a:pt x="1212" y="714"/>
                </a:lnTo>
                <a:lnTo>
                  <a:pt x="1237" y="720"/>
                </a:lnTo>
                <a:lnTo>
                  <a:pt x="1249" y="721"/>
                </a:lnTo>
                <a:lnTo>
                  <a:pt x="1261" y="712"/>
                </a:lnTo>
                <a:lnTo>
                  <a:pt x="1279" y="705"/>
                </a:lnTo>
                <a:lnTo>
                  <a:pt x="1298" y="726"/>
                </a:lnTo>
                <a:lnTo>
                  <a:pt x="1349" y="787"/>
                </a:lnTo>
                <a:lnTo>
                  <a:pt x="1389" y="831"/>
                </a:lnTo>
                <a:lnTo>
                  <a:pt x="1420" y="894"/>
                </a:lnTo>
                <a:lnTo>
                  <a:pt x="1436" y="964"/>
                </a:lnTo>
                <a:lnTo>
                  <a:pt x="1376" y="994"/>
                </a:lnTo>
                <a:lnTo>
                  <a:pt x="1358" y="1013"/>
                </a:lnTo>
                <a:lnTo>
                  <a:pt x="1371" y="1023"/>
                </a:lnTo>
                <a:lnTo>
                  <a:pt x="1396" y="1058"/>
                </a:lnTo>
                <a:lnTo>
                  <a:pt x="1383" y="1080"/>
                </a:lnTo>
                <a:lnTo>
                  <a:pt x="1380" y="1107"/>
                </a:lnTo>
                <a:lnTo>
                  <a:pt x="1361" y="1117"/>
                </a:lnTo>
                <a:lnTo>
                  <a:pt x="1310" y="1093"/>
                </a:lnTo>
                <a:lnTo>
                  <a:pt x="1292" y="1094"/>
                </a:lnTo>
                <a:lnTo>
                  <a:pt x="1281" y="1117"/>
                </a:lnTo>
                <a:lnTo>
                  <a:pt x="1229" y="1120"/>
                </a:lnTo>
                <a:lnTo>
                  <a:pt x="1208" y="1144"/>
                </a:lnTo>
                <a:lnTo>
                  <a:pt x="1184" y="1154"/>
                </a:lnTo>
                <a:lnTo>
                  <a:pt x="1169" y="1138"/>
                </a:lnTo>
                <a:lnTo>
                  <a:pt x="1120" y="1141"/>
                </a:lnTo>
                <a:lnTo>
                  <a:pt x="1095" y="1169"/>
                </a:lnTo>
                <a:lnTo>
                  <a:pt x="999" y="1173"/>
                </a:lnTo>
                <a:lnTo>
                  <a:pt x="975" y="1175"/>
                </a:lnTo>
                <a:lnTo>
                  <a:pt x="878" y="1105"/>
                </a:lnTo>
                <a:lnTo>
                  <a:pt x="546" y="780"/>
                </a:lnTo>
                <a:lnTo>
                  <a:pt x="486" y="688"/>
                </a:lnTo>
                <a:lnTo>
                  <a:pt x="428" y="677"/>
                </a:lnTo>
                <a:lnTo>
                  <a:pt x="410" y="696"/>
                </a:lnTo>
                <a:lnTo>
                  <a:pt x="188" y="637"/>
                </a:lnTo>
                <a:lnTo>
                  <a:pt x="143" y="589"/>
                </a:lnTo>
                <a:lnTo>
                  <a:pt x="99" y="589"/>
                </a:lnTo>
                <a:lnTo>
                  <a:pt x="85" y="604"/>
                </a:lnTo>
                <a:lnTo>
                  <a:pt x="68" y="589"/>
                </a:lnTo>
                <a:lnTo>
                  <a:pt x="48" y="559"/>
                </a:lnTo>
                <a:lnTo>
                  <a:pt x="44" y="494"/>
                </a:lnTo>
                <a:lnTo>
                  <a:pt x="25" y="450"/>
                </a:lnTo>
                <a:lnTo>
                  <a:pt x="0" y="326"/>
                </a:lnTo>
                <a:lnTo>
                  <a:pt x="54" y="309"/>
                </a:lnTo>
                <a:lnTo>
                  <a:pt x="74" y="280"/>
                </a:lnTo>
                <a:lnTo>
                  <a:pt x="94" y="285"/>
                </a:lnTo>
                <a:lnTo>
                  <a:pt x="120" y="223"/>
                </a:lnTo>
                <a:lnTo>
                  <a:pt x="102" y="206"/>
                </a:lnTo>
                <a:lnTo>
                  <a:pt x="193" y="165"/>
                </a:lnTo>
                <a:lnTo>
                  <a:pt x="243" y="143"/>
                </a:lnTo>
                <a:lnTo>
                  <a:pt x="292" y="108"/>
                </a:lnTo>
                <a:lnTo>
                  <a:pt x="305" y="1"/>
                </a:lnTo>
                <a:lnTo>
                  <a:pt x="317" y="0"/>
                </a:lnTo>
                <a:lnTo>
                  <a:pt x="320" y="71"/>
                </a:lnTo>
                <a:lnTo>
                  <a:pt x="351" y="99"/>
                </a:lnTo>
                <a:lnTo>
                  <a:pt x="397" y="175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62320" y="2523960"/>
            <a:ext cx="341280" cy="333720"/>
          </a:xfrm>
          <a:custGeom>
            <a:avLst/>
            <a:gdLst/>
            <a:ahLst/>
            <a:rect l="l" t="t" r="r" b="b"/>
            <a:pathLst>
              <a:path w="663" h="641">
                <a:moveTo>
                  <a:pt x="491" y="257"/>
                </a:moveTo>
                <a:lnTo>
                  <a:pt x="519" y="282"/>
                </a:lnTo>
                <a:lnTo>
                  <a:pt x="551" y="278"/>
                </a:lnTo>
                <a:lnTo>
                  <a:pt x="575" y="312"/>
                </a:lnTo>
                <a:lnTo>
                  <a:pt x="594" y="313"/>
                </a:lnTo>
                <a:lnTo>
                  <a:pt x="595" y="285"/>
                </a:lnTo>
                <a:lnTo>
                  <a:pt x="625" y="274"/>
                </a:lnTo>
                <a:lnTo>
                  <a:pt x="663" y="279"/>
                </a:lnTo>
                <a:lnTo>
                  <a:pt x="634" y="308"/>
                </a:lnTo>
                <a:lnTo>
                  <a:pt x="622" y="334"/>
                </a:lnTo>
                <a:lnTo>
                  <a:pt x="647" y="335"/>
                </a:lnTo>
                <a:lnTo>
                  <a:pt x="662" y="355"/>
                </a:lnTo>
                <a:lnTo>
                  <a:pt x="600" y="371"/>
                </a:lnTo>
                <a:lnTo>
                  <a:pt x="606" y="392"/>
                </a:lnTo>
                <a:lnTo>
                  <a:pt x="633" y="403"/>
                </a:lnTo>
                <a:lnTo>
                  <a:pt x="643" y="433"/>
                </a:lnTo>
                <a:lnTo>
                  <a:pt x="644" y="481"/>
                </a:lnTo>
                <a:lnTo>
                  <a:pt x="582" y="493"/>
                </a:lnTo>
                <a:lnTo>
                  <a:pt x="538" y="492"/>
                </a:lnTo>
                <a:lnTo>
                  <a:pt x="492" y="468"/>
                </a:lnTo>
                <a:lnTo>
                  <a:pt x="495" y="538"/>
                </a:lnTo>
                <a:lnTo>
                  <a:pt x="453" y="568"/>
                </a:lnTo>
                <a:lnTo>
                  <a:pt x="411" y="590"/>
                </a:lnTo>
                <a:lnTo>
                  <a:pt x="377" y="639"/>
                </a:lnTo>
                <a:lnTo>
                  <a:pt x="353" y="641"/>
                </a:lnTo>
                <a:lnTo>
                  <a:pt x="346" y="609"/>
                </a:lnTo>
                <a:lnTo>
                  <a:pt x="355" y="580"/>
                </a:lnTo>
                <a:lnTo>
                  <a:pt x="361" y="552"/>
                </a:lnTo>
                <a:lnTo>
                  <a:pt x="348" y="527"/>
                </a:lnTo>
                <a:lnTo>
                  <a:pt x="352" y="505"/>
                </a:lnTo>
                <a:lnTo>
                  <a:pt x="336" y="496"/>
                </a:lnTo>
                <a:lnTo>
                  <a:pt x="320" y="470"/>
                </a:lnTo>
                <a:lnTo>
                  <a:pt x="318" y="447"/>
                </a:lnTo>
                <a:lnTo>
                  <a:pt x="316" y="411"/>
                </a:lnTo>
                <a:lnTo>
                  <a:pt x="291" y="385"/>
                </a:lnTo>
                <a:lnTo>
                  <a:pt x="260" y="384"/>
                </a:lnTo>
                <a:lnTo>
                  <a:pt x="231" y="405"/>
                </a:lnTo>
                <a:lnTo>
                  <a:pt x="222" y="371"/>
                </a:lnTo>
                <a:lnTo>
                  <a:pt x="199" y="372"/>
                </a:lnTo>
                <a:lnTo>
                  <a:pt x="203" y="338"/>
                </a:lnTo>
                <a:lnTo>
                  <a:pt x="192" y="318"/>
                </a:lnTo>
                <a:lnTo>
                  <a:pt x="164" y="262"/>
                </a:lnTo>
                <a:lnTo>
                  <a:pt x="181" y="198"/>
                </a:lnTo>
                <a:lnTo>
                  <a:pt x="128" y="195"/>
                </a:lnTo>
                <a:lnTo>
                  <a:pt x="95" y="165"/>
                </a:lnTo>
                <a:lnTo>
                  <a:pt x="89" y="126"/>
                </a:lnTo>
                <a:lnTo>
                  <a:pt x="60" y="103"/>
                </a:lnTo>
                <a:lnTo>
                  <a:pt x="26" y="107"/>
                </a:lnTo>
                <a:lnTo>
                  <a:pt x="0" y="92"/>
                </a:lnTo>
                <a:lnTo>
                  <a:pt x="15" y="62"/>
                </a:lnTo>
                <a:lnTo>
                  <a:pt x="55" y="56"/>
                </a:lnTo>
                <a:lnTo>
                  <a:pt x="62" y="76"/>
                </a:lnTo>
                <a:lnTo>
                  <a:pt x="100" y="85"/>
                </a:lnTo>
                <a:lnTo>
                  <a:pt x="133" y="74"/>
                </a:lnTo>
                <a:lnTo>
                  <a:pt x="151" y="47"/>
                </a:lnTo>
                <a:lnTo>
                  <a:pt x="128" y="32"/>
                </a:lnTo>
                <a:lnTo>
                  <a:pt x="154" y="26"/>
                </a:lnTo>
                <a:lnTo>
                  <a:pt x="198" y="16"/>
                </a:lnTo>
                <a:lnTo>
                  <a:pt x="255" y="18"/>
                </a:lnTo>
                <a:lnTo>
                  <a:pt x="296" y="17"/>
                </a:lnTo>
                <a:lnTo>
                  <a:pt x="343" y="17"/>
                </a:lnTo>
                <a:lnTo>
                  <a:pt x="372" y="0"/>
                </a:lnTo>
                <a:lnTo>
                  <a:pt x="414" y="16"/>
                </a:lnTo>
                <a:lnTo>
                  <a:pt x="439" y="33"/>
                </a:lnTo>
                <a:lnTo>
                  <a:pt x="445" y="61"/>
                </a:lnTo>
                <a:lnTo>
                  <a:pt x="485" y="55"/>
                </a:lnTo>
                <a:lnTo>
                  <a:pt x="497" y="67"/>
                </a:lnTo>
                <a:lnTo>
                  <a:pt x="478" y="120"/>
                </a:lnTo>
                <a:lnTo>
                  <a:pt x="500" y="129"/>
                </a:lnTo>
                <a:lnTo>
                  <a:pt x="489" y="151"/>
                </a:lnTo>
                <a:lnTo>
                  <a:pt x="478" y="154"/>
                </a:lnTo>
                <a:lnTo>
                  <a:pt x="480" y="194"/>
                </a:lnTo>
                <a:lnTo>
                  <a:pt x="516" y="221"/>
                </a:lnTo>
                <a:lnTo>
                  <a:pt x="476" y="231"/>
                </a:lnTo>
                <a:lnTo>
                  <a:pt x="491" y="25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8200" y="2495520"/>
            <a:ext cx="252720" cy="239760"/>
          </a:xfrm>
          <a:custGeom>
            <a:avLst/>
            <a:gdLst/>
            <a:ahLst/>
            <a:rect l="l" t="t" r="r" b="b"/>
            <a:pathLst>
              <a:path w="491" h="464">
                <a:moveTo>
                  <a:pt x="452" y="209"/>
                </a:moveTo>
                <a:lnTo>
                  <a:pt x="428" y="258"/>
                </a:lnTo>
                <a:lnTo>
                  <a:pt x="391" y="267"/>
                </a:lnTo>
                <a:lnTo>
                  <a:pt x="388" y="300"/>
                </a:lnTo>
                <a:lnTo>
                  <a:pt x="374" y="302"/>
                </a:lnTo>
                <a:lnTo>
                  <a:pt x="367" y="331"/>
                </a:lnTo>
                <a:lnTo>
                  <a:pt x="349" y="362"/>
                </a:lnTo>
                <a:lnTo>
                  <a:pt x="313" y="357"/>
                </a:lnTo>
                <a:lnTo>
                  <a:pt x="284" y="364"/>
                </a:lnTo>
                <a:lnTo>
                  <a:pt x="257" y="388"/>
                </a:lnTo>
                <a:lnTo>
                  <a:pt x="272" y="407"/>
                </a:lnTo>
                <a:lnTo>
                  <a:pt x="263" y="451"/>
                </a:lnTo>
                <a:lnTo>
                  <a:pt x="229" y="464"/>
                </a:lnTo>
                <a:lnTo>
                  <a:pt x="180" y="456"/>
                </a:lnTo>
                <a:lnTo>
                  <a:pt x="157" y="461"/>
                </a:lnTo>
                <a:lnTo>
                  <a:pt x="130" y="450"/>
                </a:lnTo>
                <a:lnTo>
                  <a:pt x="124" y="429"/>
                </a:lnTo>
                <a:lnTo>
                  <a:pt x="186" y="413"/>
                </a:lnTo>
                <a:lnTo>
                  <a:pt x="171" y="393"/>
                </a:lnTo>
                <a:lnTo>
                  <a:pt x="146" y="392"/>
                </a:lnTo>
                <a:lnTo>
                  <a:pt x="158" y="366"/>
                </a:lnTo>
                <a:lnTo>
                  <a:pt x="187" y="337"/>
                </a:lnTo>
                <a:lnTo>
                  <a:pt x="149" y="332"/>
                </a:lnTo>
                <a:lnTo>
                  <a:pt x="119" y="343"/>
                </a:lnTo>
                <a:lnTo>
                  <a:pt x="118" y="371"/>
                </a:lnTo>
                <a:lnTo>
                  <a:pt x="99" y="370"/>
                </a:lnTo>
                <a:lnTo>
                  <a:pt x="75" y="336"/>
                </a:lnTo>
                <a:lnTo>
                  <a:pt x="43" y="340"/>
                </a:lnTo>
                <a:lnTo>
                  <a:pt x="15" y="315"/>
                </a:lnTo>
                <a:lnTo>
                  <a:pt x="0" y="289"/>
                </a:lnTo>
                <a:lnTo>
                  <a:pt x="40" y="279"/>
                </a:lnTo>
                <a:lnTo>
                  <a:pt x="39" y="255"/>
                </a:lnTo>
                <a:lnTo>
                  <a:pt x="53" y="227"/>
                </a:lnTo>
                <a:lnTo>
                  <a:pt x="49" y="203"/>
                </a:lnTo>
                <a:lnTo>
                  <a:pt x="83" y="182"/>
                </a:lnTo>
                <a:lnTo>
                  <a:pt x="97" y="200"/>
                </a:lnTo>
                <a:lnTo>
                  <a:pt x="133" y="186"/>
                </a:lnTo>
                <a:lnTo>
                  <a:pt x="137" y="149"/>
                </a:lnTo>
                <a:lnTo>
                  <a:pt x="161" y="99"/>
                </a:lnTo>
                <a:lnTo>
                  <a:pt x="186" y="85"/>
                </a:lnTo>
                <a:lnTo>
                  <a:pt x="220" y="105"/>
                </a:lnTo>
                <a:lnTo>
                  <a:pt x="262" y="101"/>
                </a:lnTo>
                <a:lnTo>
                  <a:pt x="310" y="62"/>
                </a:lnTo>
                <a:lnTo>
                  <a:pt x="319" y="20"/>
                </a:lnTo>
                <a:lnTo>
                  <a:pt x="357" y="0"/>
                </a:lnTo>
                <a:lnTo>
                  <a:pt x="385" y="12"/>
                </a:lnTo>
                <a:lnTo>
                  <a:pt x="422" y="75"/>
                </a:lnTo>
                <a:lnTo>
                  <a:pt x="447" y="62"/>
                </a:lnTo>
                <a:lnTo>
                  <a:pt x="458" y="68"/>
                </a:lnTo>
                <a:lnTo>
                  <a:pt x="453" y="106"/>
                </a:lnTo>
                <a:lnTo>
                  <a:pt x="491" y="128"/>
                </a:lnTo>
                <a:lnTo>
                  <a:pt x="485" y="155"/>
                </a:lnTo>
                <a:lnTo>
                  <a:pt x="465" y="162"/>
                </a:lnTo>
                <a:lnTo>
                  <a:pt x="452" y="20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86120" y="2332080"/>
            <a:ext cx="179280" cy="274680"/>
          </a:xfrm>
          <a:custGeom>
            <a:avLst/>
            <a:gdLst/>
            <a:ahLst/>
            <a:rect l="l" t="t" r="r" b="b"/>
            <a:pathLst>
              <a:path w="352" h="529">
                <a:moveTo>
                  <a:pt x="274" y="293"/>
                </a:moveTo>
                <a:lnTo>
                  <a:pt x="285" y="323"/>
                </a:lnTo>
                <a:lnTo>
                  <a:pt x="286" y="340"/>
                </a:lnTo>
                <a:lnTo>
                  <a:pt x="272" y="355"/>
                </a:lnTo>
                <a:lnTo>
                  <a:pt x="249" y="348"/>
                </a:lnTo>
                <a:lnTo>
                  <a:pt x="220" y="380"/>
                </a:lnTo>
                <a:lnTo>
                  <a:pt x="199" y="413"/>
                </a:lnTo>
                <a:lnTo>
                  <a:pt x="187" y="448"/>
                </a:lnTo>
                <a:lnTo>
                  <a:pt x="225" y="494"/>
                </a:lnTo>
                <a:lnTo>
                  <a:pt x="187" y="529"/>
                </a:lnTo>
                <a:lnTo>
                  <a:pt x="162" y="507"/>
                </a:lnTo>
                <a:lnTo>
                  <a:pt x="113" y="504"/>
                </a:lnTo>
                <a:lnTo>
                  <a:pt x="90" y="486"/>
                </a:lnTo>
                <a:lnTo>
                  <a:pt x="74" y="470"/>
                </a:lnTo>
                <a:lnTo>
                  <a:pt x="50" y="494"/>
                </a:lnTo>
                <a:lnTo>
                  <a:pt x="13" y="450"/>
                </a:lnTo>
                <a:lnTo>
                  <a:pt x="0" y="407"/>
                </a:lnTo>
                <a:lnTo>
                  <a:pt x="14" y="376"/>
                </a:lnTo>
                <a:lnTo>
                  <a:pt x="54" y="357"/>
                </a:lnTo>
                <a:lnTo>
                  <a:pt x="20" y="312"/>
                </a:lnTo>
                <a:lnTo>
                  <a:pt x="30" y="290"/>
                </a:lnTo>
                <a:lnTo>
                  <a:pt x="97" y="246"/>
                </a:lnTo>
                <a:lnTo>
                  <a:pt x="115" y="261"/>
                </a:lnTo>
                <a:lnTo>
                  <a:pt x="155" y="225"/>
                </a:lnTo>
                <a:lnTo>
                  <a:pt x="165" y="185"/>
                </a:lnTo>
                <a:lnTo>
                  <a:pt x="147" y="179"/>
                </a:lnTo>
                <a:lnTo>
                  <a:pt x="97" y="100"/>
                </a:lnTo>
                <a:lnTo>
                  <a:pt x="130" y="85"/>
                </a:lnTo>
                <a:lnTo>
                  <a:pt x="112" y="60"/>
                </a:lnTo>
                <a:lnTo>
                  <a:pt x="129" y="50"/>
                </a:lnTo>
                <a:lnTo>
                  <a:pt x="117" y="21"/>
                </a:lnTo>
                <a:lnTo>
                  <a:pt x="158" y="0"/>
                </a:lnTo>
                <a:lnTo>
                  <a:pt x="177" y="26"/>
                </a:lnTo>
                <a:lnTo>
                  <a:pt x="206" y="19"/>
                </a:lnTo>
                <a:lnTo>
                  <a:pt x="220" y="38"/>
                </a:lnTo>
                <a:lnTo>
                  <a:pt x="251" y="32"/>
                </a:lnTo>
                <a:lnTo>
                  <a:pt x="270" y="68"/>
                </a:lnTo>
                <a:lnTo>
                  <a:pt x="251" y="88"/>
                </a:lnTo>
                <a:lnTo>
                  <a:pt x="273" y="119"/>
                </a:lnTo>
                <a:lnTo>
                  <a:pt x="296" y="109"/>
                </a:lnTo>
                <a:lnTo>
                  <a:pt x="352" y="195"/>
                </a:lnTo>
                <a:lnTo>
                  <a:pt x="292" y="253"/>
                </a:lnTo>
                <a:lnTo>
                  <a:pt x="301" y="276"/>
                </a:lnTo>
                <a:lnTo>
                  <a:pt x="274" y="29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41760" y="2422440"/>
            <a:ext cx="522360" cy="420840"/>
          </a:xfrm>
          <a:custGeom>
            <a:avLst/>
            <a:gdLst/>
            <a:ahLst/>
            <a:rect l="l" t="t" r="r" b="b"/>
            <a:pathLst>
              <a:path w="1013" h="813">
                <a:moveTo>
                  <a:pt x="922" y="285"/>
                </a:moveTo>
                <a:lnTo>
                  <a:pt x="860" y="334"/>
                </a:lnTo>
                <a:lnTo>
                  <a:pt x="793" y="376"/>
                </a:lnTo>
                <a:lnTo>
                  <a:pt x="735" y="401"/>
                </a:lnTo>
                <a:lnTo>
                  <a:pt x="673" y="425"/>
                </a:lnTo>
                <a:lnTo>
                  <a:pt x="681" y="466"/>
                </a:lnTo>
                <a:lnTo>
                  <a:pt x="699" y="521"/>
                </a:lnTo>
                <a:lnTo>
                  <a:pt x="669" y="549"/>
                </a:lnTo>
                <a:lnTo>
                  <a:pt x="644" y="564"/>
                </a:lnTo>
                <a:lnTo>
                  <a:pt x="664" y="602"/>
                </a:lnTo>
                <a:lnTo>
                  <a:pt x="637" y="626"/>
                </a:lnTo>
                <a:lnTo>
                  <a:pt x="568" y="643"/>
                </a:lnTo>
                <a:lnTo>
                  <a:pt x="520" y="645"/>
                </a:lnTo>
                <a:lnTo>
                  <a:pt x="512" y="694"/>
                </a:lnTo>
                <a:lnTo>
                  <a:pt x="456" y="707"/>
                </a:lnTo>
                <a:lnTo>
                  <a:pt x="465" y="686"/>
                </a:lnTo>
                <a:lnTo>
                  <a:pt x="451" y="671"/>
                </a:lnTo>
                <a:lnTo>
                  <a:pt x="412" y="678"/>
                </a:lnTo>
                <a:lnTo>
                  <a:pt x="383" y="708"/>
                </a:lnTo>
                <a:lnTo>
                  <a:pt x="364" y="745"/>
                </a:lnTo>
                <a:lnTo>
                  <a:pt x="313" y="746"/>
                </a:lnTo>
                <a:lnTo>
                  <a:pt x="298" y="719"/>
                </a:lnTo>
                <a:lnTo>
                  <a:pt x="271" y="723"/>
                </a:lnTo>
                <a:lnTo>
                  <a:pt x="263" y="762"/>
                </a:lnTo>
                <a:lnTo>
                  <a:pt x="220" y="806"/>
                </a:lnTo>
                <a:lnTo>
                  <a:pt x="187" y="813"/>
                </a:lnTo>
                <a:lnTo>
                  <a:pt x="161" y="807"/>
                </a:lnTo>
                <a:lnTo>
                  <a:pt x="152" y="758"/>
                </a:lnTo>
                <a:lnTo>
                  <a:pt x="167" y="746"/>
                </a:lnTo>
                <a:lnTo>
                  <a:pt x="154" y="727"/>
                </a:lnTo>
                <a:lnTo>
                  <a:pt x="136" y="729"/>
                </a:lnTo>
                <a:lnTo>
                  <a:pt x="122" y="723"/>
                </a:lnTo>
                <a:lnTo>
                  <a:pt x="129" y="693"/>
                </a:lnTo>
                <a:lnTo>
                  <a:pt x="97" y="665"/>
                </a:lnTo>
                <a:lnTo>
                  <a:pt x="68" y="656"/>
                </a:lnTo>
                <a:lnTo>
                  <a:pt x="38" y="617"/>
                </a:lnTo>
                <a:lnTo>
                  <a:pt x="42" y="584"/>
                </a:lnTo>
                <a:lnTo>
                  <a:pt x="6" y="590"/>
                </a:lnTo>
                <a:lnTo>
                  <a:pt x="15" y="546"/>
                </a:lnTo>
                <a:lnTo>
                  <a:pt x="0" y="527"/>
                </a:lnTo>
                <a:lnTo>
                  <a:pt x="27" y="503"/>
                </a:lnTo>
                <a:lnTo>
                  <a:pt x="56" y="496"/>
                </a:lnTo>
                <a:lnTo>
                  <a:pt x="92" y="501"/>
                </a:lnTo>
                <a:lnTo>
                  <a:pt x="110" y="470"/>
                </a:lnTo>
                <a:lnTo>
                  <a:pt x="117" y="441"/>
                </a:lnTo>
                <a:lnTo>
                  <a:pt x="131" y="439"/>
                </a:lnTo>
                <a:lnTo>
                  <a:pt x="134" y="406"/>
                </a:lnTo>
                <a:lnTo>
                  <a:pt x="171" y="397"/>
                </a:lnTo>
                <a:lnTo>
                  <a:pt x="195" y="348"/>
                </a:lnTo>
                <a:lnTo>
                  <a:pt x="208" y="301"/>
                </a:lnTo>
                <a:lnTo>
                  <a:pt x="228" y="294"/>
                </a:lnTo>
                <a:lnTo>
                  <a:pt x="234" y="267"/>
                </a:lnTo>
                <a:lnTo>
                  <a:pt x="248" y="246"/>
                </a:lnTo>
                <a:lnTo>
                  <a:pt x="278" y="232"/>
                </a:lnTo>
                <a:lnTo>
                  <a:pt x="291" y="275"/>
                </a:lnTo>
                <a:lnTo>
                  <a:pt x="328" y="319"/>
                </a:lnTo>
                <a:lnTo>
                  <a:pt x="352" y="295"/>
                </a:lnTo>
                <a:lnTo>
                  <a:pt x="368" y="311"/>
                </a:lnTo>
                <a:lnTo>
                  <a:pt x="391" y="329"/>
                </a:lnTo>
                <a:lnTo>
                  <a:pt x="440" y="332"/>
                </a:lnTo>
                <a:lnTo>
                  <a:pt x="465" y="354"/>
                </a:lnTo>
                <a:lnTo>
                  <a:pt x="503" y="319"/>
                </a:lnTo>
                <a:lnTo>
                  <a:pt x="465" y="273"/>
                </a:lnTo>
                <a:lnTo>
                  <a:pt x="477" y="238"/>
                </a:lnTo>
                <a:lnTo>
                  <a:pt x="498" y="205"/>
                </a:lnTo>
                <a:lnTo>
                  <a:pt x="527" y="173"/>
                </a:lnTo>
                <a:lnTo>
                  <a:pt x="550" y="180"/>
                </a:lnTo>
                <a:lnTo>
                  <a:pt x="564" y="165"/>
                </a:lnTo>
                <a:lnTo>
                  <a:pt x="563" y="148"/>
                </a:lnTo>
                <a:lnTo>
                  <a:pt x="552" y="118"/>
                </a:lnTo>
                <a:lnTo>
                  <a:pt x="579" y="101"/>
                </a:lnTo>
                <a:lnTo>
                  <a:pt x="570" y="78"/>
                </a:lnTo>
                <a:lnTo>
                  <a:pt x="630" y="20"/>
                </a:lnTo>
                <a:lnTo>
                  <a:pt x="680" y="0"/>
                </a:lnTo>
                <a:lnTo>
                  <a:pt x="697" y="34"/>
                </a:lnTo>
                <a:lnTo>
                  <a:pt x="726" y="17"/>
                </a:lnTo>
                <a:lnTo>
                  <a:pt x="757" y="52"/>
                </a:lnTo>
                <a:lnTo>
                  <a:pt x="786" y="25"/>
                </a:lnTo>
                <a:lnTo>
                  <a:pt x="821" y="25"/>
                </a:lnTo>
                <a:lnTo>
                  <a:pt x="836" y="60"/>
                </a:lnTo>
                <a:lnTo>
                  <a:pt x="958" y="158"/>
                </a:lnTo>
                <a:lnTo>
                  <a:pt x="1013" y="157"/>
                </a:lnTo>
                <a:lnTo>
                  <a:pt x="990" y="199"/>
                </a:lnTo>
                <a:lnTo>
                  <a:pt x="955" y="213"/>
                </a:lnTo>
                <a:lnTo>
                  <a:pt x="922" y="285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3920" y="2790720"/>
            <a:ext cx="436680" cy="609840"/>
          </a:xfrm>
          <a:custGeom>
            <a:avLst/>
            <a:gdLst/>
            <a:ahLst/>
            <a:rect l="l" t="t" r="r" b="b"/>
            <a:pathLst>
              <a:path w="844" h="1179">
                <a:moveTo>
                  <a:pt x="479" y="222"/>
                </a:moveTo>
                <a:lnTo>
                  <a:pt x="470" y="273"/>
                </a:lnTo>
                <a:lnTo>
                  <a:pt x="498" y="296"/>
                </a:lnTo>
                <a:lnTo>
                  <a:pt x="491" y="318"/>
                </a:lnTo>
                <a:lnTo>
                  <a:pt x="505" y="359"/>
                </a:lnTo>
                <a:lnTo>
                  <a:pt x="492" y="386"/>
                </a:lnTo>
                <a:lnTo>
                  <a:pt x="497" y="431"/>
                </a:lnTo>
                <a:lnTo>
                  <a:pt x="484" y="460"/>
                </a:lnTo>
                <a:lnTo>
                  <a:pt x="479" y="479"/>
                </a:lnTo>
                <a:lnTo>
                  <a:pt x="471" y="541"/>
                </a:lnTo>
                <a:lnTo>
                  <a:pt x="495" y="528"/>
                </a:lnTo>
                <a:lnTo>
                  <a:pt x="526" y="520"/>
                </a:lnTo>
                <a:lnTo>
                  <a:pt x="540" y="541"/>
                </a:lnTo>
                <a:lnTo>
                  <a:pt x="532" y="566"/>
                </a:lnTo>
                <a:lnTo>
                  <a:pt x="518" y="593"/>
                </a:lnTo>
                <a:lnTo>
                  <a:pt x="478" y="592"/>
                </a:lnTo>
                <a:lnTo>
                  <a:pt x="476" y="608"/>
                </a:lnTo>
                <a:lnTo>
                  <a:pt x="502" y="619"/>
                </a:lnTo>
                <a:lnTo>
                  <a:pt x="496" y="645"/>
                </a:lnTo>
                <a:lnTo>
                  <a:pt x="470" y="666"/>
                </a:lnTo>
                <a:lnTo>
                  <a:pt x="470" y="688"/>
                </a:lnTo>
                <a:lnTo>
                  <a:pt x="451" y="716"/>
                </a:lnTo>
                <a:lnTo>
                  <a:pt x="459" y="722"/>
                </a:lnTo>
                <a:lnTo>
                  <a:pt x="487" y="714"/>
                </a:lnTo>
                <a:lnTo>
                  <a:pt x="487" y="752"/>
                </a:lnTo>
                <a:lnTo>
                  <a:pt x="566" y="750"/>
                </a:lnTo>
                <a:lnTo>
                  <a:pt x="579" y="778"/>
                </a:lnTo>
                <a:lnTo>
                  <a:pt x="595" y="808"/>
                </a:lnTo>
                <a:lnTo>
                  <a:pt x="626" y="828"/>
                </a:lnTo>
                <a:lnTo>
                  <a:pt x="664" y="802"/>
                </a:lnTo>
                <a:lnTo>
                  <a:pt x="671" y="776"/>
                </a:lnTo>
                <a:lnTo>
                  <a:pt x="694" y="766"/>
                </a:lnTo>
                <a:lnTo>
                  <a:pt x="722" y="777"/>
                </a:lnTo>
                <a:lnTo>
                  <a:pt x="746" y="800"/>
                </a:lnTo>
                <a:lnTo>
                  <a:pt x="780" y="776"/>
                </a:lnTo>
                <a:lnTo>
                  <a:pt x="817" y="820"/>
                </a:lnTo>
                <a:lnTo>
                  <a:pt x="844" y="845"/>
                </a:lnTo>
                <a:lnTo>
                  <a:pt x="819" y="869"/>
                </a:lnTo>
                <a:lnTo>
                  <a:pt x="778" y="883"/>
                </a:lnTo>
                <a:lnTo>
                  <a:pt x="780" y="907"/>
                </a:lnTo>
                <a:lnTo>
                  <a:pt x="764" y="933"/>
                </a:lnTo>
                <a:lnTo>
                  <a:pt x="798" y="975"/>
                </a:lnTo>
                <a:lnTo>
                  <a:pt x="766" y="983"/>
                </a:lnTo>
                <a:lnTo>
                  <a:pt x="811" y="1038"/>
                </a:lnTo>
                <a:lnTo>
                  <a:pt x="837" y="1099"/>
                </a:lnTo>
                <a:lnTo>
                  <a:pt x="832" y="1130"/>
                </a:lnTo>
                <a:lnTo>
                  <a:pt x="774" y="1179"/>
                </a:lnTo>
                <a:lnTo>
                  <a:pt x="687" y="1154"/>
                </a:lnTo>
                <a:lnTo>
                  <a:pt x="650" y="1118"/>
                </a:lnTo>
                <a:lnTo>
                  <a:pt x="656" y="1076"/>
                </a:lnTo>
                <a:lnTo>
                  <a:pt x="637" y="1068"/>
                </a:lnTo>
                <a:lnTo>
                  <a:pt x="583" y="1102"/>
                </a:lnTo>
                <a:lnTo>
                  <a:pt x="557" y="1092"/>
                </a:lnTo>
                <a:lnTo>
                  <a:pt x="522" y="996"/>
                </a:lnTo>
                <a:lnTo>
                  <a:pt x="541" y="945"/>
                </a:lnTo>
                <a:lnTo>
                  <a:pt x="521" y="902"/>
                </a:lnTo>
                <a:lnTo>
                  <a:pt x="479" y="868"/>
                </a:lnTo>
                <a:lnTo>
                  <a:pt x="459" y="884"/>
                </a:lnTo>
                <a:lnTo>
                  <a:pt x="424" y="876"/>
                </a:lnTo>
                <a:lnTo>
                  <a:pt x="421" y="818"/>
                </a:lnTo>
                <a:lnTo>
                  <a:pt x="378" y="796"/>
                </a:lnTo>
                <a:lnTo>
                  <a:pt x="326" y="765"/>
                </a:lnTo>
                <a:lnTo>
                  <a:pt x="286" y="790"/>
                </a:lnTo>
                <a:lnTo>
                  <a:pt x="235" y="782"/>
                </a:lnTo>
                <a:lnTo>
                  <a:pt x="216" y="719"/>
                </a:lnTo>
                <a:lnTo>
                  <a:pt x="206" y="617"/>
                </a:lnTo>
                <a:lnTo>
                  <a:pt x="152" y="692"/>
                </a:lnTo>
                <a:lnTo>
                  <a:pt x="131" y="680"/>
                </a:lnTo>
                <a:lnTo>
                  <a:pt x="152" y="647"/>
                </a:lnTo>
                <a:lnTo>
                  <a:pt x="170" y="627"/>
                </a:lnTo>
                <a:lnTo>
                  <a:pt x="167" y="564"/>
                </a:lnTo>
                <a:lnTo>
                  <a:pt x="161" y="516"/>
                </a:lnTo>
                <a:lnTo>
                  <a:pt x="173" y="473"/>
                </a:lnTo>
                <a:lnTo>
                  <a:pt x="140" y="434"/>
                </a:lnTo>
                <a:lnTo>
                  <a:pt x="99" y="390"/>
                </a:lnTo>
                <a:lnTo>
                  <a:pt x="119" y="338"/>
                </a:lnTo>
                <a:lnTo>
                  <a:pt x="75" y="313"/>
                </a:lnTo>
                <a:lnTo>
                  <a:pt x="37" y="334"/>
                </a:lnTo>
                <a:lnTo>
                  <a:pt x="36" y="310"/>
                </a:lnTo>
                <a:lnTo>
                  <a:pt x="0" y="287"/>
                </a:lnTo>
                <a:lnTo>
                  <a:pt x="22" y="281"/>
                </a:lnTo>
                <a:lnTo>
                  <a:pt x="6" y="241"/>
                </a:lnTo>
                <a:lnTo>
                  <a:pt x="6" y="206"/>
                </a:lnTo>
                <a:lnTo>
                  <a:pt x="49" y="213"/>
                </a:lnTo>
                <a:lnTo>
                  <a:pt x="94" y="216"/>
                </a:lnTo>
                <a:lnTo>
                  <a:pt x="119" y="190"/>
                </a:lnTo>
                <a:lnTo>
                  <a:pt x="148" y="186"/>
                </a:lnTo>
                <a:lnTo>
                  <a:pt x="164" y="165"/>
                </a:lnTo>
                <a:lnTo>
                  <a:pt x="189" y="170"/>
                </a:lnTo>
                <a:lnTo>
                  <a:pt x="217" y="149"/>
                </a:lnTo>
                <a:lnTo>
                  <a:pt x="256" y="157"/>
                </a:lnTo>
                <a:lnTo>
                  <a:pt x="286" y="135"/>
                </a:lnTo>
                <a:lnTo>
                  <a:pt x="323" y="116"/>
                </a:lnTo>
                <a:lnTo>
                  <a:pt x="341" y="86"/>
                </a:lnTo>
                <a:lnTo>
                  <a:pt x="402" y="61"/>
                </a:lnTo>
                <a:lnTo>
                  <a:pt x="434" y="48"/>
                </a:lnTo>
                <a:lnTo>
                  <a:pt x="431" y="22"/>
                </a:lnTo>
                <a:lnTo>
                  <a:pt x="445" y="0"/>
                </a:lnTo>
                <a:lnTo>
                  <a:pt x="479" y="11"/>
                </a:lnTo>
                <a:lnTo>
                  <a:pt x="492" y="36"/>
                </a:lnTo>
                <a:lnTo>
                  <a:pt x="486" y="64"/>
                </a:lnTo>
                <a:lnTo>
                  <a:pt x="477" y="93"/>
                </a:lnTo>
                <a:lnTo>
                  <a:pt x="484" y="125"/>
                </a:lnTo>
                <a:lnTo>
                  <a:pt x="508" y="123"/>
                </a:lnTo>
                <a:lnTo>
                  <a:pt x="484" y="182"/>
                </a:lnTo>
                <a:lnTo>
                  <a:pt x="479" y="22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7560" y="2724120"/>
            <a:ext cx="387360" cy="495360"/>
          </a:xfrm>
          <a:custGeom>
            <a:avLst/>
            <a:gdLst/>
            <a:ahLst/>
            <a:rect l="l" t="t" r="r" b="b"/>
            <a:pathLst>
              <a:path w="751" h="957">
                <a:moveTo>
                  <a:pt x="441" y="466"/>
                </a:moveTo>
                <a:lnTo>
                  <a:pt x="438" y="540"/>
                </a:lnTo>
                <a:lnTo>
                  <a:pt x="482" y="545"/>
                </a:lnTo>
                <a:lnTo>
                  <a:pt x="503" y="566"/>
                </a:lnTo>
                <a:lnTo>
                  <a:pt x="534" y="576"/>
                </a:lnTo>
                <a:lnTo>
                  <a:pt x="569" y="596"/>
                </a:lnTo>
                <a:lnTo>
                  <a:pt x="634" y="584"/>
                </a:lnTo>
                <a:lnTo>
                  <a:pt x="654" y="618"/>
                </a:lnTo>
                <a:lnTo>
                  <a:pt x="623" y="640"/>
                </a:lnTo>
                <a:lnTo>
                  <a:pt x="599" y="643"/>
                </a:lnTo>
                <a:lnTo>
                  <a:pt x="578" y="672"/>
                </a:lnTo>
                <a:lnTo>
                  <a:pt x="575" y="694"/>
                </a:lnTo>
                <a:lnTo>
                  <a:pt x="559" y="697"/>
                </a:lnTo>
                <a:lnTo>
                  <a:pt x="535" y="672"/>
                </a:lnTo>
                <a:lnTo>
                  <a:pt x="511" y="676"/>
                </a:lnTo>
                <a:lnTo>
                  <a:pt x="468" y="671"/>
                </a:lnTo>
                <a:lnTo>
                  <a:pt x="448" y="689"/>
                </a:lnTo>
                <a:lnTo>
                  <a:pt x="397" y="742"/>
                </a:lnTo>
                <a:lnTo>
                  <a:pt x="366" y="782"/>
                </a:lnTo>
                <a:lnTo>
                  <a:pt x="352" y="817"/>
                </a:lnTo>
                <a:lnTo>
                  <a:pt x="331" y="812"/>
                </a:lnTo>
                <a:lnTo>
                  <a:pt x="296" y="848"/>
                </a:lnTo>
                <a:lnTo>
                  <a:pt x="281" y="880"/>
                </a:lnTo>
                <a:lnTo>
                  <a:pt x="271" y="906"/>
                </a:lnTo>
                <a:lnTo>
                  <a:pt x="243" y="895"/>
                </a:lnTo>
                <a:lnTo>
                  <a:pt x="220" y="905"/>
                </a:lnTo>
                <a:lnTo>
                  <a:pt x="213" y="931"/>
                </a:lnTo>
                <a:lnTo>
                  <a:pt x="175" y="957"/>
                </a:lnTo>
                <a:lnTo>
                  <a:pt x="144" y="937"/>
                </a:lnTo>
                <a:lnTo>
                  <a:pt x="128" y="907"/>
                </a:lnTo>
                <a:lnTo>
                  <a:pt x="115" y="879"/>
                </a:lnTo>
                <a:lnTo>
                  <a:pt x="36" y="881"/>
                </a:lnTo>
                <a:lnTo>
                  <a:pt x="36" y="843"/>
                </a:lnTo>
                <a:lnTo>
                  <a:pt x="8" y="851"/>
                </a:lnTo>
                <a:lnTo>
                  <a:pt x="0" y="845"/>
                </a:lnTo>
                <a:lnTo>
                  <a:pt x="19" y="817"/>
                </a:lnTo>
                <a:lnTo>
                  <a:pt x="19" y="795"/>
                </a:lnTo>
                <a:lnTo>
                  <a:pt x="45" y="774"/>
                </a:lnTo>
                <a:lnTo>
                  <a:pt x="51" y="748"/>
                </a:lnTo>
                <a:lnTo>
                  <a:pt x="25" y="737"/>
                </a:lnTo>
                <a:lnTo>
                  <a:pt x="27" y="721"/>
                </a:lnTo>
                <a:lnTo>
                  <a:pt x="67" y="722"/>
                </a:lnTo>
                <a:lnTo>
                  <a:pt x="81" y="695"/>
                </a:lnTo>
                <a:lnTo>
                  <a:pt x="89" y="670"/>
                </a:lnTo>
                <a:lnTo>
                  <a:pt x="75" y="649"/>
                </a:lnTo>
                <a:lnTo>
                  <a:pt x="44" y="657"/>
                </a:lnTo>
                <a:lnTo>
                  <a:pt x="20" y="670"/>
                </a:lnTo>
                <a:lnTo>
                  <a:pt x="28" y="608"/>
                </a:lnTo>
                <a:lnTo>
                  <a:pt x="33" y="589"/>
                </a:lnTo>
                <a:lnTo>
                  <a:pt x="46" y="560"/>
                </a:lnTo>
                <a:lnTo>
                  <a:pt x="41" y="515"/>
                </a:lnTo>
                <a:lnTo>
                  <a:pt x="54" y="488"/>
                </a:lnTo>
                <a:lnTo>
                  <a:pt x="40" y="447"/>
                </a:lnTo>
                <a:lnTo>
                  <a:pt x="47" y="425"/>
                </a:lnTo>
                <a:lnTo>
                  <a:pt x="19" y="402"/>
                </a:lnTo>
                <a:lnTo>
                  <a:pt x="28" y="351"/>
                </a:lnTo>
                <a:lnTo>
                  <a:pt x="33" y="311"/>
                </a:lnTo>
                <a:lnTo>
                  <a:pt x="57" y="252"/>
                </a:lnTo>
                <a:lnTo>
                  <a:pt x="91" y="203"/>
                </a:lnTo>
                <a:lnTo>
                  <a:pt x="133" y="181"/>
                </a:lnTo>
                <a:lnTo>
                  <a:pt x="175" y="151"/>
                </a:lnTo>
                <a:lnTo>
                  <a:pt x="172" y="81"/>
                </a:lnTo>
                <a:lnTo>
                  <a:pt x="218" y="105"/>
                </a:lnTo>
                <a:lnTo>
                  <a:pt x="262" y="106"/>
                </a:lnTo>
                <a:lnTo>
                  <a:pt x="324" y="94"/>
                </a:lnTo>
                <a:lnTo>
                  <a:pt x="323" y="46"/>
                </a:lnTo>
                <a:lnTo>
                  <a:pt x="313" y="16"/>
                </a:lnTo>
                <a:lnTo>
                  <a:pt x="336" y="11"/>
                </a:lnTo>
                <a:lnTo>
                  <a:pt x="385" y="19"/>
                </a:lnTo>
                <a:lnTo>
                  <a:pt x="419" y="6"/>
                </a:lnTo>
                <a:lnTo>
                  <a:pt x="455" y="0"/>
                </a:lnTo>
                <a:lnTo>
                  <a:pt x="451" y="33"/>
                </a:lnTo>
                <a:lnTo>
                  <a:pt x="481" y="72"/>
                </a:lnTo>
                <a:lnTo>
                  <a:pt x="510" y="81"/>
                </a:lnTo>
                <a:lnTo>
                  <a:pt x="542" y="109"/>
                </a:lnTo>
                <a:lnTo>
                  <a:pt x="535" y="139"/>
                </a:lnTo>
                <a:lnTo>
                  <a:pt x="549" y="145"/>
                </a:lnTo>
                <a:lnTo>
                  <a:pt x="567" y="143"/>
                </a:lnTo>
                <a:lnTo>
                  <a:pt x="580" y="162"/>
                </a:lnTo>
                <a:lnTo>
                  <a:pt x="565" y="174"/>
                </a:lnTo>
                <a:lnTo>
                  <a:pt x="574" y="223"/>
                </a:lnTo>
                <a:lnTo>
                  <a:pt x="600" y="229"/>
                </a:lnTo>
                <a:lnTo>
                  <a:pt x="633" y="222"/>
                </a:lnTo>
                <a:lnTo>
                  <a:pt x="622" y="260"/>
                </a:lnTo>
                <a:lnTo>
                  <a:pt x="661" y="288"/>
                </a:lnTo>
                <a:lnTo>
                  <a:pt x="682" y="321"/>
                </a:lnTo>
                <a:lnTo>
                  <a:pt x="696" y="323"/>
                </a:lnTo>
                <a:lnTo>
                  <a:pt x="717" y="366"/>
                </a:lnTo>
                <a:lnTo>
                  <a:pt x="746" y="351"/>
                </a:lnTo>
                <a:lnTo>
                  <a:pt x="751" y="385"/>
                </a:lnTo>
                <a:lnTo>
                  <a:pt x="735" y="389"/>
                </a:lnTo>
                <a:lnTo>
                  <a:pt x="698" y="425"/>
                </a:lnTo>
                <a:lnTo>
                  <a:pt x="707" y="441"/>
                </a:lnTo>
                <a:lnTo>
                  <a:pt x="714" y="488"/>
                </a:lnTo>
                <a:lnTo>
                  <a:pt x="686" y="491"/>
                </a:lnTo>
                <a:lnTo>
                  <a:pt x="637" y="487"/>
                </a:lnTo>
                <a:lnTo>
                  <a:pt x="595" y="476"/>
                </a:lnTo>
                <a:lnTo>
                  <a:pt x="595" y="506"/>
                </a:lnTo>
                <a:lnTo>
                  <a:pt x="560" y="510"/>
                </a:lnTo>
                <a:lnTo>
                  <a:pt x="566" y="459"/>
                </a:lnTo>
                <a:lnTo>
                  <a:pt x="554" y="453"/>
                </a:lnTo>
                <a:lnTo>
                  <a:pt x="511" y="471"/>
                </a:lnTo>
                <a:lnTo>
                  <a:pt x="533" y="437"/>
                </a:lnTo>
                <a:lnTo>
                  <a:pt x="555" y="435"/>
                </a:lnTo>
                <a:lnTo>
                  <a:pt x="517" y="382"/>
                </a:lnTo>
                <a:lnTo>
                  <a:pt x="492" y="372"/>
                </a:lnTo>
                <a:lnTo>
                  <a:pt x="456" y="390"/>
                </a:lnTo>
                <a:lnTo>
                  <a:pt x="438" y="414"/>
                </a:lnTo>
                <a:lnTo>
                  <a:pt x="441" y="46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47960" y="2490840"/>
            <a:ext cx="500040" cy="568440"/>
          </a:xfrm>
          <a:custGeom>
            <a:avLst/>
            <a:gdLst/>
            <a:ahLst/>
            <a:rect l="l" t="t" r="r" b="b"/>
            <a:pathLst>
              <a:path w="968" h="1098">
                <a:moveTo>
                  <a:pt x="869" y="33"/>
                </a:moveTo>
                <a:lnTo>
                  <a:pt x="849" y="55"/>
                </a:lnTo>
                <a:lnTo>
                  <a:pt x="888" y="81"/>
                </a:lnTo>
                <a:lnTo>
                  <a:pt x="915" y="119"/>
                </a:lnTo>
                <a:lnTo>
                  <a:pt x="926" y="151"/>
                </a:lnTo>
                <a:lnTo>
                  <a:pt x="943" y="208"/>
                </a:lnTo>
                <a:lnTo>
                  <a:pt x="953" y="232"/>
                </a:lnTo>
                <a:lnTo>
                  <a:pt x="968" y="280"/>
                </a:lnTo>
                <a:lnTo>
                  <a:pt x="960" y="318"/>
                </a:lnTo>
                <a:lnTo>
                  <a:pt x="929" y="344"/>
                </a:lnTo>
                <a:lnTo>
                  <a:pt x="916" y="404"/>
                </a:lnTo>
                <a:lnTo>
                  <a:pt x="894" y="464"/>
                </a:lnTo>
                <a:lnTo>
                  <a:pt x="921" y="506"/>
                </a:lnTo>
                <a:lnTo>
                  <a:pt x="895" y="549"/>
                </a:lnTo>
                <a:lnTo>
                  <a:pt x="862" y="617"/>
                </a:lnTo>
                <a:lnTo>
                  <a:pt x="868" y="636"/>
                </a:lnTo>
                <a:lnTo>
                  <a:pt x="890" y="643"/>
                </a:lnTo>
                <a:lnTo>
                  <a:pt x="934" y="704"/>
                </a:lnTo>
                <a:lnTo>
                  <a:pt x="930" y="729"/>
                </a:lnTo>
                <a:lnTo>
                  <a:pt x="909" y="834"/>
                </a:lnTo>
                <a:lnTo>
                  <a:pt x="934" y="858"/>
                </a:lnTo>
                <a:lnTo>
                  <a:pt x="892" y="964"/>
                </a:lnTo>
                <a:lnTo>
                  <a:pt x="814" y="965"/>
                </a:lnTo>
                <a:lnTo>
                  <a:pt x="804" y="947"/>
                </a:lnTo>
                <a:lnTo>
                  <a:pt x="746" y="952"/>
                </a:lnTo>
                <a:lnTo>
                  <a:pt x="750" y="965"/>
                </a:lnTo>
                <a:lnTo>
                  <a:pt x="702" y="1014"/>
                </a:lnTo>
                <a:lnTo>
                  <a:pt x="684" y="1063"/>
                </a:lnTo>
                <a:lnTo>
                  <a:pt x="690" y="1098"/>
                </a:lnTo>
                <a:lnTo>
                  <a:pt x="650" y="1095"/>
                </a:lnTo>
                <a:lnTo>
                  <a:pt x="655" y="1075"/>
                </a:lnTo>
                <a:lnTo>
                  <a:pt x="602" y="1061"/>
                </a:lnTo>
                <a:lnTo>
                  <a:pt x="566" y="1085"/>
                </a:lnTo>
                <a:lnTo>
                  <a:pt x="532" y="1059"/>
                </a:lnTo>
                <a:lnTo>
                  <a:pt x="516" y="1028"/>
                </a:lnTo>
                <a:lnTo>
                  <a:pt x="489" y="1014"/>
                </a:lnTo>
                <a:lnTo>
                  <a:pt x="446" y="990"/>
                </a:lnTo>
                <a:lnTo>
                  <a:pt x="438" y="979"/>
                </a:lnTo>
                <a:lnTo>
                  <a:pt x="401" y="986"/>
                </a:lnTo>
                <a:lnTo>
                  <a:pt x="360" y="1000"/>
                </a:lnTo>
                <a:lnTo>
                  <a:pt x="337" y="961"/>
                </a:lnTo>
                <a:lnTo>
                  <a:pt x="300" y="922"/>
                </a:lnTo>
                <a:lnTo>
                  <a:pt x="285" y="938"/>
                </a:lnTo>
                <a:lnTo>
                  <a:pt x="209" y="868"/>
                </a:lnTo>
                <a:lnTo>
                  <a:pt x="181" y="849"/>
                </a:lnTo>
                <a:lnTo>
                  <a:pt x="188" y="827"/>
                </a:lnTo>
                <a:lnTo>
                  <a:pt x="155" y="792"/>
                </a:lnTo>
                <a:lnTo>
                  <a:pt x="124" y="802"/>
                </a:lnTo>
                <a:lnTo>
                  <a:pt x="95" y="817"/>
                </a:lnTo>
                <a:lnTo>
                  <a:pt x="74" y="774"/>
                </a:lnTo>
                <a:lnTo>
                  <a:pt x="60" y="772"/>
                </a:lnTo>
                <a:lnTo>
                  <a:pt x="39" y="739"/>
                </a:lnTo>
                <a:lnTo>
                  <a:pt x="0" y="711"/>
                </a:lnTo>
                <a:lnTo>
                  <a:pt x="11" y="673"/>
                </a:lnTo>
                <a:lnTo>
                  <a:pt x="54" y="629"/>
                </a:lnTo>
                <a:lnTo>
                  <a:pt x="62" y="590"/>
                </a:lnTo>
                <a:lnTo>
                  <a:pt x="89" y="586"/>
                </a:lnTo>
                <a:lnTo>
                  <a:pt x="104" y="613"/>
                </a:lnTo>
                <a:lnTo>
                  <a:pt x="155" y="612"/>
                </a:lnTo>
                <a:lnTo>
                  <a:pt x="174" y="575"/>
                </a:lnTo>
                <a:lnTo>
                  <a:pt x="203" y="545"/>
                </a:lnTo>
                <a:lnTo>
                  <a:pt x="242" y="538"/>
                </a:lnTo>
                <a:lnTo>
                  <a:pt x="256" y="553"/>
                </a:lnTo>
                <a:lnTo>
                  <a:pt x="247" y="574"/>
                </a:lnTo>
                <a:lnTo>
                  <a:pt x="303" y="561"/>
                </a:lnTo>
                <a:lnTo>
                  <a:pt x="311" y="512"/>
                </a:lnTo>
                <a:lnTo>
                  <a:pt x="359" y="510"/>
                </a:lnTo>
                <a:lnTo>
                  <a:pt x="428" y="493"/>
                </a:lnTo>
                <a:lnTo>
                  <a:pt x="455" y="469"/>
                </a:lnTo>
                <a:lnTo>
                  <a:pt x="435" y="431"/>
                </a:lnTo>
                <a:lnTo>
                  <a:pt x="460" y="416"/>
                </a:lnTo>
                <a:lnTo>
                  <a:pt x="490" y="388"/>
                </a:lnTo>
                <a:lnTo>
                  <a:pt x="472" y="333"/>
                </a:lnTo>
                <a:lnTo>
                  <a:pt x="464" y="292"/>
                </a:lnTo>
                <a:lnTo>
                  <a:pt x="526" y="268"/>
                </a:lnTo>
                <a:lnTo>
                  <a:pt x="584" y="243"/>
                </a:lnTo>
                <a:lnTo>
                  <a:pt x="651" y="201"/>
                </a:lnTo>
                <a:lnTo>
                  <a:pt x="713" y="152"/>
                </a:lnTo>
                <a:lnTo>
                  <a:pt x="746" y="80"/>
                </a:lnTo>
                <a:lnTo>
                  <a:pt x="781" y="66"/>
                </a:lnTo>
                <a:lnTo>
                  <a:pt x="804" y="24"/>
                </a:lnTo>
                <a:lnTo>
                  <a:pt x="843" y="0"/>
                </a:lnTo>
                <a:lnTo>
                  <a:pt x="869" y="3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49840" y="2997360"/>
            <a:ext cx="330120" cy="306360"/>
          </a:xfrm>
          <a:custGeom>
            <a:avLst/>
            <a:gdLst/>
            <a:ahLst/>
            <a:rect l="l" t="t" r="r" b="b"/>
            <a:pathLst>
              <a:path w="642" h="591">
                <a:moveTo>
                  <a:pt x="443" y="153"/>
                </a:moveTo>
                <a:lnTo>
                  <a:pt x="427" y="208"/>
                </a:lnTo>
                <a:lnTo>
                  <a:pt x="468" y="231"/>
                </a:lnTo>
                <a:lnTo>
                  <a:pt x="462" y="286"/>
                </a:lnTo>
                <a:lnTo>
                  <a:pt x="497" y="290"/>
                </a:lnTo>
                <a:lnTo>
                  <a:pt x="503" y="329"/>
                </a:lnTo>
                <a:lnTo>
                  <a:pt x="530" y="340"/>
                </a:lnTo>
                <a:lnTo>
                  <a:pt x="568" y="378"/>
                </a:lnTo>
                <a:lnTo>
                  <a:pt x="559" y="428"/>
                </a:lnTo>
                <a:lnTo>
                  <a:pt x="617" y="469"/>
                </a:lnTo>
                <a:lnTo>
                  <a:pt x="612" y="511"/>
                </a:lnTo>
                <a:lnTo>
                  <a:pt x="642" y="560"/>
                </a:lnTo>
                <a:lnTo>
                  <a:pt x="614" y="569"/>
                </a:lnTo>
                <a:lnTo>
                  <a:pt x="569" y="551"/>
                </a:lnTo>
                <a:lnTo>
                  <a:pt x="536" y="591"/>
                </a:lnTo>
                <a:lnTo>
                  <a:pt x="520" y="571"/>
                </a:lnTo>
                <a:lnTo>
                  <a:pt x="487" y="575"/>
                </a:lnTo>
                <a:lnTo>
                  <a:pt x="314" y="506"/>
                </a:lnTo>
                <a:lnTo>
                  <a:pt x="272" y="480"/>
                </a:lnTo>
                <a:lnTo>
                  <a:pt x="247" y="483"/>
                </a:lnTo>
                <a:lnTo>
                  <a:pt x="221" y="510"/>
                </a:lnTo>
                <a:lnTo>
                  <a:pt x="205" y="479"/>
                </a:lnTo>
                <a:lnTo>
                  <a:pt x="183" y="477"/>
                </a:lnTo>
                <a:lnTo>
                  <a:pt x="177" y="461"/>
                </a:lnTo>
                <a:lnTo>
                  <a:pt x="115" y="436"/>
                </a:lnTo>
                <a:lnTo>
                  <a:pt x="39" y="408"/>
                </a:lnTo>
                <a:lnTo>
                  <a:pt x="45" y="367"/>
                </a:lnTo>
                <a:lnTo>
                  <a:pt x="59" y="348"/>
                </a:lnTo>
                <a:lnTo>
                  <a:pt x="76" y="347"/>
                </a:lnTo>
                <a:lnTo>
                  <a:pt x="86" y="321"/>
                </a:lnTo>
                <a:lnTo>
                  <a:pt x="54" y="302"/>
                </a:lnTo>
                <a:lnTo>
                  <a:pt x="30" y="284"/>
                </a:lnTo>
                <a:lnTo>
                  <a:pt x="0" y="258"/>
                </a:lnTo>
                <a:lnTo>
                  <a:pt x="18" y="223"/>
                </a:lnTo>
                <a:lnTo>
                  <a:pt x="22" y="197"/>
                </a:lnTo>
                <a:lnTo>
                  <a:pt x="41" y="208"/>
                </a:lnTo>
                <a:lnTo>
                  <a:pt x="65" y="186"/>
                </a:lnTo>
                <a:lnTo>
                  <a:pt x="65" y="164"/>
                </a:lnTo>
                <a:lnTo>
                  <a:pt x="92" y="150"/>
                </a:lnTo>
                <a:lnTo>
                  <a:pt x="125" y="160"/>
                </a:lnTo>
                <a:lnTo>
                  <a:pt x="148" y="118"/>
                </a:lnTo>
                <a:lnTo>
                  <a:pt x="149" y="75"/>
                </a:lnTo>
                <a:lnTo>
                  <a:pt x="167" y="21"/>
                </a:lnTo>
                <a:lnTo>
                  <a:pt x="208" y="7"/>
                </a:lnTo>
                <a:lnTo>
                  <a:pt x="245" y="0"/>
                </a:lnTo>
                <a:lnTo>
                  <a:pt x="253" y="11"/>
                </a:lnTo>
                <a:lnTo>
                  <a:pt x="296" y="35"/>
                </a:lnTo>
                <a:lnTo>
                  <a:pt x="323" y="49"/>
                </a:lnTo>
                <a:lnTo>
                  <a:pt x="339" y="80"/>
                </a:lnTo>
                <a:lnTo>
                  <a:pt x="373" y="106"/>
                </a:lnTo>
                <a:lnTo>
                  <a:pt x="409" y="82"/>
                </a:lnTo>
                <a:lnTo>
                  <a:pt x="462" y="96"/>
                </a:lnTo>
                <a:lnTo>
                  <a:pt x="457" y="116"/>
                </a:lnTo>
                <a:lnTo>
                  <a:pt x="443" y="15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8720" y="2914560"/>
            <a:ext cx="547560" cy="430200"/>
          </a:xfrm>
          <a:custGeom>
            <a:avLst/>
            <a:gdLst/>
            <a:ahLst/>
            <a:rect l="l" t="t" r="r" b="b"/>
            <a:pathLst>
              <a:path w="1060" h="832">
                <a:moveTo>
                  <a:pt x="419" y="40"/>
                </a:moveTo>
                <a:lnTo>
                  <a:pt x="469" y="53"/>
                </a:lnTo>
                <a:lnTo>
                  <a:pt x="512" y="40"/>
                </a:lnTo>
                <a:lnTo>
                  <a:pt x="611" y="28"/>
                </a:lnTo>
                <a:lnTo>
                  <a:pt x="625" y="38"/>
                </a:lnTo>
                <a:lnTo>
                  <a:pt x="686" y="37"/>
                </a:lnTo>
                <a:lnTo>
                  <a:pt x="693" y="0"/>
                </a:lnTo>
                <a:lnTo>
                  <a:pt x="725" y="9"/>
                </a:lnTo>
                <a:lnTo>
                  <a:pt x="725" y="30"/>
                </a:lnTo>
                <a:lnTo>
                  <a:pt x="768" y="63"/>
                </a:lnTo>
                <a:lnTo>
                  <a:pt x="845" y="103"/>
                </a:lnTo>
                <a:lnTo>
                  <a:pt x="857" y="149"/>
                </a:lnTo>
                <a:lnTo>
                  <a:pt x="886" y="236"/>
                </a:lnTo>
                <a:lnTo>
                  <a:pt x="887" y="293"/>
                </a:lnTo>
                <a:lnTo>
                  <a:pt x="913" y="312"/>
                </a:lnTo>
                <a:lnTo>
                  <a:pt x="903" y="364"/>
                </a:lnTo>
                <a:lnTo>
                  <a:pt x="983" y="428"/>
                </a:lnTo>
                <a:lnTo>
                  <a:pt x="1060" y="491"/>
                </a:lnTo>
                <a:lnTo>
                  <a:pt x="996" y="522"/>
                </a:lnTo>
                <a:lnTo>
                  <a:pt x="934" y="538"/>
                </a:lnTo>
                <a:lnTo>
                  <a:pt x="840" y="484"/>
                </a:lnTo>
                <a:lnTo>
                  <a:pt x="817" y="495"/>
                </a:lnTo>
                <a:lnTo>
                  <a:pt x="752" y="467"/>
                </a:lnTo>
                <a:lnTo>
                  <a:pt x="744" y="439"/>
                </a:lnTo>
                <a:lnTo>
                  <a:pt x="682" y="412"/>
                </a:lnTo>
                <a:lnTo>
                  <a:pt x="711" y="358"/>
                </a:lnTo>
                <a:lnTo>
                  <a:pt x="696" y="307"/>
                </a:lnTo>
                <a:lnTo>
                  <a:pt x="599" y="394"/>
                </a:lnTo>
                <a:lnTo>
                  <a:pt x="590" y="474"/>
                </a:lnTo>
                <a:lnTo>
                  <a:pt x="543" y="484"/>
                </a:lnTo>
                <a:lnTo>
                  <a:pt x="545" y="521"/>
                </a:lnTo>
                <a:lnTo>
                  <a:pt x="596" y="525"/>
                </a:lnTo>
                <a:lnTo>
                  <a:pt x="609" y="629"/>
                </a:lnTo>
                <a:lnTo>
                  <a:pt x="582" y="644"/>
                </a:lnTo>
                <a:lnTo>
                  <a:pt x="527" y="627"/>
                </a:lnTo>
                <a:lnTo>
                  <a:pt x="488" y="661"/>
                </a:lnTo>
                <a:lnTo>
                  <a:pt x="465" y="698"/>
                </a:lnTo>
                <a:lnTo>
                  <a:pt x="446" y="731"/>
                </a:lnTo>
                <a:lnTo>
                  <a:pt x="402" y="746"/>
                </a:lnTo>
                <a:lnTo>
                  <a:pt x="409" y="785"/>
                </a:lnTo>
                <a:lnTo>
                  <a:pt x="363" y="803"/>
                </a:lnTo>
                <a:lnTo>
                  <a:pt x="339" y="832"/>
                </a:lnTo>
                <a:lnTo>
                  <a:pt x="302" y="799"/>
                </a:lnTo>
                <a:lnTo>
                  <a:pt x="259" y="737"/>
                </a:lnTo>
                <a:lnTo>
                  <a:pt x="215" y="718"/>
                </a:lnTo>
                <a:lnTo>
                  <a:pt x="185" y="669"/>
                </a:lnTo>
                <a:lnTo>
                  <a:pt x="190" y="627"/>
                </a:lnTo>
                <a:lnTo>
                  <a:pt x="132" y="586"/>
                </a:lnTo>
                <a:lnTo>
                  <a:pt x="141" y="536"/>
                </a:lnTo>
                <a:lnTo>
                  <a:pt x="103" y="498"/>
                </a:lnTo>
                <a:lnTo>
                  <a:pt x="76" y="487"/>
                </a:lnTo>
                <a:lnTo>
                  <a:pt x="70" y="448"/>
                </a:lnTo>
                <a:lnTo>
                  <a:pt x="35" y="444"/>
                </a:lnTo>
                <a:lnTo>
                  <a:pt x="41" y="389"/>
                </a:lnTo>
                <a:lnTo>
                  <a:pt x="0" y="366"/>
                </a:lnTo>
                <a:lnTo>
                  <a:pt x="16" y="311"/>
                </a:lnTo>
                <a:lnTo>
                  <a:pt x="30" y="274"/>
                </a:lnTo>
                <a:lnTo>
                  <a:pt x="70" y="277"/>
                </a:lnTo>
                <a:lnTo>
                  <a:pt x="64" y="242"/>
                </a:lnTo>
                <a:lnTo>
                  <a:pt x="82" y="193"/>
                </a:lnTo>
                <a:lnTo>
                  <a:pt x="130" y="144"/>
                </a:lnTo>
                <a:lnTo>
                  <a:pt x="126" y="131"/>
                </a:lnTo>
                <a:lnTo>
                  <a:pt x="184" y="126"/>
                </a:lnTo>
                <a:lnTo>
                  <a:pt x="194" y="144"/>
                </a:lnTo>
                <a:lnTo>
                  <a:pt x="272" y="143"/>
                </a:lnTo>
                <a:lnTo>
                  <a:pt x="314" y="37"/>
                </a:lnTo>
                <a:lnTo>
                  <a:pt x="337" y="61"/>
                </a:lnTo>
                <a:lnTo>
                  <a:pt x="380" y="70"/>
                </a:lnTo>
                <a:lnTo>
                  <a:pt x="419" y="4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84640" y="2270160"/>
            <a:ext cx="1006560" cy="898560"/>
          </a:xfrm>
          <a:custGeom>
            <a:avLst/>
            <a:gdLst/>
            <a:ahLst/>
            <a:rect l="l" t="t" r="r" b="b"/>
            <a:pathLst>
              <a:path w="1947" h="1740">
                <a:moveTo>
                  <a:pt x="584" y="67"/>
                </a:moveTo>
                <a:lnTo>
                  <a:pt x="603" y="96"/>
                </a:lnTo>
                <a:lnTo>
                  <a:pt x="539" y="180"/>
                </a:lnTo>
                <a:lnTo>
                  <a:pt x="500" y="213"/>
                </a:lnTo>
                <a:lnTo>
                  <a:pt x="541" y="244"/>
                </a:lnTo>
                <a:lnTo>
                  <a:pt x="528" y="287"/>
                </a:lnTo>
                <a:lnTo>
                  <a:pt x="569" y="311"/>
                </a:lnTo>
                <a:lnTo>
                  <a:pt x="664" y="340"/>
                </a:lnTo>
                <a:lnTo>
                  <a:pt x="725" y="362"/>
                </a:lnTo>
                <a:lnTo>
                  <a:pt x="741" y="397"/>
                </a:lnTo>
                <a:lnTo>
                  <a:pt x="758" y="402"/>
                </a:lnTo>
                <a:lnTo>
                  <a:pt x="782" y="424"/>
                </a:lnTo>
                <a:lnTo>
                  <a:pt x="738" y="461"/>
                </a:lnTo>
                <a:lnTo>
                  <a:pt x="792" y="529"/>
                </a:lnTo>
                <a:lnTo>
                  <a:pt x="854" y="517"/>
                </a:lnTo>
                <a:lnTo>
                  <a:pt x="870" y="546"/>
                </a:lnTo>
                <a:lnTo>
                  <a:pt x="903" y="515"/>
                </a:lnTo>
                <a:lnTo>
                  <a:pt x="938" y="548"/>
                </a:lnTo>
                <a:lnTo>
                  <a:pt x="983" y="591"/>
                </a:lnTo>
                <a:lnTo>
                  <a:pt x="1009" y="637"/>
                </a:lnTo>
                <a:lnTo>
                  <a:pt x="969" y="660"/>
                </a:lnTo>
                <a:lnTo>
                  <a:pt x="959" y="726"/>
                </a:lnTo>
                <a:lnTo>
                  <a:pt x="985" y="740"/>
                </a:lnTo>
                <a:lnTo>
                  <a:pt x="997" y="753"/>
                </a:lnTo>
                <a:lnTo>
                  <a:pt x="967" y="830"/>
                </a:lnTo>
                <a:lnTo>
                  <a:pt x="992" y="835"/>
                </a:lnTo>
                <a:lnTo>
                  <a:pt x="1020" y="838"/>
                </a:lnTo>
                <a:lnTo>
                  <a:pt x="1055" y="861"/>
                </a:lnTo>
                <a:lnTo>
                  <a:pt x="1090" y="852"/>
                </a:lnTo>
                <a:lnTo>
                  <a:pt x="1103" y="912"/>
                </a:lnTo>
                <a:lnTo>
                  <a:pt x="1151" y="934"/>
                </a:lnTo>
                <a:lnTo>
                  <a:pt x="1165" y="969"/>
                </a:lnTo>
                <a:lnTo>
                  <a:pt x="1201" y="993"/>
                </a:lnTo>
                <a:lnTo>
                  <a:pt x="1260" y="1016"/>
                </a:lnTo>
                <a:lnTo>
                  <a:pt x="1294" y="1058"/>
                </a:lnTo>
                <a:lnTo>
                  <a:pt x="1316" y="1058"/>
                </a:lnTo>
                <a:lnTo>
                  <a:pt x="1340" y="1087"/>
                </a:lnTo>
                <a:lnTo>
                  <a:pt x="1336" y="1128"/>
                </a:lnTo>
                <a:lnTo>
                  <a:pt x="1363" y="1162"/>
                </a:lnTo>
                <a:lnTo>
                  <a:pt x="1378" y="1208"/>
                </a:lnTo>
                <a:lnTo>
                  <a:pt x="1467" y="1214"/>
                </a:lnTo>
                <a:lnTo>
                  <a:pt x="1526" y="1249"/>
                </a:lnTo>
                <a:lnTo>
                  <a:pt x="1564" y="1218"/>
                </a:lnTo>
                <a:lnTo>
                  <a:pt x="1628" y="1193"/>
                </a:lnTo>
                <a:lnTo>
                  <a:pt x="1662" y="1194"/>
                </a:lnTo>
                <a:lnTo>
                  <a:pt x="1661" y="1252"/>
                </a:lnTo>
                <a:lnTo>
                  <a:pt x="1696" y="1298"/>
                </a:lnTo>
                <a:lnTo>
                  <a:pt x="1722" y="1289"/>
                </a:lnTo>
                <a:lnTo>
                  <a:pt x="1752" y="1304"/>
                </a:lnTo>
                <a:lnTo>
                  <a:pt x="1761" y="1330"/>
                </a:lnTo>
                <a:lnTo>
                  <a:pt x="1791" y="1377"/>
                </a:lnTo>
                <a:lnTo>
                  <a:pt x="1838" y="1394"/>
                </a:lnTo>
                <a:lnTo>
                  <a:pt x="1860" y="1428"/>
                </a:lnTo>
                <a:lnTo>
                  <a:pt x="1871" y="1460"/>
                </a:lnTo>
                <a:lnTo>
                  <a:pt x="1858" y="1529"/>
                </a:lnTo>
                <a:lnTo>
                  <a:pt x="1892" y="1565"/>
                </a:lnTo>
                <a:lnTo>
                  <a:pt x="1947" y="1607"/>
                </a:lnTo>
                <a:lnTo>
                  <a:pt x="1947" y="1635"/>
                </a:lnTo>
                <a:lnTo>
                  <a:pt x="1914" y="1642"/>
                </a:lnTo>
                <a:lnTo>
                  <a:pt x="1768" y="1696"/>
                </a:lnTo>
                <a:lnTo>
                  <a:pt x="1746" y="1693"/>
                </a:lnTo>
                <a:lnTo>
                  <a:pt x="1709" y="1632"/>
                </a:lnTo>
                <a:lnTo>
                  <a:pt x="1683" y="1629"/>
                </a:lnTo>
                <a:lnTo>
                  <a:pt x="1604" y="1660"/>
                </a:lnTo>
                <a:lnTo>
                  <a:pt x="1597" y="1680"/>
                </a:lnTo>
                <a:lnTo>
                  <a:pt x="1573" y="1687"/>
                </a:lnTo>
                <a:lnTo>
                  <a:pt x="1549" y="1656"/>
                </a:lnTo>
                <a:lnTo>
                  <a:pt x="1489" y="1635"/>
                </a:lnTo>
                <a:lnTo>
                  <a:pt x="1493" y="1605"/>
                </a:lnTo>
                <a:lnTo>
                  <a:pt x="1451" y="1586"/>
                </a:lnTo>
                <a:lnTo>
                  <a:pt x="1411" y="1593"/>
                </a:lnTo>
                <a:lnTo>
                  <a:pt x="1344" y="1566"/>
                </a:lnTo>
                <a:lnTo>
                  <a:pt x="1355" y="1532"/>
                </a:lnTo>
                <a:lnTo>
                  <a:pt x="1183" y="1453"/>
                </a:lnTo>
                <a:lnTo>
                  <a:pt x="1148" y="1478"/>
                </a:lnTo>
                <a:lnTo>
                  <a:pt x="1114" y="1509"/>
                </a:lnTo>
                <a:lnTo>
                  <a:pt x="1089" y="1563"/>
                </a:lnTo>
                <a:lnTo>
                  <a:pt x="1041" y="1648"/>
                </a:lnTo>
                <a:lnTo>
                  <a:pt x="998" y="1641"/>
                </a:lnTo>
                <a:lnTo>
                  <a:pt x="935" y="1661"/>
                </a:lnTo>
                <a:lnTo>
                  <a:pt x="916" y="1692"/>
                </a:lnTo>
                <a:lnTo>
                  <a:pt x="837" y="1740"/>
                </a:lnTo>
                <a:lnTo>
                  <a:pt x="760" y="1677"/>
                </a:lnTo>
                <a:lnTo>
                  <a:pt x="680" y="1613"/>
                </a:lnTo>
                <a:lnTo>
                  <a:pt x="690" y="1561"/>
                </a:lnTo>
                <a:lnTo>
                  <a:pt x="664" y="1542"/>
                </a:lnTo>
                <a:lnTo>
                  <a:pt x="663" y="1485"/>
                </a:lnTo>
                <a:lnTo>
                  <a:pt x="634" y="1398"/>
                </a:lnTo>
                <a:lnTo>
                  <a:pt x="622" y="1352"/>
                </a:lnTo>
                <a:lnTo>
                  <a:pt x="545" y="1312"/>
                </a:lnTo>
                <a:lnTo>
                  <a:pt x="502" y="1279"/>
                </a:lnTo>
                <a:lnTo>
                  <a:pt x="502" y="1258"/>
                </a:lnTo>
                <a:lnTo>
                  <a:pt x="470" y="1249"/>
                </a:lnTo>
                <a:lnTo>
                  <a:pt x="463" y="1286"/>
                </a:lnTo>
                <a:lnTo>
                  <a:pt x="402" y="1287"/>
                </a:lnTo>
                <a:lnTo>
                  <a:pt x="388" y="1277"/>
                </a:lnTo>
                <a:lnTo>
                  <a:pt x="289" y="1289"/>
                </a:lnTo>
                <a:lnTo>
                  <a:pt x="246" y="1302"/>
                </a:lnTo>
                <a:lnTo>
                  <a:pt x="196" y="1289"/>
                </a:lnTo>
                <a:lnTo>
                  <a:pt x="157" y="1319"/>
                </a:lnTo>
                <a:lnTo>
                  <a:pt x="114" y="1310"/>
                </a:lnTo>
                <a:lnTo>
                  <a:pt x="91" y="1286"/>
                </a:lnTo>
                <a:lnTo>
                  <a:pt x="66" y="1262"/>
                </a:lnTo>
                <a:lnTo>
                  <a:pt x="87" y="1157"/>
                </a:lnTo>
                <a:lnTo>
                  <a:pt x="91" y="1132"/>
                </a:lnTo>
                <a:lnTo>
                  <a:pt x="47" y="1071"/>
                </a:lnTo>
                <a:lnTo>
                  <a:pt x="25" y="1064"/>
                </a:lnTo>
                <a:lnTo>
                  <a:pt x="19" y="1045"/>
                </a:lnTo>
                <a:lnTo>
                  <a:pt x="52" y="977"/>
                </a:lnTo>
                <a:lnTo>
                  <a:pt x="78" y="934"/>
                </a:lnTo>
                <a:lnTo>
                  <a:pt x="51" y="892"/>
                </a:lnTo>
                <a:lnTo>
                  <a:pt x="73" y="832"/>
                </a:lnTo>
                <a:lnTo>
                  <a:pt x="86" y="772"/>
                </a:lnTo>
                <a:lnTo>
                  <a:pt x="117" y="746"/>
                </a:lnTo>
                <a:lnTo>
                  <a:pt x="125" y="708"/>
                </a:lnTo>
                <a:lnTo>
                  <a:pt x="110" y="660"/>
                </a:lnTo>
                <a:lnTo>
                  <a:pt x="100" y="636"/>
                </a:lnTo>
                <a:lnTo>
                  <a:pt x="83" y="579"/>
                </a:lnTo>
                <a:lnTo>
                  <a:pt x="72" y="547"/>
                </a:lnTo>
                <a:lnTo>
                  <a:pt x="45" y="509"/>
                </a:lnTo>
                <a:lnTo>
                  <a:pt x="6" y="483"/>
                </a:lnTo>
                <a:lnTo>
                  <a:pt x="26" y="461"/>
                </a:lnTo>
                <a:lnTo>
                  <a:pt x="0" y="428"/>
                </a:lnTo>
                <a:lnTo>
                  <a:pt x="19" y="386"/>
                </a:lnTo>
                <a:lnTo>
                  <a:pt x="75" y="350"/>
                </a:lnTo>
                <a:lnTo>
                  <a:pt x="76" y="323"/>
                </a:lnTo>
                <a:lnTo>
                  <a:pt x="116" y="295"/>
                </a:lnTo>
                <a:lnTo>
                  <a:pt x="113" y="263"/>
                </a:lnTo>
                <a:lnTo>
                  <a:pt x="175" y="202"/>
                </a:lnTo>
                <a:lnTo>
                  <a:pt x="247" y="139"/>
                </a:lnTo>
                <a:lnTo>
                  <a:pt x="283" y="125"/>
                </a:lnTo>
                <a:lnTo>
                  <a:pt x="281" y="96"/>
                </a:lnTo>
                <a:lnTo>
                  <a:pt x="305" y="49"/>
                </a:lnTo>
                <a:lnTo>
                  <a:pt x="349" y="21"/>
                </a:lnTo>
                <a:lnTo>
                  <a:pt x="413" y="6"/>
                </a:lnTo>
                <a:lnTo>
                  <a:pt x="422" y="18"/>
                </a:lnTo>
                <a:lnTo>
                  <a:pt x="425" y="52"/>
                </a:lnTo>
                <a:lnTo>
                  <a:pt x="519" y="25"/>
                </a:lnTo>
                <a:lnTo>
                  <a:pt x="600" y="0"/>
                </a:lnTo>
                <a:lnTo>
                  <a:pt x="584" y="6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73440" y="1881360"/>
            <a:ext cx="1085760" cy="622080"/>
          </a:xfrm>
          <a:custGeom>
            <a:avLst/>
            <a:gdLst/>
            <a:ahLst/>
            <a:rect l="l" t="t" r="r" b="b"/>
            <a:pathLst>
              <a:path w="2098" h="1207">
                <a:moveTo>
                  <a:pt x="1701" y="728"/>
                </a:moveTo>
                <a:lnTo>
                  <a:pt x="1655" y="763"/>
                </a:lnTo>
                <a:lnTo>
                  <a:pt x="1587" y="754"/>
                </a:lnTo>
                <a:lnTo>
                  <a:pt x="1506" y="779"/>
                </a:lnTo>
                <a:lnTo>
                  <a:pt x="1412" y="806"/>
                </a:lnTo>
                <a:lnTo>
                  <a:pt x="1409" y="772"/>
                </a:lnTo>
                <a:lnTo>
                  <a:pt x="1400" y="760"/>
                </a:lnTo>
                <a:lnTo>
                  <a:pt x="1336" y="775"/>
                </a:lnTo>
                <a:lnTo>
                  <a:pt x="1292" y="803"/>
                </a:lnTo>
                <a:lnTo>
                  <a:pt x="1268" y="850"/>
                </a:lnTo>
                <a:lnTo>
                  <a:pt x="1270" y="879"/>
                </a:lnTo>
                <a:lnTo>
                  <a:pt x="1234" y="893"/>
                </a:lnTo>
                <a:lnTo>
                  <a:pt x="1162" y="956"/>
                </a:lnTo>
                <a:lnTo>
                  <a:pt x="1100" y="1017"/>
                </a:lnTo>
                <a:lnTo>
                  <a:pt x="1103" y="1049"/>
                </a:lnTo>
                <a:lnTo>
                  <a:pt x="1063" y="1077"/>
                </a:lnTo>
                <a:lnTo>
                  <a:pt x="1062" y="1104"/>
                </a:lnTo>
                <a:lnTo>
                  <a:pt x="1006" y="1140"/>
                </a:lnTo>
                <a:lnTo>
                  <a:pt x="987" y="1182"/>
                </a:lnTo>
                <a:lnTo>
                  <a:pt x="948" y="1206"/>
                </a:lnTo>
                <a:lnTo>
                  <a:pt x="893" y="1207"/>
                </a:lnTo>
                <a:lnTo>
                  <a:pt x="771" y="1109"/>
                </a:lnTo>
                <a:lnTo>
                  <a:pt x="756" y="1074"/>
                </a:lnTo>
                <a:lnTo>
                  <a:pt x="721" y="1074"/>
                </a:lnTo>
                <a:lnTo>
                  <a:pt x="692" y="1101"/>
                </a:lnTo>
                <a:lnTo>
                  <a:pt x="661" y="1066"/>
                </a:lnTo>
                <a:lnTo>
                  <a:pt x="632" y="1083"/>
                </a:lnTo>
                <a:lnTo>
                  <a:pt x="615" y="1049"/>
                </a:lnTo>
                <a:lnTo>
                  <a:pt x="565" y="1069"/>
                </a:lnTo>
                <a:lnTo>
                  <a:pt x="509" y="983"/>
                </a:lnTo>
                <a:lnTo>
                  <a:pt x="486" y="993"/>
                </a:lnTo>
                <a:lnTo>
                  <a:pt x="464" y="962"/>
                </a:lnTo>
                <a:lnTo>
                  <a:pt x="483" y="942"/>
                </a:lnTo>
                <a:lnTo>
                  <a:pt x="464" y="906"/>
                </a:lnTo>
                <a:lnTo>
                  <a:pt x="433" y="912"/>
                </a:lnTo>
                <a:lnTo>
                  <a:pt x="419" y="893"/>
                </a:lnTo>
                <a:lnTo>
                  <a:pt x="390" y="900"/>
                </a:lnTo>
                <a:lnTo>
                  <a:pt x="371" y="874"/>
                </a:lnTo>
                <a:lnTo>
                  <a:pt x="330" y="895"/>
                </a:lnTo>
                <a:lnTo>
                  <a:pt x="342" y="924"/>
                </a:lnTo>
                <a:lnTo>
                  <a:pt x="325" y="934"/>
                </a:lnTo>
                <a:lnTo>
                  <a:pt x="343" y="959"/>
                </a:lnTo>
                <a:lnTo>
                  <a:pt x="310" y="974"/>
                </a:lnTo>
                <a:lnTo>
                  <a:pt x="303" y="947"/>
                </a:lnTo>
                <a:lnTo>
                  <a:pt x="213" y="956"/>
                </a:lnTo>
                <a:lnTo>
                  <a:pt x="202" y="917"/>
                </a:lnTo>
                <a:lnTo>
                  <a:pt x="159" y="918"/>
                </a:lnTo>
                <a:lnTo>
                  <a:pt x="107" y="889"/>
                </a:lnTo>
                <a:lnTo>
                  <a:pt x="80" y="890"/>
                </a:lnTo>
                <a:lnTo>
                  <a:pt x="13" y="936"/>
                </a:lnTo>
                <a:lnTo>
                  <a:pt x="1" y="915"/>
                </a:lnTo>
                <a:lnTo>
                  <a:pt x="18" y="893"/>
                </a:lnTo>
                <a:lnTo>
                  <a:pt x="6" y="847"/>
                </a:lnTo>
                <a:lnTo>
                  <a:pt x="34" y="829"/>
                </a:lnTo>
                <a:lnTo>
                  <a:pt x="0" y="786"/>
                </a:lnTo>
                <a:lnTo>
                  <a:pt x="60" y="725"/>
                </a:lnTo>
                <a:lnTo>
                  <a:pt x="107" y="727"/>
                </a:lnTo>
                <a:lnTo>
                  <a:pt x="107" y="696"/>
                </a:lnTo>
                <a:lnTo>
                  <a:pt x="158" y="642"/>
                </a:lnTo>
                <a:lnTo>
                  <a:pt x="193" y="617"/>
                </a:lnTo>
                <a:lnTo>
                  <a:pt x="241" y="642"/>
                </a:lnTo>
                <a:lnTo>
                  <a:pt x="254" y="651"/>
                </a:lnTo>
                <a:lnTo>
                  <a:pt x="324" y="609"/>
                </a:lnTo>
                <a:lnTo>
                  <a:pt x="306" y="570"/>
                </a:lnTo>
                <a:lnTo>
                  <a:pt x="381" y="529"/>
                </a:lnTo>
                <a:lnTo>
                  <a:pt x="394" y="533"/>
                </a:lnTo>
                <a:lnTo>
                  <a:pt x="487" y="470"/>
                </a:lnTo>
                <a:lnTo>
                  <a:pt x="454" y="408"/>
                </a:lnTo>
                <a:lnTo>
                  <a:pt x="434" y="417"/>
                </a:lnTo>
                <a:lnTo>
                  <a:pt x="417" y="392"/>
                </a:lnTo>
                <a:lnTo>
                  <a:pt x="368" y="420"/>
                </a:lnTo>
                <a:lnTo>
                  <a:pt x="372" y="436"/>
                </a:lnTo>
                <a:lnTo>
                  <a:pt x="355" y="438"/>
                </a:lnTo>
                <a:lnTo>
                  <a:pt x="320" y="401"/>
                </a:lnTo>
                <a:lnTo>
                  <a:pt x="304" y="411"/>
                </a:lnTo>
                <a:lnTo>
                  <a:pt x="292" y="394"/>
                </a:lnTo>
                <a:lnTo>
                  <a:pt x="309" y="376"/>
                </a:lnTo>
                <a:lnTo>
                  <a:pt x="305" y="364"/>
                </a:lnTo>
                <a:lnTo>
                  <a:pt x="347" y="336"/>
                </a:lnTo>
                <a:lnTo>
                  <a:pt x="365" y="294"/>
                </a:lnTo>
                <a:lnTo>
                  <a:pt x="403" y="306"/>
                </a:lnTo>
                <a:lnTo>
                  <a:pt x="433" y="290"/>
                </a:lnTo>
                <a:lnTo>
                  <a:pt x="424" y="243"/>
                </a:lnTo>
                <a:lnTo>
                  <a:pt x="433" y="222"/>
                </a:lnTo>
                <a:lnTo>
                  <a:pt x="466" y="208"/>
                </a:lnTo>
                <a:lnTo>
                  <a:pt x="478" y="171"/>
                </a:lnTo>
                <a:lnTo>
                  <a:pt x="478" y="128"/>
                </a:lnTo>
                <a:lnTo>
                  <a:pt x="464" y="94"/>
                </a:lnTo>
                <a:lnTo>
                  <a:pt x="474" y="27"/>
                </a:lnTo>
                <a:lnTo>
                  <a:pt x="514" y="46"/>
                </a:lnTo>
                <a:lnTo>
                  <a:pt x="529" y="72"/>
                </a:lnTo>
                <a:lnTo>
                  <a:pt x="549" y="87"/>
                </a:lnTo>
                <a:lnTo>
                  <a:pt x="638" y="181"/>
                </a:lnTo>
                <a:lnTo>
                  <a:pt x="617" y="200"/>
                </a:lnTo>
                <a:lnTo>
                  <a:pt x="633" y="215"/>
                </a:lnTo>
                <a:lnTo>
                  <a:pt x="656" y="205"/>
                </a:lnTo>
                <a:lnTo>
                  <a:pt x="671" y="227"/>
                </a:lnTo>
                <a:lnTo>
                  <a:pt x="696" y="214"/>
                </a:lnTo>
                <a:lnTo>
                  <a:pt x="716" y="246"/>
                </a:lnTo>
                <a:lnTo>
                  <a:pt x="744" y="238"/>
                </a:lnTo>
                <a:lnTo>
                  <a:pt x="770" y="293"/>
                </a:lnTo>
                <a:lnTo>
                  <a:pt x="815" y="263"/>
                </a:lnTo>
                <a:lnTo>
                  <a:pt x="806" y="237"/>
                </a:lnTo>
                <a:lnTo>
                  <a:pt x="843" y="149"/>
                </a:lnTo>
                <a:lnTo>
                  <a:pt x="800" y="119"/>
                </a:lnTo>
                <a:lnTo>
                  <a:pt x="925" y="0"/>
                </a:lnTo>
                <a:lnTo>
                  <a:pt x="1147" y="59"/>
                </a:lnTo>
                <a:lnTo>
                  <a:pt x="1165" y="40"/>
                </a:lnTo>
                <a:lnTo>
                  <a:pt x="1223" y="51"/>
                </a:lnTo>
                <a:lnTo>
                  <a:pt x="1283" y="143"/>
                </a:lnTo>
                <a:lnTo>
                  <a:pt x="1615" y="468"/>
                </a:lnTo>
                <a:lnTo>
                  <a:pt x="1712" y="538"/>
                </a:lnTo>
                <a:lnTo>
                  <a:pt x="1736" y="536"/>
                </a:lnTo>
                <a:lnTo>
                  <a:pt x="1832" y="532"/>
                </a:lnTo>
                <a:lnTo>
                  <a:pt x="1857" y="504"/>
                </a:lnTo>
                <a:lnTo>
                  <a:pt x="1906" y="501"/>
                </a:lnTo>
                <a:lnTo>
                  <a:pt x="1921" y="517"/>
                </a:lnTo>
                <a:lnTo>
                  <a:pt x="1945" y="507"/>
                </a:lnTo>
                <a:lnTo>
                  <a:pt x="1966" y="483"/>
                </a:lnTo>
                <a:lnTo>
                  <a:pt x="2018" y="480"/>
                </a:lnTo>
                <a:lnTo>
                  <a:pt x="2029" y="457"/>
                </a:lnTo>
                <a:lnTo>
                  <a:pt x="2047" y="456"/>
                </a:lnTo>
                <a:lnTo>
                  <a:pt x="2098" y="480"/>
                </a:lnTo>
                <a:lnTo>
                  <a:pt x="2066" y="504"/>
                </a:lnTo>
                <a:lnTo>
                  <a:pt x="2040" y="566"/>
                </a:lnTo>
                <a:lnTo>
                  <a:pt x="2069" y="582"/>
                </a:lnTo>
                <a:lnTo>
                  <a:pt x="2064" y="624"/>
                </a:lnTo>
                <a:lnTo>
                  <a:pt x="2026" y="626"/>
                </a:lnTo>
                <a:lnTo>
                  <a:pt x="2033" y="655"/>
                </a:lnTo>
                <a:lnTo>
                  <a:pt x="2003" y="669"/>
                </a:lnTo>
                <a:lnTo>
                  <a:pt x="1946" y="670"/>
                </a:lnTo>
                <a:lnTo>
                  <a:pt x="1909" y="709"/>
                </a:lnTo>
                <a:lnTo>
                  <a:pt x="1835" y="709"/>
                </a:lnTo>
                <a:lnTo>
                  <a:pt x="1748" y="711"/>
                </a:lnTo>
                <a:lnTo>
                  <a:pt x="1701" y="72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27480" y="3073320"/>
            <a:ext cx="392040" cy="530280"/>
          </a:xfrm>
          <a:custGeom>
            <a:avLst/>
            <a:gdLst/>
            <a:ahLst/>
            <a:rect l="l" t="t" r="r" b="b"/>
            <a:pathLst>
              <a:path w="752" h="1023">
                <a:moveTo>
                  <a:pt x="752" y="222"/>
                </a:moveTo>
                <a:lnTo>
                  <a:pt x="714" y="236"/>
                </a:lnTo>
                <a:lnTo>
                  <a:pt x="721" y="261"/>
                </a:lnTo>
                <a:lnTo>
                  <a:pt x="695" y="277"/>
                </a:lnTo>
                <a:lnTo>
                  <a:pt x="722" y="328"/>
                </a:lnTo>
                <a:lnTo>
                  <a:pt x="701" y="371"/>
                </a:lnTo>
                <a:lnTo>
                  <a:pt x="709" y="423"/>
                </a:lnTo>
                <a:lnTo>
                  <a:pt x="719" y="465"/>
                </a:lnTo>
                <a:lnTo>
                  <a:pt x="697" y="557"/>
                </a:lnTo>
                <a:lnTo>
                  <a:pt x="628" y="588"/>
                </a:lnTo>
                <a:lnTo>
                  <a:pt x="653" y="597"/>
                </a:lnTo>
                <a:lnTo>
                  <a:pt x="651" y="646"/>
                </a:lnTo>
                <a:lnTo>
                  <a:pt x="600" y="640"/>
                </a:lnTo>
                <a:lnTo>
                  <a:pt x="551" y="653"/>
                </a:lnTo>
                <a:lnTo>
                  <a:pt x="529" y="681"/>
                </a:lnTo>
                <a:lnTo>
                  <a:pt x="509" y="677"/>
                </a:lnTo>
                <a:lnTo>
                  <a:pt x="496" y="730"/>
                </a:lnTo>
                <a:lnTo>
                  <a:pt x="476" y="732"/>
                </a:lnTo>
                <a:lnTo>
                  <a:pt x="466" y="788"/>
                </a:lnTo>
                <a:lnTo>
                  <a:pt x="461" y="838"/>
                </a:lnTo>
                <a:lnTo>
                  <a:pt x="472" y="901"/>
                </a:lnTo>
                <a:lnTo>
                  <a:pt x="452" y="907"/>
                </a:lnTo>
                <a:lnTo>
                  <a:pt x="415" y="979"/>
                </a:lnTo>
                <a:lnTo>
                  <a:pt x="386" y="969"/>
                </a:lnTo>
                <a:lnTo>
                  <a:pt x="358" y="994"/>
                </a:lnTo>
                <a:lnTo>
                  <a:pt x="300" y="983"/>
                </a:lnTo>
                <a:lnTo>
                  <a:pt x="260" y="995"/>
                </a:lnTo>
                <a:lnTo>
                  <a:pt x="237" y="1023"/>
                </a:lnTo>
                <a:lnTo>
                  <a:pt x="232" y="995"/>
                </a:lnTo>
                <a:lnTo>
                  <a:pt x="205" y="967"/>
                </a:lnTo>
                <a:lnTo>
                  <a:pt x="179" y="967"/>
                </a:lnTo>
                <a:lnTo>
                  <a:pt x="145" y="982"/>
                </a:lnTo>
                <a:lnTo>
                  <a:pt x="145" y="944"/>
                </a:lnTo>
                <a:lnTo>
                  <a:pt x="179" y="913"/>
                </a:lnTo>
                <a:lnTo>
                  <a:pt x="209" y="925"/>
                </a:lnTo>
                <a:lnTo>
                  <a:pt x="230" y="893"/>
                </a:lnTo>
                <a:lnTo>
                  <a:pt x="205" y="887"/>
                </a:lnTo>
                <a:lnTo>
                  <a:pt x="181" y="888"/>
                </a:lnTo>
                <a:lnTo>
                  <a:pt x="158" y="844"/>
                </a:lnTo>
                <a:lnTo>
                  <a:pt x="132" y="820"/>
                </a:lnTo>
                <a:lnTo>
                  <a:pt x="118" y="784"/>
                </a:lnTo>
                <a:lnTo>
                  <a:pt x="107" y="755"/>
                </a:lnTo>
                <a:lnTo>
                  <a:pt x="88" y="772"/>
                </a:lnTo>
                <a:lnTo>
                  <a:pt x="63" y="757"/>
                </a:lnTo>
                <a:lnTo>
                  <a:pt x="45" y="771"/>
                </a:lnTo>
                <a:lnTo>
                  <a:pt x="28" y="757"/>
                </a:lnTo>
                <a:lnTo>
                  <a:pt x="28" y="743"/>
                </a:lnTo>
                <a:lnTo>
                  <a:pt x="0" y="746"/>
                </a:lnTo>
                <a:lnTo>
                  <a:pt x="0" y="712"/>
                </a:lnTo>
                <a:lnTo>
                  <a:pt x="27" y="710"/>
                </a:lnTo>
                <a:lnTo>
                  <a:pt x="36" y="672"/>
                </a:lnTo>
                <a:lnTo>
                  <a:pt x="54" y="666"/>
                </a:lnTo>
                <a:lnTo>
                  <a:pt x="61" y="640"/>
                </a:lnTo>
                <a:lnTo>
                  <a:pt x="46" y="627"/>
                </a:lnTo>
                <a:lnTo>
                  <a:pt x="67" y="579"/>
                </a:lnTo>
                <a:lnTo>
                  <a:pt x="76" y="534"/>
                </a:lnTo>
                <a:lnTo>
                  <a:pt x="30" y="525"/>
                </a:lnTo>
                <a:lnTo>
                  <a:pt x="54" y="496"/>
                </a:lnTo>
                <a:lnTo>
                  <a:pt x="100" y="478"/>
                </a:lnTo>
                <a:lnTo>
                  <a:pt x="93" y="439"/>
                </a:lnTo>
                <a:lnTo>
                  <a:pt x="137" y="424"/>
                </a:lnTo>
                <a:lnTo>
                  <a:pt x="156" y="391"/>
                </a:lnTo>
                <a:lnTo>
                  <a:pt x="179" y="354"/>
                </a:lnTo>
                <a:lnTo>
                  <a:pt x="218" y="320"/>
                </a:lnTo>
                <a:lnTo>
                  <a:pt x="273" y="337"/>
                </a:lnTo>
                <a:lnTo>
                  <a:pt x="300" y="322"/>
                </a:lnTo>
                <a:lnTo>
                  <a:pt x="287" y="218"/>
                </a:lnTo>
                <a:lnTo>
                  <a:pt x="236" y="214"/>
                </a:lnTo>
                <a:lnTo>
                  <a:pt x="234" y="177"/>
                </a:lnTo>
                <a:lnTo>
                  <a:pt x="281" y="167"/>
                </a:lnTo>
                <a:lnTo>
                  <a:pt x="290" y="87"/>
                </a:lnTo>
                <a:lnTo>
                  <a:pt x="387" y="0"/>
                </a:lnTo>
                <a:lnTo>
                  <a:pt x="402" y="51"/>
                </a:lnTo>
                <a:lnTo>
                  <a:pt x="373" y="105"/>
                </a:lnTo>
                <a:lnTo>
                  <a:pt x="435" y="132"/>
                </a:lnTo>
                <a:lnTo>
                  <a:pt x="443" y="160"/>
                </a:lnTo>
                <a:lnTo>
                  <a:pt x="508" y="188"/>
                </a:lnTo>
                <a:lnTo>
                  <a:pt x="531" y="177"/>
                </a:lnTo>
                <a:lnTo>
                  <a:pt x="625" y="231"/>
                </a:lnTo>
                <a:lnTo>
                  <a:pt x="687" y="215"/>
                </a:lnTo>
                <a:lnTo>
                  <a:pt x="751" y="184"/>
                </a:lnTo>
                <a:lnTo>
                  <a:pt x="752" y="22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87840" y="3021120"/>
            <a:ext cx="662040" cy="590400"/>
          </a:xfrm>
          <a:custGeom>
            <a:avLst/>
            <a:gdLst/>
            <a:ahLst/>
            <a:rect l="l" t="t" r="r" b="b"/>
            <a:pathLst>
              <a:path w="1281" h="1141">
                <a:moveTo>
                  <a:pt x="1003" y="339"/>
                </a:moveTo>
                <a:lnTo>
                  <a:pt x="954" y="408"/>
                </a:lnTo>
                <a:lnTo>
                  <a:pt x="964" y="427"/>
                </a:lnTo>
                <a:lnTo>
                  <a:pt x="1138" y="474"/>
                </a:lnTo>
                <a:lnTo>
                  <a:pt x="1166" y="499"/>
                </a:lnTo>
                <a:lnTo>
                  <a:pt x="1164" y="537"/>
                </a:lnTo>
                <a:lnTo>
                  <a:pt x="1196" y="552"/>
                </a:lnTo>
                <a:lnTo>
                  <a:pt x="1210" y="638"/>
                </a:lnTo>
                <a:lnTo>
                  <a:pt x="1269" y="644"/>
                </a:lnTo>
                <a:lnTo>
                  <a:pt x="1281" y="705"/>
                </a:lnTo>
                <a:lnTo>
                  <a:pt x="1241" y="713"/>
                </a:lnTo>
                <a:lnTo>
                  <a:pt x="1172" y="772"/>
                </a:lnTo>
                <a:lnTo>
                  <a:pt x="1165" y="850"/>
                </a:lnTo>
                <a:lnTo>
                  <a:pt x="1227" y="900"/>
                </a:lnTo>
                <a:lnTo>
                  <a:pt x="1269" y="921"/>
                </a:lnTo>
                <a:lnTo>
                  <a:pt x="1262" y="968"/>
                </a:lnTo>
                <a:lnTo>
                  <a:pt x="1233" y="974"/>
                </a:lnTo>
                <a:lnTo>
                  <a:pt x="1195" y="1001"/>
                </a:lnTo>
                <a:lnTo>
                  <a:pt x="1153" y="1037"/>
                </a:lnTo>
                <a:lnTo>
                  <a:pt x="1167" y="1048"/>
                </a:lnTo>
                <a:lnTo>
                  <a:pt x="1144" y="1098"/>
                </a:lnTo>
                <a:lnTo>
                  <a:pt x="1120" y="1096"/>
                </a:lnTo>
                <a:lnTo>
                  <a:pt x="1054" y="1122"/>
                </a:lnTo>
                <a:lnTo>
                  <a:pt x="996" y="1089"/>
                </a:lnTo>
                <a:lnTo>
                  <a:pt x="985" y="1104"/>
                </a:lnTo>
                <a:lnTo>
                  <a:pt x="910" y="1065"/>
                </a:lnTo>
                <a:lnTo>
                  <a:pt x="860" y="1083"/>
                </a:lnTo>
                <a:lnTo>
                  <a:pt x="825" y="1096"/>
                </a:lnTo>
                <a:lnTo>
                  <a:pt x="830" y="1107"/>
                </a:lnTo>
                <a:lnTo>
                  <a:pt x="783" y="1101"/>
                </a:lnTo>
                <a:lnTo>
                  <a:pt x="704" y="1105"/>
                </a:lnTo>
                <a:lnTo>
                  <a:pt x="648" y="1097"/>
                </a:lnTo>
                <a:lnTo>
                  <a:pt x="594" y="1141"/>
                </a:lnTo>
                <a:lnTo>
                  <a:pt x="564" y="1129"/>
                </a:lnTo>
                <a:lnTo>
                  <a:pt x="593" y="1091"/>
                </a:lnTo>
                <a:lnTo>
                  <a:pt x="584" y="1023"/>
                </a:lnTo>
                <a:lnTo>
                  <a:pt x="618" y="995"/>
                </a:lnTo>
                <a:lnTo>
                  <a:pt x="606" y="965"/>
                </a:lnTo>
                <a:lnTo>
                  <a:pt x="442" y="966"/>
                </a:lnTo>
                <a:lnTo>
                  <a:pt x="425" y="906"/>
                </a:lnTo>
                <a:lnTo>
                  <a:pt x="332" y="885"/>
                </a:lnTo>
                <a:lnTo>
                  <a:pt x="308" y="769"/>
                </a:lnTo>
                <a:lnTo>
                  <a:pt x="219" y="691"/>
                </a:lnTo>
                <a:lnTo>
                  <a:pt x="82" y="610"/>
                </a:lnTo>
                <a:lnTo>
                  <a:pt x="24" y="568"/>
                </a:lnTo>
                <a:lnTo>
                  <a:pt x="14" y="526"/>
                </a:lnTo>
                <a:lnTo>
                  <a:pt x="6" y="474"/>
                </a:lnTo>
                <a:lnTo>
                  <a:pt x="27" y="431"/>
                </a:lnTo>
                <a:lnTo>
                  <a:pt x="0" y="380"/>
                </a:lnTo>
                <a:lnTo>
                  <a:pt x="26" y="364"/>
                </a:lnTo>
                <a:lnTo>
                  <a:pt x="19" y="339"/>
                </a:lnTo>
                <a:lnTo>
                  <a:pt x="57" y="325"/>
                </a:lnTo>
                <a:lnTo>
                  <a:pt x="56" y="287"/>
                </a:lnTo>
                <a:lnTo>
                  <a:pt x="135" y="239"/>
                </a:lnTo>
                <a:lnTo>
                  <a:pt x="154" y="208"/>
                </a:lnTo>
                <a:lnTo>
                  <a:pt x="217" y="188"/>
                </a:lnTo>
                <a:lnTo>
                  <a:pt x="260" y="195"/>
                </a:lnTo>
                <a:lnTo>
                  <a:pt x="308" y="110"/>
                </a:lnTo>
                <a:lnTo>
                  <a:pt x="333" y="56"/>
                </a:lnTo>
                <a:lnTo>
                  <a:pt x="367" y="25"/>
                </a:lnTo>
                <a:lnTo>
                  <a:pt x="402" y="0"/>
                </a:lnTo>
                <a:lnTo>
                  <a:pt x="574" y="79"/>
                </a:lnTo>
                <a:lnTo>
                  <a:pt x="563" y="113"/>
                </a:lnTo>
                <a:lnTo>
                  <a:pt x="630" y="140"/>
                </a:lnTo>
                <a:lnTo>
                  <a:pt x="670" y="133"/>
                </a:lnTo>
                <a:lnTo>
                  <a:pt x="712" y="152"/>
                </a:lnTo>
                <a:lnTo>
                  <a:pt x="708" y="182"/>
                </a:lnTo>
                <a:lnTo>
                  <a:pt x="768" y="203"/>
                </a:lnTo>
                <a:lnTo>
                  <a:pt x="792" y="234"/>
                </a:lnTo>
                <a:lnTo>
                  <a:pt x="816" y="227"/>
                </a:lnTo>
                <a:lnTo>
                  <a:pt x="823" y="207"/>
                </a:lnTo>
                <a:lnTo>
                  <a:pt x="902" y="176"/>
                </a:lnTo>
                <a:lnTo>
                  <a:pt x="928" y="179"/>
                </a:lnTo>
                <a:lnTo>
                  <a:pt x="965" y="240"/>
                </a:lnTo>
                <a:lnTo>
                  <a:pt x="987" y="243"/>
                </a:lnTo>
                <a:lnTo>
                  <a:pt x="1003" y="33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43480" y="3313080"/>
            <a:ext cx="507960" cy="477720"/>
          </a:xfrm>
          <a:custGeom>
            <a:avLst/>
            <a:gdLst/>
            <a:ahLst/>
            <a:rect l="l" t="t" r="r" b="b"/>
            <a:pathLst>
              <a:path w="984" h="922">
                <a:moveTo>
                  <a:pt x="978" y="589"/>
                </a:moveTo>
                <a:lnTo>
                  <a:pt x="982" y="629"/>
                </a:lnTo>
                <a:lnTo>
                  <a:pt x="978" y="672"/>
                </a:lnTo>
                <a:lnTo>
                  <a:pt x="961" y="760"/>
                </a:lnTo>
                <a:lnTo>
                  <a:pt x="951" y="842"/>
                </a:lnTo>
                <a:lnTo>
                  <a:pt x="898" y="851"/>
                </a:lnTo>
                <a:lnTo>
                  <a:pt x="864" y="878"/>
                </a:lnTo>
                <a:lnTo>
                  <a:pt x="837" y="862"/>
                </a:lnTo>
                <a:lnTo>
                  <a:pt x="769" y="847"/>
                </a:lnTo>
                <a:lnTo>
                  <a:pt x="743" y="876"/>
                </a:lnTo>
                <a:lnTo>
                  <a:pt x="734" y="848"/>
                </a:lnTo>
                <a:lnTo>
                  <a:pt x="695" y="856"/>
                </a:lnTo>
                <a:lnTo>
                  <a:pt x="653" y="888"/>
                </a:lnTo>
                <a:lnTo>
                  <a:pt x="623" y="922"/>
                </a:lnTo>
                <a:lnTo>
                  <a:pt x="598" y="881"/>
                </a:lnTo>
                <a:lnTo>
                  <a:pt x="564" y="835"/>
                </a:lnTo>
                <a:lnTo>
                  <a:pt x="596" y="810"/>
                </a:lnTo>
                <a:lnTo>
                  <a:pt x="542" y="772"/>
                </a:lnTo>
                <a:lnTo>
                  <a:pt x="527" y="703"/>
                </a:lnTo>
                <a:lnTo>
                  <a:pt x="508" y="702"/>
                </a:lnTo>
                <a:lnTo>
                  <a:pt x="502" y="720"/>
                </a:lnTo>
                <a:lnTo>
                  <a:pt x="426" y="730"/>
                </a:lnTo>
                <a:lnTo>
                  <a:pt x="337" y="751"/>
                </a:lnTo>
                <a:lnTo>
                  <a:pt x="254" y="733"/>
                </a:lnTo>
                <a:lnTo>
                  <a:pt x="232" y="745"/>
                </a:lnTo>
                <a:lnTo>
                  <a:pt x="201" y="740"/>
                </a:lnTo>
                <a:lnTo>
                  <a:pt x="199" y="719"/>
                </a:lnTo>
                <a:lnTo>
                  <a:pt x="178" y="711"/>
                </a:lnTo>
                <a:lnTo>
                  <a:pt x="145" y="735"/>
                </a:lnTo>
                <a:lnTo>
                  <a:pt x="71" y="581"/>
                </a:lnTo>
                <a:lnTo>
                  <a:pt x="73" y="549"/>
                </a:lnTo>
                <a:lnTo>
                  <a:pt x="92" y="559"/>
                </a:lnTo>
                <a:lnTo>
                  <a:pt x="133" y="536"/>
                </a:lnTo>
                <a:lnTo>
                  <a:pt x="125" y="510"/>
                </a:lnTo>
                <a:lnTo>
                  <a:pt x="86" y="511"/>
                </a:lnTo>
                <a:lnTo>
                  <a:pt x="76" y="503"/>
                </a:lnTo>
                <a:lnTo>
                  <a:pt x="48" y="521"/>
                </a:lnTo>
                <a:lnTo>
                  <a:pt x="0" y="514"/>
                </a:lnTo>
                <a:lnTo>
                  <a:pt x="37" y="442"/>
                </a:lnTo>
                <a:lnTo>
                  <a:pt x="57" y="436"/>
                </a:lnTo>
                <a:lnTo>
                  <a:pt x="46" y="373"/>
                </a:lnTo>
                <a:lnTo>
                  <a:pt x="51" y="323"/>
                </a:lnTo>
                <a:lnTo>
                  <a:pt x="61" y="267"/>
                </a:lnTo>
                <a:lnTo>
                  <a:pt x="81" y="265"/>
                </a:lnTo>
                <a:lnTo>
                  <a:pt x="94" y="212"/>
                </a:lnTo>
                <a:lnTo>
                  <a:pt x="114" y="216"/>
                </a:lnTo>
                <a:lnTo>
                  <a:pt x="136" y="188"/>
                </a:lnTo>
                <a:lnTo>
                  <a:pt x="185" y="175"/>
                </a:lnTo>
                <a:lnTo>
                  <a:pt x="236" y="181"/>
                </a:lnTo>
                <a:lnTo>
                  <a:pt x="238" y="132"/>
                </a:lnTo>
                <a:lnTo>
                  <a:pt x="213" y="123"/>
                </a:lnTo>
                <a:lnTo>
                  <a:pt x="282" y="92"/>
                </a:lnTo>
                <a:lnTo>
                  <a:pt x="304" y="0"/>
                </a:lnTo>
                <a:lnTo>
                  <a:pt x="362" y="42"/>
                </a:lnTo>
                <a:lnTo>
                  <a:pt x="499" y="123"/>
                </a:lnTo>
                <a:lnTo>
                  <a:pt x="588" y="201"/>
                </a:lnTo>
                <a:lnTo>
                  <a:pt x="612" y="317"/>
                </a:lnTo>
                <a:lnTo>
                  <a:pt x="705" y="338"/>
                </a:lnTo>
                <a:lnTo>
                  <a:pt x="722" y="398"/>
                </a:lnTo>
                <a:lnTo>
                  <a:pt x="886" y="397"/>
                </a:lnTo>
                <a:lnTo>
                  <a:pt x="898" y="427"/>
                </a:lnTo>
                <a:lnTo>
                  <a:pt x="864" y="455"/>
                </a:lnTo>
                <a:lnTo>
                  <a:pt x="873" y="523"/>
                </a:lnTo>
                <a:lnTo>
                  <a:pt x="844" y="561"/>
                </a:lnTo>
                <a:lnTo>
                  <a:pt x="874" y="573"/>
                </a:lnTo>
                <a:lnTo>
                  <a:pt x="928" y="529"/>
                </a:lnTo>
                <a:lnTo>
                  <a:pt x="984" y="537"/>
                </a:lnTo>
                <a:lnTo>
                  <a:pt x="978" y="58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0" y="3571920"/>
            <a:ext cx="258840" cy="449280"/>
          </a:xfrm>
          <a:custGeom>
            <a:avLst/>
            <a:gdLst/>
            <a:ahLst/>
            <a:rect l="l" t="t" r="r" b="b"/>
            <a:pathLst>
              <a:path w="501" h="867">
                <a:moveTo>
                  <a:pt x="475" y="63"/>
                </a:moveTo>
                <a:lnTo>
                  <a:pt x="450" y="68"/>
                </a:lnTo>
                <a:lnTo>
                  <a:pt x="451" y="115"/>
                </a:lnTo>
                <a:lnTo>
                  <a:pt x="474" y="118"/>
                </a:lnTo>
                <a:lnTo>
                  <a:pt x="501" y="232"/>
                </a:lnTo>
                <a:lnTo>
                  <a:pt x="402" y="285"/>
                </a:lnTo>
                <a:lnTo>
                  <a:pt x="369" y="305"/>
                </a:lnTo>
                <a:lnTo>
                  <a:pt x="378" y="399"/>
                </a:lnTo>
                <a:lnTo>
                  <a:pt x="326" y="462"/>
                </a:lnTo>
                <a:lnTo>
                  <a:pt x="334" y="492"/>
                </a:lnTo>
                <a:lnTo>
                  <a:pt x="370" y="480"/>
                </a:lnTo>
                <a:lnTo>
                  <a:pt x="390" y="498"/>
                </a:lnTo>
                <a:lnTo>
                  <a:pt x="389" y="531"/>
                </a:lnTo>
                <a:lnTo>
                  <a:pt x="361" y="535"/>
                </a:lnTo>
                <a:lnTo>
                  <a:pt x="378" y="592"/>
                </a:lnTo>
                <a:lnTo>
                  <a:pt x="304" y="661"/>
                </a:lnTo>
                <a:lnTo>
                  <a:pt x="326" y="691"/>
                </a:lnTo>
                <a:lnTo>
                  <a:pt x="300" y="736"/>
                </a:lnTo>
                <a:lnTo>
                  <a:pt x="324" y="772"/>
                </a:lnTo>
                <a:lnTo>
                  <a:pt x="307" y="807"/>
                </a:lnTo>
                <a:lnTo>
                  <a:pt x="238" y="845"/>
                </a:lnTo>
                <a:lnTo>
                  <a:pt x="198" y="867"/>
                </a:lnTo>
                <a:lnTo>
                  <a:pt x="219" y="816"/>
                </a:lnTo>
                <a:lnTo>
                  <a:pt x="167" y="783"/>
                </a:lnTo>
                <a:lnTo>
                  <a:pt x="142" y="790"/>
                </a:lnTo>
                <a:lnTo>
                  <a:pt x="97" y="746"/>
                </a:lnTo>
                <a:lnTo>
                  <a:pt x="85" y="693"/>
                </a:lnTo>
                <a:lnTo>
                  <a:pt x="103" y="665"/>
                </a:lnTo>
                <a:lnTo>
                  <a:pt x="80" y="620"/>
                </a:lnTo>
                <a:lnTo>
                  <a:pt x="123" y="585"/>
                </a:lnTo>
                <a:lnTo>
                  <a:pt x="86" y="561"/>
                </a:lnTo>
                <a:lnTo>
                  <a:pt x="66" y="469"/>
                </a:lnTo>
                <a:lnTo>
                  <a:pt x="21" y="403"/>
                </a:lnTo>
                <a:lnTo>
                  <a:pt x="0" y="345"/>
                </a:lnTo>
                <a:lnTo>
                  <a:pt x="10" y="263"/>
                </a:lnTo>
                <a:lnTo>
                  <a:pt x="27" y="175"/>
                </a:lnTo>
                <a:lnTo>
                  <a:pt x="31" y="132"/>
                </a:lnTo>
                <a:lnTo>
                  <a:pt x="27" y="92"/>
                </a:lnTo>
                <a:lnTo>
                  <a:pt x="33" y="40"/>
                </a:lnTo>
                <a:lnTo>
                  <a:pt x="112" y="36"/>
                </a:lnTo>
                <a:lnTo>
                  <a:pt x="159" y="42"/>
                </a:lnTo>
                <a:lnTo>
                  <a:pt x="154" y="31"/>
                </a:lnTo>
                <a:lnTo>
                  <a:pt x="189" y="18"/>
                </a:lnTo>
                <a:lnTo>
                  <a:pt x="239" y="0"/>
                </a:lnTo>
                <a:lnTo>
                  <a:pt x="314" y="39"/>
                </a:lnTo>
                <a:lnTo>
                  <a:pt x="325" y="24"/>
                </a:lnTo>
                <a:lnTo>
                  <a:pt x="383" y="57"/>
                </a:lnTo>
                <a:lnTo>
                  <a:pt x="449" y="31"/>
                </a:lnTo>
                <a:lnTo>
                  <a:pt x="473" y="33"/>
                </a:lnTo>
                <a:lnTo>
                  <a:pt x="475" y="6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19440" y="3678120"/>
            <a:ext cx="479520" cy="406440"/>
          </a:xfrm>
          <a:custGeom>
            <a:avLst/>
            <a:gdLst/>
            <a:ahLst/>
            <a:rect l="l" t="t" r="r" b="b"/>
            <a:pathLst>
              <a:path w="929" h="789">
                <a:moveTo>
                  <a:pt x="867" y="528"/>
                </a:moveTo>
                <a:lnTo>
                  <a:pt x="834" y="568"/>
                </a:lnTo>
                <a:lnTo>
                  <a:pt x="846" y="587"/>
                </a:lnTo>
                <a:lnTo>
                  <a:pt x="841" y="623"/>
                </a:lnTo>
                <a:lnTo>
                  <a:pt x="799" y="621"/>
                </a:lnTo>
                <a:lnTo>
                  <a:pt x="734" y="600"/>
                </a:lnTo>
                <a:lnTo>
                  <a:pt x="699" y="661"/>
                </a:lnTo>
                <a:lnTo>
                  <a:pt x="636" y="679"/>
                </a:lnTo>
                <a:lnTo>
                  <a:pt x="550" y="684"/>
                </a:lnTo>
                <a:lnTo>
                  <a:pt x="471" y="702"/>
                </a:lnTo>
                <a:lnTo>
                  <a:pt x="515" y="748"/>
                </a:lnTo>
                <a:lnTo>
                  <a:pt x="514" y="789"/>
                </a:lnTo>
                <a:lnTo>
                  <a:pt x="459" y="785"/>
                </a:lnTo>
                <a:lnTo>
                  <a:pt x="444" y="745"/>
                </a:lnTo>
                <a:lnTo>
                  <a:pt x="393" y="692"/>
                </a:lnTo>
                <a:lnTo>
                  <a:pt x="362" y="696"/>
                </a:lnTo>
                <a:lnTo>
                  <a:pt x="322" y="692"/>
                </a:lnTo>
                <a:lnTo>
                  <a:pt x="308" y="709"/>
                </a:lnTo>
                <a:lnTo>
                  <a:pt x="270" y="703"/>
                </a:lnTo>
                <a:lnTo>
                  <a:pt x="216" y="666"/>
                </a:lnTo>
                <a:lnTo>
                  <a:pt x="179" y="661"/>
                </a:lnTo>
                <a:lnTo>
                  <a:pt x="186" y="623"/>
                </a:lnTo>
                <a:lnTo>
                  <a:pt x="149" y="610"/>
                </a:lnTo>
                <a:lnTo>
                  <a:pt x="180" y="580"/>
                </a:lnTo>
                <a:lnTo>
                  <a:pt x="136" y="529"/>
                </a:lnTo>
                <a:lnTo>
                  <a:pt x="103" y="537"/>
                </a:lnTo>
                <a:lnTo>
                  <a:pt x="95" y="579"/>
                </a:lnTo>
                <a:lnTo>
                  <a:pt x="34" y="592"/>
                </a:lnTo>
                <a:lnTo>
                  <a:pt x="22" y="366"/>
                </a:lnTo>
                <a:lnTo>
                  <a:pt x="10" y="129"/>
                </a:lnTo>
                <a:lnTo>
                  <a:pt x="0" y="33"/>
                </a:lnTo>
                <a:lnTo>
                  <a:pt x="33" y="9"/>
                </a:lnTo>
                <a:lnTo>
                  <a:pt x="54" y="17"/>
                </a:lnTo>
                <a:lnTo>
                  <a:pt x="56" y="38"/>
                </a:lnTo>
                <a:lnTo>
                  <a:pt x="87" y="43"/>
                </a:lnTo>
                <a:lnTo>
                  <a:pt x="109" y="31"/>
                </a:lnTo>
                <a:lnTo>
                  <a:pt x="192" y="49"/>
                </a:lnTo>
                <a:lnTo>
                  <a:pt x="281" y="28"/>
                </a:lnTo>
                <a:lnTo>
                  <a:pt x="357" y="18"/>
                </a:lnTo>
                <a:lnTo>
                  <a:pt x="363" y="0"/>
                </a:lnTo>
                <a:lnTo>
                  <a:pt x="382" y="1"/>
                </a:lnTo>
                <a:lnTo>
                  <a:pt x="397" y="70"/>
                </a:lnTo>
                <a:lnTo>
                  <a:pt x="451" y="108"/>
                </a:lnTo>
                <a:lnTo>
                  <a:pt x="419" y="133"/>
                </a:lnTo>
                <a:lnTo>
                  <a:pt x="453" y="179"/>
                </a:lnTo>
                <a:lnTo>
                  <a:pt x="478" y="220"/>
                </a:lnTo>
                <a:lnTo>
                  <a:pt x="508" y="186"/>
                </a:lnTo>
                <a:lnTo>
                  <a:pt x="550" y="154"/>
                </a:lnTo>
                <a:lnTo>
                  <a:pt x="589" y="146"/>
                </a:lnTo>
                <a:lnTo>
                  <a:pt x="598" y="174"/>
                </a:lnTo>
                <a:lnTo>
                  <a:pt x="624" y="145"/>
                </a:lnTo>
                <a:lnTo>
                  <a:pt x="692" y="160"/>
                </a:lnTo>
                <a:lnTo>
                  <a:pt x="719" y="176"/>
                </a:lnTo>
                <a:lnTo>
                  <a:pt x="753" y="149"/>
                </a:lnTo>
                <a:lnTo>
                  <a:pt x="806" y="140"/>
                </a:lnTo>
                <a:lnTo>
                  <a:pt x="827" y="198"/>
                </a:lnTo>
                <a:lnTo>
                  <a:pt x="872" y="264"/>
                </a:lnTo>
                <a:lnTo>
                  <a:pt x="892" y="356"/>
                </a:lnTo>
                <a:lnTo>
                  <a:pt x="929" y="380"/>
                </a:lnTo>
                <a:lnTo>
                  <a:pt x="886" y="415"/>
                </a:lnTo>
                <a:lnTo>
                  <a:pt x="909" y="460"/>
                </a:lnTo>
                <a:lnTo>
                  <a:pt x="891" y="488"/>
                </a:lnTo>
                <a:lnTo>
                  <a:pt x="903" y="541"/>
                </a:lnTo>
                <a:lnTo>
                  <a:pt x="867" y="52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91040" y="3719520"/>
            <a:ext cx="273240" cy="388800"/>
          </a:xfrm>
          <a:custGeom>
            <a:avLst/>
            <a:gdLst/>
            <a:ahLst/>
            <a:rect l="l" t="t" r="r" b="b"/>
            <a:pathLst>
              <a:path w="530" h="750">
                <a:moveTo>
                  <a:pt x="77" y="600"/>
                </a:moveTo>
                <a:lnTo>
                  <a:pt x="91" y="582"/>
                </a:lnTo>
                <a:lnTo>
                  <a:pt x="131" y="560"/>
                </a:lnTo>
                <a:lnTo>
                  <a:pt x="200" y="522"/>
                </a:lnTo>
                <a:lnTo>
                  <a:pt x="217" y="487"/>
                </a:lnTo>
                <a:lnTo>
                  <a:pt x="193" y="451"/>
                </a:lnTo>
                <a:lnTo>
                  <a:pt x="219" y="406"/>
                </a:lnTo>
                <a:lnTo>
                  <a:pt x="197" y="376"/>
                </a:lnTo>
                <a:lnTo>
                  <a:pt x="271" y="307"/>
                </a:lnTo>
                <a:lnTo>
                  <a:pt x="254" y="250"/>
                </a:lnTo>
                <a:lnTo>
                  <a:pt x="282" y="246"/>
                </a:lnTo>
                <a:lnTo>
                  <a:pt x="283" y="213"/>
                </a:lnTo>
                <a:lnTo>
                  <a:pt x="263" y="195"/>
                </a:lnTo>
                <a:lnTo>
                  <a:pt x="227" y="207"/>
                </a:lnTo>
                <a:lnTo>
                  <a:pt x="219" y="177"/>
                </a:lnTo>
                <a:lnTo>
                  <a:pt x="271" y="114"/>
                </a:lnTo>
                <a:lnTo>
                  <a:pt x="262" y="20"/>
                </a:lnTo>
                <a:lnTo>
                  <a:pt x="295" y="0"/>
                </a:lnTo>
                <a:lnTo>
                  <a:pt x="336" y="89"/>
                </a:lnTo>
                <a:lnTo>
                  <a:pt x="380" y="113"/>
                </a:lnTo>
                <a:lnTo>
                  <a:pt x="422" y="96"/>
                </a:lnTo>
                <a:lnTo>
                  <a:pt x="454" y="121"/>
                </a:lnTo>
                <a:lnTo>
                  <a:pt x="449" y="156"/>
                </a:lnTo>
                <a:lnTo>
                  <a:pt x="490" y="167"/>
                </a:lnTo>
                <a:lnTo>
                  <a:pt x="491" y="211"/>
                </a:lnTo>
                <a:lnTo>
                  <a:pt x="513" y="284"/>
                </a:lnTo>
                <a:lnTo>
                  <a:pt x="522" y="331"/>
                </a:lnTo>
                <a:lnTo>
                  <a:pt x="493" y="364"/>
                </a:lnTo>
                <a:lnTo>
                  <a:pt x="493" y="389"/>
                </a:lnTo>
                <a:lnTo>
                  <a:pt x="510" y="419"/>
                </a:lnTo>
                <a:lnTo>
                  <a:pt x="530" y="450"/>
                </a:lnTo>
                <a:lnTo>
                  <a:pt x="505" y="494"/>
                </a:lnTo>
                <a:lnTo>
                  <a:pt x="477" y="494"/>
                </a:lnTo>
                <a:lnTo>
                  <a:pt x="443" y="559"/>
                </a:lnTo>
                <a:lnTo>
                  <a:pt x="382" y="575"/>
                </a:lnTo>
                <a:lnTo>
                  <a:pt x="317" y="643"/>
                </a:lnTo>
                <a:lnTo>
                  <a:pt x="274" y="649"/>
                </a:lnTo>
                <a:lnTo>
                  <a:pt x="257" y="709"/>
                </a:lnTo>
                <a:lnTo>
                  <a:pt x="208" y="731"/>
                </a:lnTo>
                <a:lnTo>
                  <a:pt x="161" y="706"/>
                </a:lnTo>
                <a:lnTo>
                  <a:pt x="101" y="705"/>
                </a:lnTo>
                <a:lnTo>
                  <a:pt x="64" y="750"/>
                </a:lnTo>
                <a:lnTo>
                  <a:pt x="0" y="679"/>
                </a:lnTo>
                <a:lnTo>
                  <a:pt x="45" y="652"/>
                </a:lnTo>
                <a:lnTo>
                  <a:pt x="11" y="634"/>
                </a:lnTo>
                <a:lnTo>
                  <a:pt x="54" y="590"/>
                </a:lnTo>
                <a:lnTo>
                  <a:pt x="77" y="6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57760" y="3952800"/>
            <a:ext cx="322200" cy="344520"/>
          </a:xfrm>
          <a:custGeom>
            <a:avLst/>
            <a:gdLst/>
            <a:ahLst/>
            <a:rect l="l" t="t" r="r" b="b"/>
            <a:pathLst>
              <a:path w="625" h="667">
                <a:moveTo>
                  <a:pt x="556" y="323"/>
                </a:moveTo>
                <a:lnTo>
                  <a:pt x="561" y="363"/>
                </a:lnTo>
                <a:lnTo>
                  <a:pt x="605" y="462"/>
                </a:lnTo>
                <a:lnTo>
                  <a:pt x="625" y="499"/>
                </a:lnTo>
                <a:lnTo>
                  <a:pt x="599" y="504"/>
                </a:lnTo>
                <a:lnTo>
                  <a:pt x="587" y="480"/>
                </a:lnTo>
                <a:lnTo>
                  <a:pt x="552" y="519"/>
                </a:lnTo>
                <a:lnTo>
                  <a:pt x="573" y="528"/>
                </a:lnTo>
                <a:lnTo>
                  <a:pt x="579" y="591"/>
                </a:lnTo>
                <a:lnTo>
                  <a:pt x="583" y="623"/>
                </a:lnTo>
                <a:lnTo>
                  <a:pt x="531" y="640"/>
                </a:lnTo>
                <a:lnTo>
                  <a:pt x="517" y="627"/>
                </a:lnTo>
                <a:lnTo>
                  <a:pt x="511" y="643"/>
                </a:lnTo>
                <a:lnTo>
                  <a:pt x="460" y="646"/>
                </a:lnTo>
                <a:lnTo>
                  <a:pt x="455" y="644"/>
                </a:lnTo>
                <a:lnTo>
                  <a:pt x="439" y="634"/>
                </a:lnTo>
                <a:lnTo>
                  <a:pt x="397" y="622"/>
                </a:lnTo>
                <a:lnTo>
                  <a:pt x="377" y="636"/>
                </a:lnTo>
                <a:lnTo>
                  <a:pt x="373" y="661"/>
                </a:lnTo>
                <a:lnTo>
                  <a:pt x="340" y="665"/>
                </a:lnTo>
                <a:lnTo>
                  <a:pt x="276" y="667"/>
                </a:lnTo>
                <a:lnTo>
                  <a:pt x="267" y="629"/>
                </a:lnTo>
                <a:lnTo>
                  <a:pt x="242" y="622"/>
                </a:lnTo>
                <a:lnTo>
                  <a:pt x="218" y="547"/>
                </a:lnTo>
                <a:lnTo>
                  <a:pt x="246" y="522"/>
                </a:lnTo>
                <a:lnTo>
                  <a:pt x="232" y="498"/>
                </a:lnTo>
                <a:lnTo>
                  <a:pt x="162" y="543"/>
                </a:lnTo>
                <a:lnTo>
                  <a:pt x="117" y="512"/>
                </a:lnTo>
                <a:lnTo>
                  <a:pt x="71" y="488"/>
                </a:lnTo>
                <a:lnTo>
                  <a:pt x="51" y="439"/>
                </a:lnTo>
                <a:lnTo>
                  <a:pt x="60" y="403"/>
                </a:lnTo>
                <a:lnTo>
                  <a:pt x="37" y="364"/>
                </a:lnTo>
                <a:lnTo>
                  <a:pt x="0" y="342"/>
                </a:lnTo>
                <a:lnTo>
                  <a:pt x="6" y="291"/>
                </a:lnTo>
                <a:lnTo>
                  <a:pt x="1" y="257"/>
                </a:lnTo>
                <a:lnTo>
                  <a:pt x="56" y="261"/>
                </a:lnTo>
                <a:lnTo>
                  <a:pt x="57" y="220"/>
                </a:lnTo>
                <a:lnTo>
                  <a:pt x="13" y="174"/>
                </a:lnTo>
                <a:lnTo>
                  <a:pt x="92" y="156"/>
                </a:lnTo>
                <a:lnTo>
                  <a:pt x="178" y="151"/>
                </a:lnTo>
                <a:lnTo>
                  <a:pt x="241" y="133"/>
                </a:lnTo>
                <a:lnTo>
                  <a:pt x="276" y="72"/>
                </a:lnTo>
                <a:lnTo>
                  <a:pt x="341" y="93"/>
                </a:lnTo>
                <a:lnTo>
                  <a:pt x="383" y="95"/>
                </a:lnTo>
                <a:lnTo>
                  <a:pt x="388" y="59"/>
                </a:lnTo>
                <a:lnTo>
                  <a:pt x="376" y="40"/>
                </a:lnTo>
                <a:lnTo>
                  <a:pt x="409" y="0"/>
                </a:lnTo>
                <a:lnTo>
                  <a:pt x="445" y="13"/>
                </a:lnTo>
                <a:lnTo>
                  <a:pt x="490" y="57"/>
                </a:lnTo>
                <a:lnTo>
                  <a:pt x="515" y="50"/>
                </a:lnTo>
                <a:lnTo>
                  <a:pt x="567" y="83"/>
                </a:lnTo>
                <a:lnTo>
                  <a:pt x="546" y="134"/>
                </a:lnTo>
                <a:lnTo>
                  <a:pt x="532" y="152"/>
                </a:lnTo>
                <a:lnTo>
                  <a:pt x="509" y="142"/>
                </a:lnTo>
                <a:lnTo>
                  <a:pt x="466" y="186"/>
                </a:lnTo>
                <a:lnTo>
                  <a:pt x="500" y="204"/>
                </a:lnTo>
                <a:lnTo>
                  <a:pt x="455" y="231"/>
                </a:lnTo>
                <a:lnTo>
                  <a:pt x="519" y="302"/>
                </a:lnTo>
                <a:lnTo>
                  <a:pt x="556" y="257"/>
                </a:lnTo>
                <a:lnTo>
                  <a:pt x="574" y="288"/>
                </a:lnTo>
                <a:lnTo>
                  <a:pt x="556" y="3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40360" y="3975120"/>
            <a:ext cx="615960" cy="390600"/>
          </a:xfrm>
          <a:custGeom>
            <a:avLst/>
            <a:gdLst/>
            <a:ahLst/>
            <a:rect l="l" t="t" r="r" b="b"/>
            <a:pathLst>
              <a:path w="1190" h="754">
                <a:moveTo>
                  <a:pt x="241" y="179"/>
                </a:moveTo>
                <a:lnTo>
                  <a:pt x="245" y="213"/>
                </a:lnTo>
                <a:lnTo>
                  <a:pt x="365" y="261"/>
                </a:lnTo>
                <a:lnTo>
                  <a:pt x="452" y="273"/>
                </a:lnTo>
                <a:lnTo>
                  <a:pt x="536" y="224"/>
                </a:lnTo>
                <a:lnTo>
                  <a:pt x="592" y="181"/>
                </a:lnTo>
                <a:lnTo>
                  <a:pt x="661" y="109"/>
                </a:lnTo>
                <a:lnTo>
                  <a:pt x="687" y="103"/>
                </a:lnTo>
                <a:lnTo>
                  <a:pt x="719" y="49"/>
                </a:lnTo>
                <a:lnTo>
                  <a:pt x="768" y="26"/>
                </a:lnTo>
                <a:lnTo>
                  <a:pt x="840" y="26"/>
                </a:lnTo>
                <a:lnTo>
                  <a:pt x="887" y="26"/>
                </a:lnTo>
                <a:lnTo>
                  <a:pt x="942" y="15"/>
                </a:lnTo>
                <a:lnTo>
                  <a:pt x="964" y="0"/>
                </a:lnTo>
                <a:lnTo>
                  <a:pt x="1029" y="72"/>
                </a:lnTo>
                <a:lnTo>
                  <a:pt x="1063" y="86"/>
                </a:lnTo>
                <a:lnTo>
                  <a:pt x="1099" y="138"/>
                </a:lnTo>
                <a:lnTo>
                  <a:pt x="1147" y="134"/>
                </a:lnTo>
                <a:lnTo>
                  <a:pt x="1190" y="181"/>
                </a:lnTo>
                <a:lnTo>
                  <a:pt x="1186" y="199"/>
                </a:lnTo>
                <a:lnTo>
                  <a:pt x="1162" y="187"/>
                </a:lnTo>
                <a:lnTo>
                  <a:pt x="1150" y="198"/>
                </a:lnTo>
                <a:lnTo>
                  <a:pt x="1155" y="237"/>
                </a:lnTo>
                <a:lnTo>
                  <a:pt x="1116" y="275"/>
                </a:lnTo>
                <a:lnTo>
                  <a:pt x="1141" y="330"/>
                </a:lnTo>
                <a:lnTo>
                  <a:pt x="1109" y="388"/>
                </a:lnTo>
                <a:lnTo>
                  <a:pt x="1070" y="405"/>
                </a:lnTo>
                <a:lnTo>
                  <a:pt x="1054" y="448"/>
                </a:lnTo>
                <a:lnTo>
                  <a:pt x="1032" y="449"/>
                </a:lnTo>
                <a:lnTo>
                  <a:pt x="986" y="530"/>
                </a:lnTo>
                <a:lnTo>
                  <a:pt x="998" y="557"/>
                </a:lnTo>
                <a:lnTo>
                  <a:pt x="1000" y="579"/>
                </a:lnTo>
                <a:lnTo>
                  <a:pt x="1028" y="622"/>
                </a:lnTo>
                <a:lnTo>
                  <a:pt x="1022" y="670"/>
                </a:lnTo>
                <a:lnTo>
                  <a:pt x="977" y="722"/>
                </a:lnTo>
                <a:lnTo>
                  <a:pt x="938" y="724"/>
                </a:lnTo>
                <a:lnTo>
                  <a:pt x="921" y="741"/>
                </a:lnTo>
                <a:lnTo>
                  <a:pt x="890" y="754"/>
                </a:lnTo>
                <a:lnTo>
                  <a:pt x="856" y="726"/>
                </a:lnTo>
                <a:lnTo>
                  <a:pt x="830" y="720"/>
                </a:lnTo>
                <a:lnTo>
                  <a:pt x="784" y="706"/>
                </a:lnTo>
                <a:lnTo>
                  <a:pt x="753" y="681"/>
                </a:lnTo>
                <a:lnTo>
                  <a:pt x="732" y="679"/>
                </a:lnTo>
                <a:lnTo>
                  <a:pt x="686" y="683"/>
                </a:lnTo>
                <a:lnTo>
                  <a:pt x="647" y="670"/>
                </a:lnTo>
                <a:lnTo>
                  <a:pt x="630" y="648"/>
                </a:lnTo>
                <a:lnTo>
                  <a:pt x="586" y="643"/>
                </a:lnTo>
                <a:lnTo>
                  <a:pt x="571" y="602"/>
                </a:lnTo>
                <a:lnTo>
                  <a:pt x="574" y="544"/>
                </a:lnTo>
                <a:lnTo>
                  <a:pt x="432" y="500"/>
                </a:lnTo>
                <a:lnTo>
                  <a:pt x="436" y="465"/>
                </a:lnTo>
                <a:lnTo>
                  <a:pt x="385" y="461"/>
                </a:lnTo>
                <a:lnTo>
                  <a:pt x="378" y="443"/>
                </a:lnTo>
                <a:lnTo>
                  <a:pt x="364" y="441"/>
                </a:lnTo>
                <a:lnTo>
                  <a:pt x="341" y="465"/>
                </a:lnTo>
                <a:lnTo>
                  <a:pt x="304" y="453"/>
                </a:lnTo>
                <a:lnTo>
                  <a:pt x="250" y="487"/>
                </a:lnTo>
                <a:lnTo>
                  <a:pt x="183" y="492"/>
                </a:lnTo>
                <a:lnTo>
                  <a:pt x="141" y="511"/>
                </a:lnTo>
                <a:lnTo>
                  <a:pt x="75" y="522"/>
                </a:lnTo>
                <a:lnTo>
                  <a:pt x="27" y="541"/>
                </a:lnTo>
                <a:lnTo>
                  <a:pt x="21" y="478"/>
                </a:lnTo>
                <a:lnTo>
                  <a:pt x="0" y="469"/>
                </a:lnTo>
                <a:lnTo>
                  <a:pt x="35" y="430"/>
                </a:lnTo>
                <a:lnTo>
                  <a:pt x="47" y="454"/>
                </a:lnTo>
                <a:lnTo>
                  <a:pt x="73" y="449"/>
                </a:lnTo>
                <a:lnTo>
                  <a:pt x="53" y="412"/>
                </a:lnTo>
                <a:lnTo>
                  <a:pt x="9" y="313"/>
                </a:lnTo>
                <a:lnTo>
                  <a:pt x="4" y="273"/>
                </a:lnTo>
                <a:lnTo>
                  <a:pt x="22" y="238"/>
                </a:lnTo>
                <a:lnTo>
                  <a:pt x="4" y="207"/>
                </a:lnTo>
                <a:lnTo>
                  <a:pt x="64" y="208"/>
                </a:lnTo>
                <a:lnTo>
                  <a:pt x="111" y="233"/>
                </a:lnTo>
                <a:lnTo>
                  <a:pt x="160" y="211"/>
                </a:lnTo>
                <a:lnTo>
                  <a:pt x="177" y="151"/>
                </a:lnTo>
                <a:lnTo>
                  <a:pt x="220" y="145"/>
                </a:lnTo>
                <a:lnTo>
                  <a:pt x="241" y="17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43480" y="1817640"/>
            <a:ext cx="912600" cy="1206720"/>
          </a:xfrm>
          <a:custGeom>
            <a:avLst/>
            <a:gdLst/>
            <a:ahLst/>
            <a:rect l="l" t="t" r="r" b="b"/>
            <a:pathLst>
              <a:path w="1768" h="2338">
                <a:moveTo>
                  <a:pt x="1559" y="1600"/>
                </a:moveTo>
                <a:lnTo>
                  <a:pt x="1543" y="1612"/>
                </a:lnTo>
                <a:lnTo>
                  <a:pt x="1540" y="1686"/>
                </a:lnTo>
                <a:lnTo>
                  <a:pt x="1568" y="1685"/>
                </a:lnTo>
                <a:lnTo>
                  <a:pt x="1582" y="1744"/>
                </a:lnTo>
                <a:lnTo>
                  <a:pt x="1569" y="1786"/>
                </a:lnTo>
                <a:lnTo>
                  <a:pt x="1551" y="1811"/>
                </a:lnTo>
                <a:lnTo>
                  <a:pt x="1530" y="1843"/>
                </a:lnTo>
                <a:lnTo>
                  <a:pt x="1577" y="1862"/>
                </a:lnTo>
                <a:lnTo>
                  <a:pt x="1563" y="1879"/>
                </a:lnTo>
                <a:lnTo>
                  <a:pt x="1588" y="1900"/>
                </a:lnTo>
                <a:lnTo>
                  <a:pt x="1615" y="1894"/>
                </a:lnTo>
                <a:lnTo>
                  <a:pt x="1638" y="1911"/>
                </a:lnTo>
                <a:lnTo>
                  <a:pt x="1621" y="1949"/>
                </a:lnTo>
                <a:lnTo>
                  <a:pt x="1619" y="1998"/>
                </a:lnTo>
                <a:lnTo>
                  <a:pt x="1596" y="2048"/>
                </a:lnTo>
                <a:lnTo>
                  <a:pt x="1551" y="2067"/>
                </a:lnTo>
                <a:lnTo>
                  <a:pt x="1525" y="2099"/>
                </a:lnTo>
                <a:lnTo>
                  <a:pt x="1495" y="2114"/>
                </a:lnTo>
                <a:lnTo>
                  <a:pt x="1508" y="2155"/>
                </a:lnTo>
                <a:lnTo>
                  <a:pt x="1547" y="2159"/>
                </a:lnTo>
                <a:lnTo>
                  <a:pt x="1514" y="2198"/>
                </a:lnTo>
                <a:lnTo>
                  <a:pt x="1497" y="2238"/>
                </a:lnTo>
                <a:lnTo>
                  <a:pt x="1448" y="2271"/>
                </a:lnTo>
                <a:lnTo>
                  <a:pt x="1410" y="2307"/>
                </a:lnTo>
                <a:lnTo>
                  <a:pt x="1371" y="2338"/>
                </a:lnTo>
                <a:lnTo>
                  <a:pt x="1360" y="2306"/>
                </a:lnTo>
                <a:lnTo>
                  <a:pt x="1338" y="2272"/>
                </a:lnTo>
                <a:lnTo>
                  <a:pt x="1291" y="2255"/>
                </a:lnTo>
                <a:lnTo>
                  <a:pt x="1261" y="2208"/>
                </a:lnTo>
                <a:lnTo>
                  <a:pt x="1252" y="2182"/>
                </a:lnTo>
                <a:lnTo>
                  <a:pt x="1222" y="2167"/>
                </a:lnTo>
                <a:lnTo>
                  <a:pt x="1196" y="2176"/>
                </a:lnTo>
                <a:lnTo>
                  <a:pt x="1161" y="2130"/>
                </a:lnTo>
                <a:lnTo>
                  <a:pt x="1162" y="2072"/>
                </a:lnTo>
                <a:lnTo>
                  <a:pt x="1128" y="2071"/>
                </a:lnTo>
                <a:lnTo>
                  <a:pt x="1064" y="2096"/>
                </a:lnTo>
                <a:lnTo>
                  <a:pt x="1026" y="2127"/>
                </a:lnTo>
                <a:lnTo>
                  <a:pt x="967" y="2092"/>
                </a:lnTo>
                <a:lnTo>
                  <a:pt x="878" y="2086"/>
                </a:lnTo>
                <a:lnTo>
                  <a:pt x="863" y="2040"/>
                </a:lnTo>
                <a:lnTo>
                  <a:pt x="836" y="2006"/>
                </a:lnTo>
                <a:lnTo>
                  <a:pt x="840" y="1965"/>
                </a:lnTo>
                <a:lnTo>
                  <a:pt x="816" y="1936"/>
                </a:lnTo>
                <a:lnTo>
                  <a:pt x="794" y="1936"/>
                </a:lnTo>
                <a:lnTo>
                  <a:pt x="760" y="1894"/>
                </a:lnTo>
                <a:lnTo>
                  <a:pt x="701" y="1871"/>
                </a:lnTo>
                <a:lnTo>
                  <a:pt x="665" y="1847"/>
                </a:lnTo>
                <a:lnTo>
                  <a:pt x="651" y="1812"/>
                </a:lnTo>
                <a:lnTo>
                  <a:pt x="603" y="1790"/>
                </a:lnTo>
                <a:lnTo>
                  <a:pt x="590" y="1730"/>
                </a:lnTo>
                <a:lnTo>
                  <a:pt x="555" y="1739"/>
                </a:lnTo>
                <a:lnTo>
                  <a:pt x="520" y="1716"/>
                </a:lnTo>
                <a:lnTo>
                  <a:pt x="492" y="1713"/>
                </a:lnTo>
                <a:lnTo>
                  <a:pt x="467" y="1708"/>
                </a:lnTo>
                <a:lnTo>
                  <a:pt x="497" y="1631"/>
                </a:lnTo>
                <a:lnTo>
                  <a:pt x="485" y="1618"/>
                </a:lnTo>
                <a:lnTo>
                  <a:pt x="459" y="1604"/>
                </a:lnTo>
                <a:lnTo>
                  <a:pt x="469" y="1538"/>
                </a:lnTo>
                <a:lnTo>
                  <a:pt x="509" y="1515"/>
                </a:lnTo>
                <a:lnTo>
                  <a:pt x="483" y="1469"/>
                </a:lnTo>
                <a:lnTo>
                  <a:pt x="438" y="1426"/>
                </a:lnTo>
                <a:lnTo>
                  <a:pt x="403" y="1393"/>
                </a:lnTo>
                <a:lnTo>
                  <a:pt x="370" y="1424"/>
                </a:lnTo>
                <a:lnTo>
                  <a:pt x="354" y="1395"/>
                </a:lnTo>
                <a:lnTo>
                  <a:pt x="292" y="1407"/>
                </a:lnTo>
                <a:lnTo>
                  <a:pt x="238" y="1339"/>
                </a:lnTo>
                <a:lnTo>
                  <a:pt x="282" y="1302"/>
                </a:lnTo>
                <a:lnTo>
                  <a:pt x="258" y="1280"/>
                </a:lnTo>
                <a:lnTo>
                  <a:pt x="241" y="1275"/>
                </a:lnTo>
                <a:lnTo>
                  <a:pt x="225" y="1240"/>
                </a:lnTo>
                <a:lnTo>
                  <a:pt x="164" y="1218"/>
                </a:lnTo>
                <a:lnTo>
                  <a:pt x="69" y="1189"/>
                </a:lnTo>
                <a:lnTo>
                  <a:pt x="28" y="1165"/>
                </a:lnTo>
                <a:lnTo>
                  <a:pt x="41" y="1122"/>
                </a:lnTo>
                <a:lnTo>
                  <a:pt x="0" y="1091"/>
                </a:lnTo>
                <a:lnTo>
                  <a:pt x="39" y="1058"/>
                </a:lnTo>
                <a:lnTo>
                  <a:pt x="103" y="974"/>
                </a:lnTo>
                <a:lnTo>
                  <a:pt x="84" y="945"/>
                </a:lnTo>
                <a:lnTo>
                  <a:pt x="100" y="878"/>
                </a:lnTo>
                <a:lnTo>
                  <a:pt x="168" y="887"/>
                </a:lnTo>
                <a:lnTo>
                  <a:pt x="214" y="852"/>
                </a:lnTo>
                <a:lnTo>
                  <a:pt x="261" y="835"/>
                </a:lnTo>
                <a:lnTo>
                  <a:pt x="348" y="833"/>
                </a:lnTo>
                <a:lnTo>
                  <a:pt x="422" y="833"/>
                </a:lnTo>
                <a:lnTo>
                  <a:pt x="459" y="794"/>
                </a:lnTo>
                <a:lnTo>
                  <a:pt x="516" y="793"/>
                </a:lnTo>
                <a:lnTo>
                  <a:pt x="546" y="779"/>
                </a:lnTo>
                <a:lnTo>
                  <a:pt x="539" y="750"/>
                </a:lnTo>
                <a:lnTo>
                  <a:pt x="577" y="748"/>
                </a:lnTo>
                <a:lnTo>
                  <a:pt x="582" y="706"/>
                </a:lnTo>
                <a:lnTo>
                  <a:pt x="553" y="690"/>
                </a:lnTo>
                <a:lnTo>
                  <a:pt x="579" y="628"/>
                </a:lnTo>
                <a:lnTo>
                  <a:pt x="611" y="604"/>
                </a:lnTo>
                <a:lnTo>
                  <a:pt x="630" y="594"/>
                </a:lnTo>
                <a:lnTo>
                  <a:pt x="633" y="567"/>
                </a:lnTo>
                <a:lnTo>
                  <a:pt x="646" y="545"/>
                </a:lnTo>
                <a:lnTo>
                  <a:pt x="621" y="510"/>
                </a:lnTo>
                <a:lnTo>
                  <a:pt x="608" y="500"/>
                </a:lnTo>
                <a:lnTo>
                  <a:pt x="626" y="481"/>
                </a:lnTo>
                <a:lnTo>
                  <a:pt x="686" y="451"/>
                </a:lnTo>
                <a:lnTo>
                  <a:pt x="710" y="501"/>
                </a:lnTo>
                <a:lnTo>
                  <a:pt x="723" y="565"/>
                </a:lnTo>
                <a:lnTo>
                  <a:pt x="750" y="595"/>
                </a:lnTo>
                <a:lnTo>
                  <a:pt x="737" y="630"/>
                </a:lnTo>
                <a:lnTo>
                  <a:pt x="754" y="696"/>
                </a:lnTo>
                <a:lnTo>
                  <a:pt x="765" y="722"/>
                </a:lnTo>
                <a:lnTo>
                  <a:pt x="752" y="754"/>
                </a:lnTo>
                <a:lnTo>
                  <a:pt x="788" y="747"/>
                </a:lnTo>
                <a:lnTo>
                  <a:pt x="863" y="677"/>
                </a:lnTo>
                <a:lnTo>
                  <a:pt x="876" y="656"/>
                </a:lnTo>
                <a:lnTo>
                  <a:pt x="844" y="652"/>
                </a:lnTo>
                <a:lnTo>
                  <a:pt x="850" y="560"/>
                </a:lnTo>
                <a:lnTo>
                  <a:pt x="880" y="524"/>
                </a:lnTo>
                <a:lnTo>
                  <a:pt x="861" y="522"/>
                </a:lnTo>
                <a:lnTo>
                  <a:pt x="852" y="487"/>
                </a:lnTo>
                <a:lnTo>
                  <a:pt x="836" y="467"/>
                </a:lnTo>
                <a:lnTo>
                  <a:pt x="816" y="468"/>
                </a:lnTo>
                <a:lnTo>
                  <a:pt x="858" y="408"/>
                </a:lnTo>
                <a:lnTo>
                  <a:pt x="883" y="416"/>
                </a:lnTo>
                <a:lnTo>
                  <a:pt x="901" y="395"/>
                </a:lnTo>
                <a:lnTo>
                  <a:pt x="895" y="379"/>
                </a:lnTo>
                <a:lnTo>
                  <a:pt x="967" y="295"/>
                </a:lnTo>
                <a:lnTo>
                  <a:pt x="968" y="277"/>
                </a:lnTo>
                <a:lnTo>
                  <a:pt x="942" y="271"/>
                </a:lnTo>
                <a:lnTo>
                  <a:pt x="943" y="255"/>
                </a:lnTo>
                <a:lnTo>
                  <a:pt x="973" y="231"/>
                </a:lnTo>
                <a:lnTo>
                  <a:pt x="995" y="200"/>
                </a:lnTo>
                <a:lnTo>
                  <a:pt x="1056" y="197"/>
                </a:lnTo>
                <a:lnTo>
                  <a:pt x="1136" y="164"/>
                </a:lnTo>
                <a:lnTo>
                  <a:pt x="1210" y="87"/>
                </a:lnTo>
                <a:lnTo>
                  <a:pt x="1262" y="25"/>
                </a:lnTo>
                <a:lnTo>
                  <a:pt x="1301" y="0"/>
                </a:lnTo>
                <a:lnTo>
                  <a:pt x="1371" y="47"/>
                </a:lnTo>
                <a:lnTo>
                  <a:pt x="1409" y="81"/>
                </a:lnTo>
                <a:lnTo>
                  <a:pt x="1441" y="138"/>
                </a:lnTo>
                <a:lnTo>
                  <a:pt x="1419" y="201"/>
                </a:lnTo>
                <a:lnTo>
                  <a:pt x="1347" y="274"/>
                </a:lnTo>
                <a:lnTo>
                  <a:pt x="1304" y="317"/>
                </a:lnTo>
                <a:lnTo>
                  <a:pt x="1274" y="321"/>
                </a:lnTo>
                <a:lnTo>
                  <a:pt x="1270" y="368"/>
                </a:lnTo>
                <a:lnTo>
                  <a:pt x="1280" y="408"/>
                </a:lnTo>
                <a:lnTo>
                  <a:pt x="1271" y="433"/>
                </a:lnTo>
                <a:lnTo>
                  <a:pt x="1267" y="468"/>
                </a:lnTo>
                <a:lnTo>
                  <a:pt x="1224" y="534"/>
                </a:lnTo>
                <a:lnTo>
                  <a:pt x="1192" y="554"/>
                </a:lnTo>
                <a:lnTo>
                  <a:pt x="1190" y="579"/>
                </a:lnTo>
                <a:lnTo>
                  <a:pt x="1169" y="611"/>
                </a:lnTo>
                <a:lnTo>
                  <a:pt x="1159" y="642"/>
                </a:lnTo>
                <a:lnTo>
                  <a:pt x="1137" y="682"/>
                </a:lnTo>
                <a:lnTo>
                  <a:pt x="1103" y="730"/>
                </a:lnTo>
                <a:lnTo>
                  <a:pt x="1090" y="743"/>
                </a:lnTo>
                <a:lnTo>
                  <a:pt x="1078" y="790"/>
                </a:lnTo>
                <a:lnTo>
                  <a:pt x="1076" y="827"/>
                </a:lnTo>
                <a:lnTo>
                  <a:pt x="1093" y="867"/>
                </a:lnTo>
                <a:lnTo>
                  <a:pt x="1097" y="889"/>
                </a:lnTo>
                <a:lnTo>
                  <a:pt x="1063" y="917"/>
                </a:lnTo>
                <a:lnTo>
                  <a:pt x="1038" y="937"/>
                </a:lnTo>
                <a:lnTo>
                  <a:pt x="1014" y="995"/>
                </a:lnTo>
                <a:lnTo>
                  <a:pt x="987" y="1011"/>
                </a:lnTo>
                <a:lnTo>
                  <a:pt x="948" y="1016"/>
                </a:lnTo>
                <a:lnTo>
                  <a:pt x="923" y="1036"/>
                </a:lnTo>
                <a:lnTo>
                  <a:pt x="909" y="1053"/>
                </a:lnTo>
                <a:lnTo>
                  <a:pt x="880" y="1063"/>
                </a:lnTo>
                <a:lnTo>
                  <a:pt x="849" y="1088"/>
                </a:lnTo>
                <a:lnTo>
                  <a:pt x="822" y="1092"/>
                </a:lnTo>
                <a:lnTo>
                  <a:pt x="805" y="1121"/>
                </a:lnTo>
                <a:lnTo>
                  <a:pt x="771" y="1125"/>
                </a:lnTo>
                <a:lnTo>
                  <a:pt x="728" y="1125"/>
                </a:lnTo>
                <a:lnTo>
                  <a:pt x="712" y="1103"/>
                </a:lnTo>
                <a:lnTo>
                  <a:pt x="721" y="1075"/>
                </a:lnTo>
                <a:lnTo>
                  <a:pt x="716" y="1034"/>
                </a:lnTo>
                <a:lnTo>
                  <a:pt x="672" y="1017"/>
                </a:lnTo>
                <a:lnTo>
                  <a:pt x="646" y="1007"/>
                </a:lnTo>
                <a:lnTo>
                  <a:pt x="647" y="1029"/>
                </a:lnTo>
                <a:lnTo>
                  <a:pt x="639" y="1050"/>
                </a:lnTo>
                <a:lnTo>
                  <a:pt x="655" y="1085"/>
                </a:lnTo>
                <a:lnTo>
                  <a:pt x="681" y="1123"/>
                </a:lnTo>
                <a:lnTo>
                  <a:pt x="710" y="1152"/>
                </a:lnTo>
                <a:lnTo>
                  <a:pt x="753" y="1173"/>
                </a:lnTo>
                <a:lnTo>
                  <a:pt x="771" y="1203"/>
                </a:lnTo>
                <a:lnTo>
                  <a:pt x="814" y="1219"/>
                </a:lnTo>
                <a:lnTo>
                  <a:pt x="836" y="1187"/>
                </a:lnTo>
                <a:lnTo>
                  <a:pt x="871" y="1177"/>
                </a:lnTo>
                <a:lnTo>
                  <a:pt x="932" y="1173"/>
                </a:lnTo>
                <a:lnTo>
                  <a:pt x="987" y="1154"/>
                </a:lnTo>
                <a:lnTo>
                  <a:pt x="1012" y="1109"/>
                </a:lnTo>
                <a:lnTo>
                  <a:pt x="1066" y="1079"/>
                </a:lnTo>
                <a:lnTo>
                  <a:pt x="1104" y="1059"/>
                </a:lnTo>
                <a:lnTo>
                  <a:pt x="1136" y="985"/>
                </a:lnTo>
                <a:lnTo>
                  <a:pt x="1130" y="939"/>
                </a:lnTo>
                <a:lnTo>
                  <a:pt x="1157" y="912"/>
                </a:lnTo>
                <a:lnTo>
                  <a:pt x="1180" y="885"/>
                </a:lnTo>
                <a:lnTo>
                  <a:pt x="1305" y="902"/>
                </a:lnTo>
                <a:lnTo>
                  <a:pt x="1305" y="945"/>
                </a:lnTo>
                <a:lnTo>
                  <a:pt x="1321" y="996"/>
                </a:lnTo>
                <a:lnTo>
                  <a:pt x="1305" y="1029"/>
                </a:lnTo>
                <a:lnTo>
                  <a:pt x="1296" y="1070"/>
                </a:lnTo>
                <a:lnTo>
                  <a:pt x="1267" y="1115"/>
                </a:lnTo>
                <a:lnTo>
                  <a:pt x="1252" y="1137"/>
                </a:lnTo>
                <a:lnTo>
                  <a:pt x="1268" y="1187"/>
                </a:lnTo>
                <a:lnTo>
                  <a:pt x="1321" y="1214"/>
                </a:lnTo>
                <a:lnTo>
                  <a:pt x="1361" y="1222"/>
                </a:lnTo>
                <a:lnTo>
                  <a:pt x="1313" y="1177"/>
                </a:lnTo>
                <a:lnTo>
                  <a:pt x="1276" y="1147"/>
                </a:lnTo>
                <a:lnTo>
                  <a:pt x="1301" y="1100"/>
                </a:lnTo>
                <a:lnTo>
                  <a:pt x="1323" y="1075"/>
                </a:lnTo>
                <a:lnTo>
                  <a:pt x="1360" y="1078"/>
                </a:lnTo>
                <a:lnTo>
                  <a:pt x="1365" y="1032"/>
                </a:lnTo>
                <a:lnTo>
                  <a:pt x="1357" y="1001"/>
                </a:lnTo>
                <a:lnTo>
                  <a:pt x="1373" y="955"/>
                </a:lnTo>
                <a:lnTo>
                  <a:pt x="1339" y="914"/>
                </a:lnTo>
                <a:lnTo>
                  <a:pt x="1338" y="885"/>
                </a:lnTo>
                <a:lnTo>
                  <a:pt x="1308" y="848"/>
                </a:lnTo>
                <a:lnTo>
                  <a:pt x="1278" y="829"/>
                </a:lnTo>
                <a:lnTo>
                  <a:pt x="1239" y="836"/>
                </a:lnTo>
                <a:lnTo>
                  <a:pt x="1214" y="831"/>
                </a:lnTo>
                <a:lnTo>
                  <a:pt x="1191" y="810"/>
                </a:lnTo>
                <a:lnTo>
                  <a:pt x="1172" y="808"/>
                </a:lnTo>
                <a:lnTo>
                  <a:pt x="1166" y="790"/>
                </a:lnTo>
                <a:lnTo>
                  <a:pt x="1199" y="740"/>
                </a:lnTo>
                <a:lnTo>
                  <a:pt x="1197" y="709"/>
                </a:lnTo>
                <a:lnTo>
                  <a:pt x="1204" y="678"/>
                </a:lnTo>
                <a:lnTo>
                  <a:pt x="1267" y="605"/>
                </a:lnTo>
                <a:lnTo>
                  <a:pt x="1318" y="574"/>
                </a:lnTo>
                <a:lnTo>
                  <a:pt x="1339" y="541"/>
                </a:lnTo>
                <a:lnTo>
                  <a:pt x="1332" y="505"/>
                </a:lnTo>
                <a:lnTo>
                  <a:pt x="1338" y="451"/>
                </a:lnTo>
                <a:lnTo>
                  <a:pt x="1344" y="401"/>
                </a:lnTo>
                <a:lnTo>
                  <a:pt x="1329" y="370"/>
                </a:lnTo>
                <a:lnTo>
                  <a:pt x="1383" y="340"/>
                </a:lnTo>
                <a:lnTo>
                  <a:pt x="1398" y="319"/>
                </a:lnTo>
                <a:lnTo>
                  <a:pt x="1437" y="312"/>
                </a:lnTo>
                <a:lnTo>
                  <a:pt x="1482" y="311"/>
                </a:lnTo>
                <a:lnTo>
                  <a:pt x="1521" y="283"/>
                </a:lnTo>
                <a:lnTo>
                  <a:pt x="1552" y="218"/>
                </a:lnTo>
                <a:lnTo>
                  <a:pt x="1552" y="183"/>
                </a:lnTo>
                <a:lnTo>
                  <a:pt x="1570" y="166"/>
                </a:lnTo>
                <a:lnTo>
                  <a:pt x="1583" y="190"/>
                </a:lnTo>
                <a:lnTo>
                  <a:pt x="1575" y="221"/>
                </a:lnTo>
                <a:lnTo>
                  <a:pt x="1571" y="253"/>
                </a:lnTo>
                <a:lnTo>
                  <a:pt x="1513" y="339"/>
                </a:lnTo>
                <a:lnTo>
                  <a:pt x="1500" y="345"/>
                </a:lnTo>
                <a:lnTo>
                  <a:pt x="1479" y="388"/>
                </a:lnTo>
                <a:lnTo>
                  <a:pt x="1479" y="419"/>
                </a:lnTo>
                <a:lnTo>
                  <a:pt x="1465" y="433"/>
                </a:lnTo>
                <a:lnTo>
                  <a:pt x="1447" y="442"/>
                </a:lnTo>
                <a:lnTo>
                  <a:pt x="1464" y="476"/>
                </a:lnTo>
                <a:lnTo>
                  <a:pt x="1487" y="503"/>
                </a:lnTo>
                <a:lnTo>
                  <a:pt x="1539" y="539"/>
                </a:lnTo>
                <a:lnTo>
                  <a:pt x="1567" y="551"/>
                </a:lnTo>
                <a:lnTo>
                  <a:pt x="1563" y="585"/>
                </a:lnTo>
                <a:lnTo>
                  <a:pt x="1583" y="613"/>
                </a:lnTo>
                <a:lnTo>
                  <a:pt x="1596" y="599"/>
                </a:lnTo>
                <a:lnTo>
                  <a:pt x="1596" y="573"/>
                </a:lnTo>
                <a:lnTo>
                  <a:pt x="1605" y="550"/>
                </a:lnTo>
                <a:lnTo>
                  <a:pt x="1574" y="516"/>
                </a:lnTo>
                <a:lnTo>
                  <a:pt x="1550" y="488"/>
                </a:lnTo>
                <a:lnTo>
                  <a:pt x="1525" y="444"/>
                </a:lnTo>
                <a:lnTo>
                  <a:pt x="1536" y="392"/>
                </a:lnTo>
                <a:lnTo>
                  <a:pt x="1539" y="373"/>
                </a:lnTo>
                <a:lnTo>
                  <a:pt x="1590" y="373"/>
                </a:lnTo>
                <a:lnTo>
                  <a:pt x="1606" y="407"/>
                </a:lnTo>
                <a:lnTo>
                  <a:pt x="1611" y="424"/>
                </a:lnTo>
                <a:lnTo>
                  <a:pt x="1642" y="426"/>
                </a:lnTo>
                <a:lnTo>
                  <a:pt x="1663" y="417"/>
                </a:lnTo>
                <a:lnTo>
                  <a:pt x="1661" y="389"/>
                </a:lnTo>
                <a:lnTo>
                  <a:pt x="1643" y="379"/>
                </a:lnTo>
                <a:lnTo>
                  <a:pt x="1624" y="376"/>
                </a:lnTo>
                <a:lnTo>
                  <a:pt x="1637" y="358"/>
                </a:lnTo>
                <a:lnTo>
                  <a:pt x="1665" y="346"/>
                </a:lnTo>
                <a:lnTo>
                  <a:pt x="1696" y="346"/>
                </a:lnTo>
                <a:lnTo>
                  <a:pt x="1700" y="370"/>
                </a:lnTo>
                <a:lnTo>
                  <a:pt x="1696" y="404"/>
                </a:lnTo>
                <a:lnTo>
                  <a:pt x="1724" y="424"/>
                </a:lnTo>
                <a:lnTo>
                  <a:pt x="1744" y="448"/>
                </a:lnTo>
                <a:lnTo>
                  <a:pt x="1768" y="475"/>
                </a:lnTo>
                <a:lnTo>
                  <a:pt x="1761" y="493"/>
                </a:lnTo>
                <a:lnTo>
                  <a:pt x="1748" y="483"/>
                </a:lnTo>
                <a:lnTo>
                  <a:pt x="1729" y="528"/>
                </a:lnTo>
                <a:lnTo>
                  <a:pt x="1699" y="512"/>
                </a:lnTo>
                <a:lnTo>
                  <a:pt x="1657" y="556"/>
                </a:lnTo>
                <a:lnTo>
                  <a:pt x="1693" y="615"/>
                </a:lnTo>
                <a:lnTo>
                  <a:pt x="1718" y="634"/>
                </a:lnTo>
                <a:lnTo>
                  <a:pt x="1701" y="696"/>
                </a:lnTo>
                <a:lnTo>
                  <a:pt x="1681" y="756"/>
                </a:lnTo>
                <a:lnTo>
                  <a:pt x="1661" y="746"/>
                </a:lnTo>
                <a:lnTo>
                  <a:pt x="1609" y="768"/>
                </a:lnTo>
                <a:lnTo>
                  <a:pt x="1545" y="804"/>
                </a:lnTo>
                <a:lnTo>
                  <a:pt x="1524" y="822"/>
                </a:lnTo>
                <a:lnTo>
                  <a:pt x="1526" y="864"/>
                </a:lnTo>
                <a:lnTo>
                  <a:pt x="1545" y="884"/>
                </a:lnTo>
                <a:lnTo>
                  <a:pt x="1558" y="941"/>
                </a:lnTo>
                <a:lnTo>
                  <a:pt x="1601" y="983"/>
                </a:lnTo>
                <a:lnTo>
                  <a:pt x="1630" y="991"/>
                </a:lnTo>
                <a:lnTo>
                  <a:pt x="1655" y="961"/>
                </a:lnTo>
                <a:lnTo>
                  <a:pt x="1670" y="986"/>
                </a:lnTo>
                <a:lnTo>
                  <a:pt x="1650" y="1008"/>
                </a:lnTo>
                <a:lnTo>
                  <a:pt x="1683" y="1030"/>
                </a:lnTo>
                <a:lnTo>
                  <a:pt x="1673" y="1063"/>
                </a:lnTo>
                <a:lnTo>
                  <a:pt x="1693" y="1121"/>
                </a:lnTo>
                <a:lnTo>
                  <a:pt x="1691" y="1145"/>
                </a:lnTo>
                <a:lnTo>
                  <a:pt x="1658" y="1138"/>
                </a:lnTo>
                <a:lnTo>
                  <a:pt x="1654" y="1185"/>
                </a:lnTo>
                <a:lnTo>
                  <a:pt x="1599" y="1246"/>
                </a:lnTo>
                <a:lnTo>
                  <a:pt x="1558" y="1231"/>
                </a:lnTo>
                <a:lnTo>
                  <a:pt x="1563" y="1280"/>
                </a:lnTo>
                <a:lnTo>
                  <a:pt x="1571" y="1326"/>
                </a:lnTo>
                <a:lnTo>
                  <a:pt x="1555" y="1353"/>
                </a:lnTo>
                <a:lnTo>
                  <a:pt x="1537" y="1372"/>
                </a:lnTo>
                <a:lnTo>
                  <a:pt x="1577" y="1500"/>
                </a:lnTo>
                <a:lnTo>
                  <a:pt x="1561" y="1509"/>
                </a:lnTo>
                <a:lnTo>
                  <a:pt x="1541" y="1546"/>
                </a:lnTo>
                <a:lnTo>
                  <a:pt x="1559" y="160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81760" y="2428920"/>
            <a:ext cx="825480" cy="1689120"/>
          </a:xfrm>
          <a:custGeom>
            <a:avLst/>
            <a:gdLst/>
            <a:ahLst/>
            <a:rect l="l" t="t" r="r" b="b"/>
            <a:pathLst>
              <a:path w="1597" h="3267">
                <a:moveTo>
                  <a:pt x="836" y="985"/>
                </a:moveTo>
                <a:lnTo>
                  <a:pt x="837" y="1060"/>
                </a:lnTo>
                <a:lnTo>
                  <a:pt x="787" y="1103"/>
                </a:lnTo>
                <a:lnTo>
                  <a:pt x="772" y="1182"/>
                </a:lnTo>
                <a:lnTo>
                  <a:pt x="695" y="1231"/>
                </a:lnTo>
                <a:lnTo>
                  <a:pt x="670" y="1267"/>
                </a:lnTo>
                <a:lnTo>
                  <a:pt x="643" y="1268"/>
                </a:lnTo>
                <a:lnTo>
                  <a:pt x="595" y="1310"/>
                </a:lnTo>
                <a:lnTo>
                  <a:pt x="643" y="1377"/>
                </a:lnTo>
                <a:lnTo>
                  <a:pt x="633" y="1414"/>
                </a:lnTo>
                <a:lnTo>
                  <a:pt x="607" y="1437"/>
                </a:lnTo>
                <a:lnTo>
                  <a:pt x="624" y="1598"/>
                </a:lnTo>
                <a:lnTo>
                  <a:pt x="700" y="1591"/>
                </a:lnTo>
                <a:lnTo>
                  <a:pt x="730" y="1565"/>
                </a:lnTo>
                <a:lnTo>
                  <a:pt x="750" y="1539"/>
                </a:lnTo>
                <a:lnTo>
                  <a:pt x="789" y="1509"/>
                </a:lnTo>
                <a:lnTo>
                  <a:pt x="803" y="1521"/>
                </a:lnTo>
                <a:lnTo>
                  <a:pt x="807" y="1567"/>
                </a:lnTo>
                <a:lnTo>
                  <a:pt x="872" y="1597"/>
                </a:lnTo>
                <a:lnTo>
                  <a:pt x="922" y="1572"/>
                </a:lnTo>
                <a:lnTo>
                  <a:pt x="972" y="1606"/>
                </a:lnTo>
                <a:lnTo>
                  <a:pt x="981" y="1660"/>
                </a:lnTo>
                <a:lnTo>
                  <a:pt x="962" y="1731"/>
                </a:lnTo>
                <a:lnTo>
                  <a:pt x="924" y="1758"/>
                </a:lnTo>
                <a:lnTo>
                  <a:pt x="918" y="1847"/>
                </a:lnTo>
                <a:lnTo>
                  <a:pt x="960" y="1894"/>
                </a:lnTo>
                <a:lnTo>
                  <a:pt x="1045" y="1912"/>
                </a:lnTo>
                <a:lnTo>
                  <a:pt x="1090" y="1920"/>
                </a:lnTo>
                <a:lnTo>
                  <a:pt x="1135" y="1896"/>
                </a:lnTo>
                <a:lnTo>
                  <a:pt x="1223" y="1906"/>
                </a:lnTo>
                <a:lnTo>
                  <a:pt x="1283" y="1889"/>
                </a:lnTo>
                <a:lnTo>
                  <a:pt x="1330" y="1850"/>
                </a:lnTo>
                <a:lnTo>
                  <a:pt x="1370" y="1880"/>
                </a:lnTo>
                <a:lnTo>
                  <a:pt x="1437" y="1928"/>
                </a:lnTo>
                <a:lnTo>
                  <a:pt x="1508" y="1936"/>
                </a:lnTo>
                <a:lnTo>
                  <a:pt x="1555" y="1971"/>
                </a:lnTo>
                <a:lnTo>
                  <a:pt x="1582" y="1958"/>
                </a:lnTo>
                <a:lnTo>
                  <a:pt x="1597" y="1990"/>
                </a:lnTo>
                <a:lnTo>
                  <a:pt x="1582" y="2045"/>
                </a:lnTo>
                <a:lnTo>
                  <a:pt x="1573" y="2089"/>
                </a:lnTo>
                <a:lnTo>
                  <a:pt x="1579" y="2125"/>
                </a:lnTo>
                <a:lnTo>
                  <a:pt x="1544" y="2161"/>
                </a:lnTo>
                <a:lnTo>
                  <a:pt x="1497" y="2180"/>
                </a:lnTo>
                <a:lnTo>
                  <a:pt x="1464" y="2223"/>
                </a:lnTo>
                <a:lnTo>
                  <a:pt x="1442" y="2219"/>
                </a:lnTo>
                <a:lnTo>
                  <a:pt x="1401" y="2275"/>
                </a:lnTo>
                <a:lnTo>
                  <a:pt x="1390" y="2316"/>
                </a:lnTo>
                <a:lnTo>
                  <a:pt x="1401" y="2343"/>
                </a:lnTo>
                <a:lnTo>
                  <a:pt x="1377" y="2365"/>
                </a:lnTo>
                <a:lnTo>
                  <a:pt x="1351" y="2328"/>
                </a:lnTo>
                <a:lnTo>
                  <a:pt x="1324" y="2238"/>
                </a:lnTo>
                <a:lnTo>
                  <a:pt x="1290" y="2231"/>
                </a:lnTo>
                <a:lnTo>
                  <a:pt x="1250" y="2281"/>
                </a:lnTo>
                <a:lnTo>
                  <a:pt x="1115" y="2251"/>
                </a:lnTo>
                <a:lnTo>
                  <a:pt x="1029" y="2384"/>
                </a:lnTo>
                <a:lnTo>
                  <a:pt x="1070" y="2441"/>
                </a:lnTo>
                <a:lnTo>
                  <a:pt x="1071" y="2515"/>
                </a:lnTo>
                <a:lnTo>
                  <a:pt x="1040" y="2511"/>
                </a:lnTo>
                <a:lnTo>
                  <a:pt x="1006" y="2567"/>
                </a:lnTo>
                <a:lnTo>
                  <a:pt x="985" y="2554"/>
                </a:lnTo>
                <a:lnTo>
                  <a:pt x="938" y="2616"/>
                </a:lnTo>
                <a:lnTo>
                  <a:pt x="935" y="2695"/>
                </a:lnTo>
                <a:lnTo>
                  <a:pt x="915" y="2715"/>
                </a:lnTo>
                <a:lnTo>
                  <a:pt x="891" y="2754"/>
                </a:lnTo>
                <a:lnTo>
                  <a:pt x="905" y="2779"/>
                </a:lnTo>
                <a:lnTo>
                  <a:pt x="880" y="2845"/>
                </a:lnTo>
                <a:lnTo>
                  <a:pt x="822" y="2832"/>
                </a:lnTo>
                <a:lnTo>
                  <a:pt x="780" y="2872"/>
                </a:lnTo>
                <a:lnTo>
                  <a:pt x="860" y="3001"/>
                </a:lnTo>
                <a:lnTo>
                  <a:pt x="863" y="3009"/>
                </a:lnTo>
                <a:lnTo>
                  <a:pt x="808" y="3020"/>
                </a:lnTo>
                <a:lnTo>
                  <a:pt x="761" y="3020"/>
                </a:lnTo>
                <a:lnTo>
                  <a:pt x="689" y="3020"/>
                </a:lnTo>
                <a:lnTo>
                  <a:pt x="640" y="3043"/>
                </a:lnTo>
                <a:lnTo>
                  <a:pt x="608" y="3097"/>
                </a:lnTo>
                <a:lnTo>
                  <a:pt x="582" y="3103"/>
                </a:lnTo>
                <a:lnTo>
                  <a:pt x="513" y="3175"/>
                </a:lnTo>
                <a:lnTo>
                  <a:pt x="457" y="3218"/>
                </a:lnTo>
                <a:lnTo>
                  <a:pt x="373" y="3267"/>
                </a:lnTo>
                <a:lnTo>
                  <a:pt x="286" y="3255"/>
                </a:lnTo>
                <a:lnTo>
                  <a:pt x="166" y="3207"/>
                </a:lnTo>
                <a:lnTo>
                  <a:pt x="162" y="3173"/>
                </a:lnTo>
                <a:lnTo>
                  <a:pt x="141" y="3139"/>
                </a:lnTo>
                <a:lnTo>
                  <a:pt x="206" y="3071"/>
                </a:lnTo>
                <a:lnTo>
                  <a:pt x="267" y="3055"/>
                </a:lnTo>
                <a:lnTo>
                  <a:pt x="301" y="2990"/>
                </a:lnTo>
                <a:lnTo>
                  <a:pt x="329" y="2990"/>
                </a:lnTo>
                <a:lnTo>
                  <a:pt x="354" y="2946"/>
                </a:lnTo>
                <a:lnTo>
                  <a:pt x="334" y="2915"/>
                </a:lnTo>
                <a:lnTo>
                  <a:pt x="317" y="2885"/>
                </a:lnTo>
                <a:lnTo>
                  <a:pt x="317" y="2860"/>
                </a:lnTo>
                <a:lnTo>
                  <a:pt x="346" y="2827"/>
                </a:lnTo>
                <a:lnTo>
                  <a:pt x="337" y="2780"/>
                </a:lnTo>
                <a:lnTo>
                  <a:pt x="315" y="2707"/>
                </a:lnTo>
                <a:lnTo>
                  <a:pt x="314" y="2663"/>
                </a:lnTo>
                <a:lnTo>
                  <a:pt x="273" y="2652"/>
                </a:lnTo>
                <a:lnTo>
                  <a:pt x="278" y="2617"/>
                </a:lnTo>
                <a:lnTo>
                  <a:pt x="246" y="2592"/>
                </a:lnTo>
                <a:lnTo>
                  <a:pt x="204" y="2609"/>
                </a:lnTo>
                <a:lnTo>
                  <a:pt x="160" y="2585"/>
                </a:lnTo>
                <a:lnTo>
                  <a:pt x="119" y="2496"/>
                </a:lnTo>
                <a:lnTo>
                  <a:pt x="218" y="2443"/>
                </a:lnTo>
                <a:lnTo>
                  <a:pt x="191" y="2329"/>
                </a:lnTo>
                <a:lnTo>
                  <a:pt x="168" y="2326"/>
                </a:lnTo>
                <a:lnTo>
                  <a:pt x="167" y="2279"/>
                </a:lnTo>
                <a:lnTo>
                  <a:pt x="192" y="2274"/>
                </a:lnTo>
                <a:lnTo>
                  <a:pt x="190" y="2244"/>
                </a:lnTo>
                <a:lnTo>
                  <a:pt x="213" y="2194"/>
                </a:lnTo>
                <a:lnTo>
                  <a:pt x="199" y="2183"/>
                </a:lnTo>
                <a:lnTo>
                  <a:pt x="241" y="2147"/>
                </a:lnTo>
                <a:lnTo>
                  <a:pt x="279" y="2120"/>
                </a:lnTo>
                <a:lnTo>
                  <a:pt x="308" y="2114"/>
                </a:lnTo>
                <a:lnTo>
                  <a:pt x="315" y="2067"/>
                </a:lnTo>
                <a:lnTo>
                  <a:pt x="273" y="2046"/>
                </a:lnTo>
                <a:lnTo>
                  <a:pt x="211" y="1996"/>
                </a:lnTo>
                <a:lnTo>
                  <a:pt x="218" y="1918"/>
                </a:lnTo>
                <a:lnTo>
                  <a:pt x="287" y="1859"/>
                </a:lnTo>
                <a:lnTo>
                  <a:pt x="327" y="1851"/>
                </a:lnTo>
                <a:lnTo>
                  <a:pt x="315" y="1790"/>
                </a:lnTo>
                <a:lnTo>
                  <a:pt x="256" y="1784"/>
                </a:lnTo>
                <a:lnTo>
                  <a:pt x="242" y="1698"/>
                </a:lnTo>
                <a:lnTo>
                  <a:pt x="210" y="1683"/>
                </a:lnTo>
                <a:lnTo>
                  <a:pt x="212" y="1645"/>
                </a:lnTo>
                <a:lnTo>
                  <a:pt x="184" y="1620"/>
                </a:lnTo>
                <a:lnTo>
                  <a:pt x="10" y="1573"/>
                </a:lnTo>
                <a:lnTo>
                  <a:pt x="0" y="1554"/>
                </a:lnTo>
                <a:lnTo>
                  <a:pt x="49" y="1485"/>
                </a:lnTo>
                <a:lnTo>
                  <a:pt x="33" y="1389"/>
                </a:lnTo>
                <a:lnTo>
                  <a:pt x="179" y="1335"/>
                </a:lnTo>
                <a:lnTo>
                  <a:pt x="212" y="1328"/>
                </a:lnTo>
                <a:lnTo>
                  <a:pt x="212" y="1300"/>
                </a:lnTo>
                <a:lnTo>
                  <a:pt x="157" y="1258"/>
                </a:lnTo>
                <a:lnTo>
                  <a:pt x="123" y="1222"/>
                </a:lnTo>
                <a:lnTo>
                  <a:pt x="136" y="1153"/>
                </a:lnTo>
                <a:lnTo>
                  <a:pt x="175" y="1122"/>
                </a:lnTo>
                <a:lnTo>
                  <a:pt x="213" y="1086"/>
                </a:lnTo>
                <a:lnTo>
                  <a:pt x="262" y="1053"/>
                </a:lnTo>
                <a:lnTo>
                  <a:pt x="279" y="1013"/>
                </a:lnTo>
                <a:lnTo>
                  <a:pt x="312" y="974"/>
                </a:lnTo>
                <a:lnTo>
                  <a:pt x="273" y="970"/>
                </a:lnTo>
                <a:lnTo>
                  <a:pt x="260" y="929"/>
                </a:lnTo>
                <a:lnTo>
                  <a:pt x="290" y="914"/>
                </a:lnTo>
                <a:lnTo>
                  <a:pt x="316" y="882"/>
                </a:lnTo>
                <a:lnTo>
                  <a:pt x="361" y="863"/>
                </a:lnTo>
                <a:lnTo>
                  <a:pt x="384" y="813"/>
                </a:lnTo>
                <a:lnTo>
                  <a:pt x="386" y="764"/>
                </a:lnTo>
                <a:lnTo>
                  <a:pt x="403" y="726"/>
                </a:lnTo>
                <a:lnTo>
                  <a:pt x="380" y="709"/>
                </a:lnTo>
                <a:lnTo>
                  <a:pt x="353" y="715"/>
                </a:lnTo>
                <a:lnTo>
                  <a:pt x="328" y="694"/>
                </a:lnTo>
                <a:lnTo>
                  <a:pt x="342" y="677"/>
                </a:lnTo>
                <a:lnTo>
                  <a:pt x="295" y="658"/>
                </a:lnTo>
                <a:lnTo>
                  <a:pt x="316" y="626"/>
                </a:lnTo>
                <a:lnTo>
                  <a:pt x="334" y="601"/>
                </a:lnTo>
                <a:lnTo>
                  <a:pt x="347" y="559"/>
                </a:lnTo>
                <a:lnTo>
                  <a:pt x="333" y="500"/>
                </a:lnTo>
                <a:lnTo>
                  <a:pt x="305" y="501"/>
                </a:lnTo>
                <a:lnTo>
                  <a:pt x="308" y="427"/>
                </a:lnTo>
                <a:lnTo>
                  <a:pt x="324" y="415"/>
                </a:lnTo>
                <a:lnTo>
                  <a:pt x="306" y="361"/>
                </a:lnTo>
                <a:lnTo>
                  <a:pt x="326" y="324"/>
                </a:lnTo>
                <a:lnTo>
                  <a:pt x="342" y="315"/>
                </a:lnTo>
                <a:lnTo>
                  <a:pt x="302" y="187"/>
                </a:lnTo>
                <a:lnTo>
                  <a:pt x="320" y="168"/>
                </a:lnTo>
                <a:lnTo>
                  <a:pt x="336" y="141"/>
                </a:lnTo>
                <a:lnTo>
                  <a:pt x="328" y="95"/>
                </a:lnTo>
                <a:lnTo>
                  <a:pt x="323" y="46"/>
                </a:lnTo>
                <a:lnTo>
                  <a:pt x="364" y="61"/>
                </a:lnTo>
                <a:lnTo>
                  <a:pt x="419" y="0"/>
                </a:lnTo>
                <a:lnTo>
                  <a:pt x="436" y="30"/>
                </a:lnTo>
                <a:lnTo>
                  <a:pt x="419" y="83"/>
                </a:lnTo>
                <a:lnTo>
                  <a:pt x="439" y="153"/>
                </a:lnTo>
                <a:lnTo>
                  <a:pt x="459" y="161"/>
                </a:lnTo>
                <a:lnTo>
                  <a:pt x="475" y="259"/>
                </a:lnTo>
                <a:lnTo>
                  <a:pt x="508" y="242"/>
                </a:lnTo>
                <a:lnTo>
                  <a:pt x="533" y="183"/>
                </a:lnTo>
                <a:lnTo>
                  <a:pt x="596" y="125"/>
                </a:lnTo>
                <a:lnTo>
                  <a:pt x="643" y="131"/>
                </a:lnTo>
                <a:lnTo>
                  <a:pt x="634" y="218"/>
                </a:lnTo>
                <a:lnTo>
                  <a:pt x="658" y="295"/>
                </a:lnTo>
                <a:lnTo>
                  <a:pt x="727" y="294"/>
                </a:lnTo>
                <a:lnTo>
                  <a:pt x="816" y="310"/>
                </a:lnTo>
                <a:lnTo>
                  <a:pt x="931" y="347"/>
                </a:lnTo>
                <a:lnTo>
                  <a:pt x="874" y="435"/>
                </a:lnTo>
                <a:lnTo>
                  <a:pt x="783" y="509"/>
                </a:lnTo>
                <a:lnTo>
                  <a:pt x="735" y="500"/>
                </a:lnTo>
                <a:lnTo>
                  <a:pt x="702" y="557"/>
                </a:lnTo>
                <a:lnTo>
                  <a:pt x="702" y="601"/>
                </a:lnTo>
                <a:lnTo>
                  <a:pt x="644" y="645"/>
                </a:lnTo>
                <a:lnTo>
                  <a:pt x="692" y="707"/>
                </a:lnTo>
                <a:lnTo>
                  <a:pt x="695" y="744"/>
                </a:lnTo>
                <a:lnTo>
                  <a:pt x="646" y="800"/>
                </a:lnTo>
                <a:lnTo>
                  <a:pt x="699" y="812"/>
                </a:lnTo>
                <a:lnTo>
                  <a:pt x="731" y="875"/>
                </a:lnTo>
                <a:lnTo>
                  <a:pt x="823" y="931"/>
                </a:lnTo>
                <a:lnTo>
                  <a:pt x="836" y="985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0800" y="1619280"/>
            <a:ext cx="1108080" cy="988920"/>
          </a:xfrm>
          <a:custGeom>
            <a:avLst/>
            <a:gdLst/>
            <a:ahLst/>
            <a:rect l="l" t="t" r="r" b="b"/>
            <a:pathLst>
              <a:path w="2142" h="1914">
                <a:moveTo>
                  <a:pt x="527" y="1877"/>
                </a:moveTo>
                <a:lnTo>
                  <a:pt x="438" y="1861"/>
                </a:lnTo>
                <a:lnTo>
                  <a:pt x="369" y="1862"/>
                </a:lnTo>
                <a:lnTo>
                  <a:pt x="345" y="1785"/>
                </a:lnTo>
                <a:lnTo>
                  <a:pt x="354" y="1698"/>
                </a:lnTo>
                <a:lnTo>
                  <a:pt x="307" y="1692"/>
                </a:lnTo>
                <a:lnTo>
                  <a:pt x="244" y="1750"/>
                </a:lnTo>
                <a:lnTo>
                  <a:pt x="219" y="1809"/>
                </a:lnTo>
                <a:lnTo>
                  <a:pt x="186" y="1826"/>
                </a:lnTo>
                <a:lnTo>
                  <a:pt x="170" y="1728"/>
                </a:lnTo>
                <a:lnTo>
                  <a:pt x="150" y="1720"/>
                </a:lnTo>
                <a:lnTo>
                  <a:pt x="130" y="1650"/>
                </a:lnTo>
                <a:lnTo>
                  <a:pt x="147" y="1597"/>
                </a:lnTo>
                <a:lnTo>
                  <a:pt x="130" y="1567"/>
                </a:lnTo>
                <a:lnTo>
                  <a:pt x="134" y="1520"/>
                </a:lnTo>
                <a:lnTo>
                  <a:pt x="167" y="1527"/>
                </a:lnTo>
                <a:lnTo>
                  <a:pt x="169" y="1503"/>
                </a:lnTo>
                <a:lnTo>
                  <a:pt x="149" y="1445"/>
                </a:lnTo>
                <a:lnTo>
                  <a:pt x="159" y="1412"/>
                </a:lnTo>
                <a:lnTo>
                  <a:pt x="126" y="1390"/>
                </a:lnTo>
                <a:lnTo>
                  <a:pt x="146" y="1368"/>
                </a:lnTo>
                <a:lnTo>
                  <a:pt x="131" y="1343"/>
                </a:lnTo>
                <a:lnTo>
                  <a:pt x="106" y="1373"/>
                </a:lnTo>
                <a:lnTo>
                  <a:pt x="77" y="1365"/>
                </a:lnTo>
                <a:lnTo>
                  <a:pt x="34" y="1323"/>
                </a:lnTo>
                <a:lnTo>
                  <a:pt x="21" y="1266"/>
                </a:lnTo>
                <a:lnTo>
                  <a:pt x="2" y="1246"/>
                </a:lnTo>
                <a:lnTo>
                  <a:pt x="0" y="1204"/>
                </a:lnTo>
                <a:lnTo>
                  <a:pt x="21" y="1186"/>
                </a:lnTo>
                <a:lnTo>
                  <a:pt x="85" y="1150"/>
                </a:lnTo>
                <a:lnTo>
                  <a:pt x="137" y="1128"/>
                </a:lnTo>
                <a:lnTo>
                  <a:pt x="157" y="1138"/>
                </a:lnTo>
                <a:lnTo>
                  <a:pt x="177" y="1078"/>
                </a:lnTo>
                <a:lnTo>
                  <a:pt x="194" y="1016"/>
                </a:lnTo>
                <a:lnTo>
                  <a:pt x="169" y="997"/>
                </a:lnTo>
                <a:lnTo>
                  <a:pt x="133" y="938"/>
                </a:lnTo>
                <a:lnTo>
                  <a:pt x="175" y="894"/>
                </a:lnTo>
                <a:lnTo>
                  <a:pt x="205" y="910"/>
                </a:lnTo>
                <a:lnTo>
                  <a:pt x="224" y="865"/>
                </a:lnTo>
                <a:lnTo>
                  <a:pt x="237" y="875"/>
                </a:lnTo>
                <a:lnTo>
                  <a:pt x="244" y="857"/>
                </a:lnTo>
                <a:lnTo>
                  <a:pt x="220" y="830"/>
                </a:lnTo>
                <a:lnTo>
                  <a:pt x="200" y="806"/>
                </a:lnTo>
                <a:lnTo>
                  <a:pt x="172" y="786"/>
                </a:lnTo>
                <a:lnTo>
                  <a:pt x="176" y="752"/>
                </a:lnTo>
                <a:lnTo>
                  <a:pt x="172" y="728"/>
                </a:lnTo>
                <a:lnTo>
                  <a:pt x="232" y="758"/>
                </a:lnTo>
                <a:lnTo>
                  <a:pt x="261" y="811"/>
                </a:lnTo>
                <a:lnTo>
                  <a:pt x="292" y="894"/>
                </a:lnTo>
                <a:lnTo>
                  <a:pt x="311" y="939"/>
                </a:lnTo>
                <a:lnTo>
                  <a:pt x="372" y="945"/>
                </a:lnTo>
                <a:lnTo>
                  <a:pt x="384" y="979"/>
                </a:lnTo>
                <a:lnTo>
                  <a:pt x="359" y="1011"/>
                </a:lnTo>
                <a:lnTo>
                  <a:pt x="311" y="1026"/>
                </a:lnTo>
                <a:lnTo>
                  <a:pt x="281" y="1080"/>
                </a:lnTo>
                <a:lnTo>
                  <a:pt x="319" y="1101"/>
                </a:lnTo>
                <a:lnTo>
                  <a:pt x="318" y="1151"/>
                </a:lnTo>
                <a:lnTo>
                  <a:pt x="295" y="1197"/>
                </a:lnTo>
                <a:lnTo>
                  <a:pt x="261" y="1225"/>
                </a:lnTo>
                <a:lnTo>
                  <a:pt x="286" y="1253"/>
                </a:lnTo>
                <a:lnTo>
                  <a:pt x="329" y="1218"/>
                </a:lnTo>
                <a:lnTo>
                  <a:pt x="353" y="1155"/>
                </a:lnTo>
                <a:lnTo>
                  <a:pt x="368" y="1043"/>
                </a:lnTo>
                <a:lnTo>
                  <a:pt x="412" y="997"/>
                </a:lnTo>
                <a:lnTo>
                  <a:pt x="410" y="939"/>
                </a:lnTo>
                <a:lnTo>
                  <a:pt x="379" y="913"/>
                </a:lnTo>
                <a:lnTo>
                  <a:pt x="375" y="875"/>
                </a:lnTo>
                <a:lnTo>
                  <a:pt x="380" y="833"/>
                </a:lnTo>
                <a:lnTo>
                  <a:pt x="325" y="800"/>
                </a:lnTo>
                <a:lnTo>
                  <a:pt x="314" y="758"/>
                </a:lnTo>
                <a:lnTo>
                  <a:pt x="350" y="689"/>
                </a:lnTo>
                <a:lnTo>
                  <a:pt x="353" y="633"/>
                </a:lnTo>
                <a:lnTo>
                  <a:pt x="374" y="563"/>
                </a:lnTo>
                <a:lnTo>
                  <a:pt x="462" y="574"/>
                </a:lnTo>
                <a:lnTo>
                  <a:pt x="571" y="609"/>
                </a:lnTo>
                <a:lnTo>
                  <a:pt x="640" y="631"/>
                </a:lnTo>
                <a:lnTo>
                  <a:pt x="708" y="618"/>
                </a:lnTo>
                <a:lnTo>
                  <a:pt x="729" y="618"/>
                </a:lnTo>
                <a:lnTo>
                  <a:pt x="754" y="589"/>
                </a:lnTo>
                <a:lnTo>
                  <a:pt x="741" y="540"/>
                </a:lnTo>
                <a:lnTo>
                  <a:pt x="710" y="516"/>
                </a:lnTo>
                <a:lnTo>
                  <a:pt x="766" y="478"/>
                </a:lnTo>
                <a:lnTo>
                  <a:pt x="723" y="457"/>
                </a:lnTo>
                <a:lnTo>
                  <a:pt x="747" y="425"/>
                </a:lnTo>
                <a:lnTo>
                  <a:pt x="784" y="413"/>
                </a:lnTo>
                <a:lnTo>
                  <a:pt x="814" y="380"/>
                </a:lnTo>
                <a:lnTo>
                  <a:pt x="857" y="402"/>
                </a:lnTo>
                <a:lnTo>
                  <a:pt x="886" y="379"/>
                </a:lnTo>
                <a:lnTo>
                  <a:pt x="950" y="341"/>
                </a:lnTo>
                <a:lnTo>
                  <a:pt x="1017" y="338"/>
                </a:lnTo>
                <a:lnTo>
                  <a:pt x="1078" y="339"/>
                </a:lnTo>
                <a:lnTo>
                  <a:pt x="1146" y="328"/>
                </a:lnTo>
                <a:lnTo>
                  <a:pt x="1173" y="322"/>
                </a:lnTo>
                <a:lnTo>
                  <a:pt x="1138" y="296"/>
                </a:lnTo>
                <a:lnTo>
                  <a:pt x="1143" y="279"/>
                </a:lnTo>
                <a:lnTo>
                  <a:pt x="1190" y="272"/>
                </a:lnTo>
                <a:lnTo>
                  <a:pt x="1228" y="271"/>
                </a:lnTo>
                <a:lnTo>
                  <a:pt x="1264" y="280"/>
                </a:lnTo>
                <a:lnTo>
                  <a:pt x="1285" y="293"/>
                </a:lnTo>
                <a:lnTo>
                  <a:pt x="1273" y="334"/>
                </a:lnTo>
                <a:lnTo>
                  <a:pt x="1301" y="327"/>
                </a:lnTo>
                <a:lnTo>
                  <a:pt x="1305" y="351"/>
                </a:lnTo>
                <a:lnTo>
                  <a:pt x="1347" y="326"/>
                </a:lnTo>
                <a:lnTo>
                  <a:pt x="1357" y="334"/>
                </a:lnTo>
                <a:lnTo>
                  <a:pt x="1388" y="316"/>
                </a:lnTo>
                <a:lnTo>
                  <a:pt x="1408" y="292"/>
                </a:lnTo>
                <a:lnTo>
                  <a:pt x="1450" y="335"/>
                </a:lnTo>
                <a:lnTo>
                  <a:pt x="1458" y="298"/>
                </a:lnTo>
                <a:lnTo>
                  <a:pt x="1439" y="265"/>
                </a:lnTo>
                <a:lnTo>
                  <a:pt x="1426" y="239"/>
                </a:lnTo>
                <a:lnTo>
                  <a:pt x="1509" y="252"/>
                </a:lnTo>
                <a:lnTo>
                  <a:pt x="1539" y="236"/>
                </a:lnTo>
                <a:lnTo>
                  <a:pt x="1546" y="181"/>
                </a:lnTo>
                <a:lnTo>
                  <a:pt x="1553" y="141"/>
                </a:lnTo>
                <a:lnTo>
                  <a:pt x="1595" y="75"/>
                </a:lnTo>
                <a:lnTo>
                  <a:pt x="1646" y="23"/>
                </a:lnTo>
                <a:lnTo>
                  <a:pt x="1694" y="0"/>
                </a:lnTo>
                <a:lnTo>
                  <a:pt x="1732" y="18"/>
                </a:lnTo>
                <a:lnTo>
                  <a:pt x="1772" y="40"/>
                </a:lnTo>
                <a:lnTo>
                  <a:pt x="1785" y="77"/>
                </a:lnTo>
                <a:lnTo>
                  <a:pt x="1733" y="105"/>
                </a:lnTo>
                <a:lnTo>
                  <a:pt x="1689" y="128"/>
                </a:lnTo>
                <a:lnTo>
                  <a:pt x="1770" y="125"/>
                </a:lnTo>
                <a:lnTo>
                  <a:pt x="1750" y="154"/>
                </a:lnTo>
                <a:lnTo>
                  <a:pt x="1793" y="142"/>
                </a:lnTo>
                <a:lnTo>
                  <a:pt x="1829" y="153"/>
                </a:lnTo>
                <a:lnTo>
                  <a:pt x="1836" y="171"/>
                </a:lnTo>
                <a:lnTo>
                  <a:pt x="1788" y="245"/>
                </a:lnTo>
                <a:lnTo>
                  <a:pt x="1803" y="261"/>
                </a:lnTo>
                <a:lnTo>
                  <a:pt x="1838" y="258"/>
                </a:lnTo>
                <a:lnTo>
                  <a:pt x="1865" y="239"/>
                </a:lnTo>
                <a:lnTo>
                  <a:pt x="1857" y="212"/>
                </a:lnTo>
                <a:lnTo>
                  <a:pt x="1902" y="212"/>
                </a:lnTo>
                <a:lnTo>
                  <a:pt x="1960" y="208"/>
                </a:lnTo>
                <a:lnTo>
                  <a:pt x="2008" y="203"/>
                </a:lnTo>
                <a:lnTo>
                  <a:pt x="2042" y="235"/>
                </a:lnTo>
                <a:lnTo>
                  <a:pt x="2068" y="276"/>
                </a:lnTo>
                <a:lnTo>
                  <a:pt x="2086" y="314"/>
                </a:lnTo>
                <a:lnTo>
                  <a:pt x="2085" y="342"/>
                </a:lnTo>
                <a:lnTo>
                  <a:pt x="2104" y="339"/>
                </a:lnTo>
                <a:lnTo>
                  <a:pt x="2120" y="354"/>
                </a:lnTo>
                <a:lnTo>
                  <a:pt x="2141" y="383"/>
                </a:lnTo>
                <a:lnTo>
                  <a:pt x="2142" y="428"/>
                </a:lnTo>
                <a:lnTo>
                  <a:pt x="2110" y="417"/>
                </a:lnTo>
                <a:lnTo>
                  <a:pt x="2082" y="389"/>
                </a:lnTo>
                <a:lnTo>
                  <a:pt x="2091" y="422"/>
                </a:lnTo>
                <a:lnTo>
                  <a:pt x="2114" y="450"/>
                </a:lnTo>
                <a:lnTo>
                  <a:pt x="2139" y="459"/>
                </a:lnTo>
                <a:lnTo>
                  <a:pt x="2136" y="496"/>
                </a:lnTo>
                <a:lnTo>
                  <a:pt x="2119" y="541"/>
                </a:lnTo>
                <a:lnTo>
                  <a:pt x="2077" y="591"/>
                </a:lnTo>
                <a:lnTo>
                  <a:pt x="2055" y="631"/>
                </a:lnTo>
                <a:lnTo>
                  <a:pt x="2027" y="635"/>
                </a:lnTo>
                <a:lnTo>
                  <a:pt x="1985" y="671"/>
                </a:lnTo>
                <a:lnTo>
                  <a:pt x="1950" y="711"/>
                </a:lnTo>
                <a:lnTo>
                  <a:pt x="1942" y="755"/>
                </a:lnTo>
                <a:lnTo>
                  <a:pt x="1890" y="786"/>
                </a:lnTo>
                <a:lnTo>
                  <a:pt x="1859" y="830"/>
                </a:lnTo>
                <a:lnTo>
                  <a:pt x="1807" y="851"/>
                </a:lnTo>
                <a:lnTo>
                  <a:pt x="1794" y="879"/>
                </a:lnTo>
                <a:lnTo>
                  <a:pt x="1782" y="898"/>
                </a:lnTo>
                <a:lnTo>
                  <a:pt x="1742" y="905"/>
                </a:lnTo>
                <a:lnTo>
                  <a:pt x="1731" y="948"/>
                </a:lnTo>
                <a:lnTo>
                  <a:pt x="1686" y="1016"/>
                </a:lnTo>
                <a:lnTo>
                  <a:pt x="1715" y="1016"/>
                </a:lnTo>
                <a:lnTo>
                  <a:pt x="1745" y="982"/>
                </a:lnTo>
                <a:lnTo>
                  <a:pt x="1760" y="935"/>
                </a:lnTo>
                <a:lnTo>
                  <a:pt x="1823" y="932"/>
                </a:lnTo>
                <a:lnTo>
                  <a:pt x="1874" y="918"/>
                </a:lnTo>
                <a:lnTo>
                  <a:pt x="1919" y="889"/>
                </a:lnTo>
                <a:lnTo>
                  <a:pt x="1962" y="867"/>
                </a:lnTo>
                <a:lnTo>
                  <a:pt x="2003" y="837"/>
                </a:lnTo>
                <a:lnTo>
                  <a:pt x="2002" y="815"/>
                </a:lnTo>
                <a:lnTo>
                  <a:pt x="1944" y="833"/>
                </a:lnTo>
                <a:lnTo>
                  <a:pt x="1968" y="767"/>
                </a:lnTo>
                <a:lnTo>
                  <a:pt x="2012" y="778"/>
                </a:lnTo>
                <a:lnTo>
                  <a:pt x="2035" y="792"/>
                </a:lnTo>
                <a:lnTo>
                  <a:pt x="2028" y="830"/>
                </a:lnTo>
                <a:lnTo>
                  <a:pt x="1998" y="874"/>
                </a:lnTo>
                <a:lnTo>
                  <a:pt x="1974" y="892"/>
                </a:lnTo>
                <a:lnTo>
                  <a:pt x="1990" y="935"/>
                </a:lnTo>
                <a:lnTo>
                  <a:pt x="2010" y="950"/>
                </a:lnTo>
                <a:lnTo>
                  <a:pt x="1999" y="1042"/>
                </a:lnTo>
                <a:lnTo>
                  <a:pt x="2031" y="1074"/>
                </a:lnTo>
                <a:lnTo>
                  <a:pt x="2048" y="1111"/>
                </a:lnTo>
                <a:lnTo>
                  <a:pt x="2079" y="1142"/>
                </a:lnTo>
                <a:lnTo>
                  <a:pt x="2084" y="1286"/>
                </a:lnTo>
                <a:lnTo>
                  <a:pt x="2125" y="1305"/>
                </a:lnTo>
                <a:lnTo>
                  <a:pt x="2114" y="1358"/>
                </a:lnTo>
                <a:lnTo>
                  <a:pt x="2004" y="1408"/>
                </a:lnTo>
                <a:lnTo>
                  <a:pt x="1971" y="1437"/>
                </a:lnTo>
                <a:lnTo>
                  <a:pt x="1979" y="1484"/>
                </a:lnTo>
                <a:lnTo>
                  <a:pt x="1946" y="1488"/>
                </a:lnTo>
                <a:lnTo>
                  <a:pt x="1923" y="1524"/>
                </a:lnTo>
                <a:lnTo>
                  <a:pt x="1918" y="1609"/>
                </a:lnTo>
                <a:lnTo>
                  <a:pt x="1857" y="1595"/>
                </a:lnTo>
                <a:lnTo>
                  <a:pt x="1727" y="1658"/>
                </a:lnTo>
                <a:lnTo>
                  <a:pt x="1693" y="1659"/>
                </a:lnTo>
                <a:lnTo>
                  <a:pt x="1649" y="1687"/>
                </a:lnTo>
                <a:lnTo>
                  <a:pt x="1596" y="1673"/>
                </a:lnTo>
                <a:lnTo>
                  <a:pt x="1553" y="1695"/>
                </a:lnTo>
                <a:lnTo>
                  <a:pt x="1528" y="1677"/>
                </a:lnTo>
                <a:lnTo>
                  <a:pt x="1445" y="1662"/>
                </a:lnTo>
                <a:lnTo>
                  <a:pt x="1425" y="1634"/>
                </a:lnTo>
                <a:lnTo>
                  <a:pt x="1359" y="1611"/>
                </a:lnTo>
                <a:lnTo>
                  <a:pt x="1335" y="1625"/>
                </a:lnTo>
                <a:lnTo>
                  <a:pt x="1334" y="1567"/>
                </a:lnTo>
                <a:lnTo>
                  <a:pt x="1281" y="1544"/>
                </a:lnTo>
                <a:lnTo>
                  <a:pt x="1270" y="1572"/>
                </a:lnTo>
                <a:lnTo>
                  <a:pt x="1197" y="1560"/>
                </a:lnTo>
                <a:lnTo>
                  <a:pt x="1141" y="1577"/>
                </a:lnTo>
                <a:lnTo>
                  <a:pt x="1063" y="1608"/>
                </a:lnTo>
                <a:lnTo>
                  <a:pt x="985" y="1641"/>
                </a:lnTo>
                <a:lnTo>
                  <a:pt x="937" y="1682"/>
                </a:lnTo>
                <a:lnTo>
                  <a:pt x="900" y="1728"/>
                </a:lnTo>
                <a:lnTo>
                  <a:pt x="878" y="1788"/>
                </a:lnTo>
                <a:lnTo>
                  <a:pt x="812" y="1757"/>
                </a:lnTo>
                <a:lnTo>
                  <a:pt x="773" y="1807"/>
                </a:lnTo>
                <a:lnTo>
                  <a:pt x="713" y="1853"/>
                </a:lnTo>
                <a:lnTo>
                  <a:pt x="642" y="1914"/>
                </a:lnTo>
                <a:lnTo>
                  <a:pt x="527" y="1877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18160" y="3659040"/>
            <a:ext cx="1019160" cy="736920"/>
          </a:xfrm>
          <a:custGeom>
            <a:avLst/>
            <a:gdLst/>
            <a:ahLst/>
            <a:rect l="l" t="t" r="r" b="b"/>
            <a:pathLst>
              <a:path w="1970" h="1424">
                <a:moveTo>
                  <a:pt x="1797" y="123"/>
                </a:moveTo>
                <a:lnTo>
                  <a:pt x="1820" y="136"/>
                </a:lnTo>
                <a:lnTo>
                  <a:pt x="1825" y="171"/>
                </a:lnTo>
                <a:lnTo>
                  <a:pt x="1846" y="228"/>
                </a:lnTo>
                <a:lnTo>
                  <a:pt x="1858" y="285"/>
                </a:lnTo>
                <a:lnTo>
                  <a:pt x="1870" y="348"/>
                </a:lnTo>
                <a:lnTo>
                  <a:pt x="1919" y="347"/>
                </a:lnTo>
                <a:lnTo>
                  <a:pt x="1924" y="367"/>
                </a:lnTo>
                <a:lnTo>
                  <a:pt x="1970" y="411"/>
                </a:lnTo>
                <a:lnTo>
                  <a:pt x="1969" y="484"/>
                </a:lnTo>
                <a:lnTo>
                  <a:pt x="1927" y="508"/>
                </a:lnTo>
                <a:lnTo>
                  <a:pt x="1849" y="539"/>
                </a:lnTo>
                <a:lnTo>
                  <a:pt x="1760" y="639"/>
                </a:lnTo>
                <a:lnTo>
                  <a:pt x="1703" y="675"/>
                </a:lnTo>
                <a:lnTo>
                  <a:pt x="1673" y="728"/>
                </a:lnTo>
                <a:lnTo>
                  <a:pt x="1704" y="770"/>
                </a:lnTo>
                <a:lnTo>
                  <a:pt x="1731" y="809"/>
                </a:lnTo>
                <a:lnTo>
                  <a:pt x="1726" y="855"/>
                </a:lnTo>
                <a:lnTo>
                  <a:pt x="1687" y="889"/>
                </a:lnTo>
                <a:lnTo>
                  <a:pt x="1653" y="925"/>
                </a:lnTo>
                <a:lnTo>
                  <a:pt x="1585" y="950"/>
                </a:lnTo>
                <a:lnTo>
                  <a:pt x="1545" y="955"/>
                </a:lnTo>
                <a:lnTo>
                  <a:pt x="1529" y="981"/>
                </a:lnTo>
                <a:lnTo>
                  <a:pt x="1489" y="969"/>
                </a:lnTo>
                <a:lnTo>
                  <a:pt x="1443" y="1033"/>
                </a:lnTo>
                <a:lnTo>
                  <a:pt x="1380" y="1067"/>
                </a:lnTo>
                <a:lnTo>
                  <a:pt x="1355" y="1106"/>
                </a:lnTo>
                <a:lnTo>
                  <a:pt x="1314" y="1118"/>
                </a:lnTo>
                <a:lnTo>
                  <a:pt x="1303" y="1106"/>
                </a:lnTo>
                <a:lnTo>
                  <a:pt x="1260" y="1111"/>
                </a:lnTo>
                <a:lnTo>
                  <a:pt x="1192" y="1143"/>
                </a:lnTo>
                <a:lnTo>
                  <a:pt x="1162" y="1130"/>
                </a:lnTo>
                <a:lnTo>
                  <a:pt x="1099" y="1132"/>
                </a:lnTo>
                <a:lnTo>
                  <a:pt x="1071" y="1175"/>
                </a:lnTo>
                <a:lnTo>
                  <a:pt x="1101" y="1195"/>
                </a:lnTo>
                <a:lnTo>
                  <a:pt x="1097" y="1211"/>
                </a:lnTo>
                <a:lnTo>
                  <a:pt x="1066" y="1220"/>
                </a:lnTo>
                <a:lnTo>
                  <a:pt x="1041" y="1279"/>
                </a:lnTo>
                <a:lnTo>
                  <a:pt x="1113" y="1313"/>
                </a:lnTo>
                <a:lnTo>
                  <a:pt x="1106" y="1332"/>
                </a:lnTo>
                <a:lnTo>
                  <a:pt x="1053" y="1347"/>
                </a:lnTo>
                <a:lnTo>
                  <a:pt x="1007" y="1382"/>
                </a:lnTo>
                <a:lnTo>
                  <a:pt x="998" y="1424"/>
                </a:lnTo>
                <a:lnTo>
                  <a:pt x="963" y="1419"/>
                </a:lnTo>
                <a:lnTo>
                  <a:pt x="934" y="1411"/>
                </a:lnTo>
                <a:lnTo>
                  <a:pt x="901" y="1361"/>
                </a:lnTo>
                <a:lnTo>
                  <a:pt x="866" y="1354"/>
                </a:lnTo>
                <a:lnTo>
                  <a:pt x="832" y="1355"/>
                </a:lnTo>
                <a:lnTo>
                  <a:pt x="727" y="1322"/>
                </a:lnTo>
                <a:lnTo>
                  <a:pt x="625" y="1351"/>
                </a:lnTo>
                <a:lnTo>
                  <a:pt x="573" y="1380"/>
                </a:lnTo>
                <a:lnTo>
                  <a:pt x="525" y="1375"/>
                </a:lnTo>
                <a:lnTo>
                  <a:pt x="471" y="1350"/>
                </a:lnTo>
                <a:lnTo>
                  <a:pt x="417" y="1328"/>
                </a:lnTo>
                <a:lnTo>
                  <a:pt x="377" y="1275"/>
                </a:lnTo>
                <a:lnTo>
                  <a:pt x="371" y="1233"/>
                </a:lnTo>
                <a:lnTo>
                  <a:pt x="378" y="1136"/>
                </a:lnTo>
                <a:lnTo>
                  <a:pt x="268" y="1086"/>
                </a:lnTo>
                <a:lnTo>
                  <a:pt x="200" y="1050"/>
                </a:lnTo>
                <a:lnTo>
                  <a:pt x="135" y="1039"/>
                </a:lnTo>
                <a:lnTo>
                  <a:pt x="113" y="1008"/>
                </a:lnTo>
                <a:lnTo>
                  <a:pt x="65" y="989"/>
                </a:lnTo>
                <a:lnTo>
                  <a:pt x="25" y="944"/>
                </a:lnTo>
                <a:lnTo>
                  <a:pt x="0" y="889"/>
                </a:lnTo>
                <a:lnTo>
                  <a:pt x="39" y="851"/>
                </a:lnTo>
                <a:lnTo>
                  <a:pt x="34" y="812"/>
                </a:lnTo>
                <a:lnTo>
                  <a:pt x="46" y="801"/>
                </a:lnTo>
                <a:lnTo>
                  <a:pt x="70" y="813"/>
                </a:lnTo>
                <a:lnTo>
                  <a:pt x="74" y="795"/>
                </a:lnTo>
                <a:lnTo>
                  <a:pt x="116" y="768"/>
                </a:lnTo>
                <a:lnTo>
                  <a:pt x="189" y="734"/>
                </a:lnTo>
                <a:lnTo>
                  <a:pt x="214" y="766"/>
                </a:lnTo>
                <a:lnTo>
                  <a:pt x="201" y="779"/>
                </a:lnTo>
                <a:lnTo>
                  <a:pt x="269" y="865"/>
                </a:lnTo>
                <a:lnTo>
                  <a:pt x="314" y="900"/>
                </a:lnTo>
                <a:lnTo>
                  <a:pt x="361" y="963"/>
                </a:lnTo>
                <a:lnTo>
                  <a:pt x="418" y="972"/>
                </a:lnTo>
                <a:lnTo>
                  <a:pt x="493" y="1049"/>
                </a:lnTo>
                <a:lnTo>
                  <a:pt x="501" y="1126"/>
                </a:lnTo>
                <a:lnTo>
                  <a:pt x="542" y="1118"/>
                </a:lnTo>
                <a:lnTo>
                  <a:pt x="560" y="1129"/>
                </a:lnTo>
                <a:lnTo>
                  <a:pt x="555" y="1180"/>
                </a:lnTo>
                <a:lnTo>
                  <a:pt x="600" y="1162"/>
                </a:lnTo>
                <a:lnTo>
                  <a:pt x="650" y="1168"/>
                </a:lnTo>
                <a:lnTo>
                  <a:pt x="650" y="1123"/>
                </a:lnTo>
                <a:lnTo>
                  <a:pt x="727" y="1106"/>
                </a:lnTo>
                <a:lnTo>
                  <a:pt x="793" y="1090"/>
                </a:lnTo>
                <a:lnTo>
                  <a:pt x="845" y="1017"/>
                </a:lnTo>
                <a:lnTo>
                  <a:pt x="846" y="983"/>
                </a:lnTo>
                <a:lnTo>
                  <a:pt x="867" y="967"/>
                </a:lnTo>
                <a:lnTo>
                  <a:pt x="903" y="970"/>
                </a:lnTo>
                <a:lnTo>
                  <a:pt x="929" y="937"/>
                </a:lnTo>
                <a:lnTo>
                  <a:pt x="1006" y="900"/>
                </a:lnTo>
                <a:lnTo>
                  <a:pt x="1069" y="860"/>
                </a:lnTo>
                <a:lnTo>
                  <a:pt x="1075" y="831"/>
                </a:lnTo>
                <a:lnTo>
                  <a:pt x="1108" y="794"/>
                </a:lnTo>
                <a:lnTo>
                  <a:pt x="1146" y="782"/>
                </a:lnTo>
                <a:lnTo>
                  <a:pt x="1133" y="735"/>
                </a:lnTo>
                <a:lnTo>
                  <a:pt x="1102" y="750"/>
                </a:lnTo>
                <a:lnTo>
                  <a:pt x="1144" y="684"/>
                </a:lnTo>
                <a:lnTo>
                  <a:pt x="1156" y="690"/>
                </a:lnTo>
                <a:lnTo>
                  <a:pt x="1146" y="728"/>
                </a:lnTo>
                <a:lnTo>
                  <a:pt x="1170" y="722"/>
                </a:lnTo>
                <a:lnTo>
                  <a:pt x="1179" y="689"/>
                </a:lnTo>
                <a:lnTo>
                  <a:pt x="1208" y="629"/>
                </a:lnTo>
                <a:lnTo>
                  <a:pt x="1202" y="591"/>
                </a:lnTo>
                <a:lnTo>
                  <a:pt x="1212" y="528"/>
                </a:lnTo>
                <a:lnTo>
                  <a:pt x="1243" y="385"/>
                </a:lnTo>
                <a:lnTo>
                  <a:pt x="1248" y="337"/>
                </a:lnTo>
                <a:lnTo>
                  <a:pt x="1230" y="325"/>
                </a:lnTo>
                <a:lnTo>
                  <a:pt x="1190" y="348"/>
                </a:lnTo>
                <a:lnTo>
                  <a:pt x="1170" y="392"/>
                </a:lnTo>
                <a:lnTo>
                  <a:pt x="1158" y="456"/>
                </a:lnTo>
                <a:lnTo>
                  <a:pt x="1111" y="557"/>
                </a:lnTo>
                <a:lnTo>
                  <a:pt x="1119" y="464"/>
                </a:lnTo>
                <a:lnTo>
                  <a:pt x="1127" y="431"/>
                </a:lnTo>
                <a:lnTo>
                  <a:pt x="1111" y="410"/>
                </a:lnTo>
                <a:lnTo>
                  <a:pt x="1123" y="353"/>
                </a:lnTo>
                <a:lnTo>
                  <a:pt x="1136" y="305"/>
                </a:lnTo>
                <a:lnTo>
                  <a:pt x="1167" y="299"/>
                </a:lnTo>
                <a:lnTo>
                  <a:pt x="1177" y="286"/>
                </a:lnTo>
                <a:lnTo>
                  <a:pt x="1132" y="237"/>
                </a:lnTo>
                <a:lnTo>
                  <a:pt x="1102" y="227"/>
                </a:lnTo>
                <a:lnTo>
                  <a:pt x="1118" y="181"/>
                </a:lnTo>
                <a:lnTo>
                  <a:pt x="1151" y="163"/>
                </a:lnTo>
                <a:lnTo>
                  <a:pt x="1199" y="148"/>
                </a:lnTo>
                <a:lnTo>
                  <a:pt x="1225" y="151"/>
                </a:lnTo>
                <a:lnTo>
                  <a:pt x="1241" y="114"/>
                </a:lnTo>
                <a:lnTo>
                  <a:pt x="1261" y="95"/>
                </a:lnTo>
                <a:lnTo>
                  <a:pt x="1314" y="120"/>
                </a:lnTo>
                <a:lnTo>
                  <a:pt x="1356" y="126"/>
                </a:lnTo>
                <a:lnTo>
                  <a:pt x="1381" y="113"/>
                </a:lnTo>
                <a:lnTo>
                  <a:pt x="1399" y="68"/>
                </a:lnTo>
                <a:lnTo>
                  <a:pt x="1424" y="106"/>
                </a:lnTo>
                <a:lnTo>
                  <a:pt x="1483" y="110"/>
                </a:lnTo>
                <a:lnTo>
                  <a:pt x="1512" y="84"/>
                </a:lnTo>
                <a:lnTo>
                  <a:pt x="1522" y="88"/>
                </a:lnTo>
                <a:lnTo>
                  <a:pt x="1521" y="126"/>
                </a:lnTo>
                <a:lnTo>
                  <a:pt x="1642" y="156"/>
                </a:lnTo>
                <a:lnTo>
                  <a:pt x="1671" y="132"/>
                </a:lnTo>
                <a:lnTo>
                  <a:pt x="1729" y="118"/>
                </a:lnTo>
                <a:lnTo>
                  <a:pt x="1752" y="43"/>
                </a:lnTo>
                <a:lnTo>
                  <a:pt x="1809" y="23"/>
                </a:lnTo>
                <a:lnTo>
                  <a:pt x="1819" y="11"/>
                </a:lnTo>
                <a:lnTo>
                  <a:pt x="1858" y="0"/>
                </a:lnTo>
                <a:lnTo>
                  <a:pt x="1871" y="18"/>
                </a:lnTo>
                <a:lnTo>
                  <a:pt x="1821" y="58"/>
                </a:lnTo>
                <a:lnTo>
                  <a:pt x="1811" y="81"/>
                </a:lnTo>
                <a:lnTo>
                  <a:pt x="1797" y="12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64400" y="3598920"/>
            <a:ext cx="887400" cy="674640"/>
          </a:xfrm>
          <a:custGeom>
            <a:avLst/>
            <a:gdLst/>
            <a:ahLst/>
            <a:rect l="l" t="t" r="r" b="b"/>
            <a:pathLst>
              <a:path w="1719" h="1303">
                <a:moveTo>
                  <a:pt x="1184" y="59"/>
                </a:moveTo>
                <a:lnTo>
                  <a:pt x="1223" y="43"/>
                </a:lnTo>
                <a:lnTo>
                  <a:pt x="1295" y="0"/>
                </a:lnTo>
                <a:lnTo>
                  <a:pt x="1317" y="26"/>
                </a:lnTo>
                <a:lnTo>
                  <a:pt x="1366" y="41"/>
                </a:lnTo>
                <a:lnTo>
                  <a:pt x="1343" y="68"/>
                </a:lnTo>
                <a:lnTo>
                  <a:pt x="1323" y="118"/>
                </a:lnTo>
                <a:lnTo>
                  <a:pt x="1287" y="159"/>
                </a:lnTo>
                <a:lnTo>
                  <a:pt x="1257" y="208"/>
                </a:lnTo>
                <a:lnTo>
                  <a:pt x="1246" y="261"/>
                </a:lnTo>
                <a:lnTo>
                  <a:pt x="1224" y="296"/>
                </a:lnTo>
                <a:lnTo>
                  <a:pt x="1202" y="342"/>
                </a:lnTo>
                <a:lnTo>
                  <a:pt x="1211" y="393"/>
                </a:lnTo>
                <a:lnTo>
                  <a:pt x="1305" y="382"/>
                </a:lnTo>
                <a:lnTo>
                  <a:pt x="1343" y="481"/>
                </a:lnTo>
                <a:lnTo>
                  <a:pt x="1384" y="463"/>
                </a:lnTo>
                <a:lnTo>
                  <a:pt x="1381" y="480"/>
                </a:lnTo>
                <a:lnTo>
                  <a:pt x="1410" y="469"/>
                </a:lnTo>
                <a:lnTo>
                  <a:pt x="1415" y="449"/>
                </a:lnTo>
                <a:lnTo>
                  <a:pt x="1467" y="427"/>
                </a:lnTo>
                <a:lnTo>
                  <a:pt x="1518" y="397"/>
                </a:lnTo>
                <a:lnTo>
                  <a:pt x="1521" y="362"/>
                </a:lnTo>
                <a:lnTo>
                  <a:pt x="1547" y="342"/>
                </a:lnTo>
                <a:lnTo>
                  <a:pt x="1597" y="341"/>
                </a:lnTo>
                <a:lnTo>
                  <a:pt x="1641" y="293"/>
                </a:lnTo>
                <a:lnTo>
                  <a:pt x="1686" y="310"/>
                </a:lnTo>
                <a:lnTo>
                  <a:pt x="1695" y="337"/>
                </a:lnTo>
                <a:lnTo>
                  <a:pt x="1686" y="402"/>
                </a:lnTo>
                <a:lnTo>
                  <a:pt x="1719" y="447"/>
                </a:lnTo>
                <a:lnTo>
                  <a:pt x="1709" y="491"/>
                </a:lnTo>
                <a:lnTo>
                  <a:pt x="1566" y="498"/>
                </a:lnTo>
                <a:lnTo>
                  <a:pt x="1604" y="567"/>
                </a:lnTo>
                <a:lnTo>
                  <a:pt x="1570" y="604"/>
                </a:lnTo>
                <a:lnTo>
                  <a:pt x="1535" y="636"/>
                </a:lnTo>
                <a:lnTo>
                  <a:pt x="1512" y="698"/>
                </a:lnTo>
                <a:lnTo>
                  <a:pt x="1425" y="762"/>
                </a:lnTo>
                <a:lnTo>
                  <a:pt x="1453" y="805"/>
                </a:lnTo>
                <a:lnTo>
                  <a:pt x="1428" y="811"/>
                </a:lnTo>
                <a:lnTo>
                  <a:pt x="1409" y="847"/>
                </a:lnTo>
                <a:lnTo>
                  <a:pt x="1399" y="904"/>
                </a:lnTo>
                <a:lnTo>
                  <a:pt x="1407" y="963"/>
                </a:lnTo>
                <a:lnTo>
                  <a:pt x="1446" y="964"/>
                </a:lnTo>
                <a:lnTo>
                  <a:pt x="1449" y="1002"/>
                </a:lnTo>
                <a:lnTo>
                  <a:pt x="1486" y="995"/>
                </a:lnTo>
                <a:lnTo>
                  <a:pt x="1516" y="1021"/>
                </a:lnTo>
                <a:lnTo>
                  <a:pt x="1503" y="1053"/>
                </a:lnTo>
                <a:lnTo>
                  <a:pt x="1530" y="1053"/>
                </a:lnTo>
                <a:lnTo>
                  <a:pt x="1548" y="1115"/>
                </a:lnTo>
                <a:lnTo>
                  <a:pt x="1566" y="1185"/>
                </a:lnTo>
                <a:lnTo>
                  <a:pt x="1536" y="1201"/>
                </a:lnTo>
                <a:lnTo>
                  <a:pt x="1520" y="1250"/>
                </a:lnTo>
                <a:lnTo>
                  <a:pt x="1491" y="1289"/>
                </a:lnTo>
                <a:lnTo>
                  <a:pt x="1446" y="1303"/>
                </a:lnTo>
                <a:lnTo>
                  <a:pt x="1386" y="1266"/>
                </a:lnTo>
                <a:lnTo>
                  <a:pt x="1335" y="1239"/>
                </a:lnTo>
                <a:lnTo>
                  <a:pt x="1283" y="1253"/>
                </a:lnTo>
                <a:lnTo>
                  <a:pt x="1240" y="1232"/>
                </a:lnTo>
                <a:lnTo>
                  <a:pt x="1176" y="1259"/>
                </a:lnTo>
                <a:lnTo>
                  <a:pt x="1094" y="1233"/>
                </a:lnTo>
                <a:lnTo>
                  <a:pt x="1082" y="1158"/>
                </a:lnTo>
                <a:lnTo>
                  <a:pt x="1052" y="1141"/>
                </a:lnTo>
                <a:lnTo>
                  <a:pt x="1015" y="1072"/>
                </a:lnTo>
                <a:lnTo>
                  <a:pt x="956" y="985"/>
                </a:lnTo>
                <a:lnTo>
                  <a:pt x="897" y="902"/>
                </a:lnTo>
                <a:lnTo>
                  <a:pt x="862" y="840"/>
                </a:lnTo>
                <a:lnTo>
                  <a:pt x="823" y="785"/>
                </a:lnTo>
                <a:lnTo>
                  <a:pt x="786" y="750"/>
                </a:lnTo>
                <a:lnTo>
                  <a:pt x="741" y="708"/>
                </a:lnTo>
                <a:lnTo>
                  <a:pt x="678" y="696"/>
                </a:lnTo>
                <a:lnTo>
                  <a:pt x="647" y="712"/>
                </a:lnTo>
                <a:lnTo>
                  <a:pt x="603" y="705"/>
                </a:lnTo>
                <a:lnTo>
                  <a:pt x="550" y="678"/>
                </a:lnTo>
                <a:lnTo>
                  <a:pt x="487" y="677"/>
                </a:lnTo>
                <a:lnTo>
                  <a:pt x="406" y="704"/>
                </a:lnTo>
                <a:lnTo>
                  <a:pt x="339" y="729"/>
                </a:lnTo>
                <a:lnTo>
                  <a:pt x="304" y="638"/>
                </a:lnTo>
                <a:lnTo>
                  <a:pt x="272" y="623"/>
                </a:lnTo>
                <a:lnTo>
                  <a:pt x="270" y="553"/>
                </a:lnTo>
                <a:lnTo>
                  <a:pt x="313" y="534"/>
                </a:lnTo>
                <a:lnTo>
                  <a:pt x="281" y="484"/>
                </a:lnTo>
                <a:lnTo>
                  <a:pt x="252" y="497"/>
                </a:lnTo>
                <a:lnTo>
                  <a:pt x="245" y="476"/>
                </a:lnTo>
                <a:lnTo>
                  <a:pt x="277" y="431"/>
                </a:lnTo>
                <a:lnTo>
                  <a:pt x="251" y="323"/>
                </a:lnTo>
                <a:lnTo>
                  <a:pt x="207" y="355"/>
                </a:lnTo>
                <a:lnTo>
                  <a:pt x="171" y="263"/>
                </a:lnTo>
                <a:lnTo>
                  <a:pt x="77" y="301"/>
                </a:lnTo>
                <a:lnTo>
                  <a:pt x="49" y="258"/>
                </a:lnTo>
                <a:lnTo>
                  <a:pt x="97" y="225"/>
                </a:lnTo>
                <a:lnTo>
                  <a:pt x="0" y="156"/>
                </a:lnTo>
                <a:lnTo>
                  <a:pt x="19" y="119"/>
                </a:lnTo>
                <a:lnTo>
                  <a:pt x="81" y="81"/>
                </a:lnTo>
                <a:lnTo>
                  <a:pt x="163" y="74"/>
                </a:lnTo>
                <a:lnTo>
                  <a:pt x="191" y="111"/>
                </a:lnTo>
                <a:lnTo>
                  <a:pt x="241" y="116"/>
                </a:lnTo>
                <a:lnTo>
                  <a:pt x="304" y="143"/>
                </a:lnTo>
                <a:lnTo>
                  <a:pt x="320" y="124"/>
                </a:lnTo>
                <a:lnTo>
                  <a:pt x="418" y="132"/>
                </a:lnTo>
                <a:lnTo>
                  <a:pt x="526" y="211"/>
                </a:lnTo>
                <a:lnTo>
                  <a:pt x="623" y="209"/>
                </a:lnTo>
                <a:lnTo>
                  <a:pt x="696" y="213"/>
                </a:lnTo>
                <a:lnTo>
                  <a:pt x="755" y="194"/>
                </a:lnTo>
                <a:lnTo>
                  <a:pt x="835" y="165"/>
                </a:lnTo>
                <a:lnTo>
                  <a:pt x="890" y="149"/>
                </a:lnTo>
                <a:lnTo>
                  <a:pt x="961" y="164"/>
                </a:lnTo>
                <a:lnTo>
                  <a:pt x="979" y="151"/>
                </a:lnTo>
                <a:lnTo>
                  <a:pt x="967" y="128"/>
                </a:lnTo>
                <a:lnTo>
                  <a:pt x="984" y="115"/>
                </a:lnTo>
                <a:lnTo>
                  <a:pt x="1066" y="83"/>
                </a:lnTo>
                <a:lnTo>
                  <a:pt x="1158" y="57"/>
                </a:lnTo>
                <a:lnTo>
                  <a:pt x="1184" y="5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34440" y="4173480"/>
            <a:ext cx="269640" cy="195480"/>
          </a:xfrm>
          <a:custGeom>
            <a:avLst/>
            <a:gdLst/>
            <a:ahLst/>
            <a:rect l="l" t="t" r="r" b="b"/>
            <a:pathLst>
              <a:path w="522" h="378">
                <a:moveTo>
                  <a:pt x="445" y="107"/>
                </a:moveTo>
                <a:lnTo>
                  <a:pt x="403" y="163"/>
                </a:lnTo>
                <a:lnTo>
                  <a:pt x="381" y="197"/>
                </a:lnTo>
                <a:lnTo>
                  <a:pt x="342" y="198"/>
                </a:lnTo>
                <a:lnTo>
                  <a:pt x="311" y="243"/>
                </a:lnTo>
                <a:lnTo>
                  <a:pt x="300" y="298"/>
                </a:lnTo>
                <a:lnTo>
                  <a:pt x="248" y="318"/>
                </a:lnTo>
                <a:lnTo>
                  <a:pt x="203" y="347"/>
                </a:lnTo>
                <a:lnTo>
                  <a:pt x="157" y="349"/>
                </a:lnTo>
                <a:lnTo>
                  <a:pt x="120" y="378"/>
                </a:lnTo>
                <a:lnTo>
                  <a:pt x="98" y="342"/>
                </a:lnTo>
                <a:lnTo>
                  <a:pt x="48" y="315"/>
                </a:lnTo>
                <a:lnTo>
                  <a:pt x="60" y="280"/>
                </a:lnTo>
                <a:lnTo>
                  <a:pt x="39" y="238"/>
                </a:lnTo>
                <a:lnTo>
                  <a:pt x="9" y="223"/>
                </a:lnTo>
                <a:lnTo>
                  <a:pt x="0" y="180"/>
                </a:lnTo>
                <a:lnTo>
                  <a:pt x="29" y="141"/>
                </a:lnTo>
                <a:lnTo>
                  <a:pt x="45" y="92"/>
                </a:lnTo>
                <a:lnTo>
                  <a:pt x="75" y="76"/>
                </a:lnTo>
                <a:lnTo>
                  <a:pt x="136" y="59"/>
                </a:lnTo>
                <a:lnTo>
                  <a:pt x="145" y="0"/>
                </a:lnTo>
                <a:lnTo>
                  <a:pt x="187" y="13"/>
                </a:lnTo>
                <a:lnTo>
                  <a:pt x="272" y="18"/>
                </a:lnTo>
                <a:lnTo>
                  <a:pt x="314" y="69"/>
                </a:lnTo>
                <a:lnTo>
                  <a:pt x="370" y="63"/>
                </a:lnTo>
                <a:lnTo>
                  <a:pt x="383" y="68"/>
                </a:lnTo>
                <a:lnTo>
                  <a:pt x="417" y="66"/>
                </a:lnTo>
                <a:lnTo>
                  <a:pt x="447" y="37"/>
                </a:lnTo>
                <a:lnTo>
                  <a:pt x="463" y="49"/>
                </a:lnTo>
                <a:lnTo>
                  <a:pt x="515" y="36"/>
                </a:lnTo>
                <a:lnTo>
                  <a:pt x="522" y="62"/>
                </a:lnTo>
                <a:lnTo>
                  <a:pt x="489" y="98"/>
                </a:lnTo>
                <a:lnTo>
                  <a:pt x="445" y="10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74120" y="4118040"/>
            <a:ext cx="407880" cy="758880"/>
          </a:xfrm>
          <a:custGeom>
            <a:avLst/>
            <a:gdLst/>
            <a:ahLst/>
            <a:rect l="l" t="t" r="r" b="b"/>
            <a:pathLst>
              <a:path w="789" h="1466">
                <a:moveTo>
                  <a:pt x="767" y="229"/>
                </a:moveTo>
                <a:lnTo>
                  <a:pt x="772" y="317"/>
                </a:lnTo>
                <a:lnTo>
                  <a:pt x="765" y="402"/>
                </a:lnTo>
                <a:lnTo>
                  <a:pt x="746" y="496"/>
                </a:lnTo>
                <a:lnTo>
                  <a:pt x="716" y="565"/>
                </a:lnTo>
                <a:lnTo>
                  <a:pt x="688" y="682"/>
                </a:lnTo>
                <a:lnTo>
                  <a:pt x="657" y="803"/>
                </a:lnTo>
                <a:lnTo>
                  <a:pt x="629" y="854"/>
                </a:lnTo>
                <a:lnTo>
                  <a:pt x="619" y="941"/>
                </a:lnTo>
                <a:lnTo>
                  <a:pt x="591" y="1027"/>
                </a:lnTo>
                <a:lnTo>
                  <a:pt x="513" y="1160"/>
                </a:lnTo>
                <a:lnTo>
                  <a:pt x="462" y="1223"/>
                </a:lnTo>
                <a:lnTo>
                  <a:pt x="397" y="1274"/>
                </a:lnTo>
                <a:lnTo>
                  <a:pt x="339" y="1266"/>
                </a:lnTo>
                <a:lnTo>
                  <a:pt x="281" y="1278"/>
                </a:lnTo>
                <a:lnTo>
                  <a:pt x="262" y="1214"/>
                </a:lnTo>
                <a:lnTo>
                  <a:pt x="223" y="1285"/>
                </a:lnTo>
                <a:lnTo>
                  <a:pt x="201" y="1285"/>
                </a:lnTo>
                <a:lnTo>
                  <a:pt x="220" y="1220"/>
                </a:lnTo>
                <a:lnTo>
                  <a:pt x="192" y="1225"/>
                </a:lnTo>
                <a:lnTo>
                  <a:pt x="179" y="1295"/>
                </a:lnTo>
                <a:lnTo>
                  <a:pt x="163" y="1332"/>
                </a:lnTo>
                <a:lnTo>
                  <a:pt x="158" y="1376"/>
                </a:lnTo>
                <a:lnTo>
                  <a:pt x="123" y="1384"/>
                </a:lnTo>
                <a:lnTo>
                  <a:pt x="95" y="1394"/>
                </a:lnTo>
                <a:lnTo>
                  <a:pt x="111" y="1423"/>
                </a:lnTo>
                <a:lnTo>
                  <a:pt x="109" y="1466"/>
                </a:lnTo>
                <a:lnTo>
                  <a:pt x="77" y="1450"/>
                </a:lnTo>
                <a:lnTo>
                  <a:pt x="79" y="1411"/>
                </a:lnTo>
                <a:lnTo>
                  <a:pt x="53" y="1407"/>
                </a:lnTo>
                <a:lnTo>
                  <a:pt x="91" y="1361"/>
                </a:lnTo>
                <a:lnTo>
                  <a:pt x="117" y="1357"/>
                </a:lnTo>
                <a:lnTo>
                  <a:pt x="128" y="1337"/>
                </a:lnTo>
                <a:lnTo>
                  <a:pt x="130" y="1226"/>
                </a:lnTo>
                <a:lnTo>
                  <a:pt x="105" y="1222"/>
                </a:lnTo>
                <a:lnTo>
                  <a:pt x="87" y="1125"/>
                </a:lnTo>
                <a:lnTo>
                  <a:pt x="29" y="1012"/>
                </a:lnTo>
                <a:lnTo>
                  <a:pt x="0" y="1003"/>
                </a:lnTo>
                <a:lnTo>
                  <a:pt x="19" y="971"/>
                </a:lnTo>
                <a:lnTo>
                  <a:pt x="52" y="950"/>
                </a:lnTo>
                <a:lnTo>
                  <a:pt x="79" y="868"/>
                </a:lnTo>
                <a:lnTo>
                  <a:pt x="112" y="889"/>
                </a:lnTo>
                <a:lnTo>
                  <a:pt x="127" y="921"/>
                </a:lnTo>
                <a:lnTo>
                  <a:pt x="140" y="953"/>
                </a:lnTo>
                <a:lnTo>
                  <a:pt x="170" y="976"/>
                </a:lnTo>
                <a:lnTo>
                  <a:pt x="184" y="982"/>
                </a:lnTo>
                <a:lnTo>
                  <a:pt x="215" y="940"/>
                </a:lnTo>
                <a:lnTo>
                  <a:pt x="205" y="909"/>
                </a:lnTo>
                <a:lnTo>
                  <a:pt x="217" y="875"/>
                </a:lnTo>
                <a:lnTo>
                  <a:pt x="251" y="847"/>
                </a:lnTo>
                <a:lnTo>
                  <a:pt x="237" y="793"/>
                </a:lnTo>
                <a:lnTo>
                  <a:pt x="258" y="740"/>
                </a:lnTo>
                <a:lnTo>
                  <a:pt x="246" y="696"/>
                </a:lnTo>
                <a:lnTo>
                  <a:pt x="269" y="672"/>
                </a:lnTo>
                <a:lnTo>
                  <a:pt x="257" y="632"/>
                </a:lnTo>
                <a:lnTo>
                  <a:pt x="282" y="592"/>
                </a:lnTo>
                <a:lnTo>
                  <a:pt x="263" y="571"/>
                </a:lnTo>
                <a:lnTo>
                  <a:pt x="259" y="538"/>
                </a:lnTo>
                <a:lnTo>
                  <a:pt x="260" y="529"/>
                </a:lnTo>
                <a:lnTo>
                  <a:pt x="307" y="498"/>
                </a:lnTo>
                <a:lnTo>
                  <a:pt x="299" y="478"/>
                </a:lnTo>
                <a:lnTo>
                  <a:pt x="289" y="446"/>
                </a:lnTo>
                <a:lnTo>
                  <a:pt x="322" y="409"/>
                </a:lnTo>
                <a:lnTo>
                  <a:pt x="375" y="393"/>
                </a:lnTo>
                <a:lnTo>
                  <a:pt x="407" y="405"/>
                </a:lnTo>
                <a:lnTo>
                  <a:pt x="448" y="400"/>
                </a:lnTo>
                <a:lnTo>
                  <a:pt x="490" y="402"/>
                </a:lnTo>
                <a:lnTo>
                  <a:pt x="551" y="372"/>
                </a:lnTo>
                <a:lnTo>
                  <a:pt x="581" y="316"/>
                </a:lnTo>
                <a:lnTo>
                  <a:pt x="581" y="267"/>
                </a:lnTo>
                <a:lnTo>
                  <a:pt x="620" y="267"/>
                </a:lnTo>
                <a:lnTo>
                  <a:pt x="666" y="167"/>
                </a:lnTo>
                <a:lnTo>
                  <a:pt x="576" y="159"/>
                </a:lnTo>
                <a:lnTo>
                  <a:pt x="598" y="136"/>
                </a:lnTo>
                <a:lnTo>
                  <a:pt x="541" y="111"/>
                </a:lnTo>
                <a:lnTo>
                  <a:pt x="557" y="86"/>
                </a:lnTo>
                <a:lnTo>
                  <a:pt x="595" y="72"/>
                </a:lnTo>
                <a:lnTo>
                  <a:pt x="622" y="30"/>
                </a:lnTo>
                <a:lnTo>
                  <a:pt x="636" y="0"/>
                </a:lnTo>
                <a:lnTo>
                  <a:pt x="655" y="5"/>
                </a:lnTo>
                <a:lnTo>
                  <a:pt x="699" y="66"/>
                </a:lnTo>
                <a:lnTo>
                  <a:pt x="729" y="73"/>
                </a:lnTo>
                <a:lnTo>
                  <a:pt x="735" y="100"/>
                </a:lnTo>
                <a:lnTo>
                  <a:pt x="712" y="125"/>
                </a:lnTo>
                <a:lnTo>
                  <a:pt x="736" y="159"/>
                </a:lnTo>
                <a:lnTo>
                  <a:pt x="789" y="153"/>
                </a:lnTo>
                <a:lnTo>
                  <a:pt x="767" y="22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86720" y="2087640"/>
            <a:ext cx="712800" cy="860400"/>
          </a:xfrm>
          <a:custGeom>
            <a:avLst/>
            <a:gdLst/>
            <a:ahLst/>
            <a:rect l="l" t="t" r="r" b="b"/>
            <a:pathLst>
              <a:path w="1380" h="1664">
                <a:moveTo>
                  <a:pt x="1021" y="771"/>
                </a:moveTo>
                <a:lnTo>
                  <a:pt x="1022" y="825"/>
                </a:lnTo>
                <a:lnTo>
                  <a:pt x="1044" y="852"/>
                </a:lnTo>
                <a:lnTo>
                  <a:pt x="1027" y="902"/>
                </a:lnTo>
                <a:lnTo>
                  <a:pt x="1047" y="957"/>
                </a:lnTo>
                <a:lnTo>
                  <a:pt x="1040" y="1024"/>
                </a:lnTo>
                <a:lnTo>
                  <a:pt x="1019" y="1123"/>
                </a:lnTo>
                <a:lnTo>
                  <a:pt x="1033" y="1171"/>
                </a:lnTo>
                <a:lnTo>
                  <a:pt x="1038" y="1226"/>
                </a:lnTo>
                <a:lnTo>
                  <a:pt x="1059" y="1264"/>
                </a:lnTo>
                <a:lnTo>
                  <a:pt x="1078" y="1268"/>
                </a:lnTo>
                <a:lnTo>
                  <a:pt x="1113" y="1223"/>
                </a:lnTo>
                <a:lnTo>
                  <a:pt x="1151" y="1218"/>
                </a:lnTo>
                <a:lnTo>
                  <a:pt x="1168" y="1243"/>
                </a:lnTo>
                <a:lnTo>
                  <a:pt x="1112" y="1294"/>
                </a:lnTo>
                <a:lnTo>
                  <a:pt x="1101" y="1336"/>
                </a:lnTo>
                <a:lnTo>
                  <a:pt x="1061" y="1331"/>
                </a:lnTo>
                <a:lnTo>
                  <a:pt x="1026" y="1347"/>
                </a:lnTo>
                <a:lnTo>
                  <a:pt x="1037" y="1362"/>
                </a:lnTo>
                <a:lnTo>
                  <a:pt x="1021" y="1394"/>
                </a:lnTo>
                <a:lnTo>
                  <a:pt x="1027" y="1418"/>
                </a:lnTo>
                <a:lnTo>
                  <a:pt x="983" y="1436"/>
                </a:lnTo>
                <a:lnTo>
                  <a:pt x="904" y="1513"/>
                </a:lnTo>
                <a:lnTo>
                  <a:pt x="880" y="1484"/>
                </a:lnTo>
                <a:lnTo>
                  <a:pt x="947" y="1412"/>
                </a:lnTo>
                <a:lnTo>
                  <a:pt x="923" y="1410"/>
                </a:lnTo>
                <a:lnTo>
                  <a:pt x="894" y="1419"/>
                </a:lnTo>
                <a:lnTo>
                  <a:pt x="836" y="1404"/>
                </a:lnTo>
                <a:lnTo>
                  <a:pt x="803" y="1429"/>
                </a:lnTo>
                <a:lnTo>
                  <a:pt x="752" y="1449"/>
                </a:lnTo>
                <a:lnTo>
                  <a:pt x="703" y="1466"/>
                </a:lnTo>
                <a:lnTo>
                  <a:pt x="659" y="1487"/>
                </a:lnTo>
                <a:lnTo>
                  <a:pt x="655" y="1518"/>
                </a:lnTo>
                <a:lnTo>
                  <a:pt x="683" y="1528"/>
                </a:lnTo>
                <a:lnTo>
                  <a:pt x="668" y="1555"/>
                </a:lnTo>
                <a:lnTo>
                  <a:pt x="655" y="1561"/>
                </a:lnTo>
                <a:lnTo>
                  <a:pt x="683" y="1566"/>
                </a:lnTo>
                <a:lnTo>
                  <a:pt x="691" y="1579"/>
                </a:lnTo>
                <a:lnTo>
                  <a:pt x="649" y="1606"/>
                </a:lnTo>
                <a:lnTo>
                  <a:pt x="624" y="1592"/>
                </a:lnTo>
                <a:lnTo>
                  <a:pt x="590" y="1622"/>
                </a:lnTo>
                <a:lnTo>
                  <a:pt x="593" y="1642"/>
                </a:lnTo>
                <a:lnTo>
                  <a:pt x="560" y="1662"/>
                </a:lnTo>
                <a:lnTo>
                  <a:pt x="527" y="1664"/>
                </a:lnTo>
                <a:lnTo>
                  <a:pt x="505" y="1619"/>
                </a:lnTo>
                <a:lnTo>
                  <a:pt x="471" y="1580"/>
                </a:lnTo>
                <a:lnTo>
                  <a:pt x="446" y="1588"/>
                </a:lnTo>
                <a:lnTo>
                  <a:pt x="378" y="1563"/>
                </a:lnTo>
                <a:lnTo>
                  <a:pt x="346" y="1592"/>
                </a:lnTo>
                <a:lnTo>
                  <a:pt x="303" y="1569"/>
                </a:lnTo>
                <a:lnTo>
                  <a:pt x="322" y="1487"/>
                </a:lnTo>
                <a:lnTo>
                  <a:pt x="356" y="1490"/>
                </a:lnTo>
                <a:lnTo>
                  <a:pt x="334" y="1435"/>
                </a:lnTo>
                <a:lnTo>
                  <a:pt x="347" y="1424"/>
                </a:lnTo>
                <a:lnTo>
                  <a:pt x="300" y="1345"/>
                </a:lnTo>
                <a:lnTo>
                  <a:pt x="247" y="1308"/>
                </a:lnTo>
                <a:lnTo>
                  <a:pt x="195" y="1295"/>
                </a:lnTo>
                <a:lnTo>
                  <a:pt x="159" y="1326"/>
                </a:lnTo>
                <a:lnTo>
                  <a:pt x="128" y="1336"/>
                </a:lnTo>
                <a:lnTo>
                  <a:pt x="103" y="1348"/>
                </a:lnTo>
                <a:lnTo>
                  <a:pt x="96" y="1275"/>
                </a:lnTo>
                <a:lnTo>
                  <a:pt x="68" y="1182"/>
                </a:lnTo>
                <a:lnTo>
                  <a:pt x="29" y="1112"/>
                </a:lnTo>
                <a:lnTo>
                  <a:pt x="0" y="1019"/>
                </a:lnTo>
                <a:lnTo>
                  <a:pt x="25" y="965"/>
                </a:lnTo>
                <a:lnTo>
                  <a:pt x="27" y="919"/>
                </a:lnTo>
                <a:lnTo>
                  <a:pt x="98" y="897"/>
                </a:lnTo>
                <a:lnTo>
                  <a:pt x="155" y="890"/>
                </a:lnTo>
                <a:lnTo>
                  <a:pt x="146" y="827"/>
                </a:lnTo>
                <a:lnTo>
                  <a:pt x="116" y="816"/>
                </a:lnTo>
                <a:lnTo>
                  <a:pt x="124" y="782"/>
                </a:lnTo>
                <a:lnTo>
                  <a:pt x="155" y="784"/>
                </a:lnTo>
                <a:lnTo>
                  <a:pt x="206" y="751"/>
                </a:lnTo>
                <a:lnTo>
                  <a:pt x="216" y="708"/>
                </a:lnTo>
                <a:lnTo>
                  <a:pt x="243" y="710"/>
                </a:lnTo>
                <a:lnTo>
                  <a:pt x="266" y="748"/>
                </a:lnTo>
                <a:lnTo>
                  <a:pt x="320" y="732"/>
                </a:lnTo>
                <a:lnTo>
                  <a:pt x="302" y="707"/>
                </a:lnTo>
                <a:lnTo>
                  <a:pt x="343" y="655"/>
                </a:lnTo>
                <a:lnTo>
                  <a:pt x="382" y="623"/>
                </a:lnTo>
                <a:lnTo>
                  <a:pt x="392" y="642"/>
                </a:lnTo>
                <a:lnTo>
                  <a:pt x="413" y="615"/>
                </a:lnTo>
                <a:lnTo>
                  <a:pt x="392" y="598"/>
                </a:lnTo>
                <a:lnTo>
                  <a:pt x="400" y="556"/>
                </a:lnTo>
                <a:lnTo>
                  <a:pt x="347" y="528"/>
                </a:lnTo>
                <a:lnTo>
                  <a:pt x="355" y="511"/>
                </a:lnTo>
                <a:lnTo>
                  <a:pt x="337" y="481"/>
                </a:lnTo>
                <a:lnTo>
                  <a:pt x="369" y="422"/>
                </a:lnTo>
                <a:lnTo>
                  <a:pt x="349" y="405"/>
                </a:lnTo>
                <a:lnTo>
                  <a:pt x="322" y="346"/>
                </a:lnTo>
                <a:lnTo>
                  <a:pt x="347" y="311"/>
                </a:lnTo>
                <a:lnTo>
                  <a:pt x="364" y="319"/>
                </a:lnTo>
                <a:lnTo>
                  <a:pt x="364" y="276"/>
                </a:lnTo>
                <a:lnTo>
                  <a:pt x="338" y="268"/>
                </a:lnTo>
                <a:lnTo>
                  <a:pt x="344" y="234"/>
                </a:lnTo>
                <a:lnTo>
                  <a:pt x="386" y="209"/>
                </a:lnTo>
                <a:lnTo>
                  <a:pt x="411" y="187"/>
                </a:lnTo>
                <a:lnTo>
                  <a:pt x="474" y="163"/>
                </a:lnTo>
                <a:lnTo>
                  <a:pt x="476" y="135"/>
                </a:lnTo>
                <a:lnTo>
                  <a:pt x="510" y="155"/>
                </a:lnTo>
                <a:lnTo>
                  <a:pt x="543" y="145"/>
                </a:lnTo>
                <a:lnTo>
                  <a:pt x="541" y="111"/>
                </a:lnTo>
                <a:lnTo>
                  <a:pt x="554" y="75"/>
                </a:lnTo>
                <a:lnTo>
                  <a:pt x="584" y="55"/>
                </a:lnTo>
                <a:lnTo>
                  <a:pt x="549" y="17"/>
                </a:lnTo>
                <a:lnTo>
                  <a:pt x="618" y="0"/>
                </a:lnTo>
                <a:lnTo>
                  <a:pt x="656" y="80"/>
                </a:lnTo>
                <a:lnTo>
                  <a:pt x="754" y="56"/>
                </a:lnTo>
                <a:lnTo>
                  <a:pt x="776" y="71"/>
                </a:lnTo>
                <a:lnTo>
                  <a:pt x="824" y="73"/>
                </a:lnTo>
                <a:lnTo>
                  <a:pt x="855" y="49"/>
                </a:lnTo>
                <a:lnTo>
                  <a:pt x="901" y="42"/>
                </a:lnTo>
                <a:lnTo>
                  <a:pt x="941" y="50"/>
                </a:lnTo>
                <a:lnTo>
                  <a:pt x="989" y="27"/>
                </a:lnTo>
                <a:lnTo>
                  <a:pt x="1028" y="8"/>
                </a:lnTo>
                <a:lnTo>
                  <a:pt x="1047" y="18"/>
                </a:lnTo>
                <a:lnTo>
                  <a:pt x="1084" y="25"/>
                </a:lnTo>
                <a:lnTo>
                  <a:pt x="1099" y="67"/>
                </a:lnTo>
                <a:lnTo>
                  <a:pt x="1077" y="87"/>
                </a:lnTo>
                <a:lnTo>
                  <a:pt x="1118" y="111"/>
                </a:lnTo>
                <a:lnTo>
                  <a:pt x="1119" y="142"/>
                </a:lnTo>
                <a:lnTo>
                  <a:pt x="1161" y="153"/>
                </a:lnTo>
                <a:lnTo>
                  <a:pt x="1181" y="175"/>
                </a:lnTo>
                <a:lnTo>
                  <a:pt x="1180" y="203"/>
                </a:lnTo>
                <a:lnTo>
                  <a:pt x="1205" y="224"/>
                </a:lnTo>
                <a:lnTo>
                  <a:pt x="1190" y="265"/>
                </a:lnTo>
                <a:lnTo>
                  <a:pt x="1213" y="282"/>
                </a:lnTo>
                <a:lnTo>
                  <a:pt x="1268" y="290"/>
                </a:lnTo>
                <a:lnTo>
                  <a:pt x="1320" y="346"/>
                </a:lnTo>
                <a:lnTo>
                  <a:pt x="1295" y="391"/>
                </a:lnTo>
                <a:lnTo>
                  <a:pt x="1335" y="380"/>
                </a:lnTo>
                <a:lnTo>
                  <a:pt x="1348" y="402"/>
                </a:lnTo>
                <a:lnTo>
                  <a:pt x="1336" y="417"/>
                </a:lnTo>
                <a:lnTo>
                  <a:pt x="1380" y="443"/>
                </a:lnTo>
                <a:lnTo>
                  <a:pt x="1372" y="534"/>
                </a:lnTo>
                <a:lnTo>
                  <a:pt x="1374" y="666"/>
                </a:lnTo>
                <a:lnTo>
                  <a:pt x="1365" y="736"/>
                </a:lnTo>
                <a:lnTo>
                  <a:pt x="1330" y="707"/>
                </a:lnTo>
                <a:lnTo>
                  <a:pt x="1315" y="663"/>
                </a:lnTo>
                <a:lnTo>
                  <a:pt x="1299" y="709"/>
                </a:lnTo>
                <a:lnTo>
                  <a:pt x="1287" y="676"/>
                </a:lnTo>
                <a:lnTo>
                  <a:pt x="1254" y="664"/>
                </a:lnTo>
                <a:lnTo>
                  <a:pt x="1227" y="564"/>
                </a:lnTo>
                <a:lnTo>
                  <a:pt x="1208" y="547"/>
                </a:lnTo>
                <a:lnTo>
                  <a:pt x="1199" y="580"/>
                </a:lnTo>
                <a:lnTo>
                  <a:pt x="1193" y="624"/>
                </a:lnTo>
                <a:lnTo>
                  <a:pt x="1165" y="617"/>
                </a:lnTo>
                <a:lnTo>
                  <a:pt x="1139" y="613"/>
                </a:lnTo>
                <a:lnTo>
                  <a:pt x="1117" y="641"/>
                </a:lnTo>
                <a:lnTo>
                  <a:pt x="1087" y="696"/>
                </a:lnTo>
                <a:lnTo>
                  <a:pt x="1049" y="725"/>
                </a:lnTo>
                <a:lnTo>
                  <a:pt x="1021" y="7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64560" y="1081080"/>
            <a:ext cx="969840" cy="1047600"/>
          </a:xfrm>
          <a:custGeom>
            <a:avLst/>
            <a:gdLst/>
            <a:ahLst/>
            <a:rect l="l" t="t" r="r" b="b"/>
            <a:pathLst>
              <a:path w="1876" h="2026">
                <a:moveTo>
                  <a:pt x="428" y="733"/>
                </a:moveTo>
                <a:lnTo>
                  <a:pt x="471" y="726"/>
                </a:lnTo>
                <a:lnTo>
                  <a:pt x="484" y="673"/>
                </a:lnTo>
                <a:lnTo>
                  <a:pt x="545" y="588"/>
                </a:lnTo>
                <a:lnTo>
                  <a:pt x="641" y="528"/>
                </a:lnTo>
                <a:lnTo>
                  <a:pt x="697" y="495"/>
                </a:lnTo>
                <a:lnTo>
                  <a:pt x="796" y="439"/>
                </a:lnTo>
                <a:lnTo>
                  <a:pt x="900" y="403"/>
                </a:lnTo>
                <a:lnTo>
                  <a:pt x="990" y="373"/>
                </a:lnTo>
                <a:lnTo>
                  <a:pt x="1092" y="328"/>
                </a:lnTo>
                <a:lnTo>
                  <a:pt x="1143" y="316"/>
                </a:lnTo>
                <a:lnTo>
                  <a:pt x="1168" y="287"/>
                </a:lnTo>
                <a:lnTo>
                  <a:pt x="1226" y="262"/>
                </a:lnTo>
                <a:lnTo>
                  <a:pt x="1275" y="288"/>
                </a:lnTo>
                <a:lnTo>
                  <a:pt x="1284" y="254"/>
                </a:lnTo>
                <a:lnTo>
                  <a:pt x="1310" y="259"/>
                </a:lnTo>
                <a:lnTo>
                  <a:pt x="1372" y="296"/>
                </a:lnTo>
                <a:lnTo>
                  <a:pt x="1403" y="318"/>
                </a:lnTo>
                <a:lnTo>
                  <a:pt x="1442" y="305"/>
                </a:lnTo>
                <a:lnTo>
                  <a:pt x="1476" y="313"/>
                </a:lnTo>
                <a:lnTo>
                  <a:pt x="1465" y="285"/>
                </a:lnTo>
                <a:lnTo>
                  <a:pt x="1446" y="273"/>
                </a:lnTo>
                <a:lnTo>
                  <a:pt x="1421" y="247"/>
                </a:lnTo>
                <a:lnTo>
                  <a:pt x="1383" y="241"/>
                </a:lnTo>
                <a:lnTo>
                  <a:pt x="1352" y="256"/>
                </a:lnTo>
                <a:lnTo>
                  <a:pt x="1376" y="198"/>
                </a:lnTo>
                <a:lnTo>
                  <a:pt x="1434" y="123"/>
                </a:lnTo>
                <a:lnTo>
                  <a:pt x="1465" y="82"/>
                </a:lnTo>
                <a:lnTo>
                  <a:pt x="1538" y="72"/>
                </a:lnTo>
                <a:lnTo>
                  <a:pt x="1598" y="46"/>
                </a:lnTo>
                <a:lnTo>
                  <a:pt x="1647" y="30"/>
                </a:lnTo>
                <a:lnTo>
                  <a:pt x="1673" y="0"/>
                </a:lnTo>
                <a:lnTo>
                  <a:pt x="1685" y="20"/>
                </a:lnTo>
                <a:lnTo>
                  <a:pt x="1670" y="36"/>
                </a:lnTo>
                <a:lnTo>
                  <a:pt x="1679" y="81"/>
                </a:lnTo>
                <a:lnTo>
                  <a:pt x="1719" y="101"/>
                </a:lnTo>
                <a:lnTo>
                  <a:pt x="1712" y="125"/>
                </a:lnTo>
                <a:lnTo>
                  <a:pt x="1669" y="148"/>
                </a:lnTo>
                <a:lnTo>
                  <a:pt x="1721" y="137"/>
                </a:lnTo>
                <a:lnTo>
                  <a:pt x="1737" y="149"/>
                </a:lnTo>
                <a:lnTo>
                  <a:pt x="1713" y="159"/>
                </a:lnTo>
                <a:lnTo>
                  <a:pt x="1701" y="206"/>
                </a:lnTo>
                <a:lnTo>
                  <a:pt x="1672" y="225"/>
                </a:lnTo>
                <a:lnTo>
                  <a:pt x="1643" y="253"/>
                </a:lnTo>
                <a:lnTo>
                  <a:pt x="1698" y="238"/>
                </a:lnTo>
                <a:lnTo>
                  <a:pt x="1759" y="259"/>
                </a:lnTo>
                <a:lnTo>
                  <a:pt x="1783" y="281"/>
                </a:lnTo>
                <a:lnTo>
                  <a:pt x="1780" y="332"/>
                </a:lnTo>
                <a:lnTo>
                  <a:pt x="1809" y="341"/>
                </a:lnTo>
                <a:lnTo>
                  <a:pt x="1845" y="324"/>
                </a:lnTo>
                <a:lnTo>
                  <a:pt x="1876" y="324"/>
                </a:lnTo>
                <a:lnTo>
                  <a:pt x="1859" y="353"/>
                </a:lnTo>
                <a:lnTo>
                  <a:pt x="1864" y="392"/>
                </a:lnTo>
                <a:lnTo>
                  <a:pt x="1842" y="414"/>
                </a:lnTo>
                <a:lnTo>
                  <a:pt x="1811" y="447"/>
                </a:lnTo>
                <a:lnTo>
                  <a:pt x="1767" y="458"/>
                </a:lnTo>
                <a:lnTo>
                  <a:pt x="1709" y="485"/>
                </a:lnTo>
                <a:lnTo>
                  <a:pt x="1699" y="518"/>
                </a:lnTo>
                <a:lnTo>
                  <a:pt x="1644" y="528"/>
                </a:lnTo>
                <a:lnTo>
                  <a:pt x="1601" y="512"/>
                </a:lnTo>
                <a:lnTo>
                  <a:pt x="1558" y="509"/>
                </a:lnTo>
                <a:lnTo>
                  <a:pt x="1519" y="548"/>
                </a:lnTo>
                <a:lnTo>
                  <a:pt x="1500" y="572"/>
                </a:lnTo>
                <a:lnTo>
                  <a:pt x="1505" y="603"/>
                </a:lnTo>
                <a:lnTo>
                  <a:pt x="1465" y="684"/>
                </a:lnTo>
                <a:lnTo>
                  <a:pt x="1426" y="651"/>
                </a:lnTo>
                <a:lnTo>
                  <a:pt x="1376" y="659"/>
                </a:lnTo>
                <a:lnTo>
                  <a:pt x="1356" y="617"/>
                </a:lnTo>
                <a:lnTo>
                  <a:pt x="1327" y="597"/>
                </a:lnTo>
                <a:lnTo>
                  <a:pt x="1338" y="636"/>
                </a:lnTo>
                <a:lnTo>
                  <a:pt x="1300" y="636"/>
                </a:lnTo>
                <a:lnTo>
                  <a:pt x="1301" y="658"/>
                </a:lnTo>
                <a:lnTo>
                  <a:pt x="1325" y="661"/>
                </a:lnTo>
                <a:lnTo>
                  <a:pt x="1322" y="688"/>
                </a:lnTo>
                <a:lnTo>
                  <a:pt x="1306" y="692"/>
                </a:lnTo>
                <a:lnTo>
                  <a:pt x="1341" y="726"/>
                </a:lnTo>
                <a:lnTo>
                  <a:pt x="1385" y="733"/>
                </a:lnTo>
                <a:lnTo>
                  <a:pt x="1406" y="721"/>
                </a:lnTo>
                <a:lnTo>
                  <a:pt x="1426" y="726"/>
                </a:lnTo>
                <a:lnTo>
                  <a:pt x="1439" y="759"/>
                </a:lnTo>
                <a:lnTo>
                  <a:pt x="1463" y="772"/>
                </a:lnTo>
                <a:lnTo>
                  <a:pt x="1470" y="823"/>
                </a:lnTo>
                <a:lnTo>
                  <a:pt x="1483" y="889"/>
                </a:lnTo>
                <a:lnTo>
                  <a:pt x="1468" y="959"/>
                </a:lnTo>
                <a:lnTo>
                  <a:pt x="1434" y="1002"/>
                </a:lnTo>
                <a:lnTo>
                  <a:pt x="1395" y="1014"/>
                </a:lnTo>
                <a:lnTo>
                  <a:pt x="1376" y="1024"/>
                </a:lnTo>
                <a:lnTo>
                  <a:pt x="1385" y="1038"/>
                </a:lnTo>
                <a:lnTo>
                  <a:pt x="1362" y="1068"/>
                </a:lnTo>
                <a:lnTo>
                  <a:pt x="1332" y="1093"/>
                </a:lnTo>
                <a:lnTo>
                  <a:pt x="1358" y="1099"/>
                </a:lnTo>
                <a:lnTo>
                  <a:pt x="1390" y="1093"/>
                </a:lnTo>
                <a:lnTo>
                  <a:pt x="1407" y="1089"/>
                </a:lnTo>
                <a:lnTo>
                  <a:pt x="1403" y="1069"/>
                </a:lnTo>
                <a:lnTo>
                  <a:pt x="1408" y="1039"/>
                </a:lnTo>
                <a:lnTo>
                  <a:pt x="1414" y="1022"/>
                </a:lnTo>
                <a:lnTo>
                  <a:pt x="1430" y="1043"/>
                </a:lnTo>
                <a:lnTo>
                  <a:pt x="1465" y="1061"/>
                </a:lnTo>
                <a:lnTo>
                  <a:pt x="1505" y="1053"/>
                </a:lnTo>
                <a:lnTo>
                  <a:pt x="1531" y="1036"/>
                </a:lnTo>
                <a:lnTo>
                  <a:pt x="1512" y="1014"/>
                </a:lnTo>
                <a:lnTo>
                  <a:pt x="1570" y="1021"/>
                </a:lnTo>
                <a:lnTo>
                  <a:pt x="1618" y="1034"/>
                </a:lnTo>
                <a:lnTo>
                  <a:pt x="1659" y="1057"/>
                </a:lnTo>
                <a:lnTo>
                  <a:pt x="1701" y="1065"/>
                </a:lnTo>
                <a:lnTo>
                  <a:pt x="1736" y="1051"/>
                </a:lnTo>
                <a:lnTo>
                  <a:pt x="1763" y="1061"/>
                </a:lnTo>
                <a:lnTo>
                  <a:pt x="1768" y="1078"/>
                </a:lnTo>
                <a:lnTo>
                  <a:pt x="1787" y="1076"/>
                </a:lnTo>
                <a:lnTo>
                  <a:pt x="1812" y="1065"/>
                </a:lnTo>
                <a:lnTo>
                  <a:pt x="1827" y="1092"/>
                </a:lnTo>
                <a:lnTo>
                  <a:pt x="1842" y="1114"/>
                </a:lnTo>
                <a:lnTo>
                  <a:pt x="1847" y="1150"/>
                </a:lnTo>
                <a:lnTo>
                  <a:pt x="1867" y="1163"/>
                </a:lnTo>
                <a:lnTo>
                  <a:pt x="1837" y="1171"/>
                </a:lnTo>
                <a:lnTo>
                  <a:pt x="1792" y="1212"/>
                </a:lnTo>
                <a:lnTo>
                  <a:pt x="1744" y="1245"/>
                </a:lnTo>
                <a:lnTo>
                  <a:pt x="1710" y="1242"/>
                </a:lnTo>
                <a:lnTo>
                  <a:pt x="1684" y="1254"/>
                </a:lnTo>
                <a:lnTo>
                  <a:pt x="1691" y="1276"/>
                </a:lnTo>
                <a:lnTo>
                  <a:pt x="1716" y="1280"/>
                </a:lnTo>
                <a:lnTo>
                  <a:pt x="1732" y="1270"/>
                </a:lnTo>
                <a:lnTo>
                  <a:pt x="1712" y="1318"/>
                </a:lnTo>
                <a:lnTo>
                  <a:pt x="1719" y="1362"/>
                </a:lnTo>
                <a:lnTo>
                  <a:pt x="1711" y="1423"/>
                </a:lnTo>
                <a:lnTo>
                  <a:pt x="1707" y="1475"/>
                </a:lnTo>
                <a:lnTo>
                  <a:pt x="1710" y="1523"/>
                </a:lnTo>
                <a:lnTo>
                  <a:pt x="1707" y="1554"/>
                </a:lnTo>
                <a:lnTo>
                  <a:pt x="1663" y="1534"/>
                </a:lnTo>
                <a:lnTo>
                  <a:pt x="1653" y="1553"/>
                </a:lnTo>
                <a:lnTo>
                  <a:pt x="1604" y="1528"/>
                </a:lnTo>
                <a:lnTo>
                  <a:pt x="1570" y="1524"/>
                </a:lnTo>
                <a:lnTo>
                  <a:pt x="1554" y="1546"/>
                </a:lnTo>
                <a:lnTo>
                  <a:pt x="1549" y="1611"/>
                </a:lnTo>
                <a:lnTo>
                  <a:pt x="1492" y="1643"/>
                </a:lnTo>
                <a:lnTo>
                  <a:pt x="1478" y="1708"/>
                </a:lnTo>
                <a:lnTo>
                  <a:pt x="1450" y="1743"/>
                </a:lnTo>
                <a:lnTo>
                  <a:pt x="1424" y="1792"/>
                </a:lnTo>
                <a:lnTo>
                  <a:pt x="1359" y="1790"/>
                </a:lnTo>
                <a:lnTo>
                  <a:pt x="1352" y="1765"/>
                </a:lnTo>
                <a:lnTo>
                  <a:pt x="1331" y="1786"/>
                </a:lnTo>
                <a:lnTo>
                  <a:pt x="1264" y="1793"/>
                </a:lnTo>
                <a:lnTo>
                  <a:pt x="1248" y="1805"/>
                </a:lnTo>
                <a:lnTo>
                  <a:pt x="1207" y="1822"/>
                </a:lnTo>
                <a:lnTo>
                  <a:pt x="1182" y="1723"/>
                </a:lnTo>
                <a:lnTo>
                  <a:pt x="1189" y="1681"/>
                </a:lnTo>
                <a:lnTo>
                  <a:pt x="1155" y="1660"/>
                </a:lnTo>
                <a:lnTo>
                  <a:pt x="1092" y="1683"/>
                </a:lnTo>
                <a:lnTo>
                  <a:pt x="1052" y="1672"/>
                </a:lnTo>
                <a:lnTo>
                  <a:pt x="1028" y="1675"/>
                </a:lnTo>
                <a:lnTo>
                  <a:pt x="1016" y="1695"/>
                </a:lnTo>
                <a:lnTo>
                  <a:pt x="980" y="1706"/>
                </a:lnTo>
                <a:lnTo>
                  <a:pt x="931" y="1706"/>
                </a:lnTo>
                <a:lnTo>
                  <a:pt x="920" y="1727"/>
                </a:lnTo>
                <a:lnTo>
                  <a:pt x="876" y="1761"/>
                </a:lnTo>
                <a:lnTo>
                  <a:pt x="861" y="1795"/>
                </a:lnTo>
                <a:lnTo>
                  <a:pt x="821" y="1791"/>
                </a:lnTo>
                <a:lnTo>
                  <a:pt x="783" y="1805"/>
                </a:lnTo>
                <a:lnTo>
                  <a:pt x="798" y="1829"/>
                </a:lnTo>
                <a:lnTo>
                  <a:pt x="788" y="1841"/>
                </a:lnTo>
                <a:lnTo>
                  <a:pt x="722" y="1847"/>
                </a:lnTo>
                <a:lnTo>
                  <a:pt x="712" y="1872"/>
                </a:lnTo>
                <a:lnTo>
                  <a:pt x="675" y="1894"/>
                </a:lnTo>
                <a:lnTo>
                  <a:pt x="678" y="1931"/>
                </a:lnTo>
                <a:lnTo>
                  <a:pt x="684" y="1954"/>
                </a:lnTo>
                <a:lnTo>
                  <a:pt x="645" y="1973"/>
                </a:lnTo>
                <a:lnTo>
                  <a:pt x="597" y="1996"/>
                </a:lnTo>
                <a:lnTo>
                  <a:pt x="557" y="1988"/>
                </a:lnTo>
                <a:lnTo>
                  <a:pt x="511" y="1995"/>
                </a:lnTo>
                <a:lnTo>
                  <a:pt x="480" y="2019"/>
                </a:lnTo>
                <a:lnTo>
                  <a:pt x="432" y="2017"/>
                </a:lnTo>
                <a:lnTo>
                  <a:pt x="410" y="2002"/>
                </a:lnTo>
                <a:lnTo>
                  <a:pt x="312" y="2026"/>
                </a:lnTo>
                <a:lnTo>
                  <a:pt x="274" y="1946"/>
                </a:lnTo>
                <a:lnTo>
                  <a:pt x="205" y="1963"/>
                </a:lnTo>
                <a:lnTo>
                  <a:pt x="176" y="1911"/>
                </a:lnTo>
                <a:lnTo>
                  <a:pt x="173" y="1876"/>
                </a:lnTo>
                <a:lnTo>
                  <a:pt x="137" y="1858"/>
                </a:lnTo>
                <a:lnTo>
                  <a:pt x="68" y="1863"/>
                </a:lnTo>
                <a:lnTo>
                  <a:pt x="9" y="1791"/>
                </a:lnTo>
                <a:lnTo>
                  <a:pt x="36" y="1774"/>
                </a:lnTo>
                <a:lnTo>
                  <a:pt x="2" y="1762"/>
                </a:lnTo>
                <a:lnTo>
                  <a:pt x="0" y="1723"/>
                </a:lnTo>
                <a:lnTo>
                  <a:pt x="44" y="1639"/>
                </a:lnTo>
                <a:lnTo>
                  <a:pt x="62" y="1641"/>
                </a:lnTo>
                <a:lnTo>
                  <a:pt x="58" y="1618"/>
                </a:lnTo>
                <a:lnTo>
                  <a:pt x="116" y="1524"/>
                </a:lnTo>
                <a:lnTo>
                  <a:pt x="187" y="1484"/>
                </a:lnTo>
                <a:lnTo>
                  <a:pt x="135" y="1386"/>
                </a:lnTo>
                <a:lnTo>
                  <a:pt x="77" y="1370"/>
                </a:lnTo>
                <a:lnTo>
                  <a:pt x="85" y="1341"/>
                </a:lnTo>
                <a:lnTo>
                  <a:pt x="1" y="1298"/>
                </a:lnTo>
                <a:lnTo>
                  <a:pt x="44" y="1252"/>
                </a:lnTo>
                <a:lnTo>
                  <a:pt x="74" y="1232"/>
                </a:lnTo>
                <a:lnTo>
                  <a:pt x="68" y="1201"/>
                </a:lnTo>
                <a:lnTo>
                  <a:pt x="116" y="1208"/>
                </a:lnTo>
                <a:lnTo>
                  <a:pt x="203" y="1136"/>
                </a:lnTo>
                <a:lnTo>
                  <a:pt x="247" y="1101"/>
                </a:lnTo>
                <a:lnTo>
                  <a:pt x="240" y="1024"/>
                </a:lnTo>
                <a:lnTo>
                  <a:pt x="259" y="1019"/>
                </a:lnTo>
                <a:lnTo>
                  <a:pt x="296" y="1028"/>
                </a:lnTo>
                <a:lnTo>
                  <a:pt x="334" y="1069"/>
                </a:lnTo>
                <a:lnTo>
                  <a:pt x="368" y="1045"/>
                </a:lnTo>
                <a:lnTo>
                  <a:pt x="401" y="1025"/>
                </a:lnTo>
                <a:lnTo>
                  <a:pt x="445" y="1049"/>
                </a:lnTo>
                <a:lnTo>
                  <a:pt x="468" y="1043"/>
                </a:lnTo>
                <a:lnTo>
                  <a:pt x="480" y="1006"/>
                </a:lnTo>
                <a:lnTo>
                  <a:pt x="486" y="972"/>
                </a:lnTo>
                <a:lnTo>
                  <a:pt x="486" y="946"/>
                </a:lnTo>
                <a:lnTo>
                  <a:pt x="387" y="897"/>
                </a:lnTo>
                <a:lnTo>
                  <a:pt x="370" y="916"/>
                </a:lnTo>
                <a:lnTo>
                  <a:pt x="356" y="897"/>
                </a:lnTo>
                <a:lnTo>
                  <a:pt x="360" y="870"/>
                </a:lnTo>
                <a:lnTo>
                  <a:pt x="310" y="839"/>
                </a:lnTo>
                <a:lnTo>
                  <a:pt x="428" y="73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80040" y="1744560"/>
            <a:ext cx="1908360" cy="1967040"/>
          </a:xfrm>
          <a:custGeom>
            <a:avLst/>
            <a:gdLst/>
            <a:ahLst/>
            <a:rect l="l" t="t" r="r" b="b"/>
            <a:pathLst>
              <a:path w="3692" h="3804">
                <a:moveTo>
                  <a:pt x="419" y="572"/>
                </a:moveTo>
                <a:lnTo>
                  <a:pt x="464" y="569"/>
                </a:lnTo>
                <a:lnTo>
                  <a:pt x="472" y="521"/>
                </a:lnTo>
                <a:lnTo>
                  <a:pt x="504" y="584"/>
                </a:lnTo>
                <a:lnTo>
                  <a:pt x="491" y="626"/>
                </a:lnTo>
                <a:lnTo>
                  <a:pt x="518" y="666"/>
                </a:lnTo>
                <a:lnTo>
                  <a:pt x="548" y="646"/>
                </a:lnTo>
                <a:lnTo>
                  <a:pt x="517" y="615"/>
                </a:lnTo>
                <a:lnTo>
                  <a:pt x="554" y="594"/>
                </a:lnTo>
                <a:lnTo>
                  <a:pt x="595" y="587"/>
                </a:lnTo>
                <a:lnTo>
                  <a:pt x="626" y="562"/>
                </a:lnTo>
                <a:lnTo>
                  <a:pt x="721" y="569"/>
                </a:lnTo>
                <a:lnTo>
                  <a:pt x="797" y="569"/>
                </a:lnTo>
                <a:lnTo>
                  <a:pt x="792" y="625"/>
                </a:lnTo>
                <a:lnTo>
                  <a:pt x="840" y="659"/>
                </a:lnTo>
                <a:lnTo>
                  <a:pt x="930" y="665"/>
                </a:lnTo>
                <a:lnTo>
                  <a:pt x="1005" y="659"/>
                </a:lnTo>
                <a:lnTo>
                  <a:pt x="1069" y="641"/>
                </a:lnTo>
                <a:lnTo>
                  <a:pt x="1078" y="600"/>
                </a:lnTo>
                <a:lnTo>
                  <a:pt x="1042" y="535"/>
                </a:lnTo>
                <a:lnTo>
                  <a:pt x="1074" y="473"/>
                </a:lnTo>
                <a:lnTo>
                  <a:pt x="1103" y="463"/>
                </a:lnTo>
                <a:lnTo>
                  <a:pt x="1164" y="486"/>
                </a:lnTo>
                <a:lnTo>
                  <a:pt x="1184" y="516"/>
                </a:lnTo>
                <a:lnTo>
                  <a:pt x="1211" y="491"/>
                </a:lnTo>
                <a:lnTo>
                  <a:pt x="1222" y="514"/>
                </a:lnTo>
                <a:lnTo>
                  <a:pt x="1241" y="507"/>
                </a:lnTo>
                <a:lnTo>
                  <a:pt x="1245" y="476"/>
                </a:lnTo>
                <a:lnTo>
                  <a:pt x="1290" y="471"/>
                </a:lnTo>
                <a:lnTo>
                  <a:pt x="1360" y="511"/>
                </a:lnTo>
                <a:lnTo>
                  <a:pt x="1394" y="539"/>
                </a:lnTo>
                <a:lnTo>
                  <a:pt x="1412" y="573"/>
                </a:lnTo>
                <a:lnTo>
                  <a:pt x="1422" y="615"/>
                </a:lnTo>
                <a:lnTo>
                  <a:pt x="1432" y="643"/>
                </a:lnTo>
                <a:lnTo>
                  <a:pt x="1468" y="682"/>
                </a:lnTo>
                <a:lnTo>
                  <a:pt x="1462" y="714"/>
                </a:lnTo>
                <a:lnTo>
                  <a:pt x="1421" y="720"/>
                </a:lnTo>
                <a:lnTo>
                  <a:pt x="1362" y="690"/>
                </a:lnTo>
                <a:lnTo>
                  <a:pt x="1313" y="682"/>
                </a:lnTo>
                <a:lnTo>
                  <a:pt x="1310" y="697"/>
                </a:lnTo>
                <a:lnTo>
                  <a:pt x="1351" y="703"/>
                </a:lnTo>
                <a:lnTo>
                  <a:pt x="1400" y="735"/>
                </a:lnTo>
                <a:lnTo>
                  <a:pt x="1429" y="769"/>
                </a:lnTo>
                <a:lnTo>
                  <a:pt x="1459" y="803"/>
                </a:lnTo>
                <a:lnTo>
                  <a:pt x="1496" y="842"/>
                </a:lnTo>
                <a:lnTo>
                  <a:pt x="1528" y="875"/>
                </a:lnTo>
                <a:lnTo>
                  <a:pt x="1582" y="908"/>
                </a:lnTo>
                <a:lnTo>
                  <a:pt x="1624" y="927"/>
                </a:lnTo>
                <a:lnTo>
                  <a:pt x="1651" y="893"/>
                </a:lnTo>
                <a:lnTo>
                  <a:pt x="1649" y="833"/>
                </a:lnTo>
                <a:lnTo>
                  <a:pt x="1645" y="674"/>
                </a:lnTo>
                <a:lnTo>
                  <a:pt x="1658" y="707"/>
                </a:lnTo>
                <a:lnTo>
                  <a:pt x="1700" y="732"/>
                </a:lnTo>
                <a:lnTo>
                  <a:pt x="1756" y="747"/>
                </a:lnTo>
                <a:lnTo>
                  <a:pt x="1805" y="738"/>
                </a:lnTo>
                <a:lnTo>
                  <a:pt x="1822" y="693"/>
                </a:lnTo>
                <a:lnTo>
                  <a:pt x="1842" y="653"/>
                </a:lnTo>
                <a:lnTo>
                  <a:pt x="1885" y="657"/>
                </a:lnTo>
                <a:lnTo>
                  <a:pt x="1937" y="666"/>
                </a:lnTo>
                <a:lnTo>
                  <a:pt x="1977" y="688"/>
                </a:lnTo>
                <a:lnTo>
                  <a:pt x="2003" y="693"/>
                </a:lnTo>
                <a:lnTo>
                  <a:pt x="2009" y="654"/>
                </a:lnTo>
                <a:lnTo>
                  <a:pt x="1986" y="645"/>
                </a:lnTo>
                <a:lnTo>
                  <a:pt x="1984" y="613"/>
                </a:lnTo>
                <a:lnTo>
                  <a:pt x="1999" y="588"/>
                </a:lnTo>
                <a:lnTo>
                  <a:pt x="2027" y="581"/>
                </a:lnTo>
                <a:lnTo>
                  <a:pt x="2059" y="612"/>
                </a:lnTo>
                <a:lnTo>
                  <a:pt x="2092" y="575"/>
                </a:lnTo>
                <a:lnTo>
                  <a:pt x="2052" y="535"/>
                </a:lnTo>
                <a:lnTo>
                  <a:pt x="2029" y="498"/>
                </a:lnTo>
                <a:lnTo>
                  <a:pt x="2041" y="447"/>
                </a:lnTo>
                <a:lnTo>
                  <a:pt x="2016" y="448"/>
                </a:lnTo>
                <a:lnTo>
                  <a:pt x="2009" y="469"/>
                </a:lnTo>
                <a:lnTo>
                  <a:pt x="1985" y="467"/>
                </a:lnTo>
                <a:lnTo>
                  <a:pt x="1985" y="404"/>
                </a:lnTo>
                <a:lnTo>
                  <a:pt x="2029" y="386"/>
                </a:lnTo>
                <a:lnTo>
                  <a:pt x="2058" y="349"/>
                </a:lnTo>
                <a:lnTo>
                  <a:pt x="2036" y="324"/>
                </a:lnTo>
                <a:lnTo>
                  <a:pt x="2013" y="312"/>
                </a:lnTo>
                <a:lnTo>
                  <a:pt x="2044" y="290"/>
                </a:lnTo>
                <a:lnTo>
                  <a:pt x="2072" y="296"/>
                </a:lnTo>
                <a:lnTo>
                  <a:pt x="2113" y="298"/>
                </a:lnTo>
                <a:lnTo>
                  <a:pt x="2190" y="259"/>
                </a:lnTo>
                <a:lnTo>
                  <a:pt x="2268" y="234"/>
                </a:lnTo>
                <a:lnTo>
                  <a:pt x="2372" y="221"/>
                </a:lnTo>
                <a:lnTo>
                  <a:pt x="2308" y="262"/>
                </a:lnTo>
                <a:lnTo>
                  <a:pt x="2269" y="271"/>
                </a:lnTo>
                <a:lnTo>
                  <a:pt x="2263" y="312"/>
                </a:lnTo>
                <a:lnTo>
                  <a:pt x="2284" y="320"/>
                </a:lnTo>
                <a:lnTo>
                  <a:pt x="2302" y="290"/>
                </a:lnTo>
                <a:lnTo>
                  <a:pt x="2382" y="228"/>
                </a:lnTo>
                <a:lnTo>
                  <a:pt x="2381" y="326"/>
                </a:lnTo>
                <a:lnTo>
                  <a:pt x="2355" y="278"/>
                </a:lnTo>
                <a:lnTo>
                  <a:pt x="2335" y="289"/>
                </a:lnTo>
                <a:lnTo>
                  <a:pt x="2364" y="330"/>
                </a:lnTo>
                <a:lnTo>
                  <a:pt x="2336" y="379"/>
                </a:lnTo>
                <a:lnTo>
                  <a:pt x="2348" y="388"/>
                </a:lnTo>
                <a:lnTo>
                  <a:pt x="2388" y="357"/>
                </a:lnTo>
                <a:lnTo>
                  <a:pt x="2401" y="304"/>
                </a:lnTo>
                <a:lnTo>
                  <a:pt x="2395" y="215"/>
                </a:lnTo>
                <a:lnTo>
                  <a:pt x="2472" y="174"/>
                </a:lnTo>
                <a:lnTo>
                  <a:pt x="2534" y="167"/>
                </a:lnTo>
                <a:lnTo>
                  <a:pt x="2579" y="184"/>
                </a:lnTo>
                <a:lnTo>
                  <a:pt x="2585" y="227"/>
                </a:lnTo>
                <a:lnTo>
                  <a:pt x="2549" y="214"/>
                </a:lnTo>
                <a:lnTo>
                  <a:pt x="2548" y="266"/>
                </a:lnTo>
                <a:lnTo>
                  <a:pt x="2608" y="241"/>
                </a:lnTo>
                <a:lnTo>
                  <a:pt x="2617" y="266"/>
                </a:lnTo>
                <a:lnTo>
                  <a:pt x="2658" y="235"/>
                </a:lnTo>
                <a:lnTo>
                  <a:pt x="2710" y="231"/>
                </a:lnTo>
                <a:lnTo>
                  <a:pt x="2782" y="252"/>
                </a:lnTo>
                <a:lnTo>
                  <a:pt x="2790" y="258"/>
                </a:lnTo>
                <a:lnTo>
                  <a:pt x="2832" y="265"/>
                </a:lnTo>
                <a:lnTo>
                  <a:pt x="2900" y="183"/>
                </a:lnTo>
                <a:lnTo>
                  <a:pt x="2953" y="119"/>
                </a:lnTo>
                <a:lnTo>
                  <a:pt x="3019" y="51"/>
                </a:lnTo>
                <a:lnTo>
                  <a:pt x="3113" y="7"/>
                </a:lnTo>
                <a:lnTo>
                  <a:pt x="3204" y="0"/>
                </a:lnTo>
                <a:lnTo>
                  <a:pt x="3269" y="35"/>
                </a:lnTo>
                <a:lnTo>
                  <a:pt x="3284" y="80"/>
                </a:lnTo>
                <a:lnTo>
                  <a:pt x="3323" y="119"/>
                </a:lnTo>
                <a:lnTo>
                  <a:pt x="3372" y="107"/>
                </a:lnTo>
                <a:lnTo>
                  <a:pt x="3397" y="94"/>
                </a:lnTo>
                <a:lnTo>
                  <a:pt x="3471" y="159"/>
                </a:lnTo>
                <a:lnTo>
                  <a:pt x="3421" y="88"/>
                </a:lnTo>
                <a:lnTo>
                  <a:pt x="3453" y="16"/>
                </a:lnTo>
                <a:lnTo>
                  <a:pt x="3537" y="59"/>
                </a:lnTo>
                <a:lnTo>
                  <a:pt x="3529" y="88"/>
                </a:lnTo>
                <a:lnTo>
                  <a:pt x="3587" y="104"/>
                </a:lnTo>
                <a:lnTo>
                  <a:pt x="3639" y="202"/>
                </a:lnTo>
                <a:lnTo>
                  <a:pt x="3568" y="242"/>
                </a:lnTo>
                <a:lnTo>
                  <a:pt x="3510" y="336"/>
                </a:lnTo>
                <a:lnTo>
                  <a:pt x="3514" y="359"/>
                </a:lnTo>
                <a:lnTo>
                  <a:pt x="3496" y="357"/>
                </a:lnTo>
                <a:lnTo>
                  <a:pt x="3452" y="441"/>
                </a:lnTo>
                <a:lnTo>
                  <a:pt x="3454" y="480"/>
                </a:lnTo>
                <a:lnTo>
                  <a:pt x="3488" y="492"/>
                </a:lnTo>
                <a:lnTo>
                  <a:pt x="3461" y="509"/>
                </a:lnTo>
                <a:lnTo>
                  <a:pt x="3520" y="581"/>
                </a:lnTo>
                <a:lnTo>
                  <a:pt x="3589" y="576"/>
                </a:lnTo>
                <a:lnTo>
                  <a:pt x="3625" y="594"/>
                </a:lnTo>
                <a:lnTo>
                  <a:pt x="3628" y="629"/>
                </a:lnTo>
                <a:lnTo>
                  <a:pt x="3657" y="681"/>
                </a:lnTo>
                <a:lnTo>
                  <a:pt x="3692" y="719"/>
                </a:lnTo>
                <a:lnTo>
                  <a:pt x="3662" y="739"/>
                </a:lnTo>
                <a:lnTo>
                  <a:pt x="3649" y="775"/>
                </a:lnTo>
                <a:lnTo>
                  <a:pt x="3651" y="809"/>
                </a:lnTo>
                <a:lnTo>
                  <a:pt x="3618" y="819"/>
                </a:lnTo>
                <a:lnTo>
                  <a:pt x="3584" y="799"/>
                </a:lnTo>
                <a:lnTo>
                  <a:pt x="3582" y="827"/>
                </a:lnTo>
                <a:lnTo>
                  <a:pt x="3519" y="851"/>
                </a:lnTo>
                <a:lnTo>
                  <a:pt x="3494" y="873"/>
                </a:lnTo>
                <a:lnTo>
                  <a:pt x="3452" y="898"/>
                </a:lnTo>
                <a:lnTo>
                  <a:pt x="3446" y="932"/>
                </a:lnTo>
                <a:lnTo>
                  <a:pt x="3472" y="940"/>
                </a:lnTo>
                <a:lnTo>
                  <a:pt x="3472" y="983"/>
                </a:lnTo>
                <a:lnTo>
                  <a:pt x="3455" y="975"/>
                </a:lnTo>
                <a:lnTo>
                  <a:pt x="3430" y="1010"/>
                </a:lnTo>
                <a:lnTo>
                  <a:pt x="3457" y="1069"/>
                </a:lnTo>
                <a:lnTo>
                  <a:pt x="3477" y="1086"/>
                </a:lnTo>
                <a:lnTo>
                  <a:pt x="3445" y="1145"/>
                </a:lnTo>
                <a:lnTo>
                  <a:pt x="3463" y="1175"/>
                </a:lnTo>
                <a:lnTo>
                  <a:pt x="3455" y="1192"/>
                </a:lnTo>
                <a:lnTo>
                  <a:pt x="3508" y="1220"/>
                </a:lnTo>
                <a:lnTo>
                  <a:pt x="3500" y="1262"/>
                </a:lnTo>
                <a:lnTo>
                  <a:pt x="3521" y="1279"/>
                </a:lnTo>
                <a:lnTo>
                  <a:pt x="3500" y="1306"/>
                </a:lnTo>
                <a:lnTo>
                  <a:pt x="3490" y="1287"/>
                </a:lnTo>
                <a:lnTo>
                  <a:pt x="3451" y="1319"/>
                </a:lnTo>
                <a:lnTo>
                  <a:pt x="3410" y="1371"/>
                </a:lnTo>
                <a:lnTo>
                  <a:pt x="3428" y="1396"/>
                </a:lnTo>
                <a:lnTo>
                  <a:pt x="3374" y="1412"/>
                </a:lnTo>
                <a:lnTo>
                  <a:pt x="3351" y="1374"/>
                </a:lnTo>
                <a:lnTo>
                  <a:pt x="3324" y="1372"/>
                </a:lnTo>
                <a:lnTo>
                  <a:pt x="3314" y="1415"/>
                </a:lnTo>
                <a:lnTo>
                  <a:pt x="3263" y="1448"/>
                </a:lnTo>
                <a:lnTo>
                  <a:pt x="3232" y="1446"/>
                </a:lnTo>
                <a:lnTo>
                  <a:pt x="3224" y="1480"/>
                </a:lnTo>
                <a:lnTo>
                  <a:pt x="3254" y="1491"/>
                </a:lnTo>
                <a:lnTo>
                  <a:pt x="3263" y="1554"/>
                </a:lnTo>
                <a:lnTo>
                  <a:pt x="3206" y="1561"/>
                </a:lnTo>
                <a:lnTo>
                  <a:pt x="3135" y="1583"/>
                </a:lnTo>
                <a:lnTo>
                  <a:pt x="3133" y="1629"/>
                </a:lnTo>
                <a:lnTo>
                  <a:pt x="3108" y="1683"/>
                </a:lnTo>
                <a:lnTo>
                  <a:pt x="3137" y="1776"/>
                </a:lnTo>
                <a:lnTo>
                  <a:pt x="3176" y="1846"/>
                </a:lnTo>
                <a:lnTo>
                  <a:pt x="3204" y="1939"/>
                </a:lnTo>
                <a:lnTo>
                  <a:pt x="3211" y="2012"/>
                </a:lnTo>
                <a:lnTo>
                  <a:pt x="3201" y="2076"/>
                </a:lnTo>
                <a:lnTo>
                  <a:pt x="3173" y="2094"/>
                </a:lnTo>
                <a:lnTo>
                  <a:pt x="3157" y="2049"/>
                </a:lnTo>
                <a:lnTo>
                  <a:pt x="3085" y="2071"/>
                </a:lnTo>
                <a:lnTo>
                  <a:pt x="3086" y="2099"/>
                </a:lnTo>
                <a:lnTo>
                  <a:pt x="3066" y="2108"/>
                </a:lnTo>
                <a:lnTo>
                  <a:pt x="3049" y="2134"/>
                </a:lnTo>
                <a:lnTo>
                  <a:pt x="3013" y="2123"/>
                </a:lnTo>
                <a:lnTo>
                  <a:pt x="2990" y="2125"/>
                </a:lnTo>
                <a:lnTo>
                  <a:pt x="2859" y="2083"/>
                </a:lnTo>
                <a:lnTo>
                  <a:pt x="2847" y="2125"/>
                </a:lnTo>
                <a:lnTo>
                  <a:pt x="2870" y="2199"/>
                </a:lnTo>
                <a:lnTo>
                  <a:pt x="2854" y="2225"/>
                </a:lnTo>
                <a:lnTo>
                  <a:pt x="2858" y="2314"/>
                </a:lnTo>
                <a:lnTo>
                  <a:pt x="2827" y="2350"/>
                </a:lnTo>
                <a:lnTo>
                  <a:pt x="2794" y="2403"/>
                </a:lnTo>
                <a:lnTo>
                  <a:pt x="2788" y="2435"/>
                </a:lnTo>
                <a:lnTo>
                  <a:pt x="2802" y="2496"/>
                </a:lnTo>
                <a:lnTo>
                  <a:pt x="2835" y="2571"/>
                </a:lnTo>
                <a:lnTo>
                  <a:pt x="2882" y="2671"/>
                </a:lnTo>
                <a:lnTo>
                  <a:pt x="2869" y="2683"/>
                </a:lnTo>
                <a:lnTo>
                  <a:pt x="2858" y="2673"/>
                </a:lnTo>
                <a:lnTo>
                  <a:pt x="2817" y="2693"/>
                </a:lnTo>
                <a:lnTo>
                  <a:pt x="2829" y="2726"/>
                </a:lnTo>
                <a:lnTo>
                  <a:pt x="2778" y="2804"/>
                </a:lnTo>
                <a:lnTo>
                  <a:pt x="2683" y="2798"/>
                </a:lnTo>
                <a:lnTo>
                  <a:pt x="2658" y="2904"/>
                </a:lnTo>
                <a:lnTo>
                  <a:pt x="2503" y="2926"/>
                </a:lnTo>
                <a:lnTo>
                  <a:pt x="2450" y="2973"/>
                </a:lnTo>
                <a:lnTo>
                  <a:pt x="2441" y="3082"/>
                </a:lnTo>
                <a:lnTo>
                  <a:pt x="2422" y="3114"/>
                </a:lnTo>
                <a:lnTo>
                  <a:pt x="2453" y="3193"/>
                </a:lnTo>
                <a:lnTo>
                  <a:pt x="2393" y="3190"/>
                </a:lnTo>
                <a:lnTo>
                  <a:pt x="2468" y="3253"/>
                </a:lnTo>
                <a:lnTo>
                  <a:pt x="2438" y="3345"/>
                </a:lnTo>
                <a:lnTo>
                  <a:pt x="2410" y="3358"/>
                </a:lnTo>
                <a:lnTo>
                  <a:pt x="2403" y="3373"/>
                </a:lnTo>
                <a:lnTo>
                  <a:pt x="2493" y="3420"/>
                </a:lnTo>
                <a:lnTo>
                  <a:pt x="2504" y="3486"/>
                </a:lnTo>
                <a:lnTo>
                  <a:pt x="2457" y="3498"/>
                </a:lnTo>
                <a:lnTo>
                  <a:pt x="2450" y="3591"/>
                </a:lnTo>
                <a:lnTo>
                  <a:pt x="2481" y="3648"/>
                </a:lnTo>
                <a:lnTo>
                  <a:pt x="2389" y="3674"/>
                </a:lnTo>
                <a:lnTo>
                  <a:pt x="2307" y="3706"/>
                </a:lnTo>
                <a:lnTo>
                  <a:pt x="2290" y="3719"/>
                </a:lnTo>
                <a:lnTo>
                  <a:pt x="2302" y="3742"/>
                </a:lnTo>
                <a:lnTo>
                  <a:pt x="2284" y="3755"/>
                </a:lnTo>
                <a:lnTo>
                  <a:pt x="2213" y="3740"/>
                </a:lnTo>
                <a:lnTo>
                  <a:pt x="2158" y="3756"/>
                </a:lnTo>
                <a:lnTo>
                  <a:pt x="2078" y="3785"/>
                </a:lnTo>
                <a:lnTo>
                  <a:pt x="2019" y="3804"/>
                </a:lnTo>
                <a:lnTo>
                  <a:pt x="1946" y="3800"/>
                </a:lnTo>
                <a:lnTo>
                  <a:pt x="1849" y="3802"/>
                </a:lnTo>
                <a:lnTo>
                  <a:pt x="1741" y="3723"/>
                </a:lnTo>
                <a:lnTo>
                  <a:pt x="1643" y="3715"/>
                </a:lnTo>
                <a:lnTo>
                  <a:pt x="1627" y="3734"/>
                </a:lnTo>
                <a:lnTo>
                  <a:pt x="1564" y="3707"/>
                </a:lnTo>
                <a:lnTo>
                  <a:pt x="1514" y="3702"/>
                </a:lnTo>
                <a:lnTo>
                  <a:pt x="1486" y="3665"/>
                </a:lnTo>
                <a:lnTo>
                  <a:pt x="1404" y="3672"/>
                </a:lnTo>
                <a:lnTo>
                  <a:pt x="1342" y="3710"/>
                </a:lnTo>
                <a:lnTo>
                  <a:pt x="1303" y="3692"/>
                </a:lnTo>
                <a:lnTo>
                  <a:pt x="1288" y="3630"/>
                </a:lnTo>
                <a:lnTo>
                  <a:pt x="1278" y="3591"/>
                </a:lnTo>
                <a:lnTo>
                  <a:pt x="1233" y="3562"/>
                </a:lnTo>
                <a:lnTo>
                  <a:pt x="1222" y="3476"/>
                </a:lnTo>
                <a:lnTo>
                  <a:pt x="1221" y="3437"/>
                </a:lnTo>
                <a:lnTo>
                  <a:pt x="1187" y="3412"/>
                </a:lnTo>
                <a:lnTo>
                  <a:pt x="1177" y="3337"/>
                </a:lnTo>
                <a:lnTo>
                  <a:pt x="1161" y="3296"/>
                </a:lnTo>
                <a:lnTo>
                  <a:pt x="1130" y="3243"/>
                </a:lnTo>
                <a:lnTo>
                  <a:pt x="1103" y="3239"/>
                </a:lnTo>
                <a:lnTo>
                  <a:pt x="1075" y="3263"/>
                </a:lnTo>
                <a:lnTo>
                  <a:pt x="1041" y="3271"/>
                </a:lnTo>
                <a:lnTo>
                  <a:pt x="1005" y="3225"/>
                </a:lnTo>
                <a:lnTo>
                  <a:pt x="1005" y="3183"/>
                </a:lnTo>
                <a:lnTo>
                  <a:pt x="969" y="3132"/>
                </a:lnTo>
                <a:lnTo>
                  <a:pt x="889" y="3101"/>
                </a:lnTo>
                <a:lnTo>
                  <a:pt x="846" y="3103"/>
                </a:lnTo>
                <a:lnTo>
                  <a:pt x="781" y="3164"/>
                </a:lnTo>
                <a:lnTo>
                  <a:pt x="746" y="3226"/>
                </a:lnTo>
                <a:lnTo>
                  <a:pt x="683" y="3306"/>
                </a:lnTo>
                <a:lnTo>
                  <a:pt x="679" y="3339"/>
                </a:lnTo>
                <a:lnTo>
                  <a:pt x="633" y="3385"/>
                </a:lnTo>
                <a:lnTo>
                  <a:pt x="600" y="3395"/>
                </a:lnTo>
                <a:lnTo>
                  <a:pt x="588" y="3433"/>
                </a:lnTo>
                <a:lnTo>
                  <a:pt x="590" y="3354"/>
                </a:lnTo>
                <a:lnTo>
                  <a:pt x="566" y="3345"/>
                </a:lnTo>
                <a:lnTo>
                  <a:pt x="565" y="3324"/>
                </a:lnTo>
                <a:lnTo>
                  <a:pt x="534" y="3354"/>
                </a:lnTo>
                <a:lnTo>
                  <a:pt x="509" y="3375"/>
                </a:lnTo>
                <a:lnTo>
                  <a:pt x="466" y="3375"/>
                </a:lnTo>
                <a:lnTo>
                  <a:pt x="423" y="3367"/>
                </a:lnTo>
                <a:lnTo>
                  <a:pt x="403" y="3383"/>
                </a:lnTo>
                <a:lnTo>
                  <a:pt x="397" y="3410"/>
                </a:lnTo>
                <a:lnTo>
                  <a:pt x="365" y="3421"/>
                </a:lnTo>
                <a:lnTo>
                  <a:pt x="335" y="3430"/>
                </a:lnTo>
                <a:lnTo>
                  <a:pt x="300" y="3364"/>
                </a:lnTo>
                <a:lnTo>
                  <a:pt x="275" y="3354"/>
                </a:lnTo>
                <a:lnTo>
                  <a:pt x="301" y="3293"/>
                </a:lnTo>
                <a:lnTo>
                  <a:pt x="315" y="3202"/>
                </a:lnTo>
                <a:lnTo>
                  <a:pt x="355" y="3118"/>
                </a:lnTo>
                <a:lnTo>
                  <a:pt x="393" y="3010"/>
                </a:lnTo>
                <a:lnTo>
                  <a:pt x="368" y="3019"/>
                </a:lnTo>
                <a:lnTo>
                  <a:pt x="348" y="2987"/>
                </a:lnTo>
                <a:lnTo>
                  <a:pt x="334" y="2989"/>
                </a:lnTo>
                <a:lnTo>
                  <a:pt x="326" y="2936"/>
                </a:lnTo>
                <a:lnTo>
                  <a:pt x="311" y="2892"/>
                </a:lnTo>
                <a:lnTo>
                  <a:pt x="343" y="2816"/>
                </a:lnTo>
                <a:lnTo>
                  <a:pt x="336" y="2774"/>
                </a:lnTo>
                <a:lnTo>
                  <a:pt x="291" y="2759"/>
                </a:lnTo>
                <a:lnTo>
                  <a:pt x="312" y="2698"/>
                </a:lnTo>
                <a:lnTo>
                  <a:pt x="297" y="2630"/>
                </a:lnTo>
                <a:lnTo>
                  <a:pt x="275" y="2580"/>
                </a:lnTo>
                <a:lnTo>
                  <a:pt x="263" y="2559"/>
                </a:lnTo>
                <a:lnTo>
                  <a:pt x="217" y="2553"/>
                </a:lnTo>
                <a:lnTo>
                  <a:pt x="192" y="2559"/>
                </a:lnTo>
                <a:lnTo>
                  <a:pt x="206" y="2519"/>
                </a:lnTo>
                <a:lnTo>
                  <a:pt x="236" y="2510"/>
                </a:lnTo>
                <a:lnTo>
                  <a:pt x="238" y="2478"/>
                </a:lnTo>
                <a:lnTo>
                  <a:pt x="220" y="2466"/>
                </a:lnTo>
                <a:lnTo>
                  <a:pt x="216" y="2428"/>
                </a:lnTo>
                <a:lnTo>
                  <a:pt x="188" y="2432"/>
                </a:lnTo>
                <a:lnTo>
                  <a:pt x="75" y="2387"/>
                </a:lnTo>
                <a:lnTo>
                  <a:pt x="20" y="2393"/>
                </a:lnTo>
                <a:lnTo>
                  <a:pt x="0" y="2354"/>
                </a:lnTo>
                <a:lnTo>
                  <a:pt x="18" y="2288"/>
                </a:lnTo>
                <a:lnTo>
                  <a:pt x="94" y="2219"/>
                </a:lnTo>
                <a:lnTo>
                  <a:pt x="96" y="2180"/>
                </a:lnTo>
                <a:lnTo>
                  <a:pt x="65" y="2163"/>
                </a:lnTo>
                <a:lnTo>
                  <a:pt x="45" y="2063"/>
                </a:lnTo>
                <a:lnTo>
                  <a:pt x="56" y="2002"/>
                </a:lnTo>
                <a:lnTo>
                  <a:pt x="50" y="1927"/>
                </a:lnTo>
                <a:lnTo>
                  <a:pt x="6" y="1896"/>
                </a:lnTo>
                <a:lnTo>
                  <a:pt x="99" y="1848"/>
                </a:lnTo>
                <a:lnTo>
                  <a:pt x="113" y="1548"/>
                </a:lnTo>
                <a:lnTo>
                  <a:pt x="70" y="1452"/>
                </a:lnTo>
                <a:lnTo>
                  <a:pt x="84" y="1416"/>
                </a:lnTo>
                <a:lnTo>
                  <a:pt x="214" y="1353"/>
                </a:lnTo>
                <a:lnTo>
                  <a:pt x="275" y="1367"/>
                </a:lnTo>
                <a:lnTo>
                  <a:pt x="280" y="1282"/>
                </a:lnTo>
                <a:lnTo>
                  <a:pt x="303" y="1246"/>
                </a:lnTo>
                <a:lnTo>
                  <a:pt x="336" y="1242"/>
                </a:lnTo>
                <a:lnTo>
                  <a:pt x="328" y="1195"/>
                </a:lnTo>
                <a:lnTo>
                  <a:pt x="361" y="1166"/>
                </a:lnTo>
                <a:lnTo>
                  <a:pt x="471" y="1116"/>
                </a:lnTo>
                <a:lnTo>
                  <a:pt x="482" y="1063"/>
                </a:lnTo>
                <a:lnTo>
                  <a:pt x="441" y="1044"/>
                </a:lnTo>
                <a:lnTo>
                  <a:pt x="436" y="900"/>
                </a:lnTo>
                <a:lnTo>
                  <a:pt x="405" y="869"/>
                </a:lnTo>
                <a:lnTo>
                  <a:pt x="388" y="832"/>
                </a:lnTo>
                <a:lnTo>
                  <a:pt x="356" y="800"/>
                </a:lnTo>
                <a:lnTo>
                  <a:pt x="367" y="708"/>
                </a:lnTo>
                <a:lnTo>
                  <a:pt x="347" y="693"/>
                </a:lnTo>
                <a:lnTo>
                  <a:pt x="331" y="650"/>
                </a:lnTo>
                <a:lnTo>
                  <a:pt x="355" y="632"/>
                </a:lnTo>
                <a:lnTo>
                  <a:pt x="385" y="588"/>
                </a:lnTo>
                <a:lnTo>
                  <a:pt x="392" y="550"/>
                </a:lnTo>
                <a:lnTo>
                  <a:pt x="419" y="57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4960" y="3000240"/>
            <a:ext cx="1226880" cy="1268640"/>
          </a:xfrm>
          <a:custGeom>
            <a:avLst/>
            <a:gdLst/>
            <a:ahLst/>
            <a:rect l="l" t="t" r="r" b="b"/>
            <a:pathLst>
              <a:path w="2374" h="2457">
                <a:moveTo>
                  <a:pt x="696" y="1947"/>
                </a:moveTo>
                <a:lnTo>
                  <a:pt x="726" y="1992"/>
                </a:lnTo>
                <a:lnTo>
                  <a:pt x="708" y="2036"/>
                </a:lnTo>
                <a:lnTo>
                  <a:pt x="693" y="2031"/>
                </a:lnTo>
                <a:lnTo>
                  <a:pt x="662" y="2037"/>
                </a:lnTo>
                <a:lnTo>
                  <a:pt x="718" y="2105"/>
                </a:lnTo>
                <a:lnTo>
                  <a:pt x="745" y="2059"/>
                </a:lnTo>
                <a:lnTo>
                  <a:pt x="780" y="2047"/>
                </a:lnTo>
                <a:lnTo>
                  <a:pt x="796" y="2053"/>
                </a:lnTo>
                <a:lnTo>
                  <a:pt x="790" y="2106"/>
                </a:lnTo>
                <a:lnTo>
                  <a:pt x="841" y="2178"/>
                </a:lnTo>
                <a:lnTo>
                  <a:pt x="845" y="2122"/>
                </a:lnTo>
                <a:lnTo>
                  <a:pt x="898" y="2105"/>
                </a:lnTo>
                <a:lnTo>
                  <a:pt x="912" y="2161"/>
                </a:lnTo>
                <a:lnTo>
                  <a:pt x="955" y="2232"/>
                </a:lnTo>
                <a:lnTo>
                  <a:pt x="974" y="2234"/>
                </a:lnTo>
                <a:lnTo>
                  <a:pt x="999" y="2191"/>
                </a:lnTo>
                <a:lnTo>
                  <a:pt x="1052" y="2149"/>
                </a:lnTo>
                <a:lnTo>
                  <a:pt x="1072" y="2099"/>
                </a:lnTo>
                <a:lnTo>
                  <a:pt x="1098" y="2074"/>
                </a:lnTo>
                <a:lnTo>
                  <a:pt x="1080" y="2055"/>
                </a:lnTo>
                <a:lnTo>
                  <a:pt x="1055" y="2058"/>
                </a:lnTo>
                <a:lnTo>
                  <a:pt x="1050" y="2049"/>
                </a:lnTo>
                <a:lnTo>
                  <a:pt x="1050" y="1999"/>
                </a:lnTo>
                <a:lnTo>
                  <a:pt x="1041" y="2002"/>
                </a:lnTo>
                <a:lnTo>
                  <a:pt x="1035" y="2042"/>
                </a:lnTo>
                <a:lnTo>
                  <a:pt x="1007" y="2036"/>
                </a:lnTo>
                <a:lnTo>
                  <a:pt x="944" y="2045"/>
                </a:lnTo>
                <a:lnTo>
                  <a:pt x="938" y="2022"/>
                </a:lnTo>
                <a:lnTo>
                  <a:pt x="912" y="2000"/>
                </a:lnTo>
                <a:lnTo>
                  <a:pt x="904" y="1961"/>
                </a:lnTo>
                <a:lnTo>
                  <a:pt x="903" y="1924"/>
                </a:lnTo>
                <a:lnTo>
                  <a:pt x="889" y="1924"/>
                </a:lnTo>
                <a:lnTo>
                  <a:pt x="841" y="1959"/>
                </a:lnTo>
                <a:lnTo>
                  <a:pt x="813" y="1965"/>
                </a:lnTo>
                <a:lnTo>
                  <a:pt x="810" y="1993"/>
                </a:lnTo>
                <a:lnTo>
                  <a:pt x="783" y="1971"/>
                </a:lnTo>
                <a:lnTo>
                  <a:pt x="769" y="1943"/>
                </a:lnTo>
                <a:lnTo>
                  <a:pt x="751" y="1916"/>
                </a:lnTo>
                <a:lnTo>
                  <a:pt x="714" y="1916"/>
                </a:lnTo>
                <a:lnTo>
                  <a:pt x="696" y="1947"/>
                </a:lnTo>
                <a:close/>
                <a:moveTo>
                  <a:pt x="1359" y="1504"/>
                </a:moveTo>
                <a:lnTo>
                  <a:pt x="1389" y="1514"/>
                </a:lnTo>
                <a:lnTo>
                  <a:pt x="1434" y="1563"/>
                </a:lnTo>
                <a:lnTo>
                  <a:pt x="1424" y="1576"/>
                </a:lnTo>
                <a:lnTo>
                  <a:pt x="1393" y="1582"/>
                </a:lnTo>
                <a:lnTo>
                  <a:pt x="1380" y="1630"/>
                </a:lnTo>
                <a:lnTo>
                  <a:pt x="1368" y="1687"/>
                </a:lnTo>
                <a:lnTo>
                  <a:pt x="1384" y="1708"/>
                </a:lnTo>
                <a:lnTo>
                  <a:pt x="1376" y="1741"/>
                </a:lnTo>
                <a:lnTo>
                  <a:pt x="1368" y="1834"/>
                </a:lnTo>
                <a:lnTo>
                  <a:pt x="1353" y="1876"/>
                </a:lnTo>
                <a:lnTo>
                  <a:pt x="1325" y="1930"/>
                </a:lnTo>
                <a:lnTo>
                  <a:pt x="1292" y="1978"/>
                </a:lnTo>
                <a:lnTo>
                  <a:pt x="1250" y="2021"/>
                </a:lnTo>
                <a:lnTo>
                  <a:pt x="1219" y="2062"/>
                </a:lnTo>
                <a:lnTo>
                  <a:pt x="1162" y="2117"/>
                </a:lnTo>
                <a:lnTo>
                  <a:pt x="1178" y="2118"/>
                </a:lnTo>
                <a:lnTo>
                  <a:pt x="1159" y="2152"/>
                </a:lnTo>
                <a:lnTo>
                  <a:pt x="1120" y="2188"/>
                </a:lnTo>
                <a:lnTo>
                  <a:pt x="1078" y="2211"/>
                </a:lnTo>
                <a:lnTo>
                  <a:pt x="1035" y="2258"/>
                </a:lnTo>
                <a:lnTo>
                  <a:pt x="1003" y="2301"/>
                </a:lnTo>
                <a:lnTo>
                  <a:pt x="947" y="2329"/>
                </a:lnTo>
                <a:lnTo>
                  <a:pt x="897" y="2340"/>
                </a:lnTo>
                <a:lnTo>
                  <a:pt x="838" y="2348"/>
                </a:lnTo>
                <a:lnTo>
                  <a:pt x="808" y="2352"/>
                </a:lnTo>
                <a:lnTo>
                  <a:pt x="838" y="2377"/>
                </a:lnTo>
                <a:lnTo>
                  <a:pt x="887" y="2396"/>
                </a:lnTo>
                <a:lnTo>
                  <a:pt x="907" y="2400"/>
                </a:lnTo>
                <a:lnTo>
                  <a:pt x="907" y="2445"/>
                </a:lnTo>
                <a:lnTo>
                  <a:pt x="857" y="2439"/>
                </a:lnTo>
                <a:lnTo>
                  <a:pt x="812" y="2457"/>
                </a:lnTo>
                <a:lnTo>
                  <a:pt x="817" y="2406"/>
                </a:lnTo>
                <a:lnTo>
                  <a:pt x="799" y="2395"/>
                </a:lnTo>
                <a:lnTo>
                  <a:pt x="758" y="2403"/>
                </a:lnTo>
                <a:lnTo>
                  <a:pt x="750" y="2326"/>
                </a:lnTo>
                <a:lnTo>
                  <a:pt x="675" y="2249"/>
                </a:lnTo>
                <a:lnTo>
                  <a:pt x="618" y="2240"/>
                </a:lnTo>
                <a:lnTo>
                  <a:pt x="571" y="2177"/>
                </a:lnTo>
                <a:lnTo>
                  <a:pt x="526" y="2142"/>
                </a:lnTo>
                <a:lnTo>
                  <a:pt x="458" y="2056"/>
                </a:lnTo>
                <a:lnTo>
                  <a:pt x="471" y="2043"/>
                </a:lnTo>
                <a:lnTo>
                  <a:pt x="446" y="2011"/>
                </a:lnTo>
                <a:lnTo>
                  <a:pt x="373" y="2045"/>
                </a:lnTo>
                <a:lnTo>
                  <a:pt x="331" y="2072"/>
                </a:lnTo>
                <a:lnTo>
                  <a:pt x="288" y="2025"/>
                </a:lnTo>
                <a:lnTo>
                  <a:pt x="240" y="2029"/>
                </a:lnTo>
                <a:lnTo>
                  <a:pt x="204" y="1977"/>
                </a:lnTo>
                <a:lnTo>
                  <a:pt x="170" y="1963"/>
                </a:lnTo>
                <a:lnTo>
                  <a:pt x="105" y="1891"/>
                </a:lnTo>
                <a:lnTo>
                  <a:pt x="83" y="1906"/>
                </a:lnTo>
                <a:lnTo>
                  <a:pt x="80" y="1898"/>
                </a:lnTo>
                <a:lnTo>
                  <a:pt x="0" y="1769"/>
                </a:lnTo>
                <a:lnTo>
                  <a:pt x="42" y="1729"/>
                </a:lnTo>
                <a:lnTo>
                  <a:pt x="100" y="1742"/>
                </a:lnTo>
                <a:lnTo>
                  <a:pt x="125" y="1676"/>
                </a:lnTo>
                <a:lnTo>
                  <a:pt x="111" y="1651"/>
                </a:lnTo>
                <a:lnTo>
                  <a:pt x="135" y="1612"/>
                </a:lnTo>
                <a:lnTo>
                  <a:pt x="155" y="1592"/>
                </a:lnTo>
                <a:lnTo>
                  <a:pt x="158" y="1513"/>
                </a:lnTo>
                <a:lnTo>
                  <a:pt x="205" y="1451"/>
                </a:lnTo>
                <a:lnTo>
                  <a:pt x="226" y="1464"/>
                </a:lnTo>
                <a:lnTo>
                  <a:pt x="260" y="1408"/>
                </a:lnTo>
                <a:lnTo>
                  <a:pt x="291" y="1412"/>
                </a:lnTo>
                <a:lnTo>
                  <a:pt x="290" y="1338"/>
                </a:lnTo>
                <a:lnTo>
                  <a:pt x="249" y="1281"/>
                </a:lnTo>
                <a:lnTo>
                  <a:pt x="335" y="1148"/>
                </a:lnTo>
                <a:lnTo>
                  <a:pt x="470" y="1178"/>
                </a:lnTo>
                <a:lnTo>
                  <a:pt x="510" y="1128"/>
                </a:lnTo>
                <a:lnTo>
                  <a:pt x="544" y="1135"/>
                </a:lnTo>
                <a:lnTo>
                  <a:pt x="571" y="1225"/>
                </a:lnTo>
                <a:lnTo>
                  <a:pt x="597" y="1262"/>
                </a:lnTo>
                <a:lnTo>
                  <a:pt x="621" y="1240"/>
                </a:lnTo>
                <a:lnTo>
                  <a:pt x="610" y="1213"/>
                </a:lnTo>
                <a:lnTo>
                  <a:pt x="621" y="1172"/>
                </a:lnTo>
                <a:lnTo>
                  <a:pt x="662" y="1116"/>
                </a:lnTo>
                <a:lnTo>
                  <a:pt x="684" y="1120"/>
                </a:lnTo>
                <a:lnTo>
                  <a:pt x="717" y="1077"/>
                </a:lnTo>
                <a:lnTo>
                  <a:pt x="764" y="1058"/>
                </a:lnTo>
                <a:lnTo>
                  <a:pt x="799" y="1022"/>
                </a:lnTo>
                <a:lnTo>
                  <a:pt x="793" y="986"/>
                </a:lnTo>
                <a:lnTo>
                  <a:pt x="802" y="942"/>
                </a:lnTo>
                <a:lnTo>
                  <a:pt x="817" y="887"/>
                </a:lnTo>
                <a:lnTo>
                  <a:pt x="872" y="927"/>
                </a:lnTo>
                <a:lnTo>
                  <a:pt x="894" y="983"/>
                </a:lnTo>
                <a:lnTo>
                  <a:pt x="944" y="1027"/>
                </a:lnTo>
                <a:lnTo>
                  <a:pt x="975" y="1060"/>
                </a:lnTo>
                <a:lnTo>
                  <a:pt x="1012" y="1051"/>
                </a:lnTo>
                <a:lnTo>
                  <a:pt x="1013" y="1023"/>
                </a:lnTo>
                <a:lnTo>
                  <a:pt x="1041" y="986"/>
                </a:lnTo>
                <a:lnTo>
                  <a:pt x="1065" y="970"/>
                </a:lnTo>
                <a:lnTo>
                  <a:pt x="1046" y="901"/>
                </a:lnTo>
                <a:lnTo>
                  <a:pt x="1030" y="903"/>
                </a:lnTo>
                <a:lnTo>
                  <a:pt x="1018" y="856"/>
                </a:lnTo>
                <a:lnTo>
                  <a:pt x="1052" y="840"/>
                </a:lnTo>
                <a:lnTo>
                  <a:pt x="1083" y="835"/>
                </a:lnTo>
                <a:lnTo>
                  <a:pt x="1090" y="750"/>
                </a:lnTo>
                <a:lnTo>
                  <a:pt x="1068" y="758"/>
                </a:lnTo>
                <a:lnTo>
                  <a:pt x="1022" y="736"/>
                </a:lnTo>
                <a:lnTo>
                  <a:pt x="1002" y="675"/>
                </a:lnTo>
                <a:lnTo>
                  <a:pt x="1028" y="597"/>
                </a:lnTo>
                <a:lnTo>
                  <a:pt x="1044" y="580"/>
                </a:lnTo>
                <a:lnTo>
                  <a:pt x="1042" y="542"/>
                </a:lnTo>
                <a:lnTo>
                  <a:pt x="1129" y="505"/>
                </a:lnTo>
                <a:lnTo>
                  <a:pt x="1151" y="485"/>
                </a:lnTo>
                <a:lnTo>
                  <a:pt x="1139" y="454"/>
                </a:lnTo>
                <a:lnTo>
                  <a:pt x="1184" y="420"/>
                </a:lnTo>
                <a:lnTo>
                  <a:pt x="1186" y="362"/>
                </a:lnTo>
                <a:lnTo>
                  <a:pt x="1219" y="311"/>
                </a:lnTo>
                <a:lnTo>
                  <a:pt x="1164" y="228"/>
                </a:lnTo>
                <a:lnTo>
                  <a:pt x="1207" y="144"/>
                </a:lnTo>
                <a:lnTo>
                  <a:pt x="1223" y="60"/>
                </a:lnTo>
                <a:lnTo>
                  <a:pt x="1283" y="70"/>
                </a:lnTo>
                <a:lnTo>
                  <a:pt x="1306" y="56"/>
                </a:lnTo>
                <a:lnTo>
                  <a:pt x="1356" y="50"/>
                </a:lnTo>
                <a:lnTo>
                  <a:pt x="1340" y="4"/>
                </a:lnTo>
                <a:lnTo>
                  <a:pt x="1368" y="0"/>
                </a:lnTo>
                <a:lnTo>
                  <a:pt x="1372" y="38"/>
                </a:lnTo>
                <a:lnTo>
                  <a:pt x="1390" y="50"/>
                </a:lnTo>
                <a:lnTo>
                  <a:pt x="1388" y="82"/>
                </a:lnTo>
                <a:lnTo>
                  <a:pt x="1358" y="91"/>
                </a:lnTo>
                <a:lnTo>
                  <a:pt x="1344" y="131"/>
                </a:lnTo>
                <a:lnTo>
                  <a:pt x="1369" y="125"/>
                </a:lnTo>
                <a:lnTo>
                  <a:pt x="1415" y="131"/>
                </a:lnTo>
                <a:lnTo>
                  <a:pt x="1427" y="152"/>
                </a:lnTo>
                <a:lnTo>
                  <a:pt x="1449" y="202"/>
                </a:lnTo>
                <a:lnTo>
                  <a:pt x="1464" y="270"/>
                </a:lnTo>
                <a:lnTo>
                  <a:pt x="1443" y="331"/>
                </a:lnTo>
                <a:lnTo>
                  <a:pt x="1488" y="346"/>
                </a:lnTo>
                <a:lnTo>
                  <a:pt x="1495" y="388"/>
                </a:lnTo>
                <a:lnTo>
                  <a:pt x="1463" y="464"/>
                </a:lnTo>
                <a:lnTo>
                  <a:pt x="1478" y="508"/>
                </a:lnTo>
                <a:lnTo>
                  <a:pt x="1486" y="561"/>
                </a:lnTo>
                <a:lnTo>
                  <a:pt x="1500" y="559"/>
                </a:lnTo>
                <a:lnTo>
                  <a:pt x="1520" y="591"/>
                </a:lnTo>
                <a:lnTo>
                  <a:pt x="1545" y="582"/>
                </a:lnTo>
                <a:lnTo>
                  <a:pt x="1507" y="690"/>
                </a:lnTo>
                <a:lnTo>
                  <a:pt x="1467" y="774"/>
                </a:lnTo>
                <a:lnTo>
                  <a:pt x="1453" y="865"/>
                </a:lnTo>
                <a:lnTo>
                  <a:pt x="1427" y="926"/>
                </a:lnTo>
                <a:lnTo>
                  <a:pt x="1452" y="936"/>
                </a:lnTo>
                <a:lnTo>
                  <a:pt x="1487" y="1002"/>
                </a:lnTo>
                <a:lnTo>
                  <a:pt x="1517" y="993"/>
                </a:lnTo>
                <a:lnTo>
                  <a:pt x="1549" y="982"/>
                </a:lnTo>
                <a:lnTo>
                  <a:pt x="1555" y="955"/>
                </a:lnTo>
                <a:lnTo>
                  <a:pt x="1575" y="939"/>
                </a:lnTo>
                <a:lnTo>
                  <a:pt x="1618" y="947"/>
                </a:lnTo>
                <a:lnTo>
                  <a:pt x="1661" y="947"/>
                </a:lnTo>
                <a:lnTo>
                  <a:pt x="1686" y="926"/>
                </a:lnTo>
                <a:lnTo>
                  <a:pt x="1717" y="896"/>
                </a:lnTo>
                <a:lnTo>
                  <a:pt x="1718" y="917"/>
                </a:lnTo>
                <a:lnTo>
                  <a:pt x="1742" y="926"/>
                </a:lnTo>
                <a:lnTo>
                  <a:pt x="1740" y="1005"/>
                </a:lnTo>
                <a:lnTo>
                  <a:pt x="1752" y="967"/>
                </a:lnTo>
                <a:lnTo>
                  <a:pt x="1785" y="957"/>
                </a:lnTo>
                <a:lnTo>
                  <a:pt x="1831" y="911"/>
                </a:lnTo>
                <a:lnTo>
                  <a:pt x="1835" y="878"/>
                </a:lnTo>
                <a:lnTo>
                  <a:pt x="1898" y="798"/>
                </a:lnTo>
                <a:lnTo>
                  <a:pt x="1933" y="736"/>
                </a:lnTo>
                <a:lnTo>
                  <a:pt x="1998" y="675"/>
                </a:lnTo>
                <a:lnTo>
                  <a:pt x="2041" y="673"/>
                </a:lnTo>
                <a:lnTo>
                  <a:pt x="2121" y="704"/>
                </a:lnTo>
                <a:lnTo>
                  <a:pt x="2157" y="755"/>
                </a:lnTo>
                <a:lnTo>
                  <a:pt x="2157" y="797"/>
                </a:lnTo>
                <a:lnTo>
                  <a:pt x="2193" y="843"/>
                </a:lnTo>
                <a:lnTo>
                  <a:pt x="2227" y="835"/>
                </a:lnTo>
                <a:lnTo>
                  <a:pt x="2255" y="811"/>
                </a:lnTo>
                <a:lnTo>
                  <a:pt x="2282" y="815"/>
                </a:lnTo>
                <a:lnTo>
                  <a:pt x="2313" y="868"/>
                </a:lnTo>
                <a:lnTo>
                  <a:pt x="2329" y="909"/>
                </a:lnTo>
                <a:lnTo>
                  <a:pt x="2339" y="984"/>
                </a:lnTo>
                <a:lnTo>
                  <a:pt x="2373" y="1009"/>
                </a:lnTo>
                <a:lnTo>
                  <a:pt x="2374" y="1048"/>
                </a:lnTo>
                <a:lnTo>
                  <a:pt x="2332" y="1065"/>
                </a:lnTo>
                <a:lnTo>
                  <a:pt x="2294" y="1039"/>
                </a:lnTo>
                <a:lnTo>
                  <a:pt x="2249" y="1038"/>
                </a:lnTo>
                <a:lnTo>
                  <a:pt x="2218" y="1064"/>
                </a:lnTo>
                <a:lnTo>
                  <a:pt x="2231" y="1092"/>
                </a:lnTo>
                <a:lnTo>
                  <a:pt x="2214" y="1097"/>
                </a:lnTo>
                <a:lnTo>
                  <a:pt x="2217" y="1141"/>
                </a:lnTo>
                <a:lnTo>
                  <a:pt x="2193" y="1157"/>
                </a:lnTo>
                <a:lnTo>
                  <a:pt x="2195" y="1178"/>
                </a:lnTo>
                <a:lnTo>
                  <a:pt x="2243" y="1260"/>
                </a:lnTo>
                <a:lnTo>
                  <a:pt x="2255" y="1238"/>
                </a:lnTo>
                <a:lnTo>
                  <a:pt x="2273" y="1245"/>
                </a:lnTo>
                <a:lnTo>
                  <a:pt x="2256" y="1277"/>
                </a:lnTo>
                <a:lnTo>
                  <a:pt x="2263" y="1295"/>
                </a:lnTo>
                <a:lnTo>
                  <a:pt x="2248" y="1332"/>
                </a:lnTo>
                <a:lnTo>
                  <a:pt x="2231" y="1324"/>
                </a:lnTo>
                <a:lnTo>
                  <a:pt x="2217" y="1344"/>
                </a:lnTo>
                <a:lnTo>
                  <a:pt x="2178" y="1357"/>
                </a:lnTo>
                <a:lnTo>
                  <a:pt x="2124" y="1349"/>
                </a:lnTo>
                <a:lnTo>
                  <a:pt x="2078" y="1335"/>
                </a:lnTo>
                <a:lnTo>
                  <a:pt x="2128" y="1295"/>
                </a:lnTo>
                <a:lnTo>
                  <a:pt x="2115" y="1277"/>
                </a:lnTo>
                <a:lnTo>
                  <a:pt x="2076" y="1288"/>
                </a:lnTo>
                <a:lnTo>
                  <a:pt x="2066" y="1300"/>
                </a:lnTo>
                <a:lnTo>
                  <a:pt x="2009" y="1320"/>
                </a:lnTo>
                <a:lnTo>
                  <a:pt x="1986" y="1395"/>
                </a:lnTo>
                <a:lnTo>
                  <a:pt x="1928" y="1409"/>
                </a:lnTo>
                <a:lnTo>
                  <a:pt x="1899" y="1433"/>
                </a:lnTo>
                <a:lnTo>
                  <a:pt x="1778" y="1403"/>
                </a:lnTo>
                <a:lnTo>
                  <a:pt x="1779" y="1365"/>
                </a:lnTo>
                <a:lnTo>
                  <a:pt x="1769" y="1361"/>
                </a:lnTo>
                <a:lnTo>
                  <a:pt x="1740" y="1387"/>
                </a:lnTo>
                <a:lnTo>
                  <a:pt x="1681" y="1383"/>
                </a:lnTo>
                <a:lnTo>
                  <a:pt x="1656" y="1345"/>
                </a:lnTo>
                <a:lnTo>
                  <a:pt x="1638" y="1390"/>
                </a:lnTo>
                <a:lnTo>
                  <a:pt x="1613" y="1403"/>
                </a:lnTo>
                <a:lnTo>
                  <a:pt x="1571" y="1397"/>
                </a:lnTo>
                <a:lnTo>
                  <a:pt x="1518" y="1372"/>
                </a:lnTo>
                <a:lnTo>
                  <a:pt x="1498" y="1391"/>
                </a:lnTo>
                <a:lnTo>
                  <a:pt x="1482" y="1428"/>
                </a:lnTo>
                <a:lnTo>
                  <a:pt x="1456" y="1425"/>
                </a:lnTo>
                <a:lnTo>
                  <a:pt x="1408" y="1440"/>
                </a:lnTo>
                <a:lnTo>
                  <a:pt x="1375" y="1458"/>
                </a:lnTo>
                <a:lnTo>
                  <a:pt x="1359" y="1504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26240" y="3989520"/>
            <a:ext cx="225360" cy="163440"/>
          </a:xfrm>
          <a:custGeom>
            <a:avLst/>
            <a:gdLst/>
            <a:ahLst/>
            <a:rect l="l" t="t" r="r" b="b"/>
            <a:pathLst>
              <a:path w="436" h="318">
                <a:moveTo>
                  <a:pt x="34" y="31"/>
                </a:moveTo>
                <a:lnTo>
                  <a:pt x="64" y="76"/>
                </a:lnTo>
                <a:lnTo>
                  <a:pt x="46" y="120"/>
                </a:lnTo>
                <a:lnTo>
                  <a:pt x="31" y="115"/>
                </a:lnTo>
                <a:lnTo>
                  <a:pt x="0" y="121"/>
                </a:lnTo>
                <a:lnTo>
                  <a:pt x="56" y="189"/>
                </a:lnTo>
                <a:lnTo>
                  <a:pt x="83" y="143"/>
                </a:lnTo>
                <a:lnTo>
                  <a:pt x="118" y="131"/>
                </a:lnTo>
                <a:lnTo>
                  <a:pt x="134" y="137"/>
                </a:lnTo>
                <a:lnTo>
                  <a:pt x="128" y="190"/>
                </a:lnTo>
                <a:lnTo>
                  <a:pt x="179" y="262"/>
                </a:lnTo>
                <a:lnTo>
                  <a:pt x="183" y="206"/>
                </a:lnTo>
                <a:lnTo>
                  <a:pt x="236" y="189"/>
                </a:lnTo>
                <a:lnTo>
                  <a:pt x="250" y="245"/>
                </a:lnTo>
                <a:lnTo>
                  <a:pt x="293" y="316"/>
                </a:lnTo>
                <a:lnTo>
                  <a:pt x="312" y="318"/>
                </a:lnTo>
                <a:lnTo>
                  <a:pt x="337" y="275"/>
                </a:lnTo>
                <a:lnTo>
                  <a:pt x="390" y="233"/>
                </a:lnTo>
                <a:lnTo>
                  <a:pt x="410" y="183"/>
                </a:lnTo>
                <a:lnTo>
                  <a:pt x="436" y="158"/>
                </a:lnTo>
                <a:lnTo>
                  <a:pt x="418" y="139"/>
                </a:lnTo>
                <a:lnTo>
                  <a:pt x="393" y="142"/>
                </a:lnTo>
                <a:lnTo>
                  <a:pt x="388" y="133"/>
                </a:lnTo>
                <a:lnTo>
                  <a:pt x="388" y="83"/>
                </a:lnTo>
                <a:lnTo>
                  <a:pt x="379" y="86"/>
                </a:lnTo>
                <a:lnTo>
                  <a:pt x="373" y="126"/>
                </a:lnTo>
                <a:lnTo>
                  <a:pt x="345" y="120"/>
                </a:lnTo>
                <a:lnTo>
                  <a:pt x="282" y="129"/>
                </a:lnTo>
                <a:lnTo>
                  <a:pt x="276" y="106"/>
                </a:lnTo>
                <a:lnTo>
                  <a:pt x="250" y="84"/>
                </a:lnTo>
                <a:lnTo>
                  <a:pt x="242" y="45"/>
                </a:lnTo>
                <a:lnTo>
                  <a:pt x="241" y="8"/>
                </a:lnTo>
                <a:lnTo>
                  <a:pt x="227" y="8"/>
                </a:lnTo>
                <a:lnTo>
                  <a:pt x="179" y="43"/>
                </a:lnTo>
                <a:lnTo>
                  <a:pt x="151" y="49"/>
                </a:lnTo>
                <a:lnTo>
                  <a:pt x="148" y="77"/>
                </a:lnTo>
                <a:lnTo>
                  <a:pt x="121" y="55"/>
                </a:lnTo>
                <a:lnTo>
                  <a:pt x="107" y="27"/>
                </a:lnTo>
                <a:lnTo>
                  <a:pt x="89" y="0"/>
                </a:lnTo>
                <a:lnTo>
                  <a:pt x="52" y="0"/>
                </a:lnTo>
                <a:lnTo>
                  <a:pt x="34" y="31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4960" y="3000240"/>
            <a:ext cx="1226880" cy="1268640"/>
          </a:xfrm>
          <a:custGeom>
            <a:avLst/>
            <a:gdLst/>
            <a:ahLst/>
            <a:rect l="l" t="t" r="r" b="b"/>
            <a:pathLst>
              <a:path w="2374" h="2457">
                <a:moveTo>
                  <a:pt x="1359" y="1504"/>
                </a:moveTo>
                <a:lnTo>
                  <a:pt x="1389" y="1514"/>
                </a:lnTo>
                <a:lnTo>
                  <a:pt x="1434" y="1563"/>
                </a:lnTo>
                <a:lnTo>
                  <a:pt x="1424" y="1576"/>
                </a:lnTo>
                <a:lnTo>
                  <a:pt x="1393" y="1582"/>
                </a:lnTo>
                <a:lnTo>
                  <a:pt x="1380" y="1630"/>
                </a:lnTo>
                <a:lnTo>
                  <a:pt x="1368" y="1687"/>
                </a:lnTo>
                <a:lnTo>
                  <a:pt x="1384" y="1708"/>
                </a:lnTo>
                <a:lnTo>
                  <a:pt x="1376" y="1741"/>
                </a:lnTo>
                <a:lnTo>
                  <a:pt x="1368" y="1834"/>
                </a:lnTo>
                <a:lnTo>
                  <a:pt x="1353" y="1876"/>
                </a:lnTo>
                <a:lnTo>
                  <a:pt x="1325" y="1930"/>
                </a:lnTo>
                <a:lnTo>
                  <a:pt x="1292" y="1978"/>
                </a:lnTo>
                <a:lnTo>
                  <a:pt x="1250" y="2021"/>
                </a:lnTo>
                <a:lnTo>
                  <a:pt x="1219" y="2062"/>
                </a:lnTo>
                <a:lnTo>
                  <a:pt x="1162" y="2117"/>
                </a:lnTo>
                <a:lnTo>
                  <a:pt x="1178" y="2118"/>
                </a:lnTo>
                <a:lnTo>
                  <a:pt x="1159" y="2152"/>
                </a:lnTo>
                <a:lnTo>
                  <a:pt x="1120" y="2188"/>
                </a:lnTo>
                <a:lnTo>
                  <a:pt x="1078" y="2211"/>
                </a:lnTo>
                <a:lnTo>
                  <a:pt x="1035" y="2258"/>
                </a:lnTo>
                <a:lnTo>
                  <a:pt x="1003" y="2301"/>
                </a:lnTo>
                <a:lnTo>
                  <a:pt x="947" y="2329"/>
                </a:lnTo>
                <a:lnTo>
                  <a:pt x="897" y="2340"/>
                </a:lnTo>
                <a:lnTo>
                  <a:pt x="838" y="2348"/>
                </a:lnTo>
                <a:lnTo>
                  <a:pt x="808" y="2352"/>
                </a:lnTo>
                <a:lnTo>
                  <a:pt x="838" y="2377"/>
                </a:lnTo>
                <a:lnTo>
                  <a:pt x="887" y="2396"/>
                </a:lnTo>
                <a:lnTo>
                  <a:pt x="907" y="2400"/>
                </a:lnTo>
                <a:lnTo>
                  <a:pt x="907" y="2445"/>
                </a:lnTo>
                <a:lnTo>
                  <a:pt x="857" y="2439"/>
                </a:lnTo>
                <a:lnTo>
                  <a:pt x="812" y="2457"/>
                </a:lnTo>
                <a:lnTo>
                  <a:pt x="817" y="2406"/>
                </a:lnTo>
                <a:lnTo>
                  <a:pt x="799" y="2395"/>
                </a:lnTo>
                <a:lnTo>
                  <a:pt x="758" y="2403"/>
                </a:lnTo>
                <a:lnTo>
                  <a:pt x="750" y="2326"/>
                </a:lnTo>
                <a:lnTo>
                  <a:pt x="675" y="2249"/>
                </a:lnTo>
                <a:lnTo>
                  <a:pt x="618" y="2240"/>
                </a:lnTo>
                <a:lnTo>
                  <a:pt x="571" y="2177"/>
                </a:lnTo>
                <a:lnTo>
                  <a:pt x="526" y="2142"/>
                </a:lnTo>
                <a:lnTo>
                  <a:pt x="458" y="2056"/>
                </a:lnTo>
                <a:lnTo>
                  <a:pt x="471" y="2043"/>
                </a:lnTo>
                <a:lnTo>
                  <a:pt x="446" y="2011"/>
                </a:lnTo>
                <a:lnTo>
                  <a:pt x="373" y="2045"/>
                </a:lnTo>
                <a:lnTo>
                  <a:pt x="331" y="2072"/>
                </a:lnTo>
                <a:lnTo>
                  <a:pt x="288" y="2025"/>
                </a:lnTo>
                <a:lnTo>
                  <a:pt x="240" y="2029"/>
                </a:lnTo>
                <a:lnTo>
                  <a:pt x="204" y="1977"/>
                </a:lnTo>
                <a:lnTo>
                  <a:pt x="170" y="1963"/>
                </a:lnTo>
                <a:lnTo>
                  <a:pt x="105" y="1891"/>
                </a:lnTo>
                <a:lnTo>
                  <a:pt x="83" y="1906"/>
                </a:lnTo>
                <a:lnTo>
                  <a:pt x="80" y="1898"/>
                </a:lnTo>
                <a:lnTo>
                  <a:pt x="0" y="1769"/>
                </a:lnTo>
                <a:lnTo>
                  <a:pt x="42" y="1729"/>
                </a:lnTo>
                <a:lnTo>
                  <a:pt x="100" y="1742"/>
                </a:lnTo>
                <a:lnTo>
                  <a:pt x="125" y="1676"/>
                </a:lnTo>
                <a:lnTo>
                  <a:pt x="111" y="1651"/>
                </a:lnTo>
                <a:lnTo>
                  <a:pt x="135" y="1612"/>
                </a:lnTo>
                <a:lnTo>
                  <a:pt x="155" y="1592"/>
                </a:lnTo>
                <a:lnTo>
                  <a:pt x="158" y="1513"/>
                </a:lnTo>
                <a:lnTo>
                  <a:pt x="205" y="1451"/>
                </a:lnTo>
                <a:lnTo>
                  <a:pt x="226" y="1464"/>
                </a:lnTo>
                <a:lnTo>
                  <a:pt x="260" y="1408"/>
                </a:lnTo>
                <a:lnTo>
                  <a:pt x="291" y="1412"/>
                </a:lnTo>
                <a:lnTo>
                  <a:pt x="290" y="1338"/>
                </a:lnTo>
                <a:lnTo>
                  <a:pt x="249" y="1281"/>
                </a:lnTo>
                <a:lnTo>
                  <a:pt x="335" y="1148"/>
                </a:lnTo>
                <a:lnTo>
                  <a:pt x="470" y="1178"/>
                </a:lnTo>
                <a:lnTo>
                  <a:pt x="510" y="1128"/>
                </a:lnTo>
                <a:lnTo>
                  <a:pt x="544" y="1135"/>
                </a:lnTo>
                <a:lnTo>
                  <a:pt x="571" y="1225"/>
                </a:lnTo>
                <a:lnTo>
                  <a:pt x="597" y="1262"/>
                </a:lnTo>
                <a:lnTo>
                  <a:pt x="621" y="1240"/>
                </a:lnTo>
                <a:lnTo>
                  <a:pt x="610" y="1213"/>
                </a:lnTo>
                <a:lnTo>
                  <a:pt x="621" y="1172"/>
                </a:lnTo>
                <a:lnTo>
                  <a:pt x="662" y="1116"/>
                </a:lnTo>
                <a:lnTo>
                  <a:pt x="684" y="1120"/>
                </a:lnTo>
                <a:lnTo>
                  <a:pt x="717" y="1077"/>
                </a:lnTo>
                <a:lnTo>
                  <a:pt x="764" y="1058"/>
                </a:lnTo>
                <a:lnTo>
                  <a:pt x="799" y="1022"/>
                </a:lnTo>
                <a:lnTo>
                  <a:pt x="793" y="986"/>
                </a:lnTo>
                <a:lnTo>
                  <a:pt x="802" y="942"/>
                </a:lnTo>
                <a:lnTo>
                  <a:pt x="817" y="887"/>
                </a:lnTo>
                <a:lnTo>
                  <a:pt x="872" y="927"/>
                </a:lnTo>
                <a:lnTo>
                  <a:pt x="894" y="983"/>
                </a:lnTo>
                <a:lnTo>
                  <a:pt x="944" y="1027"/>
                </a:lnTo>
                <a:lnTo>
                  <a:pt x="975" y="1060"/>
                </a:lnTo>
                <a:lnTo>
                  <a:pt x="1012" y="1051"/>
                </a:lnTo>
                <a:lnTo>
                  <a:pt x="1013" y="1023"/>
                </a:lnTo>
                <a:lnTo>
                  <a:pt x="1041" y="986"/>
                </a:lnTo>
                <a:lnTo>
                  <a:pt x="1065" y="970"/>
                </a:lnTo>
                <a:lnTo>
                  <a:pt x="1046" y="901"/>
                </a:lnTo>
                <a:lnTo>
                  <a:pt x="1030" y="903"/>
                </a:lnTo>
                <a:lnTo>
                  <a:pt x="1018" y="856"/>
                </a:lnTo>
                <a:lnTo>
                  <a:pt x="1052" y="840"/>
                </a:lnTo>
                <a:lnTo>
                  <a:pt x="1083" y="835"/>
                </a:lnTo>
                <a:lnTo>
                  <a:pt x="1090" y="750"/>
                </a:lnTo>
                <a:lnTo>
                  <a:pt x="1068" y="758"/>
                </a:lnTo>
                <a:lnTo>
                  <a:pt x="1022" y="736"/>
                </a:lnTo>
                <a:lnTo>
                  <a:pt x="1002" y="675"/>
                </a:lnTo>
                <a:lnTo>
                  <a:pt x="1028" y="597"/>
                </a:lnTo>
                <a:lnTo>
                  <a:pt x="1044" y="580"/>
                </a:lnTo>
                <a:lnTo>
                  <a:pt x="1042" y="542"/>
                </a:lnTo>
                <a:lnTo>
                  <a:pt x="1129" y="505"/>
                </a:lnTo>
                <a:lnTo>
                  <a:pt x="1151" y="485"/>
                </a:lnTo>
                <a:lnTo>
                  <a:pt x="1139" y="454"/>
                </a:lnTo>
                <a:lnTo>
                  <a:pt x="1184" y="420"/>
                </a:lnTo>
                <a:lnTo>
                  <a:pt x="1186" y="362"/>
                </a:lnTo>
                <a:lnTo>
                  <a:pt x="1219" y="311"/>
                </a:lnTo>
                <a:lnTo>
                  <a:pt x="1164" y="228"/>
                </a:lnTo>
                <a:lnTo>
                  <a:pt x="1207" y="144"/>
                </a:lnTo>
                <a:lnTo>
                  <a:pt x="1223" y="60"/>
                </a:lnTo>
                <a:lnTo>
                  <a:pt x="1283" y="70"/>
                </a:lnTo>
                <a:lnTo>
                  <a:pt x="1306" y="56"/>
                </a:lnTo>
                <a:lnTo>
                  <a:pt x="1356" y="50"/>
                </a:lnTo>
                <a:lnTo>
                  <a:pt x="1340" y="4"/>
                </a:lnTo>
                <a:lnTo>
                  <a:pt x="1368" y="0"/>
                </a:lnTo>
                <a:lnTo>
                  <a:pt x="1372" y="38"/>
                </a:lnTo>
                <a:lnTo>
                  <a:pt x="1390" y="50"/>
                </a:lnTo>
                <a:lnTo>
                  <a:pt x="1388" y="82"/>
                </a:lnTo>
                <a:lnTo>
                  <a:pt x="1358" y="91"/>
                </a:lnTo>
                <a:lnTo>
                  <a:pt x="1344" y="131"/>
                </a:lnTo>
                <a:lnTo>
                  <a:pt x="1369" y="125"/>
                </a:lnTo>
                <a:lnTo>
                  <a:pt x="1415" y="131"/>
                </a:lnTo>
                <a:lnTo>
                  <a:pt x="1427" y="152"/>
                </a:lnTo>
                <a:lnTo>
                  <a:pt x="1449" y="202"/>
                </a:lnTo>
                <a:lnTo>
                  <a:pt x="1464" y="270"/>
                </a:lnTo>
                <a:lnTo>
                  <a:pt x="1443" y="331"/>
                </a:lnTo>
                <a:lnTo>
                  <a:pt x="1488" y="346"/>
                </a:lnTo>
                <a:lnTo>
                  <a:pt x="1495" y="388"/>
                </a:lnTo>
                <a:lnTo>
                  <a:pt x="1463" y="464"/>
                </a:lnTo>
                <a:lnTo>
                  <a:pt x="1478" y="508"/>
                </a:lnTo>
                <a:lnTo>
                  <a:pt x="1486" y="561"/>
                </a:lnTo>
                <a:lnTo>
                  <a:pt x="1500" y="559"/>
                </a:lnTo>
                <a:lnTo>
                  <a:pt x="1520" y="591"/>
                </a:lnTo>
                <a:lnTo>
                  <a:pt x="1545" y="582"/>
                </a:lnTo>
                <a:lnTo>
                  <a:pt x="1507" y="690"/>
                </a:lnTo>
                <a:lnTo>
                  <a:pt x="1467" y="774"/>
                </a:lnTo>
                <a:lnTo>
                  <a:pt x="1453" y="865"/>
                </a:lnTo>
                <a:lnTo>
                  <a:pt x="1427" y="926"/>
                </a:lnTo>
                <a:lnTo>
                  <a:pt x="1452" y="936"/>
                </a:lnTo>
                <a:lnTo>
                  <a:pt x="1487" y="1002"/>
                </a:lnTo>
                <a:lnTo>
                  <a:pt x="1517" y="993"/>
                </a:lnTo>
                <a:lnTo>
                  <a:pt x="1549" y="982"/>
                </a:lnTo>
                <a:lnTo>
                  <a:pt x="1555" y="955"/>
                </a:lnTo>
                <a:lnTo>
                  <a:pt x="1575" y="939"/>
                </a:lnTo>
                <a:lnTo>
                  <a:pt x="1618" y="947"/>
                </a:lnTo>
                <a:lnTo>
                  <a:pt x="1661" y="947"/>
                </a:lnTo>
                <a:lnTo>
                  <a:pt x="1686" y="926"/>
                </a:lnTo>
                <a:lnTo>
                  <a:pt x="1717" y="896"/>
                </a:lnTo>
                <a:lnTo>
                  <a:pt x="1718" y="917"/>
                </a:lnTo>
                <a:lnTo>
                  <a:pt x="1742" y="926"/>
                </a:lnTo>
                <a:lnTo>
                  <a:pt x="1740" y="1005"/>
                </a:lnTo>
                <a:lnTo>
                  <a:pt x="1752" y="967"/>
                </a:lnTo>
                <a:lnTo>
                  <a:pt x="1785" y="957"/>
                </a:lnTo>
                <a:lnTo>
                  <a:pt x="1831" y="911"/>
                </a:lnTo>
                <a:lnTo>
                  <a:pt x="1835" y="878"/>
                </a:lnTo>
                <a:lnTo>
                  <a:pt x="1898" y="798"/>
                </a:lnTo>
                <a:lnTo>
                  <a:pt x="1933" y="736"/>
                </a:lnTo>
                <a:lnTo>
                  <a:pt x="1998" y="675"/>
                </a:lnTo>
                <a:lnTo>
                  <a:pt x="2041" y="673"/>
                </a:lnTo>
                <a:lnTo>
                  <a:pt x="2121" y="704"/>
                </a:lnTo>
                <a:lnTo>
                  <a:pt x="2157" y="755"/>
                </a:lnTo>
                <a:lnTo>
                  <a:pt x="2157" y="797"/>
                </a:lnTo>
                <a:lnTo>
                  <a:pt x="2193" y="843"/>
                </a:lnTo>
                <a:lnTo>
                  <a:pt x="2227" y="835"/>
                </a:lnTo>
                <a:lnTo>
                  <a:pt x="2255" y="811"/>
                </a:lnTo>
                <a:lnTo>
                  <a:pt x="2282" y="815"/>
                </a:lnTo>
                <a:lnTo>
                  <a:pt x="2313" y="868"/>
                </a:lnTo>
                <a:lnTo>
                  <a:pt x="2329" y="909"/>
                </a:lnTo>
                <a:lnTo>
                  <a:pt x="2339" y="984"/>
                </a:lnTo>
                <a:lnTo>
                  <a:pt x="2373" y="1009"/>
                </a:lnTo>
                <a:lnTo>
                  <a:pt x="2374" y="1048"/>
                </a:lnTo>
                <a:lnTo>
                  <a:pt x="2332" y="1065"/>
                </a:lnTo>
                <a:lnTo>
                  <a:pt x="2294" y="1039"/>
                </a:lnTo>
                <a:lnTo>
                  <a:pt x="2249" y="1038"/>
                </a:lnTo>
                <a:lnTo>
                  <a:pt x="2218" y="1064"/>
                </a:lnTo>
                <a:lnTo>
                  <a:pt x="2231" y="1092"/>
                </a:lnTo>
                <a:lnTo>
                  <a:pt x="2214" y="1097"/>
                </a:lnTo>
                <a:lnTo>
                  <a:pt x="2217" y="1141"/>
                </a:lnTo>
                <a:lnTo>
                  <a:pt x="2193" y="1157"/>
                </a:lnTo>
                <a:lnTo>
                  <a:pt x="2195" y="1178"/>
                </a:lnTo>
                <a:lnTo>
                  <a:pt x="2243" y="1260"/>
                </a:lnTo>
                <a:lnTo>
                  <a:pt x="2255" y="1238"/>
                </a:lnTo>
                <a:lnTo>
                  <a:pt x="2273" y="1245"/>
                </a:lnTo>
                <a:lnTo>
                  <a:pt x="2256" y="1277"/>
                </a:lnTo>
                <a:lnTo>
                  <a:pt x="2263" y="1295"/>
                </a:lnTo>
                <a:lnTo>
                  <a:pt x="2248" y="1332"/>
                </a:lnTo>
                <a:lnTo>
                  <a:pt x="2231" y="1324"/>
                </a:lnTo>
                <a:lnTo>
                  <a:pt x="2217" y="1344"/>
                </a:lnTo>
                <a:lnTo>
                  <a:pt x="2178" y="1357"/>
                </a:lnTo>
                <a:lnTo>
                  <a:pt x="2124" y="1349"/>
                </a:lnTo>
                <a:lnTo>
                  <a:pt x="2078" y="1335"/>
                </a:lnTo>
                <a:lnTo>
                  <a:pt x="2128" y="1295"/>
                </a:lnTo>
                <a:lnTo>
                  <a:pt x="2115" y="1277"/>
                </a:lnTo>
                <a:lnTo>
                  <a:pt x="2076" y="1288"/>
                </a:lnTo>
                <a:lnTo>
                  <a:pt x="2066" y="1300"/>
                </a:lnTo>
                <a:lnTo>
                  <a:pt x="2009" y="1320"/>
                </a:lnTo>
                <a:lnTo>
                  <a:pt x="1986" y="1395"/>
                </a:lnTo>
                <a:lnTo>
                  <a:pt x="1928" y="1409"/>
                </a:lnTo>
                <a:lnTo>
                  <a:pt x="1899" y="1433"/>
                </a:lnTo>
                <a:lnTo>
                  <a:pt x="1778" y="1403"/>
                </a:lnTo>
                <a:lnTo>
                  <a:pt x="1779" y="1365"/>
                </a:lnTo>
                <a:lnTo>
                  <a:pt x="1769" y="1361"/>
                </a:lnTo>
                <a:lnTo>
                  <a:pt x="1740" y="1387"/>
                </a:lnTo>
                <a:lnTo>
                  <a:pt x="1681" y="1383"/>
                </a:lnTo>
                <a:lnTo>
                  <a:pt x="1656" y="1345"/>
                </a:lnTo>
                <a:lnTo>
                  <a:pt x="1638" y="1390"/>
                </a:lnTo>
                <a:lnTo>
                  <a:pt x="1613" y="1403"/>
                </a:lnTo>
                <a:lnTo>
                  <a:pt x="1571" y="1397"/>
                </a:lnTo>
                <a:lnTo>
                  <a:pt x="1518" y="1372"/>
                </a:lnTo>
                <a:lnTo>
                  <a:pt x="1498" y="1391"/>
                </a:lnTo>
                <a:lnTo>
                  <a:pt x="1482" y="1428"/>
                </a:lnTo>
                <a:lnTo>
                  <a:pt x="1456" y="1425"/>
                </a:lnTo>
                <a:lnTo>
                  <a:pt x="1408" y="1440"/>
                </a:lnTo>
                <a:lnTo>
                  <a:pt x="1375" y="1458"/>
                </a:lnTo>
                <a:lnTo>
                  <a:pt x="1359" y="150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34040" y="3535200"/>
            <a:ext cx="804960" cy="938520"/>
          </a:xfrm>
          <a:custGeom>
            <a:avLst/>
            <a:gdLst/>
            <a:ahLst/>
            <a:rect l="l" t="t" r="r" b="b"/>
            <a:pathLst>
              <a:path w="1559" h="1814">
                <a:moveTo>
                  <a:pt x="866" y="1438"/>
                </a:moveTo>
                <a:lnTo>
                  <a:pt x="873" y="1403"/>
                </a:lnTo>
                <a:lnTo>
                  <a:pt x="902" y="1410"/>
                </a:lnTo>
                <a:lnTo>
                  <a:pt x="945" y="1351"/>
                </a:lnTo>
                <a:lnTo>
                  <a:pt x="851" y="1291"/>
                </a:lnTo>
                <a:lnTo>
                  <a:pt x="827" y="1285"/>
                </a:lnTo>
                <a:lnTo>
                  <a:pt x="765" y="1364"/>
                </a:lnTo>
                <a:lnTo>
                  <a:pt x="728" y="1349"/>
                </a:lnTo>
                <a:lnTo>
                  <a:pt x="702" y="1378"/>
                </a:lnTo>
                <a:lnTo>
                  <a:pt x="715" y="1425"/>
                </a:lnTo>
                <a:lnTo>
                  <a:pt x="665" y="1410"/>
                </a:lnTo>
                <a:lnTo>
                  <a:pt x="627" y="1441"/>
                </a:lnTo>
                <a:lnTo>
                  <a:pt x="610" y="1440"/>
                </a:lnTo>
                <a:lnTo>
                  <a:pt x="603" y="1414"/>
                </a:lnTo>
                <a:lnTo>
                  <a:pt x="573" y="1410"/>
                </a:lnTo>
                <a:lnTo>
                  <a:pt x="529" y="1471"/>
                </a:lnTo>
                <a:lnTo>
                  <a:pt x="578" y="1488"/>
                </a:lnTo>
                <a:lnTo>
                  <a:pt x="574" y="1512"/>
                </a:lnTo>
                <a:lnTo>
                  <a:pt x="623" y="1508"/>
                </a:lnTo>
                <a:lnTo>
                  <a:pt x="644" y="1514"/>
                </a:lnTo>
                <a:lnTo>
                  <a:pt x="653" y="1540"/>
                </a:lnTo>
                <a:lnTo>
                  <a:pt x="681" y="1544"/>
                </a:lnTo>
                <a:lnTo>
                  <a:pt x="674" y="1521"/>
                </a:lnTo>
                <a:lnTo>
                  <a:pt x="692" y="1507"/>
                </a:lnTo>
                <a:lnTo>
                  <a:pt x="721" y="1540"/>
                </a:lnTo>
                <a:lnTo>
                  <a:pt x="932" y="1481"/>
                </a:lnTo>
                <a:lnTo>
                  <a:pt x="927" y="1441"/>
                </a:lnTo>
                <a:lnTo>
                  <a:pt x="866" y="1438"/>
                </a:lnTo>
                <a:close/>
                <a:moveTo>
                  <a:pt x="1388" y="1300"/>
                </a:moveTo>
                <a:lnTo>
                  <a:pt x="1372" y="1358"/>
                </a:lnTo>
                <a:lnTo>
                  <a:pt x="1343" y="1445"/>
                </a:lnTo>
                <a:lnTo>
                  <a:pt x="1334" y="1478"/>
                </a:lnTo>
                <a:lnTo>
                  <a:pt x="1355" y="1475"/>
                </a:lnTo>
                <a:lnTo>
                  <a:pt x="1359" y="1511"/>
                </a:lnTo>
                <a:lnTo>
                  <a:pt x="1337" y="1553"/>
                </a:lnTo>
                <a:lnTo>
                  <a:pt x="1287" y="1564"/>
                </a:lnTo>
                <a:lnTo>
                  <a:pt x="1200" y="1655"/>
                </a:lnTo>
                <a:lnTo>
                  <a:pt x="1133" y="1649"/>
                </a:lnTo>
                <a:lnTo>
                  <a:pt x="1064" y="1625"/>
                </a:lnTo>
                <a:lnTo>
                  <a:pt x="1032" y="1599"/>
                </a:lnTo>
                <a:lnTo>
                  <a:pt x="997" y="1590"/>
                </a:lnTo>
                <a:lnTo>
                  <a:pt x="952" y="1621"/>
                </a:lnTo>
                <a:lnTo>
                  <a:pt x="902" y="1621"/>
                </a:lnTo>
                <a:lnTo>
                  <a:pt x="833" y="1574"/>
                </a:lnTo>
                <a:lnTo>
                  <a:pt x="768" y="1573"/>
                </a:lnTo>
                <a:lnTo>
                  <a:pt x="711" y="1608"/>
                </a:lnTo>
                <a:lnTo>
                  <a:pt x="653" y="1655"/>
                </a:lnTo>
                <a:lnTo>
                  <a:pt x="636" y="1699"/>
                </a:lnTo>
                <a:lnTo>
                  <a:pt x="591" y="1731"/>
                </a:lnTo>
                <a:lnTo>
                  <a:pt x="559" y="1730"/>
                </a:lnTo>
                <a:lnTo>
                  <a:pt x="461" y="1763"/>
                </a:lnTo>
                <a:lnTo>
                  <a:pt x="414" y="1781"/>
                </a:lnTo>
                <a:lnTo>
                  <a:pt x="364" y="1814"/>
                </a:lnTo>
                <a:lnTo>
                  <a:pt x="320" y="1801"/>
                </a:lnTo>
                <a:lnTo>
                  <a:pt x="276" y="1812"/>
                </a:lnTo>
                <a:lnTo>
                  <a:pt x="226" y="1804"/>
                </a:lnTo>
                <a:lnTo>
                  <a:pt x="187" y="1793"/>
                </a:lnTo>
                <a:lnTo>
                  <a:pt x="141" y="1780"/>
                </a:lnTo>
                <a:lnTo>
                  <a:pt x="104" y="1780"/>
                </a:lnTo>
                <a:lnTo>
                  <a:pt x="60" y="1755"/>
                </a:lnTo>
                <a:lnTo>
                  <a:pt x="33" y="1729"/>
                </a:lnTo>
                <a:lnTo>
                  <a:pt x="33" y="1671"/>
                </a:lnTo>
                <a:lnTo>
                  <a:pt x="0" y="1663"/>
                </a:lnTo>
                <a:lnTo>
                  <a:pt x="9" y="1621"/>
                </a:lnTo>
                <a:lnTo>
                  <a:pt x="55" y="1586"/>
                </a:lnTo>
                <a:lnTo>
                  <a:pt x="108" y="1571"/>
                </a:lnTo>
                <a:lnTo>
                  <a:pt x="115" y="1552"/>
                </a:lnTo>
                <a:lnTo>
                  <a:pt x="43" y="1518"/>
                </a:lnTo>
                <a:lnTo>
                  <a:pt x="68" y="1459"/>
                </a:lnTo>
                <a:lnTo>
                  <a:pt x="99" y="1450"/>
                </a:lnTo>
                <a:lnTo>
                  <a:pt x="103" y="1434"/>
                </a:lnTo>
                <a:lnTo>
                  <a:pt x="73" y="1414"/>
                </a:lnTo>
                <a:lnTo>
                  <a:pt x="101" y="1371"/>
                </a:lnTo>
                <a:lnTo>
                  <a:pt x="164" y="1369"/>
                </a:lnTo>
                <a:lnTo>
                  <a:pt x="194" y="1382"/>
                </a:lnTo>
                <a:lnTo>
                  <a:pt x="262" y="1350"/>
                </a:lnTo>
                <a:lnTo>
                  <a:pt x="305" y="1345"/>
                </a:lnTo>
                <a:lnTo>
                  <a:pt x="316" y="1357"/>
                </a:lnTo>
                <a:lnTo>
                  <a:pt x="357" y="1345"/>
                </a:lnTo>
                <a:lnTo>
                  <a:pt x="382" y="1306"/>
                </a:lnTo>
                <a:lnTo>
                  <a:pt x="445" y="1272"/>
                </a:lnTo>
                <a:lnTo>
                  <a:pt x="491" y="1208"/>
                </a:lnTo>
                <a:lnTo>
                  <a:pt x="531" y="1220"/>
                </a:lnTo>
                <a:lnTo>
                  <a:pt x="547" y="1194"/>
                </a:lnTo>
                <a:lnTo>
                  <a:pt x="587" y="1189"/>
                </a:lnTo>
                <a:lnTo>
                  <a:pt x="655" y="1164"/>
                </a:lnTo>
                <a:lnTo>
                  <a:pt x="689" y="1128"/>
                </a:lnTo>
                <a:lnTo>
                  <a:pt x="728" y="1094"/>
                </a:lnTo>
                <a:lnTo>
                  <a:pt x="733" y="1048"/>
                </a:lnTo>
                <a:lnTo>
                  <a:pt x="706" y="1009"/>
                </a:lnTo>
                <a:lnTo>
                  <a:pt x="675" y="967"/>
                </a:lnTo>
                <a:lnTo>
                  <a:pt x="705" y="914"/>
                </a:lnTo>
                <a:lnTo>
                  <a:pt x="762" y="878"/>
                </a:lnTo>
                <a:lnTo>
                  <a:pt x="851" y="778"/>
                </a:lnTo>
                <a:lnTo>
                  <a:pt x="929" y="747"/>
                </a:lnTo>
                <a:lnTo>
                  <a:pt x="971" y="723"/>
                </a:lnTo>
                <a:lnTo>
                  <a:pt x="972" y="650"/>
                </a:lnTo>
                <a:lnTo>
                  <a:pt x="926" y="606"/>
                </a:lnTo>
                <a:lnTo>
                  <a:pt x="921" y="586"/>
                </a:lnTo>
                <a:lnTo>
                  <a:pt x="872" y="587"/>
                </a:lnTo>
                <a:lnTo>
                  <a:pt x="860" y="524"/>
                </a:lnTo>
                <a:lnTo>
                  <a:pt x="848" y="467"/>
                </a:lnTo>
                <a:lnTo>
                  <a:pt x="827" y="410"/>
                </a:lnTo>
                <a:lnTo>
                  <a:pt x="822" y="375"/>
                </a:lnTo>
                <a:lnTo>
                  <a:pt x="799" y="362"/>
                </a:lnTo>
                <a:lnTo>
                  <a:pt x="813" y="320"/>
                </a:lnTo>
                <a:lnTo>
                  <a:pt x="823" y="297"/>
                </a:lnTo>
                <a:lnTo>
                  <a:pt x="869" y="311"/>
                </a:lnTo>
                <a:lnTo>
                  <a:pt x="923" y="319"/>
                </a:lnTo>
                <a:lnTo>
                  <a:pt x="962" y="306"/>
                </a:lnTo>
                <a:lnTo>
                  <a:pt x="976" y="286"/>
                </a:lnTo>
                <a:lnTo>
                  <a:pt x="993" y="294"/>
                </a:lnTo>
                <a:lnTo>
                  <a:pt x="1008" y="257"/>
                </a:lnTo>
                <a:lnTo>
                  <a:pt x="1001" y="239"/>
                </a:lnTo>
                <a:lnTo>
                  <a:pt x="1018" y="207"/>
                </a:lnTo>
                <a:lnTo>
                  <a:pt x="1000" y="200"/>
                </a:lnTo>
                <a:lnTo>
                  <a:pt x="988" y="222"/>
                </a:lnTo>
                <a:lnTo>
                  <a:pt x="940" y="140"/>
                </a:lnTo>
                <a:lnTo>
                  <a:pt x="938" y="119"/>
                </a:lnTo>
                <a:lnTo>
                  <a:pt x="962" y="103"/>
                </a:lnTo>
                <a:lnTo>
                  <a:pt x="959" y="59"/>
                </a:lnTo>
                <a:lnTo>
                  <a:pt x="976" y="54"/>
                </a:lnTo>
                <a:lnTo>
                  <a:pt x="963" y="26"/>
                </a:lnTo>
                <a:lnTo>
                  <a:pt x="994" y="0"/>
                </a:lnTo>
                <a:lnTo>
                  <a:pt x="1039" y="1"/>
                </a:lnTo>
                <a:lnTo>
                  <a:pt x="1077" y="27"/>
                </a:lnTo>
                <a:lnTo>
                  <a:pt x="1119" y="10"/>
                </a:lnTo>
                <a:lnTo>
                  <a:pt x="1130" y="96"/>
                </a:lnTo>
                <a:lnTo>
                  <a:pt x="1175" y="125"/>
                </a:lnTo>
                <a:lnTo>
                  <a:pt x="1185" y="164"/>
                </a:lnTo>
                <a:lnTo>
                  <a:pt x="1200" y="226"/>
                </a:lnTo>
                <a:lnTo>
                  <a:pt x="1239" y="244"/>
                </a:lnTo>
                <a:lnTo>
                  <a:pt x="1220" y="281"/>
                </a:lnTo>
                <a:lnTo>
                  <a:pt x="1317" y="350"/>
                </a:lnTo>
                <a:lnTo>
                  <a:pt x="1269" y="383"/>
                </a:lnTo>
                <a:lnTo>
                  <a:pt x="1297" y="426"/>
                </a:lnTo>
                <a:lnTo>
                  <a:pt x="1391" y="388"/>
                </a:lnTo>
                <a:lnTo>
                  <a:pt x="1427" y="480"/>
                </a:lnTo>
                <a:lnTo>
                  <a:pt x="1471" y="448"/>
                </a:lnTo>
                <a:lnTo>
                  <a:pt x="1497" y="556"/>
                </a:lnTo>
                <a:lnTo>
                  <a:pt x="1465" y="601"/>
                </a:lnTo>
                <a:lnTo>
                  <a:pt x="1472" y="622"/>
                </a:lnTo>
                <a:lnTo>
                  <a:pt x="1501" y="609"/>
                </a:lnTo>
                <a:lnTo>
                  <a:pt x="1533" y="659"/>
                </a:lnTo>
                <a:lnTo>
                  <a:pt x="1490" y="678"/>
                </a:lnTo>
                <a:lnTo>
                  <a:pt x="1492" y="748"/>
                </a:lnTo>
                <a:lnTo>
                  <a:pt x="1524" y="763"/>
                </a:lnTo>
                <a:lnTo>
                  <a:pt x="1559" y="854"/>
                </a:lnTo>
                <a:lnTo>
                  <a:pt x="1502" y="881"/>
                </a:lnTo>
                <a:lnTo>
                  <a:pt x="1473" y="897"/>
                </a:lnTo>
                <a:lnTo>
                  <a:pt x="1435" y="893"/>
                </a:lnTo>
                <a:lnTo>
                  <a:pt x="1365" y="1007"/>
                </a:lnTo>
                <a:lnTo>
                  <a:pt x="1371" y="1048"/>
                </a:lnTo>
                <a:lnTo>
                  <a:pt x="1414" y="1024"/>
                </a:lnTo>
                <a:lnTo>
                  <a:pt x="1447" y="1042"/>
                </a:lnTo>
                <a:lnTo>
                  <a:pt x="1442" y="1079"/>
                </a:lnTo>
                <a:lnTo>
                  <a:pt x="1468" y="1097"/>
                </a:lnTo>
                <a:lnTo>
                  <a:pt x="1468" y="1157"/>
                </a:lnTo>
                <a:lnTo>
                  <a:pt x="1412" y="1217"/>
                </a:lnTo>
                <a:lnTo>
                  <a:pt x="1388" y="13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07280" y="4200480"/>
            <a:ext cx="215640" cy="131760"/>
          </a:xfrm>
          <a:custGeom>
            <a:avLst/>
            <a:gdLst/>
            <a:ahLst/>
            <a:rect l="l" t="t" r="r" b="b"/>
            <a:pathLst>
              <a:path w="416" h="259">
                <a:moveTo>
                  <a:pt x="337" y="153"/>
                </a:moveTo>
                <a:lnTo>
                  <a:pt x="344" y="118"/>
                </a:lnTo>
                <a:lnTo>
                  <a:pt x="373" y="125"/>
                </a:lnTo>
                <a:lnTo>
                  <a:pt x="416" y="66"/>
                </a:lnTo>
                <a:lnTo>
                  <a:pt x="322" y="6"/>
                </a:lnTo>
                <a:lnTo>
                  <a:pt x="298" y="0"/>
                </a:lnTo>
                <a:lnTo>
                  <a:pt x="236" y="79"/>
                </a:lnTo>
                <a:lnTo>
                  <a:pt x="199" y="64"/>
                </a:lnTo>
                <a:lnTo>
                  <a:pt x="173" y="93"/>
                </a:lnTo>
                <a:lnTo>
                  <a:pt x="186" y="140"/>
                </a:lnTo>
                <a:lnTo>
                  <a:pt x="136" y="125"/>
                </a:lnTo>
                <a:lnTo>
                  <a:pt x="98" y="156"/>
                </a:lnTo>
                <a:lnTo>
                  <a:pt x="81" y="155"/>
                </a:lnTo>
                <a:lnTo>
                  <a:pt x="74" y="129"/>
                </a:lnTo>
                <a:lnTo>
                  <a:pt x="44" y="125"/>
                </a:lnTo>
                <a:lnTo>
                  <a:pt x="0" y="186"/>
                </a:lnTo>
                <a:lnTo>
                  <a:pt x="49" y="203"/>
                </a:lnTo>
                <a:lnTo>
                  <a:pt x="45" y="227"/>
                </a:lnTo>
                <a:lnTo>
                  <a:pt x="94" y="223"/>
                </a:lnTo>
                <a:lnTo>
                  <a:pt x="115" y="229"/>
                </a:lnTo>
                <a:lnTo>
                  <a:pt x="124" y="255"/>
                </a:lnTo>
                <a:lnTo>
                  <a:pt x="152" y="259"/>
                </a:lnTo>
                <a:lnTo>
                  <a:pt x="145" y="236"/>
                </a:lnTo>
                <a:lnTo>
                  <a:pt x="163" y="222"/>
                </a:lnTo>
                <a:lnTo>
                  <a:pt x="192" y="255"/>
                </a:lnTo>
                <a:lnTo>
                  <a:pt x="403" y="196"/>
                </a:lnTo>
                <a:lnTo>
                  <a:pt x="398" y="156"/>
                </a:lnTo>
                <a:lnTo>
                  <a:pt x="337" y="153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34040" y="3535200"/>
            <a:ext cx="804960" cy="938520"/>
          </a:xfrm>
          <a:custGeom>
            <a:avLst/>
            <a:gdLst/>
            <a:ahLst/>
            <a:rect l="l" t="t" r="r" b="b"/>
            <a:pathLst>
              <a:path w="1559" h="1814">
                <a:moveTo>
                  <a:pt x="1388" y="1300"/>
                </a:moveTo>
                <a:lnTo>
                  <a:pt x="1372" y="1358"/>
                </a:lnTo>
                <a:lnTo>
                  <a:pt x="1343" y="1445"/>
                </a:lnTo>
                <a:lnTo>
                  <a:pt x="1334" y="1478"/>
                </a:lnTo>
                <a:lnTo>
                  <a:pt x="1355" y="1475"/>
                </a:lnTo>
                <a:lnTo>
                  <a:pt x="1359" y="1511"/>
                </a:lnTo>
                <a:lnTo>
                  <a:pt x="1337" y="1553"/>
                </a:lnTo>
                <a:lnTo>
                  <a:pt x="1287" y="1564"/>
                </a:lnTo>
                <a:lnTo>
                  <a:pt x="1200" y="1655"/>
                </a:lnTo>
                <a:lnTo>
                  <a:pt x="1133" y="1649"/>
                </a:lnTo>
                <a:lnTo>
                  <a:pt x="1064" y="1625"/>
                </a:lnTo>
                <a:lnTo>
                  <a:pt x="1032" y="1599"/>
                </a:lnTo>
                <a:lnTo>
                  <a:pt x="997" y="1590"/>
                </a:lnTo>
                <a:lnTo>
                  <a:pt x="952" y="1621"/>
                </a:lnTo>
                <a:lnTo>
                  <a:pt x="902" y="1621"/>
                </a:lnTo>
                <a:lnTo>
                  <a:pt x="833" y="1574"/>
                </a:lnTo>
                <a:lnTo>
                  <a:pt x="768" y="1573"/>
                </a:lnTo>
                <a:lnTo>
                  <a:pt x="711" y="1608"/>
                </a:lnTo>
                <a:lnTo>
                  <a:pt x="653" y="1655"/>
                </a:lnTo>
                <a:lnTo>
                  <a:pt x="636" y="1699"/>
                </a:lnTo>
                <a:lnTo>
                  <a:pt x="591" y="1731"/>
                </a:lnTo>
                <a:lnTo>
                  <a:pt x="559" y="1730"/>
                </a:lnTo>
                <a:lnTo>
                  <a:pt x="461" y="1763"/>
                </a:lnTo>
                <a:lnTo>
                  <a:pt x="414" y="1781"/>
                </a:lnTo>
                <a:lnTo>
                  <a:pt x="364" y="1814"/>
                </a:lnTo>
                <a:lnTo>
                  <a:pt x="320" y="1801"/>
                </a:lnTo>
                <a:lnTo>
                  <a:pt x="276" y="1812"/>
                </a:lnTo>
                <a:lnTo>
                  <a:pt x="226" y="1804"/>
                </a:lnTo>
                <a:lnTo>
                  <a:pt x="187" y="1793"/>
                </a:lnTo>
                <a:lnTo>
                  <a:pt x="141" y="1780"/>
                </a:lnTo>
                <a:lnTo>
                  <a:pt x="104" y="1780"/>
                </a:lnTo>
                <a:lnTo>
                  <a:pt x="60" y="1755"/>
                </a:lnTo>
                <a:lnTo>
                  <a:pt x="33" y="1729"/>
                </a:lnTo>
                <a:lnTo>
                  <a:pt x="33" y="1671"/>
                </a:lnTo>
                <a:lnTo>
                  <a:pt x="0" y="1663"/>
                </a:lnTo>
                <a:lnTo>
                  <a:pt x="9" y="1621"/>
                </a:lnTo>
                <a:lnTo>
                  <a:pt x="55" y="1586"/>
                </a:lnTo>
                <a:lnTo>
                  <a:pt x="108" y="1571"/>
                </a:lnTo>
                <a:lnTo>
                  <a:pt x="115" y="1552"/>
                </a:lnTo>
                <a:lnTo>
                  <a:pt x="43" y="1518"/>
                </a:lnTo>
                <a:lnTo>
                  <a:pt x="68" y="1459"/>
                </a:lnTo>
                <a:lnTo>
                  <a:pt x="99" y="1450"/>
                </a:lnTo>
                <a:lnTo>
                  <a:pt x="103" y="1434"/>
                </a:lnTo>
                <a:lnTo>
                  <a:pt x="73" y="1414"/>
                </a:lnTo>
                <a:lnTo>
                  <a:pt x="101" y="1371"/>
                </a:lnTo>
                <a:lnTo>
                  <a:pt x="164" y="1369"/>
                </a:lnTo>
                <a:lnTo>
                  <a:pt x="194" y="1382"/>
                </a:lnTo>
                <a:lnTo>
                  <a:pt x="262" y="1350"/>
                </a:lnTo>
                <a:lnTo>
                  <a:pt x="305" y="1345"/>
                </a:lnTo>
                <a:lnTo>
                  <a:pt x="316" y="1357"/>
                </a:lnTo>
                <a:lnTo>
                  <a:pt x="357" y="1345"/>
                </a:lnTo>
                <a:lnTo>
                  <a:pt x="382" y="1306"/>
                </a:lnTo>
                <a:lnTo>
                  <a:pt x="445" y="1272"/>
                </a:lnTo>
                <a:lnTo>
                  <a:pt x="491" y="1208"/>
                </a:lnTo>
                <a:lnTo>
                  <a:pt x="531" y="1220"/>
                </a:lnTo>
                <a:lnTo>
                  <a:pt x="547" y="1194"/>
                </a:lnTo>
                <a:lnTo>
                  <a:pt x="587" y="1189"/>
                </a:lnTo>
                <a:lnTo>
                  <a:pt x="655" y="1164"/>
                </a:lnTo>
                <a:lnTo>
                  <a:pt x="689" y="1128"/>
                </a:lnTo>
                <a:lnTo>
                  <a:pt x="728" y="1094"/>
                </a:lnTo>
                <a:lnTo>
                  <a:pt x="733" y="1048"/>
                </a:lnTo>
                <a:lnTo>
                  <a:pt x="706" y="1009"/>
                </a:lnTo>
                <a:lnTo>
                  <a:pt x="675" y="967"/>
                </a:lnTo>
                <a:lnTo>
                  <a:pt x="705" y="914"/>
                </a:lnTo>
                <a:lnTo>
                  <a:pt x="762" y="878"/>
                </a:lnTo>
                <a:lnTo>
                  <a:pt x="851" y="778"/>
                </a:lnTo>
                <a:lnTo>
                  <a:pt x="929" y="747"/>
                </a:lnTo>
                <a:lnTo>
                  <a:pt x="971" y="723"/>
                </a:lnTo>
                <a:lnTo>
                  <a:pt x="972" y="650"/>
                </a:lnTo>
                <a:lnTo>
                  <a:pt x="926" y="606"/>
                </a:lnTo>
                <a:lnTo>
                  <a:pt x="921" y="586"/>
                </a:lnTo>
                <a:lnTo>
                  <a:pt x="872" y="587"/>
                </a:lnTo>
                <a:lnTo>
                  <a:pt x="860" y="524"/>
                </a:lnTo>
                <a:lnTo>
                  <a:pt x="848" y="467"/>
                </a:lnTo>
                <a:lnTo>
                  <a:pt x="827" y="410"/>
                </a:lnTo>
                <a:lnTo>
                  <a:pt x="822" y="375"/>
                </a:lnTo>
                <a:lnTo>
                  <a:pt x="799" y="362"/>
                </a:lnTo>
                <a:lnTo>
                  <a:pt x="813" y="320"/>
                </a:lnTo>
                <a:lnTo>
                  <a:pt x="823" y="297"/>
                </a:lnTo>
                <a:lnTo>
                  <a:pt x="869" y="311"/>
                </a:lnTo>
                <a:lnTo>
                  <a:pt x="923" y="319"/>
                </a:lnTo>
                <a:lnTo>
                  <a:pt x="962" y="306"/>
                </a:lnTo>
                <a:lnTo>
                  <a:pt x="976" y="286"/>
                </a:lnTo>
                <a:lnTo>
                  <a:pt x="993" y="294"/>
                </a:lnTo>
                <a:lnTo>
                  <a:pt x="1008" y="257"/>
                </a:lnTo>
                <a:lnTo>
                  <a:pt x="1001" y="239"/>
                </a:lnTo>
                <a:lnTo>
                  <a:pt x="1018" y="207"/>
                </a:lnTo>
                <a:lnTo>
                  <a:pt x="1000" y="200"/>
                </a:lnTo>
                <a:lnTo>
                  <a:pt x="988" y="222"/>
                </a:lnTo>
                <a:lnTo>
                  <a:pt x="940" y="140"/>
                </a:lnTo>
                <a:lnTo>
                  <a:pt x="938" y="119"/>
                </a:lnTo>
                <a:lnTo>
                  <a:pt x="962" y="103"/>
                </a:lnTo>
                <a:lnTo>
                  <a:pt x="959" y="59"/>
                </a:lnTo>
                <a:lnTo>
                  <a:pt x="976" y="54"/>
                </a:lnTo>
                <a:lnTo>
                  <a:pt x="963" y="26"/>
                </a:lnTo>
                <a:lnTo>
                  <a:pt x="994" y="0"/>
                </a:lnTo>
                <a:lnTo>
                  <a:pt x="1039" y="1"/>
                </a:lnTo>
                <a:lnTo>
                  <a:pt x="1077" y="27"/>
                </a:lnTo>
                <a:lnTo>
                  <a:pt x="1119" y="10"/>
                </a:lnTo>
                <a:lnTo>
                  <a:pt x="1130" y="96"/>
                </a:lnTo>
                <a:lnTo>
                  <a:pt x="1175" y="125"/>
                </a:lnTo>
                <a:lnTo>
                  <a:pt x="1185" y="164"/>
                </a:lnTo>
                <a:lnTo>
                  <a:pt x="1200" y="226"/>
                </a:lnTo>
                <a:lnTo>
                  <a:pt x="1239" y="244"/>
                </a:lnTo>
                <a:lnTo>
                  <a:pt x="1220" y="281"/>
                </a:lnTo>
                <a:lnTo>
                  <a:pt x="1317" y="350"/>
                </a:lnTo>
                <a:lnTo>
                  <a:pt x="1269" y="383"/>
                </a:lnTo>
                <a:lnTo>
                  <a:pt x="1297" y="426"/>
                </a:lnTo>
                <a:lnTo>
                  <a:pt x="1391" y="388"/>
                </a:lnTo>
                <a:lnTo>
                  <a:pt x="1427" y="480"/>
                </a:lnTo>
                <a:lnTo>
                  <a:pt x="1471" y="448"/>
                </a:lnTo>
                <a:lnTo>
                  <a:pt x="1497" y="556"/>
                </a:lnTo>
                <a:lnTo>
                  <a:pt x="1465" y="601"/>
                </a:lnTo>
                <a:lnTo>
                  <a:pt x="1472" y="622"/>
                </a:lnTo>
                <a:lnTo>
                  <a:pt x="1501" y="609"/>
                </a:lnTo>
                <a:lnTo>
                  <a:pt x="1533" y="659"/>
                </a:lnTo>
                <a:lnTo>
                  <a:pt x="1490" y="678"/>
                </a:lnTo>
                <a:lnTo>
                  <a:pt x="1492" y="748"/>
                </a:lnTo>
                <a:lnTo>
                  <a:pt x="1524" y="763"/>
                </a:lnTo>
                <a:lnTo>
                  <a:pt x="1559" y="854"/>
                </a:lnTo>
                <a:lnTo>
                  <a:pt x="1502" y="881"/>
                </a:lnTo>
                <a:lnTo>
                  <a:pt x="1473" y="897"/>
                </a:lnTo>
                <a:lnTo>
                  <a:pt x="1435" y="893"/>
                </a:lnTo>
                <a:lnTo>
                  <a:pt x="1365" y="1007"/>
                </a:lnTo>
                <a:lnTo>
                  <a:pt x="1371" y="1048"/>
                </a:lnTo>
                <a:lnTo>
                  <a:pt x="1414" y="1024"/>
                </a:lnTo>
                <a:lnTo>
                  <a:pt x="1447" y="1042"/>
                </a:lnTo>
                <a:lnTo>
                  <a:pt x="1442" y="1079"/>
                </a:lnTo>
                <a:lnTo>
                  <a:pt x="1468" y="1097"/>
                </a:lnTo>
                <a:lnTo>
                  <a:pt x="1468" y="1157"/>
                </a:lnTo>
                <a:lnTo>
                  <a:pt x="1412" y="1217"/>
                </a:lnTo>
                <a:lnTo>
                  <a:pt x="1388" y="130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1960" y="1868400"/>
            <a:ext cx="554040" cy="1101960"/>
          </a:xfrm>
          <a:custGeom>
            <a:avLst/>
            <a:gdLst/>
            <a:ahLst/>
            <a:rect l="l" t="t" r="r" b="b"/>
            <a:pathLst>
              <a:path w="1069" h="2131">
                <a:moveTo>
                  <a:pt x="1016" y="93"/>
                </a:moveTo>
                <a:lnTo>
                  <a:pt x="1017" y="137"/>
                </a:lnTo>
                <a:lnTo>
                  <a:pt x="1012" y="179"/>
                </a:lnTo>
                <a:lnTo>
                  <a:pt x="1021" y="253"/>
                </a:lnTo>
                <a:lnTo>
                  <a:pt x="1025" y="312"/>
                </a:lnTo>
                <a:lnTo>
                  <a:pt x="1026" y="461"/>
                </a:lnTo>
                <a:lnTo>
                  <a:pt x="1062" y="526"/>
                </a:lnTo>
                <a:lnTo>
                  <a:pt x="1069" y="557"/>
                </a:lnTo>
                <a:lnTo>
                  <a:pt x="1007" y="557"/>
                </a:lnTo>
                <a:lnTo>
                  <a:pt x="943" y="544"/>
                </a:lnTo>
                <a:lnTo>
                  <a:pt x="911" y="559"/>
                </a:lnTo>
                <a:lnTo>
                  <a:pt x="875" y="601"/>
                </a:lnTo>
                <a:lnTo>
                  <a:pt x="843" y="672"/>
                </a:lnTo>
                <a:lnTo>
                  <a:pt x="817" y="733"/>
                </a:lnTo>
                <a:lnTo>
                  <a:pt x="824" y="795"/>
                </a:lnTo>
                <a:lnTo>
                  <a:pt x="838" y="857"/>
                </a:lnTo>
                <a:lnTo>
                  <a:pt x="790" y="809"/>
                </a:lnTo>
                <a:lnTo>
                  <a:pt x="752" y="771"/>
                </a:lnTo>
                <a:lnTo>
                  <a:pt x="744" y="816"/>
                </a:lnTo>
                <a:lnTo>
                  <a:pt x="732" y="894"/>
                </a:lnTo>
                <a:lnTo>
                  <a:pt x="752" y="922"/>
                </a:lnTo>
                <a:lnTo>
                  <a:pt x="747" y="955"/>
                </a:lnTo>
                <a:lnTo>
                  <a:pt x="687" y="939"/>
                </a:lnTo>
                <a:lnTo>
                  <a:pt x="683" y="957"/>
                </a:lnTo>
                <a:lnTo>
                  <a:pt x="679" y="986"/>
                </a:lnTo>
                <a:lnTo>
                  <a:pt x="640" y="996"/>
                </a:lnTo>
                <a:lnTo>
                  <a:pt x="652" y="1018"/>
                </a:lnTo>
                <a:lnTo>
                  <a:pt x="650" y="1048"/>
                </a:lnTo>
                <a:lnTo>
                  <a:pt x="676" y="1081"/>
                </a:lnTo>
                <a:lnTo>
                  <a:pt x="708" y="1131"/>
                </a:lnTo>
                <a:lnTo>
                  <a:pt x="733" y="1187"/>
                </a:lnTo>
                <a:lnTo>
                  <a:pt x="730" y="1257"/>
                </a:lnTo>
                <a:lnTo>
                  <a:pt x="750" y="1346"/>
                </a:lnTo>
                <a:lnTo>
                  <a:pt x="782" y="1402"/>
                </a:lnTo>
                <a:lnTo>
                  <a:pt x="833" y="1400"/>
                </a:lnTo>
                <a:lnTo>
                  <a:pt x="851" y="1387"/>
                </a:lnTo>
                <a:lnTo>
                  <a:pt x="838" y="1354"/>
                </a:lnTo>
                <a:lnTo>
                  <a:pt x="870" y="1346"/>
                </a:lnTo>
                <a:lnTo>
                  <a:pt x="900" y="1331"/>
                </a:lnTo>
                <a:lnTo>
                  <a:pt x="914" y="1366"/>
                </a:lnTo>
                <a:lnTo>
                  <a:pt x="918" y="1413"/>
                </a:lnTo>
                <a:lnTo>
                  <a:pt x="925" y="1423"/>
                </a:lnTo>
                <a:lnTo>
                  <a:pt x="882" y="1460"/>
                </a:lnTo>
                <a:lnTo>
                  <a:pt x="837" y="1511"/>
                </a:lnTo>
                <a:lnTo>
                  <a:pt x="731" y="1547"/>
                </a:lnTo>
                <a:lnTo>
                  <a:pt x="776" y="1715"/>
                </a:lnTo>
                <a:lnTo>
                  <a:pt x="716" y="1821"/>
                </a:lnTo>
                <a:lnTo>
                  <a:pt x="670" y="1804"/>
                </a:lnTo>
                <a:lnTo>
                  <a:pt x="626" y="1836"/>
                </a:lnTo>
                <a:lnTo>
                  <a:pt x="616" y="1889"/>
                </a:lnTo>
                <a:lnTo>
                  <a:pt x="684" y="1926"/>
                </a:lnTo>
                <a:lnTo>
                  <a:pt x="739" y="1889"/>
                </a:lnTo>
                <a:lnTo>
                  <a:pt x="737" y="1999"/>
                </a:lnTo>
                <a:lnTo>
                  <a:pt x="670" y="2056"/>
                </a:lnTo>
                <a:lnTo>
                  <a:pt x="620" y="2109"/>
                </a:lnTo>
                <a:lnTo>
                  <a:pt x="570" y="2131"/>
                </a:lnTo>
                <a:lnTo>
                  <a:pt x="487" y="1964"/>
                </a:lnTo>
                <a:lnTo>
                  <a:pt x="497" y="1872"/>
                </a:lnTo>
                <a:lnTo>
                  <a:pt x="485" y="1808"/>
                </a:lnTo>
                <a:lnTo>
                  <a:pt x="437" y="1772"/>
                </a:lnTo>
                <a:lnTo>
                  <a:pt x="440" y="1746"/>
                </a:lnTo>
                <a:lnTo>
                  <a:pt x="464" y="1741"/>
                </a:lnTo>
                <a:lnTo>
                  <a:pt x="479" y="1715"/>
                </a:lnTo>
                <a:lnTo>
                  <a:pt x="471" y="1677"/>
                </a:lnTo>
                <a:lnTo>
                  <a:pt x="501" y="1659"/>
                </a:lnTo>
                <a:lnTo>
                  <a:pt x="522" y="1592"/>
                </a:lnTo>
                <a:lnTo>
                  <a:pt x="509" y="1424"/>
                </a:lnTo>
                <a:lnTo>
                  <a:pt x="501" y="1372"/>
                </a:lnTo>
                <a:lnTo>
                  <a:pt x="502" y="1303"/>
                </a:lnTo>
                <a:lnTo>
                  <a:pt x="504" y="1247"/>
                </a:lnTo>
                <a:lnTo>
                  <a:pt x="499" y="1138"/>
                </a:lnTo>
                <a:lnTo>
                  <a:pt x="497" y="1087"/>
                </a:lnTo>
                <a:lnTo>
                  <a:pt x="478" y="1075"/>
                </a:lnTo>
                <a:lnTo>
                  <a:pt x="497" y="989"/>
                </a:lnTo>
                <a:lnTo>
                  <a:pt x="511" y="930"/>
                </a:lnTo>
                <a:lnTo>
                  <a:pt x="539" y="882"/>
                </a:lnTo>
                <a:lnTo>
                  <a:pt x="507" y="882"/>
                </a:lnTo>
                <a:lnTo>
                  <a:pt x="503" y="809"/>
                </a:lnTo>
                <a:lnTo>
                  <a:pt x="480" y="803"/>
                </a:lnTo>
                <a:lnTo>
                  <a:pt x="446" y="779"/>
                </a:lnTo>
                <a:lnTo>
                  <a:pt x="453" y="752"/>
                </a:lnTo>
                <a:lnTo>
                  <a:pt x="381" y="685"/>
                </a:lnTo>
                <a:lnTo>
                  <a:pt x="386" y="628"/>
                </a:lnTo>
                <a:lnTo>
                  <a:pt x="416" y="608"/>
                </a:lnTo>
                <a:lnTo>
                  <a:pt x="448" y="563"/>
                </a:lnTo>
                <a:lnTo>
                  <a:pt x="387" y="601"/>
                </a:lnTo>
                <a:lnTo>
                  <a:pt x="359" y="602"/>
                </a:lnTo>
                <a:lnTo>
                  <a:pt x="329" y="635"/>
                </a:lnTo>
                <a:lnTo>
                  <a:pt x="309" y="688"/>
                </a:lnTo>
                <a:lnTo>
                  <a:pt x="306" y="716"/>
                </a:lnTo>
                <a:lnTo>
                  <a:pt x="332" y="747"/>
                </a:lnTo>
                <a:lnTo>
                  <a:pt x="354" y="788"/>
                </a:lnTo>
                <a:lnTo>
                  <a:pt x="400" y="808"/>
                </a:lnTo>
                <a:lnTo>
                  <a:pt x="412" y="826"/>
                </a:lnTo>
                <a:lnTo>
                  <a:pt x="410" y="853"/>
                </a:lnTo>
                <a:lnTo>
                  <a:pt x="378" y="838"/>
                </a:lnTo>
                <a:lnTo>
                  <a:pt x="361" y="865"/>
                </a:lnTo>
                <a:lnTo>
                  <a:pt x="317" y="839"/>
                </a:lnTo>
                <a:lnTo>
                  <a:pt x="329" y="824"/>
                </a:lnTo>
                <a:lnTo>
                  <a:pt x="316" y="802"/>
                </a:lnTo>
                <a:lnTo>
                  <a:pt x="276" y="813"/>
                </a:lnTo>
                <a:lnTo>
                  <a:pt x="301" y="768"/>
                </a:lnTo>
                <a:lnTo>
                  <a:pt x="249" y="712"/>
                </a:lnTo>
                <a:lnTo>
                  <a:pt x="194" y="704"/>
                </a:lnTo>
                <a:lnTo>
                  <a:pt x="171" y="687"/>
                </a:lnTo>
                <a:lnTo>
                  <a:pt x="186" y="646"/>
                </a:lnTo>
                <a:lnTo>
                  <a:pt x="161" y="625"/>
                </a:lnTo>
                <a:lnTo>
                  <a:pt x="162" y="597"/>
                </a:lnTo>
                <a:lnTo>
                  <a:pt x="142" y="575"/>
                </a:lnTo>
                <a:lnTo>
                  <a:pt x="100" y="564"/>
                </a:lnTo>
                <a:lnTo>
                  <a:pt x="99" y="533"/>
                </a:lnTo>
                <a:lnTo>
                  <a:pt x="58" y="509"/>
                </a:lnTo>
                <a:lnTo>
                  <a:pt x="80" y="489"/>
                </a:lnTo>
                <a:lnTo>
                  <a:pt x="65" y="447"/>
                </a:lnTo>
                <a:lnTo>
                  <a:pt x="28" y="440"/>
                </a:lnTo>
                <a:lnTo>
                  <a:pt x="9" y="430"/>
                </a:lnTo>
                <a:lnTo>
                  <a:pt x="3" y="407"/>
                </a:lnTo>
                <a:lnTo>
                  <a:pt x="0" y="370"/>
                </a:lnTo>
                <a:lnTo>
                  <a:pt x="37" y="348"/>
                </a:lnTo>
                <a:lnTo>
                  <a:pt x="47" y="323"/>
                </a:lnTo>
                <a:lnTo>
                  <a:pt x="113" y="317"/>
                </a:lnTo>
                <a:lnTo>
                  <a:pt x="123" y="305"/>
                </a:lnTo>
                <a:lnTo>
                  <a:pt x="108" y="281"/>
                </a:lnTo>
                <a:lnTo>
                  <a:pt x="146" y="267"/>
                </a:lnTo>
                <a:lnTo>
                  <a:pt x="186" y="271"/>
                </a:lnTo>
                <a:lnTo>
                  <a:pt x="201" y="237"/>
                </a:lnTo>
                <a:lnTo>
                  <a:pt x="245" y="203"/>
                </a:lnTo>
                <a:lnTo>
                  <a:pt x="256" y="182"/>
                </a:lnTo>
                <a:lnTo>
                  <a:pt x="305" y="182"/>
                </a:lnTo>
                <a:lnTo>
                  <a:pt x="341" y="171"/>
                </a:lnTo>
                <a:lnTo>
                  <a:pt x="353" y="151"/>
                </a:lnTo>
                <a:lnTo>
                  <a:pt x="377" y="148"/>
                </a:lnTo>
                <a:lnTo>
                  <a:pt x="417" y="159"/>
                </a:lnTo>
                <a:lnTo>
                  <a:pt x="480" y="136"/>
                </a:lnTo>
                <a:lnTo>
                  <a:pt x="514" y="157"/>
                </a:lnTo>
                <a:lnTo>
                  <a:pt x="507" y="199"/>
                </a:lnTo>
                <a:lnTo>
                  <a:pt x="532" y="298"/>
                </a:lnTo>
                <a:lnTo>
                  <a:pt x="573" y="281"/>
                </a:lnTo>
                <a:lnTo>
                  <a:pt x="589" y="269"/>
                </a:lnTo>
                <a:lnTo>
                  <a:pt x="656" y="262"/>
                </a:lnTo>
                <a:lnTo>
                  <a:pt x="677" y="241"/>
                </a:lnTo>
                <a:lnTo>
                  <a:pt x="684" y="266"/>
                </a:lnTo>
                <a:lnTo>
                  <a:pt x="749" y="268"/>
                </a:lnTo>
                <a:lnTo>
                  <a:pt x="775" y="219"/>
                </a:lnTo>
                <a:lnTo>
                  <a:pt x="803" y="184"/>
                </a:lnTo>
                <a:lnTo>
                  <a:pt x="817" y="119"/>
                </a:lnTo>
                <a:lnTo>
                  <a:pt x="874" y="87"/>
                </a:lnTo>
                <a:lnTo>
                  <a:pt x="879" y="22"/>
                </a:lnTo>
                <a:lnTo>
                  <a:pt x="895" y="0"/>
                </a:lnTo>
                <a:lnTo>
                  <a:pt x="929" y="4"/>
                </a:lnTo>
                <a:lnTo>
                  <a:pt x="978" y="29"/>
                </a:lnTo>
                <a:lnTo>
                  <a:pt x="988" y="10"/>
                </a:lnTo>
                <a:lnTo>
                  <a:pt x="1032" y="30"/>
                </a:lnTo>
                <a:lnTo>
                  <a:pt x="1016" y="9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07520" y="2604960"/>
            <a:ext cx="347400" cy="692280"/>
          </a:xfrm>
          <a:custGeom>
            <a:avLst/>
            <a:gdLst/>
            <a:ahLst/>
            <a:rect l="l" t="t" r="r" b="b"/>
            <a:pathLst>
              <a:path w="671" h="1338">
                <a:moveTo>
                  <a:pt x="580" y="486"/>
                </a:moveTo>
                <a:lnTo>
                  <a:pt x="554" y="568"/>
                </a:lnTo>
                <a:lnTo>
                  <a:pt x="551" y="673"/>
                </a:lnTo>
                <a:lnTo>
                  <a:pt x="606" y="732"/>
                </a:lnTo>
                <a:lnTo>
                  <a:pt x="671" y="776"/>
                </a:lnTo>
                <a:lnTo>
                  <a:pt x="622" y="777"/>
                </a:lnTo>
                <a:lnTo>
                  <a:pt x="588" y="845"/>
                </a:lnTo>
                <a:lnTo>
                  <a:pt x="585" y="896"/>
                </a:lnTo>
                <a:lnTo>
                  <a:pt x="596" y="946"/>
                </a:lnTo>
                <a:lnTo>
                  <a:pt x="638" y="1007"/>
                </a:lnTo>
                <a:lnTo>
                  <a:pt x="659" y="1146"/>
                </a:lnTo>
                <a:lnTo>
                  <a:pt x="658" y="1205"/>
                </a:lnTo>
                <a:lnTo>
                  <a:pt x="653" y="1280"/>
                </a:lnTo>
                <a:lnTo>
                  <a:pt x="648" y="1338"/>
                </a:lnTo>
                <a:lnTo>
                  <a:pt x="602" y="1299"/>
                </a:lnTo>
                <a:lnTo>
                  <a:pt x="560" y="1281"/>
                </a:lnTo>
                <a:lnTo>
                  <a:pt x="492" y="1194"/>
                </a:lnTo>
                <a:lnTo>
                  <a:pt x="396" y="1123"/>
                </a:lnTo>
                <a:lnTo>
                  <a:pt x="297" y="1034"/>
                </a:lnTo>
                <a:lnTo>
                  <a:pt x="151" y="890"/>
                </a:lnTo>
                <a:lnTo>
                  <a:pt x="18" y="745"/>
                </a:lnTo>
                <a:lnTo>
                  <a:pt x="0" y="708"/>
                </a:lnTo>
                <a:lnTo>
                  <a:pt x="50" y="686"/>
                </a:lnTo>
                <a:lnTo>
                  <a:pt x="100" y="633"/>
                </a:lnTo>
                <a:lnTo>
                  <a:pt x="167" y="576"/>
                </a:lnTo>
                <a:lnTo>
                  <a:pt x="169" y="466"/>
                </a:lnTo>
                <a:lnTo>
                  <a:pt x="114" y="503"/>
                </a:lnTo>
                <a:lnTo>
                  <a:pt x="46" y="466"/>
                </a:lnTo>
                <a:lnTo>
                  <a:pt x="56" y="413"/>
                </a:lnTo>
                <a:lnTo>
                  <a:pt x="100" y="381"/>
                </a:lnTo>
                <a:lnTo>
                  <a:pt x="146" y="398"/>
                </a:lnTo>
                <a:lnTo>
                  <a:pt x="206" y="292"/>
                </a:lnTo>
                <a:lnTo>
                  <a:pt x="161" y="124"/>
                </a:lnTo>
                <a:lnTo>
                  <a:pt x="267" y="88"/>
                </a:lnTo>
                <a:lnTo>
                  <a:pt x="312" y="37"/>
                </a:lnTo>
                <a:lnTo>
                  <a:pt x="355" y="0"/>
                </a:lnTo>
                <a:lnTo>
                  <a:pt x="374" y="24"/>
                </a:lnTo>
                <a:lnTo>
                  <a:pt x="431" y="81"/>
                </a:lnTo>
                <a:lnTo>
                  <a:pt x="461" y="54"/>
                </a:lnTo>
                <a:lnTo>
                  <a:pt x="540" y="113"/>
                </a:lnTo>
                <a:lnTo>
                  <a:pt x="547" y="158"/>
                </a:lnTo>
                <a:lnTo>
                  <a:pt x="487" y="168"/>
                </a:lnTo>
                <a:lnTo>
                  <a:pt x="484" y="100"/>
                </a:lnTo>
                <a:lnTo>
                  <a:pt x="464" y="94"/>
                </a:lnTo>
                <a:lnTo>
                  <a:pt x="446" y="154"/>
                </a:lnTo>
                <a:lnTo>
                  <a:pt x="476" y="166"/>
                </a:lnTo>
                <a:lnTo>
                  <a:pt x="460" y="216"/>
                </a:lnTo>
                <a:lnTo>
                  <a:pt x="518" y="328"/>
                </a:lnTo>
                <a:lnTo>
                  <a:pt x="539" y="362"/>
                </a:lnTo>
                <a:lnTo>
                  <a:pt x="627" y="383"/>
                </a:lnTo>
                <a:lnTo>
                  <a:pt x="639" y="411"/>
                </a:lnTo>
                <a:lnTo>
                  <a:pt x="637" y="437"/>
                </a:lnTo>
                <a:lnTo>
                  <a:pt x="633" y="465"/>
                </a:lnTo>
                <a:lnTo>
                  <a:pt x="601" y="493"/>
                </a:lnTo>
                <a:lnTo>
                  <a:pt x="580" y="48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26240" y="3989520"/>
            <a:ext cx="225360" cy="163440"/>
          </a:xfrm>
          <a:custGeom>
            <a:avLst/>
            <a:gdLst/>
            <a:ahLst/>
            <a:rect l="l" t="t" r="r" b="b"/>
            <a:pathLst>
              <a:path w="436" h="318">
                <a:moveTo>
                  <a:pt x="107" y="27"/>
                </a:moveTo>
                <a:lnTo>
                  <a:pt x="121" y="55"/>
                </a:lnTo>
                <a:lnTo>
                  <a:pt x="148" y="77"/>
                </a:lnTo>
                <a:lnTo>
                  <a:pt x="151" y="49"/>
                </a:lnTo>
                <a:lnTo>
                  <a:pt x="179" y="43"/>
                </a:lnTo>
                <a:lnTo>
                  <a:pt x="227" y="8"/>
                </a:lnTo>
                <a:lnTo>
                  <a:pt x="241" y="8"/>
                </a:lnTo>
                <a:lnTo>
                  <a:pt x="242" y="45"/>
                </a:lnTo>
                <a:lnTo>
                  <a:pt x="250" y="84"/>
                </a:lnTo>
                <a:lnTo>
                  <a:pt x="276" y="106"/>
                </a:lnTo>
                <a:lnTo>
                  <a:pt x="282" y="129"/>
                </a:lnTo>
                <a:lnTo>
                  <a:pt x="345" y="120"/>
                </a:lnTo>
                <a:lnTo>
                  <a:pt x="373" y="126"/>
                </a:lnTo>
                <a:lnTo>
                  <a:pt x="379" y="86"/>
                </a:lnTo>
                <a:lnTo>
                  <a:pt x="388" y="83"/>
                </a:lnTo>
                <a:lnTo>
                  <a:pt x="388" y="133"/>
                </a:lnTo>
                <a:lnTo>
                  <a:pt x="393" y="142"/>
                </a:lnTo>
                <a:lnTo>
                  <a:pt x="418" y="139"/>
                </a:lnTo>
                <a:lnTo>
                  <a:pt x="436" y="158"/>
                </a:lnTo>
                <a:lnTo>
                  <a:pt x="410" y="183"/>
                </a:lnTo>
                <a:lnTo>
                  <a:pt x="390" y="233"/>
                </a:lnTo>
                <a:lnTo>
                  <a:pt x="337" y="275"/>
                </a:lnTo>
                <a:lnTo>
                  <a:pt x="312" y="318"/>
                </a:lnTo>
                <a:lnTo>
                  <a:pt x="293" y="316"/>
                </a:lnTo>
                <a:lnTo>
                  <a:pt x="250" y="245"/>
                </a:lnTo>
                <a:lnTo>
                  <a:pt x="236" y="189"/>
                </a:lnTo>
                <a:lnTo>
                  <a:pt x="183" y="206"/>
                </a:lnTo>
                <a:lnTo>
                  <a:pt x="179" y="262"/>
                </a:lnTo>
                <a:lnTo>
                  <a:pt x="128" y="190"/>
                </a:lnTo>
                <a:lnTo>
                  <a:pt x="134" y="137"/>
                </a:lnTo>
                <a:lnTo>
                  <a:pt x="118" y="131"/>
                </a:lnTo>
                <a:lnTo>
                  <a:pt x="83" y="143"/>
                </a:lnTo>
                <a:lnTo>
                  <a:pt x="56" y="189"/>
                </a:lnTo>
                <a:lnTo>
                  <a:pt x="0" y="121"/>
                </a:lnTo>
                <a:lnTo>
                  <a:pt x="31" y="115"/>
                </a:lnTo>
                <a:lnTo>
                  <a:pt x="46" y="120"/>
                </a:lnTo>
                <a:lnTo>
                  <a:pt x="64" y="76"/>
                </a:lnTo>
                <a:lnTo>
                  <a:pt x="34" y="31"/>
                </a:lnTo>
                <a:lnTo>
                  <a:pt x="52" y="0"/>
                </a:lnTo>
                <a:lnTo>
                  <a:pt x="89" y="0"/>
                </a:lnTo>
                <a:lnTo>
                  <a:pt x="107" y="27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7280" y="4200480"/>
            <a:ext cx="215640" cy="131760"/>
          </a:xfrm>
          <a:custGeom>
            <a:avLst/>
            <a:gdLst/>
            <a:ahLst/>
            <a:rect l="l" t="t" r="r" b="b"/>
            <a:pathLst>
              <a:path w="416" h="259">
                <a:moveTo>
                  <a:pt x="416" y="66"/>
                </a:moveTo>
                <a:lnTo>
                  <a:pt x="373" y="125"/>
                </a:lnTo>
                <a:lnTo>
                  <a:pt x="344" y="118"/>
                </a:lnTo>
                <a:lnTo>
                  <a:pt x="337" y="153"/>
                </a:lnTo>
                <a:lnTo>
                  <a:pt x="398" y="156"/>
                </a:lnTo>
                <a:lnTo>
                  <a:pt x="403" y="196"/>
                </a:lnTo>
                <a:lnTo>
                  <a:pt x="192" y="255"/>
                </a:lnTo>
                <a:lnTo>
                  <a:pt x="163" y="222"/>
                </a:lnTo>
                <a:lnTo>
                  <a:pt x="145" y="236"/>
                </a:lnTo>
                <a:lnTo>
                  <a:pt x="152" y="259"/>
                </a:lnTo>
                <a:lnTo>
                  <a:pt x="124" y="255"/>
                </a:lnTo>
                <a:lnTo>
                  <a:pt x="115" y="229"/>
                </a:lnTo>
                <a:lnTo>
                  <a:pt x="94" y="223"/>
                </a:lnTo>
                <a:lnTo>
                  <a:pt x="45" y="227"/>
                </a:lnTo>
                <a:lnTo>
                  <a:pt x="49" y="203"/>
                </a:lnTo>
                <a:lnTo>
                  <a:pt x="0" y="186"/>
                </a:lnTo>
                <a:lnTo>
                  <a:pt x="44" y="125"/>
                </a:lnTo>
                <a:lnTo>
                  <a:pt x="74" y="129"/>
                </a:lnTo>
                <a:lnTo>
                  <a:pt x="81" y="155"/>
                </a:lnTo>
                <a:lnTo>
                  <a:pt x="98" y="156"/>
                </a:lnTo>
                <a:lnTo>
                  <a:pt x="136" y="125"/>
                </a:lnTo>
                <a:lnTo>
                  <a:pt x="186" y="140"/>
                </a:lnTo>
                <a:lnTo>
                  <a:pt x="173" y="93"/>
                </a:lnTo>
                <a:lnTo>
                  <a:pt x="199" y="64"/>
                </a:lnTo>
                <a:lnTo>
                  <a:pt x="236" y="79"/>
                </a:lnTo>
                <a:lnTo>
                  <a:pt x="298" y="0"/>
                </a:lnTo>
                <a:lnTo>
                  <a:pt x="322" y="6"/>
                </a:lnTo>
                <a:lnTo>
                  <a:pt x="416" y="66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2360" y="2846520"/>
            <a:ext cx="216000" cy="347400"/>
          </a:xfrm>
          <a:custGeom>
            <a:avLst/>
            <a:gdLst/>
            <a:ahLst/>
            <a:rect l="l" t="t" r="r" b="b"/>
            <a:pathLst>
              <a:path w="418" h="673">
                <a:moveTo>
                  <a:pt x="237" y="53"/>
                </a:moveTo>
                <a:lnTo>
                  <a:pt x="251" y="0"/>
                </a:lnTo>
                <a:lnTo>
                  <a:pt x="285" y="6"/>
                </a:lnTo>
                <a:lnTo>
                  <a:pt x="318" y="22"/>
                </a:lnTo>
                <a:lnTo>
                  <a:pt x="348" y="37"/>
                </a:lnTo>
                <a:lnTo>
                  <a:pt x="400" y="30"/>
                </a:lnTo>
                <a:lnTo>
                  <a:pt x="418" y="66"/>
                </a:lnTo>
                <a:lnTo>
                  <a:pt x="415" y="116"/>
                </a:lnTo>
                <a:lnTo>
                  <a:pt x="375" y="130"/>
                </a:lnTo>
                <a:lnTo>
                  <a:pt x="398" y="212"/>
                </a:lnTo>
                <a:lnTo>
                  <a:pt x="380" y="241"/>
                </a:lnTo>
                <a:lnTo>
                  <a:pt x="353" y="244"/>
                </a:lnTo>
                <a:lnTo>
                  <a:pt x="352" y="262"/>
                </a:lnTo>
                <a:lnTo>
                  <a:pt x="338" y="269"/>
                </a:lnTo>
                <a:lnTo>
                  <a:pt x="340" y="308"/>
                </a:lnTo>
                <a:lnTo>
                  <a:pt x="354" y="297"/>
                </a:lnTo>
                <a:lnTo>
                  <a:pt x="373" y="329"/>
                </a:lnTo>
                <a:lnTo>
                  <a:pt x="411" y="366"/>
                </a:lnTo>
                <a:lnTo>
                  <a:pt x="383" y="445"/>
                </a:lnTo>
                <a:lnTo>
                  <a:pt x="400" y="453"/>
                </a:lnTo>
                <a:lnTo>
                  <a:pt x="356" y="513"/>
                </a:lnTo>
                <a:lnTo>
                  <a:pt x="347" y="578"/>
                </a:lnTo>
                <a:lnTo>
                  <a:pt x="311" y="576"/>
                </a:lnTo>
                <a:lnTo>
                  <a:pt x="315" y="552"/>
                </a:lnTo>
                <a:lnTo>
                  <a:pt x="285" y="540"/>
                </a:lnTo>
                <a:lnTo>
                  <a:pt x="275" y="565"/>
                </a:lnTo>
                <a:lnTo>
                  <a:pt x="299" y="654"/>
                </a:lnTo>
                <a:lnTo>
                  <a:pt x="269" y="653"/>
                </a:lnTo>
                <a:lnTo>
                  <a:pt x="229" y="651"/>
                </a:lnTo>
                <a:lnTo>
                  <a:pt x="231" y="627"/>
                </a:lnTo>
                <a:lnTo>
                  <a:pt x="218" y="630"/>
                </a:lnTo>
                <a:lnTo>
                  <a:pt x="214" y="647"/>
                </a:lnTo>
                <a:lnTo>
                  <a:pt x="207" y="650"/>
                </a:lnTo>
                <a:lnTo>
                  <a:pt x="199" y="673"/>
                </a:lnTo>
                <a:lnTo>
                  <a:pt x="187" y="666"/>
                </a:lnTo>
                <a:lnTo>
                  <a:pt x="191" y="640"/>
                </a:lnTo>
                <a:lnTo>
                  <a:pt x="152" y="632"/>
                </a:lnTo>
                <a:lnTo>
                  <a:pt x="117" y="615"/>
                </a:lnTo>
                <a:lnTo>
                  <a:pt x="90" y="605"/>
                </a:lnTo>
                <a:lnTo>
                  <a:pt x="83" y="567"/>
                </a:lnTo>
                <a:lnTo>
                  <a:pt x="50" y="586"/>
                </a:lnTo>
                <a:lnTo>
                  <a:pt x="50" y="555"/>
                </a:lnTo>
                <a:lnTo>
                  <a:pt x="0" y="523"/>
                </a:lnTo>
                <a:lnTo>
                  <a:pt x="96" y="482"/>
                </a:lnTo>
                <a:lnTo>
                  <a:pt x="68" y="460"/>
                </a:lnTo>
                <a:lnTo>
                  <a:pt x="96" y="440"/>
                </a:lnTo>
                <a:lnTo>
                  <a:pt x="70" y="404"/>
                </a:lnTo>
                <a:lnTo>
                  <a:pt x="107" y="399"/>
                </a:lnTo>
                <a:lnTo>
                  <a:pt x="121" y="427"/>
                </a:lnTo>
                <a:lnTo>
                  <a:pt x="143" y="408"/>
                </a:lnTo>
                <a:lnTo>
                  <a:pt x="158" y="402"/>
                </a:lnTo>
                <a:lnTo>
                  <a:pt x="173" y="417"/>
                </a:lnTo>
                <a:lnTo>
                  <a:pt x="192" y="409"/>
                </a:lnTo>
                <a:lnTo>
                  <a:pt x="195" y="387"/>
                </a:lnTo>
                <a:lnTo>
                  <a:pt x="179" y="379"/>
                </a:lnTo>
                <a:lnTo>
                  <a:pt x="194" y="353"/>
                </a:lnTo>
                <a:lnTo>
                  <a:pt x="186" y="334"/>
                </a:lnTo>
                <a:lnTo>
                  <a:pt x="231" y="262"/>
                </a:lnTo>
                <a:lnTo>
                  <a:pt x="281" y="273"/>
                </a:lnTo>
                <a:lnTo>
                  <a:pt x="278" y="250"/>
                </a:lnTo>
                <a:lnTo>
                  <a:pt x="222" y="243"/>
                </a:lnTo>
                <a:lnTo>
                  <a:pt x="213" y="202"/>
                </a:lnTo>
                <a:lnTo>
                  <a:pt x="230" y="134"/>
                </a:lnTo>
                <a:lnTo>
                  <a:pt x="262" y="109"/>
                </a:lnTo>
                <a:lnTo>
                  <a:pt x="241" y="98"/>
                </a:lnTo>
                <a:lnTo>
                  <a:pt x="237" y="53"/>
                </a:lnTo>
                <a:close/>
              </a:path>
            </a:pathLst>
          </a:custGeom>
          <a:solidFill>
            <a:srgbClr val="00cc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1320" y="3112920"/>
            <a:ext cx="171360" cy="155880"/>
          </a:xfrm>
          <a:custGeom>
            <a:avLst/>
            <a:gdLst/>
            <a:ahLst/>
            <a:rect l="l" t="t" r="r" b="b"/>
            <a:pathLst>
              <a:path w="333" h="300">
                <a:moveTo>
                  <a:pt x="160" y="30"/>
                </a:moveTo>
                <a:lnTo>
                  <a:pt x="198" y="31"/>
                </a:lnTo>
                <a:lnTo>
                  <a:pt x="216" y="10"/>
                </a:lnTo>
                <a:lnTo>
                  <a:pt x="220" y="39"/>
                </a:lnTo>
                <a:lnTo>
                  <a:pt x="239" y="62"/>
                </a:lnTo>
                <a:lnTo>
                  <a:pt x="274" y="81"/>
                </a:lnTo>
                <a:lnTo>
                  <a:pt x="297" y="119"/>
                </a:lnTo>
                <a:lnTo>
                  <a:pt x="274" y="136"/>
                </a:lnTo>
                <a:lnTo>
                  <a:pt x="302" y="148"/>
                </a:lnTo>
                <a:lnTo>
                  <a:pt x="317" y="143"/>
                </a:lnTo>
                <a:lnTo>
                  <a:pt x="332" y="145"/>
                </a:lnTo>
                <a:lnTo>
                  <a:pt x="323" y="172"/>
                </a:lnTo>
                <a:lnTo>
                  <a:pt x="333" y="180"/>
                </a:lnTo>
                <a:lnTo>
                  <a:pt x="329" y="203"/>
                </a:lnTo>
                <a:lnTo>
                  <a:pt x="313" y="193"/>
                </a:lnTo>
                <a:lnTo>
                  <a:pt x="249" y="210"/>
                </a:lnTo>
                <a:lnTo>
                  <a:pt x="239" y="238"/>
                </a:lnTo>
                <a:lnTo>
                  <a:pt x="202" y="263"/>
                </a:lnTo>
                <a:lnTo>
                  <a:pt x="216" y="277"/>
                </a:lnTo>
                <a:lnTo>
                  <a:pt x="202" y="275"/>
                </a:lnTo>
                <a:lnTo>
                  <a:pt x="191" y="300"/>
                </a:lnTo>
                <a:lnTo>
                  <a:pt x="162" y="287"/>
                </a:lnTo>
                <a:lnTo>
                  <a:pt x="158" y="266"/>
                </a:lnTo>
                <a:lnTo>
                  <a:pt x="143" y="262"/>
                </a:lnTo>
                <a:lnTo>
                  <a:pt x="136" y="284"/>
                </a:lnTo>
                <a:lnTo>
                  <a:pt x="60" y="275"/>
                </a:lnTo>
                <a:lnTo>
                  <a:pt x="53" y="234"/>
                </a:lnTo>
                <a:lnTo>
                  <a:pt x="34" y="217"/>
                </a:lnTo>
                <a:lnTo>
                  <a:pt x="38" y="178"/>
                </a:lnTo>
                <a:lnTo>
                  <a:pt x="32" y="138"/>
                </a:lnTo>
                <a:lnTo>
                  <a:pt x="0" y="141"/>
                </a:lnTo>
                <a:lnTo>
                  <a:pt x="11" y="104"/>
                </a:lnTo>
                <a:lnTo>
                  <a:pt x="25" y="94"/>
                </a:lnTo>
                <a:lnTo>
                  <a:pt x="32" y="118"/>
                </a:lnTo>
                <a:lnTo>
                  <a:pt x="61" y="117"/>
                </a:lnTo>
                <a:lnTo>
                  <a:pt x="78" y="97"/>
                </a:lnTo>
                <a:lnTo>
                  <a:pt x="81" y="70"/>
                </a:lnTo>
                <a:lnTo>
                  <a:pt x="78" y="39"/>
                </a:lnTo>
                <a:lnTo>
                  <a:pt x="96" y="28"/>
                </a:lnTo>
                <a:lnTo>
                  <a:pt x="94" y="13"/>
                </a:lnTo>
                <a:lnTo>
                  <a:pt x="124" y="0"/>
                </a:lnTo>
                <a:lnTo>
                  <a:pt x="133" y="17"/>
                </a:lnTo>
                <a:lnTo>
                  <a:pt x="160" y="3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33440" y="3084480"/>
            <a:ext cx="138240" cy="88920"/>
          </a:xfrm>
          <a:custGeom>
            <a:avLst/>
            <a:gdLst/>
            <a:ahLst/>
            <a:rect l="l" t="t" r="r" b="b"/>
            <a:pathLst>
              <a:path w="267" h="174">
                <a:moveTo>
                  <a:pt x="15" y="8"/>
                </a:moveTo>
                <a:lnTo>
                  <a:pt x="30" y="8"/>
                </a:lnTo>
                <a:lnTo>
                  <a:pt x="40" y="23"/>
                </a:lnTo>
                <a:lnTo>
                  <a:pt x="77" y="22"/>
                </a:lnTo>
                <a:lnTo>
                  <a:pt x="88" y="16"/>
                </a:lnTo>
                <a:lnTo>
                  <a:pt x="109" y="13"/>
                </a:lnTo>
                <a:lnTo>
                  <a:pt x="113" y="44"/>
                </a:lnTo>
                <a:lnTo>
                  <a:pt x="124" y="45"/>
                </a:lnTo>
                <a:lnTo>
                  <a:pt x="142" y="25"/>
                </a:lnTo>
                <a:lnTo>
                  <a:pt x="157" y="22"/>
                </a:lnTo>
                <a:lnTo>
                  <a:pt x="156" y="35"/>
                </a:lnTo>
                <a:lnTo>
                  <a:pt x="170" y="58"/>
                </a:lnTo>
                <a:lnTo>
                  <a:pt x="216" y="29"/>
                </a:lnTo>
                <a:lnTo>
                  <a:pt x="200" y="19"/>
                </a:lnTo>
                <a:lnTo>
                  <a:pt x="223" y="0"/>
                </a:lnTo>
                <a:lnTo>
                  <a:pt x="267" y="54"/>
                </a:lnTo>
                <a:lnTo>
                  <a:pt x="249" y="86"/>
                </a:lnTo>
                <a:lnTo>
                  <a:pt x="222" y="73"/>
                </a:lnTo>
                <a:lnTo>
                  <a:pt x="213" y="56"/>
                </a:lnTo>
                <a:lnTo>
                  <a:pt x="183" y="69"/>
                </a:lnTo>
                <a:lnTo>
                  <a:pt x="185" y="84"/>
                </a:lnTo>
                <a:lnTo>
                  <a:pt x="167" y="95"/>
                </a:lnTo>
                <a:lnTo>
                  <a:pt x="170" y="126"/>
                </a:lnTo>
                <a:lnTo>
                  <a:pt x="167" y="153"/>
                </a:lnTo>
                <a:lnTo>
                  <a:pt x="150" y="173"/>
                </a:lnTo>
                <a:lnTo>
                  <a:pt x="121" y="174"/>
                </a:lnTo>
                <a:lnTo>
                  <a:pt x="114" y="150"/>
                </a:lnTo>
                <a:lnTo>
                  <a:pt x="100" y="160"/>
                </a:lnTo>
                <a:lnTo>
                  <a:pt x="69" y="138"/>
                </a:lnTo>
                <a:lnTo>
                  <a:pt x="34" y="129"/>
                </a:lnTo>
                <a:lnTo>
                  <a:pt x="9" y="111"/>
                </a:lnTo>
                <a:lnTo>
                  <a:pt x="0" y="85"/>
                </a:lnTo>
                <a:lnTo>
                  <a:pt x="31" y="73"/>
                </a:lnTo>
                <a:lnTo>
                  <a:pt x="21" y="43"/>
                </a:lnTo>
                <a:lnTo>
                  <a:pt x="15" y="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28760" y="2994120"/>
            <a:ext cx="142920" cy="118800"/>
          </a:xfrm>
          <a:custGeom>
            <a:avLst/>
            <a:gdLst/>
            <a:ahLst/>
            <a:rect l="l" t="t" r="r" b="b"/>
            <a:pathLst>
              <a:path w="277" h="232">
                <a:moveTo>
                  <a:pt x="120" y="19"/>
                </a:moveTo>
                <a:lnTo>
                  <a:pt x="149" y="32"/>
                </a:lnTo>
                <a:lnTo>
                  <a:pt x="173" y="45"/>
                </a:lnTo>
                <a:lnTo>
                  <a:pt x="159" y="75"/>
                </a:lnTo>
                <a:lnTo>
                  <a:pt x="174" y="73"/>
                </a:lnTo>
                <a:lnTo>
                  <a:pt x="188" y="113"/>
                </a:lnTo>
                <a:lnTo>
                  <a:pt x="208" y="104"/>
                </a:lnTo>
                <a:lnTo>
                  <a:pt x="229" y="109"/>
                </a:lnTo>
                <a:lnTo>
                  <a:pt x="235" y="130"/>
                </a:lnTo>
                <a:lnTo>
                  <a:pt x="247" y="151"/>
                </a:lnTo>
                <a:lnTo>
                  <a:pt x="277" y="165"/>
                </a:lnTo>
                <a:lnTo>
                  <a:pt x="266" y="175"/>
                </a:lnTo>
                <a:lnTo>
                  <a:pt x="249" y="168"/>
                </a:lnTo>
                <a:lnTo>
                  <a:pt x="234" y="174"/>
                </a:lnTo>
                <a:lnTo>
                  <a:pt x="211" y="193"/>
                </a:lnTo>
                <a:lnTo>
                  <a:pt x="227" y="203"/>
                </a:lnTo>
                <a:lnTo>
                  <a:pt x="181" y="232"/>
                </a:lnTo>
                <a:lnTo>
                  <a:pt x="167" y="209"/>
                </a:lnTo>
                <a:lnTo>
                  <a:pt x="168" y="196"/>
                </a:lnTo>
                <a:lnTo>
                  <a:pt x="153" y="199"/>
                </a:lnTo>
                <a:lnTo>
                  <a:pt x="135" y="219"/>
                </a:lnTo>
                <a:lnTo>
                  <a:pt x="124" y="218"/>
                </a:lnTo>
                <a:lnTo>
                  <a:pt x="120" y="187"/>
                </a:lnTo>
                <a:lnTo>
                  <a:pt x="99" y="190"/>
                </a:lnTo>
                <a:lnTo>
                  <a:pt x="88" y="196"/>
                </a:lnTo>
                <a:lnTo>
                  <a:pt x="51" y="197"/>
                </a:lnTo>
                <a:lnTo>
                  <a:pt x="41" y="182"/>
                </a:lnTo>
                <a:lnTo>
                  <a:pt x="26" y="182"/>
                </a:lnTo>
                <a:lnTo>
                  <a:pt x="10" y="143"/>
                </a:lnTo>
                <a:lnTo>
                  <a:pt x="25" y="122"/>
                </a:lnTo>
                <a:lnTo>
                  <a:pt x="18" y="85"/>
                </a:lnTo>
                <a:lnTo>
                  <a:pt x="0" y="69"/>
                </a:lnTo>
                <a:lnTo>
                  <a:pt x="1" y="29"/>
                </a:lnTo>
                <a:lnTo>
                  <a:pt x="27" y="18"/>
                </a:lnTo>
                <a:lnTo>
                  <a:pt x="58" y="2"/>
                </a:lnTo>
                <a:lnTo>
                  <a:pt x="83" y="13"/>
                </a:lnTo>
                <a:lnTo>
                  <a:pt x="109" y="0"/>
                </a:lnTo>
                <a:lnTo>
                  <a:pt x="120" y="19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81240" y="2871720"/>
            <a:ext cx="131760" cy="136440"/>
          </a:xfrm>
          <a:custGeom>
            <a:avLst/>
            <a:gdLst/>
            <a:ahLst/>
            <a:rect l="l" t="t" r="r" b="b"/>
            <a:pathLst>
              <a:path w="255" h="265">
                <a:moveTo>
                  <a:pt x="233" y="81"/>
                </a:moveTo>
                <a:lnTo>
                  <a:pt x="219" y="101"/>
                </a:lnTo>
                <a:lnTo>
                  <a:pt x="238" y="131"/>
                </a:lnTo>
                <a:lnTo>
                  <a:pt x="239" y="153"/>
                </a:lnTo>
                <a:lnTo>
                  <a:pt x="255" y="172"/>
                </a:lnTo>
                <a:lnTo>
                  <a:pt x="249" y="182"/>
                </a:lnTo>
                <a:lnTo>
                  <a:pt x="203" y="166"/>
                </a:lnTo>
                <a:lnTo>
                  <a:pt x="187" y="192"/>
                </a:lnTo>
                <a:lnTo>
                  <a:pt x="213" y="199"/>
                </a:lnTo>
                <a:lnTo>
                  <a:pt x="198" y="236"/>
                </a:lnTo>
                <a:lnTo>
                  <a:pt x="172" y="249"/>
                </a:lnTo>
                <a:lnTo>
                  <a:pt x="147" y="238"/>
                </a:lnTo>
                <a:lnTo>
                  <a:pt x="116" y="254"/>
                </a:lnTo>
                <a:lnTo>
                  <a:pt x="90" y="265"/>
                </a:lnTo>
                <a:lnTo>
                  <a:pt x="65" y="238"/>
                </a:lnTo>
                <a:lnTo>
                  <a:pt x="33" y="210"/>
                </a:lnTo>
                <a:lnTo>
                  <a:pt x="16" y="174"/>
                </a:lnTo>
                <a:lnTo>
                  <a:pt x="22" y="141"/>
                </a:lnTo>
                <a:lnTo>
                  <a:pt x="6" y="101"/>
                </a:lnTo>
                <a:lnTo>
                  <a:pt x="0" y="75"/>
                </a:lnTo>
                <a:lnTo>
                  <a:pt x="2" y="49"/>
                </a:lnTo>
                <a:lnTo>
                  <a:pt x="68" y="18"/>
                </a:lnTo>
                <a:lnTo>
                  <a:pt x="83" y="29"/>
                </a:lnTo>
                <a:lnTo>
                  <a:pt x="99" y="0"/>
                </a:lnTo>
                <a:lnTo>
                  <a:pt x="109" y="3"/>
                </a:lnTo>
                <a:lnTo>
                  <a:pt x="126" y="57"/>
                </a:lnTo>
                <a:lnTo>
                  <a:pt x="122" y="80"/>
                </a:lnTo>
                <a:lnTo>
                  <a:pt x="175" y="86"/>
                </a:lnTo>
                <a:lnTo>
                  <a:pt x="201" y="54"/>
                </a:lnTo>
                <a:lnTo>
                  <a:pt x="224" y="60"/>
                </a:lnTo>
                <a:lnTo>
                  <a:pt x="233" y="8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17760" y="2795760"/>
            <a:ext cx="318960" cy="372960"/>
          </a:xfrm>
          <a:custGeom>
            <a:avLst/>
            <a:gdLst/>
            <a:ahLst/>
            <a:rect l="l" t="t" r="r" b="b"/>
            <a:pathLst>
              <a:path w="620" h="721">
                <a:moveTo>
                  <a:pt x="0" y="33"/>
                </a:moveTo>
                <a:lnTo>
                  <a:pt x="29" y="0"/>
                </a:lnTo>
                <a:lnTo>
                  <a:pt x="30" y="36"/>
                </a:lnTo>
                <a:lnTo>
                  <a:pt x="67" y="27"/>
                </a:lnTo>
                <a:lnTo>
                  <a:pt x="80" y="43"/>
                </a:lnTo>
                <a:lnTo>
                  <a:pt x="94" y="14"/>
                </a:lnTo>
                <a:lnTo>
                  <a:pt x="116" y="6"/>
                </a:lnTo>
                <a:lnTo>
                  <a:pt x="123" y="68"/>
                </a:lnTo>
                <a:lnTo>
                  <a:pt x="135" y="103"/>
                </a:lnTo>
                <a:lnTo>
                  <a:pt x="155" y="109"/>
                </a:lnTo>
                <a:lnTo>
                  <a:pt x="146" y="183"/>
                </a:lnTo>
                <a:lnTo>
                  <a:pt x="167" y="214"/>
                </a:lnTo>
                <a:lnTo>
                  <a:pt x="215" y="198"/>
                </a:lnTo>
                <a:lnTo>
                  <a:pt x="202" y="228"/>
                </a:lnTo>
                <a:lnTo>
                  <a:pt x="220" y="228"/>
                </a:lnTo>
                <a:lnTo>
                  <a:pt x="243" y="183"/>
                </a:lnTo>
                <a:lnTo>
                  <a:pt x="308" y="199"/>
                </a:lnTo>
                <a:lnTo>
                  <a:pt x="357" y="173"/>
                </a:lnTo>
                <a:lnTo>
                  <a:pt x="408" y="135"/>
                </a:lnTo>
                <a:lnTo>
                  <a:pt x="415" y="106"/>
                </a:lnTo>
                <a:lnTo>
                  <a:pt x="376" y="105"/>
                </a:lnTo>
                <a:lnTo>
                  <a:pt x="344" y="108"/>
                </a:lnTo>
                <a:lnTo>
                  <a:pt x="338" y="86"/>
                </a:lnTo>
                <a:lnTo>
                  <a:pt x="366" y="67"/>
                </a:lnTo>
                <a:lnTo>
                  <a:pt x="382" y="49"/>
                </a:lnTo>
                <a:lnTo>
                  <a:pt x="409" y="47"/>
                </a:lnTo>
                <a:lnTo>
                  <a:pt x="429" y="65"/>
                </a:lnTo>
                <a:lnTo>
                  <a:pt x="462" y="56"/>
                </a:lnTo>
                <a:lnTo>
                  <a:pt x="475" y="90"/>
                </a:lnTo>
                <a:lnTo>
                  <a:pt x="500" y="84"/>
                </a:lnTo>
                <a:lnTo>
                  <a:pt x="501" y="58"/>
                </a:lnTo>
                <a:lnTo>
                  <a:pt x="528" y="36"/>
                </a:lnTo>
                <a:lnTo>
                  <a:pt x="538" y="68"/>
                </a:lnTo>
                <a:lnTo>
                  <a:pt x="524" y="86"/>
                </a:lnTo>
                <a:lnTo>
                  <a:pt x="534" y="118"/>
                </a:lnTo>
                <a:lnTo>
                  <a:pt x="565" y="110"/>
                </a:lnTo>
                <a:lnTo>
                  <a:pt x="576" y="151"/>
                </a:lnTo>
                <a:lnTo>
                  <a:pt x="580" y="196"/>
                </a:lnTo>
                <a:lnTo>
                  <a:pt x="601" y="207"/>
                </a:lnTo>
                <a:lnTo>
                  <a:pt x="569" y="232"/>
                </a:lnTo>
                <a:lnTo>
                  <a:pt x="552" y="300"/>
                </a:lnTo>
                <a:lnTo>
                  <a:pt x="561" y="341"/>
                </a:lnTo>
                <a:lnTo>
                  <a:pt x="617" y="348"/>
                </a:lnTo>
                <a:lnTo>
                  <a:pt x="620" y="371"/>
                </a:lnTo>
                <a:lnTo>
                  <a:pt x="570" y="360"/>
                </a:lnTo>
                <a:lnTo>
                  <a:pt x="525" y="432"/>
                </a:lnTo>
                <a:lnTo>
                  <a:pt x="533" y="451"/>
                </a:lnTo>
                <a:lnTo>
                  <a:pt x="518" y="477"/>
                </a:lnTo>
                <a:lnTo>
                  <a:pt x="534" y="485"/>
                </a:lnTo>
                <a:lnTo>
                  <a:pt x="531" y="507"/>
                </a:lnTo>
                <a:lnTo>
                  <a:pt x="512" y="515"/>
                </a:lnTo>
                <a:lnTo>
                  <a:pt x="497" y="500"/>
                </a:lnTo>
                <a:lnTo>
                  <a:pt x="482" y="506"/>
                </a:lnTo>
                <a:lnTo>
                  <a:pt x="460" y="525"/>
                </a:lnTo>
                <a:lnTo>
                  <a:pt x="446" y="497"/>
                </a:lnTo>
                <a:lnTo>
                  <a:pt x="409" y="502"/>
                </a:lnTo>
                <a:lnTo>
                  <a:pt x="435" y="538"/>
                </a:lnTo>
                <a:lnTo>
                  <a:pt x="407" y="558"/>
                </a:lnTo>
                <a:lnTo>
                  <a:pt x="435" y="580"/>
                </a:lnTo>
                <a:lnTo>
                  <a:pt x="339" y="621"/>
                </a:lnTo>
                <a:lnTo>
                  <a:pt x="389" y="653"/>
                </a:lnTo>
                <a:lnTo>
                  <a:pt x="389" y="684"/>
                </a:lnTo>
                <a:lnTo>
                  <a:pt x="344" y="695"/>
                </a:lnTo>
                <a:lnTo>
                  <a:pt x="293" y="714"/>
                </a:lnTo>
                <a:lnTo>
                  <a:pt x="234" y="721"/>
                </a:lnTo>
                <a:lnTo>
                  <a:pt x="217" y="715"/>
                </a:lnTo>
                <a:lnTo>
                  <a:pt x="208" y="645"/>
                </a:lnTo>
                <a:lnTo>
                  <a:pt x="179" y="605"/>
                </a:lnTo>
                <a:lnTo>
                  <a:pt x="152" y="571"/>
                </a:lnTo>
                <a:lnTo>
                  <a:pt x="163" y="538"/>
                </a:lnTo>
                <a:lnTo>
                  <a:pt x="154" y="407"/>
                </a:lnTo>
                <a:lnTo>
                  <a:pt x="125" y="339"/>
                </a:lnTo>
                <a:lnTo>
                  <a:pt x="140" y="321"/>
                </a:lnTo>
                <a:lnTo>
                  <a:pt x="149" y="252"/>
                </a:lnTo>
                <a:lnTo>
                  <a:pt x="130" y="234"/>
                </a:lnTo>
                <a:lnTo>
                  <a:pt x="121" y="207"/>
                </a:lnTo>
                <a:lnTo>
                  <a:pt x="125" y="177"/>
                </a:lnTo>
                <a:lnTo>
                  <a:pt x="116" y="147"/>
                </a:lnTo>
                <a:lnTo>
                  <a:pt x="123" y="131"/>
                </a:lnTo>
                <a:lnTo>
                  <a:pt x="106" y="128"/>
                </a:lnTo>
                <a:lnTo>
                  <a:pt x="95" y="129"/>
                </a:lnTo>
                <a:lnTo>
                  <a:pt x="54" y="114"/>
                </a:lnTo>
                <a:lnTo>
                  <a:pt x="42" y="104"/>
                </a:lnTo>
                <a:lnTo>
                  <a:pt x="61" y="87"/>
                </a:lnTo>
                <a:lnTo>
                  <a:pt x="51" y="73"/>
                </a:lnTo>
                <a:lnTo>
                  <a:pt x="17" y="79"/>
                </a:lnTo>
                <a:lnTo>
                  <a:pt x="10" y="54"/>
                </a:lnTo>
                <a:lnTo>
                  <a:pt x="0" y="33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7440" y="3090960"/>
            <a:ext cx="241560" cy="363600"/>
          </a:xfrm>
          <a:custGeom>
            <a:avLst/>
            <a:gdLst/>
            <a:ahLst/>
            <a:rect l="l" t="t" r="r" b="b"/>
            <a:pathLst>
              <a:path w="471" h="706">
                <a:moveTo>
                  <a:pt x="272" y="71"/>
                </a:moveTo>
                <a:lnTo>
                  <a:pt x="243" y="25"/>
                </a:lnTo>
                <a:lnTo>
                  <a:pt x="251" y="23"/>
                </a:lnTo>
                <a:lnTo>
                  <a:pt x="290" y="45"/>
                </a:lnTo>
                <a:lnTo>
                  <a:pt x="307" y="32"/>
                </a:lnTo>
                <a:lnTo>
                  <a:pt x="299" y="3"/>
                </a:lnTo>
                <a:lnTo>
                  <a:pt x="317" y="1"/>
                </a:lnTo>
                <a:lnTo>
                  <a:pt x="328" y="16"/>
                </a:lnTo>
                <a:lnTo>
                  <a:pt x="370" y="13"/>
                </a:lnTo>
                <a:lnTo>
                  <a:pt x="385" y="0"/>
                </a:lnTo>
                <a:lnTo>
                  <a:pt x="406" y="0"/>
                </a:lnTo>
                <a:lnTo>
                  <a:pt x="433" y="34"/>
                </a:lnTo>
                <a:lnTo>
                  <a:pt x="462" y="74"/>
                </a:lnTo>
                <a:lnTo>
                  <a:pt x="471" y="144"/>
                </a:lnTo>
                <a:lnTo>
                  <a:pt x="438" y="142"/>
                </a:lnTo>
                <a:lnTo>
                  <a:pt x="416" y="168"/>
                </a:lnTo>
                <a:lnTo>
                  <a:pt x="429" y="192"/>
                </a:lnTo>
                <a:lnTo>
                  <a:pt x="422" y="223"/>
                </a:lnTo>
                <a:lnTo>
                  <a:pt x="420" y="244"/>
                </a:lnTo>
                <a:lnTo>
                  <a:pt x="435" y="247"/>
                </a:lnTo>
                <a:lnTo>
                  <a:pt x="396" y="321"/>
                </a:lnTo>
                <a:lnTo>
                  <a:pt x="349" y="346"/>
                </a:lnTo>
                <a:lnTo>
                  <a:pt x="341" y="358"/>
                </a:lnTo>
                <a:lnTo>
                  <a:pt x="410" y="327"/>
                </a:lnTo>
                <a:lnTo>
                  <a:pt x="417" y="329"/>
                </a:lnTo>
                <a:lnTo>
                  <a:pt x="335" y="376"/>
                </a:lnTo>
                <a:lnTo>
                  <a:pt x="318" y="390"/>
                </a:lnTo>
                <a:lnTo>
                  <a:pt x="295" y="407"/>
                </a:lnTo>
                <a:lnTo>
                  <a:pt x="267" y="442"/>
                </a:lnTo>
                <a:lnTo>
                  <a:pt x="262" y="472"/>
                </a:lnTo>
                <a:lnTo>
                  <a:pt x="247" y="500"/>
                </a:lnTo>
                <a:lnTo>
                  <a:pt x="239" y="548"/>
                </a:lnTo>
                <a:lnTo>
                  <a:pt x="214" y="625"/>
                </a:lnTo>
                <a:lnTo>
                  <a:pt x="198" y="664"/>
                </a:lnTo>
                <a:lnTo>
                  <a:pt x="204" y="697"/>
                </a:lnTo>
                <a:lnTo>
                  <a:pt x="179" y="695"/>
                </a:lnTo>
                <a:lnTo>
                  <a:pt x="160" y="706"/>
                </a:lnTo>
                <a:lnTo>
                  <a:pt x="116" y="690"/>
                </a:lnTo>
                <a:lnTo>
                  <a:pt x="76" y="693"/>
                </a:lnTo>
                <a:lnTo>
                  <a:pt x="45" y="699"/>
                </a:lnTo>
                <a:lnTo>
                  <a:pt x="19" y="653"/>
                </a:lnTo>
                <a:lnTo>
                  <a:pt x="12" y="620"/>
                </a:lnTo>
                <a:lnTo>
                  <a:pt x="30" y="577"/>
                </a:lnTo>
                <a:lnTo>
                  <a:pt x="37" y="522"/>
                </a:lnTo>
                <a:lnTo>
                  <a:pt x="42" y="498"/>
                </a:lnTo>
                <a:lnTo>
                  <a:pt x="25" y="483"/>
                </a:lnTo>
                <a:lnTo>
                  <a:pt x="26" y="442"/>
                </a:lnTo>
                <a:lnTo>
                  <a:pt x="8" y="398"/>
                </a:lnTo>
                <a:lnTo>
                  <a:pt x="0" y="336"/>
                </a:lnTo>
                <a:lnTo>
                  <a:pt x="48" y="318"/>
                </a:lnTo>
                <a:lnTo>
                  <a:pt x="124" y="327"/>
                </a:lnTo>
                <a:lnTo>
                  <a:pt x="131" y="305"/>
                </a:lnTo>
                <a:lnTo>
                  <a:pt x="146" y="309"/>
                </a:lnTo>
                <a:lnTo>
                  <a:pt x="150" y="330"/>
                </a:lnTo>
                <a:lnTo>
                  <a:pt x="179" y="343"/>
                </a:lnTo>
                <a:lnTo>
                  <a:pt x="190" y="318"/>
                </a:lnTo>
                <a:lnTo>
                  <a:pt x="204" y="320"/>
                </a:lnTo>
                <a:lnTo>
                  <a:pt x="190" y="306"/>
                </a:lnTo>
                <a:lnTo>
                  <a:pt x="227" y="281"/>
                </a:lnTo>
                <a:lnTo>
                  <a:pt x="237" y="253"/>
                </a:lnTo>
                <a:lnTo>
                  <a:pt x="301" y="236"/>
                </a:lnTo>
                <a:lnTo>
                  <a:pt x="317" y="246"/>
                </a:lnTo>
                <a:lnTo>
                  <a:pt x="321" y="223"/>
                </a:lnTo>
                <a:lnTo>
                  <a:pt x="311" y="215"/>
                </a:lnTo>
                <a:lnTo>
                  <a:pt x="320" y="188"/>
                </a:lnTo>
                <a:lnTo>
                  <a:pt x="305" y="186"/>
                </a:lnTo>
                <a:lnTo>
                  <a:pt x="290" y="191"/>
                </a:lnTo>
                <a:lnTo>
                  <a:pt x="262" y="179"/>
                </a:lnTo>
                <a:lnTo>
                  <a:pt x="285" y="162"/>
                </a:lnTo>
                <a:lnTo>
                  <a:pt x="262" y="124"/>
                </a:lnTo>
                <a:lnTo>
                  <a:pt x="227" y="105"/>
                </a:lnTo>
                <a:lnTo>
                  <a:pt x="249" y="94"/>
                </a:lnTo>
                <a:lnTo>
                  <a:pt x="272" y="71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78080" y="2782800"/>
            <a:ext cx="223920" cy="362160"/>
          </a:xfrm>
          <a:custGeom>
            <a:avLst/>
            <a:gdLst/>
            <a:ahLst/>
            <a:rect l="l" t="t" r="r" b="b"/>
            <a:pathLst>
              <a:path w="431" h="702">
                <a:moveTo>
                  <a:pt x="200" y="34"/>
                </a:moveTo>
                <a:lnTo>
                  <a:pt x="222" y="5"/>
                </a:lnTo>
                <a:lnTo>
                  <a:pt x="268" y="59"/>
                </a:lnTo>
                <a:lnTo>
                  <a:pt x="278" y="80"/>
                </a:lnTo>
                <a:lnTo>
                  <a:pt x="285" y="105"/>
                </a:lnTo>
                <a:lnTo>
                  <a:pt x="319" y="99"/>
                </a:lnTo>
                <a:lnTo>
                  <a:pt x="329" y="113"/>
                </a:lnTo>
                <a:lnTo>
                  <a:pt x="310" y="130"/>
                </a:lnTo>
                <a:lnTo>
                  <a:pt x="322" y="140"/>
                </a:lnTo>
                <a:lnTo>
                  <a:pt x="363" y="155"/>
                </a:lnTo>
                <a:lnTo>
                  <a:pt x="374" y="154"/>
                </a:lnTo>
                <a:lnTo>
                  <a:pt x="391" y="157"/>
                </a:lnTo>
                <a:lnTo>
                  <a:pt x="384" y="173"/>
                </a:lnTo>
                <a:lnTo>
                  <a:pt x="393" y="203"/>
                </a:lnTo>
                <a:lnTo>
                  <a:pt x="389" y="233"/>
                </a:lnTo>
                <a:lnTo>
                  <a:pt x="398" y="260"/>
                </a:lnTo>
                <a:lnTo>
                  <a:pt x="417" y="278"/>
                </a:lnTo>
                <a:lnTo>
                  <a:pt x="408" y="347"/>
                </a:lnTo>
                <a:lnTo>
                  <a:pt x="393" y="365"/>
                </a:lnTo>
                <a:lnTo>
                  <a:pt x="422" y="433"/>
                </a:lnTo>
                <a:lnTo>
                  <a:pt x="431" y="564"/>
                </a:lnTo>
                <a:lnTo>
                  <a:pt x="420" y="597"/>
                </a:lnTo>
                <a:lnTo>
                  <a:pt x="399" y="597"/>
                </a:lnTo>
                <a:lnTo>
                  <a:pt x="384" y="610"/>
                </a:lnTo>
                <a:lnTo>
                  <a:pt x="342" y="613"/>
                </a:lnTo>
                <a:lnTo>
                  <a:pt x="331" y="598"/>
                </a:lnTo>
                <a:lnTo>
                  <a:pt x="313" y="600"/>
                </a:lnTo>
                <a:lnTo>
                  <a:pt x="321" y="629"/>
                </a:lnTo>
                <a:lnTo>
                  <a:pt x="304" y="642"/>
                </a:lnTo>
                <a:lnTo>
                  <a:pt x="265" y="620"/>
                </a:lnTo>
                <a:lnTo>
                  <a:pt x="257" y="622"/>
                </a:lnTo>
                <a:lnTo>
                  <a:pt x="286" y="668"/>
                </a:lnTo>
                <a:lnTo>
                  <a:pt x="263" y="691"/>
                </a:lnTo>
                <a:lnTo>
                  <a:pt x="241" y="702"/>
                </a:lnTo>
                <a:lnTo>
                  <a:pt x="222" y="679"/>
                </a:lnTo>
                <a:lnTo>
                  <a:pt x="218" y="650"/>
                </a:lnTo>
                <a:lnTo>
                  <a:pt x="200" y="671"/>
                </a:lnTo>
                <a:lnTo>
                  <a:pt x="162" y="670"/>
                </a:lnTo>
                <a:lnTo>
                  <a:pt x="180" y="638"/>
                </a:lnTo>
                <a:lnTo>
                  <a:pt x="136" y="584"/>
                </a:lnTo>
                <a:lnTo>
                  <a:pt x="151" y="578"/>
                </a:lnTo>
                <a:lnTo>
                  <a:pt x="168" y="585"/>
                </a:lnTo>
                <a:lnTo>
                  <a:pt x="179" y="575"/>
                </a:lnTo>
                <a:lnTo>
                  <a:pt x="149" y="561"/>
                </a:lnTo>
                <a:lnTo>
                  <a:pt x="137" y="540"/>
                </a:lnTo>
                <a:lnTo>
                  <a:pt x="131" y="519"/>
                </a:lnTo>
                <a:lnTo>
                  <a:pt x="110" y="514"/>
                </a:lnTo>
                <a:lnTo>
                  <a:pt x="90" y="523"/>
                </a:lnTo>
                <a:lnTo>
                  <a:pt x="76" y="483"/>
                </a:lnTo>
                <a:lnTo>
                  <a:pt x="61" y="485"/>
                </a:lnTo>
                <a:lnTo>
                  <a:pt x="75" y="455"/>
                </a:lnTo>
                <a:lnTo>
                  <a:pt x="51" y="442"/>
                </a:lnTo>
                <a:lnTo>
                  <a:pt x="22" y="429"/>
                </a:lnTo>
                <a:lnTo>
                  <a:pt x="11" y="410"/>
                </a:lnTo>
                <a:lnTo>
                  <a:pt x="26" y="373"/>
                </a:lnTo>
                <a:lnTo>
                  <a:pt x="0" y="366"/>
                </a:lnTo>
                <a:lnTo>
                  <a:pt x="16" y="340"/>
                </a:lnTo>
                <a:lnTo>
                  <a:pt x="62" y="356"/>
                </a:lnTo>
                <a:lnTo>
                  <a:pt x="68" y="346"/>
                </a:lnTo>
                <a:lnTo>
                  <a:pt x="52" y="327"/>
                </a:lnTo>
                <a:lnTo>
                  <a:pt x="51" y="305"/>
                </a:lnTo>
                <a:lnTo>
                  <a:pt x="32" y="275"/>
                </a:lnTo>
                <a:lnTo>
                  <a:pt x="46" y="255"/>
                </a:lnTo>
                <a:lnTo>
                  <a:pt x="37" y="234"/>
                </a:lnTo>
                <a:lnTo>
                  <a:pt x="44" y="173"/>
                </a:lnTo>
                <a:lnTo>
                  <a:pt x="58" y="185"/>
                </a:lnTo>
                <a:lnTo>
                  <a:pt x="106" y="161"/>
                </a:lnTo>
                <a:lnTo>
                  <a:pt x="96" y="143"/>
                </a:lnTo>
                <a:lnTo>
                  <a:pt x="102" y="117"/>
                </a:lnTo>
                <a:lnTo>
                  <a:pt x="123" y="99"/>
                </a:lnTo>
                <a:lnTo>
                  <a:pt x="95" y="70"/>
                </a:lnTo>
                <a:lnTo>
                  <a:pt x="129" y="40"/>
                </a:lnTo>
                <a:lnTo>
                  <a:pt x="130" y="10"/>
                </a:lnTo>
                <a:lnTo>
                  <a:pt x="157" y="0"/>
                </a:lnTo>
                <a:lnTo>
                  <a:pt x="175" y="32"/>
                </a:lnTo>
                <a:lnTo>
                  <a:pt x="200" y="34"/>
                </a:lnTo>
                <a:close/>
              </a:path>
            </a:pathLst>
          </a:custGeom>
          <a:solidFill>
            <a:srgbClr val="3366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6320" y="2556000"/>
            <a:ext cx="268200" cy="360360"/>
          </a:xfrm>
          <a:custGeom>
            <a:avLst/>
            <a:gdLst/>
            <a:ahLst/>
            <a:rect l="l" t="t" r="r" b="b"/>
            <a:pathLst>
              <a:path w="521" h="701">
                <a:moveTo>
                  <a:pt x="141" y="283"/>
                </a:moveTo>
                <a:lnTo>
                  <a:pt x="148" y="335"/>
                </a:lnTo>
                <a:lnTo>
                  <a:pt x="173" y="383"/>
                </a:lnTo>
                <a:lnTo>
                  <a:pt x="196" y="404"/>
                </a:lnTo>
                <a:lnTo>
                  <a:pt x="204" y="379"/>
                </a:lnTo>
                <a:lnTo>
                  <a:pt x="216" y="384"/>
                </a:lnTo>
                <a:lnTo>
                  <a:pt x="214" y="399"/>
                </a:lnTo>
                <a:lnTo>
                  <a:pt x="232" y="408"/>
                </a:lnTo>
                <a:lnTo>
                  <a:pt x="223" y="429"/>
                </a:lnTo>
                <a:lnTo>
                  <a:pt x="201" y="457"/>
                </a:lnTo>
                <a:lnTo>
                  <a:pt x="130" y="476"/>
                </a:lnTo>
                <a:lnTo>
                  <a:pt x="127" y="510"/>
                </a:lnTo>
                <a:lnTo>
                  <a:pt x="98" y="527"/>
                </a:lnTo>
                <a:lnTo>
                  <a:pt x="97" y="484"/>
                </a:lnTo>
                <a:lnTo>
                  <a:pt x="62" y="511"/>
                </a:lnTo>
                <a:lnTo>
                  <a:pt x="68" y="596"/>
                </a:lnTo>
                <a:lnTo>
                  <a:pt x="116" y="589"/>
                </a:lnTo>
                <a:lnTo>
                  <a:pt x="143" y="556"/>
                </a:lnTo>
                <a:lnTo>
                  <a:pt x="179" y="546"/>
                </a:lnTo>
                <a:lnTo>
                  <a:pt x="199" y="503"/>
                </a:lnTo>
                <a:lnTo>
                  <a:pt x="234" y="501"/>
                </a:lnTo>
                <a:lnTo>
                  <a:pt x="209" y="559"/>
                </a:lnTo>
                <a:lnTo>
                  <a:pt x="226" y="564"/>
                </a:lnTo>
                <a:lnTo>
                  <a:pt x="247" y="519"/>
                </a:lnTo>
                <a:lnTo>
                  <a:pt x="266" y="490"/>
                </a:lnTo>
                <a:lnTo>
                  <a:pt x="271" y="436"/>
                </a:lnTo>
                <a:lnTo>
                  <a:pt x="251" y="415"/>
                </a:lnTo>
                <a:lnTo>
                  <a:pt x="249" y="364"/>
                </a:lnTo>
                <a:lnTo>
                  <a:pt x="192" y="351"/>
                </a:lnTo>
                <a:lnTo>
                  <a:pt x="171" y="330"/>
                </a:lnTo>
                <a:lnTo>
                  <a:pt x="172" y="296"/>
                </a:lnTo>
                <a:lnTo>
                  <a:pt x="141" y="283"/>
                </a:lnTo>
                <a:close/>
                <a:moveTo>
                  <a:pt x="503" y="196"/>
                </a:moveTo>
                <a:lnTo>
                  <a:pt x="521" y="247"/>
                </a:lnTo>
                <a:lnTo>
                  <a:pt x="499" y="249"/>
                </a:lnTo>
                <a:lnTo>
                  <a:pt x="490" y="260"/>
                </a:lnTo>
                <a:lnTo>
                  <a:pt x="486" y="297"/>
                </a:lnTo>
                <a:lnTo>
                  <a:pt x="468" y="317"/>
                </a:lnTo>
                <a:lnTo>
                  <a:pt x="493" y="376"/>
                </a:lnTo>
                <a:lnTo>
                  <a:pt x="521" y="384"/>
                </a:lnTo>
                <a:lnTo>
                  <a:pt x="494" y="405"/>
                </a:lnTo>
                <a:lnTo>
                  <a:pt x="480" y="446"/>
                </a:lnTo>
                <a:lnTo>
                  <a:pt x="458" y="475"/>
                </a:lnTo>
                <a:lnTo>
                  <a:pt x="433" y="473"/>
                </a:lnTo>
                <a:lnTo>
                  <a:pt x="415" y="441"/>
                </a:lnTo>
                <a:lnTo>
                  <a:pt x="388" y="451"/>
                </a:lnTo>
                <a:lnTo>
                  <a:pt x="387" y="481"/>
                </a:lnTo>
                <a:lnTo>
                  <a:pt x="353" y="511"/>
                </a:lnTo>
                <a:lnTo>
                  <a:pt x="381" y="540"/>
                </a:lnTo>
                <a:lnTo>
                  <a:pt x="360" y="558"/>
                </a:lnTo>
                <a:lnTo>
                  <a:pt x="354" y="584"/>
                </a:lnTo>
                <a:lnTo>
                  <a:pt x="364" y="602"/>
                </a:lnTo>
                <a:lnTo>
                  <a:pt x="316" y="626"/>
                </a:lnTo>
                <a:lnTo>
                  <a:pt x="302" y="614"/>
                </a:lnTo>
                <a:lnTo>
                  <a:pt x="295" y="675"/>
                </a:lnTo>
                <a:lnTo>
                  <a:pt x="272" y="669"/>
                </a:lnTo>
                <a:lnTo>
                  <a:pt x="246" y="701"/>
                </a:lnTo>
                <a:lnTo>
                  <a:pt x="193" y="695"/>
                </a:lnTo>
                <a:lnTo>
                  <a:pt x="197" y="672"/>
                </a:lnTo>
                <a:lnTo>
                  <a:pt x="180" y="618"/>
                </a:lnTo>
                <a:lnTo>
                  <a:pt x="170" y="615"/>
                </a:lnTo>
                <a:lnTo>
                  <a:pt x="154" y="644"/>
                </a:lnTo>
                <a:lnTo>
                  <a:pt x="139" y="633"/>
                </a:lnTo>
                <a:lnTo>
                  <a:pt x="73" y="664"/>
                </a:lnTo>
                <a:lnTo>
                  <a:pt x="49" y="629"/>
                </a:lnTo>
                <a:lnTo>
                  <a:pt x="38" y="595"/>
                </a:lnTo>
                <a:lnTo>
                  <a:pt x="0" y="594"/>
                </a:lnTo>
                <a:lnTo>
                  <a:pt x="26" y="447"/>
                </a:lnTo>
                <a:lnTo>
                  <a:pt x="38" y="342"/>
                </a:lnTo>
                <a:lnTo>
                  <a:pt x="26" y="280"/>
                </a:lnTo>
                <a:lnTo>
                  <a:pt x="53" y="208"/>
                </a:lnTo>
                <a:lnTo>
                  <a:pt x="37" y="211"/>
                </a:lnTo>
                <a:lnTo>
                  <a:pt x="18" y="167"/>
                </a:lnTo>
                <a:lnTo>
                  <a:pt x="41" y="140"/>
                </a:lnTo>
                <a:lnTo>
                  <a:pt x="47" y="77"/>
                </a:lnTo>
                <a:lnTo>
                  <a:pt x="40" y="36"/>
                </a:lnTo>
                <a:lnTo>
                  <a:pt x="42" y="19"/>
                </a:lnTo>
                <a:lnTo>
                  <a:pt x="80" y="54"/>
                </a:lnTo>
                <a:lnTo>
                  <a:pt x="71" y="30"/>
                </a:lnTo>
                <a:lnTo>
                  <a:pt x="85" y="15"/>
                </a:lnTo>
                <a:lnTo>
                  <a:pt x="99" y="34"/>
                </a:lnTo>
                <a:lnTo>
                  <a:pt x="98" y="71"/>
                </a:lnTo>
                <a:lnTo>
                  <a:pt x="118" y="100"/>
                </a:lnTo>
                <a:lnTo>
                  <a:pt x="135" y="117"/>
                </a:lnTo>
                <a:lnTo>
                  <a:pt x="139" y="137"/>
                </a:lnTo>
                <a:lnTo>
                  <a:pt x="165" y="121"/>
                </a:lnTo>
                <a:lnTo>
                  <a:pt x="174" y="97"/>
                </a:lnTo>
                <a:lnTo>
                  <a:pt x="203" y="102"/>
                </a:lnTo>
                <a:lnTo>
                  <a:pt x="235" y="96"/>
                </a:lnTo>
                <a:lnTo>
                  <a:pt x="267" y="91"/>
                </a:lnTo>
                <a:lnTo>
                  <a:pt x="263" y="108"/>
                </a:lnTo>
                <a:lnTo>
                  <a:pt x="291" y="105"/>
                </a:lnTo>
                <a:lnTo>
                  <a:pt x="301" y="140"/>
                </a:lnTo>
                <a:lnTo>
                  <a:pt x="315" y="149"/>
                </a:lnTo>
                <a:lnTo>
                  <a:pt x="321" y="122"/>
                </a:lnTo>
                <a:lnTo>
                  <a:pt x="331" y="65"/>
                </a:lnTo>
                <a:lnTo>
                  <a:pt x="317" y="59"/>
                </a:lnTo>
                <a:lnTo>
                  <a:pt x="350" y="0"/>
                </a:lnTo>
                <a:lnTo>
                  <a:pt x="356" y="25"/>
                </a:lnTo>
                <a:lnTo>
                  <a:pt x="377" y="43"/>
                </a:lnTo>
                <a:lnTo>
                  <a:pt x="393" y="56"/>
                </a:lnTo>
                <a:lnTo>
                  <a:pt x="395" y="75"/>
                </a:lnTo>
                <a:lnTo>
                  <a:pt x="409" y="93"/>
                </a:lnTo>
                <a:lnTo>
                  <a:pt x="415" y="72"/>
                </a:lnTo>
                <a:lnTo>
                  <a:pt x="407" y="61"/>
                </a:lnTo>
                <a:lnTo>
                  <a:pt x="421" y="59"/>
                </a:lnTo>
                <a:lnTo>
                  <a:pt x="435" y="67"/>
                </a:lnTo>
                <a:lnTo>
                  <a:pt x="437" y="81"/>
                </a:lnTo>
                <a:lnTo>
                  <a:pt x="445" y="117"/>
                </a:lnTo>
                <a:lnTo>
                  <a:pt x="416" y="127"/>
                </a:lnTo>
                <a:lnTo>
                  <a:pt x="434" y="158"/>
                </a:lnTo>
                <a:lnTo>
                  <a:pt x="464" y="152"/>
                </a:lnTo>
                <a:lnTo>
                  <a:pt x="503" y="19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78000" y="2700360"/>
            <a:ext cx="106560" cy="163440"/>
          </a:xfrm>
          <a:custGeom>
            <a:avLst/>
            <a:gdLst/>
            <a:ahLst/>
            <a:rect l="l" t="t" r="r" b="b"/>
            <a:pathLst>
              <a:path w="209" h="313">
                <a:moveTo>
                  <a:pt x="79" y="0"/>
                </a:moveTo>
                <a:lnTo>
                  <a:pt x="86" y="52"/>
                </a:lnTo>
                <a:lnTo>
                  <a:pt x="111" y="100"/>
                </a:lnTo>
                <a:lnTo>
                  <a:pt x="134" y="121"/>
                </a:lnTo>
                <a:lnTo>
                  <a:pt x="142" y="96"/>
                </a:lnTo>
                <a:lnTo>
                  <a:pt x="154" y="101"/>
                </a:lnTo>
                <a:lnTo>
                  <a:pt x="152" y="116"/>
                </a:lnTo>
                <a:lnTo>
                  <a:pt x="170" y="125"/>
                </a:lnTo>
                <a:lnTo>
                  <a:pt x="161" y="146"/>
                </a:lnTo>
                <a:lnTo>
                  <a:pt x="139" y="174"/>
                </a:lnTo>
                <a:lnTo>
                  <a:pt x="68" y="193"/>
                </a:lnTo>
                <a:lnTo>
                  <a:pt x="65" y="227"/>
                </a:lnTo>
                <a:lnTo>
                  <a:pt x="36" y="244"/>
                </a:lnTo>
                <a:lnTo>
                  <a:pt x="35" y="201"/>
                </a:lnTo>
                <a:lnTo>
                  <a:pt x="0" y="228"/>
                </a:lnTo>
                <a:lnTo>
                  <a:pt x="6" y="313"/>
                </a:lnTo>
                <a:lnTo>
                  <a:pt x="54" y="306"/>
                </a:lnTo>
                <a:lnTo>
                  <a:pt x="81" y="273"/>
                </a:lnTo>
                <a:lnTo>
                  <a:pt x="117" y="263"/>
                </a:lnTo>
                <a:lnTo>
                  <a:pt x="137" y="220"/>
                </a:lnTo>
                <a:lnTo>
                  <a:pt x="172" y="218"/>
                </a:lnTo>
                <a:lnTo>
                  <a:pt x="147" y="276"/>
                </a:lnTo>
                <a:lnTo>
                  <a:pt x="164" y="281"/>
                </a:lnTo>
                <a:lnTo>
                  <a:pt x="185" y="236"/>
                </a:lnTo>
                <a:lnTo>
                  <a:pt x="204" y="207"/>
                </a:lnTo>
                <a:lnTo>
                  <a:pt x="209" y="153"/>
                </a:lnTo>
                <a:lnTo>
                  <a:pt x="189" y="132"/>
                </a:lnTo>
                <a:lnTo>
                  <a:pt x="187" y="81"/>
                </a:lnTo>
                <a:lnTo>
                  <a:pt x="130" y="68"/>
                </a:lnTo>
                <a:lnTo>
                  <a:pt x="109" y="47"/>
                </a:lnTo>
                <a:lnTo>
                  <a:pt x="110" y="13"/>
                </a:lnTo>
                <a:lnTo>
                  <a:pt x="79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6320" y="2556000"/>
            <a:ext cx="268200" cy="360360"/>
          </a:xfrm>
          <a:custGeom>
            <a:avLst/>
            <a:gdLst/>
            <a:ahLst/>
            <a:rect l="l" t="t" r="r" b="b"/>
            <a:pathLst>
              <a:path w="521" h="701">
                <a:moveTo>
                  <a:pt x="503" y="196"/>
                </a:moveTo>
                <a:lnTo>
                  <a:pt x="521" y="247"/>
                </a:lnTo>
                <a:lnTo>
                  <a:pt x="499" y="249"/>
                </a:lnTo>
                <a:lnTo>
                  <a:pt x="490" y="260"/>
                </a:lnTo>
                <a:lnTo>
                  <a:pt x="486" y="297"/>
                </a:lnTo>
                <a:lnTo>
                  <a:pt x="468" y="317"/>
                </a:lnTo>
                <a:lnTo>
                  <a:pt x="493" y="376"/>
                </a:lnTo>
                <a:lnTo>
                  <a:pt x="521" y="384"/>
                </a:lnTo>
                <a:lnTo>
                  <a:pt x="494" y="405"/>
                </a:lnTo>
                <a:lnTo>
                  <a:pt x="480" y="446"/>
                </a:lnTo>
                <a:lnTo>
                  <a:pt x="458" y="475"/>
                </a:lnTo>
                <a:lnTo>
                  <a:pt x="433" y="473"/>
                </a:lnTo>
                <a:lnTo>
                  <a:pt x="415" y="441"/>
                </a:lnTo>
                <a:lnTo>
                  <a:pt x="388" y="451"/>
                </a:lnTo>
                <a:lnTo>
                  <a:pt x="387" y="481"/>
                </a:lnTo>
                <a:lnTo>
                  <a:pt x="353" y="511"/>
                </a:lnTo>
                <a:lnTo>
                  <a:pt x="381" y="540"/>
                </a:lnTo>
                <a:lnTo>
                  <a:pt x="360" y="558"/>
                </a:lnTo>
                <a:lnTo>
                  <a:pt x="354" y="584"/>
                </a:lnTo>
                <a:lnTo>
                  <a:pt x="364" y="602"/>
                </a:lnTo>
                <a:lnTo>
                  <a:pt x="316" y="626"/>
                </a:lnTo>
                <a:lnTo>
                  <a:pt x="302" y="614"/>
                </a:lnTo>
                <a:lnTo>
                  <a:pt x="295" y="675"/>
                </a:lnTo>
                <a:lnTo>
                  <a:pt x="272" y="669"/>
                </a:lnTo>
                <a:lnTo>
                  <a:pt x="246" y="701"/>
                </a:lnTo>
                <a:lnTo>
                  <a:pt x="193" y="695"/>
                </a:lnTo>
                <a:lnTo>
                  <a:pt x="197" y="672"/>
                </a:lnTo>
                <a:lnTo>
                  <a:pt x="180" y="618"/>
                </a:lnTo>
                <a:lnTo>
                  <a:pt x="170" y="615"/>
                </a:lnTo>
                <a:lnTo>
                  <a:pt x="154" y="644"/>
                </a:lnTo>
                <a:lnTo>
                  <a:pt x="139" y="633"/>
                </a:lnTo>
                <a:lnTo>
                  <a:pt x="73" y="664"/>
                </a:lnTo>
                <a:lnTo>
                  <a:pt x="49" y="629"/>
                </a:lnTo>
                <a:lnTo>
                  <a:pt x="38" y="595"/>
                </a:lnTo>
                <a:lnTo>
                  <a:pt x="0" y="594"/>
                </a:lnTo>
                <a:lnTo>
                  <a:pt x="26" y="447"/>
                </a:lnTo>
                <a:lnTo>
                  <a:pt x="38" y="342"/>
                </a:lnTo>
                <a:lnTo>
                  <a:pt x="26" y="280"/>
                </a:lnTo>
                <a:lnTo>
                  <a:pt x="53" y="208"/>
                </a:lnTo>
                <a:lnTo>
                  <a:pt x="37" y="211"/>
                </a:lnTo>
                <a:lnTo>
                  <a:pt x="18" y="167"/>
                </a:lnTo>
                <a:lnTo>
                  <a:pt x="41" y="140"/>
                </a:lnTo>
                <a:lnTo>
                  <a:pt x="47" y="77"/>
                </a:lnTo>
                <a:lnTo>
                  <a:pt x="40" y="36"/>
                </a:lnTo>
                <a:lnTo>
                  <a:pt x="42" y="19"/>
                </a:lnTo>
                <a:lnTo>
                  <a:pt x="80" y="54"/>
                </a:lnTo>
                <a:lnTo>
                  <a:pt x="71" y="30"/>
                </a:lnTo>
                <a:lnTo>
                  <a:pt x="85" y="15"/>
                </a:lnTo>
                <a:lnTo>
                  <a:pt x="99" y="34"/>
                </a:lnTo>
                <a:lnTo>
                  <a:pt x="98" y="71"/>
                </a:lnTo>
                <a:lnTo>
                  <a:pt x="118" y="100"/>
                </a:lnTo>
                <a:lnTo>
                  <a:pt x="135" y="117"/>
                </a:lnTo>
                <a:lnTo>
                  <a:pt x="139" y="137"/>
                </a:lnTo>
                <a:lnTo>
                  <a:pt x="165" y="121"/>
                </a:lnTo>
                <a:lnTo>
                  <a:pt x="174" y="97"/>
                </a:lnTo>
                <a:lnTo>
                  <a:pt x="203" y="102"/>
                </a:lnTo>
                <a:lnTo>
                  <a:pt x="235" y="96"/>
                </a:lnTo>
                <a:lnTo>
                  <a:pt x="267" y="91"/>
                </a:lnTo>
                <a:lnTo>
                  <a:pt x="263" y="108"/>
                </a:lnTo>
                <a:lnTo>
                  <a:pt x="291" y="105"/>
                </a:lnTo>
                <a:lnTo>
                  <a:pt x="301" y="140"/>
                </a:lnTo>
                <a:lnTo>
                  <a:pt x="315" y="149"/>
                </a:lnTo>
                <a:lnTo>
                  <a:pt x="321" y="122"/>
                </a:lnTo>
                <a:lnTo>
                  <a:pt x="331" y="65"/>
                </a:lnTo>
                <a:lnTo>
                  <a:pt x="317" y="59"/>
                </a:lnTo>
                <a:lnTo>
                  <a:pt x="350" y="0"/>
                </a:lnTo>
                <a:lnTo>
                  <a:pt x="356" y="25"/>
                </a:lnTo>
                <a:lnTo>
                  <a:pt x="377" y="43"/>
                </a:lnTo>
                <a:lnTo>
                  <a:pt x="393" y="56"/>
                </a:lnTo>
                <a:lnTo>
                  <a:pt x="395" y="75"/>
                </a:lnTo>
                <a:lnTo>
                  <a:pt x="409" y="93"/>
                </a:lnTo>
                <a:lnTo>
                  <a:pt x="415" y="72"/>
                </a:lnTo>
                <a:lnTo>
                  <a:pt x="407" y="61"/>
                </a:lnTo>
                <a:lnTo>
                  <a:pt x="421" y="59"/>
                </a:lnTo>
                <a:lnTo>
                  <a:pt x="435" y="67"/>
                </a:lnTo>
                <a:lnTo>
                  <a:pt x="437" y="81"/>
                </a:lnTo>
                <a:lnTo>
                  <a:pt x="445" y="117"/>
                </a:lnTo>
                <a:lnTo>
                  <a:pt x="416" y="127"/>
                </a:lnTo>
                <a:lnTo>
                  <a:pt x="434" y="158"/>
                </a:lnTo>
                <a:lnTo>
                  <a:pt x="464" y="152"/>
                </a:lnTo>
                <a:lnTo>
                  <a:pt x="503" y="196"/>
                </a:lnTo>
              </a:path>
            </a:pathLst>
          </a:custGeom>
          <a:solidFill>
            <a:srgbClr val="00cc99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78000" y="2700360"/>
            <a:ext cx="106560" cy="163440"/>
          </a:xfrm>
          <a:custGeom>
            <a:avLst/>
            <a:gdLst/>
            <a:ahLst/>
            <a:rect l="l" t="t" r="r" b="b"/>
            <a:pathLst>
              <a:path w="209" h="313">
                <a:moveTo>
                  <a:pt x="79" y="0"/>
                </a:moveTo>
                <a:lnTo>
                  <a:pt x="110" y="13"/>
                </a:lnTo>
                <a:lnTo>
                  <a:pt x="109" y="47"/>
                </a:lnTo>
                <a:lnTo>
                  <a:pt x="130" y="68"/>
                </a:lnTo>
                <a:lnTo>
                  <a:pt x="187" y="81"/>
                </a:lnTo>
                <a:lnTo>
                  <a:pt x="189" y="132"/>
                </a:lnTo>
                <a:lnTo>
                  <a:pt x="209" y="153"/>
                </a:lnTo>
                <a:lnTo>
                  <a:pt x="204" y="207"/>
                </a:lnTo>
                <a:lnTo>
                  <a:pt x="185" y="236"/>
                </a:lnTo>
                <a:lnTo>
                  <a:pt x="164" y="281"/>
                </a:lnTo>
                <a:lnTo>
                  <a:pt x="147" y="276"/>
                </a:lnTo>
                <a:lnTo>
                  <a:pt x="172" y="218"/>
                </a:lnTo>
                <a:lnTo>
                  <a:pt x="137" y="220"/>
                </a:lnTo>
                <a:lnTo>
                  <a:pt x="117" y="263"/>
                </a:lnTo>
                <a:lnTo>
                  <a:pt x="81" y="273"/>
                </a:lnTo>
                <a:lnTo>
                  <a:pt x="54" y="306"/>
                </a:lnTo>
                <a:lnTo>
                  <a:pt x="6" y="313"/>
                </a:lnTo>
                <a:lnTo>
                  <a:pt x="0" y="228"/>
                </a:lnTo>
                <a:lnTo>
                  <a:pt x="35" y="201"/>
                </a:lnTo>
                <a:lnTo>
                  <a:pt x="36" y="244"/>
                </a:lnTo>
                <a:lnTo>
                  <a:pt x="65" y="227"/>
                </a:lnTo>
                <a:lnTo>
                  <a:pt x="68" y="193"/>
                </a:lnTo>
                <a:lnTo>
                  <a:pt x="139" y="174"/>
                </a:lnTo>
                <a:lnTo>
                  <a:pt x="161" y="146"/>
                </a:lnTo>
                <a:lnTo>
                  <a:pt x="170" y="125"/>
                </a:lnTo>
                <a:lnTo>
                  <a:pt x="152" y="116"/>
                </a:lnTo>
                <a:lnTo>
                  <a:pt x="154" y="101"/>
                </a:lnTo>
                <a:lnTo>
                  <a:pt x="142" y="96"/>
                </a:lnTo>
                <a:lnTo>
                  <a:pt x="134" y="121"/>
                </a:lnTo>
                <a:lnTo>
                  <a:pt x="111" y="100"/>
                </a:lnTo>
                <a:lnTo>
                  <a:pt x="86" y="52"/>
                </a:lnTo>
                <a:lnTo>
                  <a:pt x="79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48160" y="1935000"/>
            <a:ext cx="27000" cy="41400"/>
          </a:xfrm>
          <a:custGeom>
            <a:avLst/>
            <a:gdLst/>
            <a:ahLst/>
            <a:rect l="l" t="t" r="r" b="b"/>
            <a:pathLst>
              <a:path w="51" h="81">
                <a:moveTo>
                  <a:pt x="0" y="30"/>
                </a:moveTo>
                <a:lnTo>
                  <a:pt x="46" y="0"/>
                </a:lnTo>
                <a:lnTo>
                  <a:pt x="51" y="28"/>
                </a:lnTo>
                <a:lnTo>
                  <a:pt x="44" y="53"/>
                </a:lnTo>
                <a:lnTo>
                  <a:pt x="33" y="81"/>
                </a:lnTo>
                <a:lnTo>
                  <a:pt x="8" y="56"/>
                </a:lnTo>
                <a:lnTo>
                  <a:pt x="0" y="3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88120" y="1951200"/>
            <a:ext cx="50760" cy="41040"/>
          </a:xfrm>
          <a:custGeom>
            <a:avLst/>
            <a:gdLst/>
            <a:ahLst/>
            <a:rect l="l" t="t" r="r" b="b"/>
            <a:pathLst>
              <a:path w="96" h="80">
                <a:moveTo>
                  <a:pt x="15" y="38"/>
                </a:moveTo>
                <a:lnTo>
                  <a:pt x="22" y="0"/>
                </a:lnTo>
                <a:lnTo>
                  <a:pt x="55" y="3"/>
                </a:lnTo>
                <a:lnTo>
                  <a:pt x="84" y="5"/>
                </a:lnTo>
                <a:lnTo>
                  <a:pt x="96" y="9"/>
                </a:lnTo>
                <a:lnTo>
                  <a:pt x="93" y="31"/>
                </a:lnTo>
                <a:lnTo>
                  <a:pt x="87" y="53"/>
                </a:lnTo>
                <a:lnTo>
                  <a:pt x="77" y="59"/>
                </a:lnTo>
                <a:lnTo>
                  <a:pt x="65" y="80"/>
                </a:lnTo>
                <a:lnTo>
                  <a:pt x="34" y="76"/>
                </a:lnTo>
                <a:lnTo>
                  <a:pt x="20" y="58"/>
                </a:lnTo>
                <a:lnTo>
                  <a:pt x="2" y="52"/>
                </a:lnTo>
                <a:lnTo>
                  <a:pt x="0" y="36"/>
                </a:lnTo>
                <a:lnTo>
                  <a:pt x="8" y="31"/>
                </a:lnTo>
                <a:lnTo>
                  <a:pt x="15" y="38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977240" y="3470400"/>
            <a:ext cx="425520" cy="752400"/>
          </a:xfrm>
          <a:custGeom>
            <a:avLst/>
            <a:gdLst/>
            <a:ahLst/>
            <a:rect l="l" t="t" r="r" b="b"/>
            <a:pathLst>
              <a:path w="823" h="1458">
                <a:moveTo>
                  <a:pt x="34" y="0"/>
                </a:moveTo>
                <a:lnTo>
                  <a:pt x="89" y="34"/>
                </a:lnTo>
                <a:lnTo>
                  <a:pt x="89" y="75"/>
                </a:lnTo>
                <a:lnTo>
                  <a:pt x="117" y="108"/>
                </a:lnTo>
                <a:lnTo>
                  <a:pt x="151" y="140"/>
                </a:lnTo>
                <a:lnTo>
                  <a:pt x="164" y="166"/>
                </a:lnTo>
                <a:lnTo>
                  <a:pt x="213" y="223"/>
                </a:lnTo>
                <a:lnTo>
                  <a:pt x="218" y="211"/>
                </a:lnTo>
                <a:lnTo>
                  <a:pt x="232" y="240"/>
                </a:lnTo>
                <a:lnTo>
                  <a:pt x="246" y="278"/>
                </a:lnTo>
                <a:lnTo>
                  <a:pt x="255" y="311"/>
                </a:lnTo>
                <a:lnTo>
                  <a:pt x="266" y="346"/>
                </a:lnTo>
                <a:lnTo>
                  <a:pt x="281" y="382"/>
                </a:lnTo>
                <a:lnTo>
                  <a:pt x="298" y="403"/>
                </a:lnTo>
                <a:lnTo>
                  <a:pt x="299" y="391"/>
                </a:lnTo>
                <a:lnTo>
                  <a:pt x="318" y="413"/>
                </a:lnTo>
                <a:lnTo>
                  <a:pt x="323" y="434"/>
                </a:lnTo>
                <a:lnTo>
                  <a:pt x="329" y="451"/>
                </a:lnTo>
                <a:lnTo>
                  <a:pt x="341" y="447"/>
                </a:lnTo>
                <a:lnTo>
                  <a:pt x="330" y="422"/>
                </a:lnTo>
                <a:lnTo>
                  <a:pt x="347" y="439"/>
                </a:lnTo>
                <a:lnTo>
                  <a:pt x="362" y="458"/>
                </a:lnTo>
                <a:lnTo>
                  <a:pt x="354" y="466"/>
                </a:lnTo>
                <a:lnTo>
                  <a:pt x="379" y="478"/>
                </a:lnTo>
                <a:lnTo>
                  <a:pt x="423" y="540"/>
                </a:lnTo>
                <a:lnTo>
                  <a:pt x="471" y="601"/>
                </a:lnTo>
                <a:lnTo>
                  <a:pt x="486" y="623"/>
                </a:lnTo>
                <a:lnTo>
                  <a:pt x="535" y="657"/>
                </a:lnTo>
                <a:lnTo>
                  <a:pt x="567" y="699"/>
                </a:lnTo>
                <a:lnTo>
                  <a:pt x="603" y="728"/>
                </a:lnTo>
                <a:lnTo>
                  <a:pt x="633" y="766"/>
                </a:lnTo>
                <a:lnTo>
                  <a:pt x="660" y="789"/>
                </a:lnTo>
                <a:lnTo>
                  <a:pt x="702" y="801"/>
                </a:lnTo>
                <a:lnTo>
                  <a:pt x="720" y="819"/>
                </a:lnTo>
                <a:lnTo>
                  <a:pt x="734" y="837"/>
                </a:lnTo>
                <a:lnTo>
                  <a:pt x="697" y="817"/>
                </a:lnTo>
                <a:lnTo>
                  <a:pt x="671" y="802"/>
                </a:lnTo>
                <a:lnTo>
                  <a:pt x="646" y="792"/>
                </a:lnTo>
                <a:lnTo>
                  <a:pt x="606" y="781"/>
                </a:lnTo>
                <a:lnTo>
                  <a:pt x="577" y="786"/>
                </a:lnTo>
                <a:lnTo>
                  <a:pt x="556" y="802"/>
                </a:lnTo>
                <a:lnTo>
                  <a:pt x="529" y="822"/>
                </a:lnTo>
                <a:lnTo>
                  <a:pt x="511" y="853"/>
                </a:lnTo>
                <a:lnTo>
                  <a:pt x="513" y="879"/>
                </a:lnTo>
                <a:lnTo>
                  <a:pt x="533" y="901"/>
                </a:lnTo>
                <a:lnTo>
                  <a:pt x="532" y="946"/>
                </a:lnTo>
                <a:lnTo>
                  <a:pt x="545" y="1022"/>
                </a:lnTo>
                <a:lnTo>
                  <a:pt x="571" y="1101"/>
                </a:lnTo>
                <a:lnTo>
                  <a:pt x="606" y="1150"/>
                </a:lnTo>
                <a:lnTo>
                  <a:pt x="609" y="1151"/>
                </a:lnTo>
                <a:lnTo>
                  <a:pt x="657" y="1165"/>
                </a:lnTo>
                <a:lnTo>
                  <a:pt x="682" y="1191"/>
                </a:lnTo>
                <a:lnTo>
                  <a:pt x="701" y="1215"/>
                </a:lnTo>
                <a:lnTo>
                  <a:pt x="715" y="1226"/>
                </a:lnTo>
                <a:lnTo>
                  <a:pt x="731" y="1244"/>
                </a:lnTo>
                <a:lnTo>
                  <a:pt x="754" y="1243"/>
                </a:lnTo>
                <a:lnTo>
                  <a:pt x="755" y="1236"/>
                </a:lnTo>
                <a:lnTo>
                  <a:pt x="736" y="1234"/>
                </a:lnTo>
                <a:lnTo>
                  <a:pt x="732" y="1224"/>
                </a:lnTo>
                <a:lnTo>
                  <a:pt x="751" y="1225"/>
                </a:lnTo>
                <a:lnTo>
                  <a:pt x="748" y="1216"/>
                </a:lnTo>
                <a:lnTo>
                  <a:pt x="759" y="1211"/>
                </a:lnTo>
                <a:lnTo>
                  <a:pt x="810" y="1269"/>
                </a:lnTo>
                <a:lnTo>
                  <a:pt x="811" y="1300"/>
                </a:lnTo>
                <a:lnTo>
                  <a:pt x="818" y="1327"/>
                </a:lnTo>
                <a:lnTo>
                  <a:pt x="823" y="1348"/>
                </a:lnTo>
                <a:lnTo>
                  <a:pt x="801" y="1312"/>
                </a:lnTo>
                <a:lnTo>
                  <a:pt x="780" y="1287"/>
                </a:lnTo>
                <a:lnTo>
                  <a:pt x="775" y="1263"/>
                </a:lnTo>
                <a:lnTo>
                  <a:pt x="771" y="1262"/>
                </a:lnTo>
                <a:lnTo>
                  <a:pt x="765" y="1274"/>
                </a:lnTo>
                <a:lnTo>
                  <a:pt x="748" y="1272"/>
                </a:lnTo>
                <a:lnTo>
                  <a:pt x="726" y="1277"/>
                </a:lnTo>
                <a:lnTo>
                  <a:pt x="703" y="1290"/>
                </a:lnTo>
                <a:lnTo>
                  <a:pt x="684" y="1278"/>
                </a:lnTo>
                <a:lnTo>
                  <a:pt x="663" y="1294"/>
                </a:lnTo>
                <a:lnTo>
                  <a:pt x="659" y="1331"/>
                </a:lnTo>
                <a:lnTo>
                  <a:pt x="665" y="1383"/>
                </a:lnTo>
                <a:lnTo>
                  <a:pt x="681" y="1424"/>
                </a:lnTo>
                <a:lnTo>
                  <a:pt x="676" y="1435"/>
                </a:lnTo>
                <a:lnTo>
                  <a:pt x="677" y="1458"/>
                </a:lnTo>
                <a:lnTo>
                  <a:pt x="650" y="1442"/>
                </a:lnTo>
                <a:lnTo>
                  <a:pt x="609" y="1386"/>
                </a:lnTo>
                <a:lnTo>
                  <a:pt x="590" y="1364"/>
                </a:lnTo>
                <a:lnTo>
                  <a:pt x="583" y="1300"/>
                </a:lnTo>
                <a:lnTo>
                  <a:pt x="570" y="1254"/>
                </a:lnTo>
                <a:lnTo>
                  <a:pt x="546" y="1219"/>
                </a:lnTo>
                <a:lnTo>
                  <a:pt x="526" y="1167"/>
                </a:lnTo>
                <a:lnTo>
                  <a:pt x="516" y="1131"/>
                </a:lnTo>
                <a:lnTo>
                  <a:pt x="516" y="1097"/>
                </a:lnTo>
                <a:lnTo>
                  <a:pt x="490" y="1051"/>
                </a:lnTo>
                <a:lnTo>
                  <a:pt x="461" y="1027"/>
                </a:lnTo>
                <a:lnTo>
                  <a:pt x="416" y="992"/>
                </a:lnTo>
                <a:lnTo>
                  <a:pt x="414" y="957"/>
                </a:lnTo>
                <a:lnTo>
                  <a:pt x="396" y="902"/>
                </a:lnTo>
                <a:lnTo>
                  <a:pt x="373" y="831"/>
                </a:lnTo>
                <a:lnTo>
                  <a:pt x="345" y="774"/>
                </a:lnTo>
                <a:lnTo>
                  <a:pt x="315" y="714"/>
                </a:lnTo>
                <a:lnTo>
                  <a:pt x="288" y="687"/>
                </a:lnTo>
                <a:lnTo>
                  <a:pt x="263" y="629"/>
                </a:lnTo>
                <a:lnTo>
                  <a:pt x="269" y="595"/>
                </a:lnTo>
                <a:lnTo>
                  <a:pt x="265" y="577"/>
                </a:lnTo>
                <a:lnTo>
                  <a:pt x="241" y="547"/>
                </a:lnTo>
                <a:lnTo>
                  <a:pt x="209" y="519"/>
                </a:lnTo>
                <a:lnTo>
                  <a:pt x="160" y="503"/>
                </a:lnTo>
                <a:lnTo>
                  <a:pt x="169" y="491"/>
                </a:lnTo>
                <a:lnTo>
                  <a:pt x="151" y="476"/>
                </a:lnTo>
                <a:lnTo>
                  <a:pt x="141" y="475"/>
                </a:lnTo>
                <a:lnTo>
                  <a:pt x="126" y="447"/>
                </a:lnTo>
                <a:lnTo>
                  <a:pt x="100" y="403"/>
                </a:lnTo>
                <a:lnTo>
                  <a:pt x="100" y="383"/>
                </a:lnTo>
                <a:lnTo>
                  <a:pt x="95" y="352"/>
                </a:lnTo>
                <a:lnTo>
                  <a:pt x="80" y="309"/>
                </a:lnTo>
                <a:lnTo>
                  <a:pt x="71" y="274"/>
                </a:lnTo>
                <a:lnTo>
                  <a:pt x="70" y="264"/>
                </a:lnTo>
                <a:lnTo>
                  <a:pt x="32" y="221"/>
                </a:lnTo>
                <a:lnTo>
                  <a:pt x="57" y="173"/>
                </a:lnTo>
                <a:lnTo>
                  <a:pt x="77" y="191"/>
                </a:lnTo>
                <a:lnTo>
                  <a:pt x="92" y="180"/>
                </a:lnTo>
                <a:lnTo>
                  <a:pt x="101" y="153"/>
                </a:lnTo>
                <a:lnTo>
                  <a:pt x="88" y="148"/>
                </a:lnTo>
                <a:lnTo>
                  <a:pt x="75" y="133"/>
                </a:lnTo>
                <a:lnTo>
                  <a:pt x="85" y="130"/>
                </a:lnTo>
                <a:lnTo>
                  <a:pt x="94" y="127"/>
                </a:lnTo>
                <a:lnTo>
                  <a:pt x="96" y="109"/>
                </a:lnTo>
                <a:lnTo>
                  <a:pt x="87" y="102"/>
                </a:lnTo>
                <a:lnTo>
                  <a:pt x="86" y="117"/>
                </a:lnTo>
                <a:lnTo>
                  <a:pt x="81" y="117"/>
                </a:lnTo>
                <a:lnTo>
                  <a:pt x="73" y="77"/>
                </a:lnTo>
                <a:lnTo>
                  <a:pt x="33" y="56"/>
                </a:lnTo>
                <a:lnTo>
                  <a:pt x="0" y="38"/>
                </a:lnTo>
                <a:lnTo>
                  <a:pt x="24" y="34"/>
                </a:lnTo>
                <a:lnTo>
                  <a:pt x="33" y="19"/>
                </a:lnTo>
                <a:lnTo>
                  <a:pt x="34" y="0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77000" y="3510000"/>
            <a:ext cx="71640" cy="61920"/>
          </a:xfrm>
          <a:custGeom>
            <a:avLst/>
            <a:gdLst/>
            <a:ahLst/>
            <a:rect l="l" t="t" r="r" b="b"/>
            <a:pathLst>
              <a:path w="140" h="120">
                <a:moveTo>
                  <a:pt x="109" y="24"/>
                </a:moveTo>
                <a:lnTo>
                  <a:pt x="124" y="7"/>
                </a:lnTo>
                <a:lnTo>
                  <a:pt x="140" y="6"/>
                </a:lnTo>
                <a:lnTo>
                  <a:pt x="129" y="26"/>
                </a:lnTo>
                <a:lnTo>
                  <a:pt x="136" y="44"/>
                </a:lnTo>
                <a:lnTo>
                  <a:pt x="127" y="67"/>
                </a:lnTo>
                <a:lnTo>
                  <a:pt x="122" y="94"/>
                </a:lnTo>
                <a:lnTo>
                  <a:pt x="81" y="63"/>
                </a:lnTo>
                <a:lnTo>
                  <a:pt x="62" y="83"/>
                </a:lnTo>
                <a:lnTo>
                  <a:pt x="58" y="48"/>
                </a:lnTo>
                <a:lnTo>
                  <a:pt x="68" y="40"/>
                </a:lnTo>
                <a:lnTo>
                  <a:pt x="64" y="6"/>
                </a:lnTo>
                <a:lnTo>
                  <a:pt x="84" y="7"/>
                </a:lnTo>
                <a:lnTo>
                  <a:pt x="106" y="0"/>
                </a:lnTo>
                <a:lnTo>
                  <a:pt x="109" y="24"/>
                </a:lnTo>
                <a:close/>
                <a:moveTo>
                  <a:pt x="0" y="120"/>
                </a:moveTo>
                <a:lnTo>
                  <a:pt x="3" y="104"/>
                </a:lnTo>
                <a:lnTo>
                  <a:pt x="30" y="68"/>
                </a:lnTo>
                <a:lnTo>
                  <a:pt x="23" y="90"/>
                </a:lnTo>
                <a:lnTo>
                  <a:pt x="33" y="100"/>
                </a:lnTo>
                <a:lnTo>
                  <a:pt x="22" y="110"/>
                </a:lnTo>
                <a:lnTo>
                  <a:pt x="18" y="108"/>
                </a:lnTo>
                <a:lnTo>
                  <a:pt x="13" y="106"/>
                </a:lnTo>
                <a:lnTo>
                  <a:pt x="2" y="119"/>
                </a:lnTo>
                <a:lnTo>
                  <a:pt x="0" y="12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05800" y="3510000"/>
            <a:ext cx="42840" cy="49320"/>
          </a:xfrm>
          <a:custGeom>
            <a:avLst/>
            <a:gdLst/>
            <a:ahLst/>
            <a:rect l="l" t="t" r="r" b="b"/>
            <a:pathLst>
              <a:path w="82" h="94">
                <a:moveTo>
                  <a:pt x="51" y="24"/>
                </a:moveTo>
                <a:lnTo>
                  <a:pt x="66" y="7"/>
                </a:lnTo>
                <a:lnTo>
                  <a:pt x="82" y="6"/>
                </a:lnTo>
                <a:lnTo>
                  <a:pt x="71" y="26"/>
                </a:lnTo>
                <a:lnTo>
                  <a:pt x="78" y="44"/>
                </a:lnTo>
                <a:lnTo>
                  <a:pt x="69" y="67"/>
                </a:lnTo>
                <a:lnTo>
                  <a:pt x="64" y="94"/>
                </a:lnTo>
                <a:lnTo>
                  <a:pt x="23" y="63"/>
                </a:lnTo>
                <a:lnTo>
                  <a:pt x="4" y="83"/>
                </a:lnTo>
                <a:lnTo>
                  <a:pt x="0" y="48"/>
                </a:lnTo>
                <a:lnTo>
                  <a:pt x="10" y="40"/>
                </a:lnTo>
                <a:lnTo>
                  <a:pt x="6" y="6"/>
                </a:lnTo>
                <a:lnTo>
                  <a:pt x="26" y="7"/>
                </a:lnTo>
                <a:lnTo>
                  <a:pt x="48" y="0"/>
                </a:lnTo>
                <a:lnTo>
                  <a:pt x="51" y="2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77000" y="3544920"/>
            <a:ext cx="16200" cy="27000"/>
          </a:xfrm>
          <a:custGeom>
            <a:avLst/>
            <a:gdLst/>
            <a:ahLst/>
            <a:rect l="l" t="t" r="r" b="b"/>
            <a:pathLst>
              <a:path w="33" h="52">
                <a:moveTo>
                  <a:pt x="0" y="52"/>
                </a:moveTo>
                <a:lnTo>
                  <a:pt x="3" y="36"/>
                </a:lnTo>
                <a:lnTo>
                  <a:pt x="30" y="0"/>
                </a:lnTo>
                <a:lnTo>
                  <a:pt x="23" y="22"/>
                </a:lnTo>
                <a:lnTo>
                  <a:pt x="33" y="32"/>
                </a:lnTo>
                <a:lnTo>
                  <a:pt x="22" y="42"/>
                </a:lnTo>
                <a:lnTo>
                  <a:pt x="18" y="40"/>
                </a:lnTo>
                <a:lnTo>
                  <a:pt x="13" y="38"/>
                </a:lnTo>
                <a:lnTo>
                  <a:pt x="2" y="51"/>
                </a:lnTo>
                <a:lnTo>
                  <a:pt x="0" y="52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21640" y="3301920"/>
            <a:ext cx="225360" cy="968400"/>
          </a:xfrm>
          <a:custGeom>
            <a:avLst/>
            <a:gdLst/>
            <a:ahLst/>
            <a:rect l="l" t="t" r="r" b="b"/>
            <a:pathLst>
              <a:path w="435" h="1877">
                <a:moveTo>
                  <a:pt x="161" y="1749"/>
                </a:moveTo>
                <a:lnTo>
                  <a:pt x="178" y="1754"/>
                </a:lnTo>
                <a:lnTo>
                  <a:pt x="159" y="1786"/>
                </a:lnTo>
                <a:lnTo>
                  <a:pt x="140" y="1778"/>
                </a:lnTo>
                <a:lnTo>
                  <a:pt x="161" y="1749"/>
                </a:lnTo>
                <a:close/>
                <a:moveTo>
                  <a:pt x="73" y="1678"/>
                </a:moveTo>
                <a:lnTo>
                  <a:pt x="79" y="1687"/>
                </a:lnTo>
                <a:lnTo>
                  <a:pt x="64" y="1700"/>
                </a:lnTo>
                <a:lnTo>
                  <a:pt x="65" y="1719"/>
                </a:lnTo>
                <a:lnTo>
                  <a:pt x="44" y="1737"/>
                </a:lnTo>
                <a:lnTo>
                  <a:pt x="42" y="1760"/>
                </a:lnTo>
                <a:lnTo>
                  <a:pt x="33" y="1800"/>
                </a:lnTo>
                <a:lnTo>
                  <a:pt x="32" y="1821"/>
                </a:lnTo>
                <a:lnTo>
                  <a:pt x="25" y="1854"/>
                </a:lnTo>
                <a:lnTo>
                  <a:pt x="31" y="1869"/>
                </a:lnTo>
                <a:lnTo>
                  <a:pt x="15" y="1877"/>
                </a:lnTo>
                <a:lnTo>
                  <a:pt x="0" y="1854"/>
                </a:lnTo>
                <a:lnTo>
                  <a:pt x="19" y="1804"/>
                </a:lnTo>
                <a:lnTo>
                  <a:pt x="15" y="1760"/>
                </a:lnTo>
                <a:lnTo>
                  <a:pt x="20" y="1737"/>
                </a:lnTo>
                <a:lnTo>
                  <a:pt x="20" y="1697"/>
                </a:lnTo>
                <a:lnTo>
                  <a:pt x="51" y="1698"/>
                </a:lnTo>
                <a:lnTo>
                  <a:pt x="73" y="1678"/>
                </a:lnTo>
                <a:close/>
                <a:moveTo>
                  <a:pt x="225" y="1342"/>
                </a:moveTo>
                <a:lnTo>
                  <a:pt x="226" y="1352"/>
                </a:lnTo>
                <a:lnTo>
                  <a:pt x="243" y="1357"/>
                </a:lnTo>
                <a:lnTo>
                  <a:pt x="234" y="1377"/>
                </a:lnTo>
                <a:lnTo>
                  <a:pt x="217" y="1386"/>
                </a:lnTo>
                <a:lnTo>
                  <a:pt x="208" y="1406"/>
                </a:lnTo>
                <a:lnTo>
                  <a:pt x="193" y="1432"/>
                </a:lnTo>
                <a:lnTo>
                  <a:pt x="180" y="1468"/>
                </a:lnTo>
                <a:lnTo>
                  <a:pt x="175" y="1492"/>
                </a:lnTo>
                <a:lnTo>
                  <a:pt x="159" y="1508"/>
                </a:lnTo>
                <a:lnTo>
                  <a:pt x="150" y="1514"/>
                </a:lnTo>
                <a:lnTo>
                  <a:pt x="155" y="1533"/>
                </a:lnTo>
                <a:lnTo>
                  <a:pt x="149" y="1552"/>
                </a:lnTo>
                <a:lnTo>
                  <a:pt x="137" y="1580"/>
                </a:lnTo>
                <a:lnTo>
                  <a:pt x="135" y="1598"/>
                </a:lnTo>
                <a:lnTo>
                  <a:pt x="141" y="1613"/>
                </a:lnTo>
                <a:lnTo>
                  <a:pt x="128" y="1626"/>
                </a:lnTo>
                <a:lnTo>
                  <a:pt x="125" y="1639"/>
                </a:lnTo>
                <a:lnTo>
                  <a:pt x="122" y="1650"/>
                </a:lnTo>
                <a:lnTo>
                  <a:pt x="109" y="1655"/>
                </a:lnTo>
                <a:lnTo>
                  <a:pt x="106" y="1632"/>
                </a:lnTo>
                <a:lnTo>
                  <a:pt x="112" y="1611"/>
                </a:lnTo>
                <a:lnTo>
                  <a:pt x="120" y="1594"/>
                </a:lnTo>
                <a:lnTo>
                  <a:pt x="106" y="1587"/>
                </a:lnTo>
                <a:lnTo>
                  <a:pt x="115" y="1580"/>
                </a:lnTo>
                <a:lnTo>
                  <a:pt x="118" y="1552"/>
                </a:lnTo>
                <a:lnTo>
                  <a:pt x="128" y="1524"/>
                </a:lnTo>
                <a:lnTo>
                  <a:pt x="122" y="1505"/>
                </a:lnTo>
                <a:lnTo>
                  <a:pt x="135" y="1502"/>
                </a:lnTo>
                <a:lnTo>
                  <a:pt x="144" y="1476"/>
                </a:lnTo>
                <a:lnTo>
                  <a:pt x="150" y="1457"/>
                </a:lnTo>
                <a:lnTo>
                  <a:pt x="137" y="1437"/>
                </a:lnTo>
                <a:lnTo>
                  <a:pt x="138" y="1424"/>
                </a:lnTo>
                <a:lnTo>
                  <a:pt x="158" y="1437"/>
                </a:lnTo>
                <a:lnTo>
                  <a:pt x="182" y="1418"/>
                </a:lnTo>
                <a:lnTo>
                  <a:pt x="199" y="1375"/>
                </a:lnTo>
                <a:lnTo>
                  <a:pt x="213" y="1345"/>
                </a:lnTo>
                <a:lnTo>
                  <a:pt x="225" y="1342"/>
                </a:lnTo>
                <a:close/>
                <a:moveTo>
                  <a:pt x="280" y="1324"/>
                </a:moveTo>
                <a:lnTo>
                  <a:pt x="275" y="1269"/>
                </a:lnTo>
                <a:lnTo>
                  <a:pt x="295" y="1256"/>
                </a:lnTo>
                <a:lnTo>
                  <a:pt x="291" y="1220"/>
                </a:lnTo>
                <a:lnTo>
                  <a:pt x="302" y="1199"/>
                </a:lnTo>
                <a:lnTo>
                  <a:pt x="307" y="1189"/>
                </a:lnTo>
                <a:lnTo>
                  <a:pt x="305" y="1178"/>
                </a:lnTo>
                <a:lnTo>
                  <a:pt x="307" y="1160"/>
                </a:lnTo>
                <a:lnTo>
                  <a:pt x="331" y="1150"/>
                </a:lnTo>
                <a:lnTo>
                  <a:pt x="318" y="1200"/>
                </a:lnTo>
                <a:lnTo>
                  <a:pt x="324" y="1215"/>
                </a:lnTo>
                <a:lnTo>
                  <a:pt x="318" y="1241"/>
                </a:lnTo>
                <a:lnTo>
                  <a:pt x="312" y="1249"/>
                </a:lnTo>
                <a:lnTo>
                  <a:pt x="306" y="1278"/>
                </a:lnTo>
                <a:lnTo>
                  <a:pt x="296" y="1313"/>
                </a:lnTo>
                <a:lnTo>
                  <a:pt x="280" y="1324"/>
                </a:lnTo>
                <a:close/>
                <a:moveTo>
                  <a:pt x="391" y="953"/>
                </a:moveTo>
                <a:lnTo>
                  <a:pt x="401" y="945"/>
                </a:lnTo>
                <a:lnTo>
                  <a:pt x="404" y="930"/>
                </a:lnTo>
                <a:lnTo>
                  <a:pt x="407" y="903"/>
                </a:lnTo>
                <a:lnTo>
                  <a:pt x="413" y="873"/>
                </a:lnTo>
                <a:lnTo>
                  <a:pt x="418" y="877"/>
                </a:lnTo>
                <a:lnTo>
                  <a:pt x="419" y="898"/>
                </a:lnTo>
                <a:lnTo>
                  <a:pt x="417" y="921"/>
                </a:lnTo>
                <a:lnTo>
                  <a:pt x="412" y="946"/>
                </a:lnTo>
                <a:lnTo>
                  <a:pt x="400" y="960"/>
                </a:lnTo>
                <a:lnTo>
                  <a:pt x="389" y="955"/>
                </a:lnTo>
                <a:lnTo>
                  <a:pt x="391" y="953"/>
                </a:lnTo>
                <a:close/>
                <a:moveTo>
                  <a:pt x="411" y="823"/>
                </a:moveTo>
                <a:lnTo>
                  <a:pt x="416" y="817"/>
                </a:lnTo>
                <a:lnTo>
                  <a:pt x="424" y="823"/>
                </a:lnTo>
                <a:lnTo>
                  <a:pt x="411" y="829"/>
                </a:lnTo>
                <a:lnTo>
                  <a:pt x="411" y="823"/>
                </a:lnTo>
                <a:close/>
                <a:moveTo>
                  <a:pt x="423" y="717"/>
                </a:moveTo>
                <a:lnTo>
                  <a:pt x="428" y="712"/>
                </a:lnTo>
                <a:lnTo>
                  <a:pt x="435" y="725"/>
                </a:lnTo>
                <a:lnTo>
                  <a:pt x="430" y="733"/>
                </a:lnTo>
                <a:lnTo>
                  <a:pt x="423" y="717"/>
                </a:lnTo>
                <a:close/>
                <a:moveTo>
                  <a:pt x="404" y="658"/>
                </a:moveTo>
                <a:lnTo>
                  <a:pt x="400" y="654"/>
                </a:lnTo>
                <a:lnTo>
                  <a:pt x="415" y="649"/>
                </a:lnTo>
                <a:lnTo>
                  <a:pt x="420" y="658"/>
                </a:lnTo>
                <a:lnTo>
                  <a:pt x="404" y="658"/>
                </a:lnTo>
                <a:close/>
                <a:moveTo>
                  <a:pt x="411" y="493"/>
                </a:moveTo>
                <a:lnTo>
                  <a:pt x="413" y="469"/>
                </a:lnTo>
                <a:lnTo>
                  <a:pt x="409" y="461"/>
                </a:lnTo>
                <a:lnTo>
                  <a:pt x="419" y="455"/>
                </a:lnTo>
                <a:lnTo>
                  <a:pt x="422" y="463"/>
                </a:lnTo>
                <a:lnTo>
                  <a:pt x="419" y="491"/>
                </a:lnTo>
                <a:lnTo>
                  <a:pt x="411" y="493"/>
                </a:lnTo>
                <a:close/>
                <a:moveTo>
                  <a:pt x="425" y="404"/>
                </a:moveTo>
                <a:lnTo>
                  <a:pt x="416" y="395"/>
                </a:lnTo>
                <a:lnTo>
                  <a:pt x="426" y="393"/>
                </a:lnTo>
                <a:lnTo>
                  <a:pt x="425" y="404"/>
                </a:lnTo>
                <a:close/>
                <a:moveTo>
                  <a:pt x="411" y="358"/>
                </a:moveTo>
                <a:lnTo>
                  <a:pt x="405" y="344"/>
                </a:lnTo>
                <a:lnTo>
                  <a:pt x="399" y="312"/>
                </a:lnTo>
                <a:lnTo>
                  <a:pt x="399" y="301"/>
                </a:lnTo>
                <a:lnTo>
                  <a:pt x="409" y="301"/>
                </a:lnTo>
                <a:lnTo>
                  <a:pt x="416" y="335"/>
                </a:lnTo>
                <a:lnTo>
                  <a:pt x="426" y="342"/>
                </a:lnTo>
                <a:lnTo>
                  <a:pt x="428" y="355"/>
                </a:lnTo>
                <a:lnTo>
                  <a:pt x="420" y="363"/>
                </a:lnTo>
                <a:lnTo>
                  <a:pt x="411" y="358"/>
                </a:lnTo>
                <a:close/>
                <a:moveTo>
                  <a:pt x="360" y="170"/>
                </a:moveTo>
                <a:lnTo>
                  <a:pt x="374" y="162"/>
                </a:lnTo>
                <a:lnTo>
                  <a:pt x="372" y="146"/>
                </a:lnTo>
                <a:lnTo>
                  <a:pt x="384" y="132"/>
                </a:lnTo>
                <a:lnTo>
                  <a:pt x="392" y="121"/>
                </a:lnTo>
                <a:lnTo>
                  <a:pt x="389" y="96"/>
                </a:lnTo>
                <a:lnTo>
                  <a:pt x="379" y="69"/>
                </a:lnTo>
                <a:lnTo>
                  <a:pt x="379" y="43"/>
                </a:lnTo>
                <a:lnTo>
                  <a:pt x="395" y="50"/>
                </a:lnTo>
                <a:lnTo>
                  <a:pt x="412" y="62"/>
                </a:lnTo>
                <a:lnTo>
                  <a:pt x="422" y="92"/>
                </a:lnTo>
                <a:lnTo>
                  <a:pt x="422" y="122"/>
                </a:lnTo>
                <a:lnTo>
                  <a:pt x="428" y="145"/>
                </a:lnTo>
                <a:lnTo>
                  <a:pt x="412" y="163"/>
                </a:lnTo>
                <a:lnTo>
                  <a:pt x="409" y="194"/>
                </a:lnTo>
                <a:lnTo>
                  <a:pt x="410" y="206"/>
                </a:lnTo>
                <a:lnTo>
                  <a:pt x="391" y="202"/>
                </a:lnTo>
                <a:lnTo>
                  <a:pt x="360" y="170"/>
                </a:lnTo>
                <a:close/>
                <a:moveTo>
                  <a:pt x="398" y="34"/>
                </a:moveTo>
                <a:lnTo>
                  <a:pt x="400" y="14"/>
                </a:lnTo>
                <a:lnTo>
                  <a:pt x="409" y="0"/>
                </a:lnTo>
                <a:lnTo>
                  <a:pt x="423" y="8"/>
                </a:lnTo>
                <a:lnTo>
                  <a:pt x="425" y="18"/>
                </a:lnTo>
                <a:lnTo>
                  <a:pt x="428" y="37"/>
                </a:lnTo>
                <a:lnTo>
                  <a:pt x="398" y="34"/>
                </a:lnTo>
                <a:close/>
                <a:moveTo>
                  <a:pt x="324" y="68"/>
                </a:moveTo>
                <a:lnTo>
                  <a:pt x="314" y="63"/>
                </a:lnTo>
                <a:lnTo>
                  <a:pt x="319" y="56"/>
                </a:lnTo>
                <a:lnTo>
                  <a:pt x="325" y="51"/>
                </a:lnTo>
                <a:lnTo>
                  <a:pt x="335" y="55"/>
                </a:lnTo>
                <a:lnTo>
                  <a:pt x="333" y="62"/>
                </a:lnTo>
                <a:lnTo>
                  <a:pt x="324" y="68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96160" y="4205160"/>
            <a:ext cx="17640" cy="20880"/>
          </a:xfrm>
          <a:custGeom>
            <a:avLst/>
            <a:gdLst/>
            <a:ahLst/>
            <a:rect l="l" t="t" r="r" b="b"/>
            <a:pathLst>
              <a:path w="38" h="37">
                <a:moveTo>
                  <a:pt x="21" y="0"/>
                </a:moveTo>
                <a:lnTo>
                  <a:pt x="38" y="5"/>
                </a:lnTo>
                <a:lnTo>
                  <a:pt x="19" y="37"/>
                </a:lnTo>
                <a:lnTo>
                  <a:pt x="0" y="29"/>
                </a:lnTo>
                <a:lnTo>
                  <a:pt x="21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21640" y="4167360"/>
            <a:ext cx="41400" cy="102960"/>
          </a:xfrm>
          <a:custGeom>
            <a:avLst/>
            <a:gdLst/>
            <a:ahLst/>
            <a:rect l="l" t="t" r="r" b="b"/>
            <a:pathLst>
              <a:path w="79" h="199">
                <a:moveTo>
                  <a:pt x="73" y="0"/>
                </a:moveTo>
                <a:lnTo>
                  <a:pt x="79" y="9"/>
                </a:lnTo>
                <a:lnTo>
                  <a:pt x="64" y="22"/>
                </a:lnTo>
                <a:lnTo>
                  <a:pt x="65" y="41"/>
                </a:lnTo>
                <a:lnTo>
                  <a:pt x="44" y="59"/>
                </a:lnTo>
                <a:lnTo>
                  <a:pt x="42" y="82"/>
                </a:lnTo>
                <a:lnTo>
                  <a:pt x="33" y="122"/>
                </a:lnTo>
                <a:lnTo>
                  <a:pt x="32" y="143"/>
                </a:lnTo>
                <a:lnTo>
                  <a:pt x="25" y="176"/>
                </a:lnTo>
                <a:lnTo>
                  <a:pt x="31" y="191"/>
                </a:lnTo>
                <a:lnTo>
                  <a:pt x="15" y="199"/>
                </a:lnTo>
                <a:lnTo>
                  <a:pt x="0" y="176"/>
                </a:lnTo>
                <a:lnTo>
                  <a:pt x="19" y="126"/>
                </a:lnTo>
                <a:lnTo>
                  <a:pt x="15" y="82"/>
                </a:lnTo>
                <a:lnTo>
                  <a:pt x="20" y="59"/>
                </a:lnTo>
                <a:lnTo>
                  <a:pt x="20" y="19"/>
                </a:lnTo>
                <a:lnTo>
                  <a:pt x="51" y="20"/>
                </a:lnTo>
                <a:lnTo>
                  <a:pt x="73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77440" y="3994200"/>
            <a:ext cx="69840" cy="163440"/>
          </a:xfrm>
          <a:custGeom>
            <a:avLst/>
            <a:gdLst/>
            <a:ahLst/>
            <a:rect l="l" t="t" r="r" b="b"/>
            <a:pathLst>
              <a:path w="137" h="313">
                <a:moveTo>
                  <a:pt x="119" y="0"/>
                </a:moveTo>
                <a:lnTo>
                  <a:pt x="120" y="10"/>
                </a:lnTo>
                <a:lnTo>
                  <a:pt x="137" y="15"/>
                </a:lnTo>
                <a:lnTo>
                  <a:pt x="128" y="35"/>
                </a:lnTo>
                <a:lnTo>
                  <a:pt x="111" y="44"/>
                </a:lnTo>
                <a:lnTo>
                  <a:pt x="102" y="64"/>
                </a:lnTo>
                <a:lnTo>
                  <a:pt x="87" y="90"/>
                </a:lnTo>
                <a:lnTo>
                  <a:pt x="74" y="126"/>
                </a:lnTo>
                <a:lnTo>
                  <a:pt x="69" y="150"/>
                </a:lnTo>
                <a:lnTo>
                  <a:pt x="53" y="166"/>
                </a:lnTo>
                <a:lnTo>
                  <a:pt x="44" y="172"/>
                </a:lnTo>
                <a:lnTo>
                  <a:pt x="49" y="191"/>
                </a:lnTo>
                <a:lnTo>
                  <a:pt x="43" y="210"/>
                </a:lnTo>
                <a:lnTo>
                  <a:pt x="31" y="238"/>
                </a:lnTo>
                <a:lnTo>
                  <a:pt x="29" y="256"/>
                </a:lnTo>
                <a:lnTo>
                  <a:pt x="35" y="271"/>
                </a:lnTo>
                <a:lnTo>
                  <a:pt x="22" y="284"/>
                </a:lnTo>
                <a:lnTo>
                  <a:pt x="19" y="297"/>
                </a:lnTo>
                <a:lnTo>
                  <a:pt x="16" y="308"/>
                </a:lnTo>
                <a:lnTo>
                  <a:pt x="3" y="313"/>
                </a:lnTo>
                <a:lnTo>
                  <a:pt x="0" y="290"/>
                </a:lnTo>
                <a:lnTo>
                  <a:pt x="6" y="269"/>
                </a:lnTo>
                <a:lnTo>
                  <a:pt x="14" y="252"/>
                </a:lnTo>
                <a:lnTo>
                  <a:pt x="0" y="245"/>
                </a:lnTo>
                <a:lnTo>
                  <a:pt x="9" y="238"/>
                </a:lnTo>
                <a:lnTo>
                  <a:pt x="12" y="210"/>
                </a:lnTo>
                <a:lnTo>
                  <a:pt x="22" y="182"/>
                </a:lnTo>
                <a:lnTo>
                  <a:pt x="16" y="163"/>
                </a:lnTo>
                <a:lnTo>
                  <a:pt x="29" y="160"/>
                </a:lnTo>
                <a:lnTo>
                  <a:pt x="38" y="134"/>
                </a:lnTo>
                <a:lnTo>
                  <a:pt x="44" y="115"/>
                </a:lnTo>
                <a:lnTo>
                  <a:pt x="31" y="95"/>
                </a:lnTo>
                <a:lnTo>
                  <a:pt x="32" y="82"/>
                </a:lnTo>
                <a:lnTo>
                  <a:pt x="52" y="95"/>
                </a:lnTo>
                <a:lnTo>
                  <a:pt x="76" y="76"/>
                </a:lnTo>
                <a:lnTo>
                  <a:pt x="93" y="33"/>
                </a:lnTo>
                <a:lnTo>
                  <a:pt x="107" y="3"/>
                </a:lnTo>
                <a:lnTo>
                  <a:pt x="119" y="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764560" y="3894120"/>
            <a:ext cx="28440" cy="92160"/>
          </a:xfrm>
          <a:custGeom>
            <a:avLst/>
            <a:gdLst/>
            <a:ahLst/>
            <a:rect l="l" t="t" r="r" b="b"/>
            <a:pathLst>
              <a:path w="56" h="174">
                <a:moveTo>
                  <a:pt x="5" y="174"/>
                </a:moveTo>
                <a:lnTo>
                  <a:pt x="0" y="119"/>
                </a:lnTo>
                <a:lnTo>
                  <a:pt x="20" y="106"/>
                </a:lnTo>
                <a:lnTo>
                  <a:pt x="16" y="70"/>
                </a:lnTo>
                <a:lnTo>
                  <a:pt x="27" y="49"/>
                </a:lnTo>
                <a:lnTo>
                  <a:pt x="32" y="39"/>
                </a:lnTo>
                <a:lnTo>
                  <a:pt x="30" y="28"/>
                </a:lnTo>
                <a:lnTo>
                  <a:pt x="32" y="10"/>
                </a:lnTo>
                <a:lnTo>
                  <a:pt x="56" y="0"/>
                </a:lnTo>
                <a:lnTo>
                  <a:pt x="43" y="50"/>
                </a:lnTo>
                <a:lnTo>
                  <a:pt x="49" y="65"/>
                </a:lnTo>
                <a:lnTo>
                  <a:pt x="43" y="91"/>
                </a:lnTo>
                <a:lnTo>
                  <a:pt x="37" y="99"/>
                </a:lnTo>
                <a:lnTo>
                  <a:pt x="31" y="128"/>
                </a:lnTo>
                <a:lnTo>
                  <a:pt x="21" y="163"/>
                </a:lnTo>
                <a:lnTo>
                  <a:pt x="5" y="17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823240" y="3753000"/>
            <a:ext cx="15840" cy="44280"/>
          </a:xfrm>
          <a:custGeom>
            <a:avLst/>
            <a:gdLst/>
            <a:ahLst/>
            <a:rect l="l" t="t" r="r" b="b"/>
            <a:pathLst>
              <a:path w="30" h="87">
                <a:moveTo>
                  <a:pt x="2" y="80"/>
                </a:moveTo>
                <a:lnTo>
                  <a:pt x="12" y="72"/>
                </a:lnTo>
                <a:lnTo>
                  <a:pt x="15" y="57"/>
                </a:lnTo>
                <a:lnTo>
                  <a:pt x="18" y="30"/>
                </a:lnTo>
                <a:lnTo>
                  <a:pt x="24" y="0"/>
                </a:lnTo>
                <a:lnTo>
                  <a:pt x="29" y="4"/>
                </a:lnTo>
                <a:lnTo>
                  <a:pt x="30" y="25"/>
                </a:lnTo>
                <a:lnTo>
                  <a:pt x="28" y="48"/>
                </a:lnTo>
                <a:lnTo>
                  <a:pt x="23" y="73"/>
                </a:lnTo>
                <a:lnTo>
                  <a:pt x="11" y="87"/>
                </a:lnTo>
                <a:lnTo>
                  <a:pt x="0" y="82"/>
                </a:lnTo>
                <a:lnTo>
                  <a:pt x="2" y="80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834400" y="3722760"/>
            <a:ext cx="7920" cy="612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6"/>
                </a:moveTo>
                <a:lnTo>
                  <a:pt x="5" y="0"/>
                </a:lnTo>
                <a:lnTo>
                  <a:pt x="13" y="6"/>
                </a:lnTo>
                <a:lnTo>
                  <a:pt x="0" y="12"/>
                </a:lnTo>
                <a:lnTo>
                  <a:pt x="0" y="6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40880" y="3668760"/>
            <a:ext cx="6120" cy="11160"/>
          </a:xfrm>
          <a:custGeom>
            <a:avLst/>
            <a:gdLst/>
            <a:ahLst/>
            <a:rect l="l" t="t" r="r" b="b"/>
            <a:pathLst>
              <a:path w="12" h="21">
                <a:moveTo>
                  <a:pt x="0" y="5"/>
                </a:moveTo>
                <a:lnTo>
                  <a:pt x="5" y="0"/>
                </a:lnTo>
                <a:lnTo>
                  <a:pt x="12" y="13"/>
                </a:lnTo>
                <a:lnTo>
                  <a:pt x="7" y="21"/>
                </a:lnTo>
                <a:lnTo>
                  <a:pt x="0" y="5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29720" y="3637080"/>
            <a:ext cx="11160" cy="2880"/>
          </a:xfrm>
          <a:custGeom>
            <a:avLst/>
            <a:gdLst/>
            <a:ahLst/>
            <a:rect l="l" t="t" r="r" b="b"/>
            <a:pathLst>
              <a:path w="20" h="9">
                <a:moveTo>
                  <a:pt x="4" y="9"/>
                </a:moveTo>
                <a:lnTo>
                  <a:pt x="0" y="5"/>
                </a:lnTo>
                <a:lnTo>
                  <a:pt x="15" y="0"/>
                </a:lnTo>
                <a:lnTo>
                  <a:pt x="20" y="9"/>
                </a:lnTo>
                <a:lnTo>
                  <a:pt x="4" y="9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34400" y="3537000"/>
            <a:ext cx="6480" cy="19080"/>
          </a:xfrm>
          <a:custGeom>
            <a:avLst/>
            <a:gdLst/>
            <a:ahLst/>
            <a:rect l="l" t="t" r="r" b="b"/>
            <a:pathLst>
              <a:path w="13" h="38">
                <a:moveTo>
                  <a:pt x="2" y="38"/>
                </a:moveTo>
                <a:lnTo>
                  <a:pt x="4" y="14"/>
                </a:lnTo>
                <a:lnTo>
                  <a:pt x="0" y="6"/>
                </a:lnTo>
                <a:lnTo>
                  <a:pt x="10" y="0"/>
                </a:lnTo>
                <a:lnTo>
                  <a:pt x="13" y="8"/>
                </a:lnTo>
                <a:lnTo>
                  <a:pt x="10" y="36"/>
                </a:lnTo>
                <a:lnTo>
                  <a:pt x="2" y="38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36200" y="3503520"/>
            <a:ext cx="6120" cy="6480"/>
          </a:xfrm>
          <a:custGeom>
            <a:avLst/>
            <a:gdLst/>
            <a:ahLst/>
            <a:rect l="l" t="t" r="r" b="b"/>
            <a:pathLst>
              <a:path w="10" h="11">
                <a:moveTo>
                  <a:pt x="9" y="11"/>
                </a:moveTo>
                <a:lnTo>
                  <a:pt x="0" y="2"/>
                </a:lnTo>
                <a:lnTo>
                  <a:pt x="10" y="0"/>
                </a:lnTo>
                <a:lnTo>
                  <a:pt x="9" y="11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827920" y="3456000"/>
            <a:ext cx="14400" cy="33480"/>
          </a:xfrm>
          <a:custGeom>
            <a:avLst/>
            <a:gdLst/>
            <a:ahLst/>
            <a:rect l="l" t="t" r="r" b="b"/>
            <a:pathLst>
              <a:path w="29" h="62">
                <a:moveTo>
                  <a:pt x="12" y="57"/>
                </a:moveTo>
                <a:lnTo>
                  <a:pt x="6" y="43"/>
                </a:lnTo>
                <a:lnTo>
                  <a:pt x="0" y="11"/>
                </a:lnTo>
                <a:lnTo>
                  <a:pt x="0" y="0"/>
                </a:lnTo>
                <a:lnTo>
                  <a:pt x="10" y="0"/>
                </a:lnTo>
                <a:lnTo>
                  <a:pt x="17" y="34"/>
                </a:lnTo>
                <a:lnTo>
                  <a:pt x="27" y="41"/>
                </a:lnTo>
                <a:lnTo>
                  <a:pt x="29" y="54"/>
                </a:lnTo>
                <a:lnTo>
                  <a:pt x="21" y="62"/>
                </a:lnTo>
                <a:lnTo>
                  <a:pt x="12" y="5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07400" y="3324240"/>
            <a:ext cx="34920" cy="82440"/>
          </a:xfrm>
          <a:custGeom>
            <a:avLst/>
            <a:gdLst/>
            <a:ahLst/>
            <a:rect l="l" t="t" r="r" b="b"/>
            <a:pathLst>
              <a:path w="68" h="163">
                <a:moveTo>
                  <a:pt x="0" y="127"/>
                </a:moveTo>
                <a:lnTo>
                  <a:pt x="14" y="119"/>
                </a:lnTo>
                <a:lnTo>
                  <a:pt x="12" y="103"/>
                </a:lnTo>
                <a:lnTo>
                  <a:pt x="24" y="89"/>
                </a:lnTo>
                <a:lnTo>
                  <a:pt x="32" y="78"/>
                </a:lnTo>
                <a:lnTo>
                  <a:pt x="29" y="53"/>
                </a:lnTo>
                <a:lnTo>
                  <a:pt x="19" y="26"/>
                </a:lnTo>
                <a:lnTo>
                  <a:pt x="19" y="0"/>
                </a:lnTo>
                <a:lnTo>
                  <a:pt x="35" y="7"/>
                </a:lnTo>
                <a:lnTo>
                  <a:pt x="52" y="19"/>
                </a:lnTo>
                <a:lnTo>
                  <a:pt x="62" y="49"/>
                </a:lnTo>
                <a:lnTo>
                  <a:pt x="62" y="79"/>
                </a:lnTo>
                <a:lnTo>
                  <a:pt x="68" y="102"/>
                </a:lnTo>
                <a:lnTo>
                  <a:pt x="52" y="120"/>
                </a:lnTo>
                <a:lnTo>
                  <a:pt x="49" y="151"/>
                </a:lnTo>
                <a:lnTo>
                  <a:pt x="50" y="163"/>
                </a:lnTo>
                <a:lnTo>
                  <a:pt x="31" y="159"/>
                </a:lnTo>
                <a:lnTo>
                  <a:pt x="0" y="12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27920" y="3301920"/>
            <a:ext cx="14400" cy="17640"/>
          </a:xfrm>
          <a:custGeom>
            <a:avLst/>
            <a:gdLst/>
            <a:ahLst/>
            <a:rect l="l" t="t" r="r" b="b"/>
            <a:pathLst>
              <a:path w="30" h="37">
                <a:moveTo>
                  <a:pt x="0" y="34"/>
                </a:moveTo>
                <a:lnTo>
                  <a:pt x="2" y="14"/>
                </a:lnTo>
                <a:lnTo>
                  <a:pt x="11" y="0"/>
                </a:lnTo>
                <a:lnTo>
                  <a:pt x="25" y="8"/>
                </a:lnTo>
                <a:lnTo>
                  <a:pt x="27" y="18"/>
                </a:lnTo>
                <a:lnTo>
                  <a:pt x="30" y="37"/>
                </a:lnTo>
                <a:lnTo>
                  <a:pt x="0" y="3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785080" y="3328920"/>
            <a:ext cx="9720" cy="7920"/>
          </a:xfrm>
          <a:custGeom>
            <a:avLst/>
            <a:gdLst/>
            <a:ahLst/>
            <a:rect l="l" t="t" r="r" b="b"/>
            <a:pathLst>
              <a:path w="21" h="17">
                <a:moveTo>
                  <a:pt x="10" y="17"/>
                </a:moveTo>
                <a:lnTo>
                  <a:pt x="0" y="12"/>
                </a:lnTo>
                <a:lnTo>
                  <a:pt x="5" y="5"/>
                </a:lnTo>
                <a:lnTo>
                  <a:pt x="11" y="0"/>
                </a:lnTo>
                <a:lnTo>
                  <a:pt x="21" y="4"/>
                </a:lnTo>
                <a:lnTo>
                  <a:pt x="19" y="11"/>
                </a:lnTo>
                <a:lnTo>
                  <a:pt x="10" y="1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35400" y="1778040"/>
            <a:ext cx="195480" cy="212760"/>
          </a:xfrm>
          <a:custGeom>
            <a:avLst/>
            <a:gdLst/>
            <a:ahLst/>
            <a:rect l="l" t="t" r="r" b="b"/>
            <a:pathLst>
              <a:path w="374" h="411">
                <a:moveTo>
                  <a:pt x="277" y="387"/>
                </a:moveTo>
                <a:lnTo>
                  <a:pt x="311" y="373"/>
                </a:lnTo>
                <a:lnTo>
                  <a:pt x="317" y="362"/>
                </a:lnTo>
                <a:lnTo>
                  <a:pt x="346" y="348"/>
                </a:lnTo>
                <a:lnTo>
                  <a:pt x="370" y="374"/>
                </a:lnTo>
                <a:lnTo>
                  <a:pt x="374" y="399"/>
                </a:lnTo>
                <a:lnTo>
                  <a:pt x="325" y="411"/>
                </a:lnTo>
                <a:lnTo>
                  <a:pt x="297" y="406"/>
                </a:lnTo>
                <a:lnTo>
                  <a:pt x="277" y="387"/>
                </a:lnTo>
                <a:close/>
                <a:moveTo>
                  <a:pt x="212" y="223"/>
                </a:moveTo>
                <a:lnTo>
                  <a:pt x="203" y="187"/>
                </a:lnTo>
                <a:lnTo>
                  <a:pt x="213" y="170"/>
                </a:lnTo>
                <a:lnTo>
                  <a:pt x="231" y="174"/>
                </a:lnTo>
                <a:lnTo>
                  <a:pt x="240" y="187"/>
                </a:lnTo>
                <a:lnTo>
                  <a:pt x="225" y="205"/>
                </a:lnTo>
                <a:lnTo>
                  <a:pt x="212" y="223"/>
                </a:lnTo>
                <a:close/>
                <a:moveTo>
                  <a:pt x="0" y="51"/>
                </a:moveTo>
                <a:lnTo>
                  <a:pt x="21" y="36"/>
                </a:lnTo>
                <a:lnTo>
                  <a:pt x="33" y="0"/>
                </a:lnTo>
                <a:lnTo>
                  <a:pt x="67" y="4"/>
                </a:lnTo>
                <a:lnTo>
                  <a:pt x="95" y="12"/>
                </a:lnTo>
                <a:lnTo>
                  <a:pt x="104" y="25"/>
                </a:lnTo>
                <a:lnTo>
                  <a:pt x="75" y="52"/>
                </a:lnTo>
                <a:lnTo>
                  <a:pt x="86" y="62"/>
                </a:lnTo>
                <a:lnTo>
                  <a:pt x="100" y="56"/>
                </a:lnTo>
                <a:lnTo>
                  <a:pt x="99" y="83"/>
                </a:lnTo>
                <a:lnTo>
                  <a:pt x="77" y="81"/>
                </a:lnTo>
                <a:lnTo>
                  <a:pt x="40" y="76"/>
                </a:lnTo>
                <a:lnTo>
                  <a:pt x="9" y="70"/>
                </a:lnTo>
                <a:lnTo>
                  <a:pt x="0" y="51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78320" y="1957320"/>
            <a:ext cx="52560" cy="33480"/>
          </a:xfrm>
          <a:custGeom>
            <a:avLst/>
            <a:gdLst/>
            <a:ahLst/>
            <a:rect l="l" t="t" r="r" b="b"/>
            <a:pathLst>
              <a:path w="97" h="63">
                <a:moveTo>
                  <a:pt x="0" y="39"/>
                </a:moveTo>
                <a:lnTo>
                  <a:pt x="34" y="25"/>
                </a:lnTo>
                <a:lnTo>
                  <a:pt x="40" y="14"/>
                </a:lnTo>
                <a:lnTo>
                  <a:pt x="69" y="0"/>
                </a:lnTo>
                <a:lnTo>
                  <a:pt x="93" y="26"/>
                </a:lnTo>
                <a:lnTo>
                  <a:pt x="97" y="51"/>
                </a:lnTo>
                <a:lnTo>
                  <a:pt x="48" y="63"/>
                </a:lnTo>
                <a:lnTo>
                  <a:pt x="20" y="58"/>
                </a:lnTo>
                <a:lnTo>
                  <a:pt x="0" y="39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41960" y="1866960"/>
            <a:ext cx="17280" cy="27000"/>
          </a:xfrm>
          <a:custGeom>
            <a:avLst/>
            <a:gdLst/>
            <a:ahLst/>
            <a:rect l="l" t="t" r="r" b="b"/>
            <a:pathLst>
              <a:path w="37" h="53">
                <a:moveTo>
                  <a:pt x="9" y="53"/>
                </a:moveTo>
                <a:lnTo>
                  <a:pt x="0" y="17"/>
                </a:lnTo>
                <a:lnTo>
                  <a:pt x="10" y="0"/>
                </a:lnTo>
                <a:lnTo>
                  <a:pt x="28" y="4"/>
                </a:lnTo>
                <a:lnTo>
                  <a:pt x="37" y="17"/>
                </a:lnTo>
                <a:lnTo>
                  <a:pt x="22" y="35"/>
                </a:lnTo>
                <a:lnTo>
                  <a:pt x="9" y="53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35400" y="1778040"/>
            <a:ext cx="54000" cy="42840"/>
          </a:xfrm>
          <a:custGeom>
            <a:avLst/>
            <a:gdLst/>
            <a:ahLst/>
            <a:rect l="l" t="t" r="r" b="b"/>
            <a:pathLst>
              <a:path w="104" h="83">
                <a:moveTo>
                  <a:pt x="0" y="51"/>
                </a:moveTo>
                <a:lnTo>
                  <a:pt x="21" y="36"/>
                </a:lnTo>
                <a:lnTo>
                  <a:pt x="33" y="0"/>
                </a:lnTo>
                <a:lnTo>
                  <a:pt x="67" y="4"/>
                </a:lnTo>
                <a:lnTo>
                  <a:pt x="95" y="12"/>
                </a:lnTo>
                <a:lnTo>
                  <a:pt x="104" y="25"/>
                </a:lnTo>
                <a:lnTo>
                  <a:pt x="75" y="52"/>
                </a:lnTo>
                <a:lnTo>
                  <a:pt x="86" y="62"/>
                </a:lnTo>
                <a:lnTo>
                  <a:pt x="100" y="56"/>
                </a:lnTo>
                <a:lnTo>
                  <a:pt x="99" y="83"/>
                </a:lnTo>
                <a:lnTo>
                  <a:pt x="77" y="81"/>
                </a:lnTo>
                <a:lnTo>
                  <a:pt x="40" y="76"/>
                </a:lnTo>
                <a:lnTo>
                  <a:pt x="9" y="70"/>
                </a:lnTo>
                <a:lnTo>
                  <a:pt x="0" y="51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0160" y="1646280"/>
            <a:ext cx="371520" cy="261720"/>
          </a:xfrm>
          <a:custGeom>
            <a:avLst/>
            <a:gdLst/>
            <a:ahLst/>
            <a:rect l="l" t="t" r="r" b="b"/>
            <a:pathLst>
              <a:path w="722" h="507">
                <a:moveTo>
                  <a:pt x="0" y="94"/>
                </a:moveTo>
                <a:lnTo>
                  <a:pt x="4" y="57"/>
                </a:lnTo>
                <a:lnTo>
                  <a:pt x="29" y="33"/>
                </a:lnTo>
                <a:lnTo>
                  <a:pt x="69" y="8"/>
                </a:lnTo>
                <a:lnTo>
                  <a:pt x="110" y="0"/>
                </a:lnTo>
                <a:lnTo>
                  <a:pt x="134" y="15"/>
                </a:lnTo>
                <a:lnTo>
                  <a:pt x="141" y="45"/>
                </a:lnTo>
                <a:lnTo>
                  <a:pt x="143" y="57"/>
                </a:lnTo>
                <a:lnTo>
                  <a:pt x="144" y="110"/>
                </a:lnTo>
                <a:lnTo>
                  <a:pt x="135" y="131"/>
                </a:lnTo>
                <a:lnTo>
                  <a:pt x="96" y="126"/>
                </a:lnTo>
                <a:lnTo>
                  <a:pt x="43" y="129"/>
                </a:lnTo>
                <a:lnTo>
                  <a:pt x="0" y="94"/>
                </a:lnTo>
                <a:close/>
                <a:moveTo>
                  <a:pt x="652" y="475"/>
                </a:moveTo>
                <a:lnTo>
                  <a:pt x="662" y="473"/>
                </a:lnTo>
                <a:lnTo>
                  <a:pt x="664" y="448"/>
                </a:lnTo>
                <a:lnTo>
                  <a:pt x="642" y="429"/>
                </a:lnTo>
                <a:lnTo>
                  <a:pt x="639" y="392"/>
                </a:lnTo>
                <a:lnTo>
                  <a:pt x="654" y="376"/>
                </a:lnTo>
                <a:lnTo>
                  <a:pt x="657" y="359"/>
                </a:lnTo>
                <a:lnTo>
                  <a:pt x="671" y="374"/>
                </a:lnTo>
                <a:lnTo>
                  <a:pt x="676" y="351"/>
                </a:lnTo>
                <a:lnTo>
                  <a:pt x="693" y="348"/>
                </a:lnTo>
                <a:lnTo>
                  <a:pt x="711" y="350"/>
                </a:lnTo>
                <a:lnTo>
                  <a:pt x="713" y="377"/>
                </a:lnTo>
                <a:lnTo>
                  <a:pt x="711" y="405"/>
                </a:lnTo>
                <a:lnTo>
                  <a:pt x="713" y="424"/>
                </a:lnTo>
                <a:lnTo>
                  <a:pt x="720" y="464"/>
                </a:lnTo>
                <a:lnTo>
                  <a:pt x="722" y="483"/>
                </a:lnTo>
                <a:lnTo>
                  <a:pt x="707" y="505"/>
                </a:lnTo>
                <a:lnTo>
                  <a:pt x="685" y="507"/>
                </a:lnTo>
                <a:lnTo>
                  <a:pt x="658" y="501"/>
                </a:lnTo>
                <a:lnTo>
                  <a:pt x="652" y="47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40160" y="1646280"/>
            <a:ext cx="74520" cy="68400"/>
          </a:xfrm>
          <a:custGeom>
            <a:avLst/>
            <a:gdLst/>
            <a:ahLst/>
            <a:rect l="l" t="t" r="r" b="b"/>
            <a:pathLst>
              <a:path w="144" h="131">
                <a:moveTo>
                  <a:pt x="0" y="94"/>
                </a:moveTo>
                <a:lnTo>
                  <a:pt x="4" y="57"/>
                </a:lnTo>
                <a:lnTo>
                  <a:pt x="29" y="33"/>
                </a:lnTo>
                <a:lnTo>
                  <a:pt x="69" y="8"/>
                </a:lnTo>
                <a:lnTo>
                  <a:pt x="110" y="0"/>
                </a:lnTo>
                <a:lnTo>
                  <a:pt x="134" y="15"/>
                </a:lnTo>
                <a:lnTo>
                  <a:pt x="141" y="45"/>
                </a:lnTo>
                <a:lnTo>
                  <a:pt x="143" y="57"/>
                </a:lnTo>
                <a:lnTo>
                  <a:pt x="144" y="110"/>
                </a:lnTo>
                <a:lnTo>
                  <a:pt x="135" y="131"/>
                </a:lnTo>
                <a:lnTo>
                  <a:pt x="96" y="126"/>
                </a:lnTo>
                <a:lnTo>
                  <a:pt x="43" y="129"/>
                </a:lnTo>
                <a:lnTo>
                  <a:pt x="0" y="94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8840" y="1825560"/>
            <a:ext cx="42840" cy="82440"/>
          </a:xfrm>
          <a:custGeom>
            <a:avLst/>
            <a:gdLst/>
            <a:ahLst/>
            <a:rect l="l" t="t" r="r" b="b"/>
            <a:pathLst>
              <a:path w="83" h="159">
                <a:moveTo>
                  <a:pt x="13" y="127"/>
                </a:moveTo>
                <a:lnTo>
                  <a:pt x="23" y="125"/>
                </a:lnTo>
                <a:lnTo>
                  <a:pt x="25" y="100"/>
                </a:lnTo>
                <a:lnTo>
                  <a:pt x="3" y="81"/>
                </a:lnTo>
                <a:lnTo>
                  <a:pt x="0" y="44"/>
                </a:lnTo>
                <a:lnTo>
                  <a:pt x="15" y="28"/>
                </a:lnTo>
                <a:lnTo>
                  <a:pt x="18" y="11"/>
                </a:lnTo>
                <a:lnTo>
                  <a:pt x="32" y="26"/>
                </a:lnTo>
                <a:lnTo>
                  <a:pt x="37" y="3"/>
                </a:lnTo>
                <a:lnTo>
                  <a:pt x="54" y="0"/>
                </a:lnTo>
                <a:lnTo>
                  <a:pt x="72" y="2"/>
                </a:lnTo>
                <a:lnTo>
                  <a:pt x="74" y="29"/>
                </a:lnTo>
                <a:lnTo>
                  <a:pt x="72" y="57"/>
                </a:lnTo>
                <a:lnTo>
                  <a:pt x="74" y="76"/>
                </a:lnTo>
                <a:lnTo>
                  <a:pt x="81" y="116"/>
                </a:lnTo>
                <a:lnTo>
                  <a:pt x="83" y="135"/>
                </a:lnTo>
                <a:lnTo>
                  <a:pt x="68" y="157"/>
                </a:lnTo>
                <a:lnTo>
                  <a:pt x="46" y="159"/>
                </a:lnTo>
                <a:lnTo>
                  <a:pt x="19" y="153"/>
                </a:lnTo>
                <a:lnTo>
                  <a:pt x="13" y="127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03680" y="1390680"/>
            <a:ext cx="714600" cy="387360"/>
          </a:xfrm>
          <a:custGeom>
            <a:avLst/>
            <a:gdLst/>
            <a:ahLst/>
            <a:rect l="l" t="t" r="r" b="b"/>
            <a:pathLst>
              <a:path w="1381" h="751">
                <a:moveTo>
                  <a:pt x="105" y="293"/>
                </a:moveTo>
                <a:lnTo>
                  <a:pt x="111" y="319"/>
                </a:lnTo>
                <a:lnTo>
                  <a:pt x="148" y="305"/>
                </a:lnTo>
                <a:lnTo>
                  <a:pt x="177" y="287"/>
                </a:lnTo>
                <a:lnTo>
                  <a:pt x="199" y="277"/>
                </a:lnTo>
                <a:lnTo>
                  <a:pt x="221" y="266"/>
                </a:lnTo>
                <a:lnTo>
                  <a:pt x="206" y="234"/>
                </a:lnTo>
                <a:lnTo>
                  <a:pt x="236" y="225"/>
                </a:lnTo>
                <a:lnTo>
                  <a:pt x="259" y="229"/>
                </a:lnTo>
                <a:lnTo>
                  <a:pt x="264" y="246"/>
                </a:lnTo>
                <a:lnTo>
                  <a:pt x="279" y="242"/>
                </a:lnTo>
                <a:lnTo>
                  <a:pt x="292" y="211"/>
                </a:lnTo>
                <a:lnTo>
                  <a:pt x="304" y="205"/>
                </a:lnTo>
                <a:lnTo>
                  <a:pt x="323" y="207"/>
                </a:lnTo>
                <a:lnTo>
                  <a:pt x="341" y="205"/>
                </a:lnTo>
                <a:lnTo>
                  <a:pt x="351" y="222"/>
                </a:lnTo>
                <a:lnTo>
                  <a:pt x="371" y="228"/>
                </a:lnTo>
                <a:lnTo>
                  <a:pt x="370" y="211"/>
                </a:lnTo>
                <a:lnTo>
                  <a:pt x="384" y="210"/>
                </a:lnTo>
                <a:lnTo>
                  <a:pt x="390" y="199"/>
                </a:lnTo>
                <a:lnTo>
                  <a:pt x="405" y="197"/>
                </a:lnTo>
                <a:lnTo>
                  <a:pt x="434" y="200"/>
                </a:lnTo>
                <a:lnTo>
                  <a:pt x="459" y="200"/>
                </a:lnTo>
                <a:lnTo>
                  <a:pt x="435" y="180"/>
                </a:lnTo>
                <a:lnTo>
                  <a:pt x="410" y="181"/>
                </a:lnTo>
                <a:lnTo>
                  <a:pt x="401" y="168"/>
                </a:lnTo>
                <a:lnTo>
                  <a:pt x="405" y="136"/>
                </a:lnTo>
                <a:lnTo>
                  <a:pt x="436" y="137"/>
                </a:lnTo>
                <a:lnTo>
                  <a:pt x="460" y="139"/>
                </a:lnTo>
                <a:lnTo>
                  <a:pt x="476" y="145"/>
                </a:lnTo>
                <a:lnTo>
                  <a:pt x="478" y="131"/>
                </a:lnTo>
                <a:lnTo>
                  <a:pt x="509" y="130"/>
                </a:lnTo>
                <a:lnTo>
                  <a:pt x="533" y="160"/>
                </a:lnTo>
                <a:lnTo>
                  <a:pt x="532" y="122"/>
                </a:lnTo>
                <a:lnTo>
                  <a:pt x="535" y="114"/>
                </a:lnTo>
                <a:lnTo>
                  <a:pt x="552" y="131"/>
                </a:lnTo>
                <a:lnTo>
                  <a:pt x="550" y="107"/>
                </a:lnTo>
                <a:lnTo>
                  <a:pt x="559" y="103"/>
                </a:lnTo>
                <a:lnTo>
                  <a:pt x="597" y="123"/>
                </a:lnTo>
                <a:lnTo>
                  <a:pt x="601" y="105"/>
                </a:lnTo>
                <a:lnTo>
                  <a:pt x="590" y="88"/>
                </a:lnTo>
                <a:lnTo>
                  <a:pt x="597" y="72"/>
                </a:lnTo>
                <a:lnTo>
                  <a:pt x="609" y="74"/>
                </a:lnTo>
                <a:lnTo>
                  <a:pt x="632" y="92"/>
                </a:lnTo>
                <a:lnTo>
                  <a:pt x="648" y="101"/>
                </a:lnTo>
                <a:lnTo>
                  <a:pt x="655" y="81"/>
                </a:lnTo>
                <a:lnTo>
                  <a:pt x="632" y="72"/>
                </a:lnTo>
                <a:lnTo>
                  <a:pt x="636" y="58"/>
                </a:lnTo>
                <a:lnTo>
                  <a:pt x="650" y="60"/>
                </a:lnTo>
                <a:lnTo>
                  <a:pt x="680" y="63"/>
                </a:lnTo>
                <a:lnTo>
                  <a:pt x="682" y="42"/>
                </a:lnTo>
                <a:lnTo>
                  <a:pt x="663" y="35"/>
                </a:lnTo>
                <a:lnTo>
                  <a:pt x="674" y="20"/>
                </a:lnTo>
                <a:lnTo>
                  <a:pt x="671" y="8"/>
                </a:lnTo>
                <a:lnTo>
                  <a:pt x="690" y="2"/>
                </a:lnTo>
                <a:lnTo>
                  <a:pt x="692" y="14"/>
                </a:lnTo>
                <a:lnTo>
                  <a:pt x="701" y="16"/>
                </a:lnTo>
                <a:lnTo>
                  <a:pt x="698" y="35"/>
                </a:lnTo>
                <a:lnTo>
                  <a:pt x="731" y="29"/>
                </a:lnTo>
                <a:lnTo>
                  <a:pt x="733" y="16"/>
                </a:lnTo>
                <a:lnTo>
                  <a:pt x="754" y="10"/>
                </a:lnTo>
                <a:lnTo>
                  <a:pt x="762" y="21"/>
                </a:lnTo>
                <a:lnTo>
                  <a:pt x="772" y="38"/>
                </a:lnTo>
                <a:lnTo>
                  <a:pt x="791" y="10"/>
                </a:lnTo>
                <a:lnTo>
                  <a:pt x="828" y="17"/>
                </a:lnTo>
                <a:lnTo>
                  <a:pt x="834" y="2"/>
                </a:lnTo>
                <a:lnTo>
                  <a:pt x="861" y="7"/>
                </a:lnTo>
                <a:lnTo>
                  <a:pt x="885" y="0"/>
                </a:lnTo>
                <a:lnTo>
                  <a:pt x="912" y="5"/>
                </a:lnTo>
                <a:lnTo>
                  <a:pt x="944" y="20"/>
                </a:lnTo>
                <a:lnTo>
                  <a:pt x="958" y="6"/>
                </a:lnTo>
                <a:lnTo>
                  <a:pt x="977" y="6"/>
                </a:lnTo>
                <a:lnTo>
                  <a:pt x="983" y="13"/>
                </a:lnTo>
                <a:lnTo>
                  <a:pt x="974" y="25"/>
                </a:lnTo>
                <a:lnTo>
                  <a:pt x="985" y="29"/>
                </a:lnTo>
                <a:lnTo>
                  <a:pt x="1004" y="29"/>
                </a:lnTo>
                <a:lnTo>
                  <a:pt x="1003" y="16"/>
                </a:lnTo>
                <a:lnTo>
                  <a:pt x="1020" y="6"/>
                </a:lnTo>
                <a:lnTo>
                  <a:pt x="1042" y="13"/>
                </a:lnTo>
                <a:lnTo>
                  <a:pt x="1066" y="41"/>
                </a:lnTo>
                <a:lnTo>
                  <a:pt x="1061" y="54"/>
                </a:lnTo>
                <a:lnTo>
                  <a:pt x="1095" y="64"/>
                </a:lnTo>
                <a:lnTo>
                  <a:pt x="1133" y="70"/>
                </a:lnTo>
                <a:lnTo>
                  <a:pt x="1138" y="82"/>
                </a:lnTo>
                <a:lnTo>
                  <a:pt x="1170" y="86"/>
                </a:lnTo>
                <a:lnTo>
                  <a:pt x="1187" y="81"/>
                </a:lnTo>
                <a:lnTo>
                  <a:pt x="1216" y="79"/>
                </a:lnTo>
                <a:lnTo>
                  <a:pt x="1234" y="94"/>
                </a:lnTo>
                <a:lnTo>
                  <a:pt x="1250" y="68"/>
                </a:lnTo>
                <a:lnTo>
                  <a:pt x="1301" y="58"/>
                </a:lnTo>
                <a:lnTo>
                  <a:pt x="1348" y="58"/>
                </a:lnTo>
                <a:lnTo>
                  <a:pt x="1367" y="69"/>
                </a:lnTo>
                <a:lnTo>
                  <a:pt x="1381" y="101"/>
                </a:lnTo>
                <a:lnTo>
                  <a:pt x="1379" y="129"/>
                </a:lnTo>
                <a:lnTo>
                  <a:pt x="1363" y="156"/>
                </a:lnTo>
                <a:lnTo>
                  <a:pt x="1342" y="178"/>
                </a:lnTo>
                <a:lnTo>
                  <a:pt x="1309" y="194"/>
                </a:lnTo>
                <a:lnTo>
                  <a:pt x="1277" y="199"/>
                </a:lnTo>
                <a:lnTo>
                  <a:pt x="1213" y="200"/>
                </a:lnTo>
                <a:lnTo>
                  <a:pt x="1156" y="201"/>
                </a:lnTo>
                <a:lnTo>
                  <a:pt x="1090" y="195"/>
                </a:lnTo>
                <a:lnTo>
                  <a:pt x="1040" y="182"/>
                </a:lnTo>
                <a:lnTo>
                  <a:pt x="981" y="176"/>
                </a:lnTo>
                <a:lnTo>
                  <a:pt x="931" y="172"/>
                </a:lnTo>
                <a:lnTo>
                  <a:pt x="903" y="184"/>
                </a:lnTo>
                <a:lnTo>
                  <a:pt x="906" y="169"/>
                </a:lnTo>
                <a:lnTo>
                  <a:pt x="890" y="176"/>
                </a:lnTo>
                <a:lnTo>
                  <a:pt x="862" y="180"/>
                </a:lnTo>
                <a:lnTo>
                  <a:pt x="836" y="185"/>
                </a:lnTo>
                <a:lnTo>
                  <a:pt x="816" y="174"/>
                </a:lnTo>
                <a:lnTo>
                  <a:pt x="840" y="200"/>
                </a:lnTo>
                <a:lnTo>
                  <a:pt x="826" y="213"/>
                </a:lnTo>
                <a:lnTo>
                  <a:pt x="811" y="207"/>
                </a:lnTo>
                <a:lnTo>
                  <a:pt x="804" y="222"/>
                </a:lnTo>
                <a:lnTo>
                  <a:pt x="787" y="219"/>
                </a:lnTo>
                <a:lnTo>
                  <a:pt x="774" y="200"/>
                </a:lnTo>
                <a:lnTo>
                  <a:pt x="772" y="222"/>
                </a:lnTo>
                <a:lnTo>
                  <a:pt x="755" y="231"/>
                </a:lnTo>
                <a:lnTo>
                  <a:pt x="749" y="194"/>
                </a:lnTo>
                <a:lnTo>
                  <a:pt x="739" y="205"/>
                </a:lnTo>
                <a:lnTo>
                  <a:pt x="711" y="234"/>
                </a:lnTo>
                <a:lnTo>
                  <a:pt x="702" y="219"/>
                </a:lnTo>
                <a:lnTo>
                  <a:pt x="689" y="185"/>
                </a:lnTo>
                <a:lnTo>
                  <a:pt x="687" y="217"/>
                </a:lnTo>
                <a:lnTo>
                  <a:pt x="673" y="242"/>
                </a:lnTo>
                <a:lnTo>
                  <a:pt x="645" y="255"/>
                </a:lnTo>
                <a:lnTo>
                  <a:pt x="620" y="263"/>
                </a:lnTo>
                <a:lnTo>
                  <a:pt x="607" y="249"/>
                </a:lnTo>
                <a:lnTo>
                  <a:pt x="614" y="222"/>
                </a:lnTo>
                <a:lnTo>
                  <a:pt x="611" y="219"/>
                </a:lnTo>
                <a:lnTo>
                  <a:pt x="592" y="246"/>
                </a:lnTo>
                <a:lnTo>
                  <a:pt x="592" y="271"/>
                </a:lnTo>
                <a:lnTo>
                  <a:pt x="582" y="290"/>
                </a:lnTo>
                <a:lnTo>
                  <a:pt x="559" y="291"/>
                </a:lnTo>
                <a:lnTo>
                  <a:pt x="570" y="269"/>
                </a:lnTo>
                <a:lnTo>
                  <a:pt x="537" y="232"/>
                </a:lnTo>
                <a:lnTo>
                  <a:pt x="558" y="267"/>
                </a:lnTo>
                <a:lnTo>
                  <a:pt x="545" y="302"/>
                </a:lnTo>
                <a:lnTo>
                  <a:pt x="525" y="306"/>
                </a:lnTo>
                <a:lnTo>
                  <a:pt x="514" y="290"/>
                </a:lnTo>
                <a:lnTo>
                  <a:pt x="512" y="271"/>
                </a:lnTo>
                <a:lnTo>
                  <a:pt x="510" y="310"/>
                </a:lnTo>
                <a:lnTo>
                  <a:pt x="476" y="319"/>
                </a:lnTo>
                <a:lnTo>
                  <a:pt x="453" y="324"/>
                </a:lnTo>
                <a:lnTo>
                  <a:pt x="440" y="292"/>
                </a:lnTo>
                <a:lnTo>
                  <a:pt x="431" y="275"/>
                </a:lnTo>
                <a:lnTo>
                  <a:pt x="415" y="265"/>
                </a:lnTo>
                <a:lnTo>
                  <a:pt x="427" y="293"/>
                </a:lnTo>
                <a:lnTo>
                  <a:pt x="441" y="313"/>
                </a:lnTo>
                <a:lnTo>
                  <a:pt x="439" y="338"/>
                </a:lnTo>
                <a:lnTo>
                  <a:pt x="403" y="318"/>
                </a:lnTo>
                <a:lnTo>
                  <a:pt x="419" y="346"/>
                </a:lnTo>
                <a:lnTo>
                  <a:pt x="413" y="348"/>
                </a:lnTo>
                <a:lnTo>
                  <a:pt x="372" y="333"/>
                </a:lnTo>
                <a:lnTo>
                  <a:pt x="398" y="350"/>
                </a:lnTo>
                <a:lnTo>
                  <a:pt x="376" y="375"/>
                </a:lnTo>
                <a:lnTo>
                  <a:pt x="347" y="344"/>
                </a:lnTo>
                <a:lnTo>
                  <a:pt x="352" y="369"/>
                </a:lnTo>
                <a:lnTo>
                  <a:pt x="345" y="384"/>
                </a:lnTo>
                <a:lnTo>
                  <a:pt x="334" y="378"/>
                </a:lnTo>
                <a:lnTo>
                  <a:pt x="315" y="389"/>
                </a:lnTo>
                <a:lnTo>
                  <a:pt x="283" y="409"/>
                </a:lnTo>
                <a:lnTo>
                  <a:pt x="270" y="434"/>
                </a:lnTo>
                <a:lnTo>
                  <a:pt x="248" y="448"/>
                </a:lnTo>
                <a:lnTo>
                  <a:pt x="231" y="465"/>
                </a:lnTo>
                <a:lnTo>
                  <a:pt x="198" y="521"/>
                </a:lnTo>
                <a:lnTo>
                  <a:pt x="175" y="571"/>
                </a:lnTo>
                <a:lnTo>
                  <a:pt x="162" y="624"/>
                </a:lnTo>
                <a:lnTo>
                  <a:pt x="159" y="690"/>
                </a:lnTo>
                <a:lnTo>
                  <a:pt x="167" y="716"/>
                </a:lnTo>
                <a:lnTo>
                  <a:pt x="171" y="741"/>
                </a:lnTo>
                <a:lnTo>
                  <a:pt x="147" y="751"/>
                </a:lnTo>
                <a:lnTo>
                  <a:pt x="126" y="716"/>
                </a:lnTo>
                <a:lnTo>
                  <a:pt x="110" y="719"/>
                </a:lnTo>
                <a:lnTo>
                  <a:pt x="89" y="707"/>
                </a:lnTo>
                <a:lnTo>
                  <a:pt x="85" y="690"/>
                </a:lnTo>
                <a:lnTo>
                  <a:pt x="70" y="692"/>
                </a:lnTo>
                <a:lnTo>
                  <a:pt x="70" y="663"/>
                </a:lnTo>
                <a:lnTo>
                  <a:pt x="56" y="671"/>
                </a:lnTo>
                <a:lnTo>
                  <a:pt x="60" y="647"/>
                </a:lnTo>
                <a:lnTo>
                  <a:pt x="44" y="659"/>
                </a:lnTo>
                <a:lnTo>
                  <a:pt x="31" y="658"/>
                </a:lnTo>
                <a:lnTo>
                  <a:pt x="30" y="622"/>
                </a:lnTo>
                <a:lnTo>
                  <a:pt x="37" y="599"/>
                </a:lnTo>
                <a:lnTo>
                  <a:pt x="25" y="604"/>
                </a:lnTo>
                <a:lnTo>
                  <a:pt x="10" y="573"/>
                </a:lnTo>
                <a:lnTo>
                  <a:pt x="0" y="547"/>
                </a:lnTo>
                <a:lnTo>
                  <a:pt x="18" y="537"/>
                </a:lnTo>
                <a:lnTo>
                  <a:pt x="26" y="529"/>
                </a:lnTo>
                <a:lnTo>
                  <a:pt x="29" y="510"/>
                </a:lnTo>
                <a:lnTo>
                  <a:pt x="43" y="532"/>
                </a:lnTo>
                <a:lnTo>
                  <a:pt x="64" y="533"/>
                </a:lnTo>
                <a:lnTo>
                  <a:pt x="66" y="517"/>
                </a:lnTo>
                <a:lnTo>
                  <a:pt x="56" y="505"/>
                </a:lnTo>
                <a:lnTo>
                  <a:pt x="54" y="489"/>
                </a:lnTo>
                <a:lnTo>
                  <a:pt x="85" y="476"/>
                </a:lnTo>
                <a:lnTo>
                  <a:pt x="61" y="473"/>
                </a:lnTo>
                <a:lnTo>
                  <a:pt x="64" y="452"/>
                </a:lnTo>
                <a:lnTo>
                  <a:pt x="89" y="437"/>
                </a:lnTo>
                <a:lnTo>
                  <a:pt x="67" y="439"/>
                </a:lnTo>
                <a:lnTo>
                  <a:pt x="50" y="437"/>
                </a:lnTo>
                <a:lnTo>
                  <a:pt x="49" y="411"/>
                </a:lnTo>
                <a:lnTo>
                  <a:pt x="60" y="390"/>
                </a:lnTo>
                <a:lnTo>
                  <a:pt x="39" y="396"/>
                </a:lnTo>
                <a:lnTo>
                  <a:pt x="16" y="377"/>
                </a:lnTo>
                <a:lnTo>
                  <a:pt x="13" y="354"/>
                </a:lnTo>
                <a:lnTo>
                  <a:pt x="17" y="354"/>
                </a:lnTo>
                <a:lnTo>
                  <a:pt x="44" y="316"/>
                </a:lnTo>
                <a:lnTo>
                  <a:pt x="74" y="294"/>
                </a:lnTo>
                <a:lnTo>
                  <a:pt x="105" y="293"/>
                </a:lnTo>
                <a:close/>
                <a:moveTo>
                  <a:pt x="0" y="487"/>
                </a:moveTo>
                <a:lnTo>
                  <a:pt x="12" y="446"/>
                </a:lnTo>
                <a:lnTo>
                  <a:pt x="2" y="434"/>
                </a:lnTo>
                <a:lnTo>
                  <a:pt x="11" y="418"/>
                </a:lnTo>
                <a:lnTo>
                  <a:pt x="37" y="427"/>
                </a:lnTo>
                <a:lnTo>
                  <a:pt x="42" y="460"/>
                </a:lnTo>
                <a:lnTo>
                  <a:pt x="36" y="476"/>
                </a:lnTo>
                <a:lnTo>
                  <a:pt x="24" y="493"/>
                </a:lnTo>
                <a:lnTo>
                  <a:pt x="5" y="496"/>
                </a:lnTo>
                <a:lnTo>
                  <a:pt x="0" y="487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03680" y="1390680"/>
            <a:ext cx="714600" cy="387360"/>
          </a:xfrm>
          <a:custGeom>
            <a:avLst/>
            <a:gdLst/>
            <a:ahLst/>
            <a:rect l="l" t="t" r="r" b="b"/>
            <a:pathLst>
              <a:path w="1381" h="751">
                <a:moveTo>
                  <a:pt x="105" y="293"/>
                </a:moveTo>
                <a:lnTo>
                  <a:pt x="111" y="319"/>
                </a:lnTo>
                <a:lnTo>
                  <a:pt x="148" y="305"/>
                </a:lnTo>
                <a:lnTo>
                  <a:pt x="177" y="287"/>
                </a:lnTo>
                <a:lnTo>
                  <a:pt x="199" y="277"/>
                </a:lnTo>
                <a:lnTo>
                  <a:pt x="221" y="266"/>
                </a:lnTo>
                <a:lnTo>
                  <a:pt x="206" y="234"/>
                </a:lnTo>
                <a:lnTo>
                  <a:pt x="236" y="225"/>
                </a:lnTo>
                <a:lnTo>
                  <a:pt x="259" y="229"/>
                </a:lnTo>
                <a:lnTo>
                  <a:pt x="264" y="246"/>
                </a:lnTo>
                <a:lnTo>
                  <a:pt x="279" y="242"/>
                </a:lnTo>
                <a:lnTo>
                  <a:pt x="292" y="211"/>
                </a:lnTo>
                <a:lnTo>
                  <a:pt x="304" y="205"/>
                </a:lnTo>
                <a:lnTo>
                  <a:pt x="323" y="207"/>
                </a:lnTo>
                <a:lnTo>
                  <a:pt x="341" y="205"/>
                </a:lnTo>
                <a:lnTo>
                  <a:pt x="351" y="222"/>
                </a:lnTo>
                <a:lnTo>
                  <a:pt x="371" y="228"/>
                </a:lnTo>
                <a:lnTo>
                  <a:pt x="370" y="211"/>
                </a:lnTo>
                <a:lnTo>
                  <a:pt x="384" y="210"/>
                </a:lnTo>
                <a:lnTo>
                  <a:pt x="390" y="199"/>
                </a:lnTo>
                <a:lnTo>
                  <a:pt x="405" y="197"/>
                </a:lnTo>
                <a:lnTo>
                  <a:pt x="434" y="200"/>
                </a:lnTo>
                <a:lnTo>
                  <a:pt x="459" y="200"/>
                </a:lnTo>
                <a:lnTo>
                  <a:pt x="435" y="180"/>
                </a:lnTo>
                <a:lnTo>
                  <a:pt x="410" y="181"/>
                </a:lnTo>
                <a:lnTo>
                  <a:pt x="401" y="168"/>
                </a:lnTo>
                <a:lnTo>
                  <a:pt x="405" y="136"/>
                </a:lnTo>
                <a:lnTo>
                  <a:pt x="436" y="137"/>
                </a:lnTo>
                <a:lnTo>
                  <a:pt x="460" y="139"/>
                </a:lnTo>
                <a:lnTo>
                  <a:pt x="476" y="145"/>
                </a:lnTo>
                <a:lnTo>
                  <a:pt x="478" y="131"/>
                </a:lnTo>
                <a:lnTo>
                  <a:pt x="509" y="130"/>
                </a:lnTo>
                <a:lnTo>
                  <a:pt x="533" y="160"/>
                </a:lnTo>
                <a:lnTo>
                  <a:pt x="532" y="122"/>
                </a:lnTo>
                <a:lnTo>
                  <a:pt x="535" y="114"/>
                </a:lnTo>
                <a:lnTo>
                  <a:pt x="552" y="131"/>
                </a:lnTo>
                <a:lnTo>
                  <a:pt x="550" y="107"/>
                </a:lnTo>
                <a:lnTo>
                  <a:pt x="559" y="103"/>
                </a:lnTo>
                <a:lnTo>
                  <a:pt x="597" y="123"/>
                </a:lnTo>
                <a:lnTo>
                  <a:pt x="601" y="105"/>
                </a:lnTo>
                <a:lnTo>
                  <a:pt x="590" y="88"/>
                </a:lnTo>
                <a:lnTo>
                  <a:pt x="597" y="72"/>
                </a:lnTo>
                <a:lnTo>
                  <a:pt x="609" y="74"/>
                </a:lnTo>
                <a:lnTo>
                  <a:pt x="632" y="92"/>
                </a:lnTo>
                <a:lnTo>
                  <a:pt x="648" y="101"/>
                </a:lnTo>
                <a:lnTo>
                  <a:pt x="655" y="81"/>
                </a:lnTo>
                <a:lnTo>
                  <a:pt x="632" y="72"/>
                </a:lnTo>
                <a:lnTo>
                  <a:pt x="636" y="58"/>
                </a:lnTo>
                <a:lnTo>
                  <a:pt x="650" y="60"/>
                </a:lnTo>
                <a:lnTo>
                  <a:pt x="680" y="63"/>
                </a:lnTo>
                <a:lnTo>
                  <a:pt x="682" y="42"/>
                </a:lnTo>
                <a:lnTo>
                  <a:pt x="663" y="35"/>
                </a:lnTo>
                <a:lnTo>
                  <a:pt x="674" y="20"/>
                </a:lnTo>
                <a:lnTo>
                  <a:pt x="671" y="8"/>
                </a:lnTo>
                <a:lnTo>
                  <a:pt x="690" y="2"/>
                </a:lnTo>
                <a:lnTo>
                  <a:pt x="692" y="14"/>
                </a:lnTo>
                <a:lnTo>
                  <a:pt x="701" y="16"/>
                </a:lnTo>
                <a:lnTo>
                  <a:pt x="698" y="35"/>
                </a:lnTo>
                <a:lnTo>
                  <a:pt x="731" y="29"/>
                </a:lnTo>
                <a:lnTo>
                  <a:pt x="733" y="16"/>
                </a:lnTo>
                <a:lnTo>
                  <a:pt x="754" y="10"/>
                </a:lnTo>
                <a:lnTo>
                  <a:pt x="762" y="21"/>
                </a:lnTo>
                <a:lnTo>
                  <a:pt x="772" y="38"/>
                </a:lnTo>
                <a:lnTo>
                  <a:pt x="791" y="10"/>
                </a:lnTo>
                <a:lnTo>
                  <a:pt x="828" y="17"/>
                </a:lnTo>
                <a:lnTo>
                  <a:pt x="834" y="2"/>
                </a:lnTo>
                <a:lnTo>
                  <a:pt x="861" y="7"/>
                </a:lnTo>
                <a:lnTo>
                  <a:pt x="885" y="0"/>
                </a:lnTo>
                <a:lnTo>
                  <a:pt x="912" y="5"/>
                </a:lnTo>
                <a:lnTo>
                  <a:pt x="944" y="20"/>
                </a:lnTo>
                <a:lnTo>
                  <a:pt x="958" y="6"/>
                </a:lnTo>
                <a:lnTo>
                  <a:pt x="977" y="6"/>
                </a:lnTo>
                <a:lnTo>
                  <a:pt x="983" y="13"/>
                </a:lnTo>
                <a:lnTo>
                  <a:pt x="974" y="25"/>
                </a:lnTo>
                <a:lnTo>
                  <a:pt x="985" y="29"/>
                </a:lnTo>
                <a:lnTo>
                  <a:pt x="1004" y="29"/>
                </a:lnTo>
                <a:lnTo>
                  <a:pt x="1003" y="16"/>
                </a:lnTo>
                <a:lnTo>
                  <a:pt x="1020" y="6"/>
                </a:lnTo>
                <a:lnTo>
                  <a:pt x="1042" y="13"/>
                </a:lnTo>
                <a:lnTo>
                  <a:pt x="1066" y="41"/>
                </a:lnTo>
                <a:lnTo>
                  <a:pt x="1061" y="54"/>
                </a:lnTo>
                <a:lnTo>
                  <a:pt x="1095" y="64"/>
                </a:lnTo>
                <a:lnTo>
                  <a:pt x="1133" y="70"/>
                </a:lnTo>
                <a:lnTo>
                  <a:pt x="1138" y="82"/>
                </a:lnTo>
                <a:lnTo>
                  <a:pt x="1170" y="86"/>
                </a:lnTo>
                <a:lnTo>
                  <a:pt x="1187" y="81"/>
                </a:lnTo>
                <a:lnTo>
                  <a:pt x="1216" y="79"/>
                </a:lnTo>
                <a:lnTo>
                  <a:pt x="1234" y="94"/>
                </a:lnTo>
                <a:lnTo>
                  <a:pt x="1250" y="68"/>
                </a:lnTo>
                <a:lnTo>
                  <a:pt x="1301" y="58"/>
                </a:lnTo>
                <a:lnTo>
                  <a:pt x="1348" y="58"/>
                </a:lnTo>
                <a:lnTo>
                  <a:pt x="1367" y="69"/>
                </a:lnTo>
                <a:lnTo>
                  <a:pt x="1381" y="101"/>
                </a:lnTo>
                <a:lnTo>
                  <a:pt x="1379" y="129"/>
                </a:lnTo>
                <a:lnTo>
                  <a:pt x="1363" y="156"/>
                </a:lnTo>
                <a:lnTo>
                  <a:pt x="1342" y="178"/>
                </a:lnTo>
                <a:lnTo>
                  <a:pt x="1309" y="194"/>
                </a:lnTo>
                <a:lnTo>
                  <a:pt x="1277" y="199"/>
                </a:lnTo>
                <a:lnTo>
                  <a:pt x="1213" y="200"/>
                </a:lnTo>
                <a:lnTo>
                  <a:pt x="1156" y="201"/>
                </a:lnTo>
                <a:lnTo>
                  <a:pt x="1090" y="195"/>
                </a:lnTo>
                <a:lnTo>
                  <a:pt x="1040" y="182"/>
                </a:lnTo>
                <a:lnTo>
                  <a:pt x="981" y="176"/>
                </a:lnTo>
                <a:lnTo>
                  <a:pt x="931" y="172"/>
                </a:lnTo>
                <a:lnTo>
                  <a:pt x="903" y="184"/>
                </a:lnTo>
                <a:lnTo>
                  <a:pt x="906" y="169"/>
                </a:lnTo>
                <a:lnTo>
                  <a:pt x="890" y="176"/>
                </a:lnTo>
                <a:lnTo>
                  <a:pt x="862" y="180"/>
                </a:lnTo>
                <a:lnTo>
                  <a:pt x="836" y="185"/>
                </a:lnTo>
                <a:lnTo>
                  <a:pt x="816" y="174"/>
                </a:lnTo>
                <a:lnTo>
                  <a:pt x="840" y="200"/>
                </a:lnTo>
                <a:lnTo>
                  <a:pt x="826" y="213"/>
                </a:lnTo>
                <a:lnTo>
                  <a:pt x="811" y="207"/>
                </a:lnTo>
                <a:lnTo>
                  <a:pt x="804" y="222"/>
                </a:lnTo>
                <a:lnTo>
                  <a:pt x="787" y="219"/>
                </a:lnTo>
                <a:lnTo>
                  <a:pt x="774" y="200"/>
                </a:lnTo>
                <a:lnTo>
                  <a:pt x="772" y="222"/>
                </a:lnTo>
                <a:lnTo>
                  <a:pt x="755" y="231"/>
                </a:lnTo>
                <a:lnTo>
                  <a:pt x="749" y="194"/>
                </a:lnTo>
                <a:lnTo>
                  <a:pt x="739" y="205"/>
                </a:lnTo>
                <a:lnTo>
                  <a:pt x="711" y="234"/>
                </a:lnTo>
                <a:lnTo>
                  <a:pt x="702" y="219"/>
                </a:lnTo>
                <a:lnTo>
                  <a:pt x="689" y="185"/>
                </a:lnTo>
                <a:lnTo>
                  <a:pt x="687" y="217"/>
                </a:lnTo>
                <a:lnTo>
                  <a:pt x="673" y="242"/>
                </a:lnTo>
                <a:lnTo>
                  <a:pt x="645" y="255"/>
                </a:lnTo>
                <a:lnTo>
                  <a:pt x="620" y="263"/>
                </a:lnTo>
                <a:lnTo>
                  <a:pt x="607" y="249"/>
                </a:lnTo>
                <a:lnTo>
                  <a:pt x="614" y="222"/>
                </a:lnTo>
                <a:lnTo>
                  <a:pt x="611" y="219"/>
                </a:lnTo>
                <a:lnTo>
                  <a:pt x="592" y="246"/>
                </a:lnTo>
                <a:lnTo>
                  <a:pt x="592" y="271"/>
                </a:lnTo>
                <a:lnTo>
                  <a:pt x="582" y="290"/>
                </a:lnTo>
                <a:lnTo>
                  <a:pt x="559" y="291"/>
                </a:lnTo>
                <a:lnTo>
                  <a:pt x="570" y="269"/>
                </a:lnTo>
                <a:lnTo>
                  <a:pt x="537" y="232"/>
                </a:lnTo>
                <a:lnTo>
                  <a:pt x="558" y="267"/>
                </a:lnTo>
                <a:lnTo>
                  <a:pt x="545" y="302"/>
                </a:lnTo>
                <a:lnTo>
                  <a:pt x="525" y="306"/>
                </a:lnTo>
                <a:lnTo>
                  <a:pt x="514" y="290"/>
                </a:lnTo>
                <a:lnTo>
                  <a:pt x="512" y="271"/>
                </a:lnTo>
                <a:lnTo>
                  <a:pt x="510" y="310"/>
                </a:lnTo>
                <a:lnTo>
                  <a:pt x="476" y="319"/>
                </a:lnTo>
                <a:lnTo>
                  <a:pt x="453" y="324"/>
                </a:lnTo>
                <a:lnTo>
                  <a:pt x="440" y="292"/>
                </a:lnTo>
                <a:lnTo>
                  <a:pt x="431" y="275"/>
                </a:lnTo>
                <a:lnTo>
                  <a:pt x="415" y="265"/>
                </a:lnTo>
                <a:lnTo>
                  <a:pt x="427" y="293"/>
                </a:lnTo>
                <a:lnTo>
                  <a:pt x="441" y="313"/>
                </a:lnTo>
                <a:lnTo>
                  <a:pt x="439" y="338"/>
                </a:lnTo>
                <a:lnTo>
                  <a:pt x="403" y="318"/>
                </a:lnTo>
                <a:lnTo>
                  <a:pt x="419" y="346"/>
                </a:lnTo>
                <a:lnTo>
                  <a:pt x="413" y="348"/>
                </a:lnTo>
                <a:lnTo>
                  <a:pt x="372" y="333"/>
                </a:lnTo>
                <a:lnTo>
                  <a:pt x="398" y="350"/>
                </a:lnTo>
                <a:lnTo>
                  <a:pt x="376" y="375"/>
                </a:lnTo>
                <a:lnTo>
                  <a:pt x="347" y="344"/>
                </a:lnTo>
                <a:lnTo>
                  <a:pt x="352" y="369"/>
                </a:lnTo>
                <a:lnTo>
                  <a:pt x="345" y="384"/>
                </a:lnTo>
                <a:lnTo>
                  <a:pt x="334" y="378"/>
                </a:lnTo>
                <a:lnTo>
                  <a:pt x="315" y="389"/>
                </a:lnTo>
                <a:lnTo>
                  <a:pt x="283" y="409"/>
                </a:lnTo>
                <a:lnTo>
                  <a:pt x="270" y="434"/>
                </a:lnTo>
                <a:lnTo>
                  <a:pt x="248" y="448"/>
                </a:lnTo>
                <a:lnTo>
                  <a:pt x="231" y="465"/>
                </a:lnTo>
                <a:lnTo>
                  <a:pt x="198" y="521"/>
                </a:lnTo>
                <a:lnTo>
                  <a:pt x="175" y="571"/>
                </a:lnTo>
                <a:lnTo>
                  <a:pt x="162" y="624"/>
                </a:lnTo>
                <a:lnTo>
                  <a:pt x="159" y="690"/>
                </a:lnTo>
                <a:lnTo>
                  <a:pt x="167" y="716"/>
                </a:lnTo>
                <a:lnTo>
                  <a:pt x="171" y="741"/>
                </a:lnTo>
                <a:lnTo>
                  <a:pt x="147" y="751"/>
                </a:lnTo>
                <a:lnTo>
                  <a:pt x="126" y="716"/>
                </a:lnTo>
                <a:lnTo>
                  <a:pt x="110" y="719"/>
                </a:lnTo>
                <a:lnTo>
                  <a:pt x="89" y="707"/>
                </a:lnTo>
                <a:lnTo>
                  <a:pt x="85" y="690"/>
                </a:lnTo>
                <a:lnTo>
                  <a:pt x="70" y="692"/>
                </a:lnTo>
                <a:lnTo>
                  <a:pt x="70" y="663"/>
                </a:lnTo>
                <a:lnTo>
                  <a:pt x="56" y="671"/>
                </a:lnTo>
                <a:lnTo>
                  <a:pt x="60" y="647"/>
                </a:lnTo>
                <a:lnTo>
                  <a:pt x="44" y="659"/>
                </a:lnTo>
                <a:lnTo>
                  <a:pt x="31" y="658"/>
                </a:lnTo>
                <a:lnTo>
                  <a:pt x="30" y="622"/>
                </a:lnTo>
                <a:lnTo>
                  <a:pt x="37" y="599"/>
                </a:lnTo>
                <a:lnTo>
                  <a:pt x="25" y="604"/>
                </a:lnTo>
                <a:lnTo>
                  <a:pt x="10" y="573"/>
                </a:lnTo>
                <a:lnTo>
                  <a:pt x="0" y="547"/>
                </a:lnTo>
                <a:lnTo>
                  <a:pt x="18" y="537"/>
                </a:lnTo>
                <a:lnTo>
                  <a:pt x="26" y="529"/>
                </a:lnTo>
                <a:lnTo>
                  <a:pt x="29" y="510"/>
                </a:lnTo>
                <a:lnTo>
                  <a:pt x="43" y="532"/>
                </a:lnTo>
                <a:lnTo>
                  <a:pt x="64" y="533"/>
                </a:lnTo>
                <a:lnTo>
                  <a:pt x="66" y="517"/>
                </a:lnTo>
                <a:lnTo>
                  <a:pt x="56" y="505"/>
                </a:lnTo>
                <a:lnTo>
                  <a:pt x="54" y="489"/>
                </a:lnTo>
                <a:lnTo>
                  <a:pt x="85" y="476"/>
                </a:lnTo>
                <a:lnTo>
                  <a:pt x="61" y="473"/>
                </a:lnTo>
                <a:lnTo>
                  <a:pt x="64" y="452"/>
                </a:lnTo>
                <a:lnTo>
                  <a:pt x="89" y="437"/>
                </a:lnTo>
                <a:lnTo>
                  <a:pt x="67" y="439"/>
                </a:lnTo>
                <a:lnTo>
                  <a:pt x="50" y="437"/>
                </a:lnTo>
                <a:lnTo>
                  <a:pt x="49" y="411"/>
                </a:lnTo>
                <a:lnTo>
                  <a:pt x="60" y="390"/>
                </a:lnTo>
                <a:lnTo>
                  <a:pt x="39" y="396"/>
                </a:lnTo>
                <a:lnTo>
                  <a:pt x="16" y="377"/>
                </a:lnTo>
                <a:lnTo>
                  <a:pt x="13" y="354"/>
                </a:lnTo>
                <a:lnTo>
                  <a:pt x="17" y="354"/>
                </a:lnTo>
                <a:lnTo>
                  <a:pt x="44" y="316"/>
                </a:lnTo>
                <a:lnTo>
                  <a:pt x="74" y="294"/>
                </a:lnTo>
                <a:lnTo>
                  <a:pt x="105" y="293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3680" y="1606680"/>
            <a:ext cx="20880" cy="39600"/>
          </a:xfrm>
          <a:custGeom>
            <a:avLst/>
            <a:gdLst/>
            <a:ahLst/>
            <a:rect l="l" t="t" r="r" b="b"/>
            <a:pathLst>
              <a:path w="42" h="78">
                <a:moveTo>
                  <a:pt x="0" y="69"/>
                </a:moveTo>
                <a:lnTo>
                  <a:pt x="12" y="28"/>
                </a:lnTo>
                <a:lnTo>
                  <a:pt x="2" y="16"/>
                </a:lnTo>
                <a:lnTo>
                  <a:pt x="11" y="0"/>
                </a:lnTo>
                <a:lnTo>
                  <a:pt x="37" y="9"/>
                </a:lnTo>
                <a:lnTo>
                  <a:pt x="42" y="42"/>
                </a:lnTo>
                <a:lnTo>
                  <a:pt x="36" y="58"/>
                </a:lnTo>
                <a:lnTo>
                  <a:pt x="24" y="75"/>
                </a:lnTo>
                <a:lnTo>
                  <a:pt x="5" y="78"/>
                </a:lnTo>
                <a:lnTo>
                  <a:pt x="0" y="69"/>
                </a:lnTo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1080" y="1128600"/>
            <a:ext cx="650880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6640" y="2757600"/>
            <a:ext cx="784440" cy="1635120"/>
          </a:xfrm>
          <a:custGeom>
            <a:avLst/>
            <a:gdLst/>
            <a:ahLst/>
            <a:rect l="l" t="t" r="r" b="b"/>
            <a:pathLst>
              <a:path w="1518" h="3164">
                <a:moveTo>
                  <a:pt x="769" y="1060"/>
                </a:moveTo>
                <a:lnTo>
                  <a:pt x="718" y="1199"/>
                </a:lnTo>
                <a:lnTo>
                  <a:pt x="696" y="1327"/>
                </a:lnTo>
                <a:lnTo>
                  <a:pt x="644" y="1452"/>
                </a:lnTo>
                <a:lnTo>
                  <a:pt x="580" y="1574"/>
                </a:lnTo>
                <a:lnTo>
                  <a:pt x="532" y="1664"/>
                </a:lnTo>
                <a:lnTo>
                  <a:pt x="560" y="1691"/>
                </a:lnTo>
                <a:lnTo>
                  <a:pt x="653" y="1691"/>
                </a:lnTo>
                <a:lnTo>
                  <a:pt x="718" y="1646"/>
                </a:lnTo>
                <a:lnTo>
                  <a:pt x="735" y="1720"/>
                </a:lnTo>
                <a:lnTo>
                  <a:pt x="752" y="1782"/>
                </a:lnTo>
                <a:lnTo>
                  <a:pt x="773" y="1801"/>
                </a:lnTo>
                <a:lnTo>
                  <a:pt x="808" y="1770"/>
                </a:lnTo>
                <a:lnTo>
                  <a:pt x="812" y="1738"/>
                </a:lnTo>
                <a:lnTo>
                  <a:pt x="782" y="1712"/>
                </a:lnTo>
                <a:lnTo>
                  <a:pt x="797" y="1675"/>
                </a:lnTo>
                <a:lnTo>
                  <a:pt x="826" y="1656"/>
                </a:lnTo>
                <a:lnTo>
                  <a:pt x="822" y="1706"/>
                </a:lnTo>
                <a:lnTo>
                  <a:pt x="837" y="1723"/>
                </a:lnTo>
                <a:lnTo>
                  <a:pt x="864" y="1716"/>
                </a:lnTo>
                <a:lnTo>
                  <a:pt x="850" y="1754"/>
                </a:lnTo>
                <a:lnTo>
                  <a:pt x="833" y="1799"/>
                </a:lnTo>
                <a:lnTo>
                  <a:pt x="857" y="1806"/>
                </a:lnTo>
                <a:lnTo>
                  <a:pt x="906" y="1764"/>
                </a:lnTo>
                <a:lnTo>
                  <a:pt x="934" y="1716"/>
                </a:lnTo>
                <a:lnTo>
                  <a:pt x="940" y="1683"/>
                </a:lnTo>
                <a:lnTo>
                  <a:pt x="949" y="1722"/>
                </a:lnTo>
                <a:lnTo>
                  <a:pt x="941" y="1764"/>
                </a:lnTo>
                <a:lnTo>
                  <a:pt x="965" y="1758"/>
                </a:lnTo>
                <a:lnTo>
                  <a:pt x="974" y="1715"/>
                </a:lnTo>
                <a:lnTo>
                  <a:pt x="968" y="1670"/>
                </a:lnTo>
                <a:lnTo>
                  <a:pt x="947" y="1647"/>
                </a:lnTo>
                <a:lnTo>
                  <a:pt x="929" y="1611"/>
                </a:lnTo>
                <a:lnTo>
                  <a:pt x="994" y="1609"/>
                </a:lnTo>
                <a:lnTo>
                  <a:pt x="1024" y="1585"/>
                </a:lnTo>
                <a:lnTo>
                  <a:pt x="1033" y="1563"/>
                </a:lnTo>
                <a:lnTo>
                  <a:pt x="1076" y="1583"/>
                </a:lnTo>
                <a:lnTo>
                  <a:pt x="1141" y="1617"/>
                </a:lnTo>
                <a:lnTo>
                  <a:pt x="1208" y="1640"/>
                </a:lnTo>
                <a:lnTo>
                  <a:pt x="1274" y="1654"/>
                </a:lnTo>
                <a:lnTo>
                  <a:pt x="1271" y="1715"/>
                </a:lnTo>
                <a:lnTo>
                  <a:pt x="1264" y="1745"/>
                </a:lnTo>
                <a:lnTo>
                  <a:pt x="1307" y="1758"/>
                </a:lnTo>
                <a:lnTo>
                  <a:pt x="1308" y="1807"/>
                </a:lnTo>
                <a:lnTo>
                  <a:pt x="1341" y="1830"/>
                </a:lnTo>
                <a:lnTo>
                  <a:pt x="1369" y="1828"/>
                </a:lnTo>
                <a:lnTo>
                  <a:pt x="1361" y="1869"/>
                </a:lnTo>
                <a:lnTo>
                  <a:pt x="1389" y="1882"/>
                </a:lnTo>
                <a:lnTo>
                  <a:pt x="1363" y="1918"/>
                </a:lnTo>
                <a:lnTo>
                  <a:pt x="1364" y="1962"/>
                </a:lnTo>
                <a:lnTo>
                  <a:pt x="1361" y="2019"/>
                </a:lnTo>
                <a:lnTo>
                  <a:pt x="1372" y="2092"/>
                </a:lnTo>
                <a:lnTo>
                  <a:pt x="1388" y="2173"/>
                </a:lnTo>
                <a:lnTo>
                  <a:pt x="1429" y="2236"/>
                </a:lnTo>
                <a:lnTo>
                  <a:pt x="1455" y="2281"/>
                </a:lnTo>
                <a:lnTo>
                  <a:pt x="1476" y="2340"/>
                </a:lnTo>
                <a:lnTo>
                  <a:pt x="1496" y="2441"/>
                </a:lnTo>
                <a:lnTo>
                  <a:pt x="1514" y="2517"/>
                </a:lnTo>
                <a:lnTo>
                  <a:pt x="1518" y="2580"/>
                </a:lnTo>
                <a:lnTo>
                  <a:pt x="1483" y="2683"/>
                </a:lnTo>
                <a:lnTo>
                  <a:pt x="1479" y="2788"/>
                </a:lnTo>
                <a:lnTo>
                  <a:pt x="1426" y="2794"/>
                </a:lnTo>
                <a:lnTo>
                  <a:pt x="1402" y="2760"/>
                </a:lnTo>
                <a:lnTo>
                  <a:pt x="1425" y="2735"/>
                </a:lnTo>
                <a:lnTo>
                  <a:pt x="1419" y="2708"/>
                </a:lnTo>
                <a:lnTo>
                  <a:pt x="1389" y="2701"/>
                </a:lnTo>
                <a:lnTo>
                  <a:pt x="1345" y="2640"/>
                </a:lnTo>
                <a:lnTo>
                  <a:pt x="1326" y="2635"/>
                </a:lnTo>
                <a:lnTo>
                  <a:pt x="1312" y="2665"/>
                </a:lnTo>
                <a:lnTo>
                  <a:pt x="1285" y="2707"/>
                </a:lnTo>
                <a:lnTo>
                  <a:pt x="1247" y="2721"/>
                </a:lnTo>
                <a:lnTo>
                  <a:pt x="1231" y="2746"/>
                </a:lnTo>
                <a:lnTo>
                  <a:pt x="1288" y="2771"/>
                </a:lnTo>
                <a:lnTo>
                  <a:pt x="1266" y="2794"/>
                </a:lnTo>
                <a:lnTo>
                  <a:pt x="1356" y="2802"/>
                </a:lnTo>
                <a:lnTo>
                  <a:pt x="1310" y="2902"/>
                </a:lnTo>
                <a:lnTo>
                  <a:pt x="1271" y="2902"/>
                </a:lnTo>
                <a:lnTo>
                  <a:pt x="1271" y="2951"/>
                </a:lnTo>
                <a:lnTo>
                  <a:pt x="1241" y="3007"/>
                </a:lnTo>
                <a:lnTo>
                  <a:pt x="1180" y="3037"/>
                </a:lnTo>
                <a:lnTo>
                  <a:pt x="1138" y="3035"/>
                </a:lnTo>
                <a:lnTo>
                  <a:pt x="1097" y="3040"/>
                </a:lnTo>
                <a:lnTo>
                  <a:pt x="1065" y="3028"/>
                </a:lnTo>
                <a:lnTo>
                  <a:pt x="1012" y="3044"/>
                </a:lnTo>
                <a:lnTo>
                  <a:pt x="979" y="3081"/>
                </a:lnTo>
                <a:lnTo>
                  <a:pt x="989" y="3113"/>
                </a:lnTo>
                <a:lnTo>
                  <a:pt x="997" y="3133"/>
                </a:lnTo>
                <a:lnTo>
                  <a:pt x="950" y="3164"/>
                </a:lnTo>
                <a:lnTo>
                  <a:pt x="944" y="3084"/>
                </a:lnTo>
                <a:lnTo>
                  <a:pt x="930" y="3047"/>
                </a:lnTo>
                <a:lnTo>
                  <a:pt x="943" y="3019"/>
                </a:lnTo>
                <a:lnTo>
                  <a:pt x="961" y="3006"/>
                </a:lnTo>
                <a:lnTo>
                  <a:pt x="973" y="2950"/>
                </a:lnTo>
                <a:lnTo>
                  <a:pt x="942" y="2906"/>
                </a:lnTo>
                <a:lnTo>
                  <a:pt x="940" y="2854"/>
                </a:lnTo>
                <a:lnTo>
                  <a:pt x="910" y="2839"/>
                </a:lnTo>
                <a:lnTo>
                  <a:pt x="943" y="2803"/>
                </a:lnTo>
                <a:lnTo>
                  <a:pt x="936" y="2777"/>
                </a:lnTo>
                <a:lnTo>
                  <a:pt x="884" y="2790"/>
                </a:lnTo>
                <a:lnTo>
                  <a:pt x="868" y="2778"/>
                </a:lnTo>
                <a:lnTo>
                  <a:pt x="838" y="2807"/>
                </a:lnTo>
                <a:lnTo>
                  <a:pt x="804" y="2809"/>
                </a:lnTo>
                <a:lnTo>
                  <a:pt x="791" y="2804"/>
                </a:lnTo>
                <a:lnTo>
                  <a:pt x="735" y="2810"/>
                </a:lnTo>
                <a:lnTo>
                  <a:pt x="693" y="2759"/>
                </a:lnTo>
                <a:lnTo>
                  <a:pt x="608" y="2754"/>
                </a:lnTo>
                <a:lnTo>
                  <a:pt x="566" y="2741"/>
                </a:lnTo>
                <a:lnTo>
                  <a:pt x="557" y="2800"/>
                </a:lnTo>
                <a:lnTo>
                  <a:pt x="496" y="2817"/>
                </a:lnTo>
                <a:lnTo>
                  <a:pt x="478" y="2747"/>
                </a:lnTo>
                <a:lnTo>
                  <a:pt x="460" y="2685"/>
                </a:lnTo>
                <a:lnTo>
                  <a:pt x="433" y="2685"/>
                </a:lnTo>
                <a:lnTo>
                  <a:pt x="446" y="2653"/>
                </a:lnTo>
                <a:lnTo>
                  <a:pt x="416" y="2627"/>
                </a:lnTo>
                <a:lnTo>
                  <a:pt x="379" y="2634"/>
                </a:lnTo>
                <a:lnTo>
                  <a:pt x="376" y="2596"/>
                </a:lnTo>
                <a:lnTo>
                  <a:pt x="337" y="2595"/>
                </a:lnTo>
                <a:lnTo>
                  <a:pt x="329" y="2536"/>
                </a:lnTo>
                <a:lnTo>
                  <a:pt x="339" y="2479"/>
                </a:lnTo>
                <a:lnTo>
                  <a:pt x="358" y="2443"/>
                </a:lnTo>
                <a:lnTo>
                  <a:pt x="383" y="2437"/>
                </a:lnTo>
                <a:lnTo>
                  <a:pt x="355" y="2394"/>
                </a:lnTo>
                <a:lnTo>
                  <a:pt x="442" y="2330"/>
                </a:lnTo>
                <a:lnTo>
                  <a:pt x="465" y="2268"/>
                </a:lnTo>
                <a:lnTo>
                  <a:pt x="500" y="2236"/>
                </a:lnTo>
                <a:lnTo>
                  <a:pt x="534" y="2199"/>
                </a:lnTo>
                <a:lnTo>
                  <a:pt x="496" y="2130"/>
                </a:lnTo>
                <a:lnTo>
                  <a:pt x="639" y="2123"/>
                </a:lnTo>
                <a:lnTo>
                  <a:pt x="649" y="2079"/>
                </a:lnTo>
                <a:lnTo>
                  <a:pt x="616" y="2034"/>
                </a:lnTo>
                <a:lnTo>
                  <a:pt x="625" y="1969"/>
                </a:lnTo>
                <a:lnTo>
                  <a:pt x="616" y="1942"/>
                </a:lnTo>
                <a:lnTo>
                  <a:pt x="571" y="1925"/>
                </a:lnTo>
                <a:lnTo>
                  <a:pt x="527" y="1973"/>
                </a:lnTo>
                <a:lnTo>
                  <a:pt x="477" y="1974"/>
                </a:lnTo>
                <a:lnTo>
                  <a:pt x="451" y="1994"/>
                </a:lnTo>
                <a:lnTo>
                  <a:pt x="448" y="2029"/>
                </a:lnTo>
                <a:lnTo>
                  <a:pt x="397" y="2059"/>
                </a:lnTo>
                <a:lnTo>
                  <a:pt x="345" y="2081"/>
                </a:lnTo>
                <a:lnTo>
                  <a:pt x="340" y="2101"/>
                </a:lnTo>
                <a:lnTo>
                  <a:pt x="311" y="2112"/>
                </a:lnTo>
                <a:lnTo>
                  <a:pt x="314" y="2095"/>
                </a:lnTo>
                <a:lnTo>
                  <a:pt x="273" y="2113"/>
                </a:lnTo>
                <a:lnTo>
                  <a:pt x="235" y="2014"/>
                </a:lnTo>
                <a:lnTo>
                  <a:pt x="141" y="2025"/>
                </a:lnTo>
                <a:lnTo>
                  <a:pt x="132" y="1974"/>
                </a:lnTo>
                <a:lnTo>
                  <a:pt x="154" y="1928"/>
                </a:lnTo>
                <a:lnTo>
                  <a:pt x="176" y="1893"/>
                </a:lnTo>
                <a:lnTo>
                  <a:pt x="187" y="1840"/>
                </a:lnTo>
                <a:lnTo>
                  <a:pt x="217" y="1791"/>
                </a:lnTo>
                <a:lnTo>
                  <a:pt x="253" y="1750"/>
                </a:lnTo>
                <a:lnTo>
                  <a:pt x="273" y="1700"/>
                </a:lnTo>
                <a:lnTo>
                  <a:pt x="296" y="1673"/>
                </a:lnTo>
                <a:lnTo>
                  <a:pt x="247" y="1658"/>
                </a:lnTo>
                <a:lnTo>
                  <a:pt x="225" y="1632"/>
                </a:lnTo>
                <a:lnTo>
                  <a:pt x="153" y="1675"/>
                </a:lnTo>
                <a:lnTo>
                  <a:pt x="114" y="1691"/>
                </a:lnTo>
                <a:lnTo>
                  <a:pt x="88" y="1689"/>
                </a:lnTo>
                <a:lnTo>
                  <a:pt x="57" y="1632"/>
                </a:lnTo>
                <a:lnTo>
                  <a:pt x="64" y="1539"/>
                </a:lnTo>
                <a:lnTo>
                  <a:pt x="111" y="1527"/>
                </a:lnTo>
                <a:lnTo>
                  <a:pt x="100" y="1461"/>
                </a:lnTo>
                <a:lnTo>
                  <a:pt x="10" y="1414"/>
                </a:lnTo>
                <a:lnTo>
                  <a:pt x="17" y="1399"/>
                </a:lnTo>
                <a:lnTo>
                  <a:pt x="45" y="1386"/>
                </a:lnTo>
                <a:lnTo>
                  <a:pt x="75" y="1294"/>
                </a:lnTo>
                <a:lnTo>
                  <a:pt x="0" y="1231"/>
                </a:lnTo>
                <a:lnTo>
                  <a:pt x="60" y="1234"/>
                </a:lnTo>
                <a:lnTo>
                  <a:pt x="29" y="1155"/>
                </a:lnTo>
                <a:lnTo>
                  <a:pt x="48" y="1123"/>
                </a:lnTo>
                <a:lnTo>
                  <a:pt x="57" y="1014"/>
                </a:lnTo>
                <a:lnTo>
                  <a:pt x="110" y="967"/>
                </a:lnTo>
                <a:lnTo>
                  <a:pt x="265" y="945"/>
                </a:lnTo>
                <a:lnTo>
                  <a:pt x="290" y="839"/>
                </a:lnTo>
                <a:lnTo>
                  <a:pt x="385" y="845"/>
                </a:lnTo>
                <a:lnTo>
                  <a:pt x="436" y="767"/>
                </a:lnTo>
                <a:lnTo>
                  <a:pt x="424" y="734"/>
                </a:lnTo>
                <a:lnTo>
                  <a:pt x="465" y="714"/>
                </a:lnTo>
                <a:lnTo>
                  <a:pt x="476" y="724"/>
                </a:lnTo>
                <a:lnTo>
                  <a:pt x="489" y="712"/>
                </a:lnTo>
                <a:lnTo>
                  <a:pt x="442" y="612"/>
                </a:lnTo>
                <a:lnTo>
                  <a:pt x="409" y="537"/>
                </a:lnTo>
                <a:lnTo>
                  <a:pt x="395" y="476"/>
                </a:lnTo>
                <a:lnTo>
                  <a:pt x="401" y="444"/>
                </a:lnTo>
                <a:lnTo>
                  <a:pt x="434" y="391"/>
                </a:lnTo>
                <a:lnTo>
                  <a:pt x="465" y="355"/>
                </a:lnTo>
                <a:lnTo>
                  <a:pt x="461" y="266"/>
                </a:lnTo>
                <a:lnTo>
                  <a:pt x="477" y="240"/>
                </a:lnTo>
                <a:lnTo>
                  <a:pt x="454" y="166"/>
                </a:lnTo>
                <a:lnTo>
                  <a:pt x="466" y="124"/>
                </a:lnTo>
                <a:lnTo>
                  <a:pt x="597" y="166"/>
                </a:lnTo>
                <a:lnTo>
                  <a:pt x="620" y="164"/>
                </a:lnTo>
                <a:lnTo>
                  <a:pt x="656" y="175"/>
                </a:lnTo>
                <a:lnTo>
                  <a:pt x="673" y="149"/>
                </a:lnTo>
                <a:lnTo>
                  <a:pt x="693" y="140"/>
                </a:lnTo>
                <a:lnTo>
                  <a:pt x="692" y="112"/>
                </a:lnTo>
                <a:lnTo>
                  <a:pt x="764" y="90"/>
                </a:lnTo>
                <a:lnTo>
                  <a:pt x="780" y="135"/>
                </a:lnTo>
                <a:lnTo>
                  <a:pt x="808" y="117"/>
                </a:lnTo>
                <a:lnTo>
                  <a:pt x="818" y="53"/>
                </a:lnTo>
                <a:lnTo>
                  <a:pt x="843" y="41"/>
                </a:lnTo>
                <a:lnTo>
                  <a:pt x="874" y="31"/>
                </a:lnTo>
                <a:lnTo>
                  <a:pt x="910" y="0"/>
                </a:lnTo>
                <a:lnTo>
                  <a:pt x="962" y="13"/>
                </a:lnTo>
                <a:lnTo>
                  <a:pt x="1015" y="50"/>
                </a:lnTo>
                <a:lnTo>
                  <a:pt x="1062" y="129"/>
                </a:lnTo>
                <a:lnTo>
                  <a:pt x="1049" y="140"/>
                </a:lnTo>
                <a:lnTo>
                  <a:pt x="1071" y="195"/>
                </a:lnTo>
                <a:lnTo>
                  <a:pt x="1037" y="192"/>
                </a:lnTo>
                <a:lnTo>
                  <a:pt x="1018" y="274"/>
                </a:lnTo>
                <a:lnTo>
                  <a:pt x="1061" y="297"/>
                </a:lnTo>
                <a:lnTo>
                  <a:pt x="1093" y="268"/>
                </a:lnTo>
                <a:lnTo>
                  <a:pt x="1161" y="293"/>
                </a:lnTo>
                <a:lnTo>
                  <a:pt x="1186" y="285"/>
                </a:lnTo>
                <a:lnTo>
                  <a:pt x="1220" y="324"/>
                </a:lnTo>
                <a:lnTo>
                  <a:pt x="1242" y="369"/>
                </a:lnTo>
                <a:lnTo>
                  <a:pt x="1186" y="380"/>
                </a:lnTo>
                <a:lnTo>
                  <a:pt x="1175" y="402"/>
                </a:lnTo>
                <a:lnTo>
                  <a:pt x="1196" y="433"/>
                </a:lnTo>
                <a:lnTo>
                  <a:pt x="1161" y="453"/>
                </a:lnTo>
                <a:lnTo>
                  <a:pt x="1141" y="420"/>
                </a:lnTo>
                <a:lnTo>
                  <a:pt x="1076" y="457"/>
                </a:lnTo>
                <a:lnTo>
                  <a:pt x="984" y="515"/>
                </a:lnTo>
                <a:lnTo>
                  <a:pt x="932" y="557"/>
                </a:lnTo>
                <a:lnTo>
                  <a:pt x="863" y="656"/>
                </a:lnTo>
                <a:lnTo>
                  <a:pt x="860" y="758"/>
                </a:lnTo>
                <a:lnTo>
                  <a:pt x="810" y="834"/>
                </a:lnTo>
                <a:lnTo>
                  <a:pt x="823" y="944"/>
                </a:lnTo>
                <a:lnTo>
                  <a:pt x="798" y="966"/>
                </a:lnTo>
                <a:lnTo>
                  <a:pt x="769" y="106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68680" y="2900520"/>
            <a:ext cx="365040" cy="369720"/>
          </a:xfrm>
          <a:custGeom>
            <a:avLst/>
            <a:gdLst/>
            <a:ahLst/>
            <a:rect l="l" t="t" r="r" b="b"/>
            <a:pathLst>
              <a:path w="711" h="715">
                <a:moveTo>
                  <a:pt x="693" y="262"/>
                </a:moveTo>
                <a:lnTo>
                  <a:pt x="692" y="305"/>
                </a:lnTo>
                <a:lnTo>
                  <a:pt x="669" y="347"/>
                </a:lnTo>
                <a:lnTo>
                  <a:pt x="636" y="337"/>
                </a:lnTo>
                <a:lnTo>
                  <a:pt x="609" y="351"/>
                </a:lnTo>
                <a:lnTo>
                  <a:pt x="609" y="373"/>
                </a:lnTo>
                <a:lnTo>
                  <a:pt x="585" y="395"/>
                </a:lnTo>
                <a:lnTo>
                  <a:pt x="566" y="384"/>
                </a:lnTo>
                <a:lnTo>
                  <a:pt x="562" y="410"/>
                </a:lnTo>
                <a:lnTo>
                  <a:pt x="544" y="445"/>
                </a:lnTo>
                <a:lnTo>
                  <a:pt x="574" y="471"/>
                </a:lnTo>
                <a:lnTo>
                  <a:pt x="598" y="489"/>
                </a:lnTo>
                <a:lnTo>
                  <a:pt x="630" y="508"/>
                </a:lnTo>
                <a:lnTo>
                  <a:pt x="620" y="534"/>
                </a:lnTo>
                <a:lnTo>
                  <a:pt x="603" y="535"/>
                </a:lnTo>
                <a:lnTo>
                  <a:pt x="589" y="554"/>
                </a:lnTo>
                <a:lnTo>
                  <a:pt x="583" y="595"/>
                </a:lnTo>
                <a:lnTo>
                  <a:pt x="548" y="584"/>
                </a:lnTo>
                <a:lnTo>
                  <a:pt x="500" y="555"/>
                </a:lnTo>
                <a:lnTo>
                  <a:pt x="443" y="532"/>
                </a:lnTo>
                <a:lnTo>
                  <a:pt x="407" y="484"/>
                </a:lnTo>
                <a:lnTo>
                  <a:pt x="360" y="498"/>
                </a:lnTo>
                <a:lnTo>
                  <a:pt x="326" y="522"/>
                </a:lnTo>
                <a:lnTo>
                  <a:pt x="364" y="559"/>
                </a:lnTo>
                <a:lnTo>
                  <a:pt x="355" y="584"/>
                </a:lnTo>
                <a:lnTo>
                  <a:pt x="328" y="565"/>
                </a:lnTo>
                <a:lnTo>
                  <a:pt x="304" y="578"/>
                </a:lnTo>
                <a:lnTo>
                  <a:pt x="335" y="623"/>
                </a:lnTo>
                <a:lnTo>
                  <a:pt x="369" y="672"/>
                </a:lnTo>
                <a:lnTo>
                  <a:pt x="351" y="691"/>
                </a:lnTo>
                <a:lnTo>
                  <a:pt x="294" y="645"/>
                </a:lnTo>
                <a:lnTo>
                  <a:pt x="262" y="620"/>
                </a:lnTo>
                <a:lnTo>
                  <a:pt x="215" y="632"/>
                </a:lnTo>
                <a:lnTo>
                  <a:pt x="201" y="671"/>
                </a:lnTo>
                <a:lnTo>
                  <a:pt x="185" y="715"/>
                </a:lnTo>
                <a:lnTo>
                  <a:pt x="110" y="713"/>
                </a:lnTo>
                <a:lnTo>
                  <a:pt x="58" y="695"/>
                </a:lnTo>
                <a:lnTo>
                  <a:pt x="56" y="671"/>
                </a:lnTo>
                <a:lnTo>
                  <a:pt x="97" y="657"/>
                </a:lnTo>
                <a:lnTo>
                  <a:pt x="122" y="633"/>
                </a:lnTo>
                <a:lnTo>
                  <a:pt x="95" y="608"/>
                </a:lnTo>
                <a:lnTo>
                  <a:pt x="58" y="564"/>
                </a:lnTo>
                <a:lnTo>
                  <a:pt x="24" y="588"/>
                </a:lnTo>
                <a:lnTo>
                  <a:pt x="0" y="565"/>
                </a:lnTo>
                <a:lnTo>
                  <a:pt x="10" y="539"/>
                </a:lnTo>
                <a:lnTo>
                  <a:pt x="25" y="507"/>
                </a:lnTo>
                <a:lnTo>
                  <a:pt x="60" y="471"/>
                </a:lnTo>
                <a:lnTo>
                  <a:pt x="81" y="476"/>
                </a:lnTo>
                <a:lnTo>
                  <a:pt x="95" y="441"/>
                </a:lnTo>
                <a:lnTo>
                  <a:pt x="126" y="401"/>
                </a:lnTo>
                <a:lnTo>
                  <a:pt x="177" y="348"/>
                </a:lnTo>
                <a:lnTo>
                  <a:pt x="197" y="330"/>
                </a:lnTo>
                <a:lnTo>
                  <a:pt x="240" y="335"/>
                </a:lnTo>
                <a:lnTo>
                  <a:pt x="264" y="331"/>
                </a:lnTo>
                <a:lnTo>
                  <a:pt x="288" y="356"/>
                </a:lnTo>
                <a:lnTo>
                  <a:pt x="304" y="353"/>
                </a:lnTo>
                <a:lnTo>
                  <a:pt x="307" y="331"/>
                </a:lnTo>
                <a:lnTo>
                  <a:pt x="328" y="302"/>
                </a:lnTo>
                <a:lnTo>
                  <a:pt x="352" y="299"/>
                </a:lnTo>
                <a:lnTo>
                  <a:pt x="383" y="277"/>
                </a:lnTo>
                <a:lnTo>
                  <a:pt x="363" y="243"/>
                </a:lnTo>
                <a:lnTo>
                  <a:pt x="298" y="255"/>
                </a:lnTo>
                <a:lnTo>
                  <a:pt x="263" y="235"/>
                </a:lnTo>
                <a:lnTo>
                  <a:pt x="232" y="225"/>
                </a:lnTo>
                <a:lnTo>
                  <a:pt x="211" y="204"/>
                </a:lnTo>
                <a:lnTo>
                  <a:pt x="167" y="199"/>
                </a:lnTo>
                <a:lnTo>
                  <a:pt x="170" y="125"/>
                </a:lnTo>
                <a:lnTo>
                  <a:pt x="167" y="73"/>
                </a:lnTo>
                <a:lnTo>
                  <a:pt x="185" y="49"/>
                </a:lnTo>
                <a:lnTo>
                  <a:pt x="221" y="31"/>
                </a:lnTo>
                <a:lnTo>
                  <a:pt x="246" y="41"/>
                </a:lnTo>
                <a:lnTo>
                  <a:pt x="284" y="94"/>
                </a:lnTo>
                <a:lnTo>
                  <a:pt x="262" y="96"/>
                </a:lnTo>
                <a:lnTo>
                  <a:pt x="240" y="130"/>
                </a:lnTo>
                <a:lnTo>
                  <a:pt x="283" y="112"/>
                </a:lnTo>
                <a:lnTo>
                  <a:pt x="295" y="118"/>
                </a:lnTo>
                <a:lnTo>
                  <a:pt x="289" y="169"/>
                </a:lnTo>
                <a:lnTo>
                  <a:pt x="324" y="165"/>
                </a:lnTo>
                <a:lnTo>
                  <a:pt x="324" y="135"/>
                </a:lnTo>
                <a:lnTo>
                  <a:pt x="366" y="146"/>
                </a:lnTo>
                <a:lnTo>
                  <a:pt x="415" y="150"/>
                </a:lnTo>
                <a:lnTo>
                  <a:pt x="443" y="147"/>
                </a:lnTo>
                <a:lnTo>
                  <a:pt x="436" y="100"/>
                </a:lnTo>
                <a:lnTo>
                  <a:pt x="427" y="84"/>
                </a:lnTo>
                <a:lnTo>
                  <a:pt x="464" y="48"/>
                </a:lnTo>
                <a:lnTo>
                  <a:pt x="480" y="44"/>
                </a:lnTo>
                <a:lnTo>
                  <a:pt x="475" y="10"/>
                </a:lnTo>
                <a:lnTo>
                  <a:pt x="506" y="0"/>
                </a:lnTo>
                <a:lnTo>
                  <a:pt x="539" y="35"/>
                </a:lnTo>
                <a:lnTo>
                  <a:pt x="532" y="57"/>
                </a:lnTo>
                <a:lnTo>
                  <a:pt x="560" y="76"/>
                </a:lnTo>
                <a:lnTo>
                  <a:pt x="636" y="146"/>
                </a:lnTo>
                <a:lnTo>
                  <a:pt x="651" y="130"/>
                </a:lnTo>
                <a:lnTo>
                  <a:pt x="688" y="169"/>
                </a:lnTo>
                <a:lnTo>
                  <a:pt x="711" y="208"/>
                </a:lnTo>
                <a:lnTo>
                  <a:pt x="693" y="262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66920" y="2666880"/>
            <a:ext cx="277920" cy="235080"/>
          </a:xfrm>
          <a:custGeom>
            <a:avLst/>
            <a:gdLst/>
            <a:ahLst/>
            <a:rect l="l" t="t" r="r" b="b"/>
            <a:pathLst>
              <a:path w="533" h="458">
                <a:moveTo>
                  <a:pt x="8" y="134"/>
                </a:moveTo>
                <a:lnTo>
                  <a:pt x="49" y="107"/>
                </a:lnTo>
                <a:lnTo>
                  <a:pt x="39" y="63"/>
                </a:lnTo>
                <a:lnTo>
                  <a:pt x="64" y="10"/>
                </a:lnTo>
                <a:lnTo>
                  <a:pt x="90" y="6"/>
                </a:lnTo>
                <a:lnTo>
                  <a:pt x="108" y="29"/>
                </a:lnTo>
                <a:lnTo>
                  <a:pt x="130" y="0"/>
                </a:lnTo>
                <a:lnTo>
                  <a:pt x="145" y="20"/>
                </a:lnTo>
                <a:lnTo>
                  <a:pt x="154" y="3"/>
                </a:lnTo>
                <a:lnTo>
                  <a:pt x="173" y="42"/>
                </a:lnTo>
                <a:lnTo>
                  <a:pt x="208" y="38"/>
                </a:lnTo>
                <a:lnTo>
                  <a:pt x="229" y="64"/>
                </a:lnTo>
                <a:lnTo>
                  <a:pt x="266" y="98"/>
                </a:lnTo>
                <a:lnTo>
                  <a:pt x="270" y="119"/>
                </a:lnTo>
                <a:lnTo>
                  <a:pt x="286" y="107"/>
                </a:lnTo>
                <a:lnTo>
                  <a:pt x="322" y="106"/>
                </a:lnTo>
                <a:lnTo>
                  <a:pt x="357" y="81"/>
                </a:lnTo>
                <a:lnTo>
                  <a:pt x="373" y="44"/>
                </a:lnTo>
                <a:lnTo>
                  <a:pt x="384" y="64"/>
                </a:lnTo>
                <a:lnTo>
                  <a:pt x="380" y="98"/>
                </a:lnTo>
                <a:lnTo>
                  <a:pt x="403" y="97"/>
                </a:lnTo>
                <a:lnTo>
                  <a:pt x="412" y="131"/>
                </a:lnTo>
                <a:lnTo>
                  <a:pt x="441" y="110"/>
                </a:lnTo>
                <a:lnTo>
                  <a:pt x="472" y="111"/>
                </a:lnTo>
                <a:lnTo>
                  <a:pt x="497" y="137"/>
                </a:lnTo>
                <a:lnTo>
                  <a:pt x="499" y="173"/>
                </a:lnTo>
                <a:lnTo>
                  <a:pt x="501" y="196"/>
                </a:lnTo>
                <a:lnTo>
                  <a:pt x="517" y="222"/>
                </a:lnTo>
                <a:lnTo>
                  <a:pt x="533" y="231"/>
                </a:lnTo>
                <a:lnTo>
                  <a:pt x="529" y="253"/>
                </a:lnTo>
                <a:lnTo>
                  <a:pt x="495" y="242"/>
                </a:lnTo>
                <a:lnTo>
                  <a:pt x="481" y="264"/>
                </a:lnTo>
                <a:lnTo>
                  <a:pt x="484" y="290"/>
                </a:lnTo>
                <a:lnTo>
                  <a:pt x="452" y="303"/>
                </a:lnTo>
                <a:lnTo>
                  <a:pt x="391" y="328"/>
                </a:lnTo>
                <a:lnTo>
                  <a:pt x="373" y="358"/>
                </a:lnTo>
                <a:lnTo>
                  <a:pt x="336" y="377"/>
                </a:lnTo>
                <a:lnTo>
                  <a:pt x="306" y="399"/>
                </a:lnTo>
                <a:lnTo>
                  <a:pt x="267" y="391"/>
                </a:lnTo>
                <a:lnTo>
                  <a:pt x="239" y="412"/>
                </a:lnTo>
                <a:lnTo>
                  <a:pt x="214" y="407"/>
                </a:lnTo>
                <a:lnTo>
                  <a:pt x="198" y="428"/>
                </a:lnTo>
                <a:lnTo>
                  <a:pt x="169" y="432"/>
                </a:lnTo>
                <a:lnTo>
                  <a:pt x="144" y="458"/>
                </a:lnTo>
                <a:lnTo>
                  <a:pt x="99" y="455"/>
                </a:lnTo>
                <a:lnTo>
                  <a:pt x="56" y="448"/>
                </a:lnTo>
                <a:lnTo>
                  <a:pt x="66" y="415"/>
                </a:lnTo>
                <a:lnTo>
                  <a:pt x="38" y="371"/>
                </a:lnTo>
                <a:lnTo>
                  <a:pt x="57" y="358"/>
                </a:lnTo>
                <a:lnTo>
                  <a:pt x="43" y="328"/>
                </a:lnTo>
                <a:lnTo>
                  <a:pt x="39" y="268"/>
                </a:lnTo>
                <a:lnTo>
                  <a:pt x="34" y="223"/>
                </a:lnTo>
                <a:lnTo>
                  <a:pt x="0" y="209"/>
                </a:lnTo>
                <a:lnTo>
                  <a:pt x="16" y="168"/>
                </a:lnTo>
                <a:lnTo>
                  <a:pt x="8" y="134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7440" y="2201760"/>
            <a:ext cx="162000" cy="254160"/>
          </a:xfrm>
          <a:custGeom>
            <a:avLst/>
            <a:gdLst/>
            <a:ahLst/>
            <a:rect l="l" t="t" r="r" b="b"/>
            <a:pathLst>
              <a:path w="312" h="490">
                <a:moveTo>
                  <a:pt x="0" y="87"/>
                </a:moveTo>
                <a:lnTo>
                  <a:pt x="31" y="31"/>
                </a:lnTo>
                <a:lnTo>
                  <a:pt x="49" y="36"/>
                </a:lnTo>
                <a:lnTo>
                  <a:pt x="76" y="0"/>
                </a:lnTo>
                <a:lnTo>
                  <a:pt x="89" y="27"/>
                </a:lnTo>
                <a:lnTo>
                  <a:pt x="106" y="49"/>
                </a:lnTo>
                <a:lnTo>
                  <a:pt x="131" y="55"/>
                </a:lnTo>
                <a:lnTo>
                  <a:pt x="145" y="43"/>
                </a:lnTo>
                <a:lnTo>
                  <a:pt x="168" y="114"/>
                </a:lnTo>
                <a:lnTo>
                  <a:pt x="230" y="146"/>
                </a:lnTo>
                <a:lnTo>
                  <a:pt x="262" y="158"/>
                </a:lnTo>
                <a:lnTo>
                  <a:pt x="272" y="179"/>
                </a:lnTo>
                <a:lnTo>
                  <a:pt x="312" y="218"/>
                </a:lnTo>
                <a:lnTo>
                  <a:pt x="299" y="233"/>
                </a:lnTo>
                <a:lnTo>
                  <a:pt x="305" y="262"/>
                </a:lnTo>
                <a:lnTo>
                  <a:pt x="297" y="294"/>
                </a:lnTo>
                <a:lnTo>
                  <a:pt x="280" y="283"/>
                </a:lnTo>
                <a:lnTo>
                  <a:pt x="280" y="324"/>
                </a:lnTo>
                <a:lnTo>
                  <a:pt x="299" y="325"/>
                </a:lnTo>
                <a:lnTo>
                  <a:pt x="284" y="354"/>
                </a:lnTo>
                <a:lnTo>
                  <a:pt x="271" y="342"/>
                </a:lnTo>
                <a:lnTo>
                  <a:pt x="256" y="356"/>
                </a:lnTo>
                <a:lnTo>
                  <a:pt x="252" y="410"/>
                </a:lnTo>
                <a:lnTo>
                  <a:pt x="234" y="422"/>
                </a:lnTo>
                <a:lnTo>
                  <a:pt x="216" y="412"/>
                </a:lnTo>
                <a:lnTo>
                  <a:pt x="185" y="454"/>
                </a:lnTo>
                <a:lnTo>
                  <a:pt x="170" y="486"/>
                </a:lnTo>
                <a:lnTo>
                  <a:pt x="143" y="490"/>
                </a:lnTo>
                <a:lnTo>
                  <a:pt x="119" y="481"/>
                </a:lnTo>
                <a:lnTo>
                  <a:pt x="107" y="405"/>
                </a:lnTo>
                <a:lnTo>
                  <a:pt x="125" y="391"/>
                </a:lnTo>
                <a:lnTo>
                  <a:pt x="111" y="374"/>
                </a:lnTo>
                <a:lnTo>
                  <a:pt x="93" y="384"/>
                </a:lnTo>
                <a:lnTo>
                  <a:pt x="77" y="378"/>
                </a:lnTo>
                <a:lnTo>
                  <a:pt x="117" y="258"/>
                </a:lnTo>
                <a:lnTo>
                  <a:pt x="36" y="205"/>
                </a:lnTo>
                <a:lnTo>
                  <a:pt x="27" y="167"/>
                </a:lnTo>
                <a:lnTo>
                  <a:pt x="41" y="132"/>
                </a:lnTo>
                <a:lnTo>
                  <a:pt x="24" y="102"/>
                </a:lnTo>
                <a:lnTo>
                  <a:pt x="0" y="87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33880" y="1703520"/>
            <a:ext cx="479160" cy="539640"/>
          </a:xfrm>
          <a:custGeom>
            <a:avLst/>
            <a:gdLst/>
            <a:ahLst/>
            <a:rect l="l" t="t" r="r" b="b"/>
            <a:pathLst>
              <a:path w="929" h="1040">
                <a:moveTo>
                  <a:pt x="469" y="285"/>
                </a:moveTo>
                <a:lnTo>
                  <a:pt x="499" y="293"/>
                </a:lnTo>
                <a:lnTo>
                  <a:pt x="490" y="318"/>
                </a:lnTo>
                <a:lnTo>
                  <a:pt x="527" y="354"/>
                </a:lnTo>
                <a:lnTo>
                  <a:pt x="526" y="391"/>
                </a:lnTo>
                <a:lnTo>
                  <a:pt x="568" y="410"/>
                </a:lnTo>
                <a:lnTo>
                  <a:pt x="578" y="447"/>
                </a:lnTo>
                <a:lnTo>
                  <a:pt x="601" y="485"/>
                </a:lnTo>
                <a:lnTo>
                  <a:pt x="625" y="473"/>
                </a:lnTo>
                <a:lnTo>
                  <a:pt x="655" y="482"/>
                </a:lnTo>
                <a:lnTo>
                  <a:pt x="644" y="493"/>
                </a:lnTo>
                <a:lnTo>
                  <a:pt x="664" y="496"/>
                </a:lnTo>
                <a:lnTo>
                  <a:pt x="655" y="521"/>
                </a:lnTo>
                <a:lnTo>
                  <a:pt x="677" y="565"/>
                </a:lnTo>
                <a:lnTo>
                  <a:pt x="695" y="560"/>
                </a:lnTo>
                <a:lnTo>
                  <a:pt x="700" y="577"/>
                </a:lnTo>
                <a:lnTo>
                  <a:pt x="690" y="608"/>
                </a:lnTo>
                <a:lnTo>
                  <a:pt x="724" y="629"/>
                </a:lnTo>
                <a:lnTo>
                  <a:pt x="779" y="629"/>
                </a:lnTo>
                <a:lnTo>
                  <a:pt x="815" y="642"/>
                </a:lnTo>
                <a:lnTo>
                  <a:pt x="789" y="665"/>
                </a:lnTo>
                <a:lnTo>
                  <a:pt x="835" y="742"/>
                </a:lnTo>
                <a:lnTo>
                  <a:pt x="894" y="716"/>
                </a:lnTo>
                <a:lnTo>
                  <a:pt x="908" y="751"/>
                </a:lnTo>
                <a:lnTo>
                  <a:pt x="885" y="765"/>
                </a:lnTo>
                <a:lnTo>
                  <a:pt x="900" y="810"/>
                </a:lnTo>
                <a:lnTo>
                  <a:pt x="925" y="811"/>
                </a:lnTo>
                <a:lnTo>
                  <a:pt x="929" y="845"/>
                </a:lnTo>
                <a:lnTo>
                  <a:pt x="922" y="851"/>
                </a:lnTo>
                <a:lnTo>
                  <a:pt x="929" y="883"/>
                </a:lnTo>
                <a:lnTo>
                  <a:pt x="893" y="919"/>
                </a:lnTo>
                <a:lnTo>
                  <a:pt x="873" y="911"/>
                </a:lnTo>
                <a:lnTo>
                  <a:pt x="826" y="932"/>
                </a:lnTo>
                <a:lnTo>
                  <a:pt x="803" y="905"/>
                </a:lnTo>
                <a:lnTo>
                  <a:pt x="785" y="925"/>
                </a:lnTo>
                <a:lnTo>
                  <a:pt x="822" y="973"/>
                </a:lnTo>
                <a:lnTo>
                  <a:pt x="776" y="998"/>
                </a:lnTo>
                <a:lnTo>
                  <a:pt x="775" y="1027"/>
                </a:lnTo>
                <a:lnTo>
                  <a:pt x="762" y="1040"/>
                </a:lnTo>
                <a:lnTo>
                  <a:pt x="724" y="990"/>
                </a:lnTo>
                <a:lnTo>
                  <a:pt x="685" y="1013"/>
                </a:lnTo>
                <a:lnTo>
                  <a:pt x="649" y="998"/>
                </a:lnTo>
                <a:lnTo>
                  <a:pt x="624" y="1007"/>
                </a:lnTo>
                <a:lnTo>
                  <a:pt x="581" y="940"/>
                </a:lnTo>
                <a:lnTo>
                  <a:pt x="566" y="946"/>
                </a:lnTo>
                <a:lnTo>
                  <a:pt x="532" y="889"/>
                </a:lnTo>
                <a:lnTo>
                  <a:pt x="534" y="860"/>
                </a:lnTo>
                <a:lnTo>
                  <a:pt x="512" y="828"/>
                </a:lnTo>
                <a:lnTo>
                  <a:pt x="489" y="822"/>
                </a:lnTo>
                <a:lnTo>
                  <a:pt x="502" y="801"/>
                </a:lnTo>
                <a:lnTo>
                  <a:pt x="485" y="798"/>
                </a:lnTo>
                <a:lnTo>
                  <a:pt x="484" y="774"/>
                </a:lnTo>
                <a:lnTo>
                  <a:pt x="454" y="760"/>
                </a:lnTo>
                <a:lnTo>
                  <a:pt x="465" y="734"/>
                </a:lnTo>
                <a:lnTo>
                  <a:pt x="445" y="715"/>
                </a:lnTo>
                <a:lnTo>
                  <a:pt x="454" y="681"/>
                </a:lnTo>
                <a:lnTo>
                  <a:pt x="426" y="685"/>
                </a:lnTo>
                <a:lnTo>
                  <a:pt x="421" y="704"/>
                </a:lnTo>
                <a:lnTo>
                  <a:pt x="396" y="714"/>
                </a:lnTo>
                <a:lnTo>
                  <a:pt x="383" y="687"/>
                </a:lnTo>
                <a:lnTo>
                  <a:pt x="335" y="665"/>
                </a:lnTo>
                <a:lnTo>
                  <a:pt x="299" y="684"/>
                </a:lnTo>
                <a:lnTo>
                  <a:pt x="267" y="683"/>
                </a:lnTo>
                <a:lnTo>
                  <a:pt x="245" y="655"/>
                </a:lnTo>
                <a:lnTo>
                  <a:pt x="216" y="633"/>
                </a:lnTo>
                <a:lnTo>
                  <a:pt x="242" y="552"/>
                </a:lnTo>
                <a:lnTo>
                  <a:pt x="212" y="487"/>
                </a:lnTo>
                <a:lnTo>
                  <a:pt x="183" y="504"/>
                </a:lnTo>
                <a:lnTo>
                  <a:pt x="157" y="476"/>
                </a:lnTo>
                <a:lnTo>
                  <a:pt x="181" y="411"/>
                </a:lnTo>
                <a:lnTo>
                  <a:pt x="184" y="385"/>
                </a:lnTo>
                <a:lnTo>
                  <a:pt x="187" y="358"/>
                </a:lnTo>
                <a:lnTo>
                  <a:pt x="165" y="372"/>
                </a:lnTo>
                <a:lnTo>
                  <a:pt x="132" y="372"/>
                </a:lnTo>
                <a:lnTo>
                  <a:pt x="156" y="388"/>
                </a:lnTo>
                <a:lnTo>
                  <a:pt x="153" y="424"/>
                </a:lnTo>
                <a:lnTo>
                  <a:pt x="142" y="436"/>
                </a:lnTo>
                <a:lnTo>
                  <a:pt x="111" y="434"/>
                </a:lnTo>
                <a:lnTo>
                  <a:pt x="98" y="420"/>
                </a:lnTo>
                <a:lnTo>
                  <a:pt x="81" y="424"/>
                </a:lnTo>
                <a:lnTo>
                  <a:pt x="92" y="368"/>
                </a:lnTo>
                <a:lnTo>
                  <a:pt x="111" y="341"/>
                </a:lnTo>
                <a:lnTo>
                  <a:pt x="94" y="320"/>
                </a:lnTo>
                <a:lnTo>
                  <a:pt x="68" y="325"/>
                </a:lnTo>
                <a:lnTo>
                  <a:pt x="30" y="324"/>
                </a:lnTo>
                <a:lnTo>
                  <a:pt x="11" y="298"/>
                </a:lnTo>
                <a:lnTo>
                  <a:pt x="33" y="286"/>
                </a:lnTo>
                <a:lnTo>
                  <a:pt x="36" y="239"/>
                </a:lnTo>
                <a:lnTo>
                  <a:pt x="20" y="202"/>
                </a:lnTo>
                <a:lnTo>
                  <a:pt x="0" y="202"/>
                </a:lnTo>
                <a:lnTo>
                  <a:pt x="2" y="187"/>
                </a:lnTo>
                <a:lnTo>
                  <a:pt x="28" y="173"/>
                </a:lnTo>
                <a:lnTo>
                  <a:pt x="18" y="159"/>
                </a:lnTo>
                <a:lnTo>
                  <a:pt x="29" y="127"/>
                </a:lnTo>
                <a:lnTo>
                  <a:pt x="64" y="130"/>
                </a:lnTo>
                <a:lnTo>
                  <a:pt x="98" y="154"/>
                </a:lnTo>
                <a:lnTo>
                  <a:pt x="172" y="144"/>
                </a:lnTo>
                <a:lnTo>
                  <a:pt x="160" y="121"/>
                </a:lnTo>
                <a:lnTo>
                  <a:pt x="188" y="107"/>
                </a:lnTo>
                <a:lnTo>
                  <a:pt x="203" y="108"/>
                </a:lnTo>
                <a:lnTo>
                  <a:pt x="197" y="67"/>
                </a:lnTo>
                <a:lnTo>
                  <a:pt x="233" y="53"/>
                </a:lnTo>
                <a:lnTo>
                  <a:pt x="289" y="30"/>
                </a:lnTo>
                <a:lnTo>
                  <a:pt x="320" y="0"/>
                </a:lnTo>
                <a:lnTo>
                  <a:pt x="354" y="14"/>
                </a:lnTo>
                <a:lnTo>
                  <a:pt x="376" y="36"/>
                </a:lnTo>
                <a:lnTo>
                  <a:pt x="407" y="36"/>
                </a:lnTo>
                <a:lnTo>
                  <a:pt x="441" y="39"/>
                </a:lnTo>
                <a:lnTo>
                  <a:pt x="476" y="41"/>
                </a:lnTo>
                <a:lnTo>
                  <a:pt x="508" y="33"/>
                </a:lnTo>
                <a:lnTo>
                  <a:pt x="508" y="50"/>
                </a:lnTo>
                <a:lnTo>
                  <a:pt x="527" y="63"/>
                </a:lnTo>
                <a:lnTo>
                  <a:pt x="530" y="93"/>
                </a:lnTo>
                <a:lnTo>
                  <a:pt x="559" y="125"/>
                </a:lnTo>
                <a:lnTo>
                  <a:pt x="514" y="181"/>
                </a:lnTo>
                <a:lnTo>
                  <a:pt x="519" y="194"/>
                </a:lnTo>
                <a:lnTo>
                  <a:pt x="484" y="219"/>
                </a:lnTo>
                <a:lnTo>
                  <a:pt x="479" y="258"/>
                </a:lnTo>
                <a:lnTo>
                  <a:pt x="469" y="285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520" y="1658880"/>
            <a:ext cx="210492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увашская Республ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Вологод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г. Санкт-Петербур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Челябин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амар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Хабаровский кра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Белгород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5240" y="1303200"/>
            <a:ext cx="19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Первы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37782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Второ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40040" y="3890880"/>
            <a:ext cx="233280" cy="235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47880" y="1368360"/>
            <a:ext cx="2332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4000" y="4140360"/>
            <a:ext cx="213372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Перм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Ставропольский кра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вер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Калуж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Таймырский (Д.-Н.) а.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Красноярский кра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Республика Марий Э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Narrow"/>
              </a:rPr>
              <a:t>Ленинградская обла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92200" y="377676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Times New Roman"/>
              </a:rPr>
              <a:t>Третий от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65560" y="3865680"/>
            <a:ext cx="233280" cy="23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Регионы - получатели средств ФРР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0320" y="199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Комплексность программ и их согласованность с приоритетами социально-экономического развития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8800" y="1101600"/>
            <a:ext cx="87552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юджетный процесс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межбюджетные отношения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равление бюджетными расходами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тарифная и ценовая политика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азвитие налоговой и доходной базы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равление долгом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правление собственностью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690840" indent="-265680">
              <a:lnSpc>
                <a:spcPct val="16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нтроль и аудит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293760" y="326880"/>
            <a:ext cx="8623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Основные направления реформ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30040" y="1848960"/>
            <a:ext cx="8755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Согласованность со среднесрочным планом социально-экономического развития региона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ahoma"/>
              </a:rPr>
              <a:t>Отражение в законе о бюджете на соответствующий год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50720"/>
            <a:ext cx="8974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Преемственность </a:t>
            </a:r>
            <a:br>
              <a:rPr sz="3600"/>
            </a:br>
            <a:r>
              <a:rPr b="1" lang="ru-RU" sz="3600" spc="-1" strike="noStrike" u="sng">
                <a:solidFill>
                  <a:srgbClr val="3333cc"/>
                </a:solidFill>
                <a:uFillTx/>
                <a:latin typeface="Arial Narrow"/>
              </a:rPr>
              <a:t>Программы реформир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Центр исследования бюджетных отношений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efefe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0320" y="199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 Narrow"/>
              </a:rPr>
              <a:t>Основные подходы к формированию Программ реформирования региональных финансов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13:11Z</dcterms:created>
  <dc:creator>Ivan Efimov</dc:creator>
  <dc:description/>
  <dc:language>en-US</dc:language>
  <cp:lastModifiedBy>FER User</cp:lastModifiedBy>
  <dcterms:modified xsi:type="dcterms:W3CDTF">2003-10-20T19:15:05Z</dcterms:modified>
  <cp:revision>34</cp:revision>
  <dc:subject/>
  <dc:title>Заголовок слайда отсутствует</dc:title>
</cp:coreProperties>
</file>