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2193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6765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909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481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053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9625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4197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8769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3341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7913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485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7057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1629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201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773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345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99172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 txBox="1"/>
          <p:nvPr/>
        </p:nvSpPr>
        <p:spPr>
          <a:xfrm>
            <a:off x="29718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 Cyr"/>
                <a:ea typeface="Arial Cyr"/>
              </a:rPr>
              <a:t>Фонд «Институт экономики гор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43200" y="6248520"/>
            <a:ext cx="317520" cy="314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743200" y="6248520"/>
            <a:ext cx="317520" cy="314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94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6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638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210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82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354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926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498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070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42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14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786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6358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930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5502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0074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646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9218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790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83620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505320" y="2590920"/>
            <a:ext cx="4892760" cy="763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990720" y="6843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3366"/>
                </a:solidFill>
                <a:latin typeface="Arial Cyr"/>
                <a:ea typeface="Arial Cyr"/>
              </a:rPr>
              <a:t>Ветров Г.Ю.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 Cyr"/>
                <a:ea typeface="Arial Cyr"/>
              </a:rPr>
              <a:t>Фонд «Институт экономики города»,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43000" y="28195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Стратегическое планирование в муниципальных образованиях: проблемы разработки, реализации и координации разных видов план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71560" y="69840"/>
            <a:ext cx="816300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3366"/>
                </a:solidFill>
                <a:latin typeface="Arial Cyr"/>
                <a:ea typeface="Arial Cyr"/>
              </a:rPr>
              <a:t>Работа Института экономики города по комплексным вопросам развития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4360" y="25146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В 1998-2003 гг. ИЭГ работал по копмплексным вопросам развития в 25 муниципальных образ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Прогаммы с элементами стратегии подготовлены в город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Ярославль, Саратов, Углич, Хабаровск, Чебоксары, Магадан, Дзержинский, Энгельс, Димитровград, Перм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71560" y="982800"/>
            <a:ext cx="81630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3366"/>
                </a:solidFill>
                <a:latin typeface="Arial Cyr"/>
                <a:ea typeface="Arial Cyr"/>
              </a:rPr>
              <a:t>Иерархия плановых документов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  <a:ea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2960" y="190512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Стратегия развития (долгосроч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Комплексная программа социально-экономического развития (среднесрочная), включает в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целевые отраслевы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0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Текущее планирование (среднесрочное и годов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71560" y="43344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3366"/>
                </a:solidFill>
                <a:latin typeface="Arial Cyr"/>
                <a:ea typeface="Arial Cyr"/>
              </a:rPr>
              <a:t>Основная тематика целевых программ, разрабатываемых ИЭ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12960" y="190512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Преобразования в ЖК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Управление землей и муниципальным имущест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Переход к эффективной организации социальной поддержки, образования и здравоохра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Организация городского пассажирского транспор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овершенствование организации муниципальных финансов и межбюджетных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нижение административных барьеров для предпринимате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Городские маркетинговые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71560" y="69840"/>
            <a:ext cx="816300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3366"/>
                </a:solidFill>
                <a:latin typeface="Arial Cyr"/>
                <a:ea typeface="Arial Cyr"/>
              </a:rPr>
              <a:t>Новый проект 2003-04 гг. по муниципальному стратегическому планир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2960" y="25146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Цель - совершенствование среднесрочного муниципальног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Идея - посмотреть, как можно на практике добиться взаимоувязки стратегии, финансового плана и градостроительного п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При поддержке АМР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71560" y="104472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3366"/>
                </a:solidFill>
                <a:latin typeface="Arial Cyr"/>
                <a:ea typeface="Arial Cyr"/>
              </a:rPr>
              <a:t>Проект “Городской барометр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1720" y="2133720"/>
            <a:ext cx="8110440" cy="30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Индикаторы социально-экономического положения муниципального образования - около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Комплексные индек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30 муниципальных образований-уча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a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Интерактивный с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Контакты:   vetrov@urbaneconomic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Интернет-сайт:    www.urbaneconomic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trov</dc:creator>
  <dc:description/>
  <dc:language>en-US</dc:language>
  <cp:lastModifiedBy>vetrov</cp:lastModifiedBy>
  <cp:revision>0</cp:revision>
  <dc:subject/>
  <dc:title>Âåòðîâ Ã.Þ. Ôîíä «Èíñòèòóò ýêîíîìèêè ãîðîäà», Ìîñêâà</dc:title>
</cp:coreProperties>
</file>