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039-B1B6-48C3-8B1D-66411F7D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8EB-BD93-4FE3-A9AA-11942FA5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C3D-DD15-473C-BFA6-8485D7B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FD8-DA7C-403C-9383-F08F97D4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30E-56DD-426F-9431-D144C92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5C4-5FA4-4C6D-A316-A4DED67B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EA8-8529-46FD-ACDA-5BB902D2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E0C-3DE7-47BD-9DC2-CE1A308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63C-0A6E-4FAF-9E58-CADF587B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894-B072-4014-834D-E005329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159-0259-4D90-BDB1-CFC322E3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2CA-478A-42C8-9585-222C630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9A7D-A9C4-451D-84AC-55FFEFBD9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titled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05720" y="1295280"/>
            <a:ext cx="2438280" cy="3200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2666880" cy="3200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герб%20города-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9810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162920" y="1981080"/>
            <a:ext cx="1752120" cy="1752120"/>
            <a:chOff x="7162920" y="1981080"/>
            <a:chExt cx="1752120" cy="1752120"/>
          </a:xfrm>
        </p:grpSpPr>
        <p:sp>
          <p:nvSpPr>
            <p:cNvPr id="46" name=""/>
            <p:cNvSpPr/>
            <p:nvPr/>
          </p:nvSpPr>
          <p:spPr>
            <a:xfrm>
              <a:off x="7456680" y="2340720"/>
              <a:ext cx="1128600" cy="102960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94840" y="2417400"/>
              <a:ext cx="1055520" cy="91476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60720" y="2895840"/>
              <a:ext cx="53640" cy="343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05640" y="2481120"/>
              <a:ext cx="56520" cy="347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05640" y="2895840"/>
              <a:ext cx="56520" cy="343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0720" y="2481120"/>
              <a:ext cx="53640" cy="347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2040" y="2478240"/>
              <a:ext cx="1483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49640" y="2478240"/>
              <a:ext cx="1483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22040" y="3192120"/>
              <a:ext cx="1483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46040" y="3192120"/>
              <a:ext cx="14904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28480" y="2652840"/>
              <a:ext cx="132480" cy="16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2040" y="2656440"/>
              <a:ext cx="88200" cy="158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1920" y="2774520"/>
              <a:ext cx="25560" cy="4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3640" y="2895840"/>
              <a:ext cx="75960" cy="59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13000" y="3111840"/>
              <a:ext cx="10368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42600" y="3074400"/>
              <a:ext cx="53640" cy="345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42600" y="3013560"/>
              <a:ext cx="65880" cy="410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64920" y="3029400"/>
              <a:ext cx="20196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12080" y="3070800"/>
              <a:ext cx="15480" cy="410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43760" y="3070800"/>
              <a:ext cx="21960" cy="4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43760" y="3127680"/>
              <a:ext cx="56520" cy="12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43760" y="3150360"/>
              <a:ext cx="56520" cy="12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3640" y="3153960"/>
              <a:ext cx="6012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05040" y="3057840"/>
              <a:ext cx="11880" cy="60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67240" y="3057840"/>
              <a:ext cx="11880" cy="60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81920" y="3083760"/>
              <a:ext cx="31320" cy="345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43760" y="3185640"/>
              <a:ext cx="63000" cy="69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57880" y="3188520"/>
              <a:ext cx="565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22000" y="2987640"/>
              <a:ext cx="85320" cy="82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55440" y="2955960"/>
              <a:ext cx="4140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18560" y="2819160"/>
              <a:ext cx="65880" cy="66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47800" y="2831400"/>
              <a:ext cx="63720" cy="51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42600" y="2892240"/>
              <a:ext cx="9720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39000" y="2930400"/>
              <a:ext cx="97920" cy="194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91840" y="292752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962480" y="2895840"/>
              <a:ext cx="19080" cy="15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62480" y="2927520"/>
              <a:ext cx="19080" cy="187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92080" y="2898720"/>
              <a:ext cx="1908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47800" y="2895840"/>
              <a:ext cx="19080" cy="75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94960" y="2946240"/>
              <a:ext cx="1908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7800" y="2971800"/>
              <a:ext cx="268920" cy="38844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74280" y="2812680"/>
              <a:ext cx="34776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62920" y="1981080"/>
              <a:ext cx="1752120" cy="163440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84800" y="3634920"/>
              <a:ext cx="100800" cy="9828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95440" y="2229480"/>
              <a:ext cx="552960" cy="7804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9600" y="2210040"/>
              <a:ext cx="552960" cy="7812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14600" y="1752480"/>
            <a:ext cx="4343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Стратегия Екатеринбурга: от разработки к реализации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952880"/>
            <a:ext cx="6477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Г. Высокин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едатель Комитета по экономике Администрации Екатеринбурга, к.э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63120" y="6521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герб%20города-" descr=""/>
          <p:cNvPicPr/>
          <p:nvPr/>
        </p:nvPicPr>
        <p:blipFill>
          <a:blip r:embed="rId1"/>
          <a:stretch/>
        </p:blipFill>
        <p:spPr>
          <a:xfrm>
            <a:off x="28440" y="152280"/>
            <a:ext cx="1114560" cy="8575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0" y="4648320"/>
            <a:ext cx="1142640" cy="1132920"/>
            <a:chOff x="0" y="4648320"/>
            <a:chExt cx="1142640" cy="1132920"/>
          </a:xfrm>
        </p:grpSpPr>
        <p:sp>
          <p:nvSpPr>
            <p:cNvPr id="558" name=""/>
            <p:cNvSpPr/>
            <p:nvPr/>
          </p:nvSpPr>
          <p:spPr>
            <a:xfrm>
              <a:off x="191520" y="4880880"/>
              <a:ext cx="736200" cy="66564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6360" y="493056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9560" y="5239800"/>
              <a:ext cx="34920" cy="222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0720" y="497160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0720" y="5239800"/>
              <a:ext cx="36720" cy="222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9560" y="497160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0840" y="496980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17520" y="496980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0840" y="543132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5000" y="543132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9000" y="508284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0840" y="508500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8960" y="516132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2440" y="523980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560" y="537948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3160" y="535500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3160" y="5315760"/>
              <a:ext cx="42840" cy="26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7920" y="532620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8520" y="5352840"/>
              <a:ext cx="10080" cy="26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9400" y="535284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9400" y="538956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9400" y="540432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7520" y="540648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14520" y="534456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9680" y="534456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4240" y="536112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9400" y="542700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3560" y="542880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4680" y="529920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7280" y="527868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840" y="519012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7080" y="519804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3160" y="523728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1000" y="526212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0040" y="526032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1280" y="523980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1280" y="526032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6240" y="524160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7080" y="523980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8040" y="527256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9720" y="528876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4040" y="518616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4648320"/>
              <a:ext cx="1142640" cy="105696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6040" y="571788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2560" y="4808880"/>
              <a:ext cx="360360" cy="50436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2120" y="479628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09680" y="914400"/>
            <a:ext cx="5791320" cy="5562720"/>
          </a:xfrm>
          <a:prstGeom prst="ellipse">
            <a:avLst/>
          </a:prstGeom>
          <a:gradFill rotWithShape="0">
            <a:gsLst>
              <a:gs pos="0">
                <a:srgbClr val="7399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91120" y="1066680"/>
            <a:ext cx="1904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Сохранение и развитие человеческого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1752480"/>
            <a:ext cx="213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Реструктури-зация экономики города и развитие экономически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57800" y="1218960"/>
            <a:ext cx="10666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10080" y="4876920"/>
            <a:ext cx="167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Развитие рынка товаров и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48520" y="335268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Развитие среды проживания горож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1219320"/>
            <a:ext cx="9907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638680" y="30481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15000" y="3962520"/>
            <a:ext cx="1752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09680" y="3429000"/>
            <a:ext cx="2210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3047760" y="4114800"/>
            <a:ext cx="14475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434340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38480" y="2514600"/>
            <a:ext cx="2210040" cy="2209680"/>
          </a:xfrm>
          <a:prstGeom prst="ellipse">
            <a:avLst/>
          </a:prstGeom>
          <a:gradFill rotWithShape="0">
            <a:gsLst>
              <a:gs pos="0">
                <a:srgbClr val="a0b9c8"/>
              </a:gs>
              <a:gs pos="100000">
                <a:srgbClr val="ccecff"/>
              </a:gs>
            </a:gsLst>
            <a:lin ang="5400000"/>
          </a:gradFill>
          <a:ln w="0">
            <a:solidFill>
              <a:srgbClr val="96969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3276720"/>
            <a:ext cx="2361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. Генеральный пл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05320" y="487692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Развитие транспорта, складского хозяйства и связ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05120" y="3581280"/>
            <a:ext cx="213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Охрана окружающей среды и развитие экологической куль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182880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Развитие гражданского общества и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Система стратегических напр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627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057400" y="228600"/>
            <a:ext cx="678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1 «Сохранение и развитие человеческого потенциал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0400" y="1981080"/>
            <a:ext cx="5638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ческий потенциал – важнейший фактор развития конкурентоспособности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авление содержит программы, касающие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оо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ьного обесп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рта, туризма, дос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121932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129528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682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057400" y="0"/>
            <a:ext cx="6781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2 «Реструктуризация экономики города и развитие экономических ресурсов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144792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67080" y="152388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71800" y="2362320"/>
            <a:ext cx="5715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труктуризация крупных заводов, формирование гибких производственных цеп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инновационного произво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ция финансового капитала в го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кадрового потенц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736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737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133720" y="304920"/>
            <a:ext cx="678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3 «Развитие среды проживания горожан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133720" y="152388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67080" y="160020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971800" y="2895480"/>
            <a:ext cx="5791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роприятия по развитию новых форм управления жилищным фон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инженерных систем жизнеобесп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792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133720" y="304920"/>
            <a:ext cx="678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4 «Развитие рынка товаров и услуг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33720" y="152388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67080" y="160020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1800" y="2514600"/>
            <a:ext cx="5791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ышение качества розничной торговли и сферы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производства потребительских тов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оптовой торгов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бизнес-инфра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846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847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133720" y="304920"/>
            <a:ext cx="678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5 «Развитие транспорта, складского хозяйства и связи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133720" y="152388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267080" y="160020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71800" y="2895480"/>
            <a:ext cx="5791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в городе транспортно-логистического уз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улично-дорожной сети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общественн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современных систем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901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902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2133720" y="304920"/>
            <a:ext cx="6781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6 «Охрана окружающей среды и развитие эколог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3720" y="175248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267080" y="182880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971800" y="2895480"/>
            <a:ext cx="5791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нимизация вредного воздействия загрязнения окружающей среды на человека пут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дения очистных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я экологического вос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ышения уровня экологический культуры горо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956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957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2133720" y="304920"/>
            <a:ext cx="678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7 «Развитие гражданского общества и местного самоуправле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133720" y="152388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267080" y="160020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971800" y="2895480"/>
            <a:ext cx="5791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ышение гражданской активности ж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городского патриот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вершенствование системы управления гор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общественной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1011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1012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2133720" y="304920"/>
            <a:ext cx="678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аправление №8 «Генеральный план – город для челове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33720" y="152388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67080" y="160020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71800" y="2895480"/>
            <a:ext cx="5791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достроительное обеспечение Стратегического пл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авления пространственного развития Екатеринбур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пция жилищной политики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5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1066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1067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1981080" y="152280"/>
            <a:ext cx="7010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Нововведения Екатеринбурга в практику планиров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19520" y="1752480"/>
            <a:ext cx="5943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разработана оригинальная структура Программного Сове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тывающ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х групп городского сообщества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 механизм взаимоувязки стратегического и пространственного развития гор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ны процедуры трансформации стратегического плана в текущие планы работы администрации, а также контроля и мониторинга реализации стратеги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8288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457200"/>
            <a:ext cx="304812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1600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герб%20города-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14560" cy="857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772400" y="228600"/>
            <a:ext cx="1142640" cy="1133280"/>
            <a:chOff x="7772400" y="228600"/>
            <a:chExt cx="1142640" cy="1133280"/>
          </a:xfrm>
        </p:grpSpPr>
        <p:sp>
          <p:nvSpPr>
            <p:cNvPr id="100" name=""/>
            <p:cNvSpPr/>
            <p:nvPr/>
          </p:nvSpPr>
          <p:spPr>
            <a:xfrm>
              <a:off x="7963920" y="461160"/>
              <a:ext cx="736200" cy="66600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88760" y="51084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31960" y="820080"/>
              <a:ext cx="349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3120" y="55188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83120" y="820080"/>
              <a:ext cx="367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31960" y="55188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63240" y="5500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9920" y="5500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3240" y="101196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7400" y="101196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41400" y="66312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63240" y="66564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41360" y="74160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24840" y="82008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30960" y="96012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15560" y="93564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5560" y="896400"/>
              <a:ext cx="4284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30320" y="90684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0920" y="933480"/>
              <a:ext cx="1008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1800" y="93348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81800" y="9702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81800" y="9846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59920" y="98712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6920" y="9248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62080" y="9248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06640" y="94176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81800" y="100764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55960" y="100944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37080" y="87948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19680" y="85896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65240" y="77076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49480" y="77868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15560" y="81792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13400" y="84276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82440" y="84060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93680" y="82008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93680" y="84060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78640" y="82224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9480" y="82008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440" y="85284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32120" y="86940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36440" y="76644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2400" y="228600"/>
              <a:ext cx="1142640" cy="105732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08440" y="129852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84960" y="389160"/>
              <a:ext cx="360360" cy="50472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74520" y="37656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533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атегическая 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990720"/>
            <a:ext cx="198108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447920"/>
            <a:ext cx="3048120" cy="838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4479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ющиеся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286000"/>
            <a:ext cx="198108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2666880"/>
            <a:ext cx="3048120" cy="1067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6668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атегия социально-экономического развития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038480"/>
            <a:ext cx="2361960" cy="1219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2667240" cy="1219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410080"/>
            <a:ext cx="2514600" cy="1219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038480"/>
            <a:ext cx="2362320" cy="1219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038480"/>
            <a:ext cx="2362320" cy="1219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886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114800"/>
            <a:ext cx="23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еспечивает городу устойчивое  развит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ффективно распределяет ограниченные ресур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03848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действует партнерству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410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нцентрирует усилия на наиболее перспективных направлениях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5486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зволяет сделать управление городом более открыт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981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чем нужен стратегический пла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63120" y="6521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85345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" y="874800"/>
            <a:ext cx="7772400" cy="5600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9840" y="1332000"/>
            <a:ext cx="41148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572000" y="1333440"/>
            <a:ext cx="2057400" cy="5029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00280" y="21337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тратегические направления (8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3200" y="21337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 (27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800600" y="21337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Проекты и целевые программ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00480" y="236232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343400" y="2362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1680" y="1562040"/>
            <a:ext cx="3085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Стратегическое план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3080" y="3733920"/>
            <a:ext cx="4114800" cy="26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16200000">
            <a:off x="190440" y="4686480"/>
            <a:ext cx="1905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речень основных показателей Стратегического плана (40) до 2015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16200000">
            <a:off x="1485720" y="483876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нтрольные параметры на 5 лет (с разбивкой по годам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16200000">
            <a:off x="2628720" y="491472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зучение общественного м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914400" y="3848040"/>
            <a:ext cx="2857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Ана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029200" y="49528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 работы ЕГ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29200" y="5715000"/>
            <a:ext cx="1486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юджет гор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915080" y="1562040"/>
            <a:ext cx="14857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Реализ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5597280" y="3384360"/>
            <a:ext cx="5640480" cy="538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циально-экономическая ситуация в гор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4686840" y="3466080"/>
            <a:ext cx="5029200" cy="687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Контроль (стратегический, тактический, оператив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00800" y="2362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2362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77120" y="4267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477120" y="5334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515280" y="613404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4343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5410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6134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143000" y="201924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143000" y="2019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543480" y="2019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486400" y="2019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029200" y="3886200"/>
            <a:ext cx="1486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 Администр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1680" y="2666880"/>
            <a:ext cx="3466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Механизм согласования интересов различных общественных групп (конференции, круглые столы, семинары и проч.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40048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29000" y="419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572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457200" y="16765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38480" y="3048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00600" y="281952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нятие управленческих реш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486400" y="259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00600" y="3657600"/>
            <a:ext cx="0" cy="24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800600" y="61340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006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800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143000" y="659124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1143000" y="62485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2400480" y="62485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3429000" y="62485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905120"/>
            <a:ext cx="0" cy="79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8600" y="190440"/>
            <a:ext cx="8610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ханизм реализации стратегического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71880" y="19051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676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28880" y="876240"/>
            <a:ext cx="6286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граммный совет (Наука, Общественность, Бизнес, Администрац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04920" y="65530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1371600" y="1066680"/>
            <a:ext cx="7391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371600" y="5638680"/>
            <a:ext cx="7391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47920" y="5943600"/>
            <a:ext cx="4495680" cy="83808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371600" y="601992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тратегические проекты (110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актическая част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тратегического пла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52480" y="4876920"/>
            <a:ext cx="83844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47920" y="3886200"/>
            <a:ext cx="5715000" cy="121932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676520" y="3276720"/>
            <a:ext cx="8380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47920" y="2362320"/>
            <a:ext cx="4267080" cy="106668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219320" y="2438280"/>
            <a:ext cx="441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тратегические на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447920" y="2819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ределяют основные пути достижения ц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523880" y="4038480"/>
            <a:ext cx="632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447920" y="44197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казывают последовательность действий, имеют свои тактические ц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676520" y="1905120"/>
            <a:ext cx="8380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47920" y="1219320"/>
            <a:ext cx="2361960" cy="83808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37160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Генеральная цель  и мисс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6200000">
            <a:off x="5889240" y="2563920"/>
            <a:ext cx="40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оретическое обоснование стратегического развития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676520" y="5181480"/>
            <a:ext cx="7238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установки реализуются посредством системы про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герб%20города-" descr=""/>
          <p:cNvPicPr/>
          <p:nvPr/>
        </p:nvPicPr>
        <p:blipFill>
          <a:blip r:embed="rId1"/>
          <a:stretch/>
        </p:blipFill>
        <p:spPr>
          <a:xfrm>
            <a:off x="28440" y="152280"/>
            <a:ext cx="1114560" cy="857520"/>
          </a:xfrm>
          <a:prstGeom prst="rect">
            <a:avLst/>
          </a:prstGeom>
          <a:ln w="0">
            <a:noFill/>
          </a:ln>
        </p:spPr>
      </p:pic>
      <p:grpSp>
        <p:nvGrpSpPr>
          <p:cNvPr id="1193" name=""/>
          <p:cNvGrpSpPr/>
          <p:nvPr/>
        </p:nvGrpSpPr>
        <p:grpSpPr>
          <a:xfrm>
            <a:off x="0" y="5486400"/>
            <a:ext cx="1142640" cy="1133280"/>
            <a:chOff x="0" y="5486400"/>
            <a:chExt cx="1142640" cy="1133280"/>
          </a:xfrm>
        </p:grpSpPr>
        <p:sp>
          <p:nvSpPr>
            <p:cNvPr id="1194" name=""/>
            <p:cNvSpPr/>
            <p:nvPr/>
          </p:nvSpPr>
          <p:spPr>
            <a:xfrm>
              <a:off x="191520" y="5718960"/>
              <a:ext cx="736200" cy="66600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6360" y="576864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9560" y="6077880"/>
              <a:ext cx="349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720" y="580968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0720" y="6077880"/>
              <a:ext cx="367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59560" y="580968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0840" y="58078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17520" y="58078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0840" y="626976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15000" y="626976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69000" y="592092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0840" y="592344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8960" y="599940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2440" y="607788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8560" y="621792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3160" y="619344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43160" y="6154200"/>
              <a:ext cx="4284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7920" y="616464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8520" y="6191280"/>
              <a:ext cx="1008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09400" y="619128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09400" y="62280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9400" y="62424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7520" y="624492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4520" y="61826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9680" y="61826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4240" y="619956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9400" y="626544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3560" y="626724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64680" y="613728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47280" y="611676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2840" y="602856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7080" y="603648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3160" y="607572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1000" y="610056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0040" y="609840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1280" y="607788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1280" y="609840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6240" y="608004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7080" y="607788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8040" y="611064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9720" y="612720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4040" y="602424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0" y="5486400"/>
              <a:ext cx="1142640" cy="105732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36040" y="655632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12560" y="5646960"/>
              <a:ext cx="360360" cy="50472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2120" y="563436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676520" y="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В основе реализации стратегии лежит система проект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686800" y="6521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4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1245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1246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3505320" y="380880"/>
            <a:ext cx="3809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Реализация Стратегического пл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1752480"/>
            <a:ext cx="205740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ородские целевые програм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9680" y="304812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ны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09680" y="403848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ущее финансиро-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72200" y="167652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лечение предпринима-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72200" y="3581280"/>
            <a:ext cx="2286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ючение инвестицион-ных согла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48320" y="12193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12193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2670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26708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7913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91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048120" y="5638680"/>
            <a:ext cx="4647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Стратегиче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98108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6313320" y="665280"/>
            <a:ext cx="18147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актические значения показателей, являющихся индикаторами достижения целей С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72000" y="77616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32640" y="407880"/>
            <a:ext cx="43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168960" y="258444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498920" y="2712960"/>
            <a:ext cx="0" cy="16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4121280"/>
            <a:ext cx="1015920" cy="102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ъем закупок (план/фа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562720" y="3581280"/>
            <a:ext cx="21049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нтроль и анализ реализации ЦП в рамках С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983360" y="3992400"/>
            <a:ext cx="11606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зработка ЦП в рамках СП развития города в соответствии с конкретными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370480" y="1816200"/>
            <a:ext cx="13352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ансирование разраб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338640" y="152280"/>
            <a:ext cx="2395440" cy="63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ДСЭ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динамические ряды основных показателей (план/фа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46600" y="1816200"/>
            <a:ext cx="1596960" cy="896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ланирование муниципальных ресурс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2680" y="2060640"/>
            <a:ext cx="1595520" cy="76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С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УП, 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риф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89120" y="2459160"/>
            <a:ext cx="215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1688760" y="233028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876320" y="1944720"/>
            <a:ext cx="1782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анс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876320" y="2587680"/>
            <a:ext cx="1782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ступления в бюдж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645080" y="1047600"/>
            <a:ext cx="363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919680" y="4376880"/>
            <a:ext cx="3120840" cy="1280880"/>
            <a:chOff x="3919680" y="4376880"/>
            <a:chExt cx="3120840" cy="1280880"/>
          </a:xfrm>
        </p:grpSpPr>
        <p:sp>
          <p:nvSpPr>
            <p:cNvPr id="1326" name=""/>
            <p:cNvSpPr/>
            <p:nvPr/>
          </p:nvSpPr>
          <p:spPr>
            <a:xfrm>
              <a:off x="3919680" y="4376880"/>
              <a:ext cx="943560" cy="12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БДГЦП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реестр программ, свод заявок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863240" y="4376880"/>
              <a:ext cx="2177280" cy="12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ап.влож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объекты + заказчики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мплексные программы (мероприятия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63240" y="5017320"/>
              <a:ext cx="217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4572000" y="2840040"/>
            <a:ext cx="3636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анс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68960" y="40788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839000" y="32004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427640" y="6553080"/>
            <a:ext cx="34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4427640" y="565740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1752480" y="407520"/>
            <a:ext cx="1513080" cy="18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443560" y="2328840"/>
            <a:ext cx="116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6603840" y="1944720"/>
            <a:ext cx="2395800" cy="1279440"/>
            <a:chOff x="6603840" y="1944720"/>
            <a:chExt cx="2395800" cy="1279440"/>
          </a:xfrm>
        </p:grpSpPr>
        <p:sp>
          <p:nvSpPr>
            <p:cNvPr id="1337" name=""/>
            <p:cNvSpPr/>
            <p:nvPr/>
          </p:nvSpPr>
          <p:spPr>
            <a:xfrm>
              <a:off x="6603840" y="1944720"/>
              <a:ext cx="2395800" cy="1279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ратегия развития город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ндикаторы достижения цел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Направления: про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03840" y="2424600"/>
              <a:ext cx="239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03840" y="2904480"/>
              <a:ext cx="239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2743200" y="3276720"/>
            <a:ext cx="1611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ирование расходов на основе анализа исполнения и зая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50800" y="3352680"/>
            <a:ext cx="1089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ходы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1814040" y="2712960"/>
            <a:ext cx="203220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281480" y="2712960"/>
            <a:ext cx="0" cy="16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716360" y="3096720"/>
            <a:ext cx="1887480" cy="127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04920" y="65530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0" y="1828800"/>
            <a:ext cx="175248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0"/>
            <a:ext cx="175248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1351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2057400" y="38088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Анализ и контроль реализации Стратег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352680" y="1828800"/>
            <a:ext cx="5486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омитете по экономике разрабатывается База данных социально-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Д содержит показатели ретроспективного развития города, современного состояния, прогно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показатели делятся на контрольные и мониторинг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133720" y="1143000"/>
            <a:ext cx="5105160" cy="457200"/>
          </a:xfrm>
          <a:prstGeom prst="leftArrow">
            <a:avLst>
              <a:gd name="adj1" fmla="val 50000"/>
              <a:gd name="adj2" fmla="val 279154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267080" y="121932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334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Д станет мощным инструментом анализа социально-экономического развития и эффективности работы Админист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57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Untitled-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6705720" y="1295280"/>
            <a:ext cx="2438280" cy="3200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1295280"/>
            <a:ext cx="2666880" cy="3200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герб%20города-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9810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408" name=""/>
          <p:cNvGrpSpPr/>
          <p:nvPr/>
        </p:nvGrpSpPr>
        <p:grpSpPr>
          <a:xfrm>
            <a:off x="7162920" y="1981080"/>
            <a:ext cx="1752120" cy="1752120"/>
            <a:chOff x="7162920" y="1981080"/>
            <a:chExt cx="1752120" cy="1752120"/>
          </a:xfrm>
        </p:grpSpPr>
        <p:sp>
          <p:nvSpPr>
            <p:cNvPr id="1409" name=""/>
            <p:cNvSpPr/>
            <p:nvPr/>
          </p:nvSpPr>
          <p:spPr>
            <a:xfrm>
              <a:off x="7456680" y="2340720"/>
              <a:ext cx="1128600" cy="102960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94840" y="2417400"/>
              <a:ext cx="1055520" cy="91476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60720" y="2895840"/>
              <a:ext cx="53640" cy="343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405640" y="2481120"/>
              <a:ext cx="56520" cy="347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405640" y="2895840"/>
              <a:ext cx="56520" cy="343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60720" y="2481120"/>
              <a:ext cx="53640" cy="347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222040" y="2478240"/>
              <a:ext cx="1483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49640" y="2478240"/>
              <a:ext cx="1483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222040" y="3192120"/>
              <a:ext cx="1483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46040" y="3192120"/>
              <a:ext cx="14904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728480" y="2652840"/>
              <a:ext cx="132480" cy="16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222040" y="2656440"/>
              <a:ext cx="88200" cy="158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41920" y="2774520"/>
              <a:ext cx="25560" cy="4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703640" y="2895840"/>
              <a:ext cx="75960" cy="59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713000" y="3111840"/>
              <a:ext cx="10368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842600" y="3074400"/>
              <a:ext cx="53640" cy="345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842600" y="3013560"/>
              <a:ext cx="65880" cy="410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864920" y="3029400"/>
              <a:ext cx="20196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12080" y="3070800"/>
              <a:ext cx="15480" cy="410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943760" y="3070800"/>
              <a:ext cx="21960" cy="4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43760" y="3127680"/>
              <a:ext cx="56520" cy="12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943760" y="3150360"/>
              <a:ext cx="56520" cy="12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063640" y="3153960"/>
              <a:ext cx="6012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105040" y="3057840"/>
              <a:ext cx="11880" cy="60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067240" y="3057840"/>
              <a:ext cx="11880" cy="60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981920" y="3083760"/>
              <a:ext cx="31320" cy="345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943760" y="3185640"/>
              <a:ext cx="63000" cy="69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057880" y="3188520"/>
              <a:ext cx="5652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22000" y="2987640"/>
              <a:ext cx="85320" cy="82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155440" y="2955960"/>
              <a:ext cx="41400" cy="54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918560" y="2819160"/>
              <a:ext cx="65880" cy="66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47800" y="2831400"/>
              <a:ext cx="63720" cy="51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842600" y="2892240"/>
              <a:ext cx="9720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839000" y="2930400"/>
              <a:ext cx="97920" cy="194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91840" y="292752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62480" y="2895840"/>
              <a:ext cx="19080" cy="15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62480" y="2927520"/>
              <a:ext cx="19080" cy="187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092080" y="2898720"/>
              <a:ext cx="1908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47800" y="2895840"/>
              <a:ext cx="19080" cy="75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094960" y="2946240"/>
              <a:ext cx="1908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67800" y="2971800"/>
              <a:ext cx="268920" cy="38844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74280" y="2812680"/>
              <a:ext cx="34776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62920" y="1981080"/>
              <a:ext cx="1752120" cy="163440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84800" y="3634920"/>
              <a:ext cx="100800" cy="9828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95440" y="2229480"/>
              <a:ext cx="552960" cy="7804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779600" y="2210040"/>
              <a:ext cx="552960" cy="7812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2514600" y="1752480"/>
            <a:ext cx="4343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Стратегия Екатеринбурга: от разработки к реализации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952880"/>
            <a:ext cx="6477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Г. Высокин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дседатель Комитета по экономике Администрации Екатеринбурга, к.э.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686800" y="6515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Пирамида целей стратегического план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143000"/>
            <a:ext cx="7772400" cy="4952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c0c073"/>
              </a:gs>
            </a:gsLst>
            <a:lin ang="54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1981080"/>
            <a:ext cx="1676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качества 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335268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грирование в российскую и мировую экономику и многофункциональность города, обеспечивающие высокое качество среды жизнедеятельности и 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50292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епление Екатеринбурга в качестве главного контактного центра региона на границе Европы и Аз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510080" y="2881080"/>
            <a:ext cx="304920" cy="485640"/>
          </a:xfrm>
          <a:custGeom>
            <a:avLst/>
            <a:gdLst>
              <a:gd name="textAreaLeft" fmla="*/ 38160 w 304920"/>
              <a:gd name="textAreaRight" fmla="*/ 267120 w 3049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4510080" y="4557600"/>
            <a:ext cx="304560" cy="485640"/>
          </a:xfrm>
          <a:custGeom>
            <a:avLst/>
            <a:gdLst>
              <a:gd name="textAreaLeft" fmla="*/ 37800 w 304560"/>
              <a:gd name="textAreaRight" fmla="*/ 266760 w 30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371600"/>
            <a:ext cx="1676520" cy="1600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371600"/>
            <a:ext cx="1676520" cy="1371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герб%20города-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1114560" cy="8571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7772400" y="1600200"/>
            <a:ext cx="1142640" cy="1133280"/>
            <a:chOff x="7772400" y="1600200"/>
            <a:chExt cx="1142640" cy="1133280"/>
          </a:xfrm>
        </p:grpSpPr>
        <p:sp>
          <p:nvSpPr>
            <p:cNvPr id="182" name=""/>
            <p:cNvSpPr/>
            <p:nvPr/>
          </p:nvSpPr>
          <p:spPr>
            <a:xfrm>
              <a:off x="7963920" y="1832760"/>
              <a:ext cx="736200" cy="66600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88760" y="188244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31960" y="2191680"/>
              <a:ext cx="349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83120" y="192348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83120" y="2191680"/>
              <a:ext cx="367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31960" y="192348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63240" y="19216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89920" y="19216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63240" y="238356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7400" y="238356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41400" y="203472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63240" y="203724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41360" y="211320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24840" y="219168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30960" y="233172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15560" y="230724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15560" y="2268000"/>
              <a:ext cx="4284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30320" y="227844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60920" y="2305080"/>
              <a:ext cx="1008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1800" y="230508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81800" y="23418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81800" y="23562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59920" y="235872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6920" y="22964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62080" y="22964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06640" y="231336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81800" y="237924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55960" y="238104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7080" y="225108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19680" y="223056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5240" y="214236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49480" y="215028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15560" y="218952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13400" y="221436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82440" y="221220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93680" y="219168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93680" y="221220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78640" y="219384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49480" y="219168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440" y="222444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32120" y="224100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36440" y="213804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2400" y="1600200"/>
              <a:ext cx="1142640" cy="105732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08440" y="267012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84960" y="1760760"/>
              <a:ext cx="360360" cy="50472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74520" y="174816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763120" y="6521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Принципы будущего развития город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пора на собственные силы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артнерство при достижении стратегических це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чет постиндустриальных тенденций развит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спользование и создание конкурентных преимущест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стойчивое развит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герб%20города-" descr=""/>
          <p:cNvPicPr/>
          <p:nvPr/>
        </p:nvPicPr>
        <p:blipFill>
          <a:blip r:embed="rId1"/>
          <a:stretch/>
        </p:blipFill>
        <p:spPr>
          <a:xfrm>
            <a:off x="28440" y="152280"/>
            <a:ext cx="1114560" cy="85752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0" y="5486400"/>
            <a:ext cx="1142640" cy="1133280"/>
            <a:chOff x="0" y="5486400"/>
            <a:chExt cx="1142640" cy="1133280"/>
          </a:xfrm>
        </p:grpSpPr>
        <p:sp>
          <p:nvSpPr>
            <p:cNvPr id="234" name=""/>
            <p:cNvSpPr/>
            <p:nvPr/>
          </p:nvSpPr>
          <p:spPr>
            <a:xfrm>
              <a:off x="191520" y="5718960"/>
              <a:ext cx="736200" cy="66600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360" y="576864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560" y="6077880"/>
              <a:ext cx="349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0720" y="580968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0720" y="6077880"/>
              <a:ext cx="36720" cy="2224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560" y="580968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840" y="58078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7520" y="580788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0840" y="626976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000" y="626976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9000" y="592092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0840" y="592344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8960" y="599940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2440" y="607788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560" y="621792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3160" y="619344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160" y="6154200"/>
              <a:ext cx="4284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920" y="616464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8520" y="6191280"/>
              <a:ext cx="10080" cy="26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9400" y="619128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400" y="62280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400" y="624240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7520" y="624492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4520" y="61826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9680" y="618264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240" y="619956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9400" y="626544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3560" y="626724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4680" y="613728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280" y="611676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2840" y="602856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7080" y="603648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160" y="607572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000" y="610056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0040" y="609840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280" y="607788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280" y="609840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6240" y="608004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7080" y="607788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8040" y="611064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9720" y="612720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040" y="602424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5486400"/>
              <a:ext cx="1142640" cy="105732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6040" y="655632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560" y="5646960"/>
              <a:ext cx="360360" cy="50472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2120" y="563436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981080" y="1371600"/>
            <a:ext cx="5105520" cy="457200"/>
          </a:xfrm>
          <a:prstGeom prst="leftArrow">
            <a:avLst>
              <a:gd name="adj1" fmla="val 50000"/>
              <a:gd name="adj2" fmla="val 279173"/>
            </a:avLst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1447920"/>
            <a:ext cx="4648320" cy="457200"/>
          </a:xfrm>
          <a:prstGeom prst="rightArrow">
            <a:avLst>
              <a:gd name="adj1" fmla="val 50000"/>
              <a:gd name="adj2" fmla="val 25417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63120" y="6515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герб%20города-" descr=""/>
          <p:cNvPicPr/>
          <p:nvPr/>
        </p:nvPicPr>
        <p:blipFill>
          <a:blip r:embed="rId1"/>
          <a:stretch/>
        </p:blipFill>
        <p:spPr>
          <a:xfrm>
            <a:off x="28440" y="152280"/>
            <a:ext cx="1114560" cy="8575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0" y="4648320"/>
            <a:ext cx="1142640" cy="1132920"/>
            <a:chOff x="0" y="4648320"/>
            <a:chExt cx="1142640" cy="1132920"/>
          </a:xfrm>
        </p:grpSpPr>
        <p:sp>
          <p:nvSpPr>
            <p:cNvPr id="286" name=""/>
            <p:cNvSpPr/>
            <p:nvPr/>
          </p:nvSpPr>
          <p:spPr>
            <a:xfrm>
              <a:off x="191520" y="4880880"/>
              <a:ext cx="736200" cy="66564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360" y="493056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9560" y="5239800"/>
              <a:ext cx="34920" cy="222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0720" y="497160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0720" y="5239800"/>
              <a:ext cx="36720" cy="222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560" y="497160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0840" y="496980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520" y="496980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0840" y="543132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5000" y="543132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9000" y="508284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840" y="508500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8960" y="516132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2440" y="523980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560" y="537948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3160" y="535500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160" y="5315760"/>
              <a:ext cx="42840" cy="26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920" y="532620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8520" y="5352840"/>
              <a:ext cx="10080" cy="26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400" y="535284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9400" y="538956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9400" y="540432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7520" y="540648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4520" y="534456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680" y="534456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240" y="536112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9400" y="542700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3560" y="542880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4680" y="529920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280" y="527868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2840" y="519012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7080" y="519804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160" y="523728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000" y="526212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0040" y="526032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280" y="523980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280" y="526032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6240" y="524160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7080" y="523980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8040" y="527256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9720" y="528876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4040" y="518616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648320"/>
              <a:ext cx="1142640" cy="105696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6040" y="571788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2560" y="4808880"/>
              <a:ext cx="360360" cy="50436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2120" y="479628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447920" y="152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Этапы Стратегического план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838080"/>
            <a:ext cx="3581640" cy="190512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2438280"/>
            <a:ext cx="3657600" cy="167652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3809880"/>
            <a:ext cx="3657600" cy="1600200"/>
          </a:xfrm>
          <a:prstGeom prst="rect">
            <a:avLst/>
          </a:prstGeom>
          <a:gradFill rotWithShape="0">
            <a:gsLst>
              <a:gs pos="0">
                <a:srgbClr val="7ca6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8380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щен опыт стратегического планирования в городах, проанализированы стартовые возможности и условия развития Екатеринбург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259092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ен методический подход к стратегическому планированию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ены главная цель и основные стратегические направле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388620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работка текстов стратегического плана как результат достижения согласия по многим спорным вопрос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554000">
            <a:off x="4876920" y="21337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554000">
            <a:off x="6933960" y="35812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52480" y="5715000"/>
            <a:ext cx="6096240" cy="685800"/>
          </a:xfrm>
          <a:prstGeom prst="rect">
            <a:avLst/>
          </a:prstGeom>
          <a:solidFill>
            <a:srgbClr val="ffff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5791320"/>
            <a:ext cx="594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Реализация Стратегического план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8746800">
            <a:off x="7162560" y="53341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63120" y="6515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герб%20города-" descr=""/>
          <p:cNvPicPr/>
          <p:nvPr/>
        </p:nvPicPr>
        <p:blipFill>
          <a:blip r:embed="rId1"/>
          <a:stretch/>
        </p:blipFill>
        <p:spPr>
          <a:xfrm>
            <a:off x="28440" y="152280"/>
            <a:ext cx="1114560" cy="85752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0" y="4648320"/>
            <a:ext cx="1142640" cy="1132920"/>
            <a:chOff x="0" y="4648320"/>
            <a:chExt cx="1142640" cy="1132920"/>
          </a:xfrm>
        </p:grpSpPr>
        <p:sp>
          <p:nvSpPr>
            <p:cNvPr id="348" name=""/>
            <p:cNvSpPr/>
            <p:nvPr/>
          </p:nvSpPr>
          <p:spPr>
            <a:xfrm>
              <a:off x="191520" y="4880880"/>
              <a:ext cx="736200" cy="66564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6360" y="4930560"/>
              <a:ext cx="688320" cy="59148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560" y="5239800"/>
              <a:ext cx="34920" cy="222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0720" y="4971600"/>
              <a:ext cx="367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0720" y="5239800"/>
              <a:ext cx="36720" cy="222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9560" y="4971600"/>
              <a:ext cx="34920" cy="224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0840" y="496980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7520" y="496980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0840" y="5431320"/>
              <a:ext cx="9648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5000" y="5431320"/>
              <a:ext cx="972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9000" y="5082840"/>
              <a:ext cx="86400" cy="10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0840" y="5085000"/>
              <a:ext cx="57240" cy="10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8960" y="5161320"/>
              <a:ext cx="1656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2440" y="5239800"/>
              <a:ext cx="49320" cy="38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8560" y="5379480"/>
              <a:ext cx="67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3160" y="5355000"/>
              <a:ext cx="349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3160" y="5315760"/>
              <a:ext cx="42840" cy="26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7920" y="5326200"/>
              <a:ext cx="13176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8520" y="5352840"/>
              <a:ext cx="10080" cy="26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400" y="5352840"/>
              <a:ext cx="14400" cy="28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9400" y="538956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9400" y="5404320"/>
              <a:ext cx="36720" cy="8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520" y="5406480"/>
              <a:ext cx="39240" cy="7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4520" y="534456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9680" y="5344560"/>
              <a:ext cx="792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4240" y="5361120"/>
              <a:ext cx="20520" cy="223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9400" y="5427000"/>
              <a:ext cx="41040" cy="450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560" y="5428800"/>
              <a:ext cx="3672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4680" y="5299200"/>
              <a:ext cx="55440" cy="53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80" y="5278680"/>
              <a:ext cx="27000" cy="34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2840" y="5190120"/>
              <a:ext cx="428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7080" y="5198040"/>
              <a:ext cx="4140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3160" y="5237280"/>
              <a:ext cx="6336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000" y="5262120"/>
              <a:ext cx="64080" cy="126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0040" y="5260320"/>
              <a:ext cx="2268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1280" y="5239800"/>
              <a:ext cx="12600" cy="100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1280" y="5260320"/>
              <a:ext cx="12600" cy="118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240" y="5241600"/>
              <a:ext cx="126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7080" y="5239800"/>
              <a:ext cx="1260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8040" y="5272560"/>
              <a:ext cx="1260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9720" y="5288760"/>
              <a:ext cx="175320" cy="25128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040" y="5186160"/>
              <a:ext cx="226800" cy="14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4648320"/>
              <a:ext cx="1142640" cy="105696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040" y="5717880"/>
              <a:ext cx="65880" cy="633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2560" y="4808880"/>
              <a:ext cx="360360" cy="50436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2120" y="4796280"/>
              <a:ext cx="360360" cy="50508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981080" y="3049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Программный сов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1295280"/>
            <a:ext cx="7086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уществляют научное руководство разработки стратегических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ы продвижения программ, привязка и апробация и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х уровн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 над разработкой и реализацией стратегических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ст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ют связь с населением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763120" y="6515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2895480"/>
            <a:ext cx="914400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0" y="1447920"/>
            <a:ext cx="1219320" cy="4876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Структура  Программного совет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5257800"/>
            <a:ext cx="2666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Екатеринбург – город комфортной социальной сре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4506840"/>
            <a:ext cx="26668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«Город для души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3693960"/>
            <a:ext cx="2666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Образование – основа развития, залог успех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32600" y="2894040"/>
            <a:ext cx="1059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2549520"/>
            <a:ext cx="441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ветственные лица за реализацию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2549520"/>
            <a:ext cx="26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2549520"/>
            <a:ext cx="175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914400"/>
            <a:ext cx="44197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ные со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894040"/>
            <a:ext cx="3808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2894040"/>
            <a:ext cx="2666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Екатеринбург – здоровый гор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894040"/>
            <a:ext cx="175284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Сохранение и развитие человеческого потенциал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24680" y="1447920"/>
            <a:ext cx="1059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-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1600200"/>
            <a:ext cx="1049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02400" y="1600200"/>
            <a:ext cx="1143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1447920"/>
            <a:ext cx="12193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-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914400"/>
            <a:ext cx="26668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атегические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914400"/>
            <a:ext cx="1752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9144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25495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280" y="63244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0512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991720" y="91440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1447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53160" y="14479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8356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24680" y="1460520"/>
            <a:ext cx="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289404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96160" y="290664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5316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5120" y="36939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450684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52578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991720" y="28940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3693960"/>
            <a:ext cx="800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4532400" y="3412800"/>
            <a:ext cx="4586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 vert="eaVer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65840" y="4506840"/>
            <a:ext cx="799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65840" y="5256360"/>
            <a:ext cx="799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3691080"/>
            <a:ext cx="76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0" y="4491000"/>
            <a:ext cx="76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59600" y="5253120"/>
            <a:ext cx="763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46640" y="288288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51840" y="369108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51840" y="2908440"/>
            <a:ext cx="0" cy="34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2960" y="2895480"/>
            <a:ext cx="0" cy="34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64440" y="449100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51840" y="525312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691080"/>
            <a:ext cx="67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4491000"/>
            <a:ext cx="67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92960" y="5253120"/>
            <a:ext cx="67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5530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763120" y="6515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Структура Программного совет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360" y="684360"/>
            <a:ext cx="8966520" cy="576900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cc"/>
              </a:gs>
              <a:gs pos="100000">
                <a:srgbClr val="c8c8a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6640" y="687240"/>
            <a:ext cx="7888320" cy="508500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99"/>
              </a:gs>
              <a:gs pos="100000">
                <a:srgbClr val="c0c07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95320" y="687240"/>
            <a:ext cx="7243920" cy="464976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cc"/>
              </a:gs>
              <a:gs pos="100000">
                <a:srgbClr val="d0d0a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62160" y="687240"/>
            <a:ext cx="6522840" cy="4176720"/>
          </a:xfrm>
          <a:prstGeom prst="triangle">
            <a:avLst>
              <a:gd name="adj" fmla="val 49991"/>
            </a:avLst>
          </a:prstGeom>
          <a:gradFill rotWithShape="0">
            <a:gsLst>
              <a:gs pos="0">
                <a:srgbClr val="ffff99"/>
              </a:gs>
              <a:gs pos="100000">
                <a:srgbClr val="b8b86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73360" y="5762520"/>
            <a:ext cx="1817640" cy="674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11800" y="5762520"/>
            <a:ext cx="1879560" cy="67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73360" y="4867200"/>
            <a:ext cx="1754280" cy="469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24400" y="4867200"/>
            <a:ext cx="1854000" cy="469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44560" y="684360"/>
            <a:ext cx="5567400" cy="3566880"/>
          </a:xfrm>
          <a:prstGeom prst="triangle">
            <a:avLst>
              <a:gd name="adj" fmla="val 49991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41320" y="5735520"/>
            <a:ext cx="7535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 р о г р а м м н ы й   с о в е 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2640" y="6067440"/>
            <a:ext cx="113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19240" y="6080040"/>
            <a:ext cx="113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60760" y="6053040"/>
            <a:ext cx="168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96200" y="6067440"/>
            <a:ext cx="2124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ществ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49280" y="5326200"/>
            <a:ext cx="6443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 е к р е т а р и а т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Техническое и организационное обеспе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 Cyr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6400" y="4890960"/>
            <a:ext cx="5262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 к с п е р т н ы е    с о в е т ы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экспертиза програ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85960" y="4249800"/>
            <a:ext cx="749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уководители стратегических направлений - 32 чел. (4 чел.* 8 направлени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утверждение методологии, разработка текстов стратегических програ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5000" y="674640"/>
            <a:ext cx="4662360" cy="2998800"/>
          </a:xfrm>
          <a:prstGeom prst="triangle">
            <a:avLst>
              <a:gd name="adj" fmla="val 49463"/>
            </a:avLst>
          </a:prstGeom>
          <a:gradFill rotWithShape="0">
            <a:gsLst>
              <a:gs pos="0">
                <a:srgbClr val="ffffcc"/>
              </a:gs>
              <a:gs pos="100000">
                <a:srgbClr val="d0d0a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84440" y="3738600"/>
            <a:ext cx="410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ОРДИНАЦИОННЫЙ СОВ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Координация деятель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33600" y="31798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02000" y="3178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4960" y="31780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03360" y="3316320"/>
            <a:ext cx="898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0240" y="3303720"/>
            <a:ext cx="1069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89400" y="3201840"/>
            <a:ext cx="11811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МИНИС-ТР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97560" y="3164040"/>
            <a:ext cx="1352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ЕСТВЕН-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73280" y="2637000"/>
            <a:ext cx="4091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Утверждение проектов стратегических програ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87880" y="1228680"/>
            <a:ext cx="2484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79920" y="1785960"/>
            <a:ext cx="172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14600" y="2049480"/>
            <a:ext cx="1508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ЕДСЕДАТЕЛЬ ГОР. ДУ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65680" y="1859040"/>
            <a:ext cx="12492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ЕДСТАВИ-ТЕЛЬ ФЕД. ОКР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48200" y="2062080"/>
            <a:ext cx="1576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ЕДСТАВИТЕЛЬ ПРАВ.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86200" y="2662200"/>
            <a:ext cx="30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0720" y="1784520"/>
            <a:ext cx="0" cy="89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75200" y="1771560"/>
            <a:ext cx="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16120" y="3174840"/>
            <a:ext cx="386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65530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итет по экономике Администрации Екатеринб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763120" y="6515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828800"/>
            <a:ext cx="1828800" cy="50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1828800" cy="18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герб%20города-" descr=""/>
          <p:cNvPicPr/>
          <p:nvPr/>
        </p:nvPicPr>
        <p:blipFill>
          <a:blip r:embed="rId1"/>
          <a:stretch/>
        </p:blipFill>
        <p:spPr>
          <a:xfrm>
            <a:off x="0" y="304920"/>
            <a:ext cx="1724040" cy="1325520"/>
          </a:xfrm>
          <a:prstGeom prst="rect">
            <a:avLst/>
          </a:prstGeom>
          <a:ln w="0">
            <a:noFill/>
          </a:ln>
        </p:spPr>
      </p:pic>
      <p:grpSp>
        <p:nvGrpSpPr>
          <p:cNvPr id="499" name=""/>
          <p:cNvGrpSpPr/>
          <p:nvPr/>
        </p:nvGrpSpPr>
        <p:grpSpPr>
          <a:xfrm>
            <a:off x="0" y="4952880"/>
            <a:ext cx="1676160" cy="1675800"/>
            <a:chOff x="0" y="4952880"/>
            <a:chExt cx="1676160" cy="1675800"/>
          </a:xfrm>
        </p:grpSpPr>
        <p:sp>
          <p:nvSpPr>
            <p:cNvPr id="500" name=""/>
            <p:cNvSpPr/>
            <p:nvPr/>
          </p:nvSpPr>
          <p:spPr>
            <a:xfrm>
              <a:off x="281160" y="5297040"/>
              <a:ext cx="1079640" cy="984960"/>
            </a:xfrm>
            <a:custGeom>
              <a:avLst/>
              <a:gdLst/>
              <a:ahLst/>
              <a:rect l="l" t="t" r="r" b="b"/>
              <a:pathLst>
                <a:path w="5705" h="5180">
                  <a:moveTo>
                    <a:pt x="9" y="167"/>
                  </a:moveTo>
                  <a:lnTo>
                    <a:pt x="591" y="167"/>
                  </a:lnTo>
                  <a:lnTo>
                    <a:pt x="592" y="287"/>
                  </a:lnTo>
                  <a:lnTo>
                    <a:pt x="702" y="287"/>
                  </a:lnTo>
                  <a:lnTo>
                    <a:pt x="702" y="342"/>
                  </a:lnTo>
                  <a:lnTo>
                    <a:pt x="1775" y="324"/>
                  </a:lnTo>
                  <a:lnTo>
                    <a:pt x="2305" y="5"/>
                  </a:lnTo>
                  <a:lnTo>
                    <a:pt x="3476" y="0"/>
                  </a:lnTo>
                  <a:lnTo>
                    <a:pt x="3901" y="342"/>
                  </a:lnTo>
                  <a:lnTo>
                    <a:pt x="5005" y="342"/>
                  </a:lnTo>
                  <a:lnTo>
                    <a:pt x="5004" y="241"/>
                  </a:lnTo>
                  <a:lnTo>
                    <a:pt x="5088" y="241"/>
                  </a:lnTo>
                  <a:lnTo>
                    <a:pt x="5088" y="171"/>
                  </a:lnTo>
                  <a:lnTo>
                    <a:pt x="5677" y="167"/>
                  </a:lnTo>
                  <a:lnTo>
                    <a:pt x="5677" y="731"/>
                  </a:lnTo>
                  <a:lnTo>
                    <a:pt x="5547" y="731"/>
                  </a:lnTo>
                  <a:lnTo>
                    <a:pt x="5547" y="786"/>
                  </a:lnTo>
                  <a:lnTo>
                    <a:pt x="5473" y="786"/>
                  </a:lnTo>
                  <a:lnTo>
                    <a:pt x="5483" y="2415"/>
                  </a:lnTo>
                  <a:lnTo>
                    <a:pt x="5705" y="2673"/>
                  </a:lnTo>
                  <a:lnTo>
                    <a:pt x="5473" y="2895"/>
                  </a:lnTo>
                  <a:lnTo>
                    <a:pt x="5473" y="4431"/>
                  </a:lnTo>
                  <a:lnTo>
                    <a:pt x="5600" y="4429"/>
                  </a:lnTo>
                  <a:lnTo>
                    <a:pt x="5603" y="4505"/>
                  </a:lnTo>
                  <a:lnTo>
                    <a:pt x="5677" y="4505"/>
                  </a:lnTo>
                  <a:lnTo>
                    <a:pt x="5677" y="5078"/>
                  </a:lnTo>
                  <a:lnTo>
                    <a:pt x="5103" y="5088"/>
                  </a:lnTo>
                  <a:lnTo>
                    <a:pt x="5103" y="5010"/>
                  </a:lnTo>
                  <a:lnTo>
                    <a:pt x="5006" y="5009"/>
                  </a:lnTo>
                  <a:lnTo>
                    <a:pt x="5006" y="4929"/>
                  </a:lnTo>
                  <a:lnTo>
                    <a:pt x="3633" y="4929"/>
                  </a:lnTo>
                  <a:lnTo>
                    <a:pt x="3356" y="5180"/>
                  </a:lnTo>
                  <a:lnTo>
                    <a:pt x="2347" y="5180"/>
                  </a:lnTo>
                  <a:lnTo>
                    <a:pt x="2129" y="4929"/>
                  </a:lnTo>
                  <a:lnTo>
                    <a:pt x="730" y="4930"/>
                  </a:lnTo>
                  <a:lnTo>
                    <a:pt x="730" y="5014"/>
                  </a:lnTo>
                  <a:lnTo>
                    <a:pt x="637" y="5014"/>
                  </a:lnTo>
                  <a:lnTo>
                    <a:pt x="638" y="5162"/>
                  </a:lnTo>
                  <a:lnTo>
                    <a:pt x="56" y="5162"/>
                  </a:lnTo>
                  <a:lnTo>
                    <a:pt x="55" y="4579"/>
                  </a:lnTo>
                  <a:lnTo>
                    <a:pt x="129" y="4579"/>
                  </a:lnTo>
                  <a:lnTo>
                    <a:pt x="129" y="4458"/>
                  </a:lnTo>
                  <a:lnTo>
                    <a:pt x="203" y="4458"/>
                  </a:lnTo>
                  <a:lnTo>
                    <a:pt x="203" y="2895"/>
                  </a:lnTo>
                  <a:lnTo>
                    <a:pt x="0" y="2664"/>
                  </a:lnTo>
                  <a:lnTo>
                    <a:pt x="194" y="2415"/>
                  </a:lnTo>
                  <a:lnTo>
                    <a:pt x="205" y="807"/>
                  </a:lnTo>
                  <a:lnTo>
                    <a:pt x="129" y="805"/>
                  </a:lnTo>
                  <a:lnTo>
                    <a:pt x="129" y="722"/>
                  </a:lnTo>
                  <a:lnTo>
                    <a:pt x="9" y="722"/>
                  </a:lnTo>
                  <a:lnTo>
                    <a:pt x="9" y="16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7520" y="5370120"/>
              <a:ext cx="1009800" cy="874800"/>
            </a:xfrm>
            <a:custGeom>
              <a:avLst/>
              <a:gdLst/>
              <a:ahLst/>
              <a:rect l="l" t="t" r="r" b="b"/>
              <a:pathLst>
                <a:path w="5356" h="4593">
                  <a:moveTo>
                    <a:pt x="368" y="130"/>
                  </a:moveTo>
                  <a:lnTo>
                    <a:pt x="4951" y="130"/>
                  </a:lnTo>
                  <a:lnTo>
                    <a:pt x="4951" y="0"/>
                  </a:lnTo>
                  <a:lnTo>
                    <a:pt x="5265" y="0"/>
                  </a:lnTo>
                  <a:lnTo>
                    <a:pt x="5265" y="314"/>
                  </a:lnTo>
                  <a:lnTo>
                    <a:pt x="5142" y="314"/>
                  </a:lnTo>
                  <a:lnTo>
                    <a:pt x="5142" y="2043"/>
                  </a:lnTo>
                  <a:lnTo>
                    <a:pt x="5356" y="2273"/>
                  </a:lnTo>
                  <a:lnTo>
                    <a:pt x="5142" y="2496"/>
                  </a:lnTo>
                  <a:lnTo>
                    <a:pt x="5142" y="4195"/>
                  </a:lnTo>
                  <a:lnTo>
                    <a:pt x="5265" y="4195"/>
                  </a:lnTo>
                  <a:lnTo>
                    <a:pt x="5265" y="4508"/>
                  </a:lnTo>
                  <a:lnTo>
                    <a:pt x="4951" y="4508"/>
                  </a:lnTo>
                  <a:lnTo>
                    <a:pt x="4951" y="4333"/>
                  </a:lnTo>
                  <a:lnTo>
                    <a:pt x="3390" y="4333"/>
                  </a:lnTo>
                  <a:lnTo>
                    <a:pt x="3115" y="4593"/>
                  </a:lnTo>
                  <a:lnTo>
                    <a:pt x="3115" y="4333"/>
                  </a:lnTo>
                  <a:lnTo>
                    <a:pt x="2220" y="4333"/>
                  </a:lnTo>
                  <a:lnTo>
                    <a:pt x="2220" y="4577"/>
                  </a:lnTo>
                  <a:lnTo>
                    <a:pt x="1943" y="4333"/>
                  </a:lnTo>
                  <a:lnTo>
                    <a:pt x="368" y="4333"/>
                  </a:lnTo>
                  <a:lnTo>
                    <a:pt x="368" y="4508"/>
                  </a:lnTo>
                  <a:lnTo>
                    <a:pt x="54" y="4508"/>
                  </a:lnTo>
                  <a:lnTo>
                    <a:pt x="54" y="4195"/>
                  </a:lnTo>
                  <a:lnTo>
                    <a:pt x="207" y="4195"/>
                  </a:lnTo>
                  <a:lnTo>
                    <a:pt x="207" y="2511"/>
                  </a:lnTo>
                  <a:lnTo>
                    <a:pt x="0" y="2281"/>
                  </a:lnTo>
                  <a:lnTo>
                    <a:pt x="207" y="2036"/>
                  </a:lnTo>
                  <a:lnTo>
                    <a:pt x="207" y="314"/>
                  </a:lnTo>
                  <a:lnTo>
                    <a:pt x="54" y="314"/>
                  </a:lnTo>
                  <a:lnTo>
                    <a:pt x="54" y="0"/>
                  </a:lnTo>
                  <a:lnTo>
                    <a:pt x="368" y="0"/>
                  </a:lnTo>
                  <a:lnTo>
                    <a:pt x="368" y="13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0520" y="5827680"/>
              <a:ext cx="5112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88720" y="5430960"/>
              <a:ext cx="5400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88720" y="5827680"/>
              <a:ext cx="54000" cy="3286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0520" y="5430960"/>
              <a:ext cx="51120" cy="33228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1340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5840" y="542808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13400" y="6111000"/>
              <a:ext cx="14184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2240" y="6111000"/>
              <a:ext cx="14256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1080" y="5595480"/>
              <a:ext cx="126720" cy="155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13400" y="5599080"/>
              <a:ext cx="84240" cy="1519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27880" y="5711760"/>
              <a:ext cx="2448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7320" y="5827680"/>
              <a:ext cx="72720" cy="57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5960" y="6034320"/>
              <a:ext cx="99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0160" y="5998680"/>
              <a:ext cx="5112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0160" y="5940360"/>
              <a:ext cx="6300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1400" y="5955480"/>
              <a:ext cx="19332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760" y="5995080"/>
              <a:ext cx="14760" cy="39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7000" y="5995080"/>
              <a:ext cx="21240" cy="42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7000" y="604980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7000" y="6071040"/>
              <a:ext cx="54000" cy="12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1480" y="6074640"/>
              <a:ext cx="57600" cy="115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0144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5080" y="5982480"/>
              <a:ext cx="11520" cy="57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3360" y="6007320"/>
              <a:ext cx="29880" cy="33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000" y="6104880"/>
              <a:ext cx="60120" cy="66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6080" y="6107760"/>
              <a:ext cx="540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4960" y="5915520"/>
              <a:ext cx="81360" cy="792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9320" y="5885280"/>
              <a:ext cx="39600" cy="518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2880" y="5754600"/>
              <a:ext cx="63000" cy="63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6360" y="5766120"/>
              <a:ext cx="60840" cy="48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0160" y="5824440"/>
              <a:ext cx="932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6920" y="5860800"/>
              <a:ext cx="93960" cy="18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1560" y="5858280"/>
              <a:ext cx="3348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5000" y="5827680"/>
              <a:ext cx="18360" cy="15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5000" y="5858280"/>
              <a:ext cx="18360" cy="176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89200" y="5830560"/>
              <a:ext cx="1836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46360" y="5827680"/>
              <a:ext cx="18360" cy="72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91720" y="5876280"/>
              <a:ext cx="18360" cy="273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280" y="5900400"/>
              <a:ext cx="257040" cy="371520"/>
            </a:xfrm>
            <a:custGeom>
              <a:avLst/>
              <a:gdLst/>
              <a:ahLst/>
              <a:rect l="l" t="t" r="r" b="b"/>
              <a:pathLst>
                <a:path w="1362" h="1968">
                  <a:moveTo>
                    <a:pt x="0" y="368"/>
                  </a:moveTo>
                  <a:lnTo>
                    <a:pt x="15" y="378"/>
                  </a:lnTo>
                  <a:lnTo>
                    <a:pt x="32" y="387"/>
                  </a:lnTo>
                  <a:lnTo>
                    <a:pt x="50" y="396"/>
                  </a:lnTo>
                  <a:lnTo>
                    <a:pt x="69" y="405"/>
                  </a:lnTo>
                  <a:lnTo>
                    <a:pt x="111" y="424"/>
                  </a:lnTo>
                  <a:lnTo>
                    <a:pt x="157" y="442"/>
                  </a:lnTo>
                  <a:lnTo>
                    <a:pt x="255" y="481"/>
                  </a:lnTo>
                  <a:lnTo>
                    <a:pt x="356" y="521"/>
                  </a:lnTo>
                  <a:lnTo>
                    <a:pt x="404" y="543"/>
                  </a:lnTo>
                  <a:lnTo>
                    <a:pt x="450" y="566"/>
                  </a:lnTo>
                  <a:lnTo>
                    <a:pt x="472" y="578"/>
                  </a:lnTo>
                  <a:lnTo>
                    <a:pt x="493" y="589"/>
                  </a:lnTo>
                  <a:lnTo>
                    <a:pt x="513" y="602"/>
                  </a:lnTo>
                  <a:lnTo>
                    <a:pt x="531" y="614"/>
                  </a:lnTo>
                  <a:lnTo>
                    <a:pt x="549" y="627"/>
                  </a:lnTo>
                  <a:lnTo>
                    <a:pt x="564" y="641"/>
                  </a:lnTo>
                  <a:lnTo>
                    <a:pt x="579" y="654"/>
                  </a:lnTo>
                  <a:lnTo>
                    <a:pt x="591" y="667"/>
                  </a:lnTo>
                  <a:lnTo>
                    <a:pt x="601" y="682"/>
                  </a:lnTo>
                  <a:lnTo>
                    <a:pt x="610" y="697"/>
                  </a:lnTo>
                  <a:lnTo>
                    <a:pt x="616" y="712"/>
                  </a:lnTo>
                  <a:lnTo>
                    <a:pt x="620" y="727"/>
                  </a:lnTo>
                  <a:lnTo>
                    <a:pt x="622" y="745"/>
                  </a:lnTo>
                  <a:lnTo>
                    <a:pt x="624" y="764"/>
                  </a:lnTo>
                  <a:lnTo>
                    <a:pt x="625" y="785"/>
                  </a:lnTo>
                  <a:lnTo>
                    <a:pt x="625" y="807"/>
                  </a:lnTo>
                  <a:lnTo>
                    <a:pt x="625" y="859"/>
                  </a:lnTo>
                  <a:lnTo>
                    <a:pt x="622" y="914"/>
                  </a:lnTo>
                  <a:lnTo>
                    <a:pt x="619" y="975"/>
                  </a:lnTo>
                  <a:lnTo>
                    <a:pt x="615" y="1040"/>
                  </a:lnTo>
                  <a:lnTo>
                    <a:pt x="611" y="1105"/>
                  </a:lnTo>
                  <a:lnTo>
                    <a:pt x="607" y="1172"/>
                  </a:lnTo>
                  <a:lnTo>
                    <a:pt x="603" y="1239"/>
                  </a:lnTo>
                  <a:lnTo>
                    <a:pt x="601" y="1305"/>
                  </a:lnTo>
                  <a:lnTo>
                    <a:pt x="601" y="1337"/>
                  </a:lnTo>
                  <a:lnTo>
                    <a:pt x="602" y="1367"/>
                  </a:lnTo>
                  <a:lnTo>
                    <a:pt x="603" y="1397"/>
                  </a:lnTo>
                  <a:lnTo>
                    <a:pt x="604" y="1426"/>
                  </a:lnTo>
                  <a:lnTo>
                    <a:pt x="608" y="1454"/>
                  </a:lnTo>
                  <a:lnTo>
                    <a:pt x="611" y="1480"/>
                  </a:lnTo>
                  <a:lnTo>
                    <a:pt x="615" y="1505"/>
                  </a:lnTo>
                  <a:lnTo>
                    <a:pt x="620" y="1528"/>
                  </a:lnTo>
                  <a:lnTo>
                    <a:pt x="625" y="1549"/>
                  </a:lnTo>
                  <a:lnTo>
                    <a:pt x="632" y="1568"/>
                  </a:lnTo>
                  <a:lnTo>
                    <a:pt x="640" y="1585"/>
                  </a:lnTo>
                  <a:lnTo>
                    <a:pt x="651" y="1600"/>
                  </a:lnTo>
                  <a:lnTo>
                    <a:pt x="691" y="1653"/>
                  </a:lnTo>
                  <a:lnTo>
                    <a:pt x="732" y="1705"/>
                  </a:lnTo>
                  <a:lnTo>
                    <a:pt x="772" y="1754"/>
                  </a:lnTo>
                  <a:lnTo>
                    <a:pt x="807" y="1801"/>
                  </a:lnTo>
                  <a:lnTo>
                    <a:pt x="823" y="1824"/>
                  </a:lnTo>
                  <a:lnTo>
                    <a:pt x="837" y="1845"/>
                  </a:lnTo>
                  <a:lnTo>
                    <a:pt x="849" y="1867"/>
                  </a:lnTo>
                  <a:lnTo>
                    <a:pt x="859" y="1889"/>
                  </a:lnTo>
                  <a:lnTo>
                    <a:pt x="863" y="1899"/>
                  </a:lnTo>
                  <a:lnTo>
                    <a:pt x="866" y="1909"/>
                  </a:lnTo>
                  <a:lnTo>
                    <a:pt x="870" y="1920"/>
                  </a:lnTo>
                  <a:lnTo>
                    <a:pt x="872" y="1929"/>
                  </a:lnTo>
                  <a:lnTo>
                    <a:pt x="873" y="1939"/>
                  </a:lnTo>
                  <a:lnTo>
                    <a:pt x="874" y="1948"/>
                  </a:lnTo>
                  <a:lnTo>
                    <a:pt x="874" y="1959"/>
                  </a:lnTo>
                  <a:lnTo>
                    <a:pt x="873" y="1968"/>
                  </a:lnTo>
                  <a:lnTo>
                    <a:pt x="866" y="1953"/>
                  </a:lnTo>
                  <a:lnTo>
                    <a:pt x="861" y="1939"/>
                  </a:lnTo>
                  <a:lnTo>
                    <a:pt x="855" y="1926"/>
                  </a:lnTo>
                  <a:lnTo>
                    <a:pt x="848" y="1912"/>
                  </a:lnTo>
                  <a:lnTo>
                    <a:pt x="834" y="1887"/>
                  </a:lnTo>
                  <a:lnTo>
                    <a:pt x="819" y="1861"/>
                  </a:lnTo>
                  <a:lnTo>
                    <a:pt x="788" y="1813"/>
                  </a:lnTo>
                  <a:lnTo>
                    <a:pt x="761" y="1766"/>
                  </a:lnTo>
                  <a:lnTo>
                    <a:pt x="754" y="1755"/>
                  </a:lnTo>
                  <a:lnTo>
                    <a:pt x="748" y="1744"/>
                  </a:lnTo>
                  <a:lnTo>
                    <a:pt x="743" y="1732"/>
                  </a:lnTo>
                  <a:lnTo>
                    <a:pt x="739" y="1721"/>
                  </a:lnTo>
                  <a:lnTo>
                    <a:pt x="736" y="1710"/>
                  </a:lnTo>
                  <a:lnTo>
                    <a:pt x="733" y="1697"/>
                  </a:lnTo>
                  <a:lnTo>
                    <a:pt x="731" y="1686"/>
                  </a:lnTo>
                  <a:lnTo>
                    <a:pt x="729" y="1675"/>
                  </a:lnTo>
                  <a:lnTo>
                    <a:pt x="729" y="1664"/>
                  </a:lnTo>
                  <a:lnTo>
                    <a:pt x="730" y="1651"/>
                  </a:lnTo>
                  <a:lnTo>
                    <a:pt x="731" y="1639"/>
                  </a:lnTo>
                  <a:lnTo>
                    <a:pt x="734" y="1628"/>
                  </a:lnTo>
                  <a:lnTo>
                    <a:pt x="738" y="1615"/>
                  </a:lnTo>
                  <a:lnTo>
                    <a:pt x="743" y="1603"/>
                  </a:lnTo>
                  <a:lnTo>
                    <a:pt x="749" y="1590"/>
                  </a:lnTo>
                  <a:lnTo>
                    <a:pt x="758" y="1577"/>
                  </a:lnTo>
                  <a:lnTo>
                    <a:pt x="792" y="1527"/>
                  </a:lnTo>
                  <a:lnTo>
                    <a:pt x="827" y="1480"/>
                  </a:lnTo>
                  <a:lnTo>
                    <a:pt x="862" y="1434"/>
                  </a:lnTo>
                  <a:lnTo>
                    <a:pt x="894" y="1392"/>
                  </a:lnTo>
                  <a:lnTo>
                    <a:pt x="909" y="1373"/>
                  </a:lnTo>
                  <a:lnTo>
                    <a:pt x="923" y="1353"/>
                  </a:lnTo>
                  <a:lnTo>
                    <a:pt x="936" y="1334"/>
                  </a:lnTo>
                  <a:lnTo>
                    <a:pt x="948" y="1316"/>
                  </a:lnTo>
                  <a:lnTo>
                    <a:pt x="958" y="1298"/>
                  </a:lnTo>
                  <a:lnTo>
                    <a:pt x="967" y="1281"/>
                  </a:lnTo>
                  <a:lnTo>
                    <a:pt x="974" y="1264"/>
                  </a:lnTo>
                  <a:lnTo>
                    <a:pt x="980" y="1248"/>
                  </a:lnTo>
                  <a:lnTo>
                    <a:pt x="982" y="1240"/>
                  </a:lnTo>
                  <a:lnTo>
                    <a:pt x="983" y="1230"/>
                  </a:lnTo>
                  <a:lnTo>
                    <a:pt x="984" y="1219"/>
                  </a:lnTo>
                  <a:lnTo>
                    <a:pt x="984" y="1207"/>
                  </a:lnTo>
                  <a:lnTo>
                    <a:pt x="984" y="1179"/>
                  </a:lnTo>
                  <a:lnTo>
                    <a:pt x="983" y="1149"/>
                  </a:lnTo>
                  <a:lnTo>
                    <a:pt x="981" y="1113"/>
                  </a:lnTo>
                  <a:lnTo>
                    <a:pt x="978" y="1073"/>
                  </a:lnTo>
                  <a:lnTo>
                    <a:pt x="975" y="1031"/>
                  </a:lnTo>
                  <a:lnTo>
                    <a:pt x="973" y="985"/>
                  </a:lnTo>
                  <a:lnTo>
                    <a:pt x="971" y="936"/>
                  </a:lnTo>
                  <a:lnTo>
                    <a:pt x="970" y="883"/>
                  </a:lnTo>
                  <a:lnTo>
                    <a:pt x="971" y="829"/>
                  </a:lnTo>
                  <a:lnTo>
                    <a:pt x="972" y="771"/>
                  </a:lnTo>
                  <a:lnTo>
                    <a:pt x="974" y="741"/>
                  </a:lnTo>
                  <a:lnTo>
                    <a:pt x="976" y="712"/>
                  </a:lnTo>
                  <a:lnTo>
                    <a:pt x="980" y="681"/>
                  </a:lnTo>
                  <a:lnTo>
                    <a:pt x="983" y="650"/>
                  </a:lnTo>
                  <a:lnTo>
                    <a:pt x="987" y="618"/>
                  </a:lnTo>
                  <a:lnTo>
                    <a:pt x="991" y="586"/>
                  </a:lnTo>
                  <a:lnTo>
                    <a:pt x="996" y="553"/>
                  </a:lnTo>
                  <a:lnTo>
                    <a:pt x="1002" y="520"/>
                  </a:lnTo>
                  <a:lnTo>
                    <a:pt x="1009" y="489"/>
                  </a:lnTo>
                  <a:lnTo>
                    <a:pt x="1018" y="457"/>
                  </a:lnTo>
                  <a:lnTo>
                    <a:pt x="1027" y="427"/>
                  </a:lnTo>
                  <a:lnTo>
                    <a:pt x="1037" y="397"/>
                  </a:lnTo>
                  <a:lnTo>
                    <a:pt x="1048" y="369"/>
                  </a:lnTo>
                  <a:lnTo>
                    <a:pt x="1061" y="343"/>
                  </a:lnTo>
                  <a:lnTo>
                    <a:pt x="1074" y="316"/>
                  </a:lnTo>
                  <a:lnTo>
                    <a:pt x="1087" y="291"/>
                  </a:lnTo>
                  <a:lnTo>
                    <a:pt x="1102" y="268"/>
                  </a:lnTo>
                  <a:lnTo>
                    <a:pt x="1116" y="244"/>
                  </a:lnTo>
                  <a:lnTo>
                    <a:pt x="1131" y="222"/>
                  </a:lnTo>
                  <a:lnTo>
                    <a:pt x="1146" y="202"/>
                  </a:lnTo>
                  <a:lnTo>
                    <a:pt x="1161" y="182"/>
                  </a:lnTo>
                  <a:lnTo>
                    <a:pt x="1177" y="163"/>
                  </a:lnTo>
                  <a:lnTo>
                    <a:pt x="1192" y="145"/>
                  </a:lnTo>
                  <a:lnTo>
                    <a:pt x="1208" y="129"/>
                  </a:lnTo>
                  <a:lnTo>
                    <a:pt x="1237" y="99"/>
                  </a:lnTo>
                  <a:lnTo>
                    <a:pt x="1266" y="72"/>
                  </a:lnTo>
                  <a:lnTo>
                    <a:pt x="1292" y="51"/>
                  </a:lnTo>
                  <a:lnTo>
                    <a:pt x="1316" y="32"/>
                  </a:lnTo>
                  <a:lnTo>
                    <a:pt x="1349" y="8"/>
                  </a:lnTo>
                  <a:lnTo>
                    <a:pt x="1362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0400" y="5748120"/>
              <a:ext cx="332640" cy="2124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4952880"/>
              <a:ext cx="1676160" cy="1563480"/>
            </a:xfrm>
            <a:custGeom>
              <a:avLst/>
              <a:gdLst/>
              <a:ahLst/>
              <a:rect l="l" t="t" r="r" b="b"/>
              <a:pathLst>
                <a:path w="8861" h="8219">
                  <a:moveTo>
                    <a:pt x="1880" y="7850"/>
                  </a:moveTo>
                  <a:lnTo>
                    <a:pt x="2026" y="7910"/>
                  </a:lnTo>
                  <a:lnTo>
                    <a:pt x="2022" y="7921"/>
                  </a:lnTo>
                  <a:lnTo>
                    <a:pt x="2018" y="7932"/>
                  </a:lnTo>
                  <a:lnTo>
                    <a:pt x="2016" y="7942"/>
                  </a:lnTo>
                  <a:lnTo>
                    <a:pt x="2015" y="7951"/>
                  </a:lnTo>
                  <a:lnTo>
                    <a:pt x="2014" y="7962"/>
                  </a:lnTo>
                  <a:lnTo>
                    <a:pt x="2014" y="7971"/>
                  </a:lnTo>
                  <a:lnTo>
                    <a:pt x="2016" y="7980"/>
                  </a:lnTo>
                  <a:lnTo>
                    <a:pt x="2018" y="7988"/>
                  </a:lnTo>
                  <a:lnTo>
                    <a:pt x="2021" y="7998"/>
                  </a:lnTo>
                  <a:lnTo>
                    <a:pt x="2024" y="8006"/>
                  </a:lnTo>
                  <a:lnTo>
                    <a:pt x="2029" y="8014"/>
                  </a:lnTo>
                  <a:lnTo>
                    <a:pt x="2034" y="8021"/>
                  </a:lnTo>
                  <a:lnTo>
                    <a:pt x="2040" y="8028"/>
                  </a:lnTo>
                  <a:lnTo>
                    <a:pt x="2049" y="8036"/>
                  </a:lnTo>
                  <a:lnTo>
                    <a:pt x="2056" y="8042"/>
                  </a:lnTo>
                  <a:lnTo>
                    <a:pt x="2065" y="8048"/>
                  </a:lnTo>
                  <a:lnTo>
                    <a:pt x="2077" y="8055"/>
                  </a:lnTo>
                  <a:lnTo>
                    <a:pt x="2090" y="8061"/>
                  </a:lnTo>
                  <a:lnTo>
                    <a:pt x="2103" y="8065"/>
                  </a:lnTo>
                  <a:lnTo>
                    <a:pt x="2115" y="8068"/>
                  </a:lnTo>
                  <a:lnTo>
                    <a:pt x="2128" y="8070"/>
                  </a:lnTo>
                  <a:lnTo>
                    <a:pt x="2141" y="8070"/>
                  </a:lnTo>
                  <a:lnTo>
                    <a:pt x="2153" y="8068"/>
                  </a:lnTo>
                  <a:lnTo>
                    <a:pt x="2167" y="8065"/>
                  </a:lnTo>
                  <a:lnTo>
                    <a:pt x="2179" y="8060"/>
                  </a:lnTo>
                  <a:lnTo>
                    <a:pt x="2192" y="8053"/>
                  </a:lnTo>
                  <a:lnTo>
                    <a:pt x="2205" y="8045"/>
                  </a:lnTo>
                  <a:lnTo>
                    <a:pt x="2218" y="8034"/>
                  </a:lnTo>
                  <a:lnTo>
                    <a:pt x="2230" y="8021"/>
                  </a:lnTo>
                  <a:lnTo>
                    <a:pt x="2244" y="8006"/>
                  </a:lnTo>
                  <a:lnTo>
                    <a:pt x="2257" y="7989"/>
                  </a:lnTo>
                  <a:lnTo>
                    <a:pt x="2269" y="7970"/>
                  </a:lnTo>
                  <a:lnTo>
                    <a:pt x="2283" y="7948"/>
                  </a:lnTo>
                  <a:lnTo>
                    <a:pt x="2295" y="7928"/>
                  </a:lnTo>
                  <a:lnTo>
                    <a:pt x="2304" y="7908"/>
                  </a:lnTo>
                  <a:lnTo>
                    <a:pt x="2312" y="7889"/>
                  </a:lnTo>
                  <a:lnTo>
                    <a:pt x="2317" y="7871"/>
                  </a:lnTo>
                  <a:lnTo>
                    <a:pt x="2321" y="7855"/>
                  </a:lnTo>
                  <a:lnTo>
                    <a:pt x="2322" y="7839"/>
                  </a:lnTo>
                  <a:lnTo>
                    <a:pt x="2322" y="7825"/>
                  </a:lnTo>
                  <a:lnTo>
                    <a:pt x="2320" y="7810"/>
                  </a:lnTo>
                  <a:lnTo>
                    <a:pt x="2316" y="7798"/>
                  </a:lnTo>
                  <a:lnTo>
                    <a:pt x="2311" y="7786"/>
                  </a:lnTo>
                  <a:lnTo>
                    <a:pt x="2304" y="7774"/>
                  </a:lnTo>
                  <a:lnTo>
                    <a:pt x="2297" y="7763"/>
                  </a:lnTo>
                  <a:lnTo>
                    <a:pt x="2288" y="7754"/>
                  </a:lnTo>
                  <a:lnTo>
                    <a:pt x="2277" y="7745"/>
                  </a:lnTo>
                  <a:lnTo>
                    <a:pt x="2265" y="7735"/>
                  </a:lnTo>
                  <a:lnTo>
                    <a:pt x="2256" y="7730"/>
                  </a:lnTo>
                  <a:lnTo>
                    <a:pt x="2246" y="7725"/>
                  </a:lnTo>
                  <a:lnTo>
                    <a:pt x="2237" y="7721"/>
                  </a:lnTo>
                  <a:lnTo>
                    <a:pt x="2227" y="7719"/>
                  </a:lnTo>
                  <a:lnTo>
                    <a:pt x="2218" y="7717"/>
                  </a:lnTo>
                  <a:lnTo>
                    <a:pt x="2209" y="7716"/>
                  </a:lnTo>
                  <a:lnTo>
                    <a:pt x="2199" y="7716"/>
                  </a:lnTo>
                  <a:lnTo>
                    <a:pt x="2189" y="7717"/>
                  </a:lnTo>
                  <a:lnTo>
                    <a:pt x="2180" y="7719"/>
                  </a:lnTo>
                  <a:lnTo>
                    <a:pt x="2170" y="7722"/>
                  </a:lnTo>
                  <a:lnTo>
                    <a:pt x="2161" y="7727"/>
                  </a:lnTo>
                  <a:lnTo>
                    <a:pt x="2150" y="7732"/>
                  </a:lnTo>
                  <a:lnTo>
                    <a:pt x="2140" y="7740"/>
                  </a:lnTo>
                  <a:lnTo>
                    <a:pt x="2130" y="7748"/>
                  </a:lnTo>
                  <a:lnTo>
                    <a:pt x="2118" y="7758"/>
                  </a:lnTo>
                  <a:lnTo>
                    <a:pt x="2108" y="7768"/>
                  </a:lnTo>
                  <a:lnTo>
                    <a:pt x="1992" y="7661"/>
                  </a:lnTo>
                  <a:lnTo>
                    <a:pt x="2012" y="7644"/>
                  </a:lnTo>
                  <a:lnTo>
                    <a:pt x="2032" y="7627"/>
                  </a:lnTo>
                  <a:lnTo>
                    <a:pt x="2052" y="7614"/>
                  </a:lnTo>
                  <a:lnTo>
                    <a:pt x="2072" y="7603"/>
                  </a:lnTo>
                  <a:lnTo>
                    <a:pt x="2082" y="7598"/>
                  </a:lnTo>
                  <a:lnTo>
                    <a:pt x="2094" y="7593"/>
                  </a:lnTo>
                  <a:lnTo>
                    <a:pt x="2104" y="7589"/>
                  </a:lnTo>
                  <a:lnTo>
                    <a:pt x="2114" y="7585"/>
                  </a:lnTo>
                  <a:lnTo>
                    <a:pt x="2126" y="7582"/>
                  </a:lnTo>
                  <a:lnTo>
                    <a:pt x="2136" y="7580"/>
                  </a:lnTo>
                  <a:lnTo>
                    <a:pt x="2147" y="7578"/>
                  </a:lnTo>
                  <a:lnTo>
                    <a:pt x="2157" y="7577"/>
                  </a:lnTo>
                  <a:lnTo>
                    <a:pt x="2169" y="7576"/>
                  </a:lnTo>
                  <a:lnTo>
                    <a:pt x="2180" y="7576"/>
                  </a:lnTo>
                  <a:lnTo>
                    <a:pt x="2190" y="7576"/>
                  </a:lnTo>
                  <a:lnTo>
                    <a:pt x="2202" y="7577"/>
                  </a:lnTo>
                  <a:lnTo>
                    <a:pt x="2213" y="7579"/>
                  </a:lnTo>
                  <a:lnTo>
                    <a:pt x="2224" y="7581"/>
                  </a:lnTo>
                  <a:lnTo>
                    <a:pt x="2236" y="7583"/>
                  </a:lnTo>
                  <a:lnTo>
                    <a:pt x="2247" y="7586"/>
                  </a:lnTo>
                  <a:lnTo>
                    <a:pt x="2271" y="7595"/>
                  </a:lnTo>
                  <a:lnTo>
                    <a:pt x="2294" y="7605"/>
                  </a:lnTo>
                  <a:lnTo>
                    <a:pt x="2318" y="7617"/>
                  </a:lnTo>
                  <a:lnTo>
                    <a:pt x="2341" y="7632"/>
                  </a:lnTo>
                  <a:lnTo>
                    <a:pt x="2355" y="7641"/>
                  </a:lnTo>
                  <a:lnTo>
                    <a:pt x="2367" y="7650"/>
                  </a:lnTo>
                  <a:lnTo>
                    <a:pt x="2379" y="7659"/>
                  </a:lnTo>
                  <a:lnTo>
                    <a:pt x="2391" y="7670"/>
                  </a:lnTo>
                  <a:lnTo>
                    <a:pt x="2401" y="7680"/>
                  </a:lnTo>
                  <a:lnTo>
                    <a:pt x="2411" y="7691"/>
                  </a:lnTo>
                  <a:lnTo>
                    <a:pt x="2421" y="7701"/>
                  </a:lnTo>
                  <a:lnTo>
                    <a:pt x="2429" y="7713"/>
                  </a:lnTo>
                  <a:lnTo>
                    <a:pt x="2437" y="7724"/>
                  </a:lnTo>
                  <a:lnTo>
                    <a:pt x="2444" y="7736"/>
                  </a:lnTo>
                  <a:lnTo>
                    <a:pt x="2450" y="7749"/>
                  </a:lnTo>
                  <a:lnTo>
                    <a:pt x="2455" y="7761"/>
                  </a:lnTo>
                  <a:lnTo>
                    <a:pt x="2461" y="7774"/>
                  </a:lnTo>
                  <a:lnTo>
                    <a:pt x="2465" y="7787"/>
                  </a:lnTo>
                  <a:lnTo>
                    <a:pt x="2469" y="7801"/>
                  </a:lnTo>
                  <a:lnTo>
                    <a:pt x="2472" y="7815"/>
                  </a:lnTo>
                  <a:lnTo>
                    <a:pt x="2474" y="7829"/>
                  </a:lnTo>
                  <a:lnTo>
                    <a:pt x="2475" y="7842"/>
                  </a:lnTo>
                  <a:lnTo>
                    <a:pt x="2476" y="7857"/>
                  </a:lnTo>
                  <a:lnTo>
                    <a:pt x="2476" y="7871"/>
                  </a:lnTo>
                  <a:lnTo>
                    <a:pt x="2475" y="7886"/>
                  </a:lnTo>
                  <a:lnTo>
                    <a:pt x="2473" y="7900"/>
                  </a:lnTo>
                  <a:lnTo>
                    <a:pt x="2470" y="7914"/>
                  </a:lnTo>
                  <a:lnTo>
                    <a:pt x="2467" y="7929"/>
                  </a:lnTo>
                  <a:lnTo>
                    <a:pt x="2463" y="7944"/>
                  </a:lnTo>
                  <a:lnTo>
                    <a:pt x="2458" y="7958"/>
                  </a:lnTo>
                  <a:lnTo>
                    <a:pt x="2452" y="7974"/>
                  </a:lnTo>
                  <a:lnTo>
                    <a:pt x="2446" y="7988"/>
                  </a:lnTo>
                  <a:lnTo>
                    <a:pt x="2439" y="8004"/>
                  </a:lnTo>
                  <a:lnTo>
                    <a:pt x="2431" y="8018"/>
                  </a:lnTo>
                  <a:lnTo>
                    <a:pt x="2422" y="8034"/>
                  </a:lnTo>
                  <a:lnTo>
                    <a:pt x="2412" y="8049"/>
                  </a:lnTo>
                  <a:lnTo>
                    <a:pt x="2402" y="8064"/>
                  </a:lnTo>
                  <a:lnTo>
                    <a:pt x="2392" y="8079"/>
                  </a:lnTo>
                  <a:lnTo>
                    <a:pt x="2381" y="8092"/>
                  </a:lnTo>
                  <a:lnTo>
                    <a:pt x="2370" y="8104"/>
                  </a:lnTo>
                  <a:lnTo>
                    <a:pt x="2359" y="8117"/>
                  </a:lnTo>
                  <a:lnTo>
                    <a:pt x="2348" y="8128"/>
                  </a:lnTo>
                  <a:lnTo>
                    <a:pt x="2336" y="8138"/>
                  </a:lnTo>
                  <a:lnTo>
                    <a:pt x="2324" y="8149"/>
                  </a:lnTo>
                  <a:lnTo>
                    <a:pt x="2313" y="8158"/>
                  </a:lnTo>
                  <a:lnTo>
                    <a:pt x="2300" y="8166"/>
                  </a:lnTo>
                  <a:lnTo>
                    <a:pt x="2288" y="8173"/>
                  </a:lnTo>
                  <a:lnTo>
                    <a:pt x="2275" y="8181"/>
                  </a:lnTo>
                  <a:lnTo>
                    <a:pt x="2261" y="8186"/>
                  </a:lnTo>
                  <a:lnTo>
                    <a:pt x="2249" y="8192"/>
                  </a:lnTo>
                  <a:lnTo>
                    <a:pt x="2236" y="8196"/>
                  </a:lnTo>
                  <a:lnTo>
                    <a:pt x="2221" y="8199"/>
                  </a:lnTo>
                  <a:lnTo>
                    <a:pt x="2208" y="8202"/>
                  </a:lnTo>
                  <a:lnTo>
                    <a:pt x="2193" y="8204"/>
                  </a:lnTo>
                  <a:lnTo>
                    <a:pt x="2180" y="8206"/>
                  </a:lnTo>
                  <a:lnTo>
                    <a:pt x="2166" y="8206"/>
                  </a:lnTo>
                  <a:lnTo>
                    <a:pt x="2152" y="8206"/>
                  </a:lnTo>
                  <a:lnTo>
                    <a:pt x="2138" y="8205"/>
                  </a:lnTo>
                  <a:lnTo>
                    <a:pt x="2125" y="8204"/>
                  </a:lnTo>
                  <a:lnTo>
                    <a:pt x="2110" y="8201"/>
                  </a:lnTo>
                  <a:lnTo>
                    <a:pt x="2097" y="8198"/>
                  </a:lnTo>
                  <a:lnTo>
                    <a:pt x="2082" y="8194"/>
                  </a:lnTo>
                  <a:lnTo>
                    <a:pt x="2069" y="8189"/>
                  </a:lnTo>
                  <a:lnTo>
                    <a:pt x="2055" y="8184"/>
                  </a:lnTo>
                  <a:lnTo>
                    <a:pt x="2041" y="8177"/>
                  </a:lnTo>
                  <a:lnTo>
                    <a:pt x="2027" y="8170"/>
                  </a:lnTo>
                  <a:lnTo>
                    <a:pt x="2014" y="8162"/>
                  </a:lnTo>
                  <a:lnTo>
                    <a:pt x="1999" y="8154"/>
                  </a:lnTo>
                  <a:lnTo>
                    <a:pt x="1978" y="8138"/>
                  </a:lnTo>
                  <a:lnTo>
                    <a:pt x="1957" y="8123"/>
                  </a:lnTo>
                  <a:lnTo>
                    <a:pt x="1940" y="8107"/>
                  </a:lnTo>
                  <a:lnTo>
                    <a:pt x="1923" y="8090"/>
                  </a:lnTo>
                  <a:lnTo>
                    <a:pt x="1910" y="8074"/>
                  </a:lnTo>
                  <a:lnTo>
                    <a:pt x="1898" y="8056"/>
                  </a:lnTo>
                  <a:lnTo>
                    <a:pt x="1892" y="8047"/>
                  </a:lnTo>
                  <a:lnTo>
                    <a:pt x="1887" y="8038"/>
                  </a:lnTo>
                  <a:lnTo>
                    <a:pt x="1883" y="8028"/>
                  </a:lnTo>
                  <a:lnTo>
                    <a:pt x="1879" y="8019"/>
                  </a:lnTo>
                  <a:lnTo>
                    <a:pt x="1873" y="8001"/>
                  </a:lnTo>
                  <a:lnTo>
                    <a:pt x="1869" y="7981"/>
                  </a:lnTo>
                  <a:lnTo>
                    <a:pt x="1866" y="7961"/>
                  </a:lnTo>
                  <a:lnTo>
                    <a:pt x="1866" y="7940"/>
                  </a:lnTo>
                  <a:lnTo>
                    <a:pt x="1867" y="7918"/>
                  </a:lnTo>
                  <a:lnTo>
                    <a:pt x="1869" y="7896"/>
                  </a:lnTo>
                  <a:lnTo>
                    <a:pt x="1874" y="7873"/>
                  </a:lnTo>
                  <a:lnTo>
                    <a:pt x="1880" y="7850"/>
                  </a:lnTo>
                  <a:close/>
                  <a:moveTo>
                    <a:pt x="1452" y="7728"/>
                  </a:moveTo>
                  <a:lnTo>
                    <a:pt x="1084" y="7333"/>
                  </a:lnTo>
                  <a:lnTo>
                    <a:pt x="1176" y="7246"/>
                  </a:lnTo>
                  <a:lnTo>
                    <a:pt x="1307" y="7386"/>
                  </a:lnTo>
                  <a:lnTo>
                    <a:pt x="1650" y="7066"/>
                  </a:lnTo>
                  <a:lnTo>
                    <a:pt x="1758" y="7181"/>
                  </a:lnTo>
                  <a:lnTo>
                    <a:pt x="1415" y="7501"/>
                  </a:lnTo>
                  <a:lnTo>
                    <a:pt x="1545" y="7641"/>
                  </a:lnTo>
                  <a:lnTo>
                    <a:pt x="1452" y="7728"/>
                  </a:lnTo>
                  <a:close/>
                  <a:moveTo>
                    <a:pt x="819" y="7016"/>
                  </a:moveTo>
                  <a:lnTo>
                    <a:pt x="740" y="6890"/>
                  </a:lnTo>
                  <a:lnTo>
                    <a:pt x="814" y="6844"/>
                  </a:lnTo>
                  <a:lnTo>
                    <a:pt x="801" y="6844"/>
                  </a:lnTo>
                  <a:lnTo>
                    <a:pt x="788" y="6842"/>
                  </a:lnTo>
                  <a:lnTo>
                    <a:pt x="775" y="6840"/>
                  </a:lnTo>
                  <a:lnTo>
                    <a:pt x="762" y="6837"/>
                  </a:lnTo>
                  <a:lnTo>
                    <a:pt x="750" y="6834"/>
                  </a:lnTo>
                  <a:lnTo>
                    <a:pt x="736" y="6829"/>
                  </a:lnTo>
                  <a:lnTo>
                    <a:pt x="724" y="6824"/>
                  </a:lnTo>
                  <a:lnTo>
                    <a:pt x="712" y="6817"/>
                  </a:lnTo>
                  <a:lnTo>
                    <a:pt x="699" y="6810"/>
                  </a:lnTo>
                  <a:lnTo>
                    <a:pt x="688" y="6802"/>
                  </a:lnTo>
                  <a:lnTo>
                    <a:pt x="677" y="6794"/>
                  </a:lnTo>
                  <a:lnTo>
                    <a:pt x="666" y="6785"/>
                  </a:lnTo>
                  <a:lnTo>
                    <a:pt x="656" y="6774"/>
                  </a:lnTo>
                  <a:lnTo>
                    <a:pt x="647" y="6764"/>
                  </a:lnTo>
                  <a:lnTo>
                    <a:pt x="638" y="6753"/>
                  </a:lnTo>
                  <a:lnTo>
                    <a:pt x="631" y="6740"/>
                  </a:lnTo>
                  <a:lnTo>
                    <a:pt x="623" y="6729"/>
                  </a:lnTo>
                  <a:lnTo>
                    <a:pt x="617" y="6718"/>
                  </a:lnTo>
                  <a:lnTo>
                    <a:pt x="612" y="6706"/>
                  </a:lnTo>
                  <a:lnTo>
                    <a:pt x="608" y="6695"/>
                  </a:lnTo>
                  <a:lnTo>
                    <a:pt x="604" y="6684"/>
                  </a:lnTo>
                  <a:lnTo>
                    <a:pt x="601" y="6671"/>
                  </a:lnTo>
                  <a:lnTo>
                    <a:pt x="599" y="6660"/>
                  </a:lnTo>
                  <a:lnTo>
                    <a:pt x="597" y="6648"/>
                  </a:lnTo>
                  <a:lnTo>
                    <a:pt x="596" y="6635"/>
                  </a:lnTo>
                  <a:lnTo>
                    <a:pt x="595" y="6623"/>
                  </a:lnTo>
                  <a:lnTo>
                    <a:pt x="595" y="6611"/>
                  </a:lnTo>
                  <a:lnTo>
                    <a:pt x="596" y="6598"/>
                  </a:lnTo>
                  <a:lnTo>
                    <a:pt x="598" y="6586"/>
                  </a:lnTo>
                  <a:lnTo>
                    <a:pt x="600" y="6573"/>
                  </a:lnTo>
                  <a:lnTo>
                    <a:pt x="603" y="6560"/>
                  </a:lnTo>
                  <a:lnTo>
                    <a:pt x="606" y="6547"/>
                  </a:lnTo>
                  <a:lnTo>
                    <a:pt x="610" y="6534"/>
                  </a:lnTo>
                  <a:lnTo>
                    <a:pt x="615" y="6521"/>
                  </a:lnTo>
                  <a:lnTo>
                    <a:pt x="620" y="6509"/>
                  </a:lnTo>
                  <a:lnTo>
                    <a:pt x="626" y="6497"/>
                  </a:lnTo>
                  <a:lnTo>
                    <a:pt x="634" y="6484"/>
                  </a:lnTo>
                  <a:lnTo>
                    <a:pt x="642" y="6472"/>
                  </a:lnTo>
                  <a:lnTo>
                    <a:pt x="650" y="6461"/>
                  </a:lnTo>
                  <a:lnTo>
                    <a:pt x="659" y="6449"/>
                  </a:lnTo>
                  <a:lnTo>
                    <a:pt x="670" y="6438"/>
                  </a:lnTo>
                  <a:lnTo>
                    <a:pt x="681" y="6427"/>
                  </a:lnTo>
                  <a:lnTo>
                    <a:pt x="692" y="6416"/>
                  </a:lnTo>
                  <a:lnTo>
                    <a:pt x="705" y="6405"/>
                  </a:lnTo>
                  <a:lnTo>
                    <a:pt x="717" y="6395"/>
                  </a:lnTo>
                  <a:lnTo>
                    <a:pt x="730" y="6385"/>
                  </a:lnTo>
                  <a:lnTo>
                    <a:pt x="745" y="6375"/>
                  </a:lnTo>
                  <a:lnTo>
                    <a:pt x="760" y="6365"/>
                  </a:lnTo>
                  <a:lnTo>
                    <a:pt x="775" y="6356"/>
                  </a:lnTo>
                  <a:lnTo>
                    <a:pt x="792" y="6347"/>
                  </a:lnTo>
                  <a:lnTo>
                    <a:pt x="807" y="6339"/>
                  </a:lnTo>
                  <a:lnTo>
                    <a:pt x="823" y="6331"/>
                  </a:lnTo>
                  <a:lnTo>
                    <a:pt x="837" y="6325"/>
                  </a:lnTo>
                  <a:lnTo>
                    <a:pt x="852" y="6320"/>
                  </a:lnTo>
                  <a:lnTo>
                    <a:pt x="868" y="6315"/>
                  </a:lnTo>
                  <a:lnTo>
                    <a:pt x="882" y="6311"/>
                  </a:lnTo>
                  <a:lnTo>
                    <a:pt x="897" y="6306"/>
                  </a:lnTo>
                  <a:lnTo>
                    <a:pt x="911" y="6304"/>
                  </a:lnTo>
                  <a:lnTo>
                    <a:pt x="925" y="6302"/>
                  </a:lnTo>
                  <a:lnTo>
                    <a:pt x="940" y="6301"/>
                  </a:lnTo>
                  <a:lnTo>
                    <a:pt x="954" y="6300"/>
                  </a:lnTo>
                  <a:lnTo>
                    <a:pt x="969" y="6301"/>
                  </a:lnTo>
                  <a:lnTo>
                    <a:pt x="982" y="6302"/>
                  </a:lnTo>
                  <a:lnTo>
                    <a:pt x="995" y="6303"/>
                  </a:lnTo>
                  <a:lnTo>
                    <a:pt x="1009" y="6306"/>
                  </a:lnTo>
                  <a:lnTo>
                    <a:pt x="1022" y="6310"/>
                  </a:lnTo>
                  <a:lnTo>
                    <a:pt x="1034" y="6313"/>
                  </a:lnTo>
                  <a:lnTo>
                    <a:pt x="1047" y="6318"/>
                  </a:lnTo>
                  <a:lnTo>
                    <a:pt x="1059" y="6322"/>
                  </a:lnTo>
                  <a:lnTo>
                    <a:pt x="1070" y="6327"/>
                  </a:lnTo>
                  <a:lnTo>
                    <a:pt x="1081" y="6333"/>
                  </a:lnTo>
                  <a:lnTo>
                    <a:pt x="1091" y="6339"/>
                  </a:lnTo>
                  <a:lnTo>
                    <a:pt x="1101" y="6347"/>
                  </a:lnTo>
                  <a:lnTo>
                    <a:pt x="1110" y="6354"/>
                  </a:lnTo>
                  <a:lnTo>
                    <a:pt x="1120" y="6362"/>
                  </a:lnTo>
                  <a:lnTo>
                    <a:pt x="1129" y="6370"/>
                  </a:lnTo>
                  <a:lnTo>
                    <a:pt x="1137" y="6379"/>
                  </a:lnTo>
                  <a:lnTo>
                    <a:pt x="1145" y="6390"/>
                  </a:lnTo>
                  <a:lnTo>
                    <a:pt x="1153" y="6399"/>
                  </a:lnTo>
                  <a:lnTo>
                    <a:pt x="1160" y="6410"/>
                  </a:lnTo>
                  <a:lnTo>
                    <a:pt x="1166" y="6421"/>
                  </a:lnTo>
                  <a:lnTo>
                    <a:pt x="1172" y="6431"/>
                  </a:lnTo>
                  <a:lnTo>
                    <a:pt x="1176" y="6442"/>
                  </a:lnTo>
                  <a:lnTo>
                    <a:pt x="1180" y="6452"/>
                  </a:lnTo>
                  <a:lnTo>
                    <a:pt x="1184" y="6464"/>
                  </a:lnTo>
                  <a:lnTo>
                    <a:pt x="1187" y="6475"/>
                  </a:lnTo>
                  <a:lnTo>
                    <a:pt x="1190" y="6485"/>
                  </a:lnTo>
                  <a:lnTo>
                    <a:pt x="1191" y="6497"/>
                  </a:lnTo>
                  <a:lnTo>
                    <a:pt x="1192" y="6508"/>
                  </a:lnTo>
                  <a:lnTo>
                    <a:pt x="1192" y="6520"/>
                  </a:lnTo>
                  <a:lnTo>
                    <a:pt x="1192" y="6533"/>
                  </a:lnTo>
                  <a:lnTo>
                    <a:pt x="1190" y="6546"/>
                  </a:lnTo>
                  <a:lnTo>
                    <a:pt x="1187" y="6559"/>
                  </a:lnTo>
                  <a:lnTo>
                    <a:pt x="1185" y="6574"/>
                  </a:lnTo>
                  <a:lnTo>
                    <a:pt x="1182" y="6589"/>
                  </a:lnTo>
                  <a:lnTo>
                    <a:pt x="1178" y="6605"/>
                  </a:lnTo>
                  <a:lnTo>
                    <a:pt x="1433" y="6445"/>
                  </a:lnTo>
                  <a:lnTo>
                    <a:pt x="1517" y="6579"/>
                  </a:lnTo>
                  <a:lnTo>
                    <a:pt x="819" y="7016"/>
                  </a:lnTo>
                  <a:close/>
                  <a:moveTo>
                    <a:pt x="980" y="6730"/>
                  </a:moveTo>
                  <a:lnTo>
                    <a:pt x="1000" y="6717"/>
                  </a:lnTo>
                  <a:lnTo>
                    <a:pt x="1019" y="6703"/>
                  </a:lnTo>
                  <a:lnTo>
                    <a:pt x="1034" y="6689"/>
                  </a:lnTo>
                  <a:lnTo>
                    <a:pt x="1049" y="6676"/>
                  </a:lnTo>
                  <a:lnTo>
                    <a:pt x="1061" y="6661"/>
                  </a:lnTo>
                  <a:lnTo>
                    <a:pt x="1071" y="6647"/>
                  </a:lnTo>
                  <a:lnTo>
                    <a:pt x="1079" y="6632"/>
                  </a:lnTo>
                  <a:lnTo>
                    <a:pt x="1085" y="6618"/>
                  </a:lnTo>
                  <a:lnTo>
                    <a:pt x="1089" y="6603"/>
                  </a:lnTo>
                  <a:lnTo>
                    <a:pt x="1092" y="6588"/>
                  </a:lnTo>
                  <a:lnTo>
                    <a:pt x="1093" y="6575"/>
                  </a:lnTo>
                  <a:lnTo>
                    <a:pt x="1092" y="6560"/>
                  </a:lnTo>
                  <a:lnTo>
                    <a:pt x="1090" y="6548"/>
                  </a:lnTo>
                  <a:lnTo>
                    <a:pt x="1086" y="6535"/>
                  </a:lnTo>
                  <a:lnTo>
                    <a:pt x="1081" y="6522"/>
                  </a:lnTo>
                  <a:lnTo>
                    <a:pt x="1074" y="6509"/>
                  </a:lnTo>
                  <a:lnTo>
                    <a:pt x="1066" y="6499"/>
                  </a:lnTo>
                  <a:lnTo>
                    <a:pt x="1058" y="6488"/>
                  </a:lnTo>
                  <a:lnTo>
                    <a:pt x="1049" y="6480"/>
                  </a:lnTo>
                  <a:lnTo>
                    <a:pt x="1038" y="6473"/>
                  </a:lnTo>
                  <a:lnTo>
                    <a:pt x="1027" y="6467"/>
                  </a:lnTo>
                  <a:lnTo>
                    <a:pt x="1015" y="6462"/>
                  </a:lnTo>
                  <a:lnTo>
                    <a:pt x="1001" y="6458"/>
                  </a:lnTo>
                  <a:lnTo>
                    <a:pt x="988" y="6456"/>
                  </a:lnTo>
                  <a:lnTo>
                    <a:pt x="974" y="6455"/>
                  </a:lnTo>
                  <a:lnTo>
                    <a:pt x="958" y="6456"/>
                  </a:lnTo>
                  <a:lnTo>
                    <a:pt x="942" y="6458"/>
                  </a:lnTo>
                  <a:lnTo>
                    <a:pt x="924" y="6463"/>
                  </a:lnTo>
                  <a:lnTo>
                    <a:pt x="906" y="6470"/>
                  </a:lnTo>
                  <a:lnTo>
                    <a:pt x="887" y="6478"/>
                  </a:lnTo>
                  <a:lnTo>
                    <a:pt x="867" y="6488"/>
                  </a:lnTo>
                  <a:lnTo>
                    <a:pt x="846" y="6501"/>
                  </a:lnTo>
                  <a:lnTo>
                    <a:pt x="827" y="6513"/>
                  </a:lnTo>
                  <a:lnTo>
                    <a:pt x="810" y="6526"/>
                  </a:lnTo>
                  <a:lnTo>
                    <a:pt x="795" y="6539"/>
                  </a:lnTo>
                  <a:lnTo>
                    <a:pt x="782" y="6552"/>
                  </a:lnTo>
                  <a:lnTo>
                    <a:pt x="770" y="6566"/>
                  </a:lnTo>
                  <a:lnTo>
                    <a:pt x="761" y="6579"/>
                  </a:lnTo>
                  <a:lnTo>
                    <a:pt x="754" y="6593"/>
                  </a:lnTo>
                  <a:lnTo>
                    <a:pt x="748" y="6607"/>
                  </a:lnTo>
                  <a:lnTo>
                    <a:pt x="744" y="6621"/>
                  </a:lnTo>
                  <a:lnTo>
                    <a:pt x="741" y="6634"/>
                  </a:lnTo>
                  <a:lnTo>
                    <a:pt x="740" y="6648"/>
                  </a:lnTo>
                  <a:lnTo>
                    <a:pt x="741" y="6661"/>
                  </a:lnTo>
                  <a:lnTo>
                    <a:pt x="744" y="6673"/>
                  </a:lnTo>
                  <a:lnTo>
                    <a:pt x="747" y="6686"/>
                  </a:lnTo>
                  <a:lnTo>
                    <a:pt x="752" y="6698"/>
                  </a:lnTo>
                  <a:lnTo>
                    <a:pt x="759" y="6711"/>
                  </a:lnTo>
                  <a:lnTo>
                    <a:pt x="767" y="6722"/>
                  </a:lnTo>
                  <a:lnTo>
                    <a:pt x="775" y="6732"/>
                  </a:lnTo>
                  <a:lnTo>
                    <a:pt x="786" y="6741"/>
                  </a:lnTo>
                  <a:lnTo>
                    <a:pt x="796" y="6750"/>
                  </a:lnTo>
                  <a:lnTo>
                    <a:pt x="807" y="6756"/>
                  </a:lnTo>
                  <a:lnTo>
                    <a:pt x="821" y="6761"/>
                  </a:lnTo>
                  <a:lnTo>
                    <a:pt x="833" y="6765"/>
                  </a:lnTo>
                  <a:lnTo>
                    <a:pt x="847" y="6768"/>
                  </a:lnTo>
                  <a:lnTo>
                    <a:pt x="863" y="6769"/>
                  </a:lnTo>
                  <a:lnTo>
                    <a:pt x="877" y="6769"/>
                  </a:lnTo>
                  <a:lnTo>
                    <a:pt x="894" y="6767"/>
                  </a:lnTo>
                  <a:lnTo>
                    <a:pt x="910" y="6763"/>
                  </a:lnTo>
                  <a:lnTo>
                    <a:pt x="926" y="6758"/>
                  </a:lnTo>
                  <a:lnTo>
                    <a:pt x="944" y="6750"/>
                  </a:lnTo>
                  <a:lnTo>
                    <a:pt x="961" y="6741"/>
                  </a:lnTo>
                  <a:lnTo>
                    <a:pt x="980" y="6730"/>
                  </a:lnTo>
                  <a:close/>
                  <a:moveTo>
                    <a:pt x="438" y="5896"/>
                  </a:moveTo>
                  <a:lnTo>
                    <a:pt x="458" y="6041"/>
                  </a:lnTo>
                  <a:lnTo>
                    <a:pt x="435" y="6041"/>
                  </a:lnTo>
                  <a:lnTo>
                    <a:pt x="415" y="6040"/>
                  </a:lnTo>
                  <a:lnTo>
                    <a:pt x="395" y="6037"/>
                  </a:lnTo>
                  <a:lnTo>
                    <a:pt x="376" y="6033"/>
                  </a:lnTo>
                  <a:lnTo>
                    <a:pt x="358" y="6027"/>
                  </a:lnTo>
                  <a:lnTo>
                    <a:pt x="341" y="6021"/>
                  </a:lnTo>
                  <a:lnTo>
                    <a:pt x="325" y="6011"/>
                  </a:lnTo>
                  <a:lnTo>
                    <a:pt x="310" y="6001"/>
                  </a:lnTo>
                  <a:lnTo>
                    <a:pt x="296" y="5990"/>
                  </a:lnTo>
                  <a:lnTo>
                    <a:pt x="282" y="5975"/>
                  </a:lnTo>
                  <a:lnTo>
                    <a:pt x="270" y="5959"/>
                  </a:lnTo>
                  <a:lnTo>
                    <a:pt x="258" y="5942"/>
                  </a:lnTo>
                  <a:lnTo>
                    <a:pt x="246" y="5921"/>
                  </a:lnTo>
                  <a:lnTo>
                    <a:pt x="236" y="5898"/>
                  </a:lnTo>
                  <a:lnTo>
                    <a:pt x="226" y="5874"/>
                  </a:lnTo>
                  <a:lnTo>
                    <a:pt x="216" y="5848"/>
                  </a:lnTo>
                  <a:lnTo>
                    <a:pt x="209" y="5823"/>
                  </a:lnTo>
                  <a:lnTo>
                    <a:pt x="202" y="5800"/>
                  </a:lnTo>
                  <a:lnTo>
                    <a:pt x="198" y="5778"/>
                  </a:lnTo>
                  <a:lnTo>
                    <a:pt x="194" y="5758"/>
                  </a:lnTo>
                  <a:lnTo>
                    <a:pt x="192" y="5739"/>
                  </a:lnTo>
                  <a:lnTo>
                    <a:pt x="190" y="5722"/>
                  </a:lnTo>
                  <a:lnTo>
                    <a:pt x="190" y="5705"/>
                  </a:lnTo>
                  <a:lnTo>
                    <a:pt x="192" y="5690"/>
                  </a:lnTo>
                  <a:lnTo>
                    <a:pt x="194" y="5676"/>
                  </a:lnTo>
                  <a:lnTo>
                    <a:pt x="197" y="5663"/>
                  </a:lnTo>
                  <a:lnTo>
                    <a:pt x="201" y="5651"/>
                  </a:lnTo>
                  <a:lnTo>
                    <a:pt x="205" y="5639"/>
                  </a:lnTo>
                  <a:lnTo>
                    <a:pt x="210" y="5629"/>
                  </a:lnTo>
                  <a:lnTo>
                    <a:pt x="215" y="5619"/>
                  </a:lnTo>
                  <a:lnTo>
                    <a:pt x="223" y="5610"/>
                  </a:lnTo>
                  <a:lnTo>
                    <a:pt x="230" y="5601"/>
                  </a:lnTo>
                  <a:lnTo>
                    <a:pt x="238" y="5593"/>
                  </a:lnTo>
                  <a:lnTo>
                    <a:pt x="248" y="5585"/>
                  </a:lnTo>
                  <a:lnTo>
                    <a:pt x="262" y="5578"/>
                  </a:lnTo>
                  <a:lnTo>
                    <a:pt x="276" y="5569"/>
                  </a:lnTo>
                  <a:lnTo>
                    <a:pt x="293" y="5561"/>
                  </a:lnTo>
                  <a:lnTo>
                    <a:pt x="313" y="5553"/>
                  </a:lnTo>
                  <a:lnTo>
                    <a:pt x="334" y="5546"/>
                  </a:lnTo>
                  <a:lnTo>
                    <a:pt x="357" y="5538"/>
                  </a:lnTo>
                  <a:lnTo>
                    <a:pt x="533" y="5482"/>
                  </a:lnTo>
                  <a:lnTo>
                    <a:pt x="568" y="5470"/>
                  </a:lnTo>
                  <a:lnTo>
                    <a:pt x="598" y="5459"/>
                  </a:lnTo>
                  <a:lnTo>
                    <a:pt x="622" y="5448"/>
                  </a:lnTo>
                  <a:lnTo>
                    <a:pt x="642" y="5439"/>
                  </a:lnTo>
                  <a:lnTo>
                    <a:pt x="658" y="5429"/>
                  </a:lnTo>
                  <a:lnTo>
                    <a:pt x="675" y="5416"/>
                  </a:lnTo>
                  <a:lnTo>
                    <a:pt x="691" y="5403"/>
                  </a:lnTo>
                  <a:lnTo>
                    <a:pt x="709" y="5387"/>
                  </a:lnTo>
                  <a:lnTo>
                    <a:pt x="757" y="5535"/>
                  </a:lnTo>
                  <a:lnTo>
                    <a:pt x="750" y="5542"/>
                  </a:lnTo>
                  <a:lnTo>
                    <a:pt x="740" y="5548"/>
                  </a:lnTo>
                  <a:lnTo>
                    <a:pt x="730" y="5556"/>
                  </a:lnTo>
                  <a:lnTo>
                    <a:pt x="718" y="5564"/>
                  </a:lnTo>
                  <a:lnTo>
                    <a:pt x="708" y="5571"/>
                  </a:lnTo>
                  <a:lnTo>
                    <a:pt x="701" y="5576"/>
                  </a:lnTo>
                  <a:lnTo>
                    <a:pt x="714" y="5583"/>
                  </a:lnTo>
                  <a:lnTo>
                    <a:pt x="725" y="5590"/>
                  </a:lnTo>
                  <a:lnTo>
                    <a:pt x="736" y="5597"/>
                  </a:lnTo>
                  <a:lnTo>
                    <a:pt x="747" y="5604"/>
                  </a:lnTo>
                  <a:lnTo>
                    <a:pt x="757" y="5613"/>
                  </a:lnTo>
                  <a:lnTo>
                    <a:pt x="767" y="5622"/>
                  </a:lnTo>
                  <a:lnTo>
                    <a:pt x="775" y="5630"/>
                  </a:lnTo>
                  <a:lnTo>
                    <a:pt x="785" y="5639"/>
                  </a:lnTo>
                  <a:lnTo>
                    <a:pt x="792" y="5650"/>
                  </a:lnTo>
                  <a:lnTo>
                    <a:pt x="800" y="5659"/>
                  </a:lnTo>
                  <a:lnTo>
                    <a:pt x="806" y="5670"/>
                  </a:lnTo>
                  <a:lnTo>
                    <a:pt x="813" y="5680"/>
                  </a:lnTo>
                  <a:lnTo>
                    <a:pt x="819" y="5692"/>
                  </a:lnTo>
                  <a:lnTo>
                    <a:pt x="824" y="5703"/>
                  </a:lnTo>
                  <a:lnTo>
                    <a:pt x="829" y="5715"/>
                  </a:lnTo>
                  <a:lnTo>
                    <a:pt x="833" y="5728"/>
                  </a:lnTo>
                  <a:lnTo>
                    <a:pt x="839" y="5749"/>
                  </a:lnTo>
                  <a:lnTo>
                    <a:pt x="844" y="5770"/>
                  </a:lnTo>
                  <a:lnTo>
                    <a:pt x="846" y="5790"/>
                  </a:lnTo>
                  <a:lnTo>
                    <a:pt x="847" y="5810"/>
                  </a:lnTo>
                  <a:lnTo>
                    <a:pt x="845" y="5828"/>
                  </a:lnTo>
                  <a:lnTo>
                    <a:pt x="842" y="5847"/>
                  </a:lnTo>
                  <a:lnTo>
                    <a:pt x="838" y="5864"/>
                  </a:lnTo>
                  <a:lnTo>
                    <a:pt x="831" y="5881"/>
                  </a:lnTo>
                  <a:lnTo>
                    <a:pt x="823" y="5896"/>
                  </a:lnTo>
                  <a:lnTo>
                    <a:pt x="812" y="5912"/>
                  </a:lnTo>
                  <a:lnTo>
                    <a:pt x="801" y="5924"/>
                  </a:lnTo>
                  <a:lnTo>
                    <a:pt x="789" y="5936"/>
                  </a:lnTo>
                  <a:lnTo>
                    <a:pt x="775" y="5947"/>
                  </a:lnTo>
                  <a:lnTo>
                    <a:pt x="761" y="5956"/>
                  </a:lnTo>
                  <a:lnTo>
                    <a:pt x="745" y="5964"/>
                  </a:lnTo>
                  <a:lnTo>
                    <a:pt x="727" y="5970"/>
                  </a:lnTo>
                  <a:lnTo>
                    <a:pt x="715" y="5974"/>
                  </a:lnTo>
                  <a:lnTo>
                    <a:pt x="702" y="5977"/>
                  </a:lnTo>
                  <a:lnTo>
                    <a:pt x="691" y="5979"/>
                  </a:lnTo>
                  <a:lnTo>
                    <a:pt x="680" y="5980"/>
                  </a:lnTo>
                  <a:lnTo>
                    <a:pt x="668" y="5980"/>
                  </a:lnTo>
                  <a:lnTo>
                    <a:pt x="656" y="5980"/>
                  </a:lnTo>
                  <a:lnTo>
                    <a:pt x="645" y="5978"/>
                  </a:lnTo>
                  <a:lnTo>
                    <a:pt x="634" y="5975"/>
                  </a:lnTo>
                  <a:lnTo>
                    <a:pt x="622" y="5972"/>
                  </a:lnTo>
                  <a:lnTo>
                    <a:pt x="612" y="5968"/>
                  </a:lnTo>
                  <a:lnTo>
                    <a:pt x="601" y="5964"/>
                  </a:lnTo>
                  <a:lnTo>
                    <a:pt x="591" y="5959"/>
                  </a:lnTo>
                  <a:lnTo>
                    <a:pt x="581" y="5953"/>
                  </a:lnTo>
                  <a:lnTo>
                    <a:pt x="572" y="5946"/>
                  </a:lnTo>
                  <a:lnTo>
                    <a:pt x="564" y="5938"/>
                  </a:lnTo>
                  <a:lnTo>
                    <a:pt x="554" y="5930"/>
                  </a:lnTo>
                  <a:lnTo>
                    <a:pt x="546" y="5921"/>
                  </a:lnTo>
                  <a:lnTo>
                    <a:pt x="538" y="5910"/>
                  </a:lnTo>
                  <a:lnTo>
                    <a:pt x="529" y="5898"/>
                  </a:lnTo>
                  <a:lnTo>
                    <a:pt x="520" y="5885"/>
                  </a:lnTo>
                  <a:lnTo>
                    <a:pt x="501" y="5856"/>
                  </a:lnTo>
                  <a:lnTo>
                    <a:pt x="482" y="5821"/>
                  </a:lnTo>
                  <a:lnTo>
                    <a:pt x="456" y="5776"/>
                  </a:lnTo>
                  <a:lnTo>
                    <a:pt x="433" y="5739"/>
                  </a:lnTo>
                  <a:lnTo>
                    <a:pt x="423" y="5723"/>
                  </a:lnTo>
                  <a:lnTo>
                    <a:pt x="414" y="5709"/>
                  </a:lnTo>
                  <a:lnTo>
                    <a:pt x="404" y="5698"/>
                  </a:lnTo>
                  <a:lnTo>
                    <a:pt x="397" y="5688"/>
                  </a:lnTo>
                  <a:lnTo>
                    <a:pt x="382" y="5693"/>
                  </a:lnTo>
                  <a:lnTo>
                    <a:pt x="372" y="5697"/>
                  </a:lnTo>
                  <a:lnTo>
                    <a:pt x="362" y="5701"/>
                  </a:lnTo>
                  <a:lnTo>
                    <a:pt x="354" y="5705"/>
                  </a:lnTo>
                  <a:lnTo>
                    <a:pt x="347" y="5710"/>
                  </a:lnTo>
                  <a:lnTo>
                    <a:pt x="340" y="5715"/>
                  </a:lnTo>
                  <a:lnTo>
                    <a:pt x="335" y="5722"/>
                  </a:lnTo>
                  <a:lnTo>
                    <a:pt x="330" y="5728"/>
                  </a:lnTo>
                  <a:lnTo>
                    <a:pt x="327" y="5734"/>
                  </a:lnTo>
                  <a:lnTo>
                    <a:pt x="324" y="5741"/>
                  </a:lnTo>
                  <a:lnTo>
                    <a:pt x="323" y="5749"/>
                  </a:lnTo>
                  <a:lnTo>
                    <a:pt x="322" y="5760"/>
                  </a:lnTo>
                  <a:lnTo>
                    <a:pt x="323" y="5770"/>
                  </a:lnTo>
                  <a:lnTo>
                    <a:pt x="324" y="5781"/>
                  </a:lnTo>
                  <a:lnTo>
                    <a:pt x="327" y="5794"/>
                  </a:lnTo>
                  <a:lnTo>
                    <a:pt x="330" y="5807"/>
                  </a:lnTo>
                  <a:lnTo>
                    <a:pt x="335" y="5820"/>
                  </a:lnTo>
                  <a:lnTo>
                    <a:pt x="338" y="5831"/>
                  </a:lnTo>
                  <a:lnTo>
                    <a:pt x="342" y="5840"/>
                  </a:lnTo>
                  <a:lnTo>
                    <a:pt x="346" y="5848"/>
                  </a:lnTo>
                  <a:lnTo>
                    <a:pt x="350" y="5855"/>
                  </a:lnTo>
                  <a:lnTo>
                    <a:pt x="355" y="5862"/>
                  </a:lnTo>
                  <a:lnTo>
                    <a:pt x="360" y="5869"/>
                  </a:lnTo>
                  <a:lnTo>
                    <a:pt x="365" y="5874"/>
                  </a:lnTo>
                  <a:lnTo>
                    <a:pt x="371" y="5878"/>
                  </a:lnTo>
                  <a:lnTo>
                    <a:pt x="377" y="5882"/>
                  </a:lnTo>
                  <a:lnTo>
                    <a:pt x="384" y="5886"/>
                  </a:lnTo>
                  <a:lnTo>
                    <a:pt x="391" y="5889"/>
                  </a:lnTo>
                  <a:lnTo>
                    <a:pt x="399" y="5891"/>
                  </a:lnTo>
                  <a:lnTo>
                    <a:pt x="408" y="5893"/>
                  </a:lnTo>
                  <a:lnTo>
                    <a:pt x="417" y="5895"/>
                  </a:lnTo>
                  <a:lnTo>
                    <a:pt x="427" y="5896"/>
                  </a:lnTo>
                  <a:lnTo>
                    <a:pt x="438" y="5896"/>
                  </a:lnTo>
                  <a:close/>
                  <a:moveTo>
                    <a:pt x="495" y="5656"/>
                  </a:moveTo>
                  <a:lnTo>
                    <a:pt x="505" y="5671"/>
                  </a:lnTo>
                  <a:lnTo>
                    <a:pt x="517" y="5690"/>
                  </a:lnTo>
                  <a:lnTo>
                    <a:pt x="531" y="5712"/>
                  </a:lnTo>
                  <a:lnTo>
                    <a:pt x="547" y="5740"/>
                  </a:lnTo>
                  <a:lnTo>
                    <a:pt x="564" y="5767"/>
                  </a:lnTo>
                  <a:lnTo>
                    <a:pt x="577" y="5787"/>
                  </a:lnTo>
                  <a:lnTo>
                    <a:pt x="583" y="5796"/>
                  </a:lnTo>
                  <a:lnTo>
                    <a:pt x="589" y="5803"/>
                  </a:lnTo>
                  <a:lnTo>
                    <a:pt x="595" y="5809"/>
                  </a:lnTo>
                  <a:lnTo>
                    <a:pt x="600" y="5813"/>
                  </a:lnTo>
                  <a:lnTo>
                    <a:pt x="608" y="5818"/>
                  </a:lnTo>
                  <a:lnTo>
                    <a:pt x="615" y="5822"/>
                  </a:lnTo>
                  <a:lnTo>
                    <a:pt x="623" y="5825"/>
                  </a:lnTo>
                  <a:lnTo>
                    <a:pt x="631" y="5827"/>
                  </a:lnTo>
                  <a:lnTo>
                    <a:pt x="639" y="5828"/>
                  </a:lnTo>
                  <a:lnTo>
                    <a:pt x="647" y="5828"/>
                  </a:lnTo>
                  <a:lnTo>
                    <a:pt x="654" y="5827"/>
                  </a:lnTo>
                  <a:lnTo>
                    <a:pt x="662" y="5825"/>
                  </a:lnTo>
                  <a:lnTo>
                    <a:pt x="671" y="5822"/>
                  </a:lnTo>
                  <a:lnTo>
                    <a:pt x="678" y="5819"/>
                  </a:lnTo>
                  <a:lnTo>
                    <a:pt x="684" y="5815"/>
                  </a:lnTo>
                  <a:lnTo>
                    <a:pt x="690" y="5810"/>
                  </a:lnTo>
                  <a:lnTo>
                    <a:pt x="695" y="5805"/>
                  </a:lnTo>
                  <a:lnTo>
                    <a:pt x="700" y="5799"/>
                  </a:lnTo>
                  <a:lnTo>
                    <a:pt x="706" y="5791"/>
                  </a:lnTo>
                  <a:lnTo>
                    <a:pt x="710" y="5784"/>
                  </a:lnTo>
                  <a:lnTo>
                    <a:pt x="713" y="5776"/>
                  </a:lnTo>
                  <a:lnTo>
                    <a:pt x="716" y="5769"/>
                  </a:lnTo>
                  <a:lnTo>
                    <a:pt x="717" y="5761"/>
                  </a:lnTo>
                  <a:lnTo>
                    <a:pt x="718" y="5751"/>
                  </a:lnTo>
                  <a:lnTo>
                    <a:pt x="718" y="5743"/>
                  </a:lnTo>
                  <a:lnTo>
                    <a:pt x="717" y="5735"/>
                  </a:lnTo>
                  <a:lnTo>
                    <a:pt x="716" y="5726"/>
                  </a:lnTo>
                  <a:lnTo>
                    <a:pt x="713" y="5716"/>
                  </a:lnTo>
                  <a:lnTo>
                    <a:pt x="710" y="5707"/>
                  </a:lnTo>
                  <a:lnTo>
                    <a:pt x="705" y="5697"/>
                  </a:lnTo>
                  <a:lnTo>
                    <a:pt x="699" y="5688"/>
                  </a:lnTo>
                  <a:lnTo>
                    <a:pt x="693" y="5679"/>
                  </a:lnTo>
                  <a:lnTo>
                    <a:pt x="686" y="5671"/>
                  </a:lnTo>
                  <a:lnTo>
                    <a:pt x="679" y="5663"/>
                  </a:lnTo>
                  <a:lnTo>
                    <a:pt x="671" y="5655"/>
                  </a:lnTo>
                  <a:lnTo>
                    <a:pt x="661" y="5648"/>
                  </a:lnTo>
                  <a:lnTo>
                    <a:pt x="654" y="5643"/>
                  </a:lnTo>
                  <a:lnTo>
                    <a:pt x="646" y="5639"/>
                  </a:lnTo>
                  <a:lnTo>
                    <a:pt x="639" y="5635"/>
                  </a:lnTo>
                  <a:lnTo>
                    <a:pt x="632" y="5632"/>
                  </a:lnTo>
                  <a:lnTo>
                    <a:pt x="623" y="5630"/>
                  </a:lnTo>
                  <a:lnTo>
                    <a:pt x="615" y="5629"/>
                  </a:lnTo>
                  <a:lnTo>
                    <a:pt x="608" y="5628"/>
                  </a:lnTo>
                  <a:lnTo>
                    <a:pt x="600" y="5628"/>
                  </a:lnTo>
                  <a:lnTo>
                    <a:pt x="587" y="5629"/>
                  </a:lnTo>
                  <a:lnTo>
                    <a:pt x="570" y="5633"/>
                  </a:lnTo>
                  <a:lnTo>
                    <a:pt x="549" y="5638"/>
                  </a:lnTo>
                  <a:lnTo>
                    <a:pt x="525" y="5647"/>
                  </a:lnTo>
                  <a:lnTo>
                    <a:pt x="495" y="5656"/>
                  </a:lnTo>
                  <a:close/>
                  <a:moveTo>
                    <a:pt x="65" y="5202"/>
                  </a:moveTo>
                  <a:lnTo>
                    <a:pt x="0" y="4666"/>
                  </a:lnTo>
                  <a:lnTo>
                    <a:pt x="127" y="4650"/>
                  </a:lnTo>
                  <a:lnTo>
                    <a:pt x="150" y="4841"/>
                  </a:lnTo>
                  <a:lnTo>
                    <a:pt x="616" y="4783"/>
                  </a:lnTo>
                  <a:lnTo>
                    <a:pt x="635" y="4940"/>
                  </a:lnTo>
                  <a:lnTo>
                    <a:pt x="169" y="4997"/>
                  </a:lnTo>
                  <a:lnTo>
                    <a:pt x="193" y="5187"/>
                  </a:lnTo>
                  <a:lnTo>
                    <a:pt x="65" y="5202"/>
                  </a:lnTo>
                  <a:close/>
                  <a:moveTo>
                    <a:pt x="450" y="3908"/>
                  </a:moveTo>
                  <a:lnTo>
                    <a:pt x="498" y="3755"/>
                  </a:lnTo>
                  <a:lnTo>
                    <a:pt x="517" y="3766"/>
                  </a:lnTo>
                  <a:lnTo>
                    <a:pt x="536" y="3779"/>
                  </a:lnTo>
                  <a:lnTo>
                    <a:pt x="552" y="3791"/>
                  </a:lnTo>
                  <a:lnTo>
                    <a:pt x="568" y="3804"/>
                  </a:lnTo>
                  <a:lnTo>
                    <a:pt x="582" y="3820"/>
                  </a:lnTo>
                  <a:lnTo>
                    <a:pt x="595" y="3835"/>
                  </a:lnTo>
                  <a:lnTo>
                    <a:pt x="605" y="3852"/>
                  </a:lnTo>
                  <a:lnTo>
                    <a:pt x="615" y="3869"/>
                  </a:lnTo>
                  <a:lnTo>
                    <a:pt x="623" y="3887"/>
                  </a:lnTo>
                  <a:lnTo>
                    <a:pt x="629" y="3906"/>
                  </a:lnTo>
                  <a:lnTo>
                    <a:pt x="635" y="3926"/>
                  </a:lnTo>
                  <a:lnTo>
                    <a:pt x="639" y="3946"/>
                  </a:lnTo>
                  <a:lnTo>
                    <a:pt x="640" y="3968"/>
                  </a:lnTo>
                  <a:lnTo>
                    <a:pt x="641" y="3990"/>
                  </a:lnTo>
                  <a:lnTo>
                    <a:pt x="640" y="4013"/>
                  </a:lnTo>
                  <a:lnTo>
                    <a:pt x="637" y="4038"/>
                  </a:lnTo>
                  <a:lnTo>
                    <a:pt x="634" y="4056"/>
                  </a:lnTo>
                  <a:lnTo>
                    <a:pt x="631" y="4075"/>
                  </a:lnTo>
                  <a:lnTo>
                    <a:pt x="625" y="4092"/>
                  </a:lnTo>
                  <a:lnTo>
                    <a:pt x="620" y="4109"/>
                  </a:lnTo>
                  <a:lnTo>
                    <a:pt x="615" y="4124"/>
                  </a:lnTo>
                  <a:lnTo>
                    <a:pt x="608" y="4139"/>
                  </a:lnTo>
                  <a:lnTo>
                    <a:pt x="601" y="4154"/>
                  </a:lnTo>
                  <a:lnTo>
                    <a:pt x="593" y="4168"/>
                  </a:lnTo>
                  <a:lnTo>
                    <a:pt x="584" y="4181"/>
                  </a:lnTo>
                  <a:lnTo>
                    <a:pt x="575" y="4193"/>
                  </a:lnTo>
                  <a:lnTo>
                    <a:pt x="565" y="4205"/>
                  </a:lnTo>
                  <a:lnTo>
                    <a:pt x="554" y="4216"/>
                  </a:lnTo>
                  <a:lnTo>
                    <a:pt x="543" y="4226"/>
                  </a:lnTo>
                  <a:lnTo>
                    <a:pt x="531" y="4235"/>
                  </a:lnTo>
                  <a:lnTo>
                    <a:pt x="517" y="4243"/>
                  </a:lnTo>
                  <a:lnTo>
                    <a:pt x="504" y="4252"/>
                  </a:lnTo>
                  <a:lnTo>
                    <a:pt x="493" y="4257"/>
                  </a:lnTo>
                  <a:lnTo>
                    <a:pt x="482" y="4262"/>
                  </a:lnTo>
                  <a:lnTo>
                    <a:pt x="469" y="4267"/>
                  </a:lnTo>
                  <a:lnTo>
                    <a:pt x="458" y="4271"/>
                  </a:lnTo>
                  <a:lnTo>
                    <a:pt x="446" y="4275"/>
                  </a:lnTo>
                  <a:lnTo>
                    <a:pt x="432" y="4278"/>
                  </a:lnTo>
                  <a:lnTo>
                    <a:pt x="420" y="4280"/>
                  </a:lnTo>
                  <a:lnTo>
                    <a:pt x="407" y="4282"/>
                  </a:lnTo>
                  <a:lnTo>
                    <a:pt x="393" y="4284"/>
                  </a:lnTo>
                  <a:lnTo>
                    <a:pt x="380" y="4285"/>
                  </a:lnTo>
                  <a:lnTo>
                    <a:pt x="365" y="4285"/>
                  </a:lnTo>
                  <a:lnTo>
                    <a:pt x="352" y="4286"/>
                  </a:lnTo>
                  <a:lnTo>
                    <a:pt x="322" y="4284"/>
                  </a:lnTo>
                  <a:lnTo>
                    <a:pt x="292" y="4281"/>
                  </a:lnTo>
                  <a:lnTo>
                    <a:pt x="274" y="4278"/>
                  </a:lnTo>
                  <a:lnTo>
                    <a:pt x="256" y="4275"/>
                  </a:lnTo>
                  <a:lnTo>
                    <a:pt x="240" y="4271"/>
                  </a:lnTo>
                  <a:lnTo>
                    <a:pt x="224" y="4267"/>
                  </a:lnTo>
                  <a:lnTo>
                    <a:pt x="207" y="4262"/>
                  </a:lnTo>
                  <a:lnTo>
                    <a:pt x="193" y="4257"/>
                  </a:lnTo>
                  <a:lnTo>
                    <a:pt x="177" y="4250"/>
                  </a:lnTo>
                  <a:lnTo>
                    <a:pt x="164" y="4243"/>
                  </a:lnTo>
                  <a:lnTo>
                    <a:pt x="151" y="4237"/>
                  </a:lnTo>
                  <a:lnTo>
                    <a:pt x="137" y="4229"/>
                  </a:lnTo>
                  <a:lnTo>
                    <a:pt x="125" y="4221"/>
                  </a:lnTo>
                  <a:lnTo>
                    <a:pt x="114" y="4212"/>
                  </a:lnTo>
                  <a:lnTo>
                    <a:pt x="102" y="4203"/>
                  </a:lnTo>
                  <a:lnTo>
                    <a:pt x="92" y="4193"/>
                  </a:lnTo>
                  <a:lnTo>
                    <a:pt x="82" y="4183"/>
                  </a:lnTo>
                  <a:lnTo>
                    <a:pt x="73" y="4172"/>
                  </a:lnTo>
                  <a:lnTo>
                    <a:pt x="64" y="4161"/>
                  </a:lnTo>
                  <a:lnTo>
                    <a:pt x="56" y="4150"/>
                  </a:lnTo>
                  <a:lnTo>
                    <a:pt x="49" y="4137"/>
                  </a:lnTo>
                  <a:lnTo>
                    <a:pt x="42" y="4126"/>
                  </a:lnTo>
                  <a:lnTo>
                    <a:pt x="37" y="4114"/>
                  </a:lnTo>
                  <a:lnTo>
                    <a:pt x="31" y="4101"/>
                  </a:lnTo>
                  <a:lnTo>
                    <a:pt x="26" y="4089"/>
                  </a:lnTo>
                  <a:lnTo>
                    <a:pt x="22" y="4077"/>
                  </a:lnTo>
                  <a:lnTo>
                    <a:pt x="19" y="4063"/>
                  </a:lnTo>
                  <a:lnTo>
                    <a:pt x="17" y="4050"/>
                  </a:lnTo>
                  <a:lnTo>
                    <a:pt x="15" y="4037"/>
                  </a:lnTo>
                  <a:lnTo>
                    <a:pt x="14" y="4023"/>
                  </a:lnTo>
                  <a:lnTo>
                    <a:pt x="14" y="4009"/>
                  </a:lnTo>
                  <a:lnTo>
                    <a:pt x="14" y="3995"/>
                  </a:lnTo>
                  <a:lnTo>
                    <a:pt x="15" y="3980"/>
                  </a:lnTo>
                  <a:lnTo>
                    <a:pt x="17" y="3966"/>
                  </a:lnTo>
                  <a:lnTo>
                    <a:pt x="19" y="3950"/>
                  </a:lnTo>
                  <a:lnTo>
                    <a:pt x="23" y="3934"/>
                  </a:lnTo>
                  <a:lnTo>
                    <a:pt x="26" y="3918"/>
                  </a:lnTo>
                  <a:lnTo>
                    <a:pt x="31" y="3904"/>
                  </a:lnTo>
                  <a:lnTo>
                    <a:pt x="37" y="3891"/>
                  </a:lnTo>
                  <a:lnTo>
                    <a:pt x="42" y="3876"/>
                  </a:lnTo>
                  <a:lnTo>
                    <a:pt x="48" y="3864"/>
                  </a:lnTo>
                  <a:lnTo>
                    <a:pt x="55" y="3851"/>
                  </a:lnTo>
                  <a:lnTo>
                    <a:pt x="63" y="3839"/>
                  </a:lnTo>
                  <a:lnTo>
                    <a:pt x="72" y="3828"/>
                  </a:lnTo>
                  <a:lnTo>
                    <a:pt x="80" y="3817"/>
                  </a:lnTo>
                  <a:lnTo>
                    <a:pt x="89" y="3806"/>
                  </a:lnTo>
                  <a:lnTo>
                    <a:pt x="99" y="3796"/>
                  </a:lnTo>
                  <a:lnTo>
                    <a:pt x="111" y="3787"/>
                  </a:lnTo>
                  <a:lnTo>
                    <a:pt x="122" y="3779"/>
                  </a:lnTo>
                  <a:lnTo>
                    <a:pt x="133" y="3770"/>
                  </a:lnTo>
                  <a:lnTo>
                    <a:pt x="146" y="3762"/>
                  </a:lnTo>
                  <a:lnTo>
                    <a:pt x="159" y="3755"/>
                  </a:lnTo>
                  <a:lnTo>
                    <a:pt x="173" y="3749"/>
                  </a:lnTo>
                  <a:lnTo>
                    <a:pt x="188" y="3744"/>
                  </a:lnTo>
                  <a:lnTo>
                    <a:pt x="202" y="3740"/>
                  </a:lnTo>
                  <a:lnTo>
                    <a:pt x="218" y="3735"/>
                  </a:lnTo>
                  <a:lnTo>
                    <a:pt x="235" y="3731"/>
                  </a:lnTo>
                  <a:lnTo>
                    <a:pt x="251" y="3729"/>
                  </a:lnTo>
                  <a:lnTo>
                    <a:pt x="269" y="3727"/>
                  </a:lnTo>
                  <a:lnTo>
                    <a:pt x="287" y="3726"/>
                  </a:lnTo>
                  <a:lnTo>
                    <a:pt x="307" y="3726"/>
                  </a:lnTo>
                  <a:lnTo>
                    <a:pt x="326" y="3726"/>
                  </a:lnTo>
                  <a:lnTo>
                    <a:pt x="346" y="3727"/>
                  </a:lnTo>
                  <a:lnTo>
                    <a:pt x="367" y="3729"/>
                  </a:lnTo>
                  <a:lnTo>
                    <a:pt x="388" y="3731"/>
                  </a:lnTo>
                  <a:lnTo>
                    <a:pt x="411" y="3734"/>
                  </a:lnTo>
                  <a:lnTo>
                    <a:pt x="355" y="4127"/>
                  </a:lnTo>
                  <a:lnTo>
                    <a:pt x="373" y="4128"/>
                  </a:lnTo>
                  <a:lnTo>
                    <a:pt x="389" y="4128"/>
                  </a:lnTo>
                  <a:lnTo>
                    <a:pt x="404" y="4127"/>
                  </a:lnTo>
                  <a:lnTo>
                    <a:pt x="419" y="4125"/>
                  </a:lnTo>
                  <a:lnTo>
                    <a:pt x="432" y="4122"/>
                  </a:lnTo>
                  <a:lnTo>
                    <a:pt x="446" y="4117"/>
                  </a:lnTo>
                  <a:lnTo>
                    <a:pt x="458" y="4111"/>
                  </a:lnTo>
                  <a:lnTo>
                    <a:pt x="469" y="4103"/>
                  </a:lnTo>
                  <a:lnTo>
                    <a:pt x="479" y="4096"/>
                  </a:lnTo>
                  <a:lnTo>
                    <a:pt x="489" y="4087"/>
                  </a:lnTo>
                  <a:lnTo>
                    <a:pt x="497" y="4078"/>
                  </a:lnTo>
                  <a:lnTo>
                    <a:pt x="504" y="4068"/>
                  </a:lnTo>
                  <a:lnTo>
                    <a:pt x="509" y="4056"/>
                  </a:lnTo>
                  <a:lnTo>
                    <a:pt x="514" y="4045"/>
                  </a:lnTo>
                  <a:lnTo>
                    <a:pt x="517" y="4033"/>
                  </a:lnTo>
                  <a:lnTo>
                    <a:pt x="521" y="4019"/>
                  </a:lnTo>
                  <a:lnTo>
                    <a:pt x="522" y="4010"/>
                  </a:lnTo>
                  <a:lnTo>
                    <a:pt x="522" y="4002"/>
                  </a:lnTo>
                  <a:lnTo>
                    <a:pt x="522" y="3992"/>
                  </a:lnTo>
                  <a:lnTo>
                    <a:pt x="521" y="3984"/>
                  </a:lnTo>
                  <a:lnTo>
                    <a:pt x="519" y="3977"/>
                  </a:lnTo>
                  <a:lnTo>
                    <a:pt x="515" y="3969"/>
                  </a:lnTo>
                  <a:lnTo>
                    <a:pt x="512" y="3962"/>
                  </a:lnTo>
                  <a:lnTo>
                    <a:pt x="509" y="3954"/>
                  </a:lnTo>
                  <a:lnTo>
                    <a:pt x="504" y="3948"/>
                  </a:lnTo>
                  <a:lnTo>
                    <a:pt x="499" y="3941"/>
                  </a:lnTo>
                  <a:lnTo>
                    <a:pt x="493" y="3935"/>
                  </a:lnTo>
                  <a:lnTo>
                    <a:pt x="486" y="3929"/>
                  </a:lnTo>
                  <a:lnTo>
                    <a:pt x="478" y="3924"/>
                  </a:lnTo>
                  <a:lnTo>
                    <a:pt x="469" y="3917"/>
                  </a:lnTo>
                  <a:lnTo>
                    <a:pt x="460" y="3912"/>
                  </a:lnTo>
                  <a:lnTo>
                    <a:pt x="450" y="3908"/>
                  </a:lnTo>
                  <a:close/>
                  <a:moveTo>
                    <a:pt x="293" y="3876"/>
                  </a:moveTo>
                  <a:lnTo>
                    <a:pt x="276" y="3875"/>
                  </a:lnTo>
                  <a:lnTo>
                    <a:pt x="261" y="3875"/>
                  </a:lnTo>
                  <a:lnTo>
                    <a:pt x="245" y="3875"/>
                  </a:lnTo>
                  <a:lnTo>
                    <a:pt x="232" y="3877"/>
                  </a:lnTo>
                  <a:lnTo>
                    <a:pt x="218" y="3880"/>
                  </a:lnTo>
                  <a:lnTo>
                    <a:pt x="206" y="3886"/>
                  </a:lnTo>
                  <a:lnTo>
                    <a:pt x="195" y="3891"/>
                  </a:lnTo>
                  <a:lnTo>
                    <a:pt x="185" y="3897"/>
                  </a:lnTo>
                  <a:lnTo>
                    <a:pt x="175" y="3904"/>
                  </a:lnTo>
                  <a:lnTo>
                    <a:pt x="167" y="3912"/>
                  </a:lnTo>
                  <a:lnTo>
                    <a:pt x="159" y="3922"/>
                  </a:lnTo>
                  <a:lnTo>
                    <a:pt x="153" y="3930"/>
                  </a:lnTo>
                  <a:lnTo>
                    <a:pt x="148" y="3940"/>
                  </a:lnTo>
                  <a:lnTo>
                    <a:pt x="143" y="3950"/>
                  </a:lnTo>
                  <a:lnTo>
                    <a:pt x="140" y="3962"/>
                  </a:lnTo>
                  <a:lnTo>
                    <a:pt x="138" y="3973"/>
                  </a:lnTo>
                  <a:lnTo>
                    <a:pt x="136" y="3986"/>
                  </a:lnTo>
                  <a:lnTo>
                    <a:pt x="137" y="3999"/>
                  </a:lnTo>
                  <a:lnTo>
                    <a:pt x="138" y="4010"/>
                  </a:lnTo>
                  <a:lnTo>
                    <a:pt x="140" y="4021"/>
                  </a:lnTo>
                  <a:lnTo>
                    <a:pt x="144" y="4033"/>
                  </a:lnTo>
                  <a:lnTo>
                    <a:pt x="150" y="4043"/>
                  </a:lnTo>
                  <a:lnTo>
                    <a:pt x="156" y="4053"/>
                  </a:lnTo>
                  <a:lnTo>
                    <a:pt x="164" y="4063"/>
                  </a:lnTo>
                  <a:lnTo>
                    <a:pt x="172" y="4073"/>
                  </a:lnTo>
                  <a:lnTo>
                    <a:pt x="181" y="4081"/>
                  </a:lnTo>
                  <a:lnTo>
                    <a:pt x="192" y="4088"/>
                  </a:lnTo>
                  <a:lnTo>
                    <a:pt x="204" y="4094"/>
                  </a:lnTo>
                  <a:lnTo>
                    <a:pt x="216" y="4099"/>
                  </a:lnTo>
                  <a:lnTo>
                    <a:pt x="230" y="4105"/>
                  </a:lnTo>
                  <a:lnTo>
                    <a:pt x="244" y="4108"/>
                  </a:lnTo>
                  <a:lnTo>
                    <a:pt x="261" y="4111"/>
                  </a:lnTo>
                  <a:lnTo>
                    <a:pt x="293" y="3876"/>
                  </a:lnTo>
                  <a:close/>
                  <a:moveTo>
                    <a:pt x="161" y="3240"/>
                  </a:moveTo>
                  <a:lnTo>
                    <a:pt x="292" y="2859"/>
                  </a:lnTo>
                  <a:lnTo>
                    <a:pt x="413" y="2900"/>
                  </a:lnTo>
                  <a:lnTo>
                    <a:pt x="333" y="3131"/>
                  </a:lnTo>
                  <a:lnTo>
                    <a:pt x="776" y="3284"/>
                  </a:lnTo>
                  <a:lnTo>
                    <a:pt x="725" y="3434"/>
                  </a:lnTo>
                  <a:lnTo>
                    <a:pt x="161" y="3240"/>
                  </a:lnTo>
                  <a:close/>
                  <a:moveTo>
                    <a:pt x="449" y="2483"/>
                  </a:moveTo>
                  <a:lnTo>
                    <a:pt x="525" y="2352"/>
                  </a:lnTo>
                  <a:lnTo>
                    <a:pt x="849" y="2539"/>
                  </a:lnTo>
                  <a:lnTo>
                    <a:pt x="646" y="2141"/>
                  </a:lnTo>
                  <a:lnTo>
                    <a:pt x="723" y="2006"/>
                  </a:lnTo>
                  <a:lnTo>
                    <a:pt x="1240" y="2306"/>
                  </a:lnTo>
                  <a:lnTo>
                    <a:pt x="1165" y="2437"/>
                  </a:lnTo>
                  <a:lnTo>
                    <a:pt x="834" y="2246"/>
                  </a:lnTo>
                  <a:lnTo>
                    <a:pt x="1042" y="2650"/>
                  </a:lnTo>
                  <a:lnTo>
                    <a:pt x="966" y="2781"/>
                  </a:lnTo>
                  <a:lnTo>
                    <a:pt x="449" y="2483"/>
                  </a:lnTo>
                  <a:close/>
                  <a:moveTo>
                    <a:pt x="1398" y="1213"/>
                  </a:moveTo>
                  <a:lnTo>
                    <a:pt x="1828" y="1627"/>
                  </a:lnTo>
                  <a:lnTo>
                    <a:pt x="1719" y="1740"/>
                  </a:lnTo>
                  <a:lnTo>
                    <a:pt x="1540" y="1568"/>
                  </a:lnTo>
                  <a:lnTo>
                    <a:pt x="1530" y="1579"/>
                  </a:lnTo>
                  <a:lnTo>
                    <a:pt x="1514" y="1596"/>
                  </a:lnTo>
                  <a:lnTo>
                    <a:pt x="1502" y="1613"/>
                  </a:lnTo>
                  <a:lnTo>
                    <a:pt x="1497" y="1621"/>
                  </a:lnTo>
                  <a:lnTo>
                    <a:pt x="1493" y="1628"/>
                  </a:lnTo>
                  <a:lnTo>
                    <a:pt x="1490" y="1635"/>
                  </a:lnTo>
                  <a:lnTo>
                    <a:pt x="1488" y="1641"/>
                  </a:lnTo>
                  <a:lnTo>
                    <a:pt x="1485" y="1649"/>
                  </a:lnTo>
                  <a:lnTo>
                    <a:pt x="1485" y="1657"/>
                  </a:lnTo>
                  <a:lnTo>
                    <a:pt x="1484" y="1665"/>
                  </a:lnTo>
                  <a:lnTo>
                    <a:pt x="1484" y="1674"/>
                  </a:lnTo>
                  <a:lnTo>
                    <a:pt x="1486" y="1695"/>
                  </a:lnTo>
                  <a:lnTo>
                    <a:pt x="1491" y="1719"/>
                  </a:lnTo>
                  <a:lnTo>
                    <a:pt x="1493" y="1734"/>
                  </a:lnTo>
                  <a:lnTo>
                    <a:pt x="1541" y="1925"/>
                  </a:lnTo>
                  <a:lnTo>
                    <a:pt x="1412" y="2057"/>
                  </a:lnTo>
                  <a:lnTo>
                    <a:pt x="1366" y="1855"/>
                  </a:lnTo>
                  <a:lnTo>
                    <a:pt x="1362" y="1835"/>
                  </a:lnTo>
                  <a:lnTo>
                    <a:pt x="1359" y="1815"/>
                  </a:lnTo>
                  <a:lnTo>
                    <a:pt x="1357" y="1798"/>
                  </a:lnTo>
                  <a:lnTo>
                    <a:pt x="1357" y="1781"/>
                  </a:lnTo>
                  <a:lnTo>
                    <a:pt x="1357" y="1767"/>
                  </a:lnTo>
                  <a:lnTo>
                    <a:pt x="1359" y="1755"/>
                  </a:lnTo>
                  <a:lnTo>
                    <a:pt x="1362" y="1743"/>
                  </a:lnTo>
                  <a:lnTo>
                    <a:pt x="1366" y="1733"/>
                  </a:lnTo>
                  <a:lnTo>
                    <a:pt x="1354" y="1743"/>
                  </a:lnTo>
                  <a:lnTo>
                    <a:pt x="1341" y="1752"/>
                  </a:lnTo>
                  <a:lnTo>
                    <a:pt x="1327" y="1760"/>
                  </a:lnTo>
                  <a:lnTo>
                    <a:pt x="1314" y="1766"/>
                  </a:lnTo>
                  <a:lnTo>
                    <a:pt x="1299" y="1771"/>
                  </a:lnTo>
                  <a:lnTo>
                    <a:pt x="1285" y="1774"/>
                  </a:lnTo>
                  <a:lnTo>
                    <a:pt x="1271" y="1775"/>
                  </a:lnTo>
                  <a:lnTo>
                    <a:pt x="1255" y="1775"/>
                  </a:lnTo>
                  <a:lnTo>
                    <a:pt x="1240" y="1774"/>
                  </a:lnTo>
                  <a:lnTo>
                    <a:pt x="1224" y="1771"/>
                  </a:lnTo>
                  <a:lnTo>
                    <a:pt x="1210" y="1767"/>
                  </a:lnTo>
                  <a:lnTo>
                    <a:pt x="1196" y="1761"/>
                  </a:lnTo>
                  <a:lnTo>
                    <a:pt x="1181" y="1753"/>
                  </a:lnTo>
                  <a:lnTo>
                    <a:pt x="1168" y="1745"/>
                  </a:lnTo>
                  <a:lnTo>
                    <a:pt x="1155" y="1735"/>
                  </a:lnTo>
                  <a:lnTo>
                    <a:pt x="1141" y="1723"/>
                  </a:lnTo>
                  <a:lnTo>
                    <a:pt x="1131" y="1712"/>
                  </a:lnTo>
                  <a:lnTo>
                    <a:pt x="1123" y="1702"/>
                  </a:lnTo>
                  <a:lnTo>
                    <a:pt x="1115" y="1692"/>
                  </a:lnTo>
                  <a:lnTo>
                    <a:pt x="1107" y="1680"/>
                  </a:lnTo>
                  <a:lnTo>
                    <a:pt x="1101" y="1669"/>
                  </a:lnTo>
                  <a:lnTo>
                    <a:pt x="1096" y="1658"/>
                  </a:lnTo>
                  <a:lnTo>
                    <a:pt x="1092" y="1647"/>
                  </a:lnTo>
                  <a:lnTo>
                    <a:pt x="1089" y="1634"/>
                  </a:lnTo>
                  <a:lnTo>
                    <a:pt x="1087" y="1623"/>
                  </a:lnTo>
                  <a:lnTo>
                    <a:pt x="1086" y="1611"/>
                  </a:lnTo>
                  <a:lnTo>
                    <a:pt x="1086" y="1599"/>
                  </a:lnTo>
                  <a:lnTo>
                    <a:pt x="1087" y="1588"/>
                  </a:lnTo>
                  <a:lnTo>
                    <a:pt x="1088" y="1577"/>
                  </a:lnTo>
                  <a:lnTo>
                    <a:pt x="1091" y="1565"/>
                  </a:lnTo>
                  <a:lnTo>
                    <a:pt x="1095" y="1554"/>
                  </a:lnTo>
                  <a:lnTo>
                    <a:pt x="1099" y="1544"/>
                  </a:lnTo>
                  <a:lnTo>
                    <a:pt x="1105" y="1532"/>
                  </a:lnTo>
                  <a:lnTo>
                    <a:pt x="1112" y="1521"/>
                  </a:lnTo>
                  <a:lnTo>
                    <a:pt x="1121" y="1509"/>
                  </a:lnTo>
                  <a:lnTo>
                    <a:pt x="1130" y="1495"/>
                  </a:lnTo>
                  <a:lnTo>
                    <a:pt x="1141" y="1481"/>
                  </a:lnTo>
                  <a:lnTo>
                    <a:pt x="1154" y="1467"/>
                  </a:lnTo>
                  <a:lnTo>
                    <a:pt x="1167" y="1452"/>
                  </a:lnTo>
                  <a:lnTo>
                    <a:pt x="1182" y="1436"/>
                  </a:lnTo>
                  <a:lnTo>
                    <a:pt x="1398" y="1213"/>
                  </a:lnTo>
                  <a:close/>
                  <a:moveTo>
                    <a:pt x="1362" y="1396"/>
                  </a:moveTo>
                  <a:lnTo>
                    <a:pt x="1284" y="1477"/>
                  </a:lnTo>
                  <a:lnTo>
                    <a:pt x="1274" y="1488"/>
                  </a:lnTo>
                  <a:lnTo>
                    <a:pt x="1265" y="1499"/>
                  </a:lnTo>
                  <a:lnTo>
                    <a:pt x="1256" y="1509"/>
                  </a:lnTo>
                  <a:lnTo>
                    <a:pt x="1250" y="1519"/>
                  </a:lnTo>
                  <a:lnTo>
                    <a:pt x="1245" y="1528"/>
                  </a:lnTo>
                  <a:lnTo>
                    <a:pt x="1241" y="1537"/>
                  </a:lnTo>
                  <a:lnTo>
                    <a:pt x="1238" y="1545"/>
                  </a:lnTo>
                  <a:lnTo>
                    <a:pt x="1236" y="1553"/>
                  </a:lnTo>
                  <a:lnTo>
                    <a:pt x="1235" y="1560"/>
                  </a:lnTo>
                  <a:lnTo>
                    <a:pt x="1236" y="1568"/>
                  </a:lnTo>
                  <a:lnTo>
                    <a:pt x="1237" y="1576"/>
                  </a:lnTo>
                  <a:lnTo>
                    <a:pt x="1240" y="1583"/>
                  </a:lnTo>
                  <a:lnTo>
                    <a:pt x="1243" y="1590"/>
                  </a:lnTo>
                  <a:lnTo>
                    <a:pt x="1248" y="1597"/>
                  </a:lnTo>
                  <a:lnTo>
                    <a:pt x="1253" y="1604"/>
                  </a:lnTo>
                  <a:lnTo>
                    <a:pt x="1260" y="1612"/>
                  </a:lnTo>
                  <a:lnTo>
                    <a:pt x="1268" y="1619"/>
                  </a:lnTo>
                  <a:lnTo>
                    <a:pt x="1275" y="1624"/>
                  </a:lnTo>
                  <a:lnTo>
                    <a:pt x="1283" y="1628"/>
                  </a:lnTo>
                  <a:lnTo>
                    <a:pt x="1290" y="1631"/>
                  </a:lnTo>
                  <a:lnTo>
                    <a:pt x="1298" y="1633"/>
                  </a:lnTo>
                  <a:lnTo>
                    <a:pt x="1307" y="1634"/>
                  </a:lnTo>
                  <a:lnTo>
                    <a:pt x="1315" y="1634"/>
                  </a:lnTo>
                  <a:lnTo>
                    <a:pt x="1323" y="1632"/>
                  </a:lnTo>
                  <a:lnTo>
                    <a:pt x="1331" y="1629"/>
                  </a:lnTo>
                  <a:lnTo>
                    <a:pt x="1340" y="1626"/>
                  </a:lnTo>
                  <a:lnTo>
                    <a:pt x="1349" y="1621"/>
                  </a:lnTo>
                  <a:lnTo>
                    <a:pt x="1359" y="1615"/>
                  </a:lnTo>
                  <a:lnTo>
                    <a:pt x="1368" y="1606"/>
                  </a:lnTo>
                  <a:lnTo>
                    <a:pt x="1379" y="1598"/>
                  </a:lnTo>
                  <a:lnTo>
                    <a:pt x="1390" y="1588"/>
                  </a:lnTo>
                  <a:lnTo>
                    <a:pt x="1401" y="1578"/>
                  </a:lnTo>
                  <a:lnTo>
                    <a:pt x="1473" y="1503"/>
                  </a:lnTo>
                  <a:lnTo>
                    <a:pt x="1362" y="1396"/>
                  </a:lnTo>
                  <a:close/>
                  <a:moveTo>
                    <a:pt x="2101" y="659"/>
                  </a:moveTo>
                  <a:lnTo>
                    <a:pt x="2232" y="591"/>
                  </a:lnTo>
                  <a:lnTo>
                    <a:pt x="2273" y="669"/>
                  </a:lnTo>
                  <a:lnTo>
                    <a:pt x="2274" y="657"/>
                  </a:lnTo>
                  <a:lnTo>
                    <a:pt x="2276" y="643"/>
                  </a:lnTo>
                  <a:lnTo>
                    <a:pt x="2280" y="631"/>
                  </a:lnTo>
                  <a:lnTo>
                    <a:pt x="2284" y="618"/>
                  </a:lnTo>
                  <a:lnTo>
                    <a:pt x="2288" y="605"/>
                  </a:lnTo>
                  <a:lnTo>
                    <a:pt x="2294" y="593"/>
                  </a:lnTo>
                  <a:lnTo>
                    <a:pt x="2300" y="581"/>
                  </a:lnTo>
                  <a:lnTo>
                    <a:pt x="2308" y="569"/>
                  </a:lnTo>
                  <a:lnTo>
                    <a:pt x="2316" y="558"/>
                  </a:lnTo>
                  <a:lnTo>
                    <a:pt x="2325" y="547"/>
                  </a:lnTo>
                  <a:lnTo>
                    <a:pt x="2334" y="536"/>
                  </a:lnTo>
                  <a:lnTo>
                    <a:pt x="2344" y="527"/>
                  </a:lnTo>
                  <a:lnTo>
                    <a:pt x="2355" y="518"/>
                  </a:lnTo>
                  <a:lnTo>
                    <a:pt x="2367" y="510"/>
                  </a:lnTo>
                  <a:lnTo>
                    <a:pt x="2379" y="501"/>
                  </a:lnTo>
                  <a:lnTo>
                    <a:pt x="2392" y="494"/>
                  </a:lnTo>
                  <a:lnTo>
                    <a:pt x="2403" y="489"/>
                  </a:lnTo>
                  <a:lnTo>
                    <a:pt x="2415" y="484"/>
                  </a:lnTo>
                  <a:lnTo>
                    <a:pt x="2427" y="480"/>
                  </a:lnTo>
                  <a:lnTo>
                    <a:pt x="2439" y="477"/>
                  </a:lnTo>
                  <a:lnTo>
                    <a:pt x="2450" y="474"/>
                  </a:lnTo>
                  <a:lnTo>
                    <a:pt x="2463" y="472"/>
                  </a:lnTo>
                  <a:lnTo>
                    <a:pt x="2475" y="471"/>
                  </a:lnTo>
                  <a:lnTo>
                    <a:pt x="2486" y="470"/>
                  </a:lnTo>
                  <a:lnTo>
                    <a:pt x="2499" y="470"/>
                  </a:lnTo>
                  <a:lnTo>
                    <a:pt x="2511" y="470"/>
                  </a:lnTo>
                  <a:lnTo>
                    <a:pt x="2523" y="471"/>
                  </a:lnTo>
                  <a:lnTo>
                    <a:pt x="2536" y="473"/>
                  </a:lnTo>
                  <a:lnTo>
                    <a:pt x="2548" y="476"/>
                  </a:lnTo>
                  <a:lnTo>
                    <a:pt x="2561" y="479"/>
                  </a:lnTo>
                  <a:lnTo>
                    <a:pt x="2574" y="483"/>
                  </a:lnTo>
                  <a:lnTo>
                    <a:pt x="2586" y="487"/>
                  </a:lnTo>
                  <a:lnTo>
                    <a:pt x="2598" y="492"/>
                  </a:lnTo>
                  <a:lnTo>
                    <a:pt x="2611" y="498"/>
                  </a:lnTo>
                  <a:lnTo>
                    <a:pt x="2623" y="505"/>
                  </a:lnTo>
                  <a:lnTo>
                    <a:pt x="2634" y="513"/>
                  </a:lnTo>
                  <a:lnTo>
                    <a:pt x="2646" y="521"/>
                  </a:lnTo>
                  <a:lnTo>
                    <a:pt x="2657" y="530"/>
                  </a:lnTo>
                  <a:lnTo>
                    <a:pt x="2668" y="539"/>
                  </a:lnTo>
                  <a:lnTo>
                    <a:pt x="2678" y="550"/>
                  </a:lnTo>
                  <a:lnTo>
                    <a:pt x="2689" y="560"/>
                  </a:lnTo>
                  <a:lnTo>
                    <a:pt x="2699" y="572"/>
                  </a:lnTo>
                  <a:lnTo>
                    <a:pt x="2709" y="585"/>
                  </a:lnTo>
                  <a:lnTo>
                    <a:pt x="2719" y="598"/>
                  </a:lnTo>
                  <a:lnTo>
                    <a:pt x="2728" y="611"/>
                  </a:lnTo>
                  <a:lnTo>
                    <a:pt x="2737" y="626"/>
                  </a:lnTo>
                  <a:lnTo>
                    <a:pt x="2745" y="641"/>
                  </a:lnTo>
                  <a:lnTo>
                    <a:pt x="2753" y="657"/>
                  </a:lnTo>
                  <a:lnTo>
                    <a:pt x="2762" y="673"/>
                  </a:lnTo>
                  <a:lnTo>
                    <a:pt x="2769" y="690"/>
                  </a:lnTo>
                  <a:lnTo>
                    <a:pt x="2776" y="706"/>
                  </a:lnTo>
                  <a:lnTo>
                    <a:pt x="2782" y="721"/>
                  </a:lnTo>
                  <a:lnTo>
                    <a:pt x="2786" y="738"/>
                  </a:lnTo>
                  <a:lnTo>
                    <a:pt x="2791" y="753"/>
                  </a:lnTo>
                  <a:lnTo>
                    <a:pt x="2795" y="769"/>
                  </a:lnTo>
                  <a:lnTo>
                    <a:pt x="2798" y="783"/>
                  </a:lnTo>
                  <a:lnTo>
                    <a:pt x="2800" y="798"/>
                  </a:lnTo>
                  <a:lnTo>
                    <a:pt x="2802" y="813"/>
                  </a:lnTo>
                  <a:lnTo>
                    <a:pt x="2802" y="827"/>
                  </a:lnTo>
                  <a:lnTo>
                    <a:pt x="2802" y="842"/>
                  </a:lnTo>
                  <a:lnTo>
                    <a:pt x="2801" y="856"/>
                  </a:lnTo>
                  <a:lnTo>
                    <a:pt x="2800" y="869"/>
                  </a:lnTo>
                  <a:lnTo>
                    <a:pt x="2798" y="884"/>
                  </a:lnTo>
                  <a:lnTo>
                    <a:pt x="2795" y="897"/>
                  </a:lnTo>
                  <a:lnTo>
                    <a:pt x="2790" y="911"/>
                  </a:lnTo>
                  <a:lnTo>
                    <a:pt x="2786" y="923"/>
                  </a:lnTo>
                  <a:lnTo>
                    <a:pt x="2781" y="935"/>
                  </a:lnTo>
                  <a:lnTo>
                    <a:pt x="2776" y="947"/>
                  </a:lnTo>
                  <a:lnTo>
                    <a:pt x="2771" y="958"/>
                  </a:lnTo>
                  <a:lnTo>
                    <a:pt x="2765" y="969"/>
                  </a:lnTo>
                  <a:lnTo>
                    <a:pt x="2758" y="979"/>
                  </a:lnTo>
                  <a:lnTo>
                    <a:pt x="2750" y="990"/>
                  </a:lnTo>
                  <a:lnTo>
                    <a:pt x="2743" y="999"/>
                  </a:lnTo>
                  <a:lnTo>
                    <a:pt x="2734" y="1007"/>
                  </a:lnTo>
                  <a:lnTo>
                    <a:pt x="2726" y="1016"/>
                  </a:lnTo>
                  <a:lnTo>
                    <a:pt x="2716" y="1024"/>
                  </a:lnTo>
                  <a:lnTo>
                    <a:pt x="2706" y="1032"/>
                  </a:lnTo>
                  <a:lnTo>
                    <a:pt x="2696" y="1039"/>
                  </a:lnTo>
                  <a:lnTo>
                    <a:pt x="2686" y="1045"/>
                  </a:lnTo>
                  <a:lnTo>
                    <a:pt x="2674" y="1051"/>
                  </a:lnTo>
                  <a:lnTo>
                    <a:pt x="2663" y="1057"/>
                  </a:lnTo>
                  <a:lnTo>
                    <a:pt x="2652" y="1062"/>
                  </a:lnTo>
                  <a:lnTo>
                    <a:pt x="2640" y="1065"/>
                  </a:lnTo>
                  <a:lnTo>
                    <a:pt x="2630" y="1069"/>
                  </a:lnTo>
                  <a:lnTo>
                    <a:pt x="2619" y="1071"/>
                  </a:lnTo>
                  <a:lnTo>
                    <a:pt x="2608" y="1073"/>
                  </a:lnTo>
                  <a:lnTo>
                    <a:pt x="2596" y="1074"/>
                  </a:lnTo>
                  <a:lnTo>
                    <a:pt x="2585" y="1075"/>
                  </a:lnTo>
                  <a:lnTo>
                    <a:pt x="2574" y="1074"/>
                  </a:lnTo>
                  <a:lnTo>
                    <a:pt x="2562" y="1074"/>
                  </a:lnTo>
                  <a:lnTo>
                    <a:pt x="2549" y="1072"/>
                  </a:lnTo>
                  <a:lnTo>
                    <a:pt x="2537" y="1070"/>
                  </a:lnTo>
                  <a:lnTo>
                    <a:pt x="2523" y="1067"/>
                  </a:lnTo>
                  <a:lnTo>
                    <a:pt x="2509" y="1063"/>
                  </a:lnTo>
                  <a:lnTo>
                    <a:pt x="2495" y="1059"/>
                  </a:lnTo>
                  <a:lnTo>
                    <a:pt x="2479" y="1052"/>
                  </a:lnTo>
                  <a:lnTo>
                    <a:pt x="2616" y="1321"/>
                  </a:lnTo>
                  <a:lnTo>
                    <a:pt x="2475" y="1393"/>
                  </a:lnTo>
                  <a:lnTo>
                    <a:pt x="2101" y="659"/>
                  </a:lnTo>
                  <a:close/>
                  <a:moveTo>
                    <a:pt x="2371" y="845"/>
                  </a:moveTo>
                  <a:lnTo>
                    <a:pt x="2383" y="865"/>
                  </a:lnTo>
                  <a:lnTo>
                    <a:pt x="2395" y="885"/>
                  </a:lnTo>
                  <a:lnTo>
                    <a:pt x="2407" y="902"/>
                  </a:lnTo>
                  <a:lnTo>
                    <a:pt x="2420" y="918"/>
                  </a:lnTo>
                  <a:lnTo>
                    <a:pt x="2433" y="931"/>
                  </a:lnTo>
                  <a:lnTo>
                    <a:pt x="2446" y="942"/>
                  </a:lnTo>
                  <a:lnTo>
                    <a:pt x="2453" y="948"/>
                  </a:lnTo>
                  <a:lnTo>
                    <a:pt x="2460" y="952"/>
                  </a:lnTo>
                  <a:lnTo>
                    <a:pt x="2467" y="956"/>
                  </a:lnTo>
                  <a:lnTo>
                    <a:pt x="2474" y="959"/>
                  </a:lnTo>
                  <a:lnTo>
                    <a:pt x="2488" y="964"/>
                  </a:lnTo>
                  <a:lnTo>
                    <a:pt x="2503" y="968"/>
                  </a:lnTo>
                  <a:lnTo>
                    <a:pt x="2516" y="970"/>
                  </a:lnTo>
                  <a:lnTo>
                    <a:pt x="2530" y="970"/>
                  </a:lnTo>
                  <a:lnTo>
                    <a:pt x="2544" y="970"/>
                  </a:lnTo>
                  <a:lnTo>
                    <a:pt x="2557" y="967"/>
                  </a:lnTo>
                  <a:lnTo>
                    <a:pt x="2570" y="963"/>
                  </a:lnTo>
                  <a:lnTo>
                    <a:pt x="2583" y="957"/>
                  </a:lnTo>
                  <a:lnTo>
                    <a:pt x="2594" y="951"/>
                  </a:lnTo>
                  <a:lnTo>
                    <a:pt x="2604" y="942"/>
                  </a:lnTo>
                  <a:lnTo>
                    <a:pt x="2615" y="934"/>
                  </a:lnTo>
                  <a:lnTo>
                    <a:pt x="2623" y="925"/>
                  </a:lnTo>
                  <a:lnTo>
                    <a:pt x="2630" y="914"/>
                  </a:lnTo>
                  <a:lnTo>
                    <a:pt x="2635" y="902"/>
                  </a:lnTo>
                  <a:lnTo>
                    <a:pt x="2640" y="890"/>
                  </a:lnTo>
                  <a:lnTo>
                    <a:pt x="2645" y="877"/>
                  </a:lnTo>
                  <a:lnTo>
                    <a:pt x="2647" y="862"/>
                  </a:lnTo>
                  <a:lnTo>
                    <a:pt x="2647" y="847"/>
                  </a:lnTo>
                  <a:lnTo>
                    <a:pt x="2646" y="829"/>
                  </a:lnTo>
                  <a:lnTo>
                    <a:pt x="2642" y="812"/>
                  </a:lnTo>
                  <a:lnTo>
                    <a:pt x="2637" y="793"/>
                  </a:lnTo>
                  <a:lnTo>
                    <a:pt x="2630" y="774"/>
                  </a:lnTo>
                  <a:lnTo>
                    <a:pt x="2622" y="752"/>
                  </a:lnTo>
                  <a:lnTo>
                    <a:pt x="2612" y="731"/>
                  </a:lnTo>
                  <a:lnTo>
                    <a:pt x="2600" y="711"/>
                  </a:lnTo>
                  <a:lnTo>
                    <a:pt x="2589" y="693"/>
                  </a:lnTo>
                  <a:lnTo>
                    <a:pt x="2578" y="676"/>
                  </a:lnTo>
                  <a:lnTo>
                    <a:pt x="2565" y="662"/>
                  </a:lnTo>
                  <a:lnTo>
                    <a:pt x="2553" y="649"/>
                  </a:lnTo>
                  <a:lnTo>
                    <a:pt x="2541" y="639"/>
                  </a:lnTo>
                  <a:lnTo>
                    <a:pt x="2527" y="630"/>
                  </a:lnTo>
                  <a:lnTo>
                    <a:pt x="2514" y="624"/>
                  </a:lnTo>
                  <a:lnTo>
                    <a:pt x="2501" y="619"/>
                  </a:lnTo>
                  <a:lnTo>
                    <a:pt x="2487" y="614"/>
                  </a:lnTo>
                  <a:lnTo>
                    <a:pt x="2474" y="612"/>
                  </a:lnTo>
                  <a:lnTo>
                    <a:pt x="2462" y="612"/>
                  </a:lnTo>
                  <a:lnTo>
                    <a:pt x="2448" y="613"/>
                  </a:lnTo>
                  <a:lnTo>
                    <a:pt x="2436" y="615"/>
                  </a:lnTo>
                  <a:lnTo>
                    <a:pt x="2423" y="620"/>
                  </a:lnTo>
                  <a:lnTo>
                    <a:pt x="2410" y="626"/>
                  </a:lnTo>
                  <a:lnTo>
                    <a:pt x="2398" y="633"/>
                  </a:lnTo>
                  <a:lnTo>
                    <a:pt x="2387" y="640"/>
                  </a:lnTo>
                  <a:lnTo>
                    <a:pt x="2377" y="649"/>
                  </a:lnTo>
                  <a:lnTo>
                    <a:pt x="2368" y="660"/>
                  </a:lnTo>
                  <a:lnTo>
                    <a:pt x="2361" y="670"/>
                  </a:lnTo>
                  <a:lnTo>
                    <a:pt x="2355" y="682"/>
                  </a:lnTo>
                  <a:lnTo>
                    <a:pt x="2350" y="695"/>
                  </a:lnTo>
                  <a:lnTo>
                    <a:pt x="2346" y="709"/>
                  </a:lnTo>
                  <a:lnTo>
                    <a:pt x="2342" y="723"/>
                  </a:lnTo>
                  <a:lnTo>
                    <a:pt x="2341" y="739"/>
                  </a:lnTo>
                  <a:lnTo>
                    <a:pt x="2342" y="755"/>
                  </a:lnTo>
                  <a:lnTo>
                    <a:pt x="2344" y="772"/>
                  </a:lnTo>
                  <a:lnTo>
                    <a:pt x="2349" y="788"/>
                  </a:lnTo>
                  <a:lnTo>
                    <a:pt x="2355" y="807"/>
                  </a:lnTo>
                  <a:lnTo>
                    <a:pt x="2362" y="825"/>
                  </a:lnTo>
                  <a:lnTo>
                    <a:pt x="2371" y="845"/>
                  </a:lnTo>
                  <a:close/>
                  <a:moveTo>
                    <a:pt x="3218" y="370"/>
                  </a:moveTo>
                  <a:lnTo>
                    <a:pt x="3073" y="382"/>
                  </a:lnTo>
                  <a:lnTo>
                    <a:pt x="3074" y="361"/>
                  </a:lnTo>
                  <a:lnTo>
                    <a:pt x="3076" y="339"/>
                  </a:lnTo>
                  <a:lnTo>
                    <a:pt x="3080" y="319"/>
                  </a:lnTo>
                  <a:lnTo>
                    <a:pt x="3085" y="301"/>
                  </a:lnTo>
                  <a:lnTo>
                    <a:pt x="3093" y="283"/>
                  </a:lnTo>
                  <a:lnTo>
                    <a:pt x="3100" y="267"/>
                  </a:lnTo>
                  <a:lnTo>
                    <a:pt x="3109" y="251"/>
                  </a:lnTo>
                  <a:lnTo>
                    <a:pt x="3120" y="236"/>
                  </a:lnTo>
                  <a:lnTo>
                    <a:pt x="3133" y="223"/>
                  </a:lnTo>
                  <a:lnTo>
                    <a:pt x="3148" y="210"/>
                  </a:lnTo>
                  <a:lnTo>
                    <a:pt x="3164" y="198"/>
                  </a:lnTo>
                  <a:lnTo>
                    <a:pt x="3183" y="188"/>
                  </a:lnTo>
                  <a:lnTo>
                    <a:pt x="3204" y="178"/>
                  </a:lnTo>
                  <a:lnTo>
                    <a:pt x="3227" y="167"/>
                  </a:lnTo>
                  <a:lnTo>
                    <a:pt x="3252" y="159"/>
                  </a:lnTo>
                  <a:lnTo>
                    <a:pt x="3279" y="151"/>
                  </a:lnTo>
                  <a:lnTo>
                    <a:pt x="3304" y="145"/>
                  </a:lnTo>
                  <a:lnTo>
                    <a:pt x="3327" y="140"/>
                  </a:lnTo>
                  <a:lnTo>
                    <a:pt x="3349" y="135"/>
                  </a:lnTo>
                  <a:lnTo>
                    <a:pt x="3370" y="133"/>
                  </a:lnTo>
                  <a:lnTo>
                    <a:pt x="3389" y="131"/>
                  </a:lnTo>
                  <a:lnTo>
                    <a:pt x="3407" y="131"/>
                  </a:lnTo>
                  <a:lnTo>
                    <a:pt x="3422" y="132"/>
                  </a:lnTo>
                  <a:lnTo>
                    <a:pt x="3438" y="134"/>
                  </a:lnTo>
                  <a:lnTo>
                    <a:pt x="3451" y="137"/>
                  </a:lnTo>
                  <a:lnTo>
                    <a:pt x="3465" y="142"/>
                  </a:lnTo>
                  <a:lnTo>
                    <a:pt x="3476" y="146"/>
                  </a:lnTo>
                  <a:lnTo>
                    <a:pt x="3487" y="151"/>
                  </a:lnTo>
                  <a:lnTo>
                    <a:pt x="3497" y="156"/>
                  </a:lnTo>
                  <a:lnTo>
                    <a:pt x="3508" y="162"/>
                  </a:lnTo>
                  <a:lnTo>
                    <a:pt x="3516" y="169"/>
                  </a:lnTo>
                  <a:lnTo>
                    <a:pt x="3524" y="177"/>
                  </a:lnTo>
                  <a:lnTo>
                    <a:pt x="3531" y="186"/>
                  </a:lnTo>
                  <a:lnTo>
                    <a:pt x="3540" y="197"/>
                  </a:lnTo>
                  <a:lnTo>
                    <a:pt x="3547" y="210"/>
                  </a:lnTo>
                  <a:lnTo>
                    <a:pt x="3554" y="226"/>
                  </a:lnTo>
                  <a:lnTo>
                    <a:pt x="3561" y="243"/>
                  </a:lnTo>
                  <a:lnTo>
                    <a:pt x="3567" y="263"/>
                  </a:lnTo>
                  <a:lnTo>
                    <a:pt x="3574" y="284"/>
                  </a:lnTo>
                  <a:lnTo>
                    <a:pt x="3582" y="308"/>
                  </a:lnTo>
                  <a:lnTo>
                    <a:pt x="3627" y="487"/>
                  </a:lnTo>
                  <a:lnTo>
                    <a:pt x="3637" y="522"/>
                  </a:lnTo>
                  <a:lnTo>
                    <a:pt x="3646" y="553"/>
                  </a:lnTo>
                  <a:lnTo>
                    <a:pt x="3656" y="577"/>
                  </a:lnTo>
                  <a:lnTo>
                    <a:pt x="3665" y="597"/>
                  </a:lnTo>
                  <a:lnTo>
                    <a:pt x="3674" y="614"/>
                  </a:lnTo>
                  <a:lnTo>
                    <a:pt x="3685" y="632"/>
                  </a:lnTo>
                  <a:lnTo>
                    <a:pt x="3698" y="649"/>
                  </a:lnTo>
                  <a:lnTo>
                    <a:pt x="3713" y="667"/>
                  </a:lnTo>
                  <a:lnTo>
                    <a:pt x="3562" y="707"/>
                  </a:lnTo>
                  <a:lnTo>
                    <a:pt x="3557" y="700"/>
                  </a:lnTo>
                  <a:lnTo>
                    <a:pt x="3550" y="691"/>
                  </a:lnTo>
                  <a:lnTo>
                    <a:pt x="3543" y="679"/>
                  </a:lnTo>
                  <a:lnTo>
                    <a:pt x="3535" y="666"/>
                  </a:lnTo>
                  <a:lnTo>
                    <a:pt x="3529" y="656"/>
                  </a:lnTo>
                  <a:lnTo>
                    <a:pt x="3525" y="649"/>
                  </a:lnTo>
                  <a:lnTo>
                    <a:pt x="3518" y="662"/>
                  </a:lnTo>
                  <a:lnTo>
                    <a:pt x="3510" y="673"/>
                  </a:lnTo>
                  <a:lnTo>
                    <a:pt x="3502" y="683"/>
                  </a:lnTo>
                  <a:lnTo>
                    <a:pt x="3493" y="694"/>
                  </a:lnTo>
                  <a:lnTo>
                    <a:pt x="3485" y="704"/>
                  </a:lnTo>
                  <a:lnTo>
                    <a:pt x="3476" y="713"/>
                  </a:lnTo>
                  <a:lnTo>
                    <a:pt x="3467" y="721"/>
                  </a:lnTo>
                  <a:lnTo>
                    <a:pt x="3456" y="730"/>
                  </a:lnTo>
                  <a:lnTo>
                    <a:pt x="3447" y="737"/>
                  </a:lnTo>
                  <a:lnTo>
                    <a:pt x="3437" y="744"/>
                  </a:lnTo>
                  <a:lnTo>
                    <a:pt x="3425" y="750"/>
                  </a:lnTo>
                  <a:lnTo>
                    <a:pt x="3414" y="756"/>
                  </a:lnTo>
                  <a:lnTo>
                    <a:pt x="3403" y="761"/>
                  </a:lnTo>
                  <a:lnTo>
                    <a:pt x="3392" y="766"/>
                  </a:lnTo>
                  <a:lnTo>
                    <a:pt x="3379" y="770"/>
                  </a:lnTo>
                  <a:lnTo>
                    <a:pt x="3367" y="774"/>
                  </a:lnTo>
                  <a:lnTo>
                    <a:pt x="3344" y="779"/>
                  </a:lnTo>
                  <a:lnTo>
                    <a:pt x="3324" y="782"/>
                  </a:lnTo>
                  <a:lnTo>
                    <a:pt x="3303" y="783"/>
                  </a:lnTo>
                  <a:lnTo>
                    <a:pt x="3284" y="783"/>
                  </a:lnTo>
                  <a:lnTo>
                    <a:pt x="3265" y="781"/>
                  </a:lnTo>
                  <a:lnTo>
                    <a:pt x="3247" y="777"/>
                  </a:lnTo>
                  <a:lnTo>
                    <a:pt x="3238" y="774"/>
                  </a:lnTo>
                  <a:lnTo>
                    <a:pt x="3230" y="771"/>
                  </a:lnTo>
                  <a:lnTo>
                    <a:pt x="3222" y="768"/>
                  </a:lnTo>
                  <a:lnTo>
                    <a:pt x="3214" y="764"/>
                  </a:lnTo>
                  <a:lnTo>
                    <a:pt x="3198" y="754"/>
                  </a:lnTo>
                  <a:lnTo>
                    <a:pt x="3184" y="743"/>
                  </a:lnTo>
                  <a:lnTo>
                    <a:pt x="3172" y="732"/>
                  </a:lnTo>
                  <a:lnTo>
                    <a:pt x="3160" y="718"/>
                  </a:lnTo>
                  <a:lnTo>
                    <a:pt x="3150" y="705"/>
                  </a:lnTo>
                  <a:lnTo>
                    <a:pt x="3142" y="690"/>
                  </a:lnTo>
                  <a:lnTo>
                    <a:pt x="3135" y="672"/>
                  </a:lnTo>
                  <a:lnTo>
                    <a:pt x="3130" y="655"/>
                  </a:lnTo>
                  <a:lnTo>
                    <a:pt x="3126" y="642"/>
                  </a:lnTo>
                  <a:lnTo>
                    <a:pt x="3124" y="630"/>
                  </a:lnTo>
                  <a:lnTo>
                    <a:pt x="3123" y="619"/>
                  </a:lnTo>
                  <a:lnTo>
                    <a:pt x="3122" y="607"/>
                  </a:lnTo>
                  <a:lnTo>
                    <a:pt x="3123" y="595"/>
                  </a:lnTo>
                  <a:lnTo>
                    <a:pt x="3124" y="584"/>
                  </a:lnTo>
                  <a:lnTo>
                    <a:pt x="3126" y="572"/>
                  </a:lnTo>
                  <a:lnTo>
                    <a:pt x="3130" y="561"/>
                  </a:lnTo>
                  <a:lnTo>
                    <a:pt x="3133" y="550"/>
                  </a:lnTo>
                  <a:lnTo>
                    <a:pt x="3138" y="539"/>
                  </a:lnTo>
                  <a:lnTo>
                    <a:pt x="3143" y="529"/>
                  </a:lnTo>
                  <a:lnTo>
                    <a:pt x="3148" y="520"/>
                  </a:lnTo>
                  <a:lnTo>
                    <a:pt x="3155" y="511"/>
                  </a:lnTo>
                  <a:lnTo>
                    <a:pt x="3162" y="501"/>
                  </a:lnTo>
                  <a:lnTo>
                    <a:pt x="3171" y="493"/>
                  </a:lnTo>
                  <a:lnTo>
                    <a:pt x="3179" y="485"/>
                  </a:lnTo>
                  <a:lnTo>
                    <a:pt x="3189" y="477"/>
                  </a:lnTo>
                  <a:lnTo>
                    <a:pt x="3199" y="468"/>
                  </a:lnTo>
                  <a:lnTo>
                    <a:pt x="3212" y="460"/>
                  </a:lnTo>
                  <a:lnTo>
                    <a:pt x="3225" y="452"/>
                  </a:lnTo>
                  <a:lnTo>
                    <a:pt x="3256" y="435"/>
                  </a:lnTo>
                  <a:lnTo>
                    <a:pt x="3291" y="417"/>
                  </a:lnTo>
                  <a:lnTo>
                    <a:pt x="3337" y="393"/>
                  </a:lnTo>
                  <a:lnTo>
                    <a:pt x="3376" y="373"/>
                  </a:lnTo>
                  <a:lnTo>
                    <a:pt x="3393" y="364"/>
                  </a:lnTo>
                  <a:lnTo>
                    <a:pt x="3407" y="355"/>
                  </a:lnTo>
                  <a:lnTo>
                    <a:pt x="3419" y="347"/>
                  </a:lnTo>
                  <a:lnTo>
                    <a:pt x="3429" y="340"/>
                  </a:lnTo>
                  <a:lnTo>
                    <a:pt x="3424" y="325"/>
                  </a:lnTo>
                  <a:lnTo>
                    <a:pt x="3421" y="314"/>
                  </a:lnTo>
                  <a:lnTo>
                    <a:pt x="3418" y="304"/>
                  </a:lnTo>
                  <a:lnTo>
                    <a:pt x="3414" y="296"/>
                  </a:lnTo>
                  <a:lnTo>
                    <a:pt x="3409" y="289"/>
                  </a:lnTo>
                  <a:lnTo>
                    <a:pt x="3404" y="281"/>
                  </a:lnTo>
                  <a:lnTo>
                    <a:pt x="3399" y="276"/>
                  </a:lnTo>
                  <a:lnTo>
                    <a:pt x="3393" y="271"/>
                  </a:lnTo>
                  <a:lnTo>
                    <a:pt x="3386" y="267"/>
                  </a:lnTo>
                  <a:lnTo>
                    <a:pt x="3379" y="265"/>
                  </a:lnTo>
                  <a:lnTo>
                    <a:pt x="3371" y="263"/>
                  </a:lnTo>
                  <a:lnTo>
                    <a:pt x="3362" y="262"/>
                  </a:lnTo>
                  <a:lnTo>
                    <a:pt x="3352" y="262"/>
                  </a:lnTo>
                  <a:lnTo>
                    <a:pt x="3340" y="263"/>
                  </a:lnTo>
                  <a:lnTo>
                    <a:pt x="3328" y="264"/>
                  </a:lnTo>
                  <a:lnTo>
                    <a:pt x="3315" y="267"/>
                  </a:lnTo>
                  <a:lnTo>
                    <a:pt x="3299" y="271"/>
                  </a:lnTo>
                  <a:lnTo>
                    <a:pt x="3290" y="273"/>
                  </a:lnTo>
                  <a:lnTo>
                    <a:pt x="3281" y="277"/>
                  </a:lnTo>
                  <a:lnTo>
                    <a:pt x="3272" y="280"/>
                  </a:lnTo>
                  <a:lnTo>
                    <a:pt x="3264" y="284"/>
                  </a:lnTo>
                  <a:lnTo>
                    <a:pt x="3257" y="289"/>
                  </a:lnTo>
                  <a:lnTo>
                    <a:pt x="3251" y="294"/>
                  </a:lnTo>
                  <a:lnTo>
                    <a:pt x="3246" y="299"/>
                  </a:lnTo>
                  <a:lnTo>
                    <a:pt x="3241" y="304"/>
                  </a:lnTo>
                  <a:lnTo>
                    <a:pt x="3235" y="309"/>
                  </a:lnTo>
                  <a:lnTo>
                    <a:pt x="3232" y="316"/>
                  </a:lnTo>
                  <a:lnTo>
                    <a:pt x="3228" y="324"/>
                  </a:lnTo>
                  <a:lnTo>
                    <a:pt x="3225" y="332"/>
                  </a:lnTo>
                  <a:lnTo>
                    <a:pt x="3223" y="340"/>
                  </a:lnTo>
                  <a:lnTo>
                    <a:pt x="3221" y="349"/>
                  </a:lnTo>
                  <a:lnTo>
                    <a:pt x="3220" y="360"/>
                  </a:lnTo>
                  <a:lnTo>
                    <a:pt x="3218" y="370"/>
                  </a:lnTo>
                  <a:close/>
                  <a:moveTo>
                    <a:pt x="3455" y="439"/>
                  </a:moveTo>
                  <a:lnTo>
                    <a:pt x="3440" y="449"/>
                  </a:lnTo>
                  <a:lnTo>
                    <a:pt x="3420" y="460"/>
                  </a:lnTo>
                  <a:lnTo>
                    <a:pt x="3397" y="473"/>
                  </a:lnTo>
                  <a:lnTo>
                    <a:pt x="3369" y="487"/>
                  </a:lnTo>
                  <a:lnTo>
                    <a:pt x="3342" y="501"/>
                  </a:lnTo>
                  <a:lnTo>
                    <a:pt x="3321" y="515"/>
                  </a:lnTo>
                  <a:lnTo>
                    <a:pt x="3311" y="521"/>
                  </a:lnTo>
                  <a:lnTo>
                    <a:pt x="3304" y="526"/>
                  </a:lnTo>
                  <a:lnTo>
                    <a:pt x="3298" y="531"/>
                  </a:lnTo>
                  <a:lnTo>
                    <a:pt x="3293" y="536"/>
                  </a:lnTo>
                  <a:lnTo>
                    <a:pt x="3288" y="544"/>
                  </a:lnTo>
                  <a:lnTo>
                    <a:pt x="3283" y="551"/>
                  </a:lnTo>
                  <a:lnTo>
                    <a:pt x="3280" y="559"/>
                  </a:lnTo>
                  <a:lnTo>
                    <a:pt x="3278" y="566"/>
                  </a:lnTo>
                  <a:lnTo>
                    <a:pt x="3275" y="574"/>
                  </a:lnTo>
                  <a:lnTo>
                    <a:pt x="3275" y="582"/>
                  </a:lnTo>
                  <a:lnTo>
                    <a:pt x="3275" y="590"/>
                  </a:lnTo>
                  <a:lnTo>
                    <a:pt x="3278" y="598"/>
                  </a:lnTo>
                  <a:lnTo>
                    <a:pt x="3281" y="605"/>
                  </a:lnTo>
                  <a:lnTo>
                    <a:pt x="3284" y="613"/>
                  </a:lnTo>
                  <a:lnTo>
                    <a:pt x="3287" y="620"/>
                  </a:lnTo>
                  <a:lnTo>
                    <a:pt x="3292" y="626"/>
                  </a:lnTo>
                  <a:lnTo>
                    <a:pt x="3297" y="632"/>
                  </a:lnTo>
                  <a:lnTo>
                    <a:pt x="3302" y="637"/>
                  </a:lnTo>
                  <a:lnTo>
                    <a:pt x="3309" y="642"/>
                  </a:lnTo>
                  <a:lnTo>
                    <a:pt x="3317" y="646"/>
                  </a:lnTo>
                  <a:lnTo>
                    <a:pt x="3324" y="650"/>
                  </a:lnTo>
                  <a:lnTo>
                    <a:pt x="3332" y="654"/>
                  </a:lnTo>
                  <a:lnTo>
                    <a:pt x="3340" y="656"/>
                  </a:lnTo>
                  <a:lnTo>
                    <a:pt x="3348" y="657"/>
                  </a:lnTo>
                  <a:lnTo>
                    <a:pt x="3357" y="658"/>
                  </a:lnTo>
                  <a:lnTo>
                    <a:pt x="3366" y="658"/>
                  </a:lnTo>
                  <a:lnTo>
                    <a:pt x="3374" y="656"/>
                  </a:lnTo>
                  <a:lnTo>
                    <a:pt x="3383" y="654"/>
                  </a:lnTo>
                  <a:lnTo>
                    <a:pt x="3394" y="650"/>
                  </a:lnTo>
                  <a:lnTo>
                    <a:pt x="3404" y="646"/>
                  </a:lnTo>
                  <a:lnTo>
                    <a:pt x="3413" y="642"/>
                  </a:lnTo>
                  <a:lnTo>
                    <a:pt x="3422" y="636"/>
                  </a:lnTo>
                  <a:lnTo>
                    <a:pt x="3431" y="630"/>
                  </a:lnTo>
                  <a:lnTo>
                    <a:pt x="3439" y="623"/>
                  </a:lnTo>
                  <a:lnTo>
                    <a:pt x="3447" y="614"/>
                  </a:lnTo>
                  <a:lnTo>
                    <a:pt x="3455" y="605"/>
                  </a:lnTo>
                  <a:lnTo>
                    <a:pt x="3460" y="599"/>
                  </a:lnTo>
                  <a:lnTo>
                    <a:pt x="3465" y="592"/>
                  </a:lnTo>
                  <a:lnTo>
                    <a:pt x="3469" y="585"/>
                  </a:lnTo>
                  <a:lnTo>
                    <a:pt x="3472" y="576"/>
                  </a:lnTo>
                  <a:lnTo>
                    <a:pt x="3474" y="569"/>
                  </a:lnTo>
                  <a:lnTo>
                    <a:pt x="3476" y="561"/>
                  </a:lnTo>
                  <a:lnTo>
                    <a:pt x="3477" y="554"/>
                  </a:lnTo>
                  <a:lnTo>
                    <a:pt x="3478" y="546"/>
                  </a:lnTo>
                  <a:lnTo>
                    <a:pt x="3477" y="533"/>
                  </a:lnTo>
                  <a:lnTo>
                    <a:pt x="3475" y="516"/>
                  </a:lnTo>
                  <a:lnTo>
                    <a:pt x="3470" y="495"/>
                  </a:lnTo>
                  <a:lnTo>
                    <a:pt x="3464" y="470"/>
                  </a:lnTo>
                  <a:lnTo>
                    <a:pt x="3455" y="439"/>
                  </a:lnTo>
                  <a:close/>
                  <a:moveTo>
                    <a:pt x="4221" y="366"/>
                  </a:moveTo>
                  <a:lnTo>
                    <a:pt x="4219" y="263"/>
                  </a:lnTo>
                  <a:lnTo>
                    <a:pt x="4238" y="263"/>
                  </a:lnTo>
                  <a:lnTo>
                    <a:pt x="4255" y="261"/>
                  </a:lnTo>
                  <a:lnTo>
                    <a:pt x="4268" y="260"/>
                  </a:lnTo>
                  <a:lnTo>
                    <a:pt x="4278" y="257"/>
                  </a:lnTo>
                  <a:lnTo>
                    <a:pt x="4288" y="253"/>
                  </a:lnTo>
                  <a:lnTo>
                    <a:pt x="4296" y="247"/>
                  </a:lnTo>
                  <a:lnTo>
                    <a:pt x="4305" y="239"/>
                  </a:lnTo>
                  <a:lnTo>
                    <a:pt x="4313" y="230"/>
                  </a:lnTo>
                  <a:lnTo>
                    <a:pt x="4316" y="225"/>
                  </a:lnTo>
                  <a:lnTo>
                    <a:pt x="4321" y="220"/>
                  </a:lnTo>
                  <a:lnTo>
                    <a:pt x="4323" y="214"/>
                  </a:lnTo>
                  <a:lnTo>
                    <a:pt x="4326" y="208"/>
                  </a:lnTo>
                  <a:lnTo>
                    <a:pt x="4327" y="202"/>
                  </a:lnTo>
                  <a:lnTo>
                    <a:pt x="4328" y="196"/>
                  </a:lnTo>
                  <a:lnTo>
                    <a:pt x="4329" y="190"/>
                  </a:lnTo>
                  <a:lnTo>
                    <a:pt x="4329" y="183"/>
                  </a:lnTo>
                  <a:lnTo>
                    <a:pt x="4329" y="176"/>
                  </a:lnTo>
                  <a:lnTo>
                    <a:pt x="4328" y="169"/>
                  </a:lnTo>
                  <a:lnTo>
                    <a:pt x="4326" y="162"/>
                  </a:lnTo>
                  <a:lnTo>
                    <a:pt x="4324" y="156"/>
                  </a:lnTo>
                  <a:lnTo>
                    <a:pt x="4321" y="150"/>
                  </a:lnTo>
                  <a:lnTo>
                    <a:pt x="4316" y="144"/>
                  </a:lnTo>
                  <a:lnTo>
                    <a:pt x="4312" y="137"/>
                  </a:lnTo>
                  <a:lnTo>
                    <a:pt x="4307" y="131"/>
                  </a:lnTo>
                  <a:lnTo>
                    <a:pt x="4302" y="126"/>
                  </a:lnTo>
                  <a:lnTo>
                    <a:pt x="4296" y="121"/>
                  </a:lnTo>
                  <a:lnTo>
                    <a:pt x="4289" y="117"/>
                  </a:lnTo>
                  <a:lnTo>
                    <a:pt x="4281" y="114"/>
                  </a:lnTo>
                  <a:lnTo>
                    <a:pt x="4273" y="112"/>
                  </a:lnTo>
                  <a:lnTo>
                    <a:pt x="4265" y="110"/>
                  </a:lnTo>
                  <a:lnTo>
                    <a:pt x="4256" y="109"/>
                  </a:lnTo>
                  <a:lnTo>
                    <a:pt x="4245" y="109"/>
                  </a:lnTo>
                  <a:lnTo>
                    <a:pt x="4230" y="110"/>
                  </a:lnTo>
                  <a:lnTo>
                    <a:pt x="4216" y="113"/>
                  </a:lnTo>
                  <a:lnTo>
                    <a:pt x="4202" y="117"/>
                  </a:lnTo>
                  <a:lnTo>
                    <a:pt x="4189" y="123"/>
                  </a:lnTo>
                  <a:lnTo>
                    <a:pt x="4184" y="127"/>
                  </a:lnTo>
                  <a:lnTo>
                    <a:pt x="4178" y="132"/>
                  </a:lnTo>
                  <a:lnTo>
                    <a:pt x="4172" y="138"/>
                  </a:lnTo>
                  <a:lnTo>
                    <a:pt x="4166" y="146"/>
                  </a:lnTo>
                  <a:lnTo>
                    <a:pt x="4161" y="155"/>
                  </a:lnTo>
                  <a:lnTo>
                    <a:pt x="4156" y="164"/>
                  </a:lnTo>
                  <a:lnTo>
                    <a:pt x="4151" y="176"/>
                  </a:lnTo>
                  <a:lnTo>
                    <a:pt x="4146" y="188"/>
                  </a:lnTo>
                  <a:lnTo>
                    <a:pt x="4011" y="161"/>
                  </a:lnTo>
                  <a:lnTo>
                    <a:pt x="4016" y="143"/>
                  </a:lnTo>
                  <a:lnTo>
                    <a:pt x="4024" y="124"/>
                  </a:lnTo>
                  <a:lnTo>
                    <a:pt x="4032" y="108"/>
                  </a:lnTo>
                  <a:lnTo>
                    <a:pt x="4042" y="92"/>
                  </a:lnTo>
                  <a:lnTo>
                    <a:pt x="4053" y="78"/>
                  </a:lnTo>
                  <a:lnTo>
                    <a:pt x="4066" y="64"/>
                  </a:lnTo>
                  <a:lnTo>
                    <a:pt x="4080" y="53"/>
                  </a:lnTo>
                  <a:lnTo>
                    <a:pt x="4095" y="42"/>
                  </a:lnTo>
                  <a:lnTo>
                    <a:pt x="4113" y="33"/>
                  </a:lnTo>
                  <a:lnTo>
                    <a:pt x="4129" y="24"/>
                  </a:lnTo>
                  <a:lnTo>
                    <a:pt x="4148" y="17"/>
                  </a:lnTo>
                  <a:lnTo>
                    <a:pt x="4166" y="11"/>
                  </a:lnTo>
                  <a:lnTo>
                    <a:pt x="4185" y="7"/>
                  </a:lnTo>
                  <a:lnTo>
                    <a:pt x="4205" y="3"/>
                  </a:lnTo>
                  <a:lnTo>
                    <a:pt x="4226" y="1"/>
                  </a:lnTo>
                  <a:lnTo>
                    <a:pt x="4247" y="0"/>
                  </a:lnTo>
                  <a:lnTo>
                    <a:pt x="4272" y="1"/>
                  </a:lnTo>
                  <a:lnTo>
                    <a:pt x="4297" y="2"/>
                  </a:lnTo>
                  <a:lnTo>
                    <a:pt x="4321" y="6"/>
                  </a:lnTo>
                  <a:lnTo>
                    <a:pt x="4342" y="11"/>
                  </a:lnTo>
                  <a:lnTo>
                    <a:pt x="4363" y="17"/>
                  </a:lnTo>
                  <a:lnTo>
                    <a:pt x="4381" y="25"/>
                  </a:lnTo>
                  <a:lnTo>
                    <a:pt x="4390" y="31"/>
                  </a:lnTo>
                  <a:lnTo>
                    <a:pt x="4399" y="35"/>
                  </a:lnTo>
                  <a:lnTo>
                    <a:pt x="4407" y="41"/>
                  </a:lnTo>
                  <a:lnTo>
                    <a:pt x="4414" y="46"/>
                  </a:lnTo>
                  <a:lnTo>
                    <a:pt x="4428" y="59"/>
                  </a:lnTo>
                  <a:lnTo>
                    <a:pt x="4441" y="73"/>
                  </a:lnTo>
                  <a:lnTo>
                    <a:pt x="4451" y="86"/>
                  </a:lnTo>
                  <a:lnTo>
                    <a:pt x="4460" y="101"/>
                  </a:lnTo>
                  <a:lnTo>
                    <a:pt x="4466" y="117"/>
                  </a:lnTo>
                  <a:lnTo>
                    <a:pt x="4472" y="134"/>
                  </a:lnTo>
                  <a:lnTo>
                    <a:pt x="4475" y="152"/>
                  </a:lnTo>
                  <a:lnTo>
                    <a:pt x="4476" y="169"/>
                  </a:lnTo>
                  <a:lnTo>
                    <a:pt x="4476" y="182"/>
                  </a:lnTo>
                  <a:lnTo>
                    <a:pt x="4475" y="192"/>
                  </a:lnTo>
                  <a:lnTo>
                    <a:pt x="4473" y="202"/>
                  </a:lnTo>
                  <a:lnTo>
                    <a:pt x="4471" y="213"/>
                  </a:lnTo>
                  <a:lnTo>
                    <a:pt x="4466" y="222"/>
                  </a:lnTo>
                  <a:lnTo>
                    <a:pt x="4462" y="231"/>
                  </a:lnTo>
                  <a:lnTo>
                    <a:pt x="4457" y="239"/>
                  </a:lnTo>
                  <a:lnTo>
                    <a:pt x="4452" y="247"/>
                  </a:lnTo>
                  <a:lnTo>
                    <a:pt x="4445" y="255"/>
                  </a:lnTo>
                  <a:lnTo>
                    <a:pt x="4438" y="263"/>
                  </a:lnTo>
                  <a:lnTo>
                    <a:pt x="4428" y="270"/>
                  </a:lnTo>
                  <a:lnTo>
                    <a:pt x="4419" y="277"/>
                  </a:lnTo>
                  <a:lnTo>
                    <a:pt x="4409" y="284"/>
                  </a:lnTo>
                  <a:lnTo>
                    <a:pt x="4398" y="292"/>
                  </a:lnTo>
                  <a:lnTo>
                    <a:pt x="4385" y="299"/>
                  </a:lnTo>
                  <a:lnTo>
                    <a:pt x="4372" y="306"/>
                  </a:lnTo>
                  <a:lnTo>
                    <a:pt x="4388" y="310"/>
                  </a:lnTo>
                  <a:lnTo>
                    <a:pt x="4404" y="315"/>
                  </a:lnTo>
                  <a:lnTo>
                    <a:pt x="4417" y="321"/>
                  </a:lnTo>
                  <a:lnTo>
                    <a:pt x="4430" y="328"/>
                  </a:lnTo>
                  <a:lnTo>
                    <a:pt x="4443" y="335"/>
                  </a:lnTo>
                  <a:lnTo>
                    <a:pt x="4453" y="342"/>
                  </a:lnTo>
                  <a:lnTo>
                    <a:pt x="4463" y="350"/>
                  </a:lnTo>
                  <a:lnTo>
                    <a:pt x="4473" y="358"/>
                  </a:lnTo>
                  <a:lnTo>
                    <a:pt x="4480" y="368"/>
                  </a:lnTo>
                  <a:lnTo>
                    <a:pt x="4487" y="378"/>
                  </a:lnTo>
                  <a:lnTo>
                    <a:pt x="4493" y="388"/>
                  </a:lnTo>
                  <a:lnTo>
                    <a:pt x="4497" y="400"/>
                  </a:lnTo>
                  <a:lnTo>
                    <a:pt x="4501" y="411"/>
                  </a:lnTo>
                  <a:lnTo>
                    <a:pt x="4504" y="423"/>
                  </a:lnTo>
                  <a:lnTo>
                    <a:pt x="4505" y="436"/>
                  </a:lnTo>
                  <a:lnTo>
                    <a:pt x="4506" y="449"/>
                  </a:lnTo>
                  <a:lnTo>
                    <a:pt x="4506" y="458"/>
                  </a:lnTo>
                  <a:lnTo>
                    <a:pt x="4505" y="466"/>
                  </a:lnTo>
                  <a:lnTo>
                    <a:pt x="4504" y="475"/>
                  </a:lnTo>
                  <a:lnTo>
                    <a:pt x="4503" y="483"/>
                  </a:lnTo>
                  <a:lnTo>
                    <a:pt x="4501" y="491"/>
                  </a:lnTo>
                  <a:lnTo>
                    <a:pt x="4498" y="499"/>
                  </a:lnTo>
                  <a:lnTo>
                    <a:pt x="4495" y="507"/>
                  </a:lnTo>
                  <a:lnTo>
                    <a:pt x="4491" y="515"/>
                  </a:lnTo>
                  <a:lnTo>
                    <a:pt x="4483" y="529"/>
                  </a:lnTo>
                  <a:lnTo>
                    <a:pt x="4472" y="544"/>
                  </a:lnTo>
                  <a:lnTo>
                    <a:pt x="4458" y="557"/>
                  </a:lnTo>
                  <a:lnTo>
                    <a:pt x="4444" y="570"/>
                  </a:lnTo>
                  <a:lnTo>
                    <a:pt x="4436" y="576"/>
                  </a:lnTo>
                  <a:lnTo>
                    <a:pt x="4426" y="583"/>
                  </a:lnTo>
                  <a:lnTo>
                    <a:pt x="4417" y="588"/>
                  </a:lnTo>
                  <a:lnTo>
                    <a:pt x="4408" y="593"/>
                  </a:lnTo>
                  <a:lnTo>
                    <a:pt x="4398" y="598"/>
                  </a:lnTo>
                  <a:lnTo>
                    <a:pt x="4387" y="602"/>
                  </a:lnTo>
                  <a:lnTo>
                    <a:pt x="4376" y="606"/>
                  </a:lnTo>
                  <a:lnTo>
                    <a:pt x="4365" y="609"/>
                  </a:lnTo>
                  <a:lnTo>
                    <a:pt x="4340" y="615"/>
                  </a:lnTo>
                  <a:lnTo>
                    <a:pt x="4314" y="620"/>
                  </a:lnTo>
                  <a:lnTo>
                    <a:pt x="4287" y="623"/>
                  </a:lnTo>
                  <a:lnTo>
                    <a:pt x="4257" y="624"/>
                  </a:lnTo>
                  <a:lnTo>
                    <a:pt x="4231" y="624"/>
                  </a:lnTo>
                  <a:lnTo>
                    <a:pt x="4205" y="623"/>
                  </a:lnTo>
                  <a:lnTo>
                    <a:pt x="4182" y="620"/>
                  </a:lnTo>
                  <a:lnTo>
                    <a:pt x="4160" y="615"/>
                  </a:lnTo>
                  <a:lnTo>
                    <a:pt x="4139" y="609"/>
                  </a:lnTo>
                  <a:lnTo>
                    <a:pt x="4119" y="603"/>
                  </a:lnTo>
                  <a:lnTo>
                    <a:pt x="4101" y="595"/>
                  </a:lnTo>
                  <a:lnTo>
                    <a:pt x="4084" y="586"/>
                  </a:lnTo>
                  <a:lnTo>
                    <a:pt x="4068" y="574"/>
                  </a:lnTo>
                  <a:lnTo>
                    <a:pt x="4053" y="562"/>
                  </a:lnTo>
                  <a:lnTo>
                    <a:pt x="4040" y="549"/>
                  </a:lnTo>
                  <a:lnTo>
                    <a:pt x="4028" y="534"/>
                  </a:lnTo>
                  <a:lnTo>
                    <a:pt x="4017" y="518"/>
                  </a:lnTo>
                  <a:lnTo>
                    <a:pt x="4007" y="500"/>
                  </a:lnTo>
                  <a:lnTo>
                    <a:pt x="3999" y="482"/>
                  </a:lnTo>
                  <a:lnTo>
                    <a:pt x="3993" y="461"/>
                  </a:lnTo>
                  <a:lnTo>
                    <a:pt x="4137" y="433"/>
                  </a:lnTo>
                  <a:lnTo>
                    <a:pt x="4141" y="443"/>
                  </a:lnTo>
                  <a:lnTo>
                    <a:pt x="4146" y="453"/>
                  </a:lnTo>
                  <a:lnTo>
                    <a:pt x="4152" y="462"/>
                  </a:lnTo>
                  <a:lnTo>
                    <a:pt x="4157" y="471"/>
                  </a:lnTo>
                  <a:lnTo>
                    <a:pt x="4163" y="479"/>
                  </a:lnTo>
                  <a:lnTo>
                    <a:pt x="4169" y="486"/>
                  </a:lnTo>
                  <a:lnTo>
                    <a:pt x="4177" y="492"/>
                  </a:lnTo>
                  <a:lnTo>
                    <a:pt x="4184" y="497"/>
                  </a:lnTo>
                  <a:lnTo>
                    <a:pt x="4191" y="502"/>
                  </a:lnTo>
                  <a:lnTo>
                    <a:pt x="4199" y="508"/>
                  </a:lnTo>
                  <a:lnTo>
                    <a:pt x="4207" y="511"/>
                  </a:lnTo>
                  <a:lnTo>
                    <a:pt x="4216" y="514"/>
                  </a:lnTo>
                  <a:lnTo>
                    <a:pt x="4225" y="516"/>
                  </a:lnTo>
                  <a:lnTo>
                    <a:pt x="4234" y="518"/>
                  </a:lnTo>
                  <a:lnTo>
                    <a:pt x="4243" y="519"/>
                  </a:lnTo>
                  <a:lnTo>
                    <a:pt x="4253" y="519"/>
                  </a:lnTo>
                  <a:lnTo>
                    <a:pt x="4264" y="518"/>
                  </a:lnTo>
                  <a:lnTo>
                    <a:pt x="4274" y="517"/>
                  </a:lnTo>
                  <a:lnTo>
                    <a:pt x="4284" y="515"/>
                  </a:lnTo>
                  <a:lnTo>
                    <a:pt x="4293" y="512"/>
                  </a:lnTo>
                  <a:lnTo>
                    <a:pt x="4302" y="509"/>
                  </a:lnTo>
                  <a:lnTo>
                    <a:pt x="4309" y="504"/>
                  </a:lnTo>
                  <a:lnTo>
                    <a:pt x="4316" y="499"/>
                  </a:lnTo>
                  <a:lnTo>
                    <a:pt x="4324" y="494"/>
                  </a:lnTo>
                  <a:lnTo>
                    <a:pt x="4330" y="488"/>
                  </a:lnTo>
                  <a:lnTo>
                    <a:pt x="4335" y="482"/>
                  </a:lnTo>
                  <a:lnTo>
                    <a:pt x="4340" y="475"/>
                  </a:lnTo>
                  <a:lnTo>
                    <a:pt x="4343" y="468"/>
                  </a:lnTo>
                  <a:lnTo>
                    <a:pt x="4346" y="461"/>
                  </a:lnTo>
                  <a:lnTo>
                    <a:pt x="4348" y="454"/>
                  </a:lnTo>
                  <a:lnTo>
                    <a:pt x="4349" y="446"/>
                  </a:lnTo>
                  <a:lnTo>
                    <a:pt x="4349" y="439"/>
                  </a:lnTo>
                  <a:lnTo>
                    <a:pt x="4349" y="430"/>
                  </a:lnTo>
                  <a:lnTo>
                    <a:pt x="4347" y="422"/>
                  </a:lnTo>
                  <a:lnTo>
                    <a:pt x="4345" y="415"/>
                  </a:lnTo>
                  <a:lnTo>
                    <a:pt x="4342" y="408"/>
                  </a:lnTo>
                  <a:lnTo>
                    <a:pt x="4338" y="401"/>
                  </a:lnTo>
                  <a:lnTo>
                    <a:pt x="4333" y="394"/>
                  </a:lnTo>
                  <a:lnTo>
                    <a:pt x="4328" y="389"/>
                  </a:lnTo>
                  <a:lnTo>
                    <a:pt x="4321" y="384"/>
                  </a:lnTo>
                  <a:lnTo>
                    <a:pt x="4313" y="380"/>
                  </a:lnTo>
                  <a:lnTo>
                    <a:pt x="4306" y="376"/>
                  </a:lnTo>
                  <a:lnTo>
                    <a:pt x="4297" y="373"/>
                  </a:lnTo>
                  <a:lnTo>
                    <a:pt x="4289" y="370"/>
                  </a:lnTo>
                  <a:lnTo>
                    <a:pt x="4279" y="368"/>
                  </a:lnTo>
                  <a:lnTo>
                    <a:pt x="4269" y="367"/>
                  </a:lnTo>
                  <a:lnTo>
                    <a:pt x="4259" y="366"/>
                  </a:lnTo>
                  <a:lnTo>
                    <a:pt x="4248" y="366"/>
                  </a:lnTo>
                  <a:lnTo>
                    <a:pt x="4221" y="366"/>
                  </a:lnTo>
                  <a:close/>
                  <a:moveTo>
                    <a:pt x="4959" y="42"/>
                  </a:moveTo>
                  <a:lnTo>
                    <a:pt x="5300" y="101"/>
                  </a:lnTo>
                  <a:lnTo>
                    <a:pt x="5324" y="107"/>
                  </a:lnTo>
                  <a:lnTo>
                    <a:pt x="5348" y="113"/>
                  </a:lnTo>
                  <a:lnTo>
                    <a:pt x="5370" y="120"/>
                  </a:lnTo>
                  <a:lnTo>
                    <a:pt x="5389" y="127"/>
                  </a:lnTo>
                  <a:lnTo>
                    <a:pt x="5407" y="136"/>
                  </a:lnTo>
                  <a:lnTo>
                    <a:pt x="5423" y="146"/>
                  </a:lnTo>
                  <a:lnTo>
                    <a:pt x="5436" y="156"/>
                  </a:lnTo>
                  <a:lnTo>
                    <a:pt x="5449" y="168"/>
                  </a:lnTo>
                  <a:lnTo>
                    <a:pt x="5460" y="181"/>
                  </a:lnTo>
                  <a:lnTo>
                    <a:pt x="5468" y="193"/>
                  </a:lnTo>
                  <a:lnTo>
                    <a:pt x="5474" y="207"/>
                  </a:lnTo>
                  <a:lnTo>
                    <a:pt x="5480" y="223"/>
                  </a:lnTo>
                  <a:lnTo>
                    <a:pt x="5483" y="238"/>
                  </a:lnTo>
                  <a:lnTo>
                    <a:pt x="5484" y="256"/>
                  </a:lnTo>
                  <a:lnTo>
                    <a:pt x="5484" y="273"/>
                  </a:lnTo>
                  <a:lnTo>
                    <a:pt x="5481" y="292"/>
                  </a:lnTo>
                  <a:lnTo>
                    <a:pt x="5479" y="304"/>
                  </a:lnTo>
                  <a:lnTo>
                    <a:pt x="5475" y="315"/>
                  </a:lnTo>
                  <a:lnTo>
                    <a:pt x="5470" y="327"/>
                  </a:lnTo>
                  <a:lnTo>
                    <a:pt x="5466" y="337"/>
                  </a:lnTo>
                  <a:lnTo>
                    <a:pt x="5460" y="347"/>
                  </a:lnTo>
                  <a:lnTo>
                    <a:pt x="5453" y="356"/>
                  </a:lnTo>
                  <a:lnTo>
                    <a:pt x="5446" y="365"/>
                  </a:lnTo>
                  <a:lnTo>
                    <a:pt x="5437" y="373"/>
                  </a:lnTo>
                  <a:lnTo>
                    <a:pt x="5428" y="380"/>
                  </a:lnTo>
                  <a:lnTo>
                    <a:pt x="5419" y="387"/>
                  </a:lnTo>
                  <a:lnTo>
                    <a:pt x="5410" y="392"/>
                  </a:lnTo>
                  <a:lnTo>
                    <a:pt x="5399" y="398"/>
                  </a:lnTo>
                  <a:lnTo>
                    <a:pt x="5389" y="402"/>
                  </a:lnTo>
                  <a:lnTo>
                    <a:pt x="5379" y="405"/>
                  </a:lnTo>
                  <a:lnTo>
                    <a:pt x="5369" y="408"/>
                  </a:lnTo>
                  <a:lnTo>
                    <a:pt x="5357" y="409"/>
                  </a:lnTo>
                  <a:lnTo>
                    <a:pt x="5371" y="416"/>
                  </a:lnTo>
                  <a:lnTo>
                    <a:pt x="5384" y="423"/>
                  </a:lnTo>
                  <a:lnTo>
                    <a:pt x="5395" y="431"/>
                  </a:lnTo>
                  <a:lnTo>
                    <a:pt x="5407" y="440"/>
                  </a:lnTo>
                  <a:lnTo>
                    <a:pt x="5416" y="449"/>
                  </a:lnTo>
                  <a:lnTo>
                    <a:pt x="5424" y="459"/>
                  </a:lnTo>
                  <a:lnTo>
                    <a:pt x="5431" y="470"/>
                  </a:lnTo>
                  <a:lnTo>
                    <a:pt x="5438" y="481"/>
                  </a:lnTo>
                  <a:lnTo>
                    <a:pt x="5444" y="493"/>
                  </a:lnTo>
                  <a:lnTo>
                    <a:pt x="5448" y="504"/>
                  </a:lnTo>
                  <a:lnTo>
                    <a:pt x="5451" y="516"/>
                  </a:lnTo>
                  <a:lnTo>
                    <a:pt x="5453" y="528"/>
                  </a:lnTo>
                  <a:lnTo>
                    <a:pt x="5454" y="539"/>
                  </a:lnTo>
                  <a:lnTo>
                    <a:pt x="5454" y="552"/>
                  </a:lnTo>
                  <a:lnTo>
                    <a:pt x="5454" y="564"/>
                  </a:lnTo>
                  <a:lnTo>
                    <a:pt x="5452" y="576"/>
                  </a:lnTo>
                  <a:lnTo>
                    <a:pt x="5449" y="593"/>
                  </a:lnTo>
                  <a:lnTo>
                    <a:pt x="5443" y="608"/>
                  </a:lnTo>
                  <a:lnTo>
                    <a:pt x="5436" y="623"/>
                  </a:lnTo>
                  <a:lnTo>
                    <a:pt x="5428" y="636"/>
                  </a:lnTo>
                  <a:lnTo>
                    <a:pt x="5419" y="648"/>
                  </a:lnTo>
                  <a:lnTo>
                    <a:pt x="5408" y="660"/>
                  </a:lnTo>
                  <a:lnTo>
                    <a:pt x="5395" y="670"/>
                  </a:lnTo>
                  <a:lnTo>
                    <a:pt x="5382" y="679"/>
                  </a:lnTo>
                  <a:lnTo>
                    <a:pt x="5375" y="683"/>
                  </a:lnTo>
                  <a:lnTo>
                    <a:pt x="5367" y="686"/>
                  </a:lnTo>
                  <a:lnTo>
                    <a:pt x="5359" y="690"/>
                  </a:lnTo>
                  <a:lnTo>
                    <a:pt x="5350" y="693"/>
                  </a:lnTo>
                  <a:lnTo>
                    <a:pt x="5333" y="697"/>
                  </a:lnTo>
                  <a:lnTo>
                    <a:pt x="5314" y="700"/>
                  </a:lnTo>
                  <a:lnTo>
                    <a:pt x="5294" y="701"/>
                  </a:lnTo>
                  <a:lnTo>
                    <a:pt x="5272" y="701"/>
                  </a:lnTo>
                  <a:lnTo>
                    <a:pt x="5249" y="699"/>
                  </a:lnTo>
                  <a:lnTo>
                    <a:pt x="5226" y="696"/>
                  </a:lnTo>
                  <a:lnTo>
                    <a:pt x="4855" y="630"/>
                  </a:lnTo>
                  <a:lnTo>
                    <a:pt x="4959" y="42"/>
                  </a:lnTo>
                  <a:close/>
                  <a:moveTo>
                    <a:pt x="5073" y="314"/>
                  </a:moveTo>
                  <a:lnTo>
                    <a:pt x="5172" y="332"/>
                  </a:lnTo>
                  <a:lnTo>
                    <a:pt x="5190" y="334"/>
                  </a:lnTo>
                  <a:lnTo>
                    <a:pt x="5206" y="336"/>
                  </a:lnTo>
                  <a:lnTo>
                    <a:pt x="5222" y="338"/>
                  </a:lnTo>
                  <a:lnTo>
                    <a:pt x="5236" y="338"/>
                  </a:lnTo>
                  <a:lnTo>
                    <a:pt x="5248" y="338"/>
                  </a:lnTo>
                  <a:lnTo>
                    <a:pt x="5261" y="336"/>
                  </a:lnTo>
                  <a:lnTo>
                    <a:pt x="5271" y="335"/>
                  </a:lnTo>
                  <a:lnTo>
                    <a:pt x="5281" y="332"/>
                  </a:lnTo>
                  <a:lnTo>
                    <a:pt x="5289" y="328"/>
                  </a:lnTo>
                  <a:lnTo>
                    <a:pt x="5297" y="324"/>
                  </a:lnTo>
                  <a:lnTo>
                    <a:pt x="5304" y="318"/>
                  </a:lnTo>
                  <a:lnTo>
                    <a:pt x="5309" y="312"/>
                  </a:lnTo>
                  <a:lnTo>
                    <a:pt x="5314" y="306"/>
                  </a:lnTo>
                  <a:lnTo>
                    <a:pt x="5318" y="298"/>
                  </a:lnTo>
                  <a:lnTo>
                    <a:pt x="5321" y="290"/>
                  </a:lnTo>
                  <a:lnTo>
                    <a:pt x="5323" y="279"/>
                  </a:lnTo>
                  <a:lnTo>
                    <a:pt x="5324" y="271"/>
                  </a:lnTo>
                  <a:lnTo>
                    <a:pt x="5324" y="262"/>
                  </a:lnTo>
                  <a:lnTo>
                    <a:pt x="5323" y="255"/>
                  </a:lnTo>
                  <a:lnTo>
                    <a:pt x="5321" y="246"/>
                  </a:lnTo>
                  <a:lnTo>
                    <a:pt x="5318" y="239"/>
                  </a:lnTo>
                  <a:lnTo>
                    <a:pt x="5314" y="233"/>
                  </a:lnTo>
                  <a:lnTo>
                    <a:pt x="5309" y="227"/>
                  </a:lnTo>
                  <a:lnTo>
                    <a:pt x="5303" y="222"/>
                  </a:lnTo>
                  <a:lnTo>
                    <a:pt x="5295" y="217"/>
                  </a:lnTo>
                  <a:lnTo>
                    <a:pt x="5285" y="211"/>
                  </a:lnTo>
                  <a:lnTo>
                    <a:pt x="5275" y="207"/>
                  </a:lnTo>
                  <a:lnTo>
                    <a:pt x="5263" y="202"/>
                  </a:lnTo>
                  <a:lnTo>
                    <a:pt x="5248" y="198"/>
                  </a:lnTo>
                  <a:lnTo>
                    <a:pt x="5234" y="194"/>
                  </a:lnTo>
                  <a:lnTo>
                    <a:pt x="5217" y="191"/>
                  </a:lnTo>
                  <a:lnTo>
                    <a:pt x="5198" y="187"/>
                  </a:lnTo>
                  <a:lnTo>
                    <a:pt x="5098" y="169"/>
                  </a:lnTo>
                  <a:lnTo>
                    <a:pt x="5073" y="314"/>
                  </a:lnTo>
                  <a:close/>
                  <a:moveTo>
                    <a:pt x="5030" y="558"/>
                  </a:moveTo>
                  <a:lnTo>
                    <a:pt x="5153" y="580"/>
                  </a:lnTo>
                  <a:lnTo>
                    <a:pt x="5168" y="583"/>
                  </a:lnTo>
                  <a:lnTo>
                    <a:pt x="5184" y="585"/>
                  </a:lnTo>
                  <a:lnTo>
                    <a:pt x="5197" y="586"/>
                  </a:lnTo>
                  <a:lnTo>
                    <a:pt x="5210" y="586"/>
                  </a:lnTo>
                  <a:lnTo>
                    <a:pt x="5223" y="586"/>
                  </a:lnTo>
                  <a:lnTo>
                    <a:pt x="5233" y="585"/>
                  </a:lnTo>
                  <a:lnTo>
                    <a:pt x="5243" y="583"/>
                  </a:lnTo>
                  <a:lnTo>
                    <a:pt x="5253" y="581"/>
                  </a:lnTo>
                  <a:lnTo>
                    <a:pt x="5260" y="577"/>
                  </a:lnTo>
                  <a:lnTo>
                    <a:pt x="5267" y="573"/>
                  </a:lnTo>
                  <a:lnTo>
                    <a:pt x="5273" y="568"/>
                  </a:lnTo>
                  <a:lnTo>
                    <a:pt x="5279" y="562"/>
                  </a:lnTo>
                  <a:lnTo>
                    <a:pt x="5283" y="555"/>
                  </a:lnTo>
                  <a:lnTo>
                    <a:pt x="5287" y="548"/>
                  </a:lnTo>
                  <a:lnTo>
                    <a:pt x="5291" y="538"/>
                  </a:lnTo>
                  <a:lnTo>
                    <a:pt x="5293" y="528"/>
                  </a:lnTo>
                  <a:lnTo>
                    <a:pt x="5294" y="518"/>
                  </a:lnTo>
                  <a:lnTo>
                    <a:pt x="5294" y="509"/>
                  </a:lnTo>
                  <a:lnTo>
                    <a:pt x="5293" y="499"/>
                  </a:lnTo>
                  <a:lnTo>
                    <a:pt x="5291" y="490"/>
                  </a:lnTo>
                  <a:lnTo>
                    <a:pt x="5286" y="483"/>
                  </a:lnTo>
                  <a:lnTo>
                    <a:pt x="5281" y="476"/>
                  </a:lnTo>
                  <a:lnTo>
                    <a:pt x="5275" y="468"/>
                  </a:lnTo>
                  <a:lnTo>
                    <a:pt x="5268" y="462"/>
                  </a:lnTo>
                  <a:lnTo>
                    <a:pt x="5259" y="457"/>
                  </a:lnTo>
                  <a:lnTo>
                    <a:pt x="5248" y="452"/>
                  </a:lnTo>
                  <a:lnTo>
                    <a:pt x="5235" y="447"/>
                  </a:lnTo>
                  <a:lnTo>
                    <a:pt x="5219" y="442"/>
                  </a:lnTo>
                  <a:lnTo>
                    <a:pt x="5201" y="437"/>
                  </a:lnTo>
                  <a:lnTo>
                    <a:pt x="5182" y="431"/>
                  </a:lnTo>
                  <a:lnTo>
                    <a:pt x="5160" y="427"/>
                  </a:lnTo>
                  <a:lnTo>
                    <a:pt x="5135" y="422"/>
                  </a:lnTo>
                  <a:lnTo>
                    <a:pt x="5056" y="409"/>
                  </a:lnTo>
                  <a:lnTo>
                    <a:pt x="5030" y="558"/>
                  </a:lnTo>
                  <a:close/>
                  <a:moveTo>
                    <a:pt x="5990" y="287"/>
                  </a:moveTo>
                  <a:lnTo>
                    <a:pt x="6129" y="348"/>
                  </a:lnTo>
                  <a:lnTo>
                    <a:pt x="5976" y="691"/>
                  </a:lnTo>
                  <a:lnTo>
                    <a:pt x="6350" y="447"/>
                  </a:lnTo>
                  <a:lnTo>
                    <a:pt x="6492" y="510"/>
                  </a:lnTo>
                  <a:lnTo>
                    <a:pt x="6249" y="1055"/>
                  </a:lnTo>
                  <a:lnTo>
                    <a:pt x="6111" y="994"/>
                  </a:lnTo>
                  <a:lnTo>
                    <a:pt x="6266" y="645"/>
                  </a:lnTo>
                  <a:lnTo>
                    <a:pt x="5885" y="893"/>
                  </a:lnTo>
                  <a:lnTo>
                    <a:pt x="5747" y="831"/>
                  </a:lnTo>
                  <a:lnTo>
                    <a:pt x="5990" y="287"/>
                  </a:lnTo>
                  <a:close/>
                  <a:moveTo>
                    <a:pt x="6886" y="751"/>
                  </a:moveTo>
                  <a:lnTo>
                    <a:pt x="7312" y="1083"/>
                  </a:lnTo>
                  <a:lnTo>
                    <a:pt x="7233" y="1184"/>
                  </a:lnTo>
                  <a:lnTo>
                    <a:pt x="7083" y="1067"/>
                  </a:lnTo>
                  <a:lnTo>
                    <a:pt x="6794" y="1437"/>
                  </a:lnTo>
                  <a:lnTo>
                    <a:pt x="6670" y="1339"/>
                  </a:lnTo>
                  <a:lnTo>
                    <a:pt x="6958" y="969"/>
                  </a:lnTo>
                  <a:lnTo>
                    <a:pt x="6807" y="852"/>
                  </a:lnTo>
                  <a:lnTo>
                    <a:pt x="6886" y="751"/>
                  </a:lnTo>
                  <a:close/>
                  <a:moveTo>
                    <a:pt x="7621" y="1377"/>
                  </a:moveTo>
                  <a:lnTo>
                    <a:pt x="7721" y="1491"/>
                  </a:lnTo>
                  <a:lnTo>
                    <a:pt x="7437" y="1738"/>
                  </a:lnTo>
                  <a:lnTo>
                    <a:pt x="7880" y="1675"/>
                  </a:lnTo>
                  <a:lnTo>
                    <a:pt x="7982" y="1793"/>
                  </a:lnTo>
                  <a:lnTo>
                    <a:pt x="7531" y="2184"/>
                  </a:lnTo>
                  <a:lnTo>
                    <a:pt x="7431" y="2069"/>
                  </a:lnTo>
                  <a:lnTo>
                    <a:pt x="7720" y="1819"/>
                  </a:lnTo>
                  <a:lnTo>
                    <a:pt x="7270" y="1883"/>
                  </a:lnTo>
                  <a:lnTo>
                    <a:pt x="7170" y="1769"/>
                  </a:lnTo>
                  <a:lnTo>
                    <a:pt x="7621" y="1377"/>
                  </a:lnTo>
                  <a:close/>
                  <a:moveTo>
                    <a:pt x="8493" y="2680"/>
                  </a:moveTo>
                  <a:lnTo>
                    <a:pt x="7966" y="2960"/>
                  </a:lnTo>
                  <a:lnTo>
                    <a:pt x="7893" y="2822"/>
                  </a:lnTo>
                  <a:lnTo>
                    <a:pt x="8112" y="2705"/>
                  </a:lnTo>
                  <a:lnTo>
                    <a:pt x="8105" y="2692"/>
                  </a:lnTo>
                  <a:lnTo>
                    <a:pt x="8093" y="2671"/>
                  </a:lnTo>
                  <a:lnTo>
                    <a:pt x="8081" y="2654"/>
                  </a:lnTo>
                  <a:lnTo>
                    <a:pt x="8075" y="2648"/>
                  </a:lnTo>
                  <a:lnTo>
                    <a:pt x="8070" y="2642"/>
                  </a:lnTo>
                  <a:lnTo>
                    <a:pt x="8064" y="2637"/>
                  </a:lnTo>
                  <a:lnTo>
                    <a:pt x="8058" y="2632"/>
                  </a:lnTo>
                  <a:lnTo>
                    <a:pt x="8052" y="2628"/>
                  </a:lnTo>
                  <a:lnTo>
                    <a:pt x="8045" y="2625"/>
                  </a:lnTo>
                  <a:lnTo>
                    <a:pt x="8037" y="2622"/>
                  </a:lnTo>
                  <a:lnTo>
                    <a:pt x="8028" y="2619"/>
                  </a:lnTo>
                  <a:lnTo>
                    <a:pt x="8007" y="2615"/>
                  </a:lnTo>
                  <a:lnTo>
                    <a:pt x="7984" y="2611"/>
                  </a:lnTo>
                  <a:lnTo>
                    <a:pt x="7969" y="2609"/>
                  </a:lnTo>
                  <a:lnTo>
                    <a:pt x="7773" y="2594"/>
                  </a:lnTo>
                  <a:lnTo>
                    <a:pt x="7687" y="2433"/>
                  </a:lnTo>
                  <a:lnTo>
                    <a:pt x="7892" y="2451"/>
                  </a:lnTo>
                  <a:lnTo>
                    <a:pt x="7914" y="2454"/>
                  </a:lnTo>
                  <a:lnTo>
                    <a:pt x="7932" y="2457"/>
                  </a:lnTo>
                  <a:lnTo>
                    <a:pt x="7950" y="2460"/>
                  </a:lnTo>
                  <a:lnTo>
                    <a:pt x="7965" y="2465"/>
                  </a:lnTo>
                  <a:lnTo>
                    <a:pt x="7980" y="2469"/>
                  </a:lnTo>
                  <a:lnTo>
                    <a:pt x="7991" y="2475"/>
                  </a:lnTo>
                  <a:lnTo>
                    <a:pt x="8001" y="2481"/>
                  </a:lnTo>
                  <a:lnTo>
                    <a:pt x="8009" y="2489"/>
                  </a:lnTo>
                  <a:lnTo>
                    <a:pt x="8003" y="2473"/>
                  </a:lnTo>
                  <a:lnTo>
                    <a:pt x="7998" y="2459"/>
                  </a:lnTo>
                  <a:lnTo>
                    <a:pt x="7995" y="2443"/>
                  </a:lnTo>
                  <a:lnTo>
                    <a:pt x="7994" y="2429"/>
                  </a:lnTo>
                  <a:lnTo>
                    <a:pt x="7994" y="2413"/>
                  </a:lnTo>
                  <a:lnTo>
                    <a:pt x="7995" y="2399"/>
                  </a:lnTo>
                  <a:lnTo>
                    <a:pt x="7998" y="2385"/>
                  </a:lnTo>
                  <a:lnTo>
                    <a:pt x="8003" y="2369"/>
                  </a:lnTo>
                  <a:lnTo>
                    <a:pt x="8008" y="2356"/>
                  </a:lnTo>
                  <a:lnTo>
                    <a:pt x="8017" y="2343"/>
                  </a:lnTo>
                  <a:lnTo>
                    <a:pt x="8025" y="2329"/>
                  </a:lnTo>
                  <a:lnTo>
                    <a:pt x="8035" y="2318"/>
                  </a:lnTo>
                  <a:lnTo>
                    <a:pt x="8046" y="2307"/>
                  </a:lnTo>
                  <a:lnTo>
                    <a:pt x="8059" y="2296"/>
                  </a:lnTo>
                  <a:lnTo>
                    <a:pt x="8073" y="2286"/>
                  </a:lnTo>
                  <a:lnTo>
                    <a:pt x="8089" y="2278"/>
                  </a:lnTo>
                  <a:lnTo>
                    <a:pt x="8101" y="2272"/>
                  </a:lnTo>
                  <a:lnTo>
                    <a:pt x="8113" y="2266"/>
                  </a:lnTo>
                  <a:lnTo>
                    <a:pt x="8126" y="2261"/>
                  </a:lnTo>
                  <a:lnTo>
                    <a:pt x="8139" y="2258"/>
                  </a:lnTo>
                  <a:lnTo>
                    <a:pt x="8151" y="2256"/>
                  </a:lnTo>
                  <a:lnTo>
                    <a:pt x="8164" y="2255"/>
                  </a:lnTo>
                  <a:lnTo>
                    <a:pt x="8176" y="2254"/>
                  </a:lnTo>
                  <a:lnTo>
                    <a:pt x="8188" y="2255"/>
                  </a:lnTo>
                  <a:lnTo>
                    <a:pt x="8201" y="2257"/>
                  </a:lnTo>
                  <a:lnTo>
                    <a:pt x="8212" y="2259"/>
                  </a:lnTo>
                  <a:lnTo>
                    <a:pt x="8223" y="2263"/>
                  </a:lnTo>
                  <a:lnTo>
                    <a:pt x="8233" y="2267"/>
                  </a:lnTo>
                  <a:lnTo>
                    <a:pt x="8244" y="2273"/>
                  </a:lnTo>
                  <a:lnTo>
                    <a:pt x="8253" y="2279"/>
                  </a:lnTo>
                  <a:lnTo>
                    <a:pt x="8262" y="2285"/>
                  </a:lnTo>
                  <a:lnTo>
                    <a:pt x="8271" y="2293"/>
                  </a:lnTo>
                  <a:lnTo>
                    <a:pt x="8281" y="2302"/>
                  </a:lnTo>
                  <a:lnTo>
                    <a:pt x="8289" y="2313"/>
                  </a:lnTo>
                  <a:lnTo>
                    <a:pt x="8298" y="2324"/>
                  </a:lnTo>
                  <a:lnTo>
                    <a:pt x="8307" y="2337"/>
                  </a:lnTo>
                  <a:lnTo>
                    <a:pt x="8318" y="2352"/>
                  </a:lnTo>
                  <a:lnTo>
                    <a:pt x="8327" y="2368"/>
                  </a:lnTo>
                  <a:lnTo>
                    <a:pt x="8337" y="2386"/>
                  </a:lnTo>
                  <a:lnTo>
                    <a:pt x="8348" y="2405"/>
                  </a:lnTo>
                  <a:lnTo>
                    <a:pt x="8493" y="2680"/>
                  </a:lnTo>
                  <a:close/>
                  <a:moveTo>
                    <a:pt x="8330" y="2588"/>
                  </a:moveTo>
                  <a:lnTo>
                    <a:pt x="8278" y="2489"/>
                  </a:lnTo>
                  <a:lnTo>
                    <a:pt x="8270" y="2476"/>
                  </a:lnTo>
                  <a:lnTo>
                    <a:pt x="8263" y="2464"/>
                  </a:lnTo>
                  <a:lnTo>
                    <a:pt x="8256" y="2454"/>
                  </a:lnTo>
                  <a:lnTo>
                    <a:pt x="8249" y="2444"/>
                  </a:lnTo>
                  <a:lnTo>
                    <a:pt x="8242" y="2436"/>
                  </a:lnTo>
                  <a:lnTo>
                    <a:pt x="8234" y="2430"/>
                  </a:lnTo>
                  <a:lnTo>
                    <a:pt x="8227" y="2424"/>
                  </a:lnTo>
                  <a:lnTo>
                    <a:pt x="8220" y="2420"/>
                  </a:lnTo>
                  <a:lnTo>
                    <a:pt x="8214" y="2417"/>
                  </a:lnTo>
                  <a:lnTo>
                    <a:pt x="8206" y="2414"/>
                  </a:lnTo>
                  <a:lnTo>
                    <a:pt x="8199" y="2414"/>
                  </a:lnTo>
                  <a:lnTo>
                    <a:pt x="8191" y="2414"/>
                  </a:lnTo>
                  <a:lnTo>
                    <a:pt x="8183" y="2416"/>
                  </a:lnTo>
                  <a:lnTo>
                    <a:pt x="8175" y="2418"/>
                  </a:lnTo>
                  <a:lnTo>
                    <a:pt x="8166" y="2421"/>
                  </a:lnTo>
                  <a:lnTo>
                    <a:pt x="8157" y="2425"/>
                  </a:lnTo>
                  <a:lnTo>
                    <a:pt x="8148" y="2430"/>
                  </a:lnTo>
                  <a:lnTo>
                    <a:pt x="8141" y="2436"/>
                  </a:lnTo>
                  <a:lnTo>
                    <a:pt x="8135" y="2441"/>
                  </a:lnTo>
                  <a:lnTo>
                    <a:pt x="8129" y="2448"/>
                  </a:lnTo>
                  <a:lnTo>
                    <a:pt x="8125" y="2455"/>
                  </a:lnTo>
                  <a:lnTo>
                    <a:pt x="8121" y="2462"/>
                  </a:lnTo>
                  <a:lnTo>
                    <a:pt x="8119" y="2470"/>
                  </a:lnTo>
                  <a:lnTo>
                    <a:pt x="8118" y="2478"/>
                  </a:lnTo>
                  <a:lnTo>
                    <a:pt x="8118" y="2487"/>
                  </a:lnTo>
                  <a:lnTo>
                    <a:pt x="8119" y="2497"/>
                  </a:lnTo>
                  <a:lnTo>
                    <a:pt x="8121" y="2507"/>
                  </a:lnTo>
                  <a:lnTo>
                    <a:pt x="8124" y="2518"/>
                  </a:lnTo>
                  <a:lnTo>
                    <a:pt x="8128" y="2530"/>
                  </a:lnTo>
                  <a:lnTo>
                    <a:pt x="8133" y="2542"/>
                  </a:lnTo>
                  <a:lnTo>
                    <a:pt x="8139" y="2555"/>
                  </a:lnTo>
                  <a:lnTo>
                    <a:pt x="8146" y="2570"/>
                  </a:lnTo>
                  <a:lnTo>
                    <a:pt x="8194" y="2661"/>
                  </a:lnTo>
                  <a:lnTo>
                    <a:pt x="8330" y="2588"/>
                  </a:lnTo>
                  <a:close/>
                  <a:moveTo>
                    <a:pt x="8750" y="3513"/>
                  </a:moveTo>
                  <a:lnTo>
                    <a:pt x="8827" y="3909"/>
                  </a:lnTo>
                  <a:lnTo>
                    <a:pt x="8702" y="3934"/>
                  </a:lnTo>
                  <a:lnTo>
                    <a:pt x="8655" y="3693"/>
                  </a:lnTo>
                  <a:lnTo>
                    <a:pt x="8194" y="3783"/>
                  </a:lnTo>
                  <a:lnTo>
                    <a:pt x="8164" y="3628"/>
                  </a:lnTo>
                  <a:lnTo>
                    <a:pt x="8750" y="3513"/>
                  </a:lnTo>
                  <a:close/>
                  <a:moveTo>
                    <a:pt x="8563" y="4272"/>
                  </a:moveTo>
                  <a:lnTo>
                    <a:pt x="8583" y="4273"/>
                  </a:lnTo>
                  <a:lnTo>
                    <a:pt x="8601" y="4275"/>
                  </a:lnTo>
                  <a:lnTo>
                    <a:pt x="8621" y="4278"/>
                  </a:lnTo>
                  <a:lnTo>
                    <a:pt x="8640" y="4282"/>
                  </a:lnTo>
                  <a:lnTo>
                    <a:pt x="8659" y="4289"/>
                  </a:lnTo>
                  <a:lnTo>
                    <a:pt x="8677" y="4296"/>
                  </a:lnTo>
                  <a:lnTo>
                    <a:pt x="8696" y="4304"/>
                  </a:lnTo>
                  <a:lnTo>
                    <a:pt x="8714" y="4313"/>
                  </a:lnTo>
                  <a:lnTo>
                    <a:pt x="8732" y="4323"/>
                  </a:lnTo>
                  <a:lnTo>
                    <a:pt x="8748" y="4335"/>
                  </a:lnTo>
                  <a:lnTo>
                    <a:pt x="8764" y="4348"/>
                  </a:lnTo>
                  <a:lnTo>
                    <a:pt x="8778" y="4362"/>
                  </a:lnTo>
                  <a:lnTo>
                    <a:pt x="8791" y="4376"/>
                  </a:lnTo>
                  <a:lnTo>
                    <a:pt x="8804" y="4391"/>
                  </a:lnTo>
                  <a:lnTo>
                    <a:pt x="8815" y="4408"/>
                  </a:lnTo>
                  <a:lnTo>
                    <a:pt x="8824" y="4425"/>
                  </a:lnTo>
                  <a:lnTo>
                    <a:pt x="8834" y="4443"/>
                  </a:lnTo>
                  <a:lnTo>
                    <a:pt x="8841" y="4462"/>
                  </a:lnTo>
                  <a:lnTo>
                    <a:pt x="8847" y="4481"/>
                  </a:lnTo>
                  <a:lnTo>
                    <a:pt x="8853" y="4500"/>
                  </a:lnTo>
                  <a:lnTo>
                    <a:pt x="8856" y="4521"/>
                  </a:lnTo>
                  <a:lnTo>
                    <a:pt x="8859" y="4541"/>
                  </a:lnTo>
                  <a:lnTo>
                    <a:pt x="8860" y="4563"/>
                  </a:lnTo>
                  <a:lnTo>
                    <a:pt x="8861" y="4585"/>
                  </a:lnTo>
                  <a:lnTo>
                    <a:pt x="8860" y="4601"/>
                  </a:lnTo>
                  <a:lnTo>
                    <a:pt x="8859" y="4617"/>
                  </a:lnTo>
                  <a:lnTo>
                    <a:pt x="8857" y="4634"/>
                  </a:lnTo>
                  <a:lnTo>
                    <a:pt x="8854" y="4649"/>
                  </a:lnTo>
                  <a:lnTo>
                    <a:pt x="8851" y="4665"/>
                  </a:lnTo>
                  <a:lnTo>
                    <a:pt x="8847" y="4679"/>
                  </a:lnTo>
                  <a:lnTo>
                    <a:pt x="8842" y="4694"/>
                  </a:lnTo>
                  <a:lnTo>
                    <a:pt x="8837" y="4707"/>
                  </a:lnTo>
                  <a:lnTo>
                    <a:pt x="8830" y="4721"/>
                  </a:lnTo>
                  <a:lnTo>
                    <a:pt x="8824" y="4735"/>
                  </a:lnTo>
                  <a:lnTo>
                    <a:pt x="8816" y="4747"/>
                  </a:lnTo>
                  <a:lnTo>
                    <a:pt x="8808" y="4759"/>
                  </a:lnTo>
                  <a:lnTo>
                    <a:pt x="8800" y="4772"/>
                  </a:lnTo>
                  <a:lnTo>
                    <a:pt x="8790" y="4783"/>
                  </a:lnTo>
                  <a:lnTo>
                    <a:pt x="8780" y="4794"/>
                  </a:lnTo>
                  <a:lnTo>
                    <a:pt x="8769" y="4805"/>
                  </a:lnTo>
                  <a:lnTo>
                    <a:pt x="8758" y="4816"/>
                  </a:lnTo>
                  <a:lnTo>
                    <a:pt x="8746" y="4825"/>
                  </a:lnTo>
                  <a:lnTo>
                    <a:pt x="8734" y="4834"/>
                  </a:lnTo>
                  <a:lnTo>
                    <a:pt x="8722" y="4843"/>
                  </a:lnTo>
                  <a:lnTo>
                    <a:pt x="8708" y="4850"/>
                  </a:lnTo>
                  <a:lnTo>
                    <a:pt x="8696" y="4857"/>
                  </a:lnTo>
                  <a:lnTo>
                    <a:pt x="8683" y="4863"/>
                  </a:lnTo>
                  <a:lnTo>
                    <a:pt x="8668" y="4868"/>
                  </a:lnTo>
                  <a:lnTo>
                    <a:pt x="8654" y="4873"/>
                  </a:lnTo>
                  <a:lnTo>
                    <a:pt x="8639" y="4878"/>
                  </a:lnTo>
                  <a:lnTo>
                    <a:pt x="8625" y="4881"/>
                  </a:lnTo>
                  <a:lnTo>
                    <a:pt x="8610" y="4884"/>
                  </a:lnTo>
                  <a:lnTo>
                    <a:pt x="8594" y="4886"/>
                  </a:lnTo>
                  <a:lnTo>
                    <a:pt x="8578" y="4887"/>
                  </a:lnTo>
                  <a:lnTo>
                    <a:pt x="8561" y="4888"/>
                  </a:lnTo>
                  <a:lnTo>
                    <a:pt x="8545" y="4888"/>
                  </a:lnTo>
                  <a:lnTo>
                    <a:pt x="8528" y="4887"/>
                  </a:lnTo>
                  <a:lnTo>
                    <a:pt x="8512" y="4886"/>
                  </a:lnTo>
                  <a:lnTo>
                    <a:pt x="8497" y="4884"/>
                  </a:lnTo>
                  <a:lnTo>
                    <a:pt x="8480" y="4882"/>
                  </a:lnTo>
                  <a:lnTo>
                    <a:pt x="8465" y="4878"/>
                  </a:lnTo>
                  <a:lnTo>
                    <a:pt x="8450" y="4873"/>
                  </a:lnTo>
                  <a:lnTo>
                    <a:pt x="8436" y="4869"/>
                  </a:lnTo>
                  <a:lnTo>
                    <a:pt x="8422" y="4864"/>
                  </a:lnTo>
                  <a:lnTo>
                    <a:pt x="8408" y="4858"/>
                  </a:lnTo>
                  <a:lnTo>
                    <a:pt x="8395" y="4851"/>
                  </a:lnTo>
                  <a:lnTo>
                    <a:pt x="8381" y="4844"/>
                  </a:lnTo>
                  <a:lnTo>
                    <a:pt x="8369" y="4835"/>
                  </a:lnTo>
                  <a:lnTo>
                    <a:pt x="8357" y="4827"/>
                  </a:lnTo>
                  <a:lnTo>
                    <a:pt x="8344" y="4817"/>
                  </a:lnTo>
                  <a:lnTo>
                    <a:pt x="8333" y="4808"/>
                  </a:lnTo>
                  <a:lnTo>
                    <a:pt x="8322" y="4796"/>
                  </a:lnTo>
                  <a:lnTo>
                    <a:pt x="8312" y="4785"/>
                  </a:lnTo>
                  <a:lnTo>
                    <a:pt x="8301" y="4774"/>
                  </a:lnTo>
                  <a:lnTo>
                    <a:pt x="8292" y="4761"/>
                  </a:lnTo>
                  <a:lnTo>
                    <a:pt x="8284" y="4749"/>
                  </a:lnTo>
                  <a:lnTo>
                    <a:pt x="8277" y="4737"/>
                  </a:lnTo>
                  <a:lnTo>
                    <a:pt x="8269" y="4723"/>
                  </a:lnTo>
                  <a:lnTo>
                    <a:pt x="8263" y="4710"/>
                  </a:lnTo>
                  <a:lnTo>
                    <a:pt x="8257" y="4697"/>
                  </a:lnTo>
                  <a:lnTo>
                    <a:pt x="8252" y="4682"/>
                  </a:lnTo>
                  <a:lnTo>
                    <a:pt x="8248" y="4668"/>
                  </a:lnTo>
                  <a:lnTo>
                    <a:pt x="8245" y="4653"/>
                  </a:lnTo>
                  <a:lnTo>
                    <a:pt x="8242" y="4638"/>
                  </a:lnTo>
                  <a:lnTo>
                    <a:pt x="8240" y="4623"/>
                  </a:lnTo>
                  <a:lnTo>
                    <a:pt x="8238" y="4607"/>
                  </a:lnTo>
                  <a:lnTo>
                    <a:pt x="8237" y="4591"/>
                  </a:lnTo>
                  <a:lnTo>
                    <a:pt x="8237" y="4574"/>
                  </a:lnTo>
                  <a:lnTo>
                    <a:pt x="8238" y="4555"/>
                  </a:lnTo>
                  <a:lnTo>
                    <a:pt x="8240" y="4534"/>
                  </a:lnTo>
                  <a:lnTo>
                    <a:pt x="8244" y="4515"/>
                  </a:lnTo>
                  <a:lnTo>
                    <a:pt x="8248" y="4495"/>
                  </a:lnTo>
                  <a:lnTo>
                    <a:pt x="8253" y="4476"/>
                  </a:lnTo>
                  <a:lnTo>
                    <a:pt x="8260" y="4456"/>
                  </a:lnTo>
                  <a:lnTo>
                    <a:pt x="8267" y="4438"/>
                  </a:lnTo>
                  <a:lnTo>
                    <a:pt x="8277" y="4419"/>
                  </a:lnTo>
                  <a:lnTo>
                    <a:pt x="8287" y="4401"/>
                  </a:lnTo>
                  <a:lnTo>
                    <a:pt x="8298" y="4384"/>
                  </a:lnTo>
                  <a:lnTo>
                    <a:pt x="8311" y="4369"/>
                  </a:lnTo>
                  <a:lnTo>
                    <a:pt x="8324" y="4354"/>
                  </a:lnTo>
                  <a:lnTo>
                    <a:pt x="8338" y="4341"/>
                  </a:lnTo>
                  <a:lnTo>
                    <a:pt x="8354" y="4329"/>
                  </a:lnTo>
                  <a:lnTo>
                    <a:pt x="8370" y="4317"/>
                  </a:lnTo>
                  <a:lnTo>
                    <a:pt x="8388" y="4307"/>
                  </a:lnTo>
                  <a:lnTo>
                    <a:pt x="8406" y="4299"/>
                  </a:lnTo>
                  <a:lnTo>
                    <a:pt x="8426" y="4291"/>
                  </a:lnTo>
                  <a:lnTo>
                    <a:pt x="8446" y="4284"/>
                  </a:lnTo>
                  <a:lnTo>
                    <a:pt x="8468" y="4279"/>
                  </a:lnTo>
                  <a:lnTo>
                    <a:pt x="8490" y="4276"/>
                  </a:lnTo>
                  <a:lnTo>
                    <a:pt x="8513" y="4273"/>
                  </a:lnTo>
                  <a:lnTo>
                    <a:pt x="8538" y="4272"/>
                  </a:lnTo>
                  <a:lnTo>
                    <a:pt x="8563" y="4272"/>
                  </a:lnTo>
                  <a:close/>
                  <a:moveTo>
                    <a:pt x="8552" y="4433"/>
                  </a:moveTo>
                  <a:lnTo>
                    <a:pt x="8529" y="4433"/>
                  </a:lnTo>
                  <a:lnTo>
                    <a:pt x="8510" y="4436"/>
                  </a:lnTo>
                  <a:lnTo>
                    <a:pt x="8490" y="4439"/>
                  </a:lnTo>
                  <a:lnTo>
                    <a:pt x="8473" y="4443"/>
                  </a:lnTo>
                  <a:lnTo>
                    <a:pt x="8456" y="4448"/>
                  </a:lnTo>
                  <a:lnTo>
                    <a:pt x="8441" y="4455"/>
                  </a:lnTo>
                  <a:lnTo>
                    <a:pt x="8428" y="4463"/>
                  </a:lnTo>
                  <a:lnTo>
                    <a:pt x="8414" y="4474"/>
                  </a:lnTo>
                  <a:lnTo>
                    <a:pt x="8403" y="4484"/>
                  </a:lnTo>
                  <a:lnTo>
                    <a:pt x="8394" y="4495"/>
                  </a:lnTo>
                  <a:lnTo>
                    <a:pt x="8386" y="4507"/>
                  </a:lnTo>
                  <a:lnTo>
                    <a:pt x="8378" y="4520"/>
                  </a:lnTo>
                  <a:lnTo>
                    <a:pt x="8373" y="4533"/>
                  </a:lnTo>
                  <a:lnTo>
                    <a:pt x="8369" y="4547"/>
                  </a:lnTo>
                  <a:lnTo>
                    <a:pt x="8367" y="4561"/>
                  </a:lnTo>
                  <a:lnTo>
                    <a:pt x="8366" y="4576"/>
                  </a:lnTo>
                  <a:lnTo>
                    <a:pt x="8366" y="4592"/>
                  </a:lnTo>
                  <a:lnTo>
                    <a:pt x="8368" y="4606"/>
                  </a:lnTo>
                  <a:lnTo>
                    <a:pt x="8371" y="4621"/>
                  </a:lnTo>
                  <a:lnTo>
                    <a:pt x="8376" y="4634"/>
                  </a:lnTo>
                  <a:lnTo>
                    <a:pt x="8382" y="4646"/>
                  </a:lnTo>
                  <a:lnTo>
                    <a:pt x="8391" y="4659"/>
                  </a:lnTo>
                  <a:lnTo>
                    <a:pt x="8400" y="4670"/>
                  </a:lnTo>
                  <a:lnTo>
                    <a:pt x="8411" y="4681"/>
                  </a:lnTo>
                  <a:lnTo>
                    <a:pt x="8424" y="4692"/>
                  </a:lnTo>
                  <a:lnTo>
                    <a:pt x="8437" y="4700"/>
                  </a:lnTo>
                  <a:lnTo>
                    <a:pt x="8452" y="4707"/>
                  </a:lnTo>
                  <a:lnTo>
                    <a:pt x="8469" y="4713"/>
                  </a:lnTo>
                  <a:lnTo>
                    <a:pt x="8486" y="4718"/>
                  </a:lnTo>
                  <a:lnTo>
                    <a:pt x="8506" y="4722"/>
                  </a:lnTo>
                  <a:lnTo>
                    <a:pt x="8525" y="4724"/>
                  </a:lnTo>
                  <a:lnTo>
                    <a:pt x="8548" y="4725"/>
                  </a:lnTo>
                  <a:lnTo>
                    <a:pt x="8568" y="4725"/>
                  </a:lnTo>
                  <a:lnTo>
                    <a:pt x="8589" y="4723"/>
                  </a:lnTo>
                  <a:lnTo>
                    <a:pt x="8607" y="4720"/>
                  </a:lnTo>
                  <a:lnTo>
                    <a:pt x="8625" y="4716"/>
                  </a:lnTo>
                  <a:lnTo>
                    <a:pt x="8641" y="4711"/>
                  </a:lnTo>
                  <a:lnTo>
                    <a:pt x="8657" y="4704"/>
                  </a:lnTo>
                  <a:lnTo>
                    <a:pt x="8670" y="4696"/>
                  </a:lnTo>
                  <a:lnTo>
                    <a:pt x="8684" y="4685"/>
                  </a:lnTo>
                  <a:lnTo>
                    <a:pt x="8695" y="4675"/>
                  </a:lnTo>
                  <a:lnTo>
                    <a:pt x="8704" y="4664"/>
                  </a:lnTo>
                  <a:lnTo>
                    <a:pt x="8712" y="4652"/>
                  </a:lnTo>
                  <a:lnTo>
                    <a:pt x="8719" y="4639"/>
                  </a:lnTo>
                  <a:lnTo>
                    <a:pt x="8725" y="4627"/>
                  </a:lnTo>
                  <a:lnTo>
                    <a:pt x="8729" y="4612"/>
                  </a:lnTo>
                  <a:lnTo>
                    <a:pt x="8731" y="4598"/>
                  </a:lnTo>
                  <a:lnTo>
                    <a:pt x="8732" y="4583"/>
                  </a:lnTo>
                  <a:lnTo>
                    <a:pt x="8732" y="4568"/>
                  </a:lnTo>
                  <a:lnTo>
                    <a:pt x="8730" y="4553"/>
                  </a:lnTo>
                  <a:lnTo>
                    <a:pt x="8727" y="4539"/>
                  </a:lnTo>
                  <a:lnTo>
                    <a:pt x="8722" y="4526"/>
                  </a:lnTo>
                  <a:lnTo>
                    <a:pt x="8715" y="4513"/>
                  </a:lnTo>
                  <a:lnTo>
                    <a:pt x="8707" y="4500"/>
                  </a:lnTo>
                  <a:lnTo>
                    <a:pt x="8698" y="4489"/>
                  </a:lnTo>
                  <a:lnTo>
                    <a:pt x="8687" y="4478"/>
                  </a:lnTo>
                  <a:lnTo>
                    <a:pt x="8674" y="4467"/>
                  </a:lnTo>
                  <a:lnTo>
                    <a:pt x="8661" y="4459"/>
                  </a:lnTo>
                  <a:lnTo>
                    <a:pt x="8646" y="4452"/>
                  </a:lnTo>
                  <a:lnTo>
                    <a:pt x="8630" y="4446"/>
                  </a:lnTo>
                  <a:lnTo>
                    <a:pt x="8612" y="4441"/>
                  </a:lnTo>
                  <a:lnTo>
                    <a:pt x="8593" y="4437"/>
                  </a:lnTo>
                  <a:lnTo>
                    <a:pt x="8573" y="4435"/>
                  </a:lnTo>
                  <a:lnTo>
                    <a:pt x="8552" y="4433"/>
                  </a:lnTo>
                  <a:close/>
                  <a:moveTo>
                    <a:pt x="8756" y="5372"/>
                  </a:moveTo>
                  <a:lnTo>
                    <a:pt x="8718" y="5514"/>
                  </a:lnTo>
                  <a:lnTo>
                    <a:pt x="8633" y="5491"/>
                  </a:lnTo>
                  <a:lnTo>
                    <a:pt x="8642" y="5502"/>
                  </a:lnTo>
                  <a:lnTo>
                    <a:pt x="8650" y="5512"/>
                  </a:lnTo>
                  <a:lnTo>
                    <a:pt x="8657" y="5523"/>
                  </a:lnTo>
                  <a:lnTo>
                    <a:pt x="8664" y="5534"/>
                  </a:lnTo>
                  <a:lnTo>
                    <a:pt x="8670" y="5547"/>
                  </a:lnTo>
                  <a:lnTo>
                    <a:pt x="8675" y="5559"/>
                  </a:lnTo>
                  <a:lnTo>
                    <a:pt x="8679" y="5571"/>
                  </a:lnTo>
                  <a:lnTo>
                    <a:pt x="8684" y="5585"/>
                  </a:lnTo>
                  <a:lnTo>
                    <a:pt x="8687" y="5599"/>
                  </a:lnTo>
                  <a:lnTo>
                    <a:pt x="8690" y="5613"/>
                  </a:lnTo>
                  <a:lnTo>
                    <a:pt x="8691" y="5627"/>
                  </a:lnTo>
                  <a:lnTo>
                    <a:pt x="8691" y="5640"/>
                  </a:lnTo>
                  <a:lnTo>
                    <a:pt x="8691" y="5655"/>
                  </a:lnTo>
                  <a:lnTo>
                    <a:pt x="8689" y="5669"/>
                  </a:lnTo>
                  <a:lnTo>
                    <a:pt x="8687" y="5684"/>
                  </a:lnTo>
                  <a:lnTo>
                    <a:pt x="8683" y="5697"/>
                  </a:lnTo>
                  <a:lnTo>
                    <a:pt x="8679" y="5709"/>
                  </a:lnTo>
                  <a:lnTo>
                    <a:pt x="8675" y="5722"/>
                  </a:lnTo>
                  <a:lnTo>
                    <a:pt x="8670" y="5733"/>
                  </a:lnTo>
                  <a:lnTo>
                    <a:pt x="8665" y="5744"/>
                  </a:lnTo>
                  <a:lnTo>
                    <a:pt x="8659" y="5755"/>
                  </a:lnTo>
                  <a:lnTo>
                    <a:pt x="8653" y="5766"/>
                  </a:lnTo>
                  <a:lnTo>
                    <a:pt x="8646" y="5775"/>
                  </a:lnTo>
                  <a:lnTo>
                    <a:pt x="8638" y="5785"/>
                  </a:lnTo>
                  <a:lnTo>
                    <a:pt x="8630" y="5795"/>
                  </a:lnTo>
                  <a:lnTo>
                    <a:pt x="8622" y="5803"/>
                  </a:lnTo>
                  <a:lnTo>
                    <a:pt x="8613" y="5811"/>
                  </a:lnTo>
                  <a:lnTo>
                    <a:pt x="8602" y="5819"/>
                  </a:lnTo>
                  <a:lnTo>
                    <a:pt x="8592" y="5826"/>
                  </a:lnTo>
                  <a:lnTo>
                    <a:pt x="8582" y="5834"/>
                  </a:lnTo>
                  <a:lnTo>
                    <a:pt x="8571" y="5841"/>
                  </a:lnTo>
                  <a:lnTo>
                    <a:pt x="8558" y="5847"/>
                  </a:lnTo>
                  <a:lnTo>
                    <a:pt x="8546" y="5852"/>
                  </a:lnTo>
                  <a:lnTo>
                    <a:pt x="8534" y="5857"/>
                  </a:lnTo>
                  <a:lnTo>
                    <a:pt x="8520" y="5862"/>
                  </a:lnTo>
                  <a:lnTo>
                    <a:pt x="8507" y="5865"/>
                  </a:lnTo>
                  <a:lnTo>
                    <a:pt x="8493" y="5869"/>
                  </a:lnTo>
                  <a:lnTo>
                    <a:pt x="8479" y="5872"/>
                  </a:lnTo>
                  <a:lnTo>
                    <a:pt x="8465" y="5873"/>
                  </a:lnTo>
                  <a:lnTo>
                    <a:pt x="8450" y="5874"/>
                  </a:lnTo>
                  <a:lnTo>
                    <a:pt x="8435" y="5875"/>
                  </a:lnTo>
                  <a:lnTo>
                    <a:pt x="8419" y="5874"/>
                  </a:lnTo>
                  <a:lnTo>
                    <a:pt x="8404" y="5873"/>
                  </a:lnTo>
                  <a:lnTo>
                    <a:pt x="8388" y="5872"/>
                  </a:lnTo>
                  <a:lnTo>
                    <a:pt x="8371" y="5869"/>
                  </a:lnTo>
                  <a:lnTo>
                    <a:pt x="8355" y="5867"/>
                  </a:lnTo>
                  <a:lnTo>
                    <a:pt x="8337" y="5862"/>
                  </a:lnTo>
                  <a:lnTo>
                    <a:pt x="8321" y="5858"/>
                  </a:lnTo>
                  <a:lnTo>
                    <a:pt x="8302" y="5853"/>
                  </a:lnTo>
                  <a:lnTo>
                    <a:pt x="8286" y="5847"/>
                  </a:lnTo>
                  <a:lnTo>
                    <a:pt x="8269" y="5842"/>
                  </a:lnTo>
                  <a:lnTo>
                    <a:pt x="8253" y="5836"/>
                  </a:lnTo>
                  <a:lnTo>
                    <a:pt x="8239" y="5828"/>
                  </a:lnTo>
                  <a:lnTo>
                    <a:pt x="8224" y="5821"/>
                  </a:lnTo>
                  <a:lnTo>
                    <a:pt x="8210" y="5814"/>
                  </a:lnTo>
                  <a:lnTo>
                    <a:pt x="8196" y="5806"/>
                  </a:lnTo>
                  <a:lnTo>
                    <a:pt x="8184" y="5798"/>
                  </a:lnTo>
                  <a:lnTo>
                    <a:pt x="8173" y="5788"/>
                  </a:lnTo>
                  <a:lnTo>
                    <a:pt x="8162" y="5779"/>
                  </a:lnTo>
                  <a:lnTo>
                    <a:pt x="8150" y="5770"/>
                  </a:lnTo>
                  <a:lnTo>
                    <a:pt x="8141" y="5760"/>
                  </a:lnTo>
                  <a:lnTo>
                    <a:pt x="8132" y="5749"/>
                  </a:lnTo>
                  <a:lnTo>
                    <a:pt x="8122" y="5739"/>
                  </a:lnTo>
                  <a:lnTo>
                    <a:pt x="8115" y="5728"/>
                  </a:lnTo>
                  <a:lnTo>
                    <a:pt x="8107" y="5715"/>
                  </a:lnTo>
                  <a:lnTo>
                    <a:pt x="8101" y="5704"/>
                  </a:lnTo>
                  <a:lnTo>
                    <a:pt x="8095" y="5693"/>
                  </a:lnTo>
                  <a:lnTo>
                    <a:pt x="8090" y="5680"/>
                  </a:lnTo>
                  <a:lnTo>
                    <a:pt x="8085" y="5669"/>
                  </a:lnTo>
                  <a:lnTo>
                    <a:pt x="8081" y="5657"/>
                  </a:lnTo>
                  <a:lnTo>
                    <a:pt x="8078" y="5645"/>
                  </a:lnTo>
                  <a:lnTo>
                    <a:pt x="8075" y="5633"/>
                  </a:lnTo>
                  <a:lnTo>
                    <a:pt x="8074" y="5621"/>
                  </a:lnTo>
                  <a:lnTo>
                    <a:pt x="8073" y="5608"/>
                  </a:lnTo>
                  <a:lnTo>
                    <a:pt x="8072" y="5597"/>
                  </a:lnTo>
                  <a:lnTo>
                    <a:pt x="8072" y="5585"/>
                  </a:lnTo>
                  <a:lnTo>
                    <a:pt x="8073" y="5573"/>
                  </a:lnTo>
                  <a:lnTo>
                    <a:pt x="8075" y="5560"/>
                  </a:lnTo>
                  <a:lnTo>
                    <a:pt x="8077" y="5547"/>
                  </a:lnTo>
                  <a:lnTo>
                    <a:pt x="8080" y="5534"/>
                  </a:lnTo>
                  <a:lnTo>
                    <a:pt x="8084" y="5523"/>
                  </a:lnTo>
                  <a:lnTo>
                    <a:pt x="8088" y="5512"/>
                  </a:lnTo>
                  <a:lnTo>
                    <a:pt x="8093" y="5501"/>
                  </a:lnTo>
                  <a:lnTo>
                    <a:pt x="8098" y="5490"/>
                  </a:lnTo>
                  <a:lnTo>
                    <a:pt x="8103" y="5480"/>
                  </a:lnTo>
                  <a:lnTo>
                    <a:pt x="8109" y="5471"/>
                  </a:lnTo>
                  <a:lnTo>
                    <a:pt x="8115" y="5461"/>
                  </a:lnTo>
                  <a:lnTo>
                    <a:pt x="8122" y="5453"/>
                  </a:lnTo>
                  <a:lnTo>
                    <a:pt x="8131" y="5445"/>
                  </a:lnTo>
                  <a:lnTo>
                    <a:pt x="8139" y="5437"/>
                  </a:lnTo>
                  <a:lnTo>
                    <a:pt x="8149" y="5429"/>
                  </a:lnTo>
                  <a:lnTo>
                    <a:pt x="8159" y="5420"/>
                  </a:lnTo>
                  <a:lnTo>
                    <a:pt x="8171" y="5412"/>
                  </a:lnTo>
                  <a:lnTo>
                    <a:pt x="8183" y="5404"/>
                  </a:lnTo>
                  <a:lnTo>
                    <a:pt x="8195" y="5397"/>
                  </a:lnTo>
                  <a:lnTo>
                    <a:pt x="8210" y="5388"/>
                  </a:lnTo>
                  <a:lnTo>
                    <a:pt x="7919" y="5310"/>
                  </a:lnTo>
                  <a:lnTo>
                    <a:pt x="7960" y="5158"/>
                  </a:lnTo>
                  <a:lnTo>
                    <a:pt x="8756" y="5372"/>
                  </a:lnTo>
                  <a:close/>
                  <a:moveTo>
                    <a:pt x="8437" y="5448"/>
                  </a:moveTo>
                  <a:lnTo>
                    <a:pt x="8413" y="5442"/>
                  </a:lnTo>
                  <a:lnTo>
                    <a:pt x="8391" y="5438"/>
                  </a:lnTo>
                  <a:lnTo>
                    <a:pt x="8370" y="5436"/>
                  </a:lnTo>
                  <a:lnTo>
                    <a:pt x="8350" y="5435"/>
                  </a:lnTo>
                  <a:lnTo>
                    <a:pt x="8331" y="5436"/>
                  </a:lnTo>
                  <a:lnTo>
                    <a:pt x="8314" y="5438"/>
                  </a:lnTo>
                  <a:lnTo>
                    <a:pt x="8298" y="5442"/>
                  </a:lnTo>
                  <a:lnTo>
                    <a:pt x="8284" y="5448"/>
                  </a:lnTo>
                  <a:lnTo>
                    <a:pt x="8269" y="5455"/>
                  </a:lnTo>
                  <a:lnTo>
                    <a:pt x="8257" y="5463"/>
                  </a:lnTo>
                  <a:lnTo>
                    <a:pt x="8247" y="5472"/>
                  </a:lnTo>
                  <a:lnTo>
                    <a:pt x="8237" y="5481"/>
                  </a:lnTo>
                  <a:lnTo>
                    <a:pt x="8228" y="5492"/>
                  </a:lnTo>
                  <a:lnTo>
                    <a:pt x="8222" y="5504"/>
                  </a:lnTo>
                  <a:lnTo>
                    <a:pt x="8216" y="5516"/>
                  </a:lnTo>
                  <a:lnTo>
                    <a:pt x="8212" y="5529"/>
                  </a:lnTo>
                  <a:lnTo>
                    <a:pt x="8209" y="5543"/>
                  </a:lnTo>
                  <a:lnTo>
                    <a:pt x="8208" y="5556"/>
                  </a:lnTo>
                  <a:lnTo>
                    <a:pt x="8208" y="5568"/>
                  </a:lnTo>
                  <a:lnTo>
                    <a:pt x="8209" y="5581"/>
                  </a:lnTo>
                  <a:lnTo>
                    <a:pt x="8212" y="5594"/>
                  </a:lnTo>
                  <a:lnTo>
                    <a:pt x="8217" y="5605"/>
                  </a:lnTo>
                  <a:lnTo>
                    <a:pt x="8223" y="5618"/>
                  </a:lnTo>
                  <a:lnTo>
                    <a:pt x="8230" y="5629"/>
                  </a:lnTo>
                  <a:lnTo>
                    <a:pt x="8240" y="5641"/>
                  </a:lnTo>
                  <a:lnTo>
                    <a:pt x="8251" y="5652"/>
                  </a:lnTo>
                  <a:lnTo>
                    <a:pt x="8264" y="5662"/>
                  </a:lnTo>
                  <a:lnTo>
                    <a:pt x="8280" y="5671"/>
                  </a:lnTo>
                  <a:lnTo>
                    <a:pt x="8297" y="5680"/>
                  </a:lnTo>
                  <a:lnTo>
                    <a:pt x="8317" y="5688"/>
                  </a:lnTo>
                  <a:lnTo>
                    <a:pt x="8337" y="5696"/>
                  </a:lnTo>
                  <a:lnTo>
                    <a:pt x="8361" y="5702"/>
                  </a:lnTo>
                  <a:lnTo>
                    <a:pt x="8382" y="5708"/>
                  </a:lnTo>
                  <a:lnTo>
                    <a:pt x="8404" y="5711"/>
                  </a:lnTo>
                  <a:lnTo>
                    <a:pt x="8424" y="5713"/>
                  </a:lnTo>
                  <a:lnTo>
                    <a:pt x="8442" y="5714"/>
                  </a:lnTo>
                  <a:lnTo>
                    <a:pt x="8460" y="5713"/>
                  </a:lnTo>
                  <a:lnTo>
                    <a:pt x="8476" y="5711"/>
                  </a:lnTo>
                  <a:lnTo>
                    <a:pt x="8491" y="5707"/>
                  </a:lnTo>
                  <a:lnTo>
                    <a:pt x="8506" y="5702"/>
                  </a:lnTo>
                  <a:lnTo>
                    <a:pt x="8518" y="5696"/>
                  </a:lnTo>
                  <a:lnTo>
                    <a:pt x="8529" y="5688"/>
                  </a:lnTo>
                  <a:lnTo>
                    <a:pt x="8540" y="5679"/>
                  </a:lnTo>
                  <a:lnTo>
                    <a:pt x="8549" y="5670"/>
                  </a:lnTo>
                  <a:lnTo>
                    <a:pt x="8557" y="5660"/>
                  </a:lnTo>
                  <a:lnTo>
                    <a:pt x="8563" y="5649"/>
                  </a:lnTo>
                  <a:lnTo>
                    <a:pt x="8569" y="5636"/>
                  </a:lnTo>
                  <a:lnTo>
                    <a:pt x="8574" y="5624"/>
                  </a:lnTo>
                  <a:lnTo>
                    <a:pt x="8577" y="5610"/>
                  </a:lnTo>
                  <a:lnTo>
                    <a:pt x="8578" y="5596"/>
                  </a:lnTo>
                  <a:lnTo>
                    <a:pt x="8578" y="5583"/>
                  </a:lnTo>
                  <a:lnTo>
                    <a:pt x="8577" y="5569"/>
                  </a:lnTo>
                  <a:lnTo>
                    <a:pt x="8574" y="5557"/>
                  </a:lnTo>
                  <a:lnTo>
                    <a:pt x="8568" y="5544"/>
                  </a:lnTo>
                  <a:lnTo>
                    <a:pt x="8562" y="5531"/>
                  </a:lnTo>
                  <a:lnTo>
                    <a:pt x="8555" y="5519"/>
                  </a:lnTo>
                  <a:lnTo>
                    <a:pt x="8546" y="5508"/>
                  </a:lnTo>
                  <a:lnTo>
                    <a:pt x="8536" y="5496"/>
                  </a:lnTo>
                  <a:lnTo>
                    <a:pt x="8523" y="5486"/>
                  </a:lnTo>
                  <a:lnTo>
                    <a:pt x="8509" y="5477"/>
                  </a:lnTo>
                  <a:lnTo>
                    <a:pt x="8493" y="5469"/>
                  </a:lnTo>
                  <a:lnTo>
                    <a:pt x="8476" y="5461"/>
                  </a:lnTo>
                  <a:lnTo>
                    <a:pt x="8457" y="5454"/>
                  </a:lnTo>
                  <a:lnTo>
                    <a:pt x="8437" y="5448"/>
                  </a:lnTo>
                  <a:close/>
                  <a:moveTo>
                    <a:pt x="8171" y="6217"/>
                  </a:moveTo>
                  <a:lnTo>
                    <a:pt x="8187" y="6227"/>
                  </a:lnTo>
                  <a:lnTo>
                    <a:pt x="8204" y="6239"/>
                  </a:lnTo>
                  <a:lnTo>
                    <a:pt x="8218" y="6251"/>
                  </a:lnTo>
                  <a:lnTo>
                    <a:pt x="8233" y="6263"/>
                  </a:lnTo>
                  <a:lnTo>
                    <a:pt x="8247" y="6278"/>
                  </a:lnTo>
                  <a:lnTo>
                    <a:pt x="8260" y="6292"/>
                  </a:lnTo>
                  <a:lnTo>
                    <a:pt x="8273" y="6309"/>
                  </a:lnTo>
                  <a:lnTo>
                    <a:pt x="8285" y="6325"/>
                  </a:lnTo>
                  <a:lnTo>
                    <a:pt x="8295" y="6342"/>
                  </a:lnTo>
                  <a:lnTo>
                    <a:pt x="8304" y="6361"/>
                  </a:lnTo>
                  <a:lnTo>
                    <a:pt x="8313" y="6379"/>
                  </a:lnTo>
                  <a:lnTo>
                    <a:pt x="8319" y="6398"/>
                  </a:lnTo>
                  <a:lnTo>
                    <a:pt x="8324" y="6416"/>
                  </a:lnTo>
                  <a:lnTo>
                    <a:pt x="8327" y="6436"/>
                  </a:lnTo>
                  <a:lnTo>
                    <a:pt x="8329" y="6456"/>
                  </a:lnTo>
                  <a:lnTo>
                    <a:pt x="8330" y="6476"/>
                  </a:lnTo>
                  <a:lnTo>
                    <a:pt x="8329" y="6497"/>
                  </a:lnTo>
                  <a:lnTo>
                    <a:pt x="8327" y="6516"/>
                  </a:lnTo>
                  <a:lnTo>
                    <a:pt x="8323" y="6537"/>
                  </a:lnTo>
                  <a:lnTo>
                    <a:pt x="8319" y="6556"/>
                  </a:lnTo>
                  <a:lnTo>
                    <a:pt x="8313" y="6576"/>
                  </a:lnTo>
                  <a:lnTo>
                    <a:pt x="8305" y="6595"/>
                  </a:lnTo>
                  <a:lnTo>
                    <a:pt x="8296" y="6615"/>
                  </a:lnTo>
                  <a:lnTo>
                    <a:pt x="8287" y="6633"/>
                  </a:lnTo>
                  <a:lnTo>
                    <a:pt x="8279" y="6649"/>
                  </a:lnTo>
                  <a:lnTo>
                    <a:pt x="8269" y="6662"/>
                  </a:lnTo>
                  <a:lnTo>
                    <a:pt x="8260" y="6676"/>
                  </a:lnTo>
                  <a:lnTo>
                    <a:pt x="8251" y="6688"/>
                  </a:lnTo>
                  <a:lnTo>
                    <a:pt x="8241" y="6699"/>
                  </a:lnTo>
                  <a:lnTo>
                    <a:pt x="8230" y="6711"/>
                  </a:lnTo>
                  <a:lnTo>
                    <a:pt x="8219" y="6721"/>
                  </a:lnTo>
                  <a:lnTo>
                    <a:pt x="8208" y="6731"/>
                  </a:lnTo>
                  <a:lnTo>
                    <a:pt x="8195" y="6740"/>
                  </a:lnTo>
                  <a:lnTo>
                    <a:pt x="8184" y="6749"/>
                  </a:lnTo>
                  <a:lnTo>
                    <a:pt x="8171" y="6757"/>
                  </a:lnTo>
                  <a:lnTo>
                    <a:pt x="8158" y="6764"/>
                  </a:lnTo>
                  <a:lnTo>
                    <a:pt x="8145" y="6770"/>
                  </a:lnTo>
                  <a:lnTo>
                    <a:pt x="8131" y="6776"/>
                  </a:lnTo>
                  <a:lnTo>
                    <a:pt x="8116" y="6781"/>
                  </a:lnTo>
                  <a:lnTo>
                    <a:pt x="8102" y="6786"/>
                  </a:lnTo>
                  <a:lnTo>
                    <a:pt x="8088" y="6790"/>
                  </a:lnTo>
                  <a:lnTo>
                    <a:pt x="8072" y="6792"/>
                  </a:lnTo>
                  <a:lnTo>
                    <a:pt x="8058" y="6795"/>
                  </a:lnTo>
                  <a:lnTo>
                    <a:pt x="8042" y="6796"/>
                  </a:lnTo>
                  <a:lnTo>
                    <a:pt x="8028" y="6797"/>
                  </a:lnTo>
                  <a:lnTo>
                    <a:pt x="8013" y="6797"/>
                  </a:lnTo>
                  <a:lnTo>
                    <a:pt x="7998" y="6796"/>
                  </a:lnTo>
                  <a:lnTo>
                    <a:pt x="7984" y="6794"/>
                  </a:lnTo>
                  <a:lnTo>
                    <a:pt x="7968" y="6792"/>
                  </a:lnTo>
                  <a:lnTo>
                    <a:pt x="7954" y="6789"/>
                  </a:lnTo>
                  <a:lnTo>
                    <a:pt x="7939" y="6785"/>
                  </a:lnTo>
                  <a:lnTo>
                    <a:pt x="7924" y="6779"/>
                  </a:lnTo>
                  <a:lnTo>
                    <a:pt x="7910" y="6774"/>
                  </a:lnTo>
                  <a:lnTo>
                    <a:pt x="7895" y="6768"/>
                  </a:lnTo>
                  <a:lnTo>
                    <a:pt x="7880" y="6761"/>
                  </a:lnTo>
                  <a:lnTo>
                    <a:pt x="7866" y="6754"/>
                  </a:lnTo>
                  <a:lnTo>
                    <a:pt x="7851" y="6744"/>
                  </a:lnTo>
                  <a:lnTo>
                    <a:pt x="7837" y="6736"/>
                  </a:lnTo>
                  <a:lnTo>
                    <a:pt x="7824" y="6727"/>
                  </a:lnTo>
                  <a:lnTo>
                    <a:pt x="7811" y="6717"/>
                  </a:lnTo>
                  <a:lnTo>
                    <a:pt x="7800" y="6707"/>
                  </a:lnTo>
                  <a:lnTo>
                    <a:pt x="7789" y="6696"/>
                  </a:lnTo>
                  <a:lnTo>
                    <a:pt x="7778" y="6686"/>
                  </a:lnTo>
                  <a:lnTo>
                    <a:pt x="7768" y="6675"/>
                  </a:lnTo>
                  <a:lnTo>
                    <a:pt x="7759" y="6662"/>
                  </a:lnTo>
                  <a:lnTo>
                    <a:pt x="7749" y="6650"/>
                  </a:lnTo>
                  <a:lnTo>
                    <a:pt x="7742" y="6638"/>
                  </a:lnTo>
                  <a:lnTo>
                    <a:pt x="7734" y="6624"/>
                  </a:lnTo>
                  <a:lnTo>
                    <a:pt x="7728" y="6611"/>
                  </a:lnTo>
                  <a:lnTo>
                    <a:pt x="7722" y="6597"/>
                  </a:lnTo>
                  <a:lnTo>
                    <a:pt x="7717" y="6583"/>
                  </a:lnTo>
                  <a:lnTo>
                    <a:pt x="7711" y="6568"/>
                  </a:lnTo>
                  <a:lnTo>
                    <a:pt x="7707" y="6553"/>
                  </a:lnTo>
                  <a:lnTo>
                    <a:pt x="7704" y="6538"/>
                  </a:lnTo>
                  <a:lnTo>
                    <a:pt x="7701" y="6523"/>
                  </a:lnTo>
                  <a:lnTo>
                    <a:pt x="7700" y="6508"/>
                  </a:lnTo>
                  <a:lnTo>
                    <a:pt x="7699" y="6494"/>
                  </a:lnTo>
                  <a:lnTo>
                    <a:pt x="7699" y="6479"/>
                  </a:lnTo>
                  <a:lnTo>
                    <a:pt x="7699" y="6464"/>
                  </a:lnTo>
                  <a:lnTo>
                    <a:pt x="7701" y="6449"/>
                  </a:lnTo>
                  <a:lnTo>
                    <a:pt x="7703" y="6435"/>
                  </a:lnTo>
                  <a:lnTo>
                    <a:pt x="7706" y="6420"/>
                  </a:lnTo>
                  <a:lnTo>
                    <a:pt x="7709" y="6405"/>
                  </a:lnTo>
                  <a:lnTo>
                    <a:pt x="7715" y="6391"/>
                  </a:lnTo>
                  <a:lnTo>
                    <a:pt x="7720" y="6376"/>
                  </a:lnTo>
                  <a:lnTo>
                    <a:pt x="7726" y="6361"/>
                  </a:lnTo>
                  <a:lnTo>
                    <a:pt x="7733" y="6347"/>
                  </a:lnTo>
                  <a:lnTo>
                    <a:pt x="7740" y="6332"/>
                  </a:lnTo>
                  <a:lnTo>
                    <a:pt x="7751" y="6315"/>
                  </a:lnTo>
                  <a:lnTo>
                    <a:pt x="7762" y="6298"/>
                  </a:lnTo>
                  <a:lnTo>
                    <a:pt x="7774" y="6282"/>
                  </a:lnTo>
                  <a:lnTo>
                    <a:pt x="7787" y="6266"/>
                  </a:lnTo>
                  <a:lnTo>
                    <a:pt x="7801" y="6252"/>
                  </a:lnTo>
                  <a:lnTo>
                    <a:pt x="7816" y="6239"/>
                  </a:lnTo>
                  <a:lnTo>
                    <a:pt x="7832" y="6225"/>
                  </a:lnTo>
                  <a:lnTo>
                    <a:pt x="7849" y="6213"/>
                  </a:lnTo>
                  <a:lnTo>
                    <a:pt x="7866" y="6203"/>
                  </a:lnTo>
                  <a:lnTo>
                    <a:pt x="7884" y="6192"/>
                  </a:lnTo>
                  <a:lnTo>
                    <a:pt x="7902" y="6184"/>
                  </a:lnTo>
                  <a:lnTo>
                    <a:pt x="7920" y="6178"/>
                  </a:lnTo>
                  <a:lnTo>
                    <a:pt x="7940" y="6173"/>
                  </a:lnTo>
                  <a:lnTo>
                    <a:pt x="7959" y="6170"/>
                  </a:lnTo>
                  <a:lnTo>
                    <a:pt x="7979" y="6168"/>
                  </a:lnTo>
                  <a:lnTo>
                    <a:pt x="7999" y="6167"/>
                  </a:lnTo>
                  <a:lnTo>
                    <a:pt x="8020" y="6168"/>
                  </a:lnTo>
                  <a:lnTo>
                    <a:pt x="8040" y="6171"/>
                  </a:lnTo>
                  <a:lnTo>
                    <a:pt x="8061" y="6175"/>
                  </a:lnTo>
                  <a:lnTo>
                    <a:pt x="8082" y="6180"/>
                  </a:lnTo>
                  <a:lnTo>
                    <a:pt x="8104" y="6187"/>
                  </a:lnTo>
                  <a:lnTo>
                    <a:pt x="8126" y="6195"/>
                  </a:lnTo>
                  <a:lnTo>
                    <a:pt x="8148" y="6206"/>
                  </a:lnTo>
                  <a:lnTo>
                    <a:pt x="8171" y="6217"/>
                  </a:lnTo>
                  <a:close/>
                  <a:moveTo>
                    <a:pt x="8084" y="6355"/>
                  </a:moveTo>
                  <a:lnTo>
                    <a:pt x="8065" y="6346"/>
                  </a:lnTo>
                  <a:lnTo>
                    <a:pt x="8046" y="6337"/>
                  </a:lnTo>
                  <a:lnTo>
                    <a:pt x="8028" y="6331"/>
                  </a:lnTo>
                  <a:lnTo>
                    <a:pt x="8010" y="6326"/>
                  </a:lnTo>
                  <a:lnTo>
                    <a:pt x="7993" y="6324"/>
                  </a:lnTo>
                  <a:lnTo>
                    <a:pt x="7977" y="6323"/>
                  </a:lnTo>
                  <a:lnTo>
                    <a:pt x="7960" y="6324"/>
                  </a:lnTo>
                  <a:lnTo>
                    <a:pt x="7945" y="6326"/>
                  </a:lnTo>
                  <a:lnTo>
                    <a:pt x="7930" y="6330"/>
                  </a:lnTo>
                  <a:lnTo>
                    <a:pt x="7916" y="6335"/>
                  </a:lnTo>
                  <a:lnTo>
                    <a:pt x="7903" y="6342"/>
                  </a:lnTo>
                  <a:lnTo>
                    <a:pt x="7891" y="6350"/>
                  </a:lnTo>
                  <a:lnTo>
                    <a:pt x="7880" y="6359"/>
                  </a:lnTo>
                  <a:lnTo>
                    <a:pt x="7870" y="6369"/>
                  </a:lnTo>
                  <a:lnTo>
                    <a:pt x="7861" y="6382"/>
                  </a:lnTo>
                  <a:lnTo>
                    <a:pt x="7853" y="6394"/>
                  </a:lnTo>
                  <a:lnTo>
                    <a:pt x="7846" y="6408"/>
                  </a:lnTo>
                  <a:lnTo>
                    <a:pt x="7841" y="6422"/>
                  </a:lnTo>
                  <a:lnTo>
                    <a:pt x="7838" y="6436"/>
                  </a:lnTo>
                  <a:lnTo>
                    <a:pt x="7836" y="6449"/>
                  </a:lnTo>
                  <a:lnTo>
                    <a:pt x="7836" y="6464"/>
                  </a:lnTo>
                  <a:lnTo>
                    <a:pt x="7837" y="6478"/>
                  </a:lnTo>
                  <a:lnTo>
                    <a:pt x="7840" y="6493"/>
                  </a:lnTo>
                  <a:lnTo>
                    <a:pt x="7844" y="6508"/>
                  </a:lnTo>
                  <a:lnTo>
                    <a:pt x="7850" y="6522"/>
                  </a:lnTo>
                  <a:lnTo>
                    <a:pt x="7858" y="6537"/>
                  </a:lnTo>
                  <a:lnTo>
                    <a:pt x="7868" y="6550"/>
                  </a:lnTo>
                  <a:lnTo>
                    <a:pt x="7880" y="6563"/>
                  </a:lnTo>
                  <a:lnTo>
                    <a:pt x="7893" y="6576"/>
                  </a:lnTo>
                  <a:lnTo>
                    <a:pt x="7908" y="6588"/>
                  </a:lnTo>
                  <a:lnTo>
                    <a:pt x="7925" y="6599"/>
                  </a:lnTo>
                  <a:lnTo>
                    <a:pt x="7944" y="6611"/>
                  </a:lnTo>
                  <a:lnTo>
                    <a:pt x="7963" y="6621"/>
                  </a:lnTo>
                  <a:lnTo>
                    <a:pt x="7982" y="6629"/>
                  </a:lnTo>
                  <a:lnTo>
                    <a:pt x="7999" y="6635"/>
                  </a:lnTo>
                  <a:lnTo>
                    <a:pt x="8017" y="6640"/>
                  </a:lnTo>
                  <a:lnTo>
                    <a:pt x="8034" y="6643"/>
                  </a:lnTo>
                  <a:lnTo>
                    <a:pt x="8051" y="6644"/>
                  </a:lnTo>
                  <a:lnTo>
                    <a:pt x="8067" y="6643"/>
                  </a:lnTo>
                  <a:lnTo>
                    <a:pt x="8082" y="6640"/>
                  </a:lnTo>
                  <a:lnTo>
                    <a:pt x="8097" y="6635"/>
                  </a:lnTo>
                  <a:lnTo>
                    <a:pt x="8111" y="6630"/>
                  </a:lnTo>
                  <a:lnTo>
                    <a:pt x="8124" y="6624"/>
                  </a:lnTo>
                  <a:lnTo>
                    <a:pt x="8136" y="6616"/>
                  </a:lnTo>
                  <a:lnTo>
                    <a:pt x="8147" y="6607"/>
                  </a:lnTo>
                  <a:lnTo>
                    <a:pt x="8156" y="6596"/>
                  </a:lnTo>
                  <a:lnTo>
                    <a:pt x="8166" y="6585"/>
                  </a:lnTo>
                  <a:lnTo>
                    <a:pt x="8174" y="6572"/>
                  </a:lnTo>
                  <a:lnTo>
                    <a:pt x="8180" y="6558"/>
                  </a:lnTo>
                  <a:lnTo>
                    <a:pt x="8185" y="6545"/>
                  </a:lnTo>
                  <a:lnTo>
                    <a:pt x="8189" y="6531"/>
                  </a:lnTo>
                  <a:lnTo>
                    <a:pt x="8191" y="6516"/>
                  </a:lnTo>
                  <a:lnTo>
                    <a:pt x="8191" y="6502"/>
                  </a:lnTo>
                  <a:lnTo>
                    <a:pt x="8190" y="6487"/>
                  </a:lnTo>
                  <a:lnTo>
                    <a:pt x="8187" y="6473"/>
                  </a:lnTo>
                  <a:lnTo>
                    <a:pt x="8183" y="6458"/>
                  </a:lnTo>
                  <a:lnTo>
                    <a:pt x="8177" y="6443"/>
                  </a:lnTo>
                  <a:lnTo>
                    <a:pt x="8169" y="6429"/>
                  </a:lnTo>
                  <a:lnTo>
                    <a:pt x="8159" y="6415"/>
                  </a:lnTo>
                  <a:lnTo>
                    <a:pt x="8148" y="6402"/>
                  </a:lnTo>
                  <a:lnTo>
                    <a:pt x="8135" y="6390"/>
                  </a:lnTo>
                  <a:lnTo>
                    <a:pt x="8119" y="6377"/>
                  </a:lnTo>
                  <a:lnTo>
                    <a:pt x="8103" y="6366"/>
                  </a:lnTo>
                  <a:lnTo>
                    <a:pt x="8084" y="6355"/>
                  </a:lnTo>
                  <a:close/>
                  <a:moveTo>
                    <a:pt x="7056" y="7221"/>
                  </a:moveTo>
                  <a:lnTo>
                    <a:pt x="7364" y="6890"/>
                  </a:lnTo>
                  <a:lnTo>
                    <a:pt x="7249" y="6783"/>
                  </a:lnTo>
                  <a:lnTo>
                    <a:pt x="7336" y="6690"/>
                  </a:lnTo>
                  <a:lnTo>
                    <a:pt x="7546" y="6885"/>
                  </a:lnTo>
                  <a:lnTo>
                    <a:pt x="7503" y="6933"/>
                  </a:lnTo>
                  <a:lnTo>
                    <a:pt x="7504" y="6948"/>
                  </a:lnTo>
                  <a:lnTo>
                    <a:pt x="7508" y="6964"/>
                  </a:lnTo>
                  <a:lnTo>
                    <a:pt x="7513" y="6981"/>
                  </a:lnTo>
                  <a:lnTo>
                    <a:pt x="7519" y="6999"/>
                  </a:lnTo>
                  <a:lnTo>
                    <a:pt x="7528" y="7018"/>
                  </a:lnTo>
                  <a:lnTo>
                    <a:pt x="7537" y="7036"/>
                  </a:lnTo>
                  <a:lnTo>
                    <a:pt x="7547" y="7057"/>
                  </a:lnTo>
                  <a:lnTo>
                    <a:pt x="7559" y="7077"/>
                  </a:lnTo>
                  <a:lnTo>
                    <a:pt x="7574" y="7100"/>
                  </a:lnTo>
                  <a:lnTo>
                    <a:pt x="7592" y="7125"/>
                  </a:lnTo>
                  <a:lnTo>
                    <a:pt x="7614" y="7152"/>
                  </a:lnTo>
                  <a:lnTo>
                    <a:pt x="7640" y="7181"/>
                  </a:lnTo>
                  <a:lnTo>
                    <a:pt x="7668" y="7213"/>
                  </a:lnTo>
                  <a:lnTo>
                    <a:pt x="7701" y="7248"/>
                  </a:lnTo>
                  <a:lnTo>
                    <a:pt x="7737" y="7284"/>
                  </a:lnTo>
                  <a:lnTo>
                    <a:pt x="7777" y="7323"/>
                  </a:lnTo>
                  <a:lnTo>
                    <a:pt x="7448" y="7676"/>
                  </a:lnTo>
                  <a:lnTo>
                    <a:pt x="7106" y="7357"/>
                  </a:lnTo>
                  <a:lnTo>
                    <a:pt x="7063" y="7404"/>
                  </a:lnTo>
                  <a:lnTo>
                    <a:pt x="6853" y="7208"/>
                  </a:lnTo>
                  <a:lnTo>
                    <a:pt x="6941" y="7115"/>
                  </a:lnTo>
                  <a:lnTo>
                    <a:pt x="7056" y="7221"/>
                  </a:lnTo>
                  <a:close/>
                  <a:moveTo>
                    <a:pt x="7213" y="7243"/>
                  </a:moveTo>
                  <a:lnTo>
                    <a:pt x="7460" y="7473"/>
                  </a:lnTo>
                  <a:lnTo>
                    <a:pt x="7590" y="7333"/>
                  </a:lnTo>
                  <a:lnTo>
                    <a:pt x="7569" y="7312"/>
                  </a:lnTo>
                  <a:lnTo>
                    <a:pt x="7549" y="7291"/>
                  </a:lnTo>
                  <a:lnTo>
                    <a:pt x="7531" y="7270"/>
                  </a:lnTo>
                  <a:lnTo>
                    <a:pt x="7513" y="7250"/>
                  </a:lnTo>
                  <a:lnTo>
                    <a:pt x="7497" y="7231"/>
                  </a:lnTo>
                  <a:lnTo>
                    <a:pt x="7481" y="7211"/>
                  </a:lnTo>
                  <a:lnTo>
                    <a:pt x="7467" y="7193"/>
                  </a:lnTo>
                  <a:lnTo>
                    <a:pt x="7455" y="7174"/>
                  </a:lnTo>
                  <a:lnTo>
                    <a:pt x="7443" y="7157"/>
                  </a:lnTo>
                  <a:lnTo>
                    <a:pt x="7433" y="7139"/>
                  </a:lnTo>
                  <a:lnTo>
                    <a:pt x="7424" y="7122"/>
                  </a:lnTo>
                  <a:lnTo>
                    <a:pt x="7417" y="7106"/>
                  </a:lnTo>
                  <a:lnTo>
                    <a:pt x="7409" y="7090"/>
                  </a:lnTo>
                  <a:lnTo>
                    <a:pt x="7404" y="7074"/>
                  </a:lnTo>
                  <a:lnTo>
                    <a:pt x="7400" y="7060"/>
                  </a:lnTo>
                  <a:lnTo>
                    <a:pt x="7397" y="7046"/>
                  </a:lnTo>
                  <a:lnTo>
                    <a:pt x="7213" y="7243"/>
                  </a:lnTo>
                  <a:close/>
                  <a:moveTo>
                    <a:pt x="6833" y="7926"/>
                  </a:moveTo>
                  <a:lnTo>
                    <a:pt x="6968" y="7869"/>
                  </a:lnTo>
                  <a:lnTo>
                    <a:pt x="6973" y="7891"/>
                  </a:lnTo>
                  <a:lnTo>
                    <a:pt x="6977" y="7911"/>
                  </a:lnTo>
                  <a:lnTo>
                    <a:pt x="6980" y="7931"/>
                  </a:lnTo>
                  <a:lnTo>
                    <a:pt x="6981" y="7950"/>
                  </a:lnTo>
                  <a:lnTo>
                    <a:pt x="6980" y="7969"/>
                  </a:lnTo>
                  <a:lnTo>
                    <a:pt x="6977" y="7987"/>
                  </a:lnTo>
                  <a:lnTo>
                    <a:pt x="6973" y="8005"/>
                  </a:lnTo>
                  <a:lnTo>
                    <a:pt x="6968" y="8022"/>
                  </a:lnTo>
                  <a:lnTo>
                    <a:pt x="6959" y="8039"/>
                  </a:lnTo>
                  <a:lnTo>
                    <a:pt x="6949" y="8055"/>
                  </a:lnTo>
                  <a:lnTo>
                    <a:pt x="6937" y="8072"/>
                  </a:lnTo>
                  <a:lnTo>
                    <a:pt x="6922" y="8088"/>
                  </a:lnTo>
                  <a:lnTo>
                    <a:pt x="6906" y="8104"/>
                  </a:lnTo>
                  <a:lnTo>
                    <a:pt x="6887" y="8120"/>
                  </a:lnTo>
                  <a:lnTo>
                    <a:pt x="6866" y="8136"/>
                  </a:lnTo>
                  <a:lnTo>
                    <a:pt x="6843" y="8153"/>
                  </a:lnTo>
                  <a:lnTo>
                    <a:pt x="6821" y="8166"/>
                  </a:lnTo>
                  <a:lnTo>
                    <a:pt x="6800" y="8178"/>
                  </a:lnTo>
                  <a:lnTo>
                    <a:pt x="6780" y="8189"/>
                  </a:lnTo>
                  <a:lnTo>
                    <a:pt x="6762" y="8197"/>
                  </a:lnTo>
                  <a:lnTo>
                    <a:pt x="6745" y="8204"/>
                  </a:lnTo>
                  <a:lnTo>
                    <a:pt x="6727" y="8210"/>
                  </a:lnTo>
                  <a:lnTo>
                    <a:pt x="6712" y="8214"/>
                  </a:lnTo>
                  <a:lnTo>
                    <a:pt x="6697" y="8218"/>
                  </a:lnTo>
                  <a:lnTo>
                    <a:pt x="6683" y="8219"/>
                  </a:lnTo>
                  <a:lnTo>
                    <a:pt x="6670" y="8219"/>
                  </a:lnTo>
                  <a:lnTo>
                    <a:pt x="6657" y="8219"/>
                  </a:lnTo>
                  <a:lnTo>
                    <a:pt x="6645" y="8218"/>
                  </a:lnTo>
                  <a:lnTo>
                    <a:pt x="6633" y="8215"/>
                  </a:lnTo>
                  <a:lnTo>
                    <a:pt x="6622" y="8212"/>
                  </a:lnTo>
                  <a:lnTo>
                    <a:pt x="6611" y="8208"/>
                  </a:lnTo>
                  <a:lnTo>
                    <a:pt x="6602" y="8203"/>
                  </a:lnTo>
                  <a:lnTo>
                    <a:pt x="6591" y="8197"/>
                  </a:lnTo>
                  <a:lnTo>
                    <a:pt x="6581" y="8189"/>
                  </a:lnTo>
                  <a:lnTo>
                    <a:pt x="6570" y="8178"/>
                  </a:lnTo>
                  <a:lnTo>
                    <a:pt x="6559" y="8166"/>
                  </a:lnTo>
                  <a:lnTo>
                    <a:pt x="6546" y="8152"/>
                  </a:lnTo>
                  <a:lnTo>
                    <a:pt x="6534" y="8135"/>
                  </a:lnTo>
                  <a:lnTo>
                    <a:pt x="6521" y="8117"/>
                  </a:lnTo>
                  <a:lnTo>
                    <a:pt x="6507" y="8096"/>
                  </a:lnTo>
                  <a:lnTo>
                    <a:pt x="6407" y="7941"/>
                  </a:lnTo>
                  <a:lnTo>
                    <a:pt x="6387" y="7910"/>
                  </a:lnTo>
                  <a:lnTo>
                    <a:pt x="6368" y="7884"/>
                  </a:lnTo>
                  <a:lnTo>
                    <a:pt x="6352" y="7864"/>
                  </a:lnTo>
                  <a:lnTo>
                    <a:pt x="6338" y="7847"/>
                  </a:lnTo>
                  <a:lnTo>
                    <a:pt x="6324" y="7834"/>
                  </a:lnTo>
                  <a:lnTo>
                    <a:pt x="6308" y="7821"/>
                  </a:lnTo>
                  <a:lnTo>
                    <a:pt x="6290" y="7808"/>
                  </a:lnTo>
                  <a:lnTo>
                    <a:pt x="6271" y="7796"/>
                  </a:lnTo>
                  <a:lnTo>
                    <a:pt x="6401" y="7711"/>
                  </a:lnTo>
                  <a:lnTo>
                    <a:pt x="6410" y="7716"/>
                  </a:lnTo>
                  <a:lnTo>
                    <a:pt x="6418" y="7723"/>
                  </a:lnTo>
                  <a:lnTo>
                    <a:pt x="6428" y="7731"/>
                  </a:lnTo>
                  <a:lnTo>
                    <a:pt x="6440" y="7742"/>
                  </a:lnTo>
                  <a:lnTo>
                    <a:pt x="6449" y="7750"/>
                  </a:lnTo>
                  <a:lnTo>
                    <a:pt x="6455" y="7754"/>
                  </a:lnTo>
                  <a:lnTo>
                    <a:pt x="6458" y="7741"/>
                  </a:lnTo>
                  <a:lnTo>
                    <a:pt x="6462" y="7727"/>
                  </a:lnTo>
                  <a:lnTo>
                    <a:pt x="6466" y="7715"/>
                  </a:lnTo>
                  <a:lnTo>
                    <a:pt x="6471" y="7703"/>
                  </a:lnTo>
                  <a:lnTo>
                    <a:pt x="6476" y="7690"/>
                  </a:lnTo>
                  <a:lnTo>
                    <a:pt x="6482" y="7679"/>
                  </a:lnTo>
                  <a:lnTo>
                    <a:pt x="6489" y="7668"/>
                  </a:lnTo>
                  <a:lnTo>
                    <a:pt x="6495" y="7657"/>
                  </a:lnTo>
                  <a:lnTo>
                    <a:pt x="6502" y="7647"/>
                  </a:lnTo>
                  <a:lnTo>
                    <a:pt x="6510" y="7638"/>
                  </a:lnTo>
                  <a:lnTo>
                    <a:pt x="6518" y="7627"/>
                  </a:lnTo>
                  <a:lnTo>
                    <a:pt x="6527" y="7619"/>
                  </a:lnTo>
                  <a:lnTo>
                    <a:pt x="6536" y="7610"/>
                  </a:lnTo>
                  <a:lnTo>
                    <a:pt x="6546" y="7603"/>
                  </a:lnTo>
                  <a:lnTo>
                    <a:pt x="6556" y="7595"/>
                  </a:lnTo>
                  <a:lnTo>
                    <a:pt x="6567" y="7587"/>
                  </a:lnTo>
                  <a:lnTo>
                    <a:pt x="6586" y="7576"/>
                  </a:lnTo>
                  <a:lnTo>
                    <a:pt x="6605" y="7566"/>
                  </a:lnTo>
                  <a:lnTo>
                    <a:pt x="6624" y="7559"/>
                  </a:lnTo>
                  <a:lnTo>
                    <a:pt x="6643" y="7552"/>
                  </a:lnTo>
                  <a:lnTo>
                    <a:pt x="6661" y="7549"/>
                  </a:lnTo>
                  <a:lnTo>
                    <a:pt x="6680" y="7547"/>
                  </a:lnTo>
                  <a:lnTo>
                    <a:pt x="6698" y="7547"/>
                  </a:lnTo>
                  <a:lnTo>
                    <a:pt x="6716" y="7550"/>
                  </a:lnTo>
                  <a:lnTo>
                    <a:pt x="6733" y="7554"/>
                  </a:lnTo>
                  <a:lnTo>
                    <a:pt x="6750" y="7560"/>
                  </a:lnTo>
                  <a:lnTo>
                    <a:pt x="6765" y="7567"/>
                  </a:lnTo>
                  <a:lnTo>
                    <a:pt x="6780" y="7576"/>
                  </a:lnTo>
                  <a:lnTo>
                    <a:pt x="6794" y="7586"/>
                  </a:lnTo>
                  <a:lnTo>
                    <a:pt x="6807" y="7599"/>
                  </a:lnTo>
                  <a:lnTo>
                    <a:pt x="6819" y="7612"/>
                  </a:lnTo>
                  <a:lnTo>
                    <a:pt x="6830" y="7627"/>
                  </a:lnTo>
                  <a:lnTo>
                    <a:pt x="6836" y="7638"/>
                  </a:lnTo>
                  <a:lnTo>
                    <a:pt x="6841" y="7649"/>
                  </a:lnTo>
                  <a:lnTo>
                    <a:pt x="6846" y="7659"/>
                  </a:lnTo>
                  <a:lnTo>
                    <a:pt x="6850" y="7671"/>
                  </a:lnTo>
                  <a:lnTo>
                    <a:pt x="6853" y="7682"/>
                  </a:lnTo>
                  <a:lnTo>
                    <a:pt x="6855" y="7693"/>
                  </a:lnTo>
                  <a:lnTo>
                    <a:pt x="6858" y="7705"/>
                  </a:lnTo>
                  <a:lnTo>
                    <a:pt x="6859" y="7716"/>
                  </a:lnTo>
                  <a:lnTo>
                    <a:pt x="6859" y="7727"/>
                  </a:lnTo>
                  <a:lnTo>
                    <a:pt x="6858" y="7739"/>
                  </a:lnTo>
                  <a:lnTo>
                    <a:pt x="6855" y="7750"/>
                  </a:lnTo>
                  <a:lnTo>
                    <a:pt x="6853" y="7761"/>
                  </a:lnTo>
                  <a:lnTo>
                    <a:pt x="6849" y="7772"/>
                  </a:lnTo>
                  <a:lnTo>
                    <a:pt x="6845" y="7783"/>
                  </a:lnTo>
                  <a:lnTo>
                    <a:pt x="6840" y="7793"/>
                  </a:lnTo>
                  <a:lnTo>
                    <a:pt x="6835" y="7804"/>
                  </a:lnTo>
                  <a:lnTo>
                    <a:pt x="6828" y="7815"/>
                  </a:lnTo>
                  <a:lnTo>
                    <a:pt x="6820" y="7826"/>
                  </a:lnTo>
                  <a:lnTo>
                    <a:pt x="6811" y="7837"/>
                  </a:lnTo>
                  <a:lnTo>
                    <a:pt x="6801" y="7850"/>
                  </a:lnTo>
                  <a:lnTo>
                    <a:pt x="6777" y="7875"/>
                  </a:lnTo>
                  <a:lnTo>
                    <a:pt x="6750" y="7903"/>
                  </a:lnTo>
                  <a:lnTo>
                    <a:pt x="6712" y="7940"/>
                  </a:lnTo>
                  <a:lnTo>
                    <a:pt x="6682" y="7971"/>
                  </a:lnTo>
                  <a:lnTo>
                    <a:pt x="6670" y="7985"/>
                  </a:lnTo>
                  <a:lnTo>
                    <a:pt x="6658" y="7998"/>
                  </a:lnTo>
                  <a:lnTo>
                    <a:pt x="6649" y="8009"/>
                  </a:lnTo>
                  <a:lnTo>
                    <a:pt x="6642" y="8019"/>
                  </a:lnTo>
                  <a:lnTo>
                    <a:pt x="6650" y="8033"/>
                  </a:lnTo>
                  <a:lnTo>
                    <a:pt x="6656" y="8042"/>
                  </a:lnTo>
                  <a:lnTo>
                    <a:pt x="6663" y="8050"/>
                  </a:lnTo>
                  <a:lnTo>
                    <a:pt x="6670" y="8056"/>
                  </a:lnTo>
                  <a:lnTo>
                    <a:pt x="6677" y="8062"/>
                  </a:lnTo>
                  <a:lnTo>
                    <a:pt x="6683" y="8067"/>
                  </a:lnTo>
                  <a:lnTo>
                    <a:pt x="6690" y="8071"/>
                  </a:lnTo>
                  <a:lnTo>
                    <a:pt x="6697" y="8074"/>
                  </a:lnTo>
                  <a:lnTo>
                    <a:pt x="6704" y="8075"/>
                  </a:lnTo>
                  <a:lnTo>
                    <a:pt x="6713" y="8076"/>
                  </a:lnTo>
                  <a:lnTo>
                    <a:pt x="6721" y="8075"/>
                  </a:lnTo>
                  <a:lnTo>
                    <a:pt x="6730" y="8073"/>
                  </a:lnTo>
                  <a:lnTo>
                    <a:pt x="6739" y="8070"/>
                  </a:lnTo>
                  <a:lnTo>
                    <a:pt x="6751" y="8065"/>
                  </a:lnTo>
                  <a:lnTo>
                    <a:pt x="6762" y="8059"/>
                  </a:lnTo>
                  <a:lnTo>
                    <a:pt x="6773" y="8053"/>
                  </a:lnTo>
                  <a:lnTo>
                    <a:pt x="6787" y="8045"/>
                  </a:lnTo>
                  <a:lnTo>
                    <a:pt x="6795" y="8039"/>
                  </a:lnTo>
                  <a:lnTo>
                    <a:pt x="6802" y="8034"/>
                  </a:lnTo>
                  <a:lnTo>
                    <a:pt x="6809" y="8027"/>
                  </a:lnTo>
                  <a:lnTo>
                    <a:pt x="6815" y="8021"/>
                  </a:lnTo>
                  <a:lnTo>
                    <a:pt x="6821" y="8015"/>
                  </a:lnTo>
                  <a:lnTo>
                    <a:pt x="6826" y="8008"/>
                  </a:lnTo>
                  <a:lnTo>
                    <a:pt x="6829" y="8002"/>
                  </a:lnTo>
                  <a:lnTo>
                    <a:pt x="6833" y="7994"/>
                  </a:lnTo>
                  <a:lnTo>
                    <a:pt x="6835" y="7988"/>
                  </a:lnTo>
                  <a:lnTo>
                    <a:pt x="6836" y="7981"/>
                  </a:lnTo>
                  <a:lnTo>
                    <a:pt x="6837" y="7973"/>
                  </a:lnTo>
                  <a:lnTo>
                    <a:pt x="6838" y="7965"/>
                  </a:lnTo>
                  <a:lnTo>
                    <a:pt x="6838" y="7955"/>
                  </a:lnTo>
                  <a:lnTo>
                    <a:pt x="6837" y="7946"/>
                  </a:lnTo>
                  <a:lnTo>
                    <a:pt x="6835" y="7936"/>
                  </a:lnTo>
                  <a:lnTo>
                    <a:pt x="6833" y="7926"/>
                  </a:lnTo>
                  <a:close/>
                  <a:moveTo>
                    <a:pt x="6586" y="7933"/>
                  </a:moveTo>
                  <a:lnTo>
                    <a:pt x="6598" y="7919"/>
                  </a:lnTo>
                  <a:lnTo>
                    <a:pt x="6613" y="7902"/>
                  </a:lnTo>
                  <a:lnTo>
                    <a:pt x="6631" y="7882"/>
                  </a:lnTo>
                  <a:lnTo>
                    <a:pt x="6653" y="7860"/>
                  </a:lnTo>
                  <a:lnTo>
                    <a:pt x="6675" y="7838"/>
                  </a:lnTo>
                  <a:lnTo>
                    <a:pt x="6691" y="7819"/>
                  </a:lnTo>
                  <a:lnTo>
                    <a:pt x="6697" y="7810"/>
                  </a:lnTo>
                  <a:lnTo>
                    <a:pt x="6703" y="7803"/>
                  </a:lnTo>
                  <a:lnTo>
                    <a:pt x="6708" y="7796"/>
                  </a:lnTo>
                  <a:lnTo>
                    <a:pt x="6711" y="7791"/>
                  </a:lnTo>
                  <a:lnTo>
                    <a:pt x="6714" y="7782"/>
                  </a:lnTo>
                  <a:lnTo>
                    <a:pt x="6716" y="7773"/>
                  </a:lnTo>
                  <a:lnTo>
                    <a:pt x="6716" y="7765"/>
                  </a:lnTo>
                  <a:lnTo>
                    <a:pt x="6716" y="7757"/>
                  </a:lnTo>
                  <a:lnTo>
                    <a:pt x="6715" y="7749"/>
                  </a:lnTo>
                  <a:lnTo>
                    <a:pt x="6713" y="7742"/>
                  </a:lnTo>
                  <a:lnTo>
                    <a:pt x="6710" y="7734"/>
                  </a:lnTo>
                  <a:lnTo>
                    <a:pt x="6707" y="7727"/>
                  </a:lnTo>
                  <a:lnTo>
                    <a:pt x="6701" y="7720"/>
                  </a:lnTo>
                  <a:lnTo>
                    <a:pt x="6696" y="7714"/>
                  </a:lnTo>
                  <a:lnTo>
                    <a:pt x="6690" y="7709"/>
                  </a:lnTo>
                  <a:lnTo>
                    <a:pt x="6684" y="7705"/>
                  </a:lnTo>
                  <a:lnTo>
                    <a:pt x="6677" y="7700"/>
                  </a:lnTo>
                  <a:lnTo>
                    <a:pt x="6670" y="7697"/>
                  </a:lnTo>
                  <a:lnTo>
                    <a:pt x="6662" y="7694"/>
                  </a:lnTo>
                  <a:lnTo>
                    <a:pt x="6654" y="7692"/>
                  </a:lnTo>
                  <a:lnTo>
                    <a:pt x="6646" y="7691"/>
                  </a:lnTo>
                  <a:lnTo>
                    <a:pt x="6638" y="7690"/>
                  </a:lnTo>
                  <a:lnTo>
                    <a:pt x="6628" y="7691"/>
                  </a:lnTo>
                  <a:lnTo>
                    <a:pt x="6620" y="7692"/>
                  </a:lnTo>
                  <a:lnTo>
                    <a:pt x="6612" y="7694"/>
                  </a:lnTo>
                  <a:lnTo>
                    <a:pt x="6604" y="7697"/>
                  </a:lnTo>
                  <a:lnTo>
                    <a:pt x="6596" y="7701"/>
                  </a:lnTo>
                  <a:lnTo>
                    <a:pt x="6588" y="7707"/>
                  </a:lnTo>
                  <a:lnTo>
                    <a:pt x="6579" y="7713"/>
                  </a:lnTo>
                  <a:lnTo>
                    <a:pt x="6571" y="7719"/>
                  </a:lnTo>
                  <a:lnTo>
                    <a:pt x="6564" y="7727"/>
                  </a:lnTo>
                  <a:lnTo>
                    <a:pt x="6556" y="7735"/>
                  </a:lnTo>
                  <a:lnTo>
                    <a:pt x="6550" y="7744"/>
                  </a:lnTo>
                  <a:lnTo>
                    <a:pt x="6545" y="7753"/>
                  </a:lnTo>
                  <a:lnTo>
                    <a:pt x="6539" y="7763"/>
                  </a:lnTo>
                  <a:lnTo>
                    <a:pt x="6535" y="7774"/>
                  </a:lnTo>
                  <a:lnTo>
                    <a:pt x="6532" y="7783"/>
                  </a:lnTo>
                  <a:lnTo>
                    <a:pt x="6530" y="7791"/>
                  </a:lnTo>
                  <a:lnTo>
                    <a:pt x="6529" y="7799"/>
                  </a:lnTo>
                  <a:lnTo>
                    <a:pt x="6528" y="7807"/>
                  </a:lnTo>
                  <a:lnTo>
                    <a:pt x="6528" y="7816"/>
                  </a:lnTo>
                  <a:lnTo>
                    <a:pt x="6529" y="7823"/>
                  </a:lnTo>
                  <a:lnTo>
                    <a:pt x="6530" y="7831"/>
                  </a:lnTo>
                  <a:lnTo>
                    <a:pt x="6532" y="7838"/>
                  </a:lnTo>
                  <a:lnTo>
                    <a:pt x="6536" y="7851"/>
                  </a:lnTo>
                  <a:lnTo>
                    <a:pt x="6544" y="7866"/>
                  </a:lnTo>
                  <a:lnTo>
                    <a:pt x="6554" y="7884"/>
                  </a:lnTo>
                  <a:lnTo>
                    <a:pt x="6569" y="7906"/>
                  </a:lnTo>
                  <a:lnTo>
                    <a:pt x="6586" y="79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240" y="6534720"/>
              <a:ext cx="96480" cy="93960"/>
            </a:xfrm>
            <a:custGeom>
              <a:avLst/>
              <a:gdLst/>
              <a:ahLst/>
              <a:rect l="l" t="t" r="r" b="b"/>
              <a:pathLst>
                <a:path w="510" h="510">
                  <a:moveTo>
                    <a:pt x="255" y="510"/>
                  </a:moveTo>
                  <a:lnTo>
                    <a:pt x="268" y="509"/>
                  </a:lnTo>
                  <a:lnTo>
                    <a:pt x="280" y="509"/>
                  </a:lnTo>
                  <a:lnTo>
                    <a:pt x="294" y="507"/>
                  </a:lnTo>
                  <a:lnTo>
                    <a:pt x="306" y="505"/>
                  </a:lnTo>
                  <a:lnTo>
                    <a:pt x="318" y="502"/>
                  </a:lnTo>
                  <a:lnTo>
                    <a:pt x="330" y="499"/>
                  </a:lnTo>
                  <a:lnTo>
                    <a:pt x="342" y="494"/>
                  </a:lnTo>
                  <a:lnTo>
                    <a:pt x="353" y="489"/>
                  </a:lnTo>
                  <a:lnTo>
                    <a:pt x="365" y="484"/>
                  </a:lnTo>
                  <a:lnTo>
                    <a:pt x="376" y="479"/>
                  </a:lnTo>
                  <a:lnTo>
                    <a:pt x="386" y="473"/>
                  </a:lnTo>
                  <a:lnTo>
                    <a:pt x="397" y="466"/>
                  </a:lnTo>
                  <a:lnTo>
                    <a:pt x="407" y="459"/>
                  </a:lnTo>
                  <a:lnTo>
                    <a:pt x="416" y="451"/>
                  </a:lnTo>
                  <a:lnTo>
                    <a:pt x="425" y="443"/>
                  </a:lnTo>
                  <a:lnTo>
                    <a:pt x="435" y="435"/>
                  </a:lnTo>
                  <a:lnTo>
                    <a:pt x="443" y="427"/>
                  </a:lnTo>
                  <a:lnTo>
                    <a:pt x="451" y="417"/>
                  </a:lnTo>
                  <a:lnTo>
                    <a:pt x="458" y="407"/>
                  </a:lnTo>
                  <a:lnTo>
                    <a:pt x="465" y="397"/>
                  </a:lnTo>
                  <a:lnTo>
                    <a:pt x="473" y="386"/>
                  </a:lnTo>
                  <a:lnTo>
                    <a:pt x="479" y="376"/>
                  </a:lnTo>
                  <a:lnTo>
                    <a:pt x="484" y="365"/>
                  </a:lnTo>
                  <a:lnTo>
                    <a:pt x="489" y="354"/>
                  </a:lnTo>
                  <a:lnTo>
                    <a:pt x="494" y="342"/>
                  </a:lnTo>
                  <a:lnTo>
                    <a:pt x="498" y="331"/>
                  </a:lnTo>
                  <a:lnTo>
                    <a:pt x="501" y="319"/>
                  </a:lnTo>
                  <a:lnTo>
                    <a:pt x="504" y="306"/>
                  </a:lnTo>
                  <a:lnTo>
                    <a:pt x="507" y="294"/>
                  </a:lnTo>
                  <a:lnTo>
                    <a:pt x="508" y="281"/>
                  </a:lnTo>
                  <a:lnTo>
                    <a:pt x="509" y="268"/>
                  </a:lnTo>
                  <a:lnTo>
                    <a:pt x="510" y="255"/>
                  </a:lnTo>
                  <a:lnTo>
                    <a:pt x="509" y="242"/>
                  </a:lnTo>
                  <a:lnTo>
                    <a:pt x="508" y="229"/>
                  </a:lnTo>
                  <a:lnTo>
                    <a:pt x="507" y="216"/>
                  </a:lnTo>
                  <a:lnTo>
                    <a:pt x="504" y="203"/>
                  </a:lnTo>
                  <a:lnTo>
                    <a:pt x="501" y="191"/>
                  </a:lnTo>
                  <a:lnTo>
                    <a:pt x="498" y="180"/>
                  </a:lnTo>
                  <a:lnTo>
                    <a:pt x="494" y="167"/>
                  </a:lnTo>
                  <a:lnTo>
                    <a:pt x="489" y="156"/>
                  </a:lnTo>
                  <a:lnTo>
                    <a:pt x="484" y="145"/>
                  </a:lnTo>
                  <a:lnTo>
                    <a:pt x="479" y="134"/>
                  </a:lnTo>
                  <a:lnTo>
                    <a:pt x="473" y="123"/>
                  </a:lnTo>
                  <a:lnTo>
                    <a:pt x="465" y="113"/>
                  </a:lnTo>
                  <a:lnTo>
                    <a:pt x="458" y="103"/>
                  </a:lnTo>
                  <a:lnTo>
                    <a:pt x="451" y="93"/>
                  </a:lnTo>
                  <a:lnTo>
                    <a:pt x="443" y="84"/>
                  </a:lnTo>
                  <a:lnTo>
                    <a:pt x="435" y="75"/>
                  </a:lnTo>
                  <a:lnTo>
                    <a:pt x="425" y="67"/>
                  </a:lnTo>
                  <a:lnTo>
                    <a:pt x="416" y="59"/>
                  </a:lnTo>
                  <a:lnTo>
                    <a:pt x="407" y="51"/>
                  </a:lnTo>
                  <a:lnTo>
                    <a:pt x="397" y="44"/>
                  </a:lnTo>
                  <a:lnTo>
                    <a:pt x="386" y="37"/>
                  </a:lnTo>
                  <a:lnTo>
                    <a:pt x="376" y="31"/>
                  </a:lnTo>
                  <a:lnTo>
                    <a:pt x="365" y="26"/>
                  </a:lnTo>
                  <a:lnTo>
                    <a:pt x="353" y="20"/>
                  </a:lnTo>
                  <a:lnTo>
                    <a:pt x="342" y="15"/>
                  </a:lnTo>
                  <a:lnTo>
                    <a:pt x="330" y="12"/>
                  </a:lnTo>
                  <a:lnTo>
                    <a:pt x="318" y="8"/>
                  </a:lnTo>
                  <a:lnTo>
                    <a:pt x="306" y="5"/>
                  </a:lnTo>
                  <a:lnTo>
                    <a:pt x="294" y="3"/>
                  </a:lnTo>
                  <a:lnTo>
                    <a:pt x="280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9" y="2"/>
                  </a:lnTo>
                  <a:lnTo>
                    <a:pt x="216" y="3"/>
                  </a:lnTo>
                  <a:lnTo>
                    <a:pt x="203" y="5"/>
                  </a:lnTo>
                  <a:lnTo>
                    <a:pt x="191" y="8"/>
                  </a:lnTo>
                  <a:lnTo>
                    <a:pt x="179" y="12"/>
                  </a:lnTo>
                  <a:lnTo>
                    <a:pt x="167" y="15"/>
                  </a:lnTo>
                  <a:lnTo>
                    <a:pt x="156" y="20"/>
                  </a:lnTo>
                  <a:lnTo>
                    <a:pt x="145" y="26"/>
                  </a:lnTo>
                  <a:lnTo>
                    <a:pt x="134" y="31"/>
                  </a:lnTo>
                  <a:lnTo>
                    <a:pt x="123" y="37"/>
                  </a:lnTo>
                  <a:lnTo>
                    <a:pt x="113" y="44"/>
                  </a:lnTo>
                  <a:lnTo>
                    <a:pt x="103" y="51"/>
                  </a:lnTo>
                  <a:lnTo>
                    <a:pt x="93" y="59"/>
                  </a:lnTo>
                  <a:lnTo>
                    <a:pt x="84" y="67"/>
                  </a:lnTo>
                  <a:lnTo>
                    <a:pt x="75" y="75"/>
                  </a:lnTo>
                  <a:lnTo>
                    <a:pt x="67" y="84"/>
                  </a:lnTo>
                  <a:lnTo>
                    <a:pt x="58" y="93"/>
                  </a:lnTo>
                  <a:lnTo>
                    <a:pt x="51" y="103"/>
                  </a:lnTo>
                  <a:lnTo>
                    <a:pt x="44" y="113"/>
                  </a:lnTo>
                  <a:lnTo>
                    <a:pt x="37" y="123"/>
                  </a:lnTo>
                  <a:lnTo>
                    <a:pt x="31" y="134"/>
                  </a:lnTo>
                  <a:lnTo>
                    <a:pt x="26" y="145"/>
                  </a:lnTo>
                  <a:lnTo>
                    <a:pt x="20" y="156"/>
                  </a:lnTo>
                  <a:lnTo>
                    <a:pt x="15" y="167"/>
                  </a:lnTo>
                  <a:lnTo>
                    <a:pt x="11" y="180"/>
                  </a:lnTo>
                  <a:lnTo>
                    <a:pt x="8" y="191"/>
                  </a:lnTo>
                  <a:lnTo>
                    <a:pt x="5" y="203"/>
                  </a:lnTo>
                  <a:lnTo>
                    <a:pt x="3" y="216"/>
                  </a:lnTo>
                  <a:lnTo>
                    <a:pt x="2" y="229"/>
                  </a:lnTo>
                  <a:lnTo>
                    <a:pt x="1" y="242"/>
                  </a:lnTo>
                  <a:lnTo>
                    <a:pt x="0" y="255"/>
                  </a:lnTo>
                  <a:lnTo>
                    <a:pt x="1" y="268"/>
                  </a:lnTo>
                  <a:lnTo>
                    <a:pt x="2" y="281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8" y="319"/>
                  </a:lnTo>
                  <a:lnTo>
                    <a:pt x="11" y="331"/>
                  </a:lnTo>
                  <a:lnTo>
                    <a:pt x="15" y="342"/>
                  </a:lnTo>
                  <a:lnTo>
                    <a:pt x="20" y="354"/>
                  </a:lnTo>
                  <a:lnTo>
                    <a:pt x="26" y="365"/>
                  </a:lnTo>
                  <a:lnTo>
                    <a:pt x="31" y="376"/>
                  </a:lnTo>
                  <a:lnTo>
                    <a:pt x="37" y="386"/>
                  </a:lnTo>
                  <a:lnTo>
                    <a:pt x="44" y="397"/>
                  </a:lnTo>
                  <a:lnTo>
                    <a:pt x="51" y="407"/>
                  </a:lnTo>
                  <a:lnTo>
                    <a:pt x="58" y="417"/>
                  </a:lnTo>
                  <a:lnTo>
                    <a:pt x="67" y="427"/>
                  </a:lnTo>
                  <a:lnTo>
                    <a:pt x="75" y="435"/>
                  </a:lnTo>
                  <a:lnTo>
                    <a:pt x="84" y="443"/>
                  </a:lnTo>
                  <a:lnTo>
                    <a:pt x="93" y="451"/>
                  </a:lnTo>
                  <a:lnTo>
                    <a:pt x="103" y="459"/>
                  </a:lnTo>
                  <a:lnTo>
                    <a:pt x="113" y="466"/>
                  </a:lnTo>
                  <a:lnTo>
                    <a:pt x="123" y="473"/>
                  </a:lnTo>
                  <a:lnTo>
                    <a:pt x="134" y="479"/>
                  </a:lnTo>
                  <a:lnTo>
                    <a:pt x="145" y="484"/>
                  </a:lnTo>
                  <a:lnTo>
                    <a:pt x="156" y="489"/>
                  </a:lnTo>
                  <a:lnTo>
                    <a:pt x="167" y="494"/>
                  </a:lnTo>
                  <a:lnTo>
                    <a:pt x="179" y="499"/>
                  </a:lnTo>
                  <a:lnTo>
                    <a:pt x="191" y="502"/>
                  </a:lnTo>
                  <a:lnTo>
                    <a:pt x="203" y="505"/>
                  </a:lnTo>
                  <a:lnTo>
                    <a:pt x="216" y="507"/>
                  </a:lnTo>
                  <a:lnTo>
                    <a:pt x="229" y="509"/>
                  </a:lnTo>
                  <a:lnTo>
                    <a:pt x="241" y="509"/>
                  </a:lnTo>
                  <a:lnTo>
                    <a:pt x="255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4800" y="5190480"/>
              <a:ext cx="528840" cy="746280"/>
            </a:xfrm>
            <a:custGeom>
              <a:avLst/>
              <a:gdLst/>
              <a:ahLst/>
              <a:rect l="l" t="t" r="r" b="b"/>
              <a:pathLst>
                <a:path w="2803" h="3917">
                  <a:moveTo>
                    <a:pt x="919" y="3789"/>
                  </a:moveTo>
                  <a:lnTo>
                    <a:pt x="878" y="3779"/>
                  </a:lnTo>
                  <a:lnTo>
                    <a:pt x="839" y="3766"/>
                  </a:lnTo>
                  <a:lnTo>
                    <a:pt x="803" y="3751"/>
                  </a:lnTo>
                  <a:lnTo>
                    <a:pt x="770" y="3735"/>
                  </a:lnTo>
                  <a:lnTo>
                    <a:pt x="739" y="3717"/>
                  </a:lnTo>
                  <a:lnTo>
                    <a:pt x="710" y="3697"/>
                  </a:lnTo>
                  <a:lnTo>
                    <a:pt x="685" y="3676"/>
                  </a:lnTo>
                  <a:lnTo>
                    <a:pt x="661" y="3652"/>
                  </a:lnTo>
                  <a:lnTo>
                    <a:pt x="639" y="3628"/>
                  </a:lnTo>
                  <a:lnTo>
                    <a:pt x="620" y="3602"/>
                  </a:lnTo>
                  <a:lnTo>
                    <a:pt x="602" y="3575"/>
                  </a:lnTo>
                  <a:lnTo>
                    <a:pt x="587" y="3547"/>
                  </a:lnTo>
                  <a:lnTo>
                    <a:pt x="574" y="3518"/>
                  </a:lnTo>
                  <a:lnTo>
                    <a:pt x="562" y="3487"/>
                  </a:lnTo>
                  <a:lnTo>
                    <a:pt x="552" y="3455"/>
                  </a:lnTo>
                  <a:lnTo>
                    <a:pt x="544" y="3422"/>
                  </a:lnTo>
                  <a:lnTo>
                    <a:pt x="537" y="3388"/>
                  </a:lnTo>
                  <a:lnTo>
                    <a:pt x="531" y="3353"/>
                  </a:lnTo>
                  <a:lnTo>
                    <a:pt x="526" y="3318"/>
                  </a:lnTo>
                  <a:lnTo>
                    <a:pt x="523" y="3282"/>
                  </a:lnTo>
                  <a:lnTo>
                    <a:pt x="521" y="3245"/>
                  </a:lnTo>
                  <a:lnTo>
                    <a:pt x="520" y="3208"/>
                  </a:lnTo>
                  <a:lnTo>
                    <a:pt x="521" y="3170"/>
                  </a:lnTo>
                  <a:lnTo>
                    <a:pt x="522" y="3132"/>
                  </a:lnTo>
                  <a:lnTo>
                    <a:pt x="523" y="3093"/>
                  </a:lnTo>
                  <a:lnTo>
                    <a:pt x="526" y="3054"/>
                  </a:lnTo>
                  <a:lnTo>
                    <a:pt x="530" y="3015"/>
                  </a:lnTo>
                  <a:lnTo>
                    <a:pt x="533" y="2976"/>
                  </a:lnTo>
                  <a:lnTo>
                    <a:pt x="542" y="2897"/>
                  </a:lnTo>
                  <a:lnTo>
                    <a:pt x="551" y="2818"/>
                  </a:lnTo>
                  <a:lnTo>
                    <a:pt x="557" y="2772"/>
                  </a:lnTo>
                  <a:lnTo>
                    <a:pt x="566" y="2727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599" y="2589"/>
                  </a:lnTo>
                  <a:lnTo>
                    <a:pt x="614" y="2544"/>
                  </a:lnTo>
                  <a:lnTo>
                    <a:pt x="629" y="2498"/>
                  </a:lnTo>
                  <a:lnTo>
                    <a:pt x="647" y="2453"/>
                  </a:lnTo>
                  <a:lnTo>
                    <a:pt x="665" y="2408"/>
                  </a:lnTo>
                  <a:lnTo>
                    <a:pt x="685" y="2363"/>
                  </a:lnTo>
                  <a:lnTo>
                    <a:pt x="706" y="2319"/>
                  </a:lnTo>
                  <a:lnTo>
                    <a:pt x="729" y="2276"/>
                  </a:lnTo>
                  <a:lnTo>
                    <a:pt x="753" y="2233"/>
                  </a:lnTo>
                  <a:lnTo>
                    <a:pt x="777" y="2191"/>
                  </a:lnTo>
                  <a:lnTo>
                    <a:pt x="803" y="2150"/>
                  </a:lnTo>
                  <a:lnTo>
                    <a:pt x="831" y="2109"/>
                  </a:lnTo>
                  <a:lnTo>
                    <a:pt x="858" y="2070"/>
                  </a:lnTo>
                  <a:lnTo>
                    <a:pt x="887" y="2032"/>
                  </a:lnTo>
                  <a:lnTo>
                    <a:pt x="917" y="1995"/>
                  </a:lnTo>
                  <a:lnTo>
                    <a:pt x="948" y="1959"/>
                  </a:lnTo>
                  <a:lnTo>
                    <a:pt x="980" y="1925"/>
                  </a:lnTo>
                  <a:lnTo>
                    <a:pt x="1012" y="1893"/>
                  </a:lnTo>
                  <a:lnTo>
                    <a:pt x="1046" y="1862"/>
                  </a:lnTo>
                  <a:lnTo>
                    <a:pt x="1080" y="1832"/>
                  </a:lnTo>
                  <a:lnTo>
                    <a:pt x="1116" y="1804"/>
                  </a:lnTo>
                  <a:lnTo>
                    <a:pt x="1151" y="1778"/>
                  </a:lnTo>
                  <a:lnTo>
                    <a:pt x="1188" y="1754"/>
                  </a:lnTo>
                  <a:lnTo>
                    <a:pt x="1225" y="1732"/>
                  </a:lnTo>
                  <a:lnTo>
                    <a:pt x="1262" y="1712"/>
                  </a:lnTo>
                  <a:lnTo>
                    <a:pt x="1300" y="1694"/>
                  </a:lnTo>
                  <a:lnTo>
                    <a:pt x="1339" y="1679"/>
                  </a:lnTo>
                  <a:lnTo>
                    <a:pt x="1378" y="1665"/>
                  </a:lnTo>
                  <a:lnTo>
                    <a:pt x="1390" y="1679"/>
                  </a:lnTo>
                  <a:lnTo>
                    <a:pt x="1401" y="1692"/>
                  </a:lnTo>
                  <a:lnTo>
                    <a:pt x="1412" y="1705"/>
                  </a:lnTo>
                  <a:lnTo>
                    <a:pt x="1425" y="1718"/>
                  </a:lnTo>
                  <a:lnTo>
                    <a:pt x="1449" y="1741"/>
                  </a:lnTo>
                  <a:lnTo>
                    <a:pt x="1475" y="1763"/>
                  </a:lnTo>
                  <a:lnTo>
                    <a:pt x="1502" y="1784"/>
                  </a:lnTo>
                  <a:lnTo>
                    <a:pt x="1529" y="1803"/>
                  </a:lnTo>
                  <a:lnTo>
                    <a:pt x="1556" y="1821"/>
                  </a:lnTo>
                  <a:lnTo>
                    <a:pt x="1584" y="1837"/>
                  </a:lnTo>
                  <a:lnTo>
                    <a:pt x="1612" y="1852"/>
                  </a:lnTo>
                  <a:lnTo>
                    <a:pt x="1638" y="1866"/>
                  </a:lnTo>
                  <a:lnTo>
                    <a:pt x="1664" y="1878"/>
                  </a:lnTo>
                  <a:lnTo>
                    <a:pt x="1690" y="1889"/>
                  </a:lnTo>
                  <a:lnTo>
                    <a:pt x="1735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3" y="1940"/>
                  </a:lnTo>
                  <a:lnTo>
                    <a:pt x="1848" y="1947"/>
                  </a:lnTo>
                  <a:lnTo>
                    <a:pt x="1872" y="1954"/>
                  </a:lnTo>
                  <a:lnTo>
                    <a:pt x="1896" y="1959"/>
                  </a:lnTo>
                  <a:lnTo>
                    <a:pt x="1919" y="1964"/>
                  </a:lnTo>
                  <a:lnTo>
                    <a:pt x="1942" y="1970"/>
                  </a:lnTo>
                  <a:lnTo>
                    <a:pt x="1965" y="1973"/>
                  </a:lnTo>
                  <a:lnTo>
                    <a:pt x="1988" y="1976"/>
                  </a:lnTo>
                  <a:lnTo>
                    <a:pt x="2009" y="1978"/>
                  </a:lnTo>
                  <a:lnTo>
                    <a:pt x="2031" y="1979"/>
                  </a:lnTo>
                  <a:lnTo>
                    <a:pt x="2051" y="1980"/>
                  </a:lnTo>
                  <a:lnTo>
                    <a:pt x="2071" y="1980"/>
                  </a:lnTo>
                  <a:lnTo>
                    <a:pt x="2091" y="1980"/>
                  </a:lnTo>
                  <a:lnTo>
                    <a:pt x="2110" y="1978"/>
                  </a:lnTo>
                  <a:lnTo>
                    <a:pt x="2128" y="1976"/>
                  </a:lnTo>
                  <a:lnTo>
                    <a:pt x="2146" y="1974"/>
                  </a:lnTo>
                  <a:lnTo>
                    <a:pt x="2163" y="1971"/>
                  </a:lnTo>
                  <a:lnTo>
                    <a:pt x="2180" y="1967"/>
                  </a:lnTo>
                  <a:lnTo>
                    <a:pt x="2195" y="1961"/>
                  </a:lnTo>
                  <a:lnTo>
                    <a:pt x="2211" y="1956"/>
                  </a:lnTo>
                  <a:lnTo>
                    <a:pt x="2225" y="1951"/>
                  </a:lnTo>
                  <a:lnTo>
                    <a:pt x="2237" y="1944"/>
                  </a:lnTo>
                  <a:lnTo>
                    <a:pt x="2251" y="1938"/>
                  </a:lnTo>
                  <a:lnTo>
                    <a:pt x="2262" y="1930"/>
                  </a:lnTo>
                  <a:lnTo>
                    <a:pt x="2272" y="1921"/>
                  </a:lnTo>
                  <a:lnTo>
                    <a:pt x="2283" y="1913"/>
                  </a:lnTo>
                  <a:lnTo>
                    <a:pt x="2291" y="1904"/>
                  </a:lnTo>
                  <a:lnTo>
                    <a:pt x="2299" y="1894"/>
                  </a:lnTo>
                  <a:lnTo>
                    <a:pt x="2306" y="1883"/>
                  </a:lnTo>
                  <a:lnTo>
                    <a:pt x="2311" y="1872"/>
                  </a:lnTo>
                  <a:lnTo>
                    <a:pt x="2316" y="1861"/>
                  </a:lnTo>
                  <a:lnTo>
                    <a:pt x="2320" y="1851"/>
                  </a:lnTo>
                  <a:lnTo>
                    <a:pt x="2322" y="1842"/>
                  </a:lnTo>
                  <a:lnTo>
                    <a:pt x="2323" y="1833"/>
                  </a:lnTo>
                  <a:lnTo>
                    <a:pt x="2324" y="1824"/>
                  </a:lnTo>
                  <a:lnTo>
                    <a:pt x="2324" y="1814"/>
                  </a:lnTo>
                  <a:lnTo>
                    <a:pt x="2324" y="1805"/>
                  </a:lnTo>
                  <a:lnTo>
                    <a:pt x="2323" y="1795"/>
                  </a:lnTo>
                  <a:lnTo>
                    <a:pt x="2321" y="1785"/>
                  </a:lnTo>
                  <a:lnTo>
                    <a:pt x="2319" y="1775"/>
                  </a:lnTo>
                  <a:lnTo>
                    <a:pt x="2315" y="1765"/>
                  </a:lnTo>
                  <a:lnTo>
                    <a:pt x="2312" y="1756"/>
                  </a:lnTo>
                  <a:lnTo>
                    <a:pt x="2307" y="1746"/>
                  </a:lnTo>
                  <a:lnTo>
                    <a:pt x="2303" y="1735"/>
                  </a:lnTo>
                  <a:lnTo>
                    <a:pt x="2297" y="1726"/>
                  </a:lnTo>
                  <a:lnTo>
                    <a:pt x="2291" y="1716"/>
                  </a:lnTo>
                  <a:lnTo>
                    <a:pt x="2285" y="1705"/>
                  </a:lnTo>
                  <a:lnTo>
                    <a:pt x="2276" y="1696"/>
                  </a:lnTo>
                  <a:lnTo>
                    <a:pt x="2269" y="1687"/>
                  </a:lnTo>
                  <a:lnTo>
                    <a:pt x="2260" y="1677"/>
                  </a:lnTo>
                  <a:lnTo>
                    <a:pt x="2251" y="1667"/>
                  </a:lnTo>
                  <a:lnTo>
                    <a:pt x="2240" y="1658"/>
                  </a:lnTo>
                  <a:lnTo>
                    <a:pt x="2230" y="1649"/>
                  </a:lnTo>
                  <a:lnTo>
                    <a:pt x="2219" y="1641"/>
                  </a:lnTo>
                  <a:lnTo>
                    <a:pt x="2208" y="1631"/>
                  </a:lnTo>
                  <a:lnTo>
                    <a:pt x="2194" y="1623"/>
                  </a:lnTo>
                  <a:lnTo>
                    <a:pt x="2182" y="1615"/>
                  </a:lnTo>
                  <a:lnTo>
                    <a:pt x="2167" y="1607"/>
                  </a:lnTo>
                  <a:lnTo>
                    <a:pt x="2153" y="1599"/>
                  </a:lnTo>
                  <a:lnTo>
                    <a:pt x="2139" y="1591"/>
                  </a:lnTo>
                  <a:lnTo>
                    <a:pt x="2122" y="1584"/>
                  </a:lnTo>
                  <a:lnTo>
                    <a:pt x="2106" y="1577"/>
                  </a:lnTo>
                  <a:lnTo>
                    <a:pt x="2089" y="1571"/>
                  </a:lnTo>
                  <a:lnTo>
                    <a:pt x="2060" y="1560"/>
                  </a:lnTo>
                  <a:lnTo>
                    <a:pt x="2030" y="1551"/>
                  </a:lnTo>
                  <a:lnTo>
                    <a:pt x="1998" y="1544"/>
                  </a:lnTo>
                  <a:lnTo>
                    <a:pt x="1965" y="1537"/>
                  </a:lnTo>
                  <a:lnTo>
                    <a:pt x="1932" y="1530"/>
                  </a:lnTo>
                  <a:lnTo>
                    <a:pt x="1899" y="1524"/>
                  </a:lnTo>
                  <a:lnTo>
                    <a:pt x="1865" y="1519"/>
                  </a:lnTo>
                  <a:lnTo>
                    <a:pt x="1831" y="1515"/>
                  </a:lnTo>
                  <a:lnTo>
                    <a:pt x="1765" y="1508"/>
                  </a:lnTo>
                  <a:lnTo>
                    <a:pt x="1699" y="1503"/>
                  </a:lnTo>
                  <a:lnTo>
                    <a:pt x="1637" y="1499"/>
                  </a:lnTo>
                  <a:lnTo>
                    <a:pt x="1581" y="1496"/>
                  </a:lnTo>
                  <a:lnTo>
                    <a:pt x="1587" y="1449"/>
                  </a:lnTo>
                  <a:lnTo>
                    <a:pt x="1589" y="1427"/>
                  </a:lnTo>
                  <a:lnTo>
                    <a:pt x="1589" y="1422"/>
                  </a:lnTo>
                  <a:lnTo>
                    <a:pt x="1589" y="1421"/>
                  </a:lnTo>
                  <a:lnTo>
                    <a:pt x="1588" y="1422"/>
                  </a:lnTo>
                  <a:lnTo>
                    <a:pt x="1587" y="1425"/>
                  </a:lnTo>
                  <a:lnTo>
                    <a:pt x="1587" y="1430"/>
                  </a:lnTo>
                  <a:lnTo>
                    <a:pt x="1587" y="1435"/>
                  </a:lnTo>
                  <a:lnTo>
                    <a:pt x="1588" y="1440"/>
                  </a:lnTo>
                  <a:lnTo>
                    <a:pt x="1589" y="1444"/>
                  </a:lnTo>
                  <a:lnTo>
                    <a:pt x="1590" y="1445"/>
                  </a:lnTo>
                  <a:lnTo>
                    <a:pt x="1592" y="1446"/>
                  </a:lnTo>
                  <a:lnTo>
                    <a:pt x="1593" y="1446"/>
                  </a:lnTo>
                  <a:lnTo>
                    <a:pt x="1595" y="1445"/>
                  </a:lnTo>
                  <a:lnTo>
                    <a:pt x="1601" y="1442"/>
                  </a:lnTo>
                  <a:lnTo>
                    <a:pt x="1607" y="1434"/>
                  </a:lnTo>
                  <a:lnTo>
                    <a:pt x="1656" y="1429"/>
                  </a:lnTo>
                  <a:lnTo>
                    <a:pt x="1704" y="1421"/>
                  </a:lnTo>
                  <a:lnTo>
                    <a:pt x="1753" y="1411"/>
                  </a:lnTo>
                  <a:lnTo>
                    <a:pt x="1802" y="1400"/>
                  </a:lnTo>
                  <a:lnTo>
                    <a:pt x="1851" y="1387"/>
                  </a:lnTo>
                  <a:lnTo>
                    <a:pt x="1900" y="1371"/>
                  </a:lnTo>
                  <a:lnTo>
                    <a:pt x="1950" y="1355"/>
                  </a:lnTo>
                  <a:lnTo>
                    <a:pt x="1999" y="1336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4" y="1274"/>
                  </a:lnTo>
                  <a:lnTo>
                    <a:pt x="2191" y="1250"/>
                  </a:lnTo>
                  <a:lnTo>
                    <a:pt x="2237" y="1224"/>
                  </a:lnTo>
                  <a:lnTo>
                    <a:pt x="2283" y="1198"/>
                  </a:lnTo>
                  <a:lnTo>
                    <a:pt x="2327" y="1171"/>
                  </a:lnTo>
                  <a:lnTo>
                    <a:pt x="2370" y="1142"/>
                  </a:lnTo>
                  <a:lnTo>
                    <a:pt x="2412" y="1112"/>
                  </a:lnTo>
                  <a:lnTo>
                    <a:pt x="2452" y="1081"/>
                  </a:lnTo>
                  <a:lnTo>
                    <a:pt x="2491" y="1051"/>
                  </a:lnTo>
                  <a:lnTo>
                    <a:pt x="2528" y="1018"/>
                  </a:lnTo>
                  <a:lnTo>
                    <a:pt x="2564" y="985"/>
                  </a:lnTo>
                  <a:lnTo>
                    <a:pt x="2597" y="951"/>
                  </a:lnTo>
                  <a:lnTo>
                    <a:pt x="2629" y="917"/>
                  </a:lnTo>
                  <a:lnTo>
                    <a:pt x="2659" y="882"/>
                  </a:lnTo>
                  <a:lnTo>
                    <a:pt x="2685" y="846"/>
                  </a:lnTo>
                  <a:lnTo>
                    <a:pt x="2710" y="810"/>
                  </a:lnTo>
                  <a:lnTo>
                    <a:pt x="2732" y="773"/>
                  </a:lnTo>
                  <a:lnTo>
                    <a:pt x="2751" y="737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2" y="625"/>
                  </a:lnTo>
                  <a:lnTo>
                    <a:pt x="2799" y="587"/>
                  </a:lnTo>
                  <a:lnTo>
                    <a:pt x="2801" y="568"/>
                  </a:lnTo>
                  <a:lnTo>
                    <a:pt x="2803" y="551"/>
                  </a:lnTo>
                  <a:lnTo>
                    <a:pt x="2801" y="535"/>
                  </a:lnTo>
                  <a:lnTo>
                    <a:pt x="2799" y="519"/>
                  </a:lnTo>
                  <a:lnTo>
                    <a:pt x="2796" y="505"/>
                  </a:lnTo>
                  <a:lnTo>
                    <a:pt x="2791" y="490"/>
                  </a:lnTo>
                  <a:lnTo>
                    <a:pt x="2785" y="477"/>
                  </a:lnTo>
                  <a:lnTo>
                    <a:pt x="2779" y="464"/>
                  </a:lnTo>
                  <a:lnTo>
                    <a:pt x="2771" y="451"/>
                  </a:lnTo>
                  <a:lnTo>
                    <a:pt x="2761" y="440"/>
                  </a:lnTo>
                  <a:lnTo>
                    <a:pt x="2752" y="429"/>
                  </a:lnTo>
                  <a:lnTo>
                    <a:pt x="2742" y="417"/>
                  </a:lnTo>
                  <a:lnTo>
                    <a:pt x="2731" y="406"/>
                  </a:lnTo>
                  <a:lnTo>
                    <a:pt x="2718" y="396"/>
                  </a:lnTo>
                  <a:lnTo>
                    <a:pt x="2706" y="386"/>
                  </a:lnTo>
                  <a:lnTo>
                    <a:pt x="2693" y="376"/>
                  </a:lnTo>
                  <a:lnTo>
                    <a:pt x="2666" y="359"/>
                  </a:lnTo>
                  <a:lnTo>
                    <a:pt x="2635" y="342"/>
                  </a:lnTo>
                  <a:lnTo>
                    <a:pt x="2600" y="327"/>
                  </a:lnTo>
                  <a:lnTo>
                    <a:pt x="2560" y="312"/>
                  </a:lnTo>
                  <a:lnTo>
                    <a:pt x="2517" y="299"/>
                  </a:lnTo>
                  <a:lnTo>
                    <a:pt x="2471" y="287"/>
                  </a:lnTo>
                  <a:lnTo>
                    <a:pt x="2420" y="278"/>
                  </a:lnTo>
                  <a:lnTo>
                    <a:pt x="2369" y="269"/>
                  </a:lnTo>
                  <a:lnTo>
                    <a:pt x="2313" y="263"/>
                  </a:lnTo>
                  <a:lnTo>
                    <a:pt x="2257" y="259"/>
                  </a:lnTo>
                  <a:lnTo>
                    <a:pt x="2199" y="258"/>
                  </a:lnTo>
                  <a:lnTo>
                    <a:pt x="2140" y="259"/>
                  </a:lnTo>
                  <a:lnTo>
                    <a:pt x="2079" y="263"/>
                  </a:lnTo>
                  <a:lnTo>
                    <a:pt x="2018" y="269"/>
                  </a:lnTo>
                  <a:lnTo>
                    <a:pt x="1957" y="280"/>
                  </a:lnTo>
                  <a:lnTo>
                    <a:pt x="1896" y="293"/>
                  </a:lnTo>
                  <a:lnTo>
                    <a:pt x="1835" y="309"/>
                  </a:lnTo>
                  <a:lnTo>
                    <a:pt x="1775" y="331"/>
                  </a:lnTo>
                  <a:lnTo>
                    <a:pt x="1716" y="355"/>
                  </a:lnTo>
                  <a:lnTo>
                    <a:pt x="1659" y="383"/>
                  </a:lnTo>
                  <a:lnTo>
                    <a:pt x="1603" y="416"/>
                  </a:lnTo>
                  <a:lnTo>
                    <a:pt x="1550" y="453"/>
                  </a:lnTo>
                  <a:lnTo>
                    <a:pt x="1499" y="495"/>
                  </a:lnTo>
                  <a:lnTo>
                    <a:pt x="1450" y="542"/>
                  </a:lnTo>
                  <a:lnTo>
                    <a:pt x="1405" y="593"/>
                  </a:lnTo>
                  <a:lnTo>
                    <a:pt x="1364" y="651"/>
                  </a:lnTo>
                  <a:lnTo>
                    <a:pt x="1326" y="712"/>
                  </a:lnTo>
                  <a:lnTo>
                    <a:pt x="1293" y="780"/>
                  </a:lnTo>
                  <a:lnTo>
                    <a:pt x="1264" y="853"/>
                  </a:lnTo>
                  <a:lnTo>
                    <a:pt x="1240" y="933"/>
                  </a:lnTo>
                  <a:lnTo>
                    <a:pt x="1221" y="1019"/>
                  </a:lnTo>
                  <a:lnTo>
                    <a:pt x="1208" y="1110"/>
                  </a:lnTo>
                  <a:lnTo>
                    <a:pt x="1214" y="1381"/>
                  </a:lnTo>
                  <a:lnTo>
                    <a:pt x="1204" y="1379"/>
                  </a:lnTo>
                  <a:lnTo>
                    <a:pt x="1190" y="1377"/>
                  </a:lnTo>
                  <a:lnTo>
                    <a:pt x="1173" y="1377"/>
                  </a:lnTo>
                  <a:lnTo>
                    <a:pt x="1153" y="1376"/>
                  </a:lnTo>
                  <a:lnTo>
                    <a:pt x="1106" y="1376"/>
                  </a:lnTo>
                  <a:lnTo>
                    <a:pt x="1053" y="1376"/>
                  </a:lnTo>
                  <a:lnTo>
                    <a:pt x="997" y="1376"/>
                  </a:lnTo>
                  <a:lnTo>
                    <a:pt x="943" y="1374"/>
                  </a:lnTo>
                  <a:lnTo>
                    <a:pt x="917" y="1372"/>
                  </a:lnTo>
                  <a:lnTo>
                    <a:pt x="893" y="1370"/>
                  </a:lnTo>
                  <a:lnTo>
                    <a:pt x="872" y="1367"/>
                  </a:lnTo>
                  <a:lnTo>
                    <a:pt x="853" y="1364"/>
                  </a:lnTo>
                  <a:lnTo>
                    <a:pt x="798" y="1351"/>
                  </a:lnTo>
                  <a:lnTo>
                    <a:pt x="744" y="1336"/>
                  </a:lnTo>
                  <a:lnTo>
                    <a:pt x="693" y="1321"/>
                  </a:lnTo>
                  <a:lnTo>
                    <a:pt x="644" y="1304"/>
                  </a:lnTo>
                  <a:lnTo>
                    <a:pt x="620" y="1296"/>
                  </a:lnTo>
                  <a:lnTo>
                    <a:pt x="597" y="1287"/>
                  </a:lnTo>
                  <a:lnTo>
                    <a:pt x="575" y="1278"/>
                  </a:lnTo>
                  <a:lnTo>
                    <a:pt x="553" y="1269"/>
                  </a:lnTo>
                  <a:lnTo>
                    <a:pt x="532" y="1258"/>
                  </a:lnTo>
                  <a:lnTo>
                    <a:pt x="512" y="1248"/>
                  </a:lnTo>
                  <a:lnTo>
                    <a:pt x="492" y="1237"/>
                  </a:lnTo>
                  <a:lnTo>
                    <a:pt x="473" y="1225"/>
                  </a:lnTo>
                  <a:lnTo>
                    <a:pt x="456" y="1213"/>
                  </a:lnTo>
                  <a:lnTo>
                    <a:pt x="438" y="1200"/>
                  </a:lnTo>
                  <a:lnTo>
                    <a:pt x="422" y="1187"/>
                  </a:lnTo>
                  <a:lnTo>
                    <a:pt x="406" y="1173"/>
                  </a:lnTo>
                  <a:lnTo>
                    <a:pt x="391" y="1159"/>
                  </a:lnTo>
                  <a:lnTo>
                    <a:pt x="377" y="1144"/>
                  </a:lnTo>
                  <a:lnTo>
                    <a:pt x="365" y="1128"/>
                  </a:lnTo>
                  <a:lnTo>
                    <a:pt x="353" y="1111"/>
                  </a:lnTo>
                  <a:lnTo>
                    <a:pt x="343" y="1095"/>
                  </a:lnTo>
                  <a:lnTo>
                    <a:pt x="332" y="1076"/>
                  </a:lnTo>
                  <a:lnTo>
                    <a:pt x="323" y="1058"/>
                  </a:lnTo>
                  <a:lnTo>
                    <a:pt x="316" y="1038"/>
                  </a:lnTo>
                  <a:lnTo>
                    <a:pt x="309" y="1019"/>
                  </a:lnTo>
                  <a:lnTo>
                    <a:pt x="303" y="997"/>
                  </a:lnTo>
                  <a:lnTo>
                    <a:pt x="299" y="976"/>
                  </a:lnTo>
                  <a:lnTo>
                    <a:pt x="295" y="953"/>
                  </a:lnTo>
                  <a:lnTo>
                    <a:pt x="291" y="887"/>
                  </a:lnTo>
                  <a:lnTo>
                    <a:pt x="292" y="824"/>
                  </a:lnTo>
                  <a:lnTo>
                    <a:pt x="298" y="765"/>
                  </a:lnTo>
                  <a:lnTo>
                    <a:pt x="310" y="708"/>
                  </a:lnTo>
                  <a:lnTo>
                    <a:pt x="325" y="655"/>
                  </a:lnTo>
                  <a:lnTo>
                    <a:pt x="346" y="604"/>
                  </a:lnTo>
                  <a:lnTo>
                    <a:pt x="370" y="557"/>
                  </a:lnTo>
                  <a:lnTo>
                    <a:pt x="399" y="512"/>
                  </a:lnTo>
                  <a:lnTo>
                    <a:pt x="431" y="470"/>
                  </a:lnTo>
                  <a:lnTo>
                    <a:pt x="466" y="430"/>
                  </a:lnTo>
                  <a:lnTo>
                    <a:pt x="503" y="393"/>
                  </a:lnTo>
                  <a:lnTo>
                    <a:pt x="543" y="359"/>
                  </a:lnTo>
                  <a:lnTo>
                    <a:pt x="584" y="326"/>
                  </a:lnTo>
                  <a:lnTo>
                    <a:pt x="628" y="296"/>
                  </a:lnTo>
                  <a:lnTo>
                    <a:pt x="672" y="269"/>
                  </a:lnTo>
                  <a:lnTo>
                    <a:pt x="719" y="244"/>
                  </a:lnTo>
                  <a:lnTo>
                    <a:pt x="765" y="221"/>
                  </a:lnTo>
                  <a:lnTo>
                    <a:pt x="812" y="200"/>
                  </a:lnTo>
                  <a:lnTo>
                    <a:pt x="859" y="182"/>
                  </a:lnTo>
                  <a:lnTo>
                    <a:pt x="906" y="165"/>
                  </a:lnTo>
                  <a:lnTo>
                    <a:pt x="952" y="151"/>
                  </a:lnTo>
                  <a:lnTo>
                    <a:pt x="996" y="138"/>
                  </a:lnTo>
                  <a:lnTo>
                    <a:pt x="1040" y="127"/>
                  </a:lnTo>
                  <a:lnTo>
                    <a:pt x="1081" y="118"/>
                  </a:lnTo>
                  <a:lnTo>
                    <a:pt x="1121" y="111"/>
                  </a:lnTo>
                  <a:lnTo>
                    <a:pt x="1158" y="105"/>
                  </a:lnTo>
                  <a:lnTo>
                    <a:pt x="1193" y="101"/>
                  </a:lnTo>
                  <a:lnTo>
                    <a:pt x="1225" y="98"/>
                  </a:lnTo>
                  <a:lnTo>
                    <a:pt x="1253" y="97"/>
                  </a:lnTo>
                  <a:lnTo>
                    <a:pt x="1278" y="98"/>
                  </a:lnTo>
                  <a:lnTo>
                    <a:pt x="1298" y="99"/>
                  </a:lnTo>
                  <a:lnTo>
                    <a:pt x="1315" y="102"/>
                  </a:lnTo>
                  <a:lnTo>
                    <a:pt x="1330" y="39"/>
                  </a:lnTo>
                  <a:lnTo>
                    <a:pt x="1253" y="21"/>
                  </a:lnTo>
                  <a:lnTo>
                    <a:pt x="1206" y="10"/>
                  </a:lnTo>
                  <a:lnTo>
                    <a:pt x="1158" y="4"/>
                  </a:lnTo>
                  <a:lnTo>
                    <a:pt x="1111" y="0"/>
                  </a:lnTo>
                  <a:lnTo>
                    <a:pt x="1063" y="0"/>
                  </a:lnTo>
                  <a:lnTo>
                    <a:pt x="1015" y="2"/>
                  </a:lnTo>
                  <a:lnTo>
                    <a:pt x="966" y="8"/>
                  </a:lnTo>
                  <a:lnTo>
                    <a:pt x="918" y="16"/>
                  </a:lnTo>
                  <a:lnTo>
                    <a:pt x="870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8" y="78"/>
                  </a:lnTo>
                  <a:lnTo>
                    <a:pt x="683" y="100"/>
                  </a:lnTo>
                  <a:lnTo>
                    <a:pt x="637" y="123"/>
                  </a:lnTo>
                  <a:lnTo>
                    <a:pt x="593" y="150"/>
                  </a:lnTo>
                  <a:lnTo>
                    <a:pt x="550" y="179"/>
                  </a:lnTo>
                  <a:lnTo>
                    <a:pt x="509" y="210"/>
                  </a:lnTo>
                  <a:lnTo>
                    <a:pt x="468" y="243"/>
                  </a:lnTo>
                  <a:lnTo>
                    <a:pt x="430" y="276"/>
                  </a:lnTo>
                  <a:lnTo>
                    <a:pt x="393" y="314"/>
                  </a:lnTo>
                  <a:lnTo>
                    <a:pt x="357" y="352"/>
                  </a:lnTo>
                  <a:lnTo>
                    <a:pt x="324" y="392"/>
                  </a:lnTo>
                  <a:lnTo>
                    <a:pt x="293" y="434"/>
                  </a:lnTo>
                  <a:lnTo>
                    <a:pt x="263" y="477"/>
                  </a:lnTo>
                  <a:lnTo>
                    <a:pt x="237" y="522"/>
                  </a:lnTo>
                  <a:lnTo>
                    <a:pt x="212" y="568"/>
                  </a:lnTo>
                  <a:lnTo>
                    <a:pt x="190" y="616"/>
                  </a:lnTo>
                  <a:lnTo>
                    <a:pt x="172" y="664"/>
                  </a:lnTo>
                  <a:lnTo>
                    <a:pt x="156" y="714"/>
                  </a:lnTo>
                  <a:lnTo>
                    <a:pt x="142" y="765"/>
                  </a:lnTo>
                  <a:lnTo>
                    <a:pt x="132" y="817"/>
                  </a:lnTo>
                  <a:lnTo>
                    <a:pt x="126" y="870"/>
                  </a:lnTo>
                  <a:lnTo>
                    <a:pt x="122" y="923"/>
                  </a:lnTo>
                  <a:lnTo>
                    <a:pt x="122" y="956"/>
                  </a:lnTo>
                  <a:lnTo>
                    <a:pt x="124" y="987"/>
                  </a:lnTo>
                  <a:lnTo>
                    <a:pt x="129" y="1017"/>
                  </a:lnTo>
                  <a:lnTo>
                    <a:pt x="135" y="1045"/>
                  </a:lnTo>
                  <a:lnTo>
                    <a:pt x="143" y="1072"/>
                  </a:lnTo>
                  <a:lnTo>
                    <a:pt x="153" y="1099"/>
                  </a:lnTo>
                  <a:lnTo>
                    <a:pt x="166" y="1124"/>
                  </a:lnTo>
                  <a:lnTo>
                    <a:pt x="180" y="1147"/>
                  </a:lnTo>
                  <a:lnTo>
                    <a:pt x="196" y="1170"/>
                  </a:lnTo>
                  <a:lnTo>
                    <a:pt x="212" y="1191"/>
                  </a:lnTo>
                  <a:lnTo>
                    <a:pt x="232" y="1212"/>
                  </a:lnTo>
                  <a:lnTo>
                    <a:pt x="251" y="1232"/>
                  </a:lnTo>
                  <a:lnTo>
                    <a:pt x="273" y="1250"/>
                  </a:lnTo>
                  <a:lnTo>
                    <a:pt x="295" y="1267"/>
                  </a:lnTo>
                  <a:lnTo>
                    <a:pt x="320" y="1284"/>
                  </a:lnTo>
                  <a:lnTo>
                    <a:pt x="345" y="1299"/>
                  </a:lnTo>
                  <a:lnTo>
                    <a:pt x="371" y="1315"/>
                  </a:lnTo>
                  <a:lnTo>
                    <a:pt x="398" y="1328"/>
                  </a:lnTo>
                  <a:lnTo>
                    <a:pt x="426" y="1342"/>
                  </a:lnTo>
                  <a:lnTo>
                    <a:pt x="455" y="1354"/>
                  </a:lnTo>
                  <a:lnTo>
                    <a:pt x="484" y="1366"/>
                  </a:lnTo>
                  <a:lnTo>
                    <a:pt x="515" y="1377"/>
                  </a:lnTo>
                  <a:lnTo>
                    <a:pt x="546" y="1388"/>
                  </a:lnTo>
                  <a:lnTo>
                    <a:pt x="577" y="1397"/>
                  </a:lnTo>
                  <a:lnTo>
                    <a:pt x="609" y="1406"/>
                  </a:lnTo>
                  <a:lnTo>
                    <a:pt x="642" y="1416"/>
                  </a:lnTo>
                  <a:lnTo>
                    <a:pt x="673" y="1423"/>
                  </a:lnTo>
                  <a:lnTo>
                    <a:pt x="706" y="1431"/>
                  </a:lnTo>
                  <a:lnTo>
                    <a:pt x="772" y="1444"/>
                  </a:lnTo>
                  <a:lnTo>
                    <a:pt x="838" y="1457"/>
                  </a:lnTo>
                  <a:lnTo>
                    <a:pt x="856" y="1460"/>
                  </a:lnTo>
                  <a:lnTo>
                    <a:pt x="879" y="1462"/>
                  </a:lnTo>
                  <a:lnTo>
                    <a:pt x="905" y="1463"/>
                  </a:lnTo>
                  <a:lnTo>
                    <a:pt x="932" y="1464"/>
                  </a:lnTo>
                  <a:lnTo>
                    <a:pt x="992" y="1465"/>
                  </a:lnTo>
                  <a:lnTo>
                    <a:pt x="1053" y="1465"/>
                  </a:lnTo>
                  <a:lnTo>
                    <a:pt x="1110" y="1464"/>
                  </a:lnTo>
                  <a:lnTo>
                    <a:pt x="1159" y="1462"/>
                  </a:lnTo>
                  <a:lnTo>
                    <a:pt x="1194" y="1461"/>
                  </a:lnTo>
                  <a:lnTo>
                    <a:pt x="1211" y="1460"/>
                  </a:lnTo>
                  <a:lnTo>
                    <a:pt x="1207" y="1471"/>
                  </a:lnTo>
                  <a:lnTo>
                    <a:pt x="1203" y="1478"/>
                  </a:lnTo>
                  <a:lnTo>
                    <a:pt x="1200" y="1483"/>
                  </a:lnTo>
                  <a:lnTo>
                    <a:pt x="1197" y="1485"/>
                  </a:lnTo>
                  <a:lnTo>
                    <a:pt x="1195" y="1485"/>
                  </a:lnTo>
                  <a:lnTo>
                    <a:pt x="1194" y="1484"/>
                  </a:lnTo>
                  <a:lnTo>
                    <a:pt x="1195" y="1482"/>
                  </a:lnTo>
                  <a:lnTo>
                    <a:pt x="1196" y="1480"/>
                  </a:lnTo>
                  <a:lnTo>
                    <a:pt x="1200" y="1478"/>
                  </a:lnTo>
                  <a:lnTo>
                    <a:pt x="1205" y="1476"/>
                  </a:lnTo>
                  <a:lnTo>
                    <a:pt x="1212" y="1476"/>
                  </a:lnTo>
                  <a:lnTo>
                    <a:pt x="1220" y="1477"/>
                  </a:lnTo>
                  <a:lnTo>
                    <a:pt x="1230" y="1480"/>
                  </a:lnTo>
                  <a:lnTo>
                    <a:pt x="1243" y="1486"/>
                  </a:lnTo>
                  <a:lnTo>
                    <a:pt x="1258" y="1496"/>
                  </a:lnTo>
                  <a:lnTo>
                    <a:pt x="1276" y="1509"/>
                  </a:lnTo>
                  <a:lnTo>
                    <a:pt x="1150" y="1557"/>
                  </a:lnTo>
                  <a:lnTo>
                    <a:pt x="1032" y="1606"/>
                  </a:lnTo>
                  <a:lnTo>
                    <a:pt x="974" y="1630"/>
                  </a:lnTo>
                  <a:lnTo>
                    <a:pt x="919" y="1654"/>
                  </a:lnTo>
                  <a:lnTo>
                    <a:pt x="865" y="1678"/>
                  </a:lnTo>
                  <a:lnTo>
                    <a:pt x="812" y="1702"/>
                  </a:lnTo>
                  <a:lnTo>
                    <a:pt x="762" y="1727"/>
                  </a:lnTo>
                  <a:lnTo>
                    <a:pt x="712" y="1753"/>
                  </a:lnTo>
                  <a:lnTo>
                    <a:pt x="664" y="1778"/>
                  </a:lnTo>
                  <a:lnTo>
                    <a:pt x="618" y="1805"/>
                  </a:lnTo>
                  <a:lnTo>
                    <a:pt x="574" y="1833"/>
                  </a:lnTo>
                  <a:lnTo>
                    <a:pt x="531" y="1862"/>
                  </a:lnTo>
                  <a:lnTo>
                    <a:pt x="488" y="1890"/>
                  </a:lnTo>
                  <a:lnTo>
                    <a:pt x="448" y="1921"/>
                  </a:lnTo>
                  <a:lnTo>
                    <a:pt x="410" y="1953"/>
                  </a:lnTo>
                  <a:lnTo>
                    <a:pt x="373" y="1987"/>
                  </a:lnTo>
                  <a:lnTo>
                    <a:pt x="338" y="2022"/>
                  </a:lnTo>
                  <a:lnTo>
                    <a:pt x="305" y="2058"/>
                  </a:lnTo>
                  <a:lnTo>
                    <a:pt x="272" y="2096"/>
                  </a:lnTo>
                  <a:lnTo>
                    <a:pt x="241" y="2136"/>
                  </a:lnTo>
                  <a:lnTo>
                    <a:pt x="212" y="2178"/>
                  </a:lnTo>
                  <a:lnTo>
                    <a:pt x="184" y="2222"/>
                  </a:lnTo>
                  <a:lnTo>
                    <a:pt x="158" y="2269"/>
                  </a:lnTo>
                  <a:lnTo>
                    <a:pt x="133" y="2317"/>
                  </a:lnTo>
                  <a:lnTo>
                    <a:pt x="110" y="2368"/>
                  </a:lnTo>
                  <a:lnTo>
                    <a:pt x="89" y="2422"/>
                  </a:lnTo>
                  <a:lnTo>
                    <a:pt x="68" y="2477"/>
                  </a:lnTo>
                  <a:lnTo>
                    <a:pt x="50" y="2537"/>
                  </a:lnTo>
                  <a:lnTo>
                    <a:pt x="33" y="2599"/>
                  </a:lnTo>
                  <a:lnTo>
                    <a:pt x="18" y="2662"/>
                  </a:lnTo>
                  <a:lnTo>
                    <a:pt x="11" y="2696"/>
                  </a:lnTo>
                  <a:lnTo>
                    <a:pt x="7" y="2732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1" y="2895"/>
                  </a:lnTo>
                  <a:lnTo>
                    <a:pt x="4" y="2940"/>
                  </a:lnTo>
                  <a:lnTo>
                    <a:pt x="9" y="2985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7" y="3174"/>
                  </a:lnTo>
                  <a:lnTo>
                    <a:pt x="60" y="3223"/>
                  </a:lnTo>
                  <a:lnTo>
                    <a:pt x="76" y="3270"/>
                  </a:lnTo>
                  <a:lnTo>
                    <a:pt x="95" y="3318"/>
                  </a:lnTo>
                  <a:lnTo>
                    <a:pt x="115" y="3366"/>
                  </a:lnTo>
                  <a:lnTo>
                    <a:pt x="139" y="3412"/>
                  </a:lnTo>
                  <a:lnTo>
                    <a:pt x="164" y="3458"/>
                  </a:lnTo>
                  <a:lnTo>
                    <a:pt x="191" y="3502"/>
                  </a:lnTo>
                  <a:lnTo>
                    <a:pt x="221" y="3546"/>
                  </a:lnTo>
                  <a:lnTo>
                    <a:pt x="253" y="3588"/>
                  </a:lnTo>
                  <a:lnTo>
                    <a:pt x="288" y="3628"/>
                  </a:lnTo>
                  <a:lnTo>
                    <a:pt x="325" y="3666"/>
                  </a:lnTo>
                  <a:lnTo>
                    <a:pt x="365" y="3703"/>
                  </a:lnTo>
                  <a:lnTo>
                    <a:pt x="408" y="3737"/>
                  </a:lnTo>
                  <a:lnTo>
                    <a:pt x="454" y="3768"/>
                  </a:lnTo>
                  <a:lnTo>
                    <a:pt x="501" y="3796"/>
                  </a:lnTo>
                  <a:lnTo>
                    <a:pt x="552" y="3823"/>
                  </a:lnTo>
                  <a:lnTo>
                    <a:pt x="606" y="3846"/>
                  </a:lnTo>
                  <a:lnTo>
                    <a:pt x="662" y="3865"/>
                  </a:lnTo>
                  <a:lnTo>
                    <a:pt x="722" y="3882"/>
                  </a:lnTo>
                  <a:lnTo>
                    <a:pt x="784" y="3894"/>
                  </a:lnTo>
                  <a:lnTo>
                    <a:pt x="875" y="3906"/>
                  </a:lnTo>
                  <a:lnTo>
                    <a:pt x="963" y="3914"/>
                  </a:lnTo>
                  <a:lnTo>
                    <a:pt x="1049" y="3917"/>
                  </a:lnTo>
                  <a:lnTo>
                    <a:pt x="1134" y="3914"/>
                  </a:lnTo>
                  <a:lnTo>
                    <a:pt x="1215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6" y="3860"/>
                  </a:lnTo>
                  <a:lnTo>
                    <a:pt x="1518" y="3836"/>
                  </a:lnTo>
                  <a:lnTo>
                    <a:pt x="1588" y="3810"/>
                  </a:lnTo>
                  <a:lnTo>
                    <a:pt x="1655" y="3779"/>
                  </a:lnTo>
                  <a:lnTo>
                    <a:pt x="1719" y="3745"/>
                  </a:lnTo>
                  <a:lnTo>
                    <a:pt x="1781" y="3709"/>
                  </a:lnTo>
                  <a:lnTo>
                    <a:pt x="1841" y="3669"/>
                  </a:lnTo>
                  <a:lnTo>
                    <a:pt x="1897" y="3627"/>
                  </a:lnTo>
                  <a:lnTo>
                    <a:pt x="1951" y="3583"/>
                  </a:lnTo>
                  <a:lnTo>
                    <a:pt x="2002" y="3536"/>
                  </a:lnTo>
                  <a:lnTo>
                    <a:pt x="2050" y="3487"/>
                  </a:lnTo>
                  <a:lnTo>
                    <a:pt x="2096" y="3437"/>
                  </a:lnTo>
                  <a:lnTo>
                    <a:pt x="2139" y="3385"/>
                  </a:lnTo>
                  <a:lnTo>
                    <a:pt x="2178" y="3331"/>
                  </a:lnTo>
                  <a:lnTo>
                    <a:pt x="2215" y="3276"/>
                  </a:lnTo>
                  <a:lnTo>
                    <a:pt x="2249" y="3221"/>
                  </a:lnTo>
                  <a:lnTo>
                    <a:pt x="2279" y="3164"/>
                  </a:lnTo>
                  <a:lnTo>
                    <a:pt x="2307" y="3107"/>
                  </a:lnTo>
                  <a:lnTo>
                    <a:pt x="2332" y="3049"/>
                  </a:lnTo>
                  <a:lnTo>
                    <a:pt x="2353" y="2991"/>
                  </a:lnTo>
                  <a:lnTo>
                    <a:pt x="2371" y="2934"/>
                  </a:lnTo>
                  <a:lnTo>
                    <a:pt x="2386" y="2876"/>
                  </a:lnTo>
                  <a:lnTo>
                    <a:pt x="2398" y="2819"/>
                  </a:lnTo>
                  <a:lnTo>
                    <a:pt x="2406" y="2762"/>
                  </a:lnTo>
                  <a:lnTo>
                    <a:pt x="2411" y="2706"/>
                  </a:lnTo>
                  <a:lnTo>
                    <a:pt x="2412" y="2689"/>
                  </a:lnTo>
                  <a:lnTo>
                    <a:pt x="2412" y="2673"/>
                  </a:lnTo>
                  <a:lnTo>
                    <a:pt x="2412" y="2655"/>
                  </a:lnTo>
                  <a:lnTo>
                    <a:pt x="2411" y="2639"/>
                  </a:lnTo>
                  <a:lnTo>
                    <a:pt x="2410" y="2622"/>
                  </a:lnTo>
                  <a:lnTo>
                    <a:pt x="2408" y="2605"/>
                  </a:lnTo>
                  <a:lnTo>
                    <a:pt x="2405" y="2588"/>
                  </a:lnTo>
                  <a:lnTo>
                    <a:pt x="2402" y="2572"/>
                  </a:lnTo>
                  <a:lnTo>
                    <a:pt x="2398" y="2556"/>
                  </a:lnTo>
                  <a:lnTo>
                    <a:pt x="2393" y="2539"/>
                  </a:lnTo>
                  <a:lnTo>
                    <a:pt x="2387" y="2524"/>
                  </a:lnTo>
                  <a:lnTo>
                    <a:pt x="2381" y="2507"/>
                  </a:lnTo>
                  <a:lnTo>
                    <a:pt x="2374" y="2492"/>
                  </a:lnTo>
                  <a:lnTo>
                    <a:pt x="2367" y="2476"/>
                  </a:lnTo>
                  <a:lnTo>
                    <a:pt x="2358" y="2462"/>
                  </a:lnTo>
                  <a:lnTo>
                    <a:pt x="2348" y="2447"/>
                  </a:lnTo>
                  <a:lnTo>
                    <a:pt x="2338" y="2432"/>
                  </a:lnTo>
                  <a:lnTo>
                    <a:pt x="2328" y="2419"/>
                  </a:lnTo>
                  <a:lnTo>
                    <a:pt x="2315" y="2404"/>
                  </a:lnTo>
                  <a:lnTo>
                    <a:pt x="2303" y="2391"/>
                  </a:lnTo>
                  <a:lnTo>
                    <a:pt x="2289" y="2379"/>
                  </a:lnTo>
                  <a:lnTo>
                    <a:pt x="2274" y="2366"/>
                  </a:lnTo>
                  <a:lnTo>
                    <a:pt x="2259" y="2354"/>
                  </a:lnTo>
                  <a:lnTo>
                    <a:pt x="2242" y="2343"/>
                  </a:lnTo>
                  <a:lnTo>
                    <a:pt x="2225" y="2331"/>
                  </a:lnTo>
                  <a:lnTo>
                    <a:pt x="2207" y="2321"/>
                  </a:lnTo>
                  <a:lnTo>
                    <a:pt x="2187" y="2312"/>
                  </a:lnTo>
                  <a:lnTo>
                    <a:pt x="2166" y="2303"/>
                  </a:lnTo>
                  <a:lnTo>
                    <a:pt x="2144" y="2293"/>
                  </a:lnTo>
                  <a:lnTo>
                    <a:pt x="2121" y="2285"/>
                  </a:lnTo>
                  <a:lnTo>
                    <a:pt x="2098" y="2278"/>
                  </a:lnTo>
                  <a:lnTo>
                    <a:pt x="2073" y="2271"/>
                  </a:lnTo>
                  <a:lnTo>
                    <a:pt x="2036" y="2262"/>
                  </a:lnTo>
                  <a:lnTo>
                    <a:pt x="1997" y="2253"/>
                  </a:lnTo>
                  <a:lnTo>
                    <a:pt x="1957" y="2247"/>
                  </a:lnTo>
                  <a:lnTo>
                    <a:pt x="1917" y="2242"/>
                  </a:lnTo>
                  <a:lnTo>
                    <a:pt x="1876" y="2240"/>
                  </a:lnTo>
                  <a:lnTo>
                    <a:pt x="1834" y="2239"/>
                  </a:lnTo>
                  <a:lnTo>
                    <a:pt x="1791" y="2240"/>
                  </a:lnTo>
                  <a:lnTo>
                    <a:pt x="1749" y="2244"/>
                  </a:lnTo>
                  <a:lnTo>
                    <a:pt x="1707" y="2249"/>
                  </a:lnTo>
                  <a:lnTo>
                    <a:pt x="1666" y="2257"/>
                  </a:lnTo>
                  <a:lnTo>
                    <a:pt x="1626" y="2268"/>
                  </a:lnTo>
                  <a:lnTo>
                    <a:pt x="1586" y="2281"/>
                  </a:lnTo>
                  <a:lnTo>
                    <a:pt x="1548" y="2297"/>
                  </a:lnTo>
                  <a:lnTo>
                    <a:pt x="1511" y="2314"/>
                  </a:lnTo>
                  <a:lnTo>
                    <a:pt x="1475" y="2335"/>
                  </a:lnTo>
                  <a:lnTo>
                    <a:pt x="1442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6" y="2445"/>
                  </a:lnTo>
                  <a:lnTo>
                    <a:pt x="1333" y="2479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3" y="2603"/>
                  </a:lnTo>
                  <a:lnTo>
                    <a:pt x="1273" y="2651"/>
                  </a:lnTo>
                  <a:lnTo>
                    <a:pt x="1268" y="2702"/>
                  </a:lnTo>
                  <a:lnTo>
                    <a:pt x="1267" y="2756"/>
                  </a:lnTo>
                  <a:lnTo>
                    <a:pt x="1271" y="2815"/>
                  </a:lnTo>
                  <a:lnTo>
                    <a:pt x="1280" y="2876"/>
                  </a:lnTo>
                  <a:lnTo>
                    <a:pt x="1293" y="2941"/>
                  </a:lnTo>
                  <a:lnTo>
                    <a:pt x="1313" y="3010"/>
                  </a:lnTo>
                  <a:lnTo>
                    <a:pt x="1336" y="3083"/>
                  </a:lnTo>
                  <a:lnTo>
                    <a:pt x="1367" y="3160"/>
                  </a:lnTo>
                  <a:lnTo>
                    <a:pt x="1549" y="3238"/>
                  </a:lnTo>
                  <a:lnTo>
                    <a:pt x="1545" y="3231"/>
                  </a:lnTo>
                  <a:lnTo>
                    <a:pt x="1533" y="3203"/>
                  </a:lnTo>
                  <a:lnTo>
                    <a:pt x="1526" y="3184"/>
                  </a:lnTo>
                  <a:lnTo>
                    <a:pt x="1517" y="3159"/>
                  </a:lnTo>
                  <a:lnTo>
                    <a:pt x="1508" y="3132"/>
                  </a:lnTo>
                  <a:lnTo>
                    <a:pt x="1499" y="3101"/>
                  </a:lnTo>
                  <a:lnTo>
                    <a:pt x="1489" y="3069"/>
                  </a:lnTo>
                  <a:lnTo>
                    <a:pt x="1480" y="3034"/>
                  </a:lnTo>
                  <a:lnTo>
                    <a:pt x="1472" y="2997"/>
                  </a:lnTo>
                  <a:lnTo>
                    <a:pt x="1466" y="2958"/>
                  </a:lnTo>
                  <a:lnTo>
                    <a:pt x="1459" y="2916"/>
                  </a:lnTo>
                  <a:lnTo>
                    <a:pt x="1455" y="2875"/>
                  </a:lnTo>
                  <a:lnTo>
                    <a:pt x="1454" y="2833"/>
                  </a:lnTo>
                  <a:lnTo>
                    <a:pt x="1455" y="2791"/>
                  </a:lnTo>
                  <a:lnTo>
                    <a:pt x="1458" y="2750"/>
                  </a:lnTo>
                  <a:lnTo>
                    <a:pt x="1466" y="2708"/>
                  </a:lnTo>
                  <a:lnTo>
                    <a:pt x="1476" y="2668"/>
                  </a:lnTo>
                  <a:lnTo>
                    <a:pt x="1490" y="2628"/>
                  </a:lnTo>
                  <a:lnTo>
                    <a:pt x="1508" y="2591"/>
                  </a:lnTo>
                  <a:lnTo>
                    <a:pt x="1531" y="2554"/>
                  </a:lnTo>
                  <a:lnTo>
                    <a:pt x="1558" y="2521"/>
                  </a:lnTo>
                  <a:lnTo>
                    <a:pt x="1591" y="2489"/>
                  </a:lnTo>
                  <a:lnTo>
                    <a:pt x="1630" y="2461"/>
                  </a:lnTo>
                  <a:lnTo>
                    <a:pt x="1674" y="2436"/>
                  </a:lnTo>
                  <a:lnTo>
                    <a:pt x="1725" y="2415"/>
                  </a:lnTo>
                  <a:lnTo>
                    <a:pt x="1782" y="2397"/>
                  </a:lnTo>
                  <a:lnTo>
                    <a:pt x="1846" y="2385"/>
                  </a:lnTo>
                  <a:lnTo>
                    <a:pt x="1917" y="2377"/>
                  </a:lnTo>
                  <a:lnTo>
                    <a:pt x="1996" y="2374"/>
                  </a:lnTo>
                  <a:lnTo>
                    <a:pt x="2082" y="2377"/>
                  </a:lnTo>
                  <a:lnTo>
                    <a:pt x="2109" y="2383"/>
                  </a:lnTo>
                  <a:lnTo>
                    <a:pt x="2134" y="2393"/>
                  </a:lnTo>
                  <a:lnTo>
                    <a:pt x="2155" y="2407"/>
                  </a:lnTo>
                  <a:lnTo>
                    <a:pt x="2175" y="2423"/>
                  </a:lnTo>
                  <a:lnTo>
                    <a:pt x="2191" y="2442"/>
                  </a:lnTo>
                  <a:lnTo>
                    <a:pt x="2205" y="2464"/>
                  </a:lnTo>
                  <a:lnTo>
                    <a:pt x="2218" y="2489"/>
                  </a:lnTo>
                  <a:lnTo>
                    <a:pt x="2228" y="2515"/>
                  </a:lnTo>
                  <a:lnTo>
                    <a:pt x="2236" y="2544"/>
                  </a:lnTo>
                  <a:lnTo>
                    <a:pt x="2242" y="2574"/>
                  </a:lnTo>
                  <a:lnTo>
                    <a:pt x="2248" y="2606"/>
                  </a:lnTo>
                  <a:lnTo>
                    <a:pt x="2250" y="2639"/>
                  </a:lnTo>
                  <a:lnTo>
                    <a:pt x="2252" y="2674"/>
                  </a:lnTo>
                  <a:lnTo>
                    <a:pt x="2252" y="2709"/>
                  </a:lnTo>
                  <a:lnTo>
                    <a:pt x="2251" y="2745"/>
                  </a:lnTo>
                  <a:lnTo>
                    <a:pt x="2248" y="2781"/>
                  </a:lnTo>
                  <a:lnTo>
                    <a:pt x="2244" y="2818"/>
                  </a:lnTo>
                  <a:lnTo>
                    <a:pt x="2239" y="2855"/>
                  </a:lnTo>
                  <a:lnTo>
                    <a:pt x="2233" y="2891"/>
                  </a:lnTo>
                  <a:lnTo>
                    <a:pt x="2227" y="2927"/>
                  </a:lnTo>
                  <a:lnTo>
                    <a:pt x="2220" y="2962"/>
                  </a:lnTo>
                  <a:lnTo>
                    <a:pt x="2212" y="2997"/>
                  </a:lnTo>
                  <a:lnTo>
                    <a:pt x="2203" y="3031"/>
                  </a:lnTo>
                  <a:lnTo>
                    <a:pt x="2195" y="3062"/>
                  </a:lnTo>
                  <a:lnTo>
                    <a:pt x="2186" y="3093"/>
                  </a:lnTo>
                  <a:lnTo>
                    <a:pt x="2177" y="3122"/>
                  </a:lnTo>
                  <a:lnTo>
                    <a:pt x="2167" y="3149"/>
                  </a:lnTo>
                  <a:lnTo>
                    <a:pt x="2158" y="3173"/>
                  </a:lnTo>
                  <a:lnTo>
                    <a:pt x="2149" y="3196"/>
                  </a:lnTo>
                  <a:lnTo>
                    <a:pt x="2141" y="3216"/>
                  </a:lnTo>
                  <a:lnTo>
                    <a:pt x="2133" y="3232"/>
                  </a:lnTo>
                  <a:lnTo>
                    <a:pt x="2124" y="3246"/>
                  </a:lnTo>
                  <a:lnTo>
                    <a:pt x="2103" y="3279"/>
                  </a:lnTo>
                  <a:lnTo>
                    <a:pt x="2074" y="3319"/>
                  </a:lnTo>
                  <a:lnTo>
                    <a:pt x="2057" y="3342"/>
                  </a:lnTo>
                  <a:lnTo>
                    <a:pt x="2038" y="3366"/>
                  </a:lnTo>
                  <a:lnTo>
                    <a:pt x="2017" y="3390"/>
                  </a:lnTo>
                  <a:lnTo>
                    <a:pt x="1995" y="3416"/>
                  </a:lnTo>
                  <a:lnTo>
                    <a:pt x="1970" y="3443"/>
                  </a:lnTo>
                  <a:lnTo>
                    <a:pt x="1944" y="3470"/>
                  </a:lnTo>
                  <a:lnTo>
                    <a:pt x="1916" y="3498"/>
                  </a:lnTo>
                  <a:lnTo>
                    <a:pt x="1887" y="3526"/>
                  </a:lnTo>
                  <a:lnTo>
                    <a:pt x="1855" y="3553"/>
                  </a:lnTo>
                  <a:lnTo>
                    <a:pt x="1821" y="3580"/>
                  </a:lnTo>
                  <a:lnTo>
                    <a:pt x="1786" y="3607"/>
                  </a:lnTo>
                  <a:lnTo>
                    <a:pt x="1749" y="3633"/>
                  </a:lnTo>
                  <a:lnTo>
                    <a:pt x="1711" y="3659"/>
                  </a:lnTo>
                  <a:lnTo>
                    <a:pt x="1670" y="3682"/>
                  </a:lnTo>
                  <a:lnTo>
                    <a:pt x="1628" y="3706"/>
                  </a:lnTo>
                  <a:lnTo>
                    <a:pt x="1584" y="3726"/>
                  </a:lnTo>
                  <a:lnTo>
                    <a:pt x="1539" y="3746"/>
                  </a:lnTo>
                  <a:lnTo>
                    <a:pt x="1490" y="3763"/>
                  </a:lnTo>
                  <a:lnTo>
                    <a:pt x="1441" y="3779"/>
                  </a:lnTo>
                  <a:lnTo>
                    <a:pt x="1391" y="3792"/>
                  </a:lnTo>
                  <a:lnTo>
                    <a:pt x="1337" y="3804"/>
                  </a:lnTo>
                  <a:lnTo>
                    <a:pt x="1283" y="3811"/>
                  </a:lnTo>
                  <a:lnTo>
                    <a:pt x="1226" y="3816"/>
                  </a:lnTo>
                  <a:lnTo>
                    <a:pt x="1169" y="3818"/>
                  </a:lnTo>
                  <a:lnTo>
                    <a:pt x="1109" y="3816"/>
                  </a:lnTo>
                  <a:lnTo>
                    <a:pt x="1047" y="3811"/>
                  </a:lnTo>
                  <a:lnTo>
                    <a:pt x="984" y="3802"/>
                  </a:lnTo>
                  <a:lnTo>
                    <a:pt x="919" y="3789"/>
                  </a:lnTo>
                  <a:close/>
                  <a:moveTo>
                    <a:pt x="2643" y="449"/>
                  </a:moveTo>
                  <a:lnTo>
                    <a:pt x="2657" y="455"/>
                  </a:lnTo>
                  <a:lnTo>
                    <a:pt x="2669" y="461"/>
                  </a:lnTo>
                  <a:lnTo>
                    <a:pt x="2680" y="467"/>
                  </a:lnTo>
                  <a:lnTo>
                    <a:pt x="2691" y="474"/>
                  </a:lnTo>
                  <a:lnTo>
                    <a:pt x="2700" y="480"/>
                  </a:lnTo>
                  <a:lnTo>
                    <a:pt x="2708" y="487"/>
                  </a:lnTo>
                  <a:lnTo>
                    <a:pt x="2715" y="494"/>
                  </a:lnTo>
                  <a:lnTo>
                    <a:pt x="2720" y="503"/>
                  </a:lnTo>
                  <a:lnTo>
                    <a:pt x="2725" y="511"/>
                  </a:lnTo>
                  <a:lnTo>
                    <a:pt x="2729" y="520"/>
                  </a:lnTo>
                  <a:lnTo>
                    <a:pt x="2732" y="530"/>
                  </a:lnTo>
                  <a:lnTo>
                    <a:pt x="2734" y="541"/>
                  </a:lnTo>
                  <a:lnTo>
                    <a:pt x="2735" y="552"/>
                  </a:lnTo>
                  <a:lnTo>
                    <a:pt x="2734" y="564"/>
                  </a:lnTo>
                  <a:lnTo>
                    <a:pt x="2734" y="577"/>
                  </a:lnTo>
                  <a:lnTo>
                    <a:pt x="2732" y="591"/>
                  </a:lnTo>
                  <a:lnTo>
                    <a:pt x="2725" y="618"/>
                  </a:lnTo>
                  <a:lnTo>
                    <a:pt x="2716" y="646"/>
                  </a:lnTo>
                  <a:lnTo>
                    <a:pt x="2703" y="675"/>
                  </a:lnTo>
                  <a:lnTo>
                    <a:pt x="2686" y="706"/>
                  </a:lnTo>
                  <a:lnTo>
                    <a:pt x="2667" y="738"/>
                  </a:lnTo>
                  <a:lnTo>
                    <a:pt x="2644" y="770"/>
                  </a:lnTo>
                  <a:lnTo>
                    <a:pt x="2619" y="803"/>
                  </a:lnTo>
                  <a:lnTo>
                    <a:pt x="2591" y="836"/>
                  </a:lnTo>
                  <a:lnTo>
                    <a:pt x="2561" y="870"/>
                  </a:lnTo>
                  <a:lnTo>
                    <a:pt x="2528" y="904"/>
                  </a:lnTo>
                  <a:lnTo>
                    <a:pt x="2493" y="936"/>
                  </a:lnTo>
                  <a:lnTo>
                    <a:pt x="2457" y="969"/>
                  </a:lnTo>
                  <a:lnTo>
                    <a:pt x="2419" y="1002"/>
                  </a:lnTo>
                  <a:lnTo>
                    <a:pt x="2379" y="1034"/>
                  </a:lnTo>
                  <a:lnTo>
                    <a:pt x="2338" y="1066"/>
                  </a:lnTo>
                  <a:lnTo>
                    <a:pt x="2296" y="1096"/>
                  </a:lnTo>
                  <a:lnTo>
                    <a:pt x="2253" y="1126"/>
                  </a:lnTo>
                  <a:lnTo>
                    <a:pt x="2209" y="1153"/>
                  </a:lnTo>
                  <a:lnTo>
                    <a:pt x="2163" y="1180"/>
                  </a:lnTo>
                  <a:lnTo>
                    <a:pt x="2118" y="1205"/>
                  </a:lnTo>
                  <a:lnTo>
                    <a:pt x="2073" y="1228"/>
                  </a:lnTo>
                  <a:lnTo>
                    <a:pt x="2028" y="1249"/>
                  </a:lnTo>
                  <a:lnTo>
                    <a:pt x="1981" y="1269"/>
                  </a:lnTo>
                  <a:lnTo>
                    <a:pt x="1936" y="1285"/>
                  </a:lnTo>
                  <a:lnTo>
                    <a:pt x="1891" y="1299"/>
                  </a:lnTo>
                  <a:lnTo>
                    <a:pt x="1847" y="1312"/>
                  </a:lnTo>
                  <a:lnTo>
                    <a:pt x="1804" y="1320"/>
                  </a:lnTo>
                  <a:lnTo>
                    <a:pt x="1761" y="1326"/>
                  </a:lnTo>
                  <a:lnTo>
                    <a:pt x="1719" y="1329"/>
                  </a:lnTo>
                  <a:lnTo>
                    <a:pt x="1679" y="1329"/>
                  </a:lnTo>
                  <a:lnTo>
                    <a:pt x="1640" y="1325"/>
                  </a:lnTo>
                  <a:lnTo>
                    <a:pt x="1603" y="1318"/>
                  </a:lnTo>
                  <a:lnTo>
                    <a:pt x="1622" y="1207"/>
                  </a:lnTo>
                  <a:lnTo>
                    <a:pt x="1644" y="1106"/>
                  </a:lnTo>
                  <a:lnTo>
                    <a:pt x="1669" y="1013"/>
                  </a:lnTo>
                  <a:lnTo>
                    <a:pt x="1697" y="927"/>
                  </a:lnTo>
                  <a:lnTo>
                    <a:pt x="1728" y="850"/>
                  </a:lnTo>
                  <a:lnTo>
                    <a:pt x="1761" y="780"/>
                  </a:lnTo>
                  <a:lnTo>
                    <a:pt x="1794" y="718"/>
                  </a:lnTo>
                  <a:lnTo>
                    <a:pt x="1831" y="661"/>
                  </a:lnTo>
                  <a:lnTo>
                    <a:pt x="1869" y="611"/>
                  </a:lnTo>
                  <a:lnTo>
                    <a:pt x="1909" y="567"/>
                  </a:lnTo>
                  <a:lnTo>
                    <a:pt x="1950" y="528"/>
                  </a:lnTo>
                  <a:lnTo>
                    <a:pt x="1991" y="495"/>
                  </a:lnTo>
                  <a:lnTo>
                    <a:pt x="2033" y="468"/>
                  </a:lnTo>
                  <a:lnTo>
                    <a:pt x="2075" y="445"/>
                  </a:lnTo>
                  <a:lnTo>
                    <a:pt x="2117" y="427"/>
                  </a:lnTo>
                  <a:lnTo>
                    <a:pt x="2160" y="411"/>
                  </a:lnTo>
                  <a:lnTo>
                    <a:pt x="2202" y="401"/>
                  </a:lnTo>
                  <a:lnTo>
                    <a:pt x="2244" y="393"/>
                  </a:lnTo>
                  <a:lnTo>
                    <a:pt x="2285" y="389"/>
                  </a:lnTo>
                  <a:lnTo>
                    <a:pt x="2325" y="386"/>
                  </a:lnTo>
                  <a:lnTo>
                    <a:pt x="2364" y="386"/>
                  </a:lnTo>
                  <a:lnTo>
                    <a:pt x="2401" y="389"/>
                  </a:lnTo>
                  <a:lnTo>
                    <a:pt x="2437" y="393"/>
                  </a:lnTo>
                  <a:lnTo>
                    <a:pt x="2471" y="398"/>
                  </a:lnTo>
                  <a:lnTo>
                    <a:pt x="2501" y="405"/>
                  </a:lnTo>
                  <a:lnTo>
                    <a:pt x="2531" y="411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20" y="440"/>
                  </a:lnTo>
                  <a:lnTo>
                    <a:pt x="2643" y="449"/>
                  </a:lnTo>
                  <a:close/>
                  <a:moveTo>
                    <a:pt x="2217" y="1824"/>
                  </a:moveTo>
                  <a:lnTo>
                    <a:pt x="2214" y="1830"/>
                  </a:lnTo>
                  <a:lnTo>
                    <a:pt x="2211" y="1836"/>
                  </a:lnTo>
                  <a:lnTo>
                    <a:pt x="2207" y="1842"/>
                  </a:lnTo>
                  <a:lnTo>
                    <a:pt x="2201" y="1848"/>
                  </a:lnTo>
                  <a:lnTo>
                    <a:pt x="2195" y="1853"/>
                  </a:lnTo>
                  <a:lnTo>
                    <a:pt x="2189" y="1858"/>
                  </a:lnTo>
                  <a:lnTo>
                    <a:pt x="2183" y="1863"/>
                  </a:lnTo>
                  <a:lnTo>
                    <a:pt x="2175" y="1867"/>
                  </a:lnTo>
                  <a:lnTo>
                    <a:pt x="2166" y="1870"/>
                  </a:lnTo>
                  <a:lnTo>
                    <a:pt x="2157" y="1873"/>
                  </a:lnTo>
                  <a:lnTo>
                    <a:pt x="2148" y="1876"/>
                  </a:lnTo>
                  <a:lnTo>
                    <a:pt x="2138" y="1878"/>
                  </a:lnTo>
                  <a:lnTo>
                    <a:pt x="2127" y="1880"/>
                  </a:lnTo>
                  <a:lnTo>
                    <a:pt x="2116" y="1882"/>
                  </a:lnTo>
                  <a:lnTo>
                    <a:pt x="2105" y="1883"/>
                  </a:lnTo>
                  <a:lnTo>
                    <a:pt x="2092" y="1883"/>
                  </a:lnTo>
                  <a:lnTo>
                    <a:pt x="2066" y="1883"/>
                  </a:lnTo>
                  <a:lnTo>
                    <a:pt x="2038" y="1882"/>
                  </a:lnTo>
                  <a:lnTo>
                    <a:pt x="2007" y="1878"/>
                  </a:lnTo>
                  <a:lnTo>
                    <a:pt x="1975" y="1873"/>
                  </a:lnTo>
                  <a:lnTo>
                    <a:pt x="1942" y="1866"/>
                  </a:lnTo>
                  <a:lnTo>
                    <a:pt x="1908" y="1857"/>
                  </a:lnTo>
                  <a:lnTo>
                    <a:pt x="1871" y="1845"/>
                  </a:lnTo>
                  <a:lnTo>
                    <a:pt x="1832" y="1832"/>
                  </a:lnTo>
                  <a:lnTo>
                    <a:pt x="1805" y="1821"/>
                  </a:lnTo>
                  <a:lnTo>
                    <a:pt x="1779" y="1810"/>
                  </a:lnTo>
                  <a:lnTo>
                    <a:pt x="1755" y="1799"/>
                  </a:lnTo>
                  <a:lnTo>
                    <a:pt x="1734" y="1787"/>
                  </a:lnTo>
                  <a:lnTo>
                    <a:pt x="1714" y="1775"/>
                  </a:lnTo>
                  <a:lnTo>
                    <a:pt x="1695" y="1763"/>
                  </a:lnTo>
                  <a:lnTo>
                    <a:pt x="1677" y="1750"/>
                  </a:lnTo>
                  <a:lnTo>
                    <a:pt x="1662" y="1736"/>
                  </a:lnTo>
                  <a:lnTo>
                    <a:pt x="1645" y="1723"/>
                  </a:lnTo>
                  <a:lnTo>
                    <a:pt x="1631" y="1708"/>
                  </a:lnTo>
                  <a:lnTo>
                    <a:pt x="1617" y="1693"/>
                  </a:lnTo>
                  <a:lnTo>
                    <a:pt x="1602" y="1678"/>
                  </a:lnTo>
                  <a:lnTo>
                    <a:pt x="1576" y="1646"/>
                  </a:lnTo>
                  <a:lnTo>
                    <a:pt x="1547" y="1611"/>
                  </a:lnTo>
                  <a:lnTo>
                    <a:pt x="1585" y="1607"/>
                  </a:lnTo>
                  <a:lnTo>
                    <a:pt x="1623" y="1605"/>
                  </a:lnTo>
                  <a:lnTo>
                    <a:pt x="1663" y="1604"/>
                  </a:lnTo>
                  <a:lnTo>
                    <a:pt x="1702" y="1604"/>
                  </a:lnTo>
                  <a:lnTo>
                    <a:pt x="1742" y="1605"/>
                  </a:lnTo>
                  <a:lnTo>
                    <a:pt x="1781" y="1607"/>
                  </a:lnTo>
                  <a:lnTo>
                    <a:pt x="1820" y="1610"/>
                  </a:lnTo>
                  <a:lnTo>
                    <a:pt x="1858" y="1614"/>
                  </a:lnTo>
                  <a:lnTo>
                    <a:pt x="1896" y="1619"/>
                  </a:lnTo>
                  <a:lnTo>
                    <a:pt x="1932" y="1624"/>
                  </a:lnTo>
                  <a:lnTo>
                    <a:pt x="1966" y="1630"/>
                  </a:lnTo>
                  <a:lnTo>
                    <a:pt x="1999" y="1638"/>
                  </a:lnTo>
                  <a:lnTo>
                    <a:pt x="2030" y="1645"/>
                  </a:lnTo>
                  <a:lnTo>
                    <a:pt x="2058" y="1652"/>
                  </a:lnTo>
                  <a:lnTo>
                    <a:pt x="2084" y="1659"/>
                  </a:lnTo>
                  <a:lnTo>
                    <a:pt x="2107" y="1667"/>
                  </a:lnTo>
                  <a:lnTo>
                    <a:pt x="2121" y="1674"/>
                  </a:lnTo>
                  <a:lnTo>
                    <a:pt x="2135" y="1680"/>
                  </a:lnTo>
                  <a:lnTo>
                    <a:pt x="2147" y="1688"/>
                  </a:lnTo>
                  <a:lnTo>
                    <a:pt x="2159" y="1696"/>
                  </a:lnTo>
                  <a:lnTo>
                    <a:pt x="2171" y="1705"/>
                  </a:lnTo>
                  <a:lnTo>
                    <a:pt x="2181" y="1715"/>
                  </a:lnTo>
                  <a:lnTo>
                    <a:pt x="2190" y="1725"/>
                  </a:lnTo>
                  <a:lnTo>
                    <a:pt x="2198" y="1736"/>
                  </a:lnTo>
                  <a:lnTo>
                    <a:pt x="2205" y="1747"/>
                  </a:lnTo>
                  <a:lnTo>
                    <a:pt x="2211" y="1758"/>
                  </a:lnTo>
                  <a:lnTo>
                    <a:pt x="2216" y="1769"/>
                  </a:lnTo>
                  <a:lnTo>
                    <a:pt x="2219" y="1780"/>
                  </a:lnTo>
                  <a:lnTo>
                    <a:pt x="2221" y="1792"/>
                  </a:lnTo>
                  <a:lnTo>
                    <a:pt x="2221" y="1802"/>
                  </a:lnTo>
                  <a:lnTo>
                    <a:pt x="2220" y="1813"/>
                  </a:lnTo>
                  <a:lnTo>
                    <a:pt x="2217" y="18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0040" y="5171760"/>
              <a:ext cx="528840" cy="747000"/>
            </a:xfrm>
            <a:custGeom>
              <a:avLst/>
              <a:gdLst/>
              <a:ahLst/>
              <a:rect l="l" t="t" r="r" b="b"/>
              <a:pathLst>
                <a:path w="2803" h="3916">
                  <a:moveTo>
                    <a:pt x="920" y="3790"/>
                  </a:moveTo>
                  <a:lnTo>
                    <a:pt x="879" y="3778"/>
                  </a:lnTo>
                  <a:lnTo>
                    <a:pt x="840" y="3766"/>
                  </a:lnTo>
                  <a:lnTo>
                    <a:pt x="804" y="3751"/>
                  </a:lnTo>
                  <a:lnTo>
                    <a:pt x="771" y="3735"/>
                  </a:lnTo>
                  <a:lnTo>
                    <a:pt x="740" y="3717"/>
                  </a:lnTo>
                  <a:lnTo>
                    <a:pt x="711" y="3697"/>
                  </a:lnTo>
                  <a:lnTo>
                    <a:pt x="686" y="3675"/>
                  </a:lnTo>
                  <a:lnTo>
                    <a:pt x="662" y="3653"/>
                  </a:lnTo>
                  <a:lnTo>
                    <a:pt x="640" y="3628"/>
                  </a:lnTo>
                  <a:lnTo>
                    <a:pt x="621" y="3602"/>
                  </a:lnTo>
                  <a:lnTo>
                    <a:pt x="603" y="3576"/>
                  </a:lnTo>
                  <a:lnTo>
                    <a:pt x="588" y="3547"/>
                  </a:lnTo>
                  <a:lnTo>
                    <a:pt x="575" y="3517"/>
                  </a:lnTo>
                  <a:lnTo>
                    <a:pt x="563" y="3486"/>
                  </a:lnTo>
                  <a:lnTo>
                    <a:pt x="553" y="3454"/>
                  </a:lnTo>
                  <a:lnTo>
                    <a:pt x="545" y="3421"/>
                  </a:lnTo>
                  <a:lnTo>
                    <a:pt x="538" y="3389"/>
                  </a:lnTo>
                  <a:lnTo>
                    <a:pt x="531" y="3354"/>
                  </a:lnTo>
                  <a:lnTo>
                    <a:pt x="527" y="3319"/>
                  </a:lnTo>
                  <a:lnTo>
                    <a:pt x="524" y="3283"/>
                  </a:lnTo>
                  <a:lnTo>
                    <a:pt x="522" y="3246"/>
                  </a:lnTo>
                  <a:lnTo>
                    <a:pt x="521" y="3209"/>
                  </a:lnTo>
                  <a:lnTo>
                    <a:pt x="521" y="3171"/>
                  </a:lnTo>
                  <a:lnTo>
                    <a:pt x="522" y="3132"/>
                  </a:lnTo>
                  <a:lnTo>
                    <a:pt x="524" y="3094"/>
                  </a:lnTo>
                  <a:lnTo>
                    <a:pt x="526" y="3054"/>
                  </a:lnTo>
                  <a:lnTo>
                    <a:pt x="529" y="3015"/>
                  </a:lnTo>
                  <a:lnTo>
                    <a:pt x="534" y="2976"/>
                  </a:lnTo>
                  <a:lnTo>
                    <a:pt x="542" y="2897"/>
                  </a:lnTo>
                  <a:lnTo>
                    <a:pt x="552" y="2818"/>
                  </a:lnTo>
                  <a:lnTo>
                    <a:pt x="558" y="2773"/>
                  </a:lnTo>
                  <a:lnTo>
                    <a:pt x="566" y="2728"/>
                  </a:lnTo>
                  <a:lnTo>
                    <a:pt x="576" y="2681"/>
                  </a:lnTo>
                  <a:lnTo>
                    <a:pt x="587" y="2636"/>
                  </a:lnTo>
                  <a:lnTo>
                    <a:pt x="600" y="2590"/>
                  </a:lnTo>
                  <a:lnTo>
                    <a:pt x="615" y="2544"/>
                  </a:lnTo>
                  <a:lnTo>
                    <a:pt x="630" y="2498"/>
                  </a:lnTo>
                  <a:lnTo>
                    <a:pt x="648" y="2453"/>
                  </a:lnTo>
                  <a:lnTo>
                    <a:pt x="666" y="2408"/>
                  </a:lnTo>
                  <a:lnTo>
                    <a:pt x="686" y="2364"/>
                  </a:lnTo>
                  <a:lnTo>
                    <a:pt x="707" y="2319"/>
                  </a:lnTo>
                  <a:lnTo>
                    <a:pt x="730" y="2276"/>
                  </a:lnTo>
                  <a:lnTo>
                    <a:pt x="753" y="2233"/>
                  </a:lnTo>
                  <a:lnTo>
                    <a:pt x="778" y="2191"/>
                  </a:lnTo>
                  <a:lnTo>
                    <a:pt x="804" y="2150"/>
                  </a:lnTo>
                  <a:lnTo>
                    <a:pt x="830" y="2110"/>
                  </a:lnTo>
                  <a:lnTo>
                    <a:pt x="859" y="2071"/>
                  </a:lnTo>
                  <a:lnTo>
                    <a:pt x="888" y="2033"/>
                  </a:lnTo>
                  <a:lnTo>
                    <a:pt x="918" y="1996"/>
                  </a:lnTo>
                  <a:lnTo>
                    <a:pt x="949" y="1960"/>
                  </a:lnTo>
                  <a:lnTo>
                    <a:pt x="981" y="1926"/>
                  </a:lnTo>
                  <a:lnTo>
                    <a:pt x="1013" y="1893"/>
                  </a:lnTo>
                  <a:lnTo>
                    <a:pt x="1047" y="1862"/>
                  </a:lnTo>
                  <a:lnTo>
                    <a:pt x="1081" y="1832"/>
                  </a:lnTo>
                  <a:lnTo>
                    <a:pt x="1116" y="1804"/>
                  </a:lnTo>
                  <a:lnTo>
                    <a:pt x="1152" y="1779"/>
                  </a:lnTo>
                  <a:lnTo>
                    <a:pt x="1189" y="1754"/>
                  </a:lnTo>
                  <a:lnTo>
                    <a:pt x="1226" y="1732"/>
                  </a:lnTo>
                  <a:lnTo>
                    <a:pt x="1263" y="1712"/>
                  </a:lnTo>
                  <a:lnTo>
                    <a:pt x="1301" y="1694"/>
                  </a:lnTo>
                  <a:lnTo>
                    <a:pt x="1340" y="1679"/>
                  </a:lnTo>
                  <a:lnTo>
                    <a:pt x="1379" y="1666"/>
                  </a:lnTo>
                  <a:lnTo>
                    <a:pt x="1389" y="1679"/>
                  </a:lnTo>
                  <a:lnTo>
                    <a:pt x="1401" y="1692"/>
                  </a:lnTo>
                  <a:lnTo>
                    <a:pt x="1413" y="1705"/>
                  </a:lnTo>
                  <a:lnTo>
                    <a:pt x="1424" y="1717"/>
                  </a:lnTo>
                  <a:lnTo>
                    <a:pt x="1450" y="1741"/>
                  </a:lnTo>
                  <a:lnTo>
                    <a:pt x="1476" y="1763"/>
                  </a:lnTo>
                  <a:lnTo>
                    <a:pt x="1503" y="1784"/>
                  </a:lnTo>
                  <a:lnTo>
                    <a:pt x="1529" y="1803"/>
                  </a:lnTo>
                  <a:lnTo>
                    <a:pt x="1557" y="1821"/>
                  </a:lnTo>
                  <a:lnTo>
                    <a:pt x="1585" y="1837"/>
                  </a:lnTo>
                  <a:lnTo>
                    <a:pt x="1612" y="1852"/>
                  </a:lnTo>
                  <a:lnTo>
                    <a:pt x="1639" y="1866"/>
                  </a:lnTo>
                  <a:lnTo>
                    <a:pt x="1665" y="1878"/>
                  </a:lnTo>
                  <a:lnTo>
                    <a:pt x="1690" y="1890"/>
                  </a:lnTo>
                  <a:lnTo>
                    <a:pt x="1736" y="1908"/>
                  </a:lnTo>
                  <a:lnTo>
                    <a:pt x="1774" y="1923"/>
                  </a:lnTo>
                  <a:lnTo>
                    <a:pt x="1799" y="1932"/>
                  </a:lnTo>
                  <a:lnTo>
                    <a:pt x="1824" y="1940"/>
                  </a:lnTo>
                  <a:lnTo>
                    <a:pt x="1849" y="1947"/>
                  </a:lnTo>
                  <a:lnTo>
                    <a:pt x="1872" y="1955"/>
                  </a:lnTo>
                  <a:lnTo>
                    <a:pt x="1896" y="1960"/>
                  </a:lnTo>
                  <a:lnTo>
                    <a:pt x="1920" y="1965"/>
                  </a:lnTo>
                  <a:lnTo>
                    <a:pt x="1943" y="1969"/>
                  </a:lnTo>
                  <a:lnTo>
                    <a:pt x="1966" y="1973"/>
                  </a:lnTo>
                  <a:lnTo>
                    <a:pt x="1988" y="1976"/>
                  </a:lnTo>
                  <a:lnTo>
                    <a:pt x="2010" y="1978"/>
                  </a:lnTo>
                  <a:lnTo>
                    <a:pt x="2031" y="1979"/>
                  </a:lnTo>
                  <a:lnTo>
                    <a:pt x="2052" y="1980"/>
                  </a:lnTo>
                  <a:lnTo>
                    <a:pt x="2072" y="1980"/>
                  </a:lnTo>
                  <a:lnTo>
                    <a:pt x="2091" y="1979"/>
                  </a:lnTo>
                  <a:lnTo>
                    <a:pt x="2111" y="1978"/>
                  </a:lnTo>
                  <a:lnTo>
                    <a:pt x="2129" y="1976"/>
                  </a:lnTo>
                  <a:lnTo>
                    <a:pt x="2147" y="1974"/>
                  </a:lnTo>
                  <a:lnTo>
                    <a:pt x="2164" y="1970"/>
                  </a:lnTo>
                  <a:lnTo>
                    <a:pt x="2181" y="1967"/>
                  </a:lnTo>
                  <a:lnTo>
                    <a:pt x="2196" y="1962"/>
                  </a:lnTo>
                  <a:lnTo>
                    <a:pt x="2212" y="1957"/>
                  </a:lnTo>
                  <a:lnTo>
                    <a:pt x="2225" y="1950"/>
                  </a:lnTo>
                  <a:lnTo>
                    <a:pt x="2238" y="1944"/>
                  </a:lnTo>
                  <a:lnTo>
                    <a:pt x="2251" y="1937"/>
                  </a:lnTo>
                  <a:lnTo>
                    <a:pt x="2263" y="1930"/>
                  </a:lnTo>
                  <a:lnTo>
                    <a:pt x="2273" y="1922"/>
                  </a:lnTo>
                  <a:lnTo>
                    <a:pt x="2283" y="1912"/>
                  </a:lnTo>
                  <a:lnTo>
                    <a:pt x="2292" y="1903"/>
                  </a:lnTo>
                  <a:lnTo>
                    <a:pt x="2300" y="1894"/>
                  </a:lnTo>
                  <a:lnTo>
                    <a:pt x="2306" y="1883"/>
                  </a:lnTo>
                  <a:lnTo>
                    <a:pt x="2312" y="1872"/>
                  </a:lnTo>
                  <a:lnTo>
                    <a:pt x="2317" y="1860"/>
                  </a:lnTo>
                  <a:lnTo>
                    <a:pt x="2319" y="1852"/>
                  </a:lnTo>
                  <a:lnTo>
                    <a:pt x="2323" y="1842"/>
                  </a:lnTo>
                  <a:lnTo>
                    <a:pt x="2324" y="1833"/>
                  </a:lnTo>
                  <a:lnTo>
                    <a:pt x="2325" y="1824"/>
                  </a:lnTo>
                  <a:lnTo>
                    <a:pt x="2325" y="1815"/>
                  </a:lnTo>
                  <a:lnTo>
                    <a:pt x="2325" y="1804"/>
                  </a:lnTo>
                  <a:lnTo>
                    <a:pt x="2324" y="1795"/>
                  </a:lnTo>
                  <a:lnTo>
                    <a:pt x="2321" y="1785"/>
                  </a:lnTo>
                  <a:lnTo>
                    <a:pt x="2319" y="1776"/>
                  </a:lnTo>
                  <a:lnTo>
                    <a:pt x="2316" y="1765"/>
                  </a:lnTo>
                  <a:lnTo>
                    <a:pt x="2312" y="1755"/>
                  </a:lnTo>
                  <a:lnTo>
                    <a:pt x="2308" y="1746"/>
                  </a:lnTo>
                  <a:lnTo>
                    <a:pt x="2303" y="1736"/>
                  </a:lnTo>
                  <a:lnTo>
                    <a:pt x="2298" y="1725"/>
                  </a:lnTo>
                  <a:lnTo>
                    <a:pt x="2292" y="1716"/>
                  </a:lnTo>
                  <a:lnTo>
                    <a:pt x="2284" y="1706"/>
                  </a:lnTo>
                  <a:lnTo>
                    <a:pt x="2277" y="1697"/>
                  </a:lnTo>
                  <a:lnTo>
                    <a:pt x="2269" y="1686"/>
                  </a:lnTo>
                  <a:lnTo>
                    <a:pt x="2261" y="1677"/>
                  </a:lnTo>
                  <a:lnTo>
                    <a:pt x="2252" y="1668"/>
                  </a:lnTo>
                  <a:lnTo>
                    <a:pt x="2241" y="1658"/>
                  </a:lnTo>
                  <a:lnTo>
                    <a:pt x="2231" y="1649"/>
                  </a:lnTo>
                  <a:lnTo>
                    <a:pt x="2220" y="1640"/>
                  </a:lnTo>
                  <a:lnTo>
                    <a:pt x="2207" y="1632"/>
                  </a:lnTo>
                  <a:lnTo>
                    <a:pt x="2195" y="1624"/>
                  </a:lnTo>
                  <a:lnTo>
                    <a:pt x="2182" y="1615"/>
                  </a:lnTo>
                  <a:lnTo>
                    <a:pt x="2168" y="1607"/>
                  </a:lnTo>
                  <a:lnTo>
                    <a:pt x="2154" y="1599"/>
                  </a:lnTo>
                  <a:lnTo>
                    <a:pt x="2139" y="1592"/>
                  </a:lnTo>
                  <a:lnTo>
                    <a:pt x="2123" y="1584"/>
                  </a:lnTo>
                  <a:lnTo>
                    <a:pt x="2107" y="1577"/>
                  </a:lnTo>
                  <a:lnTo>
                    <a:pt x="2090" y="1571"/>
                  </a:lnTo>
                  <a:lnTo>
                    <a:pt x="2060" y="1561"/>
                  </a:lnTo>
                  <a:lnTo>
                    <a:pt x="2030" y="1552"/>
                  </a:lnTo>
                  <a:lnTo>
                    <a:pt x="1999" y="1543"/>
                  </a:lnTo>
                  <a:lnTo>
                    <a:pt x="1966" y="1536"/>
                  </a:lnTo>
                  <a:lnTo>
                    <a:pt x="1933" y="1530"/>
                  </a:lnTo>
                  <a:lnTo>
                    <a:pt x="1899" y="1525"/>
                  </a:lnTo>
                  <a:lnTo>
                    <a:pt x="1866" y="1520"/>
                  </a:lnTo>
                  <a:lnTo>
                    <a:pt x="1832" y="1516"/>
                  </a:lnTo>
                  <a:lnTo>
                    <a:pt x="1765" y="1508"/>
                  </a:lnTo>
                  <a:lnTo>
                    <a:pt x="1700" y="1503"/>
                  </a:lnTo>
                  <a:lnTo>
                    <a:pt x="1638" y="1499"/>
                  </a:lnTo>
                  <a:lnTo>
                    <a:pt x="1581" y="1496"/>
                  </a:lnTo>
                  <a:lnTo>
                    <a:pt x="1588" y="1450"/>
                  </a:lnTo>
                  <a:lnTo>
                    <a:pt x="1590" y="1426"/>
                  </a:lnTo>
                  <a:lnTo>
                    <a:pt x="1590" y="1422"/>
                  </a:lnTo>
                  <a:lnTo>
                    <a:pt x="1589" y="1420"/>
                  </a:lnTo>
                  <a:lnTo>
                    <a:pt x="1589" y="1422"/>
                  </a:lnTo>
                  <a:lnTo>
                    <a:pt x="1588" y="1425"/>
                  </a:lnTo>
                  <a:lnTo>
                    <a:pt x="1588" y="1430"/>
                  </a:lnTo>
                  <a:lnTo>
                    <a:pt x="1588" y="1435"/>
                  </a:lnTo>
                  <a:lnTo>
                    <a:pt x="1588" y="1440"/>
                  </a:lnTo>
                  <a:lnTo>
                    <a:pt x="1590" y="1444"/>
                  </a:lnTo>
                  <a:lnTo>
                    <a:pt x="1591" y="1446"/>
                  </a:lnTo>
                  <a:lnTo>
                    <a:pt x="1592" y="1446"/>
                  </a:lnTo>
                  <a:lnTo>
                    <a:pt x="1594" y="1447"/>
                  </a:lnTo>
                  <a:lnTo>
                    <a:pt x="1596" y="1446"/>
                  </a:lnTo>
                  <a:lnTo>
                    <a:pt x="1601" y="1443"/>
                  </a:lnTo>
                  <a:lnTo>
                    <a:pt x="1608" y="1434"/>
                  </a:lnTo>
                  <a:lnTo>
                    <a:pt x="1657" y="1429"/>
                  </a:lnTo>
                  <a:lnTo>
                    <a:pt x="1705" y="1421"/>
                  </a:lnTo>
                  <a:lnTo>
                    <a:pt x="1753" y="1412"/>
                  </a:lnTo>
                  <a:lnTo>
                    <a:pt x="1803" y="1399"/>
                  </a:lnTo>
                  <a:lnTo>
                    <a:pt x="1852" y="1386"/>
                  </a:lnTo>
                  <a:lnTo>
                    <a:pt x="1901" y="1372"/>
                  </a:lnTo>
                  <a:lnTo>
                    <a:pt x="1951" y="1355"/>
                  </a:lnTo>
                  <a:lnTo>
                    <a:pt x="2000" y="1337"/>
                  </a:lnTo>
                  <a:lnTo>
                    <a:pt x="2048" y="1317"/>
                  </a:lnTo>
                  <a:lnTo>
                    <a:pt x="2097" y="1296"/>
                  </a:lnTo>
                  <a:lnTo>
                    <a:pt x="2145" y="1274"/>
                  </a:lnTo>
                  <a:lnTo>
                    <a:pt x="2192" y="1249"/>
                  </a:lnTo>
                  <a:lnTo>
                    <a:pt x="2238" y="1225"/>
                  </a:lnTo>
                  <a:lnTo>
                    <a:pt x="2283" y="1198"/>
                  </a:lnTo>
                  <a:lnTo>
                    <a:pt x="2328" y="1171"/>
                  </a:lnTo>
                  <a:lnTo>
                    <a:pt x="2371" y="1142"/>
                  </a:lnTo>
                  <a:lnTo>
                    <a:pt x="2413" y="1113"/>
                  </a:lnTo>
                  <a:lnTo>
                    <a:pt x="2453" y="1082"/>
                  </a:lnTo>
                  <a:lnTo>
                    <a:pt x="2492" y="1051"/>
                  </a:lnTo>
                  <a:lnTo>
                    <a:pt x="2529" y="1018"/>
                  </a:lnTo>
                  <a:lnTo>
                    <a:pt x="2565" y="985"/>
                  </a:lnTo>
                  <a:lnTo>
                    <a:pt x="2598" y="951"/>
                  </a:lnTo>
                  <a:lnTo>
                    <a:pt x="2630" y="917"/>
                  </a:lnTo>
                  <a:lnTo>
                    <a:pt x="2659" y="881"/>
                  </a:lnTo>
                  <a:lnTo>
                    <a:pt x="2686" y="846"/>
                  </a:lnTo>
                  <a:lnTo>
                    <a:pt x="2711" y="810"/>
                  </a:lnTo>
                  <a:lnTo>
                    <a:pt x="2733" y="773"/>
                  </a:lnTo>
                  <a:lnTo>
                    <a:pt x="2752" y="736"/>
                  </a:lnTo>
                  <a:lnTo>
                    <a:pt x="2768" y="699"/>
                  </a:lnTo>
                  <a:lnTo>
                    <a:pt x="2782" y="662"/>
                  </a:lnTo>
                  <a:lnTo>
                    <a:pt x="2793" y="624"/>
                  </a:lnTo>
                  <a:lnTo>
                    <a:pt x="2800" y="587"/>
                  </a:lnTo>
                  <a:lnTo>
                    <a:pt x="2802" y="569"/>
                  </a:lnTo>
                  <a:lnTo>
                    <a:pt x="2803" y="551"/>
                  </a:lnTo>
                  <a:lnTo>
                    <a:pt x="2802" y="535"/>
                  </a:lnTo>
                  <a:lnTo>
                    <a:pt x="2800" y="519"/>
                  </a:lnTo>
                  <a:lnTo>
                    <a:pt x="2796" y="504"/>
                  </a:lnTo>
                  <a:lnTo>
                    <a:pt x="2792" y="491"/>
                  </a:lnTo>
                  <a:lnTo>
                    <a:pt x="2786" y="476"/>
                  </a:lnTo>
                  <a:lnTo>
                    <a:pt x="2780" y="464"/>
                  </a:lnTo>
                  <a:lnTo>
                    <a:pt x="2772" y="452"/>
                  </a:lnTo>
                  <a:lnTo>
                    <a:pt x="2762" y="439"/>
                  </a:lnTo>
                  <a:lnTo>
                    <a:pt x="2753" y="428"/>
                  </a:lnTo>
                  <a:lnTo>
                    <a:pt x="2742" y="418"/>
                  </a:lnTo>
                  <a:lnTo>
                    <a:pt x="2730" y="406"/>
                  </a:lnTo>
                  <a:lnTo>
                    <a:pt x="2719" y="396"/>
                  </a:lnTo>
                  <a:lnTo>
                    <a:pt x="2707" y="386"/>
                  </a:lnTo>
                  <a:lnTo>
                    <a:pt x="2693" y="377"/>
                  </a:lnTo>
                  <a:lnTo>
                    <a:pt x="2667" y="359"/>
                  </a:lnTo>
                  <a:lnTo>
                    <a:pt x="2636" y="343"/>
                  </a:lnTo>
                  <a:lnTo>
                    <a:pt x="2600" y="327"/>
                  </a:lnTo>
                  <a:lnTo>
                    <a:pt x="2561" y="312"/>
                  </a:lnTo>
                  <a:lnTo>
                    <a:pt x="2518" y="299"/>
                  </a:lnTo>
                  <a:lnTo>
                    <a:pt x="2470" y="287"/>
                  </a:lnTo>
                  <a:lnTo>
                    <a:pt x="2421" y="278"/>
                  </a:lnTo>
                  <a:lnTo>
                    <a:pt x="2369" y="270"/>
                  </a:lnTo>
                  <a:lnTo>
                    <a:pt x="2314" y="263"/>
                  </a:lnTo>
                  <a:lnTo>
                    <a:pt x="2258" y="259"/>
                  </a:lnTo>
                  <a:lnTo>
                    <a:pt x="2200" y="257"/>
                  </a:lnTo>
                  <a:lnTo>
                    <a:pt x="2141" y="259"/>
                  </a:lnTo>
                  <a:lnTo>
                    <a:pt x="2080" y="262"/>
                  </a:lnTo>
                  <a:lnTo>
                    <a:pt x="2019" y="270"/>
                  </a:lnTo>
                  <a:lnTo>
                    <a:pt x="1958" y="280"/>
                  </a:lnTo>
                  <a:lnTo>
                    <a:pt x="1896" y="293"/>
                  </a:lnTo>
                  <a:lnTo>
                    <a:pt x="1835" y="310"/>
                  </a:lnTo>
                  <a:lnTo>
                    <a:pt x="1776" y="330"/>
                  </a:lnTo>
                  <a:lnTo>
                    <a:pt x="1717" y="355"/>
                  </a:lnTo>
                  <a:lnTo>
                    <a:pt x="1660" y="384"/>
                  </a:lnTo>
                  <a:lnTo>
                    <a:pt x="1603" y="417"/>
                  </a:lnTo>
                  <a:lnTo>
                    <a:pt x="1550" y="454"/>
                  </a:lnTo>
                  <a:lnTo>
                    <a:pt x="1499" y="496"/>
                  </a:lnTo>
                  <a:lnTo>
                    <a:pt x="1451" y="542"/>
                  </a:lnTo>
                  <a:lnTo>
                    <a:pt x="1406" y="593"/>
                  </a:lnTo>
                  <a:lnTo>
                    <a:pt x="1365" y="650"/>
                  </a:lnTo>
                  <a:lnTo>
                    <a:pt x="1327" y="713"/>
                  </a:lnTo>
                  <a:lnTo>
                    <a:pt x="1293" y="781"/>
                  </a:lnTo>
                  <a:lnTo>
                    <a:pt x="1264" y="854"/>
                  </a:lnTo>
                  <a:lnTo>
                    <a:pt x="1240" y="933"/>
                  </a:lnTo>
                  <a:lnTo>
                    <a:pt x="1222" y="1018"/>
                  </a:lnTo>
                  <a:lnTo>
                    <a:pt x="1209" y="1111"/>
                  </a:lnTo>
                  <a:lnTo>
                    <a:pt x="1215" y="1381"/>
                  </a:lnTo>
                  <a:lnTo>
                    <a:pt x="1205" y="1379"/>
                  </a:lnTo>
                  <a:lnTo>
                    <a:pt x="1191" y="1378"/>
                  </a:lnTo>
                  <a:lnTo>
                    <a:pt x="1174" y="1377"/>
                  </a:lnTo>
                  <a:lnTo>
                    <a:pt x="1153" y="1377"/>
                  </a:lnTo>
                  <a:lnTo>
                    <a:pt x="1107" y="1377"/>
                  </a:lnTo>
                  <a:lnTo>
                    <a:pt x="1053" y="1377"/>
                  </a:lnTo>
                  <a:lnTo>
                    <a:pt x="998" y="1376"/>
                  </a:lnTo>
                  <a:lnTo>
                    <a:pt x="944" y="1375"/>
                  </a:lnTo>
                  <a:lnTo>
                    <a:pt x="918" y="1373"/>
                  </a:lnTo>
                  <a:lnTo>
                    <a:pt x="894" y="1371"/>
                  </a:lnTo>
                  <a:lnTo>
                    <a:pt x="873" y="1368"/>
                  </a:lnTo>
                  <a:lnTo>
                    <a:pt x="853" y="1363"/>
                  </a:lnTo>
                  <a:lnTo>
                    <a:pt x="799" y="1350"/>
                  </a:lnTo>
                  <a:lnTo>
                    <a:pt x="745" y="1337"/>
                  </a:lnTo>
                  <a:lnTo>
                    <a:pt x="694" y="1321"/>
                  </a:lnTo>
                  <a:lnTo>
                    <a:pt x="645" y="1305"/>
                  </a:lnTo>
                  <a:lnTo>
                    <a:pt x="621" y="1297"/>
                  </a:lnTo>
                  <a:lnTo>
                    <a:pt x="598" y="1287"/>
                  </a:lnTo>
                  <a:lnTo>
                    <a:pt x="576" y="1278"/>
                  </a:lnTo>
                  <a:lnTo>
                    <a:pt x="554" y="1269"/>
                  </a:lnTo>
                  <a:lnTo>
                    <a:pt x="533" y="1259"/>
                  </a:lnTo>
                  <a:lnTo>
                    <a:pt x="512" y="1247"/>
                  </a:lnTo>
                  <a:lnTo>
                    <a:pt x="492" y="1237"/>
                  </a:lnTo>
                  <a:lnTo>
                    <a:pt x="474" y="1225"/>
                  </a:lnTo>
                  <a:lnTo>
                    <a:pt x="455" y="1213"/>
                  </a:lnTo>
                  <a:lnTo>
                    <a:pt x="439" y="1200"/>
                  </a:lnTo>
                  <a:lnTo>
                    <a:pt x="423" y="1187"/>
                  </a:lnTo>
                  <a:lnTo>
                    <a:pt x="406" y="1173"/>
                  </a:lnTo>
                  <a:lnTo>
                    <a:pt x="392" y="1159"/>
                  </a:lnTo>
                  <a:lnTo>
                    <a:pt x="378" y="1143"/>
                  </a:lnTo>
                  <a:lnTo>
                    <a:pt x="365" y="1128"/>
                  </a:lnTo>
                  <a:lnTo>
                    <a:pt x="354" y="1112"/>
                  </a:lnTo>
                  <a:lnTo>
                    <a:pt x="342" y="1094"/>
                  </a:lnTo>
                  <a:lnTo>
                    <a:pt x="333" y="1077"/>
                  </a:lnTo>
                  <a:lnTo>
                    <a:pt x="324" y="1058"/>
                  </a:lnTo>
                  <a:lnTo>
                    <a:pt x="317" y="1039"/>
                  </a:lnTo>
                  <a:lnTo>
                    <a:pt x="310" y="1018"/>
                  </a:lnTo>
                  <a:lnTo>
                    <a:pt x="304" y="997"/>
                  </a:lnTo>
                  <a:lnTo>
                    <a:pt x="299" y="976"/>
                  </a:lnTo>
                  <a:lnTo>
                    <a:pt x="296" y="953"/>
                  </a:lnTo>
                  <a:lnTo>
                    <a:pt x="291" y="887"/>
                  </a:lnTo>
                  <a:lnTo>
                    <a:pt x="292" y="825"/>
                  </a:lnTo>
                  <a:lnTo>
                    <a:pt x="298" y="765"/>
                  </a:lnTo>
                  <a:lnTo>
                    <a:pt x="311" y="709"/>
                  </a:lnTo>
                  <a:lnTo>
                    <a:pt x="326" y="655"/>
                  </a:lnTo>
                  <a:lnTo>
                    <a:pt x="347" y="605"/>
                  </a:lnTo>
                  <a:lnTo>
                    <a:pt x="371" y="556"/>
                  </a:lnTo>
                  <a:lnTo>
                    <a:pt x="400" y="511"/>
                  </a:lnTo>
                  <a:lnTo>
                    <a:pt x="432" y="469"/>
                  </a:lnTo>
                  <a:lnTo>
                    <a:pt x="466" y="430"/>
                  </a:lnTo>
                  <a:lnTo>
                    <a:pt x="504" y="393"/>
                  </a:lnTo>
                  <a:lnTo>
                    <a:pt x="544" y="358"/>
                  </a:lnTo>
                  <a:lnTo>
                    <a:pt x="585" y="326"/>
                  </a:lnTo>
                  <a:lnTo>
                    <a:pt x="629" y="296"/>
                  </a:lnTo>
                  <a:lnTo>
                    <a:pt x="673" y="270"/>
                  </a:lnTo>
                  <a:lnTo>
                    <a:pt x="720" y="244"/>
                  </a:lnTo>
                  <a:lnTo>
                    <a:pt x="766" y="221"/>
                  </a:lnTo>
                  <a:lnTo>
                    <a:pt x="813" y="201"/>
                  </a:lnTo>
                  <a:lnTo>
                    <a:pt x="859" y="182"/>
                  </a:lnTo>
                  <a:lnTo>
                    <a:pt x="907" y="166"/>
                  </a:lnTo>
                  <a:lnTo>
                    <a:pt x="952" y="150"/>
                  </a:lnTo>
                  <a:lnTo>
                    <a:pt x="997" y="138"/>
                  </a:lnTo>
                  <a:lnTo>
                    <a:pt x="1040" y="127"/>
                  </a:lnTo>
                  <a:lnTo>
                    <a:pt x="1082" y="119"/>
                  </a:lnTo>
                  <a:lnTo>
                    <a:pt x="1122" y="110"/>
                  </a:lnTo>
                  <a:lnTo>
                    <a:pt x="1159" y="105"/>
                  </a:lnTo>
                  <a:lnTo>
                    <a:pt x="1194" y="101"/>
                  </a:lnTo>
                  <a:lnTo>
                    <a:pt x="1226" y="98"/>
                  </a:lnTo>
                  <a:lnTo>
                    <a:pt x="1254" y="97"/>
                  </a:lnTo>
                  <a:lnTo>
                    <a:pt x="1279" y="97"/>
                  </a:lnTo>
                  <a:lnTo>
                    <a:pt x="1299" y="99"/>
                  </a:lnTo>
                  <a:lnTo>
                    <a:pt x="1316" y="101"/>
                  </a:lnTo>
                  <a:lnTo>
                    <a:pt x="1331" y="39"/>
                  </a:lnTo>
                  <a:lnTo>
                    <a:pt x="1254" y="20"/>
                  </a:lnTo>
                  <a:lnTo>
                    <a:pt x="1207" y="11"/>
                  </a:lnTo>
                  <a:lnTo>
                    <a:pt x="1159" y="3"/>
                  </a:lnTo>
                  <a:lnTo>
                    <a:pt x="1111" y="0"/>
                  </a:lnTo>
                  <a:lnTo>
                    <a:pt x="1064" y="0"/>
                  </a:lnTo>
                  <a:lnTo>
                    <a:pt x="1015" y="2"/>
                  </a:lnTo>
                  <a:lnTo>
                    <a:pt x="967" y="9"/>
                  </a:lnTo>
                  <a:lnTo>
                    <a:pt x="919" y="17"/>
                  </a:lnTo>
                  <a:lnTo>
                    <a:pt x="871" y="28"/>
                  </a:lnTo>
                  <a:lnTo>
                    <a:pt x="822" y="42"/>
                  </a:lnTo>
                  <a:lnTo>
                    <a:pt x="775" y="59"/>
                  </a:lnTo>
                  <a:lnTo>
                    <a:pt x="729" y="78"/>
                  </a:lnTo>
                  <a:lnTo>
                    <a:pt x="683" y="100"/>
                  </a:lnTo>
                  <a:lnTo>
                    <a:pt x="638" y="124"/>
                  </a:lnTo>
                  <a:lnTo>
                    <a:pt x="594" y="150"/>
                  </a:lnTo>
                  <a:lnTo>
                    <a:pt x="551" y="179"/>
                  </a:lnTo>
                  <a:lnTo>
                    <a:pt x="509" y="209"/>
                  </a:lnTo>
                  <a:lnTo>
                    <a:pt x="469" y="242"/>
                  </a:lnTo>
                  <a:lnTo>
                    <a:pt x="431" y="277"/>
                  </a:lnTo>
                  <a:lnTo>
                    <a:pt x="393" y="314"/>
                  </a:lnTo>
                  <a:lnTo>
                    <a:pt x="358" y="352"/>
                  </a:lnTo>
                  <a:lnTo>
                    <a:pt x="325" y="392"/>
                  </a:lnTo>
                  <a:lnTo>
                    <a:pt x="293" y="434"/>
                  </a:lnTo>
                  <a:lnTo>
                    <a:pt x="264" y="477"/>
                  </a:lnTo>
                  <a:lnTo>
                    <a:pt x="238" y="521"/>
                  </a:lnTo>
                  <a:lnTo>
                    <a:pt x="213" y="568"/>
                  </a:lnTo>
                  <a:lnTo>
                    <a:pt x="191" y="616"/>
                  </a:lnTo>
                  <a:lnTo>
                    <a:pt x="173" y="664"/>
                  </a:lnTo>
                  <a:lnTo>
                    <a:pt x="156" y="714"/>
                  </a:lnTo>
                  <a:lnTo>
                    <a:pt x="143" y="765"/>
                  </a:lnTo>
                  <a:lnTo>
                    <a:pt x="133" y="817"/>
                  </a:lnTo>
                  <a:lnTo>
                    <a:pt x="126" y="870"/>
                  </a:lnTo>
                  <a:lnTo>
                    <a:pt x="123" y="923"/>
                  </a:lnTo>
                  <a:lnTo>
                    <a:pt x="123" y="956"/>
                  </a:lnTo>
                  <a:lnTo>
                    <a:pt x="125" y="987"/>
                  </a:lnTo>
                  <a:lnTo>
                    <a:pt x="129" y="1017"/>
                  </a:lnTo>
                  <a:lnTo>
                    <a:pt x="136" y="1046"/>
                  </a:lnTo>
                  <a:lnTo>
                    <a:pt x="144" y="1073"/>
                  </a:lnTo>
                  <a:lnTo>
                    <a:pt x="154" y="1098"/>
                  </a:lnTo>
                  <a:lnTo>
                    <a:pt x="167" y="1124"/>
                  </a:lnTo>
                  <a:lnTo>
                    <a:pt x="180" y="1148"/>
                  </a:lnTo>
                  <a:lnTo>
                    <a:pt x="195" y="1170"/>
                  </a:lnTo>
                  <a:lnTo>
                    <a:pt x="213" y="1192"/>
                  </a:lnTo>
                  <a:lnTo>
                    <a:pt x="231" y="1212"/>
                  </a:lnTo>
                  <a:lnTo>
                    <a:pt x="252" y="1232"/>
                  </a:lnTo>
                  <a:lnTo>
                    <a:pt x="274" y="1249"/>
                  </a:lnTo>
                  <a:lnTo>
                    <a:pt x="296" y="1268"/>
                  </a:lnTo>
                  <a:lnTo>
                    <a:pt x="320" y="1284"/>
                  </a:lnTo>
                  <a:lnTo>
                    <a:pt x="345" y="1300"/>
                  </a:lnTo>
                  <a:lnTo>
                    <a:pt x="371" y="1314"/>
                  </a:lnTo>
                  <a:lnTo>
                    <a:pt x="399" y="1328"/>
                  </a:lnTo>
                  <a:lnTo>
                    <a:pt x="427" y="1342"/>
                  </a:lnTo>
                  <a:lnTo>
                    <a:pt x="455" y="1354"/>
                  </a:lnTo>
                  <a:lnTo>
                    <a:pt x="485" y="1365"/>
                  </a:lnTo>
                  <a:lnTo>
                    <a:pt x="515" y="1377"/>
                  </a:lnTo>
                  <a:lnTo>
                    <a:pt x="547" y="1387"/>
                  </a:lnTo>
                  <a:lnTo>
                    <a:pt x="578" y="1397"/>
                  </a:lnTo>
                  <a:lnTo>
                    <a:pt x="610" y="1407"/>
                  </a:lnTo>
                  <a:lnTo>
                    <a:pt x="641" y="1415"/>
                  </a:lnTo>
                  <a:lnTo>
                    <a:pt x="674" y="1423"/>
                  </a:lnTo>
                  <a:lnTo>
                    <a:pt x="707" y="1431"/>
                  </a:lnTo>
                  <a:lnTo>
                    <a:pt x="773" y="1445"/>
                  </a:lnTo>
                  <a:lnTo>
                    <a:pt x="839" y="1457"/>
                  </a:lnTo>
                  <a:lnTo>
                    <a:pt x="857" y="1460"/>
                  </a:lnTo>
                  <a:lnTo>
                    <a:pt x="880" y="1462"/>
                  </a:lnTo>
                  <a:lnTo>
                    <a:pt x="906" y="1463"/>
                  </a:lnTo>
                  <a:lnTo>
                    <a:pt x="933" y="1464"/>
                  </a:lnTo>
                  <a:lnTo>
                    <a:pt x="993" y="1465"/>
                  </a:lnTo>
                  <a:lnTo>
                    <a:pt x="1053" y="1464"/>
                  </a:lnTo>
                  <a:lnTo>
                    <a:pt x="1111" y="1463"/>
                  </a:lnTo>
                  <a:lnTo>
                    <a:pt x="1160" y="1462"/>
                  </a:lnTo>
                  <a:lnTo>
                    <a:pt x="1195" y="1461"/>
                  </a:lnTo>
                  <a:lnTo>
                    <a:pt x="1212" y="1460"/>
                  </a:lnTo>
                  <a:lnTo>
                    <a:pt x="1208" y="1471"/>
                  </a:lnTo>
                  <a:lnTo>
                    <a:pt x="1204" y="1479"/>
                  </a:lnTo>
                  <a:lnTo>
                    <a:pt x="1200" y="1484"/>
                  </a:lnTo>
                  <a:lnTo>
                    <a:pt x="1197" y="1486"/>
                  </a:lnTo>
                  <a:lnTo>
                    <a:pt x="1196" y="1486"/>
                  </a:lnTo>
                  <a:lnTo>
                    <a:pt x="1195" y="1485"/>
                  </a:lnTo>
                  <a:lnTo>
                    <a:pt x="1195" y="1483"/>
                  </a:lnTo>
                  <a:lnTo>
                    <a:pt x="1197" y="1481"/>
                  </a:lnTo>
                  <a:lnTo>
                    <a:pt x="1200" y="1479"/>
                  </a:lnTo>
                  <a:lnTo>
                    <a:pt x="1206" y="1477"/>
                  </a:lnTo>
                  <a:lnTo>
                    <a:pt x="1212" y="1477"/>
                  </a:lnTo>
                  <a:lnTo>
                    <a:pt x="1221" y="1478"/>
                  </a:lnTo>
                  <a:lnTo>
                    <a:pt x="1231" y="1481"/>
                  </a:lnTo>
                  <a:lnTo>
                    <a:pt x="1244" y="1487"/>
                  </a:lnTo>
                  <a:lnTo>
                    <a:pt x="1259" y="1496"/>
                  </a:lnTo>
                  <a:lnTo>
                    <a:pt x="1276" y="1508"/>
                  </a:lnTo>
                  <a:lnTo>
                    <a:pt x="1151" y="1558"/>
                  </a:lnTo>
                  <a:lnTo>
                    <a:pt x="1032" y="1606"/>
                  </a:lnTo>
                  <a:lnTo>
                    <a:pt x="975" y="1630"/>
                  </a:lnTo>
                  <a:lnTo>
                    <a:pt x="920" y="1654"/>
                  </a:lnTo>
                  <a:lnTo>
                    <a:pt x="865" y="1678"/>
                  </a:lnTo>
                  <a:lnTo>
                    <a:pt x="813" y="1703"/>
                  </a:lnTo>
                  <a:lnTo>
                    <a:pt x="763" y="1727"/>
                  </a:lnTo>
                  <a:lnTo>
                    <a:pt x="713" y="1753"/>
                  </a:lnTo>
                  <a:lnTo>
                    <a:pt x="665" y="1779"/>
                  </a:lnTo>
                  <a:lnTo>
                    <a:pt x="619" y="1805"/>
                  </a:lnTo>
                  <a:lnTo>
                    <a:pt x="575" y="1833"/>
                  </a:lnTo>
                  <a:lnTo>
                    <a:pt x="531" y="1861"/>
                  </a:lnTo>
                  <a:lnTo>
                    <a:pt x="489" y="1891"/>
                  </a:lnTo>
                  <a:lnTo>
                    <a:pt x="449" y="1922"/>
                  </a:lnTo>
                  <a:lnTo>
                    <a:pt x="411" y="1954"/>
                  </a:lnTo>
                  <a:lnTo>
                    <a:pt x="374" y="1986"/>
                  </a:lnTo>
                  <a:lnTo>
                    <a:pt x="338" y="2021"/>
                  </a:lnTo>
                  <a:lnTo>
                    <a:pt x="304" y="2058"/>
                  </a:lnTo>
                  <a:lnTo>
                    <a:pt x="273" y="2096"/>
                  </a:lnTo>
                  <a:lnTo>
                    <a:pt x="242" y="2136"/>
                  </a:lnTo>
                  <a:lnTo>
                    <a:pt x="213" y="2179"/>
                  </a:lnTo>
                  <a:lnTo>
                    <a:pt x="185" y="2223"/>
                  </a:lnTo>
                  <a:lnTo>
                    <a:pt x="158" y="2269"/>
                  </a:lnTo>
                  <a:lnTo>
                    <a:pt x="134" y="2317"/>
                  </a:lnTo>
                  <a:lnTo>
                    <a:pt x="111" y="2369"/>
                  </a:lnTo>
                  <a:lnTo>
                    <a:pt x="90" y="2422"/>
                  </a:lnTo>
                  <a:lnTo>
                    <a:pt x="69" y="2478"/>
                  </a:lnTo>
                  <a:lnTo>
                    <a:pt x="51" y="2536"/>
                  </a:lnTo>
                  <a:lnTo>
                    <a:pt x="34" y="2598"/>
                  </a:lnTo>
                  <a:lnTo>
                    <a:pt x="19" y="2663"/>
                  </a:lnTo>
                  <a:lnTo>
                    <a:pt x="12" y="2697"/>
                  </a:lnTo>
                  <a:lnTo>
                    <a:pt x="6" y="2733"/>
                  </a:lnTo>
                  <a:lnTo>
                    <a:pt x="3" y="2771"/>
                  </a:lnTo>
                  <a:lnTo>
                    <a:pt x="1" y="2811"/>
                  </a:lnTo>
                  <a:lnTo>
                    <a:pt x="0" y="2852"/>
                  </a:lnTo>
                  <a:lnTo>
                    <a:pt x="2" y="2895"/>
                  </a:lnTo>
                  <a:lnTo>
                    <a:pt x="4" y="2939"/>
                  </a:lnTo>
                  <a:lnTo>
                    <a:pt x="9" y="2986"/>
                  </a:lnTo>
                  <a:lnTo>
                    <a:pt x="16" y="3032"/>
                  </a:lnTo>
                  <a:lnTo>
                    <a:pt x="24" y="3079"/>
                  </a:lnTo>
                  <a:lnTo>
                    <a:pt x="34" y="3126"/>
                  </a:lnTo>
                  <a:lnTo>
                    <a:pt x="46" y="3175"/>
                  </a:lnTo>
                  <a:lnTo>
                    <a:pt x="61" y="3222"/>
                  </a:lnTo>
                  <a:lnTo>
                    <a:pt x="77" y="3270"/>
                  </a:lnTo>
                  <a:lnTo>
                    <a:pt x="96" y="3319"/>
                  </a:lnTo>
                  <a:lnTo>
                    <a:pt x="116" y="3366"/>
                  </a:lnTo>
                  <a:lnTo>
                    <a:pt x="139" y="3412"/>
                  </a:lnTo>
                  <a:lnTo>
                    <a:pt x="165" y="3457"/>
                  </a:lnTo>
                  <a:lnTo>
                    <a:pt x="191" y="3503"/>
                  </a:lnTo>
                  <a:lnTo>
                    <a:pt x="222" y="3546"/>
                  </a:lnTo>
                  <a:lnTo>
                    <a:pt x="254" y="3588"/>
                  </a:lnTo>
                  <a:lnTo>
                    <a:pt x="289" y="3628"/>
                  </a:lnTo>
                  <a:lnTo>
                    <a:pt x="326" y="3666"/>
                  </a:lnTo>
                  <a:lnTo>
                    <a:pt x="366" y="3702"/>
                  </a:lnTo>
                  <a:lnTo>
                    <a:pt x="408" y="3736"/>
                  </a:lnTo>
                  <a:lnTo>
                    <a:pt x="453" y="3768"/>
                  </a:lnTo>
                  <a:lnTo>
                    <a:pt x="502" y="3797"/>
                  </a:lnTo>
                  <a:lnTo>
                    <a:pt x="553" y="3822"/>
                  </a:lnTo>
                  <a:lnTo>
                    <a:pt x="606" y="3846"/>
                  </a:lnTo>
                  <a:lnTo>
                    <a:pt x="663" y="3866"/>
                  </a:lnTo>
                  <a:lnTo>
                    <a:pt x="723" y="3882"/>
                  </a:lnTo>
                  <a:lnTo>
                    <a:pt x="785" y="3894"/>
                  </a:lnTo>
                  <a:lnTo>
                    <a:pt x="876" y="3907"/>
                  </a:lnTo>
                  <a:lnTo>
                    <a:pt x="964" y="3914"/>
                  </a:lnTo>
                  <a:lnTo>
                    <a:pt x="1050" y="3916"/>
                  </a:lnTo>
                  <a:lnTo>
                    <a:pt x="1135" y="3914"/>
                  </a:lnTo>
                  <a:lnTo>
                    <a:pt x="1216" y="3907"/>
                  </a:lnTo>
                  <a:lnTo>
                    <a:pt x="1295" y="3895"/>
                  </a:lnTo>
                  <a:lnTo>
                    <a:pt x="1372" y="3880"/>
                  </a:lnTo>
                  <a:lnTo>
                    <a:pt x="1447" y="3860"/>
                  </a:lnTo>
                  <a:lnTo>
                    <a:pt x="1519" y="3837"/>
                  </a:lnTo>
                  <a:lnTo>
                    <a:pt x="1589" y="3810"/>
                  </a:lnTo>
                  <a:lnTo>
                    <a:pt x="1656" y="3779"/>
                  </a:lnTo>
                  <a:lnTo>
                    <a:pt x="1720" y="3745"/>
                  </a:lnTo>
                  <a:lnTo>
                    <a:pt x="1782" y="3709"/>
                  </a:lnTo>
                  <a:lnTo>
                    <a:pt x="1842" y="3669"/>
                  </a:lnTo>
                  <a:lnTo>
                    <a:pt x="1898" y="3627"/>
                  </a:lnTo>
                  <a:lnTo>
                    <a:pt x="1952" y="3583"/>
                  </a:lnTo>
                  <a:lnTo>
                    <a:pt x="2003" y="3537"/>
                  </a:lnTo>
                  <a:lnTo>
                    <a:pt x="2051" y="3487"/>
                  </a:lnTo>
                  <a:lnTo>
                    <a:pt x="2096" y="3437"/>
                  </a:lnTo>
                  <a:lnTo>
                    <a:pt x="2140" y="3384"/>
                  </a:lnTo>
                  <a:lnTo>
                    <a:pt x="2179" y="3331"/>
                  </a:lnTo>
                  <a:lnTo>
                    <a:pt x="2216" y="3277"/>
                  </a:lnTo>
                  <a:lnTo>
                    <a:pt x="2250" y="3221"/>
                  </a:lnTo>
                  <a:lnTo>
                    <a:pt x="2280" y="3164"/>
                  </a:lnTo>
                  <a:lnTo>
                    <a:pt x="2308" y="3107"/>
                  </a:lnTo>
                  <a:lnTo>
                    <a:pt x="2332" y="3049"/>
                  </a:lnTo>
                  <a:lnTo>
                    <a:pt x="2353" y="2992"/>
                  </a:lnTo>
                  <a:lnTo>
                    <a:pt x="2372" y="2933"/>
                  </a:lnTo>
                  <a:lnTo>
                    <a:pt x="2387" y="2876"/>
                  </a:lnTo>
                  <a:lnTo>
                    <a:pt x="2399" y="2819"/>
                  </a:lnTo>
                  <a:lnTo>
                    <a:pt x="2407" y="2763"/>
                  </a:lnTo>
                  <a:lnTo>
                    <a:pt x="2412" y="2706"/>
                  </a:lnTo>
                  <a:lnTo>
                    <a:pt x="2413" y="2690"/>
                  </a:lnTo>
                  <a:lnTo>
                    <a:pt x="2413" y="2672"/>
                  </a:lnTo>
                  <a:lnTo>
                    <a:pt x="2413" y="2656"/>
                  </a:lnTo>
                  <a:lnTo>
                    <a:pt x="2412" y="2639"/>
                  </a:lnTo>
                  <a:lnTo>
                    <a:pt x="2411" y="2622"/>
                  </a:lnTo>
                  <a:lnTo>
                    <a:pt x="2409" y="2605"/>
                  </a:lnTo>
                  <a:lnTo>
                    <a:pt x="2406" y="2589"/>
                  </a:lnTo>
                  <a:lnTo>
                    <a:pt x="2403" y="2572"/>
                  </a:lnTo>
                  <a:lnTo>
                    <a:pt x="2399" y="2556"/>
                  </a:lnTo>
                  <a:lnTo>
                    <a:pt x="2393" y="2539"/>
                  </a:lnTo>
                  <a:lnTo>
                    <a:pt x="2388" y="2523"/>
                  </a:lnTo>
                  <a:lnTo>
                    <a:pt x="2382" y="2508"/>
                  </a:lnTo>
                  <a:lnTo>
                    <a:pt x="2375" y="2492"/>
                  </a:lnTo>
                  <a:lnTo>
                    <a:pt x="2367" y="2477"/>
                  </a:lnTo>
                  <a:lnTo>
                    <a:pt x="2358" y="2461"/>
                  </a:lnTo>
                  <a:lnTo>
                    <a:pt x="2349" y="2447"/>
                  </a:lnTo>
                  <a:lnTo>
                    <a:pt x="2339" y="2433"/>
                  </a:lnTo>
                  <a:lnTo>
                    <a:pt x="2328" y="2418"/>
                  </a:lnTo>
                  <a:lnTo>
                    <a:pt x="2316" y="2405"/>
                  </a:lnTo>
                  <a:lnTo>
                    <a:pt x="2303" y="2391"/>
                  </a:lnTo>
                  <a:lnTo>
                    <a:pt x="2290" y="2379"/>
                  </a:lnTo>
                  <a:lnTo>
                    <a:pt x="2275" y="2367"/>
                  </a:lnTo>
                  <a:lnTo>
                    <a:pt x="2260" y="2354"/>
                  </a:lnTo>
                  <a:lnTo>
                    <a:pt x="2243" y="2343"/>
                  </a:lnTo>
                  <a:lnTo>
                    <a:pt x="2226" y="2332"/>
                  </a:lnTo>
                  <a:lnTo>
                    <a:pt x="2207" y="2322"/>
                  </a:lnTo>
                  <a:lnTo>
                    <a:pt x="2187" y="2311"/>
                  </a:lnTo>
                  <a:lnTo>
                    <a:pt x="2166" y="2302"/>
                  </a:lnTo>
                  <a:lnTo>
                    <a:pt x="2145" y="2294"/>
                  </a:lnTo>
                  <a:lnTo>
                    <a:pt x="2122" y="2286"/>
                  </a:lnTo>
                  <a:lnTo>
                    <a:pt x="2099" y="2278"/>
                  </a:lnTo>
                  <a:lnTo>
                    <a:pt x="2073" y="2271"/>
                  </a:lnTo>
                  <a:lnTo>
                    <a:pt x="2036" y="2261"/>
                  </a:lnTo>
                  <a:lnTo>
                    <a:pt x="1998" y="2254"/>
                  </a:lnTo>
                  <a:lnTo>
                    <a:pt x="1958" y="2246"/>
                  </a:lnTo>
                  <a:lnTo>
                    <a:pt x="1918" y="2242"/>
                  </a:lnTo>
                  <a:lnTo>
                    <a:pt x="1876" y="2239"/>
                  </a:lnTo>
                  <a:lnTo>
                    <a:pt x="1834" y="2239"/>
                  </a:lnTo>
                  <a:lnTo>
                    <a:pt x="1792" y="2240"/>
                  </a:lnTo>
                  <a:lnTo>
                    <a:pt x="1750" y="2243"/>
                  </a:lnTo>
                  <a:lnTo>
                    <a:pt x="1708" y="2250"/>
                  </a:lnTo>
                  <a:lnTo>
                    <a:pt x="1667" y="2258"/>
                  </a:lnTo>
                  <a:lnTo>
                    <a:pt x="1626" y="2268"/>
                  </a:lnTo>
                  <a:lnTo>
                    <a:pt x="1587" y="2280"/>
                  </a:lnTo>
                  <a:lnTo>
                    <a:pt x="1548" y="2296"/>
                  </a:lnTo>
                  <a:lnTo>
                    <a:pt x="1511" y="2314"/>
                  </a:lnTo>
                  <a:lnTo>
                    <a:pt x="1476" y="2335"/>
                  </a:lnTo>
                  <a:lnTo>
                    <a:pt x="1443" y="2358"/>
                  </a:lnTo>
                  <a:lnTo>
                    <a:pt x="1411" y="2384"/>
                  </a:lnTo>
                  <a:lnTo>
                    <a:pt x="1382" y="2413"/>
                  </a:lnTo>
                  <a:lnTo>
                    <a:pt x="1357" y="2445"/>
                  </a:lnTo>
                  <a:lnTo>
                    <a:pt x="1333" y="2480"/>
                  </a:lnTo>
                  <a:lnTo>
                    <a:pt x="1313" y="2518"/>
                  </a:lnTo>
                  <a:lnTo>
                    <a:pt x="1296" y="2559"/>
                  </a:lnTo>
                  <a:lnTo>
                    <a:pt x="1284" y="2603"/>
                  </a:lnTo>
                  <a:lnTo>
                    <a:pt x="1274" y="2650"/>
                  </a:lnTo>
                  <a:lnTo>
                    <a:pt x="1269" y="2702"/>
                  </a:lnTo>
                  <a:lnTo>
                    <a:pt x="1268" y="2756"/>
                  </a:lnTo>
                  <a:lnTo>
                    <a:pt x="1271" y="2815"/>
                  </a:lnTo>
                  <a:lnTo>
                    <a:pt x="1281" y="2877"/>
                  </a:lnTo>
                  <a:lnTo>
                    <a:pt x="1294" y="2941"/>
                  </a:lnTo>
                  <a:lnTo>
                    <a:pt x="1312" y="3010"/>
                  </a:lnTo>
                  <a:lnTo>
                    <a:pt x="1337" y="3083"/>
                  </a:lnTo>
                  <a:lnTo>
                    <a:pt x="1368" y="3160"/>
                  </a:lnTo>
                  <a:lnTo>
                    <a:pt x="1549" y="3239"/>
                  </a:lnTo>
                  <a:lnTo>
                    <a:pt x="1546" y="3230"/>
                  </a:lnTo>
                  <a:lnTo>
                    <a:pt x="1534" y="3204"/>
                  </a:lnTo>
                  <a:lnTo>
                    <a:pt x="1527" y="3183"/>
                  </a:lnTo>
                  <a:lnTo>
                    <a:pt x="1518" y="3159"/>
                  </a:lnTo>
                  <a:lnTo>
                    <a:pt x="1509" y="3133"/>
                  </a:lnTo>
                  <a:lnTo>
                    <a:pt x="1499" y="3102"/>
                  </a:lnTo>
                  <a:lnTo>
                    <a:pt x="1490" y="3069"/>
                  </a:lnTo>
                  <a:lnTo>
                    <a:pt x="1481" y="3034"/>
                  </a:lnTo>
                  <a:lnTo>
                    <a:pt x="1473" y="2996"/>
                  </a:lnTo>
                  <a:lnTo>
                    <a:pt x="1466" y="2957"/>
                  </a:lnTo>
                  <a:lnTo>
                    <a:pt x="1460" y="2917"/>
                  </a:lnTo>
                  <a:lnTo>
                    <a:pt x="1456" y="2876"/>
                  </a:lnTo>
                  <a:lnTo>
                    <a:pt x="1455" y="2833"/>
                  </a:lnTo>
                  <a:lnTo>
                    <a:pt x="1455" y="2791"/>
                  </a:lnTo>
                  <a:lnTo>
                    <a:pt x="1459" y="2749"/>
                  </a:lnTo>
                  <a:lnTo>
                    <a:pt x="1467" y="2708"/>
                  </a:lnTo>
                  <a:lnTo>
                    <a:pt x="1477" y="2668"/>
                  </a:lnTo>
                  <a:lnTo>
                    <a:pt x="1490" y="2628"/>
                  </a:lnTo>
                  <a:lnTo>
                    <a:pt x="1509" y="2590"/>
                  </a:lnTo>
                  <a:lnTo>
                    <a:pt x="1531" y="2554"/>
                  </a:lnTo>
                  <a:lnTo>
                    <a:pt x="1559" y="2520"/>
                  </a:lnTo>
                  <a:lnTo>
                    <a:pt x="1592" y="2489"/>
                  </a:lnTo>
                  <a:lnTo>
                    <a:pt x="1631" y="2461"/>
                  </a:lnTo>
                  <a:lnTo>
                    <a:pt x="1675" y="2436"/>
                  </a:lnTo>
                  <a:lnTo>
                    <a:pt x="1726" y="2415"/>
                  </a:lnTo>
                  <a:lnTo>
                    <a:pt x="1782" y="2398"/>
                  </a:lnTo>
                  <a:lnTo>
                    <a:pt x="1847" y="2385"/>
                  </a:lnTo>
                  <a:lnTo>
                    <a:pt x="1918" y="2377"/>
                  </a:lnTo>
                  <a:lnTo>
                    <a:pt x="1997" y="2374"/>
                  </a:lnTo>
                  <a:lnTo>
                    <a:pt x="2083" y="2376"/>
                  </a:lnTo>
                  <a:lnTo>
                    <a:pt x="2110" y="2383"/>
                  </a:lnTo>
                  <a:lnTo>
                    <a:pt x="2134" y="2393"/>
                  </a:lnTo>
                  <a:lnTo>
                    <a:pt x="2156" y="2407"/>
                  </a:lnTo>
                  <a:lnTo>
                    <a:pt x="2175" y="2423"/>
                  </a:lnTo>
                  <a:lnTo>
                    <a:pt x="2192" y="2443"/>
                  </a:lnTo>
                  <a:lnTo>
                    <a:pt x="2206" y="2464"/>
                  </a:lnTo>
                  <a:lnTo>
                    <a:pt x="2219" y="2489"/>
                  </a:lnTo>
                  <a:lnTo>
                    <a:pt x="2229" y="2515"/>
                  </a:lnTo>
                  <a:lnTo>
                    <a:pt x="2237" y="2544"/>
                  </a:lnTo>
                  <a:lnTo>
                    <a:pt x="2243" y="2574"/>
                  </a:lnTo>
                  <a:lnTo>
                    <a:pt x="2248" y="2606"/>
                  </a:lnTo>
                  <a:lnTo>
                    <a:pt x="2251" y="2639"/>
                  </a:lnTo>
                  <a:lnTo>
                    <a:pt x="2253" y="2674"/>
                  </a:lnTo>
                  <a:lnTo>
                    <a:pt x="2253" y="2709"/>
                  </a:lnTo>
                  <a:lnTo>
                    <a:pt x="2251" y="2745"/>
                  </a:lnTo>
                  <a:lnTo>
                    <a:pt x="2249" y="2781"/>
                  </a:lnTo>
                  <a:lnTo>
                    <a:pt x="2244" y="2818"/>
                  </a:lnTo>
                  <a:lnTo>
                    <a:pt x="2240" y="2854"/>
                  </a:lnTo>
                  <a:lnTo>
                    <a:pt x="2234" y="2891"/>
                  </a:lnTo>
                  <a:lnTo>
                    <a:pt x="2228" y="2927"/>
                  </a:lnTo>
                  <a:lnTo>
                    <a:pt x="2221" y="2962"/>
                  </a:lnTo>
                  <a:lnTo>
                    <a:pt x="2213" y="2997"/>
                  </a:lnTo>
                  <a:lnTo>
                    <a:pt x="2204" y="3030"/>
                  </a:lnTo>
                  <a:lnTo>
                    <a:pt x="2196" y="3062"/>
                  </a:lnTo>
                  <a:lnTo>
                    <a:pt x="2187" y="3093"/>
                  </a:lnTo>
                  <a:lnTo>
                    <a:pt x="2178" y="3121"/>
                  </a:lnTo>
                  <a:lnTo>
                    <a:pt x="2168" y="3149"/>
                  </a:lnTo>
                  <a:lnTo>
                    <a:pt x="2159" y="3174"/>
                  </a:lnTo>
                  <a:lnTo>
                    <a:pt x="2150" y="3195"/>
                  </a:lnTo>
                  <a:lnTo>
                    <a:pt x="2142" y="3216"/>
                  </a:lnTo>
                  <a:lnTo>
                    <a:pt x="2132" y="3232"/>
                  </a:lnTo>
                  <a:lnTo>
                    <a:pt x="2125" y="3247"/>
                  </a:lnTo>
                  <a:lnTo>
                    <a:pt x="2104" y="3279"/>
                  </a:lnTo>
                  <a:lnTo>
                    <a:pt x="2075" y="3319"/>
                  </a:lnTo>
                  <a:lnTo>
                    <a:pt x="2057" y="3341"/>
                  </a:lnTo>
                  <a:lnTo>
                    <a:pt x="2039" y="3366"/>
                  </a:lnTo>
                  <a:lnTo>
                    <a:pt x="2018" y="3391"/>
                  </a:lnTo>
                  <a:lnTo>
                    <a:pt x="1996" y="3416"/>
                  </a:lnTo>
                  <a:lnTo>
                    <a:pt x="1971" y="3443"/>
                  </a:lnTo>
                  <a:lnTo>
                    <a:pt x="1944" y="3471"/>
                  </a:lnTo>
                  <a:lnTo>
                    <a:pt x="1917" y="3498"/>
                  </a:lnTo>
                  <a:lnTo>
                    <a:pt x="1887" y="3525"/>
                  </a:lnTo>
                  <a:lnTo>
                    <a:pt x="1856" y="3553"/>
                  </a:lnTo>
                  <a:lnTo>
                    <a:pt x="1822" y="3581"/>
                  </a:lnTo>
                  <a:lnTo>
                    <a:pt x="1787" y="3608"/>
                  </a:lnTo>
                  <a:lnTo>
                    <a:pt x="1750" y="3633"/>
                  </a:lnTo>
                  <a:lnTo>
                    <a:pt x="1711" y="3659"/>
                  </a:lnTo>
                  <a:lnTo>
                    <a:pt x="1671" y="3683"/>
                  </a:lnTo>
                  <a:lnTo>
                    <a:pt x="1629" y="3705"/>
                  </a:lnTo>
                  <a:lnTo>
                    <a:pt x="1585" y="3727"/>
                  </a:lnTo>
                  <a:lnTo>
                    <a:pt x="1538" y="3746"/>
                  </a:lnTo>
                  <a:lnTo>
                    <a:pt x="1491" y="3764"/>
                  </a:lnTo>
                  <a:lnTo>
                    <a:pt x="1442" y="3779"/>
                  </a:lnTo>
                  <a:lnTo>
                    <a:pt x="1391" y="3793"/>
                  </a:lnTo>
                  <a:lnTo>
                    <a:pt x="1338" y="3803"/>
                  </a:lnTo>
                  <a:lnTo>
                    <a:pt x="1284" y="3811"/>
                  </a:lnTo>
                  <a:lnTo>
                    <a:pt x="1227" y="3816"/>
                  </a:lnTo>
                  <a:lnTo>
                    <a:pt x="1170" y="3817"/>
                  </a:lnTo>
                  <a:lnTo>
                    <a:pt x="1109" y="3816"/>
                  </a:lnTo>
                  <a:lnTo>
                    <a:pt x="1048" y="3811"/>
                  </a:lnTo>
                  <a:lnTo>
                    <a:pt x="985" y="3802"/>
                  </a:lnTo>
                  <a:lnTo>
                    <a:pt x="920" y="3790"/>
                  </a:lnTo>
                  <a:close/>
                  <a:moveTo>
                    <a:pt x="2644" y="450"/>
                  </a:moveTo>
                  <a:lnTo>
                    <a:pt x="2658" y="455"/>
                  </a:lnTo>
                  <a:lnTo>
                    <a:pt x="2670" y="461"/>
                  </a:lnTo>
                  <a:lnTo>
                    <a:pt x="2681" y="467"/>
                  </a:lnTo>
                  <a:lnTo>
                    <a:pt x="2691" y="473"/>
                  </a:lnTo>
                  <a:lnTo>
                    <a:pt x="2701" y="480"/>
                  </a:lnTo>
                  <a:lnTo>
                    <a:pt x="2709" y="488"/>
                  </a:lnTo>
                  <a:lnTo>
                    <a:pt x="2715" y="495"/>
                  </a:lnTo>
                  <a:lnTo>
                    <a:pt x="2721" y="503"/>
                  </a:lnTo>
                  <a:lnTo>
                    <a:pt x="2726" y="511"/>
                  </a:lnTo>
                  <a:lnTo>
                    <a:pt x="2729" y="520"/>
                  </a:lnTo>
                  <a:lnTo>
                    <a:pt x="2733" y="530"/>
                  </a:lnTo>
                  <a:lnTo>
                    <a:pt x="2735" y="541"/>
                  </a:lnTo>
                  <a:lnTo>
                    <a:pt x="2735" y="552"/>
                  </a:lnTo>
                  <a:lnTo>
                    <a:pt x="2735" y="564"/>
                  </a:lnTo>
                  <a:lnTo>
                    <a:pt x="2734" y="577"/>
                  </a:lnTo>
                  <a:lnTo>
                    <a:pt x="2733" y="590"/>
                  </a:lnTo>
                  <a:lnTo>
                    <a:pt x="2726" y="618"/>
                  </a:lnTo>
                  <a:lnTo>
                    <a:pt x="2716" y="646"/>
                  </a:lnTo>
                  <a:lnTo>
                    <a:pt x="2704" y="676"/>
                  </a:lnTo>
                  <a:lnTo>
                    <a:pt x="2687" y="707"/>
                  </a:lnTo>
                  <a:lnTo>
                    <a:pt x="2667" y="738"/>
                  </a:lnTo>
                  <a:lnTo>
                    <a:pt x="2645" y="770"/>
                  </a:lnTo>
                  <a:lnTo>
                    <a:pt x="2619" y="803"/>
                  </a:lnTo>
                  <a:lnTo>
                    <a:pt x="2592" y="836"/>
                  </a:lnTo>
                  <a:lnTo>
                    <a:pt x="2561" y="870"/>
                  </a:lnTo>
                  <a:lnTo>
                    <a:pt x="2529" y="903"/>
                  </a:lnTo>
                  <a:lnTo>
                    <a:pt x="2494" y="937"/>
                  </a:lnTo>
                  <a:lnTo>
                    <a:pt x="2458" y="970"/>
                  </a:lnTo>
                  <a:lnTo>
                    <a:pt x="2419" y="1003"/>
                  </a:lnTo>
                  <a:lnTo>
                    <a:pt x="2380" y="1034"/>
                  </a:lnTo>
                  <a:lnTo>
                    <a:pt x="2339" y="1066"/>
                  </a:lnTo>
                  <a:lnTo>
                    <a:pt x="2297" y="1096"/>
                  </a:lnTo>
                  <a:lnTo>
                    <a:pt x="2253" y="1126"/>
                  </a:lnTo>
                  <a:lnTo>
                    <a:pt x="2209" y="1154"/>
                  </a:lnTo>
                  <a:lnTo>
                    <a:pt x="2164" y="1180"/>
                  </a:lnTo>
                  <a:lnTo>
                    <a:pt x="2119" y="1205"/>
                  </a:lnTo>
                  <a:lnTo>
                    <a:pt x="2074" y="1228"/>
                  </a:lnTo>
                  <a:lnTo>
                    <a:pt x="2028" y="1249"/>
                  </a:lnTo>
                  <a:lnTo>
                    <a:pt x="1982" y="1269"/>
                  </a:lnTo>
                  <a:lnTo>
                    <a:pt x="1937" y="1285"/>
                  </a:lnTo>
                  <a:lnTo>
                    <a:pt x="1892" y="1300"/>
                  </a:lnTo>
                  <a:lnTo>
                    <a:pt x="1848" y="1311"/>
                  </a:lnTo>
                  <a:lnTo>
                    <a:pt x="1805" y="1320"/>
                  </a:lnTo>
                  <a:lnTo>
                    <a:pt x="1761" y="1326"/>
                  </a:lnTo>
                  <a:lnTo>
                    <a:pt x="1720" y="1330"/>
                  </a:lnTo>
                  <a:lnTo>
                    <a:pt x="1679" y="1328"/>
                  </a:lnTo>
                  <a:lnTo>
                    <a:pt x="1641" y="1325"/>
                  </a:lnTo>
                  <a:lnTo>
                    <a:pt x="1604" y="1317"/>
                  </a:lnTo>
                  <a:lnTo>
                    <a:pt x="1623" y="1207"/>
                  </a:lnTo>
                  <a:lnTo>
                    <a:pt x="1645" y="1105"/>
                  </a:lnTo>
                  <a:lnTo>
                    <a:pt x="1670" y="1013"/>
                  </a:lnTo>
                  <a:lnTo>
                    <a:pt x="1698" y="928"/>
                  </a:lnTo>
                  <a:lnTo>
                    <a:pt x="1729" y="850"/>
                  </a:lnTo>
                  <a:lnTo>
                    <a:pt x="1761" y="781"/>
                  </a:lnTo>
                  <a:lnTo>
                    <a:pt x="1795" y="717"/>
                  </a:lnTo>
                  <a:lnTo>
                    <a:pt x="1832" y="660"/>
                  </a:lnTo>
                  <a:lnTo>
                    <a:pt x="1870" y="611"/>
                  </a:lnTo>
                  <a:lnTo>
                    <a:pt x="1909" y="567"/>
                  </a:lnTo>
                  <a:lnTo>
                    <a:pt x="1950" y="529"/>
                  </a:lnTo>
                  <a:lnTo>
                    <a:pt x="1992" y="496"/>
                  </a:lnTo>
                  <a:lnTo>
                    <a:pt x="2034" y="468"/>
                  </a:lnTo>
                  <a:lnTo>
                    <a:pt x="2076" y="445"/>
                  </a:lnTo>
                  <a:lnTo>
                    <a:pt x="2118" y="426"/>
                  </a:lnTo>
                  <a:lnTo>
                    <a:pt x="2161" y="412"/>
                  </a:lnTo>
                  <a:lnTo>
                    <a:pt x="2203" y="400"/>
                  </a:lnTo>
                  <a:lnTo>
                    <a:pt x="2244" y="393"/>
                  </a:lnTo>
                  <a:lnTo>
                    <a:pt x="2286" y="388"/>
                  </a:lnTo>
                  <a:lnTo>
                    <a:pt x="2326" y="386"/>
                  </a:lnTo>
                  <a:lnTo>
                    <a:pt x="2365" y="387"/>
                  </a:lnTo>
                  <a:lnTo>
                    <a:pt x="2402" y="389"/>
                  </a:lnTo>
                  <a:lnTo>
                    <a:pt x="2438" y="393"/>
                  </a:lnTo>
                  <a:lnTo>
                    <a:pt x="2470" y="398"/>
                  </a:lnTo>
                  <a:lnTo>
                    <a:pt x="2502" y="404"/>
                  </a:lnTo>
                  <a:lnTo>
                    <a:pt x="2532" y="412"/>
                  </a:lnTo>
                  <a:lnTo>
                    <a:pt x="2558" y="419"/>
                  </a:lnTo>
                  <a:lnTo>
                    <a:pt x="2582" y="427"/>
                  </a:lnTo>
                  <a:lnTo>
                    <a:pt x="2619" y="440"/>
                  </a:lnTo>
                  <a:lnTo>
                    <a:pt x="2644" y="450"/>
                  </a:lnTo>
                  <a:close/>
                  <a:moveTo>
                    <a:pt x="2218" y="1823"/>
                  </a:moveTo>
                  <a:lnTo>
                    <a:pt x="2215" y="1830"/>
                  </a:lnTo>
                  <a:lnTo>
                    <a:pt x="2212" y="1836"/>
                  </a:lnTo>
                  <a:lnTo>
                    <a:pt x="2207" y="1842"/>
                  </a:lnTo>
                  <a:lnTo>
                    <a:pt x="2202" y="1848"/>
                  </a:lnTo>
                  <a:lnTo>
                    <a:pt x="2196" y="1853"/>
                  </a:lnTo>
                  <a:lnTo>
                    <a:pt x="2190" y="1858"/>
                  </a:lnTo>
                  <a:lnTo>
                    <a:pt x="2183" y="1862"/>
                  </a:lnTo>
                  <a:lnTo>
                    <a:pt x="2176" y="1866"/>
                  </a:lnTo>
                  <a:lnTo>
                    <a:pt x="2167" y="1870"/>
                  </a:lnTo>
                  <a:lnTo>
                    <a:pt x="2158" y="1873"/>
                  </a:lnTo>
                  <a:lnTo>
                    <a:pt x="2149" y="1876"/>
                  </a:lnTo>
                  <a:lnTo>
                    <a:pt x="2139" y="1878"/>
                  </a:lnTo>
                  <a:lnTo>
                    <a:pt x="2128" y="1881"/>
                  </a:lnTo>
                  <a:lnTo>
                    <a:pt x="2117" y="1882"/>
                  </a:lnTo>
                  <a:lnTo>
                    <a:pt x="2105" y="1884"/>
                  </a:lnTo>
                  <a:lnTo>
                    <a:pt x="2092" y="1884"/>
                  </a:lnTo>
                  <a:lnTo>
                    <a:pt x="2067" y="1884"/>
                  </a:lnTo>
                  <a:lnTo>
                    <a:pt x="2038" y="1883"/>
                  </a:lnTo>
                  <a:lnTo>
                    <a:pt x="2008" y="1878"/>
                  </a:lnTo>
                  <a:lnTo>
                    <a:pt x="1976" y="1873"/>
                  </a:lnTo>
                  <a:lnTo>
                    <a:pt x="1943" y="1866"/>
                  </a:lnTo>
                  <a:lnTo>
                    <a:pt x="1907" y="1857"/>
                  </a:lnTo>
                  <a:lnTo>
                    <a:pt x="1871" y="1846"/>
                  </a:lnTo>
                  <a:lnTo>
                    <a:pt x="1833" y="1832"/>
                  </a:lnTo>
                  <a:lnTo>
                    <a:pt x="1806" y="1821"/>
                  </a:lnTo>
                  <a:lnTo>
                    <a:pt x="1780" y="1810"/>
                  </a:lnTo>
                  <a:lnTo>
                    <a:pt x="1756" y="1798"/>
                  </a:lnTo>
                  <a:lnTo>
                    <a:pt x="1735" y="1787"/>
                  </a:lnTo>
                  <a:lnTo>
                    <a:pt x="1714" y="1775"/>
                  </a:lnTo>
                  <a:lnTo>
                    <a:pt x="1696" y="1762"/>
                  </a:lnTo>
                  <a:lnTo>
                    <a:pt x="1678" y="1750"/>
                  </a:lnTo>
                  <a:lnTo>
                    <a:pt x="1662" y="1737"/>
                  </a:lnTo>
                  <a:lnTo>
                    <a:pt x="1646" y="1722"/>
                  </a:lnTo>
                  <a:lnTo>
                    <a:pt x="1632" y="1709"/>
                  </a:lnTo>
                  <a:lnTo>
                    <a:pt x="1618" y="1693"/>
                  </a:lnTo>
                  <a:lnTo>
                    <a:pt x="1603" y="1678"/>
                  </a:lnTo>
                  <a:lnTo>
                    <a:pt x="1575" y="1646"/>
                  </a:lnTo>
                  <a:lnTo>
                    <a:pt x="1548" y="1610"/>
                  </a:lnTo>
                  <a:lnTo>
                    <a:pt x="1586" y="1607"/>
                  </a:lnTo>
                  <a:lnTo>
                    <a:pt x="1624" y="1604"/>
                  </a:lnTo>
                  <a:lnTo>
                    <a:pt x="1663" y="1603"/>
                  </a:lnTo>
                  <a:lnTo>
                    <a:pt x="1703" y="1603"/>
                  </a:lnTo>
                  <a:lnTo>
                    <a:pt x="1743" y="1605"/>
                  </a:lnTo>
                  <a:lnTo>
                    <a:pt x="1782" y="1607"/>
                  </a:lnTo>
                  <a:lnTo>
                    <a:pt x="1821" y="1610"/>
                  </a:lnTo>
                  <a:lnTo>
                    <a:pt x="1859" y="1614"/>
                  </a:lnTo>
                  <a:lnTo>
                    <a:pt x="1896" y="1618"/>
                  </a:lnTo>
                  <a:lnTo>
                    <a:pt x="1932" y="1625"/>
                  </a:lnTo>
                  <a:lnTo>
                    <a:pt x="1967" y="1631"/>
                  </a:lnTo>
                  <a:lnTo>
                    <a:pt x="2000" y="1637"/>
                  </a:lnTo>
                  <a:lnTo>
                    <a:pt x="2031" y="1644"/>
                  </a:lnTo>
                  <a:lnTo>
                    <a:pt x="2058" y="1651"/>
                  </a:lnTo>
                  <a:lnTo>
                    <a:pt x="2084" y="1659"/>
                  </a:lnTo>
                  <a:lnTo>
                    <a:pt x="2108" y="1668"/>
                  </a:lnTo>
                  <a:lnTo>
                    <a:pt x="2122" y="1673"/>
                  </a:lnTo>
                  <a:lnTo>
                    <a:pt x="2136" y="1680"/>
                  </a:lnTo>
                  <a:lnTo>
                    <a:pt x="2148" y="1687"/>
                  </a:lnTo>
                  <a:lnTo>
                    <a:pt x="2160" y="1697"/>
                  </a:lnTo>
                  <a:lnTo>
                    <a:pt x="2171" y="1706"/>
                  </a:lnTo>
                  <a:lnTo>
                    <a:pt x="2182" y="1715"/>
                  </a:lnTo>
                  <a:lnTo>
                    <a:pt x="2191" y="1725"/>
                  </a:lnTo>
                  <a:lnTo>
                    <a:pt x="2199" y="1736"/>
                  </a:lnTo>
                  <a:lnTo>
                    <a:pt x="2205" y="1747"/>
                  </a:lnTo>
                  <a:lnTo>
                    <a:pt x="2212" y="1758"/>
                  </a:lnTo>
                  <a:lnTo>
                    <a:pt x="2216" y="1769"/>
                  </a:lnTo>
                  <a:lnTo>
                    <a:pt x="2220" y="1780"/>
                  </a:lnTo>
                  <a:lnTo>
                    <a:pt x="2221" y="1791"/>
                  </a:lnTo>
                  <a:lnTo>
                    <a:pt x="2222" y="1802"/>
                  </a:lnTo>
                  <a:lnTo>
                    <a:pt x="2221" y="1813"/>
                  </a:lnTo>
                  <a:lnTo>
                    <a:pt x="2218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828800" y="152280"/>
            <a:ext cx="57913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Девиз стратегического развит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катеринбург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Качество жизни, инновации, сервис, партнерство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51814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Мисс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многофункциональный центр с элементами мирового города, ядром которого станет научно-производственный финансово-информационный комплек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1828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зменение облика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36576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Вызовы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00800" y="1828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меющийся потенц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2857800">
            <a:off x="3428640" y="297144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8166200">
            <a:off x="7009920" y="3047760"/>
            <a:ext cx="1295280" cy="381240"/>
          </a:xfrm>
          <a:prstGeom prst="rightArrow">
            <a:avLst>
              <a:gd name="adj1" fmla="val 50000"/>
              <a:gd name="adj2" fmla="val 8493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05520" y="2209680"/>
            <a:ext cx="1143000" cy="381240"/>
          </a:xfrm>
          <a:prstGeom prst="leftArrow">
            <a:avLst>
              <a:gd name="adj1" fmla="val 50000"/>
              <a:gd name="adj2" fmla="val 74953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63120" y="6515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1:45:27Z</dcterms:created>
  <dc:creator>pryadein</dc:creator>
  <dc:description/>
  <dc:language>en-US</dc:language>
  <cp:lastModifiedBy>Boris Zhikharevich</cp:lastModifiedBy>
  <dcterms:modified xsi:type="dcterms:W3CDTF">2003-10-20T11:11:39Z</dcterms:modified>
  <cp:revision>13</cp:revision>
  <dc:subject/>
  <dc:title>Презентация PowerPoint</dc:title>
</cp:coreProperties>
</file>