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532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6760" y="261360"/>
            <a:ext cx="6845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6760" y="261360"/>
            <a:ext cx="6845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6760" y="261360"/>
            <a:ext cx="6845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8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6240" y="198108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8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6240" y="4130640"/>
            <a:ext cx="257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6760" y="261360"/>
            <a:ext cx="6845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6760" y="261360"/>
            <a:ext cx="6845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6760" y="261360"/>
            <a:ext cx="6845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6760" y="261360"/>
            <a:ext cx="6845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6760" y="272520"/>
            <a:ext cx="6845400" cy="341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6760" y="261360"/>
            <a:ext cx="6845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6760" y="261360"/>
            <a:ext cx="6845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5120" y="413064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6760" y="261360"/>
            <a:ext cx="6845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5120" y="1981080"/>
            <a:ext cx="3904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800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6760" y="272520"/>
            <a:ext cx="6845400" cy="7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812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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072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9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4200" y="1092240"/>
            <a:ext cx="80200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525600" y="6135840"/>
          <a:ext cx="1765080" cy="72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5600" y="6135840"/>
                    <a:ext cx="176508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539640" y="361800"/>
            <a:ext cx="879480" cy="62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r.ru/" TargetMode="External"/><Relationship Id="rId2" Type="http://schemas.openxmlformats.org/officeDocument/2006/relationships/hyperlink" Target="http://www.tacis-lso-rf.org/" TargetMode="External"/><Relationship Id="rId3" Type="http://schemas.openxmlformats.org/officeDocument/2006/relationships/hyperlink" Target="http://www.tacisinfo.ru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7520" y="390600"/>
            <a:ext cx="684504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сотрудничества ЕС и РФ (Тасис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76200"/>
            <a:ext cx="8325000" cy="455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04880" y="1461960"/>
            <a:ext cx="773424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гиональное Бюро Поддержки, Санкт-Петербур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имир Скороход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5600" y="314280"/>
            <a:ext cx="684504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а Тасис с 2000 по 2006 гг.</a:t>
            </a:r>
            <a:br>
              <a:rPr sz="3200"/>
            </a:b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99880"/>
            <a:ext cx="851544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ханизмы финансирования проектов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 algn="just"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ты федерального и регионального уровня (Программа действи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 algn="just"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ы малых проектов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а партнерства в институциональном строительстве (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PP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компонент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ые проекты приграничного сотрудничест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SP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а консультирования по вопросам полити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 algn="just">
              <a:spcBef>
                <a:spcPts val="601"/>
              </a:spcBef>
              <a:buNone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95600" y="314280"/>
            <a:ext cx="684504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а Тасис с 2000 по 2006 гг.</a:t>
            </a:r>
            <a:br>
              <a:rPr sz="3200"/>
            </a:b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00240"/>
            <a:ext cx="8515440" cy="50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грамма малых проектов приграничного сотрудничеств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SPF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орите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минимум 1 партнер из РФ + 1 партнер из Е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емлемая территория в РФ – СПБ, Ленинградская, Мурманская, Архангельская, Калининградская и Псковская области, Карел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ект от 12 до 18 месяцев, грант 100-200 тыс. Ев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-финансирование партнеров: 20% бюджета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5600" y="314280"/>
            <a:ext cx="684504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а Тасис с 2000 по 2006 гг.</a:t>
            </a:r>
            <a:br>
              <a:rPr sz="3200"/>
            </a:b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99880"/>
            <a:ext cx="851544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 малых проектов приграничного сотрудничества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дународное партнерство по созданию системы финансовой поддержки иннова-ционных МС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плана и системы ликвидации аварийных загрязнений в прибрежной зоне СПб и Ленинградской обла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5600" y="314280"/>
            <a:ext cx="684504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а Тасис с 2000 по 2006 гг.</a:t>
            </a:r>
            <a:br>
              <a:rPr sz="3200"/>
            </a:b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199880"/>
            <a:ext cx="851544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ПИР – Поддержка гражданского общества и местных  инициатив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орите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минимум 1 партнер из РФ + 1 партнер из Е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ект от 18 до 24 месяцев, грант 100-200 тыс. Евр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-финансирование партнеров: 20% бюджета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ем проектных предложений – начало 2004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5600" y="314280"/>
            <a:ext cx="684504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а Тасис с 2000 по 2006 гг.</a:t>
            </a:r>
            <a:br>
              <a:rPr sz="3200"/>
            </a:b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99880"/>
            <a:ext cx="851544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 проектов Программы партнерства в институциональном развитии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ий план действий в области туризма и осуществления городских реформ в экономике Новгорода (1999-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держка в разработке экологического плана с приоритетом для качества воды и воздуха (Череповец, 1996-97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лучшение планирования в системе здравоохранения и работы по охране здоровья (СПб, 2000-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5600" y="314280"/>
            <a:ext cx="684504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грамма Тасис с 2000 по 2006 гг.</a:t>
            </a:r>
            <a:br>
              <a:rPr sz="3200"/>
            </a:b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99880"/>
            <a:ext cx="8515440" cy="483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66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ПИР – Ключевые государственные организации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грамма консультирования по вопросам политики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требуют партнера ЕС при подготовке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явитель – федеральный или региональный орган власти  Р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аточно краткого описания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 требования о со-финансирован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 algn="just">
              <a:spcBef>
                <a:spcPts val="700"/>
              </a:spcBef>
              <a:buNone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4480" y="561600"/>
            <a:ext cx="793404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8080"/>
                </a:solidFill>
                <a:uFillTx/>
                <a:latin typeface="Times New Roman"/>
              </a:rPr>
              <a:t>	</a:t>
            </a:r>
            <a:r>
              <a:rPr b="1" lang="ru-RU" sz="2800" spc="-1" strike="noStrike" u="sng">
                <a:solidFill>
                  <a:srgbClr val="808080"/>
                </a:solidFill>
                <a:uFillTx/>
                <a:latin typeface="Times New Roman"/>
              </a:rPr>
              <a:t>Информационные ресурсы</a:t>
            </a:r>
            <a:r>
              <a:rPr b="0" lang="ru-RU" sz="2800" spc="-1" strike="noStrike">
                <a:solidFill>
                  <a:srgbClr val="808080"/>
                </a:solidFill>
                <a:latin typeface="Times New Roman"/>
              </a:rPr>
              <a:t>:</a:t>
            </a:r>
            <a:r>
              <a:rPr b="0" lang="ru-RU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ставительство Европейской Комиссии в Росси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с/ англ)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www.eur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Сайт Региональных бюро поддержки Таси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ус/ англ)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www.tacis-lso-rf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Ссылки на сайты подпрограм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BPP, Tempus, …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проек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айт проекта по распространению информ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hlinkClick r:id="rId3"/>
              </a:rPr>
              <a:t>www.tacisinfo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4T11:44:02Z</dcterms:created>
  <dc:creator>ITAD</dc:creator>
  <dc:description/>
  <dc:language>en-US</dc:language>
  <cp:lastModifiedBy>VS-mob</cp:lastModifiedBy>
  <cp:lastPrinted>2002-04-23T10:02:51Z</cp:lastPrinted>
  <dcterms:modified xsi:type="dcterms:W3CDTF">2003-10-20T16:58:14Z</dcterms:modified>
  <cp:revision>376</cp:revision>
  <dc:subject/>
  <dc:title>No Slide Title</dc:title>
</cp:coreProperties>
</file>