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9A9-4E17-4C1F-9526-1324AE01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6D7-0DF0-41D8-816A-9F971CF2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3FB-2195-4656-836B-CE2089FF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3F7-6FCB-4E86-8FE6-620D5EC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5B4-9185-4C3F-AEBB-615D8CD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CD0-9ACA-46B5-A809-B48C14B7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F1A-C2A7-4BB1-B2E6-16673E4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A4F-463C-4FD4-A939-377607D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12E-6AA4-4D0C-83E9-6FD68BB8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C83-E4E1-4D2A-831D-CE577CB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35E-D23A-4A35-9C39-596FC68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805-3243-4BFC-84FD-044FFAE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040-F3D4-4314-A298-47A5157C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атегия развития – инструмент управл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з власти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585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унцев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д развития Заречного Технопол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ценка использования страте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208400"/>
        </p:xfrm>
        <a:graphic>
          <a:graphicData uri="http://schemas.openxmlformats.org/drawingml/2006/table">
            <a:tbl>
              <a:tblPr/>
              <a:tblGrid>
                <a:gridCol w="2754360"/>
                <a:gridCol w="1216080"/>
                <a:gridCol w="1800000"/>
                <a:gridCol w="245916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разрабо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тратегии  (2003 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зерский р-н Курган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 -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ое ци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 Верхнее Дуброво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ытки разработки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отурский уезд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-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Со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Заречный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-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а Соро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рганы МС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программы Наукогр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гопольский р-н Архангель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-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 Со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а программа, идет реализ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характеристик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700280"/>
          <a:ext cx="8435880" cy="4876560"/>
        </p:xfrm>
        <a:graphic>
          <a:graphicData uri="http://schemas.openxmlformats.org/drawingml/2006/table">
            <a:tbl>
              <a:tblPr/>
              <a:tblGrid>
                <a:gridCol w="2530440"/>
                <a:gridCol w="2879640"/>
                <a:gridCol w="974880"/>
                <a:gridCol w="20509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отра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/ объем производства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зерский р-н Курган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х 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6  /  11,4+123,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 Верхнее Дуброво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остроение, металлообработка, ж/д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 / 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отурский уезд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, металлообработка, с/х, ту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  /  43,1 + ?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Заречный Свердлов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ая энергетика, на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4  /  7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гопольский р-н Архангельской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, с/х, ту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   /  82,4+41,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вестиции и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03640" y="1773360"/>
          <a:ext cx="362448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3360"/>
                    <a:ext cx="36244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" y="1773360"/>
          <a:ext cx="4038480" cy="39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73360"/>
                    <a:ext cx="40384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0:19:21Z</dcterms:created>
  <dc:creator>Евгений Нилович</dc:creator>
  <dc:description/>
  <dc:language>en-US</dc:language>
  <cp:lastModifiedBy>Евгений Нилович</cp:lastModifiedBy>
  <dcterms:modified xsi:type="dcterms:W3CDTF">2003-10-17T12:30:41Z</dcterms:modified>
  <cp:revision>4</cp:revision>
  <dc:subject/>
  <dc:title>Стратегия развития – инструмент управления  без власти.  </dc:title>
</cp:coreProperties>
</file>