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2F8-CBDA-45CC-94A4-7E75034F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473-9246-4B6C-965E-96C221E5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F56-1494-4000-8559-3465627C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450-2C65-41F0-924E-5741AC0F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5DF7-5655-4450-92CB-A088AFA9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A92E-9031-496B-B531-EE5478C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FD58-E8E6-4FFD-B955-7C911D55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2790-90B4-41D3-AB94-6DD6072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DE82-DC31-4037-9AD2-53CCD2E0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F9A-6AA9-4CE6-889D-FFDDEB9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7D5-8273-419E-A12E-1E7D23F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E94-4775-4233-BA67-991E49B8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46FC-8B23-4EA7-8690-F33D6AF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C1A-0026-478C-8B3B-164D7C7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9432-B521-47B7-915E-261064F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72C6-DDD8-4B80-8963-59F6B080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E3B-8304-4786-8968-7BFED8A2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8B7-0824-438A-9A00-D4340D21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B04-0041-4ED6-AD9E-F81AEA0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682-11A8-4F22-BB1A-4ABF64F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53E-B2E5-43C7-8F09-33B0875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EBD-EBD0-4F26-8AEF-D685849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949-DC6E-47AC-8DE3-810472D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C32-54F9-4D34-B19B-47061B2C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291a4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291a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291a4c"/>
                </a:gs>
                <a:gs pos="50000">
                  <a:srgbClr val="6ebfca"/>
                </a:gs>
                <a:gs pos="100000">
                  <a:srgbClr val="291a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ebfc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6369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569-672D-412E-AC2A-BD24C5A1BD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291a4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291a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b256b"/>
                </a:gs>
                <a:gs pos="50000">
                  <a:srgbClr val="56369c"/>
                </a:gs>
                <a:gs pos="100000">
                  <a:srgbClr val="3b25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291a4c"/>
                </a:gs>
                <a:gs pos="50000">
                  <a:srgbClr val="6ebfca"/>
                </a:gs>
                <a:gs pos="100000">
                  <a:srgbClr val="291a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291a4c"/>
                </a:gs>
                <a:gs pos="100000">
                  <a:srgbClr val="3b2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3b2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6DA6-BC99-4FC6-AE8A-BFE02DC6DF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3456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беспечение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сударствен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55640" y="3789360"/>
            <a:ext cx="1512720" cy="115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Рост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4920" y="1197000"/>
            <a:ext cx="2521080" cy="93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Рост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конкурентоспособности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2565360"/>
            <a:ext cx="2521080" cy="71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Рост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качества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жиз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4920" y="5300640"/>
            <a:ext cx="2521080" cy="1224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Рост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ффективности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3789360"/>
            <a:ext cx="1582920" cy="1152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Рост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человеческого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0"/>
            <a:endCxn id="142" idx="2"/>
          </p:cNvCxnSpPr>
          <p:nvPr/>
        </p:nvCxnSpPr>
        <p:spPr>
          <a:xfrm flipV="1">
            <a:off x="4535280" y="2133720"/>
            <a:ext cx="360" cy="43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0"/>
            <a:endCxn id="143" idx="1"/>
          </p:cNvCxnSpPr>
          <p:nvPr/>
        </p:nvCxnSpPr>
        <p:spPr>
          <a:xfrm flipV="1">
            <a:off x="1512000" y="2925000"/>
            <a:ext cx="1763280" cy="864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3" idx="3"/>
          </p:cNvCxnSpPr>
          <p:nvPr/>
        </p:nvCxnSpPr>
        <p:spPr>
          <a:xfrm flipH="1" flipV="1">
            <a:off x="5796000" y="2925000"/>
            <a:ext cx="1799640" cy="864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1"/>
            <a:endCxn id="141" idx="2"/>
          </p:cNvCxnSpPr>
          <p:nvPr/>
        </p:nvCxnSpPr>
        <p:spPr>
          <a:xfrm flipH="1" flipV="1">
            <a:off x="1512000" y="4941720"/>
            <a:ext cx="1763280" cy="971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3"/>
            <a:endCxn id="145" idx="2"/>
          </p:cNvCxnSpPr>
          <p:nvPr/>
        </p:nvCxnSpPr>
        <p:spPr>
          <a:xfrm flipV="1">
            <a:off x="5796000" y="4941720"/>
            <a:ext cx="1799640" cy="971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2"/>
            <a:endCxn id="144" idx="0"/>
          </p:cNvCxnSpPr>
          <p:nvPr/>
        </p:nvCxnSpPr>
        <p:spPr>
          <a:xfrm>
            <a:off x="4535280" y="3284640"/>
            <a:ext cx="360" cy="201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556000" y="4437000"/>
            <a:ext cx="3959280" cy="360360"/>
          </a:xfrm>
          <a:prstGeom prst="leftRightArrow">
            <a:avLst>
              <a:gd name="adj1" fmla="val 50000"/>
              <a:gd name="adj2" fmla="val 218723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3429000"/>
            <a:ext cx="1657440" cy="5047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Рост довер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000" y="1125360"/>
            <a:ext cx="8856720" cy="1511640"/>
          </a:xfrm>
          <a:prstGeom prst="rect">
            <a:avLst/>
          </a:prstGeom>
          <a:gradFill rotWithShape="0">
            <a:gsLst>
              <a:gs pos="0">
                <a:srgbClr val="6ebfca"/>
              </a:gs>
              <a:gs pos="100000">
                <a:srgbClr val="3258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ктивные ограничения и возможности для формирования плана меро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дход к формированию плана мероприяти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846520" y="1700280"/>
            <a:ext cx="273348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Доступная информ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1700280"/>
            <a:ext cx="295308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Наш опыт и 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429000"/>
            <a:ext cx="8785440" cy="302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сновные резервы повышения эффективности деятельности администрации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 развитии следующих элементов существующей корпоративной культуры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сонал администрации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слабая мотивация, размытое стратегическое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 целеполагание, недостаточная компет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- высокие риски при принятии управленческих решений в условиях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 несвоевременности поступления и низкого качества информ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хнология управления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– рассогласованность деятельности различных подразделений,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   длительные сроки принятия решений,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‘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коллективная безответственность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2565360"/>
            <a:ext cx="2376360" cy="1008000"/>
          </a:xfrm>
          <a:prstGeom prst="downArrowCallout">
            <a:avLst>
              <a:gd name="adj1" fmla="val 58943"/>
              <a:gd name="adj2" fmla="val 58938"/>
              <a:gd name="adj3" fmla="val 16667"/>
              <a:gd name="adj4" fmla="val 6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00280"/>
            <a:ext cx="2449440" cy="72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ремя, деньг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18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азвитие корпоративной культуры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лагодаря реализации мероприятий пла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075280" y="1268280"/>
            <a:ext cx="3024000" cy="50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ения по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7480" y="1268280"/>
            <a:ext cx="2881080" cy="50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ения по техн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2492280"/>
            <a:ext cx="165600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И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2492280"/>
            <a:ext cx="2449440" cy="57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Знания о демограф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2492280"/>
            <a:ext cx="2663640" cy="574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роцедуры, реглам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492280"/>
            <a:ext cx="1657080" cy="576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ргструк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2"/>
            <a:endCxn id="167" idx="0"/>
          </p:cNvCxnSpPr>
          <p:nvPr/>
        </p:nvCxnSpPr>
        <p:spPr>
          <a:xfrm flipH="1">
            <a:off x="1079280" y="1773000"/>
            <a:ext cx="162000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2"/>
            <a:endCxn id="166" idx="0"/>
          </p:cNvCxnSpPr>
          <p:nvPr/>
        </p:nvCxnSpPr>
        <p:spPr>
          <a:xfrm>
            <a:off x="2698920" y="1773000"/>
            <a:ext cx="61344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2"/>
            <a:endCxn id="164" idx="0"/>
          </p:cNvCxnSpPr>
          <p:nvPr/>
        </p:nvCxnSpPr>
        <p:spPr>
          <a:xfrm>
            <a:off x="2698920" y="1773000"/>
            <a:ext cx="284652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2" idx="2"/>
            <a:endCxn id="164" idx="0"/>
          </p:cNvCxnSpPr>
          <p:nvPr/>
        </p:nvCxnSpPr>
        <p:spPr>
          <a:xfrm flipH="1">
            <a:off x="5544360" y="1771560"/>
            <a:ext cx="104364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2" idx="2"/>
            <a:endCxn id="165" idx="0"/>
          </p:cNvCxnSpPr>
          <p:nvPr/>
        </p:nvCxnSpPr>
        <p:spPr>
          <a:xfrm>
            <a:off x="6587640" y="1771560"/>
            <a:ext cx="108180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2843280" y="5661000"/>
            <a:ext cx="2881080" cy="50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ения по персонал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3429000"/>
            <a:ext cx="1656000" cy="15112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Кого, чему и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как учить,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аудит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результатов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бу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4720" y="3429000"/>
            <a:ext cx="1943280" cy="15112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ценка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о результатам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как основа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тимул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429000"/>
            <a:ext cx="2448000" cy="15112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риоритеты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через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перационные планы,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вязанные с системой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оказа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3" idx="0"/>
            <a:endCxn id="176" idx="2"/>
          </p:cNvCxnSpPr>
          <p:nvPr/>
        </p:nvCxnSpPr>
        <p:spPr>
          <a:xfrm flipH="1" flipV="1">
            <a:off x="1402920" y="4939920"/>
            <a:ext cx="288216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0"/>
            <a:endCxn id="175" idx="2"/>
          </p:cNvCxnSpPr>
          <p:nvPr/>
        </p:nvCxnSpPr>
        <p:spPr>
          <a:xfrm flipH="1" flipV="1">
            <a:off x="3815640" y="4939920"/>
            <a:ext cx="46908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3" idx="0"/>
            <a:endCxn id="174" idx="2"/>
          </p:cNvCxnSpPr>
          <p:nvPr/>
        </p:nvCxnSpPr>
        <p:spPr>
          <a:xfrm flipV="1">
            <a:off x="4284360" y="4939920"/>
            <a:ext cx="154836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6948360" y="3427560"/>
            <a:ext cx="1944720" cy="151272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исполнения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мероприятий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3" idx="0"/>
            <a:endCxn id="180" idx="2"/>
          </p:cNvCxnSpPr>
          <p:nvPr/>
        </p:nvCxnSpPr>
        <p:spPr>
          <a:xfrm flipV="1">
            <a:off x="4284360" y="4939920"/>
            <a:ext cx="3637800" cy="72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словия отбора мероприятий для включения в пла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869080" y="1587600"/>
            <a:ext cx="1800000" cy="57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Исполни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1587600"/>
            <a:ext cx="2014560" cy="574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Окупае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1587600"/>
            <a:ext cx="1657440" cy="576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Измеряе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2" idx="2"/>
            <a:endCxn id="185" idx="0"/>
          </p:cNvCxnSpPr>
          <p:nvPr/>
        </p:nvCxnSpPr>
        <p:spPr>
          <a:xfrm flipH="1">
            <a:off x="2447640" y="1006560"/>
            <a:ext cx="212472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2" idx="2"/>
            <a:endCxn id="184" idx="0"/>
          </p:cNvCxnSpPr>
          <p:nvPr/>
        </p:nvCxnSpPr>
        <p:spPr>
          <a:xfrm>
            <a:off x="4572000" y="1006560"/>
            <a:ext cx="216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endCxn id="183" idx="0"/>
          </p:cNvCxnSpPr>
          <p:nvPr/>
        </p:nvCxnSpPr>
        <p:spPr>
          <a:xfrm>
            <a:off x="4571640" y="1010880"/>
            <a:ext cx="219780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84360" y="292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казатели достижения целей п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200" y="3475080"/>
            <a:ext cx="76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% экономии (роста дохо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% персонала, работающего по-нов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%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‘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зультативных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средств в бюдж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И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пособность к саморазвит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езависимая экспертная оценка программы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(проведение международной конференции в 2004 год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2397600">
            <a:off x="4547880" y="1295280"/>
            <a:ext cx="847800" cy="400320"/>
          </a:xfrm>
          <a:prstGeom prst="rightArrow">
            <a:avLst>
              <a:gd name="adj1" fmla="val 50000"/>
              <a:gd name="adj2" fmla="val 5294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35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ероприятия стратегической напра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567160"/>
            <a:ext cx="1512720" cy="93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Формирование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позитивной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иде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1258920" y="693720"/>
            <a:ext cx="1512720" cy="172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Уточнение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приоритетов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экономического</a:t>
            </a:r>
            <a:br>
              <a:rPr sz="1600"/>
            </a:b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разви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719520"/>
            <a:ext cx="1800360" cy="934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Составление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демографического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прогно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2560" y="1774800"/>
            <a:ext cx="1657440" cy="16556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Кадровое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3080" y="693720"/>
            <a:ext cx="1582560" cy="14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Разработка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показателей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подразделений</a:t>
            </a:r>
            <a:br>
              <a:rPr sz="1400"/>
            </a:br>
            <a:r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органов в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4560" y="2576520"/>
            <a:ext cx="2376720" cy="865080"/>
          </a:xfrm>
          <a:prstGeom prst="rightArrow">
            <a:avLst>
              <a:gd name="adj1" fmla="val 50000"/>
              <a:gd name="adj2" fmla="val 68685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зитивна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2351160"/>
            <a:ext cx="2449440" cy="18716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ерационны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дразделени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ов в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5200" y="1630440"/>
            <a:ext cx="2386080" cy="865080"/>
          </a:xfrm>
          <a:prstGeom prst="rightArrow">
            <a:avLst>
              <a:gd name="adj1" fmla="val 50000"/>
              <a:gd name="adj2" fmla="val 6895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оритетные направления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кономического разви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0254800">
            <a:off x="3971880" y="3501720"/>
            <a:ext cx="1463760" cy="865080"/>
          </a:xfrm>
          <a:prstGeom prst="rightArrow">
            <a:avLst>
              <a:gd name="adj1" fmla="val 50000"/>
              <a:gd name="adj2" fmla="val 42301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из фактор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4560" y="620640"/>
            <a:ext cx="3602160" cy="938160"/>
          </a:xfrm>
          <a:prstGeom prst="rightArrow">
            <a:avLst>
              <a:gd name="adj1" fmla="val 50000"/>
              <a:gd name="adj2" fmla="val 9599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истема сбалансированных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казателей (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lanced Scoreca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5014800"/>
            <a:ext cx="3456000" cy="647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Запуск комплекса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инструментальных меро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4941720"/>
            <a:ext cx="2160720" cy="1800360"/>
          </a:xfrm>
          <a:prstGeom prst="flowChartPredefinedProcess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Операционная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61080" y="4888080"/>
            <a:ext cx="1079280" cy="865080"/>
          </a:xfrm>
          <a:prstGeom prst="rightArrow">
            <a:avLst>
              <a:gd name="adj1" fmla="val 50000"/>
              <a:gd name="adj2" fmla="val 3119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стру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н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865600">
            <a:off x="5924160" y="3765600"/>
            <a:ext cx="1392120" cy="865080"/>
          </a:xfrm>
          <a:prstGeom prst="rightArrow">
            <a:avLst>
              <a:gd name="adj1" fmla="val 50000"/>
              <a:gd name="adj2" fmla="val 40231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д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12600" y="5391000"/>
            <a:ext cx="1224000" cy="10429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857920"/>
            <a:ext cx="5545440" cy="981000"/>
          </a:xfrm>
          <a:prstGeom prst="leftArrow">
            <a:avLst>
              <a:gd name="adj1" fmla="val 50000"/>
              <a:gd name="adj2" fmla="val 141321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роль показателей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ылки для корректировки приоритетов, саморазви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869000"/>
            <a:ext cx="5473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168640"/>
            <a:ext cx="1008000" cy="1152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578160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1a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50920" y="549360"/>
          <a:ext cx="8713800" cy="5616360"/>
        </p:xfrm>
        <a:graphic>
          <a:graphicData uri="http://schemas.openxmlformats.org/drawingml/2006/table">
            <a:tbl>
              <a:tblPr/>
              <a:tblGrid>
                <a:gridCol w="3168720"/>
                <a:gridCol w="2736720"/>
                <a:gridCol w="2808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екущее управление (оператив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дж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Изменяющее управление (стратегическо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роизводство продуктов (услу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Развитие орган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ффективное использование своих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 решения зад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о же и использование возможностей в условиях конкурен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ерсонал – ресурс для исполнения рабо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ь люд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ерсонал – главная составляющая капитала организации, источник ее буду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Рациональное использование имеющихся ресурсов от достигнут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эффе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Рост в сравнении с конкурентами и потенциальными возможност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а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Долгосрочн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управления Программой</a:t>
            </a: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6:48:12Z</dcterms:created>
  <dc:creator>Павел Болотов, Александр Злобин</dc:creator>
  <dc:description/>
  <cp:keywords>Булгар-Хмель</cp:keywords>
  <dc:language>en-US</dc:language>
  <cp:lastModifiedBy>AN</cp:lastModifiedBy>
  <dcterms:modified xsi:type="dcterms:W3CDTF">2003-10-21T09:14:42Z</dcterms:modified>
  <cp:revision>278</cp:revision>
  <dc:subject>Управление долгом</dc:subject>
  <dc:title>Презентация для Н.В.Смирнова</dc:title>
</cp:coreProperties>
</file>