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2B46-30F5-4ABB-97B8-151C5FEC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3A18-CE74-4018-AF11-378EE2B9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1955-3E7E-43C5-8921-80AB403F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1F00-7FFB-4F39-9079-1242D1A9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C8F6-B598-4C36-AE29-4B4BDF332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61D8-63BA-4FC7-8FF8-D3800892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4F4A-EC21-4305-9561-5189C371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F939-A330-41D8-B550-B71BE73B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CDB7-D13A-49DB-84D2-E31AFEC2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2481-61AE-40FA-B60A-1C18AC55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6749-11D8-4476-9DA3-CF3A0606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B006-052D-4FAA-8633-A598337C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6868-26C2-410F-B955-F3546211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766D-73CF-4622-9B3A-12F1F830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E3E5-4CD4-421D-AB43-9804B311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B0CE-7E0D-43E4-9BEF-E7105FF41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854A-935D-4121-BB30-3417C589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999E-81B1-4E59-A517-DC7DC9E4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705D-A62A-4403-B6FE-7D7C9271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F687-9443-4174-8251-FE694760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DA83-D193-4A2D-A897-6F1B7C82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D74E-D830-4F39-A64F-C37E6F15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A955-E53D-4CE8-9067-42942CC5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8C6B-E596-453F-8FC5-4712B27D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A67A-3D86-4D7B-A689-0FAC0F881B5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7910-75F5-4716-A47D-593A7CD6344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Фонд «НОУ ХАУ»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Британско-российская программа развития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Arial"/>
              </a:rPr>
              <a:t>DFID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258" t="-1804" r="258" b="-1771"/>
          <a:stretch/>
        </p:blipFill>
        <p:spPr>
          <a:xfrm>
            <a:off x="2411280" y="907920"/>
            <a:ext cx="906480" cy="906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258" t="-1804" r="258" b="-1771"/>
          <a:stretch/>
        </p:blipFill>
        <p:spPr>
          <a:xfrm>
            <a:off x="7524720" y="2421000"/>
            <a:ext cx="806400" cy="80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3851280" y="4653000"/>
          <a:ext cx="2914560" cy="75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653000"/>
                    <a:ext cx="291456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219640" y="1125360"/>
          <a:ext cx="2914560" cy="75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19640" y="1125360"/>
                    <a:ext cx="291456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Bookman Old Style"/>
              </a:rPr>
              <a:t>Структура проект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Был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Основные проекты: долгосрочные и </a:t>
            </a:r>
            <a:r>
              <a:rPr b="1" lang="en-GB" sz="2200" spc="-1" strike="noStrike">
                <a:solidFill>
                  <a:srgbClr val="003366"/>
                </a:solidFill>
                <a:latin typeface="Arial"/>
              </a:rPr>
              <a:t>£&gt;100,000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Схемы малых проектов</a:t>
            </a:r>
            <a:r>
              <a:rPr b="1" lang="en-GB" sz="2200" spc="-1" strike="noStrike">
                <a:solidFill>
                  <a:srgbClr val="003366"/>
                </a:solidFill>
                <a:latin typeface="Arial"/>
              </a:rPr>
              <a:t>: 12-24 </a:t>
            </a: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месяца</a:t>
            </a:r>
            <a:r>
              <a:rPr b="1" lang="en-GB" sz="2200" spc="-1" strike="noStrike">
                <a:solidFill>
                  <a:srgbClr val="003366"/>
                </a:solidFill>
                <a:latin typeface="Arial"/>
              </a:rPr>
              <a:t> £&lt;50,000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Схемы малых грантов: краткосрочные инициативы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Стал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Основные проекты: долгосрочные и </a:t>
            </a:r>
            <a:r>
              <a:rPr b="1" lang="en-GB" sz="2200" spc="-1" strike="noStrike">
                <a:solidFill>
                  <a:srgbClr val="003366"/>
                </a:solidFill>
                <a:latin typeface="Arial"/>
              </a:rPr>
              <a:t>£&gt;1</a:t>
            </a: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,0</a:t>
            </a:r>
            <a:r>
              <a:rPr b="1" lang="en-GB" sz="2200" spc="-1" strike="noStrike">
                <a:solidFill>
                  <a:srgbClr val="003366"/>
                </a:solidFill>
                <a:latin typeface="Arial"/>
              </a:rPr>
              <a:t>00,000</a:t>
            </a: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; в основном федеральные с пилотами в регионах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Программа партнерских регионов </a:t>
            </a:r>
            <a:r>
              <a:rPr b="1" lang="en-GB" sz="2200" spc="-1" strike="noStrike">
                <a:solidFill>
                  <a:srgbClr val="003366"/>
                </a:solidFill>
                <a:latin typeface="Arial"/>
              </a:rPr>
              <a:t>£</a:t>
            </a: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8 млн на 4 года на каждый регион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Схемы малых грантов: краткосрочные инициативы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084720" y="333360"/>
          <a:ext cx="2665440" cy="68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333360"/>
                    <a:ext cx="266544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оссийский партнер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Был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Основной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– НК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Дополнительно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авительств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изне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осударственные орг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сследовательск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бразовательны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Стал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Основно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авительств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Дополнительно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К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изне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осударственные орг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сследовательск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Bookman Old Style"/>
              </a:rPr>
              <a:t>Проекты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Bookman Old Style"/>
              </a:rPr>
              <a:t>в области стратегического </a:t>
            </a:r>
            <a:r>
              <a:rPr b="0" lang="ru-RU" sz="3600" spc="-1" strike="noStrike">
                <a:solidFill>
                  <a:srgbClr val="ff3300"/>
                </a:solidFill>
                <a:latin typeface="Bookman Old Style"/>
              </a:rPr>
              <a:t>планирования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Ленинградская область: Стратегия развития малого и среднего бизнеса (1999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катеринбург: Стратегия пространственного развития горо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ижний Новгород: Административная реформа на региональном уровн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Ленинградская область: Стратегическое планирования в контексте снижения бед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716360" y="260280"/>
          <a:ext cx="4103640" cy="105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260280"/>
                    <a:ext cx="410364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Нижний Новгород: Административная реформа на региональном уровн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зработка и интеграция бизнес-план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тратегия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тратегия социального партнерст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Финансовый менеджмент и планирова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влечение общественности в процесс принятия решен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правление ресурсам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Ленинградская область: программа партнерств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14320" y="3031920"/>
            <a:ext cx="9437400" cy="1828800"/>
            <a:chOff x="814320" y="3031920"/>
            <a:chExt cx="9437400" cy="1828800"/>
          </a:xfrm>
        </p:grpSpPr>
        <p:cxnSp>
          <p:nvCxnSpPr>
            <p:cNvPr id="151" name="_s46095"/>
            <p:cNvCxnSpPr>
              <a:stCxn id="152" idx="0"/>
              <a:endCxn id="153" idx="2"/>
            </p:cNvCxnSpPr>
            <p:nvPr/>
          </p:nvCxnSpPr>
          <p:spPr>
            <a:xfrm flipV="1">
              <a:off x="5533920" y="4174200"/>
              <a:ext cx="1800" cy="22932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54" name="_s46093"/>
            <p:cNvCxnSpPr>
              <a:stCxn id="155" idx="0"/>
              <a:endCxn id="156" idx="2"/>
            </p:cNvCxnSpPr>
            <p:nvPr/>
          </p:nvCxnSpPr>
          <p:spPr>
            <a:xfrm flipV="1" rot="16200000">
              <a:off x="7020720" y="2001240"/>
              <a:ext cx="229320" cy="3203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57" name="_s46092"/>
            <p:cNvCxnSpPr>
              <a:stCxn id="153" idx="0"/>
              <a:endCxn id="156" idx="2"/>
            </p:cNvCxnSpPr>
            <p:nvPr/>
          </p:nvCxnSpPr>
          <p:spPr>
            <a:xfrm flipV="1">
              <a:off x="5533920" y="3488400"/>
              <a:ext cx="1800" cy="22932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58" name="_s46091"/>
            <p:cNvCxnSpPr>
              <a:stCxn id="159" idx="0"/>
              <a:endCxn id="156" idx="2"/>
            </p:cNvCxnSpPr>
            <p:nvPr/>
          </p:nvCxnSpPr>
          <p:spPr>
            <a:xfrm flipH="1" flipV="1" rot="5400000">
              <a:off x="3817440" y="2000520"/>
              <a:ext cx="229320" cy="3205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156" name="_s46087"/>
            <p:cNvSpPr/>
            <p:nvPr/>
          </p:nvSpPr>
          <p:spPr>
            <a:xfrm>
              <a:off x="3920760" y="3031920"/>
              <a:ext cx="3225600" cy="4572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тратегическое планирование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_s46088"/>
            <p:cNvSpPr/>
            <p:nvPr/>
          </p:nvSpPr>
          <p:spPr>
            <a:xfrm>
              <a:off x="814320" y="3717720"/>
              <a:ext cx="3031200" cy="4572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Arial"/>
                </a:rPr>
                <a:t>Соц и мед услуги для детей и семей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_s46089"/>
            <p:cNvSpPr/>
            <p:nvPr/>
          </p:nvSpPr>
          <p:spPr>
            <a:xfrm>
              <a:off x="4017240" y="3717720"/>
              <a:ext cx="3031200" cy="4572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Arial"/>
                </a:rPr>
                <a:t>Эффективность соц бюджета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_s46090"/>
            <p:cNvSpPr/>
            <p:nvPr/>
          </p:nvSpPr>
          <p:spPr>
            <a:xfrm>
              <a:off x="7220520" y="3717720"/>
              <a:ext cx="3031200" cy="4572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3366"/>
                  </a:solidFill>
                  <a:latin typeface="Arial"/>
                </a:rPr>
                <a:t>Развитие районов экономического спада</a:t>
              </a:r>
              <a:endParaRPr b="0" lang="en-US" sz="11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_s46094"/>
            <p:cNvSpPr/>
            <p:nvPr/>
          </p:nvSpPr>
          <p:spPr>
            <a:xfrm>
              <a:off x="4644360" y="4403520"/>
              <a:ext cx="1778040" cy="4572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Анализ бедности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Ленинградская область: программа партнерства: Стратегическое планировани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ординация программы партнерства и обеспечение комплексности подход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WOT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анализ системы стратегического планирования в Л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зработка эффективной системы СП, в т.ч. законодательной базы и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технолог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зработка индикаторов измерения и мониторинга бед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Как нас найти:</a:t>
            </a:r>
            <a:br>
              <a:rPr sz="3200"/>
            </a:br>
            <a:r>
              <a:rPr b="1" lang="en-GB" sz="4000" spc="-1" strike="noStrike">
                <a:solidFill>
                  <a:srgbClr val="006666"/>
                </a:solidFill>
                <a:latin typeface="Arial"/>
              </a:rPr>
              <a:t>www.britain.spb.ru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76628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усская верс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тдел развит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енеральное Консульство Великобритан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Санкт-Петербург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тдел Развит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л. Пролетарской Диктатуры, 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ел. 320 32 00 / факс 320 32 1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724360" y="476280"/>
          <a:ext cx="29149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476280"/>
                    <a:ext cx="29149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 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1991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г. в Росси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 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1994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г. в Санкт-Петербург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 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1997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г. финансирование только из средств 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DFID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, ранее программа софинансировалась МИДом Великобритани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267000" y="957240"/>
          <a:ext cx="291456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7000" y="957240"/>
                    <a:ext cx="291456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зультаты работ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26920" y="2420640"/>
            <a:ext cx="74901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Реализовано 39 крупных проектов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Сумма финансирования: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4400" spc="-1" strike="noStrike" u="sng">
                <a:solidFill>
                  <a:srgbClr val="003366"/>
                </a:solidFill>
                <a:uFillTx/>
                <a:latin typeface="Arial"/>
              </a:rPr>
              <a:t>£ 2</a:t>
            </a:r>
            <a:r>
              <a:rPr b="1" lang="ru-RU" sz="4400" spc="-1" strike="noStrike" u="sng">
                <a:solidFill>
                  <a:srgbClr val="003366"/>
                </a:solidFill>
                <a:uFillTx/>
                <a:latin typeface="Arial"/>
              </a:rPr>
              <a:t>6</a:t>
            </a:r>
            <a:r>
              <a:rPr b="1" lang="en-GB" sz="4400" spc="-1" strike="noStrike" u="sng">
                <a:solidFill>
                  <a:srgbClr val="003366"/>
                </a:solidFill>
                <a:uFillTx/>
                <a:latin typeface="Arial"/>
              </a:rPr>
              <a:t>, </a:t>
            </a:r>
            <a:r>
              <a:rPr b="1" lang="ru-RU" sz="4400" spc="-1" strike="noStrike" u="sng">
                <a:solidFill>
                  <a:srgbClr val="003366"/>
                </a:solidFill>
                <a:uFillTx/>
                <a:latin typeface="Arial"/>
              </a:rPr>
              <a:t>000</a:t>
            </a:r>
            <a:r>
              <a:rPr b="1" lang="en-GB" sz="4400" spc="-1" strike="noStrike" u="sng">
                <a:solidFill>
                  <a:srgbClr val="003366"/>
                </a:solidFill>
                <a:uFillTx/>
                <a:latin typeface="Arial"/>
              </a:rPr>
              <a:t>, </a:t>
            </a:r>
            <a:r>
              <a:rPr b="1" lang="ru-RU" sz="4400" spc="-1" strike="noStrike" u="sng">
                <a:solidFill>
                  <a:srgbClr val="003366"/>
                </a:solidFill>
                <a:uFillTx/>
                <a:latin typeface="Arial"/>
              </a:rPr>
              <a:t>00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796000" y="692280"/>
          <a:ext cx="291456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692280"/>
                    <a:ext cx="291456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зультаты работ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550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хемы малых проект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Здравоохранение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59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проектов  от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£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5,000 до 50, 000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Партнерство в некоммерческом сектор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Демократическое развит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Эколог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Академическое сотрудничеств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Президентская программа переподготовки кадров, в т.ч. офицер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229440" y="620640"/>
          <a:ext cx="291456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9440" y="620640"/>
                    <a:ext cx="291456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Bookman Old Style"/>
              </a:rPr>
              <a:t>Цель программы: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Был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одействие в развитии рыночных структур и рыночных отноше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одействие в развитии гражданского, демократического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бщест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Стал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снижение уроня бедности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, повышение качества жизн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овышение уровня и качества социальн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ых и медицинских услуг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для наиболее нуждающихс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овлечение нуждающихся в общественные процесс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156360" y="260280"/>
          <a:ext cx="2736720" cy="7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260280"/>
                    <a:ext cx="2736720" cy="7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бъем финансиров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Был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£36,000,0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а 10 л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Стал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£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8, 000, 0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 программу сотрудничества с Ленинградской областью на 4 го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илоты федеральных проект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дход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Был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 Разработка проект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 сектора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 Техническая помощ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Стал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омплекснос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артнерств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294160" y="692280"/>
          <a:ext cx="3849840" cy="99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4160" y="692280"/>
                    <a:ext cx="384984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Bookman Old Style"/>
              </a:rPr>
              <a:t>Приоритетные регион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Был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8 регионов РФ, в т.ч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анкт-Петербург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Ленинградская область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Стал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66"/>
                </a:solidFill>
                <a:latin typeface="Arial"/>
              </a:rPr>
              <a:t>Федеральный уровень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66"/>
                </a:solidFill>
                <a:latin typeface="Arial"/>
              </a:rPr>
              <a:t>Пилоты федеральных проектов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66"/>
                </a:solidFill>
                <a:latin typeface="Arial"/>
              </a:rPr>
              <a:t>2 региона партнера, в т.ч. Ленинградская область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940360" y="260280"/>
          <a:ext cx="2808360" cy="72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260280"/>
                    <a:ext cx="28083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Bookman Old Style"/>
              </a:rPr>
              <a:t>Приоритетные направления работ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Был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государственное управление и финанс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здравоохранение и социальная защит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развитие некоммерческих организаци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экономическая поддержка сельских жителе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охрана окружающей сред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азвитие предприятий и поддержка малого бизнес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Стал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Эффективное участие РФ во всемирных организация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Эффективность гос. структур в формировании и реализации социально ориентированной политик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Гос. финанс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Расширение возможностей на рынке труда для рядовых гражда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Эффективность и доступность системы правосуд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11:15:28Z</dcterms:created>
  <dc:creator>k-koloshtivina</dc:creator>
  <dc:description/>
  <dc:language>en-US</dc:language>
  <cp:lastModifiedBy>DFID Russia</cp:lastModifiedBy>
  <dcterms:modified xsi:type="dcterms:W3CDTF">2003-10-20T08:54:50Z</dcterms:modified>
  <cp:revision>18</cp:revision>
  <dc:subject/>
  <dc:title>Цель программы:</dc:title>
</cp:coreProperties>
</file>