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45C-AA66-4544-B1A1-9CAEBE84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A6C-57CF-4992-8FD1-9A6F9FC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A97-E211-4638-81AD-282EA824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9A8-99A7-4AE6-A256-2783CEFF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8566-18EF-4B66-9ABD-804C1EB6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5D6D-7B2C-4E16-A2C6-85577699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1765-2536-4C92-9F19-03A1B49D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9FFB-D1B3-4D7C-813B-B80383D1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3F1-2480-4283-A319-13421117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B05-D96A-451F-98F4-D90B405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B9E-8750-49D4-A1D1-9C2655F9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E0D-2D39-4FF9-A306-F807665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565A-7D65-4831-AC08-9C77A4F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ADF-4A8E-4B7B-9399-4D03CDE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A6A-8536-4A23-AB49-395C8E1B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5CF8-21D3-447A-AF23-1437A21B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2E4C-0C45-4676-8C2B-84751C4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694-BC80-4EA6-A517-C261FB1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066-1F6D-4388-92E2-4F5F6A93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20C-F229-42E5-82A5-E35718A3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B5C-2CBE-4864-B212-9CE212F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576-8030-4FB6-ACEF-4A6EC79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CD4-182F-4A09-8798-12E11EC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A3C-A28C-4BB1-98DD-EF0F60F0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F1D2-2361-4381-8D51-C2CDBD6D8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02FC-46A7-4E1A-B920-065B33DC7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бщероссийск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й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орум лидеров стратегического планирования «Стратегическое планирование в городах и регионах России – технологии успеха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т-Петербург, 19-21 октября 2003 г.</a:t>
            </a:r>
            <a:br>
              <a:rPr sz="1600"/>
            </a:br>
            <a:br>
              <a:rPr sz="16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одходы к программно-целевому бюджетированию</a:t>
            </a: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на региональном и местном уровне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В. Онищен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Заместитель директора Проекта МБРР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«Техническое содействие реформе бюджетной системы на региональном уровн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gfinance@fer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Бюджетирование по результатам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876560" cy="2819520"/>
          </a:xfrm>
          <a:prstGeom prst="rect">
            <a:avLst/>
          </a:prstGeom>
          <a:noFill/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Региональный уров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2002-2003 г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ы реформирования региональных финансов в рамках Проекта МБРР «Техническое содействие реформе бюджетной системы на региональном уровн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48320"/>
            <a:ext cx="4191120" cy="984240"/>
          </a:xfrm>
          <a:prstGeom prst="rect">
            <a:avLst/>
          </a:prstGeom>
          <a:noFill/>
          <a:ln cap="rnd" w="93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Федеральный урове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2004-2006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057400"/>
            <a:ext cx="2438280" cy="1373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принципы и подх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2590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3581280"/>
            <a:ext cx="381240" cy="914400"/>
          </a:xfrm>
          <a:prstGeom prst="downArrow">
            <a:avLst>
              <a:gd name="adj1" fmla="val 50000"/>
              <a:gd name="adj2" fmla="val 59962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ализация стратегического плана развития территори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ципиальное наличие ресурсов для испол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ординация систем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еспечение выделения ресурсов и контроля результатов реализации в рамках бюджетного проце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ереход к принципам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правления по результат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286000"/>
            <a:ext cx="792504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Этап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ресурсов. Следование принципам управления по результат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но-целевое бюджетир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е методик оценки эффективности и результа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3808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Этап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Контроль ресурс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792504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ализация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евое использование сред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т обязатель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486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Казначей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8006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хват казначейскими системами исполнения региональных бюджето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Этап 2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рограммно-целевое бюджетирова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Основные принцип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лексный харак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срочный характер ц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а предполагает получение  измеримых результ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и несут ответственность за полученные результ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атываются индикаторы эффективности и результатив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мониторинг результатов реализации Програм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Опыт программно-целевого бюджетирования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оссийский опы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е целевые програм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а социально-экономического развития РФ на 2002-2004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формирование государственной служб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иональный опыт разработки и применения методик оценки эффективности и результа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9720" y="1371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Зарубежный опы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СШ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49-1962 - Программно-целевой бюдже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62-1971 - Система «планирование – программирование бюджетирование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72-1975 – Управление по цел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977-1981 – Планирование бюджета «от нул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Великобритания (с 1980-х гг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Качество за деньг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»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 for mone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цепция оценки результативности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st Valu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Этап 3: 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етодики оценки эффективности и результативности бюджетных расходо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295280"/>
          <a:ext cx="8610480" cy="5398920"/>
        </p:xfrm>
        <a:graphic>
          <a:graphicData uri="http://schemas.openxmlformats.org/drawingml/2006/table">
            <a:tbl>
              <a:tblPr/>
              <a:tblGrid>
                <a:gridCol w="2111400"/>
                <a:gridCol w="2869920"/>
                <a:gridCol w="362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Нормативное закреп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Содержательный    под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увашская Республ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ановление Кабинета Министров  от 14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09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 №20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ые критерии оценки, общие для всех получателей бюджетных средст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арская обл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ановление Губернатора от 30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09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мочный порядок, каждый главный распорядитель самостоятельно разрабатывает набор индикат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логодская обл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ановление Правительства от 30.09.2002 №61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ная методика по статьям функциональной классификации расход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баровский кр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ановление Губернатора от 30.04.2002 №2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ые критерии оценки, общие для всех получателей бюджетных сред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-4343400" y="0"/>
            <a:ext cx="4038480" cy="2336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едставленных на слайдах субъектах РФ были разработаны и утверждены НПА методики оценки эффективности и результативности бюджетных расх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ные шаги в области формирования системы оценки эффективности сделали также Пермская и Тверская области и Ставропольский край. Однако законченной формы и НП крепления, разработанные элементы системы не получи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4343400" y="2362320"/>
            <a:ext cx="4038480" cy="2012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ой обла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разработан общий порядок, в рамках которого каждый главный распорядитель должен самостоятельно разрабатывать индикаторы результативности и эффективности услуг, предоставляемых подведомственными ему учреждениям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ика содержит основные формы и критерии, по которым должны осуществляться разработка индикаторов и ведение учета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4343400" y="4419720"/>
            <a:ext cx="4038480" cy="1372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одской обла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создана сводная методика оценки эффективности расходов областного бюджета по статьям функциональной классификации расходов. Все показатели жестко фиксированы и в совокупности дают полную картину эффективности расходов бюдже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4343400" y="5867280"/>
            <a:ext cx="4191120" cy="946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работан единый перечень индикаторов для оценки эффективности, не специализированный по ГРБС или вилам расходов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абаровский кра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азработал методику на основе опыта Ч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Аудит эффективности</a:t>
            </a:r>
            <a:br>
              <a:rPr sz="4000"/>
            </a:b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Счетная палата РФ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Количественная оцен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Качественная  оцен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342900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ституциональные изме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циальная значимость и полез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тодологические изменения в системе 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352680"/>
            <a:ext cx="4038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ффективность и целесообразность расходования бюджетных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снованность движения бюджетных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3:11:52Z</dcterms:created>
  <dc:creator>Ekaterina Vaksova</dc:creator>
  <dc:description/>
  <dc:language>en-US</dc:language>
  <cp:lastModifiedBy>FER User</cp:lastModifiedBy>
  <dcterms:modified xsi:type="dcterms:W3CDTF">2003-10-20T19:19:26Z</dcterms:modified>
  <cp:revision>15</cp:revision>
  <dc:subject/>
  <dc:title>Методики оценки эффективности и результативности бюджетных расходов</dc:title>
</cp:coreProperties>
</file>