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5F0-3F9B-4DCF-9275-66004585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0F3-00FF-4EF3-90BE-202277FD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AF2E-0445-4861-A2D4-4AF980D3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6551-64C1-4434-9F83-8EAAC5CF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84E-2829-481A-BBCA-CBE6B649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3A3-8514-44F5-BE11-AE2F0DD4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738-FF9C-4CDE-874F-393BE485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A382-9275-4250-B486-E8A6556C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7A19-157B-44A6-AF63-B6A3CF4F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0F9-3937-444E-B18E-A6537B46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D30-8B00-4AD1-A5CD-03DD1D28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DBB8-D960-4807-B191-D33122D5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39B6-BC8E-4BA9-BEDE-42B024494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71360"/>
          <a:ext cx="8820000" cy="668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1360"/>
                    <a:ext cx="88200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380880"/>
          <a:ext cx="8724960" cy="55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0880"/>
                    <a:ext cx="872496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43080" y="304920"/>
          <a:ext cx="8800920" cy="605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304920"/>
                    <a:ext cx="8800920" cy="60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09:37:34Z</dcterms:created>
  <dc:creator>Viktor</dc:creator>
  <dc:description/>
  <dc:language>en-US</dc:language>
  <cp:lastModifiedBy>Viktor</cp:lastModifiedBy>
  <cp:lastPrinted>2003-10-18T11:21:20Z</cp:lastPrinted>
  <dcterms:modified xsi:type="dcterms:W3CDTF">2003-10-18T11:21:29Z</dcterms:modified>
  <cp:revision>5</cp:revision>
  <dc:subject/>
  <dc:title>Заголовок слайда отсутствует</dc:title>
</cp:coreProperties>
</file>