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12.jpeg" ContentType="image/jpeg"/>
  <Override PartName="/ppt/media/image10.png" ContentType="image/png"/>
  <Override PartName="/ppt/media/image5.wmf" ContentType="image/x-wmf"/>
  <Override PartName="/ppt/media/image14.png" ContentType="image/pn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C7E-497B-4132-9DB7-0449920D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74FF-3E71-46CC-B528-2A6553A1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B48-3CF0-4FA0-AB1B-D3DB74F5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A2E2-21C1-48CD-8724-8308CA57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D95A-3B51-49AF-81A9-A72FCF50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FDCC-8C2C-4344-BEE5-271FE1DA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200D-CC21-4636-ABE7-138E9288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A7BD-304F-4CB8-851C-4EE7483F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801F-09E7-40A9-A261-E848AE5A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F215-9713-4FE1-BED7-DD35D20A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35CE-F604-4286-B48C-A5D9BF52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2CD-1CAE-4159-AC7D-32045DC3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DD07-E391-4EE8-9B37-9B26B3E6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1A99-1AA2-4423-9AB5-D1B3994D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4D8D-C272-406B-BA9D-E3554CCC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801F-0E03-4CD9-9BE9-70BDD405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D67D-2592-46C9-8989-6BF20BD2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8DF3-0D8B-47C5-91A7-62D3FDBF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B41-E67B-46CE-8280-E6B11243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1DB-49BF-4307-9B7C-B0EFF62A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16B-422E-43C1-894B-2A379081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60B-7F6A-4D91-AF58-D0A8432B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C8A-CB5F-4600-9817-E7F7982F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421-178D-4DBE-9C42-0BE51CB4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BBE4-B604-4EA6-B353-A985BE7B6D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B573-76F0-4306-9FF9-CDD9EFF776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87804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182880"/>
            <a:ext cx="9144000" cy="1647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Ресурсный центр по стратегическому планированию</a:t>
            </a:r>
            <a:br>
              <a:rPr sz="2000"/>
            </a:b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при Леонтьевском центре</a:t>
            </a:r>
            <a:br>
              <a:rPr sz="2000"/>
            </a:br>
            <a:br>
              <a:rPr sz="4000"/>
            </a:b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Б.С.</a:t>
            </a: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6699"/>
                </a:solidFill>
                <a:latin typeface="Arial"/>
              </a:rPr>
              <a:t>Жихарев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4000" cy="143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99"/>
                </a:solidFill>
                <a:latin typeface="Arial"/>
              </a:rPr>
              <a:t>Стратегическое планирование</a:t>
            </a:r>
            <a:br>
              <a:rPr sz="4400"/>
            </a:br>
            <a:r>
              <a:rPr b="1" lang="ru-RU" sz="4400" spc="-1" strike="noStrike">
                <a:solidFill>
                  <a:srgbClr val="336699"/>
                </a:solidFill>
                <a:latin typeface="Arial"/>
              </a:rPr>
              <a:t>в городах и регионах Росс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81800"/>
            <a:ext cx="8382240" cy="40428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ЧТО ДЕЛАЕТ ДОКУМЕНТ СТРАТЕГИЧЕСКИМ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sp>
        <p:nvSpPr>
          <p:cNvPr id="342" name=""/>
          <p:cNvSpPr/>
          <p:nvPr/>
        </p:nvSpPr>
        <p:spPr>
          <a:xfrm>
            <a:off x="53352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ВЗГЛЯД ИЗ БУДУЩЕГО В НАСТОЯЩЕ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ВИДЕНИЕ ЖЕЛАЕМОГО БУДУЩЕГ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ФОРМУЛИРОВКА МИСС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ПРИОРИТЕТ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АНАЛИЗ КОНКУРЕНТОСПОСОБНОС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АНАЛИЗ ДВИЖУЩИХ СИЛ РАЗВИ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УЧЕТ ИНТЕРЕСОВ, ПЕРЕГОВО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УЧАСТИЕ СТЕЙКХОЛДЕР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НАЛИЧИЕ СУБЪЕКТА РЕАЛИЗ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Times New Roman"/>
              </a:rPr>
              <a:t>МОНИТОРИН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304920" y="28728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8001000" y="287280"/>
            <a:ext cx="874800" cy="8715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1557360"/>
            <a:ext cx="9144000" cy="497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Леонтьевский центр при поддержке Фонда Евраз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Развитие инфраструктуры стратегического планирования в Росси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2002 – 2003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1311120"/>
            <a:ext cx="86104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258920" y="2602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393480"/>
            <a:ext cx="8381880" cy="98316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http://www.citystrategy.leontief.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745164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-73080"/>
            <a:ext cx="8381880" cy="98316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           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луб городов стратегов (5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900000" y="714240"/>
            <a:ext cx="76806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304920" y="28728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8001000" y="287280"/>
            <a:ext cx="874800" cy="8715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2492280"/>
            <a:ext cx="9144000" cy="43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Клуб консультантов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по стратегическому планировани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Партнерская сет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организаций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1311120"/>
            <a:ext cx="86104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76360" y="189000"/>
            <a:ext cx="652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 Unicode MS"/>
              </a:rPr>
              <a:t>Ресурсный центр по стратегическому планированию при Леонтьевском центре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04920" y="28728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8001000" y="287280"/>
            <a:ext cx="874800" cy="8715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0" y="2492280"/>
            <a:ext cx="9144000" cy="347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Ассоциация специалистов по экономическому развитию территорий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6699"/>
                </a:solidFill>
                <a:latin typeface="Times New Roman Cyr"/>
                <a:ea typeface="Times New Roman"/>
              </a:rPr>
              <a:t>АССЭ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920" y="1311120"/>
            <a:ext cx="86104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602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436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04920" y="28728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8001000" y="287280"/>
            <a:ext cx="874800" cy="871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0" y="1557360"/>
            <a:ext cx="9144000" cy="582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Партнеры по организации Фору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овет Федерации,  Госстрой, Минэкономразви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Times New Roman"/>
              </a:rPr>
              <a:t>Партнеры по софинансированию Форум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сами участн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Леонтьевский цент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Фонд Евраз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Институт Всемирного бан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Московский общественный научный фон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Минфин, «Проект технического содействия реформе      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бюджетной системы на региональном уровн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Times New Roman"/>
              </a:rPr>
              <a:t>Гостиница «Прибалтийская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4920" y="1311120"/>
            <a:ext cx="86104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76320" y="4114800"/>
            <a:ext cx="2286000" cy="246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d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ратовская область, Хабаровский край, Смоленская область, Тамбовская область, Томская область, Республика Дагестан, Брянская область.  Калининградская область, Мурманская область Алтайский край,  Приморский край, Республика Мордовия, Ивановская область, Чувашская республика, Пензенская обла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23760"/>
            <a:ext cx="7924680" cy="64260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НАЛИЧИЕ  СТРАТЕГИЧЕСКИХ  ДОКУМЕНТОВ</a:t>
            </a:r>
            <a:br>
              <a:rPr sz="1800"/>
            </a:b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В  СУБЪЕКТАХ  ФЕДЕРА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19720" y="5392800"/>
            <a:ext cx="182880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оярский край, Кемеровская область, Омская область, Свердловская область, Новгородская область, Оренбургская область, Тюменская обла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14600" y="5210280"/>
            <a:ext cx="1752480" cy="155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кутская область, Орловская область, Республика Карелия, Республика Марий Эл, Республика Татарстан, Ставропольский край, Кировская обла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00800" y="5210280"/>
            <a:ext cx="2627280" cy="155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чатская область, Тверская область, Кабардино-Балкарская Республика, Ульяновская область, Воронежская область, Республика Бурятия, Магаданская область, Ростовская область, Республика Коми, Курская область, Самарская обла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3838680"/>
            <a:ext cx="312840" cy="312480"/>
          </a:xfrm>
          <a:prstGeom prst="rect">
            <a:avLst/>
          </a:prstGeom>
          <a:solidFill>
            <a:srgbClr val="00d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3849840"/>
            <a:ext cx="121896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d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08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АТЕГ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5105520"/>
            <a:ext cx="312840" cy="312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56240" y="5116680"/>
            <a:ext cx="121896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08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63840" y="4753080"/>
            <a:ext cx="295200" cy="493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51120" y="4761000"/>
            <a:ext cx="144000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ЦЕПЦИЯ  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72200" y="4944960"/>
            <a:ext cx="312840" cy="31284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4952880"/>
            <a:ext cx="129528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08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45720"/>
            <a:ext cx="8001000" cy="67860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ОЦЕНКА  РЕГИОНАМИ  ВЛИЯНИЯ  СТРАТЕГИЧЕСКОГО ПЛАНИРОВАНИЯ  (В СРЕДНЕМ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87804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graphicFrame>
        <p:nvGraphicFramePr>
          <p:cNvPr id="312" name=""/>
          <p:cNvGraphicFramePr/>
          <p:nvPr/>
        </p:nvGraphicFramePr>
        <p:xfrm>
          <a:off x="228600" y="990720"/>
          <a:ext cx="8399520" cy="529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990720"/>
                    <a:ext cx="839952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45720"/>
            <a:ext cx="8001000" cy="67860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СРЕДНЯЯ  ОЦЕНКА  РЕГИОНОМ  ВЛИЯНИЯ  СТРАТЕГИЧЕСКОГО ПЛАНИРОВАНИЯ  НА  РЯД  ПАРАМЕТР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0" y="87804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graphicFrame>
        <p:nvGraphicFramePr>
          <p:cNvPr id="317" name=""/>
          <p:cNvGraphicFramePr/>
          <p:nvPr/>
        </p:nvGraphicFramePr>
        <p:xfrm>
          <a:off x="0" y="838080"/>
          <a:ext cx="9144000" cy="601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380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81800"/>
            <a:ext cx="8382240" cy="40428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СЛАБЫЕ СТОРОНЫ  СТРАТЕГИЧЕСКИХ ДОКУМЕН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795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отсутствие четких приоритет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  <a:ea typeface="Arial"/>
              </a:rPr>
              <a:t> - нередко такие документы превращаются в "список благих намерений"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  <a:ea typeface="Arial"/>
              </a:rPr>
              <a:t>отсутствие механизмов реализации и мониторинга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  <a:ea typeface="Arial"/>
              </a:rPr>
              <a:t>слабая увязка с процессами стратегирования на муниципальном уровн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  <a:ea typeface="Arial"/>
              </a:rPr>
              <a:t>слабая увязка с параллельными процессами в градостроительном или пространственном планировани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  <a:ea typeface="Arial"/>
              </a:rPr>
              <a:t>формальное вовлечение стейкхолдеров и населения, что резко снижает шансы на реализацию докуме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81800"/>
            <a:ext cx="8382240" cy="40428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ЧТО ДЕЛАЕТ ДОКУМЕНТ СТРАТЕГИЧЕСКИМ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sp>
        <p:nvSpPr>
          <p:cNvPr id="325" name=""/>
          <p:cNvSpPr/>
          <p:nvPr/>
        </p:nvSpPr>
        <p:spPr>
          <a:xfrm>
            <a:off x="809640" y="1219320"/>
            <a:ext cx="79581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Территориальное стратегическое планирование - самостоятельное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в собственных интересах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определение сообществом целей и основных направлений устойчивого социально-экономического развития в динамичной конкурентной сред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редмет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конкурентоспособ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Процесс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-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диало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87804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sp>
        <p:nvSpPr>
          <p:cNvPr id="328" name=""/>
          <p:cNvSpPr/>
          <p:nvPr/>
        </p:nvSpPr>
        <p:spPr>
          <a:xfrm>
            <a:off x="609480" y="202680"/>
            <a:ext cx="8001000" cy="36288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ЭТАПЫ РАЗРАБОТКИ СТРАТЕГИЧЕСКОГО ПЛА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771480"/>
            <a:ext cx="9144000" cy="609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Выявление и вовлечение стейкхолдеров в процесс</a:t>
            </a:r>
            <a:br>
              <a:rPr sz="2400"/>
            </a:b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стратегического планир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Анализ конкурентных позиций регио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SWOT-анали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улирование сценари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Определение миссии регио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Обоснование главной цели развития и</a:t>
            </a:r>
            <a:br>
              <a:rPr sz="2400"/>
            </a:b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стратегических направл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одготовка частных стратегий, программ, прое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Формирование системы задач и м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ространственное планир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Обсуждение с участием насе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оздание организационных структур для</a:t>
            </a:r>
            <a:br>
              <a:rPr sz="2400"/>
            </a:b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мониторинга и реализ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0" y="878040"/>
            <a:ext cx="9144000" cy="5065560"/>
          </a:xfrm>
          <a:prstGeom prst="rect">
            <a:avLst/>
          </a:prstGeom>
          <a:ln w="6480">
            <a:solidFill>
              <a:srgbClr val="ccecff"/>
            </a:solidFill>
            <a:miter/>
          </a:ln>
        </p:spPr>
      </p:pic>
      <p:sp>
        <p:nvSpPr>
          <p:cNvPr id="332" name=""/>
          <p:cNvSpPr/>
          <p:nvPr/>
        </p:nvSpPr>
        <p:spPr>
          <a:xfrm>
            <a:off x="609480" y="45720"/>
            <a:ext cx="8001000" cy="678600"/>
          </a:xfrm>
          <a:prstGeom prst="rect">
            <a:avLst/>
          </a:prstGeom>
          <a:solidFill>
            <a:srgbClr val="ffffff"/>
          </a:solidFill>
          <a:ln w="6480">
            <a:solidFill>
              <a:srgbClr val="336699"/>
            </a:solidFill>
            <a:miter/>
          </a:ln>
          <a:effectLst>
            <a:outerShdw dist="53966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ИНТЕНСИВНОСТЬ ИСПОЛЬЗОВАНИЯ ЭЛЕМЕНТОВ ТЕХНОЛОГИИ СТРАТЕГИЧЕСКОГО ПЛАНИРОВА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57240" y="765000"/>
          <a:ext cx="8934480" cy="5729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0" y="765000"/>
                    <a:ext cx="8934480" cy="57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28600" y="62485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Рис. 1. Условная типологизация подходов к стратегическому планировани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-57240" y="533520"/>
          <a:ext cx="9258480" cy="561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7240" y="533520"/>
                    <a:ext cx="9258480" cy="56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1:17:07Z</dcterms:created>
  <dc:creator>user</dc:creator>
  <dc:description/>
  <dc:language>en-US</dc:language>
  <cp:lastModifiedBy>Жихаревич Б. С.</cp:lastModifiedBy>
  <dcterms:modified xsi:type="dcterms:W3CDTF">2003-10-24T11:37:50Z</dcterms:modified>
  <cp:revision>151</cp:revision>
  <dc:subject/>
  <dc:title>Результаты анкетирования по стратегическому планированию</dc:title>
</cp:coreProperties>
</file>